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1067-29B3-44A7-8F2B-84F75684EC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4DC6-B8AE-48D0-ADB3-F07C20354B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нт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9044-82DF-4E3A-A341-41A46D5FAF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7CA3-5808-408F-A1C9-829F694CB4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E992-D394-48A4-92BE-542FD4164C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2EB0-0E7A-4D7E-93CF-F3F77FBB57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C481-889B-46D0-A316-929B5EDE77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14F6-C35C-4DF5-9986-2E64E2D0CE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4374-7903-45DE-8981-67DC009E2D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A782-F9DF-4988-A1E1-82112D4164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F777-F04A-4BE6-8464-B7FC03D57A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41F5-A2E5-4ADF-A611-7CF575230E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8948-7223-4D35-B7AE-65AC81C426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нуил Кан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и э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логическая идея (ду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мологическая идея (м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ческая идея (Б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ход к критике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ика практического разума (эт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5866-3550-49D3-BE6E-67A222F0C1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85A9-0497-43C8-A4A0-06BEA1D25C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1AB2-E30F-42B9-B90E-DA582B4698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BE33-F6D4-4B60-8583-925E4EA131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ий выв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F9BF-C1E5-4871-BCFC-CED04FDF6E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ий итог критики чистого разу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переход к критике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7015-1F1C-42EA-A62E-973B56C2DF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ритика практического разу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3626-7D4C-4B50-B9B9-3AC2815C3F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F051-0AFE-4888-92AC-964E4E1A57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2E9B-D3E8-49BE-B35C-2173359F7A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A4D5-D37F-48BA-B04C-65720F56A5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10C3-77A9-42F5-8793-2C8924FD3E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FBFA-162B-4462-B43A-D7170947B0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Человек как ц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7756-24FD-4722-8404-75C3D862BE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втономия во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8830-80AD-41D0-AECD-02381572E0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5836-10D0-4865-8FEC-3D39872357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ABBC-9644-4019-9456-F01C0DF4A5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ий ито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6D75-361D-4522-A232-F90C82E33F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00F0-273D-4BBA-AB54-5750964AAE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ая схе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1A91-002F-4391-8018-E0C80E9B57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9B3C-2134-4121-86E5-65A6179215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21E9-B3F8-4E55-8B4E-88C444B9D6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6191-B50B-42FB-BEAF-B6765D6D0F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5DC1-D396-4347-A8C5-C043F0C850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1CAD-5ABF-427E-AA43-48E833E3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DA19-151A-42AD-B836-02D27D3D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8515-47A6-43D9-B54F-51FCEC97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BC87-3307-4D9E-AE96-D4961BE1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EDEF-8FC4-49A9-96F4-C1636A1F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0DCD-5DA8-4954-AEB2-FB068B47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93B-E4CB-421B-8854-B036730C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757-3613-4B98-9295-A18F751D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5312-0E6A-4F36-BF30-A64A0E96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4B99-237F-4B1E-AEFF-321FFDA0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F5E2-ABEC-4AFC-96F2-405347BF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296F-9930-42D6-8DC4-06991B64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B2E7-196D-4B9D-9020-3496F94666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2071440"/>
            <a:ext cx="85615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н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151080" y="5002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2071800" y="3741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992160" y="2482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647640" y="165420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мир бы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ым во врем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имея ни «начала», ни «конца»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1727280" y="291456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тправившись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алённого прошл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возмо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о бы добраться до «сегодня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2806560" y="4173480"/>
            <a:ext cx="449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но так же, как отправившись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егодня» в будущее, нельз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аться до «конца времё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3886200" y="543384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егодня» наступил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прошедшее врем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было бесконеч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мир имел начало в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Kant_016"/>
          <p:cNvPicPr/>
          <p:nvPr/>
        </p:nvPicPr>
        <p:blipFill>
          <a:blip r:embed="rId1"/>
          <a:stretch/>
        </p:blipFill>
        <p:spPr>
          <a:xfrm>
            <a:off x="6369120" y="143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2"/>
          <p:cNvSpPr/>
          <p:nvPr/>
        </p:nvSpPr>
        <p:spPr>
          <a:xfrm>
            <a:off x="472320" y="5649840"/>
            <a:ext cx="23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ой антино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"/>
          <p:cNvSpPr/>
          <p:nvPr/>
        </p:nvSpPr>
        <p:spPr>
          <a:xfrm>
            <a:off x="3886200" y="3238560"/>
            <a:ext cx="144000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2 апре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00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522960" y="5397480"/>
            <a:ext cx="2186640" cy="72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3003120" y="181764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5326200" y="3778200"/>
            <a:ext cx="3598560" cy="360360"/>
          </a:xfrm>
          <a:prstGeom prst="rightArrow">
            <a:avLst>
              <a:gd name="adj1" fmla="val 50000"/>
              <a:gd name="adj2" fmla="val 2496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3"/>
          <p:cNvSpPr/>
          <p:nvPr/>
        </p:nvSpPr>
        <p:spPr>
          <a:xfrm flipH="1">
            <a:off x="286560" y="3778200"/>
            <a:ext cx="3598920" cy="360360"/>
          </a:xfrm>
          <a:prstGeom prst="rightArrow">
            <a:avLst>
              <a:gd name="adj1" fmla="val 50000"/>
              <a:gd name="adj2" fmla="val 249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7126560" y="30574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уду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648000" y="305748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ош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536400" y="44974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рошл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2"/>
          <p:cNvSpPr/>
          <p:nvPr/>
        </p:nvSpPr>
        <p:spPr>
          <a:xfrm>
            <a:off x="3151080" y="5002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2071800" y="3741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992160" y="2482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647640" y="165420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мир име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о во време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1727280" y="291456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-то должно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ть время, в котор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а не было, т.е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о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2806560" y="4173480"/>
            <a:ext cx="449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пустом времен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 возникнов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ой бы то ни было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3886200" y="543384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ни одна часть та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емени не заключает в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ия существования, отлич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условия не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0" descr="Kant_016"/>
          <p:cNvPicPr/>
          <p:nvPr/>
        </p:nvPicPr>
        <p:blipFill>
          <a:blip r:embed="rId1"/>
          <a:stretch/>
        </p:blipFill>
        <p:spPr>
          <a:xfrm>
            <a:off x="6369120" y="143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1"/>
          <p:cNvSpPr/>
          <p:nvPr/>
        </p:nvSpPr>
        <p:spPr>
          <a:xfrm>
            <a:off x="472320" y="5649840"/>
            <a:ext cx="23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ой антино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0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3"/>
          <p:cNvSpPr/>
          <p:nvPr/>
        </p:nvSpPr>
        <p:spPr>
          <a:xfrm>
            <a:off x="287280" y="3165480"/>
            <a:ext cx="3598920" cy="1582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СТО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492720" y="5397480"/>
            <a:ext cx="2250360" cy="72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003120" y="181764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5326200" y="3778200"/>
            <a:ext cx="3598560" cy="360360"/>
          </a:xfrm>
          <a:prstGeom prst="rightArrow">
            <a:avLst>
              <a:gd name="adj1" fmla="val 50000"/>
              <a:gd name="adj2" fmla="val 2496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7126560" y="30574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уду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509040" y="5181480"/>
            <a:ext cx="24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устом времен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возмож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никнов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го бы то ни бы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3814920" y="3165480"/>
            <a:ext cx="1582560" cy="1582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чал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0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038400" y="1638360"/>
            <a:ext cx="318636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в мир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остоит из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ст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ч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стого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ё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61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63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6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0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054960" y="1638360"/>
            <a:ext cx="31543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ть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мир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ществуют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вобод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как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ободы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совершаетс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мире только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законам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0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09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11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4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8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2796840" y="1638360"/>
            <a:ext cx="36709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твёрт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ряду причин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а есть нека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обходима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щ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этом ряду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ч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обходимого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в нём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учай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0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57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59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2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6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7"/>
          <p:cNvSpPr/>
          <p:nvPr/>
        </p:nvSpPr>
        <p:spPr>
          <a:xfrm>
            <a:off x="5037120" y="3849840"/>
            <a:ext cx="719280" cy="1433520"/>
          </a:xfrm>
          <a:custGeom>
            <a:avLst/>
            <a:gdLst>
              <a:gd name="textAreaLeft" fmla="*/ 96120 w 719280"/>
              <a:gd name="textAreaRight" fmla="*/ 623160 w 719280"/>
              <a:gd name="textAreaTop" fmla="*/ 250920 h 1433520"/>
              <a:gd name="textAreaBottom" fmla="*/ 1039320 h 14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3417840" y="3849840"/>
            <a:ext cx="719280" cy="1433520"/>
          </a:xfrm>
          <a:custGeom>
            <a:avLst/>
            <a:gdLst>
              <a:gd name="textAreaLeft" fmla="*/ 96120 w 719280"/>
              <a:gd name="textAreaRight" fmla="*/ 623160 w 719280"/>
              <a:gd name="textAreaTop" fmla="*/ 250920 h 1433520"/>
              <a:gd name="textAreaBottom" fmla="*/ 1039320 h 14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58920" y="2698920"/>
            <a:ext cx="39589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первой и втор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нтиномия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тезис, и антитезис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ож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4857840" y="2698920"/>
            <a:ext cx="395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третьей и четвёрт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нтиномия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тезис, и антитезис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тин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358920" y="4497480"/>
            <a:ext cx="3058920" cy="18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вопрос 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остранственно-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ременных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йства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в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ет смы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9"/>
          <p:cNvSpPr/>
          <p:nvPr/>
        </p:nvSpPr>
        <p:spPr>
          <a:xfrm>
            <a:off x="5757840" y="4497480"/>
            <a:ext cx="3059280" cy="18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ези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относ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в себе,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нтитези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2657880" y="1638360"/>
            <a:ext cx="39499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ешение антино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nodeType="clickEffect" fill="hold">
                      <p:stCondLst>
                        <p:cond delay="0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4"/>
          <p:cNvSpPr/>
          <p:nvPr/>
        </p:nvSpPr>
        <p:spPr>
          <a:xfrm>
            <a:off x="4572000" y="510552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Онт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3"/>
          <p:cNvSpPr/>
          <p:nvPr/>
        </p:nvSpPr>
        <p:spPr>
          <a:xfrm>
            <a:off x="457200" y="510552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4572000" y="397512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Косм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1"/>
          <p:cNvSpPr/>
          <p:nvPr/>
        </p:nvSpPr>
        <p:spPr>
          <a:xfrm>
            <a:off x="457200" y="397512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потет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0"/>
          <p:cNvSpPr/>
          <p:nvPr/>
        </p:nvSpPr>
        <p:spPr>
          <a:xfrm>
            <a:off x="4572000" y="2843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Физикоте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9"/>
          <p:cNvSpPr/>
          <p:nvPr/>
        </p:nvSpPr>
        <p:spPr>
          <a:xfrm>
            <a:off x="457200" y="2843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8"/>
          <p:cNvSpPr/>
          <p:nvPr/>
        </p:nvSpPr>
        <p:spPr>
          <a:xfrm>
            <a:off x="4572000" y="17114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казательства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ытия Б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7"/>
          <p:cNvSpPr/>
          <p:nvPr/>
        </p:nvSpPr>
        <p:spPr>
          <a:xfrm>
            <a:off x="457200" y="17114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иды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мозаклю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5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6"/>
          <p:cNvSpPr/>
          <p:nvPr/>
        </p:nvSpPr>
        <p:spPr>
          <a:xfrm>
            <a:off x="457200" y="2843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7"/>
          <p:cNvSpPr/>
          <p:nvPr/>
        </p:nvSpPr>
        <p:spPr>
          <a:xfrm>
            <a:off x="457200" y="3975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8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9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0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1"/>
          <p:cNvSpPr/>
          <p:nvPr/>
        </p:nvSpPr>
        <p:spPr>
          <a:xfrm>
            <a:off x="45720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62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2446200" y="1619280"/>
            <a:ext cx="4246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Доказательства бытия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539640" y="3022560"/>
            <a:ext cx="215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3489480" y="3022560"/>
            <a:ext cx="215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см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6"/>
          <p:cNvSpPr/>
          <p:nvPr/>
        </p:nvSpPr>
        <p:spPr>
          <a:xfrm>
            <a:off x="6440400" y="3022560"/>
            <a:ext cx="215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т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179280" y="3922560"/>
            <a:ext cx="288000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е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анн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ам в опыт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определённ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пыта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умозаключ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существова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 ми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шей пр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8"/>
          <p:cNvSpPr/>
          <p:nvPr/>
        </p:nvSpPr>
        <p:spPr>
          <a:xfrm>
            <a:off x="3130560" y="3922560"/>
            <a:ext cx="287964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нятия опыта вообщ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неопределённ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пыта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умозаключ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уществован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6081840" y="3922560"/>
            <a:ext cx="287964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шей сущности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приор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ится из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нятия о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"/>
          <p:cNvSpPr/>
          <p:nvPr/>
        </p:nvSpPr>
        <p:spPr>
          <a:xfrm>
            <a:off x="1619280" y="277020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AutoShape 14"/>
          <p:cNvCxnSpPr/>
          <p:nvPr/>
        </p:nvCxnSpPr>
        <p:spPr>
          <a:xfrm>
            <a:off x="4570560" y="251748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3" name="AutoShape 15"/>
          <p:cNvCxnSpPr/>
          <p:nvPr/>
        </p:nvCxnSpPr>
        <p:spPr>
          <a:xfrm>
            <a:off x="1619280" y="276984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4" name="AutoShape 16"/>
          <p:cNvCxnSpPr/>
          <p:nvPr/>
        </p:nvCxnSpPr>
        <p:spPr>
          <a:xfrm>
            <a:off x="4570560" y="276984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5" name="Line 17"/>
          <p:cNvSpPr/>
          <p:nvPr/>
        </p:nvSpPr>
        <p:spPr>
          <a:xfrm>
            <a:off x="4570560" y="277020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AutoShape 18"/>
          <p:cNvCxnSpPr/>
          <p:nvPr/>
        </p:nvCxnSpPr>
        <p:spPr>
          <a:xfrm>
            <a:off x="7521120" y="2769840"/>
            <a:ext cx="252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нуил Кан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и э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логическая идея (ду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мологическая идея (м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ческая идея (Б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ход к критике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ика практического разума (эт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11"/>
          <p:cNvSpPr/>
          <p:nvPr/>
        </p:nvSpPr>
        <p:spPr>
          <a:xfrm>
            <a:off x="6656400" y="29685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"/>
          <p:cNvSpPr/>
          <p:nvPr/>
        </p:nvSpPr>
        <p:spPr>
          <a:xfrm>
            <a:off x="1992240" y="4786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733320" y="3562200"/>
            <a:ext cx="704880" cy="116712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7120"/>
              <a:gd name="textAreaBottom" fmla="*/ 846360 h 116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539640" y="2733840"/>
            <a:ext cx="3959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льзя  выве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ова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1438200" y="3957480"/>
            <a:ext cx="395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, с логической точ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рения, существовани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икат,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яз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2698920" y="5181480"/>
            <a:ext cx="39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этому ни в какое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ходить не мо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1279080" y="1638360"/>
            <a:ext cx="670968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онтологического дока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5792760" y="2878200"/>
            <a:ext cx="900000" cy="9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7737480" y="2878200"/>
            <a:ext cx="900000" cy="9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0"/>
                      </p:stCondLst>
                      <p:childTnLst>
                        <p:par>
                          <p:cTn id="1163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11"/>
          <p:cNvSpPr/>
          <p:nvPr/>
        </p:nvSpPr>
        <p:spPr>
          <a:xfrm>
            <a:off x="5289480" y="29145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2"/>
          <p:cNvSpPr/>
          <p:nvPr/>
        </p:nvSpPr>
        <p:spPr>
          <a:xfrm>
            <a:off x="1884240" y="4786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625320" y="3562200"/>
            <a:ext cx="704880" cy="116712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7120"/>
              <a:gd name="textAreaBottom" fmla="*/ 846360 h 116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431640" y="2733840"/>
            <a:ext cx="3238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соединением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ю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1330200" y="3957480"/>
            <a:ext cx="32385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получ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ей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2590920" y="5181480"/>
            <a:ext cx="32385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е са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ую ве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1279080" y="1638360"/>
            <a:ext cx="670968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онтологического дока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317840" y="2770200"/>
            <a:ext cx="1008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аб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Я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6369120" y="2733840"/>
            <a:ext cx="2411280" cy="24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лдун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та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л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хромая («костяная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нога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ущая в избушке 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на курьих нож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етающая в сту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уществующ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0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272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3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0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2"/>
          <p:cNvSpPr/>
          <p:nvPr/>
        </p:nvSpPr>
        <p:spPr>
          <a:xfrm>
            <a:off x="2424240" y="501984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985680" y="3724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11280" y="2770200"/>
            <a:ext cx="539892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невозмож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т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казатель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невозможны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см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оте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казатель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1690560" y="4065480"/>
            <a:ext cx="539928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сами по себе они доказывают лиш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если вообще доказывают!) существова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ен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й сущ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причин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ного зодче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и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3130560" y="5361120"/>
            <a:ext cx="539892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иоткуда не следует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необходимо сущая первоприч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азумный зодчий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енно Б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43880" y="1601280"/>
            <a:ext cx="8380080" cy="911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космологического и физикотеологического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каза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nodeType="clickEffect" fill="hold">
                      <p:stCondLst>
                        <p:cond delay="0"/>
                      </p:stCondLst>
                      <p:childTnLst>
                        <p:par>
                          <p:cTn id="1315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2338560" y="1546200"/>
            <a:ext cx="4462200" cy="4462560"/>
          </a:xfrm>
          <a:custGeom>
            <a:avLst/>
            <a:gdLst>
              <a:gd name="textAreaLeft" fmla="*/ 217800 w 4462200"/>
              <a:gd name="textAreaRight" fmla="*/ 4244400 w 4462200"/>
              <a:gd name="textAreaTop" fmla="*/ 217800 h 4462560"/>
              <a:gd name="textAreaBottom" fmla="*/ 4244760 h 4462560"/>
            </a:gdLst>
            <a:ahLst/>
            <a:rect l="textAreaLeft" t="textAreaTop" r="textAreaRight" b="textAreaBottom"/>
            <a:pathLst>
              <a:path w="21600" h="21602">
                <a:moveTo>
                  <a:pt x="3600" y="0"/>
                </a:moveTo>
                <a:arcTo wR="3600" hR="3600" stAng="16200000" swAng="-5400000"/>
                <a:lnTo>
                  <a:pt x="0" y="18002"/>
                </a:lnTo>
                <a:arcTo wR="3600" hR="3600" stAng="10800000" swAng="-5400000"/>
                <a:lnTo>
                  <a:pt x="18000" y="21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рансцендентный мир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«вещей в себе»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стаётся за границам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учного по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ий 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3130560" y="2338560"/>
            <a:ext cx="2879640" cy="287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опыт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явле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233640" y="6200640"/>
            <a:ext cx="86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как </a:t>
            </a:r>
            <a:r>
              <a:rPr b="1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нау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 трансцендентных сущностях невозмож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6045120" y="2698920"/>
            <a:ext cx="2879640" cy="2158920"/>
          </a:xfrm>
          <a:prstGeom prst="leftArrowCallout">
            <a:avLst>
              <a:gd name="adj1" fmla="val 25002"/>
              <a:gd name="adj2" fmla="val 25000"/>
              <a:gd name="adj3" fmla="val 22231"/>
              <a:gd name="adj4" fmla="val 66673"/>
            </a:avLst>
          </a:prstGeom>
          <a:solidFill>
            <a:srgbClr val="99cc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т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ыта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уч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216000" y="2698920"/>
            <a:ext cx="2879640" cy="2158920"/>
          </a:xfrm>
          <a:prstGeom prst="rightArrowCallout">
            <a:avLst>
              <a:gd name="adj1" fmla="val 25002"/>
              <a:gd name="adj2" fmla="val 25000"/>
              <a:gd name="adj3" fmla="val 22231"/>
              <a:gd name="adj4" fmla="val 66667"/>
            </a:avLst>
          </a:prstGeom>
          <a:solidFill>
            <a:srgbClr val="ccffcc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приор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го разум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ни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явл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3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4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5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5834160" y="5397480"/>
            <a:ext cx="293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 Кан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ритика практ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у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ий итог критики чист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переход к критике практическ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 rot="10800000">
            <a:off x="358560" y="1977840"/>
            <a:ext cx="557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не могу... даже допуст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Бога, своб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ессмертия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ля целе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бходимого практическ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именения разум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тниму у спекулятив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а также его притяза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трансцендентные знания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мне пришлос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ить знание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вободить место вере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Kant_016"/>
          <p:cNvPicPr/>
          <p:nvPr/>
        </p:nvPicPr>
        <p:blipFill>
          <a:blip r:embed="rId1"/>
          <a:stretch/>
        </p:blipFill>
        <p:spPr>
          <a:xfrm>
            <a:off x="6116760" y="197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"/>
          <p:cNvSpPr/>
          <p:nvPr/>
        </p:nvSpPr>
        <p:spPr>
          <a:xfrm>
            <a:off x="2662200" y="161928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Филосо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AutoShape 4"/>
          <p:cNvCxnSpPr/>
          <p:nvPr/>
        </p:nvCxnSpPr>
        <p:spPr>
          <a:xfrm>
            <a:off x="3922200" y="251784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33" name="AutoShape 6"/>
          <p:cNvSpPr/>
          <p:nvPr/>
        </p:nvSpPr>
        <p:spPr>
          <a:xfrm>
            <a:off x="3525840" y="4749840"/>
            <a:ext cx="208764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6116760" y="4749840"/>
            <a:ext cx="2087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8"/>
          <p:cNvSpPr/>
          <p:nvPr/>
        </p:nvSpPr>
        <p:spPr>
          <a:xfrm>
            <a:off x="4749840" y="3094200"/>
            <a:ext cx="223200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атериальная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ило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863640" y="3094200"/>
            <a:ext cx="223200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ормальная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ило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>
            <a:off x="1978200" y="2806560"/>
            <a:ext cx="3886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AutoShape 13"/>
          <p:cNvCxnSpPr/>
          <p:nvPr/>
        </p:nvCxnSpPr>
        <p:spPr>
          <a:xfrm>
            <a:off x="1978200" y="2806200"/>
            <a:ext cx="2160" cy="28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9" name="AutoShape 14"/>
          <p:cNvCxnSpPr/>
          <p:nvPr/>
        </p:nvCxnSpPr>
        <p:spPr>
          <a:xfrm>
            <a:off x="1978200" y="417312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0" name="AutoShape 15"/>
          <p:cNvCxnSpPr/>
          <p:nvPr/>
        </p:nvCxnSpPr>
        <p:spPr>
          <a:xfrm>
            <a:off x="4570560" y="446256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1" name="AutoShape 16"/>
          <p:cNvCxnSpPr/>
          <p:nvPr/>
        </p:nvCxnSpPr>
        <p:spPr>
          <a:xfrm>
            <a:off x="5865840" y="2806200"/>
            <a:ext cx="2160" cy="28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2" name="AutoShape 24"/>
          <p:cNvSpPr/>
          <p:nvPr/>
        </p:nvSpPr>
        <p:spPr>
          <a:xfrm>
            <a:off x="934920" y="4749840"/>
            <a:ext cx="208764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AutoShape 25"/>
          <p:cNvCxnSpPr/>
          <p:nvPr/>
        </p:nvCxnSpPr>
        <p:spPr>
          <a:xfrm>
            <a:off x="7160760" y="446256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4" name="Line 26"/>
          <p:cNvSpPr/>
          <p:nvPr/>
        </p:nvSpPr>
        <p:spPr>
          <a:xfrm>
            <a:off x="4570560" y="4462560"/>
            <a:ext cx="2590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AutoShape 27"/>
          <p:cNvCxnSpPr/>
          <p:nvPr/>
        </p:nvCxnSpPr>
        <p:spPr>
          <a:xfrm>
            <a:off x="5865840" y="417348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6" name="Rectangle 28"/>
          <p:cNvSpPr/>
          <p:nvPr/>
        </p:nvSpPr>
        <p:spPr>
          <a:xfrm>
            <a:off x="934920" y="5649840"/>
            <a:ext cx="2087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9"/>
          <p:cNvSpPr/>
          <p:nvPr/>
        </p:nvSpPr>
        <p:spPr>
          <a:xfrm>
            <a:off x="3525840" y="5649840"/>
            <a:ext cx="2087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0"/>
          <p:cNvSpPr/>
          <p:nvPr/>
        </p:nvSpPr>
        <p:spPr>
          <a:xfrm>
            <a:off x="6116760" y="5649840"/>
            <a:ext cx="2087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своб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в природе действует соглас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м, но только разумны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а способны поступа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гласно представлению о зако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 воля добра, которая все проч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буждения, включая побуж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лонности и соображения пользы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чиняет требованиям дол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ая воля, таким образ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ет своим принципом не ту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ую необходимость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ую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сообразность поступ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брая вол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бра сама п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е; всё прочее, считающее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ом, может быть и вред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учи соединено со злой во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уп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уважения к закон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подчиня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еобходимости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л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2" descr="Kant_016"/>
          <p:cNvPicPr/>
          <p:nvPr/>
        </p:nvPicPr>
        <p:blipFill>
          <a:blip r:embed="rId1"/>
          <a:stretch/>
        </p:blipFill>
        <p:spPr>
          <a:xfrm>
            <a:off x="6477120" y="1295280"/>
            <a:ext cx="2400120" cy="198144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nodeType="clickEffect" fill="hold">
                      <p:stCondLst>
                        <p:cond delay="0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104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2230560" y="1438200"/>
            <a:ext cx="4678200" cy="1042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мператив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imperativus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велительный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ебование, приказ, зак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4"/>
          <p:cNvSpPr/>
          <p:nvPr/>
        </p:nvSpPr>
        <p:spPr>
          <a:xfrm>
            <a:off x="2411280" y="2733840"/>
            <a:ext cx="4318200" cy="75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равственные пред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5"/>
          <p:cNvSpPr/>
          <p:nvPr/>
        </p:nvSpPr>
        <p:spPr>
          <a:xfrm>
            <a:off x="1943280" y="3778200"/>
            <a:ext cx="2519280" cy="64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Макс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4678200" y="3778200"/>
            <a:ext cx="2519640" cy="64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мпера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7"/>
          <p:cNvSpPr/>
          <p:nvPr/>
        </p:nvSpPr>
        <p:spPr>
          <a:xfrm>
            <a:off x="3309840" y="5289480"/>
            <a:ext cx="251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Гипотетические </a:t>
            </a:r>
            <a:br>
              <a:rPr sz="1600"/>
            </a:b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императ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8"/>
          <p:cNvSpPr/>
          <p:nvPr/>
        </p:nvSpPr>
        <p:spPr>
          <a:xfrm>
            <a:off x="6045120" y="5289480"/>
            <a:ext cx="251928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атегорический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мперат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9"/>
          <p:cNvSpPr/>
          <p:nvPr/>
        </p:nvSpPr>
        <p:spPr>
          <a:xfrm>
            <a:off x="3201840" y="3633840"/>
            <a:ext cx="273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1943280" y="4425840"/>
            <a:ext cx="2519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ичные принципы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4678200" y="4425840"/>
            <a:ext cx="2519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бщезначимы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едпис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3309840" y="6081840"/>
            <a:ext cx="2519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условны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инципы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6045120" y="6081840"/>
            <a:ext cx="2519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безусловный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инцип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4"/>
          <p:cNvSpPr/>
          <p:nvPr/>
        </p:nvSpPr>
        <p:spPr>
          <a:xfrm>
            <a:off x="4570560" y="5145120"/>
            <a:ext cx="273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AutoShape 15"/>
          <p:cNvCxnSpPr/>
          <p:nvPr/>
        </p:nvCxnSpPr>
        <p:spPr>
          <a:xfrm>
            <a:off x="4572000" y="348912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6" name="AutoShape 16"/>
          <p:cNvCxnSpPr/>
          <p:nvPr/>
        </p:nvCxnSpPr>
        <p:spPr>
          <a:xfrm>
            <a:off x="3203640" y="3633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7" name="AutoShape 17"/>
          <p:cNvCxnSpPr/>
          <p:nvPr/>
        </p:nvCxnSpPr>
        <p:spPr>
          <a:xfrm>
            <a:off x="5938920" y="3633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8" name="AutoShape 18"/>
          <p:cNvCxnSpPr/>
          <p:nvPr/>
        </p:nvCxnSpPr>
        <p:spPr>
          <a:xfrm>
            <a:off x="5936760" y="500184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9" name="AutoShape 19"/>
          <p:cNvCxnSpPr/>
          <p:nvPr/>
        </p:nvCxnSpPr>
        <p:spPr>
          <a:xfrm>
            <a:off x="4572000" y="514476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80" name="AutoShape 20"/>
          <p:cNvCxnSpPr/>
          <p:nvPr/>
        </p:nvCxnSpPr>
        <p:spPr>
          <a:xfrm>
            <a:off x="7307280" y="514476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nodeType="clickEffect" fill="hold">
                      <p:stCondLst>
                        <p:cond delay="indefinite"/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3"/>
          <p:cNvSpPr/>
          <p:nvPr/>
        </p:nvSpPr>
        <p:spPr>
          <a:xfrm>
            <a:off x="790560" y="2949480"/>
            <a:ext cx="7558200" cy="19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ак, чтобы максима твоей воли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огла в то же время иметь силу принципа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общего законода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1511280" y="5181480"/>
            <a:ext cx="6118200" cy="12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пай так, как если бы максима твоег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пка посредством твоей воли должн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а стать всеобщим законом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2625840" y="1798560"/>
            <a:ext cx="388620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формулиров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лагает запр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поступки, которы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ыслимы или невозможн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овершаемы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ми людь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з исклю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6" descr="Thief (1)"/>
          <p:cNvPicPr/>
          <p:nvPr/>
        </p:nvPicPr>
        <p:blipFill>
          <a:blip r:embed="rId1"/>
          <a:stretch/>
        </p:blipFill>
        <p:spPr>
          <a:xfrm>
            <a:off x="7197840" y="1798560"/>
            <a:ext cx="1465200" cy="1979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8" descr="Thief (3)"/>
          <p:cNvPicPr/>
          <p:nvPr/>
        </p:nvPicPr>
        <p:blipFill>
          <a:blip r:embed="rId2"/>
          <a:stretch/>
        </p:blipFill>
        <p:spPr>
          <a:xfrm>
            <a:off x="539640" y="1798560"/>
            <a:ext cx="1320840" cy="1979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5" descr="Murder (3-ed)"/>
          <p:cNvPicPr/>
          <p:nvPr/>
        </p:nvPicPr>
        <p:blipFill>
          <a:blip r:embed="rId3"/>
          <a:stretch/>
        </p:blipFill>
        <p:spPr>
          <a:xfrm>
            <a:off x="539640" y="4497480"/>
            <a:ext cx="1979640" cy="17859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7" descr="Murder (3-ed)"/>
          <p:cNvPicPr/>
          <p:nvPr/>
        </p:nvPicPr>
        <p:blipFill>
          <a:blip r:embed="rId4"/>
          <a:stretch/>
        </p:blipFill>
        <p:spPr>
          <a:xfrm>
            <a:off x="6656400" y="4497480"/>
            <a:ext cx="1979640" cy="1757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8" descr="Cheat"/>
          <p:cNvPicPr/>
          <p:nvPr/>
        </p:nvPicPr>
        <p:blipFill>
          <a:blip r:embed="rId5"/>
          <a:stretch/>
        </p:blipFill>
        <p:spPr>
          <a:xfrm>
            <a:off x="3489480" y="4965840"/>
            <a:ext cx="2158920" cy="1433520"/>
          </a:xfrm>
          <a:prstGeom prst="rect">
            <a:avLst/>
          </a:prstGeom>
          <a:ln w="0">
            <a:noFill/>
          </a:ln>
        </p:spPr>
      </p:pic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nodeType="clickEffect" fill="hold">
                      <p:stCondLst>
                        <p:cond delay="0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1798560" y="1546200"/>
            <a:ext cx="554220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Идеи</a:t>
            </a:r>
            <a:br>
              <a:rPr sz="2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тегории, расширенные до безусловн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719280" y="3057480"/>
            <a:ext cx="180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3670200" y="305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6621480" y="305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21600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ыслящ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316548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яда услови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я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611676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 услови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ех предметов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ышления вооб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358920" y="546876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тегоричес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3309840" y="5468760"/>
            <a:ext cx="251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гипотетичес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6261120" y="546876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азделитель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1619280" y="287820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14"/>
          <p:cNvCxnSpPr/>
          <p:nvPr/>
        </p:nvCxnSpPr>
        <p:spPr>
          <a:xfrm>
            <a:off x="4570560" y="269892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69" name="AutoShape 15"/>
          <p:cNvCxnSpPr/>
          <p:nvPr/>
        </p:nvCxnSpPr>
        <p:spPr>
          <a:xfrm>
            <a:off x="161928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0" name="AutoShape 16"/>
          <p:cNvCxnSpPr/>
          <p:nvPr/>
        </p:nvCxnSpPr>
        <p:spPr>
          <a:xfrm>
            <a:off x="457056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1" name="Line 17"/>
          <p:cNvSpPr/>
          <p:nvPr/>
        </p:nvSpPr>
        <p:spPr>
          <a:xfrm>
            <a:off x="4570560" y="287820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AutoShape 18"/>
          <p:cNvCxnSpPr/>
          <p:nvPr/>
        </p:nvCxnSpPr>
        <p:spPr>
          <a:xfrm>
            <a:off x="752112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еловек как ц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790560" y="3057480"/>
            <a:ext cx="7558200" cy="280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ак, чтобы ты всегда относился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 человечеству и в своём лице, и в лице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сякого другого также как 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икогда не относился бы к нему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олько как 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ред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а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номия в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3"/>
          <p:cNvSpPr/>
          <p:nvPr/>
        </p:nvSpPr>
        <p:spPr>
          <a:xfrm>
            <a:off x="790560" y="3057480"/>
            <a:ext cx="755820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олько так, чтобы воля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лагодаря своей максиме могла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ссматривать самоё себя также как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станавливающую всеобщие зак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ть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nodeType="clickEffect" fill="hold">
                      <p:stCondLst>
                        <p:cond delay="indefinite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utoShape 2"/>
          <p:cNvSpPr/>
          <p:nvPr/>
        </p:nvSpPr>
        <p:spPr>
          <a:xfrm>
            <a:off x="3489480" y="3525840"/>
            <a:ext cx="1079280" cy="503280"/>
          </a:xfrm>
          <a:prstGeom prst="rightArrow">
            <a:avLst>
              <a:gd name="adj1" fmla="val 50000"/>
              <a:gd name="adj2" fmla="val 536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4570560" y="3525840"/>
            <a:ext cx="1079280" cy="503280"/>
          </a:xfrm>
          <a:prstGeom prst="leftArrow">
            <a:avLst>
              <a:gd name="adj1" fmla="val 50000"/>
              <a:gd name="adj2" fmla="val 536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8"/>
          <p:cNvSpPr/>
          <p:nvPr/>
        </p:nvSpPr>
        <p:spPr>
          <a:xfrm>
            <a:off x="1079640" y="233856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ребования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9"/>
          <p:cNvSpPr/>
          <p:nvPr/>
        </p:nvSpPr>
        <p:spPr>
          <a:xfrm>
            <a:off x="5181480" y="233856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емлени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 сча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3" dur="indefinite" restart="never" nodeType="tmRoot">
          <p:childTnLst>
            <p:seq>
              <p:cTn id="1714" dur="indefinite" nodeType="mainSeq">
                <p:childTnLst>
                  <p:par>
                    <p:cTn id="1715" nodeType="clickEffect" fill="hold">
                      <p:stCondLst>
                        <p:cond delay="0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32" dur="5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34" dur="5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7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1" dur="2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2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/>
          <p:cNvSpPr/>
          <p:nvPr/>
        </p:nvSpPr>
        <p:spPr>
          <a:xfrm>
            <a:off x="1690560" y="1798560"/>
            <a:ext cx="57578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остулаты практического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5"/>
          <p:cNvSpPr/>
          <p:nvPr/>
        </p:nvSpPr>
        <p:spPr>
          <a:xfrm>
            <a:off x="3309840" y="3454560"/>
            <a:ext cx="251964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вобод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6"/>
          <p:cNvSpPr/>
          <p:nvPr/>
        </p:nvSpPr>
        <p:spPr>
          <a:xfrm>
            <a:off x="6261120" y="3454560"/>
            <a:ext cx="251928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ыти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ж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3"/>
          <p:cNvSpPr/>
          <p:nvPr/>
        </p:nvSpPr>
        <p:spPr>
          <a:xfrm>
            <a:off x="1619280" y="316548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AutoShape 14"/>
          <p:cNvCxnSpPr/>
          <p:nvPr/>
        </p:nvCxnSpPr>
        <p:spPr>
          <a:xfrm>
            <a:off x="4570560" y="287784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15" name="AutoShape 15"/>
          <p:cNvCxnSpPr/>
          <p:nvPr/>
        </p:nvCxnSpPr>
        <p:spPr>
          <a:xfrm>
            <a:off x="1619280" y="316548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6" name="Line 17"/>
          <p:cNvSpPr/>
          <p:nvPr/>
        </p:nvSpPr>
        <p:spPr>
          <a:xfrm>
            <a:off x="4570560" y="316548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AutoShape 18"/>
          <p:cNvCxnSpPr/>
          <p:nvPr/>
        </p:nvCxnSpPr>
        <p:spPr>
          <a:xfrm>
            <a:off x="7521120" y="316548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8" name="AutoShape 4"/>
          <p:cNvSpPr/>
          <p:nvPr/>
        </p:nvSpPr>
        <p:spPr>
          <a:xfrm>
            <a:off x="358920" y="3454560"/>
            <a:ext cx="251928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ессмерти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9"/>
          <p:cNvSpPr/>
          <p:nvPr/>
        </p:nvSpPr>
        <p:spPr>
          <a:xfrm>
            <a:off x="358920" y="503712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0"/>
          <p:cNvSpPr/>
          <p:nvPr/>
        </p:nvSpPr>
        <p:spPr>
          <a:xfrm>
            <a:off x="3309840" y="5037120"/>
            <a:ext cx="251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см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1"/>
          <p:cNvSpPr/>
          <p:nvPr/>
        </p:nvSpPr>
        <p:spPr>
          <a:xfrm>
            <a:off x="6261120" y="503712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4" dur="indefinite" restart="never" nodeType="tmRoot">
          <p:childTnLst>
            <p:seq>
              <p:cTn id="1745" dur="indefinite" nodeType="mainSeq">
                <p:childTnLst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015"/>
          <p:cNvPicPr/>
          <p:nvPr/>
        </p:nvPicPr>
        <p:blipFill>
          <a:blip r:embed="rId1"/>
          <a:stretch/>
        </p:blipFill>
        <p:spPr>
          <a:xfrm>
            <a:off x="1079640" y="1546200"/>
            <a:ext cx="2896920" cy="359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24" name="Picture 4" descr="ex00451b--2"/>
          <p:cNvPicPr/>
          <p:nvPr/>
        </p:nvPicPr>
        <p:blipFill>
          <a:blip r:embed="rId2"/>
          <a:stretch/>
        </p:blipFill>
        <p:spPr>
          <a:xfrm>
            <a:off x="5218200" y="1546200"/>
            <a:ext cx="2854080" cy="36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75760" y="272880"/>
            <a:ext cx="858996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ий ит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6"/>
          <p:cNvSpPr/>
          <p:nvPr/>
        </p:nvSpPr>
        <p:spPr>
          <a:xfrm>
            <a:off x="504000" y="5176800"/>
            <a:ext cx="8136360" cy="170316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вещи наполняют душу всегда новым и всё более силь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дивлением и благоговением, чем чаще и продолжительнее м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мышляем о них, – э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вёздное небо надо мной и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оральный закон во м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1" dur="indefinite" restart="never" nodeType="tmRoot">
          <p:childTnLst>
            <p:seq>
              <p:cTn id="1812" dur="indefinite" nodeType="mainSeq">
                <p:childTnLst>
                  <p:par>
                    <p:cTn id="1813" nodeType="clickEffect" fill="hold">
                      <p:stCondLst>
                        <p:cond delay="indefinite"/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7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8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9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55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nodeType="clickEffect" fill="hold">
                      <p:stCondLst>
                        <p:cond delay="0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nodeType="clickEffect" fill="hold">
                      <p:stCondLst>
                        <p:cond delay="indefinite"/>
                      </p:stCondLst>
                      <p:childTnLst>
                        <p:par>
                          <p:cTn id="1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nodeType="clickEffect" fill="hold">
                      <p:stCondLst>
                        <p:cond delay="indefinite"/>
                      </p:stCondLst>
                      <p:childTnLst>
                        <p:par>
                          <p:cTn id="1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ая сх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66294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Идеал</a:t>
            </a:r>
            <a:br>
              <a:rPr sz="1800"/>
            </a:b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0"/>
          <p:cNvSpPr/>
          <p:nvPr/>
        </p:nvSpPr>
        <p:spPr>
          <a:xfrm>
            <a:off x="45720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9"/>
          <p:cNvSpPr/>
          <p:nvPr/>
        </p:nvSpPr>
        <p:spPr>
          <a:xfrm>
            <a:off x="25146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4572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иалектические выводы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66294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т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45720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косм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25146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4572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етафизические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66294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Б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45720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25146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4572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деи разум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6294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45720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ипоте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5146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572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иды умозаклю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457200" y="1773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457200" y="29052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4"/>
          <p:cNvSpPr/>
          <p:nvPr/>
        </p:nvSpPr>
        <p:spPr>
          <a:xfrm>
            <a:off x="457200" y="40370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457200" y="5167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6"/>
          <p:cNvSpPr/>
          <p:nvPr/>
        </p:nvSpPr>
        <p:spPr>
          <a:xfrm>
            <a:off x="457200" y="629928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457200" y="177336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8"/>
          <p:cNvSpPr/>
          <p:nvPr/>
        </p:nvSpPr>
        <p:spPr>
          <a:xfrm>
            <a:off x="25146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9"/>
          <p:cNvSpPr/>
          <p:nvPr/>
        </p:nvSpPr>
        <p:spPr>
          <a:xfrm>
            <a:off x="45720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>
            <a:off x="66294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1"/>
          <p:cNvSpPr/>
          <p:nvPr/>
        </p:nvSpPr>
        <p:spPr>
          <a:xfrm>
            <a:off x="8686800" y="177336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965840" y="2158920"/>
            <a:ext cx="341928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ном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αντι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100" spc="-1" strike="noStrike">
                <a:solidFill>
                  <a:srgbClr val="00ff00"/>
                </a:solidFill>
                <a:latin typeface="Times New Roman"/>
              </a:rPr>
              <a:t>νο</a:t>
            </a:r>
            <a:r>
              <a:rPr b="1" lang="ru-RU" sz="2100" spc="-1" strike="noStrike">
                <a:solidFill>
                  <a:srgbClr val="00ff00"/>
                </a:solidFill>
                <a:latin typeface="Times New Roman"/>
              </a:rPr>
              <a:t>μος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кон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поло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жду двум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исключающ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ям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ждое из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ста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чески доказа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790560" y="2158920"/>
            <a:ext cx="341964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ралог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100" spc="-1" strike="noStrike">
                <a:solidFill>
                  <a:srgbClr val="00ff00"/>
                </a:solidFill>
                <a:latin typeface="Times New Roman"/>
              </a:rPr>
              <a:t>παραλογισμος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авильное, лож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ужд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ческая ошиб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умозаключен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сшедш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еднамерен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ледствие наруш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ов и правил лог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419640" y="5332320"/>
            <a:ext cx="526716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ходящая в отношении 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озможны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едметам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457200" y="5332320"/>
            <a:ext cx="296244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3419640" y="4427640"/>
            <a:ext cx="52671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 времени</a:t>
            </a:r>
            <a:br>
              <a:rPr sz="2000"/>
            </a:b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численно-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ждествен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457200" y="4427640"/>
            <a:ext cx="29624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419640" y="3521160"/>
            <a:ext cx="52671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своему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каче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стая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457200" y="3521160"/>
            <a:ext cx="296244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419640" y="2616120"/>
            <a:ext cx="526716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ша ест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убстанция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457200" y="2616120"/>
            <a:ext cx="296244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419640" y="1711440"/>
            <a:ext cx="52671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ра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57200" y="1711440"/>
            <a:ext cx="29624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иды суждений и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руппы катего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457200" y="2616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457200" y="35211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457200" y="44276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457200" y="53323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3"/>
          <p:cNvSpPr/>
          <p:nvPr/>
        </p:nvSpPr>
        <p:spPr>
          <a:xfrm>
            <a:off x="341964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6"/>
          <p:cNvSpPr/>
          <p:nvPr/>
        </p:nvSpPr>
        <p:spPr>
          <a:xfrm>
            <a:off x="5019840" y="5073480"/>
            <a:ext cx="661680" cy="1094040"/>
          </a:xfrm>
          <a:custGeom>
            <a:avLst/>
            <a:gdLst>
              <a:gd name="textAreaLeft" fmla="*/ 88560 w 661680"/>
              <a:gd name="textAreaRight" fmla="*/ 573120 w 661680"/>
              <a:gd name="textAreaTop" fmla="*/ 191520 h 1094040"/>
              <a:gd name="textAreaBottom" fmla="*/ 793440 h 10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5002200" y="1582560"/>
            <a:ext cx="1332000" cy="13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"/>
          <p:cNvSpPr/>
          <p:nvPr/>
        </p:nvSpPr>
        <p:spPr>
          <a:xfrm>
            <a:off x="6837480" y="1582560"/>
            <a:ext cx="1331640" cy="13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дик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5002200" y="2733840"/>
            <a:ext cx="1332000" cy="13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6837480" y="2733840"/>
            <a:ext cx="1331640" cy="13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774000" y="1870200"/>
            <a:ext cx="29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ая ошибка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тверение терм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8"/>
          <p:cNvCxnSpPr>
            <a:stCxn id="129" idx="6"/>
            <a:endCxn id="130" idx="2"/>
          </p:cNvCxnSpPr>
          <p:nvPr/>
        </p:nvCxnSpPr>
        <p:spPr>
          <a:xfrm>
            <a:off x="6334200" y="2249280"/>
            <a:ext cx="50400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cxnSp>
        <p:nvCxnSpPr>
          <p:cNvPr id="135" name="AutoShape 9"/>
          <p:cNvCxnSpPr>
            <a:stCxn id="131" idx="6"/>
            <a:endCxn id="132" idx="2"/>
          </p:cNvCxnSpPr>
          <p:nvPr/>
        </p:nvCxnSpPr>
        <p:spPr>
          <a:xfrm>
            <a:off x="6334200" y="3400200"/>
            <a:ext cx="50400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136" name="Text Box 10"/>
          <p:cNvSpPr/>
          <p:nvPr/>
        </p:nvSpPr>
        <p:spPr>
          <a:xfrm>
            <a:off x="335160" y="4425840"/>
            <a:ext cx="3875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Философская ошибка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ство апперцепции ес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альное условие опыта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не свойство душ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вещи в себ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пределами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4605480" y="4389480"/>
            <a:ext cx="305892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тоянност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уши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5684760" y="5505480"/>
            <a:ext cx="305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тоянност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уши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сле 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7"/>
          <p:cNvGrpSpPr/>
          <p:nvPr/>
        </p:nvGrpSpPr>
        <p:grpSpPr>
          <a:xfrm>
            <a:off x="4893840" y="5522400"/>
            <a:ext cx="576360" cy="576720"/>
            <a:chOff x="4893840" y="5522400"/>
            <a:chExt cx="576360" cy="576720"/>
          </a:xfrm>
        </p:grpSpPr>
        <p:sp>
          <p:nvSpPr>
            <p:cNvPr id="140" name="Line 14"/>
            <p:cNvSpPr/>
            <p:nvPr/>
          </p:nvSpPr>
          <p:spPr>
            <a:xfrm flipH="1">
              <a:off x="4893840" y="5522760"/>
              <a:ext cx="576360" cy="576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5"/>
            <p:cNvSpPr/>
            <p:nvPr/>
          </p:nvSpPr>
          <p:spPr>
            <a:xfrm flipH="1" flipV="1">
              <a:off x="4893840" y="5522400"/>
              <a:ext cx="576360" cy="576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59436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Случай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2004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обход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572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9436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Необход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004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9436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Сло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32004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ст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4572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436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Бескон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32004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он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4572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3200400" y="1711440"/>
            <a:ext cx="54864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но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457200" y="1711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иды суждений и группы катего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8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9"/>
          <p:cNvSpPr/>
          <p:nvPr/>
        </p:nvSpPr>
        <p:spPr>
          <a:xfrm>
            <a:off x="457200" y="2616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"/>
          <p:cNvSpPr/>
          <p:nvPr/>
        </p:nvSpPr>
        <p:spPr>
          <a:xfrm>
            <a:off x="457200" y="35211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1"/>
          <p:cNvSpPr/>
          <p:nvPr/>
        </p:nvSpPr>
        <p:spPr>
          <a:xfrm>
            <a:off x="457200" y="44276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2"/>
          <p:cNvSpPr/>
          <p:nvPr/>
        </p:nvSpPr>
        <p:spPr>
          <a:xfrm>
            <a:off x="457200" y="53323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3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4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5"/>
          <p:cNvSpPr/>
          <p:nvPr/>
        </p:nvSpPr>
        <p:spPr>
          <a:xfrm>
            <a:off x="32004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6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7"/>
          <p:cNvSpPr/>
          <p:nvPr/>
        </p:nvSpPr>
        <p:spPr>
          <a:xfrm>
            <a:off x="5943600" y="2616120"/>
            <a:ext cx="0" cy="36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5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028320" y="163836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имеет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чал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(границу)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 времен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во времен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 в пространстве;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есконеч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38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40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3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7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9:25:27Z</dcterms:created>
  <dc:creator>Николай Бирюков / Nikolai Biryukov</dc:creator>
  <dc:description>Редакция мая 2006 г.</dc:description>
  <dc:language>en-US</dc:language>
  <cp:lastModifiedBy>LEGION</cp:lastModifiedBy>
  <dcterms:modified xsi:type="dcterms:W3CDTF">2014-11-11T12:39:01Z</dcterms:modified>
  <cp:revision>138</cp:revision>
  <dc:subject>Основы философии - Тема 14, часть 2</dc:subject>
  <dc:title>Кант: трансцендентальная диалектика и этика</dc:title>
</cp:coreProperties>
</file>