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BF6E-6FC5-49A9-988C-C03857CB6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98BC-DC3E-4D8E-8FE0-74A93EFAC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CDCB-D82C-4864-BD8F-02299EA82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0FA8-FE3B-4182-8C05-9A995A60A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EB57-9470-421F-80A3-8B1EA0224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752A-4F99-472A-ADFF-73FE7D09F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6D8-BB60-4C96-8930-2E4D579AF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ACE3-7952-4818-8C96-1BBF128B1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C964-CB84-4DEC-BA7F-19BF70633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6B2C-A74E-46BA-B7B2-7876796DE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B6AD-1820-48F8-AD40-AA657B919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AE58-4102-436D-91BB-BD08A3E6C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EB2A-D497-4FA9-879F-837FE44DB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E923-6BFC-4C7E-9EC7-CA74FF683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3643-F38F-4B6B-A07E-695001DAB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0A21-9E7A-4A77-A385-FA80DC764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E51F-70A6-4B4D-93EE-AD4E4F640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B48F-BD76-4D2A-BC6E-82B260B5D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8346-3DB1-42FF-B1DB-508BCE158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316F-79A0-4060-BF2F-40101E2FE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B78B-525D-4194-832D-C68A26BEA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B7F8-0B57-4505-8A39-CE1CCDD92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205F-04E5-43C2-AE32-CBEFC5B81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E46-8981-42C7-8CF7-A8F20BF025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3189-81C6-4251-AAA7-E2B27A652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8F5E-9ED3-4527-A0EB-F425C89A7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36CC-3E0F-4D57-BB62-7D3616A82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402F-9105-4933-B26F-C9D7B8765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0402-969E-405E-83C7-F28F4C518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75D0-A930-4378-A56B-FD3E20E78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D6D0-23A7-4525-9923-6B7B75BBF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C695-41A6-4E2F-A5A7-D8DEB6ECEB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8020-B8FB-4818-9465-046933191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08E3-54DA-4323-ADC2-C06DC3451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4B45-C32D-41E8-8D7C-70688F237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79D-8200-48E2-B574-F44F2E3C0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117-FC3A-4B51-97BD-F5D0C842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398-6027-49FE-A5D3-6296B50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D8E-2BF2-4AF6-A951-8A88B58E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052-BEFD-4086-90C0-8F4E771A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AFB-BF0D-4A8D-BD40-625308ED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2C1-36DD-486F-B1B3-1B146B9E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CE6-06E4-4B05-8786-727EA122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66F-2A5C-4830-B0ED-65EF7FE0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334-F920-41AD-ADAD-045743CB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381-8E16-4FB7-B751-F5F69E7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9F6-3F6B-4F0C-A8D7-D8A3C5E8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9F0-B23F-4C52-B777-3B344B15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4363-B137-4463-A99F-5814A87CF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440"/>
            <a:ext cx="856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во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мея ни «начала», ни «конца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правившись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ённого прошл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воз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бы добраться до «сегодн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 же, как отправившись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егодня» в будущее,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«конца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егодня» наступил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шедшее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было бесконеч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ир имел начало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3886200" y="323856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2 апре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522960" y="5397480"/>
            <a:ext cx="218664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 flipH="1">
            <a:off x="286560" y="3778200"/>
            <a:ext cx="3598920" cy="360360"/>
          </a:xfrm>
          <a:prstGeom prst="rightArrow">
            <a:avLst>
              <a:gd name="adj1" fmla="val 50000"/>
              <a:gd name="adj2" fmla="val 249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48000" y="3057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ш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36400" y="4497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рош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мир им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 в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-то должно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время, в 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не было,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 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бы то ни было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ни одна часть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ени не заключает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я существования, отли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условия не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3"/>
          <p:cNvSpPr/>
          <p:nvPr/>
        </p:nvSpPr>
        <p:spPr>
          <a:xfrm>
            <a:off x="287280" y="3165480"/>
            <a:ext cx="3598920" cy="15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492720" y="5397480"/>
            <a:ext cx="225036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09040" y="51814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го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814920" y="3165480"/>
            <a:ext cx="1582560" cy="1582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038400" y="1638360"/>
            <a:ext cx="318636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стоит 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го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054960" y="1638360"/>
            <a:ext cx="31543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ую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как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ы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совершае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 только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закона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9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796840" y="1638360"/>
            <a:ext cx="3670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ёрт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ряду прич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а есть нек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обходим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этом ряд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ого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нё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503712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41784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58920" y="2698920"/>
            <a:ext cx="3958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ервой и втор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ож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857840" y="269892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етьей и четвёрт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58920" y="4497480"/>
            <a:ext cx="305892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вопрос 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странственн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реме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ет с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57840" y="4497480"/>
            <a:ext cx="305928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ти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657880" y="1638360"/>
            <a:ext cx="3949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 антин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45720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Онт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4572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45720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см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4572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45720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Физикоте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4572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5720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казатель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я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7"/>
          <p:cNvSpPr/>
          <p:nvPr/>
        </p:nvSpPr>
        <p:spPr>
          <a:xfrm>
            <a:off x="4572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ид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мо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5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6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7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446200" y="1619280"/>
            <a:ext cx="4246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казательства быти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39640" y="3022560"/>
            <a:ext cx="215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48948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644040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79280" y="3922560"/>
            <a:ext cx="288000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анн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м в опыт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ми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13056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пыта вообщ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не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уществова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08184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сущност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приор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ится из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619280" y="2770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4"/>
          <p:cNvCxnSpPr/>
          <p:nvPr/>
        </p:nvCxnSpPr>
        <p:spPr>
          <a:xfrm>
            <a:off x="4570560" y="251748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3" name="AutoShape 15"/>
          <p:cNvCxnSpPr/>
          <p:nvPr/>
        </p:nvCxnSpPr>
        <p:spPr>
          <a:xfrm>
            <a:off x="161928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16"/>
          <p:cNvCxnSpPr/>
          <p:nvPr/>
        </p:nvCxnSpPr>
        <p:spPr>
          <a:xfrm>
            <a:off x="457056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17"/>
          <p:cNvSpPr/>
          <p:nvPr/>
        </p:nvSpPr>
        <p:spPr>
          <a:xfrm>
            <a:off x="4570560" y="2770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8"/>
          <p:cNvCxnSpPr/>
          <p:nvPr/>
        </p:nvCxnSpPr>
        <p:spPr>
          <a:xfrm>
            <a:off x="7521120" y="2769840"/>
            <a:ext cx="252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1"/>
          <p:cNvSpPr/>
          <p:nvPr/>
        </p:nvSpPr>
        <p:spPr>
          <a:xfrm>
            <a:off x="6656400" y="2968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"/>
          <p:cNvSpPr/>
          <p:nvPr/>
        </p:nvSpPr>
        <p:spPr>
          <a:xfrm>
            <a:off x="1992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33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539640" y="2733840"/>
            <a:ext cx="39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 выве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438200" y="3957480"/>
            <a:ext cx="39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, с логической точ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рения, существова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икат,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698920" y="5181480"/>
            <a:ext cx="39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этому ни в како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79276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73748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1"/>
          <p:cNvSpPr/>
          <p:nvPr/>
        </p:nvSpPr>
        <p:spPr>
          <a:xfrm>
            <a:off x="5289480" y="2914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884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625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1640" y="2733840"/>
            <a:ext cx="323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оединение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330200" y="3957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олу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ей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181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 са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ую ве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317840" y="277020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аб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6369120" y="2733840"/>
            <a:ext cx="2411280" cy="24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лду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ромая («костя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ог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ущая в избушке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а курьих нож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етающая в 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ществ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2424240" y="501984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985680" y="3724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11280" y="277020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евозможн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те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90560" y="4065480"/>
            <a:ext cx="539928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сами по себе они доказывают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вообще доказывают!) существова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причин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го зодче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130560" y="536112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иоткуда не след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необходимо сущая перво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азумный зодчий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н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43880" y="1601280"/>
            <a:ext cx="8380080" cy="91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космологического и физикотеологическ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338560" y="1546200"/>
            <a:ext cx="4462200" cy="4462560"/>
          </a:xfrm>
          <a:custGeom>
            <a:avLst/>
            <a:gdLst>
              <a:gd name="textAreaLeft" fmla="*/ 217800 w 4462200"/>
              <a:gd name="textAreaRight" fmla="*/ 4244400 w 4462200"/>
              <a:gd name="textAreaTop" fmla="*/ 217800 h 4462560"/>
              <a:gd name="textAreaBottom" fmla="*/ 4244760 h 44625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нсцендентный мир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вещей в себе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ётся за границам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ч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3130560" y="2338560"/>
            <a:ext cx="2879640" cy="28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опыт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33640" y="620064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как </a:t>
            </a:r>
            <a:r>
              <a:rPr b="1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нау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трансцендентных сущностях невоз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045120" y="2698920"/>
            <a:ext cx="2879640" cy="2158920"/>
          </a:xfrm>
          <a:prstGeom prst="leftArrowCallout">
            <a:avLst>
              <a:gd name="adj1" fmla="val 25002"/>
              <a:gd name="adj2" fmla="val 25000"/>
              <a:gd name="adj3" fmla="val 22231"/>
              <a:gd name="adj4" fmla="val 66673"/>
            </a:avLst>
          </a:prstGeom>
          <a:solidFill>
            <a:srgbClr val="99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а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216000" y="2698920"/>
            <a:ext cx="2879640" cy="2158920"/>
          </a:xfrm>
          <a:prstGeom prst="rightArrowCallout">
            <a:avLst>
              <a:gd name="adj1" fmla="val 25002"/>
              <a:gd name="adj2" fmla="val 25000"/>
              <a:gd name="adj3" fmla="val 22231"/>
              <a:gd name="adj4" fmla="val 66667"/>
            </a:avLst>
          </a:prstGeom>
          <a:solidFill>
            <a:srgbClr val="ccffcc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риор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и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834160" y="539748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ан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итика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у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10800000">
            <a:off x="358560" y="1977840"/>
            <a:ext cx="557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е могу... даже допуст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,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ссмерти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ля целе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го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я 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ниму у спекуляти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также его притяза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трансцендентные знания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не пришлос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ть знание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бодить место вере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Kant_016"/>
          <p:cNvPicPr/>
          <p:nvPr/>
        </p:nvPicPr>
        <p:blipFill>
          <a:blip r:embed="rId1"/>
          <a:stretch/>
        </p:blipFill>
        <p:spPr>
          <a:xfrm>
            <a:off x="6116760" y="197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662200" y="161928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ло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4"/>
          <p:cNvCxnSpPr/>
          <p:nvPr/>
        </p:nvCxnSpPr>
        <p:spPr>
          <a:xfrm>
            <a:off x="3922200" y="251784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AutoShape 6"/>
          <p:cNvSpPr/>
          <p:nvPr/>
        </p:nvSpPr>
        <p:spPr>
          <a:xfrm>
            <a:off x="352584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116760" y="4749840"/>
            <a:ext cx="2087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498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атери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636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1978200" y="280656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3"/>
          <p:cNvCxnSpPr/>
          <p:nvPr/>
        </p:nvCxnSpPr>
        <p:spPr>
          <a:xfrm>
            <a:off x="197820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4"/>
          <p:cNvCxnSpPr/>
          <p:nvPr/>
        </p:nvCxnSpPr>
        <p:spPr>
          <a:xfrm>
            <a:off x="1978200" y="417312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5"/>
          <p:cNvCxnSpPr/>
          <p:nvPr/>
        </p:nvCxnSpPr>
        <p:spPr>
          <a:xfrm>
            <a:off x="4570560" y="4462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16"/>
          <p:cNvCxnSpPr/>
          <p:nvPr/>
        </p:nvCxnSpPr>
        <p:spPr>
          <a:xfrm>
            <a:off x="586584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2" name="AutoShape 24"/>
          <p:cNvSpPr/>
          <p:nvPr/>
        </p:nvSpPr>
        <p:spPr>
          <a:xfrm>
            <a:off x="93492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25"/>
          <p:cNvCxnSpPr/>
          <p:nvPr/>
        </p:nvCxnSpPr>
        <p:spPr>
          <a:xfrm>
            <a:off x="7160760" y="4462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6"/>
          <p:cNvSpPr/>
          <p:nvPr/>
        </p:nvSpPr>
        <p:spPr>
          <a:xfrm>
            <a:off x="4570560" y="4462560"/>
            <a:ext cx="259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27"/>
          <p:cNvCxnSpPr/>
          <p:nvPr/>
        </p:nvCxnSpPr>
        <p:spPr>
          <a:xfrm>
            <a:off x="5865840" y="4173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6" name="Rectangle 28"/>
          <p:cNvSpPr/>
          <p:nvPr/>
        </p:nvSpPr>
        <p:spPr>
          <a:xfrm>
            <a:off x="93492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2584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116760" y="5649840"/>
            <a:ext cx="20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в природе действует соглас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, но только разум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а способны поступ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сно представлению о зак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 воля добра, которая все проч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уждения, включая поб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ности и соображения пользы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яет требованиям до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я воля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 своим принципом не ту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ую необходимость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сообразность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ая 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бра сама п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; всё прочее, счит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м, может быть и вре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чи соединено со зл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уважения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подчиня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обходим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л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Kant_016"/>
          <p:cNvPicPr/>
          <p:nvPr/>
        </p:nvPicPr>
        <p:blipFill>
          <a:blip r:embed="rId1"/>
          <a:stretch/>
        </p:blipFill>
        <p:spPr>
          <a:xfrm>
            <a:off x="6477120" y="1295280"/>
            <a:ext cx="2400120" cy="1981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0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30560" y="1438200"/>
            <a:ext cx="4678200" cy="104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перати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mper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велительный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е, приказ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11280" y="2733840"/>
            <a:ext cx="4318200" cy="75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ые пре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943280" y="3778200"/>
            <a:ext cx="25192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ак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4678200" y="3778200"/>
            <a:ext cx="25196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3309840" y="5289480"/>
            <a:ext cx="251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ипотетические </a:t>
            </a:r>
            <a:br>
              <a:rPr sz="1600"/>
            </a:b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045120" y="5289480"/>
            <a:ext cx="2519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тегорически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мпер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01840" y="363384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943280" y="4425840"/>
            <a:ext cx="25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ичные принцип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678200" y="4425840"/>
            <a:ext cx="251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езначи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д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3309840" y="6081840"/>
            <a:ext cx="251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ловн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045120" y="6081840"/>
            <a:ext cx="2519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зуслов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570560" y="514512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15"/>
          <p:cNvCxnSpPr/>
          <p:nvPr/>
        </p:nvCxnSpPr>
        <p:spPr>
          <a:xfrm>
            <a:off x="4572000" y="3489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AutoShape 16"/>
          <p:cNvCxnSpPr/>
          <p:nvPr/>
        </p:nvCxnSpPr>
        <p:spPr>
          <a:xfrm>
            <a:off x="320364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7" name="AutoShape 17"/>
          <p:cNvCxnSpPr/>
          <p:nvPr/>
        </p:nvCxnSpPr>
        <p:spPr>
          <a:xfrm>
            <a:off x="593892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8" name="AutoShape 18"/>
          <p:cNvCxnSpPr/>
          <p:nvPr/>
        </p:nvCxnSpPr>
        <p:spPr>
          <a:xfrm>
            <a:off x="5936760" y="500184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9" name="AutoShape 19"/>
          <p:cNvCxnSpPr/>
          <p:nvPr/>
        </p:nvCxnSpPr>
        <p:spPr>
          <a:xfrm>
            <a:off x="457200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0" name="AutoShape 20"/>
          <p:cNvCxnSpPr/>
          <p:nvPr/>
        </p:nvCxnSpPr>
        <p:spPr>
          <a:xfrm>
            <a:off x="730728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90560" y="2949480"/>
            <a:ext cx="7558200" cy="19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максима твоей вол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гла в то же время иметь силу принцип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511280" y="5181480"/>
            <a:ext cx="611820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ай так, как если бы максима тво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ка посредством твоей воли долж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а стать всеобщим законо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2625840" y="1798560"/>
            <a:ext cx="388620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гает запр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ступки, котор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ыслимы или невозмож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овершаем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и людь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Thief (1)"/>
          <p:cNvPicPr/>
          <p:nvPr/>
        </p:nvPicPr>
        <p:blipFill>
          <a:blip r:embed="rId1"/>
          <a:stretch/>
        </p:blipFill>
        <p:spPr>
          <a:xfrm>
            <a:off x="7197840" y="1798560"/>
            <a:ext cx="1465200" cy="1979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Thief (3)"/>
          <p:cNvPicPr/>
          <p:nvPr/>
        </p:nvPicPr>
        <p:blipFill>
          <a:blip r:embed="rId2"/>
          <a:stretch/>
        </p:blipFill>
        <p:spPr>
          <a:xfrm>
            <a:off x="539640" y="1798560"/>
            <a:ext cx="1320840" cy="19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5" descr="Murder (3-ed)"/>
          <p:cNvPicPr/>
          <p:nvPr/>
        </p:nvPicPr>
        <p:blipFill>
          <a:blip r:embed="rId3"/>
          <a:stretch/>
        </p:blipFill>
        <p:spPr>
          <a:xfrm>
            <a:off x="539640" y="4497480"/>
            <a:ext cx="197964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Murder (3-ed)"/>
          <p:cNvPicPr/>
          <p:nvPr/>
        </p:nvPicPr>
        <p:blipFill>
          <a:blip r:embed="rId4"/>
          <a:stretch/>
        </p:blipFill>
        <p:spPr>
          <a:xfrm>
            <a:off x="6656400" y="4497480"/>
            <a:ext cx="1979640" cy="1757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8" descr="Cheat"/>
          <p:cNvPicPr/>
          <p:nvPr/>
        </p:nvPicPr>
        <p:blipFill>
          <a:blip r:embed="rId5"/>
          <a:stretch/>
        </p:blipFill>
        <p:spPr>
          <a:xfrm>
            <a:off x="3489480" y="4965840"/>
            <a:ext cx="2158920" cy="143352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0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8560" y="1546200"/>
            <a:ext cx="5542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деи</a:t>
            </a:r>
            <a:br>
              <a:rPr sz="2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тегории, расширенные до безуслов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19280" y="305748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67020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62148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1600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ящ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6548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яда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611676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х предмето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шления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589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3309840" y="54687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ипоте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2611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дел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619280" y="2878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/>
          <p:nvPr/>
        </p:nvCxnSpPr>
        <p:spPr>
          <a:xfrm>
            <a:off x="4570560" y="26989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15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6"/>
          <p:cNvCxnSpPr/>
          <p:nvPr/>
        </p:nvCxnSpPr>
        <p:spPr>
          <a:xfrm>
            <a:off x="45705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1" name="Line 17"/>
          <p:cNvSpPr/>
          <p:nvPr/>
        </p:nvSpPr>
        <p:spPr>
          <a:xfrm>
            <a:off x="4570560" y="2878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8"/>
          <p:cNvCxnSpPr/>
          <p:nvPr/>
        </p:nvCxnSpPr>
        <p:spPr>
          <a:xfrm>
            <a:off x="752112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90560" y="3057480"/>
            <a:ext cx="7558200" cy="280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ты всегда относилс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человечеству и в своём лице, и в лиц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кого другого также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да не относился бы к нему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олько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790560" y="3057480"/>
            <a:ext cx="755820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олько так, чтобы вол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годаря своей максиме могл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сматривать самоё себя также как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танавливающую всеоб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3489480" y="3525840"/>
            <a:ext cx="1079280" cy="503280"/>
          </a:xfrm>
          <a:prstGeom prst="righ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4570560" y="35258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107964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5181480" y="233856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емлени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сч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0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2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7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1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690560" y="1798560"/>
            <a:ext cx="57578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стулаты практическо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3309840" y="3454560"/>
            <a:ext cx="251964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62611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ж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1619280" y="316548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14"/>
          <p:cNvCxnSpPr/>
          <p:nvPr/>
        </p:nvCxnSpPr>
        <p:spPr>
          <a:xfrm>
            <a:off x="4570560" y="2877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5" name="AutoShape 15"/>
          <p:cNvCxnSpPr/>
          <p:nvPr/>
        </p:nvCxnSpPr>
        <p:spPr>
          <a:xfrm>
            <a:off x="1619280" y="3165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6" name="Line 17"/>
          <p:cNvSpPr/>
          <p:nvPr/>
        </p:nvSpPr>
        <p:spPr>
          <a:xfrm>
            <a:off x="4570560" y="316548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/>
          <p:nvPr/>
        </p:nvCxnSpPr>
        <p:spPr>
          <a:xfrm>
            <a:off x="7521120" y="316548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8" name="AutoShape 4"/>
          <p:cNvSpPr/>
          <p:nvPr/>
        </p:nvSpPr>
        <p:spPr>
          <a:xfrm>
            <a:off x="3589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смер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589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3309840" y="503712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62611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15"/>
          <p:cNvPicPr/>
          <p:nvPr/>
        </p:nvPicPr>
        <p:blipFill>
          <a:blip r:embed="rId1"/>
          <a:stretch/>
        </p:blipFill>
        <p:spPr>
          <a:xfrm>
            <a:off x="1079640" y="1546200"/>
            <a:ext cx="2896920" cy="35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4" name="Picture 4" descr="ex00451b--2"/>
          <p:cNvPicPr/>
          <p:nvPr/>
        </p:nvPicPr>
        <p:blipFill>
          <a:blip r:embed="rId2"/>
          <a:stretch/>
        </p:blipFill>
        <p:spPr>
          <a:xfrm>
            <a:off x="5218200" y="1546200"/>
            <a:ext cx="285408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272880"/>
            <a:ext cx="85899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04000" y="5176800"/>
            <a:ext cx="8136360" cy="1703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вещи наполняют душу всегда новым и всё более силь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ивлением и благоговением, чем чаще и продолжительнее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яем о них, – э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вёздное небо надо мной 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ный закон в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0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94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Идеал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5720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5146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572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алектические выводы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6294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5720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косм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146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572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афизическ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294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5720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146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72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разу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6294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о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146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ы умозаклю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" y="1773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57200" y="2905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457200" y="4037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57200" y="516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" y="6299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572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5146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5720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66294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86868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965840" y="2158920"/>
            <a:ext cx="341928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αντι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νο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μος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он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исключ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и доказ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90560" y="2158920"/>
            <a:ext cx="341964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παραλογισμος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авильное, лож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ая ошиб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озаключ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сшедш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еднамер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ледствие нару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ов и правил лог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19640" y="53323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ходящая в отношении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озможн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метам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57200" y="53323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19640" y="44276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численно-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44276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419640" y="3521160"/>
            <a:ext cx="5267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воему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ч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а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57200" y="3521160"/>
            <a:ext cx="2962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19640" y="26161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ес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убстанци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7200" y="26161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17114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7200" y="17114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341964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6"/>
          <p:cNvSpPr/>
          <p:nvPr/>
        </p:nvSpPr>
        <p:spPr>
          <a:xfrm>
            <a:off x="5019840" y="5073480"/>
            <a:ext cx="661680" cy="1094040"/>
          </a:xfrm>
          <a:custGeom>
            <a:avLst/>
            <a:gdLst>
              <a:gd name="textAreaLeft" fmla="*/ 88560 w 661680"/>
              <a:gd name="textAreaRight" fmla="*/ 573120 w 661680"/>
              <a:gd name="textAreaTop" fmla="*/ 191520 h 1094040"/>
              <a:gd name="textAreaBottom" fmla="*/ 793440 h 10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5002200" y="1582560"/>
            <a:ext cx="133200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6837480" y="1582560"/>
            <a:ext cx="133164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002200" y="2733840"/>
            <a:ext cx="133200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6837480" y="2733840"/>
            <a:ext cx="133164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74000" y="1870200"/>
            <a:ext cx="29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тверение тер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8"/>
          <p:cNvCxnSpPr>
            <a:stCxn id="129" idx="6"/>
            <a:endCxn id="130" idx="2"/>
          </p:cNvCxnSpPr>
          <p:nvPr/>
        </p:nvCxnSpPr>
        <p:spPr>
          <a:xfrm>
            <a:off x="6334200" y="224928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135" name="AutoShape 9"/>
          <p:cNvCxnSpPr>
            <a:stCxn id="131" idx="6"/>
            <a:endCxn id="132" idx="2"/>
          </p:cNvCxnSpPr>
          <p:nvPr/>
        </p:nvCxnSpPr>
        <p:spPr>
          <a:xfrm>
            <a:off x="6334200" y="340020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36" name="Text Box 10"/>
          <p:cNvSpPr/>
          <p:nvPr/>
        </p:nvSpPr>
        <p:spPr>
          <a:xfrm>
            <a:off x="335160" y="4425840"/>
            <a:ext cx="387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Философ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о апперцепции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льное условие опыт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свойство душ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ещи в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ределами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605480" y="4389480"/>
            <a:ext cx="30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84760" y="5505480"/>
            <a:ext cx="30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л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4893840" y="5522400"/>
            <a:ext cx="576360" cy="576720"/>
            <a:chOff x="4893840" y="5522400"/>
            <a:chExt cx="576360" cy="576720"/>
          </a:xfrm>
        </p:grpSpPr>
        <p:sp>
          <p:nvSpPr>
            <p:cNvPr id="140" name="Line 14"/>
            <p:cNvSpPr/>
            <p:nvPr/>
          </p:nvSpPr>
          <p:spPr>
            <a:xfrm flipH="1">
              <a:off x="4893840" y="552276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 flipV="1">
              <a:off x="4893840" y="552240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9436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учай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2004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36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004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9436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2004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572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436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Бес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2004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572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200400" y="1711440"/>
            <a:ext cx="5486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7200" y="1711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 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200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5943600" y="2616120"/>
            <a:ext cx="0" cy="36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28320" y="163836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име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границу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в пространстве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е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9:25:27Z</dcterms:created>
  <dc:creator>Николай Бирюков / Nikolai Biryukov</dc:creator>
  <dc:description>Редакция мая 2006 г.</dc:description>
  <dc:language>en-US</dc:language>
  <cp:lastModifiedBy>LEGION</cp:lastModifiedBy>
  <dcterms:modified xsi:type="dcterms:W3CDTF">2014-11-11T12:39:01Z</dcterms:modified>
  <cp:revision>138</cp:revision>
  <dc:subject>Основы философии - Тема 14, часть 2</dc:subject>
  <dc:title>Кант: трансцендентальная диалектика и этика</dc:title>
</cp:coreProperties>
</file>