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80A1-1DD4-41A2-98F8-C889D3427A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140-EEE1-47DE-AE6B-A4A4A8FD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4AE-C87D-4807-B586-39644247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B6F-1092-44D9-8A86-DB537572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4DA-1751-4DA2-862F-A14CCA16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52C-8CE4-4C2A-9B97-49006E9F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516-F3F0-452B-AC70-77D9956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1C0-4E64-4BF5-8AA7-58747E04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D4F-0472-4865-9D87-D1A38F7C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530-1238-43D8-9730-1A9B678B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102-C269-4DA8-977E-76154C5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FF8-53EF-4EBC-A81C-F102B3F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273-BB29-4E7B-AD8B-1D4689E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777-1D45-4201-9ED4-F017464060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38D7-9334-44E5-A3A8-26F7C7CC3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4.jpg"/>
          <p:cNvPicPr/>
          <p:nvPr/>
        </p:nvPicPr>
        <p:blipFill>
          <a:blip r:embed="rId1"/>
          <a:stretch/>
        </p:blipFill>
        <p:spPr>
          <a:xfrm>
            <a:off x="-1044720" y="0"/>
            <a:ext cx="10531800" cy="84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4. Рынки ресурсов. Рынок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974960"/>
            <a:ext cx="835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1 Рынок ресурсов и его особен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2. Оптимальное сочетание факторов производства и максимизац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3. Земля как фактор производства. Рента и цен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использования ресурс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C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наименьших издержек в условиях 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8864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1692360" y="3933720"/>
                <a:ext cx="545616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инимизации издержек в условиях несовершенно конкурентных рынков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727280" y="2781360"/>
                <a:ext cx="565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совершенно конкурентных рынков ресурс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32000" y="2781360"/>
                <a:ext cx="609264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не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763640" y="2781360"/>
                <a:ext cx="59040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Эластичность спроса на ресурс по ц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476360" y="3429000"/>
                <a:ext cx="61675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Факторы, влияющие на эластичность спроса на рес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Наличие и доступность на рынке ресурсов-замен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Доля ресурса в издержках фи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Анализируемый период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Эластичность спроса на продукт, изготавливаемый при помощи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труктура рынка готов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Земля как фактор производств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Рента и цена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Рынок ресурсов и его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Рента и 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ая рента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ресурс, предложение которого строго ограниче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ая ре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использование земли и других природных ресурсов, предложение которых строго ограниче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Формы земельной р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2700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бсолютна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ий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4"/>
          <p:cNvCxnSpPr/>
          <p:nvPr/>
        </p:nvCxnSpPr>
        <p:spPr>
          <a:xfrm>
            <a:off x="2626920" y="5229360"/>
            <a:ext cx="5041080" cy="216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62" name="Прямая со стрелкой 6"/>
          <p:cNvCxnSpPr/>
          <p:nvPr/>
        </p:nvCxnSpPr>
        <p:spPr>
          <a:xfrm flipV="1">
            <a:off x="2626200" y="1773000"/>
            <a:ext cx="2520" cy="34567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16"/>
          <p:cNvSpPr/>
          <p:nvPr/>
        </p:nvSpPr>
        <p:spPr>
          <a:xfrm>
            <a:off x="4716360" y="1916280"/>
            <a:ext cx="0" cy="331308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0"/>
          <p:cNvSpPr/>
          <p:nvPr/>
        </p:nvSpPr>
        <p:spPr>
          <a:xfrm>
            <a:off x="3348000" y="2060640"/>
            <a:ext cx="302436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2"/>
          <p:cNvSpPr/>
          <p:nvPr/>
        </p:nvSpPr>
        <p:spPr>
          <a:xfrm>
            <a:off x="3059280" y="2637000"/>
            <a:ext cx="3097080" cy="151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>
            <a:off x="2843280" y="3213000"/>
            <a:ext cx="302400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>
            <a:off x="2916360" y="4653000"/>
            <a:ext cx="1726920" cy="806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2198520" y="1700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2198880" y="256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8880" y="3860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2198880" y="3213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799600" y="2997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5799600" y="36450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5728320" y="4292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392436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790160" y="1916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7455240" y="530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6"/>
          <p:cNvSpPr/>
          <p:nvPr/>
        </p:nvSpPr>
        <p:spPr>
          <a:xfrm flipH="1">
            <a:off x="2627280" y="4149720"/>
            <a:ext cx="2016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60"/>
          <p:cNvSpPr/>
          <p:nvPr/>
        </p:nvSpPr>
        <p:spPr>
          <a:xfrm flipH="1">
            <a:off x="2626920" y="350028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62"/>
          <p:cNvSpPr/>
          <p:nvPr/>
        </p:nvSpPr>
        <p:spPr>
          <a:xfrm flipH="1">
            <a:off x="2626920" y="278136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4647960" y="522936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9"/>
          <p:cNvSpPr/>
          <p:nvPr/>
        </p:nvSpPr>
        <p:spPr>
          <a:xfrm>
            <a:off x="4719960" y="378936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0"/>
          <p:cNvSpPr/>
          <p:nvPr/>
        </p:nvSpPr>
        <p:spPr>
          <a:xfrm>
            <a:off x="4791600" y="306864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1"/>
          <p:cNvSpPr/>
          <p:nvPr/>
        </p:nvSpPr>
        <p:spPr>
          <a:xfrm>
            <a:off x="4719960" y="242100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яет капитализированную ренту – ренту, превращенную в капит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611280" y="1773360"/>
                <a:ext cx="808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ента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годовая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ставка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684360" y="4221000"/>
                <a:ext cx="7920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зме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арендной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ат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лич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просы для само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 производ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ономическая категория, означающая уже реально вовлеченные в процесс производства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рынка факторов производ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ресурсы зависит от следующих фактор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готавливаемую фирмой при помощи данного ресурса, таким образом носит производ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птимальное сочетание факторов производства и максимизация прибы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дельный продукт в денежном выражении или предельная доходность ресур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ая доходность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доход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Р – цена единицы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М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е издержки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редельные издержки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2:51Z</dcterms:modified>
  <cp:revision>4</cp:revision>
  <dc:subject/>
  <dc:title>Тема 4. Рынки ресурсов. Рынок земли</dc:title>
</cp:coreProperties>
</file>