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388E-E94C-4BD2-B558-743719E7C8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 4. Рынки ресурсов. Рынок земли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1 Рынок ресурсов и его особен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2. Оптимальное сочетание факторов производства и максимизация прибы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3. Земля как фактор производства. Рента и цена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использования ресурсо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RC=MR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наименьших издержек в условиях 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инимизации издержек в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совершенно конкурентных рынков ресурсов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ило максимизации прибыли условиях несовершенно конкурентных рынков ресурс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ресурс по це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, влияющие на эластичность спроса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личие и доступность на рынке ресурсов-замен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ля ресурса в издержках фир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ируемый период времен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ластичность спроса на продукт, изготавливаемый при помощи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а рынка готовой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ля как фактор производств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ь земли как экономического ресурса - ее огранич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зем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ынок ресурсов и его особ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ое для несельскохозяйственного спроса — местоположение земельных участ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нта и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ая рента  — это плата за ресурс, предложение которого строго ограниче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ый случай экономической ренты – зем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емельная рента — это плата за использование земли и других природных ресурсов, предложение которых строго ограничено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ормы земельной рен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(чистая)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бсолютная 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фференциальная рента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Граф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Q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представляет капитализированную ренту – ренту, превращенную в капита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а земельного участка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и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для само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зовите особенности формирования спроса на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чем суть правила наименьших издержек и максимизации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овы особенности рынк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ая рента называется дифференциальн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определяется цена зем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сурсы –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акторы производства – экономическая категория, означающая уже реально вовлеченные в процесс производства ресурс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начение рынка факторов производст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 на ресурсы зависит от следующих фактор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оса  и цен на готовую  продукцию, изготавливаемую фирмой при помощи данного ресурса, таким образом носит производ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изводительности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ресур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личины предельного дохода фирмы (M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 на другие ресурс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тимальное сочетание факторов производства и максимизация прибы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й продукт в денежном выражении или предельная доходность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дохода фирмы за счет дополнительной единицы да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M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– предельная доходность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 – предельный доход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ершенно конкурентных фир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Pрес = MPрес х 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де Р – цена единицы прод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ельные издержки ресурс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C рес = MPрес х МС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RСрес – предельные издержки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Pрес – предельный продукт ресурс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С – предельные издержки фир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C59A-9722-43C3-B8C5-BEE57C0360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7B44-7B70-4423-9981-E2A91F9D3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93E1-3B1A-4A75-8CB6-7CE73600CE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243C-7D90-4E37-81B7-44F9728D8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D44-3938-4EE2-A25D-0F1567D97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7A05-D36E-4AA9-AFF9-B133BA201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E10C-5BB4-4974-B539-CEA1C3A8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C55B-0EE3-44EC-A9EA-F92E87E0B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47F1-569A-4376-8A3F-AD53560B1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E328-7F9A-4357-901C-FC9499AC8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1A6B-F91E-4377-81C3-BAD1303F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6F7B-941E-45B9-BEF5-26528D8F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43F12E-2E5E-4B29-8055-BC31E644652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0235B-5D0D-45C4-9CDD-10D5F30E52A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Содержимое 3" descr="4.jpg"/>
          <p:cNvPicPr/>
          <p:nvPr/>
        </p:nvPicPr>
        <p:blipFill>
          <a:blip r:embed="rId1"/>
          <a:stretch/>
        </p:blipFill>
        <p:spPr>
          <a:xfrm>
            <a:off x="-1044720" y="0"/>
            <a:ext cx="10531800" cy="8424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54061"/>
                </a:solidFill>
                <a:latin typeface="Tahoma"/>
                <a:ea typeface="Tahoma"/>
              </a:rPr>
              <a:t>Тема 4. Рынки ресурсов. Рынок земли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324000" y="1974960"/>
            <a:ext cx="835164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1 Рынок ресурсов и его особенности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2. Оптимальное сочетание факторов производства и максимизация прибы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376092"/>
                </a:solidFill>
                <a:latin typeface="Tahoma"/>
                <a:ea typeface="Tahoma"/>
              </a:rPr>
              <a:t>4.3. Земля как фактор производства. Рента и цена зем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использования ресурсов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М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RC</a:t>
            </a: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=</a:t>
            </a:r>
            <a:r>
              <a:rPr b="1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100" spc="-1" strike="noStrike">
                <a:solidFill>
                  <a:srgbClr val="000000"/>
                </a:solidFill>
                <a:latin typeface="Calibri"/>
              </a:rPr>
              <a:t>Чтобы максимизировать прибыль фирма должна использовать дополнительные единицы любого данного вида ресурса до тех пор, пока каждая дополнительная единица дает прирост общего дохода фирмы, а не общих издержек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8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наименьших издержек в условиях 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539640" y="1988640"/>
            <a:ext cx="81360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следний рубль затраченный на каждый ресурс дает одинаковую отдачу, одинаковый предельный проду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Object 2"/>
              <p:cNvSpPr txBox="1"/>
              <p:nvPr/>
            </p:nvSpPr>
            <p:spPr>
              <a:xfrm>
                <a:off x="1692360" y="3933720"/>
                <a:ext cx="5456160" cy="232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3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инимизации издержек в условиях несовершенно конкурентных рынков ресурсов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Object 2"/>
              <p:cNvSpPr txBox="1"/>
              <p:nvPr/>
            </p:nvSpPr>
            <p:spPr>
              <a:xfrm>
                <a:off x="1727280" y="2781360"/>
                <a:ext cx="5653080" cy="2448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совершенно конкурентных рынков ресурсов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57200" y="2492280"/>
            <a:ext cx="822960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Object 2"/>
              <p:cNvSpPr txBox="1"/>
              <p:nvPr/>
            </p:nvSpPr>
            <p:spPr>
              <a:xfrm>
                <a:off x="1332000" y="2781360"/>
                <a:ext cx="6092640" cy="240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785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Правило максимизации прибыли условиях несовершенно конкурентных рынков ресурс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68000" y="2133720"/>
            <a:ext cx="821844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Object 2"/>
              <p:cNvSpPr txBox="1"/>
              <p:nvPr/>
            </p:nvSpPr>
            <p:spPr>
              <a:xfrm>
                <a:off x="1763640" y="2781360"/>
                <a:ext cx="5904000" cy="23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P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RC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Эластичность спроса на ресурс по цен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казывает степень количественного изменения величины спроса на ресурс при изменении цены на 1%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Object 2"/>
              <p:cNvSpPr txBox="1"/>
              <p:nvPr/>
            </p:nvSpPr>
            <p:spPr>
              <a:xfrm>
                <a:off x="1476360" y="3429000"/>
                <a:ext cx="616752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  <m:r>
                      <m:t xml:space="preserve">: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f>
                          <m:fPr>
                            <m:type m:val="lin"/>
                          </m:fPr>
                          <m:num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1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Факторы, влияющие на эластичность спроса на ресур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Наличие и доступность на рынке ресурсов-заменителей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Доля ресурса в издержках фирм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Анализируемый период времен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Эластичность спроса на продукт, изготавливаемый при помощи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  <a:ea typeface="Tahoma"/>
              </a:rPr>
              <a:t>Структура рынка готовой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Земля как фактор производства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76092"/>
                </a:solidFill>
                <a:latin typeface="Tahoma"/>
                <a:ea typeface="Tahoma"/>
              </a:rPr>
              <a:t>Рента и цена зем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Земля» в экономической теории - все естественные ресурсы (плодородная почва, запасы пресной воды, месторождение ископаемых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собенность земли как экономического ресурса - ее ограниченно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земл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ключает два основных элемента — сельскохозяйственный и несельскохозяйственный спро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ривая сельскохозяйственного и несельскохозяйственного спроса на землю имеет отрицательный нак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Рынок ресурсов и его особенност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68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ельскохозяйственный спрос складывается из спроса на продукцию растениеводства, животноводства и т. д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учитывает уровень плодородия почвы и возможности его повышения, а также местоположение — степень удаленности от центров потребления продовольствия и сырь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3904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есельскохозяйственный спрос состоит из спроса на землю для строительства жилья, объектов инфраструктуры, из промышленного спроса, из инфляционного спроса на земл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главное для несельскохозяйственного спроса — местоположение земельных участк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Рента и 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Экономическая рента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ресурс, предложение которого строго ограничено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Частный случай экономической ренты – земельна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Земельная рент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— это плата за использование земли и других природных ресурсов, предложение которых строго ограничено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Формы земельной рент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абсолютная (чистая)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-2700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абсолютная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- рента с наихудшего (предельного) участка земли. Это тот минимум, который должен уплатить всякий аренда­тор за право пользования чужим участком земл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дифференциальная рент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это доход, полученный в результате использования ресурсов (с неэластичным предложением) более высокой производительности в ситуации ранжирования этих ресурсов по плодородию и местоположен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Графический анали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1" name="Прямая со стрелкой 4"/>
          <p:cNvCxnSpPr/>
          <p:nvPr/>
        </p:nvCxnSpPr>
        <p:spPr>
          <a:xfrm>
            <a:off x="2626920" y="5229360"/>
            <a:ext cx="5041080" cy="216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cxnSp>
        <p:nvCxnSpPr>
          <p:cNvPr id="162" name="Прямая со стрелкой 6"/>
          <p:cNvCxnSpPr/>
          <p:nvPr/>
        </p:nvCxnSpPr>
        <p:spPr>
          <a:xfrm flipV="1">
            <a:off x="2626200" y="1773000"/>
            <a:ext cx="2520" cy="3456720"/>
          </a:xfrm>
          <a:prstGeom prst="straightConnector1">
            <a:avLst/>
          </a:prstGeom>
          <a:ln w="31680">
            <a:solidFill>
              <a:srgbClr val="0070c0"/>
            </a:solidFill>
            <a:miter/>
            <a:tailEnd len="med" type="arrow" w="med"/>
          </a:ln>
        </p:spPr>
      </p:cxnSp>
      <p:sp>
        <p:nvSpPr>
          <p:cNvPr id="163" name="Прямая соединительная линия 16"/>
          <p:cNvSpPr/>
          <p:nvPr/>
        </p:nvSpPr>
        <p:spPr>
          <a:xfrm>
            <a:off x="4716360" y="1916280"/>
            <a:ext cx="0" cy="3313080"/>
          </a:xfrm>
          <a:prstGeom prst="line">
            <a:avLst/>
          </a:prstGeom>
          <a:ln w="3168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ая соединительная линия 30"/>
          <p:cNvSpPr/>
          <p:nvPr/>
        </p:nvSpPr>
        <p:spPr>
          <a:xfrm>
            <a:off x="3348000" y="2060640"/>
            <a:ext cx="3024360" cy="158436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ая соединительная линия 32"/>
          <p:cNvSpPr/>
          <p:nvPr/>
        </p:nvSpPr>
        <p:spPr>
          <a:xfrm>
            <a:off x="3059280" y="2637000"/>
            <a:ext cx="3097080" cy="151272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4"/>
          <p:cNvSpPr/>
          <p:nvPr/>
        </p:nvSpPr>
        <p:spPr>
          <a:xfrm>
            <a:off x="2843280" y="3213000"/>
            <a:ext cx="3024000" cy="14400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ая соединительная линия 40"/>
          <p:cNvSpPr/>
          <p:nvPr/>
        </p:nvSpPr>
        <p:spPr>
          <a:xfrm>
            <a:off x="2916360" y="4653000"/>
            <a:ext cx="1726920" cy="80640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42"/>
          <p:cNvSpPr/>
          <p:nvPr/>
        </p:nvSpPr>
        <p:spPr>
          <a:xfrm>
            <a:off x="2198520" y="170028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44"/>
          <p:cNvSpPr/>
          <p:nvPr/>
        </p:nvSpPr>
        <p:spPr>
          <a:xfrm>
            <a:off x="2198880" y="256536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5"/>
          <p:cNvSpPr/>
          <p:nvPr/>
        </p:nvSpPr>
        <p:spPr>
          <a:xfrm>
            <a:off x="2198880" y="386064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46"/>
          <p:cNvSpPr/>
          <p:nvPr/>
        </p:nvSpPr>
        <p:spPr>
          <a:xfrm>
            <a:off x="2198880" y="3213000"/>
            <a:ext cx="45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R</a:t>
            </a:r>
            <a:r>
              <a:rPr b="1" lang="en-US" sz="1600" spc="-1" strike="noStrike">
                <a:solidFill>
                  <a:srgbClr val="0070c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48"/>
          <p:cNvSpPr/>
          <p:nvPr/>
        </p:nvSpPr>
        <p:spPr>
          <a:xfrm>
            <a:off x="5799600" y="299736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50"/>
          <p:cNvSpPr/>
          <p:nvPr/>
        </p:nvSpPr>
        <p:spPr>
          <a:xfrm>
            <a:off x="5799600" y="364500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51"/>
          <p:cNvSpPr/>
          <p:nvPr/>
        </p:nvSpPr>
        <p:spPr>
          <a:xfrm>
            <a:off x="5728320" y="4292640"/>
            <a:ext cx="47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52"/>
          <p:cNvSpPr/>
          <p:nvPr/>
        </p:nvSpPr>
        <p:spPr>
          <a:xfrm>
            <a:off x="3924360" y="4653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  <a:ea typeface="Arial"/>
              </a:rPr>
              <a:t>D</a:t>
            </a:r>
            <a:r>
              <a:rPr b="1" lang="en-US" sz="1600" spc="-1" strike="noStrike">
                <a:solidFill>
                  <a:srgbClr val="ff0000"/>
                </a:solidFill>
                <a:latin typeface="Calibri"/>
                <a:ea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53"/>
          <p:cNvSpPr/>
          <p:nvPr/>
        </p:nvSpPr>
        <p:spPr>
          <a:xfrm>
            <a:off x="4790160" y="1916280"/>
            <a:ext cx="3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54"/>
          <p:cNvSpPr/>
          <p:nvPr/>
        </p:nvSpPr>
        <p:spPr>
          <a:xfrm>
            <a:off x="7455240" y="5300640"/>
            <a:ext cx="38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Прямая соединительная линия 56"/>
          <p:cNvSpPr/>
          <p:nvPr/>
        </p:nvSpPr>
        <p:spPr>
          <a:xfrm flipH="1">
            <a:off x="2627280" y="4149720"/>
            <a:ext cx="201600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Прямая соединительная линия 60"/>
          <p:cNvSpPr/>
          <p:nvPr/>
        </p:nvSpPr>
        <p:spPr>
          <a:xfrm flipH="1">
            <a:off x="2626920" y="350028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Прямая соединительная линия 62"/>
          <p:cNvSpPr/>
          <p:nvPr/>
        </p:nvSpPr>
        <p:spPr>
          <a:xfrm flipH="1">
            <a:off x="2626920" y="2781360"/>
            <a:ext cx="2089080" cy="0"/>
          </a:xfrm>
          <a:prstGeom prst="line">
            <a:avLst/>
          </a:prstGeom>
          <a:ln w="9360">
            <a:solidFill>
              <a:srgbClr val="4a7ebb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Box 67"/>
          <p:cNvSpPr/>
          <p:nvPr/>
        </p:nvSpPr>
        <p:spPr>
          <a:xfrm>
            <a:off x="4647960" y="5229360"/>
            <a:ext cx="54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0c0"/>
                </a:solidFill>
                <a:latin typeface="Calibri"/>
                <a:ea typeface="Arial"/>
              </a:rPr>
              <a:t>Q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Box 69"/>
          <p:cNvSpPr/>
          <p:nvPr/>
        </p:nvSpPr>
        <p:spPr>
          <a:xfrm>
            <a:off x="4719960" y="378936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70"/>
          <p:cNvSpPr/>
          <p:nvPr/>
        </p:nvSpPr>
        <p:spPr>
          <a:xfrm>
            <a:off x="4791600" y="306864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71"/>
          <p:cNvSpPr/>
          <p:nvPr/>
        </p:nvSpPr>
        <p:spPr>
          <a:xfrm>
            <a:off x="4719960" y="2421000"/>
            <a:ext cx="4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79646"/>
                </a:solidFill>
                <a:latin typeface="Calibri"/>
              </a:rPr>
              <a:t>E</a:t>
            </a:r>
            <a:r>
              <a:rPr b="1" lang="en-US" sz="1600" spc="-1" strike="noStrike">
                <a:solidFill>
                  <a:srgbClr val="f79646"/>
                </a:solidFill>
                <a:latin typeface="Calibri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ahoma"/>
                <a:ea typeface="Tahoma"/>
              </a:rPr>
              <a:t>Цена зем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едставляет капитализированную ренту – ренту, превращенную в капитал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Цена земельного участка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есть сегодняшняя суммарная ценность всех будущих арендных платежей, которые земельный участок способен принести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ил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4" name="Object 2"/>
              <p:cNvSpPr txBox="1"/>
              <p:nvPr/>
            </p:nvSpPr>
            <p:spPr>
              <a:xfrm>
                <a:off x="611280" y="1773360"/>
                <a:ext cx="808344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ента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годовая</m:t>
                        </m:r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   ставка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5" name="Rectangle 4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6" name="Object 3"/>
              <p:cNvSpPr txBox="1"/>
              <p:nvPr/>
            </p:nvSpPr>
            <p:spPr>
              <a:xfrm>
                <a:off x="684360" y="4221000"/>
                <a:ext cx="7920000" cy="116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Р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земли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размер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арендной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платы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величина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ссудного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 процента</m:t>
                        </m:r>
                      </m:den>
                    </m:f>
                    <m:r>
                      <m:t xml:space="preserve">⋅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 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  <a:ea typeface="Tahoma"/>
              </a:rPr>
              <a:t>Вопросы для самоконтрол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Что представляют собой ресурсы, и в чем отличие понятия ресурсы от факторов производств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Назовите особенности формирования спроса на ресурс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В чем суть правила наименьших издержек и максимизации прибы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овы особенности рынк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ая рента называется дифференциально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alibri"/>
              </a:rPr>
              <a:t>Как определяется цена земл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ижнього колонтитула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Ресурсы</a:t>
            </a: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 –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это природные и социальные силы, которые могут быть вовлечены в производство или использованы для удовлетворения потребностей в форме непосредственного участия в производст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alibri"/>
              </a:rPr>
              <a:t>Факторы производства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– экономическая категория, означающая уже реально вовлеченные в процесс производства ресурс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Значение рынка факторов производств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уществующие на рынке ресурсов цены обуславливают уровень экономических издержек всех действующих предприят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цены на факторы производства являются важнейшим фактором формирования денежных доходов домохозяйств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ормальное функционирование рынка факторов производства способствует эффективному распределению экономических ресурсов между экономическими субъекта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Спрос на ресурсы зависит от следующих факторо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Calibri"/>
              </a:rPr>
              <a:t>спроса  и цен на готовую  продукцию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, изготавливаемую фирмой при помощи данного ресурса, таким образом носит производный харак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производительности ресур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ресур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величины предельного дохода фирмы (M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alibri"/>
              </a:rPr>
              <a:t>цен на другие ресурс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Місце для нижнього колонтитула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76092"/>
                </a:solidFill>
                <a:latin typeface="Tahoma"/>
                <a:ea typeface="Tahoma"/>
              </a:rPr>
              <a:t> </a:t>
            </a:r>
            <a:r>
              <a:rPr b="1" lang="ru-RU" sz="4400" spc="-1" strike="noStrike">
                <a:solidFill>
                  <a:srgbClr val="376092"/>
                </a:solidFill>
                <a:latin typeface="Tahoma"/>
                <a:ea typeface="Tahoma"/>
              </a:rPr>
              <a:t>Оптимальное сочетание факторов производства и максимизация прибы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ahoma"/>
                <a:ea typeface="Tahoma"/>
              </a:rPr>
              <a:t>Предельный продукт в денежном выражении или предельная доходность ресурса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дохода фирмы за счет дополнительной единицы да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ая доходность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доход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ля совершенно конкурентных фирм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 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где Р – цена единицы продукци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" descr="D:\projects\экономическая теория\PSD\back.jpg"/>
          <p:cNvPicPr/>
          <p:nvPr/>
        </p:nvPicPr>
        <p:blipFill>
          <a:blip r:embed="rId1"/>
          <a:stretch/>
        </p:blipFill>
        <p:spPr>
          <a:xfrm>
            <a:off x="0" y="0"/>
            <a:ext cx="9147240" cy="731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Calibri"/>
              </a:rPr>
              <a:t>Предельные издержки ресурса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рирост издержек за счет введения в производство дополнительной единицы переменного ресурс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MRC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 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=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 MP</a:t>
            </a:r>
            <a:r>
              <a:rPr b="1" lang="ru-RU" sz="3200" spc="-1" strike="noStrike" baseline="-25000">
                <a:solidFill>
                  <a:srgbClr val="000000"/>
                </a:solidFill>
                <a:latin typeface="Tahoma"/>
                <a:ea typeface="Tahoma"/>
              </a:rPr>
              <a:t>рес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х МС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R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е издержки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P</a:t>
            </a:r>
            <a:r>
              <a:rPr b="0" lang="ru-RU" sz="3200" spc="-1" strike="noStrike" baseline="-25000">
                <a:solidFill>
                  <a:srgbClr val="000000"/>
                </a:solidFill>
                <a:latin typeface="Calibri"/>
              </a:rPr>
              <a:t>рес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– предельный продукт ресурса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С – предельные издержки фирм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ublic access user</dc:creator>
  <dc:description/>
  <dc:language>en-US</dc:language>
  <cp:lastModifiedBy>LEGION</cp:lastModifiedBy>
  <dcterms:modified xsi:type="dcterms:W3CDTF">2016-01-04T13:42:51Z</dcterms:modified>
  <cp:revision>4</cp:revision>
  <dc:subject/>
  <dc:title>Тема 4. Рынки ресурсов. Рынок земли</dc:title>
</cp:coreProperties>
</file>