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EE81-5074-4620-B73B-00AE646775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578-15ED-4AAB-9CE0-EDA8CA0C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475-4C19-46BC-A194-BCA25F9A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D36-0F2F-4528-8C62-1A0A7F78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435-D60A-4635-B973-223F6426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F09-BAF8-4DA9-8967-3DBD9D5B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D1E-852D-49B6-836A-ECC78523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A39-7263-440E-9106-7BE7AE85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DC7-0613-48D8-AC50-75D885C9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919-A171-4877-860D-8722AEFB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BD4-9700-4D01-A77E-9D6CDE3D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9D6-7F0E-4B80-B4BB-8DD80629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19B-1349-43E0-AE9F-1B188492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BB29-CD79-4627-9044-E97217DF767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BDCC-79EF-40CA-80BA-427D75D6E3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4.jpg"/>
          <p:cNvPicPr/>
          <p:nvPr/>
        </p:nvPicPr>
        <p:blipFill>
          <a:blip r:embed="rId1"/>
          <a:stretch/>
        </p:blipFill>
        <p:spPr>
          <a:xfrm>
            <a:off x="-1044720" y="0"/>
            <a:ext cx="10531800" cy="8424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4. Рынки ресурсов. Рынок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24000" y="1974960"/>
            <a:ext cx="83516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1 Рынок ресурсов и его особен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2. Оптимальное сочетание факторов производства и максимизация прибы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3. Земля как фактор производства. Рента и цена зем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использования ресурсов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RC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наименьших издержек в условиях 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1988640"/>
            <a:ext cx="8136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1692360" y="3933720"/>
                <a:ext cx="5456160" cy="232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инимизации издержек в условиях несовершенно конкурентных рынков ресур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1727280" y="2781360"/>
                <a:ext cx="565308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совершенно конкурентных рынков ресурсов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332000" y="2781360"/>
                <a:ext cx="609264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не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763640" y="2781360"/>
                <a:ext cx="59040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Эластичность спроса на ресурс по це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1476360" y="3429000"/>
                <a:ext cx="616752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Факторы, влияющие на эластичность спроса на ресур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Наличие и доступность на рынке ресурсов-замен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Доля ресурса в издержках фи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Анализируемый период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Эластичность спроса на продукт, изготавливаемый при помощи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Структура рынка готовой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Земля как фактор производств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Рента и цена зем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земл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Рынок ресурсов и его особ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Рента и 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ономическая рента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ресурс, предложение которого строго ограниче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ная рент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использование земли и других природных ресурсов, предложение которых строго ограниче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Формы земельной р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-2700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бсолютна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Графический анал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Прямая со стрелкой 4"/>
          <p:cNvCxnSpPr/>
          <p:nvPr/>
        </p:nvCxnSpPr>
        <p:spPr>
          <a:xfrm>
            <a:off x="2626920" y="5229360"/>
            <a:ext cx="5041080" cy="216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62" name="Прямая со стрелкой 6"/>
          <p:cNvCxnSpPr/>
          <p:nvPr/>
        </p:nvCxnSpPr>
        <p:spPr>
          <a:xfrm flipV="1">
            <a:off x="2626200" y="1773000"/>
            <a:ext cx="2520" cy="34567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63" name="Прямая соединительная линия 16"/>
          <p:cNvSpPr/>
          <p:nvPr/>
        </p:nvSpPr>
        <p:spPr>
          <a:xfrm>
            <a:off x="4716360" y="1916280"/>
            <a:ext cx="0" cy="3313080"/>
          </a:xfrm>
          <a:prstGeom prst="line">
            <a:avLst/>
          </a:prstGeom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30"/>
          <p:cNvSpPr/>
          <p:nvPr/>
        </p:nvSpPr>
        <p:spPr>
          <a:xfrm>
            <a:off x="3348000" y="2060640"/>
            <a:ext cx="3024360" cy="158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32"/>
          <p:cNvSpPr/>
          <p:nvPr/>
        </p:nvSpPr>
        <p:spPr>
          <a:xfrm>
            <a:off x="3059280" y="2637000"/>
            <a:ext cx="3097080" cy="1512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4"/>
          <p:cNvSpPr/>
          <p:nvPr/>
        </p:nvSpPr>
        <p:spPr>
          <a:xfrm>
            <a:off x="2843280" y="3213000"/>
            <a:ext cx="302400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40"/>
          <p:cNvSpPr/>
          <p:nvPr/>
        </p:nvSpPr>
        <p:spPr>
          <a:xfrm>
            <a:off x="2916360" y="4653000"/>
            <a:ext cx="1726920" cy="806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2"/>
          <p:cNvSpPr/>
          <p:nvPr/>
        </p:nvSpPr>
        <p:spPr>
          <a:xfrm>
            <a:off x="2198520" y="1700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4"/>
          <p:cNvSpPr/>
          <p:nvPr/>
        </p:nvSpPr>
        <p:spPr>
          <a:xfrm>
            <a:off x="2198880" y="25653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2198880" y="38606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6"/>
          <p:cNvSpPr/>
          <p:nvPr/>
        </p:nvSpPr>
        <p:spPr>
          <a:xfrm>
            <a:off x="2198880" y="321300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8"/>
          <p:cNvSpPr/>
          <p:nvPr/>
        </p:nvSpPr>
        <p:spPr>
          <a:xfrm>
            <a:off x="5799600" y="299736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0"/>
          <p:cNvSpPr/>
          <p:nvPr/>
        </p:nvSpPr>
        <p:spPr>
          <a:xfrm>
            <a:off x="5799600" y="364500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1"/>
          <p:cNvSpPr/>
          <p:nvPr/>
        </p:nvSpPr>
        <p:spPr>
          <a:xfrm>
            <a:off x="5728320" y="4292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2"/>
          <p:cNvSpPr/>
          <p:nvPr/>
        </p:nvSpPr>
        <p:spPr>
          <a:xfrm>
            <a:off x="3924360" y="465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3"/>
          <p:cNvSpPr/>
          <p:nvPr/>
        </p:nvSpPr>
        <p:spPr>
          <a:xfrm>
            <a:off x="4790160" y="1916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4"/>
          <p:cNvSpPr/>
          <p:nvPr/>
        </p:nvSpPr>
        <p:spPr>
          <a:xfrm>
            <a:off x="7455240" y="5300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56"/>
          <p:cNvSpPr/>
          <p:nvPr/>
        </p:nvSpPr>
        <p:spPr>
          <a:xfrm flipH="1">
            <a:off x="2627280" y="4149720"/>
            <a:ext cx="2016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60"/>
          <p:cNvSpPr/>
          <p:nvPr/>
        </p:nvSpPr>
        <p:spPr>
          <a:xfrm flipH="1">
            <a:off x="2626920" y="350028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62"/>
          <p:cNvSpPr/>
          <p:nvPr/>
        </p:nvSpPr>
        <p:spPr>
          <a:xfrm flipH="1">
            <a:off x="2626920" y="278136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7"/>
          <p:cNvSpPr/>
          <p:nvPr/>
        </p:nvSpPr>
        <p:spPr>
          <a:xfrm>
            <a:off x="4647960" y="522936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9"/>
          <p:cNvSpPr/>
          <p:nvPr/>
        </p:nvSpPr>
        <p:spPr>
          <a:xfrm>
            <a:off x="4719960" y="378936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0"/>
          <p:cNvSpPr/>
          <p:nvPr/>
        </p:nvSpPr>
        <p:spPr>
          <a:xfrm>
            <a:off x="4791600" y="306864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1"/>
          <p:cNvSpPr/>
          <p:nvPr/>
        </p:nvSpPr>
        <p:spPr>
          <a:xfrm>
            <a:off x="4719960" y="242100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ляет капитализированную ренту – ренту, превращенную в капит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611280" y="1773360"/>
                <a:ext cx="80834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ента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годовая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ставка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684360" y="4221000"/>
                <a:ext cx="79200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азмер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арендной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лат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личи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Вопросы для само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кторы производст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кономическая категория, означающая уже реально вовлеченные в процесс производства ресур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Значение рынка факторов производ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ресурсы зависит от следующих фактор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зготавливаемую фирмой при помощи данного ресурса, таким образом носит производный харак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ahoma"/>
                <a:ea typeface="Tahoma"/>
              </a:rPr>
              <a:t> </a:t>
            </a: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Оптимальное сочетание факторов производства и максимизация прибы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едельный продукт в денежном выражении или предельная доходность ресурс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ая доходность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доход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де Р – цена единицы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МС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е издержки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– предельные издержки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2:51Z</dcterms:modified>
  <cp:revision>4</cp:revision>
  <dc:subject/>
  <dc:title>Тема 4. Рынки ресурсов. Рынок земли</dc:title>
</cp:coreProperties>
</file>