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36D9F-6C31-4E83-A216-12F5F213E3E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Рынки ресурсов. Рынок земл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 Рынок ресурсов и его особ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Оптимальное сочетание факторов производства и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 Земля как фактор производства. Рента и цена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Рынки ресурсов. Рынок земл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 Рынок ресурсов и его особ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Оптимальное сочетание факторов производства и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Земля как фактор производства. Рента и цена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использования ресурс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RC=MR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использования ресурс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RC=M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наименьших издержек в условиях 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наименьших издержек в условиях 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инимизации издержек в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инимизации издержек в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аксимизации прибыли условиях совершенно конкурентных рынков ресурсов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аксимизации прибыли условиях совершенно конкурентных рынков ресурсов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аксимизации прибыли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аксимизации прибыли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на ресурс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 на ресурс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спроса на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 доступность на рынке ресурсов-заме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ресурса в издержках 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ый период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на продукт, изготавливаемый при помощи да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рынка готовой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эластичность спроса на рес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 доступность на рынке ресурсов-замен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ресурса в издержках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емый период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 на продукт, изготавливаемый при помощи да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рынка готов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как фактор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как фактор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земли как экономического ресурса - ее огранич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земли как экономического ресурса - ее огранич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зем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ресурсов и его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ресурсов и его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для несельскохозяйственного спроса — местоположение земельных уча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е для несельскохозяйственного спроса — местоположение земельных учас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рента  — это плата за ресурс, предложение которого строго огранич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лучай экономической ренты – зем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ая рента — это плата за использование земли и других природных ресурсов, предложение которых строго огранич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рента  — это плата за ресурс, предложение которого строго ограниче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й случай экономической ренты – зем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ельная рента — это плата за использование земли и других природных ресурсов, предложение которых строго ограниче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земельной р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ая (чистая)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земельной 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олютная (чистая)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льная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ая 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олютная 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ая рента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льная рента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Граф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Граф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ельного участка представляет капитализированную ренту – ренту, превращенную в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ельного участка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ельного участка представляет капитализированную ренту – ренту, превращенную в капит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ельного участка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особенности формирования спроса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ть правила наименьших издержек и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обенности рынк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рента называется дифференци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ется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собенности формирования спроса на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ть правила наименьших издержек и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особенности рынк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рента называется дифференци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ется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–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– экономическая категория, означающая уже реально вовлеченные в процесс производства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–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– экономическая категория, означающая уже реально вовлеченные в процесс производства ресур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рынка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рынка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ресурсы зависит от следующи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а  и цен на готовую  продукцию, изготавливаемую фирмой при помощи данного ресурса, таким образом носит производ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и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на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ы предельного дохода фирмы (M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на други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есурсы зависит от следующих факт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а  и цен на готовую  продукцию, изготавливаемую фирмой при помощи данного ресурса, таким образом носит производ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ьности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 на рес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предельного дохода фирмы (M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 на другие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ое сочетание факторов производства и максимизация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сочетание факторов производства и максимизац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й продукт в денежном выражении или предельная доходность рес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ст дохода фирмы за счет дополнительной единицы да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= MPрес х M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– предельная доходность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 – предельный доход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ый продукт в денежном выражении или предельная доходность рес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дохода фирмы за счет дополнительной единицы да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= MPрес х 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– предельная доходность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 – предельный доход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вершенно конкурентных фир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= MPрес х 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 – цена единицы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овершенно конкурентных фир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= MPрес х 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Р – цена единицы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е издержки рес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C рес = MPрес х МС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Срес – предельные издержки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С – предельные издержк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ые издержки рес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C рес = MPрес х МС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Срес – предельные издержки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С – предельные издержк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EF39-6869-4ACD-9DDE-EC868313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B62D-3A9C-4BE0-93CA-2A5F838F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23EA-0B71-4BDA-AF8D-8D67BF755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3A4F-973C-468B-90AC-4CFF32816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03E9-B5C4-4706-8B41-947D57D53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9730-48C8-41E1-A270-00D922C9B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D89E-A50D-47A3-95C0-DE2F1CC1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E6D-B02D-49A6-8747-E288A229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2257-5311-4F82-8B4A-C94BD1859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58E7-9D0F-4F7E-879B-11A6BF82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4DC-D2B0-447C-B357-0383C247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9C4C-70D0-4BB0-9C40-EAA45D08E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B817-C2BE-47A6-9AE4-04374C95214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DBF38-7CBC-448F-BBA9-60DC9B2D46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4.jpg"/>
          <p:cNvPicPr/>
          <p:nvPr/>
        </p:nvPicPr>
        <p:blipFill>
          <a:blip r:embed="rId1"/>
          <a:stretch/>
        </p:blipFill>
        <p:spPr>
          <a:xfrm>
            <a:off x="-1044720" y="0"/>
            <a:ext cx="10531800" cy="8424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Тема 4. Рынки ресурсов. Рынок земл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24000" y="1974960"/>
            <a:ext cx="83516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1 Рынок ресурсов и его особен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2. Оптимальное сочетание факторов производства и максимизация прибы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3. Земля как фактор производства. Рента и цена зем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использования ресурсов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RC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наименьших издержек в условиях совершенно конкурентных рынков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9640" y="1988640"/>
            <a:ext cx="8136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1692360" y="3933720"/>
                <a:ext cx="5456160" cy="232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инимизации издержек в условиях несовершенно конкурентных рынков ресур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1727280" y="2781360"/>
                <a:ext cx="565308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аксимизации прибыли условиях совершенно конкурентных рынков ресурсов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332000" y="2781360"/>
                <a:ext cx="609264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аксимизации прибыли условиях несовершенно конкурентных рынков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2133720"/>
            <a:ext cx="82184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1763640" y="2781360"/>
                <a:ext cx="590400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Эластичность спроса на ресурс по це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1476360" y="3429000"/>
                <a:ext cx="616752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Факторы, влияющие на эластичность спроса на ресур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Наличие и доступность на рынке ресурсов-замен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Доля ресурса в издержках фир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Анализируемый период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Эластичность спроса на продукт, изготавливаемый при помощи да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Структура рынка готовой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ahoma"/>
                <a:ea typeface="Tahoma"/>
              </a:rPr>
              <a:t>Земля как фактор производств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ahoma"/>
                <a:ea typeface="Tahoma"/>
              </a:rPr>
              <a:t>Рента и цена зем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ь земли как экономического ресурса - ее огранич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Спрос на земл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Рынок ресурсов и его особ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 для несельскохозяйственного спроса — местоположение земельных уча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Рента и цен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ономическая рента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плата за ресурс, предложение которого строго ограниче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ный случай экономической ренты – земе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ельная рент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плата за использование земли и других природных ресурсов, предложение которых строго ограниче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Формы земельной р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бсолютная (чистая) рен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-2700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бсолютна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Графический анал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Прямая со стрелкой 4"/>
          <p:cNvCxnSpPr/>
          <p:nvPr/>
        </p:nvCxnSpPr>
        <p:spPr>
          <a:xfrm>
            <a:off x="2626920" y="5229360"/>
            <a:ext cx="5041080" cy="216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62" name="Прямая со стрелкой 6"/>
          <p:cNvCxnSpPr/>
          <p:nvPr/>
        </p:nvCxnSpPr>
        <p:spPr>
          <a:xfrm flipV="1">
            <a:off x="2626200" y="1773000"/>
            <a:ext cx="2520" cy="345672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63" name="Прямая соединительная линия 16"/>
          <p:cNvSpPr/>
          <p:nvPr/>
        </p:nvSpPr>
        <p:spPr>
          <a:xfrm>
            <a:off x="4716360" y="1916280"/>
            <a:ext cx="0" cy="3313080"/>
          </a:xfrm>
          <a:prstGeom prst="line">
            <a:avLst/>
          </a:prstGeom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30"/>
          <p:cNvSpPr/>
          <p:nvPr/>
        </p:nvSpPr>
        <p:spPr>
          <a:xfrm>
            <a:off x="3348000" y="2060640"/>
            <a:ext cx="3024360" cy="1584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32"/>
          <p:cNvSpPr/>
          <p:nvPr/>
        </p:nvSpPr>
        <p:spPr>
          <a:xfrm>
            <a:off x="3059280" y="2637000"/>
            <a:ext cx="3097080" cy="1512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4"/>
          <p:cNvSpPr/>
          <p:nvPr/>
        </p:nvSpPr>
        <p:spPr>
          <a:xfrm>
            <a:off x="2843280" y="3213000"/>
            <a:ext cx="302400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40"/>
          <p:cNvSpPr/>
          <p:nvPr/>
        </p:nvSpPr>
        <p:spPr>
          <a:xfrm>
            <a:off x="2916360" y="4653000"/>
            <a:ext cx="1726920" cy="8064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2"/>
          <p:cNvSpPr/>
          <p:nvPr/>
        </p:nvSpPr>
        <p:spPr>
          <a:xfrm>
            <a:off x="2198520" y="1700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4"/>
          <p:cNvSpPr/>
          <p:nvPr/>
        </p:nvSpPr>
        <p:spPr>
          <a:xfrm>
            <a:off x="2198880" y="256536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5"/>
          <p:cNvSpPr/>
          <p:nvPr/>
        </p:nvSpPr>
        <p:spPr>
          <a:xfrm>
            <a:off x="2198880" y="386064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6"/>
          <p:cNvSpPr/>
          <p:nvPr/>
        </p:nvSpPr>
        <p:spPr>
          <a:xfrm>
            <a:off x="2198880" y="321300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8"/>
          <p:cNvSpPr/>
          <p:nvPr/>
        </p:nvSpPr>
        <p:spPr>
          <a:xfrm>
            <a:off x="5799600" y="299736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0"/>
          <p:cNvSpPr/>
          <p:nvPr/>
        </p:nvSpPr>
        <p:spPr>
          <a:xfrm>
            <a:off x="5799600" y="364500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1"/>
          <p:cNvSpPr/>
          <p:nvPr/>
        </p:nvSpPr>
        <p:spPr>
          <a:xfrm>
            <a:off x="5728320" y="429264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2"/>
          <p:cNvSpPr/>
          <p:nvPr/>
        </p:nvSpPr>
        <p:spPr>
          <a:xfrm>
            <a:off x="3924360" y="4653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3"/>
          <p:cNvSpPr/>
          <p:nvPr/>
        </p:nvSpPr>
        <p:spPr>
          <a:xfrm>
            <a:off x="4790160" y="19162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4"/>
          <p:cNvSpPr/>
          <p:nvPr/>
        </p:nvSpPr>
        <p:spPr>
          <a:xfrm>
            <a:off x="7455240" y="5300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56"/>
          <p:cNvSpPr/>
          <p:nvPr/>
        </p:nvSpPr>
        <p:spPr>
          <a:xfrm flipH="1">
            <a:off x="2627280" y="4149720"/>
            <a:ext cx="2016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60"/>
          <p:cNvSpPr/>
          <p:nvPr/>
        </p:nvSpPr>
        <p:spPr>
          <a:xfrm flipH="1">
            <a:off x="2626920" y="350028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62"/>
          <p:cNvSpPr/>
          <p:nvPr/>
        </p:nvSpPr>
        <p:spPr>
          <a:xfrm flipH="1">
            <a:off x="2626920" y="278136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7"/>
          <p:cNvSpPr/>
          <p:nvPr/>
        </p:nvSpPr>
        <p:spPr>
          <a:xfrm>
            <a:off x="4647960" y="522936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9"/>
          <p:cNvSpPr/>
          <p:nvPr/>
        </p:nvSpPr>
        <p:spPr>
          <a:xfrm>
            <a:off x="4719960" y="378936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0"/>
          <p:cNvSpPr/>
          <p:nvPr/>
        </p:nvSpPr>
        <p:spPr>
          <a:xfrm>
            <a:off x="4791600" y="306864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1"/>
          <p:cNvSpPr/>
          <p:nvPr/>
        </p:nvSpPr>
        <p:spPr>
          <a:xfrm>
            <a:off x="4719960" y="242100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Цен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а земельного участ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ляет капитализированную ренту – ренту, превращенную в капит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а земельного участ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611280" y="1773360"/>
                <a:ext cx="80834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емл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ента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годовая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ставка ссудн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процент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684360" y="4221000"/>
                <a:ext cx="79200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емл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азмер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арендной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латы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еличи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ссудн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процент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Вопросы для самоконтр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овите особенности формирования спроса на ресурс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суть правила наименьших издержек и максимизации прибы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особенности рынка зем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ая рента называется дифференциальн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определяется цена зем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кторы производст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кономическая категория, означающая уже реально вовлеченные в процесс производства ресур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Значение рынка факторов производст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прос на ресурсы зависит от следующих фактор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проса  и цен на готовую  продукц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зготавливаемую фирмой при помощи данного ресурса, таким образом носит производный харак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оизводительности рес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цен на ресур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личины предельного дохода фирмы (M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цен на другие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Tahoma"/>
                <a:ea typeface="Tahoma"/>
              </a:rPr>
              <a:t> </a:t>
            </a: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Оптимальное сочетание факторов производства и максимизация прибы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едельный продукт в денежном выражении или предельная доходность ресурс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ст дохода фирмы за счет дополнительной единицы да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ая доходность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продукт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доход фи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совершенно конкурентных фир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де Р – цена единицы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дельные издержки ресурс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МС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е издержки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продукт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– предельные издержки фи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ublic access user</dc:creator>
  <dc:description/>
  <dc:language>en-US</dc:language>
  <cp:lastModifiedBy>LEGION</cp:lastModifiedBy>
  <dcterms:modified xsi:type="dcterms:W3CDTF">2016-01-04T13:42:51Z</dcterms:modified>
  <cp:revision>4</cp:revision>
  <dc:subject/>
  <dc:title>Тема 4. Рынки ресурсов. Рынок земли</dc:title>
</cp:coreProperties>
</file>