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4323F-B370-4310-82FC-320CAB4C724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5. Комплексное исследование рынка товаров и услу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Тема 5. Комплексное исследование рынка товаров и услуг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ика исследования рын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держание исследования рынка может быть сформулировано как ответы на следующие вопро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мы продаем ( или анализ товаров ил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у продаем (или анализ покупат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то и что мешает нам продавать (или изучение и анализ конкурен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овы условия и случайности, с которыми мы можем столкнуть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можно увеличить сбыт товаров (или изучение путей и средств расширения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Техника исследования рынка.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Содержание исследования рынка может быть сформулировано как ответы на следующие вопросы:</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что мы продаем ( или анализ товаров или услуг)</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кому продаем (или анализ покупателей)</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кто и что мешает нам продавать (или изучение и анализ конкурентов)</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каковы условия и случайности, с которыми мы можем столкнуться</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как можно увеличить сбыт товаров (или изучение путей и средств расширения деятельности)</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хема исследования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рынка, как и любое маркетинговое, состоит из основных этап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выявление проблемы и формулирование целей исслед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отбор источников информ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бор информ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анализ собранной информ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редставление полученных результа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Схема исследования рынк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сследование рынка, как и любое маркетинговое, состоит из основных этапов:</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выявление проблемы и формулирование целей исследования</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отбор источников информации</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сбор информации</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анализ собранной информации</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представление полученных результатов</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ы анализа и прогнозирования развития рынка товаров 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уществующие методы анализ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грессион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риацион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скриминант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ктор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тер - анали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ногомерное шкалир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Методы анализа и прогнозирования развития рынка товаров и услуг.</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a:t>
            </a:r>
            <a:r>
              <a:rPr b="0" lang="ru-RU" sz="1200" spc="-1" strike="noStrike">
                <a:solidFill>
                  <a:srgbClr val="003366"/>
                </a:solidFill>
                <a:latin typeface="Arial"/>
              </a:rPr>
              <a:t>Существующие методы анализ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Регрессионный</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Вариационный</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Дискриминантный</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Факторный</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Кластер - анализ</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Многомерное шкалирование</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ы анализа и прогнозирования развития рынка товаров 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етоды прогноза классифицируются по различным критерия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личествен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страполяция трен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нозы на основе индикато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грессионный анали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чествен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льфи-мет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ценар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Методы анализа и прогнозирования развития рынка товаров и услуг.</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a:t>
            </a:r>
            <a:r>
              <a:rPr b="0" lang="ru-RU" sz="1200" spc="-1" strike="noStrike">
                <a:solidFill>
                  <a:srgbClr val="003366"/>
                </a:solidFill>
                <a:latin typeface="Arial"/>
              </a:rPr>
              <a:t>Методы прогноза классифицируются по различным критериям: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Количественные</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Экстраполяция тренд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Прогнозы на основе индикаторов</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Регрессионный анализ</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Качественные</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Дельфи-метод</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сценарии</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рынка относится к  маркетинговым исследования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рынка может быть по двум направления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сследование рынк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сследование рынка относится к  маркетинговым исследованиям</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сследование рынка может быть по двум направлениям.</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правления исследования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ое направление включае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процессов, протекающих на рын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това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потребителя и его требований к товар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конъюнктуры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ределение емкости рынка и доли фир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Направления исследования рынк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Первое направление включает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процессов, протекающих на рынке</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товар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потребителя и его требований к товару</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конъюнктуры рынк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Определение емкости рынка и доли фирмы</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правления исследования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торое направление включа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условий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конкурен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потенциальных партне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торговых шан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Направления исследования рынк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Второе направление включает:</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условий рынк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конкурентов</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потенциальных партнеров</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торговых шансов</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ечественный и зарубежный опыт проведения исследования рынка товаров 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рынка охватывает собой анализ всех условий, имеющих значение для успешной реализации товар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этом анализируется не только способ производства, потребление продукции, срок службы, правила пользования, упаковка и стайлинг изделия, но и такие аспекты, как объем оборота, прибыль от продажи, конкурентоспособность, скорость реализ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Отечественный и зарубежный опыт проведения исследования рынка товаров и услуг.</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сследование рынка охватывает собой анализ всех условий, имеющих значение для успешной реализации товара.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При этом анализируется не только способ производства, потребление продукции, срок службы, правила пользования, упаковка и стайлинг изделия, но и такие аспекты, как объем оборота, прибыль от продажи, конкурентоспособность, скорость реализации.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ечественный и зарубежный опыт проведения исследования рынка товаров и услу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рынка включает в себя также всесторонний анализ потребителя, его мотиваций и потребностей, сезонных колебаний спроса, эффективности сбытовой организации, рекламы, деятельности конкурен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Западе, где рынок всех товаров фактически перенасыщен, завоевание новых сегментов рынков в области товаров широкого потребления возможно только за счет прямых или косвенных конкурентов. Здесь реклама и изучение рынка играют часто решающую роль поскольку товары обычно отличаются друг от друга не качеством, а только названием и упаковко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Отечественный и зарубежный опыт проведения исследования рынка товаров и услуг.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сследование рынка включает в себя также всесторонний анализ потребителя, его мотиваций и потребностей, сезонных колебаний спроса, эффективности сбытовой организации, рекламы, деятельности конкурентов.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На Западе, где рынок всех товаров фактически перенасыщен, завоевание новых сегментов рынков в области товаров широкого потребления возможно только за счет прямых или косвенных конкурентов. Здесь реклама и изучение рынка играют часто решающую роль поскольку товары обычно отличаются друг от друга не качеством, а только названием и упаковкой.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 и организация сбора необходимой  информ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исследовании рынка товаров широкого потребления анализ всех факторов, влияющих на принятие решения клиентом, в том числе психологический, является основой для составления сбытовых программ фирм. Исследование рынка этих товаров стало сферой деятельности специализированных фирм. В них работают опытные психологи, и поэтому даже крупные предприятия прибегают к их услуга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Планирование и организация сбора необходимой  информации.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При исследовании рынка товаров широкого потребления анализ всех факторов, влияющих на принятие решения клиентом, в том числе психологический, является основой для составления сбытовых программ фирм. Исследование рынка этих товаров стало сферой деятельности специализированных фирм. В них работают опытные психологи, и поэтому даже крупные предприятия прибегают к их услугам.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 и организация сбора необходимой  информ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ализ рынка основных средств производства часто требует специфических технических знаний этих товаров. Число потенциальных потребителей здесь более ограничено, чем на рынке товаров широкого потребления. Вот почему исследования таких рынков чаще всего проводятся самими изготовителями продукции. В отделах маркетинга этим обычно занимаются подотделы исследования рынка и рекламы совместно со сбытовой организацией фирм, которые лучше остальных знают рын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оставляющие анализа рынка основных средств производства: - общая емкость рынка; - рациональное распределение спроса; - собственная доля рынка; - число конкурентов и их доли на рынке; - рекламные средства и меры, принимаемые конкурентами; - сбытовая организация конкурентов; - определение мотивации постоянных клиентов у конкурентов; - конструктивные и другие особенности продукции конкурентов; - сопоставление собственной продукции с товарами конкурентов по качеству, рентабельности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Планирование и организация сбора необходимой  информации.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Анализ рынка основных средств производства часто требует специфических технических знаний этих товаров. Число потенциальных потребителей здесь более ограничено, чем на рынке товаров широкого потребления. Вот почему исследования таких рынков чаще всего проводятся самими изготовителями продукции. В отделах маркетинга этим обычно занимаются подотделы исследования рынка и рекламы совместно со сбытовой организацией фирм, которые лучше остальных знают рынок.</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a:t>
            </a:r>
            <a:r>
              <a:rPr b="0" lang="ru-RU" sz="1200" spc="-1" strike="noStrike">
                <a:solidFill>
                  <a:srgbClr val="003366"/>
                </a:solidFill>
                <a:latin typeface="Arial"/>
              </a:rPr>
              <a:t>Составляющие анализа рынка основных средств производства: - общая емкость рынка; - рациональное распределение спроса; - собственная доля рынка; - число конкурентов и их доли на рынке; - рекламные средства и меры, принимаемые конкурентами; - сбытовая организация конкурентов; - определение мотивации постоянных клиентов у конкурентов; - конструктивные и другие особенности продукции конкурентов; - сопоставление собственной продукции с товарами конкурентов по качеству, рентабельности .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ика исследования рын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методике изучения рынка и разработки концепции маркетинга в последнее время все большую роль играют психологические методы, методы изучения мотивации покупателей, другими словами - почему покупатели охотнее покупают один товар и отказываются от другого, хотя с технической точки зрения оба товара одинаково удовлетворяют его потреб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мотиваций покупателей идет по двум направлениям. В одном случае изучаются мотивы поведения человека (его поступков) при выборе и покупке товара. В другом - усилия направляются на то, чтобы найти способы эффективного воздействия на эти решения покупател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Техника исследования рынка.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В методике изучения рынка и разработки концепции маркетинга в последнее время все большую роль играют психологические методы, методы изучения мотивации покупателей, другими словами - почему покупатели охотнее покупают один товар и отказываются от другого, хотя с технической точки зрения оба товара одинаково удовлетворяют его потребности.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сследование мотиваций покупателей идет по двум направлениям. В одном случае изучаются мотивы поведения человека (его поступков) при выборе и покупке товара. В другом - усилия направляются на то, чтобы найти способы эффективного воздействия на эти решения покупателей.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6A3C06-2AF0-4D0F-AC09-F54B2807B8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9B83F-B7A7-47D8-B7B5-A34414184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4B99F1-5E15-435A-9C8E-C043EFB3C5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3F2F64-552B-4E58-B0D2-546DA8E0C3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13EE73-F220-4891-804B-6E81F475F7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121D00-C857-4361-A325-D0A0E237D1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7D07DF-8DDB-4C93-B886-1BCBF9EE92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96521F-51D6-4791-BC13-B3E20F032C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58FB6E-FF45-4695-9D75-3CC8623F96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56C512-F7EA-4316-B125-151EEEC494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0A9D4-D9CE-4079-A61B-182D705065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A472C-95E8-4AA2-89A2-F8EDE14A8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0F0603-9D1A-41D5-A499-B02646DA0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B4169-4942-4986-A77F-80667253D7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F92F82-01D3-4169-BC44-AC63F4AD9D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02B16C-CAC0-40AB-8482-07F4814C06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EC038C-FFF7-45B4-BAC0-A0B7774DFB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F9F72-CE46-41B6-9403-0E0951649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B61C9-CC67-4EC2-96B1-8427CF222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8DFDC-F73F-444F-A969-5017E28BF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BC66F-C7DC-4613-AED7-B94FFA5ED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7E9A9-C8ED-499A-BEEC-1ACFD12E1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0AD46-555B-4C9E-B2B6-394494932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D3F21-E00B-43FC-9770-AF4D4763B3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F920E-DCE1-4C98-889E-C776A2A71B12}"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Times New Roman"/>
              </a:rPr>
              <a:t>www.sliderpoint.org</a:t>
            </a:r>
            <a:endParaRPr b="0" lang="en-US" sz="1400" spc="-1" strike="noStrike">
              <a:solidFill>
                <a:srgbClr val="000000"/>
              </a:solidFill>
              <a:latin typeface="Times New Roman"/>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8D570-4388-42F8-B509-1EAF948ABBAF}"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66"/>
                </a:solidFill>
                <a:latin typeface="Arial"/>
              </a:rPr>
              <a:t>Тема 5. Комплексное исследование рынка товаров и услуг</a:t>
            </a:r>
            <a:r>
              <a:rPr b="1" lang="ru-RU" sz="3600" spc="-1" strike="noStrike">
                <a:solidFill>
                  <a:srgbClr val="003366"/>
                </a:solidFill>
                <a:latin typeface="Arial"/>
              </a:rPr>
              <a:t> </a:t>
            </a:r>
            <a:endParaRPr b="1" lang="en-US" sz="3600" spc="-1" strike="noStrike">
              <a:solidFill>
                <a:srgbClr val="006666"/>
              </a:solidFill>
              <a:latin typeface="Arial"/>
            </a:endParaRPr>
          </a:p>
        </p:txBody>
      </p:sp>
      <p:sp>
        <p:nvSpPr>
          <p:cNvPr id="103" name="PlaceHolder 1"/>
          <p:cNvSpPr>
            <a:spLocks noGrp="1"/>
          </p:cNvSpPr>
          <p:nvPr>
            <p:ph type="subTitle"/>
          </p:nvPr>
        </p:nvSpPr>
        <p:spPr>
          <a:xfrm>
            <a:off x="4673520" y="2927520"/>
            <a:ext cx="4013280" cy="1822320"/>
          </a:xfrm>
          <a:prstGeom prst="rect">
            <a:avLst/>
          </a:prstGeom>
          <a:noFill/>
          <a:ln w="0">
            <a:noFill/>
          </a:ln>
        </p:spPr>
        <p:txBody>
          <a:bodyPr lIns="0" rIns="0" tIns="0" bIns="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006666"/>
              </a:solidFill>
              <a:latin typeface="Arial"/>
            </a:endParaRPr>
          </a:p>
        </p:txBody>
      </p:sp>
      <p:sp>
        <p:nvSpPr>
          <p:cNvPr id="104"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Техника исследования рынка. </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Содержание исследования рынка может быть сформулировано как ответы на следующие вопросы</a:t>
            </a:r>
            <a:r>
              <a:rPr b="1"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что мы продаем ( или анализ товаров или услуг)</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кому продаем (или анализ покупателей)</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кто и что мешает нам продавать (или изучение и анализ конкурентов)</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каковы условия и случайности, с которыми мы можем столкнуться</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как можно увеличить сбыт товаров (или изучение путей и средств расширения деятельности)</a:t>
            </a:r>
            <a:endParaRPr b="0" lang="en-US" sz="2000" spc="-1" strike="noStrike">
              <a:solidFill>
                <a:srgbClr val="003366"/>
              </a:solidFill>
              <a:latin typeface="Arial"/>
            </a:endParaRPr>
          </a:p>
        </p:txBody>
      </p:sp>
      <p:sp>
        <p:nvSpPr>
          <p:cNvPr id="131"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Схема исследования рынка</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Исследование рынка</a:t>
            </a:r>
            <a:r>
              <a:rPr b="0" lang="en-US" sz="2400" spc="-1" strike="noStrike">
                <a:solidFill>
                  <a:srgbClr val="003366"/>
                </a:solidFill>
                <a:latin typeface="Arial"/>
              </a:rPr>
              <a:t>,</a:t>
            </a:r>
            <a:r>
              <a:rPr b="0" lang="ru-RU" sz="2400" spc="-1" strike="noStrike">
                <a:solidFill>
                  <a:srgbClr val="003366"/>
                </a:solidFill>
                <a:latin typeface="Arial"/>
              </a:rPr>
              <a:t> как и любое маркетинговое, состоит из основных этапов</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ru-RU" sz="2400" spc="-1" strike="noStrike">
                <a:solidFill>
                  <a:srgbClr val="003366"/>
                </a:solidFill>
                <a:latin typeface="Arial"/>
              </a:rPr>
              <a:t>выявление проблемы и формулирование целей исследования</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отбор источников информации</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сбор информации</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анализ собранной информации</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представление полученных результатов</a:t>
            </a:r>
            <a:endParaRPr b="0" lang="en-US" sz="2400" spc="-1" strike="noStrike">
              <a:solidFill>
                <a:srgbClr val="003366"/>
              </a:solidFill>
              <a:latin typeface="Arial"/>
            </a:endParaRPr>
          </a:p>
        </p:txBody>
      </p:sp>
      <p:sp>
        <p:nvSpPr>
          <p:cNvPr id="134"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66"/>
                </a:solidFill>
                <a:latin typeface="Arial"/>
              </a:rPr>
              <a:t>Методы анализа и прогнозирования развития рынка товаров и услуг.</a:t>
            </a:r>
            <a:endParaRPr b="1" lang="en-US" sz="2800" spc="-1" strike="noStrike">
              <a:solidFill>
                <a:srgbClr val="006666"/>
              </a:solidFill>
              <a:latin typeface="Arial"/>
            </a:endParaRPr>
          </a:p>
        </p:txBody>
      </p:sp>
      <p:sp>
        <p:nvSpPr>
          <p:cNvPr id="13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	</a:t>
            </a:r>
            <a:r>
              <a:rPr b="0" lang="ru-RU" sz="2800" spc="-1" strike="noStrike">
                <a:solidFill>
                  <a:srgbClr val="003366"/>
                </a:solidFill>
                <a:latin typeface="Arial"/>
              </a:rPr>
              <a:t>Существующие методы анализа</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Регрессионный</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Вариационный</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Дискриминантный</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Факторный</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Кластер - анализ</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Многомерное шкалирование</a:t>
            </a:r>
            <a:endParaRPr b="0" lang="en-US" sz="2800" spc="-1" strike="noStrike">
              <a:solidFill>
                <a:srgbClr val="003366"/>
              </a:solidFill>
              <a:latin typeface="Arial"/>
            </a:endParaRPr>
          </a:p>
        </p:txBody>
      </p:sp>
      <p:sp>
        <p:nvSpPr>
          <p:cNvPr id="137"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66"/>
                </a:solidFill>
                <a:latin typeface="Arial"/>
              </a:rPr>
              <a:t>Методы анализа и прогнозирования развития рынка товаров и услуг.</a:t>
            </a:r>
            <a:endParaRPr b="1" lang="en-US" sz="28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a:t>
            </a:r>
            <a:r>
              <a:rPr b="0" lang="ru-RU" sz="2400" spc="-1" strike="noStrike">
                <a:solidFill>
                  <a:srgbClr val="003366"/>
                </a:solidFill>
                <a:latin typeface="Arial"/>
              </a:rPr>
              <a:t>Методы прогноза классифицируются по различным критериям</a:t>
            </a:r>
            <a:r>
              <a:rPr b="0" lang="en-US" sz="2400" spc="-1" strike="noStrike">
                <a:solidFill>
                  <a:srgbClr val="003366"/>
                </a:solidFill>
                <a:latin typeface="Arial"/>
              </a:rPr>
              <a:t>:</a:t>
            </a:r>
            <a:r>
              <a:rPr b="0" lang="ru-RU"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Количественные</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Экстраполяция тренда</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Прогнозы на основе индикаторов</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Регрессионный анализ</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Качественные</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Дельфи-метод</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сценарии</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0"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Исследование рынка</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Исследование рынка относится к  маркетинговым исследованиям</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Исследование рынка может быть по двум направлениям.</a:t>
            </a:r>
            <a:endParaRPr b="0" lang="en-US" sz="2800" spc="-1" strike="noStrike">
              <a:solidFill>
                <a:srgbClr val="003366"/>
              </a:solidFill>
              <a:latin typeface="Arial"/>
            </a:endParaRPr>
          </a:p>
        </p:txBody>
      </p:sp>
      <p:sp>
        <p:nvSpPr>
          <p:cNvPr id="107"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Направления исследования рынка</a:t>
            </a:r>
            <a:endParaRPr b="1" lang="en-US" sz="32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Первое направление включает </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Изучение процессов, протекающих на рынке</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Изучение товара</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Изучение потребителя и его требований к товару</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Изучение конъюнктуры рынка</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Определение емкости рынка и доли фирмы</a:t>
            </a:r>
            <a:endParaRPr b="0" lang="en-US" sz="2400" spc="-1" strike="noStrike">
              <a:solidFill>
                <a:srgbClr val="003366"/>
              </a:solidFill>
              <a:latin typeface="Arial"/>
            </a:endParaRPr>
          </a:p>
        </p:txBody>
      </p:sp>
      <p:sp>
        <p:nvSpPr>
          <p:cNvPr id="110"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Направления исследования рынка</a:t>
            </a:r>
            <a:endParaRPr b="1" lang="en-US" sz="32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Второе направление включает</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Изучение условий рынка</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Изучение конкурентов</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Изучение потенциальных партнеров</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Изучение торговых шансов</a:t>
            </a:r>
            <a:endParaRPr b="0" lang="en-US" sz="2800" spc="-1" strike="noStrike">
              <a:solidFill>
                <a:srgbClr val="003366"/>
              </a:solidFill>
              <a:latin typeface="Arial"/>
            </a:endParaRPr>
          </a:p>
        </p:txBody>
      </p:sp>
      <p:sp>
        <p:nvSpPr>
          <p:cNvPr id="113"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Отечественный и зарубежный опыт проведения исследования рынка товаров и услуг.</a:t>
            </a:r>
            <a:endParaRPr b="1" lang="en-US" sz="24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Исследование рынка охватывает собой анализ всех условий, имеющих значение для успешной реализации товара.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При этом анализируется не только способ производства, потребление продукции, срок службы, правила пользования, упаковка и стайлинг изделия, но и такие аспекты, как объем оборота, прибыль от продажи, конкурентоспособность, скорость реализации.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6"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Отечественный и зарубежный опыт проведения исследования рынка товаров и услуг.</a:t>
            </a:r>
            <a:r>
              <a:rPr b="1" lang="ru-RU" sz="3200" spc="-1" strike="noStrike">
                <a:solidFill>
                  <a:srgbClr val="006666"/>
                </a:solidFill>
                <a:latin typeface="Arial"/>
              </a:rPr>
              <a:t> </a:t>
            </a:r>
            <a:endParaRPr b="1" lang="en-US" sz="32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anchor="t">
            <a:normAutofit fontScale="99000"/>
          </a:bodyPr>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Исследование рынка включает в себя также всесторонний анализ потребителя, его мотиваций и потребностей, сезонных колебаний спроса, эффективности сбытовой организации, рекламы, деятельности конкурентов. </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На Западе, где рынок всех товаров фактически перенасыщен, завоевание новых сегментов рынков в области товаров широкого потребления возможно только за счет прямых или косвенных конкурентов. Здесь реклама и изучение рынка играют часто решающую роль поскольку товары обычно отличаются друг от друга не качеством, а только названием и упаковкой. </a:t>
            </a:r>
            <a:endParaRPr b="0" lang="en-US" sz="2000" spc="-1" strike="noStrike">
              <a:solidFill>
                <a:srgbClr val="003366"/>
              </a:solidFill>
              <a:latin typeface="Arial"/>
            </a:endParaRPr>
          </a:p>
        </p:txBody>
      </p:sp>
      <p:sp>
        <p:nvSpPr>
          <p:cNvPr id="119"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Планирование и организация сбора необходимой  информации.</a:t>
            </a:r>
            <a:r>
              <a:rPr b="1" lang="ru-RU" sz="3200" spc="-1" strike="noStrike">
                <a:solidFill>
                  <a:srgbClr val="006666"/>
                </a:solidFill>
                <a:latin typeface="Arial"/>
              </a:rPr>
              <a:t> </a:t>
            </a:r>
            <a:endParaRPr b="1" lang="en-US" sz="32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При исследовании рынка товаров широкого потребления анализ всех факторов, влияющих на принятие решения клиентом, в том числе психологический, является основой для составления сбытовых программ фирм. Исследование рынка этих товаров стало сферой деятельности специализированных фирм. В них работают опытные психологи, и поэтому даже крупные предприятия прибегают к их услугам. </a:t>
            </a:r>
            <a:endParaRPr b="0" lang="en-US" sz="2400" spc="-1" strike="noStrike">
              <a:solidFill>
                <a:srgbClr val="003366"/>
              </a:solidFill>
              <a:latin typeface="Arial"/>
            </a:endParaRPr>
          </a:p>
        </p:txBody>
      </p:sp>
      <p:sp>
        <p:nvSpPr>
          <p:cNvPr id="122"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Планирование и организация сбора необходимой  информации.</a:t>
            </a:r>
            <a:r>
              <a:rPr b="1" lang="ru-RU" sz="3200" spc="-1" strike="noStrike">
                <a:solidFill>
                  <a:srgbClr val="006666"/>
                </a:solidFill>
                <a:latin typeface="Arial"/>
              </a:rPr>
              <a:t> </a:t>
            </a:r>
            <a:endParaRPr b="1" lang="en-US" sz="32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anchor="t">
            <a:normAutofit fontScale="92000"/>
          </a:bodyPr>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rPr>
              <a:t>Анализ рынка основных средств производства часто требует специфических технических знаний этих товаров. Число потенциальных потребителей здесь более ограничено, чем на рынке товаров широкого потребления. Вот почему исследования таких рынков чаще всего проводятся самими изготовителями продукции. В отделах маркетинга этим обычно занимаются подотделы исследования рынка и рекламы совместно со сбытовой организацией фирм, которые лучше остальных знают рынок.</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rPr>
              <a:t> </a:t>
            </a:r>
            <a:r>
              <a:rPr b="1" lang="ru-RU" sz="1800" spc="-1" strike="noStrike">
                <a:solidFill>
                  <a:srgbClr val="003366"/>
                </a:solidFill>
                <a:latin typeface="Arial"/>
              </a:rPr>
              <a:t>Составляющие анализа рынка основных средств производства: - общая емкость рынка; - рациональное распределение спроса; - собственная доля рынка; - число конкурентов и их доли на рынке; - рекламные средства и меры, принимаемые конкурентами; - сбытовая организация конкурентов; - определение мотивации постоянных клиентов у конкурентов; - конструктивные и другие особенности продукции конкурентов; - сопоставление собственной продукции с товарами конкурентов по качеству, рентабельности . </a:t>
            </a:r>
            <a:endParaRPr b="0" lang="en-US" sz="1800" spc="-1" strike="noStrike">
              <a:solidFill>
                <a:srgbClr val="003366"/>
              </a:solidFill>
              <a:latin typeface="Arial"/>
            </a:endParaRPr>
          </a:p>
        </p:txBody>
      </p:sp>
      <p:sp>
        <p:nvSpPr>
          <p:cNvPr id="125"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Техника исследования рынка.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В методике изучения рынка и разработки концепции маркетинга в последнее время все большую роль играют психологические методы, методы изучения мотивации покупателей, другими словами - почему покупатели охотнее покупают один товар и отказываются от другого, хотя с технической точки зрения оба товара одинаково удовлетворяют его потребности.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Исследование мотиваций покупателей идет по двум направлениям. В одном случае изучаются мотивы поведения человека (его поступков) при выборе и покупке товара. В другом - усилия направляются на то, чтобы найти способы эффективного воздействия на эти решения покупателей. </a:t>
            </a:r>
            <a:endParaRPr b="0" lang="en-US" sz="2000" spc="-1" strike="noStrike">
              <a:solidFill>
                <a:srgbClr val="003366"/>
              </a:solidFill>
              <a:latin typeface="Arial"/>
            </a:endParaRPr>
          </a:p>
        </p:txBody>
      </p:sp>
      <p:sp>
        <p:nvSpPr>
          <p:cNvPr id="128"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7T20:12:38Z</dcterms:created>
  <dc:creator>ToXa</dc:creator>
  <dc:description/>
  <dc:language>en-US</dc:language>
  <cp:lastModifiedBy>LEGION</cp:lastModifiedBy>
  <dcterms:modified xsi:type="dcterms:W3CDTF">2016-01-04T13:42:57Z</dcterms:modified>
  <cp:revision>6</cp:revision>
  <dc:subject/>
  <dc:title>Тема 5. Комплексное исследование рынка товаров и услуг</dc:title>
</cp:coreProperties>
</file>