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191D-0DFD-4AC9-9363-F48509EB8CA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же из них пра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же из них прав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ыночная экономи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и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и эконом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тексту: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ввел понятие «деньг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тексту:      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дене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уальная проблем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бан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и появили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ют в эконом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клас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такое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впервые появились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история их поя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классу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Ры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№ 1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урока: «Рынок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но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Желаю удачи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и задач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го матери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изучения нового материал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нов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едение в новый материа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о появ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выглядят сего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м итоги рассуждени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м итоги рассуждений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 сх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цена опреде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ом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желанием и возможно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ируем сх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цена определяе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ичеств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ом н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.е. желанием и возможностям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обрести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1C4-9458-4C4C-A62A-920AD6BF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938-CEB4-4ED2-8F0A-09C240CD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5A8-97AD-4E89-9F30-A2896619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00F-7625-4471-AF6C-498B46FA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CE0C-E856-4688-A1E4-EC9FEBAD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EA7C-95FD-45BB-B1DB-969CA1AC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1D80-3E54-40AB-A022-9BED6A34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94EB-6F11-4296-B186-9873BAA8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380A-BE0B-458C-9D78-2A5B1B5B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0B14-EB43-46D5-A9EC-24718F7D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B16C-37C9-4EF4-AC2E-5B877BF1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911-D51C-465C-8901-8BA1165B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7A0A-9C14-43B7-A624-086BB8A2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1C08-E6C0-4D20-ABE3-A76312E9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4EA7-0A23-44B3-85C9-2C439DF7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F4D7-7181-4162-8F44-632667DB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A7DF-67AB-4AB2-865B-ADF9087F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544-389A-4BBD-A79F-16797866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569-7C01-4175-BE08-6B70192A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6CA-13CB-4C89-A1CC-60D4A9B0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BFB-2C37-42E5-855A-E62DB41A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729-90A9-42E3-8B8E-A993EC02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65F-4945-4CCA-9059-F6BD574D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14C-6478-4E1A-8350-F3A53A2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2476-BF48-49B6-88C6-B6FFFD36EBD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5178-5D53-43EA-B503-A60110373C9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heveleva.biz/files/2009/09/70_item_pict_big-d0b1d0b8d180d0b6d0b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50752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то же из них прав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о бы вы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оддержа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этом споре? А может быть, у вас иное мнение на этот сч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4005360"/>
          <a:ext cx="7848360" cy="23461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Преимущества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Недостатки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4" descr="1b3"/>
          <p:cNvPicPr/>
          <p:nvPr/>
        </p:nvPicPr>
        <p:blipFill>
          <a:blip r:embed="rId1"/>
          <a:stretch/>
        </p:blipFill>
        <p:spPr>
          <a:xfrm>
            <a:off x="6516720" y="-10008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. Деньги и эконом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i?id=50818109-02"/>
          <p:cNvPicPr/>
          <p:nvPr/>
        </p:nvPicPr>
        <p:blipFill>
          <a:blip r:embed="rId1"/>
          <a:stretch/>
        </p:blipFill>
        <p:spPr>
          <a:xfrm>
            <a:off x="7524720" y="5445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?id=7916673-04"/>
          <p:cNvPicPr/>
          <p:nvPr/>
        </p:nvPicPr>
        <p:blipFill>
          <a:blip r:embed="rId2"/>
          <a:stretch/>
        </p:blipFill>
        <p:spPr>
          <a:xfrm>
            <a:off x="250920" y="260280"/>
            <a:ext cx="1434960" cy="1008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i?id=164248709-04"/>
          <p:cNvPicPr/>
          <p:nvPr/>
        </p:nvPicPr>
        <p:blipFill>
          <a:blip r:embed="rId1"/>
          <a:stretch/>
        </p:blipFill>
        <p:spPr>
          <a:xfrm>
            <a:off x="2916360" y="328464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1b3"/>
          <p:cNvPicPr/>
          <p:nvPr/>
        </p:nvPicPr>
        <p:blipFill>
          <a:blip r:embed="rId2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 к тексту:      </a:t>
            </a: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Функции де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284640"/>
          <a:ext cx="7417080" cy="1612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щ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9" descr="1b3"/>
          <p:cNvPicPr/>
          <p:nvPr/>
        </p:nvPicPr>
        <p:blipFill>
          <a:blip r:embed="rId1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1b3"/>
          <p:cNvPicPr/>
          <p:nvPr/>
        </p:nvPicPr>
        <p:blipFill>
          <a:blip r:embed="rId1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ктуальная проблем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«Были бы деньги – остальное купи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3.  Банки в экономик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обсудим эти вопросы, работая с 3 пунктом § 8 учебника и с дополнительными материа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i?id=117084169-03"/>
          <p:cNvPicPr/>
          <p:nvPr/>
        </p:nvPicPr>
        <p:blipFill>
          <a:blip r:embed="rId1"/>
          <a:stretch/>
        </p:blipFill>
        <p:spPr>
          <a:xfrm>
            <a:off x="6732720" y="5157720"/>
            <a:ext cx="18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i?id=73713611-07"/>
          <p:cNvPicPr/>
          <p:nvPr/>
        </p:nvPicPr>
        <p:blipFill>
          <a:blip r:embed="rId2"/>
          <a:stretch/>
        </p:blipFill>
        <p:spPr>
          <a:xfrm>
            <a:off x="6948360" y="1268280"/>
            <a:ext cx="1622520" cy="1224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просы к класс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ние итогов занят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А 56"/>
          <p:cNvPicPr/>
          <p:nvPr/>
        </p:nvPicPr>
        <p:blipFill>
          <a:blip r:embed="rId1"/>
          <a:stretch/>
        </p:blipFill>
        <p:spPr>
          <a:xfrm>
            <a:off x="5796000" y="5084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рок № 10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ма урока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«Рын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i?id=52463039-06"/>
          <p:cNvPicPr/>
          <p:nvPr/>
        </p:nvPicPr>
        <p:blipFill>
          <a:blip r:embed="rId1"/>
          <a:stretch/>
        </p:blipFill>
        <p:spPr>
          <a:xfrm>
            <a:off x="2843280" y="2637000"/>
            <a:ext cx="3889440" cy="38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ое задание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i?id=38746094-02"/>
          <p:cNvPicPr/>
          <p:nvPr/>
        </p:nvPicPr>
        <p:blipFill>
          <a:blip r:embed="rId1"/>
          <a:stretch/>
        </p:blipFill>
        <p:spPr>
          <a:xfrm>
            <a:off x="3419640" y="4508640"/>
            <a:ext cx="1944360" cy="2016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учить § 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тветить на вопросы к параграф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полнить творческо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AG00495_"/>
          <p:cNvPicPr/>
          <p:nvPr/>
        </p:nvPicPr>
        <p:blipFill>
          <a:blip r:embed="rId1"/>
          <a:stretch/>
        </p:blipFill>
        <p:spPr>
          <a:xfrm>
            <a:off x="7236000" y="115920"/>
            <a:ext cx="1704960" cy="1606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лаю удачи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2843280" y="1916280"/>
            <a:ext cx="3384360" cy="33130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и и задач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яснить понятия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«рынок», «торговля», «деньги», «банки», «рыночная цена», «вклад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ан изучения нового материал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1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20541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ведение в новый материа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1. Ры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Картинка 138 из 298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76640"/>
            <a:ext cx="507672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м итоги рассуждений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Таким образ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Рынок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А 56"/>
          <p:cNvPicPr/>
          <p:nvPr/>
        </p:nvPicPr>
        <p:blipFill>
          <a:blip r:embed="rId1"/>
          <a:stretch/>
        </p:blipFill>
        <p:spPr>
          <a:xfrm>
            <a:off x="6659640" y="55627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нализируем схем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042920" y="1341360"/>
            <a:ext cx="6624720" cy="64764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Рыночная цена определ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24000" y="2565360"/>
            <a:ext cx="331128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Коли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292720" y="2565360"/>
            <a:ext cx="331164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Спросом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403280" y="4724280"/>
            <a:ext cx="5904000" cy="1368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.е. желанием и возможност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иобрести тов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2050920" y="2060640"/>
            <a:ext cx="649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6372360" y="2060640"/>
            <a:ext cx="649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211640" y="2276640"/>
            <a:ext cx="289080" cy="2160360"/>
          </a:xfrm>
          <a:prstGeom prst="downArrow">
            <a:avLst>
              <a:gd name="adj1" fmla="val 50000"/>
              <a:gd name="adj2" fmla="val 1868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ыночная экономика имеет ряд особенносте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8:57:55Z</dcterms:created>
  <dc:creator>Paradise</dc:creator>
  <dc:description/>
  <dc:language>en-US</dc:language>
  <cp:lastModifiedBy>LEGION</cp:lastModifiedBy>
  <dcterms:modified xsi:type="dcterms:W3CDTF">2016-01-04T13:43:18Z</dcterms:modified>
  <cp:revision>9</cp:revision>
  <dc:subject/>
  <dc:title>Слайд 1</dc:title>
</cp:coreProperties>
</file>