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gif" ContentType="image/gif"/>
  <Override PartName="/ppt/media/image1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13.gif" ContentType="image/gif"/>
  <Override PartName="/ppt/media/image5.gif" ContentType="image/gif"/>
  <Override PartName="/ppt/media/image6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BD03-8864-491D-8497-5481EB05FE0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ьте, что мы случайно услышали спор двух людей в общественном транспорте. Представитель старшего поколения весьма отрицательно говорил о рыночной экономике. Он приводил примеры обнищания населения, непомерно высоких цен, неуверенности в завтрашнем дне. В его словах звучала горечь об изменении нравственного облика людей, которые только и думают о деньгах… Ему возражал молодой человек, утверждавший, что только рынок способен удовлетворить потребности человека и, что будущее страны за рыночной эконом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же из них прав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о бы вы поддержали в этом споре? А может быть, у вас иное мнение на этот сч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нно об этих вопросах и пойдет речь на нашем занят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ставьте, что мы случайно услышали спор двух людей в общественном транспорте. Представитель старшего поколения весьма отрицательно говорил о рыночной экономике. Он приводил примеры обнищания населения, непомерно высоких цен, неуверенности в завтрашнем дне. В его словах звучала горечь об изменении нравственного облика людей, которые только и думают о деньгах… Ему возражал молодой человек, утверждавший, что только рынок способен удовлетворить потребности человека и, что будущее страны за рыночной экономико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то же из них прав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го бы вы поддержали в этом споре? А может быть, у вас иное мнение на этот счет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менно об этих вопросах и пойдет речь на нашем занят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бившись на творческие группы, обсудите тезисы для табл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Рыночная экономик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ани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збившись на творческие группы, обсудите тезисы для таблиц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«Рыночная экономика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еньги и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сегодня убеждены во всесильности денег в современном мире. Обсудим, насколько верно это утвер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ереходом к рыночной экономике деньги стали играть все большую роль в нашем обществ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что мы знаем о том, как они возникли и какую роль играли и играют в жизни человечест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буем разобраться в этих очень непростых вопросах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Деньги и экономи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ногие сегодня убеждены во всесильности денег в современном мире. Обсудим, насколько верно это утверждени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переходом к рыночной экономике деньги стали играть все большую роль в нашем обществе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 что мы знаем о том, как они возникли и какую роль играли и играют в жизни человечества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пробуем разобраться в этих очень непростых вопросах.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я дополнительный материал, расскажите об истории возникновения дене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ани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спользуя дополнительный материал, расскажите об истории возникновения денег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к тексту:     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впервые ввел понятие «деньги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было введено данное понят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материал предлагает использовать Аристотель в виде денег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ам философ относился к деньга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просы к тексту:      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то впервые ввел понятие «деньги»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чему было введено данное понятие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ой материал предлагает использовать Аристотель в виде денег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чему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сам философ относился к деньгам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же функции выполняют деньги? Посмотрите и прокомментируйте таблиц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де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ани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ие же функции выполняют деньги? Посмотрите и прокомментируйте таблиц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ункции денег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предлагаю вам познакомиться с высказываниями известных деятелей истории, науки, полит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буйте сгруппировать сходные м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ани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Я предлагаю вам познакомиться с высказываниями известных деятелей истории, науки, политик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пробуйте сгруппировать сходные мн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ьная пробле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у многих людей создается впечатление, что деньги всесильны. Они рассуждают примерно так: «Были бы деньги – остальное купим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относитесь к подобному высказыванию? Свое мнение аргументируй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нельзя купить за деньги? Обоснуйте свой отв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ктуальная проблем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егодня у многих людей создается впечатление, что деньги всесильны. Они рассуждают примерно так: «Были бы деньги – остальное купим»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вы относитесь к подобному высказыванию? Свое мнение аргументируйт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то нельзя купить за деньги? Обоснуйте свой ответ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Банки в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банк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они появилис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роль играют в экономик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  обсудим эти вопросы, работая с 3 пунктом § 8 учебника и с дополнительными материа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 Банки в экономик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то такое банки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гда они появились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ую роль играют в экономике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ание:  обсудим эти вопросы, работая с 3 пунктом § 8 учебника и с дополнительными материала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к класс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то такое бан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огда впервые появились бан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ова история их появл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зовите и охарактеризуйте функции ба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ова роль банков в жизни современного общест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сле событий 1998 г. доверие к банковским системам в России оказалось серьезно подорвано. Отношение простых людей к банкам сегодня скорее настороженное, чем положительное. Нужно ли, с вашей точки зрения, хранить деньги в банк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просы к классу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Что такое банки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Когда впервые появились банки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Какова история их появления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Назовите и охарактеризуйте функции банк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Какова роль банков в жизни современного общества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После событий 1998 г. доверие к банковским системам в России оказалось серьезно подорвано. Отношение простых людей к банкам сегодня скорее настороженное, чем положительное. Нужно ли, с вашей точки зрения, хранить деньги в банках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ение итогов за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сегодня на уроке мы узнали, что рынок представляет собой систему экономических отношений, связанных с обменом товаров и услуг, процесс купли-продажи. Продажа и покупка товаров и услуг осуществляется  при помощи дене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дведение итогов занят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так, сегодня на уроке мы узнали, что рынок представляет собой систему экономических отношений, связанных с обменом товаров и услуг, процесс купли-продажи. Продажа и покупка товаров и услуг осуществляется  при помощи денег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№ 1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: «Рын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рок № 10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ма урока: «Рынок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ное задан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егреческий ученый Пифагор говорил: «Законодатель! Не пиши законов торговле: она не терпит их, как океан, носящий корабл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думаете, нужны ли четкие законы, регулирующие торговлю, и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блемное задание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ревнегреческий ученый Пифагор говорил: «Законодатель! Не пиши законов торговле: она не терпит их, как океан, носящий корабли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вы думаете, нужны ли четкие законы, регулирующие торговлю, и почему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учить § 8, ответить на вопросы к параграф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ть творческое задание:  вам необходимо выступить на конференции с докладом на тему «Зачем нужны деньги и можно ли без них прожить?» Подготовьте тезисы-аргументы для докла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омашнее задание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ыучить § 8, ответить на вопросы к параграф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ыполнить творческое задание:  вам необходимо выступить на конференции с докладом на тему «Зачем нужны деньги и можно ли без них прожить?» Подготовьте тезисы-аргументы для докла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Желаю удач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Желаю удачи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и 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ить понятия «рынок», «торговля», «деньги», «банки», «рыночная цена», «вклад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ить роль и значение рынка в развитии экономики; показать на примерах, как торговля помогает производству, а деньги служат людям; познакомиться с историей появлением банков, обсудить их роль в развитии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ь учиться делать сравнительный анализ, решать проблемы, участвовать в дискуссии, оценивать события и явления с разных точек з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ходе урока постараться выразить свое отношение к капиталу и задуматься над соотношением материальных и нравственных интересов в области рыноч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ли и задач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ъяснить понятия «рынок», «торговля», «деньги», «банки», «рыночная цена», «вклад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ыяснить роль и значение рынка в развитии экономики; показать на примерах, как торговля помогает производству, а деньги служат людям; познакомиться с историей появлением банков, обсудить их роль в развитии экономик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должить учиться делать сравнительный анализ, решать проблемы, участвовать в дискуссии, оценивать события и явления с разных точек зр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ходе урока постараться выразить свое отношение к капиталу и задуматься над соотношением материальных и нравственных интересов в области рыночных отно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изучения нового материа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Что такое рын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еньги в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Банки в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лан изучения нового материал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Что такое рынок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Деньги в экономик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Банки в экономик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 в новый матери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недавнего времени у нас не существовало рыночной экономики. Как же развивалось производство? Почему нашему государству пришлось перейти на рыночные рельсы? В чем плюсы и минусы подобного шаг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 обсудим эти вопросы на нашем уро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ведение в новый материа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о недавнего времени у нас не существовало рыночной экономики. Как же развивалось производство? Почему нашему государству пришлось перейти на рыночные рельсы? В чем плюсы и минусы подобного шага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авайте обсудим эти вопросы на нашем урок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мы довольно часто слышим это понятие «рыно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оно появилос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обой представляли первые рын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ни выглядят сегодн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Рыно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егодня мы довольно часто слышим это понятие «рынок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гда оно появилось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то собой представляли первые рынки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они выглядят сегодня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ем итоги рассуждени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рынок представляет собой систему экономических отношений, связанных с обменом товаров и услуг между продавцами и покупат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– это место встречи продавцов и покупателей, где сталкиваются их интересы и возникает торг. Предметом спора между ними является цена.  От чего она зависит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дведем итоги рассуждений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аким образом, рынок представляет собой систему экономических отношений, связанных с обменом товаров и услуг между продавцами и покупателя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к – это место встречи продавцов и покупателей, где сталкиваются их интересы и возникает торг. Предметом спора между ними является цена.  От чего она зависит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ируем схе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ая цена определя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еден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ом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еден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.е. желанием и возможност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брести тов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нализируем схем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чная цена определяетс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личеством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зведенных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овар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росом на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зведенны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овар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.е. желанием и возможностям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иобрести това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ая экономика имеет ряд особенност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а на частной форме собств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а на инициативе, свободе и предприимчивости  производ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товары и услуги складываются в зависимости от спроса и предложения на ры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  и прогнозирование носит только рекомендательный харак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 за результаты производственной деятельности несет сам производит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чная экономика имеет ряд особенностей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нована на частной форме собствен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нована на инициативе, свободе и предприимчивости  производител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ы на товары и услуги складываются в зависимости от спроса и предложения на рынк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ланирование  и прогнозирование носит только рекомендательный характер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ветственность за результаты производственной деятельности несет сам производитель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F0DE-5F64-455E-AB4C-577E0C65C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BF5A-7F7A-4248-A354-C88EE187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B5E9-AD9F-46F4-A377-225731607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4FE1-AF1E-467E-90FB-B51C46C82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4200-D41E-4BA4-937A-184507229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21B04-4446-42C0-9801-3431EA8C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A3DC-2D7A-452E-ABD6-45D38F5D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EDDE-6F28-4931-ABD2-D1CBAF6A2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0DA3-33F2-4A8F-B4C6-8C5626A6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9ACE5-7269-4F99-A092-FFC6BE15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44FFF-6D2D-4E1E-9E2D-CF10C70C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912C-9AFE-493D-9D94-667C48FF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D99E-C15C-4726-AB42-2158A5FC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86C2-6AE1-43A4-9014-41CFADA5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5F52-EF28-4842-A3A9-1A6566CC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BFC3-11AF-4D68-8717-B62936309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F8A3-BEEB-4659-8D60-569864D58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1B91-FA43-40F7-92FE-D0146AE8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E0FD-DE1E-4E45-9116-F81683EE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F2F9-160E-4B3D-8888-2E119BC9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1067-B761-44A9-9A94-5008C1EB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7316-EDCF-47A5-AF10-CC8DB771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F19E-4A84-470E-BE8B-AA4C83D1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2EA0-085C-44FE-B660-15B7B538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73C6-0021-41EC-B42C-F0BE97564BA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8AC9-5270-4393-B3B1-34C90E40CB1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heveleva.biz/files/2009/09/70_item_pict_big-d0b1d0b8d180d0b6d0b0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324000"/>
            <a:ext cx="8507520" cy="61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ставьте, что мы случайно услышали спор двух людей в общественном транспорте. Представитель старшего поколения весьма отрицательно говорил о рыночной экономике. Он приводил примеры обнищания населения, непомерно высоких цен, неуверенности в завтрашнем дне. В его словах звучала горечь об изменении нравственного облика людей, которые только и думают о деньгах… Ему возражал молодой человек, утверждавший, что только рынок способен удовлетворить потребности человека и, что будущее страны за рыночной экономик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Кто же из них прав?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го бы вы </a:t>
            </a: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поддержал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в этом споре? А может быть, у вас иное мнение на этот счет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Именно об этих вопросах и пойдет речь на нашем занят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ада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збившись на творческие группы, обсудите тезисы для таблиц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«Рыночная экономика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84360" y="4005360"/>
          <a:ext cx="7848360" cy="2346120"/>
        </p:xfrm>
        <a:graphic>
          <a:graphicData uri="http://schemas.openxmlformats.org/drawingml/2006/table">
            <a:tbl>
              <a:tblPr/>
              <a:tblGrid>
                <a:gridCol w="3924000"/>
                <a:gridCol w="3924360"/>
              </a:tblGrid>
              <a:tr h="790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Преимущества</a:t>
                      </a:r>
                      <a:r>
                        <a:rPr b="0" lang="ru-RU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Недостатки</a:t>
                      </a:r>
                      <a:r>
                        <a:rPr b="0" lang="ru-RU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6" name="Picture 34" descr="1b3"/>
          <p:cNvPicPr/>
          <p:nvPr/>
        </p:nvPicPr>
        <p:blipFill>
          <a:blip r:embed="rId1"/>
          <a:stretch/>
        </p:blipFill>
        <p:spPr>
          <a:xfrm>
            <a:off x="6516720" y="-100080"/>
            <a:ext cx="2089080" cy="208764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2. Деньги и экономи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ногие сегодня убеждены во всесильности денег в современном мире. Обсудим, насколько верно это утвержд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переходом к рыночной экономике деньги стали играть все большую роль в нашем обществ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что мы знаем о том, как они возникли и какую роль играли и играют в жизни человечеств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пробуем разобраться в этих очень непростых вопросах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5" descr="i?id=50818109-02"/>
          <p:cNvPicPr/>
          <p:nvPr/>
        </p:nvPicPr>
        <p:blipFill>
          <a:blip r:embed="rId1"/>
          <a:stretch/>
        </p:blipFill>
        <p:spPr>
          <a:xfrm>
            <a:off x="7524720" y="544500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i?id=7916673-04"/>
          <p:cNvPicPr/>
          <p:nvPr/>
        </p:nvPicPr>
        <p:blipFill>
          <a:blip r:embed="rId2"/>
          <a:stretch/>
        </p:blipFill>
        <p:spPr>
          <a:xfrm>
            <a:off x="250920" y="260280"/>
            <a:ext cx="1434960" cy="100800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адание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Используя дополнительный материал, расскажите об истории возникновения денег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5" descr="i?id=164248709-04"/>
          <p:cNvPicPr/>
          <p:nvPr/>
        </p:nvPicPr>
        <p:blipFill>
          <a:blip r:embed="rId1"/>
          <a:stretch/>
        </p:blipFill>
        <p:spPr>
          <a:xfrm>
            <a:off x="2916360" y="3284640"/>
            <a:ext cx="3097080" cy="2808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1b3"/>
          <p:cNvPicPr/>
          <p:nvPr/>
        </p:nvPicPr>
        <p:blipFill>
          <a:blip r:embed="rId2"/>
          <a:stretch/>
        </p:blipFill>
        <p:spPr>
          <a:xfrm>
            <a:off x="7308720" y="-171360"/>
            <a:ext cx="2089440" cy="208764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опросы к тексту:      </a:t>
            </a:r>
            <a:r>
              <a:rPr b="0" lang="ru-RU" sz="5400" spc="-1" strike="noStrike">
                <a:solidFill>
                  <a:srgbClr val="ff3300"/>
                </a:solidFill>
                <a:latin typeface="Tahoma"/>
              </a:rPr>
              <a:t>?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то впервые ввел понятие «деньги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чему было введено данное понят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й материал предлагает использовать Аристотель в виде денег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чем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сам философ относился к деньга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680"/>
                            </p:stCondLst>
                            <p:childTnLst>
                              <p:par>
                                <p:cTn id="3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3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680"/>
                            </p:stCondLst>
                            <p:childTnLst>
                              <p:par>
                                <p:cTn id="3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3680"/>
                            </p:stCondLst>
                            <p:childTnLst>
                              <p:par>
                                <p:cTn id="3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4680"/>
                            </p:stCondLst>
                            <p:childTnLst>
                              <p:par>
                                <p:cTn id="3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ада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ие же функции выполняют деньги? Посмотрите и прокомментируйте таблиц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ahoma"/>
              </a:rPr>
              <a:t>Функции дене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826920" y="3284640"/>
          <a:ext cx="7417080" cy="1612800"/>
        </p:xfrm>
        <a:graphic>
          <a:graphicData uri="http://schemas.openxmlformats.org/drawingml/2006/table">
            <a:tbl>
              <a:tblPr/>
              <a:tblGrid>
                <a:gridCol w="3708720"/>
                <a:gridCol w="3708360"/>
              </a:tblGrid>
              <a:tr h="57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унк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ущ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4" name="Picture 29" descr="1b3"/>
          <p:cNvPicPr/>
          <p:nvPr/>
        </p:nvPicPr>
        <p:blipFill>
          <a:blip r:embed="rId1"/>
          <a:stretch/>
        </p:blipFill>
        <p:spPr>
          <a:xfrm>
            <a:off x="7308720" y="-171360"/>
            <a:ext cx="2089440" cy="208764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3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360"/>
                            </p:stCondLst>
                            <p:childTnLst>
                              <p:par>
                                <p:cTn id="4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360"/>
                            </p:stCondLst>
                            <p:childTnLst>
                              <p:par>
                                <p:cTn id="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ада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Я предлагаю вам познакомиться с высказываниями известных деятелей истории, науки, политики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пробуйте сгруппировать сходные мнени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6" descr="1b3"/>
          <p:cNvPicPr/>
          <p:nvPr/>
        </p:nvPicPr>
        <p:blipFill>
          <a:blip r:embed="rId1"/>
          <a:stretch/>
        </p:blipFill>
        <p:spPr>
          <a:xfrm>
            <a:off x="7054920" y="0"/>
            <a:ext cx="2089080" cy="208764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4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360"/>
                            </p:stCondLst>
                            <p:childTnLst>
                              <p:par>
                                <p:cTn id="4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Актуальная проблема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годня у многих людей создается впечатление, что деньги всесильны. Они рассуждают примерно так: 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«Были бы деньги – остальное купим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вы относитесь к подобному высказыванию? Свое мнение аргументируйт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нельзя купить за деньги? Обоснуйте свой отв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0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3.  Банки в экономике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такое банки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гда они появились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ую роль играют в экономике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Задание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обсудим эти вопросы, работая с 3 пунктом § 8 учебника и с дополнительными материал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5" descr="i?id=117084169-03"/>
          <p:cNvPicPr/>
          <p:nvPr/>
        </p:nvPicPr>
        <p:blipFill>
          <a:blip r:embed="rId1"/>
          <a:stretch/>
        </p:blipFill>
        <p:spPr>
          <a:xfrm>
            <a:off x="6732720" y="5157720"/>
            <a:ext cx="1871640" cy="1295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i?id=73713611-07"/>
          <p:cNvPicPr/>
          <p:nvPr/>
        </p:nvPicPr>
        <p:blipFill>
          <a:blip r:embed="rId2"/>
          <a:stretch/>
        </p:blipFill>
        <p:spPr>
          <a:xfrm>
            <a:off x="6948360" y="1268280"/>
            <a:ext cx="1622520" cy="12240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Вопросы к классу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Что такое банк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Когда впервые появились банк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Какова история их появлени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Назовите и охарактеризуйте функции банк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Какова роль банков в жизни современного обществ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После событий 1998 г. доверие к банковским системам в России оказалось серьезно подорвано. Отношение простых людей к банкам сегодня скорее настороженное, чем положительное. Нужно ли, с вашей точки зрения, хранить деньги в банках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0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640"/>
                            </p:stCondLst>
                            <p:childTnLst>
                              <p:par>
                                <p:cTn id="5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1640"/>
                            </p:stCondLst>
                            <p:childTnLst>
                              <p:par>
                                <p:cTn id="5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2640"/>
                            </p:stCondLst>
                            <p:childTnLst>
                              <p:par>
                                <p:cTn id="5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3640"/>
                            </p:stCondLst>
                            <p:childTnLst>
                              <p:par>
                                <p:cTn id="5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4640"/>
                            </p:stCondLst>
                            <p:childTnLst>
                              <p:par>
                                <p:cTn id="5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5640"/>
                            </p:stCondLst>
                            <p:childTnLst>
                              <p:par>
                                <p:cTn id="5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одведение итогов заняти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так, сегодня на уроке мы узнали, что рынок представляет собой систему экономических отношений, связанных с обменом товаров и услуг, процесс купли-продажи. Продажа и покупка товаров и услуг осуществляется  при помощи денег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5" descr="А 56"/>
          <p:cNvPicPr/>
          <p:nvPr/>
        </p:nvPicPr>
        <p:blipFill>
          <a:blip r:embed="rId1"/>
          <a:stretch/>
        </p:blipFill>
        <p:spPr>
          <a:xfrm>
            <a:off x="5796000" y="5084640"/>
            <a:ext cx="1511280" cy="129564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960"/>
                            </p:stCondLst>
                            <p:childTnLst>
                              <p:par>
                                <p:cTn id="5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Урок № 10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Тема урока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cc66"/>
                </a:solidFill>
                <a:latin typeface="Tahoma"/>
              </a:rPr>
              <a:t>«Рынок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7" descr="i?id=52463039-06"/>
          <p:cNvPicPr/>
          <p:nvPr/>
        </p:nvPicPr>
        <p:blipFill>
          <a:blip r:embed="rId1"/>
          <a:stretch/>
        </p:blipFill>
        <p:spPr>
          <a:xfrm>
            <a:off x="2843280" y="2637000"/>
            <a:ext cx="3889440" cy="388764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8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роблемное задание: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ревнегреческий ученый Пифагор говорил: «Законодатель! Не пиши законов торговле: она не терпит их, как океан, носящий корабли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вы думаете, нужны ли четкие законы, регулирующие торговлю, и почем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5" descr="i?id=38746094-02"/>
          <p:cNvPicPr/>
          <p:nvPr/>
        </p:nvPicPr>
        <p:blipFill>
          <a:blip r:embed="rId1"/>
          <a:stretch/>
        </p:blipFill>
        <p:spPr>
          <a:xfrm>
            <a:off x="3419640" y="4508640"/>
            <a:ext cx="1944360" cy="201600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0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760"/>
                            </p:stCondLst>
                            <p:childTnLst>
                              <p:par>
                                <p:cTn id="5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1760"/>
                            </p:stCondLst>
                            <p:childTnLst>
                              <p:par>
                                <p:cTn id="5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5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Домашнее задание: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Выучить § 8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ответить на вопросы к параграф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Выполнить творческое задани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:  вам необходимо выступить на конференции с докладом на тему «Зачем нужны деньги и можно ли без них прожить?» Подготовьте тезисы-аргументы для докла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6" descr="AG00495_"/>
          <p:cNvPicPr/>
          <p:nvPr/>
        </p:nvPicPr>
        <p:blipFill>
          <a:blip r:embed="rId1"/>
          <a:stretch/>
        </p:blipFill>
        <p:spPr>
          <a:xfrm>
            <a:off x="7236000" y="115920"/>
            <a:ext cx="1704960" cy="160668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0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9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0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680"/>
                            </p:stCondLst>
                            <p:childTnLst>
                              <p:par>
                                <p:cTn id="5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5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Желаю удачи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4" name="Picture 4" descr="H:\МАМА\Презентации\Сашина презентация\359504974.gif"/>
          <p:cNvPicPr/>
          <p:nvPr/>
        </p:nvPicPr>
        <p:blipFill>
          <a:blip r:embed="rId1"/>
          <a:stretch/>
        </p:blipFill>
        <p:spPr>
          <a:xfrm>
            <a:off x="2843280" y="1916280"/>
            <a:ext cx="3384360" cy="331308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980"/>
                            </p:stCondLst>
                            <p:childTnLst>
                              <p:par>
                                <p:cTn id="620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1480"/>
                            </p:stCondLst>
                            <p:childTnLst>
                              <p:par>
                                <p:cTn id="626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2480"/>
                            </p:stCondLst>
                            <p:childTnLst>
                              <p:par>
                                <p:cTn id="632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3480"/>
                            </p:stCondLst>
                            <p:childTnLst>
                              <p:par>
                                <p:cTn id="638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Цели и задачи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907560"/>
            <a:ext cx="84358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ъяснить понятия </a:t>
            </a: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«рынок», «торговля», «деньги», «банки», «рыночная цена», «вклад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яснить роль и значение рынка в развитии экономики; показать на примерах, как торговля помогает производству, а деньги служат людям; познакомиться с историей появлением банков, обсудить их роль в развитии экономи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олжить учиться делать сравнительный анализ, решать проблемы, участвовать в дискуссии, оценивать события и явления с разных точек зр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ходе урока постараться выразить свое отношение к капиталу и задуматься над соотношением материальных и нравственных интересов в области рыночных отнош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5" descr="Рисунок122"/>
          <p:cNvPicPr/>
          <p:nvPr/>
        </p:nvPicPr>
        <p:blipFill>
          <a:blip r:embed="rId1"/>
          <a:stretch/>
        </p:blipFill>
        <p:spPr>
          <a:xfrm>
            <a:off x="7192800" y="0"/>
            <a:ext cx="1951200" cy="194472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План изучения нового материала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. Что такое рынок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2. Деньги в экономик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3. Банки в экономик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10" descr="1"/>
          <p:cNvPicPr/>
          <p:nvPr/>
        </p:nvPicPr>
        <p:blipFill>
          <a:blip r:embed="rId1"/>
          <a:stretch/>
        </p:blipFill>
        <p:spPr>
          <a:xfrm>
            <a:off x="8244000" y="0"/>
            <a:ext cx="900000" cy="205416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Введение в новый материал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 недавнего времени у нас не существовало рыночной экономики. Как же развивалось производство? Почему нашему государству пришлось перейти на рыночные рельсы? В чем плюсы и минусы подобного шага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вайте обсудим эти вопросы на нашем уро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1. Рынок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годня мы довольно часто слышим это понятие «рынок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гда оно появилось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собой представляли первые рынк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они выглядят сегодн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6" descr="Картинка 138 из 298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4076640"/>
            <a:ext cx="5076720" cy="25210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одведем итоги рассуждений…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Таким образо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рынок представляет собой систему экономических отношений, связанных с обменом товаров и услуг между продавцами и покупателя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Рынок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это место встречи продавцов и покупателей, где сталкиваются их интересы и возникает торг. Предметом спора между ними является цена.  От чего она зависит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5" descr="А 56"/>
          <p:cNvPicPr/>
          <p:nvPr/>
        </p:nvPicPr>
        <p:blipFill>
          <a:blip r:embed="rId1"/>
          <a:stretch/>
        </p:blipFill>
        <p:spPr>
          <a:xfrm>
            <a:off x="6659640" y="5562720"/>
            <a:ext cx="1511280" cy="12952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40"/>
                            </p:stCondLst>
                            <p:childTnLst>
                              <p:par>
                                <p:cTn id="1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040"/>
                            </p:stCondLst>
                            <p:childTnLst>
                              <p:par>
                                <p:cTn id="1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Анализируем схему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1042920" y="1341360"/>
            <a:ext cx="6624720" cy="647640"/>
          </a:xfrm>
          <a:prstGeom prst="bevel">
            <a:avLst>
              <a:gd name="adj" fmla="val 125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Рыночная цена определяе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324000" y="2565360"/>
            <a:ext cx="3311280" cy="1440000"/>
          </a:xfrm>
          <a:prstGeom prst="bevel">
            <a:avLst>
              <a:gd name="adj" fmla="val 125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Количество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произведенны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това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5292720" y="2565360"/>
            <a:ext cx="3311640" cy="1440000"/>
          </a:xfrm>
          <a:prstGeom prst="bevel">
            <a:avLst>
              <a:gd name="adj" fmla="val 125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Спросом 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произведенны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това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1403280" y="4724280"/>
            <a:ext cx="5904000" cy="13687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Т.е. желанием и возможностям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приобрести това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AutoShape 8"/>
          <p:cNvSpPr/>
          <p:nvPr/>
        </p:nvSpPr>
        <p:spPr>
          <a:xfrm>
            <a:off x="2050920" y="2060640"/>
            <a:ext cx="6494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6372360" y="2060640"/>
            <a:ext cx="64908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AutoShape 10"/>
          <p:cNvSpPr/>
          <p:nvPr/>
        </p:nvSpPr>
        <p:spPr>
          <a:xfrm>
            <a:off x="4211640" y="2276640"/>
            <a:ext cx="289080" cy="2160360"/>
          </a:xfrm>
          <a:prstGeom prst="downArrow">
            <a:avLst>
              <a:gd name="adj1" fmla="val 50000"/>
              <a:gd name="adj2" fmla="val 186831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Рыночная экономика имеет ряд особенностей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нована на частной форме собствен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нована на инициативе, свободе и предприимчивости  производител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Цены на товары и услуги складываются в зависимости от спроса и предложения на рын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ланирование  и прогнозирование носит только рекомендательный характе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ветственность за результаты производственной деятельности несет сам производител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560"/>
                            </p:stCondLst>
                            <p:childTnLst>
                              <p:par>
                                <p:cTn id="2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2560"/>
                            </p:stCondLst>
                            <p:childTnLst>
                              <p:par>
                                <p:cTn id="2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3560"/>
                            </p:stCondLst>
                            <p:childTnLst>
                              <p:par>
                                <p:cTn id="2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4560"/>
                            </p:stCondLst>
                            <p:childTnLst>
                              <p:par>
                                <p:cTn id="2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560"/>
                            </p:stCondLst>
                            <p:childTnLst>
                              <p:par>
                                <p:cTn id="2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8T18:57:55Z</dcterms:created>
  <dc:creator>Paradise</dc:creator>
  <dc:description/>
  <dc:language>en-US</dc:language>
  <cp:lastModifiedBy>LEGION</cp:lastModifiedBy>
  <dcterms:modified xsi:type="dcterms:W3CDTF">2016-01-04T13:43:18Z</dcterms:modified>
  <cp:revision>9</cp:revision>
  <dc:subject/>
  <dc:title>Слайд 1</dc:title>
</cp:coreProperties>
</file>