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8BAA-EBDB-4DAD-B19C-2BF227D0BD0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же из них пра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же из них прав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ыночная экономи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и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и эконом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тексту: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ввел понятие «деньг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тексту:      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дене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уальная проблем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бан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и появили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ют в эконом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клас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такое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впервые появились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история их поя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классу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Ры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№ 1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урока: «Рынок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но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Желаю удачи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и задач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го матери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изучения нового материал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нов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едение в новый материа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о появ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выглядят сего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м итоги рассуждени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м итоги рассуждений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 сх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цена опреде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ом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желанием и возможно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ируем сх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цена определяе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ичеств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ом н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.е. желанием и возможностям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обрести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051-F295-45E8-8A14-1AF82270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263-6256-459C-8701-A911F42B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02F-5E13-4A64-AABF-871F708D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603-30D8-4D89-82F1-8EFF71F2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F586-4D1B-4433-B8D9-B2EF7A64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A3A1-60B8-45B1-A858-3BFAEF0D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C2D6-9EED-4D9D-986D-37205A5B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7605-A023-4CFB-87F9-CD1B2F38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269F-C84F-4F4F-8082-4AF20D95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7883-B1CF-4EE8-A04F-BCA89B5D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39F2-4BA9-4362-9F00-D3B5E10E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8A0-D4C9-4549-8703-7B15131C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9C6C-36AB-41C2-A9C4-B3BEF0CA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96C0-1F0B-4668-AE99-5A06706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94AD-6069-47D7-BFC8-377E9EEF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18FE-D340-4EE1-AA1F-24B6174B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EC04-404B-4F3B-8F45-453EB367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64B-777F-46CF-AC9A-746DCD82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91B-A0A9-498A-9F90-0D12AD72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A18-7F41-434A-A37C-63511605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8E6-45B5-4DFE-A799-D639AE06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4E7-B41B-4628-90BF-D6BBC1D2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DF0-30F2-45AD-9900-9AED85A5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035-C911-45AB-94A3-56B9BF2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749E-DE44-4BE1-8932-F0257C9020C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F6AA-B678-43E9-817C-89506B87C2A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heveleva.biz/files/2009/09/70_item_pict_big-d0b1d0b8d180d0b6d0b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50752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то же из них прав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о бы вы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оддержа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этом споре? А может быть, у вас иное мнение на этот сч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4005360"/>
          <a:ext cx="7848360" cy="23461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Преимущества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Недостатки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4" descr="1b3"/>
          <p:cNvPicPr/>
          <p:nvPr/>
        </p:nvPicPr>
        <p:blipFill>
          <a:blip r:embed="rId1"/>
          <a:stretch/>
        </p:blipFill>
        <p:spPr>
          <a:xfrm>
            <a:off x="6516720" y="-10008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. Деньги и эконом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i?id=50818109-02"/>
          <p:cNvPicPr/>
          <p:nvPr/>
        </p:nvPicPr>
        <p:blipFill>
          <a:blip r:embed="rId1"/>
          <a:stretch/>
        </p:blipFill>
        <p:spPr>
          <a:xfrm>
            <a:off x="7524720" y="5445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?id=7916673-04"/>
          <p:cNvPicPr/>
          <p:nvPr/>
        </p:nvPicPr>
        <p:blipFill>
          <a:blip r:embed="rId2"/>
          <a:stretch/>
        </p:blipFill>
        <p:spPr>
          <a:xfrm>
            <a:off x="250920" y="260280"/>
            <a:ext cx="1434960" cy="1008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i?id=164248709-04"/>
          <p:cNvPicPr/>
          <p:nvPr/>
        </p:nvPicPr>
        <p:blipFill>
          <a:blip r:embed="rId1"/>
          <a:stretch/>
        </p:blipFill>
        <p:spPr>
          <a:xfrm>
            <a:off x="2916360" y="328464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1b3"/>
          <p:cNvPicPr/>
          <p:nvPr/>
        </p:nvPicPr>
        <p:blipFill>
          <a:blip r:embed="rId2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 к тексту:      </a:t>
            </a: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Функции де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284640"/>
          <a:ext cx="7417080" cy="1612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щ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9" descr="1b3"/>
          <p:cNvPicPr/>
          <p:nvPr/>
        </p:nvPicPr>
        <p:blipFill>
          <a:blip r:embed="rId1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1b3"/>
          <p:cNvPicPr/>
          <p:nvPr/>
        </p:nvPicPr>
        <p:blipFill>
          <a:blip r:embed="rId1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ктуальная проблем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«Были бы деньги – остальное купи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3.  Банки в экономик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обсудим эти вопросы, работая с 3 пунктом § 8 учебника и с дополнительными материа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i?id=117084169-03"/>
          <p:cNvPicPr/>
          <p:nvPr/>
        </p:nvPicPr>
        <p:blipFill>
          <a:blip r:embed="rId1"/>
          <a:stretch/>
        </p:blipFill>
        <p:spPr>
          <a:xfrm>
            <a:off x="6732720" y="5157720"/>
            <a:ext cx="18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i?id=73713611-07"/>
          <p:cNvPicPr/>
          <p:nvPr/>
        </p:nvPicPr>
        <p:blipFill>
          <a:blip r:embed="rId2"/>
          <a:stretch/>
        </p:blipFill>
        <p:spPr>
          <a:xfrm>
            <a:off x="6948360" y="1268280"/>
            <a:ext cx="1622520" cy="1224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просы к класс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ние итогов занят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А 56"/>
          <p:cNvPicPr/>
          <p:nvPr/>
        </p:nvPicPr>
        <p:blipFill>
          <a:blip r:embed="rId1"/>
          <a:stretch/>
        </p:blipFill>
        <p:spPr>
          <a:xfrm>
            <a:off x="5796000" y="5084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рок № 10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ма урока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«Рын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i?id=52463039-06"/>
          <p:cNvPicPr/>
          <p:nvPr/>
        </p:nvPicPr>
        <p:blipFill>
          <a:blip r:embed="rId1"/>
          <a:stretch/>
        </p:blipFill>
        <p:spPr>
          <a:xfrm>
            <a:off x="2843280" y="2637000"/>
            <a:ext cx="3889440" cy="38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ое задание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i?id=38746094-02"/>
          <p:cNvPicPr/>
          <p:nvPr/>
        </p:nvPicPr>
        <p:blipFill>
          <a:blip r:embed="rId1"/>
          <a:stretch/>
        </p:blipFill>
        <p:spPr>
          <a:xfrm>
            <a:off x="3419640" y="4508640"/>
            <a:ext cx="1944360" cy="2016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учить § 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тветить на вопросы к параграф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полнить творческо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AG00495_"/>
          <p:cNvPicPr/>
          <p:nvPr/>
        </p:nvPicPr>
        <p:blipFill>
          <a:blip r:embed="rId1"/>
          <a:stretch/>
        </p:blipFill>
        <p:spPr>
          <a:xfrm>
            <a:off x="7236000" y="115920"/>
            <a:ext cx="1704960" cy="1606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лаю удачи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2843280" y="1916280"/>
            <a:ext cx="3384360" cy="33130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и и задач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яснить понятия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«рынок», «торговля», «деньги», «банки», «рыночная цена», «вклад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ан изучения нового материал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1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20541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ведение в новый материа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1. Ры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Картинка 138 из 298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76640"/>
            <a:ext cx="507672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м итоги рассуждений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Таким образ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Рынок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А 56"/>
          <p:cNvPicPr/>
          <p:nvPr/>
        </p:nvPicPr>
        <p:blipFill>
          <a:blip r:embed="rId1"/>
          <a:stretch/>
        </p:blipFill>
        <p:spPr>
          <a:xfrm>
            <a:off x="6659640" y="55627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нализируем схем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042920" y="1341360"/>
            <a:ext cx="6624720" cy="64764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Рыночная цена определ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24000" y="2565360"/>
            <a:ext cx="331128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Коли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292720" y="2565360"/>
            <a:ext cx="331164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Спросом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403280" y="4724280"/>
            <a:ext cx="5904000" cy="1368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.е. желанием и возможност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иобрести тов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2050920" y="2060640"/>
            <a:ext cx="649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6372360" y="2060640"/>
            <a:ext cx="649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211640" y="2276640"/>
            <a:ext cx="289080" cy="2160360"/>
          </a:xfrm>
          <a:prstGeom prst="downArrow">
            <a:avLst>
              <a:gd name="adj1" fmla="val 50000"/>
              <a:gd name="adj2" fmla="val 1868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ыночная экономика имеет ряд особенносте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8:57:55Z</dcterms:created>
  <dc:creator>Paradise</dc:creator>
  <dc:description/>
  <dc:language>en-US</dc:language>
  <cp:lastModifiedBy>LEGION</cp:lastModifiedBy>
  <dcterms:modified xsi:type="dcterms:W3CDTF">2016-01-04T13:43:18Z</dcterms:modified>
  <cp:revision>9</cp:revision>
  <dc:subject/>
  <dc:title>Слайд 1</dc:title>
</cp:coreProperties>
</file>