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6E27-E61B-4F59-8BE8-032B881B00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же из них пра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же из них прав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о бы вы поддержали в этом споре? А может быть, у вас иное мнение на этот счет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ыночная экономи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и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и эконом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тексту: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ввел понятие «деньг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тексту:      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и дене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уальная проблем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«Были бы деньги – остальное купим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бан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и появили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ют в экономик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ние:  обсудим эти вопросы, работая с 3 пунктом § 8 учебника и с дополнительными материа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клас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такое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впервые появились ба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история их поя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к классу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№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Ры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№ 1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урока: «Рынок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но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§ 8, ответить на вопросы к параграф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ть творческое задание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Желаю удачи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и и задач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яснить понятия «рынок», «торговля», «деньги», «банки», «рыночная цена», «вкл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го матери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еньг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нки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изучения нового материал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нов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едение в новый материа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но появ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выглядят сего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м итоги рассуждени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м итоги рассуждений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аким образом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 сх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цена опреде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ом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ед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желанием и возможно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ируем сх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цена определяе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ичеств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росом н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ед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ва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.е. желанием и возможностя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обрести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чная экономика имеет ряд особен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A63-C3D5-4CDB-8B5C-7D282977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B08-C042-401F-8561-09492957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D6E-15F2-40EE-BB71-679DCF92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EDD-10CB-485B-9533-A907E4FC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736-2B08-4205-B0A7-479E2B67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852E-7D79-4238-9639-51B4358C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3E07-F1B7-4B0A-AE38-8D45E284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06A8-3263-4828-A487-A3F8E54B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C7F-75EA-4E7B-8AAF-527D031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B18-CA4C-4147-BF51-C4C0852A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7862-DE5F-407F-8D83-508D37B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716-D912-44D1-A331-3DE7C597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F835-1B56-4EBE-84C6-48C317B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6C4D-FE09-46EB-8B26-E064AE7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3FE8-D80F-4A72-8820-8A467AD2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BB9A-21F2-4870-9F5F-8D4260C5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5AB-AEC8-4B0F-B80F-6E6A3DAF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AAF-1C99-4620-8324-72870C1F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5B1-1D74-43A0-A3F7-6E2BF6C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101-4226-4298-B4E8-C6997056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5E8-FF8F-48F2-AE97-61651645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337-628A-42CC-817E-B41B95F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5BD-6E9C-48F7-980E-5FA4BB15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EA7-DD11-42C1-9277-F7BCC36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F69A-38DF-4C3B-B85C-DD7E62CE82F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C39C-2168-45E0-8354-C36B5DA7C3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heveleva.biz/files/2009/09/70_item_pict_big-d0b1d0b8d180d0b6d0b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50752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ьте, что мы случайно услышали спор двух людей в общественном транспорте. Представитель старшего поколения весьма отрицательно говорил о рыночной экономике. Он приводил примеры обнищания населения, непомерно высоких цен, неуверенности в завтрашнем дне. В его словах звучала горечь об изменении нравственного облика людей, которые только и думают о деньгах… Ему возражал молодой человек, утверждавший, что только рынок способен удовлетворить потребности человека и, что будущее страны за рыночной эконом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то же из них прав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о бы вы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оддержа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этом споре? А может быть, у вас иное мнение на этот сч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менно об этих вопросах и пойдет речь на нашем заня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бившись на творческие группы, обсудите тезисы для таблиц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Рыночная экономик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4005360"/>
          <a:ext cx="7848360" cy="23461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9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Преимущества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Недостатки</a:t>
                      </a: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4" descr="1b3"/>
          <p:cNvPicPr/>
          <p:nvPr/>
        </p:nvPicPr>
        <p:blipFill>
          <a:blip r:embed="rId1"/>
          <a:stretch/>
        </p:blipFill>
        <p:spPr>
          <a:xfrm>
            <a:off x="6516720" y="-10008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. Деньги и эконом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сегодня убеждены во всесильности денег в современном мире. Обсудим, насколько верно это утвер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еходом к рыночной экономике деньги стали играть все большую роль в нашем общ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что мы знаем о том, как они возникли и какую роль играли и играют в жизни человеч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робуем разобраться в этих очень непростых вопросах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i?id=50818109-02"/>
          <p:cNvPicPr/>
          <p:nvPr/>
        </p:nvPicPr>
        <p:blipFill>
          <a:blip r:embed="rId1"/>
          <a:stretch/>
        </p:blipFill>
        <p:spPr>
          <a:xfrm>
            <a:off x="7524720" y="544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?id=7916673-04"/>
          <p:cNvPicPr/>
          <p:nvPr/>
        </p:nvPicPr>
        <p:blipFill>
          <a:blip r:embed="rId2"/>
          <a:stretch/>
        </p:blipFill>
        <p:spPr>
          <a:xfrm>
            <a:off x="250920" y="260280"/>
            <a:ext cx="1434960" cy="1008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спользуя дополнительный материал, расскажите об истории возникновения дене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i?id=164248709-04"/>
          <p:cNvPicPr/>
          <p:nvPr/>
        </p:nvPicPr>
        <p:blipFill>
          <a:blip r:embed="rId1"/>
          <a:stretch/>
        </p:blipFill>
        <p:spPr>
          <a:xfrm>
            <a:off x="2916360" y="328464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1b3"/>
          <p:cNvPicPr/>
          <p:nvPr/>
        </p:nvPicPr>
        <p:blipFill>
          <a:blip r:embed="rId2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 к тексту:      </a:t>
            </a: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впервые ввел понятие «деньги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 было введено данное понят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материал предлагает использовать Аристотель в виде дене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философ относился к деньга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же функции выполняют деньги? Посмотрите и прокомментируйте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Функции дене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284640"/>
          <a:ext cx="7417080" cy="161280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9" descr="1b3"/>
          <p:cNvPicPr/>
          <p:nvPr/>
        </p:nvPicPr>
        <p:blipFill>
          <a:blip r:embed="rId1"/>
          <a:stretch/>
        </p:blipFill>
        <p:spPr>
          <a:xfrm>
            <a:off x="7308720" y="-171360"/>
            <a:ext cx="208944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 предлагаю вам познакомиться с высказываниями известных деятелей истории, науки, политик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пробуйте сгруппировать сходные мн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1b3"/>
          <p:cNvPicPr/>
          <p:nvPr/>
        </p:nvPicPr>
        <p:blipFill>
          <a:blip r:embed="rId1"/>
          <a:stretch/>
        </p:blipFill>
        <p:spPr>
          <a:xfrm>
            <a:off x="7054920" y="0"/>
            <a:ext cx="2089080" cy="2087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ктуальная проблем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у многих людей создается впечатление, что деньги всесильны. Они рассуждают примерно так: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«Были бы деньги – остальное купи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относитесь к подобному высказыванию? Свое мнение аргументиру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ельзя купить за деньги? Обоснуйте свой отв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3.  Банки в экономике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банк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и появили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ют в экономик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Зада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обсудим эти вопросы, работая с 3 пунктом § 8 учебника и с дополнительными материа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i?id=117084169-03"/>
          <p:cNvPicPr/>
          <p:nvPr/>
        </p:nvPicPr>
        <p:blipFill>
          <a:blip r:embed="rId1"/>
          <a:stretch/>
        </p:blipFill>
        <p:spPr>
          <a:xfrm>
            <a:off x="6732720" y="5157720"/>
            <a:ext cx="1871640" cy="1295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i?id=73713611-07"/>
          <p:cNvPicPr/>
          <p:nvPr/>
        </p:nvPicPr>
        <p:blipFill>
          <a:blip r:embed="rId2"/>
          <a:stretch/>
        </p:blipFill>
        <p:spPr>
          <a:xfrm>
            <a:off x="6948360" y="1268280"/>
            <a:ext cx="1622520" cy="1224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просы к классу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Что такое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гда впервые появились б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история их появл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зовите и охарактеризуйте функции бан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ова роль банков в жизни современного обще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сле событий 1998 г. доверие к банковским системам в России оказалось серьезно подорвано. Отношение простых людей к банкам сегодня скорее настороженное, чем положительное. Нужно ли, с вашей точки зрения, хранить деньги в банках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5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5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5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64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ние итогов заня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егодня на уроке мы узнали, что рынок представляет собой систему экономических отношений, связанных с обменом товаров и услуг, процесс купли-продажи. Продажа и покупка товаров и услуг осуществляется  при помощи дене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А 56"/>
          <p:cNvPicPr/>
          <p:nvPr/>
        </p:nvPicPr>
        <p:blipFill>
          <a:blip r:embed="rId1"/>
          <a:stretch/>
        </p:blipFill>
        <p:spPr>
          <a:xfrm>
            <a:off x="5796000" y="5084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рок № 10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Tahoma"/>
              </a:rPr>
              <a:t>«Рыно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i?id=52463039-06"/>
          <p:cNvPicPr/>
          <p:nvPr/>
        </p:nvPicPr>
        <p:blipFill>
          <a:blip r:embed="rId1"/>
          <a:stretch/>
        </p:blipFill>
        <p:spPr>
          <a:xfrm>
            <a:off x="2843280" y="2637000"/>
            <a:ext cx="3889440" cy="38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ное задание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евнегреческий ученый Пифагор говорил: «Законодатель! Не пиши законов торговле: она не терпит их, как океан, носящий кораб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нужны ли четкие законы, регулирующие торговлю,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i?id=38746094-02"/>
          <p:cNvPicPr/>
          <p:nvPr/>
        </p:nvPicPr>
        <p:blipFill>
          <a:blip r:embed="rId1"/>
          <a:stretch/>
        </p:blipFill>
        <p:spPr>
          <a:xfrm>
            <a:off x="3419640" y="4508640"/>
            <a:ext cx="1944360" cy="2016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учить § 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тветить на вопросы к параграф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ыполнить творческое зада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 вам необходимо выступить на конференции с докладом на тему «Зачем нужны деньги и можно ли без них прожить?» Подготовьте тезисы-аргументы для докл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AG00495_"/>
          <p:cNvPicPr/>
          <p:nvPr/>
        </p:nvPicPr>
        <p:blipFill>
          <a:blip r:embed="rId1"/>
          <a:stretch/>
        </p:blipFill>
        <p:spPr>
          <a:xfrm>
            <a:off x="7236000" y="115920"/>
            <a:ext cx="1704960" cy="1606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5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Желаю удачи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2843280" y="1916280"/>
            <a:ext cx="3384360" cy="33130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ли и задач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яснить понятия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«рынок», «торговля», «деньги», «банки», «рыночная цена», «вкла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снить роль и значение рынка в развитии экономики; показать на примерах, как торговля помогает производству, а деньги служат людям; познакомиться с историей появлением банков, обсудить их роль в развитии эконом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учиться делать сравнительный анализ, решать проблемы, участвовать в дискуссии, оценивать события и явления с разных точек зр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ходе урока постараться выразить свое отношение к капиталу и задуматься над соотношением материальных и нравственных интересов в области рыночных отно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ан изучения нового материала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Что такое рыно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Деньг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Банки в эконом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1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20541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ведение в новый материа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недавнего времени у нас не существовало рыночной экономики. Как же развивалось производство? Почему нашему государству пришлось перейти на рыночные рельсы? В чем плюсы и минусы подобного шаг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обсудим эти вопросы на нашем уро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1. Ры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годня мы довольно часто слышим это понятие «рын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но появилос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собой представляли первые ры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они выглядят сегодн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Картинка 138 из 298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76640"/>
            <a:ext cx="507672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дведем итоги рассуждений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аким образ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ынок представляет собой систему экономических отношений, связанных с обменом товаров и услуг между продавцами и покупател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Рынок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место встречи продавцов и покупателей, где сталкиваются их интересы и возникает торг. Предметом спора между ними является цена.  От чего она завис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А 56"/>
          <p:cNvPicPr/>
          <p:nvPr/>
        </p:nvPicPr>
        <p:blipFill>
          <a:blip r:embed="rId1"/>
          <a:stretch/>
        </p:blipFill>
        <p:spPr>
          <a:xfrm>
            <a:off x="6659640" y="556272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нализируем схем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042920" y="1341360"/>
            <a:ext cx="6624720" cy="64764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Рыночная цена определ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24000" y="2565360"/>
            <a:ext cx="331128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Количеств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292720" y="2565360"/>
            <a:ext cx="3311640" cy="1440000"/>
          </a:xfrm>
          <a:prstGeom prst="beve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Спросом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оизведе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ова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403280" y="4724280"/>
            <a:ext cx="5904000" cy="1368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Т.е. желанием и возможностя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20000"/>
                </a:solidFill>
                <a:latin typeface="Tahoma"/>
              </a:rPr>
              <a:t>приобрести тов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2050920" y="2060640"/>
            <a:ext cx="6494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6372360" y="2060640"/>
            <a:ext cx="649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4211640" y="2276640"/>
            <a:ext cx="289080" cy="2160360"/>
          </a:xfrm>
          <a:prstGeom prst="downArrow">
            <a:avLst>
              <a:gd name="adj1" fmla="val 50000"/>
              <a:gd name="adj2" fmla="val 18683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ыночная экономика имеет ряд особенностей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частной форме собств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ана на инициативе, свободе и предприимчивости 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ы на товары и услуги складываются в зависимости от спроса и предложения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нирование  и прогнозирование носит только рекомендательный характ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ственность за результаты производственной деятельности несет сам производит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2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8:57:55Z</dcterms:created>
  <dc:creator>Paradise</dc:creator>
  <dc:description/>
  <dc:language>en-US</dc:language>
  <cp:lastModifiedBy>LEGION</cp:lastModifiedBy>
  <dcterms:modified xsi:type="dcterms:W3CDTF">2016-01-04T13:43:18Z</dcterms:modified>
  <cp:revision>9</cp:revision>
  <dc:subject/>
  <dc:title>Слайд 1</dc:title>
</cp:coreProperties>
</file>