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2346-F0D4-4D92-98B6-169C244BBF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его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и его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чем идет реч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очн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очной эконом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ите сх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ессанс мал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ое отношение к т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тизация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нессанс малого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 рамка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в рамка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вои зна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– все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1-2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– 3-4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– больше 4 оши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ьте свои знани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 – все прави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 – 1-2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 – 3-4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2» – больше 4 ошиб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цените свою работу на уро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глава 2, пункт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3-6 (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глава 2, пункт 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3-6 (устн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ерика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д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кциональная социализ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вед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Функциональная социализация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рыночное хозяйство Ф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 рыночное хозяйство Ф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олните сх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ополните схем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по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купли-продажи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рын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то купли-продажи тов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CE3-CE49-427B-9BA8-D617EE7C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FC2-ACD3-4C2F-AEBF-68BFF488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595-7BCB-4401-9F11-5E0A3124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410-2CAD-4633-856F-A18FF222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B049-42B5-4E9F-80DD-9E6D3D84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C6E5-A7B0-46CD-A708-09CDF490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684C-95C0-406F-A1C2-59AF394D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8DB4-EEEE-4FA2-B0B2-E61919CA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F569-DE6A-4ABC-8EEA-230F09C2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A0B4-C3A7-41BB-8667-A2BA8614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FB00-D897-4C70-9AAC-ECEBDA5B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A88-13B9-479B-8027-E75BC1E7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FFAE-E5DC-40AC-8B05-7EC3AC77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9032-99FC-405B-AC1F-361CB5B2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33E7-BFF5-463B-9439-CAFC0CDE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DC29-F94C-4379-839E-688B5E29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8839-26E9-4CAF-9DE4-A2C1E6F8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763F-3446-4966-BD65-6F093E31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D66D-1B4F-4021-BAEB-CCCD7902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A08C-2093-4FAB-B7EC-AA2ADB9C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D6E9-589F-47DD-A5FE-67583FDE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79F6-5D5C-4D0C-B33D-5003FEA1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BCD-FDAA-4C5B-B665-C8D7354F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D982-5956-48BA-91A2-C22406B6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BB13-EF7F-40A8-ABD7-A9DAFE60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7CFA-AE9E-4009-91E8-B4AFE831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E8C0-5049-445F-AC73-A3554198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9778-1211-4AD6-B192-6095AF92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DCC2-8108-421E-B52C-EBAA64FD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9AC7-D12F-4F86-A0EE-0D67464F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77C39-0874-4AF1-906A-4954059E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C6241-1FCE-4312-B51C-4D5AB247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5410B-6938-4D9F-8CFC-ADEB327E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3E3-CC67-4733-8FD3-1A99C3DB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1800-8F81-4E1A-9B9C-96ED527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72AF-70B3-443D-BA43-93F81DF2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C197-613A-4D52-8981-CFD637B5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DEB2-93B3-47AD-B55B-B2FA0B44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9AF0-38B0-49E1-A619-CFDA5660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937D-49E2-42A4-9174-001CA6FD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AC86-0B5F-4D18-86C6-E4E027BF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EDD7-D0BF-4306-ADEB-8C2E0286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5976E-7FA1-4CFF-B2F2-3FFB751D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A6564-6455-4CD9-AFDC-F58A0D83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5FF-92BC-4034-9D58-BE5030F6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69F5F-7751-41AE-9B28-99644BFD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8A88-C637-48C5-8B2C-DBF121E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D17FE-AE89-40BD-9121-9EA3570B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4F5A5-2FB0-4327-93B2-1D41EA87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73B1B-43CF-4C44-AC0A-C9EB2347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33293-CDA6-4F1A-8D36-14A5F187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8269-650F-4BAA-8866-4BAB32F0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51BA-7411-47E0-82AF-AA37C934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2EF4-1BD3-4C4F-8990-F58B9254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78D6F-B26F-4408-8CE2-DE23214D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CAC-9091-4D61-97B5-B11B8697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E50FF-A2FC-4285-9D2D-436D1728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F2545-89E6-4F77-B195-DDEE6445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01C5C-6650-4E4B-8BCA-40823F7B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3BC9-F7DB-47DB-9B41-8F0BE040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1DD89-57B9-4B30-8F88-C0A0F086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C2C18-E4E2-4984-A5F3-698A3EB2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822F-F03C-44BC-B74A-401D4583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0009F-C5E2-4C4C-87B8-C947E17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73489-B9AE-4538-8552-37469FFE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90304-E7EF-4332-8390-C6885E47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A75-644C-4ED6-B7E6-376EB4D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3BF4-1320-4143-BA01-439AC6DF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64F74-C222-4F02-A285-6EC3F2E2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A0859-DFDD-45E3-A558-E99C349D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CE491-693F-493D-A53E-02145D51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00B92-C741-478B-8749-ED5F17C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3BDFF-79B1-4A0B-AD16-61BDFDA3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9F63B-9703-47B4-85EA-345D38A0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D0F5-656D-4EA8-AA24-A394E772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974DF-7DF6-474A-9D5A-53D3B7C0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60D49-C381-4BC3-8942-E44DF335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131-F93A-4AF6-8128-33AA717C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AE29-97F5-41C8-909E-EBA6144A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C3BD0-A65E-4354-BDA4-6A32159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12CDD-8DF4-4873-A32E-82AEC482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4EACA-F1ED-4C5D-911E-B4E5A5BF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22A71-0E72-45DE-A248-3E4C4460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044-AC9D-4478-9E66-1CF23FB4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9179-2600-47C1-A82C-E0592B064EB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4806-BCAE-43D1-93B8-CE868D71A9E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7700-702C-440D-829C-542CF5C1845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4511-5BBD-48D3-AAB2-0ED3E1115C4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2141-C8DE-4C44-9917-F4E4B96A490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E8F2-058A-44E4-BAF8-92C4A5530CD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946C-9DDD-46FD-9CB8-3AD72EB826A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20C2-E746-41F6-8131-E7BAC5BC6E8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8D00-C1D9-469E-AB8C-235900B55CC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D69C-F6A5-4540-9B8B-18C87E85833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C180-D9EF-4344-860E-D59EECD251B7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9F39-BE5F-4C7E-AFDD-731A05A545A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A040-F8CC-47B8-A80B-E6CC083216E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4F91-DF5D-48DD-BAA7-973F1004749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кономик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0 клас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56800" y="2714760"/>
            <a:ext cx="7944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МУЛ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2" descr="I:\Энциклопедия\Э Экономические системы\картинки\motivations_0.jpg"/>
          <p:cNvPicPr/>
          <p:nvPr/>
        </p:nvPicPr>
        <p:blipFill>
          <a:blip r:embed="rId1"/>
          <a:stretch/>
        </p:blipFill>
        <p:spPr>
          <a:xfrm>
            <a:off x="4979880" y="-103320"/>
            <a:ext cx="4260960" cy="341964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400" y="1784520"/>
            <a:ext cx="47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АН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2" descr="I:\Энциклопедия\Э Экономические системы\картинки\575cd7580e7d250c857f8dbf33e159d8_full.jpg"/>
          <p:cNvPicPr/>
          <p:nvPr/>
        </p:nvPicPr>
        <p:blipFill>
          <a:blip r:embed="rId1"/>
          <a:stretch/>
        </p:blipFill>
        <p:spPr>
          <a:xfrm>
            <a:off x="5214960" y="2071800"/>
            <a:ext cx="3809880" cy="30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17841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ведите примеры каждой из функций рынка в действ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0" name="Picture 2" descr="I:\Энциклопедия\Э Экономические системы\картинки\1.jpg"/>
          <p:cNvPicPr/>
          <p:nvPr/>
        </p:nvPicPr>
        <p:blipFill>
          <a:blip r:embed="rId1"/>
          <a:stretch/>
        </p:blipFill>
        <p:spPr>
          <a:xfrm>
            <a:off x="1066680" y="2511360"/>
            <a:ext cx="7266240" cy="63216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 чем идет речь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......... – жизнь торговли и смерть торгов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7d0e9"/>
                </a:solidFill>
                <a:latin typeface="Corbe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a1ca"/>
                </a:solidFill>
                <a:latin typeface="Corbel"/>
              </a:rPr>
              <a:t>Там, где нет .............., спится лучше, но живется хуж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КОНКУРЕНЦИЯ – жизнь торговли и смерть торговце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7d0e9"/>
                </a:solidFill>
                <a:latin typeface="Corbe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a1ca"/>
                </a:solidFill>
                <a:latin typeface="Corbel"/>
              </a:rPr>
              <a:t>Там, где нет КОНКУРЕНЦИИ, спится лучше, но живется хуж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:\Энциклопедия\Э Экономические системы\картинки\f_14765182.jpg"/>
          <p:cNvPicPr/>
          <p:nvPr/>
        </p:nvPicPr>
        <p:blipFill>
          <a:blip r:embed="rId1"/>
          <a:stretch/>
        </p:blipFill>
        <p:spPr>
          <a:xfrm>
            <a:off x="122400" y="1974960"/>
            <a:ext cx="2792160" cy="78883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99840" y="1599840"/>
            <a:ext cx="61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Задание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Выявите положительные черты конкуренц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очной эконом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ая экономика свободной конкуренции (чист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ременная рыночная экономика (современн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тиндустриальное обществ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52720" y="25200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Чистый капитализ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8" name="Picture 2" descr="I:\Энциклопедия\Э Экономические системы\картинки\capitalism_XIX_preview.jpg"/>
          <p:cNvPicPr/>
          <p:nvPr/>
        </p:nvPicPr>
        <p:blipFill>
          <a:blip r:embed="rId1"/>
          <a:stretch/>
        </p:blipFill>
        <p:spPr>
          <a:xfrm>
            <a:off x="-274680" y="-255600"/>
            <a:ext cx="6121440" cy="7405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5715000" y="150012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та система сложилась в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веке и прекратила свое существование в конце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ервых десятилетиях ХХ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начительная часть ее элементов вошла в современную рыночную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ная собственность на экономические ресурс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временный капитализ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143320" y="1599840"/>
            <a:ext cx="3786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2" descr="I:\Энциклопедия\Э Экономические системы\картинки\295536.jpg"/>
          <p:cNvPicPr/>
          <p:nvPr/>
        </p:nvPicPr>
        <p:blipFill>
          <a:blip r:embed="rId1"/>
          <a:stretch/>
        </p:blipFill>
        <p:spPr>
          <a:xfrm>
            <a:off x="73080" y="1494000"/>
            <a:ext cx="5200560" cy="5016240"/>
          </a:xfrm>
          <a:prstGeom prst="rect">
            <a:avLst/>
          </a:prstGeom>
          <a:ln w="0">
            <a:noFill/>
          </a:ln>
        </p:spPr>
      </p:pic>
      <p:sp>
        <p:nvSpPr>
          <p:cNvPr id="57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ка домашнего зада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е черты характеризуют административно-плановую систем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олните сх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тиндустриальное обще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т уровня образования, прежде всего за счет послешкольног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овое отношение к труд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вышение внимания к окружающей сре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уманизация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форматизация обще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нессанс малого бизнес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лобализация 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экономическому назначению объектов рыночных отношений: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ынок товаров и услуг, рынок недвижимости, рынок труда, рынок ценных бумаг, денежный рынок и рынок капитал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географическому положению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стный, национальный, миро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отрасля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к зерна, хлопка, автомобилей, компьютеров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 в рамках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Зачем необходимо изучать национальные экономические модел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вои знания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1" name="Содержимое 2" descr=""/>
          <p:cNvPicPr/>
          <p:nvPr/>
        </p:nvPicPr>
        <p:blipFill>
          <a:blip r:embed="rId1"/>
          <a:stretch/>
        </p:blipFill>
        <p:spPr>
          <a:xfrm>
            <a:off x="878040" y="1712880"/>
            <a:ext cx="7875360" cy="464508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цените свою работу на уро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Содержимое 3" descr=""/>
          <p:cNvPicPr/>
          <p:nvPr/>
        </p:nvPicPr>
        <p:blipFill>
          <a:blip r:embed="rId1"/>
          <a:stretch/>
        </p:blipFill>
        <p:spPr>
          <a:xfrm>
            <a:off x="847800" y="1719360"/>
            <a:ext cx="7905600" cy="3004920"/>
          </a:xfrm>
          <a:prstGeom prst="rect">
            <a:avLst/>
          </a:prstGeom>
          <a:ln w="0">
            <a:noFill/>
          </a:ln>
        </p:spPr>
      </p:pic>
      <p:sp>
        <p:nvSpPr>
          <p:cNvPr id="5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о группа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арактеристика национальных моделей рыночной экономики: США, Швеция, Германия, Япо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нспе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чебник: глава 2, пункт 3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просы 3-6 (устно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мерика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714400" y="1599840"/>
            <a:ext cx="5972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1" name="Picture 2" descr="I:\Энциклопедия\Э Экономические системы\картинки\45270508_EdwardMoranUnveilingTheStatueofLiberty1886Large.jpg"/>
          <p:cNvPicPr/>
          <p:nvPr/>
        </p:nvPicPr>
        <p:blipFill>
          <a:blip r:embed="rId1"/>
          <a:stretch/>
        </p:blipFill>
        <p:spPr>
          <a:xfrm>
            <a:off x="214200" y="1357200"/>
            <a:ext cx="2214720" cy="545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Швед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42840" y="1599840"/>
            <a:ext cx="52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«Функциональная социализация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5" name="Picture 2" descr="I:\Энциклопедия\Э Экономические системы\картинки\630px-Sweden_greater_coa1908-modern.png"/>
          <p:cNvPicPr/>
          <p:nvPr/>
        </p:nvPicPr>
        <p:blipFill>
          <a:blip r:embed="rId1"/>
          <a:stretch/>
        </p:blipFill>
        <p:spPr>
          <a:xfrm>
            <a:off x="142920" y="2071800"/>
            <a:ext cx="33051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циальное рыночное хозяйство ФР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8576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о активно влияет на цены, пошлины, технические нор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2" descr="I:\Энциклопедия\Э Экономические системы\картинки\201335_001frg8r.jpg"/>
          <p:cNvPicPr/>
          <p:nvPr/>
        </p:nvPicPr>
        <p:blipFill>
          <a:blip r:embed="rId1"/>
          <a:stretch/>
        </p:blipFill>
        <p:spPr>
          <a:xfrm>
            <a:off x="285840" y="1643040"/>
            <a:ext cx="336060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полните схему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2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383" name="AutoShape 15"/>
            <p:cNvGrpSpPr/>
            <p:nvPr/>
          </p:nvGrpSpPr>
          <p:grpSpPr>
            <a:xfrm>
              <a:off x="2160000" y="1700280"/>
              <a:ext cx="4897440" cy="855360"/>
              <a:chOff x="2160000" y="1700280"/>
              <a:chExt cx="4897440" cy="855360"/>
            </a:xfrm>
          </p:grpSpPr>
          <p:pic>
            <p:nvPicPr>
              <p:cNvPr id="384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60000" y="1700280"/>
                <a:ext cx="48974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5"/>
              <p:cNvSpPr/>
              <p:nvPr/>
            </p:nvSpPr>
            <p:spPr>
              <a:xfrm>
                <a:off x="2280240" y="1815120"/>
                <a:ext cx="465516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AutoShape 17"/>
            <p:cNvGrpSpPr/>
            <p:nvPr/>
          </p:nvGrpSpPr>
          <p:grpSpPr>
            <a:xfrm>
              <a:off x="971640" y="2819520"/>
              <a:ext cx="2120040" cy="831960"/>
              <a:chOff x="971640" y="2819520"/>
              <a:chExt cx="2120040" cy="831960"/>
            </a:xfrm>
          </p:grpSpPr>
          <p:pic>
            <p:nvPicPr>
              <p:cNvPr id="387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08000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AutoShape 18"/>
            <p:cNvGrpSpPr/>
            <p:nvPr/>
          </p:nvGrpSpPr>
          <p:grpSpPr>
            <a:xfrm>
              <a:off x="2231640" y="3845160"/>
              <a:ext cx="4825800" cy="861480"/>
              <a:chOff x="2231640" y="3845160"/>
              <a:chExt cx="4825800" cy="861480"/>
            </a:xfrm>
          </p:grpSpPr>
          <p:pic>
            <p:nvPicPr>
              <p:cNvPr id="390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1640" y="3845160"/>
                <a:ext cx="4825800" cy="8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1"/>
              <p:cNvSpPr/>
              <p:nvPr/>
            </p:nvSpPr>
            <p:spPr>
              <a:xfrm>
                <a:off x="2350440" y="3962880"/>
                <a:ext cx="4586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AutoShape 19"/>
            <p:cNvGrpSpPr/>
            <p:nvPr/>
          </p:nvGrpSpPr>
          <p:grpSpPr>
            <a:xfrm>
              <a:off x="3724920" y="2819520"/>
              <a:ext cx="2120040" cy="831960"/>
              <a:chOff x="3724920" y="2819520"/>
              <a:chExt cx="2120040" cy="831960"/>
            </a:xfrm>
          </p:grpSpPr>
          <p:pic>
            <p:nvPicPr>
              <p:cNvPr id="393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492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83112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AutoShape 20"/>
            <p:cNvGrpSpPr/>
            <p:nvPr/>
          </p:nvGrpSpPr>
          <p:grpSpPr>
            <a:xfrm>
              <a:off x="6466320" y="2807640"/>
              <a:ext cx="2138040" cy="855360"/>
              <a:chOff x="6466320" y="2807640"/>
              <a:chExt cx="2138040" cy="855360"/>
            </a:xfrm>
          </p:grpSpPr>
          <p:pic>
            <p:nvPicPr>
              <p:cNvPr id="396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6320" y="2807640"/>
                <a:ext cx="21380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"/>
              <p:cNvSpPr/>
              <p:nvPr/>
            </p:nvSpPr>
            <p:spPr>
              <a:xfrm>
                <a:off x="6582600" y="2923200"/>
                <a:ext cx="19062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AutoShape 21"/>
            <p:cNvGrpSpPr/>
            <p:nvPr/>
          </p:nvGrpSpPr>
          <p:grpSpPr>
            <a:xfrm>
              <a:off x="2231640" y="5023080"/>
              <a:ext cx="4825800" cy="855360"/>
              <a:chOff x="2231640" y="5023080"/>
              <a:chExt cx="4825800" cy="855360"/>
            </a:xfrm>
          </p:grpSpPr>
          <p:pic>
            <p:nvPicPr>
              <p:cNvPr id="399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1640" y="5023080"/>
                <a:ext cx="482580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0"/>
              <p:cNvSpPr/>
              <p:nvPr/>
            </p:nvSpPr>
            <p:spPr>
              <a:xfrm>
                <a:off x="2350080" y="5139000"/>
                <a:ext cx="45853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2"/>
            <p:cNvGrpSpPr/>
            <p:nvPr/>
          </p:nvGrpSpPr>
          <p:grpSpPr>
            <a:xfrm>
              <a:off x="2452680" y="2327040"/>
              <a:ext cx="364320" cy="703080"/>
              <a:chOff x="2452680" y="2327040"/>
              <a:chExt cx="364320" cy="703080"/>
            </a:xfrm>
          </p:grpSpPr>
          <p:pic>
            <p:nvPicPr>
              <p:cNvPr id="402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268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58048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AutoShape 23"/>
            <p:cNvGrpSpPr/>
            <p:nvPr/>
          </p:nvGrpSpPr>
          <p:grpSpPr>
            <a:xfrm>
              <a:off x="4423680" y="2327040"/>
              <a:ext cx="370080" cy="703080"/>
              <a:chOff x="4423680" y="2327040"/>
              <a:chExt cx="370080" cy="703080"/>
            </a:xfrm>
          </p:grpSpPr>
          <p:pic>
            <p:nvPicPr>
              <p:cNvPr id="405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3680" y="232704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4555800" y="247464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AutoShape 24"/>
            <p:cNvGrpSpPr/>
            <p:nvPr/>
          </p:nvGrpSpPr>
          <p:grpSpPr>
            <a:xfrm>
              <a:off x="6537960" y="3434760"/>
              <a:ext cx="370080" cy="697320"/>
              <a:chOff x="6537960" y="3434760"/>
              <a:chExt cx="370080" cy="697320"/>
            </a:xfrm>
          </p:grpSpPr>
          <p:pic>
            <p:nvPicPr>
              <p:cNvPr id="408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343476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671160" y="35812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25"/>
            <p:cNvGrpSpPr/>
            <p:nvPr/>
          </p:nvGrpSpPr>
          <p:grpSpPr>
            <a:xfrm>
              <a:off x="4423680" y="3370320"/>
              <a:ext cx="370080" cy="697320"/>
              <a:chOff x="4423680" y="3370320"/>
              <a:chExt cx="370080" cy="697320"/>
            </a:xfrm>
          </p:grpSpPr>
          <p:pic>
            <p:nvPicPr>
              <p:cNvPr id="411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3680" y="33703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555800" y="351252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AutoShape 26"/>
            <p:cNvGrpSpPr/>
            <p:nvPr/>
          </p:nvGrpSpPr>
          <p:grpSpPr>
            <a:xfrm>
              <a:off x="2452680" y="3434760"/>
              <a:ext cx="364320" cy="697320"/>
              <a:chOff x="2452680" y="3434760"/>
              <a:chExt cx="364320" cy="697320"/>
            </a:xfrm>
          </p:grpSpPr>
          <p:pic>
            <p:nvPicPr>
              <p:cNvPr id="414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2680" y="343476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2580480" y="35812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AutoShape 27"/>
            <p:cNvGrpSpPr/>
            <p:nvPr/>
          </p:nvGrpSpPr>
          <p:grpSpPr>
            <a:xfrm>
              <a:off x="6472440" y="2327040"/>
              <a:ext cx="364320" cy="703080"/>
              <a:chOff x="6472440" y="2327040"/>
              <a:chExt cx="364320" cy="703080"/>
            </a:xfrm>
          </p:grpSpPr>
          <p:pic>
            <p:nvPicPr>
              <p:cNvPr id="417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7244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60132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28"/>
            <p:cNvGrpSpPr/>
            <p:nvPr/>
          </p:nvGrpSpPr>
          <p:grpSpPr>
            <a:xfrm>
              <a:off x="2661840" y="2333160"/>
              <a:ext cx="364320" cy="703080"/>
              <a:chOff x="2661840" y="2333160"/>
              <a:chExt cx="364320" cy="703080"/>
            </a:xfrm>
          </p:grpSpPr>
          <p:pic>
            <p:nvPicPr>
              <p:cNvPr id="420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184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9216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AutoShape 29"/>
            <p:cNvGrpSpPr/>
            <p:nvPr/>
          </p:nvGrpSpPr>
          <p:grpSpPr>
            <a:xfrm>
              <a:off x="4638600" y="2333160"/>
              <a:ext cx="364320" cy="703080"/>
              <a:chOff x="4638600" y="2333160"/>
              <a:chExt cx="364320" cy="703080"/>
            </a:xfrm>
          </p:grpSpPr>
          <p:pic>
            <p:nvPicPr>
              <p:cNvPr id="423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3860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476712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30"/>
            <p:cNvGrpSpPr/>
            <p:nvPr/>
          </p:nvGrpSpPr>
          <p:grpSpPr>
            <a:xfrm>
              <a:off x="2799000" y="4483800"/>
              <a:ext cx="370080" cy="697320"/>
              <a:chOff x="2799000" y="4483800"/>
              <a:chExt cx="370080" cy="697320"/>
            </a:xfrm>
          </p:grpSpPr>
          <p:pic>
            <p:nvPicPr>
              <p:cNvPr id="426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9900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93184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AutoShape 31"/>
            <p:cNvGrpSpPr/>
            <p:nvPr/>
          </p:nvGrpSpPr>
          <p:grpSpPr>
            <a:xfrm>
              <a:off x="3927960" y="4483800"/>
              <a:ext cx="370080" cy="697320"/>
              <a:chOff x="3927960" y="4483800"/>
              <a:chExt cx="370080" cy="697320"/>
            </a:xfrm>
          </p:grpSpPr>
          <p:pic>
            <p:nvPicPr>
              <p:cNvPr id="429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279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06116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AutoShape 32"/>
            <p:cNvGrpSpPr/>
            <p:nvPr/>
          </p:nvGrpSpPr>
          <p:grpSpPr>
            <a:xfrm>
              <a:off x="5128560" y="4483800"/>
              <a:ext cx="370080" cy="697320"/>
              <a:chOff x="5128560" y="4483800"/>
              <a:chExt cx="370080" cy="697320"/>
            </a:xfrm>
          </p:grpSpPr>
          <p:pic>
            <p:nvPicPr>
              <p:cNvPr id="432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285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26032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AutoShape 33"/>
            <p:cNvGrpSpPr/>
            <p:nvPr/>
          </p:nvGrpSpPr>
          <p:grpSpPr>
            <a:xfrm>
              <a:off x="6191640" y="4483800"/>
              <a:ext cx="364320" cy="697320"/>
              <a:chOff x="6191640" y="4483800"/>
              <a:chExt cx="364320" cy="697320"/>
            </a:xfrm>
          </p:grpSpPr>
          <p:pic>
            <p:nvPicPr>
              <p:cNvPr id="435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1640" y="448380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6319800" y="45514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AutoShape 34"/>
            <p:cNvGrpSpPr/>
            <p:nvPr/>
          </p:nvGrpSpPr>
          <p:grpSpPr>
            <a:xfrm>
              <a:off x="6752880" y="3440520"/>
              <a:ext cx="370080" cy="697320"/>
              <a:chOff x="6752880" y="3440520"/>
              <a:chExt cx="370080" cy="697320"/>
            </a:xfrm>
          </p:grpSpPr>
          <p:pic>
            <p:nvPicPr>
              <p:cNvPr id="438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52880" y="34405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6883920" y="351180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35"/>
            <p:cNvGrpSpPr/>
            <p:nvPr/>
          </p:nvGrpSpPr>
          <p:grpSpPr>
            <a:xfrm>
              <a:off x="4638600" y="3376080"/>
              <a:ext cx="364320" cy="697320"/>
              <a:chOff x="4638600" y="3376080"/>
              <a:chExt cx="364320" cy="697320"/>
            </a:xfrm>
          </p:grpSpPr>
          <p:pic>
            <p:nvPicPr>
              <p:cNvPr id="441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38600" y="337608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767120" y="34434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AutoShape 36"/>
            <p:cNvGrpSpPr/>
            <p:nvPr/>
          </p:nvGrpSpPr>
          <p:grpSpPr>
            <a:xfrm>
              <a:off x="2661840" y="3440520"/>
              <a:ext cx="364320" cy="697320"/>
              <a:chOff x="2661840" y="3440520"/>
              <a:chExt cx="364320" cy="697320"/>
            </a:xfrm>
          </p:grpSpPr>
          <p:pic>
            <p:nvPicPr>
              <p:cNvPr id="444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61840" y="344052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792160" y="35118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AutoShape 37"/>
            <p:cNvGrpSpPr/>
            <p:nvPr/>
          </p:nvGrpSpPr>
          <p:grpSpPr>
            <a:xfrm>
              <a:off x="6681240" y="2333160"/>
              <a:ext cx="370080" cy="703080"/>
              <a:chOff x="6681240" y="2333160"/>
              <a:chExt cx="370080" cy="703080"/>
            </a:xfrm>
          </p:grpSpPr>
          <p:pic>
            <p:nvPicPr>
              <p:cNvPr id="447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1240" y="233316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12640" y="24058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по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599840"/>
            <a:ext cx="4614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ставание уровня жизни населения от роста производительности тру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ктивная роль государства в модернизации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3" name="Picture 2" descr="I:\Энциклопедия\Э Экономические системы\картинки\862c8ce36e8e.jpg"/>
          <p:cNvPicPr/>
          <p:nvPr/>
        </p:nvPicPr>
        <p:blipFill>
          <a:blip r:embed="rId1"/>
          <a:stretch/>
        </p:blipFill>
        <p:spPr>
          <a:xfrm>
            <a:off x="5357880" y="1571760"/>
            <a:ext cx="3548160" cy="46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4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жнокорей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532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меет много общего с японской моделью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7" name="Picture 2" descr="I:\Энциклопедия\Э Экономические системы\картинки\turi_news_1239878957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05200" cy="387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51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452" name="AutoShape 15"/>
            <p:cNvGrpSpPr/>
            <p:nvPr/>
          </p:nvGrpSpPr>
          <p:grpSpPr>
            <a:xfrm>
              <a:off x="2171160" y="1700280"/>
              <a:ext cx="4887720" cy="850680"/>
              <a:chOff x="2171160" y="1700280"/>
              <a:chExt cx="4887720" cy="850680"/>
            </a:xfrm>
          </p:grpSpPr>
          <p:pic>
            <p:nvPicPr>
              <p:cNvPr id="453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1160" y="1700280"/>
                <a:ext cx="488772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Text Box 5"/>
              <p:cNvSpPr/>
              <p:nvPr/>
            </p:nvSpPr>
            <p:spPr>
              <a:xfrm>
                <a:off x="2291040" y="1815480"/>
                <a:ext cx="4653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ea157a"/>
                    </a:solidFill>
                    <a:latin typeface="Corbel"/>
                  </a:rPr>
                  <a:t>Госпла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AutoShape 17"/>
            <p:cNvGrpSpPr/>
            <p:nvPr/>
          </p:nvGrpSpPr>
          <p:grpSpPr>
            <a:xfrm>
              <a:off x="971640" y="2809440"/>
              <a:ext cx="2136240" cy="850680"/>
              <a:chOff x="971640" y="2809440"/>
              <a:chExt cx="2136240" cy="850680"/>
            </a:xfrm>
          </p:grpSpPr>
          <p:pic>
            <p:nvPicPr>
              <p:cNvPr id="456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8"/>
              <p:cNvSpPr/>
              <p:nvPr/>
            </p:nvSpPr>
            <p:spPr>
              <a:xfrm>
                <a:off x="109152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8"/>
            <p:cNvGrpSpPr/>
            <p:nvPr/>
          </p:nvGrpSpPr>
          <p:grpSpPr>
            <a:xfrm>
              <a:off x="2242800" y="3848040"/>
              <a:ext cx="4816080" cy="856800"/>
              <a:chOff x="2242800" y="3848040"/>
              <a:chExt cx="4816080" cy="856800"/>
            </a:xfrm>
          </p:grpSpPr>
          <p:pic>
            <p:nvPicPr>
              <p:cNvPr id="459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42800" y="3848040"/>
                <a:ext cx="4816080" cy="85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"/>
              <p:cNvSpPr/>
              <p:nvPr/>
            </p:nvSpPr>
            <p:spPr>
              <a:xfrm>
                <a:off x="2361600" y="3965760"/>
                <a:ext cx="45828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9"/>
            <p:cNvGrpSpPr/>
            <p:nvPr/>
          </p:nvGrpSpPr>
          <p:grpSpPr>
            <a:xfrm>
              <a:off x="3722760" y="2809440"/>
              <a:ext cx="2136240" cy="850680"/>
              <a:chOff x="3722760" y="2809440"/>
              <a:chExt cx="2136240" cy="850680"/>
            </a:xfrm>
          </p:grpSpPr>
          <p:pic>
            <p:nvPicPr>
              <p:cNvPr id="462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276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14"/>
              <p:cNvSpPr/>
              <p:nvPr/>
            </p:nvSpPr>
            <p:spPr>
              <a:xfrm>
                <a:off x="384084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AutoShape 20"/>
            <p:cNvGrpSpPr/>
            <p:nvPr/>
          </p:nvGrpSpPr>
          <p:grpSpPr>
            <a:xfrm>
              <a:off x="6473880" y="2809440"/>
              <a:ext cx="2130480" cy="850680"/>
              <a:chOff x="6473880" y="2809440"/>
              <a:chExt cx="2130480" cy="85068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73880" y="2809440"/>
                <a:ext cx="21304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17"/>
              <p:cNvSpPr/>
              <p:nvPr/>
            </p:nvSpPr>
            <p:spPr>
              <a:xfrm>
                <a:off x="6590160" y="2925000"/>
                <a:ext cx="19051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2242800" y="5027760"/>
              <a:ext cx="4816080" cy="850680"/>
              <a:chOff x="2242800" y="5027760"/>
              <a:chExt cx="4816080" cy="8506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027760"/>
                <a:ext cx="48160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20"/>
              <p:cNvSpPr/>
              <p:nvPr/>
            </p:nvSpPr>
            <p:spPr>
              <a:xfrm>
                <a:off x="2361240" y="5144040"/>
                <a:ext cx="45831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35faa"/>
                    </a:solidFill>
                    <a:latin typeface="Corbel"/>
                  </a:rPr>
                  <a:t>Потребительский рынок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AutoShape 22"/>
            <p:cNvGrpSpPr/>
            <p:nvPr/>
          </p:nvGrpSpPr>
          <p:grpSpPr>
            <a:xfrm>
              <a:off x="2463480" y="2328120"/>
              <a:ext cx="363960" cy="704160"/>
              <a:chOff x="2463480" y="2328120"/>
              <a:chExt cx="363960" cy="704160"/>
            </a:xfrm>
          </p:grpSpPr>
          <p:pic>
            <p:nvPicPr>
              <p:cNvPr id="471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48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5912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AutoShape 23"/>
            <p:cNvGrpSpPr/>
            <p:nvPr/>
          </p:nvGrpSpPr>
          <p:grpSpPr>
            <a:xfrm>
              <a:off x="4433040" y="2328120"/>
              <a:ext cx="369720" cy="704160"/>
              <a:chOff x="4433040" y="2328120"/>
              <a:chExt cx="369720" cy="704160"/>
            </a:xfrm>
          </p:grpSpPr>
          <p:pic>
            <p:nvPicPr>
              <p:cNvPr id="474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3040" y="232812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56516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AutoShape 24"/>
            <p:cNvGrpSpPr/>
            <p:nvPr/>
          </p:nvGrpSpPr>
          <p:grpSpPr>
            <a:xfrm>
              <a:off x="6545520" y="3437280"/>
              <a:ext cx="369720" cy="698040"/>
              <a:chOff x="6545520" y="3437280"/>
              <a:chExt cx="369720" cy="698040"/>
            </a:xfrm>
          </p:grpSpPr>
          <p:pic>
            <p:nvPicPr>
              <p:cNvPr id="477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5520" y="343728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667836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AutoShape 25"/>
            <p:cNvGrpSpPr/>
            <p:nvPr/>
          </p:nvGrpSpPr>
          <p:grpSpPr>
            <a:xfrm>
              <a:off x="4433040" y="3372840"/>
              <a:ext cx="369720" cy="698040"/>
              <a:chOff x="4433040" y="3372840"/>
              <a:chExt cx="369720" cy="698040"/>
            </a:xfrm>
          </p:grpSpPr>
          <p:pic>
            <p:nvPicPr>
              <p:cNvPr id="480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33040" y="33728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5160" y="35150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AutoShape 26"/>
            <p:cNvGrpSpPr/>
            <p:nvPr/>
          </p:nvGrpSpPr>
          <p:grpSpPr>
            <a:xfrm>
              <a:off x="2463480" y="3437280"/>
              <a:ext cx="363960" cy="698040"/>
              <a:chOff x="2463480" y="3437280"/>
              <a:chExt cx="363960" cy="698040"/>
            </a:xfrm>
          </p:grpSpPr>
          <p:pic>
            <p:nvPicPr>
              <p:cNvPr id="483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63480" y="343728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59128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AutoShape 27"/>
            <p:cNvGrpSpPr/>
            <p:nvPr/>
          </p:nvGrpSpPr>
          <p:grpSpPr>
            <a:xfrm>
              <a:off x="6480000" y="2328120"/>
              <a:ext cx="363960" cy="704160"/>
              <a:chOff x="6480000" y="2328120"/>
              <a:chExt cx="363960" cy="704160"/>
            </a:xfrm>
          </p:grpSpPr>
          <p:pic>
            <p:nvPicPr>
              <p:cNvPr id="486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000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6088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AutoShape 28"/>
            <p:cNvGrpSpPr/>
            <p:nvPr/>
          </p:nvGrpSpPr>
          <p:grpSpPr>
            <a:xfrm>
              <a:off x="2672280" y="2333880"/>
              <a:ext cx="363960" cy="704160"/>
              <a:chOff x="2672280" y="2333880"/>
              <a:chExt cx="363960" cy="704160"/>
            </a:xfrm>
          </p:grpSpPr>
          <p:pic>
            <p:nvPicPr>
              <p:cNvPr id="489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7228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80260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29"/>
            <p:cNvGrpSpPr/>
            <p:nvPr/>
          </p:nvGrpSpPr>
          <p:grpSpPr>
            <a:xfrm>
              <a:off x="4647600" y="2333880"/>
              <a:ext cx="363960" cy="704160"/>
              <a:chOff x="4647600" y="2333880"/>
              <a:chExt cx="363960" cy="704160"/>
            </a:xfrm>
          </p:grpSpPr>
          <p:pic>
            <p:nvPicPr>
              <p:cNvPr id="492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760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477612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AutoShape 30"/>
            <p:cNvGrpSpPr/>
            <p:nvPr/>
          </p:nvGrpSpPr>
          <p:grpSpPr>
            <a:xfrm>
              <a:off x="2809440" y="4487760"/>
              <a:ext cx="369720" cy="698040"/>
              <a:chOff x="2809440" y="4487760"/>
              <a:chExt cx="369720" cy="698040"/>
            </a:xfrm>
          </p:grpSpPr>
          <p:pic>
            <p:nvPicPr>
              <p:cNvPr id="495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0944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29422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AutoShape 31"/>
            <p:cNvGrpSpPr/>
            <p:nvPr/>
          </p:nvGrpSpPr>
          <p:grpSpPr>
            <a:xfrm>
              <a:off x="3937680" y="4487760"/>
              <a:ext cx="369720" cy="698040"/>
              <a:chOff x="3937680" y="4487760"/>
              <a:chExt cx="369720" cy="698040"/>
            </a:xfrm>
          </p:grpSpPr>
          <p:pic>
            <p:nvPicPr>
              <p:cNvPr id="498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3768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0708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32"/>
            <p:cNvGrpSpPr/>
            <p:nvPr/>
          </p:nvGrpSpPr>
          <p:grpSpPr>
            <a:xfrm>
              <a:off x="5137200" y="4487760"/>
              <a:ext cx="369720" cy="698040"/>
              <a:chOff x="5137200" y="4487760"/>
              <a:chExt cx="369720" cy="698040"/>
            </a:xfrm>
          </p:grpSpPr>
          <p:pic>
            <p:nvPicPr>
              <p:cNvPr id="501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3720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52689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AutoShape 33"/>
            <p:cNvGrpSpPr/>
            <p:nvPr/>
          </p:nvGrpSpPr>
          <p:grpSpPr>
            <a:xfrm>
              <a:off x="6199560" y="4487760"/>
              <a:ext cx="363960" cy="698040"/>
              <a:chOff x="6199560" y="4487760"/>
              <a:chExt cx="363960" cy="698040"/>
            </a:xfrm>
          </p:grpSpPr>
          <p:pic>
            <p:nvPicPr>
              <p:cNvPr id="504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9560" y="448776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63273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AutoShape 34"/>
            <p:cNvGrpSpPr/>
            <p:nvPr/>
          </p:nvGrpSpPr>
          <p:grpSpPr>
            <a:xfrm>
              <a:off x="6760440" y="3443040"/>
              <a:ext cx="369720" cy="698040"/>
              <a:chOff x="6760440" y="3443040"/>
              <a:chExt cx="369720" cy="698040"/>
            </a:xfrm>
          </p:grpSpPr>
          <p:pic>
            <p:nvPicPr>
              <p:cNvPr id="507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60440" y="34430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689148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35"/>
            <p:cNvGrpSpPr/>
            <p:nvPr/>
          </p:nvGrpSpPr>
          <p:grpSpPr>
            <a:xfrm>
              <a:off x="4647600" y="3378600"/>
              <a:ext cx="363960" cy="698040"/>
              <a:chOff x="4647600" y="3378600"/>
              <a:chExt cx="363960" cy="698040"/>
            </a:xfrm>
          </p:grpSpPr>
          <p:pic>
            <p:nvPicPr>
              <p:cNvPr id="510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47600" y="337860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76120" y="344592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AutoShape 36"/>
            <p:cNvGrpSpPr/>
            <p:nvPr/>
          </p:nvGrpSpPr>
          <p:grpSpPr>
            <a:xfrm>
              <a:off x="2672280" y="3443040"/>
              <a:ext cx="363960" cy="698040"/>
              <a:chOff x="2672280" y="3443040"/>
              <a:chExt cx="363960" cy="698040"/>
            </a:xfrm>
          </p:grpSpPr>
          <p:pic>
            <p:nvPicPr>
              <p:cNvPr id="513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72280" y="344304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80260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AutoShape 37"/>
            <p:cNvGrpSpPr/>
            <p:nvPr/>
          </p:nvGrpSpPr>
          <p:grpSpPr>
            <a:xfrm>
              <a:off x="6688800" y="2333880"/>
              <a:ext cx="369720" cy="704160"/>
              <a:chOff x="6688800" y="2333880"/>
              <a:chExt cx="369720" cy="704160"/>
            </a:xfrm>
          </p:grpSpPr>
          <p:pic>
            <p:nvPicPr>
              <p:cNvPr id="516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8800" y="233388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681984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такое рынок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Picture 2" descr="I:\Энциклопедия\Э Экономические системы\картинки\marketingovie_skazki.jpg"/>
          <p:cNvPicPr/>
          <p:nvPr/>
        </p:nvPicPr>
        <p:blipFill>
          <a:blip r:embed="rId1"/>
          <a:stretch/>
        </p:blipFill>
        <p:spPr>
          <a:xfrm>
            <a:off x="4986360" y="4175280"/>
            <a:ext cx="4406760" cy="283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I:\Энциклопедия\Э Экономические системы\картинки\gallery_image.jpg"/>
          <p:cNvPicPr/>
          <p:nvPr/>
        </p:nvPicPr>
        <p:blipFill>
          <a:blip r:embed="rId2"/>
          <a:stretch/>
        </p:blipFill>
        <p:spPr>
          <a:xfrm>
            <a:off x="-146160" y="1047600"/>
            <a:ext cx="5340600" cy="38293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5072040" y="14288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сто купли-продажи тов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00040" y="478620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d0e4"/>
                </a:solidFill>
                <a:latin typeface="Corbel"/>
              </a:rPr>
              <a:t>РЫНОК</a:t>
            </a:r>
            <a:r>
              <a:rPr b="0" lang="ru-RU" sz="2000" spc="-1" strike="noStrike">
                <a:solidFill>
                  <a:srgbClr val="fbd0e4"/>
                </a:solidFill>
                <a:latin typeface="Corbel"/>
              </a:rPr>
              <a:t>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чины возникновения рыночной экономи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7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3196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7156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5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784520"/>
            <a:ext cx="52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А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4" name="Picture 3" descr="I:\Энциклопедия\Э Экономические системы\картинки\dayinfo1(2).jpg"/>
          <p:cNvPicPr/>
          <p:nvPr/>
        </p:nvPicPr>
        <p:blipFill>
          <a:blip r:embed="rId1"/>
          <a:stretch/>
        </p:blipFill>
        <p:spPr>
          <a:xfrm>
            <a:off x="6000840" y="1857240"/>
            <a:ext cx="3143160" cy="398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643200" y="178452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ЕГУЛИРУЮЩАЯ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8" name="Picture 2" descr="I:\Энциклопедия\Э Экономические системы\картинки\thumb.jpg"/>
          <p:cNvPicPr/>
          <p:nvPr/>
        </p:nvPicPr>
        <p:blipFill>
          <a:blip r:embed="rId1"/>
          <a:stretch/>
        </p:blipFill>
        <p:spPr>
          <a:xfrm>
            <a:off x="115920" y="1487520"/>
            <a:ext cx="3571920" cy="452916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3:26Z</dcterms:modified>
  <cp:revision>46</cp:revision>
  <dc:subject/>
  <dc:title>Рынок и его функции</dc:title>
</cp:coreProperties>
</file>