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9.jpeg" ContentType="image/jpeg"/>
  <Override PartName="/ppt/media/image9.png" ContentType="image/png"/>
  <Override PartName="/ppt/media/image38.jpeg" ContentType="image/jpeg"/>
  <Override PartName="/ppt/media/image37.jpeg" ContentType="image/jpeg"/>
  <Override PartName="/ppt/media/image30.png" ContentType="image/png"/>
  <Override PartName="/ppt/media/image5.png" ContentType="image/png"/>
  <Override PartName="/ppt/media/image35.jpeg" ContentType="image/jpeg"/>
  <Override PartName="/ppt/media/image10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</p:sldIdLst>
  <p:sldSz cx="9144000" cy="6858000"/>
  <p:notesSz cx="6807200" cy="9825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0"/>
            <a:ext cx="6807600" cy="982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2"/>
          </p:nvPr>
        </p:nvSpPr>
        <p:spPr>
          <a:xfrm>
            <a:off x="3855960" y="-36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sldImg"/>
          </p:nvPr>
        </p:nvSpPr>
        <p:spPr>
          <a:xfrm>
            <a:off x="948960" y="736200"/>
            <a:ext cx="4910040" cy="3684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move the slide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ftr" idx="23"/>
          </p:nvPr>
        </p:nvSpPr>
        <p:spPr>
          <a:xfrm>
            <a:off x="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 type="sldNum" idx="24"/>
          </p:nvPr>
        </p:nvSpPr>
        <p:spPr>
          <a:xfrm>
            <a:off x="3855960" y="9330840"/>
            <a:ext cx="295128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7E7C5-736A-4975-A725-56F2BA33C42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и его фун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 клас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и его функци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а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 клас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ИМ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М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АН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 групп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бота в группах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ведите примеры каждой из функций рынка в действ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чем идет реч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 чем идет речь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..............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. Шекспир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берт Хаббард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эвид Сарноф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бы в море поступают, как люди на земле: большие поедают малых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. Шекспир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– жизнь торговли и смерть торговцев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лберт Хаббард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эвид Сарнофф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м, где нет КОНКУРЕНЦИИ, спится лучше, но живется хуж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куренц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дание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явите положительные черты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очн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V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очной экономики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ая экономика свободной конкуренции (чист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ая рыночная экономика (современный капитализм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V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6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т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ст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система сложилась в XVIII веке и прекратила свое существование в конце XIX – первых десятилетиях ХХ век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начительная часть ее элементов вошла в современную рыночную систему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астная собственность на экономические ресурс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ый капитализ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ременный капитализ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ка домашнего 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олните схем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домашнего задани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акие черты характеризуют административно-плановую систем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полните схем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ые чер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личительные черты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индустриальное обще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ое отношение к тру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уманизация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 обще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ессанс малого бизне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индустриальное обществ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ост уровня образования, прежде всего за счет послешкольного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вое отношение к труду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вышение внимания к окружающей сред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уманизация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тизация обще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нессанс малого бизне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лобализация хозяй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рын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иды рынк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экономическому назначению объектов рыночных отношений: рынок товаров и услуг, рынок недвижимости, рынок труда, рынок ценных бумаг, денежный рынок и рынок капитал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еографическому положению: местный, национальный, мирово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отраслям: рынок зерна, хлопка, автомобилей, компьютеров и т.д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и в рамках сис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и в рамках систем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чем необходимо изучать национальные экономические модели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те свои знания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не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5» – все прави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4» – 1-2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3» – 3-4 ошиб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2» – больше 4 ошибо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ьте свои знания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1. д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2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3. н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1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2. 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3. 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5» – все правильно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4» – 1-2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3» – 3-4 ошиб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2» – больше 4 ошибок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те свою работу на уро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цените свою работу на урок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пе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бник: глава 2, пункт 3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3-6 (устно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омашнее задание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 группам: характеристика национальных моделей рыночной экономики: США, Швеция, Германия, Япо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спек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чебник: глава 2, пункт 3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просы 3-6 (устно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9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а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мерика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вед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Функциональная социализация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вед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Функциональная социализация»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е рыночное хозяйство ФР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е рыночное хозяйство ФРГ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осударство активно влияет на цены, пошлины, технические нормы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6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Дополните схему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Дополните схему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Япон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Япон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тставание уровня жизни населения от роста производительности труд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ктивная роль государства в модернизации экономик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710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ая модел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ая модель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ет много общего с японской моделью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ьте себ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оверьте себ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2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такое рынок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купли-продажи това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 такое рынок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сто купли-продажи товаро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ЫНОК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Причины возникновения рыночной экономики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I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II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ФОРМАЦИОНН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949320" y="736560"/>
            <a:ext cx="4910040" cy="368460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1120" y="4665240"/>
            <a:ext cx="54468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рын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ИРУЮЩА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Місце для номера слайда 3"/>
          <p:cNvSpPr/>
          <p:nvPr/>
        </p:nvSpPr>
        <p:spPr>
          <a:xfrm>
            <a:off x="3855960" y="9331200"/>
            <a:ext cx="2951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ункции рынка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ГУЛИРУЮЩА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01C1C-9DDD-4AD6-A791-A56D1C042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AF92-2D2F-4AEE-B9B7-BA53AA8B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01A-6B3C-427B-866D-CD813B8E5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6A84-9A84-4044-B6A6-B9399B30D8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70B85-2732-4055-BC5A-9BEE8DACF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F63C3-C33B-443C-BC7D-C376EFF3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C032F-9625-4DFD-BA1C-4D66BBAE9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06753-EE1D-4E05-83FA-55C0CAFD1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89C78-ACBC-437E-957F-745F8142B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1B247-9824-46F2-A6AD-A9056B3B5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024CB-223A-4072-8712-65C5BDE6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E6736-B74B-4AF6-814F-AD75537AB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8579F-9348-4A03-91E5-CEE5384E5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3304C-0BF1-48C4-A76C-5A5D94CA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DFB94-99AA-4208-B75B-FF612C9A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A7772-BF26-4B5F-99A9-B3231C918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3BCA-B1C5-4BD1-8F21-31698537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74895E-8867-4BC4-ABC4-99F91A31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02C575-594A-42E4-A194-FB075A302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4583D-851D-4535-A803-634998F4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849F6-EC18-4FF4-814B-C21698743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D10612-56B4-41B3-A453-EB08BBC6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776C-9487-4A7C-8EC2-30C5DCA6D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D7B0DF-B37D-419F-B126-9E12965B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5BFD96-7CCF-4690-9430-2427EDB83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A7D00-A3BB-419A-B14B-C6AE689E4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B1B97-7E2F-417C-8403-36406DE01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61F98B-C838-4856-B736-9C12D52C6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1A16FA-AB11-40A6-99A7-BA7C82FC5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280FA2-A3C0-4090-B8D8-34BE8F9A0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21C722-D1A5-4366-BD99-25B03917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4C495D-886A-452D-AC40-7926475C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89F082-5B16-4AAA-8697-1E9DFB40A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7798-E0E0-41CC-B1E2-153F3C2C7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3154F-2D73-4315-9CBE-4A76C7CBB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638113-F974-4A9C-951C-A194A8C01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381DD-D6B6-4276-A86C-033CA4C0A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FEDB53-B2FD-48E1-AF8C-F5BA285B4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3EDA-079E-4C19-9C72-FFF053504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E70CA-41C1-4517-B923-C1F164F87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D4E53A-8613-42CB-97FF-77A423672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128862-A48C-4C8C-8DD0-2AD0FE2B1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C44FF-361A-4192-B024-9551F7753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836340-1985-4E64-90C7-9DBCA1858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002E-A5FD-4AD3-B1F1-EC9028420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17405-FD39-47D6-9AD8-7669E6E21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0C6BB-9928-4474-92A1-067476533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B11C3C-E230-47C9-9D3F-460370EA6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9D5BA4-878B-4D56-A08C-51CF31CD2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45D469-2278-4917-856D-F9DCF0E06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21B355-2669-496E-B0D9-74989A225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F7F98C-0BC9-4ADC-B46D-D6B4B4FD8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178C3-CCC7-4117-A8CE-C812F8BCE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2F75F6-4C14-4F0D-B2A2-134A9D415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D8C1D9-D9BB-423B-AD42-582A384C9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C9C8-72E9-491A-9712-01A5D8FF1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056191-819D-46BE-A1BC-07F63E832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95CD2E-7FFB-4B2A-8988-D5CE3AA6A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D8131D-E739-416C-B890-AF901FD8F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6EB973-7500-41FC-8A72-5B8747995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E964E-D66B-4474-AC49-63F1CE74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E76FA7-2A6A-4169-AB72-1C16152CE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B6E94A-D161-4271-B288-4742BCB2E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1DD5DF-E1CF-4111-8393-0BF3FAA47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71FF84-8547-4C39-B493-C4E3850FC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EBF621-4931-48FD-BB6E-08C61F37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EF327-3094-4E80-8340-A530DB8DD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902463-4E7E-4BDE-9A2F-98550F60E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E694FF-9BAB-470C-84B9-D244464A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A3BD90-BA58-4F74-A68A-F16F915BF9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76135-C105-4B59-9F27-047F8851E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573EA6-557A-47C7-8856-41400E25E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879130-C552-4DAA-86FC-1159A5618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41B9CC-A804-47F8-8F03-918E868AB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D62827-0DA4-47BE-BD07-79C817E6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B2E6E8-9B3C-44BE-890E-D7ECB352C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ABCB9-8BF4-415A-8EBE-537CE5C4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B184-0309-43CE-BAA7-BF7B03CE6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E1EC903-CA9A-4D16-A3E2-71B3CE881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545603-72D8-4C90-BC8C-0B0CDB088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6B4A0-BC2C-4690-868B-65884A5B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C94A769-305D-4F08-9012-441E7EAE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0D9DB-D9CB-4FA6-BEEF-482914A6E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18BC-FCE4-44B5-B51D-A4190F8A0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89C16-AB43-478F-938E-A623C730F4DF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9AE16-74A4-4D20-A4CC-FBD560BA03C1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7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Прямоугольник 1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Прямоугольник 1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Прямоугольник 2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Прямоугольник 23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Прямоугольник 24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Прямоугольник 25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Прямоугольник 27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7A4E-062D-41C8-9353-A1A8DE5C2DD0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680E-468E-4481-8614-D81D445C3DC5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Полилиния 17"/>
          <p:cNvSpPr/>
          <p:nvPr/>
        </p:nvSpPr>
        <p:spPr>
          <a:xfrm>
            <a:off x="4829040" y="1073160"/>
            <a:ext cx="4321440" cy="5791320"/>
          </a:xfrm>
          <a:custGeom>
            <a:avLst/>
            <a:gdLst>
              <a:gd name="textAreaLeft" fmla="*/ 0 w 4321440"/>
              <a:gd name="textAreaRight" fmla="*/ 4321800 w 4321440"/>
              <a:gd name="textAreaTop" fmla="*/ 0 h 5791320"/>
              <a:gd name="textAreaBottom" fmla="*/ 5791680 h 5791320"/>
            </a:gdLst>
            <a:ahLst/>
            <a:rect l="textAreaLeft" t="textAreaTop" r="textAreaRight" b="textAreaBottom"/>
            <a:pathLst>
              <a:path w="2736" h="3648">
                <a:moveTo>
                  <a:pt x="0" y="3648"/>
                </a:moveTo>
                <a:lnTo>
                  <a:pt x="720" y="2016"/>
                </a:lnTo>
                <a:lnTo>
                  <a:pt x="2736" y="672"/>
                </a:lnTo>
                <a:lnTo>
                  <a:pt x="2736" y="720"/>
                </a:lnTo>
                <a:lnTo>
                  <a:pt x="744" y="2038"/>
                </a:lnTo>
                <a:lnTo>
                  <a:pt x="48" y="3648"/>
                </a:lnTo>
                <a:lnTo>
                  <a:pt x="0" y="3648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Полилиния 18"/>
          <p:cNvSpPr/>
          <p:nvPr/>
        </p:nvSpPr>
        <p:spPr>
          <a:xfrm>
            <a:off x="374760" y="0"/>
            <a:ext cx="5513400" cy="6615000"/>
          </a:xfrm>
          <a:custGeom>
            <a:avLst/>
            <a:gdLst>
              <a:gd name="textAreaLeft" fmla="*/ 0 w 5513400"/>
              <a:gd name="textAreaRight" fmla="*/ 5513760 w 5513400"/>
              <a:gd name="textAreaTop" fmla="*/ 0 h 6615000"/>
              <a:gd name="textAreaBottom" fmla="*/ 6615360 h 6615000"/>
            </a:gdLst>
            <a:ahLst/>
            <a:rect l="textAreaLeft" t="textAreaTop" r="textAreaRight" b="textAreaBottom"/>
            <a:pathLst>
              <a:path w="3504" h="4128">
                <a:moveTo>
                  <a:pt x="0" y="4080"/>
                </a:moveTo>
                <a:lnTo>
                  <a:pt x="0" y="4128"/>
                </a:lnTo>
                <a:lnTo>
                  <a:pt x="3504" y="2640"/>
                </a:lnTo>
                <a:lnTo>
                  <a:pt x="2880" y="0"/>
                </a:lnTo>
                <a:lnTo>
                  <a:pt x="2832" y="0"/>
                </a:lnTo>
                <a:lnTo>
                  <a:pt x="3465" y="2619"/>
                </a:lnTo>
                <a:lnTo>
                  <a:pt x="0" y="4080"/>
                </a:lnTo>
                <a:close/>
              </a:path>
            </a:pathLst>
          </a:custGeom>
          <a:noFill/>
          <a:ln w="3240">
            <a:solidFill>
              <a:srgbClr val="ea157a">
                <a:alpha val="5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Полилиния 19"/>
          <p:cNvSpPr/>
          <p:nvPr/>
        </p:nvSpPr>
        <p:spPr>
          <a:xfrm rot="5236200">
            <a:off x="4461120" y="1483200"/>
            <a:ext cx="4114800" cy="1189080"/>
          </a:xfrm>
          <a:custGeom>
            <a:avLst/>
            <a:gdLst>
              <a:gd name="textAreaLeft" fmla="*/ 0 w 4114800"/>
              <a:gd name="textAreaRight" fmla="*/ 4115160 w 4114800"/>
              <a:gd name="textAreaTop" fmla="*/ 0 h 1189080"/>
              <a:gd name="textAreaBottom" fmla="*/ 1189440 h 118908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Полилиния 20"/>
          <p:cNvSpPr/>
          <p:nvPr/>
        </p:nvSpPr>
        <p:spPr>
          <a:xfrm>
            <a:off x="5943600" y="0"/>
            <a:ext cx="2743200" cy="4267080"/>
          </a:xfrm>
          <a:custGeom>
            <a:avLst/>
            <a:gdLst>
              <a:gd name="textAreaLeft" fmla="*/ 0 w 2743200"/>
              <a:gd name="textAreaRight" fmla="*/ 2743200 w 27432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1728" h="2688">
                <a:moveTo>
                  <a:pt x="1104" y="0"/>
                </a:moveTo>
                <a:lnTo>
                  <a:pt x="1728" y="0"/>
                </a:lnTo>
                <a:lnTo>
                  <a:pt x="0" y="2688"/>
                </a:lnTo>
                <a:lnTo>
                  <a:pt x="110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Полилиния 23"/>
          <p:cNvSpPr/>
          <p:nvPr/>
        </p:nvSpPr>
        <p:spPr>
          <a:xfrm>
            <a:off x="5943600" y="4267080"/>
            <a:ext cx="3200400" cy="11430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016" h="720">
                <a:moveTo>
                  <a:pt x="0" y="0"/>
                </a:moveTo>
                <a:lnTo>
                  <a:pt x="2016" y="240"/>
                </a:lnTo>
                <a:lnTo>
                  <a:pt x="2016" y="720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Полилиния 24"/>
          <p:cNvSpPr/>
          <p:nvPr/>
        </p:nvSpPr>
        <p:spPr>
          <a:xfrm>
            <a:off x="5943600" y="0"/>
            <a:ext cx="1371600" cy="426708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4267080"/>
              <a:gd name="textAreaBottom" fmla="*/ 4267440 h 4267080"/>
            </a:gdLst>
            <a:ahLst/>
            <a:rect l="textAreaLeft" t="textAreaTop" r="textAreaRight" b="textAreaBottom"/>
            <a:pathLst>
              <a:path w="864" h="2688">
                <a:moveTo>
                  <a:pt x="864" y="0"/>
                </a:moveTo>
                <a:lnTo>
                  <a:pt x="0" y="2688"/>
                </a:lnTo>
                <a:lnTo>
                  <a:pt x="768" y="0"/>
                </a:lnTo>
                <a:lnTo>
                  <a:pt x="864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Полилиния 25"/>
          <p:cNvSpPr/>
          <p:nvPr/>
        </p:nvSpPr>
        <p:spPr>
          <a:xfrm>
            <a:off x="5948280" y="4246560"/>
            <a:ext cx="2090880" cy="2611440"/>
          </a:xfrm>
          <a:custGeom>
            <a:avLst/>
            <a:gdLst>
              <a:gd name="textAreaLeft" fmla="*/ 0 w 2090880"/>
              <a:gd name="textAreaRight" fmla="*/ 2091240 w 2090880"/>
              <a:gd name="textAreaTop" fmla="*/ 0 h 2611440"/>
              <a:gd name="textAreaBottom" fmla="*/ 2611800 h 2611440"/>
            </a:gdLst>
            <a:ahLst/>
            <a:rect l="textAreaLeft" t="textAreaTop" r="textAreaRight" b="textAreaBottom"/>
            <a:pathLst>
              <a:path w="1317" h="1645">
                <a:moveTo>
                  <a:pt x="1071" y="1645"/>
                </a:moveTo>
                <a:lnTo>
                  <a:pt x="1317" y="1645"/>
                </a:lnTo>
                <a:lnTo>
                  <a:pt x="0" y="0"/>
                </a:lnTo>
                <a:lnTo>
                  <a:pt x="1071" y="1645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Полилиния 26"/>
          <p:cNvSpPr/>
          <p:nvPr/>
        </p:nvSpPr>
        <p:spPr>
          <a:xfrm>
            <a:off x="5943600" y="4267080"/>
            <a:ext cx="1600200" cy="259092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1008" h="1632">
                <a:moveTo>
                  <a:pt x="1008" y="1632"/>
                </a:moveTo>
                <a:lnTo>
                  <a:pt x="0" y="0"/>
                </a:lnTo>
                <a:lnTo>
                  <a:pt x="960" y="1632"/>
                </a:lnTo>
                <a:lnTo>
                  <a:pt x="1008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Полилиния 27"/>
          <p:cNvSpPr/>
          <p:nvPr/>
        </p:nvSpPr>
        <p:spPr>
          <a:xfrm>
            <a:off x="5943600" y="1371600"/>
            <a:ext cx="3200400" cy="289548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895480"/>
              <a:gd name="textAreaBottom" fmla="*/ 2895840 h 2895480"/>
            </a:gdLst>
            <a:ahLst/>
            <a:rect l="textAreaLeft" t="textAreaTop" r="textAreaRight" b="textAreaBottom"/>
            <a:pathLst>
              <a:path w="2016" h="1824">
                <a:moveTo>
                  <a:pt x="2016" y="0"/>
                </a:moveTo>
                <a:lnTo>
                  <a:pt x="2016" y="144"/>
                </a:lnTo>
                <a:lnTo>
                  <a:pt x="0" y="1824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Полилиния 28"/>
          <p:cNvSpPr/>
          <p:nvPr/>
        </p:nvSpPr>
        <p:spPr>
          <a:xfrm>
            <a:off x="5943600" y="1752480"/>
            <a:ext cx="3200400" cy="2514600"/>
          </a:xfrm>
          <a:custGeom>
            <a:avLst/>
            <a:gdLst>
              <a:gd name="textAreaLeft" fmla="*/ 0 w 3200400"/>
              <a:gd name="textAreaRight" fmla="*/ 3200760 w 320040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16" h="1584">
                <a:moveTo>
                  <a:pt x="2016" y="0"/>
                </a:moveTo>
                <a:lnTo>
                  <a:pt x="0" y="1584"/>
                </a:lnTo>
                <a:lnTo>
                  <a:pt x="2016" y="48"/>
                </a:lnTo>
                <a:lnTo>
                  <a:pt x="2016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Полилиния 29"/>
          <p:cNvSpPr/>
          <p:nvPr/>
        </p:nvSpPr>
        <p:spPr>
          <a:xfrm>
            <a:off x="990720" y="4267080"/>
            <a:ext cx="4952880" cy="2590920"/>
          </a:xfrm>
          <a:custGeom>
            <a:avLst/>
            <a:gdLst/>
            <a:ahLst/>
            <a:rect l="l" t="t" r="r" b="b"/>
            <a:pathLst>
              <a:path w="3120" h="1632">
                <a:moveTo>
                  <a:pt x="0" y="1632"/>
                </a:moveTo>
                <a:lnTo>
                  <a:pt x="3120" y="0"/>
                </a:lnTo>
                <a:lnTo>
                  <a:pt x="1056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Полилиния 30"/>
          <p:cNvSpPr/>
          <p:nvPr/>
        </p:nvSpPr>
        <p:spPr>
          <a:xfrm>
            <a:off x="533520" y="4267080"/>
            <a:ext cx="5333760" cy="2590920"/>
          </a:xfrm>
          <a:custGeom>
            <a:avLst/>
            <a:gdLst>
              <a:gd name="textAreaLeft" fmla="*/ 0 w 5333760"/>
              <a:gd name="textAreaRight" fmla="*/ 5334120 w 533376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3360" h="1632">
                <a:moveTo>
                  <a:pt x="0" y="1632"/>
                </a:moveTo>
                <a:lnTo>
                  <a:pt x="3360" y="0"/>
                </a:lnTo>
                <a:lnTo>
                  <a:pt x="144" y="1632"/>
                </a:lnTo>
                <a:lnTo>
                  <a:pt x="0" y="1632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Полилиния 31"/>
          <p:cNvSpPr/>
          <p:nvPr/>
        </p:nvSpPr>
        <p:spPr>
          <a:xfrm>
            <a:off x="366840" y="2438280"/>
            <a:ext cx="5638680" cy="182880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1828800"/>
              <a:gd name="textAreaBottom" fmla="*/ 1829160 h 1828800"/>
            </a:gdLst>
            <a:ahLst/>
            <a:rect l="textAreaLeft" t="textAreaTop" r="textAreaRight" b="textAreaBottom"/>
            <a:pathLst>
              <a:path w="3552" h="1152">
                <a:moveTo>
                  <a:pt x="0" y="0"/>
                </a:moveTo>
                <a:lnTo>
                  <a:pt x="3504" y="1152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Полилиния 32"/>
          <p:cNvSpPr/>
          <p:nvPr/>
        </p:nvSpPr>
        <p:spPr>
          <a:xfrm>
            <a:off x="366840" y="2133720"/>
            <a:ext cx="5638680" cy="2133360"/>
          </a:xfrm>
          <a:custGeom>
            <a:avLst/>
            <a:gdLst>
              <a:gd name="textAreaLeft" fmla="*/ 0 w 5638680"/>
              <a:gd name="textAreaRight" fmla="*/ 5639040 w 5638680"/>
              <a:gd name="textAreaTop" fmla="*/ 0 h 2133360"/>
              <a:gd name="textAreaBottom" fmla="*/ 2133720 h 2133360"/>
            </a:gdLst>
            <a:ahLst/>
            <a:rect l="textAreaLeft" t="textAreaTop" r="textAreaRight" b="textAreaBottom"/>
            <a:pathLst>
              <a:path w="3552" h="1344">
                <a:moveTo>
                  <a:pt x="0" y="0"/>
                </a:moveTo>
                <a:lnTo>
                  <a:pt x="3552" y="1344"/>
                </a:lnTo>
                <a:lnTo>
                  <a:pt x="0" y="48"/>
                </a:lnTo>
                <a:lnTo>
                  <a:pt x="0" y="0"/>
                </a:lnTo>
                <a:close/>
              </a:path>
            </a:pathLst>
          </a:custGeom>
          <a:solidFill>
            <a:srgbClr val="556989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олилиния 33"/>
          <p:cNvSpPr/>
          <p:nvPr/>
        </p:nvSpPr>
        <p:spPr>
          <a:xfrm>
            <a:off x="4572000" y="4267080"/>
            <a:ext cx="1371600" cy="2590920"/>
          </a:xfrm>
          <a:custGeom>
            <a:avLst/>
            <a:gdLst>
              <a:gd name="textAreaLeft" fmla="*/ 0 w 1371600"/>
              <a:gd name="textAreaRight" fmla="*/ 1371960 w 1371600"/>
              <a:gd name="textAreaTop" fmla="*/ 0 h 2590920"/>
              <a:gd name="textAreaBottom" fmla="*/ 2590920 h 2590920"/>
            </a:gdLst>
            <a:ahLst/>
            <a:rect l="textAreaLeft" t="textAreaTop" r="textAreaRight" b="textAreaBottom"/>
            <a:pathLst>
              <a:path w="864" h="1632">
                <a:moveTo>
                  <a:pt x="0" y="1632"/>
                </a:moveTo>
                <a:lnTo>
                  <a:pt x="96" y="1632"/>
                </a:lnTo>
                <a:lnTo>
                  <a:pt x="864" y="0"/>
                </a:lnTo>
                <a:lnTo>
                  <a:pt x="0" y="1632"/>
                </a:lnTo>
                <a:close/>
              </a:path>
            </a:pathLst>
          </a:custGeom>
          <a:solidFill>
            <a:srgbClr val="58698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Прямоугольник 3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Прямоугольник 35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Прямоугольник 36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Прямоугольник 37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Прямоугольник 38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Прямоугольник 39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4838A-0B67-4109-94B5-547962E106C7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D3ED0-2683-4B63-B9F9-1101EDB4FA9F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606D8-8249-444E-AB94-191735A8AFB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75893-32F2-43A9-92B3-8F9981A7BC22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Прямоугольник 17"/>
          <p:cNvSpPr/>
          <p:nvPr/>
        </p:nvSpPr>
        <p:spPr>
          <a:xfrm>
            <a:off x="0" y="401760"/>
            <a:ext cx="8867880" cy="887400"/>
          </a:xfrm>
          <a:prstGeom prst="rect">
            <a:avLst/>
          </a:prstGeom>
          <a:solidFill>
            <a:srgbClr val="586986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Прямоугольник 18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Прямоугольник 19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Прямоугольник 20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Прямоугольник 23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Прямоугольник 24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Прямоугольник 25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Прямоугольник 26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Прямоугольник 27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Прямоугольник 28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00C3D-AD5D-4981-BA24-E51623A6617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C76E-E3D4-4865-989E-4F7BDD9D206E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75ADC-4C8B-4631-9830-40C83E9CBC25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32518-A2BC-4335-B513-14BB190D11CC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5a77a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Прямоугольник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Прямоугольник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Прямоугольник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feb8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Прямоугольник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4e5b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Прямоугольник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ea15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Прямоугольник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Прямоугольник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Прямоугольник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Прямоугольник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Прямоугольник 1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Прямая соединительная линия 1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5" name="Группа 19"/>
          <p:cNvGrpSpPr/>
          <p:nvPr/>
        </p:nvGrpSpPr>
        <p:grpSpPr>
          <a:xfrm>
            <a:off x="8516880" y="1217520"/>
            <a:ext cx="128160" cy="131400"/>
            <a:chOff x="8516880" y="1217520"/>
            <a:chExt cx="128160" cy="131400"/>
          </a:xfrm>
        </p:grpSpPr>
        <p:sp>
          <p:nvSpPr>
            <p:cNvPr id="316" name="Прямая соединительная линия 20"/>
            <p:cNvSpPr/>
            <p:nvPr/>
          </p:nvSpPr>
          <p:spPr>
            <a:xfrm>
              <a:off x="8574480" y="12175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Прямая соединительная линия 23"/>
            <p:cNvSpPr/>
            <p:nvPr/>
          </p:nvSpPr>
          <p:spPr>
            <a:xfrm>
              <a:off x="8516880" y="12826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Прямая соединительная линия 24"/>
            <p:cNvSpPr/>
            <p:nvPr/>
          </p:nvSpPr>
          <p:spPr>
            <a:xfrm flipV="1">
              <a:off x="8574480" y="12823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9" name="Группа 25"/>
          <p:cNvGrpSpPr/>
          <p:nvPr/>
        </p:nvGrpSpPr>
        <p:grpSpPr>
          <a:xfrm>
            <a:off x="8669520" y="1370160"/>
            <a:ext cx="128520" cy="131400"/>
            <a:chOff x="8669520" y="1370160"/>
            <a:chExt cx="128520" cy="131400"/>
          </a:xfrm>
        </p:grpSpPr>
        <p:sp>
          <p:nvSpPr>
            <p:cNvPr id="320" name="Прямая соединительная линия 26"/>
            <p:cNvSpPr/>
            <p:nvPr/>
          </p:nvSpPr>
          <p:spPr>
            <a:xfrm>
              <a:off x="8727480" y="137016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Прямая соединительная линия 27"/>
            <p:cNvSpPr/>
            <p:nvPr/>
          </p:nvSpPr>
          <p:spPr>
            <a:xfrm>
              <a:off x="8669520" y="143532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Прямая соединительная линия 28"/>
            <p:cNvSpPr/>
            <p:nvPr/>
          </p:nvSpPr>
          <p:spPr>
            <a:xfrm flipV="1">
              <a:off x="8727480" y="143496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3" name="Группа 29"/>
          <p:cNvGrpSpPr/>
          <p:nvPr/>
        </p:nvGrpSpPr>
        <p:grpSpPr>
          <a:xfrm>
            <a:off x="8321760" y="1473120"/>
            <a:ext cx="128160" cy="131400"/>
            <a:chOff x="8321760" y="1473120"/>
            <a:chExt cx="128160" cy="131400"/>
          </a:xfrm>
        </p:grpSpPr>
        <p:sp>
          <p:nvSpPr>
            <p:cNvPr id="324" name="Прямая соединительная линия 30"/>
            <p:cNvSpPr/>
            <p:nvPr/>
          </p:nvSpPr>
          <p:spPr>
            <a:xfrm>
              <a:off x="8379360" y="1473120"/>
              <a:ext cx="70560" cy="651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Прямая соединительная линия 31"/>
            <p:cNvSpPr/>
            <p:nvPr/>
          </p:nvSpPr>
          <p:spPr>
            <a:xfrm>
              <a:off x="8321760" y="1538280"/>
              <a:ext cx="997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Прямая соединительная линия 32"/>
            <p:cNvSpPr/>
            <p:nvPr/>
          </p:nvSpPr>
          <p:spPr>
            <a:xfrm flipV="1">
              <a:off x="8379360" y="1537920"/>
              <a:ext cx="70560" cy="6660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1eeff"/>
                </a:solidFill>
                <a:latin typeface="Consolas"/>
              </a:rPr>
              <a:t>Click to edit the title text format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1" marL="739800" indent="-285840">
              <a:spcBef>
                <a:spcPts val="700"/>
              </a:spcBef>
              <a:buClr>
                <a:srgbClr val="ea157a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spcBef>
                <a:spcPts val="700"/>
              </a:spcBef>
              <a:buClr>
                <a:srgbClr val="ea157a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3" marL="1260360" indent="-228600">
              <a:spcBef>
                <a:spcPts val="700"/>
              </a:spcBef>
              <a:buClr>
                <a:srgbClr val="feb80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4" marL="1481040" indent="-209520">
              <a:spcBef>
                <a:spcPts val="700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dt" idx="19"/>
          </p:nvPr>
        </p:nvSpPr>
        <p:spPr>
          <a:xfrm>
            <a:off x="6477120" y="55080"/>
            <a:ext cx="2133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2E46-DF5D-4930-917E-73ABFE61545E}" type="datetime">
              <a:rPr b="0" lang="ru-RU" sz="1100" spc="-1" strike="noStrike">
                <a:solidFill>
                  <a:srgbClr val="d6ecff"/>
                </a:solidFill>
                <a:latin typeface="Corbel"/>
              </a:rPr>
              <a:t>28.07.26</a:t>
            </a:fld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ftr" idx="20"/>
          </p:nvPr>
        </p:nvSpPr>
        <p:spPr>
          <a:xfrm>
            <a:off x="914400" y="55080"/>
            <a:ext cx="5562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 type="sldNum" idx="21"/>
          </p:nvPr>
        </p:nvSpPr>
        <p:spPr>
          <a:xfrm>
            <a:off x="8610480" y="5508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6ecff"/>
                </a:solidFill>
                <a:latin typeface="Corbe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B6385-FED1-4528-AF02-8E49448F975D}" type="slidenum">
              <a:rPr b="0" lang="ru-RU" sz="1200" spc="-1" strike="noStrike">
                <a:solidFill>
                  <a:srgbClr val="d6ecff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10.png"/><Relationship Id="rId12" Type="http://schemas.openxmlformats.org/officeDocument/2006/relationships/image" Target="../media/image7.png"/><Relationship Id="rId13" Type="http://schemas.openxmlformats.org/officeDocument/2006/relationships/image" Target="../media/image11.png"/><Relationship Id="rId14" Type="http://schemas.openxmlformats.org/officeDocument/2006/relationships/image" Target="../media/image11.png"/><Relationship Id="rId15" Type="http://schemas.openxmlformats.org/officeDocument/2006/relationships/image" Target="../media/image12.png"/><Relationship Id="rId16" Type="http://schemas.openxmlformats.org/officeDocument/2006/relationships/image" Target="../media/image12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2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4.png"/><Relationship Id="rId23" Type="http://schemas.openxmlformats.org/officeDocument/2006/relationships/slideLayout" Target="../slideLayouts/slideLayout1.xml"/><Relationship Id="rId2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Заголовок 1" descr=""/>
          <p:cNvPicPr/>
          <p:nvPr/>
        </p:nvPicPr>
        <p:blipFill>
          <a:blip r:embed="rId1"/>
          <a:stretch/>
        </p:blipFill>
        <p:spPr>
          <a:xfrm>
            <a:off x="689040" y="4243320"/>
            <a:ext cx="7997760" cy="207828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subTitle"/>
          </p:nvPr>
        </p:nvSpPr>
        <p:spPr>
          <a:xfrm>
            <a:off x="914400" y="2835000"/>
            <a:ext cx="7772400" cy="1508040"/>
          </a:xfrm>
          <a:prstGeom prst="rect">
            <a:avLst/>
          </a:prstGeom>
          <a:noFill/>
          <a:ln w="0">
            <a:noFill/>
          </a:ln>
        </p:spPr>
        <p:txBody>
          <a:bodyPr lIns="10044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кономика 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10 класс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77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856800" y="2714760"/>
            <a:ext cx="7944120" cy="39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ТИМУЛ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Фирмы, не способные совершенствовать технологию, снижать затраты на производство продукции и улучшать ее качество, перестают получать прибыль и даже терпят убытки. Поэтому для частного предприятия снижение издержек является вопросом его выживаемости в условиях рыночной экономики. Рынок стимулирует технический прогресс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2" name="Picture 2" descr="I:\Энциклопедия\Э Экономические системы\картинки\motivations_0.jpg"/>
          <p:cNvPicPr/>
          <p:nvPr/>
        </p:nvPicPr>
        <p:blipFill>
          <a:blip r:embed="rId1"/>
          <a:stretch/>
        </p:blipFill>
        <p:spPr>
          <a:xfrm>
            <a:off x="4979880" y="-103320"/>
            <a:ext cx="4260960" cy="3419640"/>
          </a:xfrm>
          <a:prstGeom prst="rect">
            <a:avLst/>
          </a:prstGeom>
          <a:ln w="0">
            <a:noFill/>
          </a:ln>
        </p:spPr>
      </p:pic>
      <p:sp>
        <p:nvSpPr>
          <p:cNvPr id="54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428400" y="1784520"/>
            <a:ext cx="47862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АНИРУЮЩАЯ: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ынок очищает общественное производство от экономически неустойчивых, нежизнеспособных хозяйственных единиц и, напротив, дает зеленый свет более предприимчивым и эффективным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46" name="Picture 2" descr="I:\Энциклопедия\Э Экономические системы\картинки\575cd7580e7d250c857f8dbf33e159d8_full.jpg"/>
          <p:cNvPicPr/>
          <p:nvPr/>
        </p:nvPicPr>
        <p:blipFill>
          <a:blip r:embed="rId1"/>
          <a:stretch/>
        </p:blipFill>
        <p:spPr>
          <a:xfrm>
            <a:off x="5214960" y="2071800"/>
            <a:ext cx="3809880" cy="303840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  <p:sp>
        <p:nvSpPr>
          <p:cNvPr id="54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Работа в группах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914400" y="178416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риведите примеры каждой из функций рынка в действ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50" name="Picture 2" descr="I:\Энциклопедия\Э Экономические системы\картинки\1.jpg"/>
          <p:cNvPicPr/>
          <p:nvPr/>
        </p:nvPicPr>
        <p:blipFill>
          <a:blip r:embed="rId1"/>
          <a:stretch/>
        </p:blipFill>
        <p:spPr>
          <a:xfrm>
            <a:off x="1066680" y="2511360"/>
            <a:ext cx="7266240" cy="6321600"/>
          </a:xfrm>
          <a:prstGeom prst="rect">
            <a:avLst/>
          </a:prstGeom>
          <a:ln w="0">
            <a:noFill/>
          </a:ln>
        </p:spPr>
      </p:pic>
      <p:sp>
        <p:nvSpPr>
          <p:cNvPr id="551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 чем идет речь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3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......... – жизнь торговли и смерть торговцев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7d0e9"/>
                </a:solidFill>
                <a:latin typeface="Corbel"/>
              </a:rPr>
              <a:t>........... обеспечивает наилучшее качество продуктов и развивает наихудшие качества людей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7a1ca"/>
                </a:solidFill>
                <a:latin typeface="Corbel"/>
              </a:rPr>
              <a:t>Там, где нет .............., спится лучше, но живется хуж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4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428400" y="1356840"/>
            <a:ext cx="871524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Рыбы в море поступают, как люди на земле: большие поедают малых.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d6ecff"/>
                </a:solidFill>
                <a:latin typeface="Corbel"/>
              </a:rPr>
              <a:t>У. Шекспир 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КОНКУРЕНЦИЯ – жизнь торговли и смерть торговцев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a7d6ff"/>
                </a:solidFill>
                <a:latin typeface="Corbel"/>
              </a:rPr>
              <a:t>Элберт Хаббард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c7d0e9"/>
                </a:solidFill>
                <a:latin typeface="Corbel"/>
              </a:rPr>
              <a:t>КОНКУРЕНЦИЯ обеспечивает наилучшее качество продуктов и развивает наихудшие качества люд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7d0e9"/>
                </a:solidFill>
                <a:latin typeface="Corbel"/>
              </a:rPr>
              <a:t>Дэвид Сарнофф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 algn="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6280" indent="-321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7a1ca"/>
                </a:solidFill>
                <a:latin typeface="Corbel"/>
              </a:rPr>
              <a:t>Там, где нет КОНКУРЕНЦИИ, спится лучше, но живется хуже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5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Picture 2" descr="I:\Энциклопедия\Э Экономические системы\картинки\f_14765182.jpg"/>
          <p:cNvPicPr/>
          <p:nvPr/>
        </p:nvPicPr>
        <p:blipFill>
          <a:blip r:embed="rId1"/>
          <a:stretch/>
        </p:blipFill>
        <p:spPr>
          <a:xfrm>
            <a:off x="122400" y="1974960"/>
            <a:ext cx="2792160" cy="788832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Конкуренц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2499840" y="1599840"/>
            <a:ext cx="61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Это борьба между производителями товаров и услуг за рынки сбыта своей продукции и за получение дохода от ее продаж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Corbel"/>
              </a:rPr>
              <a:t>Задание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ffffff"/>
                </a:solidFill>
                <a:uFillTx/>
                <a:latin typeface="Corbel"/>
              </a:rPr>
              <a:t>Выявите положительные черты конкуренции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очной экономики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64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ая экономика свободной конкуренции (чист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Современная рыночная экономика (современный капитализм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стиндустриальное общество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65" name="TextBox 3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V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Місце для нижнього колонтитула 4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652720" y="25200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Чистый капитализм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68" name="Picture 2" descr="I:\Энциклопедия\Э Экономические системы\картинки\capitalism_XIX_preview.jpg"/>
          <p:cNvPicPr/>
          <p:nvPr/>
        </p:nvPicPr>
        <p:blipFill>
          <a:blip r:embed="rId1"/>
          <a:stretch/>
        </p:blipFill>
        <p:spPr>
          <a:xfrm>
            <a:off x="-274680" y="-255600"/>
            <a:ext cx="6121440" cy="7405560"/>
          </a:xfrm>
          <a:prstGeom prst="rect">
            <a:avLst/>
          </a:prstGeom>
          <a:ln w="0">
            <a:noFill/>
          </a:ln>
        </p:spPr>
      </p:pic>
      <p:sp>
        <p:nvSpPr>
          <p:cNvPr id="569" name="TextBox 5"/>
          <p:cNvSpPr/>
          <p:nvPr/>
        </p:nvSpPr>
        <p:spPr>
          <a:xfrm>
            <a:off x="5715000" y="1500120"/>
            <a:ext cx="3286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Эта система сложилась в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VIII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веке и прекратила свое существование в конце </a:t>
            </a:r>
            <a:r>
              <a:rPr b="0" lang="en-US" sz="2000" spc="-1" strike="noStrike">
                <a:solidFill>
                  <a:srgbClr val="ffffff"/>
                </a:solidFill>
                <a:latin typeface="Corbel"/>
              </a:rPr>
              <a:t>XIX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– первых десятилетиях ХХ 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  </a:t>
            </a: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Значительная часть ее элементов вошла в современную рыночную систем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астная собственность на экономические ресурсы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чный механизм регулирования макроэкономической деятельности, основанный на свободной конкуренции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Наличие множества самостоятельно действующих покупателей и продавцов каждого товар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7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5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5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временный капитализ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5" name=""/>
          <p:cNvSpPr txBox="1"/>
          <p:nvPr/>
        </p:nvSpPr>
        <p:spPr>
          <a:xfrm>
            <a:off x="5143320" y="1599840"/>
            <a:ext cx="378612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orbel"/>
              </a:rPr>
              <a:t>В ходе длительной эволюции, преимущественно в ХХ веке, рыночная экономика свободной конкуренции превратилась в современную рыночную экономику.</a:t>
            </a:r>
            <a:endParaRPr b="0" lang="en-US" sz="24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76" name="Picture 2" descr="I:\Энциклопедия\Э Экономические системы\картинки\295536.jpg"/>
          <p:cNvPicPr/>
          <p:nvPr/>
        </p:nvPicPr>
        <p:blipFill>
          <a:blip r:embed="rId1"/>
          <a:stretch/>
        </p:blipFill>
        <p:spPr>
          <a:xfrm>
            <a:off x="73080" y="1494000"/>
            <a:ext cx="5200560" cy="5016240"/>
          </a:xfrm>
          <a:prstGeom prst="rect">
            <a:avLst/>
          </a:prstGeom>
          <a:ln w="0">
            <a:noFill/>
          </a:ln>
        </p:spPr>
      </p:pic>
      <p:sp>
        <p:nvSpPr>
          <p:cNvPr id="577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ка домашнего задания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акие черты характеризуют административно-плановую систем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Почему административно-плановая система оказалась неэффективной, маловосприимчивой к научно-техническому прогрессу?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Заполните схему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тличительные черты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79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Многообразие форм собственности, среди которых по-прежнему ведущее место занимает частная собственность в различных ее видах (от трудовой индивидуальной до крупной, корпоративной)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азвертывание научно-технической революции, ускорившей создание мощной производственной и социальной инфраструкту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98520" indent="-33228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Более активное воздействие государства на развитие национальной экономики и социальной сфер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5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5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остиндустриальное общество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2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зменение структуры производства и потребления, преимущественно за счет возрастания роли услуг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ост уровня образования, прежде всего за счет послешкольного. 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Новое отношение к труду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вышение внимания к окружающей сред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уманизация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Информатизация обще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Ренессанс малого бизнес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лобализация хозяйственной деятельност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3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Виды рынков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экономическому назначению объектов рыночных отношений: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 рынок товаров и услуг, рынок недвижимости, рынок труда, рынок ценных бумаг, денежный рынок и рынок капитала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географическому положению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местный, национальный, мировой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390240" indent="-32544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7a1ca"/>
                </a:solidFill>
                <a:uFillTx/>
                <a:latin typeface="Corbel"/>
              </a:rPr>
              <a:t>По отрасля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рынок зерна, хлопка, автомобилей, компьютеров и т.д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2000"/>
                                        <p:tgtEl>
                                          <p:spTgt spid="5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nodeType="clickEffect" fill="hold">
                      <p:stCondLst>
                        <p:cond delay="indefinite"/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5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5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Модели в рамках систем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Для каждой системы характерны свои национальные модели организации хозяйства, так как страны различаются своеобразием истории, уровнем экономического развития, социальными и национальными условиям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orbel"/>
              </a:rPr>
              <a:t>Вопрос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Corbel"/>
              </a:rPr>
              <a:t>Зачем необходимо изучать национальные экономические модели?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8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вои знания!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1" name="Содержимое 2" descr=""/>
          <p:cNvPicPr/>
          <p:nvPr/>
        </p:nvPicPr>
        <p:blipFill>
          <a:blip r:embed="rId1"/>
          <a:stretch/>
        </p:blipFill>
        <p:spPr>
          <a:xfrm>
            <a:off x="878040" y="1712880"/>
            <a:ext cx="7875360" cy="4645080"/>
          </a:xfrm>
          <a:prstGeom prst="rect">
            <a:avLst/>
          </a:prstGeom>
          <a:ln w="0">
            <a:noFill/>
          </a:ln>
        </p:spPr>
      </p:pic>
      <p:sp>
        <p:nvSpPr>
          <p:cNvPr id="59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Оцените свою работу на урок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94" name="Содержимое 3" descr=""/>
          <p:cNvPicPr/>
          <p:nvPr/>
        </p:nvPicPr>
        <p:blipFill>
          <a:blip r:embed="rId1"/>
          <a:stretch/>
        </p:blipFill>
        <p:spPr>
          <a:xfrm>
            <a:off x="847800" y="1719360"/>
            <a:ext cx="7905600" cy="3004920"/>
          </a:xfrm>
          <a:prstGeom prst="rect">
            <a:avLst/>
          </a:prstGeom>
          <a:ln w="0">
            <a:noFill/>
          </a:ln>
        </p:spPr>
      </p:pic>
      <p:sp>
        <p:nvSpPr>
          <p:cNvPr id="59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машнее задание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97" name=""/>
          <p:cNvSpPr txBox="1"/>
          <p:nvPr/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 u="sng">
                <a:solidFill>
                  <a:srgbClr val="ffffff"/>
                </a:solidFill>
                <a:uFillTx/>
                <a:latin typeface="Corbel"/>
              </a:rPr>
              <a:t>По группам: </a:t>
            </a: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характеристика национальных моделей рыночной экономики: США, Швеция, Германия, Япония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Конспект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Учебник: глава 2, пункт 3. 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Вопросы 3-6 (устно)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59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Америка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2714400" y="1599840"/>
            <a:ext cx="59720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Построена на системе всемерного поощрения предпринимательской активности, обогащения наиболее активной части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снована на высоком уровне производительности труда и массовой ориентации на достижение личного успех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енное воздействие, направленное на поддержание стабильной конъюнктуры и экономического равновес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1" name="Picture 2" descr="I:\Энциклопедия\Э Экономические системы\картинки\45270508_EdwardMoranUnveilingTheStatueofLiberty1886Large.jpg"/>
          <p:cNvPicPr/>
          <p:nvPr/>
        </p:nvPicPr>
        <p:blipFill>
          <a:blip r:embed="rId1"/>
          <a:stretch/>
        </p:blipFill>
        <p:spPr>
          <a:xfrm>
            <a:off x="214200" y="1357200"/>
            <a:ext cx="2214720" cy="54579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2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Швед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3642840" y="1599840"/>
            <a:ext cx="5286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ильная социальная политика, ориентированная на сокращение имущественного неравенства за счет перераспределения национального дохода в пользу наименее обеспеченных слоев населения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«Функциональная социализация»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5" name="Picture 2" descr="I:\Энциклопедия\Э Экономические системы\картинки\630px-Sweden_greater_coa1908-modern.png"/>
          <p:cNvPicPr/>
          <p:nvPr/>
        </p:nvPicPr>
        <p:blipFill>
          <a:blip r:embed="rId1"/>
          <a:stretch/>
        </p:blipFill>
        <p:spPr>
          <a:xfrm>
            <a:off x="142920" y="2071800"/>
            <a:ext cx="3305160" cy="314316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06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Социальное рыночное хозяйство ФРГ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3785760" y="1599840"/>
            <a:ext cx="4900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Все формы хозяйствования получают возможность устойчивого развития. При этом особым покровительством пользуются мелкие и средние предприятия, фермерские хозяйств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78000" indent="-3150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Государство активно влияет на цены, пошлины, технические нормы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09" name="Picture 2" descr="I:\Энциклопедия\Э Экономические системы\картинки\201335_001frg8r.jpg"/>
          <p:cNvPicPr/>
          <p:nvPr/>
        </p:nvPicPr>
        <p:blipFill>
          <a:blip r:embed="rId1"/>
          <a:stretch/>
        </p:blipFill>
        <p:spPr>
          <a:xfrm>
            <a:off x="285840" y="1643040"/>
            <a:ext cx="3360600" cy="471492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0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Дополните схему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382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383" name="AutoShape 15"/>
            <p:cNvGrpSpPr/>
            <p:nvPr/>
          </p:nvGrpSpPr>
          <p:grpSpPr>
            <a:xfrm>
              <a:off x="2160000" y="1700280"/>
              <a:ext cx="4897440" cy="855360"/>
              <a:chOff x="2160000" y="1700280"/>
              <a:chExt cx="4897440" cy="855360"/>
            </a:xfrm>
          </p:grpSpPr>
          <p:pic>
            <p:nvPicPr>
              <p:cNvPr id="384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60000" y="1700280"/>
                <a:ext cx="48974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5" name="Text Box 5"/>
              <p:cNvSpPr/>
              <p:nvPr/>
            </p:nvSpPr>
            <p:spPr>
              <a:xfrm>
                <a:off x="2280240" y="1815120"/>
                <a:ext cx="465516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AutoShape 17"/>
            <p:cNvGrpSpPr/>
            <p:nvPr/>
          </p:nvGrpSpPr>
          <p:grpSpPr>
            <a:xfrm>
              <a:off x="971640" y="2819520"/>
              <a:ext cx="2120040" cy="831960"/>
              <a:chOff x="971640" y="2819520"/>
              <a:chExt cx="2120040" cy="831960"/>
            </a:xfrm>
          </p:grpSpPr>
          <p:pic>
            <p:nvPicPr>
              <p:cNvPr id="387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88" name=""/>
              <p:cNvSpPr/>
              <p:nvPr/>
            </p:nvSpPr>
            <p:spPr>
              <a:xfrm>
                <a:off x="108000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9" name="AutoShape 18"/>
            <p:cNvGrpSpPr/>
            <p:nvPr/>
          </p:nvGrpSpPr>
          <p:grpSpPr>
            <a:xfrm>
              <a:off x="2231640" y="3845160"/>
              <a:ext cx="4825800" cy="861480"/>
              <a:chOff x="2231640" y="3845160"/>
              <a:chExt cx="4825800" cy="861480"/>
            </a:xfrm>
          </p:grpSpPr>
          <p:pic>
            <p:nvPicPr>
              <p:cNvPr id="390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31640" y="3845160"/>
                <a:ext cx="4825800" cy="86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1" name="Text Box 11"/>
              <p:cNvSpPr/>
              <p:nvPr/>
            </p:nvSpPr>
            <p:spPr>
              <a:xfrm>
                <a:off x="2350440" y="3962880"/>
                <a:ext cx="45864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2" name="AutoShape 19"/>
            <p:cNvGrpSpPr/>
            <p:nvPr/>
          </p:nvGrpSpPr>
          <p:grpSpPr>
            <a:xfrm>
              <a:off x="3724920" y="2819520"/>
              <a:ext cx="2120040" cy="831960"/>
              <a:chOff x="3724920" y="2819520"/>
              <a:chExt cx="2120040" cy="831960"/>
            </a:xfrm>
          </p:grpSpPr>
          <p:pic>
            <p:nvPicPr>
              <p:cNvPr id="393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4920" y="2819520"/>
                <a:ext cx="2120040" cy="83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4" name=""/>
              <p:cNvSpPr/>
              <p:nvPr/>
            </p:nvSpPr>
            <p:spPr>
              <a:xfrm>
                <a:off x="3831120" y="2923200"/>
                <a:ext cx="1906200" cy="62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5" name="AutoShape 20"/>
            <p:cNvGrpSpPr/>
            <p:nvPr/>
          </p:nvGrpSpPr>
          <p:grpSpPr>
            <a:xfrm>
              <a:off x="6466320" y="2807640"/>
              <a:ext cx="2138040" cy="855360"/>
              <a:chOff x="6466320" y="2807640"/>
              <a:chExt cx="2138040" cy="855360"/>
            </a:xfrm>
          </p:grpSpPr>
          <p:pic>
            <p:nvPicPr>
              <p:cNvPr id="396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66320" y="2807640"/>
                <a:ext cx="213804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97" name="Text Box 17"/>
              <p:cNvSpPr/>
              <p:nvPr/>
            </p:nvSpPr>
            <p:spPr>
              <a:xfrm>
                <a:off x="6582600" y="2923200"/>
                <a:ext cx="1906200" cy="624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98" name="AutoShape 21"/>
            <p:cNvGrpSpPr/>
            <p:nvPr/>
          </p:nvGrpSpPr>
          <p:grpSpPr>
            <a:xfrm>
              <a:off x="2231640" y="5023080"/>
              <a:ext cx="4825800" cy="855360"/>
              <a:chOff x="2231640" y="5023080"/>
              <a:chExt cx="4825800" cy="855360"/>
            </a:xfrm>
          </p:grpSpPr>
          <p:pic>
            <p:nvPicPr>
              <p:cNvPr id="399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1640" y="5023080"/>
                <a:ext cx="4825800" cy="855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Text Box 20"/>
              <p:cNvSpPr/>
              <p:nvPr/>
            </p:nvSpPr>
            <p:spPr>
              <a:xfrm>
                <a:off x="2350080" y="5139000"/>
                <a:ext cx="4585320" cy="625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000000"/>
                    </a:solidFill>
                    <a:latin typeface="Corbel"/>
                  </a:rPr>
                  <a:t>?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1" name="AutoShape 22"/>
            <p:cNvGrpSpPr/>
            <p:nvPr/>
          </p:nvGrpSpPr>
          <p:grpSpPr>
            <a:xfrm>
              <a:off x="2452680" y="2327040"/>
              <a:ext cx="364320" cy="703080"/>
              <a:chOff x="2452680" y="2327040"/>
              <a:chExt cx="364320" cy="703080"/>
            </a:xfrm>
          </p:grpSpPr>
          <p:pic>
            <p:nvPicPr>
              <p:cNvPr id="402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5268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>
                <a:off x="258048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AutoShape 23"/>
            <p:cNvGrpSpPr/>
            <p:nvPr/>
          </p:nvGrpSpPr>
          <p:grpSpPr>
            <a:xfrm>
              <a:off x="4423680" y="2327040"/>
              <a:ext cx="370080" cy="703080"/>
              <a:chOff x="4423680" y="2327040"/>
              <a:chExt cx="370080" cy="703080"/>
            </a:xfrm>
          </p:grpSpPr>
          <p:pic>
            <p:nvPicPr>
              <p:cNvPr id="405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23680" y="232704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6" name=""/>
              <p:cNvSpPr/>
              <p:nvPr/>
            </p:nvSpPr>
            <p:spPr>
              <a:xfrm>
                <a:off x="4555800" y="247464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7" name="AutoShape 24"/>
            <p:cNvGrpSpPr/>
            <p:nvPr/>
          </p:nvGrpSpPr>
          <p:grpSpPr>
            <a:xfrm>
              <a:off x="6537960" y="3434760"/>
              <a:ext cx="370080" cy="697320"/>
              <a:chOff x="6537960" y="3434760"/>
              <a:chExt cx="370080" cy="697320"/>
            </a:xfrm>
          </p:grpSpPr>
          <p:pic>
            <p:nvPicPr>
              <p:cNvPr id="408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37960" y="343476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9" name=""/>
              <p:cNvSpPr/>
              <p:nvPr/>
            </p:nvSpPr>
            <p:spPr>
              <a:xfrm>
                <a:off x="6671160" y="35812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0" name="AutoShape 25"/>
            <p:cNvGrpSpPr/>
            <p:nvPr/>
          </p:nvGrpSpPr>
          <p:grpSpPr>
            <a:xfrm>
              <a:off x="4423680" y="3370320"/>
              <a:ext cx="370080" cy="697320"/>
              <a:chOff x="4423680" y="3370320"/>
              <a:chExt cx="370080" cy="697320"/>
            </a:xfrm>
          </p:grpSpPr>
          <p:pic>
            <p:nvPicPr>
              <p:cNvPr id="411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23680" y="33703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2" name=""/>
              <p:cNvSpPr/>
              <p:nvPr/>
            </p:nvSpPr>
            <p:spPr>
              <a:xfrm>
                <a:off x="4555800" y="351252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3" name="AutoShape 26"/>
            <p:cNvGrpSpPr/>
            <p:nvPr/>
          </p:nvGrpSpPr>
          <p:grpSpPr>
            <a:xfrm>
              <a:off x="2452680" y="3434760"/>
              <a:ext cx="364320" cy="697320"/>
              <a:chOff x="2452680" y="3434760"/>
              <a:chExt cx="364320" cy="697320"/>
            </a:xfrm>
          </p:grpSpPr>
          <p:pic>
            <p:nvPicPr>
              <p:cNvPr id="414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52680" y="343476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5" name=""/>
              <p:cNvSpPr/>
              <p:nvPr/>
            </p:nvSpPr>
            <p:spPr>
              <a:xfrm>
                <a:off x="2580480" y="35812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6" name="AutoShape 27"/>
            <p:cNvGrpSpPr/>
            <p:nvPr/>
          </p:nvGrpSpPr>
          <p:grpSpPr>
            <a:xfrm>
              <a:off x="6472440" y="2327040"/>
              <a:ext cx="364320" cy="703080"/>
              <a:chOff x="6472440" y="2327040"/>
              <a:chExt cx="364320" cy="703080"/>
            </a:xfrm>
          </p:grpSpPr>
          <p:pic>
            <p:nvPicPr>
              <p:cNvPr id="417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72440" y="232704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18" name=""/>
              <p:cNvSpPr/>
              <p:nvPr/>
            </p:nvSpPr>
            <p:spPr>
              <a:xfrm>
                <a:off x="6601320" y="247464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19" name="AutoShape 28"/>
            <p:cNvGrpSpPr/>
            <p:nvPr/>
          </p:nvGrpSpPr>
          <p:grpSpPr>
            <a:xfrm>
              <a:off x="2661840" y="2333160"/>
              <a:ext cx="364320" cy="703080"/>
              <a:chOff x="2661840" y="2333160"/>
              <a:chExt cx="364320" cy="703080"/>
            </a:xfrm>
          </p:grpSpPr>
          <p:pic>
            <p:nvPicPr>
              <p:cNvPr id="420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6184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1" name=""/>
              <p:cNvSpPr/>
              <p:nvPr/>
            </p:nvSpPr>
            <p:spPr>
              <a:xfrm>
                <a:off x="279216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2" name="AutoShape 29"/>
            <p:cNvGrpSpPr/>
            <p:nvPr/>
          </p:nvGrpSpPr>
          <p:grpSpPr>
            <a:xfrm>
              <a:off x="4638600" y="2333160"/>
              <a:ext cx="364320" cy="703080"/>
              <a:chOff x="4638600" y="2333160"/>
              <a:chExt cx="364320" cy="703080"/>
            </a:xfrm>
          </p:grpSpPr>
          <p:pic>
            <p:nvPicPr>
              <p:cNvPr id="423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38600" y="2333160"/>
                <a:ext cx="36432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4" name=""/>
              <p:cNvSpPr/>
              <p:nvPr/>
            </p:nvSpPr>
            <p:spPr>
              <a:xfrm>
                <a:off x="4767120" y="24058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5" name="AutoShape 30"/>
            <p:cNvGrpSpPr/>
            <p:nvPr/>
          </p:nvGrpSpPr>
          <p:grpSpPr>
            <a:xfrm>
              <a:off x="2799000" y="4483800"/>
              <a:ext cx="370080" cy="697320"/>
              <a:chOff x="2799000" y="4483800"/>
              <a:chExt cx="370080" cy="697320"/>
            </a:xfrm>
          </p:grpSpPr>
          <p:pic>
            <p:nvPicPr>
              <p:cNvPr id="426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79900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27" name=""/>
              <p:cNvSpPr/>
              <p:nvPr/>
            </p:nvSpPr>
            <p:spPr>
              <a:xfrm>
                <a:off x="293184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8" name="AutoShape 31"/>
            <p:cNvGrpSpPr/>
            <p:nvPr/>
          </p:nvGrpSpPr>
          <p:grpSpPr>
            <a:xfrm>
              <a:off x="3927960" y="4483800"/>
              <a:ext cx="370080" cy="697320"/>
              <a:chOff x="3927960" y="4483800"/>
              <a:chExt cx="370080" cy="697320"/>
            </a:xfrm>
          </p:grpSpPr>
          <p:pic>
            <p:nvPicPr>
              <p:cNvPr id="429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279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0" name=""/>
              <p:cNvSpPr/>
              <p:nvPr/>
            </p:nvSpPr>
            <p:spPr>
              <a:xfrm>
                <a:off x="406116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1" name="AutoShape 32"/>
            <p:cNvGrpSpPr/>
            <p:nvPr/>
          </p:nvGrpSpPr>
          <p:grpSpPr>
            <a:xfrm>
              <a:off x="5128560" y="4483800"/>
              <a:ext cx="370080" cy="697320"/>
              <a:chOff x="5128560" y="4483800"/>
              <a:chExt cx="370080" cy="697320"/>
            </a:xfrm>
          </p:grpSpPr>
          <p:pic>
            <p:nvPicPr>
              <p:cNvPr id="432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28560" y="448380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3" name=""/>
              <p:cNvSpPr/>
              <p:nvPr/>
            </p:nvSpPr>
            <p:spPr>
              <a:xfrm>
                <a:off x="5260320" y="45514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4" name="AutoShape 33"/>
            <p:cNvGrpSpPr/>
            <p:nvPr/>
          </p:nvGrpSpPr>
          <p:grpSpPr>
            <a:xfrm>
              <a:off x="6191640" y="4483800"/>
              <a:ext cx="364320" cy="697320"/>
              <a:chOff x="6191640" y="4483800"/>
              <a:chExt cx="364320" cy="697320"/>
            </a:xfrm>
          </p:grpSpPr>
          <p:pic>
            <p:nvPicPr>
              <p:cNvPr id="435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1640" y="448380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6" name=""/>
              <p:cNvSpPr/>
              <p:nvPr/>
            </p:nvSpPr>
            <p:spPr>
              <a:xfrm>
                <a:off x="6319800" y="455148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7" name="AutoShape 34"/>
            <p:cNvGrpSpPr/>
            <p:nvPr/>
          </p:nvGrpSpPr>
          <p:grpSpPr>
            <a:xfrm>
              <a:off x="6752880" y="3440520"/>
              <a:ext cx="370080" cy="697320"/>
              <a:chOff x="6752880" y="3440520"/>
              <a:chExt cx="370080" cy="697320"/>
            </a:xfrm>
          </p:grpSpPr>
          <p:pic>
            <p:nvPicPr>
              <p:cNvPr id="438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52880" y="3440520"/>
                <a:ext cx="37008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39" name=""/>
              <p:cNvSpPr/>
              <p:nvPr/>
            </p:nvSpPr>
            <p:spPr>
              <a:xfrm>
                <a:off x="6883920" y="351180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0" name="AutoShape 35"/>
            <p:cNvGrpSpPr/>
            <p:nvPr/>
          </p:nvGrpSpPr>
          <p:grpSpPr>
            <a:xfrm>
              <a:off x="4638600" y="3376080"/>
              <a:ext cx="364320" cy="697320"/>
              <a:chOff x="4638600" y="3376080"/>
              <a:chExt cx="364320" cy="697320"/>
            </a:xfrm>
          </p:grpSpPr>
          <p:pic>
            <p:nvPicPr>
              <p:cNvPr id="441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38600" y="337608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2" name=""/>
              <p:cNvSpPr/>
              <p:nvPr/>
            </p:nvSpPr>
            <p:spPr>
              <a:xfrm>
                <a:off x="4767120" y="34434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3" name="AutoShape 36"/>
            <p:cNvGrpSpPr/>
            <p:nvPr/>
          </p:nvGrpSpPr>
          <p:grpSpPr>
            <a:xfrm>
              <a:off x="2661840" y="3440520"/>
              <a:ext cx="364320" cy="697320"/>
              <a:chOff x="2661840" y="3440520"/>
              <a:chExt cx="364320" cy="697320"/>
            </a:xfrm>
          </p:grpSpPr>
          <p:pic>
            <p:nvPicPr>
              <p:cNvPr id="444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61840" y="3440520"/>
                <a:ext cx="364320" cy="697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5" name=""/>
              <p:cNvSpPr/>
              <p:nvPr/>
            </p:nvSpPr>
            <p:spPr>
              <a:xfrm>
                <a:off x="2792160" y="3511800"/>
                <a:ext cx="10584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6" name="AutoShape 37"/>
            <p:cNvGrpSpPr/>
            <p:nvPr/>
          </p:nvGrpSpPr>
          <p:grpSpPr>
            <a:xfrm>
              <a:off x="6681240" y="2333160"/>
              <a:ext cx="370080" cy="703080"/>
              <a:chOff x="6681240" y="2333160"/>
              <a:chExt cx="370080" cy="703080"/>
            </a:xfrm>
          </p:grpSpPr>
          <p:pic>
            <p:nvPicPr>
              <p:cNvPr id="447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1240" y="2333160"/>
                <a:ext cx="370080" cy="703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48" name=""/>
              <p:cNvSpPr/>
              <p:nvPr/>
            </p:nvSpPr>
            <p:spPr>
              <a:xfrm>
                <a:off x="6812640" y="2405880"/>
                <a:ext cx="105480" cy="48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9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Япон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2" name=""/>
          <p:cNvSpPr txBox="1"/>
          <p:nvPr/>
        </p:nvSpPr>
        <p:spPr>
          <a:xfrm>
            <a:off x="456840" y="1599840"/>
            <a:ext cx="4614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Отставание уровня жизни населения от роста производительности труда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Снижение себестоимости продукции и повышение ее конкурентоспособности на мировом рынке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  <a:p>
            <a:pPr marL="361440" indent="-3013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Corbel"/>
              </a:rPr>
              <a:t>Активная роль государства в модернизации экономики.</a:t>
            </a:r>
            <a:endParaRPr b="0" lang="en-US" sz="28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3" name="Picture 2" descr="I:\Энциклопедия\Э Экономические системы\картинки\862c8ce36e8e.jpg"/>
          <p:cNvPicPr/>
          <p:nvPr/>
        </p:nvPicPr>
        <p:blipFill>
          <a:blip r:embed="rId1"/>
          <a:stretch/>
        </p:blipFill>
        <p:spPr>
          <a:xfrm>
            <a:off x="5357880" y="1571760"/>
            <a:ext cx="3548160" cy="46288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4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Южнокорейская модель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56840" y="1599840"/>
            <a:ext cx="53290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Имеет много общего с японской моделью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Контроль над ценами на ресурсы и широкий круг товаров производственного и потребительского назначения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Южнокорейское государство целенаправленно способствовало созданию крупных финансово-промышленных групп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lnSpc>
                <a:spcPct val="8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Corbel"/>
              </a:rPr>
              <a:t>Поддержка мелкого и среднего предпринимательства, что способствует быстрому образованию среднего класса.</a:t>
            </a:r>
            <a:endParaRPr b="0" lang="en-US" sz="23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617" name="Picture 2" descr="I:\Энциклопедия\Э Экономические системы\картинки\turi_news_1239878957.jpg"/>
          <p:cNvPicPr/>
          <p:nvPr/>
        </p:nvPicPr>
        <p:blipFill>
          <a:blip r:embed="rId1"/>
          <a:stretch/>
        </p:blipFill>
        <p:spPr>
          <a:xfrm>
            <a:off x="6000840" y="1928880"/>
            <a:ext cx="2905200" cy="387828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6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Проверьте себя: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grpSp>
        <p:nvGrpSpPr>
          <p:cNvPr id="451" name="Группа 25"/>
          <p:cNvGrpSpPr/>
          <p:nvPr/>
        </p:nvGrpSpPr>
        <p:grpSpPr>
          <a:xfrm>
            <a:off x="971640" y="1700280"/>
            <a:ext cx="7632720" cy="4178160"/>
            <a:chOff x="971640" y="1700280"/>
            <a:chExt cx="7632720" cy="4178160"/>
          </a:xfrm>
        </p:grpSpPr>
        <p:grpSp>
          <p:nvGrpSpPr>
            <p:cNvPr id="452" name="AutoShape 15"/>
            <p:cNvGrpSpPr/>
            <p:nvPr/>
          </p:nvGrpSpPr>
          <p:grpSpPr>
            <a:xfrm>
              <a:off x="2171160" y="1700280"/>
              <a:ext cx="4887720" cy="850680"/>
              <a:chOff x="2171160" y="1700280"/>
              <a:chExt cx="4887720" cy="850680"/>
            </a:xfrm>
          </p:grpSpPr>
          <p:pic>
            <p:nvPicPr>
              <p:cNvPr id="453" name="AutoShape 15" descr=""/>
              <p:cNvPicPr/>
              <p:nvPr/>
            </p:nvPicPr>
            <p:blipFill>
              <a:blip r:embed="rId1"/>
              <a:stretch/>
            </p:blipFill>
            <p:spPr>
              <a:xfrm>
                <a:off x="2171160" y="1700280"/>
                <a:ext cx="488772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4" name="Text Box 5"/>
              <p:cNvSpPr/>
              <p:nvPr/>
            </p:nvSpPr>
            <p:spPr>
              <a:xfrm>
                <a:off x="2291040" y="1815480"/>
                <a:ext cx="46533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ea157a"/>
                    </a:solidFill>
                    <a:latin typeface="Corbel"/>
                  </a:rPr>
                  <a:t>Госплан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5" name="AutoShape 17"/>
            <p:cNvGrpSpPr/>
            <p:nvPr/>
          </p:nvGrpSpPr>
          <p:grpSpPr>
            <a:xfrm>
              <a:off x="971640" y="2809440"/>
              <a:ext cx="2136240" cy="850680"/>
              <a:chOff x="971640" y="2809440"/>
              <a:chExt cx="2136240" cy="850680"/>
            </a:xfrm>
          </p:grpSpPr>
          <p:pic>
            <p:nvPicPr>
              <p:cNvPr id="456" name="AutoShape 17" descr=""/>
              <p:cNvPicPr/>
              <p:nvPr/>
            </p:nvPicPr>
            <p:blipFill>
              <a:blip r:embed="rId2"/>
              <a:stretch/>
            </p:blipFill>
            <p:spPr>
              <a:xfrm>
                <a:off x="97164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7" name="Text Box 8"/>
              <p:cNvSpPr/>
              <p:nvPr/>
            </p:nvSpPr>
            <p:spPr>
              <a:xfrm>
                <a:off x="109152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Госпланы 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республик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58" name="AutoShape 18"/>
            <p:cNvGrpSpPr/>
            <p:nvPr/>
          </p:nvGrpSpPr>
          <p:grpSpPr>
            <a:xfrm>
              <a:off x="2242800" y="3848040"/>
              <a:ext cx="4816080" cy="856800"/>
              <a:chOff x="2242800" y="3848040"/>
              <a:chExt cx="4816080" cy="856800"/>
            </a:xfrm>
          </p:grpSpPr>
          <p:pic>
            <p:nvPicPr>
              <p:cNvPr id="459" name="AutoShape 18" descr=""/>
              <p:cNvPicPr/>
              <p:nvPr/>
            </p:nvPicPr>
            <p:blipFill>
              <a:blip r:embed="rId3"/>
              <a:stretch/>
            </p:blipFill>
            <p:spPr>
              <a:xfrm>
                <a:off x="2242800" y="3848040"/>
                <a:ext cx="4816080" cy="856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Text Box 11"/>
              <p:cNvSpPr/>
              <p:nvPr/>
            </p:nvSpPr>
            <p:spPr>
              <a:xfrm>
                <a:off x="2361600" y="3965760"/>
                <a:ext cx="458280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Производители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Corbel"/>
                  </a:rPr>
                  <a:t>(государственные предприятия и колхозы)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1" name="AutoShape 19"/>
            <p:cNvGrpSpPr/>
            <p:nvPr/>
          </p:nvGrpSpPr>
          <p:grpSpPr>
            <a:xfrm>
              <a:off x="3722760" y="2809440"/>
              <a:ext cx="2136240" cy="850680"/>
              <a:chOff x="3722760" y="2809440"/>
              <a:chExt cx="2136240" cy="850680"/>
            </a:xfrm>
          </p:grpSpPr>
          <p:pic>
            <p:nvPicPr>
              <p:cNvPr id="462" name="AutoShap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3722760" y="2809440"/>
                <a:ext cx="213624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3" name="Text Box 14"/>
              <p:cNvSpPr/>
              <p:nvPr/>
            </p:nvSpPr>
            <p:spPr>
              <a:xfrm>
                <a:off x="3840840" y="2925000"/>
                <a:ext cx="190476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тдел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естных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органов власти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4" name="AutoShape 20"/>
            <p:cNvGrpSpPr/>
            <p:nvPr/>
          </p:nvGrpSpPr>
          <p:grpSpPr>
            <a:xfrm>
              <a:off x="6473880" y="2809440"/>
              <a:ext cx="2130480" cy="850680"/>
              <a:chOff x="6473880" y="2809440"/>
              <a:chExt cx="2130480" cy="850680"/>
            </a:xfrm>
          </p:grpSpPr>
          <p:pic>
            <p:nvPicPr>
              <p:cNvPr id="465" name="AutoShape 20" descr=""/>
              <p:cNvPicPr/>
              <p:nvPr/>
            </p:nvPicPr>
            <p:blipFill>
              <a:blip r:embed="rId5"/>
              <a:stretch/>
            </p:blipFill>
            <p:spPr>
              <a:xfrm>
                <a:off x="6473880" y="2809440"/>
                <a:ext cx="21304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6" name="Text Box 17"/>
              <p:cNvSpPr/>
              <p:nvPr/>
            </p:nvSpPr>
            <p:spPr>
              <a:xfrm>
                <a:off x="6590160" y="2925000"/>
                <a:ext cx="1905120" cy="62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Плановые органы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министерств 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000000"/>
                    </a:solidFill>
                    <a:latin typeface="Corbel"/>
                  </a:rPr>
                  <a:t>и ведомств</a:t>
                </a:r>
                <a:endParaRPr b="0" lang="en-US" sz="16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67" name="AutoShape 21"/>
            <p:cNvGrpSpPr/>
            <p:nvPr/>
          </p:nvGrpSpPr>
          <p:grpSpPr>
            <a:xfrm>
              <a:off x="2242800" y="5027760"/>
              <a:ext cx="4816080" cy="850680"/>
              <a:chOff x="2242800" y="5027760"/>
              <a:chExt cx="4816080" cy="850680"/>
            </a:xfrm>
          </p:grpSpPr>
          <p:pic>
            <p:nvPicPr>
              <p:cNvPr id="468" name="AutoShape 21" descr=""/>
              <p:cNvPicPr/>
              <p:nvPr/>
            </p:nvPicPr>
            <p:blipFill>
              <a:blip r:embed="rId6"/>
              <a:stretch/>
            </p:blipFill>
            <p:spPr>
              <a:xfrm>
                <a:off x="2242800" y="5027760"/>
                <a:ext cx="4816080" cy="850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9" name="Text Box 20"/>
              <p:cNvSpPr/>
              <p:nvPr/>
            </p:nvSpPr>
            <p:spPr>
              <a:xfrm>
                <a:off x="2361240" y="5144040"/>
                <a:ext cx="4583160" cy="626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435faa"/>
                    </a:solidFill>
                    <a:latin typeface="Corbel"/>
                  </a:rPr>
                  <a:t>Потребительский рынок</a:t>
                </a:r>
                <a:endParaRPr b="0" lang="en-US" sz="3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0" name="AutoShape 22"/>
            <p:cNvGrpSpPr/>
            <p:nvPr/>
          </p:nvGrpSpPr>
          <p:grpSpPr>
            <a:xfrm>
              <a:off x="2463480" y="2328120"/>
              <a:ext cx="363960" cy="704160"/>
              <a:chOff x="2463480" y="2328120"/>
              <a:chExt cx="363960" cy="704160"/>
            </a:xfrm>
          </p:grpSpPr>
          <p:pic>
            <p:nvPicPr>
              <p:cNvPr id="471" name="AutoShape 22" descr=""/>
              <p:cNvPicPr/>
              <p:nvPr/>
            </p:nvPicPr>
            <p:blipFill>
              <a:blip r:embed="rId7"/>
              <a:stretch/>
            </p:blipFill>
            <p:spPr>
              <a:xfrm>
                <a:off x="246348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2" name=""/>
              <p:cNvSpPr/>
              <p:nvPr/>
            </p:nvSpPr>
            <p:spPr>
              <a:xfrm>
                <a:off x="25912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3" name="AutoShape 23"/>
            <p:cNvGrpSpPr/>
            <p:nvPr/>
          </p:nvGrpSpPr>
          <p:grpSpPr>
            <a:xfrm>
              <a:off x="4433040" y="2328120"/>
              <a:ext cx="369720" cy="704160"/>
              <a:chOff x="4433040" y="2328120"/>
              <a:chExt cx="369720" cy="704160"/>
            </a:xfrm>
          </p:grpSpPr>
          <p:pic>
            <p:nvPicPr>
              <p:cNvPr id="474" name="AutoShape 23" descr=""/>
              <p:cNvPicPr/>
              <p:nvPr/>
            </p:nvPicPr>
            <p:blipFill>
              <a:blip r:embed="rId8"/>
              <a:stretch/>
            </p:blipFill>
            <p:spPr>
              <a:xfrm>
                <a:off x="4433040" y="232812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5" name=""/>
              <p:cNvSpPr/>
              <p:nvPr/>
            </p:nvSpPr>
            <p:spPr>
              <a:xfrm>
                <a:off x="456516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6" name="AutoShape 24"/>
            <p:cNvGrpSpPr/>
            <p:nvPr/>
          </p:nvGrpSpPr>
          <p:grpSpPr>
            <a:xfrm>
              <a:off x="6545520" y="3437280"/>
              <a:ext cx="369720" cy="698040"/>
              <a:chOff x="6545520" y="3437280"/>
              <a:chExt cx="369720" cy="698040"/>
            </a:xfrm>
          </p:grpSpPr>
          <p:pic>
            <p:nvPicPr>
              <p:cNvPr id="477" name="AutoShape 24" descr=""/>
              <p:cNvPicPr/>
              <p:nvPr/>
            </p:nvPicPr>
            <p:blipFill>
              <a:blip r:embed="rId9"/>
              <a:stretch/>
            </p:blipFill>
            <p:spPr>
              <a:xfrm>
                <a:off x="6545520" y="343728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8" name=""/>
              <p:cNvSpPr/>
              <p:nvPr/>
            </p:nvSpPr>
            <p:spPr>
              <a:xfrm>
                <a:off x="667836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79" name="AutoShape 25"/>
            <p:cNvGrpSpPr/>
            <p:nvPr/>
          </p:nvGrpSpPr>
          <p:grpSpPr>
            <a:xfrm>
              <a:off x="4433040" y="3372840"/>
              <a:ext cx="369720" cy="698040"/>
              <a:chOff x="4433040" y="3372840"/>
              <a:chExt cx="369720" cy="698040"/>
            </a:xfrm>
          </p:grpSpPr>
          <p:pic>
            <p:nvPicPr>
              <p:cNvPr id="480" name="AutoShape 25" descr=""/>
              <p:cNvPicPr/>
              <p:nvPr/>
            </p:nvPicPr>
            <p:blipFill>
              <a:blip r:embed="rId10"/>
              <a:stretch/>
            </p:blipFill>
            <p:spPr>
              <a:xfrm>
                <a:off x="4433040" y="33728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4565160" y="35150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2" name="AutoShape 26"/>
            <p:cNvGrpSpPr/>
            <p:nvPr/>
          </p:nvGrpSpPr>
          <p:grpSpPr>
            <a:xfrm>
              <a:off x="2463480" y="3437280"/>
              <a:ext cx="363960" cy="698040"/>
              <a:chOff x="2463480" y="3437280"/>
              <a:chExt cx="363960" cy="698040"/>
            </a:xfrm>
          </p:grpSpPr>
          <p:pic>
            <p:nvPicPr>
              <p:cNvPr id="483" name="AutoShape 26" descr=""/>
              <p:cNvPicPr/>
              <p:nvPr/>
            </p:nvPicPr>
            <p:blipFill>
              <a:blip r:embed="rId11"/>
              <a:stretch/>
            </p:blipFill>
            <p:spPr>
              <a:xfrm>
                <a:off x="2463480" y="343728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4" name=""/>
              <p:cNvSpPr/>
              <p:nvPr/>
            </p:nvSpPr>
            <p:spPr>
              <a:xfrm>
                <a:off x="2591280" y="358380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5" name="AutoShape 27"/>
            <p:cNvGrpSpPr/>
            <p:nvPr/>
          </p:nvGrpSpPr>
          <p:grpSpPr>
            <a:xfrm>
              <a:off x="6480000" y="2328120"/>
              <a:ext cx="363960" cy="704160"/>
              <a:chOff x="6480000" y="2328120"/>
              <a:chExt cx="363960" cy="704160"/>
            </a:xfrm>
          </p:grpSpPr>
          <p:pic>
            <p:nvPicPr>
              <p:cNvPr id="486" name="AutoShape 27" descr=""/>
              <p:cNvPicPr/>
              <p:nvPr/>
            </p:nvPicPr>
            <p:blipFill>
              <a:blip r:embed="rId12"/>
              <a:stretch/>
            </p:blipFill>
            <p:spPr>
              <a:xfrm>
                <a:off x="6480000" y="232812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7" name=""/>
              <p:cNvSpPr/>
              <p:nvPr/>
            </p:nvSpPr>
            <p:spPr>
              <a:xfrm>
                <a:off x="6608880" y="247572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8" name="AutoShape 28"/>
            <p:cNvGrpSpPr/>
            <p:nvPr/>
          </p:nvGrpSpPr>
          <p:grpSpPr>
            <a:xfrm>
              <a:off x="2672280" y="2333880"/>
              <a:ext cx="363960" cy="704160"/>
              <a:chOff x="2672280" y="2333880"/>
              <a:chExt cx="363960" cy="704160"/>
            </a:xfrm>
          </p:grpSpPr>
          <p:pic>
            <p:nvPicPr>
              <p:cNvPr id="489" name="AutoShape 28" descr=""/>
              <p:cNvPicPr/>
              <p:nvPr/>
            </p:nvPicPr>
            <p:blipFill>
              <a:blip r:embed="rId13"/>
              <a:stretch/>
            </p:blipFill>
            <p:spPr>
              <a:xfrm>
                <a:off x="267228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280260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1" name="AutoShape 29"/>
            <p:cNvGrpSpPr/>
            <p:nvPr/>
          </p:nvGrpSpPr>
          <p:grpSpPr>
            <a:xfrm>
              <a:off x="4647600" y="2333880"/>
              <a:ext cx="363960" cy="704160"/>
              <a:chOff x="4647600" y="2333880"/>
              <a:chExt cx="363960" cy="704160"/>
            </a:xfrm>
          </p:grpSpPr>
          <p:pic>
            <p:nvPicPr>
              <p:cNvPr id="492" name="AutoShape 29" descr=""/>
              <p:cNvPicPr/>
              <p:nvPr/>
            </p:nvPicPr>
            <p:blipFill>
              <a:blip r:embed="rId14"/>
              <a:stretch/>
            </p:blipFill>
            <p:spPr>
              <a:xfrm>
                <a:off x="4647600" y="2333880"/>
                <a:ext cx="36396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3" name=""/>
              <p:cNvSpPr/>
              <p:nvPr/>
            </p:nvSpPr>
            <p:spPr>
              <a:xfrm>
                <a:off x="477612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4" name="AutoShape 30"/>
            <p:cNvGrpSpPr/>
            <p:nvPr/>
          </p:nvGrpSpPr>
          <p:grpSpPr>
            <a:xfrm>
              <a:off x="2809440" y="4487760"/>
              <a:ext cx="369720" cy="698040"/>
              <a:chOff x="2809440" y="4487760"/>
              <a:chExt cx="369720" cy="698040"/>
            </a:xfrm>
          </p:grpSpPr>
          <p:pic>
            <p:nvPicPr>
              <p:cNvPr id="495" name="AutoShape 30" descr=""/>
              <p:cNvPicPr/>
              <p:nvPr/>
            </p:nvPicPr>
            <p:blipFill>
              <a:blip r:embed="rId15"/>
              <a:stretch/>
            </p:blipFill>
            <p:spPr>
              <a:xfrm>
                <a:off x="280944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6" name=""/>
              <p:cNvSpPr/>
              <p:nvPr/>
            </p:nvSpPr>
            <p:spPr>
              <a:xfrm>
                <a:off x="29422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97" name="AutoShape 31"/>
            <p:cNvGrpSpPr/>
            <p:nvPr/>
          </p:nvGrpSpPr>
          <p:grpSpPr>
            <a:xfrm>
              <a:off x="3937680" y="4487760"/>
              <a:ext cx="369720" cy="698040"/>
              <a:chOff x="3937680" y="4487760"/>
              <a:chExt cx="369720" cy="698040"/>
            </a:xfrm>
          </p:grpSpPr>
          <p:pic>
            <p:nvPicPr>
              <p:cNvPr id="498" name="AutoShape 31" descr=""/>
              <p:cNvPicPr/>
              <p:nvPr/>
            </p:nvPicPr>
            <p:blipFill>
              <a:blip r:embed="rId16"/>
              <a:stretch/>
            </p:blipFill>
            <p:spPr>
              <a:xfrm>
                <a:off x="393768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9" name=""/>
              <p:cNvSpPr/>
              <p:nvPr/>
            </p:nvSpPr>
            <p:spPr>
              <a:xfrm>
                <a:off x="407088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AutoShape 32"/>
            <p:cNvGrpSpPr/>
            <p:nvPr/>
          </p:nvGrpSpPr>
          <p:grpSpPr>
            <a:xfrm>
              <a:off x="5137200" y="4487760"/>
              <a:ext cx="369720" cy="698040"/>
              <a:chOff x="5137200" y="4487760"/>
              <a:chExt cx="369720" cy="698040"/>
            </a:xfrm>
          </p:grpSpPr>
          <p:pic>
            <p:nvPicPr>
              <p:cNvPr id="501" name="AutoShape 32" descr=""/>
              <p:cNvPicPr/>
              <p:nvPr/>
            </p:nvPicPr>
            <p:blipFill>
              <a:blip r:embed="rId17"/>
              <a:stretch/>
            </p:blipFill>
            <p:spPr>
              <a:xfrm>
                <a:off x="5137200" y="448776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2" name=""/>
              <p:cNvSpPr/>
              <p:nvPr/>
            </p:nvSpPr>
            <p:spPr>
              <a:xfrm>
                <a:off x="52689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3" name="AutoShape 33"/>
            <p:cNvGrpSpPr/>
            <p:nvPr/>
          </p:nvGrpSpPr>
          <p:grpSpPr>
            <a:xfrm>
              <a:off x="6199560" y="4487760"/>
              <a:ext cx="363960" cy="698040"/>
              <a:chOff x="6199560" y="4487760"/>
              <a:chExt cx="363960" cy="698040"/>
            </a:xfrm>
          </p:grpSpPr>
          <p:pic>
            <p:nvPicPr>
              <p:cNvPr id="504" name="AutoShape 33" descr=""/>
              <p:cNvPicPr/>
              <p:nvPr/>
            </p:nvPicPr>
            <p:blipFill>
              <a:blip r:embed="rId18"/>
              <a:stretch/>
            </p:blipFill>
            <p:spPr>
              <a:xfrm>
                <a:off x="6199560" y="448776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5" name=""/>
              <p:cNvSpPr/>
              <p:nvPr/>
            </p:nvSpPr>
            <p:spPr>
              <a:xfrm>
                <a:off x="6327360" y="455544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6" name="AutoShape 34"/>
            <p:cNvGrpSpPr/>
            <p:nvPr/>
          </p:nvGrpSpPr>
          <p:grpSpPr>
            <a:xfrm>
              <a:off x="6760440" y="3443040"/>
              <a:ext cx="369720" cy="698040"/>
              <a:chOff x="6760440" y="3443040"/>
              <a:chExt cx="369720" cy="698040"/>
            </a:xfrm>
          </p:grpSpPr>
          <p:pic>
            <p:nvPicPr>
              <p:cNvPr id="507" name="AutoShape 34" descr=""/>
              <p:cNvPicPr/>
              <p:nvPr/>
            </p:nvPicPr>
            <p:blipFill>
              <a:blip r:embed="rId19"/>
              <a:stretch/>
            </p:blipFill>
            <p:spPr>
              <a:xfrm>
                <a:off x="6760440" y="3443040"/>
                <a:ext cx="36972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8" name=""/>
              <p:cNvSpPr/>
              <p:nvPr/>
            </p:nvSpPr>
            <p:spPr>
              <a:xfrm>
                <a:off x="689148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9" name="AutoShape 35"/>
            <p:cNvGrpSpPr/>
            <p:nvPr/>
          </p:nvGrpSpPr>
          <p:grpSpPr>
            <a:xfrm>
              <a:off x="4647600" y="3378600"/>
              <a:ext cx="363960" cy="698040"/>
              <a:chOff x="4647600" y="3378600"/>
              <a:chExt cx="363960" cy="698040"/>
            </a:xfrm>
          </p:grpSpPr>
          <p:pic>
            <p:nvPicPr>
              <p:cNvPr id="510" name="AutoShape 35" descr=""/>
              <p:cNvPicPr/>
              <p:nvPr/>
            </p:nvPicPr>
            <p:blipFill>
              <a:blip r:embed="rId20"/>
              <a:stretch/>
            </p:blipFill>
            <p:spPr>
              <a:xfrm>
                <a:off x="4647600" y="337860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4776120" y="344592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2" name="AutoShape 36"/>
            <p:cNvGrpSpPr/>
            <p:nvPr/>
          </p:nvGrpSpPr>
          <p:grpSpPr>
            <a:xfrm>
              <a:off x="2672280" y="3443040"/>
              <a:ext cx="363960" cy="698040"/>
              <a:chOff x="2672280" y="3443040"/>
              <a:chExt cx="363960" cy="698040"/>
            </a:xfrm>
          </p:grpSpPr>
          <p:pic>
            <p:nvPicPr>
              <p:cNvPr id="513" name="AutoShape 36" descr=""/>
              <p:cNvPicPr/>
              <p:nvPr/>
            </p:nvPicPr>
            <p:blipFill>
              <a:blip r:embed="rId21"/>
              <a:stretch/>
            </p:blipFill>
            <p:spPr>
              <a:xfrm>
                <a:off x="2672280" y="3443040"/>
                <a:ext cx="363960" cy="698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4" name=""/>
              <p:cNvSpPr/>
              <p:nvPr/>
            </p:nvSpPr>
            <p:spPr>
              <a:xfrm>
                <a:off x="2802600" y="3514680"/>
                <a:ext cx="105480" cy="483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5" name="AutoShape 37"/>
            <p:cNvGrpSpPr/>
            <p:nvPr/>
          </p:nvGrpSpPr>
          <p:grpSpPr>
            <a:xfrm>
              <a:off x="6688800" y="2333880"/>
              <a:ext cx="369720" cy="704160"/>
              <a:chOff x="6688800" y="2333880"/>
              <a:chExt cx="369720" cy="704160"/>
            </a:xfrm>
          </p:grpSpPr>
          <p:pic>
            <p:nvPicPr>
              <p:cNvPr id="516" name="AutoShape 37" descr=""/>
              <p:cNvPicPr/>
              <p:nvPr/>
            </p:nvPicPr>
            <p:blipFill>
              <a:blip r:embed="rId22"/>
              <a:stretch/>
            </p:blipFill>
            <p:spPr>
              <a:xfrm>
                <a:off x="6688800" y="2333880"/>
                <a:ext cx="369720" cy="704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7" name=""/>
              <p:cNvSpPr/>
              <p:nvPr/>
            </p:nvSpPr>
            <p:spPr>
              <a:xfrm>
                <a:off x="6819840" y="2406600"/>
                <a:ext cx="105480" cy="484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Что такое рынок?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0" name="Picture 2" descr="I:\Энциклопедия\Э Экономические системы\картинки\marketingovie_skazki.jpg"/>
          <p:cNvPicPr/>
          <p:nvPr/>
        </p:nvPicPr>
        <p:blipFill>
          <a:blip r:embed="rId1"/>
          <a:stretch/>
        </p:blipFill>
        <p:spPr>
          <a:xfrm>
            <a:off x="4986360" y="4175280"/>
            <a:ext cx="4406760" cy="28350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3" descr="I:\Энциклопедия\Э Экономические системы\картинки\gallery_image.jpg"/>
          <p:cNvPicPr/>
          <p:nvPr/>
        </p:nvPicPr>
        <p:blipFill>
          <a:blip r:embed="rId2"/>
          <a:stretch/>
        </p:blipFill>
        <p:spPr>
          <a:xfrm>
            <a:off x="-146160" y="1047600"/>
            <a:ext cx="5340600" cy="3829320"/>
          </a:xfrm>
          <a:prstGeom prst="rect">
            <a:avLst/>
          </a:prstGeom>
          <a:ln w="0">
            <a:noFill/>
          </a:ln>
        </p:spPr>
      </p:pic>
      <p:sp>
        <p:nvSpPr>
          <p:cNvPr id="522" name="TextBox 5"/>
          <p:cNvSpPr/>
          <p:nvPr/>
        </p:nvSpPr>
        <p:spPr>
          <a:xfrm>
            <a:off x="5072040" y="1428840"/>
            <a:ext cx="392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rbel"/>
              </a:rPr>
              <a:t>Место купли-продажи товар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Box 7"/>
          <p:cNvSpPr/>
          <p:nvPr/>
        </p:nvSpPr>
        <p:spPr>
          <a:xfrm>
            <a:off x="500040" y="4786200"/>
            <a:ext cx="4857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bd0e4"/>
                </a:solidFill>
                <a:latin typeface="Corbel"/>
              </a:rPr>
              <a:t>РЫНОК</a:t>
            </a:r>
            <a:r>
              <a:rPr b="0" lang="ru-RU" sz="2000" spc="-1" strike="noStrike">
                <a:solidFill>
                  <a:srgbClr val="fbd0e4"/>
                </a:solidFill>
                <a:latin typeface="Corbel"/>
              </a:rPr>
              <a:t> – это форма контактов между продавцами и покупателями товаров и услуг, недвижимости, ценных бумаг и валюты. На основе этих контактов совершаются сделки купли-продажи предметов торговл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Box 6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5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1eeff"/>
                </a:solidFill>
                <a:latin typeface="Consolas"/>
              </a:rPr>
              <a:t>Причины возникновения рыночной экономики</a:t>
            </a:r>
            <a:endParaRPr b="0" lang="en-US" sz="3600" spc="-1" strike="noStrike">
              <a:solidFill>
                <a:srgbClr val="c1eeff"/>
              </a:solidFill>
              <a:latin typeface="Consolas"/>
            </a:endParaRPr>
          </a:p>
        </p:txBody>
      </p:sp>
      <p:pic>
        <p:nvPicPr>
          <p:cNvPr id="527" name="Содержимое 3" descr=""/>
          <p:cNvPicPr/>
          <p:nvPr/>
        </p:nvPicPr>
        <p:blipFill>
          <a:blip r:embed="rId1"/>
          <a:stretch/>
        </p:blipFill>
        <p:spPr>
          <a:xfrm>
            <a:off x="835200" y="1731960"/>
            <a:ext cx="7924680" cy="4632480"/>
          </a:xfrm>
          <a:prstGeom prst="rect">
            <a:avLst/>
          </a:prstGeom>
          <a:ln w="0">
            <a:noFill/>
          </a:ln>
        </p:spPr>
      </p:pic>
      <p:sp>
        <p:nvSpPr>
          <p:cNvPr id="528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Содержимое 3" descr=""/>
          <p:cNvPicPr/>
          <p:nvPr/>
        </p:nvPicPr>
        <p:blipFill>
          <a:blip r:embed="rId1"/>
          <a:stretch/>
        </p:blipFill>
        <p:spPr>
          <a:xfrm>
            <a:off x="-6480" y="-158760"/>
            <a:ext cx="9156960" cy="7156440"/>
          </a:xfrm>
          <a:prstGeom prst="rect">
            <a:avLst/>
          </a:prstGeom>
          <a:ln w="0">
            <a:noFill/>
          </a:ln>
        </p:spPr>
      </p:pic>
      <p:sp>
        <p:nvSpPr>
          <p:cNvPr id="530" name="TextBox 5"/>
          <p:cNvSpPr/>
          <p:nvPr/>
        </p:nvSpPr>
        <p:spPr>
          <a:xfrm>
            <a:off x="7929720" y="285840"/>
            <a:ext cx="1000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I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Місце для нижнього колонтитула 1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500040" y="1784520"/>
            <a:ext cx="528624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1120" indent="-3427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ИНФОРМАЦИОННАЯ: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  <a:p>
            <a:pPr marL="411120" indent="-342720"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Corbel"/>
              </a:rPr>
              <a:t>Через постоянно меняющиеся цены рынок сообщает производителям, где и какой продукции не хватает и где и какая продукция произведена с избытком.</a:t>
            </a:r>
            <a:endParaRPr b="0" lang="en-US" sz="30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4" name="Picture 3" descr="I:\Энциклопедия\Э Экономические системы\картинки\dayinfo1(2).jpg"/>
          <p:cNvPicPr/>
          <p:nvPr/>
        </p:nvPicPr>
        <p:blipFill>
          <a:blip r:embed="rId1"/>
          <a:stretch/>
        </p:blipFill>
        <p:spPr>
          <a:xfrm>
            <a:off x="6000840" y="1857240"/>
            <a:ext cx="3143160" cy="3981600"/>
          </a:xfrm>
          <a:prstGeom prst="rect">
            <a:avLst/>
          </a:prstGeom>
          <a:ln w="0">
            <a:noFill/>
          </a:ln>
          <a:effectLst>
            <a:outerShdw dist="0" dir="0" blurRad="0" rotWithShape="0">
              <a:srgbClr val="000000">
                <a:alpha val="70000"/>
              </a:srgbClr>
            </a:outerShdw>
          </a:effectLst>
        </p:spPr>
      </p:pic>
      <p:sp>
        <p:nvSpPr>
          <p:cNvPr id="535" name="Місце для нижнього колонтитула 2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1eeff"/>
                </a:solidFill>
                <a:latin typeface="Consolas"/>
              </a:rPr>
              <a:t>Функции рынка</a:t>
            </a:r>
            <a:endParaRPr b="0" lang="en-US" sz="4000" spc="-1" strike="noStrike">
              <a:solidFill>
                <a:srgbClr val="c1eeff"/>
              </a:solidFill>
              <a:latin typeface="Consolas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3643200" y="1784520"/>
            <a:ext cx="52149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82320" indent="-3186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РЕГУЛИРУЮЩАЯ: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  <a:p>
            <a:pPr marL="382320" indent="-318600">
              <a:lnSpc>
                <a:spcPct val="90000"/>
              </a:lnSpc>
              <a:spcBef>
                <a:spcPts val="700"/>
              </a:spcBef>
              <a:buClr>
                <a:srgbClr val="d6ec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rbel"/>
              </a:rPr>
              <a:t>Цены помогают устанавливать пропорциональность в развитии экономики, регулировать распределение ресурсов по отраслям и сферам хозяйства таким образом, чтобы уровень и структура производства были максимально приближены к уровню и структуре потребностей.</a:t>
            </a:r>
            <a:endParaRPr b="0" lang="en-US" sz="2600" spc="-1" strike="noStrike">
              <a:solidFill>
                <a:srgbClr val="ffffff"/>
              </a:solidFill>
              <a:latin typeface="Corbel"/>
            </a:endParaRPr>
          </a:p>
        </p:txBody>
      </p:sp>
      <p:pic>
        <p:nvPicPr>
          <p:cNvPr id="538" name="Picture 2" descr="I:\Энциклопедия\Э Экономические системы\картинки\thumb.jpg"/>
          <p:cNvPicPr/>
          <p:nvPr/>
        </p:nvPicPr>
        <p:blipFill>
          <a:blip r:embed="rId1"/>
          <a:stretch/>
        </p:blipFill>
        <p:spPr>
          <a:xfrm>
            <a:off x="115920" y="1487520"/>
            <a:ext cx="3571920" cy="4529160"/>
          </a:xfrm>
          <a:prstGeom prst="rect">
            <a:avLst/>
          </a:prstGeom>
          <a:ln w="0">
            <a:noFill/>
          </a:ln>
        </p:spPr>
      </p:pic>
      <p:sp>
        <p:nvSpPr>
          <p:cNvPr id="539" name="Місце для нижнього колонтитула 3"/>
          <p:cNvSpPr/>
          <p:nvPr/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d6ecff"/>
                </a:solidFill>
                <a:latin typeface="Corbel"/>
              </a:rPr>
              <a:t>www.sliderpoint.org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3:26Z</dcterms:modified>
  <cp:revision>46</cp:revision>
  <dc:subject/>
  <dc:title>Рынок и его функции</dc:title>
</cp:coreProperties>
</file>