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8.jpeg" ContentType="image/jpeg"/>
  <Override PartName="/ppt/media/image37.jpeg" ContentType="image/jpeg"/>
  <Override PartName="/ppt/media/image30.png" ContentType="image/png"/>
  <Override PartName="/ppt/media/image5.png" ContentType="image/pn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ACA7-AFCD-427D-8136-6BAD8BFF85F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и его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и его фун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 клас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МУЛ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Н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ы каждой из функций рынка в 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 в групп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едите примеры каждой из функций рынка в действ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ем идет ре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 Шексп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...... – жизнь торговли и смерть торгов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берт Хабб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эвид Сарноф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нет .............., спится лучше, но живется ху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чем идет реч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. Шекспи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........ – жизнь торговли и смерть торговце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берт Хаббар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эвид Сарноф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м, где нет .............., спится лучше, но живется хуж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 Шексп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– жизнь торговли и смерть торгов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берт Хабб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эвид Сарноф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нет КОНКУРЕНЦИИ, спится лучше, но живется ху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. Шекспи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 – жизнь торговли и смерть торговце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берт Хаббар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эвид Сарноф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м, где нет КОНКУРЕНЦИИ, спится лучше, но живется хуж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е положительные черты конкур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явите положительные черты конкурен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ыночной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свободной конкуренции (чистый капита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рыночная экономика (современный капита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ндустриаль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рыночной экономи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чная экономика свободной конкуренции (чистый капитализм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ая рыночная экономика (современный капитализм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индустриальное обще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капит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система сложилась в XVIII веке и прекратила свое существование в конце XIX – первых десятилетиях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ая часть ее элементов вошла в современную рыночну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стый капита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система сложилась в XVIII веке и прекратила свое существование в конце XIX – первых десятилетиях ХХ век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чительная часть ее элементов вошла в современную рыночную систем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ч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на экономически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личительные че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ная собственность на экономические ресурс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капит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ый капита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черты характеризуют административно-плановую сист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е сх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домашнего зад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черты характеризуют административно-плановую систем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полните схем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ч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личительные че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ндустриаль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уровня образования, прежде всего за счет послешко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отношение к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внимания к окружающей ср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манизация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зация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ессанс малого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зация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индустриальное обще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уровня образования, прежде всего за счет послешкольн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вое отношение к тру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ышение внимания к окружающей сред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уманизация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тизация обще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нессанс малого бизн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обализация хозяйственной деятель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экономическому назначению объектов рыночных отношений: рынок товаров и услуг, рынок недвижимости, рынок труда, рынок ценных бумаг, денежный рынок и рынок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географическому положению: местный, национальный, ми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раслям: рынок зерна, хлопка, автомобилей, компьютер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рын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экономическому назначению объектов рыночных отношений: рынок товаров и услуг, рынок недвижимости, рынок труда, рынок ценных бумаг, денежный рынок и рынок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географическому положению: местный, национальный, мирово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отраслям: рынок зерна, хлопка, автомобилей, компьютеров и т.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в рамка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еобходимо изучать национальные экономические мод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и в рамках систе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необходимо изучать национальные экономические модел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те свои знан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 – все 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 – 1-2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 – 3-4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2» – больше 4 ошиб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ьте свои знания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1.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2. 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3.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5» – все правиль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4» – 1-2 ошиб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3» – 3-4 ошиб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2» – больше 4 ошиб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свою работу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цените свою работу на уро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группам: характеристика национальных моделей рыночной экономики: США, Швеция, Германия, Япо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п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глава 2, пункт 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3-6 (уст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группам: характеристика национальных моделей рыночной экономики: США, Швеция, Германия, Япо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пек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бник: глава 2, пункт 3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3-6 (устно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мерикан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вед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ункциональная социализац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вед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Функциональная социализация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рыночное хозяйство Ф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активно влияет на цены, пошлины, технические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 рыночное хозяйство ФР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о активно влияет на цены, пошлины, технические но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ополните сх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Дополните схему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вание уровня жизни населения от роста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роль государства в модернизац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пон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ставание уровня жизни населения от роста производительности тру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ая роль государства в модернизации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окорей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много общего с японской модел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жнокорей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много общего с японской модель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оверьте себ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ры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купли-продажи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такое рын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сто купли-продажи това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чины возникновения рыноч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ичины возникновения рыноч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ОНН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C2A-814A-4508-AA31-074CA67E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EA9-F9D6-4BF3-90C3-E66287B5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8E61-EAE6-4462-B9A1-01BFF91F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D0F6-5C8D-4150-BB59-28892254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391E-E271-46D3-B91B-EFC26A86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01F9-4B72-471B-856F-B33B8D7D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A707-9F17-41EE-96C4-8D00A439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3DA7-6579-4848-A8B1-87464FED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2D42-40ED-4698-A91A-AD40E4BB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B59A-BF94-469B-B04C-4C465C90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CF46-7A32-4CA8-9865-0DF50A55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0B03-93E7-4A9E-B4C5-A89AE93A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F9BC-FCD4-4430-A54B-45A37E93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0E32-AD47-45ED-9B47-CBB44442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77B4-E6A8-43E3-BD4E-9B681885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BFFB-8BCE-4516-8C44-6D5E3030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D3CA-6544-4663-B541-337EF25D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D19B8-1E98-47AD-B127-59E0660B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7B078-D199-47F1-8F83-25934923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99EC7-AABC-4172-8C77-1F0A8304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D3339-5FD1-412E-979D-D4E0681E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E38C1-A7F1-4B91-8A08-A86FE388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5E6-C5FE-466E-8A1B-7D374CF1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53D5B-C15D-486C-9A72-166F9349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D6E4F-992D-45E2-A855-60E05EC1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0F589-6631-43C0-8F88-8E9E7E48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8419E-9C20-4328-AD7C-062BDBFD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9143E-14D3-4B74-AD93-FEB693A0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04C53-753C-4DD4-9234-B1ED233F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A7915-A7B9-40FE-8BE1-A36E89A6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A9CC3-4995-46DD-8758-56A3AFD6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EE238-1B48-4A57-A9F8-BE206009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47B9B-0891-47EB-BBF3-BBDF30F3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1D5-AC2D-407C-86F3-4DCD7E39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461CE-0F0A-46DB-AD55-78B53A28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D6DEA-4DA8-4A55-B411-26FF6E94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16D7B-63D1-4CCE-9E98-28E5B304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DF716-39BD-4C6B-9C1B-C2A15DBF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3706F-E55B-4FF0-87A4-F47185BD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E8025-5426-464C-8232-637750DE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2D319-889D-4830-B85E-467C4548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EDE67-CF91-4929-B228-7EA36B5A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C0CC7-F708-47BE-8CF8-E3D5F3D5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99EAB-42E3-4D4D-AE26-19CFAA3D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4BD-944A-49D3-AF67-8AFC9F2A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8ED94-3C8F-476B-AC9E-786A4D79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1269B-5563-4067-A659-77B96050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4B9EE-FB65-46D4-B467-1B7053A0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23428-DB03-4D8D-9B0B-E08E3135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4A174-AD57-45E0-8755-768E0A56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F50CF-D7AE-4C8A-B07B-1B419A94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8EB91-2C56-4FFF-816F-C36D7227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65EC2-DCED-48FD-984D-505A19CD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3474E-CD5D-449E-BE7B-B616A4E8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1C40D-872F-4CFC-AB77-48E8327D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B4E5-FB65-4ACE-8143-BEE0B142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4E000-F519-49C3-AE59-B81A6462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FE975-C214-4BC3-8DDB-B8EC49B0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C1F95-AF84-4DC9-AAEE-599290C8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E9517-1D06-41E2-BECE-D0902409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5EF2F-8799-48AF-A057-7E2A765E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2D9DA-A028-401F-B42D-A1758095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6E811-7018-4F97-B61D-35BB059A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D9C20-37DE-4B29-8F51-46DCDBD9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41C6D-E44C-4A25-860F-D6C52BC5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53160-B403-493B-84E8-9703BAF2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93B1-39ED-4AD2-A2B7-49DB11D1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9379F-37CD-4543-9211-BB08703E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24B1E-4E49-41C7-8C82-8DFB0B85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D18B5-1032-4C90-925F-2856A9F5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A05C2-8F52-4E3F-B8E2-FB610514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481B2-DBCB-467C-94E8-DF7BAD27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87865-46DB-4E34-BAAE-F73BEC47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921A9-D2A4-4C2B-BF19-1D71D5B2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7E78C-63DE-4EFF-A0E8-1558F4BB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23372-8AD0-446D-A6F9-8D258D28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FC63F-3D66-4A1B-A87C-943A13B4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584-8B7C-4062-A12D-DCB54BCE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0CCF3-1A50-430D-A72E-0738FC85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69B32-D761-4959-B41F-DCB509A4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D43A2-248C-49CA-AAF7-A090126D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E3A36-4232-4CF8-8129-9A0D3090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E846A-1928-42A7-872F-0C058BA5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320B-7172-4D7E-B0D6-00B215D6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1FE6-AC4E-44D2-9E20-17F11FAE89C5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DF88-8258-49B6-8A29-34725CEFF8A3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F537-00E1-42D1-80E4-133B604FA1D6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6DFD-B2B5-4DC3-8EAE-3D3BED93538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E048-1687-40EF-B0F1-B30CC60D0219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30BB-98D7-45EF-9AA3-7EB67A1CB00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616F-5308-4160-81A5-1460F2473224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B1F1-AE00-4864-AA9E-7E0E6191DAA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B962-59C7-4FF1-BC0F-8FD060037482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E426-FE35-4D99-BA45-1980A1A5FA2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69D6-41E9-40BD-9F46-8179BA06CE7D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EE13-7004-4C5B-AEE6-5B417A91627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4530-7EC3-4B39-846A-3A4247AEDC0F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215E-5722-45DE-975B-5862B77AE14C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7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7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Экономика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10 класс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56800" y="2714760"/>
            <a:ext cx="79441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ТИМУЛИРУЮЩА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2" name="Picture 2" descr="I:\Энциклопедия\Э Экономические системы\картинки\motivations_0.jpg"/>
          <p:cNvPicPr/>
          <p:nvPr/>
        </p:nvPicPr>
        <p:blipFill>
          <a:blip r:embed="rId1"/>
          <a:stretch/>
        </p:blipFill>
        <p:spPr>
          <a:xfrm>
            <a:off x="4979880" y="-103320"/>
            <a:ext cx="4260960" cy="3419640"/>
          </a:xfrm>
          <a:prstGeom prst="rect">
            <a:avLst/>
          </a:prstGeom>
          <a:ln w="0">
            <a:noFill/>
          </a:ln>
        </p:spPr>
      </p:pic>
      <p:sp>
        <p:nvSpPr>
          <p:cNvPr id="54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28400" y="1784520"/>
            <a:ext cx="47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АНИРУЮЩА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6" name="Picture 2" descr="I:\Энциклопедия\Э Экономические системы\картинки\575cd7580e7d250c857f8dbf33e159d8_full.jpg"/>
          <p:cNvPicPr/>
          <p:nvPr/>
        </p:nvPicPr>
        <p:blipFill>
          <a:blip r:embed="rId1"/>
          <a:stretch/>
        </p:blipFill>
        <p:spPr>
          <a:xfrm>
            <a:off x="5214960" y="2071800"/>
            <a:ext cx="3809880" cy="3038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4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абота в группах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914400" y="17841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иведите примеры каждой из функций рынка в действ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50" name="Picture 2" descr="I:\Энциклопедия\Э Экономические системы\картинки\1.jpg"/>
          <p:cNvPicPr/>
          <p:nvPr/>
        </p:nvPicPr>
        <p:blipFill>
          <a:blip r:embed="rId1"/>
          <a:stretch/>
        </p:blipFill>
        <p:spPr>
          <a:xfrm>
            <a:off x="1066680" y="2511360"/>
            <a:ext cx="7266240" cy="632160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 чем идет речь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28400" y="1356840"/>
            <a:ext cx="8715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Corbel"/>
              </a:rPr>
              <a:t>Рыбы в море поступают, как люди на земле: большие поедают малых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Corbel"/>
              </a:rPr>
              <a:t>У. Шекспир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d6ff"/>
                </a:solidFill>
                <a:latin typeface="Corbel"/>
              </a:rPr>
              <a:t>......... – жизнь торговли и смерть торговце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d6ff"/>
                </a:solidFill>
                <a:latin typeface="Corbel"/>
              </a:rPr>
              <a:t>Элберт Хаббард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7d0e9"/>
                </a:solidFill>
                <a:latin typeface="Corbel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7d0e9"/>
                </a:solidFill>
                <a:latin typeface="Corbel"/>
              </a:rPr>
              <a:t>Дэвид Сарнофф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a1ca"/>
                </a:solidFill>
                <a:latin typeface="Corbel"/>
              </a:rPr>
              <a:t>Там, где нет .............., спится лучше, но живется хуж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TextBox 3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курен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28400" y="1356840"/>
            <a:ext cx="8715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6ecff"/>
                </a:solidFill>
                <a:latin typeface="Corbel"/>
              </a:rPr>
              <a:t>Рыбы в море поступают, как люди на земле: большие поедают малых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6ecff"/>
                </a:solidFill>
                <a:latin typeface="Corbel"/>
              </a:rPr>
              <a:t>У. Шекспир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7d6ff"/>
                </a:solidFill>
                <a:latin typeface="Corbel"/>
              </a:rPr>
              <a:t>КОНКУРЕНЦИЯ – жизнь торговли и смерть торговцев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7d6ff"/>
                </a:solidFill>
                <a:latin typeface="Corbel"/>
              </a:rPr>
              <a:t>Элберт Хаббард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7d0e9"/>
                </a:solidFill>
                <a:latin typeface="Corbel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7d0e9"/>
                </a:solidFill>
                <a:latin typeface="Corbel"/>
              </a:rPr>
              <a:t>Дэвид Сарнофф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7a1ca"/>
                </a:solidFill>
                <a:latin typeface="Corbel"/>
              </a:rPr>
              <a:t>Там, где нет КОНКУРЕНЦИИ, спится лучше, но живется хуже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I:\Энциклопедия\Э Экономические системы\картинки\f_14765182.jpg"/>
          <p:cNvPicPr/>
          <p:nvPr/>
        </p:nvPicPr>
        <p:blipFill>
          <a:blip r:embed="rId1"/>
          <a:stretch/>
        </p:blipFill>
        <p:spPr>
          <a:xfrm>
            <a:off x="122400" y="1974960"/>
            <a:ext cx="2792160" cy="78883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курен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499840" y="1599840"/>
            <a:ext cx="6186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rbel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rbel"/>
              </a:rPr>
              <a:t>Задание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orbel"/>
              </a:rPr>
              <a:t>Выявите положительные черты конкуренци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рыночной экономики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чная экономика свободной конкуренции (чистый капитализ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временная рыночная экономика (современный капитализ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стиндустриальное общество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TextBox 3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652720" y="25200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Чистый капитализм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68" name="Picture 2" descr="I:\Энциклопедия\Э Экономические системы\картинки\capitalism_XIX_preview.jpg"/>
          <p:cNvPicPr/>
          <p:nvPr/>
        </p:nvPicPr>
        <p:blipFill>
          <a:blip r:embed="rId1"/>
          <a:stretch/>
        </p:blipFill>
        <p:spPr>
          <a:xfrm>
            <a:off x="-274680" y="-255600"/>
            <a:ext cx="6121440" cy="7405560"/>
          </a:xfrm>
          <a:prstGeom prst="rect">
            <a:avLst/>
          </a:prstGeom>
          <a:ln w="0">
            <a:noFill/>
          </a:ln>
        </p:spPr>
      </p:pic>
      <p:sp>
        <p:nvSpPr>
          <p:cNvPr id="569" name="TextBox 5"/>
          <p:cNvSpPr/>
          <p:nvPr/>
        </p:nvSpPr>
        <p:spPr>
          <a:xfrm>
            <a:off x="5715000" y="1500120"/>
            <a:ext cx="3286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Эта система сложилась в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XVIII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веке и прекратила свое существование в конце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XIX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– первых десятилетиях ХХ 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Значительная часть ее элементов вошла в современную рыночную систе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тличительные чер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астная собственность на экономические ресурсы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овременный капитализ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5143320" y="1599840"/>
            <a:ext cx="3786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6" name="Picture 2" descr="I:\Энциклопедия\Э Экономические системы\картинки\295536.jpg"/>
          <p:cNvPicPr/>
          <p:nvPr/>
        </p:nvPicPr>
        <p:blipFill>
          <a:blip r:embed="rId1"/>
          <a:stretch/>
        </p:blipFill>
        <p:spPr>
          <a:xfrm>
            <a:off x="73080" y="1494000"/>
            <a:ext cx="5200560" cy="5016240"/>
          </a:xfrm>
          <a:prstGeom prst="rect">
            <a:avLst/>
          </a:prstGeom>
          <a:ln w="0">
            <a:noFill/>
          </a:ln>
        </p:spPr>
      </p:pic>
      <p:sp>
        <p:nvSpPr>
          <p:cNvPr id="57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ка домашнего зада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акие черты характеризуют административно-плановую систему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полните схем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тличительные чер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остиндустриальное общество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ост уровня образования, прежде всего за счет послешкольного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овое отношение к труду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вышение внимания к окружающей сред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уманизация экономик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нформатизация обществ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енессанс малого бизнес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лобализация хозяйственной деятельност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рынк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экономическому назначению объектов рыночных отношений: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рынок товаров и услуг, рынок недвижимости, рынок труда, рынок ценных бумаг, денежный рынок и рынок капитал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географическому положению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естный, национальный, мирово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отраслям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к зерна, хлопка, автомобилей, компьютеров и т.д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одели в рамках систе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Зачем необходимо изучать национальные экономические модели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ьте свои знания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91" name="Содержимое 2" descr=""/>
          <p:cNvPicPr/>
          <p:nvPr/>
        </p:nvPicPr>
        <p:blipFill>
          <a:blip r:embed="rId1"/>
          <a:stretch/>
        </p:blipFill>
        <p:spPr>
          <a:xfrm>
            <a:off x="878040" y="1712880"/>
            <a:ext cx="7875360" cy="464508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цените свою работу на урок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94" name="Содержимое 3" descr=""/>
          <p:cNvPicPr/>
          <p:nvPr/>
        </p:nvPicPr>
        <p:blipFill>
          <a:blip r:embed="rId1"/>
          <a:stretch/>
        </p:blipFill>
        <p:spPr>
          <a:xfrm>
            <a:off x="847800" y="1719360"/>
            <a:ext cx="7905600" cy="3004920"/>
          </a:xfrm>
          <a:prstGeom prst="rect">
            <a:avLst/>
          </a:prstGeom>
          <a:ln w="0">
            <a:noFill/>
          </a:ln>
        </p:spPr>
      </p:pic>
      <p:sp>
        <p:nvSpPr>
          <p:cNvPr id="59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машнее зада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По группам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характеристика национальных моделей рыночной экономики: США, Швеция, Германия, Япония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онспек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чебник: глава 2, пункт 3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опросы 3-6 (устно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мерикан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714400" y="1599840"/>
            <a:ext cx="5972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1" name="Picture 2" descr="I:\Энциклопедия\Э Экономические системы\картинки\45270508_EdwardMoranUnveilingTheStatueofLiberty1886Large.jpg"/>
          <p:cNvPicPr/>
          <p:nvPr/>
        </p:nvPicPr>
        <p:blipFill>
          <a:blip r:embed="rId1"/>
          <a:stretch/>
        </p:blipFill>
        <p:spPr>
          <a:xfrm>
            <a:off x="214200" y="1357200"/>
            <a:ext cx="2214720" cy="5457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0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Швед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642840" y="1599840"/>
            <a:ext cx="5286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«Функциональная социализация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5" name="Picture 2" descr="I:\Энциклопедия\Э Экономические системы\картинки\630px-Sweden_greater_coa1908-modern.png"/>
          <p:cNvPicPr/>
          <p:nvPr/>
        </p:nvPicPr>
        <p:blipFill>
          <a:blip r:embed="rId1"/>
          <a:stretch/>
        </p:blipFill>
        <p:spPr>
          <a:xfrm>
            <a:off x="142920" y="2071800"/>
            <a:ext cx="3305160" cy="314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06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оциальное рыночное хозяйство ФРГ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785760" y="1599840"/>
            <a:ext cx="4900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сударство активно влияет на цены, пошлины, технические норм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9" name="Picture 2" descr="I:\Энциклопедия\Э Экономические системы\картинки\201335_001frg8r.jpg"/>
          <p:cNvPicPr/>
          <p:nvPr/>
        </p:nvPicPr>
        <p:blipFill>
          <a:blip r:embed="rId1"/>
          <a:stretch/>
        </p:blipFill>
        <p:spPr>
          <a:xfrm>
            <a:off x="285840" y="1643040"/>
            <a:ext cx="3360600" cy="471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полните схему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382" name="Группа 25"/>
          <p:cNvGrpSpPr/>
          <p:nvPr/>
        </p:nvGrpSpPr>
        <p:grpSpPr>
          <a:xfrm>
            <a:off x="971640" y="1700280"/>
            <a:ext cx="7632720" cy="4178160"/>
            <a:chOff x="971640" y="1700280"/>
            <a:chExt cx="7632720" cy="4178160"/>
          </a:xfrm>
        </p:grpSpPr>
        <p:grpSp>
          <p:nvGrpSpPr>
            <p:cNvPr id="383" name="AutoShape 15"/>
            <p:cNvGrpSpPr/>
            <p:nvPr/>
          </p:nvGrpSpPr>
          <p:grpSpPr>
            <a:xfrm>
              <a:off x="2160000" y="1700280"/>
              <a:ext cx="4897440" cy="855360"/>
              <a:chOff x="2160000" y="1700280"/>
              <a:chExt cx="4897440" cy="855360"/>
            </a:xfrm>
          </p:grpSpPr>
          <p:pic>
            <p:nvPicPr>
              <p:cNvPr id="384" name="AutoShap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60000" y="1700280"/>
                <a:ext cx="489744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5"/>
              <p:cNvSpPr/>
              <p:nvPr/>
            </p:nvSpPr>
            <p:spPr>
              <a:xfrm>
                <a:off x="2280240" y="1815120"/>
                <a:ext cx="465516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orbel"/>
                  </a:rPr>
                  <a:t>?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AutoShape 17"/>
            <p:cNvGrpSpPr/>
            <p:nvPr/>
          </p:nvGrpSpPr>
          <p:grpSpPr>
            <a:xfrm>
              <a:off x="971640" y="2819520"/>
              <a:ext cx="2120040" cy="831960"/>
              <a:chOff x="971640" y="2819520"/>
              <a:chExt cx="2120040" cy="831960"/>
            </a:xfrm>
          </p:grpSpPr>
          <p:pic>
            <p:nvPicPr>
              <p:cNvPr id="387" name="AutoShap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971640" y="2819520"/>
                <a:ext cx="212004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1080000" y="2923200"/>
                <a:ext cx="19062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Госпланы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республик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9" name="AutoShape 18"/>
            <p:cNvGrpSpPr/>
            <p:nvPr/>
          </p:nvGrpSpPr>
          <p:grpSpPr>
            <a:xfrm>
              <a:off x="2231640" y="3845160"/>
              <a:ext cx="4825800" cy="861480"/>
              <a:chOff x="2231640" y="3845160"/>
              <a:chExt cx="4825800" cy="861480"/>
            </a:xfrm>
          </p:grpSpPr>
          <p:pic>
            <p:nvPicPr>
              <p:cNvPr id="390" name="AutoShap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31640" y="3845160"/>
                <a:ext cx="4825800" cy="86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Text Box 11"/>
              <p:cNvSpPr/>
              <p:nvPr/>
            </p:nvSpPr>
            <p:spPr>
              <a:xfrm>
                <a:off x="2350440" y="3962880"/>
                <a:ext cx="45864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Производител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(государственные предприятия и колхозы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AutoShape 19"/>
            <p:cNvGrpSpPr/>
            <p:nvPr/>
          </p:nvGrpSpPr>
          <p:grpSpPr>
            <a:xfrm>
              <a:off x="3724920" y="2819520"/>
              <a:ext cx="2120040" cy="831960"/>
              <a:chOff x="3724920" y="2819520"/>
              <a:chExt cx="2120040" cy="831960"/>
            </a:xfrm>
          </p:grpSpPr>
          <p:pic>
            <p:nvPicPr>
              <p:cNvPr id="393" name="AutoShap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3724920" y="2819520"/>
                <a:ext cx="212004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3831120" y="2923200"/>
                <a:ext cx="19062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тдел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естных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органов вла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AutoShape 20"/>
            <p:cNvGrpSpPr/>
            <p:nvPr/>
          </p:nvGrpSpPr>
          <p:grpSpPr>
            <a:xfrm>
              <a:off x="6466320" y="2807640"/>
              <a:ext cx="2138040" cy="855360"/>
              <a:chOff x="6466320" y="2807640"/>
              <a:chExt cx="2138040" cy="855360"/>
            </a:xfrm>
          </p:grpSpPr>
          <p:pic>
            <p:nvPicPr>
              <p:cNvPr id="396" name="AutoShap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6466320" y="2807640"/>
                <a:ext cx="213804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 Box 17"/>
              <p:cNvSpPr/>
              <p:nvPr/>
            </p:nvSpPr>
            <p:spPr>
              <a:xfrm>
                <a:off x="6582600" y="2923200"/>
                <a:ext cx="19062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рган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инистерств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и ведомств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8" name="AutoShape 21"/>
            <p:cNvGrpSpPr/>
            <p:nvPr/>
          </p:nvGrpSpPr>
          <p:grpSpPr>
            <a:xfrm>
              <a:off x="2231640" y="5023080"/>
              <a:ext cx="4825800" cy="855360"/>
              <a:chOff x="2231640" y="5023080"/>
              <a:chExt cx="4825800" cy="855360"/>
            </a:xfrm>
          </p:grpSpPr>
          <p:pic>
            <p:nvPicPr>
              <p:cNvPr id="399" name="AutoShap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1640" y="5023080"/>
                <a:ext cx="482580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Text Box 20"/>
              <p:cNvSpPr/>
              <p:nvPr/>
            </p:nvSpPr>
            <p:spPr>
              <a:xfrm>
                <a:off x="2350080" y="5139000"/>
                <a:ext cx="458532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orbel"/>
                  </a:rPr>
                  <a:t>?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1" name="AutoShape 22"/>
            <p:cNvGrpSpPr/>
            <p:nvPr/>
          </p:nvGrpSpPr>
          <p:grpSpPr>
            <a:xfrm>
              <a:off x="2452680" y="2327040"/>
              <a:ext cx="364320" cy="703080"/>
              <a:chOff x="2452680" y="2327040"/>
              <a:chExt cx="364320" cy="703080"/>
            </a:xfrm>
          </p:grpSpPr>
          <p:pic>
            <p:nvPicPr>
              <p:cNvPr id="402" name="AutoShap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2452680" y="232704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2580480" y="247464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AutoShape 23"/>
            <p:cNvGrpSpPr/>
            <p:nvPr/>
          </p:nvGrpSpPr>
          <p:grpSpPr>
            <a:xfrm>
              <a:off x="4423680" y="2327040"/>
              <a:ext cx="370080" cy="703080"/>
              <a:chOff x="4423680" y="2327040"/>
              <a:chExt cx="370080" cy="703080"/>
            </a:xfrm>
          </p:grpSpPr>
          <p:pic>
            <p:nvPicPr>
              <p:cNvPr id="405" name="AutoShap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4423680" y="2327040"/>
                <a:ext cx="37008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>
                <a:off x="4555800" y="247464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AutoShape 24"/>
            <p:cNvGrpSpPr/>
            <p:nvPr/>
          </p:nvGrpSpPr>
          <p:grpSpPr>
            <a:xfrm>
              <a:off x="6537960" y="3434760"/>
              <a:ext cx="370080" cy="697320"/>
              <a:chOff x="6537960" y="3434760"/>
              <a:chExt cx="370080" cy="697320"/>
            </a:xfrm>
          </p:grpSpPr>
          <p:pic>
            <p:nvPicPr>
              <p:cNvPr id="408" name="AutoShape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6537960" y="343476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6671160" y="35812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AutoShape 25"/>
            <p:cNvGrpSpPr/>
            <p:nvPr/>
          </p:nvGrpSpPr>
          <p:grpSpPr>
            <a:xfrm>
              <a:off x="4423680" y="3370320"/>
              <a:ext cx="370080" cy="697320"/>
              <a:chOff x="4423680" y="3370320"/>
              <a:chExt cx="370080" cy="697320"/>
            </a:xfrm>
          </p:grpSpPr>
          <p:pic>
            <p:nvPicPr>
              <p:cNvPr id="411" name="AutoShape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3680" y="337032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4555800" y="351252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3" name="AutoShape 26"/>
            <p:cNvGrpSpPr/>
            <p:nvPr/>
          </p:nvGrpSpPr>
          <p:grpSpPr>
            <a:xfrm>
              <a:off x="2452680" y="3434760"/>
              <a:ext cx="364320" cy="697320"/>
              <a:chOff x="2452680" y="3434760"/>
              <a:chExt cx="364320" cy="697320"/>
            </a:xfrm>
          </p:grpSpPr>
          <p:pic>
            <p:nvPicPr>
              <p:cNvPr id="414" name="AutoShape 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52680" y="343476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2580480" y="35812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6" name="AutoShape 27"/>
            <p:cNvGrpSpPr/>
            <p:nvPr/>
          </p:nvGrpSpPr>
          <p:grpSpPr>
            <a:xfrm>
              <a:off x="6472440" y="2327040"/>
              <a:ext cx="364320" cy="703080"/>
              <a:chOff x="6472440" y="2327040"/>
              <a:chExt cx="364320" cy="703080"/>
            </a:xfrm>
          </p:grpSpPr>
          <p:pic>
            <p:nvPicPr>
              <p:cNvPr id="417" name="AutoShape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72440" y="232704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6601320" y="247464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" name="AutoShape 28"/>
            <p:cNvGrpSpPr/>
            <p:nvPr/>
          </p:nvGrpSpPr>
          <p:grpSpPr>
            <a:xfrm>
              <a:off x="2661840" y="2333160"/>
              <a:ext cx="364320" cy="703080"/>
              <a:chOff x="2661840" y="2333160"/>
              <a:chExt cx="364320" cy="703080"/>
            </a:xfrm>
          </p:grpSpPr>
          <p:pic>
            <p:nvPicPr>
              <p:cNvPr id="420" name="AutoShape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61840" y="233316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2792160" y="24058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2" name="AutoShape 29"/>
            <p:cNvGrpSpPr/>
            <p:nvPr/>
          </p:nvGrpSpPr>
          <p:grpSpPr>
            <a:xfrm>
              <a:off x="4638600" y="2333160"/>
              <a:ext cx="364320" cy="703080"/>
              <a:chOff x="4638600" y="2333160"/>
              <a:chExt cx="364320" cy="703080"/>
            </a:xfrm>
          </p:grpSpPr>
          <p:pic>
            <p:nvPicPr>
              <p:cNvPr id="423" name="AutoShape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38600" y="233316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4767120" y="24058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5" name="AutoShape 30"/>
            <p:cNvGrpSpPr/>
            <p:nvPr/>
          </p:nvGrpSpPr>
          <p:grpSpPr>
            <a:xfrm>
              <a:off x="2799000" y="4483800"/>
              <a:ext cx="370080" cy="697320"/>
              <a:chOff x="2799000" y="4483800"/>
              <a:chExt cx="370080" cy="697320"/>
            </a:xfrm>
          </p:grpSpPr>
          <p:pic>
            <p:nvPicPr>
              <p:cNvPr id="426" name="AutoShape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9900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293184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8" name="AutoShape 31"/>
            <p:cNvGrpSpPr/>
            <p:nvPr/>
          </p:nvGrpSpPr>
          <p:grpSpPr>
            <a:xfrm>
              <a:off x="3927960" y="4483800"/>
              <a:ext cx="370080" cy="697320"/>
              <a:chOff x="3927960" y="4483800"/>
              <a:chExt cx="370080" cy="697320"/>
            </a:xfrm>
          </p:grpSpPr>
          <p:pic>
            <p:nvPicPr>
              <p:cNvPr id="429" name="AutoShape 3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2796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>
                <a:off x="406116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1" name="AutoShape 32"/>
            <p:cNvGrpSpPr/>
            <p:nvPr/>
          </p:nvGrpSpPr>
          <p:grpSpPr>
            <a:xfrm>
              <a:off x="5128560" y="4483800"/>
              <a:ext cx="370080" cy="697320"/>
              <a:chOff x="5128560" y="4483800"/>
              <a:chExt cx="370080" cy="697320"/>
            </a:xfrm>
          </p:grpSpPr>
          <p:pic>
            <p:nvPicPr>
              <p:cNvPr id="432" name="AutoShape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2856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>
                <a:off x="526032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4" name="AutoShape 33"/>
            <p:cNvGrpSpPr/>
            <p:nvPr/>
          </p:nvGrpSpPr>
          <p:grpSpPr>
            <a:xfrm>
              <a:off x="6191640" y="4483800"/>
              <a:ext cx="364320" cy="697320"/>
              <a:chOff x="6191640" y="4483800"/>
              <a:chExt cx="364320" cy="697320"/>
            </a:xfrm>
          </p:grpSpPr>
          <p:pic>
            <p:nvPicPr>
              <p:cNvPr id="435" name="AutoShape 33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91640" y="448380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"/>
              <p:cNvSpPr/>
              <p:nvPr/>
            </p:nvSpPr>
            <p:spPr>
              <a:xfrm>
                <a:off x="6319800" y="45514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7" name="AutoShape 34"/>
            <p:cNvGrpSpPr/>
            <p:nvPr/>
          </p:nvGrpSpPr>
          <p:grpSpPr>
            <a:xfrm>
              <a:off x="6752880" y="3440520"/>
              <a:ext cx="370080" cy="697320"/>
              <a:chOff x="6752880" y="3440520"/>
              <a:chExt cx="370080" cy="697320"/>
            </a:xfrm>
          </p:grpSpPr>
          <p:pic>
            <p:nvPicPr>
              <p:cNvPr id="438" name="AutoShape 3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52880" y="344052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"/>
              <p:cNvSpPr/>
              <p:nvPr/>
            </p:nvSpPr>
            <p:spPr>
              <a:xfrm>
                <a:off x="6883920" y="351180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AutoShape 35"/>
            <p:cNvGrpSpPr/>
            <p:nvPr/>
          </p:nvGrpSpPr>
          <p:grpSpPr>
            <a:xfrm>
              <a:off x="4638600" y="3376080"/>
              <a:ext cx="364320" cy="697320"/>
              <a:chOff x="4638600" y="3376080"/>
              <a:chExt cx="364320" cy="697320"/>
            </a:xfrm>
          </p:grpSpPr>
          <p:pic>
            <p:nvPicPr>
              <p:cNvPr id="441" name="AutoShape 35" descr=""/>
              <p:cNvPicPr/>
              <p:nvPr/>
            </p:nvPicPr>
            <p:blipFill>
              <a:blip r:embed="rId20"/>
              <a:stretch/>
            </p:blipFill>
            <p:spPr>
              <a:xfrm>
                <a:off x="4638600" y="337608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" name=""/>
              <p:cNvSpPr/>
              <p:nvPr/>
            </p:nvSpPr>
            <p:spPr>
              <a:xfrm>
                <a:off x="4767120" y="344340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3" name="AutoShape 36"/>
            <p:cNvGrpSpPr/>
            <p:nvPr/>
          </p:nvGrpSpPr>
          <p:grpSpPr>
            <a:xfrm>
              <a:off x="2661840" y="3440520"/>
              <a:ext cx="364320" cy="697320"/>
              <a:chOff x="2661840" y="3440520"/>
              <a:chExt cx="364320" cy="697320"/>
            </a:xfrm>
          </p:grpSpPr>
          <p:pic>
            <p:nvPicPr>
              <p:cNvPr id="444" name="AutoShap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2661840" y="344052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>
                <a:off x="2792160" y="351180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" name="AutoShape 37"/>
            <p:cNvGrpSpPr/>
            <p:nvPr/>
          </p:nvGrpSpPr>
          <p:grpSpPr>
            <a:xfrm>
              <a:off x="6681240" y="2333160"/>
              <a:ext cx="370080" cy="703080"/>
              <a:chOff x="6681240" y="2333160"/>
              <a:chExt cx="370080" cy="703080"/>
            </a:xfrm>
          </p:grpSpPr>
          <p:pic>
            <p:nvPicPr>
              <p:cNvPr id="447" name="AutoShap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6681240" y="2333160"/>
                <a:ext cx="37008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6812640" y="24058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Япон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6840" y="1599840"/>
            <a:ext cx="46148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тставание уровня жизни населения от роста производительности труд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ктивная роль государства в модернизации экономик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3" name="Picture 2" descr="I:\Энциклопедия\Э Экономические системы\картинки\862c8ce36e8e.jpg"/>
          <p:cNvPicPr/>
          <p:nvPr/>
        </p:nvPicPr>
        <p:blipFill>
          <a:blip r:embed="rId1"/>
          <a:stretch/>
        </p:blipFill>
        <p:spPr>
          <a:xfrm>
            <a:off x="5357880" y="1571760"/>
            <a:ext cx="3548160" cy="4628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4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Южнокорей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6840" y="1599840"/>
            <a:ext cx="5329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Имеет много общего с японской моделью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7" name="Picture 2" descr="I:\Энциклопедия\Э Экономические системы\картинки\turi_news_1239878957.jpg"/>
          <p:cNvPicPr/>
          <p:nvPr/>
        </p:nvPicPr>
        <p:blipFill>
          <a:blip r:embed="rId1"/>
          <a:stretch/>
        </p:blipFill>
        <p:spPr>
          <a:xfrm>
            <a:off x="6000840" y="1928880"/>
            <a:ext cx="2905200" cy="3878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ьте себя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451" name="Группа 25"/>
          <p:cNvGrpSpPr/>
          <p:nvPr/>
        </p:nvGrpSpPr>
        <p:grpSpPr>
          <a:xfrm>
            <a:off x="971640" y="1700280"/>
            <a:ext cx="7632720" cy="4178160"/>
            <a:chOff x="971640" y="1700280"/>
            <a:chExt cx="7632720" cy="4178160"/>
          </a:xfrm>
        </p:grpSpPr>
        <p:grpSp>
          <p:nvGrpSpPr>
            <p:cNvPr id="452" name="AutoShape 15"/>
            <p:cNvGrpSpPr/>
            <p:nvPr/>
          </p:nvGrpSpPr>
          <p:grpSpPr>
            <a:xfrm>
              <a:off x="2171160" y="1700280"/>
              <a:ext cx="4887720" cy="850680"/>
              <a:chOff x="2171160" y="1700280"/>
              <a:chExt cx="4887720" cy="850680"/>
            </a:xfrm>
          </p:grpSpPr>
          <p:pic>
            <p:nvPicPr>
              <p:cNvPr id="453" name="AutoShap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71160" y="1700280"/>
                <a:ext cx="488772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Text Box 5"/>
              <p:cNvSpPr/>
              <p:nvPr/>
            </p:nvSpPr>
            <p:spPr>
              <a:xfrm>
                <a:off x="2291040" y="1815480"/>
                <a:ext cx="465336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ea157a"/>
                    </a:solidFill>
                    <a:latin typeface="Corbel"/>
                  </a:rPr>
                  <a:t>Госплан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5" name="AutoShape 17"/>
            <p:cNvGrpSpPr/>
            <p:nvPr/>
          </p:nvGrpSpPr>
          <p:grpSpPr>
            <a:xfrm>
              <a:off x="971640" y="2809440"/>
              <a:ext cx="2136240" cy="850680"/>
              <a:chOff x="971640" y="2809440"/>
              <a:chExt cx="2136240" cy="850680"/>
            </a:xfrm>
          </p:grpSpPr>
          <p:pic>
            <p:nvPicPr>
              <p:cNvPr id="456" name="AutoShap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971640" y="2809440"/>
                <a:ext cx="213624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Text Box 8"/>
              <p:cNvSpPr/>
              <p:nvPr/>
            </p:nvSpPr>
            <p:spPr>
              <a:xfrm>
                <a:off x="1091520" y="2925000"/>
                <a:ext cx="190476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Госпланы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республик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AutoShape 18"/>
            <p:cNvGrpSpPr/>
            <p:nvPr/>
          </p:nvGrpSpPr>
          <p:grpSpPr>
            <a:xfrm>
              <a:off x="2242800" y="3848040"/>
              <a:ext cx="4816080" cy="856800"/>
              <a:chOff x="2242800" y="3848040"/>
              <a:chExt cx="4816080" cy="856800"/>
            </a:xfrm>
          </p:grpSpPr>
          <p:pic>
            <p:nvPicPr>
              <p:cNvPr id="459" name="AutoShap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42800" y="3848040"/>
                <a:ext cx="4816080" cy="85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Text Box 11"/>
              <p:cNvSpPr/>
              <p:nvPr/>
            </p:nvSpPr>
            <p:spPr>
              <a:xfrm>
                <a:off x="2361600" y="3965760"/>
                <a:ext cx="45828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Производител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(государственные предприятия и колхозы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1" name="AutoShape 19"/>
            <p:cNvGrpSpPr/>
            <p:nvPr/>
          </p:nvGrpSpPr>
          <p:grpSpPr>
            <a:xfrm>
              <a:off x="3722760" y="2809440"/>
              <a:ext cx="2136240" cy="850680"/>
              <a:chOff x="3722760" y="2809440"/>
              <a:chExt cx="2136240" cy="850680"/>
            </a:xfrm>
          </p:grpSpPr>
          <p:pic>
            <p:nvPicPr>
              <p:cNvPr id="462" name="AutoShap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3722760" y="2809440"/>
                <a:ext cx="213624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Text Box 14"/>
              <p:cNvSpPr/>
              <p:nvPr/>
            </p:nvSpPr>
            <p:spPr>
              <a:xfrm>
                <a:off x="3840840" y="2925000"/>
                <a:ext cx="190476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тдел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естных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органов вла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AutoShape 20"/>
            <p:cNvGrpSpPr/>
            <p:nvPr/>
          </p:nvGrpSpPr>
          <p:grpSpPr>
            <a:xfrm>
              <a:off x="6473880" y="2809440"/>
              <a:ext cx="2130480" cy="850680"/>
              <a:chOff x="6473880" y="2809440"/>
              <a:chExt cx="2130480" cy="850680"/>
            </a:xfrm>
          </p:grpSpPr>
          <p:pic>
            <p:nvPicPr>
              <p:cNvPr id="465" name="AutoShap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6473880" y="2809440"/>
                <a:ext cx="213048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Text Box 17"/>
              <p:cNvSpPr/>
              <p:nvPr/>
            </p:nvSpPr>
            <p:spPr>
              <a:xfrm>
                <a:off x="6590160" y="2925000"/>
                <a:ext cx="19051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рган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инистерств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и ведомств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7" name="AutoShape 21"/>
            <p:cNvGrpSpPr/>
            <p:nvPr/>
          </p:nvGrpSpPr>
          <p:grpSpPr>
            <a:xfrm>
              <a:off x="2242800" y="5027760"/>
              <a:ext cx="4816080" cy="850680"/>
              <a:chOff x="2242800" y="5027760"/>
              <a:chExt cx="4816080" cy="850680"/>
            </a:xfrm>
          </p:grpSpPr>
          <p:pic>
            <p:nvPicPr>
              <p:cNvPr id="468" name="AutoShap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2242800" y="5027760"/>
                <a:ext cx="481608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20"/>
              <p:cNvSpPr/>
              <p:nvPr/>
            </p:nvSpPr>
            <p:spPr>
              <a:xfrm>
                <a:off x="2361240" y="5144040"/>
                <a:ext cx="458316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35faa"/>
                    </a:solidFill>
                    <a:latin typeface="Corbel"/>
                  </a:rPr>
                  <a:t>Потребительский рынок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0" name="AutoShape 22"/>
            <p:cNvGrpSpPr/>
            <p:nvPr/>
          </p:nvGrpSpPr>
          <p:grpSpPr>
            <a:xfrm>
              <a:off x="2463480" y="2328120"/>
              <a:ext cx="363960" cy="704160"/>
              <a:chOff x="2463480" y="2328120"/>
              <a:chExt cx="363960" cy="704160"/>
            </a:xfrm>
          </p:grpSpPr>
          <p:pic>
            <p:nvPicPr>
              <p:cNvPr id="471" name="AutoShap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2463480" y="232812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259128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AutoShape 23"/>
            <p:cNvGrpSpPr/>
            <p:nvPr/>
          </p:nvGrpSpPr>
          <p:grpSpPr>
            <a:xfrm>
              <a:off x="4433040" y="2328120"/>
              <a:ext cx="369720" cy="704160"/>
              <a:chOff x="4433040" y="2328120"/>
              <a:chExt cx="369720" cy="704160"/>
            </a:xfrm>
          </p:grpSpPr>
          <p:pic>
            <p:nvPicPr>
              <p:cNvPr id="474" name="AutoShap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4433040" y="2328120"/>
                <a:ext cx="36972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>
                <a:off x="456516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AutoShape 24"/>
            <p:cNvGrpSpPr/>
            <p:nvPr/>
          </p:nvGrpSpPr>
          <p:grpSpPr>
            <a:xfrm>
              <a:off x="6545520" y="3437280"/>
              <a:ext cx="369720" cy="698040"/>
              <a:chOff x="6545520" y="3437280"/>
              <a:chExt cx="369720" cy="698040"/>
            </a:xfrm>
          </p:grpSpPr>
          <p:pic>
            <p:nvPicPr>
              <p:cNvPr id="477" name="AutoShape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6545520" y="343728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6678360" y="358380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9" name="AutoShape 25"/>
            <p:cNvGrpSpPr/>
            <p:nvPr/>
          </p:nvGrpSpPr>
          <p:grpSpPr>
            <a:xfrm>
              <a:off x="4433040" y="3372840"/>
              <a:ext cx="369720" cy="698040"/>
              <a:chOff x="4433040" y="3372840"/>
              <a:chExt cx="369720" cy="698040"/>
            </a:xfrm>
          </p:grpSpPr>
          <p:pic>
            <p:nvPicPr>
              <p:cNvPr id="480" name="AutoShape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33040" y="337284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4565160" y="35150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2" name="AutoShape 26"/>
            <p:cNvGrpSpPr/>
            <p:nvPr/>
          </p:nvGrpSpPr>
          <p:grpSpPr>
            <a:xfrm>
              <a:off x="2463480" y="3437280"/>
              <a:ext cx="363960" cy="698040"/>
              <a:chOff x="2463480" y="3437280"/>
              <a:chExt cx="363960" cy="698040"/>
            </a:xfrm>
          </p:grpSpPr>
          <p:pic>
            <p:nvPicPr>
              <p:cNvPr id="483" name="AutoShape 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63480" y="343728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2591280" y="358380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5" name="AutoShape 27"/>
            <p:cNvGrpSpPr/>
            <p:nvPr/>
          </p:nvGrpSpPr>
          <p:grpSpPr>
            <a:xfrm>
              <a:off x="6480000" y="2328120"/>
              <a:ext cx="363960" cy="704160"/>
              <a:chOff x="6480000" y="2328120"/>
              <a:chExt cx="363960" cy="704160"/>
            </a:xfrm>
          </p:grpSpPr>
          <p:pic>
            <p:nvPicPr>
              <p:cNvPr id="486" name="AutoShape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80000" y="232812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660888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8" name="AutoShape 28"/>
            <p:cNvGrpSpPr/>
            <p:nvPr/>
          </p:nvGrpSpPr>
          <p:grpSpPr>
            <a:xfrm>
              <a:off x="2672280" y="2333880"/>
              <a:ext cx="363960" cy="704160"/>
              <a:chOff x="2672280" y="2333880"/>
              <a:chExt cx="363960" cy="704160"/>
            </a:xfrm>
          </p:grpSpPr>
          <p:pic>
            <p:nvPicPr>
              <p:cNvPr id="489" name="AutoShape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72280" y="233388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280260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1" name="AutoShape 29"/>
            <p:cNvGrpSpPr/>
            <p:nvPr/>
          </p:nvGrpSpPr>
          <p:grpSpPr>
            <a:xfrm>
              <a:off x="4647600" y="2333880"/>
              <a:ext cx="363960" cy="704160"/>
              <a:chOff x="4647600" y="2333880"/>
              <a:chExt cx="363960" cy="704160"/>
            </a:xfrm>
          </p:grpSpPr>
          <p:pic>
            <p:nvPicPr>
              <p:cNvPr id="492" name="AutoShape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47600" y="233388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"/>
              <p:cNvSpPr/>
              <p:nvPr/>
            </p:nvSpPr>
            <p:spPr>
              <a:xfrm>
                <a:off x="477612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AutoShape 30"/>
            <p:cNvGrpSpPr/>
            <p:nvPr/>
          </p:nvGrpSpPr>
          <p:grpSpPr>
            <a:xfrm>
              <a:off x="2809440" y="4487760"/>
              <a:ext cx="369720" cy="698040"/>
              <a:chOff x="2809440" y="4487760"/>
              <a:chExt cx="369720" cy="698040"/>
            </a:xfrm>
          </p:grpSpPr>
          <p:pic>
            <p:nvPicPr>
              <p:cNvPr id="495" name="AutoShape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0944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>
                <a:off x="294228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7" name="AutoShape 31"/>
            <p:cNvGrpSpPr/>
            <p:nvPr/>
          </p:nvGrpSpPr>
          <p:grpSpPr>
            <a:xfrm>
              <a:off x="3937680" y="4487760"/>
              <a:ext cx="369720" cy="698040"/>
              <a:chOff x="3937680" y="4487760"/>
              <a:chExt cx="369720" cy="698040"/>
            </a:xfrm>
          </p:grpSpPr>
          <p:pic>
            <p:nvPicPr>
              <p:cNvPr id="498" name="AutoShape 3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3768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>
                <a:off x="407088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AutoShape 32"/>
            <p:cNvGrpSpPr/>
            <p:nvPr/>
          </p:nvGrpSpPr>
          <p:grpSpPr>
            <a:xfrm>
              <a:off x="5137200" y="4487760"/>
              <a:ext cx="369720" cy="698040"/>
              <a:chOff x="5137200" y="4487760"/>
              <a:chExt cx="369720" cy="698040"/>
            </a:xfrm>
          </p:grpSpPr>
          <p:pic>
            <p:nvPicPr>
              <p:cNvPr id="501" name="AutoShape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3720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>
                <a:off x="526896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AutoShape 33"/>
            <p:cNvGrpSpPr/>
            <p:nvPr/>
          </p:nvGrpSpPr>
          <p:grpSpPr>
            <a:xfrm>
              <a:off x="6199560" y="4487760"/>
              <a:ext cx="363960" cy="698040"/>
              <a:chOff x="6199560" y="4487760"/>
              <a:chExt cx="363960" cy="698040"/>
            </a:xfrm>
          </p:grpSpPr>
          <p:pic>
            <p:nvPicPr>
              <p:cNvPr id="504" name="AutoShape 33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99560" y="448776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5" name=""/>
              <p:cNvSpPr/>
              <p:nvPr/>
            </p:nvSpPr>
            <p:spPr>
              <a:xfrm>
                <a:off x="632736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AutoShape 34"/>
            <p:cNvGrpSpPr/>
            <p:nvPr/>
          </p:nvGrpSpPr>
          <p:grpSpPr>
            <a:xfrm>
              <a:off x="6760440" y="3443040"/>
              <a:ext cx="369720" cy="698040"/>
              <a:chOff x="6760440" y="3443040"/>
              <a:chExt cx="369720" cy="698040"/>
            </a:xfrm>
          </p:grpSpPr>
          <p:pic>
            <p:nvPicPr>
              <p:cNvPr id="507" name="AutoShape 3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60440" y="344304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" name=""/>
              <p:cNvSpPr/>
              <p:nvPr/>
            </p:nvSpPr>
            <p:spPr>
              <a:xfrm>
                <a:off x="6891480" y="351468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9" name="AutoShape 35"/>
            <p:cNvGrpSpPr/>
            <p:nvPr/>
          </p:nvGrpSpPr>
          <p:grpSpPr>
            <a:xfrm>
              <a:off x="4647600" y="3378600"/>
              <a:ext cx="363960" cy="698040"/>
              <a:chOff x="4647600" y="3378600"/>
              <a:chExt cx="363960" cy="698040"/>
            </a:xfrm>
          </p:grpSpPr>
          <p:pic>
            <p:nvPicPr>
              <p:cNvPr id="510" name="AutoShape 35" descr=""/>
              <p:cNvPicPr/>
              <p:nvPr/>
            </p:nvPicPr>
            <p:blipFill>
              <a:blip r:embed="rId20"/>
              <a:stretch/>
            </p:blipFill>
            <p:spPr>
              <a:xfrm>
                <a:off x="4647600" y="337860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"/>
              <p:cNvSpPr/>
              <p:nvPr/>
            </p:nvSpPr>
            <p:spPr>
              <a:xfrm>
                <a:off x="4776120" y="344592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2" name="AutoShape 36"/>
            <p:cNvGrpSpPr/>
            <p:nvPr/>
          </p:nvGrpSpPr>
          <p:grpSpPr>
            <a:xfrm>
              <a:off x="2672280" y="3443040"/>
              <a:ext cx="363960" cy="698040"/>
              <a:chOff x="2672280" y="3443040"/>
              <a:chExt cx="363960" cy="698040"/>
            </a:xfrm>
          </p:grpSpPr>
          <p:pic>
            <p:nvPicPr>
              <p:cNvPr id="513" name="AutoShap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2672280" y="344304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2802600" y="351468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5" name="AutoShape 37"/>
            <p:cNvGrpSpPr/>
            <p:nvPr/>
          </p:nvGrpSpPr>
          <p:grpSpPr>
            <a:xfrm>
              <a:off x="6688800" y="2333880"/>
              <a:ext cx="369720" cy="704160"/>
              <a:chOff x="6688800" y="2333880"/>
              <a:chExt cx="369720" cy="704160"/>
            </a:xfrm>
          </p:grpSpPr>
          <p:pic>
            <p:nvPicPr>
              <p:cNvPr id="516" name="AutoShap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6688800" y="2333880"/>
                <a:ext cx="36972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7" name=""/>
              <p:cNvSpPr/>
              <p:nvPr/>
            </p:nvSpPr>
            <p:spPr>
              <a:xfrm>
                <a:off x="681984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Что такое рынок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0" name="Picture 2" descr="I:\Энциклопедия\Э Экономические системы\картинки\marketingovie_skazki.jpg"/>
          <p:cNvPicPr/>
          <p:nvPr/>
        </p:nvPicPr>
        <p:blipFill>
          <a:blip r:embed="rId1"/>
          <a:stretch/>
        </p:blipFill>
        <p:spPr>
          <a:xfrm>
            <a:off x="4986360" y="4175280"/>
            <a:ext cx="4406760" cy="2835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I:\Энциклопедия\Э Экономические системы\картинки\gallery_image.jpg"/>
          <p:cNvPicPr/>
          <p:nvPr/>
        </p:nvPicPr>
        <p:blipFill>
          <a:blip r:embed="rId2"/>
          <a:stretch/>
        </p:blipFill>
        <p:spPr>
          <a:xfrm>
            <a:off x="-146160" y="1047600"/>
            <a:ext cx="5340600" cy="38293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5"/>
          <p:cNvSpPr/>
          <p:nvPr/>
        </p:nvSpPr>
        <p:spPr>
          <a:xfrm>
            <a:off x="5072040" y="14288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Место купли-продажи това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Box 7"/>
          <p:cNvSpPr/>
          <p:nvPr/>
        </p:nvSpPr>
        <p:spPr>
          <a:xfrm>
            <a:off x="500040" y="4786200"/>
            <a:ext cx="4857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bd0e4"/>
                </a:solidFill>
                <a:latin typeface="Corbel"/>
              </a:rPr>
              <a:t>РЫНОК</a:t>
            </a:r>
            <a:r>
              <a:rPr b="0" lang="ru-RU" sz="2000" spc="-1" strike="noStrike">
                <a:solidFill>
                  <a:srgbClr val="fbd0e4"/>
                </a:solidFill>
                <a:latin typeface="Corbel"/>
              </a:rPr>
              <a:t>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Box 6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Причины возникновения рыночной экономики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7" name="Содержимое 3" descr=""/>
          <p:cNvPicPr/>
          <p:nvPr/>
        </p:nvPicPr>
        <p:blipFill>
          <a:blip r:embed="rId1"/>
          <a:stretch/>
        </p:blipFill>
        <p:spPr>
          <a:xfrm>
            <a:off x="835200" y="1731960"/>
            <a:ext cx="7924680" cy="463248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Содержимое 3" descr=""/>
          <p:cNvPicPr/>
          <p:nvPr/>
        </p:nvPicPr>
        <p:blipFill>
          <a:blip r:embed="rId1"/>
          <a:stretch/>
        </p:blipFill>
        <p:spPr>
          <a:xfrm>
            <a:off x="-6480" y="-158760"/>
            <a:ext cx="9156960" cy="71564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5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0040" y="1784520"/>
            <a:ext cx="528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НФОРМАЦИОННАЯ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4" name="Picture 3" descr="I:\Энциклопедия\Э Экономические системы\картинки\dayinfo1(2).jpg"/>
          <p:cNvPicPr/>
          <p:nvPr/>
        </p:nvPicPr>
        <p:blipFill>
          <a:blip r:embed="rId1"/>
          <a:stretch/>
        </p:blipFill>
        <p:spPr>
          <a:xfrm>
            <a:off x="6000840" y="1857240"/>
            <a:ext cx="3143160" cy="3981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3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643200" y="1784520"/>
            <a:ext cx="5214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РЕГУЛИРУЮЩАЯ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8" name="Picture 2" descr="I:\Энциклопедия\Э Экономические системы\картинки\thumb.jpg"/>
          <p:cNvPicPr/>
          <p:nvPr/>
        </p:nvPicPr>
        <p:blipFill>
          <a:blip r:embed="rId1"/>
          <a:stretch/>
        </p:blipFill>
        <p:spPr>
          <a:xfrm>
            <a:off x="115920" y="1487520"/>
            <a:ext cx="3571920" cy="4529160"/>
          </a:xfrm>
          <a:prstGeom prst="rect">
            <a:avLst/>
          </a:prstGeom>
          <a:ln w="0">
            <a:noFill/>
          </a:ln>
        </p:spPr>
      </p:pic>
      <p:sp>
        <p:nvSpPr>
          <p:cNvPr id="539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3:26Z</dcterms:modified>
  <cp:revision>46</cp:revision>
  <dc:subject/>
  <dc:title>Рынок и его функции</dc:title>
</cp:coreProperties>
</file>