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F42E-E24F-4CE4-A84F-F1379BF630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67F-ACDD-4073-880B-FE8D25B9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ECC-2805-45C6-9BD6-DED01555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566-EAD1-4B21-B6D6-0064B3DE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0F0-74A8-4477-AAB2-939A9F5E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781-A0D1-4A7F-AFDD-CCC02AB4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063-96D7-4EAB-AF66-0DD2186B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A8C-00CB-4EBD-B75E-40AC6788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120-5976-4876-BF48-76EB43FA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7AD-8EF2-41BF-BF5C-5CD06415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50A-67DC-40B8-BE9B-D13354C4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7E9-B8C0-4E64-9B54-84715586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03A-07F0-4DC2-9B9D-5E9DA775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A558-2660-4A63-85B6-AE4BCC53E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18aa9"/>
                </a:solidFill>
                <a:latin typeface="MS Mincho"/>
              </a:rPr>
              <a:t>вв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77920"/>
            <a:ext cx="640080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00px-GDP_nominal_per_capita_world_map_IMF_2008"/>
          <p:cNvPicPr/>
          <p:nvPr/>
        </p:nvPicPr>
        <p:blipFill>
          <a:blip r:embed="rId1"/>
          <a:srcRect l="3846" t="0" r="5386" b="0"/>
          <a:stretch/>
        </p:blipFill>
        <p:spPr>
          <a:xfrm>
            <a:off x="0" y="1978200"/>
            <a:ext cx="9126360" cy="44971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04920" y="247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838080" y="220968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ым национальным продук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28600" y="45720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28600" y="109224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28600" y="1752480"/>
            <a:ext cx="69343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6"/>
          <p:cNvSpPr/>
          <p:nvPr/>
        </p:nvSpPr>
        <p:spPr>
          <a:xfrm>
            <a:off x="7162920" y="1066680"/>
            <a:ext cx="76176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6400800" y="1752480"/>
            <a:ext cx="76212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верх 22"/>
          <p:cNvSpPr/>
          <p:nvPr/>
        </p:nvSpPr>
        <p:spPr>
          <a:xfrm>
            <a:off x="7467480" y="1447920"/>
            <a:ext cx="152640" cy="13716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верх 23"/>
          <p:cNvSpPr/>
          <p:nvPr/>
        </p:nvSpPr>
        <p:spPr>
          <a:xfrm>
            <a:off x="6705720" y="2133720"/>
            <a:ext cx="152280" cy="175248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6248520" y="38498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7086600" y="276876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533520" y="50292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ввп"/>
          <p:cNvPicPr/>
          <p:nvPr/>
        </p:nvPicPr>
        <p:blipFill>
          <a:blip r:embed="rId1"/>
          <a:stretch/>
        </p:blipFill>
        <p:spPr>
          <a:xfrm>
            <a:off x="76320" y="103320"/>
            <a:ext cx="4343400" cy="6602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648320" y="37944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ловой внутренний продук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28600" y="152280"/>
            <a:ext cx="861048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не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нечны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одуктам относятся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межуто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нутренний Валовой Продукт в ценах того года, на который он рас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лятор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История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163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867280" y="762120"/>
            <a:ext cx="311004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0" y="762120"/>
            <a:ext cx="58672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Работы по измерению объёма национального производства начались в 30-ые годы XX века экономистом </a:t>
            </a:r>
            <a:r>
              <a:rPr b="1" lang="ru-RU" sz="2200" spc="-1" strike="noStrike">
                <a:solidFill>
                  <a:srgbClr val="000000"/>
                </a:solidFill>
                <a:latin typeface="Century"/>
              </a:rPr>
              <a:t>Саймоном Кузнецом </a:t>
            </a: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в Департаменте Коммерции СШ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838080" y="133668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838080" y="787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3"/>
          <p:cNvCxnSpPr/>
          <p:nvPr/>
        </p:nvCxnSpPr>
        <p:spPr>
          <a:xfrm flipH="1">
            <a:off x="1904760" y="1371600"/>
            <a:ext cx="16768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5"/>
          <p:cNvCxnSpPr>
            <a:stCxn id="65" idx="2"/>
          </p:cNvCxnSpPr>
          <p:nvPr/>
        </p:nvCxnSpPr>
        <p:spPr>
          <a:xfrm>
            <a:off x="4380480" y="1371240"/>
            <a:ext cx="163908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9"/>
          <p:cNvSpPr/>
          <p:nvPr/>
        </p:nvSpPr>
        <p:spPr>
          <a:xfrm>
            <a:off x="228600" y="3067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029200" y="3067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76212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685800" y="1371600"/>
            <a:ext cx="784872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тый экспор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- разница между экспортом и импортом экспортируемых това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6858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57200" y="1143000"/>
            <a:ext cx="845820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LEGION</cp:lastModifiedBy>
  <dcterms:modified xsi:type="dcterms:W3CDTF">2016-01-04T14:01:51Z</dcterms:modified>
  <cp:revision>23</cp:revision>
  <dc:subject/>
  <dc:title>Вв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