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CA70-8D1F-44D9-BAA0-727144DF42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чистым национальным продук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национальным доход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внутренний продукт 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ые товары 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онечным продуктам относятся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ежуточные товары 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ый ВВП — Внутренний Валовой Продукт в ценах того года, на который он рассчит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й ВВП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лятор ВВП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рия происх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о измерению объёма национального производства начались в 30-ые годы XX века экономистом Саймоном Кузнецом в Департаменте Коммерции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й экспорт - разница между экспортом и импортом экспортируемых това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701-5F3B-4217-B05C-8DACB56C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68CA-687F-4CA7-B71D-44CB0DB0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5B2-8A15-48BA-9C90-9991A057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49B-7705-435A-8F33-CFC12D610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D1F8-7E74-4ED9-B2BC-DC53A102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5B0-49D2-4400-A6B8-3A3B0291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0A72-5E18-4EBE-963F-B28B7CFE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563F-12A9-4643-A912-9C2C7C32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92F-4EF7-4B5F-A2DF-A0916769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9B1-7E4E-45E6-81FF-4D0CB8AC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796-3299-47DB-8E18-3FAB012F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68B4-D5C3-4597-BAAF-2B2BB7B8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71AA-B7F4-4E8E-842D-B221F576EA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18aa9"/>
                </a:solidFill>
                <a:latin typeface="MS Mincho"/>
              </a:rPr>
              <a:t>ввп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7792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800px-GDP_nominal_per_capita_world_map_IMF_2008"/>
          <p:cNvPicPr/>
          <p:nvPr/>
        </p:nvPicPr>
        <p:blipFill>
          <a:blip r:embed="rId1"/>
          <a:srcRect l="3846" t="0" r="5386" b="0"/>
          <a:stretch/>
        </p:blipFill>
        <p:spPr>
          <a:xfrm>
            <a:off x="0" y="1978200"/>
            <a:ext cx="9126360" cy="44971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304920" y="2476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истый национальный продукт и национальный дох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838080" y="2209680"/>
            <a:ext cx="76201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истым национальным продук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 часть ВНП, которая остаётся за вычетом амортизационных отчислений и косвенных налогов,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ы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28600" y="45720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алово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"/>
          <p:cNvSpPr/>
          <p:nvPr/>
        </p:nvSpPr>
        <p:spPr>
          <a:xfrm>
            <a:off x="228600" y="1092240"/>
            <a:ext cx="769608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истый национальный продук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228600" y="1752480"/>
            <a:ext cx="693432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циональный дохо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6"/>
          <p:cNvSpPr/>
          <p:nvPr/>
        </p:nvSpPr>
        <p:spPr>
          <a:xfrm>
            <a:off x="7162920" y="1066680"/>
            <a:ext cx="76176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7"/>
          <p:cNvSpPr/>
          <p:nvPr/>
        </p:nvSpPr>
        <p:spPr>
          <a:xfrm>
            <a:off x="6400800" y="1752480"/>
            <a:ext cx="762120" cy="609840"/>
          </a:xfrm>
          <a:prstGeom prst="rect">
            <a:avLst/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2"/>
          <p:cNvSpPr/>
          <p:nvPr/>
        </p:nvSpPr>
        <p:spPr>
          <a:xfrm>
            <a:off x="7467480" y="1447920"/>
            <a:ext cx="152640" cy="1371600"/>
          </a:xfrm>
          <a:prstGeom prst="upArrow">
            <a:avLst>
              <a:gd name="adj1" fmla="val 50000"/>
              <a:gd name="adj2" fmla="val 499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3"/>
          <p:cNvSpPr/>
          <p:nvPr/>
        </p:nvSpPr>
        <p:spPr>
          <a:xfrm>
            <a:off x="6705720" y="2133720"/>
            <a:ext cx="152280" cy="1752480"/>
          </a:xfrm>
          <a:prstGeom prst="upArrow">
            <a:avLst>
              <a:gd name="adj1" fmla="val 50000"/>
              <a:gd name="adj2" fmla="val 50029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6248520" y="384984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5"/>
          <p:cNvSpPr/>
          <p:nvPr/>
        </p:nvSpPr>
        <p:spPr>
          <a:xfrm>
            <a:off x="7086600" y="276876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мортизационные от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6"/>
          <p:cNvSpPr/>
          <p:nvPr/>
        </p:nvSpPr>
        <p:spPr>
          <a:xfrm>
            <a:off x="533520" y="50292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сли из ВНП вычесть амортизационные отчисления, то мы получим чистый национальный продукт. Если затем из чистого национального продукта вычесть косвенные налоги, то мы получим величину национального дох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ввп"/>
          <p:cNvPicPr/>
          <p:nvPr/>
        </p:nvPicPr>
        <p:blipFill>
          <a:blip r:embed="rId1"/>
          <a:stretch/>
        </p:blipFill>
        <p:spPr>
          <a:xfrm>
            <a:off x="76320" y="103320"/>
            <a:ext cx="4343400" cy="660240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648320" y="379440"/>
            <a:ext cx="411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ловой внутренний продук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ВП) – это общая стоимость, или сумма рыночных цен, всех конечных товаров и услуг, произведённых в данной стране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228600" y="152280"/>
            <a:ext cx="8610480" cy="61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не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товары и услуги, приобретаемые на протяжении года конечными потребителями и не использующиеся в качестве промежуточных продуктов в производстве продук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нечны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одуктам относятся 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1. Потребительские товары (служат для удовлетворения личных потребностей людей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) Товары длительного пользования (автомобили, телерадиооборудование, бытовая техника, мебел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Б) Товары кратковременного использования (продовольствие и напитки, одежда и обувь, лекарства и пр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. Личные потребительские услуги (служат для удовлетворения личных потребностей людей и обеспечивают их жизнедеятельность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. Все вновь построенные здания и сооружения и вновь изготовленные машины и оборудова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межуточные товары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-  товары, приобретаемые для перепродажи, первичной обработки или изготовления из них конечного изделия в течение данного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9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9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мин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нутренний Валовой Продукт в ценах того года, на который он рассчит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альный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— выражен в ценах предыдущего или любого другого базового года. В реальном ВВП учитывается, в какой степени рост ВВП определяется реальным ростом производства, а не ростом ц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флятор ВВП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индекс цен, рассчитываемый для всех произведенных в экономике товаров и услуг, исчисляется как отношение номинального ВВП к реальному ВВ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История происхож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3163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867280" y="762120"/>
            <a:ext cx="311004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7"/>
          <p:cNvSpPr/>
          <p:nvPr/>
        </p:nvSpPr>
        <p:spPr>
          <a:xfrm>
            <a:off x="0" y="762120"/>
            <a:ext cx="5867280" cy="60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Работы по измерению объёма национального производства начались в 30-ые годы XX века экономистом </a:t>
            </a:r>
            <a:r>
              <a:rPr b="1" lang="ru-RU" sz="2200" spc="-1" strike="noStrike">
                <a:solidFill>
                  <a:srgbClr val="000000"/>
                </a:solidFill>
                <a:latin typeface="Century"/>
              </a:rPr>
              <a:t>Саймоном Кузнецом </a:t>
            </a: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в Департаменте Коммерции СШ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Первые оценки национального дохода сделаны Кузнецом в 1934 году. В этой работе впервые появились счета национального дохода и продукта. Кузнец пересчитал счета национального дохода США до 1869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"/>
              </a:rPr>
              <a:t>До 1991 года базовым показателем в макроэкономических исследованиях был Валовой национальный продукт. ВВП стал основным индикатором для совместимости с Системой Национальных Счетов Организации Объединённых Нац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838080" y="1336680"/>
            <a:ext cx="7772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ловой национальный продукт (ВНП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это общая стоимость, или сумма рыночных цен, всех конечных товаров и услуг, произведённых факторами производства данной страны как в пределах её границ, так и в других стра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1"/>
          <p:cNvSpPr/>
          <p:nvPr/>
        </p:nvSpPr>
        <p:spPr>
          <a:xfrm>
            <a:off x="838080" y="7873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ы подсчёта ВВ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Прямая со стрелкой 3"/>
          <p:cNvCxnSpPr/>
          <p:nvPr/>
        </p:nvCxnSpPr>
        <p:spPr>
          <a:xfrm flipH="1">
            <a:off x="1904760" y="1371600"/>
            <a:ext cx="1676880" cy="144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5"/>
          <p:cNvCxnSpPr>
            <a:stCxn id="65" idx="2"/>
          </p:cNvCxnSpPr>
          <p:nvPr/>
        </p:nvCxnSpPr>
        <p:spPr>
          <a:xfrm>
            <a:off x="4380480" y="1371240"/>
            <a:ext cx="1639080" cy="16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TextBox 9"/>
          <p:cNvSpPr/>
          <p:nvPr/>
        </p:nvSpPr>
        <p:spPr>
          <a:xfrm>
            <a:off x="228600" y="306720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5029200" y="30672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76212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685800" y="1371600"/>
            <a:ext cx="784872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тод суммирования потока затра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ит в суммировании личных, потребительских расходов населения, валовых внутренних инвестиций частных фирм, государственных закупок товаров и услуг и чистого экспорта товаров и услуг в течение г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ые потребительские рас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и частных фи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енные закупки товаров и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тый экспорт (торговый балан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истый экспор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 - разница между экспортом и импортом экспортируемых товар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685800" y="380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тод суммирования потока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"/>
          <p:cNvSpPr/>
          <p:nvPr/>
        </p:nvSpPr>
        <p:spPr>
          <a:xfrm>
            <a:off x="457200" y="1143000"/>
            <a:ext cx="8458200" cy="50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оимость ВВП равна добавленной стоимости, которая создана всеми отраслями экономики, или сумме факторных доходов и амортизации основного капитала во всех отраслях экономи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исчислении этим методом должны быть учтены следующие дохо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работная плата (включая отпускные, премии и п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быль, проценты, дивиденды и р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ходы мелких предпринимателей, в частности фермеров, которые не используют наёмный труд и доход которых не распадается на заработную плату и прибы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мортизационные отчисления – часть денежного дохода всех фирм, которая предназначена для того, чтобы возместить износ зданий, сооружений, машин и обору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свенные нало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LEGION</cp:lastModifiedBy>
  <dcterms:modified xsi:type="dcterms:W3CDTF">2016-01-04T14:01:51Z</dcterms:modified>
  <cp:revision>23</cp:revision>
  <dc:subject/>
  <dc:title>Вв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