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A2C7-771A-4423-B468-EE8C608EB3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национальный продукт и националь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 часть ВНП, которая остаётся за вычетом амортизационных отчислений, называется чистым национальным продук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 часть ВНП, которая остаётся за вычетом амортизационных отчислений и косвенных налогов, называется национальным дох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национальный продукт и национальный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, называется чистым национальным продук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 и косвенных налогов, называется национальным дох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онные от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внутренний продукт 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ые товары 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ечным продуктам относятся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требительские товары (служат для удовлетворения личных потребностей людей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ые товары 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ые товары 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нечным продуктам относятся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требительские товары (служат для удовлетворения личных потребностей людей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ежуточные товары 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ый ВВП — Внутренний Валовой Продукт в ценах того года, на который он рассчи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ВВП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лятор ВВП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ВП — Внутренний Валовой Продукт в ценах того года, на который он рассчит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ВП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лятор ВВП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роисх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о измерению объёма национального производства начались в 30-ые годы XX века экономистом Саймоном Кузнецом в Департаменте Коммерци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оисх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по измерению объёма национального производства начались в 30-ые годы XX века экономистом Саймоном Кузнецом в Департаменте Коммерци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 (ВНП) 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одсчёта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одсчёта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 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потребительские рас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частны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 (торговый балан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 - разница между экспортом и импортом экспортируемы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 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потребительские 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частных фи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закупки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(торговый балан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 - разница между экспортом и импортом экспортируемых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числении этим методом должны быть учтены следующие дох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 (включая отпускные, премии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, проценты, дивиденды и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исчислении этим методом должны быть учтены следующие дохо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ботная плата (включая отпускные, премии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, проценты, дивиденды и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6B9-907B-4BF7-A25C-EE3237CD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DBF-2AA2-49D7-9441-F992FC3C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477F-B664-46F5-B757-7ECEEC14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EDD-80EB-4555-ACB1-01D56560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2F74-15C5-453C-88CC-2E512285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3F7-F2EC-44D3-8AC5-B39627A8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3C0-52F2-4B0F-8395-E67EAC9A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633-68DC-4060-A4AA-116F408D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65E-C985-472B-BEC6-24347A52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926-387A-44BD-9D60-762304E6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923-6402-4302-BCF4-643D8402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993-268B-4097-B74D-6452638B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3CD8-C7D7-46EC-AB42-26E6EC0D4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18aa9"/>
                </a:solidFill>
                <a:latin typeface="MS Mincho"/>
              </a:rPr>
              <a:t>вв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77920"/>
            <a:ext cx="640080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800px-GDP_nominal_per_capita_world_map_IMF_2008"/>
          <p:cNvPicPr/>
          <p:nvPr/>
        </p:nvPicPr>
        <p:blipFill>
          <a:blip r:embed="rId1"/>
          <a:srcRect l="3846" t="0" r="5386" b="0"/>
          <a:stretch/>
        </p:blipFill>
        <p:spPr>
          <a:xfrm>
            <a:off x="0" y="1978200"/>
            <a:ext cx="9126360" cy="44971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304920" y="247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тый национальный продукт и национальный до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838080" y="2209680"/>
            <a:ext cx="7620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тым национальным продук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 и косвенных налогов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28600" y="457200"/>
            <a:ext cx="769608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аловой национальный проду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228600" y="1092240"/>
            <a:ext cx="769608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истый национальный проду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28600" y="1752480"/>
            <a:ext cx="69343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циональный дох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6"/>
          <p:cNvSpPr/>
          <p:nvPr/>
        </p:nvSpPr>
        <p:spPr>
          <a:xfrm>
            <a:off x="7162920" y="1066680"/>
            <a:ext cx="761760" cy="609840"/>
          </a:xfrm>
          <a:prstGeom prst="rect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7"/>
          <p:cNvSpPr/>
          <p:nvPr/>
        </p:nvSpPr>
        <p:spPr>
          <a:xfrm>
            <a:off x="6400800" y="1752480"/>
            <a:ext cx="762120" cy="609840"/>
          </a:xfrm>
          <a:prstGeom prst="rect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верх 22"/>
          <p:cNvSpPr/>
          <p:nvPr/>
        </p:nvSpPr>
        <p:spPr>
          <a:xfrm>
            <a:off x="7467480" y="1447920"/>
            <a:ext cx="152640" cy="1371600"/>
          </a:xfrm>
          <a:prstGeom prst="upArrow">
            <a:avLst>
              <a:gd name="adj1" fmla="val 50000"/>
              <a:gd name="adj2" fmla="val 499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верх 23"/>
          <p:cNvSpPr/>
          <p:nvPr/>
        </p:nvSpPr>
        <p:spPr>
          <a:xfrm>
            <a:off x="6705720" y="2133720"/>
            <a:ext cx="152280" cy="1752480"/>
          </a:xfrm>
          <a:prstGeom prst="upArrow">
            <a:avLst>
              <a:gd name="adj1" fmla="val 50000"/>
              <a:gd name="adj2" fmla="val 5002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6248520" y="38498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5"/>
          <p:cNvSpPr/>
          <p:nvPr/>
        </p:nvSpPr>
        <p:spPr>
          <a:xfrm>
            <a:off x="7086600" y="276876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мортизационные от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6"/>
          <p:cNvSpPr/>
          <p:nvPr/>
        </p:nvSpPr>
        <p:spPr>
          <a:xfrm>
            <a:off x="533520" y="502920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ввп"/>
          <p:cNvPicPr/>
          <p:nvPr/>
        </p:nvPicPr>
        <p:blipFill>
          <a:blip r:embed="rId1"/>
          <a:stretch/>
        </p:blipFill>
        <p:spPr>
          <a:xfrm>
            <a:off x="76320" y="103320"/>
            <a:ext cx="4343400" cy="6602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648320" y="379440"/>
            <a:ext cx="411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ловой внутренний продук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28600" y="152280"/>
            <a:ext cx="861048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онечные товар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нечны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одуктам относятся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Потребительские товары (служат для удовлетворения личных потребностей людей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омежуточные товар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минальный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Внутренний Валовой Продукт в ценах того года, на который он рассчи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ьный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лятор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"/>
              </a:rPr>
              <a:t>История происх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3163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867280" y="762120"/>
            <a:ext cx="311004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0" y="762120"/>
            <a:ext cx="5867280" cy="60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Работы по измерению объёма национального производства начались в 30-ые годы XX века экономистом </a:t>
            </a:r>
            <a:r>
              <a:rPr b="1" lang="ru-RU" sz="2200" spc="-1" strike="noStrike">
                <a:solidFill>
                  <a:srgbClr val="000000"/>
                </a:solidFill>
                <a:latin typeface="Century"/>
              </a:rPr>
              <a:t>Саймоном Кузнецом </a:t>
            </a: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в Департаменте Коммерции СШ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838080" y="133668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838080" y="7873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подсчёта ВВ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3"/>
          <p:cNvCxnSpPr/>
          <p:nvPr/>
        </p:nvCxnSpPr>
        <p:spPr>
          <a:xfrm flipH="1">
            <a:off x="1904760" y="1371600"/>
            <a:ext cx="167688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Прямая со стрелкой 5"/>
          <p:cNvCxnSpPr>
            <a:stCxn id="65" idx="2"/>
          </p:cNvCxnSpPr>
          <p:nvPr/>
        </p:nvCxnSpPr>
        <p:spPr>
          <a:xfrm>
            <a:off x="4380480" y="1371240"/>
            <a:ext cx="163908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TextBox 9"/>
          <p:cNvSpPr/>
          <p:nvPr/>
        </p:nvSpPr>
        <p:spPr>
          <a:xfrm>
            <a:off x="228600" y="3067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5029200" y="3067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76212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685800" y="1371600"/>
            <a:ext cx="7848720" cy="43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ые потребительские 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стиции частных фи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е закупки товаров и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тый экспорт (торговый балан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истый экспор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- разница между экспортом и импортом экспортируемых това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68580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457200" y="1143000"/>
            <a:ext cx="8458200" cy="50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счислении этим методом должны быть учтены следующие дох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работная плата (включая отпускные, премии и п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ыль, проценты, дивиденды и р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LEGION</cp:lastModifiedBy>
  <dcterms:modified xsi:type="dcterms:W3CDTF">2016-01-04T14:01:51Z</dcterms:modified>
  <cp:revision>23</cp:revision>
  <dc:subject/>
  <dc:title>Вв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