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6A7B-C91C-4A6A-902F-B85602161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216-3F67-419B-B569-361D28E1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E747-0104-4CFD-BF9C-657AAFC7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3E7-E274-4B5B-8428-13FCB759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CD8-2936-4A9F-877C-ADABA70A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AB5-F988-456A-AE59-7A19E79B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2EF-4A08-43E2-AB15-6CCBA062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703C-3E25-410A-99E7-BF078459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1CB-8870-4EB8-97BA-6C2A396F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8DC-2EC3-4001-950A-740E3B1F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53B-73C1-4E2D-B557-CE332721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BD77-2963-4080-90CC-F979DD81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30D-569C-4DE3-A224-C2245682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2CCD-6567-476C-B631-BAEA7725E3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aa9"/>
                </a:solidFill>
                <a:latin typeface="MS Mincho"/>
              </a:rPr>
              <a:t>вв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7792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0px-GDP_nominal_per_capita_world_map_IMF_2008"/>
          <p:cNvPicPr/>
          <p:nvPr/>
        </p:nvPicPr>
        <p:blipFill>
          <a:blip r:embed="rId1"/>
          <a:srcRect l="3846" t="0" r="5386" b="0"/>
          <a:stretch/>
        </p:blipFill>
        <p:spPr>
          <a:xfrm>
            <a:off x="0" y="1978200"/>
            <a:ext cx="9126360" cy="44971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47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38080" y="22096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м национальным продук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28600" y="45720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8600" y="109224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8600" y="1752480"/>
            <a:ext cx="6934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7162920" y="1066680"/>
            <a:ext cx="76176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6400800" y="1752480"/>
            <a:ext cx="76212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2"/>
          <p:cNvSpPr/>
          <p:nvPr/>
        </p:nvSpPr>
        <p:spPr>
          <a:xfrm>
            <a:off x="7467480" y="1447920"/>
            <a:ext cx="152640" cy="1371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3"/>
          <p:cNvSpPr/>
          <p:nvPr/>
        </p:nvSpPr>
        <p:spPr>
          <a:xfrm>
            <a:off x="6705720" y="213372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248520" y="38498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086600" y="27687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33520" y="5029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ввп"/>
          <p:cNvPicPr/>
          <p:nvPr/>
        </p:nvPicPr>
        <p:blipFill>
          <a:blip r:embed="rId1"/>
          <a:stretch/>
        </p:blipFill>
        <p:spPr>
          <a:xfrm>
            <a:off x="76320" y="103320"/>
            <a:ext cx="4343400" cy="66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648320" y="37944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овой внутренний продук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8600" y="152280"/>
            <a:ext cx="86104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не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ечны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одуктам относятся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межуто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ий Валовой Продукт в ценах того года, на который он рас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лятор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16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867280" y="762120"/>
            <a:ext cx="311004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762120"/>
            <a:ext cx="58672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Работы по измерению объёма национального производства начались в 30-ые годы XX века экономистом </a:t>
            </a:r>
            <a:r>
              <a:rPr b="1" lang="ru-RU" sz="2200" spc="-1" strike="noStrike">
                <a:solidFill>
                  <a:srgbClr val="000000"/>
                </a:solidFill>
                <a:latin typeface="Century"/>
              </a:rPr>
              <a:t>Саймоном Кузнецом </a:t>
            </a: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в Департаменте Коммерции С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38080" y="133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838080" y="787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"/>
          <p:cNvCxnSpPr/>
          <p:nvPr/>
        </p:nvCxnSpPr>
        <p:spPr>
          <a:xfrm flipH="1">
            <a:off x="1904760" y="1371600"/>
            <a:ext cx="16768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>
            <a:stCxn id="65" idx="2"/>
          </p:cNvCxnSpPr>
          <p:nvPr/>
        </p:nvCxnSpPr>
        <p:spPr>
          <a:xfrm>
            <a:off x="4380480" y="1371240"/>
            <a:ext cx="1639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228600" y="3067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29200" y="306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76212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685800" y="1371600"/>
            <a:ext cx="784872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тый экспор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разница между экспортом и импортом экспортируемы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858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57200" y="1143000"/>
            <a:ext cx="845820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LEGION</cp:lastModifiedBy>
  <dcterms:modified xsi:type="dcterms:W3CDTF">2016-01-04T14:01:51Z</dcterms:modified>
  <cp:revision>23</cp:revision>
  <dc:subject/>
  <dc:title>Вв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