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5B7-AACB-41A7-B870-CD2E65B3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440-0EE9-4F55-A977-BA6FD6C5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F5E-EEB0-4AFF-9C2C-0340C4C3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212-8222-4734-BB30-F269FF53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250B-B110-46F0-8BFD-64B2E06B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59F3-A3BE-4504-83A2-7AE682D6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EA78-2F9B-4F37-B16B-7DDF1A5E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97BC-A8D0-4B24-9BFD-ACB09C0D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2E28-CE40-4F61-8FF1-D67A75EC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D8A9-7E72-494E-B3B7-4C8B73EE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2716-F122-4AFC-8E2D-08B31F42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7A7-944A-449F-9411-21A4B8D4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A1B4-74EA-4958-916A-766428B7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5840-0A29-471E-AE09-3B2E0552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D6D7-9B38-4FC0-BED4-D68F11DA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9856-5B43-4A17-8FF4-E3CA03F35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817E-0F67-477C-ABB7-33AE2BCA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2F51F-61D5-4578-903A-FD94D8B0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55FF3-C101-4608-99FA-CFE4466A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EF21B-F419-4AD4-8486-4D2D2466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DD3C6-CF89-4928-B821-FF846F49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10E27-F881-4394-82A1-6CEB0741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9F8-38E6-4F0F-89BC-25BA8216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586FF-82EE-4B6B-B5AB-85CE29FA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7A3D4-52E8-4489-981C-08C6D6FE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87A03-6966-4CA4-A149-4424DB92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DF949-5C44-4A85-A2E2-BE944CD7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785F9-4E37-46A1-A975-20A807E6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501EE-612B-4C54-8486-79103C5A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2FEC8-F530-4298-88BF-31BC66335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D3092-6DCB-45FC-A1ED-047F53E0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D6B89-3903-494C-9B81-03E47162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A2C022-DA32-48EF-9991-4FF9DEAD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E2E4-DC17-496C-B816-49450A43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EC191-FAC6-4704-81B4-9456F6C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5AA1CD-9CAB-4B33-921F-3ADCA09B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8BB0D-6330-4522-A995-03EBABEB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C886BE-449B-4E5E-B663-A78CC048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A97CE6-2694-4686-BB6B-1EDDD261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13E12B-C4C5-46F0-BDBB-03EF3EA2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73409-74D1-4CB3-84EF-6856116E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7E9BDD-B452-4E32-AFF1-6B329A790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F2C91-DD59-48A9-9EEF-EBDCD01E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9DB-0EF6-4C5D-A351-443049BA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F1B-7E55-4614-9DD6-6C9B97D6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8246-1212-4744-A1AB-6780829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B2C5-DEF7-4AC4-B83C-D5E14C67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9B2-DD51-4EA7-BAF8-0D3F7BFB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E922-7B04-4278-9B3B-75B3BD1E83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1945-6A18-44BE-A0C5-A2F4B0244E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F0B3-E5C5-4257-B26C-00342FD13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2334-627A-4E2C-A516-1B0B2D5E1B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Природа (39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ГЛАВА №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49228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ЛОВЫЙ ВНУТРЕННИЙ ПРОДУКТ (ВВП)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ЖНЕЙШИЙ ПОКАЗАТЕЛЬ СН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И МЕТОДА РАСЧЕТА ВВ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Organization Chart 7"/>
          <p:cNvGrpSpPr/>
          <p:nvPr/>
        </p:nvGrpSpPr>
        <p:grpSpPr>
          <a:xfrm>
            <a:off x="431640" y="1865160"/>
            <a:ext cx="8208000" cy="4102560"/>
            <a:chOff x="431640" y="1865160"/>
            <a:chExt cx="8208000" cy="4102560"/>
          </a:xfrm>
        </p:grpSpPr>
        <p:cxnSp>
          <p:nvCxnSpPr>
            <p:cNvPr id="233" name="_s1028"/>
            <p:cNvCxnSpPr>
              <a:stCxn id="234" idx="0"/>
              <a:endCxn id="235" idx="2"/>
            </p:cNvCxnSpPr>
            <p:nvPr/>
          </p:nvCxnSpPr>
          <p:spPr>
            <a:xfrm flipV="1" rot="16200000">
              <a:off x="5230080" y="2810880"/>
              <a:ext cx="821160" cy="2210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36" name="_s1029"/>
            <p:cNvCxnSpPr>
              <a:stCxn id="237" idx="0"/>
              <a:endCxn id="235" idx="2"/>
            </p:cNvCxnSpPr>
            <p:nvPr/>
          </p:nvCxnSpPr>
          <p:spPr>
            <a:xfrm flipH="1" flipV="1" rot="5400000">
              <a:off x="3020400" y="2810520"/>
              <a:ext cx="821160" cy="2210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35" name="_s1030"/>
            <p:cNvSpPr/>
            <p:nvPr/>
          </p:nvSpPr>
          <p:spPr>
            <a:xfrm>
              <a:off x="2642040" y="186516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ТИПЫ 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ЫПУСКА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_s1031"/>
            <p:cNvSpPr/>
            <p:nvPr/>
          </p:nvSpPr>
          <p:spPr>
            <a:xfrm>
              <a:off x="43164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_s1032"/>
            <p:cNvSpPr/>
            <p:nvPr/>
          </p:nvSpPr>
          <p:spPr>
            <a:xfrm>
              <a:off x="4851360" y="4326840"/>
              <a:ext cx="3788280" cy="16408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НЕРЫНОЧНЫЙ</a:t>
              </a:r>
              <a:endParaRPr b="0" lang="en-US" sz="33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еализуемые по экономически значимым ценам путем продажи или барте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едоставляемые работникам в качестве оплаты труда в натуральной форм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роизводимые одним заведением предприятия и поставляемые другим заведениям того же предприятия для использования в производстве в том же или последующих период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оступающие в запасы материальных оборотных средств у производителя и предназначенные для рыночного использ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Нерыночный выпуск включает товары и услу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оизводимые экономическими единицами для их собственного конечного потребления или накоп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редоставляемые бесплатно или по ценам, не имеющим экономического значения, другим институциональным единицам, включая услуги, оказываемые обществу в цело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готовую продукцию и незавершенное производство, предназначенные для нерыночного использования и поступающие в запасы материальных оборотных средств у производител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Основная цена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исключая любые подлежащие уплате налоги на продукты и в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Цена производителя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цена, получаемая производителем за товары и услуги, включая подлежащие уплате налоги на продукты и исключая субсидии на продук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Налоги на продукты-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налоги, взимаемые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К ним относятся следующие наиболее распространенные налог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1) налог на добавленную стоимость(НДС) и налоги типа НД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2) акциз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3) налоги на продажи, покупки, налог с оборота и т.п.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4) налоги на отдельные виды услу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5) налоги на прибыль фискальных монопол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) налоги на импорт и экспорт, таможенные пошлин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Субсидии на продукты-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убсидии, выплачиваемые обычно пропорционально количеству или стоимости товаров и услуг, производимых, продаваемых или импортируемых предприятиями- резидент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Расходы на промежуточное потребление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то стоимость товаров и рыночных услуг, потребленных в течение данного периода с целью производства других товаров ил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НИ ВКЛЮЧАЮ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траты сырья, материалов, топлива, энергии, семян, кормов, продуктов питания, медикаментов, канцелярских принадлежностей, спецодежды и т.п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плату работ и услуг, предоставленных другими предприятиями и отдельными лиц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на командировки в части оплаты проезда и гостини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Природа (10)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й внутренний продукт(ВВП)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дин из важнейших показателей системы национальных счетов, который характеризует конечный результат производственной деятельности экономических единиц- резидентов и измеряет стоимость товаров и услуг, произведенных этими единицами для конечного использов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Метод конечного использования ВВП определяется как сумма следующих компонентов: расходы на конечное потребление товаров и услуг, валовое накопление, сальдо экспорта и импорта товаров и усл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Расходы на конечное потребление товаров и услуг —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асходы домашних хозяйств-резидентов на потребительские товары и услуги, а также расходы учреждений государственного управления (бюджетных организаций) и некоммерческих организаций, обслуживающих домашние хозяйства, на товары и услуги для индивидуального и коллективного потребления. Та­кая группировка показывает, кто финансирует расходы на конечное потреб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Расходы на конечное потребление домашних хозяйст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Tahoma"/>
              </a:rPr>
              <a:t>включают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сходы на покупку потребительских товаров и услуг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олученных в натуральной форме в порядке оплаты труда, подарков и т. д.;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требление товаров и услуг, произведенных домашними хозяйствами для собственного конечного потребле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1993г. ВВЕДЕН ПОКАЗАТЕЛЬ ФАКТИЧЕСКОГО КОНЕЧНОГО ПОТРЕБЛЕН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Валовое накопление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резидентами товаров и услуг, произведенных и оказанных в текущем периоде, но не потребленных в н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аловое накопление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накопление основного капита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чистое приобретение ценносте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представляет собой вложение в объекты основного капитала для создания нового дохода в будущем  путем использования их в производств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тличие ВВП от национального доход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это показатель произведенного продукта, который представляет собой стоимость произведенных конечных товаров и услу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нутренний продукт, потому что он произведен резидентами. К резидентам относятся все экономические единицы независимо от их национальной принадлежности и гражданства, имеющий центр экономического интереса на экономической территории данной стран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ВП- это валовой продукт, потому что он исчисляется до вычета потребления основного капитала. Потребление основного капитала представляет собой уменьшение стоимости основного капитала в течение отчетного периода в результате его физического и морального износа и случайных повреждений, не носящих катастрофического характе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НОВНОЙ КАПИТАЛ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то активы, являющиеся результатом производства, которые многократно используются в процессе производства: здания и сооружения, машины и оборудование; скот племенной, рабочий; сады, виноградники и другие насаждения; затраты на геологоразведочные работы; затраты на программное обеспечение; оригиналы литературных и художественных произвед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аловое накопление основного капитала определяется как приобре­тение активов за вычетом выбытия новых и существующих основных фон­д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Оценка составных элементов валового накопления основного капитала производитс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окупке основного капитала по ценам приобретения (ценам покупателя), т. е. включая все затраты на передачу права собственности (стоимость услуг, оказанных адвокатами, агентами по операциям с недвижимостью и другими посредниками, пошлины, комиссионные, налоги и т. п.)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 производстве основного капитала для собственного использования по основным ценам или по затратам на производство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Изменение запасов материальных оборотных средств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- это изменение стоимости произведенных запасов, незавершенного производства, готовой продукции и товаров для перепрода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плата труда наемных работников представляет собой вознаграждение в денежной или натуральной форме, которое должно быть выплачено работодателем наемному работнику за работу, выполненную в отчетн­ом периоде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Она учитывается на основе начисленных сумм и складывается из двух основных компонентов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работная плат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48320" y="2923920"/>
            <a:ext cx="40384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тчисления работодателей на социальное страховани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Экономическая территория- это территория, административно управляемая правительством данной страны, в пределах которой лица, товары и деньги могут свободно перемеща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ВВП может быть исчислен следующими тремя методам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валовой добавленной стоимости (производственный метод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компонентов конечного использования (метод конечного использован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ак сумма первичных доходов (распределительный метод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и расчете производственным методом ВВП исчисляется путем суммирования валовой добавленной стоимости всех производственных единиц- резидентов, сгруппированных по отраслям или секторам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аловая добавленная стоимость</a:t>
            </a: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-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разница между стоимостью произведенных товаров и оказанных услуг(выпуском) и стоимостью товаров и услуг, полностью потребленных в процессе производств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ahoma"/>
              </a:rPr>
              <a:t>Выпуск-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э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тоимость товаров и услуг, произведенных и оказанных экономическими единицами- резидентами за рассматриваемый пери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Выпуск включает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се товары независимо от их исполь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, предоставленные другим институциональным единицам, в частности, нерыночные услуги органов государственного управления и некоммерческих организа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услуги домашних хозяйств по проживанию в собственном жилище и домашние услуги, оказываемые оплачиваемой домашней прислуг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0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9:13:19Z</dcterms:created>
  <dc:creator>Лена</dc:creator>
  <dc:description/>
  <dc:language>en-US</dc:language>
  <cp:lastModifiedBy>LEGION</cp:lastModifiedBy>
  <dcterms:modified xsi:type="dcterms:W3CDTF">2016-01-04T14:02:00Z</dcterms:modified>
  <cp:revision>11</cp:revision>
  <dc:subject/>
  <dc:title>ГЛАВА №7</dc:title>
</cp:coreProperties>
</file>