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EC4-CD97-4BF1-B619-2C2199F7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AFC-0AD1-45C3-8332-48DE67C5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CA4E-F33D-4866-8E55-33DA6C11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0CC-DC6A-4C50-BA82-11794685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3037-A7F4-40F7-97CA-C4055673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7334-447F-4EFF-A921-63DC3411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0658-EA8D-47DA-873F-911C4690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EC94-2A37-4668-92C9-C91F1EC4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A80-47B6-449A-B459-6B543D2B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9B96-6DF7-48F5-A211-8F243036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EF79-BE0B-4DC9-9150-4CCA0F9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9F5-30BF-4D6C-846A-9ECF1CCE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1EA5-294F-4963-A19E-5F625FC1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AE52-F244-407E-A6F6-E097F1D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0CCA-8DFC-4C8C-89F2-B08F5C19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F3E6-3592-41A4-A30C-C94E4F5C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38EF-307C-4309-BF2B-04F5F56C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57BDB-E5AA-47F5-AFBA-B36EB843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98BE4-A214-460E-948C-4B308142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BD649-4AE5-4850-BAE7-53179906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7AC14-1030-4159-84B0-4BDCE736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4BD04-EFA0-42E5-8112-BA5107CC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65A-4C1D-45CB-8A8D-933568AC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C3863-F0DE-40F2-B85A-2B6B74A2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2C10E-44BD-479C-9A8E-567C4B94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0154E-A464-4A67-9CEC-505FD57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D565F-904B-41C1-92F4-F61E65C2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7A970-463E-4F92-B4FA-EF27514B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B1DDE-D05D-4B1A-8BDB-C1598FE2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B7155-EF6A-4227-B82B-FE372F0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CAC97E-99FB-4B68-9194-AE599C8F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C69A9-B199-424A-9705-EC686F0A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92EDD5-B338-4AC1-9042-6A26F17C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0D2-99EF-48E5-A070-9334E16F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44261-5B4E-426F-A798-238E21BA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C6D85-6781-4DB4-8A4E-1133E889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BBBBB-B040-4D54-8369-6D47D09B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524BA-F53A-4DA0-A62C-DC90491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0F115-0325-47D6-90F0-A74A49F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387B9-7556-4F20-9A8B-8E42F1D9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999C2-D188-4B74-A799-6036D63C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5C803-2D87-496C-8462-8B9F47BD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24318-54BB-4202-B048-894610D8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C23-7DFF-477F-ABB0-97D94B23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F33-B68E-4EA8-8BB7-9D273337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99F-93C9-403E-A71B-6057CCA2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6AA-5DF3-4BB1-8420-31C65569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77F6-8AEE-4316-A7CD-D902E7A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5B39-C56C-4506-B2B6-DD01C2888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D222-18EA-4CD5-A773-DDF9CE33F1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41B1-135C-498F-B3FB-EA77B4F6DF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6E5F-E5DC-4CA3-9E25-7E8CAD97E5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Природа (39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№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ОВЫЙ ВНУТРЕННИЙ ПРОДУКТ (ВВП)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Й ПОКАЗАТЕЛЬ СН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ЕТОДА РАСЧЕТА ВВ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7"/>
          <p:cNvGrpSpPr/>
          <p:nvPr/>
        </p:nvGrpSpPr>
        <p:grpSpPr>
          <a:xfrm>
            <a:off x="431640" y="1865160"/>
            <a:ext cx="8208000" cy="4102560"/>
            <a:chOff x="431640" y="1865160"/>
            <a:chExt cx="8208000" cy="4102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30080" y="2810880"/>
              <a:ext cx="821160" cy="2210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0400" y="2810520"/>
              <a:ext cx="821160" cy="221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1030"/>
            <p:cNvSpPr/>
            <p:nvPr/>
          </p:nvSpPr>
          <p:spPr>
            <a:xfrm>
              <a:off x="2642040" y="186516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ТИП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ЫПУСКА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031"/>
            <p:cNvSpPr/>
            <p:nvPr/>
          </p:nvSpPr>
          <p:spPr>
            <a:xfrm>
              <a:off x="43164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85136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НЕ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ализуемые по экономически значимым ценам путем продажи или барт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едоставляемые работникам в качестве оплаты труда в натуральн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изводимые одним заведением предприятия и поставляемые другим заведениям того же предприятия для использования в производстве в том же или последующих период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оступающие в запасы материальных оборотных средств у производителя и предназначенные для рыночного исполь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е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изводимые экономическими единицами для их собственного конечного потребления или накоп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оставляемые бесплатно или по ценам, не имеющим экономического значения, другим институциональным единицам, включая услуги, оказываемые обществу в це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редназначенные для нерыночного использования и поступающие в запасы материальных оборотных средств у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сновная цен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исключая любые подлежащие уплате налоги на продукты и в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Цена производителя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включая подлежащие уплате налоги на продукты и ис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логи на продукты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логи, взимаемые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 ним относятся следующие наиболее распространенные нало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) налог на добавленную стоимость(НДС) и налоги типа НД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) акци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) налоги на продажи, покупки, налог с оборота и т.п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) налоги на отдельные виды услу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) налоги на прибыль фискальных монопол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) налоги на импорт и экспорт, таможенные пош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бсидии на продукты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убсидии, выплачиваемые обычно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ходы на промежуточное потребление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тоимость товаров и рыночных услуг, потребленных в течение данного периода с целью производства других товаров ил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НИ ВКЛЮЧАЮ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раты сырья, материалов, топлива, энергии, семян, кормов, продуктов питания, медикаментов, канцелярских принадлежностей, спецодежд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плату работ и услуг, предоставленных другими предприятиями и отдель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на командировки в части оплаты проезда и гостини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Природа (10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й внутренний продукт(ВВП)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дин из важнейших показателей системы национальных счетов, который характеризует конечный результат производственной деятельности экономических единиц- резидентов и измеряет стоимость товаров и услуг, произведенных этими единицами для конечного ис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етод конечного использования ВВП определяется как сумма следующих компонентов: расходы на конечное потребление товаров и услуг, валовое накопление, сальдо экспорта и импорта товаров 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асходы на конечное потребление товаров и услуг 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домашних хозяйств-резидентов на потребительские товары и услуги, а также расходы учреждений государственного управления (бюджетных организаций) и некоммерческих организаций, обслуживающих домашние хозяйства, на товары и услуги для индивидуального и коллективного потребления. Та­кая группировка показывает, кто финансирует расходы на конечное потре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асходы на конечное потребление домашних хозяйст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Tahoma"/>
              </a:rPr>
              <a:t>включают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сходы на покупку потребительских товаров и услуг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олученных в натуральной форме в порядке оплаты труда, подарков и т. д.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роизведенных домашними хозяйствами для собственного конечного потребл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1993г. ВВЕДЕН ПОКАЗАТЕЛЬ ФАКТИЧЕСКОГО КОНЕЧНОГО ПОТРЕБ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аловое накопление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резидентами товаров и услуг, произведенных и оказанных в текущем периоде, но не потребленных в 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е накопление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копление основного капит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ценнос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представляет собой вложение в объекты основного капитала для создания нового дохода в будущем  путем использования их в производств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личие ВВП от национального дохо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это показатель произведенного продукта, который представляет собой стоимость произведенных конечны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нутренний продукт, потому что он произведен резидентами. К резидентам относятся все экономические единицы независимо от их национальной принадлежности и гражданства, имеющий центр экономического интереса на экономической территории данной стра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аловой продукт, потому что он исчисляется до вычета потребления основного капитала. Потребление основного капитала представляет собой уменьшение стоимости основного капитала в течение отчетного периода в результате его физического и морального износа и случайных повреждений, не носящих катастрофического харак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ОЙ КАПИТАЛ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активы, являющиеся результатом производства, которые многократно используются в процессе производства: здания и сооружения, машины и оборудование; скот племенной, рабочий; сады, виноградники и другие насаждения; затраты на геологоразведочные работы; затраты на программное обеспечение; оригиналы литературных и художественных произве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определяется как приобре­тение активов за вычетом выбытия новых и существующих основных фон­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ценка составных элементов валового накопления основного капитала производ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окупке основного капитала по ценам приобретения (ценам покупателя), т. е. включая все затраты на передачу права собственности (стоимость услуг, оказанных адвокатами, агентами по операциям с недвижимостью и другими посредниками, пошлины, комиссионные, налоги и т. п.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роизводстве основного капитала для собственного использования по основным ценам или по затратам на производств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это изменение стоимости произведенных запасов, незавершенного производства, готовой продукции и товаров для перепрода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плата труда наемных работников представляет собой вознаграждение в денежной или натуральной форме, которое должно быть выплачено работодателем наемному работнику за работу, выполненную в отчетн­ом период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на учитывается на основе начисленных сумм и складывается из двух основных компонентов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числения работодателей на социальное страхо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кономическая территория- это территория, административно управляемая правительством данной страны, в пределах которой лица, товары и деньги могут свободно перемещ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ВП может быть исчислен следующими тремя метода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валовой добавленной стоимости (производственный метод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компонентов конечного использования (метод конечного использов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первичных доходов (распределительный мето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 расчете производственным методом ВВП исчисляется путем суммирования валовой добавленной стоимости всех производственных единиц- резидентов, сгруппированных по отраслям или сек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ловая добавленная стоимость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ница между стоимостью произведенных товаров и оказанных услуг(выпуском) и стоимостью товаров и услуг, полностью потребленных в процессе производств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пуск-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оимость товаров и услуг, произведенных и оказанных экономическими единицами- резидентами за рассматриваемый пери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ыпуск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е товары независимо от их исполь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, предоставленные другим институциональным единицам, в частности, нерыночные услуги органов государственного управления и некоммерчески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 домашних хозяйств по проживанию в собственном жилище и домашние услуги, оказываемые оплачиваемой домашней прислуг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9:13:19Z</dcterms:created>
  <dc:creator>Лена</dc:creator>
  <dc:description/>
  <dc:language>en-US</dc:language>
  <cp:lastModifiedBy>LEGION</cp:lastModifiedBy>
  <dcterms:modified xsi:type="dcterms:W3CDTF">2016-01-04T14:02:00Z</dcterms:modified>
  <cp:revision>11</cp:revision>
  <dc:subject/>
  <dc:title>ГЛАВА №7</dc:title>
</cp:coreProperties>
</file>