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694-7FDC-4E70-AAEE-787B7C0C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115-FED6-4616-B790-FB6B4CC6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266-1D51-4A14-B355-6B3DFD10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867-1D3D-48A9-9771-8E65ED39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CA00-F36B-4139-A282-447DE259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C2E2-10DD-4F70-977C-70DFFE9C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A20A-1114-42A4-A64C-872D57D4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08CA-6629-4860-A783-BCCE7068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C42F-2EA0-47D6-B8FF-5C27012F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FB46-18A2-4331-9AAB-0639133A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A234-C380-4597-AB4B-125EE219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51F-1A40-44A5-B6CB-31CBB257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8D14-5C80-4633-8BB5-053EE3C6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E265-8E99-4038-9BA9-3113464E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DDF2-88D3-441A-BD7E-9A814672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6BC6-AA95-4C28-9B2A-79AA0B60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D9D7-55FD-4DC4-84E0-4890B715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7E4A0-2305-480F-9A99-D963A1AE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B6CC2-522E-4502-868E-2E4BD058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DED2F-52C3-4FD8-8C1A-3995E95C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03DB9-968E-4E1F-AB38-CFC4BAD9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ED58B-C8DB-4898-ADFE-3B15D6F3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33E-E54F-4D8B-8E8B-6522498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64A43-E567-40C3-86A6-5632B50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AD48E-4796-4D04-9FEC-CB20CE4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DC0B4-04AC-4AE0-AA5C-5CEAF81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BFA9C-CDDB-41CB-AA82-3E6F4F9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91906-3AA6-4EEC-AB34-970510E6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2BDD9-6FC8-402D-9D61-B3EF03FF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5B604-1550-4900-8D41-3823481B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564D8-3752-47FC-BD6E-692A4304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F19A7-6A47-4EA6-B0F3-B661F01D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7BD79-6C93-4903-BCDD-F4BFA926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5FF-A7B2-480F-8C34-B78A9137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7EA92-DE36-4C1D-9576-20E3E26F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8360C-1F5A-4EBF-B2CD-112A96E0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0CC08-6478-4E9C-8FB6-C183060C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C9777-B50F-4FC5-8CC5-B35A9CE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8BD48-B82D-46AE-92B5-FC6AE831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D0AED-8A06-4B12-8721-A2EE89D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C3337-B5EF-4972-8A4F-AF2CBA1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B7B18-7268-45D1-9FCE-B5B508DF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75942-8294-4B6D-BF42-31592B62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C65-0E21-4B6A-911F-CDCB6A5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A1C-5E0F-41CA-9697-8465D8BB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2CB-2950-4620-A405-5BF008B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2BA-1682-4306-A9F6-7CF11915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A3C-8612-4C17-B404-9B6149C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88C4-14F6-49F5-9025-F1AEE100F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05E1-9F17-4F56-BF96-58C8C706CD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C1B9-BAAA-4232-8F73-BBF7FAE2C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39FB-021E-4253-83B6-1391F41BAB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Природа (39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№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ОВЫЙ ВНУТРЕННИЙ ПРОДУКТ (ВВП)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Й ПОКАЗАТЕЛЬ СН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ЕТОДА РАСЧЕТА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7"/>
          <p:cNvGrpSpPr/>
          <p:nvPr/>
        </p:nvGrpSpPr>
        <p:grpSpPr>
          <a:xfrm>
            <a:off x="431640" y="1865160"/>
            <a:ext cx="8208000" cy="4102560"/>
            <a:chOff x="431640" y="1865160"/>
            <a:chExt cx="8208000" cy="4102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30080" y="2810880"/>
              <a:ext cx="821160" cy="2210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0400" y="2810520"/>
              <a:ext cx="821160" cy="221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0"/>
            <p:cNvSpPr/>
            <p:nvPr/>
          </p:nvSpPr>
          <p:spPr>
            <a:xfrm>
              <a:off x="2642040" y="186516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ТИП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ЫПУСКА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031"/>
            <p:cNvSpPr/>
            <p:nvPr/>
          </p:nvSpPr>
          <p:spPr>
            <a:xfrm>
              <a:off x="43164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85136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НЕ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ализуемые по экономически значимым ценам путем продажи или барт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едоставляемые работникам в качестве оплаты труда в натуральн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изводимые одним заведением предприятия и поставляемые другим заведениям того же предприятия для использования в производстве в том же или последующих период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оступающие в запасы материальных оборотных средств у производителя и предназначенные для рыночного исполь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е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изводимые экономическими единицами для их собственного конечного потребления или накоп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оставляемые бесплатно или по ценам, не имеющим экономического значения, другим институциональным единицам, включая услуги, оказываемые обществу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редназначенные для нерыночного использования и поступающие в запасы материальных оборотных средств у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сновная цен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исключая любые подлежащие уплате налоги на продукты и в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на производителя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включая подлежащие уплате налоги на продукты и ис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логи на продукты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логи, взимаемые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 ним относятся следующие наиболее распространенные нало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) налог на добавленную стоимость(НДС) и налоги типа НД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) акци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) налоги на продажи, покупки, налог с оборота и т.п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) налоги на отдельные виды услу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) налоги на прибыль фискальных монопол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) налоги на импорт и экспорт, таможенные пош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бсидии на продукты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убсидии, выплачиваемые обычно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ходы на промежуточное потребление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тоимость товаров и рыночных услуг, потребленных в течение данного периода с целью производства других товаров ил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НИ ВКЛЮ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раты сырья, материалов, топлива, энергии, семян, кормов, продуктов питания, медикаментов, канцелярских принадлежностей, спецодежд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плату работ и услуг, предоставленных другими предприятиями и отдель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на командировки в части оплаты проезда и гостини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Природа (10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й внутренний продукт(ВВП)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дин из важнейших показателей системы национальных счетов, который характеризует конечный результат производственной деятельности экономических единиц- резидентов и измеряет стоимость товаров и услуг, произведенных этими единицами для конечного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етод конечного использования ВВП определяется как сумма следующих компонентов: расходы на конечное потребление товаров и услуг, валовое накопление, сальдо экспорта и импорта товаров 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асходы на конечное потребление товаров и услуг 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домашних хозяйств-резидентов на потребительские товары и услуги, а также расходы учреждений государственного управления (бюджетных организаций) и некоммерческих организаций, обслуживающих домашние хозяйства, на товары и услуги для индивидуального и коллективного потребления. Та­кая группировка показывает, кто финансирует расходы на конечное потре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асходы на конечное потребление домашних хозяйст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ключают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сходы на покупку потребительских товаров и услуг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олученных в натуральной форме в порядке оплаты труда, подарков и т. д.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роизведенных домашними хозяйствами для собственного конечного потребл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1993г. ВВЕДЕН ПОКАЗАТЕЛЬ ФАКТИЧЕСКОГО КОНЕЧНОГО ПОТРЕБ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аловое накопление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резидентами товаров и услуг, произведенных и оказанных в текущем периоде, но не потребленных в 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е накопление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копление основного капит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ценнос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представляет собой вложение в объекты основного капитала для создания нового дохода в будущем  путем использования их в производств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личие ВВП от национального дохо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это показатель произведенного продукта, который представляет собой стоимость произведенных конечны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нутренний продукт, потому что он произведен резидентами. К резидентам относятся все экономические единицы независимо от их национальной принадлежности и гражданства, имеющий центр экономического интереса на экономической территории данной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аловой продукт, потому что он исчисляется до вычета потребления основного капитала. Потребление основного капитала представляет собой уменьшение стоимости основного капитала в течение отчетного периода в результате его физического и морального износа и случайных повреждений, не носящих катастрофического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ОЙ КАПИТАЛ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активы, являющиеся результатом производства, которые многократно используются в процессе производства: здания и сооружения, машины и оборудование; скот племенной, рабочий; сады, виноградники и другие насаждения; затраты на геологоразведочные работы; затраты на программное обеспечение; оригиналы литературных и художествен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определяется как приобре­тение активов за вычетом выбытия новых и существующих основных фон­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ценка составных элементов валового накопления основного капитала производ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окупке основного капитала по ценам приобретения (ценам покупателя), т. е. включая все затраты на передачу права собственности (стоимость услуг, оказанных адвокатами, агентами по операциям с недвижимостью и другими посредниками, пошлины, комиссионные, налоги и т. п.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роизводстве основного капитала для собственного использования по основным ценам или по затратам на производств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это изменение стоимости произведенных запасов, незавершенного производства, готовой продукции и товаров для перепрода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лата труда наемных работников представляет собой вознаграждение в денежной или натуральной форме, которое должно быть выплачено работодателем наемному работнику за работу, выполненную в отчетн­ом период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на учитывается на основе начисленных сумм и складывается из двух основных компонентов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числения работодателей на социальное страхо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кономическая территория- это территория, административно управляемая правительством данной страны, в пределах которой лица, товары и деньги могут свободно перемещ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ВП может быть исчислен следующими тремя метода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валовой добавленной стоимости (производственный мето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компонентов конечного использования (метод конечного использов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первичных доходов (распределительный мето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 расчете производственным методом ВВП исчисляется путем суммирования валовой добавленной стоимости всех производственных единиц- резидентов, сгруппированных по отраслям или сек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ловая добавленная стоимость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ница между стоимостью произведенных товаров и оказанных услуг(выпуском) и стоимостью товаров и услуг, полностью потребленных в процессе производств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пуск-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оимость товаров и услуг, произведенных и оказанных экономическими единицами- резидентами за рассматриваемый пери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ыпуск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е товары независимо от их исполь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, предоставленные другим институциональным единицам, в частности, нерыночные услуги органов государственного управления и 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 домашних хозяйств по проживанию в собственном жилище и домашние услуги, оказываемые оплачиваемой домашней прислуг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13:19Z</dcterms:created>
  <dc:creator>Лена</dc:creator>
  <dc:description/>
  <dc:language>en-US</dc:language>
  <cp:lastModifiedBy>LEGION</cp:lastModifiedBy>
  <dcterms:modified xsi:type="dcterms:W3CDTF">2016-01-04T14:02:00Z</dcterms:modified>
  <cp:revision>11</cp:revision>
  <dc:subject/>
  <dc:title>ГЛАВА №7</dc:title>
</cp:coreProperties>
</file>