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wmf" ContentType="image/x-wmf"/>
  <Override PartName="/ppt/media/image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BD4D8E1-59F6-4942-9E69-8071DE9FF5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территории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и: возмож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хн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го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галов Д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территории 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и: возможн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технолог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спективы гор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згалов Д.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ые группы маркетинга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ж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ние группы вл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евые группы маркетинга террит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урис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тенциальные ж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ронние группы влия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ТЕРРИТОРИИ: 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ци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ТЕРРИТОРИИ: 2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зицио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дви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ы маркетинговой стратег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. Позици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менты маркетинговой стратег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 1. Позицио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ы маркетинговой стратегии город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. Про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менты маркетинговой стратегии города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 2. Продви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ОЛОГИЯ ГОРОДСКИХ МАРКЕТИНГОВЫХ СТРАТЕГИЙ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50 городов из 22 стран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ПОЛОГИЯ ГОРОДСКИХ МАРКЕТИНГОВЫХ СТРАТЕГИЙ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250 городов из 22 стран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гру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лидеры – 4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редприниматели – 4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лекательные города – 11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музеи – 7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щенные города – 1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ые города – 3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осредники, проводники, перекрестки – 5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экзотического имиджа – 5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 груп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лидеры – 4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редприниматели – 4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лекательные города – 11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музеи – 7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ященные города – 1 ти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мные города – 3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осредники, проводники, перекрестки – 5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экзотического имиджа – 5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0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Города - лид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 Столич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 Флагман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 Города – политики и элитар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4. Универсаль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Города - лиде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Столич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Флагманы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Города – политики и элитар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4. Универсаль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орода - предприним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 Торгов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 Профессионалы – ремеслен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 «Вкусные» (гастрономические)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 Книж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Города - предпринима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1. Торгов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2. Профессионалы – ремеслен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3. «Вкусные» (гастрономические)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4. Книж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азвлекатель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. Театр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 Тематические па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 Курортные, лечебные, пля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4. Бот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5. Музык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 Ландшаф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7. Города «при события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8. Спор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9. Горнолыж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0. Игр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Столицы шоу-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Развлекатель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. Театр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2. Тематические п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3. Курортные, лечебные, пляж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4. Ботан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5. Музык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6. Ландшафт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7. Города «при события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8. Спортив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9. Горнолыж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0. Игров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1. Столицы шоу-бизне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Города - муз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 Города знаменит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Города «при музея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Исторически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4. Города – архитектурные муз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Города - музе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1. Города знаменитос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2. Города «при музея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3. Исторически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4. Города – архитектурные музе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-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социально-экономическая политика города, направленная на ПРОДВИЖЕНИЕ ИНТЕРЕСОВ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ндинг города – один из инструментов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- что это тако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социально-экономическая политика города, направленная на ПРОДВИЖЕНИЕ ИНТЕРЕСОВ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ендинг города – один из инструментов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вящен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истиан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сульман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дий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Священ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Христиан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усульман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уддий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м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1. Научные па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2. Электрон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3. Города при университе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4. Фабрики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Ум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1. Научные п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2. Электрон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3. Города при университет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4. Фабрики иннов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1. Культурные перекрес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2. Города – мосты, города – вор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3. Коммуникативные и партнерские цент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4. Города - спут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1. Культурные перекрес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2. Города – мосты, города – вор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3. Коммуникативные и партнерские цент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4. Города - спут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Города уникального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1. Города «отраженного»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2. Экзо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4. Гуманитар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5. Города комбинированного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 40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SH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Города уникального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1. Города «отраженного»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2. Экзот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4. Гуманитар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5. Города комбинированного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го 40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DISH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00 городов в имиджевой пусты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ое местное само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ки в поисках 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«беспроигрышные» бренды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ионеры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00 городов в имиджевой пустын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ецифическое местное самоупр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ктики в поисках те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«беспроигрышные» бренды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ионеры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казывает опыт городов-пионеров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– это далеко не гла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как сцена, витрина, спектак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поиск эксклюзивно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Ё, что угодно из НИЧЕ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ценивание информации. Вывод – ставка на soft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устранение - -, а превращение их в + 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показывает опыт городов-пионеров?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ги – это далеко не глав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 как сцена, витрина, спектак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поиск эксклюзивного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ВСЁ, что угодно из НИЧЕГ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ценивание информации. Вывод – ставка на soft po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 устранение - -, а превращение их в + +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казывает опыт городов-пионер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не слова, а дела. Это не создание упаковки, а смена содержания города. Опасность дискредитации темы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поле для ГЧ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сть быть перв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показывает опыт городов-пионер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не слова, а дела. Это не создание упаковки, а смена содержания города. Опасность дискредитации темы в Росс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деальное поле для ГЧП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ажность быть первы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галов Денис Валер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г.н., Руководитель проектов Фонда «Институт экономики города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цент ГУ-ВШ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vizgalov@urbaneconomic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urbaneconomic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/F (495) 787 45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згалов Денис Валерье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.г.н., Руководитель проектов Фонда «Институт экономики города»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цент ГУ-ВШЭ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vizgalov@urbaneconomics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urbaneconomics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T/F (495) 787 45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олливудизация»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 работать в удобных городах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. Флорида, «Креативный кла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Голливудизация»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 работать в удобных городах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. Флорида, «Креативный класс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родская конкуренция грядё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городская конкуренция грядё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4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70-80-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машевс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ережные Чел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70-80-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машевск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бережные Челн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изация местного патрио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ббирование интересов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билизация местного патриотиз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оббирование интересов террит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8FE-CB30-46F0-8492-CEA81B16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C6F-F9CB-4985-B252-6F95C521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692-39D7-47A3-9C5A-DB5B9448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7DD-F535-46B6-9A3B-C11915F8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8C3-F4A8-429F-8928-A41F2ED1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D5FF-FFA2-445D-A482-FCE2ECDB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837-27B4-4D2A-B8B6-5F17A73B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7B2-086B-4DE8-AE1F-381BDB04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47BB-A642-4DA8-B243-E8584A66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F9AD-9F98-41CE-BD84-5B404FD2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FDB1-9DA1-43E4-A587-41D2827A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CFE-FC6A-47F8-BB76-2B658102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8EB3-98E0-4355-AA73-72D2553C52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7" descr="пре3"/>
          <p:cNvPicPr/>
          <p:nvPr/>
        </p:nvPicPr>
        <p:blipFill>
          <a:blip r:embed="rId7"/>
          <a:stretch/>
        </p:blipFill>
        <p:spPr>
          <a:xfrm>
            <a:off x="1440" y="6067440"/>
            <a:ext cx="9107640" cy="81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vizgalov@urbaneconomics.ru" TargetMode="External"/><Relationship Id="rId2" Type="http://schemas.openxmlformats.org/officeDocument/2006/relationships/hyperlink" Target="http://www.urbaneconomics.r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Shanghai 2"/>
          <p:cNvPicPr/>
          <p:nvPr/>
        </p:nvPicPr>
        <p:blipFill>
          <a:blip r:embed="rId1"/>
          <a:stretch/>
        </p:blipFill>
        <p:spPr>
          <a:xfrm>
            <a:off x="7236000" y="1193760"/>
            <a:ext cx="1423800" cy="5261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j0205462"/>
          <p:cNvPicPr/>
          <p:nvPr/>
        </p:nvPicPr>
        <p:blipFill>
          <a:blip r:embed="rId2"/>
          <a:stretch/>
        </p:blipFill>
        <p:spPr>
          <a:xfrm>
            <a:off x="2340000" y="5261040"/>
            <a:ext cx="5694480" cy="11937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3348000" y="4854600"/>
            <a:ext cx="4248360" cy="16002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093080" y="2008080"/>
            <a:ext cx="1800000" cy="420228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28760" y="739800"/>
            <a:ext cx="554328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аркетинг территории 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России: возможност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и технологи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ерспективы город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57120" y="3967200"/>
            <a:ext cx="280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згалов Д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E658-3FEA-4499-8142-1B79634CAF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Целевые группы маркетинга террито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вест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ури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енциальные жит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ронние группы влия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 rot="3927600">
            <a:off x="-36720" y="944640"/>
            <a:ext cx="865440" cy="792000"/>
          </a:xfrm>
          <a:custGeom>
            <a:avLst/>
            <a:gdLst>
              <a:gd name="textAreaLeft" fmla="*/ 135000 w 865440"/>
              <a:gd name="textAreaRight" fmla="*/ 757440 w 865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 rot="18274800">
            <a:off x="-36000" y="4689360"/>
            <a:ext cx="865080" cy="792000"/>
          </a:xfrm>
          <a:custGeom>
            <a:avLst/>
            <a:gdLst>
              <a:gd name="textAreaLeft" fmla="*/ 135000 w 865080"/>
              <a:gd name="textAreaRight" fmla="*/ 757080 w 86508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60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АРКЕТИНГ ТЕРРИТОРИИ: 2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а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иционир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движ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3"/>
          <p:cNvSpPr/>
          <p:nvPr/>
        </p:nvSpPr>
        <p:spPr>
          <a:xfrm rot="5400000">
            <a:off x="754920" y="1124280"/>
            <a:ext cx="1008000" cy="172728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431640 h 1727280"/>
              <a:gd name="textAreaBottom" fmla="*/ 1295640 h 172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 rot="5400000">
            <a:off x="718920" y="3465360"/>
            <a:ext cx="1079640" cy="172728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431640 h 1727280"/>
              <a:gd name="textAreaBottom" fmla="*/ 1295640 h 172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2"/>
          <p:cNvSpPr/>
          <p:nvPr/>
        </p:nvSpPr>
        <p:spPr>
          <a:xfrm>
            <a:off x="785880" y="2643120"/>
            <a:ext cx="93672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3"/>
          <p:cNvSpPr/>
          <p:nvPr/>
        </p:nvSpPr>
        <p:spPr>
          <a:xfrm>
            <a:off x="785880" y="5000760"/>
            <a:ext cx="936720" cy="936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2"/>
          <p:cNvSpPr/>
          <p:nvPr/>
        </p:nvSpPr>
        <p:spPr>
          <a:xfrm>
            <a:off x="755640" y="836640"/>
            <a:ext cx="93672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нструменты маркетинговой стратегии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Этап 1. Позицио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755640" y="2205000"/>
            <a:ext cx="7561440" cy="367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3933720"/>
          <a:ext cx="4506840" cy="2664000"/>
        </p:xfrm>
        <a:graphic>
          <a:graphicData uri="http://schemas.openxmlformats.org/drawingml/2006/table">
            <a:tbl>
              <a:tblPr/>
              <a:tblGrid>
                <a:gridCol w="4506840"/>
              </a:tblGrid>
              <a:tr h="26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Планирование маркетинговой страте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задач маркетинга в соответствии со стратегией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целевой аудитории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маркетинговой страте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643280" y="3429000"/>
          <a:ext cx="4500720" cy="151272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Маркетинг имиджа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имид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бор инструментов популяризации (рекламы) имид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572000" y="1628640"/>
          <a:ext cx="4572000" cy="17290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7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Маркетинговые исслед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ологические исслед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 рейтинг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 заинтересованных стор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0" y="1628640"/>
          <a:ext cx="4506840" cy="2189160"/>
        </p:xfrm>
        <a:graphic>
          <a:graphicData uri="http://schemas.openxmlformats.org/drawingml/2006/table">
            <a:tbl>
              <a:tblPr/>
              <a:tblGrid>
                <a:gridCol w="450684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Стратегическое планир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OT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приорите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стратегических задач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643280" y="5013360"/>
          <a:ext cx="4500720" cy="17733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7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Формирование уникального предложения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никальные объекты, инвест. площадки, проекты, идеи. Бренд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332000" y="2421000"/>
            <a:ext cx="5472000" cy="28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3"/>
          <p:cNvSpPr/>
          <p:nvPr/>
        </p:nvSpPr>
        <p:spPr>
          <a:xfrm>
            <a:off x="1547640" y="907920"/>
            <a:ext cx="936720" cy="936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1844640"/>
          <a:ext cx="4578480" cy="2232000"/>
        </p:xfrm>
        <a:graphic>
          <a:graphicData uri="http://schemas.openxmlformats.org/drawingml/2006/table">
            <a:tbl>
              <a:tblPr/>
              <a:tblGrid>
                <a:gridCol w="457848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целевыми группами: маркетинговая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раметры информационного 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методов коммуник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информационных канал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0" y="4221000"/>
          <a:ext cx="4500720" cy="21891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горожан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онтер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КО-ресур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имулирование лидер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генты влия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716360" y="4286160"/>
          <a:ext cx="4427640" cy="2408400"/>
        </p:xfrm>
        <a:graphic>
          <a:graphicData uri="http://schemas.openxmlformats.org/drawingml/2006/table">
            <a:tbl>
              <a:tblPr/>
              <a:tblGrid>
                <a:gridCol w="4427640"/>
              </a:tblGrid>
              <a:tr h="2416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администраци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ановка задач подразделениям админист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 от отраслевого принципа к проектном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ниторинг и оценка реализации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00"/>
                </a:solidFill>
                <a:latin typeface="Arial"/>
              </a:rPr>
              <a:t>Инструменты маркетинговой стратегии города. </a:t>
            </a:r>
            <a:br>
              <a:rPr sz="3400"/>
            </a:br>
            <a:r>
              <a:rPr b="1" lang="ru-RU" sz="3400" spc="-1" strike="noStrike">
                <a:solidFill>
                  <a:srgbClr val="ffffcc"/>
                </a:solidFill>
                <a:latin typeface="Arial"/>
              </a:rPr>
              <a:t>Этап 2. Продвижени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716360" y="1857240"/>
          <a:ext cx="4427640" cy="2227320"/>
        </p:xfrm>
        <a:graphic>
          <a:graphicData uri="http://schemas.openxmlformats.org/drawingml/2006/table">
            <a:tbl>
              <a:tblPr/>
              <a:tblGrid>
                <a:gridCol w="4427640"/>
              </a:tblGrid>
              <a:tr h="22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бизнес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ндрайзин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змы частно-общественного партнер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дицированное продви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ИПОЛОГИЯ ГОРОДСКИХ МАРКЕТИНГОВЫХ СТРАТЕГИЙ</a:t>
            </a:r>
            <a:br>
              <a:rPr sz="5400"/>
            </a:br>
            <a:br>
              <a:rPr sz="5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250 городов из 22 стран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7 груп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14200" y="999720"/>
            <a:ext cx="8429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лидеры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4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редпринимател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4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лекательные город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11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музе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7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ященные города – 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</a:rPr>
              <a:t>1 ти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ные город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3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осредники, проводники, перекрестк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5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экзотического имидж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5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317080" y="1125360"/>
            <a:ext cx="826920" cy="71928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8028000" y="1628640"/>
            <a:ext cx="792000" cy="7923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8532720" y="2276640"/>
            <a:ext cx="611280" cy="936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885080" y="3068640"/>
            <a:ext cx="934920" cy="79200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8388360" y="3645000"/>
            <a:ext cx="75564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8244000" y="4508640"/>
            <a:ext cx="649080" cy="8650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8675640" y="5157720"/>
            <a:ext cx="46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7072200" y="285840"/>
            <a:ext cx="1500480" cy="1068840"/>
          </a:xfrm>
          <a:prstGeom prst="rect">
            <a:avLst/>
          </a:prstGeom>
          <a:solidFill>
            <a:srgbClr val="0033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Штриховая стрелка вправо 12"/>
          <p:cNvSpPr/>
          <p:nvPr/>
        </p:nvSpPr>
        <p:spPr>
          <a:xfrm>
            <a:off x="5786280" y="0"/>
            <a:ext cx="857520" cy="1357200"/>
          </a:xfrm>
          <a:custGeom>
            <a:avLst/>
            <a:gdLst/>
            <a:ahLst/>
            <a:rect l="l" t="t" r="r" b="b"/>
            <a:pathLst>
              <a:path w="857250" h="1357313">
                <a:moveTo>
                  <a:pt x="0" y="339328"/>
                </a:moveTo>
                <a:lnTo>
                  <a:pt x="26789" y="339328"/>
                </a:lnTo>
                <a:lnTo>
                  <a:pt x="26789" y="1017985"/>
                </a:lnTo>
                <a:lnTo>
                  <a:pt x="0" y="1017985"/>
                </a:lnTo>
                <a:lnTo>
                  <a:pt x="0" y="339328"/>
                </a:lnTo>
                <a:close/>
                <a:moveTo>
                  <a:pt x="53578" y="339328"/>
                </a:moveTo>
                <a:lnTo>
                  <a:pt x="107156" y="339328"/>
                </a:lnTo>
                <a:lnTo>
                  <a:pt x="107156" y="1017985"/>
                </a:lnTo>
                <a:lnTo>
                  <a:pt x="53578" y="1017985"/>
                </a:lnTo>
                <a:lnTo>
                  <a:pt x="53578" y="339328"/>
                </a:lnTo>
                <a:close/>
                <a:moveTo>
                  <a:pt x="133945" y="339328"/>
                </a:moveTo>
                <a:lnTo>
                  <a:pt x="428625" y="339328"/>
                </a:lnTo>
                <a:lnTo>
                  <a:pt x="428625" y="0"/>
                </a:lnTo>
                <a:lnTo>
                  <a:pt x="857250" y="678657"/>
                </a:lnTo>
                <a:lnTo>
                  <a:pt x="428625" y="1357313"/>
                </a:lnTo>
                <a:lnTo>
                  <a:pt x="428625" y="1017985"/>
                </a:lnTo>
                <a:lnTo>
                  <a:pt x="133945" y="1017985"/>
                </a:lnTo>
                <a:lnTo>
                  <a:pt x="133945" y="339328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21EC-78CA-42EA-A2E4-DA70A79FC7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. Города - лиде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1. Столич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2. Флагманы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3. Города – политики и элитар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4. Универсаль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2926-6613-49F1-9880-AE891C43AB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. Города - предпринима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1. Торгов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2. Профессионалы – ремеслен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3. «Вкусные» (гастрономические)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4. Книж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EF97-EC22-41AB-9C77-84D73ADE82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. Развлекатель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. Театра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2. Тематические па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3. Курортные, лечебные, пляж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4. Ботан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5. Музыка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6. Ландшаф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7. Города «при события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8. Спортив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9. Горнолыж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0. Игро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1. Столицы шоу-бизн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2DCF-24D3-4763-865F-6DDC355FAB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. Города - музе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1. Города знаменитос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2. Города «при музея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3. Исторически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4. Города – архитектурные музе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BB49-39DA-4E8B-B69A-CFF8C2C56D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Маркетинг города - что это такое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680" y="1499760"/>
            <a:ext cx="8255160" cy="4637160"/>
          </a:xfrm>
          <a:prstGeom prst="rect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ркетинг город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социально-экономическая политика города, направленная на </a:t>
            </a:r>
            <a:r>
              <a:rPr b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ПРОДВИЖЕНИЕ ИНТЕРЕСОВ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рендинг город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дин из инструментов маркетин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901B-4182-4FCA-A28F-9A5EC218F5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. Священ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истиан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сульман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дий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EBC0-55E9-4F7B-8709-442468BC28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6. Ум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1. Научные па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2. Электрон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3. Города при университе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4. Фабрики иннова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8B67-B0F6-4957-8AB2-2DFC15BD8F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1. Культурные перекрес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2. Города – мосты, города – вор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3. Коммуникативные и партнерские цент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4. Города - спут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1 018"/>
          <p:cNvPicPr/>
          <p:nvPr/>
        </p:nvPicPr>
        <p:blipFill>
          <a:blip r:embed="rId1"/>
          <a:stretch/>
        </p:blipFill>
        <p:spPr>
          <a:xfrm>
            <a:off x="5438880" y="1916280"/>
            <a:ext cx="3705120" cy="494172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BF46-92F1-48D8-B20B-428A73EB82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8. Города уникального имидж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1. Города «отраженного» имид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2. Экзот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4. Гуманитар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5. Города комбинированного имид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Dish City"/>
          <p:cNvPicPr/>
          <p:nvPr/>
        </p:nvPicPr>
        <p:blipFill>
          <a:blip r:embed="rId1"/>
          <a:stretch/>
        </p:blipFill>
        <p:spPr>
          <a:xfrm>
            <a:off x="7451640" y="1197000"/>
            <a:ext cx="1224000" cy="9777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6156360" y="5661000"/>
            <a:ext cx="2987640" cy="459720"/>
          </a:xfrm>
          <a:prstGeom prst="rect">
            <a:avLst/>
          </a:prstGeom>
          <a:solidFill>
            <a:srgbClr val="0033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го 40 тип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7" descr="Dish City_2"/>
          <p:cNvPicPr/>
          <p:nvPr/>
        </p:nvPicPr>
        <p:blipFill>
          <a:blip r:embed="rId2"/>
          <a:stretch/>
        </p:blipFill>
        <p:spPr>
          <a:xfrm>
            <a:off x="6732720" y="2492280"/>
            <a:ext cx="2124000" cy="2000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9"/>
          <p:cNvSpPr/>
          <p:nvPr/>
        </p:nvSpPr>
        <p:spPr>
          <a:xfrm>
            <a:off x="7199280" y="4292640"/>
            <a:ext cx="194472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H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66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85840" y="2133360"/>
            <a:ext cx="8858160" cy="3382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00 городов в имиджевой пусты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фическое местное самоупр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ктики в поисках те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«беспроигрышные» бренды стра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ионеры маркетин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Что показывает опыт городов-пионеров</a:t>
            </a:r>
            <a:r>
              <a:rPr b="1" lang="en-US" sz="3600" spc="-1" strike="noStrike">
                <a:solidFill>
                  <a:srgbClr val="ccff66"/>
                </a:solidFill>
                <a:latin typeface="Verdana"/>
              </a:rPr>
              <a:t>?</a:t>
            </a: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13840" y="1214280"/>
            <a:ext cx="8929800" cy="4950000"/>
          </a:xfrm>
          <a:prstGeom prst="rect">
            <a:avLst/>
          </a:prstGeom>
          <a:noFill/>
          <a:ln w="31680">
            <a:solidFill>
              <a:srgbClr val="ccff66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ньги – это далеко не глав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род как сцена, витрина, спектак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ркетинг города – это поиск </a:t>
            </a:r>
            <a:r>
              <a:rPr b="1" lang="ru-RU" sz="2800" spc="-1" strike="noStrike">
                <a:solidFill>
                  <a:srgbClr val="99ff33"/>
                </a:solidFill>
                <a:latin typeface="Arial"/>
              </a:rPr>
              <a:t>эксклюзивног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о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ВСЁ, что угодно из НИЧЕГО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есценивание информации. Вывод – ставка н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устранение - -, а превращение их в + +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Что показывает опыт городов-пионеров</a:t>
            </a:r>
            <a:r>
              <a:rPr b="1" lang="en-US" sz="3600" spc="-1" strike="noStrike">
                <a:solidFill>
                  <a:srgbClr val="ccff66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34920">
            <a:solidFill>
              <a:srgbClr val="ccffcc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ркетинг города – это не слова, а дела. Это не создание </a:t>
            </a:r>
            <a:r>
              <a:rPr b="1" lang="ru-RU" sz="2800" spc="-1" strike="noStrike">
                <a:solidFill>
                  <a:srgbClr val="ccff66"/>
                </a:solidFill>
                <a:latin typeface="Arial"/>
              </a:rPr>
              <a:t>упаковк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а смена </a:t>
            </a:r>
            <a:r>
              <a:rPr b="1" lang="ru-RU" sz="2800" spc="-1" strike="noStrike">
                <a:solidFill>
                  <a:srgbClr val="ccff66"/>
                </a:solidFill>
                <a:latin typeface="Arial"/>
              </a:rPr>
              <a:t>содержа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орода. Опасность дискредитации темы в Ро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ьное поле для ГЧ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ость быть перв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900000" y="3213000"/>
            <a:ext cx="777564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8559720" cy="4546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згалов Денис Валерь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.г.н., Руководител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ов Фонда «Институт экономики города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цент ГУ-ВШ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vizgalov@urbaneconomics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www.urbaneconomics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/F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(495) 787 45 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олливудизация»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ать в удобных городах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Р. Флорида, «Креативный класс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496360" cy="41050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жгородская конкуренция грядё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2" descr="ядра 12 февраля.jpg"/>
          <p:cNvPicPr/>
          <p:nvPr/>
        </p:nvPicPr>
        <p:blipFill>
          <a:blip r:embed="rId1"/>
          <a:stretch/>
        </p:blipFill>
        <p:spPr>
          <a:xfrm>
            <a:off x="1116000" y="2170080"/>
            <a:ext cx="6912000" cy="4687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P1010064"/>
          <p:cNvPicPr/>
          <p:nvPr/>
        </p:nvPicPr>
        <p:blipFill>
          <a:blip r:embed="rId1"/>
          <a:stretch/>
        </p:blipFill>
        <p:spPr>
          <a:xfrm>
            <a:off x="0" y="2637000"/>
            <a:ext cx="4249800" cy="3187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187280" y="6137280"/>
            <a:ext cx="244800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3" descr="P1010065"/>
          <p:cNvPicPr/>
          <p:nvPr/>
        </p:nvPicPr>
        <p:blipFill>
          <a:blip r:embed="rId2"/>
          <a:stretch/>
        </p:blipFill>
        <p:spPr>
          <a:xfrm>
            <a:off x="4788000" y="263700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580000" y="6137280"/>
            <a:ext cx="244800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smkshef"/>
          <p:cNvPicPr/>
          <p:nvPr/>
        </p:nvPicPr>
        <p:blipFill>
          <a:blip r:embed="rId1"/>
          <a:stretch/>
        </p:blipFill>
        <p:spPr>
          <a:xfrm>
            <a:off x="0" y="396864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96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crowd1"/>
          <p:cNvPicPr/>
          <p:nvPr/>
        </p:nvPicPr>
        <p:blipFill>
          <a:blip r:embed="rId2"/>
          <a:stretch/>
        </p:blipFill>
        <p:spPr>
          <a:xfrm>
            <a:off x="4067280" y="2421000"/>
            <a:ext cx="3744720" cy="235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8" name="Picture 4" descr="gyukmeetparade"/>
          <p:cNvPicPr/>
          <p:nvPr/>
        </p:nvPicPr>
        <p:blipFill>
          <a:blip r:embed="rId3"/>
          <a:stretch/>
        </p:blipFill>
        <p:spPr>
          <a:xfrm>
            <a:off x="5904000" y="4429080"/>
            <a:ext cx="3240000" cy="242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9" name="AutoShape 9"/>
          <p:cNvSpPr/>
          <p:nvPr/>
        </p:nvSpPr>
        <p:spPr>
          <a:xfrm>
            <a:off x="1979640" y="2997360"/>
            <a:ext cx="1512720" cy="71892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63_02_2_ferropolis"/>
          <p:cNvPicPr/>
          <p:nvPr/>
        </p:nvPicPr>
        <p:blipFill>
          <a:blip r:embed="rId1"/>
          <a:stretch/>
        </p:blipFill>
        <p:spPr>
          <a:xfrm>
            <a:off x="0" y="3587760"/>
            <a:ext cx="4356000" cy="3270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ferropolis1"/>
          <p:cNvPicPr/>
          <p:nvPr/>
        </p:nvPicPr>
        <p:blipFill>
          <a:blip r:embed="rId2"/>
          <a:stretch/>
        </p:blipFill>
        <p:spPr>
          <a:xfrm>
            <a:off x="4788000" y="359100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7145280" y="333072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НЧ-сов-1"/>
          <p:cNvPicPr/>
          <p:nvPr/>
        </p:nvPicPr>
        <p:blipFill>
          <a:blip r:embed="rId1"/>
          <a:stretch/>
        </p:blipFill>
        <p:spPr>
          <a:xfrm>
            <a:off x="976320" y="1344600"/>
            <a:ext cx="151452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НЧ-сов-2"/>
          <p:cNvPicPr/>
          <p:nvPr/>
        </p:nvPicPr>
        <p:blipFill>
          <a:blip r:embed="rId2"/>
          <a:stretch/>
        </p:blipFill>
        <p:spPr>
          <a:xfrm>
            <a:off x="2627280" y="1328760"/>
            <a:ext cx="151452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7"/>
          <p:cNvSpPr/>
          <p:nvPr/>
        </p:nvSpPr>
        <p:spPr>
          <a:xfrm>
            <a:off x="5330880" y="1712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8" descr="НЧ-соврем"/>
          <p:cNvPicPr/>
          <p:nvPr/>
        </p:nvPicPr>
        <p:blipFill>
          <a:blip r:embed="rId3"/>
          <a:stretch/>
        </p:blipFill>
        <p:spPr>
          <a:xfrm>
            <a:off x="6988320" y="1284120"/>
            <a:ext cx="1523880" cy="19051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1638360" y="3355920"/>
            <a:ext cx="21524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70-80-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3860640"/>
            <a:ext cx="3538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машевс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4"/>
          <a:stretch/>
        </p:blipFill>
        <p:spPr>
          <a:xfrm>
            <a:off x="1042920" y="4437000"/>
            <a:ext cx="1419120" cy="1905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/>
          <p:cNvPicPr/>
          <p:nvPr/>
        </p:nvPicPr>
        <p:blipFill>
          <a:blip r:embed="rId5"/>
          <a:stretch/>
        </p:blipFill>
        <p:spPr>
          <a:xfrm>
            <a:off x="2843280" y="4437000"/>
            <a:ext cx="1419120" cy="1905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6"/>
          <a:stretch/>
        </p:blipFill>
        <p:spPr>
          <a:xfrm>
            <a:off x="6994440" y="4487760"/>
            <a:ext cx="1514520" cy="19051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4"/>
          <p:cNvSpPr/>
          <p:nvPr/>
        </p:nvSpPr>
        <p:spPr>
          <a:xfrm>
            <a:off x="2965320" y="655488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258920" y="655488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7183440" y="649620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7"/>
          <p:cNvSpPr/>
          <p:nvPr/>
        </p:nvSpPr>
        <p:spPr>
          <a:xfrm>
            <a:off x="5265720" y="5054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395280" y="7650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ережные Чел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билизация местного патриоти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оббирование интересов территор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6:58:50Z</dcterms:created>
  <dc:creator>1</dc:creator>
  <dc:description/>
  <dc:language>en-US</dc:language>
  <cp:lastModifiedBy>LEGION</cp:lastModifiedBy>
  <dcterms:modified xsi:type="dcterms:W3CDTF">2016-01-04T14:02:08Z</dcterms:modified>
  <cp:revision>29</cp:revision>
  <dc:subject/>
  <dc:title>Маркетинг гор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0c000000000001024140</vt:lpwstr>
  </property>
</Properties>
</file>