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wmf" ContentType="image/x-wmf"/>
  <Override PartName="/ppt/media/image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1587F9A-2376-479D-BB85-57591196BF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территор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и: возмож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го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галов Д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территории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и: возможн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технолог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спективы гор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згалов Д.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группы маркетинга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ж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ние группы вл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евые группы маркетинга террит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урис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тенциальные ж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ронние группы вли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ТЕРРИТОРИИ: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ци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ТЕРРИТОРИИ: 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ы маркетинговой стратег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. Позици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менты маркетинговой стратег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 1. 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ы маркетинговой стратегии город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. Про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менты маркетинговой стратегии города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 2. Про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ГОРОДСКИХ МАРКЕТИНГОВЫХ СТРАТЕГИЙ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50 городов из 22 стран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ОЛОГИЯ ГОРОДСКИХ МАРКЕТИНГОВЫХ СТРАТЕГИЙ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50 городов из 22 стран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гру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лидеры – 4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редприниматели – 4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лекательные города – 11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музеи – 7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щенные города – 1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ые города – 3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осредники, проводники, перекрестки – 5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экзотического имиджа – 5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 груп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лидеры – 4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редприниматели – 4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лекательные города – 11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музеи – 7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щенные города – 1 ти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мные города – 3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осредники, проводники, перекрестки – 5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экзотического имиджа – 5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0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Города - лид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 Столич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 Флагман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 Города – политики и элитар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4. Универсаль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Города - лиде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Столич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Флагманы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Города – политики и элитар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4. Универсаль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орода -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 Торгов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 Профессионалы – ремеслен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 «Вкусные» (гастрономические)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 Книж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Города - предпринима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Торгов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Профессионалы – ремеслен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«Вкусные» (гастрономические)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4. Книж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азвлекатель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 Театр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 Тематические па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 Курортные, лечебные, пля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. Бот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5. Музы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 Ландшаф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7. Города «при событи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8. Спор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9. Горнолыж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0. Иг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Столицы шоу-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Развлекатель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. Театр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2. Тематические п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3. Курортные, лечебные, пля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4. Ботан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5. Музык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6. Ландшаф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7. Города «при события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8. Спортив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9. Горнолыж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0. Игров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1. Столицы шоу-бизне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орода - муз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 Города знаменит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Города «при музе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Исторически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4. Города – архитектурные муз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Города - музе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1. Города знаменит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2. Города «при музея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3. Исторически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4. Города – архитектурные музе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-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социально-экономическая политика города, направленная на ПРОДВИЖЕНИЕ ИНТЕРЕСОВ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ндинг города – один из инструментов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- что это тако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социально-экономическая политика города, направленная на ПРОДВИЖЕНИЕ ИНТЕРЕСОВ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ендинг города – один из инструментов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вящен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стиан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сульман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дий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вящен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ристиан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сульман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уддий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м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1. Научные па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2. Электрон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3. Города при университ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4. Фабрики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Ум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1. Научные п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2. Электрон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3. Города при университет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4. Фабрики иннов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1. Культурные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2. Города – мосты, города – во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3. Коммуникативные и партнерские цент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4. Города - спу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1. Культурные перекрес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2. Города – мосты, города – вор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3. Коммуникативные и партнерские цент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4. Города - спут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Города уникального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1. Города «отраженного»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2. Экзо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4. Гуманитар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5. Города комбинированного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 40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SH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Города уникального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1. Города «отраженного»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2. Экзот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4. Гуманитар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5. Города комбинированного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го 40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DISH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00 городов в имиджевой пусты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е местное само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ки в поисках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«беспроигрышные» бренды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ионеры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00 городов в имиджевой пустын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цифическое местное самоупр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ктики в поисках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«беспроигрышные» бренды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ионеры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казывает опыт городов-пионеров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это далеко не гла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как сцена, витрина, спектак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поиск эксклюзивно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Ё, что угодно из НИЧЕ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ценивание информации. Вывод – ставка на soft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устранение - -, а превращение их в +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показывает опыт городов-пионеров?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 далеко не глав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как сцена, витрина, спектак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поиск эксклюзивного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ВСЁ, что угодно из НИЧЕГ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ценивание информации. Вывод – ставка на soft po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устранение - -, а превращение их в + +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казывает опыт городов-пионер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не слова, а дела. Это не создание упаковки, а смена содержания города. Опасность дискредитации темы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поле для ГЧ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сть быть перв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показывает опыт городов-пионер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не слова, а дела. Это не создание упаковки, а смена содержания города. Опасность дискредитации темы в Росс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альное поле для ГЧ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жность быть перв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галов Денис Вале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г.н., Руководитель проектов Фонда «Институт экономики город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цент ГУ-ВШ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vizgalov@urbaneconomic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urbaneconomic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/F (495) 787 45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згалов Денис Валерь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г.н., Руководитель проектов Фонда «Институт экономики города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цент ГУ-ВШЭ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izgalov@urbaneconomics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urbaneconomics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T/F (495) 787 45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олливудизация»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 работать в удобных город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. Флорида, «Креативный кла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Голливудизация»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 работать в удобных городах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. Флорида, «Креативный класс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родская конкуренция гряд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городская конкуренция грядё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4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70-80-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машевс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ережные Чел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70-80-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машевск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бережные Челн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ация местного патрио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ббирование интересов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билизация местного патриотиз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оббирование интересов террит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B21-67CF-4664-9BA3-C00CB3B2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3A6-D0DC-492F-83CD-DDC7AB8F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0B2-29C8-4740-8AD7-C76331D5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48A-2ADB-4E77-994D-47B680FC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3180-2A83-4BC0-9A12-B558D2E3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DB4-F997-416D-AEEB-E7AA3289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EC0-099F-44C1-A7C9-47C6105E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6B8-E65E-455E-AFBE-354E5695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C95-A862-4319-9F9D-9556FD44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D3A-EEBC-4392-B820-0DBD2518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84F-6FA3-4D48-B6B4-D9304672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856-CDE8-4CB9-A2FC-452F115E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69B9-BF1D-45CC-BAD8-A18E99FA52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7" descr="пре3"/>
          <p:cNvPicPr/>
          <p:nvPr/>
        </p:nvPicPr>
        <p:blipFill>
          <a:blip r:embed="rId7"/>
          <a:stretch/>
        </p:blipFill>
        <p:spPr>
          <a:xfrm>
            <a:off x="1440" y="6067440"/>
            <a:ext cx="9107640" cy="81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vizgalov@urbaneconomics.ru" TargetMode="External"/><Relationship Id="rId2" Type="http://schemas.openxmlformats.org/officeDocument/2006/relationships/hyperlink" Target="http://www.urbaneconomics.r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Shanghai 2"/>
          <p:cNvPicPr/>
          <p:nvPr/>
        </p:nvPicPr>
        <p:blipFill>
          <a:blip r:embed="rId1"/>
          <a:stretch/>
        </p:blipFill>
        <p:spPr>
          <a:xfrm>
            <a:off x="7236000" y="1193760"/>
            <a:ext cx="1423800" cy="526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j0205462"/>
          <p:cNvPicPr/>
          <p:nvPr/>
        </p:nvPicPr>
        <p:blipFill>
          <a:blip r:embed="rId2"/>
          <a:stretch/>
        </p:blipFill>
        <p:spPr>
          <a:xfrm>
            <a:off x="2340000" y="5261040"/>
            <a:ext cx="5694480" cy="1193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3348000" y="4854600"/>
            <a:ext cx="4248360" cy="16002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093080" y="2008080"/>
            <a:ext cx="1800000" cy="420228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28760" y="739800"/>
            <a:ext cx="554328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ркетинг территории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оссии: возможно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 технологи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ерспективы город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57120" y="3967200"/>
            <a:ext cx="280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галов Д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4B8E-47CF-4F6A-B03B-FB9B0ABF77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Целевые группы маркетинга террито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ес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и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нциальные ж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ние группы влия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 rot="3927600">
            <a:off x="-36720" y="944640"/>
            <a:ext cx="865440" cy="792000"/>
          </a:xfrm>
          <a:custGeom>
            <a:avLst/>
            <a:gdLst>
              <a:gd name="textAreaLeft" fmla="*/ 135000 w 865440"/>
              <a:gd name="textAreaRight" fmla="*/ 757440 w 865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 rot="18274800">
            <a:off x="-36000" y="4689360"/>
            <a:ext cx="865080" cy="792000"/>
          </a:xfrm>
          <a:custGeom>
            <a:avLst/>
            <a:gdLst>
              <a:gd name="textAreaLeft" fmla="*/ 135000 w 865080"/>
              <a:gd name="textAreaRight" fmla="*/ 757080 w 86508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РКЕТИНГ ТЕРРИТОРИИ: 2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 rot="5400000">
            <a:off x="754920" y="1124280"/>
            <a:ext cx="1008000" cy="17272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 rot="5400000">
            <a:off x="718920" y="3465360"/>
            <a:ext cx="1079640" cy="172728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2"/>
          <p:cNvSpPr/>
          <p:nvPr/>
        </p:nvSpPr>
        <p:spPr>
          <a:xfrm>
            <a:off x="785880" y="2643120"/>
            <a:ext cx="93672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3"/>
          <p:cNvSpPr/>
          <p:nvPr/>
        </p:nvSpPr>
        <p:spPr>
          <a:xfrm>
            <a:off x="785880" y="5000760"/>
            <a:ext cx="936720" cy="93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2"/>
          <p:cNvSpPr/>
          <p:nvPr/>
        </p:nvSpPr>
        <p:spPr>
          <a:xfrm>
            <a:off x="755640" y="836640"/>
            <a:ext cx="93672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нструменты маркетинговой стратегии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Этап 1. Позицио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55640" y="2205000"/>
            <a:ext cx="7561440" cy="367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3933720"/>
          <a:ext cx="4506840" cy="2664000"/>
        </p:xfrm>
        <a:graphic>
          <a:graphicData uri="http://schemas.openxmlformats.org/drawingml/2006/table">
            <a:tbl>
              <a:tblPr/>
              <a:tblGrid>
                <a:gridCol w="4506840"/>
              </a:tblGrid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Планирование маркетинговой страте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задач маркетинга в соответствии со стратегией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целевой аудитории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маркетинговой страте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643280" y="3429000"/>
          <a:ext cx="4500720" cy="15127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Маркетинг имиджа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им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бор инструментов популяризации (рекламы) им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572000" y="1628640"/>
          <a:ext cx="4572000" cy="17290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Маркетинговые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ологические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рейтинг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заинтересованных стор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1628640"/>
          <a:ext cx="4506840" cy="2189160"/>
        </p:xfrm>
        <a:graphic>
          <a:graphicData uri="http://schemas.openxmlformats.org/drawingml/2006/table">
            <a:tbl>
              <a:tblPr/>
              <a:tblGrid>
                <a:gridCol w="450684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Стратегическое планир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OT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приорите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стратегических задач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643280" y="5013360"/>
          <a:ext cx="4500720" cy="17733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7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Формирование уникального предложения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никальные объекты, инвест. площадки, проекты, идеи. Брен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332000" y="2421000"/>
            <a:ext cx="5472000" cy="28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1547640" y="907920"/>
            <a:ext cx="936720" cy="936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844640"/>
          <a:ext cx="4578480" cy="2232000"/>
        </p:xfrm>
        <a:graphic>
          <a:graphicData uri="http://schemas.openxmlformats.org/drawingml/2006/table">
            <a:tbl>
              <a:tblPr/>
              <a:tblGrid>
                <a:gridCol w="457848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целевыми группами: маркетинговая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раметры информационного 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методов коммуник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информационных канал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0" y="4221000"/>
          <a:ext cx="4500720" cy="21891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горожан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нтер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КО-ресур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мулирование лиде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генты влия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716360" y="4286160"/>
          <a:ext cx="4427640" cy="240840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241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администраци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ановка задач подразделениям админист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 от отраслевого принципа к проектном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иторинг и оценка реализации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00"/>
                </a:solidFill>
                <a:latin typeface="Arial"/>
              </a:rPr>
              <a:t>Инструменты маркетинговой стратегии города. </a:t>
            </a:r>
            <a:br>
              <a:rPr sz="3400"/>
            </a:br>
            <a:r>
              <a:rPr b="1" lang="ru-RU" sz="3400" spc="-1" strike="noStrike">
                <a:solidFill>
                  <a:srgbClr val="ffffcc"/>
                </a:solidFill>
                <a:latin typeface="Arial"/>
              </a:rPr>
              <a:t>Этап 2. Продвижени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716360" y="1857240"/>
          <a:ext cx="4427640" cy="222732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22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бизнес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ндрайзин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змы частно-общественного партне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дицированное продв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ИПОЛОГИЯ ГОРОДСКИХ МАРКЕТИНГОВЫХ СТРАТЕГИЙ</a:t>
            </a:r>
            <a:br>
              <a:rPr sz="5400"/>
            </a:br>
            <a:br>
              <a:rPr sz="5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250 городов из 22 стран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 груп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4200" y="999720"/>
            <a:ext cx="8429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лидеры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4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редпринимател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4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лекательные город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11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музе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7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ященные города – 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1 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ные город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3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осредники, проводники, перекрестк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5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экзотического имидж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5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317080" y="1125360"/>
            <a:ext cx="826920" cy="71928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8028000" y="1628640"/>
            <a:ext cx="79200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8532720" y="2276640"/>
            <a:ext cx="611280" cy="936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885080" y="3068640"/>
            <a:ext cx="934920" cy="79200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8388360" y="3645000"/>
            <a:ext cx="755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8244000" y="4508640"/>
            <a:ext cx="649080" cy="8650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8675640" y="5157720"/>
            <a:ext cx="46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7072200" y="285840"/>
            <a:ext cx="1500480" cy="1068840"/>
          </a:xfrm>
          <a:prstGeom prst="rect">
            <a:avLst/>
          </a:prstGeom>
          <a:solidFill>
            <a:srgbClr val="0033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Штриховая стрелка вправо 12"/>
          <p:cNvSpPr/>
          <p:nvPr/>
        </p:nvSpPr>
        <p:spPr>
          <a:xfrm>
            <a:off x="5786280" y="0"/>
            <a:ext cx="857520" cy="1357200"/>
          </a:xfrm>
          <a:custGeom>
            <a:avLst/>
            <a:gdLst/>
            <a:ahLst/>
            <a:rect l="l" t="t" r="r" b="b"/>
            <a:pathLst>
              <a:path w="857250" h="1357313">
                <a:moveTo>
                  <a:pt x="0" y="339328"/>
                </a:moveTo>
                <a:lnTo>
                  <a:pt x="26789" y="339328"/>
                </a:lnTo>
                <a:lnTo>
                  <a:pt x="26789" y="1017985"/>
                </a:lnTo>
                <a:lnTo>
                  <a:pt x="0" y="1017985"/>
                </a:lnTo>
                <a:lnTo>
                  <a:pt x="0" y="339328"/>
                </a:lnTo>
                <a:close/>
                <a:moveTo>
                  <a:pt x="53578" y="339328"/>
                </a:moveTo>
                <a:lnTo>
                  <a:pt x="107156" y="339328"/>
                </a:lnTo>
                <a:lnTo>
                  <a:pt x="107156" y="1017985"/>
                </a:lnTo>
                <a:lnTo>
                  <a:pt x="53578" y="1017985"/>
                </a:lnTo>
                <a:lnTo>
                  <a:pt x="53578" y="339328"/>
                </a:lnTo>
                <a:close/>
                <a:moveTo>
                  <a:pt x="133945" y="339328"/>
                </a:moveTo>
                <a:lnTo>
                  <a:pt x="428625" y="339328"/>
                </a:lnTo>
                <a:lnTo>
                  <a:pt x="428625" y="0"/>
                </a:lnTo>
                <a:lnTo>
                  <a:pt x="857250" y="678657"/>
                </a:lnTo>
                <a:lnTo>
                  <a:pt x="428625" y="1357313"/>
                </a:lnTo>
                <a:lnTo>
                  <a:pt x="428625" y="1017985"/>
                </a:lnTo>
                <a:lnTo>
                  <a:pt x="133945" y="1017985"/>
                </a:lnTo>
                <a:lnTo>
                  <a:pt x="133945" y="339328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1E43-B5A0-49C4-BB1C-F8E423D5F6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Города - лиде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1. Столич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2. Флагманы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3. Города – политики и элитар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4. Универсаль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F03C-93E7-4F35-B2C3-35354C07F9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Города - предпринима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1. Торгов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2. Профессионалы – ремеслен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3. «Вкусные» (гастрономические)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4. Книж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3FFB-453C-4093-B250-BE263D5ED9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. Развлекатель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. Театр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2. Тематические па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3. Курортные, лечебные, пляж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4. Ботан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5. Музык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6. Ландшаф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7. Города «при событи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8. Спортив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9. Горнолыж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0. Игр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1. Столицы шоу-бизн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C082-AA98-471E-9348-19816B7B55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. Города - музе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1. Города знаменито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2. Города «при музе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3. Исторически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4. Города – архитектурные музе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2B43-6859-4763-B96D-C323D42284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Маркетинг города - что это такое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8255160" cy="4637160"/>
          </a:xfrm>
          <a:prstGeom prst="rect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ркетинг город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оциально-экономическая политика города, направленная на </a:t>
            </a:r>
            <a:r>
              <a:rPr b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ПРОДВИЖЕНИЕ ИНТЕРЕСОВ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рендинг город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дин из инструментов маркет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7551-E141-4CA8-AC22-8144E2E3B5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. Священ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истиан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сульман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дий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BC26-97D4-4098-90FD-7C0A031913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. Ум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1. Научные па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2. Электрон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3. Города при университе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4. Фабрики иннов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2533-7FA6-4C45-B548-C3758135AF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1. Культурные перекрес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2. Города – мосты, города – вор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3. Коммуникативные и партнерские цент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4. Города - спут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1 018"/>
          <p:cNvPicPr/>
          <p:nvPr/>
        </p:nvPicPr>
        <p:blipFill>
          <a:blip r:embed="rId1"/>
          <a:stretch/>
        </p:blipFill>
        <p:spPr>
          <a:xfrm>
            <a:off x="5438880" y="1916280"/>
            <a:ext cx="3705120" cy="49417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2549-5B07-43A1-AC2C-98B8712F33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. Города уникального имидж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1. Города «отраженного» имид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2. Экзот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4. Гуманитар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5. Города комбинированного имид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Dish City"/>
          <p:cNvPicPr/>
          <p:nvPr/>
        </p:nvPicPr>
        <p:blipFill>
          <a:blip r:embed="rId1"/>
          <a:stretch/>
        </p:blipFill>
        <p:spPr>
          <a:xfrm>
            <a:off x="7451640" y="1197000"/>
            <a:ext cx="1224000" cy="9777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6156360" y="5661000"/>
            <a:ext cx="2987640" cy="459720"/>
          </a:xfrm>
          <a:prstGeom prst="rect">
            <a:avLst/>
          </a:prstGeom>
          <a:solidFill>
            <a:srgbClr val="0033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о 40 тип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7" descr="Dish City_2"/>
          <p:cNvPicPr/>
          <p:nvPr/>
        </p:nvPicPr>
        <p:blipFill>
          <a:blip r:embed="rId2"/>
          <a:stretch/>
        </p:blipFill>
        <p:spPr>
          <a:xfrm>
            <a:off x="6732720" y="2492280"/>
            <a:ext cx="2124000" cy="2000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7199280" y="4292640"/>
            <a:ext cx="194472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H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66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5840" y="2133360"/>
            <a:ext cx="8858160" cy="3382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00 городов в имиджевой пусты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фическое местное самоупр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ктики в поисках те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«беспроигрышные» бренды стр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ионеры маркет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Что показывает опыт городов-пионеров</a:t>
            </a:r>
            <a:r>
              <a:rPr b="1" lang="en-US" sz="3600" spc="-1" strike="noStrike">
                <a:solidFill>
                  <a:srgbClr val="ccff66"/>
                </a:solidFill>
                <a:latin typeface="Verdana"/>
              </a:rPr>
              <a:t>?</a:t>
            </a: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1214280"/>
            <a:ext cx="8929800" cy="4950000"/>
          </a:xfrm>
          <a:prstGeom prst="rect">
            <a:avLst/>
          </a:prstGeom>
          <a:noFill/>
          <a:ln w="31680">
            <a:solidFill>
              <a:srgbClr val="ccff66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ньги – это далеко не глав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од как сцена, витрина, спектак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кетинг города – это поиск </a:t>
            </a:r>
            <a:r>
              <a:rPr b="1" lang="ru-RU" sz="2800" spc="-1" strike="noStrike">
                <a:solidFill>
                  <a:srgbClr val="99ff33"/>
                </a:solidFill>
                <a:latin typeface="Arial"/>
              </a:rPr>
              <a:t>эксклюзивн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СЁ, что угодно из НИЧЕГО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есценивание информации. Вывод – ставка н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устранение - -, а превращение их в + +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Что показывает опыт городов-пионеров</a:t>
            </a:r>
            <a:r>
              <a:rPr b="1" lang="en-US" sz="3600" spc="-1" strike="noStrike">
                <a:solidFill>
                  <a:srgbClr val="ccff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34920">
            <a:solidFill>
              <a:srgbClr val="ccffcc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кетинг города – это не слова, а дела. Это не создание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упак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а смена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содерж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рода. Опасность дискредитации темы в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ьное поле для ГЧ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ость быть перв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900000" y="3213000"/>
            <a:ext cx="777564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559720" cy="4546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галов Денис Валер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.г.н., Руководител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ов Фонда «Институт экономики города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цент ГУ-ВШ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vizgalov@urbaneconomics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urbaneconomics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/F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(495) 787 45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олливудизация»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ть в удобных городах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Р. Флорида, «Креативный клас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496360" cy="41050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жгородская конкуренция грядё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2" descr="ядра 12 февраля.jpg"/>
          <p:cNvPicPr/>
          <p:nvPr/>
        </p:nvPicPr>
        <p:blipFill>
          <a:blip r:embed="rId1"/>
          <a:stretch/>
        </p:blipFill>
        <p:spPr>
          <a:xfrm>
            <a:off x="1116000" y="2170080"/>
            <a:ext cx="6912000" cy="4687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P1010064"/>
          <p:cNvPicPr/>
          <p:nvPr/>
        </p:nvPicPr>
        <p:blipFill>
          <a:blip r:embed="rId1"/>
          <a:stretch/>
        </p:blipFill>
        <p:spPr>
          <a:xfrm>
            <a:off x="0" y="2637000"/>
            <a:ext cx="4249800" cy="3187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187280" y="6137280"/>
            <a:ext cx="2448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" descr="P1010065"/>
          <p:cNvPicPr/>
          <p:nvPr/>
        </p:nvPicPr>
        <p:blipFill>
          <a:blip r:embed="rId2"/>
          <a:stretch/>
        </p:blipFill>
        <p:spPr>
          <a:xfrm>
            <a:off x="4788000" y="2637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580000" y="6137280"/>
            <a:ext cx="2448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smkshef"/>
          <p:cNvPicPr/>
          <p:nvPr/>
        </p:nvPicPr>
        <p:blipFill>
          <a:blip r:embed="rId1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6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crowd1"/>
          <p:cNvPicPr/>
          <p:nvPr/>
        </p:nvPicPr>
        <p:blipFill>
          <a:blip r:embed="rId2"/>
          <a:stretch/>
        </p:blipFill>
        <p:spPr>
          <a:xfrm>
            <a:off x="4067280" y="2421000"/>
            <a:ext cx="3744720" cy="235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4" descr="gyukmeetparade"/>
          <p:cNvPicPr/>
          <p:nvPr/>
        </p:nvPicPr>
        <p:blipFill>
          <a:blip r:embed="rId3"/>
          <a:stretch/>
        </p:blipFill>
        <p:spPr>
          <a:xfrm>
            <a:off x="5904000" y="4429080"/>
            <a:ext cx="3240000" cy="242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9" name="AutoShape 9"/>
          <p:cNvSpPr/>
          <p:nvPr/>
        </p:nvSpPr>
        <p:spPr>
          <a:xfrm>
            <a:off x="1979640" y="2997360"/>
            <a:ext cx="1512720" cy="71892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63_02_2_ferropolis"/>
          <p:cNvPicPr/>
          <p:nvPr/>
        </p:nvPicPr>
        <p:blipFill>
          <a:blip r:embed="rId1"/>
          <a:stretch/>
        </p:blipFill>
        <p:spPr>
          <a:xfrm>
            <a:off x="0" y="3587760"/>
            <a:ext cx="4356000" cy="327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ferropolis1"/>
          <p:cNvPicPr/>
          <p:nvPr/>
        </p:nvPicPr>
        <p:blipFill>
          <a:blip r:embed="rId2"/>
          <a:stretch/>
        </p:blipFill>
        <p:spPr>
          <a:xfrm>
            <a:off x="4788000" y="3591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145280" y="333072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НЧ-сов-1"/>
          <p:cNvPicPr/>
          <p:nvPr/>
        </p:nvPicPr>
        <p:blipFill>
          <a:blip r:embed="rId1"/>
          <a:stretch/>
        </p:blipFill>
        <p:spPr>
          <a:xfrm>
            <a:off x="976320" y="1344600"/>
            <a:ext cx="151452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НЧ-сов-2"/>
          <p:cNvPicPr/>
          <p:nvPr/>
        </p:nvPicPr>
        <p:blipFill>
          <a:blip r:embed="rId2"/>
          <a:stretch/>
        </p:blipFill>
        <p:spPr>
          <a:xfrm>
            <a:off x="2627280" y="1328760"/>
            <a:ext cx="151452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5330880" y="1712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НЧ-соврем"/>
          <p:cNvPicPr/>
          <p:nvPr/>
        </p:nvPicPr>
        <p:blipFill>
          <a:blip r:embed="rId3"/>
          <a:stretch/>
        </p:blipFill>
        <p:spPr>
          <a:xfrm>
            <a:off x="6988320" y="1284120"/>
            <a:ext cx="1523880" cy="1905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638360" y="3355920"/>
            <a:ext cx="2152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70-80-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3860640"/>
            <a:ext cx="3538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машевс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4"/>
          <a:stretch/>
        </p:blipFill>
        <p:spPr>
          <a:xfrm>
            <a:off x="104292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5"/>
          <a:stretch/>
        </p:blipFill>
        <p:spPr>
          <a:xfrm>
            <a:off x="284328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6"/>
          <a:stretch/>
        </p:blipFill>
        <p:spPr>
          <a:xfrm>
            <a:off x="6994440" y="4487760"/>
            <a:ext cx="1514520" cy="1905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2965320" y="655488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258920" y="655488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7183440" y="649620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5265720" y="5054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395280" y="765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ережные Чел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билизация местного патриот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оббирование интересов террито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6:58:50Z</dcterms:created>
  <dc:creator>1</dc:creator>
  <dc:description/>
  <dc:language>en-US</dc:language>
  <cp:lastModifiedBy>LEGION</cp:lastModifiedBy>
  <dcterms:modified xsi:type="dcterms:W3CDTF">2016-01-04T14:02:08Z</dcterms:modified>
  <cp:revision>29</cp:revision>
  <dc:subject/>
  <dc:title>Маркетинг гор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c000000000001024140</vt:lpwstr>
  </property>
</Properties>
</file>