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6D740B-6E1E-478D-BE77-7BC03E06C5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1D8-B8AB-45CA-BE2C-C243CD0A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8F5-6ABC-4665-A9AE-BD8F3E17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EE8-A44D-4BB2-8D2C-77DC6C4F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958-2892-4B07-9E8D-13339C1C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D88-FB98-40F2-9289-4F49CC32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E34-1D6D-4717-BA29-2D3ABC5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45D-4EE9-45AD-8759-6D1B79D4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628-3710-4FEA-BD6A-A2EA12CA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DFF-ABA5-4AB8-95F7-D4271C96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476-8E58-4D42-B124-29A5A040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9E6-5E1D-4405-821F-888F8A90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E66-8CA0-4DCB-93F4-B42BC9F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B23-F8E8-404D-BEE0-F2D7AF1111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пре3"/>
          <p:cNvPicPr/>
          <p:nvPr/>
        </p:nvPicPr>
        <p:blipFill>
          <a:blip r:embed="rId7"/>
          <a:stretch/>
        </p:blipFill>
        <p:spPr>
          <a:xfrm>
            <a:off x="1440" y="6067440"/>
            <a:ext cx="910764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vizgalov@urbaneconomics.ru" TargetMode="External"/><Relationship Id="rId2" Type="http://schemas.openxmlformats.org/officeDocument/2006/relationships/hyperlink" Target="http://www.urbaneconomic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hanghai 2"/>
          <p:cNvPicPr/>
          <p:nvPr/>
        </p:nvPicPr>
        <p:blipFill>
          <a:blip r:embed="rId1"/>
          <a:stretch/>
        </p:blipFill>
        <p:spPr>
          <a:xfrm>
            <a:off x="7236000" y="1193760"/>
            <a:ext cx="1423800" cy="526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j0205462"/>
          <p:cNvPicPr/>
          <p:nvPr/>
        </p:nvPicPr>
        <p:blipFill>
          <a:blip r:embed="rId2"/>
          <a:stretch/>
        </p:blipFill>
        <p:spPr>
          <a:xfrm>
            <a:off x="2340000" y="5261040"/>
            <a:ext cx="56944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348000" y="4854600"/>
            <a:ext cx="4248360" cy="16002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093080" y="2008080"/>
            <a:ext cx="1800000" cy="420228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28760" y="739800"/>
            <a:ext cx="554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кетинг территории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ссии: возмож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 технолог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спективы го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57120" y="3967200"/>
            <a:ext cx="280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A2E1-542B-4F90-AD25-329E486E98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Целевые группы маркетинга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3927600">
            <a:off x="-36720" y="944640"/>
            <a:ext cx="865440" cy="792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8274800">
            <a:off x="-36000" y="4689360"/>
            <a:ext cx="865080" cy="79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754920" y="1124280"/>
            <a:ext cx="1008000" cy="172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 rot="5400000">
            <a:off x="718920" y="3465360"/>
            <a:ext cx="1079640" cy="172728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785880" y="264312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785880" y="5000760"/>
            <a:ext cx="93672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755640" y="83664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Этап 1. Пози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2205000"/>
            <a:ext cx="7561440" cy="367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3933720"/>
          <a:ext cx="4506840" cy="266400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Планирование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задач маркетинга в соответствии со стратегией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целевой аудитории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3280" y="3429000"/>
          <a:ext cx="4500720" cy="1512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 имиджа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ор инструментов популяризации (рекламы)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0" y="1628640"/>
          <a:ext cx="4572000" cy="1729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овы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логически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рейтин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заинтересованных стор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1628640"/>
          <a:ext cx="4506840" cy="218916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тратегическое план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T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приорит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стратегических задач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5013360"/>
          <a:ext cx="4500720" cy="1773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Формирование уникального предложения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кальные объекты, инвест. площадки, проекты, идеи. Брен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332000" y="2421000"/>
            <a:ext cx="5472000" cy="28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547640" y="90792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844640"/>
          <a:ext cx="4578480" cy="2232000"/>
        </p:xfrm>
        <a:graphic>
          <a:graphicData uri="http://schemas.openxmlformats.org/drawingml/2006/table">
            <a:tbl>
              <a:tblPr/>
              <a:tblGrid>
                <a:gridCol w="45784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целевыми группами: маркетинговая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информационно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етодов коммун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информационных кана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21000"/>
          <a:ext cx="4500720" cy="21891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горожа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нт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КО-ресу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ние лид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енты вли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4286160"/>
          <a:ext cx="4427640" cy="2408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41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администра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задач подразделениям админист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от отраслевого принципа к проектн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иторинг и оценка реализации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 города. </a:t>
            </a:r>
            <a:br>
              <a:rPr sz="3400"/>
            </a:b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Этап 2. Продвиж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716360" y="1857240"/>
          <a:ext cx="4427640" cy="222732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бизнес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ндрайз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мы частно-общественного партн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цированное продв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429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лидеры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редпринимател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лекатель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11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музе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7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щенные города –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1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3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317080" y="1125360"/>
            <a:ext cx="82692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028000" y="1628640"/>
            <a:ext cx="79200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532720" y="2276640"/>
            <a:ext cx="61128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885080" y="3068640"/>
            <a:ext cx="93492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388360" y="3645000"/>
            <a:ext cx="755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244000" y="4508640"/>
            <a:ext cx="649080" cy="865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675640" y="5157720"/>
            <a:ext cx="46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072200" y="285840"/>
            <a:ext cx="1500480" cy="106884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Штриховая стрелка вправо 12"/>
          <p:cNvSpPr/>
          <p:nvPr/>
        </p:nvSpPr>
        <p:spPr>
          <a:xfrm>
            <a:off x="5786280" y="0"/>
            <a:ext cx="857520" cy="1357200"/>
          </a:xfrm>
          <a:custGeom>
            <a:avLst/>
            <a:gdLst/>
            <a:ahLst/>
            <a:rect l="l" t="t" r="r" b="b"/>
            <a:pathLst>
              <a:path w="857250" h="1357313">
                <a:moveTo>
                  <a:pt x="0" y="339328"/>
                </a:moveTo>
                <a:lnTo>
                  <a:pt x="26789" y="339328"/>
                </a:lnTo>
                <a:lnTo>
                  <a:pt x="26789" y="1017985"/>
                </a:lnTo>
                <a:lnTo>
                  <a:pt x="0" y="1017985"/>
                </a:lnTo>
                <a:lnTo>
                  <a:pt x="0" y="339328"/>
                </a:lnTo>
                <a:close/>
                <a:moveTo>
                  <a:pt x="53578" y="339328"/>
                </a:moveTo>
                <a:lnTo>
                  <a:pt x="107156" y="339328"/>
                </a:lnTo>
                <a:lnTo>
                  <a:pt x="107156" y="1017985"/>
                </a:lnTo>
                <a:lnTo>
                  <a:pt x="53578" y="1017985"/>
                </a:lnTo>
                <a:lnTo>
                  <a:pt x="53578" y="339328"/>
                </a:lnTo>
                <a:close/>
                <a:moveTo>
                  <a:pt x="133945" y="339328"/>
                </a:moveTo>
                <a:lnTo>
                  <a:pt x="428625" y="339328"/>
                </a:lnTo>
                <a:lnTo>
                  <a:pt x="428625" y="0"/>
                </a:lnTo>
                <a:lnTo>
                  <a:pt x="857250" y="678657"/>
                </a:lnTo>
                <a:lnTo>
                  <a:pt x="428625" y="1357313"/>
                </a:lnTo>
                <a:lnTo>
                  <a:pt x="428625" y="1017985"/>
                </a:lnTo>
                <a:lnTo>
                  <a:pt x="133945" y="1017985"/>
                </a:lnTo>
                <a:lnTo>
                  <a:pt x="133945" y="3393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3569-324C-493C-B758-4DA17A6592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C492-CFED-490B-BD13-52191F9621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0A01-D65F-4A11-B547-0FD2801247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A67-788F-4D48-A791-FCB7517135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9890-D24C-477C-A1E6-7FB9F23628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Маркетинг города - что это такое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255160" cy="463716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кетинг го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циально-экономическая политика города, направленная на </a:t>
            </a: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РОДВИЖЕНИЕ ИНТЕРЕСОВ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ендинг горо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дин из инструментов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171C-39A9-4520-91BD-6819209FCE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072-28F6-4803-AD92-073499121E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14BB-7E2B-412E-83DE-1D1D48976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1 018"/>
          <p:cNvPicPr/>
          <p:nvPr/>
        </p:nvPicPr>
        <p:blipFill>
          <a:blip r:embed="rId1"/>
          <a:stretch/>
        </p:blipFill>
        <p:spPr>
          <a:xfrm>
            <a:off x="5438880" y="1916280"/>
            <a:ext cx="3705120" cy="49417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25BA-5685-4CD5-91EF-F9423C72DC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Dish City"/>
          <p:cNvPicPr/>
          <p:nvPr/>
        </p:nvPicPr>
        <p:blipFill>
          <a:blip r:embed="rId1"/>
          <a:stretch/>
        </p:blipFill>
        <p:spPr>
          <a:xfrm>
            <a:off x="7451640" y="119700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Dish City_2"/>
          <p:cNvPicPr/>
          <p:nvPr/>
        </p:nvPicPr>
        <p:blipFill>
          <a:blip r:embed="rId2"/>
          <a:stretch/>
        </p:blipFill>
        <p:spPr>
          <a:xfrm>
            <a:off x="6732720" y="2492280"/>
            <a:ext cx="2124000" cy="2000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7199280" y="4292640"/>
            <a:ext cx="194472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2133360"/>
            <a:ext cx="8858160" cy="3382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4950000"/>
          </a:xfrm>
          <a:prstGeom prst="rect">
            <a:avLst/>
          </a:prstGeom>
          <a:noFill/>
          <a:ln w="31680">
            <a:solidFill>
              <a:srgbClr val="cc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поиск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эксклюзив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3492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упак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смена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содерж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. Опасность дискредитации темы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00000" y="3213000"/>
            <a:ext cx="77756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59720" cy="4546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г.н., 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ов Фонда «Институт экономики города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vizgalov@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/F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495) 787 45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ть в удобных городах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Р. Флорида, «Креативный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496360" cy="4105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ядра 12 февраля.jpg"/>
          <p:cNvPicPr/>
          <p:nvPr/>
        </p:nvPicPr>
        <p:blipFill>
          <a:blip r:embed="rId1"/>
          <a:stretch/>
        </p:blipFill>
        <p:spPr>
          <a:xfrm>
            <a:off x="1116000" y="2170080"/>
            <a:ext cx="6912000" cy="4687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P1010064"/>
          <p:cNvPicPr/>
          <p:nvPr/>
        </p:nvPicPr>
        <p:blipFill>
          <a:blip r:embed="rId1"/>
          <a:stretch/>
        </p:blipFill>
        <p:spPr>
          <a:xfrm>
            <a:off x="0" y="2637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8728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P1010065"/>
          <p:cNvPicPr/>
          <p:nvPr/>
        </p:nvPicPr>
        <p:blipFill>
          <a:blip r:embed="rId2"/>
          <a:stretch/>
        </p:blipFill>
        <p:spPr>
          <a:xfrm>
            <a:off x="4788000" y="2637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8000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smkshef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rowd1"/>
          <p:cNvPicPr/>
          <p:nvPr/>
        </p:nvPicPr>
        <p:blipFill>
          <a:blip r:embed="rId2"/>
          <a:stretch/>
        </p:blipFill>
        <p:spPr>
          <a:xfrm>
            <a:off x="4067280" y="2421000"/>
            <a:ext cx="3744720" cy="23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4" descr="gyukmeetparade"/>
          <p:cNvPicPr/>
          <p:nvPr/>
        </p:nvPicPr>
        <p:blipFill>
          <a:blip r:embed="rId3"/>
          <a:stretch/>
        </p:blipFill>
        <p:spPr>
          <a:xfrm>
            <a:off x="5904000" y="4429080"/>
            <a:ext cx="32400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AutoShape 9"/>
          <p:cNvSpPr/>
          <p:nvPr/>
        </p:nvSpPr>
        <p:spPr>
          <a:xfrm>
            <a:off x="1979640" y="2997360"/>
            <a:ext cx="1512720" cy="7189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63_02_2_ferropolis"/>
          <p:cNvPicPr/>
          <p:nvPr/>
        </p:nvPicPr>
        <p:blipFill>
          <a:blip r:embed="rId1"/>
          <a:stretch/>
        </p:blipFill>
        <p:spPr>
          <a:xfrm>
            <a:off x="0" y="3587760"/>
            <a:ext cx="4356000" cy="32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ferropolis1"/>
          <p:cNvPicPr/>
          <p:nvPr/>
        </p:nvPicPr>
        <p:blipFill>
          <a:blip r:embed="rId2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145280" y="333072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НЧ-сов-1"/>
          <p:cNvPicPr/>
          <p:nvPr/>
        </p:nvPicPr>
        <p:blipFill>
          <a:blip r:embed="rId1"/>
          <a:stretch/>
        </p:blipFill>
        <p:spPr>
          <a:xfrm>
            <a:off x="976320" y="1344600"/>
            <a:ext cx="15145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Ч-сов-2"/>
          <p:cNvPicPr/>
          <p:nvPr/>
        </p:nvPicPr>
        <p:blipFill>
          <a:blip r:embed="rId2"/>
          <a:stretch/>
        </p:blipFill>
        <p:spPr>
          <a:xfrm>
            <a:off x="2627280" y="1328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330880" y="171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НЧ-соврем"/>
          <p:cNvPicPr/>
          <p:nvPr/>
        </p:nvPicPr>
        <p:blipFill>
          <a:blip r:embed="rId3"/>
          <a:stretch/>
        </p:blipFill>
        <p:spPr>
          <a:xfrm>
            <a:off x="6988320" y="128412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38360" y="3355920"/>
            <a:ext cx="2152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860640"/>
            <a:ext cx="353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5"/>
          <a:stretch/>
        </p:blipFill>
        <p:spPr>
          <a:xfrm>
            <a:off x="284328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6"/>
          <a:stretch/>
        </p:blipFill>
        <p:spPr>
          <a:xfrm>
            <a:off x="6994440" y="4487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29653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589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183440" y="649620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5265720" y="5054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76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6:58:50Z</dcterms:created>
  <dc:creator>1</dc:creator>
  <dc:description/>
  <dc:language>en-US</dc:language>
  <cp:lastModifiedBy>LEGION</cp:lastModifiedBy>
  <dcterms:modified xsi:type="dcterms:W3CDTF">2016-01-04T14:02:08Z</dcterms:modified>
  <cp:revision>29</cp:revision>
  <dc:subject/>
  <dc:title>Маркетинг гор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c000000000001024140</vt:lpwstr>
  </property>
</Properties>
</file>