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gif" ContentType="image/gif"/>
  <Override PartName="/ppt/media/image22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20.gif" ContentType="image/gif"/>
  <Override PartName="/ppt/media/image13.png" ContentType="image/png"/>
  <Override PartName="/ppt/media/image18.gif" ContentType="image/gif"/>
  <Override PartName="/ppt/media/image17.gif" ContentType="image/gif"/>
  <Override PartName="/ppt/media/image16.gif" ContentType="image/gif"/>
  <Override PartName="/ppt/media/image29.gif" ContentType="image/gif"/>
  <Override PartName="/ppt/media/image31.gif" ContentType="image/gif"/>
  <Override PartName="/ppt/media/image9.png" ContentType="image/png"/>
  <Override PartName="/ppt/media/image30.gif" ContentType="image/gif"/>
  <Override PartName="/ppt/media/image12.png" ContentType="image/png"/>
  <Override PartName="/ppt/media/image32.gif" ContentType="image/gif"/>
  <Override PartName="/ppt/media/image33.gif" ContentType="image/gif"/>
  <Override PartName="/ppt/media/image34.gif" ContentType="image/gif"/>
  <Override PartName="/ppt/media/image35.gif" ContentType="image/gif"/>
  <Override PartName="/ppt/media/image36.gif" ContentType="image/gif"/>
  <Override PartName="/ppt/media/image37.gif" ContentType="image/gif"/>
  <Override PartName="/ppt/media/image2.jpeg" ContentType="image/jpeg"/>
  <Override PartName="/ppt/media/image38.gif" ContentType="image/gif"/>
  <Override PartName="/ppt/media/image39.gif" ContentType="image/gif"/>
  <Override PartName="/ppt/media/image7.png" ContentType="image/png"/>
  <Override PartName="/ppt/media/image27.gif" ContentType="image/gif"/>
  <Override PartName="/ppt/media/image11.png" ContentType="image/png"/>
  <Override PartName="/ppt/media/image6.png" ContentType="image/png"/>
  <Override PartName="/ppt/media/image26.gif" ContentType="image/gif"/>
  <Override PartName="/ppt/media/image8.jpeg" ContentType="image/jpeg"/>
  <Override PartName="/ppt/media/image5.png" ContentType="image/png"/>
  <Override PartName="/ppt/media/image25.gif" ContentType="image/gif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1.jpeg" ContentType="image/jpeg"/>
  <Override PartName="/ppt/media/image10.png" ContentType="image/png"/>
  <Override PartName="/ppt/media/image1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6CB9-34A0-4D08-A825-F4BC2F4683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териале «Услуга» уже были описаны по отдельности основные виды услуг, входящие в более общую категорию «инфраструкту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. Более того общественное производство объективно прорастает в единое производство-потреб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атериале «Услуга» уже были описаны по отдельности основные виды услуг, входящие в более общую категорию «инфраструктур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. Более того общественное производство объективно прорастает в единое производство-потреб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КА. Функция – энергоснабжение процессов общественного производства, как в материальном секторе, так и нематериальной сфере и в самой инфраструктуре.  Работа отрасли видится принадлежащей к материальному производству, но все же потребляется ее деятельность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электрический ток, получаемый различными способами и передаваемый потреби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генерация и распределение  энергопотоков по сет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отчуждена от ее производителя, и обменена на другой продукт (услугу) в любой другой момент времени;  Как и в других отраслях инфраструктуры, отрасль представляет затраты для экономики  в целом, кроме случаев экспорта через гра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стоит в одном ряду с другими аналогичными, 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жилищно-коммунальное хозяйство 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КА. Функция – энергоснабжение процессов общественного производства, как в материальном секторе, так и нематериальной сфере и в самой инфраструктуре.  Работа отрасли видится принадлежащей к материальному производству, но все же потребляется ее деятельность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электрический ток, получаемый различными способами и передаваемый потребител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генерация и распределение  энергопотоков по с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отчуждена от ее производителя, и обменена на другой продукт (услугу) в любой другой момент времени;  Как и в других отраслях инфраструктуры, отрасль представляет затраты для экономики  в целом, кроме случаев экспорта через г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стоит в одном ряду с другими аналогичными, 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жилищно-коммунальное хозяйство 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. Функция – обеспечение общения 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как деятельность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щение людей, организаций, предприятий, всех подразделений народного хозяй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непрерывный процесс общения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свободно отчуждена от ее производителя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отрасль есть затраты для народного хозяйства в целом, кроме случаев продажи услуги через гра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 настолько тесно  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. Функция – обеспечение общения 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как деятельность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щение людей, организаций, предприятий, всех подразделений народного хозя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непрерывный процесс общения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свободно отчуждена от ее производителя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отрасль есть затраты для народного хозяйства в целом, кроме случаев продажи услуги через г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 настолько тесно  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Е ПРОИЗВОДСТВО. Функция – производство информационной продукции и услуг для потребления людьми и всеми организациями и отраслями  общественного воспроизводства.  Работа данной отрасли потребляется как информационный продукт.  Продукт  этой отрасли особого рода, который потребляется как информация, одноразовая или многоразова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информация различного вида и типа, необходимая для потребления во всех сектор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этой отрасли не образуется: «продуктом труда» является как деятельность, так и продукт, потребляемые в производстве – обмене – потреблении; инфо-продукты могут быть свободно отчуждены от их производителя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как в случае с энергетикой, например, внешняя материальность «продукта» придает  ему только внешнюю товарность; инфо-продукт не может быть продуктом 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ИЗВОДСТВО. Функция – производство информационной продукции и услуг для потребления людьми и всеми организациями и отраслями  общественного воспроизводства.  Работа данной отрасли потребляется как информационный продукт.  Продукт  этой отрасли особого рода, который потребляется как информация, одноразовая или многоразова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информация различного вида и типа, необходимая для потребления во всех сектор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этой отрасли не образуется: «продуктом труда» является как деятельность, так и продукт, потребляемые в производстве – обмене – потреблении; инфо-продукты могут быть свободно отчуждены от их производителя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как в случае с энергетикой, например, внешняя материальность «продукта» придает  ему только внешнюю товарность; инфо-продукт не может быть продуктом 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Е ПРОИЗВОДСТВО. Функция – производство организации как деятельности, ранее называемой «управлением» и осуществлявшейся как власть.  Для полезного потребления организации как деятельности 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слаженность и целостность народного хозяйства в производстве и обмене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 – аналог тарифа в других отраслях; стоимость в этой отрасли не образуется: «продуктом труда» является деятельность, потребляемая в производстве – обмене – потребл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рганическое строение капитала в отрасли (С/V) – говорит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реализация функции ВСЕОБЩГО ИНТЕРЕСА, так как все общество нуждается в рациональной  организации всех отраслей и секторов жизни общества; В отсутствие производственного подхода к управлению, оно превращается в желание «править» или личную корысть вместо «управления» и «организационной деятельности». Власть как таковая устарела, а процесс управления, проводимый за цену, выраженную в тарифе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ный предмет, продукт и результат управленческой деятельности совершенно изменит ее сущность. Производство организации вместо властного парази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Е ПРОИЗВОДСТВО. Функция – производство организации как деятельности, ранее называемой «управлением» и осуществлявшейся как власть.  Для полезного потребления организации как деятельности 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слаженность и целостность народного хозяйства в производстве и обмене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 – аналог тарифа в других отраслях; стоимость в этой отрасли не образуется: «продуктом труда» является деятельность, потребляемая в производстве – обмене – потреблен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рганическое строение капитала в отрасли (С/V) – говорит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это реализация функции ВСЕОБЩГО ИНТЕРЕСА, так как все общество нуждается в рациональной  организации всех отраслей и секторов жизни общества; В отсутствие производственного подхода к управлению, оно превращается в желание «править» или личную корысть вместо «управления» и «организационной деятельности». Власть как таковая устарела, а процесс управления, проводимый за цену, выраженную в тарифе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ный предмет, продукт и результат управленческой деятельности совершенно изменит ее сущность. Производство организации вместо властного паразит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а и товарная форм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цы примен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 , или услуги, также составляет затраты экономики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й буржуазный подход требует, чтобы эта отрасль была прибыльной, работала на коммерческ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усветная глупость – идея получать прибыль в детском саду, школе или библиотеке; здравоохранение и образование, социальное обеспечение не могут и не должны работать на прибы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Инфраструктуры, как правило, работают на коммерческой основ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 данных секторов чаще всего носят товарную форму. Их деятельность обменивается на продукты и другую деятельность внутри отрасли, между отраслями, с материальным и нематериальным производством в денежной форме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а и товарная форм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ицы примен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ое производство , или услуги, также составляет затраты экономики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итивный буржуазный подход требует, чтобы эта отрасль была прибыльной, работала на коммерческой осно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усветная глупость – идея получать прибыль в детском саду, школе или библиотеке; здравоохранение и образование, социальное обеспечение не могут и не должны работать на прибыл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Инфраструктуры, как правило, работают на коммерческой основ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данных секторов чаще всего носят товарную форму. Их деятельность обменивается на продукты и другую деятельность внутри отрасли, между отраслями, с материальным и нематериальным производством в денежной форме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 КОНЕЦ?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.  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, развиваясь все более и более способствует развитию таких же сетевых по характеру  отраслей инфраструк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 КОНЕЦ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.  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, развиваясь все более и более способствует развитию таких же сетевых по характеру  отраслей инфраструк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а. 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– 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яженность в пространстве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самым обеспечивается максимальная (или оптимальная) скорость оборота товаров и услуг (продуктов и деятельности). Экономика движется все быстрее и быстрее (а в будущем – рациональне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а. 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– 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яженность в пространстве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самым обеспечивается максимальная (или оптимальная) скорость оборота товаров и услуг (продуктов и деятельности). Экономика движется все быстрее и быстрее (а в будущем – рациональне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инфраструктуры, как важнейшей части всего народного хозяйства имеют ряд объединяющих признаков. Среди 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большинство отраслей работает 24 часа в су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стоянно возрастающее взаимодействие с другими отраслями инфраструк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вящается Борису Ельци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орцион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инфраструктуры, как важнейшей части всего народного хозяйства имеют ряд объединяющих признаков. Среди 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большинство отраслей работает 24 часа в сут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остоянно возрастающее взаимодействие с другими отраслями инфраструкту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вящается Борису Ельц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тм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омер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он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– среда общественного организма (создается с пом. МП, И, Н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а – условно неподвижн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– «оживляет ее , с помощью 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приводит в движение С с помощью Ч и НП, а также формирует Среду с помощью Ч и НП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 – основной продукт МП; МП. НП, НП – инструм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основной продукт НП; МП, НП и И – инструменты «производства Ч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а общественного организма (создается с пом. МП, И, Н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– условно неподвижн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– «оживляет ее , с помощью 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приводит в движение С с помощью Ч и НП, а также формирует Среду с помощью Ч и НП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 – основной продукт МП; МП. НП, НП – инструмен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основной продукт НП; МП, НП и И – инструменты «производства Ч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. Функция – перемещение грузов  (сырья, полуфабрикатов, продуктов труда) или пассажиров в пространстве – от производства к потреблению и от потребления к производ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транспортируемое «вещество», груз или пассажи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представление о техническом уровне отрасли, о сравнимой с другими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ую отрасль инфраструктуры дополняет и технологически объединяет с другими отраслями складское хозяйства и система логистики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. Функция – перемещение грузов  (сырья, полуфабрикатов, продуктов труда) или пассажиров в пространстве – от производства к потреблению и от потребления к производ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транспортируемое «вещество», груз или пассажи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представление о техническом уровне отрасли, о сравнимой с другими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ную отрасль инфраструктуры дополняет и технологически объединяет с другими отраслями складское хозяйства и система логистики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(и общепит). Функция – распределение 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Лечение: планирование объемов, структуры и пропорций торговых пот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мениваемое, продаваемое «вещество», продукт или усл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продукт или услуга, нашедшие своего потребителя; обмен состоялся, продажа/покупка соверш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(и общепит). Функция – распределение 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Лечение: планирование объемов, структуры и пропорций торговых пот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мениваемое, продаваемое «вещество», продукт или услуг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продукт или услуга, нашедшие своего потребителя; обмен состоялся, продажа/покупка соверш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Ы (банки и пр.). Функция – учет и осуществление обмена  деятельностью (продуктами труда и услугами). Возникла из нужды ускорить и упростить обмен продуктов и услуг с помощью различных инструментов (денег и других); движение финансов и/или денег – это фактическая реализация общественного разделения труда,  но хаотичная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мениваемые, продаваемые «инструменты обмена», деньги или финансовые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распределение денег и финансовых инструментов (вместо всеобщего учета и балансирования труда во всех сферах общественного производ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*, потребляемая в момент производства; эта «деятельность» может быть отчуждена от ее производителя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[*деньги и т.п. – не являются предметом потребления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со временем обособилась и возомнила о себе, что она является  главной в производстве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(банки и пр.). Функция – учет и осуществление обмена  деятельностью (продуктами труда и услугами). Возникла из нужды ускорить и упростить обмен продуктов и услуг с помощью различных инструментов (денег и других); движение финансов и/или денег – это фактическая реализация общественного разделения труда,  но хаотичная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мениваемые, продаваемые «инструменты обмена», деньги или финансовые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распределение денег и финансовых инструментов (вместо всеобщего учета и балансирования труда во всех сферах общественного производ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*, потребляемая в момент производства; эта «деятельность» может быть отчуждена от ее производителя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[*деньги и т.п. – не являются предметом потребления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со временем обособилась и возомнила о себе, что она является  главной в производстве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43F-055A-43C1-AC4F-C8B03947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BA1-120A-4C2F-AEC2-24F268E5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8A52-4A7C-46FA-A334-F3E3A5DC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729-71D4-4FEE-9342-DBE28471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6D2-AA21-4A8A-8F68-68D58AF3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85A-A4ED-4237-9642-C8BC47D7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FE8-FF95-4D07-877D-DADA4D3F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9D6-79BC-447D-B67A-CD3CCDBA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1BE3-07CE-4B49-8720-4F67EC85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B05-EA11-4B94-A0D0-CDF8285D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DBC1-3F29-40CC-AF30-17E55542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C877-74B5-405C-8F36-B4909EA1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http://farm4.static.flickr.com/3222/3018627036_aae63bc302_o.jpg"/>
          <p:cNvPicPr/>
          <p:nvPr/>
        </p:nvPicPr>
        <p:blipFill>
          <a:blip r:embed="rId2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286A-71B9-4A4B-91EA-C3ECD29D5808}" type="datetime">
              <a:rPr b="0" lang="ru-RU" sz="1100" spc="-1" strike="noStrike">
                <a:solidFill>
                  <a:srgbClr val="ffffff"/>
                </a:solidFill>
                <a:latin typeface="Calibr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A060-8308-4F09-8D76-E417950C594D}" type="slidenum">
              <a:rPr b="0" lang="ru-RU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28584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В материале </a:t>
            </a:r>
            <a:r>
              <a:rPr b="0" i="1" lang="ru-RU" sz="2600" spc="-1" strike="noStrike">
                <a:solidFill>
                  <a:srgbClr val="ff3300"/>
                </a:solidFill>
                <a:latin typeface="Calibri"/>
              </a:rPr>
              <a:t>«Услуга»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уже были описаны по отдельности основные виды услуг, входящие в более общую категорию </a:t>
            </a:r>
            <a:r>
              <a:rPr b="1" i="1" lang="ru-RU" sz="2600" spc="-1" strike="noStrike">
                <a:solidFill>
                  <a:srgbClr val="ffccff"/>
                </a:solidFill>
                <a:latin typeface="Calibri"/>
              </a:rPr>
              <a:t>«инфраструктура»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 Более того общественное производство объективно прорастает в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единое производство-потребление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ЭНЕРГЕТИКА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энергоснабжение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цессов общественного производства, как в материальном секторе, так и нематериальной сфере и в самой инфраструктуре.  Работа отрасли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видится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принадлежащей к материальному производству, но все же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ее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электрический ток, получаемый различными способами и передаваемый потребителям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генерация и распределение  энергопотоков по сетям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857840" y="142920"/>
            <a:ext cx="42861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е 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;  Как и в других отраслях инфраструктуры,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отрасль представляет затраты для экономики  в цело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роме случаев экспорта через границы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стоит в одном ряду с другими аналогичными,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жилищно-коммунальное хозяйство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СВЯЗЬ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обеспечение общения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как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щение людей, организаций, предприятий, всех подразделений народного хозяйства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прерывный процесс общения, обеспечивающий эффективную работу и жизнедеятельность всего обществ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е 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свободно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отрасль есть затраты для народного хозяйства в цело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роме случаев продажи услуги через границы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 настолько тесно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ИНФОРМАЦИОННОЕ ПРОИЗВОДСТВО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производство информационной продукции и услуг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для потребления людьми и всеми организациями и отраслями  общественного воспроизводства.  Работа данной отрасли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как информационный продукт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.  Продукт 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этой отрасли особого рода, который потребляется как информация, одноразовая или многоразовая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информация различного вида и типа, необходимая для потребления во всех секторах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857840" y="70920"/>
            <a:ext cx="428616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этой отрасли не образуется: «продуктом труда» является как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так и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одукт,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требляемые в производстве – обмене – потреблении;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нфо-продукты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могу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свободно отчуждены от их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 в случае с энергетикой, например, внешняя материальность «продукта» придает  ему только внешнюю товарность;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-продукт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не может быть </a:t>
            </a:r>
            <a:r>
              <a:rPr b="0" i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дуктом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ОРГАНИЗАЦИОННОЕ ПРОИЗВОДСТВО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производство </a:t>
            </a:r>
            <a:r>
              <a:rPr b="1" lang="ru-RU" sz="1700" spc="-1" strike="noStrike" u="sng">
                <a:solidFill>
                  <a:srgbClr val="ff3300"/>
                </a:solidFill>
                <a:uFillTx/>
                <a:latin typeface="Calibri"/>
              </a:rPr>
              <a:t>организации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 как деятельности, </a:t>
            </a:r>
            <a:r>
              <a:rPr b="1" lang="ru-RU" sz="1700" spc="-1" strike="noStrike">
                <a:solidFill>
                  <a:srgbClr val="ffc000"/>
                </a:solidFill>
                <a:latin typeface="Calibri"/>
              </a:rPr>
              <a:t>ранее называемой «управлением»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и осуществлявшейся как </a:t>
            </a:r>
            <a:r>
              <a:rPr b="1" lang="ru-RU" sz="1700" spc="-1" strike="noStrike" u="sng">
                <a:solidFill>
                  <a:srgbClr val="ffff00"/>
                </a:solidFill>
                <a:uFillTx/>
                <a:latin typeface="Calibri"/>
              </a:rPr>
              <a:t>власть.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Для полезного потреблени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организации как деятельности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d9d9d9"/>
                </a:solidFill>
                <a:latin typeface="Calibri"/>
              </a:rPr>
              <a:t>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d9d9d9"/>
                </a:solidFill>
                <a:latin typeface="Calibri"/>
              </a:rPr>
              <a:t>слаженность и целостность народного хозяйства в </a:t>
            </a:r>
            <a:r>
              <a:rPr b="1" lang="ru-RU" sz="1700" spc="-1" strike="noStrike">
                <a:solidFill>
                  <a:srgbClr val="d9d9d9"/>
                </a:solidFill>
                <a:latin typeface="Calibri"/>
              </a:rPr>
              <a:t>производстве и обмене;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857840" y="70920"/>
            <a:ext cx="428616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 – аналог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тарифа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в других отраслях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этой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,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требляемая в </a:t>
            </a:r>
            <a:r>
              <a:rPr b="1" lang="ru-RU" sz="1600" spc="-1" strike="noStrike">
                <a:solidFill>
                  <a:srgbClr val="d9d9d9"/>
                </a:solidFill>
                <a:latin typeface="Calibri"/>
              </a:rPr>
              <a:t>производстве – обмене – потреблен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рганическое строение капитала в отрасли (</a:t>
            </a: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С</a:t>
            </a:r>
            <a:r>
              <a:rPr b="1" lang="en-US" sz="1600" spc="-1" strike="noStrike">
                <a:solidFill>
                  <a:srgbClr val="ffc000"/>
                </a:solidFill>
                <a:latin typeface="Calibri"/>
              </a:rPr>
              <a:t>/V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говорит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правление – это реализация функции ВСЕОБЩГО ИНТЕРЕСА, так как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все общество нужд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 рациональной  организации всех отраслей и секторов жизни общества; В отсутствие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изводственного подхода к управлению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, оно превращается в желание «править» или личную корысть вместо «управления» и «организационной деятельности». Власть как таковая устарела, а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оцесс управления,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водимый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за цену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, выраженную в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тарифе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Изученный предмет, продукт и результат управленческой деятельности совершенно изменит ее сущность.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роизводство организации </a:t>
            </a:r>
            <a:r>
              <a:rPr b="1" lang="ru-RU" sz="1200" spc="-1" strike="noStrike">
                <a:solidFill>
                  <a:srgbClr val="bfbfbf"/>
                </a:solidFill>
                <a:latin typeface="Calibri"/>
              </a:rPr>
              <a:t>вместо властного паразитизма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Услуга и товарная форма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границы применимост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00360" y="1356840"/>
            <a:ext cx="45003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alibri"/>
              </a:rPr>
              <a:t>Нематериальное производство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или услуги, также составляет затраты экономики в цело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Примитивный буржуазный подход требует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чтобы эта отрасль была прибыльной, работала на коммерческой основ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есусветная глупость – идея получать прибыль в детском саду, школе или библиотек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; здравоохранение и образование, социальное обеспечение не могут и не должны работать на прибыль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42560" y="1357200"/>
            <a:ext cx="4786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Отрасли </a:t>
            </a:r>
            <a:r>
              <a:rPr b="1" lang="ru-RU" sz="2000" spc="-1" strike="noStrike">
                <a:solidFill>
                  <a:srgbClr val="ff6600"/>
                </a:solidFill>
                <a:latin typeface="Calibri"/>
              </a:rPr>
              <a:t>Инфраструктуры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как правило, работают на коммерческой основе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слуги данных секторов чаще всего носят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товарную форму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х деятельность обменивается на продукты и другую деятельность внутри отрасли, между отраслями, с материальным и нематериальным производством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в денежной форм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Инфраструктура - единое производство услуг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ЭТО В КОНЕЦ???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libri"/>
              </a:rPr>
              <a:t>Инфраструктура.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аждая из отраслей, развиваясь все более и более способствует развитию таких же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сетевых по характеру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отраслей инфраструктуры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recycle"/>
          <p:cNvPicPr/>
          <p:nvPr/>
        </p:nvPicPr>
        <p:blipFill>
          <a:blip r:embed="rId1"/>
          <a:stretch/>
        </p:blipFill>
        <p:spPr>
          <a:xfrm>
            <a:off x="8215200" y="2071800"/>
            <a:ext cx="758880" cy="7300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слуга.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Инфраструктура - единое производство услуг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341360"/>
            <a:ext cx="87152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–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ротяженность в пространстве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ем самым обеспечивается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максимальная (или оптимальная) скорость оборота товаров и услуг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продуктов и деятельности). Экономика движется все быстрее и быстрее (а в будущем – рациональнее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6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26028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трасли инфраструктуры, как важнейшей части всего народного хозяйства имеют ряд объединяющих признаков. Среди них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2) большинство отраслей работает 24 часа в сутк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3) постоянно возрастающее взаимодействие с другими отраслями инфраструктуры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Левая фигурная скобка 5"/>
          <p:cNvSpPr/>
          <p:nvPr/>
        </p:nvSpPr>
        <p:spPr>
          <a:xfrm rot="16200000">
            <a:off x="4464720" y="-749880"/>
            <a:ext cx="428400" cy="8358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0800 h 8358120"/>
              <a:gd name="textAreaBottom" fmla="*/ 8347320 h 835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"/>
                  <a:pt x="10800" y="92"/>
                </a:cubicBezTo>
                <a:lnTo>
                  <a:pt x="10800" y="10718"/>
                </a:lnTo>
                <a:cubicBezTo>
                  <a:pt x="10800" y="10764"/>
                  <a:pt x="5400" y="10810"/>
                  <a:pt x="0" y="10810"/>
                </a:cubicBezTo>
                <a:cubicBezTo>
                  <a:pt x="5400" y="10810"/>
                  <a:pt x="10800" y="10856"/>
                  <a:pt x="10800" y="10902"/>
                </a:cubicBezTo>
                <a:lnTo>
                  <a:pt x="10800" y="21508"/>
                </a:lnTo>
                <a:cubicBezTo>
                  <a:pt x="10800" y="2155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0" y="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00"/>
                </a:solidFill>
                <a:latin typeface="Book Antiqua"/>
              </a:rPr>
              <a:t>Посвящается Борису Ельци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714240" y="4857840"/>
            <a:ext cx="178596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ритм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214800" y="4857840"/>
            <a:ext cx="207144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ланом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929200" y="4857840"/>
            <a:ext cx="278604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ропорцион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1"/>
          <p:cNvCxnSpPr>
            <a:stCxn id="58" idx="3"/>
            <a:endCxn id="59" idx="1"/>
          </p:cNvCxnSpPr>
          <p:nvPr/>
        </p:nvCxnSpPr>
        <p:spPr>
          <a:xfrm>
            <a:off x="2499840" y="5041440"/>
            <a:ext cx="71532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Прямая со стрелкой 13"/>
          <p:cNvCxnSpPr>
            <a:stCxn id="59" idx="3"/>
            <a:endCxn id="60" idx="1"/>
          </p:cNvCxnSpPr>
          <p:nvPr/>
        </p:nvCxnSpPr>
        <p:spPr>
          <a:xfrm>
            <a:off x="5286240" y="5041440"/>
            <a:ext cx="64332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8"/>
          <p:cNvGrpSpPr/>
          <p:nvPr/>
        </p:nvGrpSpPr>
        <p:grpSpPr>
          <a:xfrm>
            <a:off x="3500280" y="142920"/>
            <a:ext cx="5643720" cy="2579760"/>
            <a:chOff x="3500280" y="142920"/>
            <a:chExt cx="5643720" cy="2579760"/>
          </a:xfrm>
        </p:grpSpPr>
        <p:pic>
          <p:nvPicPr>
            <p:cNvPr id="65" name="Рисунок 16" descr="photo_rev_oct_17.jpg"/>
            <p:cNvPicPr/>
            <p:nvPr/>
          </p:nvPicPr>
          <p:blipFill>
            <a:blip r:embed="rId1"/>
            <a:srcRect l="14064" t="0" r="9375" b="11706"/>
            <a:stretch/>
          </p:blipFill>
          <p:spPr>
            <a:xfrm>
              <a:off x="3500280" y="142920"/>
              <a:ext cx="5643720" cy="25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Группа 10"/>
            <p:cNvGrpSpPr/>
            <p:nvPr/>
          </p:nvGrpSpPr>
          <p:grpSpPr>
            <a:xfrm>
              <a:off x="3632400" y="203040"/>
              <a:ext cx="5311080" cy="2244600"/>
              <a:chOff x="3632400" y="203040"/>
              <a:chExt cx="5311080" cy="2244600"/>
            </a:xfrm>
          </p:grpSpPr>
          <p:sp>
            <p:nvSpPr>
              <p:cNvPr id="67" name="Выгнутая вверх стрелка 5"/>
              <p:cNvSpPr/>
              <p:nvPr/>
            </p:nvSpPr>
            <p:spPr>
              <a:xfrm rot="5400000">
                <a:off x="6978240" y="482040"/>
                <a:ext cx="2109240" cy="1821240"/>
              </a:xfrm>
              <a:custGeom>
                <a:avLst/>
                <a:gdLst>
                  <a:gd name="textAreaLeft" fmla="*/ 363600 w 2109240"/>
                  <a:gd name="textAreaRight" fmla="*/ 1486800 w 2109240"/>
                  <a:gd name="textAreaTop" fmla="*/ 243720 h 1821240"/>
                  <a:gd name="textAreaBottom" fmla="*/ 1577520 h 18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7" hR="21600" stAng="10800000" swAng="5400000"/>
                    <a:lnTo>
                      <a:pt x="11502" y="0"/>
                    </a:lnTo>
                    <a:arcTo wR="7447" hR="21600" stAng="-5400000" swAng="3190216"/>
                    <a:lnTo>
                      <a:pt x="21364" y="16200"/>
                    </a:lnTo>
                    <a:lnTo>
                      <a:pt x="16922" y="21600"/>
                    </a:lnTo>
                    <a:lnTo>
                      <a:pt x="12007" y="16200"/>
                    </a:lnTo>
                    <a:lnTo>
                      <a:pt x="14658" y="16200"/>
                    </a:lnTo>
                    <a:arcTo wR="7447" hR="21600" stAng="-2209784" swAng="-2855919"/>
                    <a:lnTo>
                      <a:pt x="9475" y="816"/>
                    </a:lnTo>
                    <a:arcTo wR="7447" hR="21600" stAng="-5734297" swAng="-5065703"/>
                    <a:close/>
                  </a:path>
                  <a:path fill="darkenLess" w="21600" h="21600">
                    <a:moveTo>
                      <a:pt x="0" y="21600"/>
                    </a:moveTo>
                    <a:arcTo wR="7447" hR="21600" stAng="10800000" swAng="5400000"/>
                    <a:lnTo>
                      <a:pt x="7447" y="0"/>
                    </a:lnTo>
                    <a:arcTo wR="7447" hR="21600" stAng="-5400000" swAng="334297"/>
                    <a:lnTo>
                      <a:pt x="9475" y="816"/>
                    </a:lnTo>
                    <a:arcTo wR="7447" hR="21600" stAng="-5734297" swAng="-5065703"/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Овал 6"/>
              <p:cNvGrpSpPr/>
              <p:nvPr/>
            </p:nvGrpSpPr>
            <p:grpSpPr>
              <a:xfrm>
                <a:off x="5360400" y="471240"/>
                <a:ext cx="1775880" cy="1713960"/>
                <a:chOff x="5360400" y="471240"/>
                <a:chExt cx="1775880" cy="1713960"/>
              </a:xfrm>
            </p:grpSpPr>
            <p:pic>
              <p:nvPicPr>
                <p:cNvPr id="69" name="Овал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60400" y="471240"/>
                  <a:ext cx="1775880" cy="171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"/>
                <p:cNvSpPr/>
                <p:nvPr/>
              </p:nvSpPr>
              <p:spPr>
                <a:xfrm rot="5400000">
                  <a:off x="5648760" y="708120"/>
                  <a:ext cx="1193400" cy="123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Выгнутая вверх стрелка 9"/>
              <p:cNvSpPr/>
              <p:nvPr/>
            </p:nvSpPr>
            <p:spPr>
              <a:xfrm flipH="1" flipV="1" rot="5400000">
                <a:off x="3408840" y="425880"/>
                <a:ext cx="2118600" cy="1671840"/>
              </a:xfrm>
              <a:custGeom>
                <a:avLst/>
                <a:gdLst>
                  <a:gd name="textAreaLeft" fmla="*/ 381960 w 2118600"/>
                  <a:gd name="textAreaRight" fmla="*/ 1510920 w 2118600"/>
                  <a:gd name="textAreaTop" fmla="*/ 223920 h 1671840"/>
                  <a:gd name="textAreaBottom" fmla="*/ 1447920 h 167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00" hR="21600" stAng="10800000" swAng="5400000"/>
                    <a:lnTo>
                      <a:pt x="11506" y="0"/>
                    </a:lnTo>
                    <a:arcTo wR="7800" hR="21600" stAng="-5400000" swAng="3266086"/>
                    <a:lnTo>
                      <a:pt x="21352" y="16200"/>
                    </a:lnTo>
                    <a:lnTo>
                      <a:pt x="17453" y="21600"/>
                    </a:lnTo>
                    <a:lnTo>
                      <a:pt x="13058" y="16200"/>
                    </a:lnTo>
                    <a:lnTo>
                      <a:pt x="15352" y="16200"/>
                    </a:lnTo>
                    <a:arcTo wR="7800" hR="21600" stAng="-2133914" swAng="-2963266"/>
                    <a:lnTo>
                      <a:pt x="9653" y="618"/>
                    </a:lnTo>
                    <a:arcTo wR="7800" hR="21600" stAng="-5702820" swAng="-5097180"/>
                    <a:close/>
                  </a:path>
                  <a:path fill="darkenLess" w="21600" h="21600">
                    <a:moveTo>
                      <a:pt x="0" y="21600"/>
                    </a:moveTo>
                    <a:arcTo wR="7800" hR="21600" stAng="10800000" swAng="5400000"/>
                    <a:lnTo>
                      <a:pt x="7800" y="0"/>
                    </a:lnTo>
                    <a:arcTo wR="7800" hR="21600" stAng="-5400000" swAng="302820"/>
                    <a:lnTo>
                      <a:pt x="9653" y="618"/>
                    </a:lnTo>
                    <a:arcTo wR="7800" hR="21600" stAng="-5702820" swAng="-5097180"/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5425200" y="730080"/>
              <a:ext cx="162144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834000" y="380880"/>
              <a:ext cx="16214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7016400" y="1711440"/>
              <a:ext cx="1926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4023000" y="2144880"/>
              <a:ext cx="49564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71680" y="3928680"/>
            <a:ext cx="2714760" cy="242892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а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Группа 18"/>
          <p:cNvGrpSpPr/>
          <p:nvPr/>
        </p:nvGrpSpPr>
        <p:grpSpPr>
          <a:xfrm>
            <a:off x="3500280" y="142920"/>
            <a:ext cx="5643720" cy="2579760"/>
            <a:chOff x="3500280" y="142920"/>
            <a:chExt cx="5643720" cy="2579760"/>
          </a:xfrm>
        </p:grpSpPr>
        <p:pic>
          <p:nvPicPr>
            <p:cNvPr id="82" name="Рисунок 16" descr="photo_rev_oct_17.jpg"/>
            <p:cNvPicPr/>
            <p:nvPr/>
          </p:nvPicPr>
          <p:blipFill>
            <a:blip r:embed="rId1"/>
            <a:srcRect l="14064" t="0" r="9375" b="11706"/>
            <a:stretch/>
          </p:blipFill>
          <p:spPr>
            <a:xfrm>
              <a:off x="3500280" y="142920"/>
              <a:ext cx="5643720" cy="25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Группа 10"/>
            <p:cNvGrpSpPr/>
            <p:nvPr/>
          </p:nvGrpSpPr>
          <p:grpSpPr>
            <a:xfrm>
              <a:off x="3632400" y="203040"/>
              <a:ext cx="5311080" cy="2244600"/>
              <a:chOff x="3632400" y="203040"/>
              <a:chExt cx="5311080" cy="2244600"/>
            </a:xfrm>
          </p:grpSpPr>
          <p:sp>
            <p:nvSpPr>
              <p:cNvPr id="84" name="Выгнутая вверх стрелка 5"/>
              <p:cNvSpPr/>
              <p:nvPr/>
            </p:nvSpPr>
            <p:spPr>
              <a:xfrm rot="5400000">
                <a:off x="6978240" y="482040"/>
                <a:ext cx="2109240" cy="1821240"/>
              </a:xfrm>
              <a:custGeom>
                <a:avLst/>
                <a:gdLst>
                  <a:gd name="textAreaLeft" fmla="*/ 363600 w 2109240"/>
                  <a:gd name="textAreaRight" fmla="*/ 1486800 w 2109240"/>
                  <a:gd name="textAreaTop" fmla="*/ 243720 h 1821240"/>
                  <a:gd name="textAreaBottom" fmla="*/ 1577520 h 18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7" hR="21600" stAng="10800000" swAng="5400000"/>
                    <a:lnTo>
                      <a:pt x="11502" y="0"/>
                    </a:lnTo>
                    <a:arcTo wR="7447" hR="21600" stAng="-5400000" swAng="3190216"/>
                    <a:lnTo>
                      <a:pt x="21364" y="16200"/>
                    </a:lnTo>
                    <a:lnTo>
                      <a:pt x="16922" y="21600"/>
                    </a:lnTo>
                    <a:lnTo>
                      <a:pt x="12007" y="16200"/>
                    </a:lnTo>
                    <a:lnTo>
                      <a:pt x="14658" y="16200"/>
                    </a:lnTo>
                    <a:arcTo wR="7447" hR="21600" stAng="-2209784" swAng="-2855919"/>
                    <a:lnTo>
                      <a:pt x="9475" y="816"/>
                    </a:lnTo>
                    <a:arcTo wR="7447" hR="21600" stAng="-5734297" swAng="-5065703"/>
                    <a:close/>
                  </a:path>
                  <a:path fill="darkenLess" w="21600" h="21600">
                    <a:moveTo>
                      <a:pt x="0" y="21600"/>
                    </a:moveTo>
                    <a:arcTo wR="7447" hR="21600" stAng="10800000" swAng="5400000"/>
                    <a:lnTo>
                      <a:pt x="7447" y="0"/>
                    </a:lnTo>
                    <a:arcTo wR="7447" hR="21600" stAng="-5400000" swAng="334297"/>
                    <a:lnTo>
                      <a:pt x="9475" y="816"/>
                    </a:lnTo>
                    <a:arcTo wR="7447" hR="21600" stAng="-5734297" swAng="-5065703"/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Овал 6"/>
              <p:cNvGrpSpPr/>
              <p:nvPr/>
            </p:nvGrpSpPr>
            <p:grpSpPr>
              <a:xfrm>
                <a:off x="5360400" y="471240"/>
                <a:ext cx="1775880" cy="1713960"/>
                <a:chOff x="5360400" y="471240"/>
                <a:chExt cx="1775880" cy="1713960"/>
              </a:xfrm>
            </p:grpSpPr>
            <p:pic>
              <p:nvPicPr>
                <p:cNvPr id="86" name="Овал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60400" y="471240"/>
                  <a:ext cx="1775880" cy="171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"/>
                <p:cNvSpPr/>
                <p:nvPr/>
              </p:nvSpPr>
              <p:spPr>
                <a:xfrm rot="5400000">
                  <a:off x="5648760" y="708120"/>
                  <a:ext cx="1193400" cy="123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Выгнутая вверх стрелка 9"/>
              <p:cNvSpPr/>
              <p:nvPr/>
            </p:nvSpPr>
            <p:spPr>
              <a:xfrm flipH="1" flipV="1" rot="5400000">
                <a:off x="3408840" y="425880"/>
                <a:ext cx="2118600" cy="1671840"/>
              </a:xfrm>
              <a:custGeom>
                <a:avLst/>
                <a:gdLst>
                  <a:gd name="textAreaLeft" fmla="*/ 381960 w 2118600"/>
                  <a:gd name="textAreaRight" fmla="*/ 1510920 w 2118600"/>
                  <a:gd name="textAreaTop" fmla="*/ 223920 h 1671840"/>
                  <a:gd name="textAreaBottom" fmla="*/ 1447920 h 167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00" hR="21600" stAng="10800000" swAng="5400000"/>
                    <a:lnTo>
                      <a:pt x="11506" y="0"/>
                    </a:lnTo>
                    <a:arcTo wR="7800" hR="21600" stAng="-5400000" swAng="3266086"/>
                    <a:lnTo>
                      <a:pt x="21352" y="16200"/>
                    </a:lnTo>
                    <a:lnTo>
                      <a:pt x="17453" y="21600"/>
                    </a:lnTo>
                    <a:lnTo>
                      <a:pt x="13058" y="16200"/>
                    </a:lnTo>
                    <a:lnTo>
                      <a:pt x="15352" y="16200"/>
                    </a:lnTo>
                    <a:arcTo wR="7800" hR="21600" stAng="-2133914" swAng="-2963266"/>
                    <a:lnTo>
                      <a:pt x="9653" y="618"/>
                    </a:lnTo>
                    <a:arcTo wR="7800" hR="21600" stAng="-5702820" swAng="-5097180"/>
                    <a:close/>
                  </a:path>
                  <a:path fill="darkenLess" w="21600" h="21600">
                    <a:moveTo>
                      <a:pt x="0" y="21600"/>
                    </a:moveTo>
                    <a:arcTo wR="7800" hR="21600" stAng="10800000" swAng="5400000"/>
                    <a:lnTo>
                      <a:pt x="7800" y="0"/>
                    </a:lnTo>
                    <a:arcTo wR="7800" hR="21600" stAng="-5400000" swAng="302820"/>
                    <a:lnTo>
                      <a:pt x="9653" y="618"/>
                    </a:lnTo>
                    <a:arcTo wR="7800" hR="21600" stAng="-5702820" swAng="-5097180"/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5425200" y="730080"/>
              <a:ext cx="162144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834000" y="380880"/>
              <a:ext cx="16214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7016400" y="1711440"/>
              <a:ext cx="1926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4023000" y="2144880"/>
              <a:ext cx="49564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71680" y="3928680"/>
            <a:ext cx="2714760" cy="242892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а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00720" y="285840"/>
            <a:ext cx="46432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 – среда общественного организма (создается с пом. МП, И, НП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человек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еда – условно неподвижн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– «оживляет ее , с помощью Ч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приводит в движение С с помощью Ч и НП, а также формирует Среду с помощью Ч и НП!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 – основной продукт МП; МП. НП, НП – инструменты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основной продукт НП; МП, НП и И – инструменты «производства Ч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41"/>
          <p:cNvGrpSpPr/>
          <p:nvPr/>
        </p:nvGrpSpPr>
        <p:grpSpPr>
          <a:xfrm>
            <a:off x="285840" y="2000160"/>
            <a:ext cx="4200480" cy="4324320"/>
            <a:chOff x="285840" y="2000160"/>
            <a:chExt cx="4200480" cy="4324320"/>
          </a:xfrm>
        </p:grpSpPr>
        <p:sp>
          <p:nvSpPr>
            <p:cNvPr id="103" name="AutoShape 2"/>
            <p:cNvSpPr/>
            <p:nvPr/>
          </p:nvSpPr>
          <p:spPr>
            <a:xfrm>
              <a:off x="285840" y="2000160"/>
              <a:ext cx="4200480" cy="4185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9bbb59"/>
                </a:gs>
                <a:gs pos="100000">
                  <a:srgbClr val="c2d69b"/>
                </a:gs>
              </a:gsLst>
              <a:lin ang="5400000"/>
            </a:gradFill>
            <a:ln w="1260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4e612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"/>
            <p:cNvSpPr/>
            <p:nvPr/>
          </p:nvSpPr>
          <p:spPr>
            <a:xfrm>
              <a:off x="636480" y="2304720"/>
              <a:ext cx="3562560" cy="1732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4"/>
            <p:cNvSpPr/>
            <p:nvPr/>
          </p:nvSpPr>
          <p:spPr>
            <a:xfrm>
              <a:off x="636480" y="4088160"/>
              <a:ext cx="356256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5"/>
            <p:cNvSpPr/>
            <p:nvPr/>
          </p:nvSpPr>
          <p:spPr>
            <a:xfrm>
              <a:off x="1954080" y="3251160"/>
              <a:ext cx="776160" cy="7185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365e8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"/>
            <p:cNvSpPr/>
            <p:nvPr/>
          </p:nvSpPr>
          <p:spPr>
            <a:xfrm>
              <a:off x="2000160" y="4088160"/>
              <a:ext cx="749160" cy="738360"/>
            </a:xfrm>
            <a:prstGeom prst="ellips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9236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 flipH="1" rot="10654800">
              <a:off x="1382040" y="3389400"/>
              <a:ext cx="587160" cy="1247760"/>
            </a:xfrm>
            <a:custGeom>
              <a:avLst/>
              <a:gdLst>
                <a:gd name="textAreaLeft" fmla="*/ 78480 w 587160"/>
                <a:gd name="textAreaRight" fmla="*/ 508680 w 587160"/>
                <a:gd name="textAreaTop" fmla="*/ 210960 h 1247760"/>
                <a:gd name="textAreaBottom" fmla="*/ 902160 h 12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09" stAng="-5400000" swAng="-5400000"/>
                  <a:lnTo>
                    <a:pt x="0" y="11964"/>
                  </a:lnTo>
                  <a:arcTo wR="21600" hR="7309" stAng="10800000" swAng="-2624506"/>
                  <a:lnTo>
                    <a:pt x="14400" y="21182"/>
                  </a:lnTo>
                  <a:lnTo>
                    <a:pt x="21600" y="16945"/>
                  </a:lnTo>
                  <a:lnTo>
                    <a:pt x="14400" y="11871"/>
                  </a:lnTo>
                  <a:lnTo>
                    <a:pt x="14400" y="14199"/>
                  </a:lnTo>
                  <a:arcTo wR="21600" hR="7309" stAng="8175494" swAng="2235398"/>
                  <a:lnTo>
                    <a:pt x="1125" y="9636"/>
                  </a:lnTo>
                  <a:arcTo wR="21600" hR="7309" stAng="-10410891" swAng="5010891"/>
                  <a:close/>
                </a:path>
                <a:path fill="darkenLess" w="21600" h="21600">
                  <a:moveTo>
                    <a:pt x="21600" y="0"/>
                  </a:moveTo>
                  <a:arcTo wR="21600" hR="7309" stAng="-5400000" swAng="-5400000"/>
                  <a:lnTo>
                    <a:pt x="0" y="7309"/>
                  </a:lnTo>
                  <a:arcTo wR="21600" hR="7309" stAng="10800000" swAng="-389109"/>
                  <a:lnTo>
                    <a:pt x="1125" y="9636"/>
                  </a:lnTo>
                  <a:arcTo wR="21600" hR="7309" stAng="-10410891" swAng="5010891"/>
                  <a:close/>
                </a:path>
              </a:pathLst>
            </a:custGeom>
            <a:gradFill rotWithShape="0">
              <a:gsLst>
                <a:gs pos="0">
                  <a:srgbClr val="d99594"/>
                </a:gs>
                <a:gs pos="50000">
                  <a:srgbClr val="c0504d"/>
                </a:gs>
                <a:gs pos="100000">
                  <a:srgbClr val="d99594"/>
                </a:gs>
              </a:gsLst>
              <a:lin ang="5400000"/>
            </a:gradFill>
            <a:ln w="12600">
              <a:solidFill>
                <a:srgbClr val="c0504d"/>
              </a:solidFill>
              <a:miter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2746440" y="3458880"/>
              <a:ext cx="564840" cy="1213920"/>
            </a:xfrm>
            <a:custGeom>
              <a:avLst/>
              <a:gdLst>
                <a:gd name="textAreaLeft" fmla="*/ 75600 w 564840"/>
                <a:gd name="textAreaRight" fmla="*/ 489240 w 564840"/>
                <a:gd name="textAreaTop" fmla="*/ 201960 h 1213920"/>
                <a:gd name="textAreaBottom" fmla="*/ 876600 h 121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92" stAng="-5400000" swAng="5400000"/>
                  <a:lnTo>
                    <a:pt x="21600" y="12003"/>
                  </a:lnTo>
                  <a:arcTo wR="21600" hR="7192" stAng="0" swAng="2596805"/>
                  <a:lnTo>
                    <a:pt x="7200" y="21189"/>
                  </a:lnTo>
                  <a:lnTo>
                    <a:pt x="0" y="16789"/>
                  </a:lnTo>
                  <a:lnTo>
                    <a:pt x="7200" y="11566"/>
                  </a:lnTo>
                  <a:lnTo>
                    <a:pt x="7200" y="13972"/>
                  </a:lnTo>
                  <a:arcTo wR="21600" hR="7192" stAng="2596805" swAng="-2192432"/>
                  <a:lnTo>
                    <a:pt x="20356" y="9597"/>
                  </a:lnTo>
                  <a:arcTo wR="21600" hR="7192" stAng="-404372" swAng="-4995628"/>
                  <a:close/>
                </a:path>
                <a:path fill="darkenLess" w="21600" h="21600">
                  <a:moveTo>
                    <a:pt x="0" y="0"/>
                  </a:moveTo>
                  <a:arcTo wR="21600" hR="7192" stAng="-5400000" swAng="5400000"/>
                  <a:lnTo>
                    <a:pt x="21600" y="12003"/>
                  </a:lnTo>
                  <a:arcTo wR="21600" hR="7192" stAng="0" swAng="-404372"/>
                  <a:lnTo>
                    <a:pt x="20356" y="9597"/>
                  </a:lnTo>
                  <a:arcTo wR="21600" hR="7192" stAng="-404372" swAng="-4995628"/>
                  <a:close/>
                </a:path>
              </a:pathLst>
            </a:custGeom>
            <a:gradFill rotWithShape="0">
              <a:gsLst>
                <a:gs pos="0">
                  <a:srgbClr val="95b3d7"/>
                </a:gs>
                <a:gs pos="50000">
                  <a:srgbClr val="4f81bd"/>
                </a:gs>
                <a:gs pos="100000">
                  <a:srgbClr val="95b3d7"/>
                </a:gs>
              </a:gsLst>
              <a:lin ang="5400000"/>
            </a:gradFill>
            <a:ln w="1260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922320" y="2423160"/>
              <a:ext cx="2879640" cy="449280"/>
            </a:xfrm>
            <a:prstGeom prst="rect">
              <a:avLst/>
            </a:prstGeom>
            <a:gradFill rotWithShape="0">
              <a:gsLst>
                <a:gs pos="0">
                  <a:srgbClr val="d99594"/>
                </a:gs>
                <a:gs pos="50000">
                  <a:srgbClr val="f2dbdb"/>
                </a:gs>
                <a:gs pos="100000">
                  <a:srgbClr val="d99594"/>
                </a:gs>
              </a:gsLst>
              <a:lin ang="189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Материальное производ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954000" y="5259240"/>
              <a:ext cx="2865600" cy="436680"/>
            </a:xfrm>
            <a:prstGeom prst="rect">
              <a:avLst/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189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Нематериальное производ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Прямоугольник 51" descr=""/>
            <p:cNvPicPr/>
            <p:nvPr/>
          </p:nvPicPr>
          <p:blipFill>
            <a:blip r:embed="rId1"/>
            <a:stretch/>
          </p:blipFill>
          <p:spPr>
            <a:xfrm>
              <a:off x="1652040" y="3872520"/>
              <a:ext cx="1420200" cy="150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Прямоугольник 52" descr=""/>
            <p:cNvPicPr/>
            <p:nvPr/>
          </p:nvPicPr>
          <p:blipFill>
            <a:blip r:embed="rId2"/>
            <a:stretch/>
          </p:blipFill>
          <p:spPr>
            <a:xfrm>
              <a:off x="1585080" y="2968200"/>
              <a:ext cx="1438560" cy="1512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4" name="Прямая со стрелкой 53"/>
            <p:cNvCxnSpPr/>
            <p:nvPr/>
          </p:nvCxnSpPr>
          <p:spPr>
            <a:xfrm>
              <a:off x="2310480" y="2872080"/>
              <a:ext cx="20880" cy="448200"/>
            </a:xfrm>
            <a:prstGeom prst="straightConnector1">
              <a:avLst/>
            </a:prstGeom>
            <a:ln w="38160">
              <a:solidFill>
                <a:srgbClr val="8064a2"/>
              </a:solidFill>
              <a:miter/>
              <a:tailEnd len="med" type="triangle" w="med"/>
            </a:ln>
          </p:spPr>
        </p:cxnSp>
        <p:pic>
          <p:nvPicPr>
            <p:cNvPr id="115" name="Прямоугольник 54" descr=""/>
            <p:cNvPicPr/>
            <p:nvPr/>
          </p:nvPicPr>
          <p:blipFill>
            <a:blip r:embed="rId3"/>
            <a:stretch/>
          </p:blipFill>
          <p:spPr>
            <a:xfrm>
              <a:off x="1267920" y="5698440"/>
              <a:ext cx="2426040" cy="62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1546200" y="709560"/>
            <a:ext cx="4200480" cy="4318200"/>
          </a:xfrm>
          <a:custGeom>
            <a:avLst/>
            <a:gdLst>
              <a:gd name="textAreaLeft" fmla="*/ 204840 w 4200480"/>
              <a:gd name="textAreaRight" fmla="*/ 3995640 w 4200480"/>
              <a:gd name="textAreaTop" fmla="*/ 204840 h 4318200"/>
              <a:gd name="textAreaBottom" fmla="*/ 4113360 h 4318200"/>
            </a:gdLst>
            <a:ahLst/>
            <a:rect l="textAreaLeft" t="textAreaTop" r="textAreaRight" b="textAreaBottom"/>
            <a:pathLst>
              <a:path w="21600" h="22205">
                <a:moveTo>
                  <a:pt x="3600" y="0"/>
                </a:moveTo>
                <a:arcTo wR="3600" hR="3600" stAng="16200000" swAng="-5400000"/>
                <a:lnTo>
                  <a:pt x="0" y="18605"/>
                </a:lnTo>
                <a:arcTo wR="3600" hR="3600" stAng="10800000" swAng="-5400000"/>
                <a:lnTo>
                  <a:pt x="18000" y="22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1897200" y="1023840"/>
            <a:ext cx="3562200" cy="178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1897200" y="2863800"/>
            <a:ext cx="3562200" cy="170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3214800" y="2000160"/>
            <a:ext cx="776160" cy="741600"/>
          </a:xfrm>
          <a:prstGeom prst="ellipse">
            <a:avLst/>
          </a:prstGeom>
          <a:gradFill rotWithShape="0">
            <a:gsLst>
              <a:gs pos="0">
                <a:srgbClr val="4f81bd"/>
              </a:gs>
              <a:gs pos="100000">
                <a:srgbClr val="365e8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260880" y="2863800"/>
            <a:ext cx="749160" cy="76212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9236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 flipH="1" rot="10654800">
            <a:off x="2643120" y="2143080"/>
            <a:ext cx="587520" cy="1287360"/>
          </a:xfrm>
          <a:custGeom>
            <a:avLst/>
            <a:gdLst>
              <a:gd name="textAreaLeft" fmla="*/ 78480 w 587520"/>
              <a:gd name="textAreaRight" fmla="*/ 509040 w 587520"/>
              <a:gd name="textAreaTop" fmla="*/ 217800 h 1287360"/>
              <a:gd name="textAreaBottom" fmla="*/ 930960 h 128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09" stAng="-5400000" swAng="-5400000"/>
                <a:lnTo>
                  <a:pt x="0" y="11964"/>
                </a:lnTo>
                <a:arcTo wR="21600" hR="7309" stAng="10800000" swAng="-2624506"/>
                <a:lnTo>
                  <a:pt x="14400" y="21182"/>
                </a:lnTo>
                <a:lnTo>
                  <a:pt x="21600" y="16945"/>
                </a:lnTo>
                <a:lnTo>
                  <a:pt x="14400" y="11871"/>
                </a:lnTo>
                <a:lnTo>
                  <a:pt x="14400" y="14199"/>
                </a:lnTo>
                <a:arcTo wR="21600" hR="7309" stAng="8175494" swAng="2235398"/>
                <a:lnTo>
                  <a:pt x="1125" y="9636"/>
                </a:lnTo>
                <a:arcTo wR="21600" hR="7309" stAng="-10410891" swAng="5010891"/>
                <a:close/>
              </a:path>
              <a:path fill="darkenLess" w="21600" h="21600">
                <a:moveTo>
                  <a:pt x="21600" y="0"/>
                </a:moveTo>
                <a:arcTo wR="21600" hR="7309" stAng="-5400000" swAng="-5400000"/>
                <a:lnTo>
                  <a:pt x="0" y="7309"/>
                </a:lnTo>
                <a:arcTo wR="21600" hR="7309" stAng="10800000" swAng="-389109"/>
                <a:lnTo>
                  <a:pt x="1125" y="9636"/>
                </a:lnTo>
                <a:arcTo wR="21600" hR="7309" stAng="-10410891" swAng="5010891"/>
                <a:close/>
              </a:path>
            </a:pathLst>
          </a:cu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006800" y="2214720"/>
            <a:ext cx="565200" cy="1252440"/>
          </a:xfrm>
          <a:custGeom>
            <a:avLst/>
            <a:gdLst>
              <a:gd name="textAreaLeft" fmla="*/ 75600 w 565200"/>
              <a:gd name="textAreaRight" fmla="*/ 489600 w 565200"/>
              <a:gd name="textAreaTop" fmla="*/ 208440 h 1252440"/>
              <a:gd name="textAreaBottom" fmla="*/ 904680 h 12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92" stAng="-5400000" swAng="5400000"/>
                <a:lnTo>
                  <a:pt x="21600" y="12004"/>
                </a:lnTo>
                <a:arcTo wR="21600" hR="7192" stAng="0" swAng="2596805"/>
                <a:lnTo>
                  <a:pt x="7200" y="21189"/>
                </a:lnTo>
                <a:lnTo>
                  <a:pt x="0" y="16789"/>
                </a:lnTo>
                <a:lnTo>
                  <a:pt x="7200" y="11567"/>
                </a:lnTo>
                <a:lnTo>
                  <a:pt x="7200" y="13972"/>
                </a:lnTo>
                <a:arcTo wR="21600" hR="7192" stAng="2596805" swAng="-2192338"/>
                <a:lnTo>
                  <a:pt x="20355" y="9598"/>
                </a:lnTo>
                <a:arcTo wR="21600" hR="7192" stAng="-404466" swAng="-4995534"/>
                <a:close/>
              </a:path>
              <a:path fill="darkenLess" w="21600" h="21600">
                <a:moveTo>
                  <a:pt x="0" y="0"/>
                </a:moveTo>
                <a:arcTo wR="21600" hR="7192" stAng="-5400000" swAng="5400000"/>
                <a:lnTo>
                  <a:pt x="21600" y="12004"/>
                </a:lnTo>
                <a:arcTo wR="21600" hR="7192" stAng="0" swAng="-404466"/>
                <a:lnTo>
                  <a:pt x="20355" y="9598"/>
                </a:lnTo>
                <a:arcTo wR="21600" hR="7192" stAng="-404466" swAng="-4995534"/>
                <a:close/>
              </a:path>
            </a:pathLst>
          </a:cu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182680" y="1146240"/>
            <a:ext cx="2880000" cy="46332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атериаль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2214720" y="4071960"/>
            <a:ext cx="2865240" cy="45072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dbe5f1"/>
              </a:gs>
              <a:gs pos="100000">
                <a:srgbClr val="95b3d7"/>
              </a:gs>
            </a:gsLst>
            <a:lin ang="189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материаль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ямоугольник 12" descr=""/>
          <p:cNvPicPr/>
          <p:nvPr/>
        </p:nvPicPr>
        <p:blipFill>
          <a:blip r:embed="rId1"/>
          <a:stretch/>
        </p:blipFill>
        <p:spPr>
          <a:xfrm>
            <a:off x="2914560" y="2639880"/>
            <a:ext cx="1413000" cy="15480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13" descr=""/>
          <p:cNvPicPr/>
          <p:nvPr/>
        </p:nvPicPr>
        <p:blipFill>
          <a:blip r:embed="rId2"/>
          <a:stretch/>
        </p:blipFill>
        <p:spPr>
          <a:xfrm>
            <a:off x="2846520" y="1706400"/>
            <a:ext cx="1439640" cy="1560600"/>
          </a:xfrm>
          <a:prstGeom prst="rect">
            <a:avLst/>
          </a:prstGeom>
          <a:ln w="0">
            <a:noFill/>
          </a:ln>
        </p:spPr>
      </p:pic>
      <p:cxnSp>
        <p:nvCxnSpPr>
          <p:cNvPr id="130" name="Прямая со стрелкой 21"/>
          <p:cNvCxnSpPr/>
          <p:nvPr/>
        </p:nvCxnSpPr>
        <p:spPr>
          <a:xfrm>
            <a:off x="3570840" y="1609560"/>
            <a:ext cx="20880" cy="4629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31" name="Прямая со стрелкой 23"/>
          <p:cNvCxnSpPr>
            <a:stCxn id="127" idx="0"/>
          </p:cNvCxnSpPr>
          <p:nvPr/>
        </p:nvCxnSpPr>
        <p:spPr>
          <a:xfrm flipH="1" flipV="1">
            <a:off x="3642480" y="3642480"/>
            <a:ext cx="3960" cy="429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pic>
        <p:nvPicPr>
          <p:cNvPr id="132" name="Прямоугольник 26" descr=""/>
          <p:cNvPicPr/>
          <p:nvPr/>
        </p:nvPicPr>
        <p:blipFill>
          <a:blip r:embed="rId3"/>
          <a:stretch/>
        </p:blipFill>
        <p:spPr>
          <a:xfrm>
            <a:off x="2523960" y="4522680"/>
            <a:ext cx="2426040" cy="6462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142920"/>
            <a:ext cx="41432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ТРАНСПОРТ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перемещени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рузов  (сырья, полуфабрикатов, продуктов труда) или пассажиров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в пространств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– от производства к потреблению и от потребления к производству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транспортируемое «вещество», груз или пассажир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деятельность не может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представление о техническом уровне отрасли, о сравнимой с другими производительности труда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Транспортную отрасль инфраструктуры дополняет и технологически объединяет с другими отраслям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кладское хозяйства и система логистики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6" descr="city traffic.gif"/>
          <p:cNvPicPr/>
          <p:nvPr/>
        </p:nvPicPr>
        <p:blipFill>
          <a:blip r:embed="rId2"/>
          <a:stretch/>
        </p:blipFill>
        <p:spPr>
          <a:xfrm>
            <a:off x="4143240" y="5857920"/>
            <a:ext cx="76212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j0283503.gif"/>
          <p:cNvPicPr/>
          <p:nvPr/>
        </p:nvPicPr>
        <p:blipFill>
          <a:blip r:embed="rId3"/>
          <a:stretch/>
        </p:blipFill>
        <p:spPr>
          <a:xfrm>
            <a:off x="4191120" y="371484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j0283506.gif"/>
          <p:cNvPicPr/>
          <p:nvPr/>
        </p:nvPicPr>
        <p:blipFill>
          <a:blip r:embed="rId4"/>
          <a:stretch/>
        </p:blipFill>
        <p:spPr>
          <a:xfrm>
            <a:off x="4191120" y="442908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j0283504.gif"/>
          <p:cNvPicPr/>
          <p:nvPr/>
        </p:nvPicPr>
        <p:blipFill>
          <a:blip r:embed="rId5"/>
          <a:stretch/>
        </p:blipFill>
        <p:spPr>
          <a:xfrm>
            <a:off x="4191120" y="3000240"/>
            <a:ext cx="666720" cy="64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0" descr="j0283617.gif"/>
          <p:cNvPicPr/>
          <p:nvPr/>
        </p:nvPicPr>
        <p:blipFill>
          <a:blip r:embed="rId6"/>
          <a:stretch/>
        </p:blipFill>
        <p:spPr>
          <a:xfrm>
            <a:off x="4172040" y="428760"/>
            <a:ext cx="685800" cy="6429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1" descr="j0295180.gif"/>
          <p:cNvPicPr/>
          <p:nvPr/>
        </p:nvPicPr>
        <p:blipFill>
          <a:blip r:embed="rId7"/>
          <a:stretch/>
        </p:blipFill>
        <p:spPr>
          <a:xfrm>
            <a:off x="4143240" y="114300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2" descr="j0295177.gif"/>
          <p:cNvPicPr/>
          <p:nvPr/>
        </p:nvPicPr>
        <p:blipFill>
          <a:blip r:embed="rId8"/>
          <a:stretch/>
        </p:blipFill>
        <p:spPr>
          <a:xfrm>
            <a:off x="4143240" y="1785960"/>
            <a:ext cx="762120" cy="56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3" descr="j0283594.gif"/>
          <p:cNvPicPr/>
          <p:nvPr/>
        </p:nvPicPr>
        <p:blipFill>
          <a:blip r:embed="rId9"/>
          <a:stretch/>
        </p:blipFill>
        <p:spPr>
          <a:xfrm>
            <a:off x="4214880" y="5143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4" descr="j0286718.gif"/>
          <p:cNvPicPr/>
          <p:nvPr/>
        </p:nvPicPr>
        <p:blipFill>
          <a:blip r:embed="rId10"/>
          <a:stretch/>
        </p:blipFill>
        <p:spPr>
          <a:xfrm>
            <a:off x="4143240" y="2395440"/>
            <a:ext cx="762120" cy="5335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ТОРГОВЛЯ (и общепит)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распределение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Лечение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: планирование объемов, структуры и пропорций торговых потоков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мениваемое, продаваемое «вещество», продукт или услуг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дукт или услуга, нашедшие своего потребителя; обмен состоялся, продажа/покупка совершен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деятельность не может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5" descr="торговляя.gif"/>
          <p:cNvPicPr/>
          <p:nvPr/>
        </p:nvPicPr>
        <p:blipFill>
          <a:blip r:embed="rId2"/>
          <a:stretch/>
        </p:blipFill>
        <p:spPr>
          <a:xfrm>
            <a:off x="4071960" y="571680"/>
            <a:ext cx="1014480" cy="6681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7" descr="j0283789.gif"/>
          <p:cNvPicPr/>
          <p:nvPr/>
        </p:nvPicPr>
        <p:blipFill>
          <a:blip r:embed="rId3"/>
          <a:stretch/>
        </p:blipFill>
        <p:spPr>
          <a:xfrm>
            <a:off x="4286160" y="228600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j0283793.gif"/>
          <p:cNvPicPr/>
          <p:nvPr/>
        </p:nvPicPr>
        <p:blipFill>
          <a:blip r:embed="rId4"/>
          <a:stretch/>
        </p:blipFill>
        <p:spPr>
          <a:xfrm>
            <a:off x="4286160" y="3000240"/>
            <a:ext cx="666720" cy="648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9" descr="j0283013.gif"/>
          <p:cNvPicPr/>
          <p:nvPr/>
        </p:nvPicPr>
        <p:blipFill>
          <a:blip r:embed="rId5"/>
          <a:stretch/>
        </p:blipFill>
        <p:spPr>
          <a:xfrm>
            <a:off x="4143240" y="3643200"/>
            <a:ext cx="1005120" cy="1005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" descr="j0284164.gif"/>
          <p:cNvPicPr/>
          <p:nvPr/>
        </p:nvPicPr>
        <p:blipFill>
          <a:blip r:embed="rId6"/>
          <a:stretch/>
        </p:blipFill>
        <p:spPr>
          <a:xfrm>
            <a:off x="4214880" y="4572000"/>
            <a:ext cx="86688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1" descr="j0283017.gif"/>
          <p:cNvPicPr/>
          <p:nvPr/>
        </p:nvPicPr>
        <p:blipFill>
          <a:blip r:embed="rId7"/>
          <a:stretch/>
        </p:blipFill>
        <p:spPr>
          <a:xfrm>
            <a:off x="4143240" y="13572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2" descr="j0295157.gif"/>
          <p:cNvPicPr/>
          <p:nvPr/>
        </p:nvPicPr>
        <p:blipFill>
          <a:blip r:embed="rId8"/>
          <a:stretch/>
        </p:blipFill>
        <p:spPr>
          <a:xfrm>
            <a:off x="4286160" y="5572080"/>
            <a:ext cx="919080" cy="6444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142920"/>
            <a:ext cx="4357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ФИНАНСЫ (банки и пр.)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учет и осуществление обмена  деятельностью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(продуктами труда и услугами).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озникла из нужды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ускорить и упрости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бмен продуктов и услуг с помощью различных инструментов (денег и других); движение финансов и/или денег – это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фактическая реализация общественного разделения труд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о хаотична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обмениваемые, продаваемые «инструменты обмена», деньги или финансовые услуг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распределение денег и финансовых инструментов (вместо всеобщего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учета 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алансирова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труда во всех сферах общественного производства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6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57840" y="7092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*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*деньги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т.п. – не являются предметом потреблени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со временем обособилась и возомнила о себе, что она является  главной в производстве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5" descr="j0283689.gif"/>
          <p:cNvPicPr/>
          <p:nvPr/>
        </p:nvPicPr>
        <p:blipFill>
          <a:blip r:embed="rId2"/>
          <a:stretch/>
        </p:blipFill>
        <p:spPr>
          <a:xfrm>
            <a:off x="4286160" y="5857920"/>
            <a:ext cx="836640" cy="7142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6" descr="j0236256.gif"/>
          <p:cNvPicPr/>
          <p:nvPr/>
        </p:nvPicPr>
        <p:blipFill>
          <a:blip r:embed="rId3"/>
          <a:stretch/>
        </p:blipFill>
        <p:spPr>
          <a:xfrm>
            <a:off x="4500720" y="500040"/>
            <a:ext cx="566640" cy="6904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j0283755.gif"/>
          <p:cNvPicPr/>
          <p:nvPr/>
        </p:nvPicPr>
        <p:blipFill>
          <a:blip r:embed="rId4"/>
          <a:stretch/>
        </p:blipFill>
        <p:spPr>
          <a:xfrm>
            <a:off x="4214880" y="478620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j0283587.gif"/>
          <p:cNvPicPr/>
          <p:nvPr/>
        </p:nvPicPr>
        <p:blipFill>
          <a:blip r:embed="rId5"/>
          <a:stretch/>
        </p:blipFill>
        <p:spPr>
          <a:xfrm>
            <a:off x="4319640" y="1500120"/>
            <a:ext cx="790560" cy="6429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j0234775.gif"/>
          <p:cNvPicPr/>
          <p:nvPr/>
        </p:nvPicPr>
        <p:blipFill>
          <a:blip r:embed="rId6"/>
          <a:stretch/>
        </p:blipFill>
        <p:spPr>
          <a:xfrm>
            <a:off x="4429080" y="2286000"/>
            <a:ext cx="717480" cy="7858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j0303404.gif"/>
          <p:cNvPicPr/>
          <p:nvPr/>
        </p:nvPicPr>
        <p:blipFill>
          <a:blip r:embed="rId7"/>
          <a:stretch/>
        </p:blipFill>
        <p:spPr>
          <a:xfrm>
            <a:off x="4143240" y="4214880"/>
            <a:ext cx="1071720" cy="4762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j0309816.gif"/>
          <p:cNvPicPr/>
          <p:nvPr/>
        </p:nvPicPr>
        <p:blipFill>
          <a:blip r:embed="rId8"/>
          <a:stretch/>
        </p:blipFill>
        <p:spPr>
          <a:xfrm>
            <a:off x="4429080" y="3270240"/>
            <a:ext cx="657360" cy="7304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6:00:03Z</dcterms:created>
  <dc:creator>Натусик</dc:creator>
  <dc:description/>
  <dc:language>en-US</dc:language>
  <cp:lastModifiedBy>LEGION</cp:lastModifiedBy>
  <dcterms:modified xsi:type="dcterms:W3CDTF">2016-01-04T14:02:18Z</dcterms:modified>
  <cp:revision>39</cp:revision>
  <dc:subject/>
  <dc:title>Abstract Gree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41171033</vt:lpwstr>
  </property>
</Properties>
</file>