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9.gif" ContentType="image/gif"/>
  <Override PartName="/ppt/media/image31.gif" ContentType="image/gif"/>
  <Override PartName="/ppt/media/image9.png" ContentType="image/png"/>
  <Override PartName="/ppt/media/image30.gif" ContentType="image/gif"/>
  <Override PartName="/ppt/media/image12.png" ContentType="image/png"/>
  <Override PartName="/ppt/media/image32.gif" ContentType="image/gif"/>
  <Override PartName="/ppt/media/image33.gif" ContentType="image/gif"/>
  <Override PartName="/ppt/media/image34.gif" ContentType="image/gif"/>
  <Override PartName="/ppt/media/image35.gif" ContentType="image/gif"/>
  <Override PartName="/ppt/media/image36.gif" ContentType="image/gif"/>
  <Override PartName="/ppt/media/image37.gif" ContentType="image/gif"/>
  <Override PartName="/ppt/media/image2.jpeg" ContentType="image/jpeg"/>
  <Override PartName="/ppt/media/image38.gif" ContentType="image/gif"/>
  <Override PartName="/ppt/media/image39.gif" ContentType="image/gif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1.jpeg" ContentType="image/jpeg"/>
  <Override PartName="/ppt/media/image10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A541-F3E0-43DE-A717-FAABA5395F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F76-8519-4116-BF00-0E83E83F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302-B71D-4A7F-B52C-2BCB87CB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143-6769-486A-A8F7-ADD68B12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EC2-DF72-4229-9A03-D6D91118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DC3-3437-4C0A-A7E1-91AC5DA6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DCE-ECE1-48C5-8368-0B2750EC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8AA-B711-4A70-924B-A346C0CD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BD8-D668-447D-9F64-66E3413B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221-06EC-4D73-8E7F-055529C8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3AE-F187-4821-AB06-90DE0EE7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3DD-9308-4A5B-8EEE-1DB16774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1EC-9A95-48D0-A5D5-140369B7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http://farm4.static.flickr.com/3222/3018627036_aae63bc302_o.jpg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4BB0-166B-49AE-A466-7184A6CEE892}" type="datetime">
              <a:rPr b="0" lang="ru-RU" sz="1100" spc="-1" strike="noStrike">
                <a:solidFill>
                  <a:srgbClr val="ffffff"/>
                </a:solidFill>
                <a:latin typeface="Calibri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D5CA-6158-4DF4-8FF4-B1C811D0A8AA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285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В материале </a:t>
            </a: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«Услуга»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уже были описаны по отдельности основные виды услуг, входящие в более общую категорию </a:t>
            </a:r>
            <a:r>
              <a:rPr b="1" i="1" lang="ru-RU" sz="2600" spc="-1" strike="noStrike">
                <a:solidFill>
                  <a:srgbClr val="ffccff"/>
                </a:solidFill>
                <a:latin typeface="Calibri"/>
              </a:rPr>
              <a:t>«инфраструктура»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 Более того общественное производство объективно прорастает в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диное производство-потребление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ЭНЕРГЕТИКА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энергоснабж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цессов общественного производства, как в материальном секторе, так и нематериальной сфере и в самой инфраструктуре.  Работа отрасли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видится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инадлежащей к материальному производству, но все же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ее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электрический ток, получаемый различными способами и передаваемый потребителям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енерация и распределение  энергопотоков по сетям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857840" y="142920"/>
            <a:ext cx="4286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;  Как и в других отраслях инфраструктуры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представляет затраты для экономики 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экспорта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тоит в одном ряду с другими аналогичными,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жилищно-коммунальное хозяйство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СВЯЗЬ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обеспечение общения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ние людей, организаций, предприятий, всех подразделений народного хозяйства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общения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есть затраты для народного хозяйства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продажи услуги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настолько тесно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ИНФОРМ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информационной продукции и услуг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требления людьми и всеми организациями и отраслями  общественного воспроизводства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информационный продукт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 Продукт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этой отрасли особого рода, который потребляется как информация, одноразовая или многоразовая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информация различного вида и типа, необходимая для потребления во всех секторах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как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дукт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ые в производстве – обмене – потреблении;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нфо-продукт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гу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ы от их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в случае с энергетикой, например, внешняя материальность «продукта» придает  ему только внешнюю товарность;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-продукт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е может быть </a:t>
            </a: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дуктом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ОРГАНИЗ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</a:t>
            </a:r>
            <a:r>
              <a:rPr b="1" lang="ru-RU" sz="1700" spc="-1" strike="noStrike" u="sng">
                <a:solidFill>
                  <a:srgbClr val="ff3300"/>
                </a:solidFill>
                <a:uFillTx/>
                <a:latin typeface="Calibri"/>
              </a:rPr>
              <a:t>организации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 как деятельности, </a:t>
            </a:r>
            <a:r>
              <a:rPr b="1" lang="ru-RU" sz="1700" spc="-1" strike="noStrike">
                <a:solidFill>
                  <a:srgbClr val="ffc000"/>
                </a:solidFill>
                <a:latin typeface="Calibri"/>
              </a:rPr>
              <a:t>ранее называемой «управлением»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и осуществлявшейся как </a:t>
            </a:r>
            <a:r>
              <a:rPr b="1" lang="ru-RU" sz="1700" spc="-1" strike="noStrike" u="sng">
                <a:solidFill>
                  <a:srgbClr val="ffff00"/>
                </a:solidFill>
                <a:uFillTx/>
                <a:latin typeface="Calibri"/>
              </a:rPr>
              <a:t>власть.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лезного потреблени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организации как деятельности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слаженность и целостность народного хозяйства в </a:t>
            </a:r>
            <a:r>
              <a:rPr b="1" lang="ru-RU" sz="1700" spc="-1" strike="noStrike">
                <a:solidFill>
                  <a:srgbClr val="d9d9d9"/>
                </a:solidFill>
                <a:latin typeface="Calibri"/>
              </a:rPr>
              <a:t>производстве и обмене;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 – аналог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тарифа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в других отраслях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ая в </a:t>
            </a:r>
            <a:r>
              <a:rPr b="1" lang="ru-RU" sz="1600" spc="-1" strike="noStrike">
                <a:solidFill>
                  <a:srgbClr val="d9d9d9"/>
                </a:solidFill>
                <a:latin typeface="Calibri"/>
              </a:rPr>
              <a:t>производстве – обмене – потребле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рганическое строение капитала в отрасли (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</a:t>
            </a:r>
            <a:r>
              <a:rPr b="1" lang="en-US" sz="1600" spc="-1" strike="noStrike">
                <a:solidFill>
                  <a:srgbClr val="ffc000"/>
                </a:solidFill>
                <a:latin typeface="Calibri"/>
              </a:rPr>
              <a:t>/V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оворит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правление – это реализация функции ВСЕОБЩГО ИНТЕРЕСА, так как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все общество нужд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ациональной  организации всех отраслей и секторов жизни общества; В отсутствие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изводственного подхода к управлению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, оно превращается в желание «править» или личную корысть вместо «управления» и «организационной деятельности». Власть как таковая устарела, а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управления,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водимый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за цену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, выраженную в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тариф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изводство организации </a:t>
            </a:r>
            <a:r>
              <a:rPr b="1" lang="ru-RU" sz="1200" spc="-1" strike="noStrike">
                <a:solidFill>
                  <a:srgbClr val="bfbfbf"/>
                </a:solidFill>
                <a:latin typeface="Calibri"/>
              </a:rPr>
              <a:t>вместо властного паразитизм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слуга и товарная форма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ницы применим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00360" y="1356840"/>
            <a:ext cx="4500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Нематериальное производство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или услуги, также составляет затраты экономики в цело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митивный буржуазный подход требует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бы эта отрасль была прибыльной, работала на коммерческой основ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сусветная глупость – идея получать прибыль в детском саду, школе или библиотек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; здравоохранение и образование, социальное обеспечение не могут и не должны работать на прибыль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42560" y="1357200"/>
            <a:ext cx="4786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трасли </a:t>
            </a: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Инфраструктуры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как правило, работают на коммерческой основе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луги данных секторов чаще всего носят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оварную форму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х деятельность обменивается на продукты и другую деятельность внутри отрасли, между отраслями, с материальным и нематериальным производством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 денежной форм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ЭТО В КОНЕЦ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ждая из отраслей, развиваясь все более и более способствует развитию таких же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сетевых по характеру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отраслей инфраструктур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recycle"/>
          <p:cNvPicPr/>
          <p:nvPr/>
        </p:nvPicPr>
        <p:blipFill>
          <a:blip r:embed="rId1"/>
          <a:stretch/>
        </p:blipFill>
        <p:spPr>
          <a:xfrm>
            <a:off x="8215200" y="2071800"/>
            <a:ext cx="758880" cy="7300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луга.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341360"/>
            <a:ext cx="87152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отяженность в пространств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 самым обеспечиваетс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максимальная (или оптимальная) скорость оборота товаров и услу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продуктов и деятельности). Экономика движется все быстрее и быстрее (а в будущем – рациональне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6028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Левая фигурная скобка 5"/>
          <p:cNvSpPr/>
          <p:nvPr/>
        </p:nvSpPr>
        <p:spPr>
          <a:xfrm rot="16200000">
            <a:off x="4464720" y="-749880"/>
            <a:ext cx="428400" cy="8358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8358120"/>
              <a:gd name="textAreaBottom" fmla="*/ 8347320 h 835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2"/>
                </a:cubicBezTo>
                <a:lnTo>
                  <a:pt x="10800" y="10718"/>
                </a:lnTo>
                <a:cubicBezTo>
                  <a:pt x="10800" y="10764"/>
                  <a:pt x="5400" y="10810"/>
                  <a:pt x="0" y="10810"/>
                </a:cubicBezTo>
                <a:cubicBezTo>
                  <a:pt x="5400" y="10810"/>
                  <a:pt x="10800" y="10856"/>
                  <a:pt x="10800" y="10902"/>
                </a:cubicBezTo>
                <a:lnTo>
                  <a:pt x="10800" y="21508"/>
                </a:lnTo>
                <a:cubicBezTo>
                  <a:pt x="10800" y="2155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Book Antiqua"/>
              </a:rPr>
              <a:t>Посвящается Борису Ельц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714240" y="4857840"/>
            <a:ext cx="178596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итм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214800" y="4857840"/>
            <a:ext cx="20714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ланом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929200" y="4857840"/>
            <a:ext cx="27860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опор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1"/>
          <p:cNvCxnSpPr>
            <a:stCxn id="58" idx="3"/>
            <a:endCxn id="59" idx="1"/>
          </p:cNvCxnSpPr>
          <p:nvPr/>
        </p:nvCxnSpPr>
        <p:spPr>
          <a:xfrm>
            <a:off x="2499840" y="5041440"/>
            <a:ext cx="715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3"/>
          <p:cNvCxnSpPr>
            <a:stCxn id="59" idx="3"/>
            <a:endCxn id="60" idx="1"/>
          </p:cNvCxnSpPr>
          <p:nvPr/>
        </p:nvCxnSpPr>
        <p:spPr>
          <a:xfrm>
            <a:off x="5286240" y="5041440"/>
            <a:ext cx="643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65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67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69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82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84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86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00720" y="285840"/>
            <a:ext cx="46432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челове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– условно неподвижн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– «оживляет ее , с помощью Ч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41"/>
          <p:cNvGrpSpPr/>
          <p:nvPr/>
        </p:nvGrpSpPr>
        <p:grpSpPr>
          <a:xfrm>
            <a:off x="285840" y="2000160"/>
            <a:ext cx="4200480" cy="4324320"/>
            <a:chOff x="285840" y="2000160"/>
            <a:chExt cx="4200480" cy="4324320"/>
          </a:xfrm>
        </p:grpSpPr>
        <p:sp>
          <p:nvSpPr>
            <p:cNvPr id="103" name="AutoShape 2"/>
            <p:cNvSpPr/>
            <p:nvPr/>
          </p:nvSpPr>
          <p:spPr>
            <a:xfrm>
              <a:off x="285840" y="2000160"/>
              <a:ext cx="4200480" cy="418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636480" y="2304720"/>
              <a:ext cx="3562560" cy="173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>
              <a:off x="636480" y="4088160"/>
              <a:ext cx="356256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"/>
            <p:cNvSpPr/>
            <p:nvPr/>
          </p:nvSpPr>
          <p:spPr>
            <a:xfrm>
              <a:off x="1954080" y="3251160"/>
              <a:ext cx="776160" cy="7185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365e8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"/>
            <p:cNvSpPr/>
            <p:nvPr/>
          </p:nvSpPr>
          <p:spPr>
            <a:xfrm>
              <a:off x="2000160" y="4088160"/>
              <a:ext cx="749160" cy="738360"/>
            </a:xfrm>
            <a:prstGeom prst="ellips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923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 flipH="1" rot="10654800">
              <a:off x="1382040" y="3389400"/>
              <a:ext cx="587160" cy="1247760"/>
            </a:xfrm>
            <a:custGeom>
              <a:avLst/>
              <a:gdLst>
                <a:gd name="textAreaLeft" fmla="*/ 78480 w 587160"/>
                <a:gd name="textAreaRight" fmla="*/ 508680 w 587160"/>
                <a:gd name="textAreaTop" fmla="*/ 210960 h 1247760"/>
                <a:gd name="textAreaBottom" fmla="*/ 90216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09" stAng="-5400000" swAng="-5400000"/>
                  <a:lnTo>
                    <a:pt x="0" y="11964"/>
                  </a:lnTo>
                  <a:arcTo wR="21600" hR="7309" stAng="10800000" swAng="-2624506"/>
                  <a:lnTo>
                    <a:pt x="14400" y="21182"/>
                  </a:lnTo>
                  <a:lnTo>
                    <a:pt x="21600" y="16945"/>
                  </a:lnTo>
                  <a:lnTo>
                    <a:pt x="14400" y="11871"/>
                  </a:lnTo>
                  <a:lnTo>
                    <a:pt x="14400" y="14199"/>
                  </a:lnTo>
                  <a:arcTo wR="21600" hR="7309" stAng="8175494" swAng="2235398"/>
                  <a:lnTo>
                    <a:pt x="1125" y="9636"/>
                  </a:lnTo>
                  <a:arcTo wR="21600" hR="7309" stAng="-10410891" swAng="5010891"/>
                  <a:close/>
                </a:path>
                <a:path fill="darkenLess" w="21600" h="21600">
                  <a:moveTo>
                    <a:pt x="21600" y="0"/>
                  </a:moveTo>
                  <a:arcTo wR="21600" hR="7309" stAng="-5400000" swAng="-5400000"/>
                  <a:lnTo>
                    <a:pt x="0" y="7309"/>
                  </a:lnTo>
                  <a:arcTo wR="21600" hR="7309" stAng="10800000" swAng="-389109"/>
                  <a:lnTo>
                    <a:pt x="1125" y="9636"/>
                  </a:lnTo>
                  <a:arcTo wR="21600" hR="7309" stAng="-10410891" swAng="5010891"/>
                  <a:close/>
                </a:path>
              </a:pathLst>
            </a:cu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2746440" y="3458880"/>
              <a:ext cx="564840" cy="1213920"/>
            </a:xfrm>
            <a:custGeom>
              <a:avLst/>
              <a:gdLst>
                <a:gd name="textAreaLeft" fmla="*/ 75600 w 564840"/>
                <a:gd name="textAreaRight" fmla="*/ 489240 w 564840"/>
                <a:gd name="textAreaTop" fmla="*/ 201960 h 1213920"/>
                <a:gd name="textAreaBottom" fmla="*/ 876600 h 121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2596805"/>
                  <a:lnTo>
                    <a:pt x="7200" y="21189"/>
                  </a:lnTo>
                  <a:lnTo>
                    <a:pt x="0" y="16789"/>
                  </a:lnTo>
                  <a:lnTo>
                    <a:pt x="7200" y="11566"/>
                  </a:lnTo>
                  <a:lnTo>
                    <a:pt x="7200" y="13972"/>
                  </a:lnTo>
                  <a:arcTo wR="21600" hR="7192" stAng="2596805" swAng="-2192432"/>
                  <a:lnTo>
                    <a:pt x="20356" y="9597"/>
                  </a:lnTo>
                  <a:arcTo wR="21600" hR="7192" stAng="-404372" swAng="-4995628"/>
                  <a:close/>
                </a:path>
                <a:path fill="darkenLess"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-404372"/>
                  <a:lnTo>
                    <a:pt x="20356" y="9597"/>
                  </a:lnTo>
                  <a:arcTo wR="21600" hR="7192" stAng="-404372" swAng="-4995628"/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922320" y="2423160"/>
              <a:ext cx="2879640" cy="44928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954000" y="5259240"/>
              <a:ext cx="2865600" cy="4366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е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Прямоугольник 51" descr=""/>
            <p:cNvPicPr/>
            <p:nvPr/>
          </p:nvPicPr>
          <p:blipFill>
            <a:blip r:embed="rId1"/>
            <a:stretch/>
          </p:blipFill>
          <p:spPr>
            <a:xfrm>
              <a:off x="1652040" y="3872520"/>
              <a:ext cx="142020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Прямоугольник 52" descr=""/>
            <p:cNvPicPr/>
            <p:nvPr/>
          </p:nvPicPr>
          <p:blipFill>
            <a:blip r:embed="rId2"/>
            <a:stretch/>
          </p:blipFill>
          <p:spPr>
            <a:xfrm>
              <a:off x="1585080" y="2968200"/>
              <a:ext cx="1438560" cy="151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4" name="Прямая со стрелкой 53"/>
            <p:cNvCxnSpPr/>
            <p:nvPr/>
          </p:nvCxnSpPr>
          <p:spPr>
            <a:xfrm>
              <a:off x="2310480" y="2872080"/>
              <a:ext cx="20880" cy="44820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triangle" w="med"/>
            </a:ln>
          </p:spPr>
        </p:cxnSp>
        <p:pic>
          <p:nvPicPr>
            <p:cNvPr id="115" name="Прямоугольник 54" descr=""/>
            <p:cNvPicPr/>
            <p:nvPr/>
          </p:nvPicPr>
          <p:blipFill>
            <a:blip r:embed="rId3"/>
            <a:stretch/>
          </p:blipFill>
          <p:spPr>
            <a:xfrm>
              <a:off x="1267920" y="5698440"/>
              <a:ext cx="2426040" cy="62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546200" y="709560"/>
            <a:ext cx="4200480" cy="4318200"/>
          </a:xfrm>
          <a:custGeom>
            <a:avLst/>
            <a:gdLst>
              <a:gd name="textAreaLeft" fmla="*/ 204840 w 4200480"/>
              <a:gd name="textAreaRight" fmla="*/ 3995640 w 4200480"/>
              <a:gd name="textAreaTop" fmla="*/ 204840 h 4318200"/>
              <a:gd name="textAreaBottom" fmla="*/ 4113360 h 4318200"/>
            </a:gdLst>
            <a:ahLst/>
            <a:rect l="textAreaLeft" t="textAreaTop" r="textAreaRight" b="textAreaBottom"/>
            <a:pathLst>
              <a:path w="21600" h="22205">
                <a:moveTo>
                  <a:pt x="3600" y="0"/>
                </a:moveTo>
                <a:arcTo wR="3600" hR="3600" stAng="16200000" swAng="-5400000"/>
                <a:lnTo>
                  <a:pt x="0" y="18605"/>
                </a:lnTo>
                <a:arcTo wR="3600" hR="3600" stAng="10800000" swAng="-5400000"/>
                <a:lnTo>
                  <a:pt x="18000" y="22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897200" y="1023840"/>
            <a:ext cx="3562200" cy="178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897200" y="2863800"/>
            <a:ext cx="3562200" cy="170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214800" y="2000160"/>
            <a:ext cx="776160" cy="74160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365e8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60880" y="2863800"/>
            <a:ext cx="749160" cy="76212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 rot="10654800">
            <a:off x="2643120" y="2143080"/>
            <a:ext cx="587520" cy="1287360"/>
          </a:xfrm>
          <a:custGeom>
            <a:avLst/>
            <a:gdLst>
              <a:gd name="textAreaLeft" fmla="*/ 78480 w 587520"/>
              <a:gd name="textAreaRight" fmla="*/ 509040 w 587520"/>
              <a:gd name="textAreaTop" fmla="*/ 217800 h 1287360"/>
              <a:gd name="textAreaBottom" fmla="*/ 930960 h 12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09" stAng="-5400000" swAng="-5400000"/>
                <a:lnTo>
                  <a:pt x="0" y="11964"/>
                </a:lnTo>
                <a:arcTo wR="21600" hR="7309" stAng="10800000" swAng="-2624506"/>
                <a:lnTo>
                  <a:pt x="14400" y="21182"/>
                </a:lnTo>
                <a:lnTo>
                  <a:pt x="21600" y="16945"/>
                </a:lnTo>
                <a:lnTo>
                  <a:pt x="14400" y="11871"/>
                </a:lnTo>
                <a:lnTo>
                  <a:pt x="14400" y="14199"/>
                </a:lnTo>
                <a:arcTo wR="21600" hR="7309" stAng="8175494" swAng="2235398"/>
                <a:lnTo>
                  <a:pt x="1125" y="9636"/>
                </a:lnTo>
                <a:arcTo wR="21600" hR="7309" stAng="-10410891" swAng="5010891"/>
                <a:close/>
              </a:path>
              <a:path fill="darkenLess" w="21600" h="21600">
                <a:moveTo>
                  <a:pt x="21600" y="0"/>
                </a:moveTo>
                <a:arcTo wR="21600" hR="7309" stAng="-5400000" swAng="-5400000"/>
                <a:lnTo>
                  <a:pt x="0" y="7309"/>
                </a:lnTo>
                <a:arcTo wR="21600" hR="7309" stAng="10800000" swAng="-389109"/>
                <a:lnTo>
                  <a:pt x="1125" y="9636"/>
                </a:lnTo>
                <a:arcTo wR="21600" hR="7309" stAng="-10410891" swAng="5010891"/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006800" y="2214720"/>
            <a:ext cx="565200" cy="1252440"/>
          </a:xfrm>
          <a:custGeom>
            <a:avLst/>
            <a:gdLst>
              <a:gd name="textAreaLeft" fmla="*/ 75600 w 565200"/>
              <a:gd name="textAreaRight" fmla="*/ 489600 w 565200"/>
              <a:gd name="textAreaTop" fmla="*/ 208440 h 1252440"/>
              <a:gd name="textAreaBottom" fmla="*/ 90468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2596805"/>
                <a:lnTo>
                  <a:pt x="7200" y="21189"/>
                </a:lnTo>
                <a:lnTo>
                  <a:pt x="0" y="16789"/>
                </a:lnTo>
                <a:lnTo>
                  <a:pt x="7200" y="11567"/>
                </a:lnTo>
                <a:lnTo>
                  <a:pt x="7200" y="13972"/>
                </a:lnTo>
                <a:arcTo wR="21600" hR="7192" stAng="2596805" swAng="-2192338"/>
                <a:lnTo>
                  <a:pt x="20355" y="9598"/>
                </a:lnTo>
                <a:arcTo wR="21600" hR="7192" stAng="-404466" swAng="-4995534"/>
                <a:close/>
              </a:path>
              <a:path fill="darkenLess"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-404466"/>
                <a:lnTo>
                  <a:pt x="20355" y="9598"/>
                </a:lnTo>
                <a:arcTo wR="21600" hR="7192" stAng="-404466" swAng="-4995534"/>
                <a:close/>
              </a:path>
            </a:pathLst>
          </a:cu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182680" y="1146240"/>
            <a:ext cx="2880000" cy="4633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214720" y="4071960"/>
            <a:ext cx="2865240" cy="4507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12" descr=""/>
          <p:cNvPicPr/>
          <p:nvPr/>
        </p:nvPicPr>
        <p:blipFill>
          <a:blip r:embed="rId1"/>
          <a:stretch/>
        </p:blipFill>
        <p:spPr>
          <a:xfrm>
            <a:off x="2914560" y="2639880"/>
            <a:ext cx="1413000" cy="154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13" descr=""/>
          <p:cNvPicPr/>
          <p:nvPr/>
        </p:nvPicPr>
        <p:blipFill>
          <a:blip r:embed="rId2"/>
          <a:stretch/>
        </p:blipFill>
        <p:spPr>
          <a:xfrm>
            <a:off x="2846520" y="1706400"/>
            <a:ext cx="1439640" cy="15606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21"/>
          <p:cNvCxnSpPr/>
          <p:nvPr/>
        </p:nvCxnSpPr>
        <p:spPr>
          <a:xfrm>
            <a:off x="3570840" y="1609560"/>
            <a:ext cx="20880" cy="462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31" name="Прямая со стрелкой 23"/>
          <p:cNvCxnSpPr>
            <a:stCxn id="127" idx="0"/>
          </p:cNvCxnSpPr>
          <p:nvPr/>
        </p:nvCxnSpPr>
        <p:spPr>
          <a:xfrm flipH="1" flipV="1">
            <a:off x="3642480" y="3642480"/>
            <a:ext cx="396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132" name="Прямоугольник 26" descr=""/>
          <p:cNvPicPr/>
          <p:nvPr/>
        </p:nvPicPr>
        <p:blipFill>
          <a:blip r:embed="rId3"/>
          <a:stretch/>
        </p:blipFill>
        <p:spPr>
          <a:xfrm>
            <a:off x="2523960" y="4522680"/>
            <a:ext cx="2426040" cy="646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4292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РАНСПОРТ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перемещени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узов  (сырья, полуфабрикатов, продуктов труда) или пассажиров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от производства к потреблению и от потребления к производств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транспортируемое «вещество», груз или пассажир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представление о техническом уровне отрасли, о сравнимой с другими производительности труда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ладское хозяйства и система логистики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6" descr="city traffic.gif"/>
          <p:cNvPicPr/>
          <p:nvPr/>
        </p:nvPicPr>
        <p:blipFill>
          <a:blip r:embed="rId2"/>
          <a:stretch/>
        </p:blipFill>
        <p:spPr>
          <a:xfrm>
            <a:off x="4143240" y="585792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j0283503.gif"/>
          <p:cNvPicPr/>
          <p:nvPr/>
        </p:nvPicPr>
        <p:blipFill>
          <a:blip r:embed="rId3"/>
          <a:stretch/>
        </p:blipFill>
        <p:spPr>
          <a:xfrm>
            <a:off x="4191120" y="371484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j0283506.gif"/>
          <p:cNvPicPr/>
          <p:nvPr/>
        </p:nvPicPr>
        <p:blipFill>
          <a:blip r:embed="rId4"/>
          <a:stretch/>
        </p:blipFill>
        <p:spPr>
          <a:xfrm>
            <a:off x="4191120" y="442908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j0283504.gif"/>
          <p:cNvPicPr/>
          <p:nvPr/>
        </p:nvPicPr>
        <p:blipFill>
          <a:blip r:embed="rId5"/>
          <a:stretch/>
        </p:blipFill>
        <p:spPr>
          <a:xfrm>
            <a:off x="419112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j0283617.gif"/>
          <p:cNvPicPr/>
          <p:nvPr/>
        </p:nvPicPr>
        <p:blipFill>
          <a:blip r:embed="rId6"/>
          <a:stretch/>
        </p:blipFill>
        <p:spPr>
          <a:xfrm>
            <a:off x="4172040" y="428760"/>
            <a:ext cx="685800" cy="642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j0295180.gif"/>
          <p:cNvPicPr/>
          <p:nvPr/>
        </p:nvPicPr>
        <p:blipFill>
          <a:blip r:embed="rId7"/>
          <a:stretch/>
        </p:blipFill>
        <p:spPr>
          <a:xfrm>
            <a:off x="4143240" y="114300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2" descr="j0295177.gif"/>
          <p:cNvPicPr/>
          <p:nvPr/>
        </p:nvPicPr>
        <p:blipFill>
          <a:blip r:embed="rId8"/>
          <a:stretch/>
        </p:blipFill>
        <p:spPr>
          <a:xfrm>
            <a:off x="4143240" y="178596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3" descr="j0283594.gif"/>
          <p:cNvPicPr/>
          <p:nvPr/>
        </p:nvPicPr>
        <p:blipFill>
          <a:blip r:embed="rId9"/>
          <a:stretch/>
        </p:blipFill>
        <p:spPr>
          <a:xfrm>
            <a:off x="4214880" y="5143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j0286718.gif"/>
          <p:cNvPicPr/>
          <p:nvPr/>
        </p:nvPicPr>
        <p:blipFill>
          <a:blip r:embed="rId10"/>
          <a:stretch/>
        </p:blipFill>
        <p:spPr>
          <a:xfrm>
            <a:off x="4143240" y="239544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ОРГОВЛЯ (и общепит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распредел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Лечение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: планирование объемов, структуры и пропорций торговых потоков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мениваемое, продаваемое «вещество», продукт или услуг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дукт или услуга, нашедшие своего потребителя; обмен состоялся, продажа/покупка совершен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торговляя.gif"/>
          <p:cNvPicPr/>
          <p:nvPr/>
        </p:nvPicPr>
        <p:blipFill>
          <a:blip r:embed="rId2"/>
          <a:stretch/>
        </p:blipFill>
        <p:spPr>
          <a:xfrm>
            <a:off x="4071960" y="571680"/>
            <a:ext cx="1014480" cy="6681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j0283789.gif"/>
          <p:cNvPicPr/>
          <p:nvPr/>
        </p:nvPicPr>
        <p:blipFill>
          <a:blip r:embed="rId3"/>
          <a:stretch/>
        </p:blipFill>
        <p:spPr>
          <a:xfrm>
            <a:off x="4286160" y="228600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j0283793.gif"/>
          <p:cNvPicPr/>
          <p:nvPr/>
        </p:nvPicPr>
        <p:blipFill>
          <a:blip r:embed="rId4"/>
          <a:stretch/>
        </p:blipFill>
        <p:spPr>
          <a:xfrm>
            <a:off x="428616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j0283013.gif"/>
          <p:cNvPicPr/>
          <p:nvPr/>
        </p:nvPicPr>
        <p:blipFill>
          <a:blip r:embed="rId5"/>
          <a:stretch/>
        </p:blipFill>
        <p:spPr>
          <a:xfrm>
            <a:off x="4143240" y="3643200"/>
            <a:ext cx="1005120" cy="1005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j0284164.gif"/>
          <p:cNvPicPr/>
          <p:nvPr/>
        </p:nvPicPr>
        <p:blipFill>
          <a:blip r:embed="rId6"/>
          <a:stretch/>
        </p:blipFill>
        <p:spPr>
          <a:xfrm>
            <a:off x="4214880" y="4572000"/>
            <a:ext cx="86688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j0283017.gif"/>
          <p:cNvPicPr/>
          <p:nvPr/>
        </p:nvPicPr>
        <p:blipFill>
          <a:blip r:embed="rId7"/>
          <a:stretch/>
        </p:blipFill>
        <p:spPr>
          <a:xfrm>
            <a:off x="4143240" y="1357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j0295157.gif"/>
          <p:cNvPicPr/>
          <p:nvPr/>
        </p:nvPicPr>
        <p:blipFill>
          <a:blip r:embed="rId8"/>
          <a:stretch/>
        </p:blipFill>
        <p:spPr>
          <a:xfrm>
            <a:off x="4286160" y="5572080"/>
            <a:ext cx="919080" cy="644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142920"/>
            <a:ext cx="4357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ФИНАНСЫ (банки и пр.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учет и осуществление обмена  деятельностью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(продуктами труда и услугами).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зникла из нужды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скорить и упрости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бмен продуктов и услуг с помощью различных инструментов (денег и других); движение финансов и/или денег – это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фактическая реализация общественного разделения труд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о хаотична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обмениваемые, продаваемые «инструменты обмена», деньги или финансовые услуг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распределение денег и финансовых инструментов (вместо всеобщего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чета 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алансирова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труда во всех сферах общественного производства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57840" y="7092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*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*деньг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т.п. – не являются предметом потреблени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j0283689.gif"/>
          <p:cNvPicPr/>
          <p:nvPr/>
        </p:nvPicPr>
        <p:blipFill>
          <a:blip r:embed="rId2"/>
          <a:stretch/>
        </p:blipFill>
        <p:spPr>
          <a:xfrm>
            <a:off x="4286160" y="5857920"/>
            <a:ext cx="836640" cy="7142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j0236256.gif"/>
          <p:cNvPicPr/>
          <p:nvPr/>
        </p:nvPicPr>
        <p:blipFill>
          <a:blip r:embed="rId3"/>
          <a:stretch/>
        </p:blipFill>
        <p:spPr>
          <a:xfrm>
            <a:off x="4500720" y="500040"/>
            <a:ext cx="566640" cy="69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j0283755.gif"/>
          <p:cNvPicPr/>
          <p:nvPr/>
        </p:nvPicPr>
        <p:blipFill>
          <a:blip r:embed="rId4"/>
          <a:stretch/>
        </p:blipFill>
        <p:spPr>
          <a:xfrm>
            <a:off x="4214880" y="47862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j0283587.gif"/>
          <p:cNvPicPr/>
          <p:nvPr/>
        </p:nvPicPr>
        <p:blipFill>
          <a:blip r:embed="rId5"/>
          <a:stretch/>
        </p:blipFill>
        <p:spPr>
          <a:xfrm>
            <a:off x="4319640" y="1500120"/>
            <a:ext cx="7905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j0234775.gif"/>
          <p:cNvPicPr/>
          <p:nvPr/>
        </p:nvPicPr>
        <p:blipFill>
          <a:blip r:embed="rId6"/>
          <a:stretch/>
        </p:blipFill>
        <p:spPr>
          <a:xfrm>
            <a:off x="4429080" y="2286000"/>
            <a:ext cx="7174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j0303404.gif"/>
          <p:cNvPicPr/>
          <p:nvPr/>
        </p:nvPicPr>
        <p:blipFill>
          <a:blip r:embed="rId7"/>
          <a:stretch/>
        </p:blipFill>
        <p:spPr>
          <a:xfrm>
            <a:off x="4143240" y="4214880"/>
            <a:ext cx="107172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j0309816.gif"/>
          <p:cNvPicPr/>
          <p:nvPr/>
        </p:nvPicPr>
        <p:blipFill>
          <a:blip r:embed="rId8"/>
          <a:stretch/>
        </p:blipFill>
        <p:spPr>
          <a:xfrm>
            <a:off x="4429080" y="3270240"/>
            <a:ext cx="657360" cy="7304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00:03Z</dcterms:created>
  <dc:creator>Натусик</dc:creator>
  <dc:description/>
  <dc:language>en-US</dc:language>
  <cp:lastModifiedBy>LEGION</cp:lastModifiedBy>
  <dcterms:modified xsi:type="dcterms:W3CDTF">2016-01-04T14:02:18Z</dcterms:modified>
  <cp:revision>39</cp:revision>
  <dc:subject/>
  <dc:title>Abstract Gre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1171033</vt:lpwstr>
  </property>
</Properties>
</file>