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AD67-1232-4E72-8ED7-291F6D028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FFF5-7616-4724-A777-C76703F73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A4F2-701D-4FE6-B007-C33DEC306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C921-904F-46E4-9E9C-79048278C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45DD-2521-4A68-97DD-247D92FF8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60E7-C7AD-42A0-B8B3-6830AAC69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8975-D43F-46E5-8495-50FCB02E4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EFC6-EFA4-42E8-821F-0157777394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044A-6A15-401D-A483-F1D4DEF7E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4A99-4805-4D79-8F5B-B980761A0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F158-89D4-4BC8-88C0-DCA22800B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2DE8-4F8C-47F4-B632-476D59918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58CB-469E-4C65-B6D0-55E9D29DA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2561-5947-437C-A0C1-6E8DE4A75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9B0D-9244-4854-A39A-E8DA1D500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26D-6AD0-48C4-8993-E4AC271CC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6BB-3A42-49D4-BE88-D6D93DD4F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4643-2C7D-4197-92F1-AA22759C1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CD5B-A637-48F1-8360-3BC6FFEFA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1F18-BDB9-4E2C-99CE-360ABF636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66FA-0454-408D-A790-DA053D219F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CF25-4235-4F07-A5C3-6E6BB115D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F3F1-6CB6-4DA9-92DB-229B4FCDB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D0B8-1075-4B1F-81D0-C3508063B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B6C8-F5AC-427C-8565-E034E9600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B095-FB4B-4A08-ABF5-20566BF87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D1E-C3FB-4209-8313-65C1E6BF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0B8-5CA7-4ED9-8ED8-33EB724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16A-E07B-47BC-85BA-8D025AF4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C6D-E4CE-492E-8AC6-DA2EB2D0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2FC-6CFF-47C0-8233-1ACC8ED6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007-E500-4B8A-B334-B04F9E18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205-55D9-4E68-9A8B-05D8565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B4B-890C-41CA-9509-ED52FA37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980-706D-49F4-B6ED-241E0939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2B5-4B2E-45E5-970F-FC4C319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4E7-8FBE-48B0-A4B2-31A51A11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25E-1602-41EB-A0D8-C453DB96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21F8-8067-40F0-B3A5-E334BD1D4D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800"/>
            <a:ext cx="856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 «всеобщего согласия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х истин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всеобщем соглас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верждение о на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созна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сознанное знание – вовсе н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смыслиц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имер,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спомним, мы не осозна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знали, но забы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е можем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 знанием вс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читаем истин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еется, не всякое 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ено, но 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и истин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бъяснимые из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есть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озаключений из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умозаключ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ут быть получе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тём умозаклю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63240" y="147492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925520" y="14749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ейбни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78200" y="2158920"/>
            <a:ext cx="41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ме самого раз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678200" y="5037120"/>
            <a:ext cx="413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fuerit in sensu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isi intellectus ips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224160" y="496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214488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06524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ум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упорядочен, незакономерен),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бы принципиа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принципы 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личалис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 принци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оустройства, мир был 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 для на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познаваем лишь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 разу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ждествен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ам ми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новные зако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разум мож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йти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, не обращаясь к опы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Hals, Descartes - head (c 1650, Louvre)"/>
          <p:cNvPicPr/>
          <p:nvPr/>
        </p:nvPicPr>
        <p:blipFill>
          <a:blip r:embed="rId1"/>
          <a:stretch/>
        </p:blipFill>
        <p:spPr>
          <a:xfrm>
            <a:off x="0" y="4743360"/>
            <a:ext cx="2124000" cy="211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0000" y="2301840"/>
            <a:ext cx="576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зис 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умности ми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йбниц довод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логического предела – утверждения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ворённый Богом мир есть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ий из возможных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268080" y="5037120"/>
            <a:ext cx="447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утверждение Лейбница буд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просту высмея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льтер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философской пове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андид, или Оптимизм» (175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Вольтер (1)"/>
          <p:cNvPicPr/>
          <p:nvPr/>
        </p:nvPicPr>
        <p:blipFill>
          <a:blip r:embed="rId1"/>
          <a:stretch/>
        </p:blipFill>
        <p:spPr>
          <a:xfrm>
            <a:off x="34920" y="4425840"/>
            <a:ext cx="1940040" cy="21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Uknown (after Hals), Descartes (c 1650, Louvre)_red-"/>
          <p:cNvPicPr/>
          <p:nvPr/>
        </p:nvPicPr>
        <p:blipFill>
          <a:blip r:embed="rId1"/>
          <a:stretch/>
        </p:blipFill>
        <p:spPr>
          <a:xfrm>
            <a:off x="4857840" y="1619280"/>
            <a:ext cx="15336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4641840" y="356220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14560" y="48211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Спино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944400" y="6081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Лейбни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89856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1784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898560" y="3741840"/>
            <a:ext cx="323856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, или При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89856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1438200" y="5289480"/>
            <a:ext cx="5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97820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251784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05748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359892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pinoza1-red"/>
          <p:cNvPicPr/>
          <p:nvPr/>
        </p:nvPicPr>
        <p:blipFill>
          <a:blip r:embed="rId2"/>
          <a:stretch/>
        </p:blipFill>
        <p:spPr>
          <a:xfrm>
            <a:off x="6045120" y="2878200"/>
            <a:ext cx="144324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18" descr="Leibniz (5)-red"/>
          <p:cNvPicPr/>
          <p:nvPr/>
        </p:nvPicPr>
        <p:blipFill>
          <a:blip r:embed="rId3"/>
          <a:stretch/>
        </p:blipFill>
        <p:spPr>
          <a:xfrm>
            <a:off x="7232760" y="4138560"/>
            <a:ext cx="139680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840" y="12816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87280" y="136692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н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μόνο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дин, единствен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единство мира, т.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ципиальную св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го объектов (явлений)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ой субстанциальной основ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713120" y="1366920"/>
            <a:ext cx="413892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юр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plurali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наличие в м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а принципи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(несводимых друг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у) первоначал (субстанций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00200" y="413856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dualis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ой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плюрализ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граничивающая чис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первосущ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а двумя (обычно так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началами признаются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атериа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ухов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ростые сущ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на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возникать или исчез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аче, как «разом» – в результа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ения или уничтож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е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ные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инако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были бы тожде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авляли бы одну сущнос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рывно изменяю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эти изменения исходя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утреннего принципа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то внешнее на мон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лия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мира должны леж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ые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убстанц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сё слож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просто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вообще не доступ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му внешнему воз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не имеют окон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ходящее состояние, котор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ом 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ерцепц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мир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ин и тот ж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ах («лучший из возможных»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оспринимается по-разном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ием перцеп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нем апперцеп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сознания перцепций) мона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личаются друг от д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в монада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сей их просто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держ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ногоразличи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, таким образ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каждая содерж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весь мир, являя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живым зеркалом универсум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30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31640" y="154620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разу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принимаемые за исти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логического закона</a:t>
            </a:r>
            <a:br>
              <a:rPr sz="1800"/>
            </a:b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отрицание ведёт к противоречию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такж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чными истина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как, в отличие от истин факт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ны всегда (при любых условия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922560" y="413856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фак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отрицание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ключает в себе ник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я, верные при о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х и неверные при других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имаются за истинные лишь пр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аточном основан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лог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достаточного основан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510880" y="1727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мма углов треуголь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а двум прям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6585120" y="2733840"/>
            <a:ext cx="107928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227640" y="2716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224760" y="36482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Dog sitting"/>
          <p:cNvPicPr/>
          <p:nvPr/>
        </p:nvPicPr>
        <p:blipFill>
          <a:blip r:embed="rId1"/>
          <a:stretch/>
        </p:blipFill>
        <p:spPr>
          <a:xfrm>
            <a:off x="1546200" y="5218200"/>
            <a:ext cx="1123920" cy="1019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473400" y="431784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крыльце сидит соба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маленькой бородк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7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179280" y="323856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в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материальные объекты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684760" y="251784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тор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психические состоя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де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840" y="16488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87280" y="377820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теории по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ме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ение, чт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я ощуще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гнализир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нформируют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и вещ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649840" y="161928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нтолог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 об отноше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сихическому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(материальног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к идеальному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ётся открыт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адлеж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м тел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3"/>
          <p:cNvSpPr/>
          <p:nvPr/>
        </p:nvSpPr>
        <p:spPr>
          <a:xfrm>
            <a:off x="2770200" y="1619280"/>
            <a:ext cx="3598920" cy="18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 иде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учаю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1128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ешн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дме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92912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с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утренн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ями наш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6"/>
          <p:cNvCxnSpPr/>
          <p:nvPr/>
        </p:nvCxnSpPr>
        <p:spPr>
          <a:xfrm>
            <a:off x="4570560" y="341748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8" name="Line 7"/>
          <p:cNvSpPr/>
          <p:nvPr/>
        </p:nvSpPr>
        <p:spPr>
          <a:xfrm>
            <a:off x="240984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8"/>
          <p:cNvCxnSpPr/>
          <p:nvPr/>
        </p:nvCxnSpPr>
        <p:spPr>
          <a:xfrm>
            <a:off x="240984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9"/>
          <p:cNvCxnSpPr/>
          <p:nvPr/>
        </p:nvCxnSpPr>
        <p:spPr>
          <a:xfrm>
            <a:off x="672948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457056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2499840"/>
            <a:ext cx="42465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62560" y="2499840"/>
            <a:ext cx="447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256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сивное состояние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894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ая работа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13056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ложные иде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4"/>
          <p:cNvCxnSpPr/>
          <p:nvPr/>
        </p:nvCxnSpPr>
        <p:spPr>
          <a:xfrm>
            <a:off x="457056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3" name="Line 5"/>
          <p:cNvSpPr/>
          <p:nvPr/>
        </p:nvSpPr>
        <p:spPr>
          <a:xfrm>
            <a:off x="187020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309840" y="349092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бстан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7"/>
          <p:cNvCxnSpPr/>
          <p:nvPr/>
        </p:nvCxnSpPr>
        <p:spPr>
          <a:xfrm>
            <a:off x="4570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6" name="AutoShape 8"/>
          <p:cNvSpPr/>
          <p:nvPr/>
        </p:nvSpPr>
        <p:spPr>
          <a:xfrm>
            <a:off x="61128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оду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9"/>
          <p:cNvCxnSpPr/>
          <p:nvPr/>
        </p:nvCxnSpPr>
        <p:spPr>
          <a:xfrm>
            <a:off x="18702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8" name="Line 17"/>
          <p:cNvSpPr/>
          <p:nvPr/>
        </p:nvSpPr>
        <p:spPr>
          <a:xfrm>
            <a:off x="457056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18"/>
          <p:cNvCxnSpPr/>
          <p:nvPr/>
        </p:nvCxnSpPr>
        <p:spPr>
          <a:xfrm>
            <a:off x="7268760" y="313020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AutoShape 19"/>
          <p:cNvSpPr/>
          <p:nvPr/>
        </p:nvSpPr>
        <p:spPr>
          <a:xfrm>
            <a:off x="600876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61128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означа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что, завися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н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309840" y="4570560"/>
            <a:ext cx="25196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00876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сопост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й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Oval 7"/>
          <p:cNvSpPr/>
          <p:nvPr/>
        </p:nvSpPr>
        <p:spPr>
          <a:xfrm>
            <a:off x="601200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010840" y="2637000"/>
            <a:ext cx="109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нгт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740720" y="3141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604640" y="3284640"/>
            <a:ext cx="1121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пци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644040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483960" y="2554200"/>
            <a:ext cx="596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7524720" y="2997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455240" y="2554200"/>
            <a:ext cx="1261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ннов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390720" y="6153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трактата о правл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локк"/>
          <p:cNvPicPr/>
          <p:nvPr/>
        </p:nvPicPr>
        <p:blipFill>
          <a:blip r:embed="rId1"/>
          <a:stretch/>
        </p:blipFill>
        <p:spPr>
          <a:xfrm>
            <a:off x="5218200" y="1619280"/>
            <a:ext cx="343692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16680" y="615312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8728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е опыты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теодицеи о благости Божь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д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ibniz (5)"/>
          <p:cNvPicPr/>
          <p:nvPr/>
        </p:nvPicPr>
        <p:blipFill>
          <a:blip r:embed="rId1"/>
          <a:stretch/>
        </p:blipFill>
        <p:spPr>
          <a:xfrm>
            <a:off x="5218200" y="1619280"/>
            <a:ext cx="33462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1582560"/>
            <a:ext cx="3670560" cy="16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тив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рожд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наличии в разу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ождё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й, принципов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ore H (cut2)"/>
          <p:cNvPicPr/>
          <p:nvPr/>
        </p:nvPicPr>
        <p:blipFill>
          <a:blip r:embed="rId1"/>
          <a:stretch/>
        </p:blipFill>
        <p:spPr>
          <a:xfrm>
            <a:off x="5397480" y="4497480"/>
            <a:ext cx="128448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9" descr="cudworth_252Cr (Thoemmes-cut, red)"/>
          <p:cNvPicPr/>
          <p:nvPr/>
        </p:nvPicPr>
        <p:blipFill>
          <a:blip r:embed="rId2"/>
          <a:stretch/>
        </p:blipFill>
        <p:spPr>
          <a:xfrm>
            <a:off x="7016760" y="4857840"/>
            <a:ext cx="138888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10" descr="Платон (БСЭ)"/>
          <p:cNvPicPr/>
          <p:nvPr/>
        </p:nvPicPr>
        <p:blipFill>
          <a:blip r:embed="rId3"/>
          <a:stretch/>
        </p:blipFill>
        <p:spPr>
          <a:xfrm>
            <a:off x="539640" y="3417840"/>
            <a:ext cx="11876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11" descr="Декарт Р (БСЭ)"/>
          <p:cNvPicPr/>
          <p:nvPr/>
        </p:nvPicPr>
        <p:blipFill>
          <a:blip r:embed="rId4"/>
          <a:stretch/>
        </p:blipFill>
        <p:spPr>
          <a:xfrm>
            <a:off x="2050920" y="3778200"/>
            <a:ext cx="14320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Picture 12" descr="Мальбранш Н (БСЭ)"/>
          <p:cNvPicPr/>
          <p:nvPr/>
        </p:nvPicPr>
        <p:blipFill>
          <a:blip r:embed="rId5"/>
          <a:stretch/>
        </p:blipFill>
        <p:spPr>
          <a:xfrm>
            <a:off x="3778200" y="4138560"/>
            <a:ext cx="12240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6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нтанного согла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у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108000" y="507348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атент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нтанно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108000" y="388620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общего согласия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тентного зн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108000" y="2698920"/>
            <a:ext cx="374760" cy="82044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440"/>
              <a:gd name="textAreaBottom" fmla="*/ 595080 h 82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существует истин, с которы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йствительно были бы соглас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: даже так называе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общеизвестные» исти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известны детям и идиота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латентное» знание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знание, которым 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ть, не сознавая э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ое знание невозмож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ачало рассуждения не есть то врем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гда мы приходим к осознанию этих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стин; если же считать доказательством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рождённости самый факт согласи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дётся объявить врождёнными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 истины, с которым мы соглашаемс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ее общие ист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вестны ра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бщ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520" y="14749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нативис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107680" y="147492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bula ras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чистая дос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енсуал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означения состоя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щё не получивш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го чувственного опы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пример, новорождённого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тому не располага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бы то ни было знания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нс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sensu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о, ощущ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доктр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ающая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ощу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единств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чником и основанием зн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енсуализм долгое время бы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ой формо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мпириз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1:56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12:40:00Z</dcterms:modified>
  <cp:revision>123</cp:revision>
  <dc:subject>Основы философии - Тема 12</dc:subject>
  <dc:title>Локк и Лейбниц: онтологические предпосылки и природа познания</dc:title>
</cp:coreProperties>
</file>