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A5E4-7073-4655-A963-10D5477F11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F028-5ABE-4CF8-96D4-13CE6B3784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CB7E-0E99-4109-971D-25710C670B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6885-36D9-440B-82C5-3D86B8EDD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53BE-1829-460F-A5A6-A73299E25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A580-7A68-4CB1-A41D-A8F348132D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75AE-6195-488C-8957-9AAA59751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1100"/>
            </a:b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3CDB-70E6-458C-92A9-DAF88F662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DD67-8C43-4CD7-92BF-E02209C13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20F5-65F6-4321-8290-9DADA55AC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F0A6-186A-49C9-A2EE-84CAAC061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BE32-3A53-42DA-959E-D594C437A9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516D-6B6D-4F14-A043-893C3B4824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B737-CA38-4231-81E9-C859F6E36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4060-5DBB-4DF7-9D63-167F66F286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3682-6943-456B-9116-829858F8B5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4F60-DB90-4268-850C-3220F1907E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2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3AE4-823D-4CB0-9642-91F01246C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A96C-A8AC-4226-BE1D-8F6F44D96B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F1AD-06EE-4A83-8E83-F9D4B8EFC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5F36-BDC4-46B1-9C0F-5D45DF6AD1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33BB-434E-4BA3-8196-38AA93EF97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0F0B-8969-4463-A954-EF7431ACFB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A63B-DA84-4349-8CA0-C35F95DD9E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3A29-3AEF-436F-860E-D2A34BD7B5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8F71-6582-4C91-AEE1-7E3316CFF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11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127-D4C6-458E-8C76-EE33456D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4ED-2818-4A0B-B39D-CB123CB1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04B-4921-4170-AC2E-3F1CE10B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DDE-DD6E-4040-97C0-B6FECC9F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2EA-D48B-4A47-BA2C-D9D5FC51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979-B740-4B54-9E2B-0902987C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7BA4-AE75-408B-AB5A-6F0AA97A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2BE2-D0C5-435F-B8E3-EB417BAA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D9C4-2589-49E0-A441-2E54CB29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947-02F5-406B-9E4A-90EF3948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A02-F597-4DF8-982D-33FB1A01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65E-BBE4-4363-A218-6E443FA1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CCBE-82B1-41E5-AE35-E682AE5E4D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2071800"/>
            <a:ext cx="856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нтологические предпосылки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 природа позн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щита Лейбницем врождённого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 «всеобщего согласия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овер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х истин основа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 всеобщем соглас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верждение о налич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созна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в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сознанное знание – вовсе н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смыслиц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пример, пок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спомним, мы не осозна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знали, но забыл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е можем призна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 знанием всё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читаем истинн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еется, не всякое 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ено, но следует при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ождёнными истин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бъяснимые из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ние есть результ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озаключений из дан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енного опыт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умозаключ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ут быть получен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тём умозаключ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263240" y="1474920"/>
            <a:ext cx="23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925520" y="1474920"/>
            <a:ext cx="36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ейбниц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рацион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ейбн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78200" y="2158920"/>
            <a:ext cx="41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оме самого разум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4678200" y="5037120"/>
            <a:ext cx="413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fuerit in sensu,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isi intellectus ipse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3224160" y="4965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2144880" y="37069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1065240" y="2446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мир бы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разум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упорядочен, незакономерен),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 бы принципиа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принципы нашего разум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личалис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 принципо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оустройства, мир был 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остижим для на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познаваем лишь потому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ы разум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ждествен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конам мир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новные зако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разум мож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йти в себ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, не обращаясь к опыт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3" descr="Hals, Descartes - head (c 1650, Louvre)"/>
          <p:cNvPicPr/>
          <p:nvPr/>
        </p:nvPicPr>
        <p:blipFill>
          <a:blip r:embed="rId1"/>
          <a:stretch/>
        </p:blipFill>
        <p:spPr>
          <a:xfrm>
            <a:off x="0" y="4743360"/>
            <a:ext cx="2124000" cy="211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6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20000" y="2301840"/>
            <a:ext cx="576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зис 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умности мир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Лейбниц доводи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 логического предела – утверждения, чт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творённый Богом мир есть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лучший из возможных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3268080" y="5037120"/>
            <a:ext cx="4479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утверждение Лейбница будет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просту высмея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льтеро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его философской пове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Кандид, или Оптимизм» (1758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Вольтер (1)"/>
          <p:cNvPicPr/>
          <p:nvPr/>
        </p:nvPicPr>
        <p:blipFill>
          <a:blip r:embed="rId1"/>
          <a:stretch/>
        </p:blipFill>
        <p:spPr>
          <a:xfrm>
            <a:off x="34920" y="4425840"/>
            <a:ext cx="1940040" cy="215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Leibniz (5)"/>
          <p:cNvPicPr/>
          <p:nvPr/>
        </p:nvPicPr>
        <p:blipFill>
          <a:blip r:embed="rId2"/>
          <a:stretch/>
        </p:blipFill>
        <p:spPr>
          <a:xfrm>
            <a:off x="7016760" y="1582560"/>
            <a:ext cx="2104920" cy="21607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9" descr="Uknown (after Hals), Descartes (c 1650, Louvre)_red-"/>
          <p:cNvPicPr/>
          <p:nvPr/>
        </p:nvPicPr>
        <p:blipFill>
          <a:blip r:embed="rId1"/>
          <a:stretch/>
        </p:blipFill>
        <p:spPr>
          <a:xfrm>
            <a:off x="4857840" y="1619280"/>
            <a:ext cx="15336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0" name="Text Box 3"/>
          <p:cNvSpPr/>
          <p:nvPr/>
        </p:nvSpPr>
        <p:spPr>
          <a:xfrm>
            <a:off x="4641840" y="356220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614560" y="48211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Спино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944400" y="608184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Лейбни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Дуал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низм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люр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89856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9"/>
          <p:cNvSpPr/>
          <p:nvPr/>
        </p:nvSpPr>
        <p:spPr>
          <a:xfrm>
            <a:off x="2517840" y="2193840"/>
            <a:ext cx="161928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898560" y="3741840"/>
            <a:ext cx="323856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, или При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89856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1438200" y="5289480"/>
            <a:ext cx="5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97820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251784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305748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3598920" y="5289480"/>
            <a:ext cx="5396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7" descr="spinoza1-red"/>
          <p:cNvPicPr/>
          <p:nvPr/>
        </p:nvPicPr>
        <p:blipFill>
          <a:blip r:embed="rId2"/>
          <a:stretch/>
        </p:blipFill>
        <p:spPr>
          <a:xfrm>
            <a:off x="6045120" y="2878200"/>
            <a:ext cx="144324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18" descr="Leibniz (5)-red"/>
          <p:cNvPicPr/>
          <p:nvPr/>
        </p:nvPicPr>
        <p:blipFill>
          <a:blip r:embed="rId3"/>
          <a:stretch/>
        </p:blipFill>
        <p:spPr>
          <a:xfrm>
            <a:off x="7232760" y="4138560"/>
            <a:ext cx="139680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840" y="12816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87280" y="136692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н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μόνος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один, единственны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единство мира, т.е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ципиальную сводим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х его объектов (явлений)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ой субстанциальной основе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4713120" y="1366920"/>
            <a:ext cx="413892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люр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plurali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тологическая пози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знающая наличие в мир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а принципиаль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(несводимых друг 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у) первоначал (субстанций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2500200" y="4138560"/>
            <a:ext cx="413856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dualis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ойственный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плюрализм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граничивающая числ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зависимых первосущ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ра двумя (обычно так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оначалами признаются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атериаль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уховн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ростые сущност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онад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т возникать или исчез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аче, как «разом» – в результат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ения или уничтож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е он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ные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инако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были бы тожде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составляли бы одну сущность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рывно изменяю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эти изменения исходят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утреннего принципа, так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то внешнее на мона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лияет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снове мира должны леж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ые сущ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убстанции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как всё слож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простог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 вообще не доступ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му внешнему воз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не имеют окон»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6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ходящее состояние, котор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 собой множ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дином есть не 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перцепц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мир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ин и тот ж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о вс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ах («лучший из возможных»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оспринимается по-разному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нтологические предпосылки рационализма</a:t>
            </a:r>
            <a:br>
              <a:rPr sz="30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(монадологи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ием перцеп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ровнем апперцеп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сознания перцепций) мона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личаются друг от друг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в монадах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всей их простот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держи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ногоразличие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нады, таким образом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аль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ём каждая содерж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весь мир, являя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живым зеркалом универсума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4" descr="leibniz10"/>
          <p:cNvPicPr/>
          <p:nvPr/>
        </p:nvPicPr>
        <p:blipFill>
          <a:blip r:embed="rId1"/>
          <a:stretch/>
        </p:blipFill>
        <p:spPr>
          <a:xfrm>
            <a:off x="7197840" y="1366920"/>
            <a:ext cx="1911240" cy="1979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0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ционалистическая концепция познания </a:t>
            </a:r>
            <a:br>
              <a:rPr sz="30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31640" y="154620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разум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принимаемые за истинн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логического закона</a:t>
            </a:r>
            <a:br>
              <a:rPr sz="1800"/>
            </a:b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cc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cc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х отрицание ведёт к противоречию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ываются такж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чными истинам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как, в отличие от истин факт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рны всегда (при любых условиях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922560" y="4138560"/>
            <a:ext cx="4822920" cy="2448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тины факт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я, отрицание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заключает в себе ника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речия, верные при одни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ловиях и неверные при других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нимаются за истинные лишь пр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аточном основан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логиче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достаточного основания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510880" y="1727280"/>
            <a:ext cx="325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мма углов треугольн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а двум прям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6585120" y="2733840"/>
            <a:ext cx="1079280" cy="9144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6227640" y="2716200"/>
            <a:ext cx="1800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6224760" y="3648240"/>
            <a:ext cx="1800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Dog sitting"/>
          <p:cNvPicPr/>
          <p:nvPr/>
        </p:nvPicPr>
        <p:blipFill>
          <a:blip r:embed="rId1"/>
          <a:stretch/>
        </p:blipFill>
        <p:spPr>
          <a:xfrm>
            <a:off x="1546200" y="5218200"/>
            <a:ext cx="1123920" cy="10191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473400" y="4317840"/>
            <a:ext cx="32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крыльце сидит соба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маленькой бородк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7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78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9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1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7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8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21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2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179280" y="323856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ерв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материальные объекты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атери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5684760" y="2517840"/>
            <a:ext cx="323856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тор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чинно-следственно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ношение связывает</a:t>
            </a:r>
            <a:br>
              <a:rPr sz="1800"/>
            </a:b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психические состоя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 в этом смысл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деаль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840" y="164880"/>
            <a:ext cx="89503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6656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аргументы Г. Лейбница в защиту концепции «врождённых исти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рационализма и рационалист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азумность» мира как условие его познавае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олюция западноевропейского рацион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нтологический плюрализм Лейбниц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чение о монад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ины разума и истины фа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ческие предпосылки эмпиризма и  эмпирическая концепц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480" y="274680"/>
            <a:ext cx="9021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лесный контакт как «передатчик»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64764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ш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3886200" y="1619280"/>
            <a:ext cx="1440000" cy="14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га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"/>
          <p:cNvSpPr/>
          <p:nvPr/>
        </p:nvSpPr>
        <p:spPr>
          <a:xfrm>
            <a:off x="3886200" y="4857840"/>
            <a:ext cx="144000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щущения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2085840" y="1889280"/>
            <a:ext cx="1800360" cy="900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оздействуют н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 flipH="1" rot="16200000">
            <a:off x="3706200" y="3509280"/>
            <a:ext cx="1800000" cy="900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оизвод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7124760" y="4857840"/>
            <a:ext cx="1439640" cy="143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9"/>
          <p:cNvSpPr/>
          <p:nvPr/>
        </p:nvSpPr>
        <p:spPr>
          <a:xfrm>
            <a:off x="5326200" y="5127480"/>
            <a:ext cx="1800000" cy="90036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ставляющие </a:t>
            </a:r>
            <a:br>
              <a:rPr sz="1400"/>
            </a:b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душе следы –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287280" y="377820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лючевое 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теории по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 име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ение, чт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я ощущен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гнализирую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нформируют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изменении веще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649840" y="1619280"/>
            <a:ext cx="323856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онтологичес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прос об отношен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г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психическому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(материального</a:t>
            </a:r>
            <a:br>
              <a:rPr sz="1800"/>
            </a:b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к идеальному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ётся открыты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0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ческие предпосылки эмпиризм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Первичные» и «вторичные»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адлежа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им тела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3"/>
          <p:cNvSpPr/>
          <p:nvPr/>
        </p:nvSpPr>
        <p:spPr>
          <a:xfrm>
            <a:off x="2770200" y="1619280"/>
            <a:ext cx="3598920" cy="18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се идеи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лучаютс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пыт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61128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ешни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едметов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4929120" y="4497480"/>
            <a:ext cx="359892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 идеи полу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с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нутренн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ями наш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м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AutoShape 6"/>
          <p:cNvCxnSpPr/>
          <p:nvPr/>
        </p:nvCxnSpPr>
        <p:spPr>
          <a:xfrm>
            <a:off x="4570560" y="341748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48" name="Line 7"/>
          <p:cNvSpPr/>
          <p:nvPr/>
        </p:nvSpPr>
        <p:spPr>
          <a:xfrm>
            <a:off x="240984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AutoShape 8"/>
          <p:cNvCxnSpPr/>
          <p:nvPr/>
        </p:nvCxnSpPr>
        <p:spPr>
          <a:xfrm>
            <a:off x="240984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50" name="AutoShape 9"/>
          <p:cNvCxnSpPr/>
          <p:nvPr/>
        </p:nvCxnSpPr>
        <p:spPr>
          <a:xfrm>
            <a:off x="6729480" y="395748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и ощущения и идеи рефлек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4570560" y="3957480"/>
            <a:ext cx="2158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2499840"/>
            <a:ext cx="424656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ост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полу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щу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рефлекс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оставаясь при этом пасси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62560" y="2499840"/>
            <a:ext cx="447048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ожны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един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скольких простых идей в одну сложную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и отношени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поставл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ух идей (простых и/или сложных)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 иде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м </a:t>
            </a:r>
            <a:r>
              <a:rPr b="1" lang="ru-RU" sz="1800" spc="-1" strike="noStrike">
                <a:solidFill>
                  <a:srgbClr val="66ff33"/>
                </a:solidFill>
                <a:latin typeface="Arial"/>
              </a:rPr>
              <a:t>образует</a:t>
            </a: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утём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абстрагирова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 обособления идей от всех других идей, сопутствующих и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68256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ссивное состояние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4894200" y="169056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тивная работа ум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мпирическая концепция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ые и сложные ид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/>
          <p:cNvSpPr/>
          <p:nvPr/>
        </p:nvSpPr>
        <p:spPr>
          <a:xfrm>
            <a:off x="313056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Сложные иде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AutoShape 4"/>
          <p:cNvCxnSpPr/>
          <p:nvPr/>
        </p:nvCxnSpPr>
        <p:spPr>
          <a:xfrm>
            <a:off x="457056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3" name="Line 5"/>
          <p:cNvSpPr/>
          <p:nvPr/>
        </p:nvSpPr>
        <p:spPr>
          <a:xfrm>
            <a:off x="187020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3309840" y="349092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Субстан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7"/>
          <p:cNvCxnSpPr/>
          <p:nvPr/>
        </p:nvCxnSpPr>
        <p:spPr>
          <a:xfrm>
            <a:off x="4570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6" name="AutoShape 8"/>
          <p:cNvSpPr/>
          <p:nvPr/>
        </p:nvSpPr>
        <p:spPr>
          <a:xfrm>
            <a:off x="61128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Модус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AutoShape 9"/>
          <p:cNvCxnSpPr/>
          <p:nvPr/>
        </p:nvCxnSpPr>
        <p:spPr>
          <a:xfrm>
            <a:off x="18702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68" name="Line 17"/>
          <p:cNvSpPr/>
          <p:nvPr/>
        </p:nvSpPr>
        <p:spPr>
          <a:xfrm>
            <a:off x="4570560" y="3130560"/>
            <a:ext cx="269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AutoShape 18"/>
          <p:cNvCxnSpPr/>
          <p:nvPr/>
        </p:nvCxnSpPr>
        <p:spPr>
          <a:xfrm>
            <a:off x="7268760" y="313020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70" name="AutoShape 19"/>
          <p:cNvSpPr/>
          <p:nvPr/>
        </p:nvSpPr>
        <p:spPr>
          <a:xfrm>
            <a:off x="6008760" y="3490920"/>
            <a:ext cx="251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тноше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0"/>
          <p:cNvSpPr/>
          <p:nvPr/>
        </p:nvSpPr>
        <p:spPr>
          <a:xfrm>
            <a:off x="61128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означа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что, завися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н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1"/>
          <p:cNvSpPr/>
          <p:nvPr/>
        </p:nvSpPr>
        <p:spPr>
          <a:xfrm>
            <a:off x="3309840" y="4570560"/>
            <a:ext cx="251964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стоя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щ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6008760" y="4570560"/>
            <a:ext cx="251928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жные иде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сопостав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й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другой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0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Джон Лок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9 августа 1632 г. в Рингт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8 октября 1704 г. в Отс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Готфрид Лейб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 июля 1646 г. в Лейпци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ноября 1716 г. в Ганно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кк и Лейбниц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Онтологические предпосылки и природа позн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9" name="Oval 7"/>
          <p:cNvSpPr/>
          <p:nvPr/>
        </p:nvSpPr>
        <p:spPr>
          <a:xfrm>
            <a:off x="601200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5010840" y="2637000"/>
            <a:ext cx="109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нгт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1"/>
          <p:cNvSpPr/>
          <p:nvPr/>
        </p:nvSpPr>
        <p:spPr>
          <a:xfrm>
            <a:off x="7740720" y="3141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7604640" y="3284640"/>
            <a:ext cx="1121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пци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6440400" y="2968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6483960" y="2554200"/>
            <a:ext cx="596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5"/>
          <p:cNvSpPr/>
          <p:nvPr/>
        </p:nvSpPr>
        <p:spPr>
          <a:xfrm>
            <a:off x="7524720" y="2997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7455240" y="2554200"/>
            <a:ext cx="1261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ннов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70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390720" y="615312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н Лок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трактата о правл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9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локк"/>
          <p:cNvPicPr/>
          <p:nvPr/>
        </p:nvPicPr>
        <p:blipFill>
          <a:blip r:embed="rId1"/>
          <a:stretch/>
        </p:blipFill>
        <p:spPr>
          <a:xfrm>
            <a:off x="5218200" y="1619280"/>
            <a:ext cx="3436920" cy="432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2" name="Text Box 8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46-17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5116680" y="6153120"/>
            <a:ext cx="35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тфрид Вильгельм Лейбни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87280" y="3057480"/>
            <a:ext cx="44989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е опыты о человеческом разумен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теодицеи о благости Божь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надолог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Leibniz (5)"/>
          <p:cNvPicPr/>
          <p:nvPr/>
        </p:nvPicPr>
        <p:blipFill>
          <a:blip r:embed="rId1"/>
          <a:stretch/>
        </p:blipFill>
        <p:spPr>
          <a:xfrm>
            <a:off x="5218200" y="1619280"/>
            <a:ext cx="33462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8" name="Text Box 9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новные представ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тон (427-347 до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Декарт (1596-16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альбранш (1638-17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мбриджские платоники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Мор (1614-1687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. Кедворт (1617-1688)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39640" y="1582560"/>
            <a:ext cx="3670560" cy="16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тивизм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nativus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рождённы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ение о наличии в разум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рождённого зн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й, принципов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More H (cut2)"/>
          <p:cNvPicPr/>
          <p:nvPr/>
        </p:nvPicPr>
        <p:blipFill>
          <a:blip r:embed="rId1"/>
          <a:stretch/>
        </p:blipFill>
        <p:spPr>
          <a:xfrm>
            <a:off x="5397480" y="4497480"/>
            <a:ext cx="1284480" cy="1798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4" name="Picture 9" descr="cudworth_252Cr (Thoemmes-cut, red)"/>
          <p:cNvPicPr/>
          <p:nvPr/>
        </p:nvPicPr>
        <p:blipFill>
          <a:blip r:embed="rId2"/>
          <a:stretch/>
        </p:blipFill>
        <p:spPr>
          <a:xfrm>
            <a:off x="7016760" y="4857840"/>
            <a:ext cx="138888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Picture 10" descr="Платон (БСЭ)"/>
          <p:cNvPicPr/>
          <p:nvPr/>
        </p:nvPicPr>
        <p:blipFill>
          <a:blip r:embed="rId3"/>
          <a:stretch/>
        </p:blipFill>
        <p:spPr>
          <a:xfrm>
            <a:off x="539640" y="3417840"/>
            <a:ext cx="118764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6" name="Picture 11" descr="Декарт Р (БСЭ)"/>
          <p:cNvPicPr/>
          <p:nvPr/>
        </p:nvPicPr>
        <p:blipFill>
          <a:blip r:embed="rId4"/>
          <a:stretch/>
        </p:blipFill>
        <p:spPr>
          <a:xfrm>
            <a:off x="2050920" y="3778200"/>
            <a:ext cx="143208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Picture 12" descr="Мальбранш Н (БСЭ)"/>
          <p:cNvPicPr/>
          <p:nvPr/>
        </p:nvPicPr>
        <p:blipFill>
          <a:blip r:embed="rId5"/>
          <a:stretch/>
        </p:blipFill>
        <p:spPr>
          <a:xfrm>
            <a:off x="3778200" y="4138560"/>
            <a:ext cx="122400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6"/>
          <p:cNvSpPr/>
          <p:nvPr/>
        </p:nvSpPr>
        <p:spPr>
          <a:xfrm>
            <a:off x="4316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нтанного соглас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дукци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2"/>
          <p:cNvSpPr/>
          <p:nvPr/>
        </p:nvSpPr>
        <p:spPr>
          <a:xfrm>
            <a:off x="108000" y="507348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4"/>
          <p:cNvSpPr/>
          <p:nvPr/>
        </p:nvSpPr>
        <p:spPr>
          <a:xfrm>
            <a:off x="4316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атентного зн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–</a:t>
            </a:r>
            <a:br>
              <a:rPr sz="16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нтанно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1"/>
          <p:cNvSpPr/>
          <p:nvPr/>
        </p:nvSpPr>
        <p:spPr>
          <a:xfrm>
            <a:off x="108000" y="3886200"/>
            <a:ext cx="374760" cy="82080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800"/>
              <a:gd name="textAreaBottom" fmla="*/ 595080 h 82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4316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дификация аргумен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общего согласия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тентного зна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0"/>
          <p:cNvSpPr/>
          <p:nvPr/>
        </p:nvSpPr>
        <p:spPr>
          <a:xfrm>
            <a:off x="108000" y="2698920"/>
            <a:ext cx="374760" cy="820440"/>
          </a:xfrm>
          <a:custGeom>
            <a:avLst/>
            <a:gdLst>
              <a:gd name="textAreaLeft" fmla="*/ 50040 w 374760"/>
              <a:gd name="textAreaRight" fmla="*/ 324720 w 374760"/>
              <a:gd name="textAreaTop" fmla="*/ 143640 h 820440"/>
              <a:gd name="textAreaBottom" fmla="*/ 595080 h 820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тивизм и его критика Дж. Лок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4316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ргумен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общего соглас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4749840" y="2085840"/>
            <a:ext cx="3959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существует истин, с которы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ействительно были бы соглас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се: даже так называемы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«общеизвестные» истины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известны детям и идиотам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4749840" y="327348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латентное» знание –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 знание, которым мо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ладать, не сознавая э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ое знание невозможно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5"/>
          <p:cNvSpPr/>
          <p:nvPr/>
        </p:nvSpPr>
        <p:spPr>
          <a:xfrm>
            <a:off x="4749840" y="446256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Начало рассуждения не есть то врем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когда мы приходим к осознанию этих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истин; если же считать доказательством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рождённости самый факт согласия,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придётся объявить врождёнными </a:t>
            </a:r>
            <a:br>
              <a:rPr sz="14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се истины, с которым мы соглашаемс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7"/>
          <p:cNvSpPr/>
          <p:nvPr/>
        </p:nvSpPr>
        <p:spPr>
          <a:xfrm>
            <a:off x="4749840" y="5649840"/>
            <a:ext cx="39592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нее общие исти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вестны ра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бщих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893520" y="1474920"/>
            <a:ext cx="31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ргументы нативист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107680" y="1474920"/>
            <a:ext cx="31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Контраргументы Локк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abula ras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чистая дос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енсуал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обозначения состоя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 человек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щё не получивш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го чувственного опы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пример, новорождённого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тому не располагающ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ими бы то ни было знаниям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5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ор о «врождённых идеях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 сенсуализма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основной вывод Лок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324000" y="2158920"/>
            <a:ext cx="413856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Нет ничего в разум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чего бы не было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раньше в ощущен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324000" y="5037120"/>
            <a:ext cx="413856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ihil est in intellectu,</a:t>
            </a:r>
            <a:br>
              <a:rPr sz="1800"/>
            </a:b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quod non prius fuerit in sensu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713120" y="2698920"/>
            <a:ext cx="421020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енсу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о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sensus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о, ощущ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носеологическая доктр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тверждающая, ч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ощущ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ются единствен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точником и основанием знани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енсуализм долгое время бы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ой формо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мпиризм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1:56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12:40:00Z</dcterms:modified>
  <cp:revision>123</cp:revision>
  <dc:subject>Основы философии - Тема 12</dc:subject>
  <dc:title>Локк и Лейбниц: онтологические предпосылки и природа познания</dc:title>
</cp:coreProperties>
</file>