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0B5BD-305C-4BFD-B3D2-D13C524ED62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незис и развитие гор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незис и развитие городов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900igr.net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ширение урбан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еческие город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пнейшими городами были Афины (около 150 тыс. чел.) и Спарта (40 тыс. чел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вая волна создания городов-колоний – побережье Ионического моря, вторая – Черного моря. В 500 г. до н. э. были сотни независимых городов-государств с населением от нескольких сотен до десятков тысяч человек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ировка городов была адаптирована к прямоугольной решетке, независимо от топографии местност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а Римской импери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пнейшим городом был Рим (свыше 1 млн. чел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имляне основали свои колонии-поселения, расширив практику строительства городов, имевших прямоугольную планировк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ской периметр римского города был обычно квадратной или прямоугольной фор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утри были две главные пересекающиеся улицы: декуманус шел с запада на восток и кардо – юга на севе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ширение урбанизации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еческие города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пнейшими городами были Афины (около 150 тыс. чел.) и Спарта (40 тыс. чел.)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вая волна создания городов-колоний – побережье Ионического моря, вторая – Черного моря. В 500 г. до н. э. были сотни независимых городов-государств с населением от нескольких сотен до десятков тысяч человек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ировка городов была адаптирована к прямоугольной решетке, независимо от топографии местности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а Римской империи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пнейшим городом был Рим (свыше 1 млн. чел.)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имляне основали свои колонии-поселения, расширив практику строительства городов, имевших прямоугольную планировку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ской периметр римского города был обычно квадратной или прямоугольной формы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утри были две главные пересекающиеся улицы: декуманус шел с запада на восток и кардо – юга на север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ировочные системы Древней Греции, Рима и Кит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 – Милет (Греция), 2 – Тимгад (римская Африка, Алжир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 – Тяньцзинь (Китай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ировочные системы Древней Греции, Рима и Китая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 – Милет (Греция), 2 – Тимгад (римская Африка, Алжир),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 – Тяньцзинь (Китай)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Европейские города в 1000-1900 г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Источник;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.M. Hohenberg and L.H. Lees, The Making of Urban Europe WOO-1950 (Cambridge,Mass.. Harvard University Press, 19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вропейские города в 1000-1900 гг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точник;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.M. Hohenberg and L.H. Lees, The Making of Urban Europe WOO-1950 (Cambridge,Mass.. Harvard University Press, 198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 1000 г. большинство городов в Западной и Центральной Европе были очень маленьки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пнейшие города располагались и Византийской империи и мусульманских районах Испа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а в эпоху феодализма были небольшими, но многочисленны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XI в. Лондон был крупнейшим городом Англии с населением около 16 тыс. чел. В Англии было еще несколько городов с населением в пределах 5 тыс. чел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крупнейшем из многочисленных германских городов проживало не больше 40 тыс. челов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XI-XII вв. оживление торговли способствовало росту Венеции, Генуи и Пиз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 1000 г. большинство городов в Западной и Центральной Европе были очень маленькими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пнейшие города располагались и Византийской империи и мусульманских районах Испании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а в эпоху феодализма были небольшими, но многочисленными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XI в. Лондон был крупнейшим городом Англии с населением около 16 тыс. чел. В Англии было еще несколько городов с населением в пределах 5 тыс. чел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крупнейшем из многочисленных германских городов проживало не больше 40 тыс. человек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XI-XII вв. оживление торговли способствовало росту Венеции, Генуи и Пизы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ировка европейских городов в Средние ве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 – Нордлинген (Германия), 2 – Аоста (Италия), 3 – Монпазье (Франция), 4 – Каркасон (Франция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ировка европейских городов в Средние ве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 – Нордлинген (Германия), 2 – Аоста (Италия), 3 – Монпазье (Франция), 4 – Каркасон (Франция)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период между XI—XIV вв. набеги варваров сократилось и небольшие оборонительные города постепенно превратились в рыноч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вые города на базе рынков возникли по двум причина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децентрализации власти в феодальной системе средневековые города были вынуждены что-то производить в обмен на сельские товар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низкой производительности сельского труда город должен был торговать с жителями относительно большой территории произведенными в нем товарам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период между XI—XIV вв. набеги варваров сократилось и небольшие оборонительные города постепенно превратились в рыночные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вые города на базе рынков возникли по двум причинам: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децентрализации власти в феодальной системе средневековые города были вынуждены что-то производить в обмен на сельские товары;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низкой производительности сельского труда город должен был торговать с жителями относительно большой территории произведенными в нем товарами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EY 1: armourers; 2: butchers; 3: bakers; 4: beltmakers; 5: money-changers; 6: shoemakers; 7: spice merchants; 8: needlemakers; 9: fellers; 10: herring merchants; 11: grocers; 12: minters; 13: goldsmiths; 14: cookshops; 15: saddlers; 16: tailors; 17: tanne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Средневековый Люб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EY 1: armourers; 2: butchers; 3: bakers; 4: beltmakers; 5: money-changers; 6: shoemakers; 7: spice merchants; 8: needlemakers; 9: fellers; 10: herring merchants; 11: grocers; 12: minters; 13: goldsmiths; 14: cookshops; 15: saddlers; 16: tailors; 17: tanners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едневековый Любек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куренция среди средневековых городов способствовала нововведениям в производстве и торговл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ершенствование методов производства и торговли подготовило промышленную революцию XVIII и XIX в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 1400 г. Париж был крупнейшим центром торговли и образования, столицей Франц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еди шести крупнейших городов Европы было три итальянских города-государ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куренция среди средневековых городов способствовала нововведениям в производстве и торговле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ершенствование методов производства и торговли подготовило промышленную революцию XVIII и XIX вв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 1400 г. Париж был крупнейшим центром торговли и образования, столицей Франции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еди шести крупнейших городов Европы было три итальянских города-государств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ловия возникновения индустриального гор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трализация власти привела к централизации исполнения административных и военных функций в королевских городах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ыстрее всего стали расти города, в которых находился королевский двор (Лондон - 250 тыс., Неаполь — 240 тыс., Милан - 200 тыс., Париж — 18O тыс. чел.; в число городов с населением порядка 100 тыс. человек входили Рим, Лиссабон, Палермо, Севилья, Антверпен и Амстердам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крепление власти привело к снятию многих ограничений, включая местные тарифы,  на торговлю, а океанские плавания привели к открытию новых рын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а с речными и морскими портами процветали (Неаполь. Палермо. Лиссабон, Ливерпуль), города внутри стран приходили в упад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 1700 г. среди 10 крупнейших городов Европы появилось четыре новых морских порта: Лондон. Неаполь, Лиссабон и Амстерда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ловия возникновения индустриального город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трализация власти привела к централизации исполнения административных и военных функций в королевских городах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ыстрее всего стали расти города, в которых находился королевский двор (Лондон - 250 тыс., Неаполь — 240 тыс., Милан - 200 тыс., Париж — 18O тыс. чел.; в число городов с населением порядка 100 тыс. человек входили Рим, Лиссабон, Палермо, Севилья, Антверпен и Амстердам)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крепление власти привело к снятию многих ограничений, включая местные тарифы,  на торговлю, а океанские плавания привели к открытию новых рынков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а с речными и морскими портами процветали (Неаполь. Палермо. Лиссабон, Ливерпуль), города внутри стран приходили в упадок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 1700 г. среди 10 крупнейших городов Европы появилось четыре новых морских порта: Лондон. Неаполь, Лиссабон и Амстердам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ществует несколько теорий возникновения гор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обходимое условие возникновения города заключается в наличии излишков сельскохозяйственной проду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ль ирригационных объектов в появлении городов в речных цивилизациях  и HYDRAULIC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явлению городов предшествовал ряд крупных достижений в сельскохозяйственном производстве:  культурное земледелие, системы орошения, замена сохи плуго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характеристики общества этого тип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тенсификация сельского хозяйств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влеченность в частичное разделение труд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обходимость кооперации для осуществления крупномасштабных ирригационных проект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ществует несколько теорий возникновения городов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обходимое условие возникновения города заключается в наличии излишков сельскохозяйственной продукции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ль ирригационных объектов в появлении городов в речных цивилизациях  и HYDRAULIC THEORY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явлению городов предшествовал ряд крупных достижений в сельскохозяйственном производстве:  культурное земледелие, системы орошения, замена сохи плугом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характеристики общества этого типа: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тенсификация сельского хозяйства;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влеченность в частичное разделение труда;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обходимость кооперации для осуществления крупномасштабных ирригационных проектов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XVIII в. города перестают рассматриваться как фортификационные объект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оссии понятие «город» включает в себя прежние торгово-ремесленные слобод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а начинают проектироваться, как социально-экономические целостност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х центральную часть вместо военной цитадели зачастую занимают промышленные предприятия – новые «кормильцы» город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1763 г. в России утверждается практика обязательного развития всех городов по генеральным план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XVIII в. города перестают рассматриваться как фортификационные объекты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оссии понятие «город» включает в себя прежние торгово-ремесленные слободы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а начинают проектироваться, как социально-экономические целостности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х центральную часть вместо военной цитадели зачастую занимают промышленные предприятия – новые «кормильцы» города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1763 г. в России утверждается практика обязательного развития всех городов по генеральным планам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банизация в ходе промышленной революци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 начала XIX в. доля городского населения в мире составляла всего лишь около 3%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 период между 1800 и 1970 гг. доля населения, проживающего в городах, возросла до 39%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ША доля городского населения увеличилась с 6% в 1800 г. до более 75% в 1990 г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банизация в ходе промышленной революции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 начала XIX в. доля городского населения в мире составляла всего лишь около 3%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 период между 1800 и 1970 гг. доля населения, проживающего в городах, возросла до 39%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ША доля городского населения увеличилась с 6% в 1800 г. до более 75% в 1990 г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вовведения в ходе промышленной революции можно разделить на четыре области: сельское хозяйство, обрабатывающая промышленность, транспорт и строитель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вовведения в сельском хозяйстве: замена мускульной силы и простейших орудий труда машинами, нововведения в методах посадки, выращивания, уборки урожая и переработки продук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ША доля занятых в сельскохозяйственном производстве снизилась с 69%  в 1840 г. до 2,8% в 1988 г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батывающая промышленность: созданы новые машины, изготовленные из металла; на смену ручному производству кустарей пришло машинное производство с использованием взаимозаменяемых деталей, паровых машин, а также узких специалис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вовведения в ходе промышленной революции можно разделить на четыре области: сельское хозяйство, обрабатывающая промышленность, транспорт и строительство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вовведения в сельском хозяйстве: замена мускульной силы и простейших орудий труда машинами, нововведения в методах посадки, выращивания, уборки урожая и переработки продукции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ША доля занятых в сельскохозяйственном производстве снизилась с 69%  в 1840 г. до 2,8% в 1988 г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батывающая промышленность: созданы новые машины, изготовленные из металла; на смену ручному производству кустарей пришло машинное производство с использованием взаимозаменяемых деталей, паровых машин, а также узких специалистов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ароход и железная дорога способствовали снижению стоимости перевозки товаров между город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мышленные города развивались в точках, доступных для междугородной транспортной сети (вдоль рек, позже вдоль железных дорог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вовведения на внутригородском транспорте расширили реальные размеры городов (конки, трамваи, автомобиль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томобиль повысил доступность любого места в город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жане могли жить между радиальными линиями, а предприятия размешаться вне центра город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узовой автомобильный транспорт позволил фирмам размещать свои производства вне центра город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величился набор возможных мест размещения производств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росло реальное городское насел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ароход и железная дорога способствовали снижению стоимости перевозки товаров между городами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мышленные города развивались в точках, доступных для междугородной транспортной сети (вдоль рек, позже вдоль железных дорог)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вовведения на внутригородском транспорте расширили реальные размеры городов (конки, трамваи, автомобиль)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томобиль повысил доступность любого места в городе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жане могли жить между радиальными линиями, а предприятия размешаться вне центра города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узовой автомобильный транспорт позволил фирмам размещать свои производства вне центра города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величился набор возможных мест размещения производства;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росло реальное городское население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вовведения в строительстве способствовали увеличению площади гор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явление легких стальных каркасов позволило строить дома повышенной этажности по сравнению с традиционными кирпичными зданиями (первый небоскреб – Чикаго, I885 г.)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явление пассажирского лифта снизило издержки на подъем внутри высоких зданий, что повысило практичность небоскреб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вовведения в строительстве способствовали увеличению площади городов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явление легких стальных каркасов позволило строить дома повышенной этажности по сравнению с традиционными кирпичными зданиями (первый небоскреб – Чикаго, I885 г.) 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явление пассажирского лифта снизило издержки на подъем внутри высоких зданий, что повысило практичность небоскребов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военная эр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1950 г. темпы урбанизации замедлились, а в 1970-е годы во многих развитых странах быстрее стали расти не сами города, а ареалы за их предел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рриториальный разброс производственных предприят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дленное снижение занятости в сельском хозяйств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т в добывающих отраслях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Рост в рекреационной сфере и сфере по обслуживанию пенсионе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военная эра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1950 г. темпы урбанизации замедлились, а в 1970-е годы во многих развитых странах быстрее стали расти не сами города, а ареалы за их пределами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рриториальный разброс производственных предприятий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дленное снижение занятости в сельском хозяйстве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т в добывающих отраслях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Рост в рекреационной сфере и сфере по обслуживанию пенсионеров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вые индустриальные города. Тольят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– местоположение первоначального города Ставрополь (1737), Б – Куйбышевская ГЭС (1950-1957), В – Комсомольск и Шлюзовой (посёлки при ГЭС), Г – предприятия химической промышленности, Д – «Старый город» (Центральный район, его северная часть – частный сектор, 1952), Е – Волжский автозавод (ВАЗ, 1966-1970), Ж – «Новый город» (Автозаводский район, 196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вые индустриальные города. Тольятти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– местоположение первоначального города Ставрополь (1737), Б – Куйбышевская ГЭС (1950-1957), В – Комсомольск и Шлюзовой (посёлки при ГЭС), Г – предприятия химической промышленности, Д – «Старый город» (Центральный район, его северная часть – частный сектор, 1952), Е – Волжский автозавод (ВАЗ, 1966-1970), Ж – «Новый город» (Автозаводский район, 1967)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чему растут промышленные города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деляют  три причины концентрации рабочих мест в городах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авнительное преимущество (comparative advantage) делает выгодной торговлю между регионами, а межрегиональная торговля вызывает развитие рыночных город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утренний эффект масштаба (internal scale economies) производства позволяет предприятиям производить товары более эффективно, чем это делают отдельные люди, и производство товаров на предприятиях ведет к развитию промышленных город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агломерации (концентрации), (agglomerative economies) производства и маркетинга заставляет фирмы группироваться в городах, и такое скопление вызывает развитие крупных город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чему растут промышленные города?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деляют  три причины концентрации рабочих мест в городах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авнительное преимущество (comparative advantage) делает выгодной торговлю между регионами, а межрегиональная торговля вызывает развитие рыночных городов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утренний эффект масштаба (internal scale economies) производства позволяет предприятиям производить товары более эффективно, чем это делают отдельные люди, и производство товаров на предприятиях ведет к развитию промышленных городов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агломерации (концентрации), (agglomerative economies) производства и маркетинга заставляет фирмы группироваться в городах, и такое скопление вызывает развитие крупных городов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масштаба на транспорте и торговые гор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бинация сравнительного преимущества и эффекта масштаба на транспорте приводит к развитию города-ры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-рынок развивается потому, что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зводительность в сельском хозяйстве достаточно высока для того, чтобы сельскохозяйственные рабочие производили достаточно товаров (продукции) для себя и городских торговце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личия в уровнях производительности достаточно велики, чтобы компенсировать транспортные расхо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явление эффекта масштаба на транспорте делает крупномасштабную торговлю и централизованные рынки эффективны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масштаба на транспорте и торговые город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бинация сравнительного преимущества и эффекта масштаба на транспорте приводит к развитию города-рын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-рынок развивается потому, что: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зводительность в сельском хозяйстве достаточно высока для того, чтобы сельскохозяйственные рабочие производили достаточно товаров (продукции) для себя и городских торговцев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личия в уровнях производительности достаточно велики, чтобы компенсировать транспортные расходы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явление эффекта масштаба на транспорте делает крупномасштабную торговлю и централизованные рынки эффективными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онительный город и MILITARY THEOR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обходимость охраны излишков продовольств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обходимость совместного проживания для отражения внешних опасносте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лигиозный город и RELIGIOUS THEOR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никновение массовых религий и появление больших храмов с вождями, жрецами, религиозными рабочи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ранение и защита излишков продовольствия в храм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центрация власти в руках религиозной эли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рговый город и ECONOMIC THEO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витие торговли и появление крупных рын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ргово-религиозно-оборонительный город и THEORETICAL CONSENSU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онительный город и MILITARY THEORIES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обходимость охраны излишков продовольствия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обходимость совместного проживания для отражения внешних опасностей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лигиозный город и RELIGIOUS THEORIES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никновение массовых религий и появление больших храмов с вождями, жрецами, религиозными рабочими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ранение и защита излишков продовольствия в храмах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центрация власти в руках религиозной элиты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рговый город и ECONOMIC THEORY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витие торговли и появление крупных рынков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ргово-религиозно-оборонительный город и THEORETICAL CONSENSUS?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масштаба производства возрастает по двум причина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Специализация тру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ециализация труда повышает производительность потому, что: а} по мере повторения выполняемых операций квалификация работников возрастает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) рабочие тратят меньше времени на переключение с одной операции на другую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Неделимые производственные фактор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масштаба и городская территория: город растет вокруг фабр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масштаба производства возрастает по двум причинам: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Специализация труд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ециализация труда повышает производительность потому, что: а} по мере повторения выполняемых операций квалификация работников возрастает;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) рабочие тратят меньше времени на переключение с одной операции на другую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Неделимые производственные факторы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масштаба и городская территория: город растет вокруг фабрики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агломерации (концентрации) производства – объясняет причины появления крупных промышленных гор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ществуют два типа эффекта концентрации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локализации и эффект урбанизаци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основе эффекта концентрации лежат три главные причины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масштаба производства промежуточных факторов производства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ирование единого рынка труд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мен знания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агломерации (концентрации) производства – объясняет причины появления крупных промышленных городов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ществуют два типа эффекта концентрации: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локализации и эффект урбанизации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основе эффекта концентрации лежат три главные причины: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масштаба производства промежуточных факторов производства,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ирование единого рынка труда,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мен знаниями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урбанизации отличается от эффекта локализации в двух отношениях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-первых, эффект урбанизации появляется в результате роста масштаба экономики всего города, а не только конкретной отрасл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-вторых, эффект урбанизации несет выгоды фирмам всего города, а не только фирмам одной отрасл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урбанизации отличается от эффекта локализации в двух отношениях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-первых, эффект урбанизации появляется в результате роста масштаба экономики всего города, а не только конкретной отрасли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-вторых, эффект урбанизации несет выгоды фирмам всего города, а не только фирмам одной отрасли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чаги ранней урбан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сопотамия (3000-2000 лет до н.э.) – Эриду, Лагаш, Киш, Ур (25 тыс.чел.), Вавилон (50 тыс.чел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гипет, долина Нила (3500 лет до н.э.) – Мемфис, Гелиополис, Фив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а были меньше и не так плотно заселены как города Месопотамии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перенос столиц каждым новым фараоном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было необходимости в строительстве фортификационных сооружений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лина Инда (2500 лет до н.э.) –Пуньяб и Мохенье-Даро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ве столицы королевства Хараппа на территории современного Пакиста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рно по 20 тыс.чел. площадью по 250 г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лина Хуанхэ (1800 лет до н.э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ские стены не отделяли города от сельских деревень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а были связаны сетью дерев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зоамерика (200 лет до н.э.) – южная часть Мексики, Гватемала, Белиз, Гондурас (сильная стратификация: элита в центре вокруг церквей и дворцов, низшие классы – на периферии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чаги ранней урбанизации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сопотамия (3000-2000 лет до н.э.) – Эриду, Лагаш, Киш, Ур (25 тыс.чел.), Вавилон (50 тыс.чел.)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гипет, долина Нила (3500 лет до н.э.) – Мемфис, Гелиополис, Фивы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а были меньше и не так плотно заселены как города Месопотамии 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перенос столиц каждым новым фараоном;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было необходимости в строительстве фортификационных сооружений)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лина Инда (2500 лет до н.э.) –Пуньяб и Мохенье-Даро,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ве столицы королевства Хараппа на территории современного Пакистан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рно по 20 тыс.чел. площадью по 250 г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лина Хуанхэ (1800 лет до н.э.)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ские стены не отделяли города от сельских деревень,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а были связаны сетью деревень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зоамерика (200 лет до н.э.) – южная часть Мексики, Гватемала, Белиз, Гондурас (сильная стратификация: элита в центре вокруг церквей и дворцов, низшие классы – на периферии)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ировочные схемы древних посел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 – Кастелаццо (Италия), 2 – индийское поселение типа Нандиаварта, 3 – Кой-Крылган-Кала (Хорезм), 4 – норманнская крепость (Дания), 5 – индийское поселение типа Падмака, 6 – Топрак-Кала (Хорезм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ировочные схемы древних поселений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 – Кастелаццо (Италия), 2 – индийское поселение типа Нандиаварта, 3 – Кой-Крылган-Кала (Хорезм), 4 – норманнская крепость (Дания), 5 – индийское поселение типа Падмака, 6 – Топрак-Кала (Хорезм)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– культовые сооружения; D -  жилая зона; A,B – гавани; X-Y- улица ремесленни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– культовые сооружения; D -  жилая зона; A,B – гавани; X-Y- улица ремесленников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After G. Sjoberg (1960) The Pre-industrial City New York: Free Pr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After G. Sjoberg (1960) The Pre-industrial City New York: Free Press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58D1-3AEF-4613-ADF6-B4CA814B5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3594-81F2-4D80-A0FD-8FF49DF7F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E45F-E8F8-4DC4-9D3D-9300D635A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0440-6610-4492-BBB0-1DDAD6E42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82B6-0C71-4C8F-8032-971FD1A64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2446-4D9B-4FEF-816D-EA03BCF8D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7A34-F219-4EEF-9B94-5F7A7063D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0BBF-7E1A-495B-B118-A3564F257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63F4-306B-4638-AC2E-8DAE2ED1C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4758-19E0-435A-B538-45CC58024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81F2-E239-4110-9C45-C1CEF5365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1458-EC99-4CC6-8F51-909429205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61BE9-4530-4FFF-AE75-A108CE9956C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026"/>
          <p:cNvSpPr/>
          <p:nvPr/>
        </p:nvSpPr>
        <p:spPr>
          <a:xfrm>
            <a:off x="152280" y="2868480"/>
            <a:ext cx="7391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66"/>
                </a:solidFill>
                <a:latin typeface="Arial"/>
              </a:rPr>
              <a:t>Генезис и развитие городов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" name="Rectangle 1027"/>
          <p:cNvSpPr/>
          <p:nvPr/>
        </p:nvSpPr>
        <p:spPr>
          <a:xfrm>
            <a:off x="152280" y="5952960"/>
            <a:ext cx="5410440" cy="50184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Rectangle 1028"/>
          <p:cNvSpPr/>
          <p:nvPr/>
        </p:nvSpPr>
        <p:spPr>
          <a:xfrm>
            <a:off x="0" y="0"/>
            <a:ext cx="6553080" cy="287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32868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2004840" y="19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609480" y="380880"/>
            <a:ext cx="8382240" cy="58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асширение урбанизации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Г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еческие города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рупнейшими городами были Афины 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(о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оло 150 тыс. чел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.) 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и Спарта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40 тыс. чел.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ервая волна создания городов-колоний – побережье Ионического моря, вторая – Черного моря. В 500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. до н. э. были сотни независимых городов-государств с населением от нескольких сотен до десятков тысяч человек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ланир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овка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городов была адаптирована к прямоугольной решетке, независимо от топографии местности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орода Римской империи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рупнейшим городом был 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им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выше 1 млн. чел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Р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имляне основали свои колонии-поселения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, расширив практику строительства городов, имевших прямоугольную планировку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ородской периметр римского города был обычно квадратной или прямоугольной формы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нутри были две главные пересекающиеся улицы: декуманус шел с запада на восток и кардо – юга на север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-228600" y="304920"/>
            <a:ext cx="9372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ланировочные системы Древней Греции, Рима и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итая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12" name="Object 3"/>
          <p:cNvGraphicFramePr/>
          <p:nvPr/>
        </p:nvGraphicFramePr>
        <p:xfrm>
          <a:off x="250920" y="907920"/>
          <a:ext cx="2342880" cy="374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907920"/>
                    <a:ext cx="2342880" cy="37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4" name="Picture 6" descr="art-i-091"/>
          <p:cNvPicPr/>
          <p:nvPr/>
        </p:nvPicPr>
        <p:blipFill>
          <a:blip r:embed="rId3"/>
          <a:srcRect l="6702" t="0" r="23203" b="6870"/>
          <a:stretch/>
        </p:blipFill>
        <p:spPr>
          <a:xfrm>
            <a:off x="4788000" y="1052640"/>
            <a:ext cx="2340000" cy="2684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art-i-187"/>
          <p:cNvPicPr/>
          <p:nvPr/>
        </p:nvPicPr>
        <p:blipFill>
          <a:blip r:embed="rId4"/>
          <a:srcRect l="24586" t="13009" r="40640" b="6073"/>
          <a:stretch/>
        </p:blipFill>
        <p:spPr>
          <a:xfrm>
            <a:off x="3203640" y="3933720"/>
            <a:ext cx="1984320" cy="2670120"/>
          </a:xfrm>
          <a:prstGeom prst="rect">
            <a:avLst/>
          </a:prstGeom>
          <a:ln w="0">
            <a:noFill/>
          </a:ln>
        </p:spPr>
      </p:pic>
      <p:sp>
        <p:nvSpPr>
          <p:cNvPr id="116" name="Line 8"/>
          <p:cNvSpPr/>
          <p:nvPr/>
        </p:nvSpPr>
        <p:spPr>
          <a:xfrm>
            <a:off x="2666880" y="685800"/>
            <a:ext cx="0" cy="2743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Line 9"/>
          <p:cNvSpPr/>
          <p:nvPr/>
        </p:nvSpPr>
        <p:spPr>
          <a:xfrm>
            <a:off x="4952880" y="6858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Line 10"/>
          <p:cNvSpPr/>
          <p:nvPr/>
        </p:nvSpPr>
        <p:spPr>
          <a:xfrm>
            <a:off x="2666880" y="32767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Line 12"/>
          <p:cNvSpPr/>
          <p:nvPr/>
        </p:nvSpPr>
        <p:spPr>
          <a:xfrm>
            <a:off x="4876920" y="3657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Line 17"/>
          <p:cNvSpPr/>
          <p:nvPr/>
        </p:nvSpPr>
        <p:spPr>
          <a:xfrm>
            <a:off x="3200400" y="6629400"/>
            <a:ext cx="198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5181480" y="6629400"/>
            <a:ext cx="76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Line 19"/>
          <p:cNvSpPr/>
          <p:nvPr/>
        </p:nvSpPr>
        <p:spPr>
          <a:xfrm flipV="1">
            <a:off x="5257800" y="3886200"/>
            <a:ext cx="0" cy="2743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Line 20"/>
          <p:cNvSpPr/>
          <p:nvPr/>
        </p:nvSpPr>
        <p:spPr>
          <a:xfrm flipH="1">
            <a:off x="3200040" y="3886200"/>
            <a:ext cx="2057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Line 21"/>
          <p:cNvSpPr/>
          <p:nvPr/>
        </p:nvSpPr>
        <p:spPr>
          <a:xfrm>
            <a:off x="3200400" y="3886200"/>
            <a:ext cx="0" cy="2743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Rectangle 22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Rectangle 23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Text Box 24"/>
          <p:cNvSpPr/>
          <p:nvPr/>
        </p:nvSpPr>
        <p:spPr>
          <a:xfrm>
            <a:off x="221148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Text Box 26"/>
          <p:cNvSpPr/>
          <p:nvPr/>
        </p:nvSpPr>
        <p:spPr>
          <a:xfrm>
            <a:off x="472608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Text Box 27"/>
          <p:cNvSpPr/>
          <p:nvPr/>
        </p:nvSpPr>
        <p:spPr>
          <a:xfrm>
            <a:off x="4707000" y="6175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Text Box 29"/>
          <p:cNvSpPr/>
          <p:nvPr/>
        </p:nvSpPr>
        <p:spPr>
          <a:xfrm>
            <a:off x="5257800" y="4581360"/>
            <a:ext cx="403848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Times New Roman"/>
              </a:rPr>
              <a:t>1 – Милет (Греция), </a:t>
            </a:r>
            <a:r>
              <a:rPr b="0" lang="en-US" sz="1700" spc="-1" strike="noStrike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ru-RU" sz="1700" spc="-1" strike="noStrike">
                <a:solidFill>
                  <a:srgbClr val="000066"/>
                </a:solidFill>
                <a:latin typeface="Times New Roman"/>
              </a:rPr>
              <a:t> – Тимгад (римская Африка, Алжир),</a:t>
            </a:r>
            <a:endParaRPr b="0" lang="en-US" sz="17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Times New Roman"/>
              </a:rPr>
              <a:t>3</a:t>
            </a:r>
            <a:r>
              <a:rPr b="0" lang="ru-RU" sz="1700" spc="-1" strike="noStrike">
                <a:solidFill>
                  <a:srgbClr val="000066"/>
                </a:solidFill>
                <a:latin typeface="Times New Roman"/>
              </a:rPr>
              <a:t> – Тяньцзинь (Китай)</a:t>
            </a:r>
            <a:endParaRPr b="0" lang="en-US" sz="1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30492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Rectangle 3"/>
          <p:cNvSpPr/>
          <p:nvPr/>
        </p:nvSpPr>
        <p:spPr>
          <a:xfrm flipV="1">
            <a:off x="533520" y="2055600"/>
            <a:ext cx="8076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2209680" y="259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2236680" y="2060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914400" y="304920"/>
            <a:ext cx="7924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2320920" y="99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40" name="Picture 10" descr=""/>
          <p:cNvPicPr/>
          <p:nvPr/>
        </p:nvPicPr>
        <p:blipFill>
          <a:blip r:embed="rId1"/>
          <a:stretch/>
        </p:blipFill>
        <p:spPr>
          <a:xfrm>
            <a:off x="1371600" y="380880"/>
            <a:ext cx="6405480" cy="601200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 flipV="1">
            <a:off x="457200" y="4419360"/>
            <a:ext cx="8077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57200" y="990720"/>
          <a:ext cx="8229600" cy="4808520"/>
        </p:xfrm>
        <a:graphic>
          <a:graphicData uri="http://schemas.openxmlformats.org/drawingml/2006/table">
            <a:tbl>
              <a:tblPr/>
              <a:tblGrid>
                <a:gridCol w="1143000"/>
                <a:gridCol w="914400"/>
                <a:gridCol w="990720"/>
                <a:gridCol w="914400"/>
                <a:gridCol w="1143000"/>
                <a:gridCol w="914400"/>
                <a:gridCol w="1295280"/>
                <a:gridCol w="914400"/>
              </a:tblGrid>
              <a:tr h="33516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00 г.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400 г.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700 г.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900 г.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88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город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населе-ние, тыс.чел.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город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населе-ние, тыс.чел.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город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насе-ление, тыс.чел.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город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населе-ние, тыс.чел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Константи</a:t>
                      </a: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нополь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45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ариж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75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Константи-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нополь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0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Лондон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48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Кордова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5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Милан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25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Лондон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5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ариж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33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евилья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Брюгге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25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ариж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3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Берлин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424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алермо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Венеция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Неаполь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07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Вена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66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Киев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Гренада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Лиссабон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88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.-Петербург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439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Венеция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Генуя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Амстердам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7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Манчестер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255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Регенсбург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рага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5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Рим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49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Бирмингем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248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0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алоники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Каффа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8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Венеция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44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Москва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2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Амалфи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евилья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Москва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3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Глазго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7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Рим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Гент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Милан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24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Ливерпуль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4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Rectangle 120"/>
          <p:cNvSpPr/>
          <p:nvPr/>
        </p:nvSpPr>
        <p:spPr>
          <a:xfrm flipV="1">
            <a:off x="228600" y="456120"/>
            <a:ext cx="8381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Times New Roman"/>
              </a:rPr>
              <a:t>Европейские города в 1000-1900 гг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Rectangle 121"/>
          <p:cNvSpPr/>
          <p:nvPr/>
        </p:nvSpPr>
        <p:spPr>
          <a:xfrm flipV="1">
            <a:off x="380880" y="6094080"/>
            <a:ext cx="838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66"/>
                </a:solidFill>
                <a:latin typeface="Arial"/>
                <a:ea typeface="Arial"/>
              </a:rPr>
              <a:t>Источник;</a:t>
            </a:r>
            <a:r>
              <a:rPr b="0" lang="ru-RU" sz="1400" spc="-1" strike="noStrike">
                <a:solidFill>
                  <a:srgbClr val="000066"/>
                </a:solidFill>
                <a:latin typeface="Arial"/>
                <a:ea typeface="Arial"/>
              </a:rPr>
              <a:t> P.M. Hohenberg and L.H. Lees, </a:t>
            </a:r>
            <a:r>
              <a:rPr b="0" i="1" lang="ru-RU" sz="1400" spc="-1" strike="noStrike">
                <a:solidFill>
                  <a:srgbClr val="000066"/>
                </a:solidFill>
                <a:latin typeface="Arial"/>
                <a:ea typeface="Arial"/>
              </a:rPr>
              <a:t>The Making of Urban Europe WOO-1950</a:t>
            </a:r>
            <a:r>
              <a:rPr b="0" lang="ru-RU" sz="1400" spc="-1" strike="noStrike">
                <a:solidFill>
                  <a:srgbClr val="000066"/>
                </a:solidFill>
                <a:latin typeface="Arial"/>
                <a:ea typeface="Arial"/>
              </a:rPr>
              <a:t> (Cambridge,Mass.. Harvard University Press, 198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32868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32868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0" y="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2666880" y="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Rectangle 7"/>
          <p:cNvSpPr/>
          <p:nvPr/>
        </p:nvSpPr>
        <p:spPr>
          <a:xfrm flipV="1">
            <a:off x="914400" y="531360"/>
            <a:ext cx="7543800" cy="55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К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1000 г.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большинство городов в Западной и Центральной Европе были очень маленькими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рупнейшие города располагались и Византийской империи и мусульманских районах Испании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орода в эпоху феодализма были небольшими, но многочисленными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 XI в. Лондон был крупнейшим городом Англии с населением около 16 тыс. чел. В Англии было еще несколько городов с населением в пределах 5 тыс. чел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 крупнейшем из многочисленных германских городов проживало не больше 40 тыс. человек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 XI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XII вв.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о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живление торговли способствовало росту Венеции, Генуи и Пизы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анировка европейских городов в Средние века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58" name="Object 3"/>
          <p:cNvGraphicFramePr/>
          <p:nvPr/>
        </p:nvGraphicFramePr>
        <p:xfrm>
          <a:off x="457200" y="685800"/>
          <a:ext cx="2133720" cy="19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85800"/>
                    <a:ext cx="2133720" cy="19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0" name="Picture 4" descr="art-i-152"/>
          <p:cNvPicPr/>
          <p:nvPr/>
        </p:nvPicPr>
        <p:blipFill>
          <a:blip r:embed="rId3"/>
          <a:srcRect l="3460" t="0" r="27274" b="0"/>
          <a:stretch/>
        </p:blipFill>
        <p:spPr>
          <a:xfrm>
            <a:off x="2819520" y="685800"/>
            <a:ext cx="2971800" cy="2043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gradostr100"/>
          <p:cNvPicPr/>
          <p:nvPr/>
        </p:nvPicPr>
        <p:blipFill>
          <a:blip r:embed="rId4"/>
          <a:srcRect l="0" t="0" r="0" b="8890"/>
          <a:stretch/>
        </p:blipFill>
        <p:spPr>
          <a:xfrm>
            <a:off x="4648320" y="2978280"/>
            <a:ext cx="4100400" cy="3736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semenov010"/>
          <p:cNvPicPr/>
          <p:nvPr/>
        </p:nvPicPr>
        <p:blipFill>
          <a:blip r:embed="rId5"/>
          <a:srcRect l="0" t="0" r="0" b="14414"/>
          <a:stretch/>
        </p:blipFill>
        <p:spPr>
          <a:xfrm>
            <a:off x="5943600" y="1066680"/>
            <a:ext cx="2971800" cy="16272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8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459000" y="2362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2821320" y="2362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Text Box 12"/>
          <p:cNvSpPr/>
          <p:nvPr/>
        </p:nvSpPr>
        <p:spPr>
          <a:xfrm>
            <a:off x="8307720" y="2362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Text Box 13"/>
          <p:cNvSpPr/>
          <p:nvPr/>
        </p:nvSpPr>
        <p:spPr>
          <a:xfrm>
            <a:off x="4726080" y="2895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Text Box 15"/>
          <p:cNvSpPr/>
          <p:nvPr/>
        </p:nvSpPr>
        <p:spPr>
          <a:xfrm>
            <a:off x="108000" y="4869000"/>
            <a:ext cx="46483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Times New Roman"/>
              </a:rPr>
              <a:t>1 – Нордлинген (Германия), 2 – Аоста (Италия), 3 – Монпазье (Франция), 4 – Каркасон (Франция)</a:t>
            </a:r>
            <a:endParaRPr b="0" lang="en-US" sz="1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1026"/>
          <p:cNvSpPr/>
          <p:nvPr/>
        </p:nvSpPr>
        <p:spPr>
          <a:xfrm>
            <a:off x="2193840" y="19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Text Box 1027"/>
          <p:cNvSpPr/>
          <p:nvPr/>
        </p:nvSpPr>
        <p:spPr>
          <a:xfrm>
            <a:off x="3870360" y="64389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Rectangle 1028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Text Box 1029"/>
          <p:cNvSpPr/>
          <p:nvPr/>
        </p:nvSpPr>
        <p:spPr>
          <a:xfrm>
            <a:off x="3108240" y="-114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Text Box 1030"/>
          <p:cNvSpPr/>
          <p:nvPr/>
        </p:nvSpPr>
        <p:spPr>
          <a:xfrm>
            <a:off x="3657600" y="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Text Box 1031"/>
          <p:cNvSpPr/>
          <p:nvPr/>
        </p:nvSpPr>
        <p:spPr>
          <a:xfrm>
            <a:off x="2575080" y="3695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Rectangle 1032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Rectangle 1033"/>
          <p:cNvSpPr/>
          <p:nvPr/>
        </p:nvSpPr>
        <p:spPr>
          <a:xfrm flipV="1">
            <a:off x="380880" y="369720"/>
            <a:ext cx="8458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 период между XI—XIV вв. набег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варваров сократилось и небольшие оборонительные города постепенно превратились в рыночные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П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ервые города на базе рынков возникли по двум причинам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и 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децентрализации власти в 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феодальной системе средневековые города были вынуждены что-то производить в обмен на сельские товары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при низкой 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оизводительност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сельского труда город должен был торговать с жителями относительно большой территории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 произведенными в нем товарами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6400800" y="-6229440"/>
            <a:ext cx="360" cy="49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4373640" cy="398304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6"/>
          <p:cNvSpPr/>
          <p:nvPr/>
        </p:nvSpPr>
        <p:spPr>
          <a:xfrm>
            <a:off x="0" y="-12351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6400800" y="-6199200"/>
            <a:ext cx="360" cy="49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6" name="Picture 8" descr=""/>
          <p:cNvPicPr/>
          <p:nvPr/>
        </p:nvPicPr>
        <p:blipFill>
          <a:blip r:embed="rId2"/>
          <a:stretch/>
        </p:blipFill>
        <p:spPr>
          <a:xfrm>
            <a:off x="4572000" y="990720"/>
            <a:ext cx="4572000" cy="396720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9"/>
          <p:cNvSpPr/>
          <p:nvPr/>
        </p:nvSpPr>
        <p:spPr>
          <a:xfrm>
            <a:off x="0" y="-1222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Rectangle 10"/>
          <p:cNvSpPr/>
          <p:nvPr/>
        </p:nvSpPr>
        <p:spPr>
          <a:xfrm>
            <a:off x="457200" y="5257800"/>
            <a:ext cx="830592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Arial"/>
              </a:rPr>
              <a:t>KEY 1: armourers; 2: butchers; 3: bakers; 4: beltmakers; 5: money-changers; 6: shoemakers; 7: spice merchants;</a:t>
            </a:r>
            <a:r>
              <a:rPr b="0" lang="ru-RU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Arial"/>
              </a:rPr>
              <a:t>8: needlemakers; 9: fellers; 10: herring merchants; 11: grocers; 12: minters; 13: goldsmiths; 14: cookshops;</a:t>
            </a:r>
            <a:r>
              <a:rPr b="0" lang="ru-RU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15: saddlers; 16: tailors; 17: tanners.</a:t>
            </a:r>
            <a:r>
              <a:rPr b="0" lang="ru-RU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Средневековый Любек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050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Rectangle 2051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Rectangle 2052"/>
          <p:cNvSpPr/>
          <p:nvPr/>
        </p:nvSpPr>
        <p:spPr>
          <a:xfrm flipV="1">
            <a:off x="533520" y="1225080"/>
            <a:ext cx="845820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онкуренция среди средневековых городов способствовала нововведениям в производстве и торговле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С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вершенствовани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е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методов производства и торговли подготовил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о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промышленную революцию XVIII и XIX вв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К 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1400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. Париж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 был 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рупнейши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м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центром торговли и образования, столицей Франции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реди шести крупнейших городов Европы было три итальянских города-государства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1026"/>
          <p:cNvSpPr/>
          <p:nvPr/>
        </p:nvSpPr>
        <p:spPr>
          <a:xfrm>
            <a:off x="2193840" y="19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Text Box 1027"/>
          <p:cNvSpPr/>
          <p:nvPr/>
        </p:nvSpPr>
        <p:spPr>
          <a:xfrm>
            <a:off x="2422440" y="-114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Text Box 1028"/>
          <p:cNvSpPr/>
          <p:nvPr/>
        </p:nvSpPr>
        <p:spPr>
          <a:xfrm>
            <a:off x="4327560" y="-114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Text Box 1029"/>
          <p:cNvSpPr/>
          <p:nvPr/>
        </p:nvSpPr>
        <p:spPr>
          <a:xfrm>
            <a:off x="822240" y="-114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Text Box 1030"/>
          <p:cNvSpPr/>
          <p:nvPr/>
        </p:nvSpPr>
        <p:spPr>
          <a:xfrm>
            <a:off x="4251240" y="2933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Text Box 1031"/>
          <p:cNvSpPr/>
          <p:nvPr/>
        </p:nvSpPr>
        <p:spPr>
          <a:xfrm>
            <a:off x="2727360" y="65912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Rectangle 1032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Rectangle 1033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Rectangle 1034"/>
          <p:cNvSpPr/>
          <p:nvPr/>
        </p:nvSpPr>
        <p:spPr>
          <a:xfrm flipV="1">
            <a:off x="914400" y="38232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Rectangle 1035"/>
          <p:cNvSpPr/>
          <p:nvPr/>
        </p:nvSpPr>
        <p:spPr>
          <a:xfrm>
            <a:off x="152280" y="457200"/>
            <a:ext cx="8991720" cy="61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Условия возникновения индустриального города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Централизация власти привела к централизации исполнения административных и военных функций в королевских городах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Б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ыстрее всего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 стали 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асти города, 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в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которых находился королевский двор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Лондон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 - 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50 тыс.,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еапол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ь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— 240 тыс., Милан - 200 тыс., Париж — 18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O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т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ыс. чел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.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; в число городов с населением порядка 100 тыс. человек входили Рим, Лиссабон, Палермо, Севилья, Антверпен и Амстердам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У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репление власти привело к снятию многих ограничений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, включая местные тарифы,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на торговлю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, а о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еанские плавания привели к открытию новых рынков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Г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рода с речными и морскими портами процветали (Неаполь. Палермо. Лиссабон, Ливерпуль), города внутри стран приходили в упадок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К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1700 г. среди 10 крупнейших городов Европы появилось четыре новых морских порта: Лондон. Неаполь, Лиссабон и Амстердам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533520" y="380880"/>
            <a:ext cx="8076960" cy="64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Существует несколько теорий возникновения городов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Необходимое условие возникновения города заключается в наличии излишков сельскохозяйственной продукции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Роль ирригационных объектов в появлении городов в речных цивилизациях </a:t>
            </a: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 и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HYDRAULIC THEOR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Появлению городов предшествовал ряд крупных достижений в сельскохозяйственном производстве:  культурное земледелие, системы орошения, замена сохи плугом.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Основные характеристики общества этого типа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тенсификация сельского хозяйства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в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влеченность в частичное разделение труда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н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еобходимость кооперации для осуществления крупномасштабных ирригационных проектов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-15228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3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684360" y="549360"/>
            <a:ext cx="7848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В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XVIII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в. города перестают рассматриваться как фортификационные объекты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В России понятие «город» включает в себя прежние торгово-ремесленные слободы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Города начинают проектироваться, как социально-экономические целостности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Их центральную часть вместо военной цитадели зачастую занимают промышленные предприятия – новые «кормильцы» города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С 1763 г. в России утверждается практика обязательного развития всех городов по генеральным планам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026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Rectangle 1027"/>
          <p:cNvSpPr/>
          <p:nvPr/>
        </p:nvSpPr>
        <p:spPr>
          <a:xfrm flipV="1">
            <a:off x="685800" y="1441080"/>
            <a:ext cx="8077320" cy="40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Урбанизация в ходе промышленной революции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До начала XIX в. доля городского населения в мире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оставляла всего лишь около 3%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За период между 1800 и 1970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г. доля населения, проживающего в городах, возросла до 39%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 США доля городского населения увеличилась с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6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% в 1800 г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.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до более 75% в 1990 г.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050"/>
          <p:cNvSpPr/>
          <p:nvPr/>
        </p:nvSpPr>
        <p:spPr>
          <a:xfrm flipV="1">
            <a:off x="838080" y="79056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Rectangle 2051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Rectangle 2052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Rectangle 2053"/>
          <p:cNvSpPr/>
          <p:nvPr/>
        </p:nvSpPr>
        <p:spPr>
          <a:xfrm>
            <a:off x="380880" y="533520"/>
            <a:ext cx="792504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ововведения в ходе промышленной революции можно разделить на четыре области: сельское хозяйство, обрабатывающая промышленность, транспорт и строительство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ововведени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я в сельском хозяйстве: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замен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а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мускульн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ой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сил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ы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простейши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х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оруди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й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труда машинами, нововведения в методах посадки, выращивания, уборки урожая и переработки продукции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 США доля занятых в сельскохозяйственном производстве снизилась с 69%  в 1840 г. до 2,8% в 1988 г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брабатывающая промышленность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:</a:t>
            </a: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озданы новые машины, изготовленные из металла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; н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а смену ручному производству кустарей пришло машинное производство с использованием взаимозаменяемых деталей, паровых машин, а также узких специалистов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050"/>
          <p:cNvSpPr/>
          <p:nvPr/>
        </p:nvSpPr>
        <p:spPr>
          <a:xfrm flipV="1">
            <a:off x="838080" y="38052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Rectangle 2051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Rectangle 2052"/>
          <p:cNvSpPr/>
          <p:nvPr/>
        </p:nvSpPr>
        <p:spPr>
          <a:xfrm>
            <a:off x="2133720" y="6711840"/>
            <a:ext cx="7010280" cy="14616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Rectangle 2053"/>
          <p:cNvSpPr/>
          <p:nvPr/>
        </p:nvSpPr>
        <p:spPr>
          <a:xfrm>
            <a:off x="685800" y="762120"/>
            <a:ext cx="8153280" cy="53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ароход и железная дорога 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пособствовали снижению стоимости перевозки товаров между городами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омышленные города развивались в точках, доступных для междугородной транспортной сети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вдоль рек, позже вдоль железных дорог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ововведения на внутригородском транспорте расширили реальные размеры городов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(конки, трамваи, автомобиль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Автомобиль повысил доступность любого места в городе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орожане могли жить между радиальными линиями, а предприятия размешаться вне центра города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Г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узов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ой автомобильный транспорт 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озволи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л фирма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м размещать свои производства вне центра города.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Увеличился 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абор возможных мест размещения производства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выросло 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еальное городское население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32868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32868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2133720" y="6711840"/>
            <a:ext cx="7010280" cy="14616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2141640" y="-67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533520" y="685800"/>
            <a:ext cx="8153280" cy="33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ововведения в строительстве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пособствовали увеличению площади городов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о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явление легких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тальн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ых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каркас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ов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позволило строить дома повышенной этажности по сравнению с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традиционны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ми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кирпичны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ми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здани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ями (п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ервый небоскреб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–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Чикаго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i="1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I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885 г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.)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оявление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ассажирского лифта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снизило издержки на подъем внутри высоких зданий, что повысило практичность небоскребов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1219320" y="304920"/>
            <a:ext cx="7334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178272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33" name="Picture 6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6927840" cy="4713480"/>
          </a:xfrm>
          <a:prstGeom prst="rect">
            <a:avLst/>
          </a:prstGeom>
          <a:ln w="0">
            <a:noFill/>
          </a:ln>
        </p:spPr>
      </p:pic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 flipV="1">
            <a:off x="304920" y="909000"/>
            <a:ext cx="86104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ослевоенная эра</a:t>
            </a:r>
            <a:r>
              <a:rPr b="1" i="1" lang="ru-RU" sz="2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 1950</a:t>
            </a:r>
            <a:r>
              <a:rPr b="1" i="1" lang="ru-RU" sz="2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. темпы урбанизации замедлились, а в 1970-е годы во многих развитых странах быстрее стали расти не сами города, а ареалы за их пределами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Территориальный разброс производственных предприятий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.</a:t>
            </a:r>
            <a:r>
              <a:rPr b="0" i="1" lang="ru-RU" sz="2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Медленное снижение занятости в сельском хозяйстве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3. </a:t>
            </a:r>
            <a:r>
              <a:rPr b="0" i="1" lang="ru-RU" sz="2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ост в добывающих отраслях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4. Рост в рекреационной сфере и сфере по обслуживанию пенсионеров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Чистый от Фотошопа"/>
          <p:cNvPicPr/>
          <p:nvPr/>
        </p:nvPicPr>
        <p:blipFill>
          <a:blip r:embed="rId1"/>
          <a:stretch/>
        </p:blipFill>
        <p:spPr>
          <a:xfrm>
            <a:off x="2195640" y="765000"/>
            <a:ext cx="6325920" cy="447372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3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5040" y="304920"/>
            <a:ext cx="56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Новые индустриальные города. Тольятти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4524840" y="4384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7213320" y="4689360"/>
            <a:ext cx="35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Б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7351920" y="36226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6603840" y="1565280"/>
            <a:ext cx="3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Г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5640840" y="2819520"/>
            <a:ext cx="38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Д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Text Box 11"/>
          <p:cNvSpPr/>
          <p:nvPr/>
        </p:nvSpPr>
        <p:spPr>
          <a:xfrm>
            <a:off x="2408400" y="6508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Text Box 12"/>
          <p:cNvSpPr/>
          <p:nvPr/>
        </p:nvSpPr>
        <p:spPr>
          <a:xfrm>
            <a:off x="2745000" y="2022480"/>
            <a:ext cx="4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Ж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Text Box 13"/>
          <p:cNvSpPr/>
          <p:nvPr/>
        </p:nvSpPr>
        <p:spPr>
          <a:xfrm>
            <a:off x="0" y="518148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А – местоположение первоначального города Ставрополь (1737), Б – Куйбышевская ГЭС (1950-1957), В – Комсомольск и Шлюзовой (посёлки при ГЭС), Г – предприятия химической промышленности, Д – «Старый город» (Центральный район, его северная часть – частный сектор, 1952), Е – Волжский автозавод (ВАЗ, 1966-1970), Ж – «Новый город» (Автозаводский район, 1967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 flipV="1">
            <a:off x="228600" y="758880"/>
            <a:ext cx="8534520" cy="57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66"/>
                </a:solidFill>
                <a:latin typeface="Times New Roman"/>
              </a:rPr>
              <a:t>Почему растут промышленные города?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В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ыделяют  три причины концентрации рабочих мест в городах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равнительное преимущество (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omparative advantage</a:t>
            </a:r>
            <a:r>
              <a:rPr b="1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 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делает выгодной торговлю между регионами, а межрегиональная торговля вызывает развитие рыночных городов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нутренний эффект масштаба (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internal scale economies</a:t>
            </a:r>
            <a:r>
              <a:rPr b="1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 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оизводства позволяет предприятиям производить товары более эффективно, чем это делают отдельные люди, и производство товаров на предприятиях ведет к развитию промышленных городов.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Эффект </a:t>
            </a:r>
            <a:r>
              <a:rPr b="1" i="1" lang="ru-RU" sz="2200" spc="-1" strike="noStrike">
                <a:solidFill>
                  <a:srgbClr val="000066"/>
                </a:solidFill>
                <a:latin typeface="Times New Roman"/>
              </a:rPr>
              <a:t>агломерации (</a:t>
            </a:r>
            <a:r>
              <a:rPr b="1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онцентрации</a:t>
            </a:r>
            <a:r>
              <a:rPr b="1" i="1" lang="ru-RU" sz="2200" spc="-1" strike="noStrike">
                <a:solidFill>
                  <a:srgbClr val="000066"/>
                </a:solidFill>
                <a:latin typeface="Times New Roman"/>
              </a:rPr>
              <a:t>),</a:t>
            </a:r>
            <a:r>
              <a:rPr b="1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(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gglomerative economies</a:t>
            </a:r>
            <a:r>
              <a:rPr b="1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 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оизводства и маркетинга заставляет фирмы группироваться в городах, и такое скопление вызывает развитие крупных городов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Rectangle 4"/>
          <p:cNvSpPr/>
          <p:nvPr/>
        </p:nvSpPr>
        <p:spPr>
          <a:xfrm flipV="1">
            <a:off x="304920" y="531360"/>
            <a:ext cx="8839080" cy="58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Эффект масштаба на транспорте и торговые города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Times New Roman"/>
              </a:rPr>
              <a:t>К</a:t>
            </a:r>
            <a:r>
              <a:rPr b="1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мбинация сравнительного преимущества и эффекта масштаба на транспорте приводит к развитию города-рынка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ород-рынок развивается потому, что</a:t>
            </a:r>
            <a:r>
              <a:rPr b="1" i="1" lang="ru-RU" sz="22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оизводительность в сельском хозяйстве достаточно высока</a:t>
            </a:r>
            <a:r>
              <a:rPr b="0" i="1" lang="ru-RU" sz="2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для того, чтобы сельскохозяйственные рабочие производили достаточно товаров (продукции) для себя и городских торговцев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азличия в уровнях производительности</a:t>
            </a:r>
            <a:r>
              <a:rPr b="0" i="1" lang="ru-RU" sz="2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достаточно велики, чтобы компенсировать транспортные расходы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66"/>
                </a:solidFill>
                <a:latin typeface="Times New Roman"/>
              </a:rPr>
              <a:t>появление </a:t>
            </a:r>
            <a:r>
              <a:rPr b="0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эффект</a:t>
            </a:r>
            <a:r>
              <a:rPr b="0" i="1" lang="ru-RU" sz="2200" spc="-1" strike="noStrike">
                <a:solidFill>
                  <a:srgbClr val="000066"/>
                </a:solidFill>
                <a:latin typeface="Times New Roman"/>
              </a:rPr>
              <a:t>а</a:t>
            </a:r>
            <a:r>
              <a:rPr b="0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масштаба на транспорт</a:t>
            </a:r>
            <a:r>
              <a:rPr b="0" i="1" lang="ru-RU" sz="2200" spc="-1" strike="noStrike">
                <a:solidFill>
                  <a:srgbClr val="000066"/>
                </a:solidFill>
                <a:latin typeface="Times New Roman"/>
              </a:rPr>
              <a:t>е</a:t>
            </a:r>
            <a:r>
              <a:rPr b="0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делает крупномасштабную торговлю и централизованные рынки эффективными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762120" y="380880"/>
            <a:ext cx="78483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боронительный город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и </a:t>
            </a:r>
            <a:r>
              <a:rPr b="1" i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ILITARY THEORIES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н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еобходимость охраны излишков продовольствия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н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еобходимость совместного проживания для отражения внешних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пасностей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елигиозный город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и </a:t>
            </a:r>
            <a:r>
              <a:rPr b="1" i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RELIGIOUS THEORIES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возникновение массовых религий и появление больших храмов с вождями, жрецами, религиозными рабочими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хранение и защита излишков продовольствия в храмах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концентрация власти в руках религиозной элиты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Торговый город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и </a:t>
            </a:r>
            <a:r>
              <a:rPr b="1" i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CONOMIC THEORY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развитие торговли и появление крупных рынков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Торгово-религиозно-оборонительный город и </a:t>
            </a:r>
            <a:r>
              <a:rPr b="1" i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HEORETICAL CONSENSUS?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2133720" y="6705720"/>
            <a:ext cx="7010280" cy="152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Rectangle 4"/>
          <p:cNvSpPr/>
          <p:nvPr/>
        </p:nvSpPr>
        <p:spPr>
          <a:xfrm flipV="1">
            <a:off x="228600" y="220644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Rectangle 5"/>
          <p:cNvSpPr/>
          <p:nvPr/>
        </p:nvSpPr>
        <p:spPr>
          <a:xfrm flipV="1">
            <a:off x="457200" y="751680"/>
            <a:ext cx="8381880" cy="56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Эффект масштаба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 производства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возрастает по двум причинам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1.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пециализация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труда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пециализация труда повышает производительность потому, что: а} по мере повторения выполняемых операций квалификация работников возрастает;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б) рабочие тратят меньше времени на переключение с одной операции на другую.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. Неделимые производственные факторы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Эффект масштаба и городская территория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: 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город растет вокруг фабрики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Rectangle 4"/>
          <p:cNvSpPr/>
          <p:nvPr/>
        </p:nvSpPr>
        <p:spPr>
          <a:xfrm flipV="1">
            <a:off x="228600" y="220644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Rectangle 5"/>
          <p:cNvSpPr/>
          <p:nvPr/>
        </p:nvSpPr>
        <p:spPr>
          <a:xfrm flipV="1">
            <a:off x="762120" y="752400"/>
            <a:ext cx="838188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Эффект </a:t>
            </a: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агломерации (</a:t>
            </a:r>
            <a:r>
              <a:rPr b="1" i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онцентрации</a:t>
            </a: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1" i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производства</a:t>
            </a:r>
            <a:r>
              <a:rPr b="0" i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– 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объясняет причины появления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крупных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 промышленных городов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уществуют два типа эффекта концентрации: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эффект локализации и эффект урбанизации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 основе эффекта </a:t>
            </a:r>
            <a:r>
              <a:rPr b="1" i="1" lang="ru-RU" sz="2200" spc="-1" strike="noStrike">
                <a:solidFill>
                  <a:srgbClr val="000066"/>
                </a:solidFill>
                <a:latin typeface="Times New Roman"/>
              </a:rPr>
              <a:t>концентра</a:t>
            </a:r>
            <a:r>
              <a:rPr b="1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ции лежат три главные причины: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эффект масштаба производства промежуточных факторов производства,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формирование единого рынка труда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обмен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знани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ями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Rectangle 4"/>
          <p:cNvSpPr/>
          <p:nvPr/>
        </p:nvSpPr>
        <p:spPr>
          <a:xfrm flipV="1">
            <a:off x="228600" y="1595520"/>
            <a:ext cx="861048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Эффект урбанизации отличается от эффекта локализации в двух отношениях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о-первых, </a:t>
            </a:r>
            <a:r>
              <a:rPr b="0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эффект урбанизации появляется в результате роста масштаба экономики всего города, а не только конкретной отрасли.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о-вторых, </a:t>
            </a:r>
            <a:r>
              <a:rPr b="0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эффект урбанизации несет выгоды фирмам всего города, а не только фирмам одной отрасли</a:t>
            </a:r>
            <a:r>
              <a:rPr b="1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914400" y="380880"/>
            <a:ext cx="7924680" cy="60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чаги ранней урбанизации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Месопотамия (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3000-2000 лет до н.э.) – Эриду, Лагаш, Киш, Ур (25 тыс.чел.), Вавилон (50 тыс.чел.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Египет, долина Нила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(3500 лет до н.э.) – Мемфис, Гелиополис, Фивы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орода были меньше и не так плотно заселены как города Месопотамии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еренос столиц каждым новым фараоном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е было необходимости в 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строительстве 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фортификационных сооружени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й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Долина Инда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(2500 лет до н.э.) –Пуньяб и Мохенье-Даро,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две столицы королевства Хараппа на территории современного Пакистана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имерно по 20 тыс.чел.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лощадь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ю по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250 га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Долина Хуанхэ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(1800 лет до н.э.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ородские стены не отделяли города от сельских деревень,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орода были связаны сетью деревень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Мезоамерика 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200 лет до н.э.) – южная часть Ме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ксики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, Гватемала, Белиз, Гондурас (сильн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ая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стратифи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кация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: элита в центре вокруг церквей и дворцов, низшие классы – на периферии).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2133720" y="6705720"/>
            <a:ext cx="7010280" cy="152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246528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32868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32868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2133720" y="6705720"/>
            <a:ext cx="7010280" cy="152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213372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167652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70" name="Picture 8" descr=""/>
          <p:cNvPicPr/>
          <p:nvPr/>
        </p:nvPicPr>
        <p:blipFill>
          <a:blip r:embed="rId1"/>
          <a:stretch/>
        </p:blipFill>
        <p:spPr>
          <a:xfrm>
            <a:off x="684360" y="1197000"/>
            <a:ext cx="7422840" cy="481320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53352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68580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2133720" y="6705720"/>
            <a:ext cx="7010280" cy="152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0" y="914400"/>
            <a:ext cx="784872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1852560" y="191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78" name="Picture 8" descr=""/>
          <p:cNvPicPr/>
          <p:nvPr/>
        </p:nvPicPr>
        <p:blipFill>
          <a:blip r:embed="rId1"/>
          <a:stretch/>
        </p:blipFill>
        <p:spPr>
          <a:xfrm>
            <a:off x="1042920" y="765000"/>
            <a:ext cx="7499520" cy="541656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81" name="Picture 4" descr="art-i-039"/>
          <p:cNvPicPr/>
          <p:nvPr/>
        </p:nvPicPr>
        <p:blipFill>
          <a:blip r:embed="rId1"/>
          <a:srcRect l="0" t="0" r="17124" b="0"/>
          <a:stretch/>
        </p:blipFill>
        <p:spPr>
          <a:xfrm>
            <a:off x="228600" y="685800"/>
            <a:ext cx="5562720" cy="410364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7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2133720" y="6705720"/>
            <a:ext cx="7010280" cy="152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2819520" y="487692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Планировочные схемы древних поселений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138240" y="727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1906920" y="762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4040280" y="762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" name="Text Box 13"/>
          <p:cNvSpPr/>
          <p:nvPr/>
        </p:nvSpPr>
        <p:spPr>
          <a:xfrm>
            <a:off x="1382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1967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Text Box 15"/>
          <p:cNvSpPr/>
          <p:nvPr/>
        </p:nvSpPr>
        <p:spPr>
          <a:xfrm>
            <a:off x="394812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Text Box 19"/>
          <p:cNvSpPr/>
          <p:nvPr/>
        </p:nvSpPr>
        <p:spPr>
          <a:xfrm>
            <a:off x="2666880" y="5257800"/>
            <a:ext cx="647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1 – Кастелаццо (Италия), 2 – индийское поселение типа Нандиаварта, 3 – Кой-Крылган-Кала (Хорезм), 4 – норманнская крепость (Дания), 5 – индийское поселение типа Падмака, 6 – Топрак-Кала (Хорезм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2133720" y="6705720"/>
            <a:ext cx="7010280" cy="152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1332000" y="1022400"/>
            <a:ext cx="5832360" cy="46400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4"/>
          <p:cNvSpPr/>
          <p:nvPr/>
        </p:nvSpPr>
        <p:spPr>
          <a:xfrm>
            <a:off x="380880" y="60958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 – культовые сооружения; </a:t>
            </a:r>
            <a:r>
              <a:rPr b="1" i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-  жилая зона; </a:t>
            </a:r>
            <a:r>
              <a:rPr b="1" i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,</a:t>
            </a:r>
            <a:r>
              <a:rPr b="1" i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B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– гавани; </a:t>
            </a:r>
            <a:r>
              <a:rPr b="1" i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X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</a:t>
            </a:r>
            <a:r>
              <a:rPr b="1" i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Y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улица</a:t>
            </a:r>
            <a:r>
              <a:rPr b="1" i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ремесленников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2119320" y="19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7342200" cy="475164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4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762120" y="609588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ource: After G. Sjoberg (1960) The Pre-industrial City New York: Free Press</a:t>
            </a:r>
            <a:r>
              <a:rPr b="0" i="1" lang="ru-RU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609480" y="59436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6:51:38Z</dcterms:created>
  <dc:creator>Everton</dc:creator>
  <dc:description/>
  <dc:language>en-US</dc:language>
  <cp:lastModifiedBy>LEGION</cp:lastModifiedBy>
  <dcterms:modified xsi:type="dcterms:W3CDTF">2016-01-04T14:02:32Z</dcterms:modified>
  <cp:revision>109</cp:revision>
  <dc:subject/>
  <dc:title>Генезис и развитие городов</dc:title>
</cp:coreProperties>
</file>