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33ED-6A4C-4DE8-914E-38CD7F4861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зис и развитие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зис и развитие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0igr.ne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ширение урб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еческие гор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и городами были Афины (около 150 тыс. чел.) и Спарта (40 тыс. 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ая волна создания городов-колоний – побережье Ионического моря, вторая – Черного моря. В 500 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городов была адаптирована к прямоугольной решетке, независимо от топографии мест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Римской импе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 городом был Рим (свыше 1 млн. 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мляне основали свои колонии-поселения, расширив практику строительства городов, имевших прямоугольную планиров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ширение урбаниза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еческие город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и городами были Афины (около 150 тыс. чел.) и Спарта (40 тыс. 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ая волна создания городов-колоний – побережье Ионического моря, вторая – Черного моря. В 500 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городов была адаптирована к прямоугольной решетке, независимо от топографии местност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Римской импер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 городом был Рим (свыше 1 млн. 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мляне основали свои колонии-поселения, расширив практику строительства городов, имевших прямоугольную планировку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 Кит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Милет (Греция), 2 – Тимгад (римская Африка, Алжир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– Тяньцзинь (Кита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 Китая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Милет (Греция), 2 – Тимгад (римская Африка, Алжир),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– Тяньцзинь (Китай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Европейские города в 1000-1900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сточник;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.M. Hohenberg and L.H. Lees, The Making of Urban Europe WOO-1950 (Cambridge,Mass.. Harvard University Press, 19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ие города в 1000-1900 гг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;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.M. Hohenberg and L.H. Lees, The Making of Urban Europe WOO-1950 (Cambridge,Mass.. Harvard University Press, 198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000 г. большинство городов в Западной и Центральной Европе были очень маленьки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в эпоху феодализма были небольшими, но многочислен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-XII вв. оживление торговли способствовало росту Венеции, Генуи и Пи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000 г. большинство городов в Западной и Центральной Европе были очень маленьки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в эпоху феодализма были небольшими, но многочисленны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-XII вв. оживление торговли способствовало росту Венеции, Генуи и Пиз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риод между XI—XIV вв. набеги варваров сократилось и небольшие оборонительные города постепенно превратились в рыноч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е города на базе рынков возникли по двум причин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децентрализации власти в феодальной системе средневековые города были вынуждены что-то производить в обмен на сельские товар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низкой производительности сельского труда город должен был торговать с жителями относительно большой территории произведенными в нем товар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риод между XI—XIV вв. набеги варваров сократилось и небольшие оборонительные города постепенно превратились в рыночны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е города на базе рынков возникли по двум причинам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децентрализации власти в феодальной системе средневековые города были вынуждены что-то производить в обмен на сельские товары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низкой производительности сельского труда город должен был торговать с жителями относительно большой территории произведенными в нем товарам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EY 1: armourers; 2: butchers; 3: bakers; 4: beltmakers; 5: money-changers; 6: shoemakers; 7: spice merchants; 8: needlemakers; 9: fellers; 10: herring merchants; 11: grocers; 12: minters; 13: goldsmiths; 14: cookshops; 15: saddlers; 16: tailors; 17: tann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редневековый Люб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EY 1: armourers; 2: butchers; 3: bakers; 4: beltmakers; 5: money-changers; 6: shoemakers; 7: spice merchants; 8: needlemakers; 9: fellers; 10: herring merchants; 11: grocers; 12: minters; 13: goldsmiths; 14: cookshops; 15: saddlers; 16: tailors; 17: tanners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евековый Любе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ствование методов производства и торговли подготовило промышленную революцию XVIII и XIX в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400 г. Париж был крупнейшим центром торговли и образования, столицей Фран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ствование методов производства и торговли подготовило промышленную революцию XVIII и XIX вв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400 г. Париж был крупнейшим центром торговли и образования, столицей Франци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всего стали расти города, в которых находился королевский двор (Лондон - 250 тыс., Неаполь — 240 тыс., Милан - 200 тыс., Париж — 18O тыс. чел.; в число городов с населением порядка 100 тыс. человек входили Рим, Лиссабон, Палермо, Севилья, Антверпен и Амстерда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епление власти привело к снятию многих ограничений, включая местные тарифы,  на торговлю, а океанские плавания привели к открытию новых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всего стали расти города, в которых находился королевский двор (Лондон - 250 тыс., Неаполь — 240 тыс., Милан - 200 тыс., Париж — 18O тыс. чел.; в число городов с населением порядка 100 тыс. человек входили Рим, Лиссабон, Палермо, Севилья, Антверпен и Амстердам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епление власти привело к снятию многих ограничений, включая местные тарифы,  на торговлю, а океанские плавания привели к открытию новых рын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ирригационных объектов в появлении городов в речных цивилизациях  и HYDRAUL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общества этого тип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нсификация сельского хозяй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 в частичное разделение тру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кооперации для осуществления крупномасштабных ирригационных проек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ирригационных объектов в появлении городов в речных цивилизациях  и HYDRAULIC THEORY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общества этого типа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нсификация сельского хозяйств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 в частичное разделение труд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кооперации для осуществления крупномасштабных ирригационных проектов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VIII в. города перестают рассматриваться как фортификационные объект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VIII в. города перестают рассматриваться как фортификационные объекты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банизация в ходе промышленной револю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начала XIX в. доля городского населения в мире составляла всего лишь около 3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ериод между 1800 и 1970 гг. доля населения, проживающего в городах, возросла до 39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городского населения увеличилась с 6% в 1800 г. до более 75% в 1990 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банизация в ходе промышленной революц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начала XIX в. доля городского населения в мире составляла всего лишь около 3%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ериод между 1800 и 1970 гг. доля населения, проживающего в городах, возросла до 39%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городского населения увеличилась с 6% в 1800 г. до более 75% в 1990 г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ельском хозяйстве: замена мускульной силы и простейших орудий труда машинами, нововведения в методах посадки, выращивания, уборки урожая и переработки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занятых в сельскохозяйственном производстве снизилась с 69%  в 1840 г. до 2,8% в 1988 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батывающая промышленность: созданы новые машины, изготовленные из металла; н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ельском хозяйстве: замена мускульной силы и простейших орудий труда машинами, нововведения в методах посадки, выращивания, уборки урожая и переработки продукци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занятых в сельскохозяйственном производстве снизилась с 69%  в 1840 г. до 2,8% в 1988 г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батывающая промышленность: созданы новые машины, изготовленные из металла; н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оход и железная дорога способствовали снижению стоимости перевозки товаров между гор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ые города развивались в точках, доступных для междугородной транспортной сети (вдоль рек, позже вдоль железных доро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на внутригородском транспорте расширили реальные размеры городов (конки, трамваи, автомоби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ь повысил доступность любого места в гор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жане могли жить между радиальными линиями, а предприятия размешаться вне центра гор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зовой автомобильный транспорт позволил фирмам размещать свои производства вне центра горо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лся набор возможных мест размещения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осло реальное городское насе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оход и железная дорога способствовали снижению стоимости перевозки товаров между города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ые города развивались в точках, доступных для междугородной транспортной сети (вдоль рек, позже вдоль железных дорог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на внутригородском транспорте расширили реальные размеры городов (конки, трамваи, автомобиль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ь повысил доступность любого места в городе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жане могли жить между радиальными линиями, а предприятия размешаться вне центра город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зовой автомобильный транспорт позволил фирмам размещать свои производства вне центра города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лся набор возможных мест размещения производств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осло реальное городское населени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троительстве способствовали увеличению площади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легких стальных каркасов позволило строить дома повышенной этажности по сравнению с традиционными кирпичными зданиями (первый небоскреб – Чикаго, I885 г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пассажирского лифта снизило издержки на подъем внутри высоких зданий, что повысило практичность небоскреб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троительстве способствовали увеличению площади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легких стальных каркасов позволило строить дома повышенной этажности по сравнению с традиционными кирпичными зданиями (первый небоскреб – Чикаго, I885 г.)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пассажирского лифта снизило издержки на подъем внутри высоких зданий, что повысило практичность небоскреб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военная э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950 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й разброс производственных предпри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ленное снижение занятости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в добывающих отрасля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ост в рекреационной сфере и сфере по обслуживанию пенсио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военная эр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950 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й разброс производственных предприятий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ленное снижение занятости в сельском хозяйств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в добывающих отрасля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ост в рекреационной сфере и сфере по обслуживанию пенсионер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индустриальные города. Тольят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индустриальные города. Тольятт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растут промышленные город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 три причины концентрации рабочих мест в город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ительное преимущество (comparative advantage) делает выгодной торговлю между регионами, а межрегиональная торговля вызывает развитие рыночных гор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енний эффект масштаба (internal scale economies) 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, (agglomerative economies) 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растут промышленные города?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 три причины концентрации рабочих мест в города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ительное преимущество (comparative advantage) делает выгодной торговлю между регионами, а межрегиональная торговля вызывает развитие рыночных городов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енний эффект масштаба (internal scale economies) 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, (agglomerative economies) 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на транспорте и торговые г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бинация сравнительного преимущества и эффекта масштаба на транспорте приводит к развитию города-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-рынок развивается потому, ч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ь в сельском хозяйстве достаточно высока 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уровнях производительности достаточно велики, чтобы компенсировать транспортные 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эффекта масштаба на транспорте делает крупномасштабную торговлю и централизованные рынки эффектив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на транспорте и торговые горо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бинация сравнительного преимущества и эффекта масштаба на транспорте приводит к развитию города-рын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-рынок развивается потому, что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ь в сельском хозяйстве достаточно высока 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уровнях производительности достаточно велики, чтобы компенсировать транспортные расход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эффекта масштаба на транспорте делает крупномасштабную торговлю и централизованные рынки эффективны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онительный город и MILITARY THE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охраны излишков продоволь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совместного проживания для отражения внешних опасност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лигиозный город и RELIGIOUS THE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ый город и ECONOMIC THE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о-религиозно-оборонительный город и THEORETICAL CONSENSU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онительный город и MILITARY THEORIE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охраны излишков продовольствия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совместного проживания для отражения внешних опасностей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лигиозный город и RELIGIOUS THEORIE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ый город и ECONOMIC THEORY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о-религиозно-оборонительный город и THEORETICAL CONSENSUS?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возрастает по двум причин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Специализация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рабочие тратят меньше времени на переключение с одной операции на другу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Неделимые производственные факто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и городская территория: город растет вокруг фабр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возрастает по двум причинам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Специализация тру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рабочие тратят меньше времени на переключение с одной операции на другую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Неделимые производственные факторы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и городская территория: город растет вокруг фабрик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 производства – объясняет причины появления крупных промышленных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два типа эффекта концентрац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локализации и эффект урбаниза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эффекта концентрации лежат три главные причин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промежуточных факторов производств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единого рынка тру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 зна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 производства – объясняет причины появления крупных промышленных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два типа эффекта концентрации: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локализации и эффект урбанизац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эффекта концентрации лежат три главные причины: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промежуточных факторов производства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единого рынка труда,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 знаниям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эффект урбанизации несет выгоды фирмам всего города, а не только фирмам одной отра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эффект урбанизации несет выгоды фирмам всего города, а не только фирмам одной отрасл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аги ранней урб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опотамия (3000-2000 лет до н.э.) – Эриду, Лагаш, Киш, Ур (25 тыс.чел.), Вавилон (50 тыс.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ипет, долина Нила (3500 лет до н.э.) – Мемфис, Гелиополис, Фив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меньше и не так плотно заселены как города Месопотамии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еренос столиц каждым новым фараоном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было необходимости в строительстве фортификационных сооружен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Инда (2500 лет до н.э.) –Пуньяб и Мохенье-Даро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е столицы королевства Хараппа на территории современного Пакист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но по 20 тыс.чел. площадью по 250 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Хуанхэ (1800 лет до н.э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ие стены не отделяли города от сельских деревен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связаны сетью дере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зоамерика (200 лет до н.э.) – южная часть Мексики, Гватемала, Белиз, Гондурас (сильная стратификация: элита в центре вокруг церквей и дворцов, низшие классы – на перифери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аги ранней урбаниза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опотамия (3000-2000 лет до н.э.) – Эриду, Лагаш, Киш, Ур (25 тыс.чел.), Вавилон (50 тыс.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ипет, долина Нила (3500 лет до н.э.) – Мемфис, Гелиополис, Фивы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меньше и не так плотно заселены как города Месопотамии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еренос столиц каждым новым фараоном;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было необходимости в строительстве фортификационных сооружений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Инда (2500 лет до н.э.) –Пуньяб и Мохенье-Даро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е столицы королевства Хараппа на территории современного Пакистан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но по 20 тыс.чел. площадью по 250 г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Хуанхэ (1800 лет до н.э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ие стены не отделяли города от сельских деревень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связаны сетью деревень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зоамерика (200 лет до н.э.) – южная часть Мексики, Гватемала, Белиз, Гондурас (сильная стратификация: элита в центре вокруг церквей и дворцов, низшие классы – на периферии)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хемы древних посел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хемы древних поселений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– культовые сооружения; D -  жилая зона; A,B – гавани; X-Y- улица ремеслен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– культовые сооружения; D -  жилая зона; A,B – гавани; X-Y- улица ремесленни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After G. Sjoberg (1960) The Pre-industrial City New York: Free Pr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After G. Sjoberg (1960) The Pre-industrial City New York: Free Pres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2EE-B0B0-4A84-9052-2E80BE2F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9056-C713-4548-9DC7-B95FC451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B36-E383-448B-90CC-B2480905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023B-A9A4-40C0-A14B-9ADC8B59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7036-8935-4C6B-B2C9-398659CA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0D4-7207-4329-AA06-BE9665EC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B7B0-A837-480F-AE16-3AA5CFCC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F328-4E95-4C23-AEC8-2A07F5CF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AA34-B0B5-484D-BC44-C475DA1A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701F-6A9F-42A0-ACE7-20916412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CD4-86D1-4AC6-92F4-883B7842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34DD-E704-4C3E-8FD0-854772A0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6990-772C-4D92-8D67-72DC0B97B8A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6"/>
          <p:cNvSpPr/>
          <p:nvPr/>
        </p:nvSpPr>
        <p:spPr>
          <a:xfrm>
            <a:off x="152280" y="2868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Генезис и развитие городов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Rectangle 1027"/>
          <p:cNvSpPr/>
          <p:nvPr/>
        </p:nvSpPr>
        <p:spPr>
          <a:xfrm>
            <a:off x="152280" y="5952960"/>
            <a:ext cx="5410440" cy="501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Rectangle 1028"/>
          <p:cNvSpPr/>
          <p:nvPr/>
        </p:nvSpPr>
        <p:spPr>
          <a:xfrm>
            <a:off x="0" y="0"/>
            <a:ext cx="6553080" cy="287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00484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09480" y="380880"/>
            <a:ext cx="838224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ширение урбанизации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ческие города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ми городами были Афины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(о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ло 150 тыс. чел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.)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 Спарта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0 тыс. чел.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рвая волна создания городов-колоний – побережье Ионического моря, вторая – Черного моря. В 500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ланир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овка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городов была адаптирована к прямоугольной решетке, независимо от топографии местност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Римской империи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упнейшим городом был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им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выше 1 млн. чел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мляне основали свои колонии-поселения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, расширив практику строительства городов, имевших прямоугольную планировку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228600" y="304920"/>
            <a:ext cx="9372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тая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250920" y="907920"/>
          <a:ext cx="2342880" cy="37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234288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6" descr="art-i-091"/>
          <p:cNvPicPr/>
          <p:nvPr/>
        </p:nvPicPr>
        <p:blipFill>
          <a:blip r:embed="rId3"/>
          <a:srcRect l="6702" t="0" r="23203" b="6870"/>
          <a:stretch/>
        </p:blipFill>
        <p:spPr>
          <a:xfrm>
            <a:off x="4788000" y="1052640"/>
            <a:ext cx="2340000" cy="2684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art-i-187"/>
          <p:cNvPicPr/>
          <p:nvPr/>
        </p:nvPicPr>
        <p:blipFill>
          <a:blip r:embed="rId4"/>
          <a:srcRect l="24586" t="13009" r="40640" b="6073"/>
          <a:stretch/>
        </p:blipFill>
        <p:spPr>
          <a:xfrm>
            <a:off x="3203640" y="3933720"/>
            <a:ext cx="1984320" cy="2670120"/>
          </a:xfrm>
          <a:prstGeom prst="rect">
            <a:avLst/>
          </a:prstGeom>
          <a:ln w="0">
            <a:noFill/>
          </a:ln>
        </p:spPr>
      </p:pic>
      <p:sp>
        <p:nvSpPr>
          <p:cNvPr id="116" name="Line 8"/>
          <p:cNvSpPr/>
          <p:nvPr/>
        </p:nvSpPr>
        <p:spPr>
          <a:xfrm>
            <a:off x="2666880" y="6858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4952880" y="6858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2666880" y="3276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4876920" y="3657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3200400" y="662940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5181480" y="66294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5257800" y="3886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Line 20"/>
          <p:cNvSpPr/>
          <p:nvPr/>
        </p:nvSpPr>
        <p:spPr>
          <a:xfrm flipH="1">
            <a:off x="3200040" y="388620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3200400" y="3886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22114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72608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707000" y="617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5257800" y="4581360"/>
            <a:ext cx="4038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1 – Милет (Греция), </a:t>
            </a:r>
            <a:r>
              <a:rPr b="0" lang="en-US" sz="17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 – Тимгад (римская Африка, Алжир),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 – Тяньцзинь (Китай)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0492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 flipV="1">
            <a:off x="533520" y="2055600"/>
            <a:ext cx="8076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0968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236680" y="2060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914400" y="3049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320920" y="9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05480" cy="6012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 flipV="1">
            <a:off x="457200" y="4419360"/>
            <a:ext cx="8077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990720"/>
          <a:ext cx="8229600" cy="480852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990720"/>
                <a:gridCol w="914400"/>
                <a:gridCol w="1143000"/>
                <a:gridCol w="914400"/>
                <a:gridCol w="1295280"/>
                <a:gridCol w="914400"/>
              </a:tblGrid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9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-ле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Константи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но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нстанти-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о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онд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48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рдо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ила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онд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3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виль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рюгге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ерли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42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лермо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еа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6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иев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ренад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иссаб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.-Петербург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3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ну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Амстерда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анчестер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егенсбург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аг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и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ирминге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4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алоники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афф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2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Амалфи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виль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лазго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7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и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нт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ила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иверпу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120"/>
          <p:cNvSpPr/>
          <p:nvPr/>
        </p:nvSpPr>
        <p:spPr>
          <a:xfrm flipV="1">
            <a:off x="228600" y="456120"/>
            <a:ext cx="838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Европейские города в 1000-1900 гг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Rectangle 121"/>
          <p:cNvSpPr/>
          <p:nvPr/>
        </p:nvSpPr>
        <p:spPr>
          <a:xfrm flipV="1">
            <a:off x="380880" y="6094080"/>
            <a:ext cx="838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Источник;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 P.M. Hohenberg and L.H. Lees, </a:t>
            </a:r>
            <a:r>
              <a:rPr b="0" i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The Making of Urban Europe WOO-1950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 (Cambridge,Mass.. Harvard University Press, 198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66688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 flipV="1">
            <a:off x="914400" y="531360"/>
            <a:ext cx="754380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000 г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большинство городов в Западной и Центральной Европе были очень маленькими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в эпоху феодализма были небольшими, но многочисленным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XI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XII вв.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живление торговли способствовало росту Венеции, Генуи и Пизы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8" name="Object 3"/>
          <p:cNvGraphicFramePr/>
          <p:nvPr/>
        </p:nvGraphicFramePr>
        <p:xfrm>
          <a:off x="457200" y="685800"/>
          <a:ext cx="2133720" cy="19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213372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4" descr="art-i-152"/>
          <p:cNvPicPr/>
          <p:nvPr/>
        </p:nvPicPr>
        <p:blipFill>
          <a:blip r:embed="rId3"/>
          <a:srcRect l="3460" t="0" r="27274" b="0"/>
          <a:stretch/>
        </p:blipFill>
        <p:spPr>
          <a:xfrm>
            <a:off x="2819520" y="685800"/>
            <a:ext cx="2971800" cy="204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gradostr100"/>
          <p:cNvPicPr/>
          <p:nvPr/>
        </p:nvPicPr>
        <p:blipFill>
          <a:blip r:embed="rId4"/>
          <a:srcRect l="0" t="0" r="0" b="8890"/>
          <a:stretch/>
        </p:blipFill>
        <p:spPr>
          <a:xfrm>
            <a:off x="4648320" y="2978280"/>
            <a:ext cx="4100400" cy="3736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semenov010"/>
          <p:cNvPicPr/>
          <p:nvPr/>
        </p:nvPicPr>
        <p:blipFill>
          <a:blip r:embed="rId5"/>
          <a:srcRect l="0" t="0" r="0" b="14414"/>
          <a:stretch/>
        </p:blipFill>
        <p:spPr>
          <a:xfrm>
            <a:off x="5943600" y="1066680"/>
            <a:ext cx="2971800" cy="16272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4590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28213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83077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47260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08000" y="4869000"/>
            <a:ext cx="46483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026"/>
          <p:cNvSpPr/>
          <p:nvPr/>
        </p:nvSpPr>
        <p:spPr>
          <a:xfrm>
            <a:off x="2193840" y="19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1027"/>
          <p:cNvSpPr/>
          <p:nvPr/>
        </p:nvSpPr>
        <p:spPr>
          <a:xfrm>
            <a:off x="3870360" y="64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Rectangle 1028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1029"/>
          <p:cNvSpPr/>
          <p:nvPr/>
        </p:nvSpPr>
        <p:spPr>
          <a:xfrm>
            <a:off x="31082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1030"/>
          <p:cNvSpPr/>
          <p:nvPr/>
        </p:nvSpPr>
        <p:spPr>
          <a:xfrm>
            <a:off x="365760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Text Box 1031"/>
          <p:cNvSpPr/>
          <p:nvPr/>
        </p:nvSpPr>
        <p:spPr>
          <a:xfrm>
            <a:off x="257508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Rectangle 103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Rectangle 1033"/>
          <p:cNvSpPr/>
          <p:nvPr/>
        </p:nvSpPr>
        <p:spPr>
          <a:xfrm flipV="1">
            <a:off x="380880" y="36972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период между XI—XIV вв. набе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арваров сократилось и небольшие оборонительные города постепенно превратились в рыночные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П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рвые города на базе рынков возникли по двум причинам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децентрализации власти в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еодальной системе средневековые города были вынуждены что-то производить в обмен на сельские товары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при низкой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ительност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ельского труда город должен был торговать с жителями относительно большой территори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произведенными в нем товарам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400800" y="-6229440"/>
            <a:ext cx="36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373640" cy="39830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0" y="-1235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6400800" y="-6199200"/>
            <a:ext cx="360" cy="49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572000" cy="39672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9"/>
          <p:cNvSpPr/>
          <p:nvPr/>
        </p:nvSpPr>
        <p:spPr>
          <a:xfrm>
            <a:off x="0" y="-1222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57200" y="5257800"/>
            <a:ext cx="83059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KEY 1: armourers; 2: butchers; 3: bakers; 4: beltmakers; 5: money-changers; 6: shoemakers; 7: spice merchants;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8: needlemakers; 9: fellers; 10: herring merchants; 11: grocers; 12: minters; 13: goldsmiths; 14: cookshops;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5: saddlers; 16: tailors; 17: tanners.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редневековый Любек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050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2052"/>
          <p:cNvSpPr/>
          <p:nvPr/>
        </p:nvSpPr>
        <p:spPr>
          <a:xfrm flipV="1">
            <a:off x="533520" y="1225080"/>
            <a:ext cx="84582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вершенствован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етодов производства и торговли подготовил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о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мышленную революцию XVIII и XIX вв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К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400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Париж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был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м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центром торговли и образования, столицей Франци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026"/>
          <p:cNvSpPr/>
          <p:nvPr/>
        </p:nvSpPr>
        <p:spPr>
          <a:xfrm>
            <a:off x="2193840" y="19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1027"/>
          <p:cNvSpPr/>
          <p:nvPr/>
        </p:nvSpPr>
        <p:spPr>
          <a:xfrm>
            <a:off x="24224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4327560" y="-11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1029"/>
          <p:cNvSpPr/>
          <p:nvPr/>
        </p:nvSpPr>
        <p:spPr>
          <a:xfrm>
            <a:off x="8222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1030"/>
          <p:cNvSpPr/>
          <p:nvPr/>
        </p:nvSpPr>
        <p:spPr>
          <a:xfrm>
            <a:off x="4251240" y="2933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1031"/>
          <p:cNvSpPr/>
          <p:nvPr/>
        </p:nvSpPr>
        <p:spPr>
          <a:xfrm>
            <a:off x="2727360" y="6591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Rectangle 1032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Rectangle 103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Rectangle 1034"/>
          <p:cNvSpPr/>
          <p:nvPr/>
        </p:nvSpPr>
        <p:spPr>
          <a:xfrm flipV="1">
            <a:off x="914400" y="3823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Rectangle 1035"/>
          <p:cNvSpPr/>
          <p:nvPr/>
        </p:nvSpPr>
        <p:spPr>
          <a:xfrm>
            <a:off x="152280" y="457200"/>
            <a:ext cx="8991720" cy="61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Б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стрее всего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стали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ти города,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оторых находился королевский двор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ондон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50 тыс.,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апол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ь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— 240 тыс., Милан - 200 тыс., Париж — 18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с. чел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 в число городов с населением порядка 100 тыс. человек входили Рим, Лиссабон, Палермо, Севилья, Антверпен и Амстердам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епление власти привело к снятию многих ограничений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включая местные тарифы,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на торговлю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а 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еанские плавания привели к открытию новых рынк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533520" y="380880"/>
            <a:ext cx="807696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Роль ирригационных объектов в появлении городов в речных цивилизациях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YDRAULIC THEO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сновные характеристики общества этого типа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тенсификация сельского хозяйства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влеченность в частичное разделение труда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еобходимость кооперации для осуществления крупномасштабных ирригационных проектов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-15228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84360" y="54936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VIII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. города перестают рассматриваться как фортификационные объекты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2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Rectangle 1027"/>
          <p:cNvSpPr/>
          <p:nvPr/>
        </p:nvSpPr>
        <p:spPr>
          <a:xfrm flipV="1">
            <a:off x="685800" y="1441080"/>
            <a:ext cx="807732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рбанизация в ходе промышленной революци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 начала XIX в. доля городского населения в мире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ставляла всего лишь около 3%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 период между 1800 и 1970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г. доля населения, проживающего в городах, возросла до 39%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США доля городского населения увеличилась с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% в 1800 г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до более 75% в 1990 г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050"/>
          <p:cNvSpPr/>
          <p:nvPr/>
        </p:nvSpPr>
        <p:spPr>
          <a:xfrm flipV="1">
            <a:off x="838080" y="79056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Rectangle 2052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Rectangle 2053"/>
          <p:cNvSpPr/>
          <p:nvPr/>
        </p:nvSpPr>
        <p:spPr>
          <a:xfrm>
            <a:off x="380880" y="533520"/>
            <a:ext cx="79250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я в сельском хозяйстве: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ме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ускуль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ой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ил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ы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стейш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х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оруд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й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труда машинами, нововведения в методах посадки, выращивания, уборки урожая и переработки продукции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США доля занятых в сельскохозяйственном производстве снизилась с 69%  в 1840 г. до 2,8% в 1988 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рабатывающая промышленность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зданы новые машины, изготовленные из металл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 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050"/>
          <p:cNvSpPr/>
          <p:nvPr/>
        </p:nvSpPr>
        <p:spPr>
          <a:xfrm flipV="1">
            <a:off x="838080" y="380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Rectangle 2052"/>
          <p:cNvSpPr/>
          <p:nvPr/>
        </p:nvSpPr>
        <p:spPr>
          <a:xfrm>
            <a:off x="2133720" y="6711840"/>
            <a:ext cx="7010280" cy="146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Rectangle 2053"/>
          <p:cNvSpPr/>
          <p:nvPr/>
        </p:nvSpPr>
        <p:spPr>
          <a:xfrm>
            <a:off x="685800" y="762120"/>
            <a:ext cx="815328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роход и железная дорога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ствовали снижению стоимости перевозки товаров между городам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мышленные города развивались в точках, доступных для междугородной транспортной сети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доль рек, позже вдоль железных дорог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на внутригородском транспорте расширили реальные размеры городов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(конки, трамваи, автомобиль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втомобиль повысил доступность любого места в городе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жане могли жить между радиальными линиями, а предприятия размешаться вне центра города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узов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ой автомобильный транспорт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звол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л фирм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 размещать свои производства вне центра города.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Увеличился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бор возможных мест размещения производств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ыросло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альное городское население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2133720" y="6711840"/>
            <a:ext cx="7010280" cy="146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2141640" y="-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533520" y="685800"/>
            <a:ext cx="81532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в строительстве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ствовали увеличению площади город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явление легких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альн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ых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аркас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ов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позволило строить дома повышенной этажности по сравнению с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радиционны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м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ирпичны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м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здан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ями (п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рвый небоскреб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икаг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85 г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.)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явление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ссажирского лифта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низило издержки на подъем внутри высоких зданий, что повысило практичность небоскреб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219320" y="304920"/>
            <a:ext cx="733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7827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927840" cy="471348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 flipV="1">
            <a:off x="304920" y="909000"/>
            <a:ext cx="861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слевоенная эра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1950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рриториальный разброс производственных предприятий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дленное снижение занятости в сельском хозяйстве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ост в добывающих отраслях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Рост в рекреационной сфере и сфере по обслуживанию пенсионеров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Чистый от Фотошопа"/>
          <p:cNvPicPr/>
          <p:nvPr/>
        </p:nvPicPr>
        <p:blipFill>
          <a:blip r:embed="rId1"/>
          <a:stretch/>
        </p:blipFill>
        <p:spPr>
          <a:xfrm>
            <a:off x="2195640" y="765000"/>
            <a:ext cx="6325920" cy="44737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5040" y="30492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овые индустриальные города. Тольятт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524840" y="438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7213320" y="468936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7351920" y="362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603840" y="15652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640840" y="281952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408400" y="650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2745000" y="202248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Ж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0" y="51814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 flipV="1">
            <a:off x="228600" y="758880"/>
            <a:ext cx="853452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Почему растут промышленные города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деляют  три причины концентрации рабочих мест в городах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равнительное преимущество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mparative advantage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елает выгодной торговлю между регионами, а межрегиональная торговля вызывает развитие рыночных городов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нутренний эффект масштаба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ternal scale economies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агломерации (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центрации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),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gglomerative economies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 flipV="1">
            <a:off x="304920" y="531360"/>
            <a:ext cx="883908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на транспорте и торговые горо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мбинация сравнительного преимущества и эффекта масштаба на транспорте приводит к развитию города-рынка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-рынок развивается потому, что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ительность в сельском хозяйстве достаточно высока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личия в уровнях производительности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статочно велики, чтобы компенсировать транспортные расходы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появление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асштаба на транспорт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е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делает крупномасштабную торговлю и централизованные рынки эффективными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762120" y="380880"/>
            <a:ext cx="7848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оронительн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LITARY THEORIES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обходимость охраны излишков продовольствия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обходимость совместного проживания для отражения внешних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пасностей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лигиозн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IGIOUS THEORIES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ргов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CONOMIC THEORY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Торгово-религиозно-оборонительный город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ORETICAL CONSENSUS?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 flipV="1">
            <a:off x="228600" y="22064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 flipV="1">
            <a:off x="457200" y="751680"/>
            <a:ext cx="838188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производства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озрастает по двум причинам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циализация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тру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) рабочие тратят меньше времени на переключение с одной операции на другую.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Неделимые производственные факторы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и городская территория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город растет вокруг фабрики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 flipV="1">
            <a:off x="228600" y="22064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 flipV="1">
            <a:off x="762120" y="752400"/>
            <a:ext cx="83818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агломерации (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центрации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изводства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объясняет причины появления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рупных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промышленных городов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уществуют два типа эффекта концентрации: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локализации и эффект урбанизаци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основе эффекта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концентра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ии лежат три главные причины: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производства промежуточных факторов производства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мирование единого рынка труда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обмен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знан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ям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Rectangle 4"/>
          <p:cNvSpPr/>
          <p:nvPr/>
        </p:nvSpPr>
        <p:spPr>
          <a:xfrm flipV="1">
            <a:off x="228600" y="1595520"/>
            <a:ext cx="861048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-первых,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-вторых,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несет выгоды фирмам всего города, а не только фирмам одной отрасли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914400" y="380880"/>
            <a:ext cx="79246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чаги ранней урбанизаци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сопотамия 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000-2000 лет до н.э.) – Эриду, Лагаш, Киш, Ур (25 тыс.чел.), Вавилон (50 тыс.чел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гипет, долина Нил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3500 лет до н.э.) – Мемфис, Гелиополис, Фивы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были меньше и не так плотно заселены как города Месопотамии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ренос столиц каждым новым фараоном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 было необходимости в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строительстве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тификационных сооружен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й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лина Инд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2500 лет до н.э.) –Пуньяб и Мохенье-Даро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ве столицы королевства Хараппа на территории современного Пакистана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мерно по 20 тыс.чел.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ю по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250 га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лина Хуанхэ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1800 лет до н.э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ские стены не отделяли города от сельских деревень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были связаны сетью деревень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зоамерика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200 лет до н.э.) – южная часть Ме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сик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Гватемала, Белиз, Гондурас (силь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ая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тратиф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ация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: элита в центре вокруг церквей и дворцов, низшие классы – на периферии)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46528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1337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167652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422840" cy="4813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53352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8580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914400"/>
            <a:ext cx="78487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852560" y="19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499520" cy="5416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1" name="Picture 4" descr="art-i-039"/>
          <p:cNvPicPr/>
          <p:nvPr/>
        </p:nvPicPr>
        <p:blipFill>
          <a:blip r:embed="rId1"/>
          <a:srcRect l="0" t="0" r="17124" b="0"/>
          <a:stretch/>
        </p:blipFill>
        <p:spPr>
          <a:xfrm>
            <a:off x="228600" y="685800"/>
            <a:ext cx="5562720" cy="4103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819520" y="4876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ланировочные схемы древних поселений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38240" y="72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90692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4040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1382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1967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94812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2666880" y="52578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332000" y="1022400"/>
            <a:ext cx="5832360" cy="4640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380880" y="609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– культовые сооружения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-  жилая зона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– гавани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X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Y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улица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емесленников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11932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42200" cy="4751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762120" y="6095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ource: After G. Sjoberg (1960) The Pre-industrial City New York: Free Press</a:t>
            </a:r>
            <a:r>
              <a:rPr b="0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09480" y="5943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6:51:38Z</dcterms:created>
  <dc:creator>Everton</dc:creator>
  <dc:description/>
  <dc:language>en-US</dc:language>
  <cp:lastModifiedBy>LEGION</cp:lastModifiedBy>
  <dcterms:modified xsi:type="dcterms:W3CDTF">2016-01-04T14:02:32Z</dcterms:modified>
  <cp:revision>109</cp:revision>
  <dc:subject/>
  <dc:title>Генезис и развитие городов</dc:title>
</cp:coreProperties>
</file>