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CDF6-2DF4-41EF-A236-B19B761120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езис и развитие гор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езис и развитие город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00igr.ne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ширение урб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еческие горо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ми городами были Афины (около 150 тыс. чел.) и Спарта (40 тыс. чел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ая волна создания городов-колоний – побережье Ионического моря, вторая – Черного моря. В 500 г. до н. э. были сотни независимых городов-государств с населением от нескольких сотен до десятков тысяч челове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ка городов была адаптирована к прямоугольной решетке, независимо от топографии мест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Римской импер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м городом был Рим (свыше 1 млн. чел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мляне основали свои колонии-поселения, расширив практику строительства городов, имевших прямоугольную планиров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ской периметр римского города был обычно квадратной или прямоугольной фо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и были две главные пересекающиеся улицы: декуманус шел с запада на восток и кардо – юга на сев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ширение урбанизаци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еческие города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ми городами были Афины (около 150 тыс. чел.) и Спарта (40 тыс. чел.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ая волна создания городов-колоний – побережье Ионического моря, вторая – Черного моря. В 500 г. до н. э. были сотни независимых городов-государств с населением от нескольких сотен до десятков тысяч человек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ка городов была адаптирована к прямоугольной решетке, независимо от топографии местност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Римской импери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м городом был Рим (свыше 1 млн. чел.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мляне основали свои колонии-поселения, расширив практику строительства городов, имевших прямоугольную планировку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ской периметр римского города был обычно квадратной или прямоугольной форм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и были две главные пересекающиеся улицы: декуманус шел с запада на восток и кардо – юга на север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очные системы Древней Греции, Рима и Кит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Милет (Греция), 2 – Тимгад (римская Африка, Алжир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– Тяньцзинь (Кита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очные системы Древней Греции, Рима и Китая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Милет (Греция), 2 – Тимгад (римская Африка, Алжир),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– Тяньцзинь (Китай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Европейские города в 1000-1900 г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Источник;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.M. Hohenberg and L.H. Lees, The Making of Urban Europe WOO-1950 (Cambridge,Mass.. Harvard University Press, 19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вропейские города в 1000-1900 гг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;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.M. Hohenberg and L.H. Lees, The Making of Urban Europe WOO-1950 (Cambridge,Mass.. Harvard University Press, 198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000 г. большинство городов в Западной и Центральной Европе были очень маленьки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е города располагались и Византийской империи и мусульманских районах Ис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в эпоху феодализма были небольшими, но многочисленн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I в. Лондон был крупнейшим городом Англии с населением около 16 тыс. чел. В Англии было еще несколько городов с населением в пределах 5 тыс. че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рупнейшем из многочисленных германских городов проживало не больше 40 тыс. чело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I-XII вв. оживление торговли способствовало росту Венеции, Генуи и Пи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000 г. большинство городов в Западной и Центральной Европе были очень маленьки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е города располагались и Византийской империи и мусульманских районах Испании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в эпоху феодализма были небольшими, но многочисленны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I в. Лондон был крупнейшим городом Англии с населением около 16 тыс. чел. В Англии было еще несколько городов с населением в пределах 5 тыс. чел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рупнейшем из многочисленных германских городов проживало не больше 40 тыс. человек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I-XII вв. оживление торговли способствовало росту Венеции, Генуи и Пиз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ка европейских городов в Средние 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Нордлинген (Германия), 2 – Аоста (Италия), 3 – Монпазье (Франция), 4 – Каркасон (Франц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ка европейских городов в Средние ве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Нордлинген (Германия), 2 – Аоста (Италия), 3 – Монпазье (Франция), 4 – Каркасон (Франция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ериод между XI—XIV вв. набеги варваров сократилось и небольшие оборонительные города постепенно превратились в рыноч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е города на базе рынков возникли по двум причина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децентрализации власти в феодальной системе средневековые города были вынуждены что-то производить в обмен на сельские товар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низкой производительности сельского труда город должен был торговать с жителями относительно большой территории произведенными в нем товар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ериод между XI—XIV вв. набеги варваров сократилось и небольшие оборонительные города постепенно превратились в рыночные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е города на базе рынков возникли по двум причинам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децентрализации власти в феодальной системе средневековые города были вынуждены что-то производить в обмен на сельские товары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низкой производительности сельского труда город должен был торговать с жителями относительно большой территории произведенными в нем товарами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EY 1: armourers; 2: butchers; 3: bakers; 4: beltmakers; 5: money-changers; 6: shoemakers; 7: spice merchants; 8: needlemakers; 9: fellers; 10: herring merchants; 11: grocers; 12: minters; 13: goldsmiths; 14: cookshops; 15: saddlers; 16: tailors; 17: tann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редневековый Люб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EY 1: armourers; 2: butchers; 3: bakers; 4: beltmakers; 5: money-changers; 6: shoemakers; 7: spice merchants; 8: needlemakers; 9: fellers; 10: herring merchants; 11: grocers; 12: minters; 13: goldsmiths; 14: cookshops; 15: saddlers; 16: tailors; 17: tanners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невековый Любек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среди средневековых городов способствовала нововведениям в производстве и торговл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енствование методов производства и торговли подготовило промышленную революцию XVIII и XIX в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400 г. Париж был крупнейшим центром торговли и образования, столицей Фран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и шести крупнейших городов Европы было три итальянских города-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среди средневековых городов способствовала нововведениям в производстве и торговле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енствование методов производства и торговли подготовило промышленную революцию XVIII и XIX вв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400 г. Париж был крупнейшим центром торговли и образования, столицей Франции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и шести крупнейших городов Европы было три итальянских города-государств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возникновения индустриального г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изация власти привела к централизации исполнения административных и военных функций в королевских города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ее всего стали расти города, в которых находился королевский двор (Лондон - 250 тыс., Неаполь — 240 тыс., Милан - 200 тыс., Париж — 18O тыс. чел.; в число городов с населением порядка 100 тыс. человек входили Рим, Лиссабон, Палермо, Севилья, Антверпен и Амстерда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епление власти привело к снятию многих ограничений, включая местные тарифы,  на торговлю, а океанские плавания привели к открытию новых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с речными и морскими портами процветали (Неаполь. Палермо. Лиссабон, Ливерпуль), города внутри стран приходили в упад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700 г. среди 10 крупнейших городов Европы появилось четыре новых морских порта: Лондон. Неаполь, Лиссабон и Амстерд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возникновения индустриального город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изация власти привела к централизации исполнения административных и военных функций в королевских городах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ее всего стали расти города, в которых находился королевский двор (Лондон - 250 тыс., Неаполь — 240 тыс., Милан - 200 тыс., Париж — 18O тыс. чел.; в число городов с населением порядка 100 тыс. человек входили Рим, Лиссабон, Палермо, Севилья, Антверпен и Амстердам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епление власти привело к снятию многих ограничений, включая местные тарифы,  на торговлю, а океанские плавания привели к открытию новых рынк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с речными и морскими портами процветали (Неаполь. Палермо. Лиссабон, Ливерпуль), города внутри стран приходили в упадок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700 г. среди 10 крупнейших городов Европы появилось четыре новых морских порта: Лондон. Неаполь, Лиссабон и Амстердам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ет несколько теорий возникновения гор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е условие возникновения города заключается в наличии излишков сельскохозяйственной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ль ирригационных объектов в появлении городов в речных цивилизациях  и HYDRAULIC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ю городов предшествовал ряд крупных достижений в сельскохозяйственном производстве:  культурное земледелие, системы орошения, замена сохи плуг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характеристики общества этого тип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нсификация сельского хозяй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леченность в частичное разделение труд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кооперации для осуществления крупномасштабных ирригационных проект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ет несколько теорий возникновения город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е условие возникновения города заключается в наличии излишков сельскохозяйственной продукци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ль ирригационных объектов в появлении городов в речных цивилизациях  и HYDRAULIC THEORY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ю городов предшествовал ряд крупных достижений в сельскохозяйственном производстве:  культурное земледелие, системы орошения, замена сохи плугом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характеристики общества этого типа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нсификация сельского хозяйства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леченность в частичное разделение труда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кооперации для осуществления крупномасштабных ирригационных проектов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VIII в. города перестают рассматриваться как фортификационные объект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оссии понятие «город» включает в себя прежние торгово-ремесленные слобо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начинают проектироваться, как социально-экономические целост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х центральную часть вместо военной цитадели зачастую занимают промышленные предприятия – новые «кормильцы» горо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763 г. в России утверждается практика обязательного развития всех городов по генеральным план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VIII в. города перестают рассматриваться как фортификационные объекты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оссии понятие «город» включает в себя прежние торгово-ремесленные слободы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начинают проектироваться, как социально-экономические целостности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х центральную часть вместо военной цитадели зачастую занимают промышленные предприятия – новые «кормильцы» города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763 г. в России утверждается практика обязательного развития всех городов по генеральным планам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банизация в ходе промышленной револю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 начала XIX в. доля городского населения в мире составляла всего лишь около 3%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период между 1800 и 1970 гг. доля населения, проживающего в городах, возросла до 39%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доля городского населения увеличилась с 6% в 1800 г. до более 75% в 1990 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банизация в ходе промышленной революци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 начала XIX в. доля городского населения в мире составляла всего лишь около 3%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период между 1800 и 1970 гг. доля населения, проживающего в городах, возросла до 39%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доля городского населения увеличилась с 6% в 1800 г. до более 75% в 1990 г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ходе промышленной революции можно разделить на четыре области: сельское хозяйство, обрабатывающая промышленность, транспорт и строитель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сельском хозяйстве: замена мускульной силы и простейших орудий труда машинами, нововведения в методах посадки, выращивания, уборки урожая и переработки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доля занятых в сельскохозяйственном производстве снизилась с 69%  в 1840 г. до 2,8% в 1988 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батывающая промышленность: созданы новые машины, изготовленные из металла; на смену ручному производству кустарей пришло машинное производство с использованием взаимозаменяемых деталей, паровых машин, а также узки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ходе промышленной революции можно разделить на четыре области: сельское хозяйство, обрабатывающая промышленность, транспорт и строительство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сельском хозяйстве: замена мускульной силы и простейших орудий труда машинами, нововведения в методах посадки, выращивания, уборки урожая и переработки продукции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доля занятых в сельскохозяйственном производстве снизилась с 69%  в 1840 г. до 2,8% в 1988 г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батывающая промышленность: созданы новые машины, изготовленные из металла; на смену ручному производству кустарей пришло машинное производство с использованием взаимозаменяемых деталей, паровых машин, а также узких специалистов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оход и железная дорога способствовали снижению стоимости перевозки товаров между горо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ые города развивались в точках, доступных для междугородной транспортной сети (вдоль рек, позже вдоль железных доро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на внутригородском транспорте расширили реальные размеры городов (конки, трамваи, автомобил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обиль повысил доступность любого места в гор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жане могли жить между радиальными линиями, а предприятия размешаться вне центра горо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зовой автомобильный транспорт позволил фирмам размещать свои производства вне центра горо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лся набор возможных мест размещения 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осло реальное городское насе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оход и железная дорога способствовали снижению стоимости перевозки товаров между города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ые города развивались в точках, доступных для междугородной транспортной сети (вдоль рек, позже вдоль железных дорог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на внутригородском транспорте расширили реальные размеры городов (конки, трамваи, автомобиль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обиль повысил доступность любого места в городе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жане могли жить между радиальными линиями, а предприятия размешаться вне центра города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зовой автомобильный транспорт позволил фирмам размещать свои производства вне центра города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лся набор возможных мест размещения производства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осло реальное городское население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строительстве способствовали увеличению площади гор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легких стальных каркасов позволило строить дома повышенной этажности по сравнению с традиционными кирпичными зданиями (первый небоскреб – Чикаго, I885 г.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пассажирского лифта снизило издержки на подъем внутри высоких зданий, что повысило практичность небоскреб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строительстве способствовали увеличению площади город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легких стальных каркасов позволило строить дома повышенной этажности по сравнению с традиционными кирпичными зданиями (первый небоскреб – Чикаго, I885 г.)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пассажирского лифта снизило издержки на подъем внутри высоких зданий, что повысило практичность небоскреб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военная эр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950 г. темпы урбанизации замедлились, а в 1970-е годы во многих развитых странах быстрее стали расти не сами города, а ареалы за их предел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риториальный разброс производственных предприят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дленное снижение занятости в сельском хозяй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в добывающих отрасля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ост в рекреационной сфере и сфере по обслуживанию пенсио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военная эра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950 г. темпы урбанизации замедлились, а в 1970-е годы во многих развитых странах быстрее стали расти не сами города, а ареалы за их предела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риториальный разброс производственных предприятий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дленное снижение занятости в сельском хозяйстве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в добывающих отраслях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ост в рекреационной сфере и сфере по обслуживанию пенсионер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индустриальные города. Тольят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– местоположение первоначального города Ставрополь (1737), Б – Куйбышевская ГЭС (1950-1957), В – Комсомольск и Шлюзовой (посёлки при ГЭС), Г – предприятия химической промышленности, Д – «Старый город» (Центральный район, его северная часть – частный сектор, 1952), Е – Волжский автозавод (ВАЗ, 1966-1970), Ж – «Новый город» (Автозаводский район, 196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индустриальные города. Тольятт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– местоположение первоначального города Ставрополь (1737), Б – Куйбышевская ГЭС (1950-1957), В – Комсомольск и Шлюзовой (посёлки при ГЭС), Г – предприятия химической промышленности, Д – «Старый город» (Центральный район, его северная часть – частный сектор, 1952), Е – Волжский автозавод (ВАЗ, 1966-1970), Ж – «Новый город» (Автозаводский район, 1967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растут промышленные город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яют  три причины концентрации рабочих мест в города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авнительное преимущество (comparative advantage) делает выгодной торговлю между регионами, а межрегиональная торговля вызывает развитие рыночных гор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енний эффект масштаба (internal scale economies) производства позволяет предприятиям производить товары более эффективно, чем это делают отдельные люди, и производство товаров на предприятиях ведет к развитию промышленных гор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агломерации (концентрации), (agglomerative economies) производства и маркетинга заставляет фирмы группироваться в городах, и такое скопление вызывает развитие крупных гор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растут промышленные города?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яют  три причины концентрации рабочих мест в городах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авнительное преимущество (comparative advantage) делает выгодной торговлю между регионами, а межрегиональная торговля вызывает развитие рыночных городов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енний эффект масштаба (internal scale economies) производства позволяет предприятиям производить товары более эффективно, чем это делают отдельные люди, и производство товаров на предприятиях ведет к развитию промышленных городов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агломерации (концентрации), (agglomerative economies) производства и маркетинга заставляет фирмы группироваться в городах, и такое скопление вызывает развитие крупных городов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на транспорте и торговые г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бинация сравнительного преимущества и эффекта масштаба на транспорте приводит к развитию города-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-рынок развивается потому, чт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ьность в сельском хозяйстве достаточно высока для того, чтобы сельскохозяйственные рабочие производили достаточно товаров (продукции) для себя и городских торговце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 уровнях производительности достаточно велики, чтобы компенсировать транспортные рас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эффекта масштаба на транспорте делает крупномасштабную торговлю и централизованные рынки эффективн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на транспорте и торговые город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бинация сравнительного преимущества и эффекта масштаба на транспорте приводит к развитию города-рын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-рынок развивается потому, что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ьность в сельском хозяйстве достаточно высока для того, чтобы сельскохозяйственные рабочие производили достаточно товаров (продукции) для себя и городских торговце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 уровнях производительности достаточно велики, чтобы компенсировать транспортные расход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эффекта масштаба на транспорте делает крупномасштабную торговлю и централизованные рынки эффективны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онительный город и MILITARY THE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охраны излишков продовольст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совместного проживания для отражения внешних опасност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лигиозный город и RELIGIOUS THE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массовых религий и появление больших храмов с вождями, жрецами, религиозными рабочи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ранение и защита излишков продовольствия в хра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центрация власти в руках религиозной эли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ый город и ECONOMIC THE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торговли и появление крупных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о-религиозно-оборонительный город и THEORETICAL CONSENSU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онительный город и MILITARY THEORIE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охраны излишков продовольствия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совместного проживания для отражения внешних опасностей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лигиозный город и RELIGIOUS THEORIE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массовых религий и появление больших храмов с вождями, жрецами, религиозными рабочи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ранение и защита излишков продовольствия в храмах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центрация власти в руках религиозной элит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ый город и ECONOMIC THEORY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торговли и появление крупных рынк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о-религиозно-оборонительный город и THEORETICAL CONSENSUS?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производства возрастает по двум причина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Специализация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изация труда повышает производительность потому, что: а} по мере повторения выполняемых операций квалификация работников возрастает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рабочие тратят меньше времени на переключение с одной операции на другу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Неделимые производственные фактор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и городская территория: город растет вокруг фабр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производства возрастает по двум причинам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Специализация труд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изация труда повышает производительность потому, что: а} по мере повторения выполняемых операций квалификация работников возрастает;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рабочие тратят меньше времени на переключение с одной операции на другую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Неделимые производственные факторы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и городская территория: город растет вокруг фабрик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агломерации (концентрации) производства – объясняет причины появления крупных промышленных гор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ют два типа эффекта концентраци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локализации и эффект урбаниза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снове эффекта концентрации лежат три главные причин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производства промежуточных факторов производств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единого рынка труд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мен знан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агломерации (концентрации) производства – объясняет причины появления крупных промышленных город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ют два типа эффекта концентрации: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локализации и эффект урбанизаци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снове эффекта концентрации лежат три главные причины: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производства промежуточных факторов производства,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единого рынка труда,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мен знаниями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урбанизации отличается от эффекта локализации в двух отношения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эффект урбанизации появляется в результате роста масштаба экономики всего города, а не только конкретной отрасл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эффект урбанизации несет выгоды фирмам всего города, а не только фирмам одной отрас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урбанизации отличается от эффекта локализации в двух отношениях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эффект урбанизации появляется в результате роста масштаба экономики всего города, а не только конкретной отрасли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эффект урбанизации несет выгоды фирмам всего города, а не только фирмам одной отрасли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аги ранней урб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опотамия (3000-2000 лет до н.э.) – Эриду, Лагаш, Киш, Ур (25 тыс.чел.), Вавилон (50 тыс.чел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гипет, долина Нила (3500 лет до н.э.) – Мемфис, Гелиополис, Фив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были меньше и не так плотно заселены как города Месопотамии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еренос столиц каждым новым фараоном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было необходимости в строительстве фортификационных сооружен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ина Инда (2500 лет до н.э.) –Пуньяб и Мохенье-Даро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е столицы королевства Хараппа на территории современного Пакиста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но по 20 тыс.чел. площадью по 250 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ина Хуанхэ (1800 лет до н.э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ские стены не отделяли города от сельских деревень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были связаны сетью дере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зоамерика (200 лет до н.э.) – южная часть Мексики, Гватемала, Белиз, Гондурас (сильная стратификация: элита в центре вокруг церквей и дворцов, низшие классы – на периферии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аги ранней урбанизаци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опотамия (3000-2000 лет до н.э.) – Эриду, Лагаш, Киш, Ур (25 тыс.чел.), Вавилон (50 тыс.чел.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гипет, долина Нила (3500 лет до н.э.) – Мемфис, Гелиополис, Фивы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были меньше и не так плотно заселены как города Месопотамии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еренос столиц каждым новым фараоном;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было необходимости в строительстве фортификационных сооружений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ина Инда (2500 лет до н.э.) –Пуньяб и Мохенье-Даро,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е столицы королевства Хараппа на территории современного Пакистан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но по 20 тыс.чел. площадью по 250 г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ина Хуанхэ (1800 лет до н.э.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ские стены не отделяли города от сельских деревень,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были связаны сетью деревень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зоамерика (200 лет до н.э.) – южная часть Мексики, Гватемала, Белиз, Гондурас (сильная стратификация: элита в центре вокруг церквей и дворцов, низшие классы – на периферии)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очные схемы древних посел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Кастелаццо (Италия), 2 – индийское поселение типа Нандиаварта, 3 – Кой-Крылган-Кала (Хорезм), 4 – норманнская крепость (Дания), 5 – индийское поселение типа Падмака, 6 – Топрак-Кала (Хорез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очные схемы древних поселений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Кастелаццо (Италия), 2 – индийское поселение типа Нандиаварта, 3 – Кой-Крылган-Кала (Хорезм), 4 – норманнская крепость (Дания), 5 – индийское поселение типа Падмака, 6 – Топрак-Кала (Хорезм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– культовые сооружения; D -  жилая зона; A,B – гавани; X-Y- улица ремеслен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– культовые сооружения; D -  жилая зона; A,B – гавани; X-Y- улица ремесленник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After G. Sjoberg (1960) The Pre-industrial City New York: Free Pr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After G. Sjoberg (1960) The Pre-industrial City New York: Free Pres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C9FD-CDCB-460C-9205-F2DC690B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667F-2206-4D9F-B6C3-C833E5F6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1197-2519-4DE3-8688-80B8086D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23D8-4BD9-4F70-97E0-DA2E9299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04F9-D345-499A-A617-E2640A39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9658-9771-4797-A783-136775CB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ABB5-452C-4B6D-B08A-F33123E3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DDF2-4D18-4648-99C8-59DEEF25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9AB3-6EC3-43BA-8E36-D0AD95D6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3D87-2156-4274-9476-AE190F0A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0765-3948-48DA-AB49-671DC87B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EBD8-6021-4FBA-8B1E-69160B11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E0D9-ABC4-4030-8E0B-D06238D8DB3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26"/>
          <p:cNvSpPr/>
          <p:nvPr/>
        </p:nvSpPr>
        <p:spPr>
          <a:xfrm>
            <a:off x="152280" y="28684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Генезис и развитие городов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Rectangle 1027"/>
          <p:cNvSpPr/>
          <p:nvPr/>
        </p:nvSpPr>
        <p:spPr>
          <a:xfrm>
            <a:off x="152280" y="5952960"/>
            <a:ext cx="5410440" cy="501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Rectangle 1028"/>
          <p:cNvSpPr/>
          <p:nvPr/>
        </p:nvSpPr>
        <p:spPr>
          <a:xfrm>
            <a:off x="0" y="0"/>
            <a:ext cx="6553080" cy="287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00484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609480" y="380880"/>
            <a:ext cx="8382240" cy="58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ширение урбанизации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ческие города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упнейшими городами были Афины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(о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ло 150 тыс. чел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.)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 Спарта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0 тыс. чел.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ервая волна создания городов-колоний – побережье Ионического моря, вторая – Черного моря. В 500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 до н. э. были сотни независимых городов-государств с населением от нескольких сотен до десятков тысяч человек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ланир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овка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городов была адаптирована к прямоугольной решетке, независимо от топографии местности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а Римской империи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рупнейшим городом был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им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выше 1 млн. чел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Р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мляне основали свои колонии-поселения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, расширив практику строительства городов, имевших прямоугольную планировку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ской периметр римского города был обычно квадратной или прямоугольной формы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нутри были две главные пересекающиеся улицы: декуманус шел с запада на восток и кардо – юга на север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228600" y="304920"/>
            <a:ext cx="9372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ировочные системы Древней Греции, Рима и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тая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250920" y="907920"/>
          <a:ext cx="2342880" cy="37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234288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6" descr="art-i-091"/>
          <p:cNvPicPr/>
          <p:nvPr/>
        </p:nvPicPr>
        <p:blipFill>
          <a:blip r:embed="rId3"/>
          <a:srcRect l="6702" t="0" r="23203" b="6870"/>
          <a:stretch/>
        </p:blipFill>
        <p:spPr>
          <a:xfrm>
            <a:off x="4788000" y="1052640"/>
            <a:ext cx="2340000" cy="2684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art-i-187"/>
          <p:cNvPicPr/>
          <p:nvPr/>
        </p:nvPicPr>
        <p:blipFill>
          <a:blip r:embed="rId4"/>
          <a:srcRect l="24586" t="13009" r="40640" b="6073"/>
          <a:stretch/>
        </p:blipFill>
        <p:spPr>
          <a:xfrm>
            <a:off x="3203640" y="3933720"/>
            <a:ext cx="1984320" cy="2670120"/>
          </a:xfrm>
          <a:prstGeom prst="rect">
            <a:avLst/>
          </a:prstGeom>
          <a:ln w="0">
            <a:noFill/>
          </a:ln>
        </p:spPr>
      </p:pic>
      <p:sp>
        <p:nvSpPr>
          <p:cNvPr id="116" name="Line 8"/>
          <p:cNvSpPr/>
          <p:nvPr/>
        </p:nvSpPr>
        <p:spPr>
          <a:xfrm>
            <a:off x="2666880" y="6858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4952880" y="6858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2666880" y="3276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4876920" y="3657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3200400" y="662940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5181480" y="66294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Line 19"/>
          <p:cNvSpPr/>
          <p:nvPr/>
        </p:nvSpPr>
        <p:spPr>
          <a:xfrm flipV="1">
            <a:off x="5257800" y="38862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Line 20"/>
          <p:cNvSpPr/>
          <p:nvPr/>
        </p:nvSpPr>
        <p:spPr>
          <a:xfrm flipH="1">
            <a:off x="3200040" y="388620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3200400" y="38862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Rectangle 2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22114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472608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4707000" y="617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5257800" y="4581360"/>
            <a:ext cx="4038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Times New Roman"/>
              </a:rPr>
              <a:t>1 – Милет (Греция), </a:t>
            </a:r>
            <a:r>
              <a:rPr b="0" lang="en-US" sz="17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ru-RU" sz="1700" spc="-1" strike="noStrike">
                <a:solidFill>
                  <a:srgbClr val="000066"/>
                </a:solidFill>
                <a:latin typeface="Times New Roman"/>
              </a:rPr>
              <a:t> – Тимгад (римская Африка, Алжир),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ru-RU" sz="1700" spc="-1" strike="noStrike">
                <a:solidFill>
                  <a:srgbClr val="000066"/>
                </a:solidFill>
                <a:latin typeface="Times New Roman"/>
              </a:rPr>
              <a:t> – Тяньцзинь (Китай)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0492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 flipV="1">
            <a:off x="533520" y="2055600"/>
            <a:ext cx="8076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20968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236680" y="2060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914400" y="304920"/>
            <a:ext cx="7924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2320920" y="9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405480" cy="6012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 flipV="1">
            <a:off x="457200" y="4419360"/>
            <a:ext cx="8077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990720"/>
          <a:ext cx="8229600" cy="480852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990720"/>
                <a:gridCol w="914400"/>
                <a:gridCol w="1143000"/>
                <a:gridCol w="914400"/>
                <a:gridCol w="1295280"/>
                <a:gridCol w="914400"/>
              </a:tblGrid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0 г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00 г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700 г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900 г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селе-ние, тыс.чел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селе-ние, тыс.чел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се-ление, тыс.чел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селе-ние, тыс.чел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Константи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нополь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риж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7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нстанти-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ополь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ондо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48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рдов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ила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ондо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риж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33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евиль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рюгге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риж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3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ерли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42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лермо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неци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еаполь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н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66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иев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ренад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иссабо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8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.-Петербург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3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неци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ену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Амстерда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анчестер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5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егенсбург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аг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и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ирминге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4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алоники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афф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неци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2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Амалфи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евиль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лазго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7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и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ент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ила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иверпуль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4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120"/>
          <p:cNvSpPr/>
          <p:nvPr/>
        </p:nvSpPr>
        <p:spPr>
          <a:xfrm flipV="1">
            <a:off x="228600" y="456120"/>
            <a:ext cx="838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Европейские города в 1000-1900 гг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Rectangle 121"/>
          <p:cNvSpPr/>
          <p:nvPr/>
        </p:nvSpPr>
        <p:spPr>
          <a:xfrm flipV="1">
            <a:off x="380880" y="6094080"/>
            <a:ext cx="838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Источник;</a:t>
            </a:r>
            <a:r>
              <a:rPr b="0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 P.M. Hohenberg and L.H. Lees, </a:t>
            </a:r>
            <a:r>
              <a:rPr b="0" i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The Making of Urban Europe WOO-1950</a:t>
            </a:r>
            <a:r>
              <a:rPr b="0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 (Cambridge,Mass.. Harvard University Press, 198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66688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 flipV="1">
            <a:off x="914400" y="531360"/>
            <a:ext cx="754380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К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000 г.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большинство городов в Западной и Центральной Европе были очень маленькими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упнейшие города располагались и Византийской империи и мусульманских районах Испании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а в эпоху феодализма были небольшими, но многочисленными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XI в. Лондон был крупнейшим городом Англии с населением около 16 тыс. чел. В Англии было еще несколько городов с населением в пределах 5 тыс. чел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крупнейшем из многочисленных германских городов проживало не больше 40 тыс. человек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XI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XII вв.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о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живление торговли способствовало росту Венеции, Генуи и Пизы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ировка европейских городов в Средние век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8" name="Object 3"/>
          <p:cNvGraphicFramePr/>
          <p:nvPr/>
        </p:nvGraphicFramePr>
        <p:xfrm>
          <a:off x="457200" y="685800"/>
          <a:ext cx="2133720" cy="19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5800"/>
                    <a:ext cx="213372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Picture 4" descr="art-i-152"/>
          <p:cNvPicPr/>
          <p:nvPr/>
        </p:nvPicPr>
        <p:blipFill>
          <a:blip r:embed="rId3"/>
          <a:srcRect l="3460" t="0" r="27274" b="0"/>
          <a:stretch/>
        </p:blipFill>
        <p:spPr>
          <a:xfrm>
            <a:off x="2819520" y="685800"/>
            <a:ext cx="2971800" cy="2043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gradostr100"/>
          <p:cNvPicPr/>
          <p:nvPr/>
        </p:nvPicPr>
        <p:blipFill>
          <a:blip r:embed="rId4"/>
          <a:srcRect l="0" t="0" r="0" b="8890"/>
          <a:stretch/>
        </p:blipFill>
        <p:spPr>
          <a:xfrm>
            <a:off x="4648320" y="2978280"/>
            <a:ext cx="4100400" cy="3736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semenov010"/>
          <p:cNvPicPr/>
          <p:nvPr/>
        </p:nvPicPr>
        <p:blipFill>
          <a:blip r:embed="rId5"/>
          <a:srcRect l="0" t="0" r="0" b="14414"/>
          <a:stretch/>
        </p:blipFill>
        <p:spPr>
          <a:xfrm>
            <a:off x="5943600" y="1066680"/>
            <a:ext cx="2971800" cy="16272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45900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28213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83077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472608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08000" y="4869000"/>
            <a:ext cx="46483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Times New Roman"/>
              </a:rPr>
              <a:t>1 – Нордлинген (Германия), 2 – Аоста (Италия), 3 – Монпазье (Франция), 4 – Каркасон (Франция)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026"/>
          <p:cNvSpPr/>
          <p:nvPr/>
        </p:nvSpPr>
        <p:spPr>
          <a:xfrm>
            <a:off x="2193840" y="19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1027"/>
          <p:cNvSpPr/>
          <p:nvPr/>
        </p:nvSpPr>
        <p:spPr>
          <a:xfrm>
            <a:off x="3870360" y="6438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Rectangle 1028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Text Box 1029"/>
          <p:cNvSpPr/>
          <p:nvPr/>
        </p:nvSpPr>
        <p:spPr>
          <a:xfrm>
            <a:off x="3108240" y="-11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1030"/>
          <p:cNvSpPr/>
          <p:nvPr/>
        </p:nvSpPr>
        <p:spPr>
          <a:xfrm>
            <a:off x="365760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Text Box 1031"/>
          <p:cNvSpPr/>
          <p:nvPr/>
        </p:nvSpPr>
        <p:spPr>
          <a:xfrm>
            <a:off x="257508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Rectangle 103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Rectangle 1033"/>
          <p:cNvSpPr/>
          <p:nvPr/>
        </p:nvSpPr>
        <p:spPr>
          <a:xfrm flipV="1">
            <a:off x="380880" y="369720"/>
            <a:ext cx="8458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период между XI—XIV вв. набег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арваров сократилось и небольшие оборонительные города постепенно превратились в рыночные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П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рвые города на базе рынков возникли по двум причинам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децентрализации власти в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еодальной системе средневековые города были вынуждены что-то производить в обмен на сельские товары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при низкой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зводительност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ельского труда город должен был торговать с жителями относительно большой территори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произведенными в нем товарами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400800" y="-6229440"/>
            <a:ext cx="36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373640" cy="39830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6"/>
          <p:cNvSpPr/>
          <p:nvPr/>
        </p:nvSpPr>
        <p:spPr>
          <a:xfrm>
            <a:off x="0" y="-1235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6400800" y="-6199200"/>
            <a:ext cx="360" cy="49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2"/>
          <a:stretch/>
        </p:blipFill>
        <p:spPr>
          <a:xfrm>
            <a:off x="4572000" y="990720"/>
            <a:ext cx="4572000" cy="39672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9"/>
          <p:cNvSpPr/>
          <p:nvPr/>
        </p:nvSpPr>
        <p:spPr>
          <a:xfrm>
            <a:off x="0" y="-1222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57200" y="5257800"/>
            <a:ext cx="83059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KEY 1: armourers; 2: butchers; 3: bakers; 4: beltmakers; 5: money-changers; 6: shoemakers; 7: spice merchants;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8: needlemakers; 9: fellers; 10: herring merchants; 11: grocers; 12: minters; 13: goldsmiths; 14: cookshops;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5: saddlers; 16: tailors; 17: tanners.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редневековый Любек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050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Rectangle 2051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Rectangle 2052"/>
          <p:cNvSpPr/>
          <p:nvPr/>
        </p:nvSpPr>
        <p:spPr>
          <a:xfrm flipV="1">
            <a:off x="533520" y="1225080"/>
            <a:ext cx="84582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нкуренция среди средневековых городов способствовала нововведениям в производстве и торговле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вершенствовани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е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методов производства и торговли подготовил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о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промышленную революцию XVIII и XIX вв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К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400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 Париж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был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упнейш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м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центром торговли и образования, столицей Франции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реди шести крупнейших городов Европы было три итальянских города-государств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026"/>
          <p:cNvSpPr/>
          <p:nvPr/>
        </p:nvSpPr>
        <p:spPr>
          <a:xfrm>
            <a:off x="2193840" y="19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 Box 1027"/>
          <p:cNvSpPr/>
          <p:nvPr/>
        </p:nvSpPr>
        <p:spPr>
          <a:xfrm>
            <a:off x="2422440" y="-11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4327560" y="-11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1029"/>
          <p:cNvSpPr/>
          <p:nvPr/>
        </p:nvSpPr>
        <p:spPr>
          <a:xfrm>
            <a:off x="822240" y="-11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1030"/>
          <p:cNvSpPr/>
          <p:nvPr/>
        </p:nvSpPr>
        <p:spPr>
          <a:xfrm>
            <a:off x="4251240" y="2933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1031"/>
          <p:cNvSpPr/>
          <p:nvPr/>
        </p:nvSpPr>
        <p:spPr>
          <a:xfrm>
            <a:off x="2727360" y="6591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Rectangle 1032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Rectangle 103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Rectangle 1034"/>
          <p:cNvSpPr/>
          <p:nvPr/>
        </p:nvSpPr>
        <p:spPr>
          <a:xfrm flipV="1">
            <a:off x="914400" y="3823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Rectangle 1035"/>
          <p:cNvSpPr/>
          <p:nvPr/>
        </p:nvSpPr>
        <p:spPr>
          <a:xfrm>
            <a:off x="152280" y="457200"/>
            <a:ext cx="8991720" cy="61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Условия возникновения индустриального город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ентрализация власти привела к централизации исполнения административных и военных функций в королевских городах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Б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ыстрее всего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стали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ти города,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в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оторых находился королевский двор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ондон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50 тыс.,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апол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ь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— 240 тыс., Милан - 200 тыс., Париж — 18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ыс. чел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; в число городов с населением порядка 100 тыс. человек входили Рим, Лиссабон, Палермо, Севилья, Антверпен и Амстердам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епление власти привело к снятию многих ограничений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, включая местные тарифы,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на торговлю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, а о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еанские плавания привели к открытию новых рынков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рода с речными и морскими портами процветали (Неаполь. Палермо. Лиссабон, Ливерпуль), города внутри стран приходили в упадок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К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1700 г. среди 10 крупнейших городов Европы появилось четыре новых морских порта: Лондон. Неаполь, Лиссабон и Амстердам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533520" y="380880"/>
            <a:ext cx="807696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уществует несколько теорий возникновения городов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Необходимое условие возникновения города заключается в наличии излишков сельскохозяйственной продукции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Роль ирригационных объектов в появлении городов в речных цивилизациях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YDRAULIC THEOR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Появлению городов предшествовал ряд крупных достижений в сельскохозяйственном производстве:  культурное земледелие, системы орошения, замена сохи плугом.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сновные характеристики общества этого типа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тенсификация сельского хозяйства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в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влеченность в частичное разделение труда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н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еобходимость кооперации для осуществления крупномасштабных ирригационных проектов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-15228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684360" y="54936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VIII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. города перестают рассматриваться как фортификационные объекты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 России понятие «город» включает в себя прежние торгово-ремесленные слободы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Города начинают проектироваться, как социально-экономические целостности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Их центральную часть вместо военной цитадели зачастую занимают промышленные предприятия – новые «кормильцы» города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 1763 г. в России утверждается практика обязательного развития всех городов по генеральным планам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26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Rectangle 1027"/>
          <p:cNvSpPr/>
          <p:nvPr/>
        </p:nvSpPr>
        <p:spPr>
          <a:xfrm flipV="1">
            <a:off x="685800" y="1441080"/>
            <a:ext cx="807732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рбанизация в ходе промышленной революции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 начала XIX в. доля городского населения в мире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ставляла всего лишь около 3%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 период между 1800 и 1970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г. доля населения, проживающего в городах, возросла до 39%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США доля городского населения увеличилась с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% в 1800 г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до более 75% в 1990 г.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050"/>
          <p:cNvSpPr/>
          <p:nvPr/>
        </p:nvSpPr>
        <p:spPr>
          <a:xfrm flipV="1">
            <a:off x="838080" y="79056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Rectangle 2051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Rectangle 2052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Rectangle 2053"/>
          <p:cNvSpPr/>
          <p:nvPr/>
        </p:nvSpPr>
        <p:spPr>
          <a:xfrm>
            <a:off x="380880" y="533520"/>
            <a:ext cx="79250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вовведения в ходе промышленной революции можно разделить на четыре области: сельское хозяйство, обрабатывающая промышленность, транспорт и строительство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вовведени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я в сельском хозяйстве: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ме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мускуль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ой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ил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ы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простейш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х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оруд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й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труда машинами, нововведения в методах посадки, выращивания, уборки урожая и переработки продукции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США доля занятых в сельскохозяйственном производстве снизилась с 69%  в 1840 г. до 2,8% в 1988 г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рабатывающая промышленность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зданы новые машины, изготовленные из металл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; 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 смену ручному производству кустарей пришло машинное производство с использованием взаимозаменяемых деталей, паровых машин, а также узких специалистов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050"/>
          <p:cNvSpPr/>
          <p:nvPr/>
        </p:nvSpPr>
        <p:spPr>
          <a:xfrm flipV="1">
            <a:off x="838080" y="3805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Rectangle 2051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Rectangle 2052"/>
          <p:cNvSpPr/>
          <p:nvPr/>
        </p:nvSpPr>
        <p:spPr>
          <a:xfrm>
            <a:off x="2133720" y="6711840"/>
            <a:ext cx="7010280" cy="146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Rectangle 2053"/>
          <p:cNvSpPr/>
          <p:nvPr/>
        </p:nvSpPr>
        <p:spPr>
          <a:xfrm>
            <a:off x="685800" y="762120"/>
            <a:ext cx="8153280" cy="53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ароход и железная дорога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ствовали снижению стоимости перевозки товаров между городами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мышленные города развивались в точках, доступных для междугородной транспортной сети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вдоль рек, позже вдоль железных дорог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вовведения на внутригородском транспорте расширили реальные размеры городов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(конки, трамваи, автомобиль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втомобиль повысил доступность любого места в городе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жане могли жить между радиальными линиями, а предприятия размешаться вне центра города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узов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ой автомобильный транспорт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звол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л фирм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 размещать свои производства вне центра города.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Увеличился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бор возможных мест размещения производств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выросло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альное городское население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2133720" y="6711840"/>
            <a:ext cx="7010280" cy="146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2141640" y="-67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533520" y="685800"/>
            <a:ext cx="815328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вовведения в строительстве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ствовали увеличению площади городов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явление легких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тальн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ых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аркас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ов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позволило строить дома повышенной этажности по сравнению с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радиционны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ми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ирпичны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ми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здани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ями (п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рвый небоскреб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–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икаго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885 г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.)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явление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ассажирского лифта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низило издержки на подъем внутри высоких зданий, что повысило практичность небоскребов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1219320" y="304920"/>
            <a:ext cx="733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7827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927840" cy="471348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 flipV="1">
            <a:off x="304920" y="909000"/>
            <a:ext cx="8610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слевоенная эра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1950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 темпы урбанизации замедлились, а в 1970-е годы во многих развитых странах быстрее стали расти не сами города, а ареалы за их пределами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ерриториальный разброс производственных предприятий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едленное снижение занятости в сельском хозяйстве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.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ост в добывающих отраслях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. Рост в рекреационной сфере и сфере по обслуживанию пенсионеров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Чистый от Фотошопа"/>
          <p:cNvPicPr/>
          <p:nvPr/>
        </p:nvPicPr>
        <p:blipFill>
          <a:blip r:embed="rId1"/>
          <a:stretch/>
        </p:blipFill>
        <p:spPr>
          <a:xfrm>
            <a:off x="2195640" y="765000"/>
            <a:ext cx="6325920" cy="44737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5040" y="304920"/>
            <a:ext cx="56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Новые индустриальные города. Тольятти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524840" y="438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7213320" y="468936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7351920" y="3622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603840" y="156528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5640840" y="2819520"/>
            <a:ext cx="3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2408400" y="650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2745000" y="202248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Ж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0" y="51814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А – местоположение первоначального города Ставрополь (1737), Б – Куйбышевская ГЭС (1950-1957), В – Комсомольск и Шлюзовой (посёлки при ГЭС), Г – предприятия химической промышленности, Д – «Старый город» (Центральный район, его северная часть – частный сектор, 1952), Е – Волжский автозавод (ВАЗ, 1966-1970), Ж – «Новый город» (Автозаводский район, 1967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 flipV="1">
            <a:off x="228600" y="758880"/>
            <a:ext cx="853452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Times New Roman"/>
              </a:rPr>
              <a:t>Почему растут промышленные города?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В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ыделяют  три причины концентрации рабочих мест в городах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равнительное преимущество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mparative advantage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елает выгодной торговлю между регионами, а межрегиональная торговля вызывает развитие рыночных городов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нутренний эффект масштаба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nternal scale economies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зводства позволяет предприятиям производить товары более эффективно, чем это делают отдельные люди, и производство товаров на предприятиях ведет к развитию промышленных городов.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агломерации (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нцентрации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),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gglomerative economies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зводства и маркетинга заставляет фирмы группироваться в городах, и такое скопление вызывает развитие крупных городов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Rectangle 4"/>
          <p:cNvSpPr/>
          <p:nvPr/>
        </p:nvSpPr>
        <p:spPr>
          <a:xfrm flipV="1">
            <a:off x="304920" y="531360"/>
            <a:ext cx="883908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масштаба на транспорте и торговые город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К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мбинация сравнительного преимущества и эффекта масштаба на транспорте приводит к развитию города-рынка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-рынок развивается потому, что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зводительность в сельском хозяйстве достаточно высока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ля того, чтобы сельскохозяйственные рабочие производили достаточно товаров (продукции) для себя и городских торговцев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личия в уровнях производительности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статочно велики, чтобы компенсировать транспортные расходы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появление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масштаба на транспорт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е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делает крупномасштабную торговлю и централизованные рынки эффективными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762120" y="380880"/>
            <a:ext cx="7848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оронительный город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LITARY THEORIES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обходимость охраны излишков продовольствия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обходимость совместного проживания для отражения внешних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пасностей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лигиозный город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LIGIOUS THEORIES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возникновение массовых религий и появление больших храмов с вождями, жрецами, религиозными рабочими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хранение и защита излишков продовольствия в храмах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концентрация власти в руках религиозной элиты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орговый город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CONOMIC THEORY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развитие торговли и появление крупных рынков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Торгово-религиозно-оборонительный город 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ORETICAL CONSENSUS?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 flipV="1">
            <a:off x="228600" y="220644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 flipV="1">
            <a:off x="457200" y="751680"/>
            <a:ext cx="8381880" cy="56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масштаба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производства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озрастает по двум причинам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.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ециализация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труд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ециализация труда повышает производительность потому, что: а} по мере повторения выполняемых операций квалификация работников возрастает;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б) рабочие тратят меньше времени на переключение с одной операции на другую.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 Неделимые производственные факторы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масштаба и городская территория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город растет вокруг фабрики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Rectangle 4"/>
          <p:cNvSpPr/>
          <p:nvPr/>
        </p:nvSpPr>
        <p:spPr>
          <a:xfrm flipV="1">
            <a:off x="228600" y="220644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Rectangle 5"/>
          <p:cNvSpPr/>
          <p:nvPr/>
        </p:nvSpPr>
        <p:spPr>
          <a:xfrm flipV="1">
            <a:off x="762120" y="752400"/>
            <a:ext cx="83818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агломерации (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нцентрации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производства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объясняет причины появления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крупных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промышленных городов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уществуют два типа эффекта концентрации: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локализации и эффект урбанизаци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основе эффекта 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концентра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ии лежат три главные причины: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масштаба производства промежуточных факторов производства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ормирование единого рынка труда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обмен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знан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ями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Rectangle 4"/>
          <p:cNvSpPr/>
          <p:nvPr/>
        </p:nvSpPr>
        <p:spPr>
          <a:xfrm flipV="1">
            <a:off x="228600" y="1595520"/>
            <a:ext cx="861048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урбанизации отличается от эффекта локализации в двух отношениях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-первых,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урбанизации появляется в результате роста масштаба экономики всего города, а не только конкретной отрасли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-вторых,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урбанизации несет выгоды фирмам всего города, а не только фирмам одной отрасли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914400" y="380880"/>
            <a:ext cx="792468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чаги ранней урбанизации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есопотамия (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000-2000 лет до н.э.) – Эриду, Лагаш, Киш, Ур (25 тыс.чел.), Вавилон (50 тыс.чел.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гипет, долина Нил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3500 лет до н.э.) – Мемфис, Гелиополис, Фивы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а были меньше и не так плотно заселены как города Месопотамии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еренос столиц каждым новым фараоном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 было необходимости в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строительстве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ортификационных сооружен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й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лина Инд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2500 лет до н.э.) –Пуньяб и Мохенье-Даро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ве столицы королевства Хараппа на территории современного Пакистана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мерно по 20 тыс.чел.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лощадь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ю по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250 га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лина Хуанхэ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1800 лет до н.э.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ские стены не отделяли города от сельских деревень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а были связаны сетью деревень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езоамерика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200 лет до н.э.) – южная часть Ме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ксик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Гватемала, Белиз, Гондурас (силь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ая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тратиф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кация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: элита в центре вокруг церквей и дворцов, низшие классы – на периферии)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46528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1337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167652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422840" cy="4813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53352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68580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914400"/>
            <a:ext cx="78487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852560" y="191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7499520" cy="54165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1" name="Picture 4" descr="art-i-039"/>
          <p:cNvPicPr/>
          <p:nvPr/>
        </p:nvPicPr>
        <p:blipFill>
          <a:blip r:embed="rId1"/>
          <a:srcRect l="0" t="0" r="17124" b="0"/>
          <a:stretch/>
        </p:blipFill>
        <p:spPr>
          <a:xfrm>
            <a:off x="228600" y="685800"/>
            <a:ext cx="5562720" cy="41036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2819520" y="4876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ланировочные схемы древних поселений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38240" y="72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90692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404028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1382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1967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394812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2666880" y="52578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1 – Кастелаццо (Италия), 2 – индийское поселение типа Нандиаварта, 3 – Кой-Крылган-Кала (Хорезм), 4 – норманнская крепость (Дания), 5 – индийское поселение типа Падмака, 6 – Топрак-Кала (Хорезм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332000" y="1022400"/>
            <a:ext cx="5832360" cy="46400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380880" y="6095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– культовые сооружения;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-  жилая зона;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– гавани;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X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Y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улица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ремесленников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11932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342200" cy="47516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762120" y="60958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ource: After G. Sjoberg (1960) The Pre-industrial City New York: Free Press</a:t>
            </a:r>
            <a:r>
              <a:rPr b="0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09480" y="59436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6:51:38Z</dcterms:created>
  <dc:creator>Everton</dc:creator>
  <dc:description/>
  <dc:language>en-US</dc:language>
  <cp:lastModifiedBy>LEGION</cp:lastModifiedBy>
  <dcterms:modified xsi:type="dcterms:W3CDTF">2016-01-04T14:02:32Z</dcterms:modified>
  <cp:revision>109</cp:revision>
  <dc:subject/>
  <dc:title>Генезис и развитие городов</dc:title>
</cp:coreProperties>
</file>