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90D1-32EF-49A3-B384-CED1CBA7FD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824-D440-4A4D-BD9A-DBA67005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FEB-9EF3-4465-8C2A-E44E68D1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C49-9A18-4BDB-B4AF-CA5500C0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F8A-E524-4234-A970-EDB3C9BD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BCB-0EAD-4AE6-8577-89204438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B40-8FBD-4D21-997C-FCC169E6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9A5-E141-4D51-A771-238C7AEB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2B2-645B-4C16-9E86-52B9DAF9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74F-2BAD-462A-A759-AC987CE1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F0A-2CE5-4B8A-8FC7-239C3D2A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5EF-C805-4195-BFFC-9126BE7C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047-F795-42AA-9C12-33EB4442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B0CE-B94A-433E-B984-F18D6BE998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152280" y="2868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Генезис и развитие городов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Rectangle 1027"/>
          <p:cNvSpPr/>
          <p:nvPr/>
        </p:nvSpPr>
        <p:spPr>
          <a:xfrm>
            <a:off x="152280" y="5952960"/>
            <a:ext cx="5410440" cy="50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0" y="0"/>
            <a:ext cx="655308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048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380880"/>
            <a:ext cx="838224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рение урбанизации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ские город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ми городами были Афины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(о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ло 150 тыс. чел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.)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Спарт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 тыс. чел.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вая волна создания городов-колоний – побережье Ионического моря, вторая – Черного моря. В 500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ани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вк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городов была адаптирована к прямоугольной решетке, независимо от топографии местност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Римской империи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упнейшим городом был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им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ыше 1 млн. че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мляне основали свои колонии-поселения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расширив практику строительства городов, имевших прямоугольную планировку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28600" y="304920"/>
            <a:ext cx="937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250920" y="907920"/>
          <a:ext cx="23428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2342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art-i-091"/>
          <p:cNvPicPr/>
          <p:nvPr/>
        </p:nvPicPr>
        <p:blipFill>
          <a:blip r:embed="rId3"/>
          <a:srcRect l="6702" t="0" r="23203" b="6870"/>
          <a:stretch/>
        </p:blipFill>
        <p:spPr>
          <a:xfrm>
            <a:off x="4788000" y="1052640"/>
            <a:ext cx="2340000" cy="2684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rt-i-187"/>
          <p:cNvPicPr/>
          <p:nvPr/>
        </p:nvPicPr>
        <p:blipFill>
          <a:blip r:embed="rId4"/>
          <a:srcRect l="24586" t="13009" r="40640" b="6073"/>
          <a:stretch/>
        </p:blipFill>
        <p:spPr>
          <a:xfrm>
            <a:off x="3203640" y="3933720"/>
            <a:ext cx="1984320" cy="2670120"/>
          </a:xfrm>
          <a:prstGeom prst="rect">
            <a:avLst/>
          </a:prstGeom>
          <a:ln w="0">
            <a:noFill/>
          </a:ln>
        </p:spPr>
      </p:pic>
      <p:sp>
        <p:nvSpPr>
          <p:cNvPr id="116" name="Line 8"/>
          <p:cNvSpPr/>
          <p:nvPr/>
        </p:nvSpPr>
        <p:spPr>
          <a:xfrm>
            <a:off x="2666880" y="6858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4952880" y="685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66688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487692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200400" y="6629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5181480" y="66294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52578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 flipH="1">
            <a:off x="3200040" y="38862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32004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2211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726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07000" y="617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5257800" y="458136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Милет (Греция), </a:t>
            </a: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имгад (римская Африка, Алжир),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яньцзинь (Китай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 flipV="1">
            <a:off x="533520" y="2055600"/>
            <a:ext cx="8076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096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36680" y="2060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914400" y="304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32092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5480" cy="6012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 flipV="1">
            <a:off x="457200" y="4419360"/>
            <a:ext cx="8077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990720"/>
          <a:ext cx="8229600" cy="480852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990720"/>
                <a:gridCol w="914400"/>
                <a:gridCol w="1143000"/>
                <a:gridCol w="914400"/>
                <a:gridCol w="1295280"/>
                <a:gridCol w="9144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-ле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онстанти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станти-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8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до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рюгг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рли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лерм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еа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ренад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ссаб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3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у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стерда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анчестер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егенс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аг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ирминге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алоник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фф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алф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лазг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т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верпу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0"/>
          <p:cNvSpPr/>
          <p:nvPr/>
        </p:nvSpPr>
        <p:spPr>
          <a:xfrm flipV="1">
            <a:off x="228600" y="4561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Европейские города в 1000-1900 гг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21"/>
          <p:cNvSpPr/>
          <p:nvPr/>
        </p:nvSpPr>
        <p:spPr>
          <a:xfrm flipV="1">
            <a:off x="380880" y="609408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Источник;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P.M. Hohenberg and L.H. Lees,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The Making of Urban Europe WOO-1950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(Cambridge,Mass.. Harvard University Press, 198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668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 flipV="1">
            <a:off x="914400" y="531360"/>
            <a:ext cx="75438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00 г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большинство городов в Западной и Центральной Европе были очень маленьким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в эпоху феодализма были небольшими, но многочисленным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II вв.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вление торговли способствовало росту Венеции, Генуи и Пизы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457200" y="685800"/>
          <a:ext cx="213372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213372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4" descr="art-i-152"/>
          <p:cNvPicPr/>
          <p:nvPr/>
        </p:nvPicPr>
        <p:blipFill>
          <a:blip r:embed="rId3"/>
          <a:srcRect l="3460" t="0" r="27274" b="0"/>
          <a:stretch/>
        </p:blipFill>
        <p:spPr>
          <a:xfrm>
            <a:off x="2819520" y="685800"/>
            <a:ext cx="2971800" cy="20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gradostr100"/>
          <p:cNvPicPr/>
          <p:nvPr/>
        </p:nvPicPr>
        <p:blipFill>
          <a:blip r:embed="rId4"/>
          <a:srcRect l="0" t="0" r="0" b="8890"/>
          <a:stretch/>
        </p:blipFill>
        <p:spPr>
          <a:xfrm>
            <a:off x="4648320" y="2978280"/>
            <a:ext cx="4100400" cy="373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semenov010"/>
          <p:cNvPicPr/>
          <p:nvPr/>
        </p:nvPicPr>
        <p:blipFill>
          <a:blip r:embed="rId5"/>
          <a:srcRect l="0" t="0" r="0" b="14414"/>
          <a:stretch/>
        </p:blipFill>
        <p:spPr>
          <a:xfrm>
            <a:off x="5943600" y="1066680"/>
            <a:ext cx="2971800" cy="1627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590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8213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8307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7260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08000" y="4869000"/>
            <a:ext cx="4648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027"/>
          <p:cNvSpPr/>
          <p:nvPr/>
        </p:nvSpPr>
        <p:spPr>
          <a:xfrm>
            <a:off x="3870360" y="64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Rectangle 102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108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365760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1031"/>
          <p:cNvSpPr/>
          <p:nvPr/>
        </p:nvSpPr>
        <p:spPr>
          <a:xfrm>
            <a:off x="257508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Rectangle 103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1033"/>
          <p:cNvSpPr/>
          <p:nvPr/>
        </p:nvSpPr>
        <p:spPr>
          <a:xfrm flipV="1">
            <a:off x="380880" y="36972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период между XI—XIV вв. набе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арваров сократилось и небольшие оборонительные города постепенно превратились в рыночны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е города на базе рынков возникли по двум причинам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децентрализации власти в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еодальной системе средневековые города были вынуждены что-то производить в обмен на сельские това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ри низкой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ельского труда город должен был торговать с жителями относительно большой территор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изведенными в нем товарам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400800" y="-6229440"/>
            <a:ext cx="3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373640" cy="39830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-1235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400800" y="-6199200"/>
            <a:ext cx="36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572000" cy="3967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>
            <a:off x="0" y="-1222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7200" y="5257800"/>
            <a:ext cx="8305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KEY 1: armourers; 2: butchers; 3: bakers; 4: beltmakers; 5: money-changers; 6: shoemakers; 7: spice merchant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8: needlemakers; 9: fellers; 10: herring merchants; 11: grocers; 12: minters; 13: goldsmiths; 14: cookshop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5: saddlers; 16: tailors; 17: tanners.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редневековый Любе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050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2052"/>
          <p:cNvSpPr/>
          <p:nvPr/>
        </p:nvSpPr>
        <p:spPr>
          <a:xfrm flipV="1">
            <a:off x="533520" y="1225080"/>
            <a:ext cx="84582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вершенствован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етодов производства и торговли подготови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мышленную революцию XVIII и XIX вв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400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Париж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был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центром торговли и образования, столицей Франци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1027"/>
          <p:cNvSpPr/>
          <p:nvPr/>
        </p:nvSpPr>
        <p:spPr>
          <a:xfrm>
            <a:off x="24224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4327560" y="-11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822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1030"/>
          <p:cNvSpPr/>
          <p:nvPr/>
        </p:nvSpPr>
        <p:spPr>
          <a:xfrm>
            <a:off x="4251240" y="2933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1031"/>
          <p:cNvSpPr/>
          <p:nvPr/>
        </p:nvSpPr>
        <p:spPr>
          <a:xfrm>
            <a:off x="2727360" y="659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Rectangle 103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03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Rectangle 1034"/>
          <p:cNvSpPr/>
          <p:nvPr/>
        </p:nvSpPr>
        <p:spPr>
          <a:xfrm flipV="1">
            <a:off x="914400" y="382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Rectangle 1035"/>
          <p:cNvSpPr/>
          <p:nvPr/>
        </p:nvSpPr>
        <p:spPr>
          <a:xfrm>
            <a:off x="152280" y="457200"/>
            <a:ext cx="899172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трее всего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стали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ти города,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оторых находился королевский двор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ндон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50 тыс.,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апо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— 240 тыс., Милан - 200 тыс., Париж — 18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. че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 в число городов с населением порядка 100 тыс. человек входили Рим, Лиссабон, Палермо, Севилья, Антверпен и Амстердам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епление власти привело к снятию многих ограничений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включая местные тарифы,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на торговлю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а 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еанские плавания привели к открытию новых рынк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3520" y="380880"/>
            <a:ext cx="80769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оль ирригационных объектов в появлении городов в речных цивилизациях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YDRAULIC THEO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е характеристики общества этого типа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енсификация сельского хозяйств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леченность в частичное разделение труд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еобходимость кооперации для осуществления крупномасштабных ирригационных проектов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15228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84360" y="54936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VIII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. города перестают рассматриваться как фортификационные объект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2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1027"/>
          <p:cNvSpPr/>
          <p:nvPr/>
        </p:nvSpPr>
        <p:spPr>
          <a:xfrm flipV="1">
            <a:off x="685800" y="1441080"/>
            <a:ext cx="80773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банизация в ходе промышленной революци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 начала XIX в. доля городского населения в мире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ставляла всего лишь около 3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 период между 1800 и 1970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г. доля населения, проживающего в городах, возросла до 39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городского населения увеличилась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% в 1800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о более 75% в 1990 г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050"/>
          <p:cNvSpPr/>
          <p:nvPr/>
        </p:nvSpPr>
        <p:spPr>
          <a:xfrm flipV="1">
            <a:off x="838080" y="79056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Rectangle 205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Rectangle 2053"/>
          <p:cNvSpPr/>
          <p:nvPr/>
        </p:nvSpPr>
        <p:spPr>
          <a:xfrm>
            <a:off x="380880" y="533520"/>
            <a:ext cx="79250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я в сельском хозяйстве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уску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о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ил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стейш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руд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руда машинами, нововведения в методах посадки, выращивания, уборки урожая и переработки продукции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занятых в сельскохозяйственном производстве снизилась с 69%  в 1840 г. до 2,8% в 1988 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батывающая промышленность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зданы новые машины, изготовленные из метал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050"/>
          <p:cNvSpPr/>
          <p:nvPr/>
        </p:nvSpPr>
        <p:spPr>
          <a:xfrm flipV="1">
            <a:off x="838080" y="380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2052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2053"/>
          <p:cNvSpPr/>
          <p:nvPr/>
        </p:nvSpPr>
        <p:spPr>
          <a:xfrm>
            <a:off x="685800" y="762120"/>
            <a:ext cx="81532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оход и железная дорог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снижению стоимости перевозки товаров между города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мышленные города развивались в точках, доступных для междугородной транспортной сет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доль рек, позже вдоль железных дорог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на внутригородском транспорте расширили реальные размеры город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конки, трамваи, автомобиль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томобиль повысил доступность любого места в городе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жане могли жить между радиальными линиями, а предприятия размешаться вне центра город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уз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й автомобильный транспорт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звол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л фирм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 размещать свои производства вне центра города.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Увеличился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бор возможных мест размещения производств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ыросло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альное городское населени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14164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33520" y="685800"/>
            <a:ext cx="81532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строительстве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увеличению площади город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вление легких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льн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ых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арка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в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позволило строить дома повышенной этажности по сравнению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ирпич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дан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ми (п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й небоскреб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каг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85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)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явление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ссажирского лифта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низило издержки на подъем внутри высоких зданий, что повысило практичность небоскреб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19320" y="304920"/>
            <a:ext cx="733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7827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27840" cy="47134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 flipV="1">
            <a:off x="304920" y="909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военная э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1950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рриториальный разброс производственных предприятий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дленное снижение занятости в сельском хозяйств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ст в добывающих отраслях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Рост в рекреационной сфере и сфере по обслуживанию пенсионеро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Чистый от Фотошопа"/>
          <p:cNvPicPr/>
          <p:nvPr/>
        </p:nvPicPr>
        <p:blipFill>
          <a:blip r:embed="rId1"/>
          <a:stretch/>
        </p:blipFill>
        <p:spPr>
          <a:xfrm>
            <a:off x="2195640" y="765000"/>
            <a:ext cx="6325920" cy="4473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040" y="3049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овые индустриальные города. Тольятт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5248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7213320" y="4689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35192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603840" y="15652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640840" y="28195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408400" y="65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2745000" y="20224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0" y="51814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 flipV="1">
            <a:off x="228600" y="758880"/>
            <a:ext cx="85345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очему растут промышленные города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деляют  три причины концентрации рабочих мест в городах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авнительное преимущество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arative advantage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лает выгодной торговлю между регионами, а межрегиональная торговля вызывает развитие рыночных городов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енний эффект масштаба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ternal scal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),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gglomerativ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 flipV="1">
            <a:off x="304920" y="531360"/>
            <a:ext cx="8839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на транспорте и торговые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мбинация сравнительного преимущества и эффекта масштаба на транспорте приводит к развитию города-рынка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-рынок развивается потому, что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ь в сельском хозяйстве достаточно высок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личия в уровнях производительности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статочно велики, чтобы компенсировать транспортные расходы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появление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асштаба на транспор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елает крупномасштабную торговлю и централизованные рынки эффективны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62120" y="380880"/>
            <a:ext cx="78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оронитель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LITARY THEORIES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охраны излишков продовольствия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совместного проживания для отражения внешни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асносте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лигиоз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IGIOUS THEORIES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ргов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CONOMIC THEOR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Торгово-религиозно-оборонительный город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ORETICAL CONSENSUS?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 flipV="1">
            <a:off x="457200" y="751680"/>
            <a:ext cx="838188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производств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озрастает по двум причинам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тру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) рабочие тратят меньше времени на переключение с одной операции на другую.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Неделимые производственные факто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и городская территория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ород растет вокруг фабрик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 flipV="1">
            <a:off x="762120" y="752400"/>
            <a:ext cx="8381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изводства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ъясняет причины появлен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рупных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мышленных городо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ют два типа эффекта концентрации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локализации и эффект урбанизац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основе эффекта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онцент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ии лежат три главные причины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производства промежуточных факторов производства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единого рынка труд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мен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нан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ям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 flipV="1">
            <a:off x="228600" y="1595520"/>
            <a:ext cx="86104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перв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втор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несет выгоды фирмам всего города, а не только фирмам одной отрасл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380880"/>
            <a:ext cx="79246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чаги ранней урбанизаци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сопотамия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000-2000 лет до н.э.) – Эриду, Лагаш, Киш, Ур (25 тыс.чел.), Вавилон (50 тыс.чел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ипет, долина Ни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3500 лет до н.э.) – Мемфис, Гелиополис, Фивы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меньше и не так плотно заселены как города Месопотамии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нос столиц каждым новым фараоном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было необходимости в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строительстве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тификационных сооружен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Инд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2500 лет до н.э.) –Пуньяб и Мохенье-Даро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ве столицы королевства Хараппа на территории современного Пакистан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рно по 20 тыс.чел.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ю по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250 г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Хуанхэ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1800 лет до н.э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ие стены не отделяли города от сельских деревень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связаны сетью деревень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зоамерик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200 лет до н.э.) – южная часть Ме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сик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Гватемала, Белиз, Гондурас (си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тратиф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аци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элита в центре вокруг церквей и дворцов, низшие классы – на периферии)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4652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1337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67652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422840" cy="4813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3352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85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914400"/>
            <a:ext cx="7848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85256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99520" cy="5416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" name="Picture 4" descr="art-i-039"/>
          <p:cNvPicPr/>
          <p:nvPr/>
        </p:nvPicPr>
        <p:blipFill>
          <a:blip r:embed="rId1"/>
          <a:srcRect l="0" t="0" r="17124" b="0"/>
          <a:stretch/>
        </p:blipFill>
        <p:spPr>
          <a:xfrm>
            <a:off x="228600" y="685800"/>
            <a:ext cx="5562720" cy="4103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81952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ланировочные схемы древних поселени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3824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90692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040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382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967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9481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666880" y="5257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32000" y="1022400"/>
            <a:ext cx="5832360" cy="4640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80880" y="609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– культовые сооружения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 жилая зона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 гавани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улица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емесленни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11932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42200" cy="4751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62120" y="6095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ource: After G. Sjoberg (1960) The Pre-industrial City New York: Free Press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9480" y="5943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6:51:38Z</dcterms:created>
  <dc:creator>Everton</dc:creator>
  <dc:description/>
  <dc:language>en-US</dc:language>
  <cp:lastModifiedBy>LEGION</cp:lastModifiedBy>
  <dcterms:modified xsi:type="dcterms:W3CDTF">2016-01-04T14:02:32Z</dcterms:modified>
  <cp:revision>109</cp:revision>
  <dc:subject/>
  <dc:title>Генезис и развитие городов</dc:title>
</cp:coreProperties>
</file>