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  <p:sldId id="335" r:id="rId90"/>
    <p:sldId id="336" r:id="rId91"/>
    <p:sldId id="337" r:id="rId92"/>
    <p:sldId id="338" r:id="rId93"/>
    <p:sldId id="339" r:id="rId94"/>
    <p:sldId id="340" r:id="rId95"/>
    <p:sldId id="341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slide" Target="slides/slide80.xml"/><Relationship Id="rId91" Type="http://schemas.openxmlformats.org/officeDocument/2006/relationships/slide" Target="slides/slide81.xml"/><Relationship Id="rId92" Type="http://schemas.openxmlformats.org/officeDocument/2006/relationships/slide" Target="slides/slide82.xml"/><Relationship Id="rId93" Type="http://schemas.openxmlformats.org/officeDocument/2006/relationships/slide" Target="slides/slide83.xml"/><Relationship Id="rId94" Type="http://schemas.openxmlformats.org/officeDocument/2006/relationships/slide" Target="slides/slide84.xml"/><Relationship Id="rId95" Type="http://schemas.openxmlformats.org/officeDocument/2006/relationships/slide" Target="slides/slide85.xml"/><Relationship Id="rId96" Type="http://schemas.openxmlformats.org/officeDocument/2006/relationships/slide" Target="slides/slide86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2479-731E-441D-9EEB-B0C0F7C2D4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Методология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ышев Денис Перфил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1. Методология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лышев Денис Перфилье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сть изучения макроэкономики заключается в том, ч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не просто описывает макроэкономические явления и процессы, но выявляет их закономерности и зависимости между ними, исследует причинно-следственные связи в эконом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разработать принципы экономической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макроэкономики дает возможность предвидеть, как будут развиваться процессы в будущем, т.е. составлять прогнозы, предвидеть будущие экономически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сть изучения макроэкономики заключается в том, ч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не просто описывает макроэкономические явления и процессы, но выявляет их закономерности и зависимости между ними, исследует причинно-следственные связи в экономи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разработать принципы экономической полит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ние макроэкономики дает возможность предвидеть, как будут развиваться процессы в будущем, т.е. составлять прогнозы, предвидеть будущие экономические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ории макро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экономического рос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делового цик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безработ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инфля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дене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государственного долг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открытой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макроэкономической политик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теории макроэкономи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экономического рост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делового цикл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безработиц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инфля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дене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государственного дол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открытой экономи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макроэкономической политик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. Макро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Макро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вида анализа макроэкономических проце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ex post, или национальное счетоводство, — это анализ статистических данных, который позволяет оценивать результаты 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ex ante — это прогнозное моделирование экономических процессов и явлений на основе определенных теоретических концепций, что позволяет определить закономерности развития экономических процессов и выявить причинно-следственные связи между экономическими явлениями и переменными. Это и есть макроэкономика как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а вида анализа макроэкономических процес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ex post, или национальное счетоводство, — это анализ статистических данных, который позволяет оценивать результаты 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ex ante — это прогнозное моделирование экономических процессов и явлений на основе определенных теоретических концепций, что позволяет определить закономерности развития экономических процессов и выявить причинно-следственные связи между экономическими явлениями и переменными. Это и есть макроэкономика как нау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циональности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"при прочих равных условиях"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абстрагирования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рациональности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"при прочих равных условиях"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абстрагирования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позитивной экономической теории, отражающей фактическое состояние дел, с нормативной экономической теорией, показывающей, как должны развиваться экономически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индуктивного метода, с помощью которого экономисты собирают, систематизируют и обобщают факты, и дедуктивного метода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использование графиков для иллюстрации экономических закономерностей, связей между переменным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четание позитивной экономической теории, отражающей фактическое состояние дел, с нормативной экономической теорией, показывающей, как должны развиваться экономические процесс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четание индуктивного метода, с помощью которого экономисты собирают, систематизируют и обобщают факты, и дедуктивного метода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ое использование графиков для иллюстрации экономических закономерностей, связей между переменным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й принцип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требует агрег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представляет собой объединение отдельных элементов в одно целое, в агрегат, в совокупность. Оно основано на абстрагировании. Агрегирование позволяет выдел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х аг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ейший принцип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требует агрег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представляет собой объединение отдельных элементов в одно целое, в агрегат, в совокупность. Оно основано на абстрагировании. Агрегирование позволяет выдел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х аг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взаимосвяз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показат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аг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, основанное на выявлении типичных черт экономического поведения, дает возможность выделить четыре макроэкономических аг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аг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, основанное на выявлении типичных черт экономического поведения, дает возможность выделить четыре макроэкономических аге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(househol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цель экономической деятельности которого состоит в максимизации полез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ами экономических ресурсов (труда, земли, капитала и предпринимательских способност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купателями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сберегателями и поэтому кредиторами (lenders), обеспечивая предложение кредитных средств (loanable funds)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(househol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цель экономической деятельности которого состоит в максимизации полез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экономических ресурсов (труда, земли, капитала и предпринимательских способносте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окупателями товаров и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сберегателями и поэтому кредиторами (lenders), обеспечивая предложение кредитных средств (loanable funds) в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целью экономической деятельности которого выступает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оизводителями товаров и услуг в эконом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экономических ресурсов, с помощью которых осуществляется процесс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целью экономической деятельности которого выступает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роизводителями товаров и услуг в экономи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экономических ресурсов, с помощью которых осуществляется процесс произво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. 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инвестиционных товаров, т.е. предъявляют спрос на часть произведенной в экономике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заемщиками (borrowers) в экономике, предъявляя спрос на кредитные сре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инвестиционных товаров, т.е. предъявляют спрос на часть произведенной в экономике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заемщиками (borrowers) в экономике, предъявляя спрос на кредитные сре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и фирмы образуют 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и фирмы образуют 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(governme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ционально действующий макроэкономический агент, представленный совокупностью государственных учреждений и организаций, 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задача государства в рыночной экономике состоит в устранении провалов рынка (market failures) и максимизации общественного благосостояния (social welfar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(govern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ационально действующий макроэкономический агент, представленный совокупностью государственных учреждений и организаций, 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задача государства в рыночной экономике состоит в устранении провалов рынка (market failures) и максимизации общественного благосостояния (social welfa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ем общественных бл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ем товаров и услуг, что необходимо для обеспечения функционирования государственного сект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ителем национального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через систему налогов и трансферт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остояния государственного бюджета — кредитором или заемщиком на финансовом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ем общественных бла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ем товаров и услуг, что необходимо для обеспечения функционирования государственного секто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ителем национального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через систему налогов и трансфертов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ависимости от состояния государственного бюджета — кредитором или заемщиком на финансовом рын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ором и организатором функционирования рыночной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создавая и обеспечивая институциональные основы 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проводя макроэкономическую политику, которая делится на структурную, направленную на обеспечение экономического роста, и конъюнктурную 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ятором и организатором функционирования рыночной экономи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создавая и обеспечивая институциональные основы 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проводя макроэкономическую политику, которая делится на структурную, направленную на обеспечение экономического роста, и конъюнктурную 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иды макро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скальная (или бюджетно-налоговая)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етарная (или денежно-кредитная)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доходов (политика "заработная плата — цены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виды макро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скальная (или бюджетно-налоговая)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етарная (или денежно-кредитная)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торговая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ка доходов (политика "заработная плата — цены"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и государственный секторы образуют закрытую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и государственный секторы образуют закрытую эконом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 (foreign sect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объединяющий все остальные страны мира, с которыми данная страна взаимодействует посредств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й торговли, т.е. покупки и продажи товаров и услуг (экспорт и импорт товаров и услуг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щения капиталов, т.е. покупки и продажи финансовых активов — ценных бумаг (экспорт и импорт капитал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 (foreign se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объединяющий все остальные страны мира, с которыми данная страна взаимодействует посредств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ой торговли, т.е. покупки и продажи товаров и услуг (экспорт и импорт товаров и услуг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щения капиталов, т.е. покупки и продажи финансовых активов — ценных бумаг (экспорт и импорт капитал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авление в анализ иностранного сектора дает открытую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бавление в анализ иностранного сектора дает открытую эконом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рынков производится с целью выявления закономерностей функционирования каждого из них, а имен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особенностей формирования спроса и предложения и условий их равновесия на каждом из ры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равновесной цены и равновесного объема на основе соотношения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а последствий изменения равновесия на каждом из ры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рынков производится с целью выявления закономерностей функционирования каждого из них, а именн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следования особенностей формирования спроса и предложения и условий их равновесия на каждом из рын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я равновесной цены и равновесного объема на основе соотношения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а последствий изменения равновесия на каждом из рын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теория включает  2 разде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(«микро» – маленьк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(«макро» – большой; «экономика» – ведение хозяй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исследует закономерности экономического поведения на уровне отдельных экономических агентов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рынков отдельных 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теория включает  2 разде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кроэкономика («микро» – маленьк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(«макро» – большой; «экономика» – ведение хозяйст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кроэкономика исследует закономерности экономического поведения на уровне отдельных экономических агентов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рынков отдельных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рынков дает возможность выделить четыре макроэкономических рын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 (рынок финансовых актив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ки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рынков дает возможность выделить четыре макроэкономических рын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и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 (рынок финансовых активов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экономических ресурс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ютный рын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и услуги предъявляют все макроэкономические аген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товаров и услуг обеспечивают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спроса и предложения позволяет получить величину равновесного уровня цен на товары и услуги (price level — Р) и равновесного объема их производства (real output — 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 называют также реальным рынком (real market), поскольку на нем продают и покупают реальные активы (реальные ц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овары и услуги предъявляют все макроэкономические агент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товаров и услуг обеспечивают фир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спроса и предложения позволяет получить величину равновесного уровня цен на товары и услуги (price level — Р) и равновесного объема их производства (real output — 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и услуг называют также реальным рынком (real market), поскольку на нем продают и покупают реальные активы (реальные ценност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 (financial asset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 (money market) — рынок 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 (bonds market) — рынок не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 (financial asset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 (money market) — рынок 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 (bonds market) — рынок не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енежном рынке 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еньги предъявляют все внутренние макроэкономические агенты (домохозяйства, фирмы и государство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денег обеспечивает центральный банк, обладающий монопольным правом выпуска денег в обращ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денежном рынке 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деньги предъявляют все внутренние макроэкономические агенты (домохозяйства, фирмы и государство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денег обеспечивает центральный банк, обладающий монопольным правом выпуска денег в обращ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денежного рынка, условий его равновесия позволяет получить равновесную ставку процента (interest rate — R), выступающую ценой денег (ценой кредита), и равновесную величину денежной массы (money stock — М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средниками на денежном рынке являются банки, которые принимают денежные вклады и выдают кред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денежного рынка, условий его равновесия позволяет получить равновесную ставку процента (interest rate — R), выступающую ценой денег (ценой кредита), и равновесную величину денежной массы (money stock — М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осредниками на денежном рынке являются банки, которые принимают денежные вклады и выдают креди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я — это бессрочная ценная бумага (т.е. не имеющая срока погашения и существующая столько лет, сколько существует выпустившая ее фирма), делающая ее покупателя совладельцем этой фирмы и обеспечивающая ему право участия в ее управлении и право на получение дохода — дивиденда, величина которого зависит от размеров прибыли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я — это бессрочная ценная бумага (т.е. не имеющая срока погашения и существующая столько лет, сколько существует выпустившая ее фирма), делающая ее покупателя совладельцем этой фирмы и обеспечивающая ему право участия в ее управлении и право на получение дохода — дивиденда, величина которого зависит от размеров прибыли фир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я — это срочная ценная бумага (т.е. выпущенная на определенный срок — например, на год, на 5 лет и т.п.), покупатель которой является креди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процента, а в момент наступления срока погашения — возвращение номинальной стоимости облиг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— это срочная ценная бумага (т.е. выпущенная на определенный срок — например, на год, на 5 лет и т.п.), покупатель которой является кредито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процента, а в момент наступления срока погашения — возвращение номинальной стоимости облига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ценных бумаг 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ами (эмитентами) акций выступают фирмы, а облигаций — фирмы и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выпускают акции и облигации с целью получения средств для финансирования своих инвестиционных расходов и расширения объема производ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осударство выпускает облигации для финансирования дефицита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ценных бумаг 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цами (эмитентами) акций выступают фирмы, а облигаций — фирмы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выпускают акции и облигации с целью получения средств для финансирования своих инвестиционных расходов и расширения объема производств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государство выпускает облигации для финансирования дефицита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ких ресурс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resource mark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кроэкономических моделях представлен рынком труда (labour market)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экономических ресурс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resource marke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акроэкономических моделях представлен рынком труда (labour market)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, которая изучает закономерности функционирования экономики в целом, исследует взаимодействие экономических агентов и экономических рынков друг с другом, при этом экономика рассматривается как сложная, иерархически организованная система, как совокупность экономических процессов и явлений и их показ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– это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, которая изучает закономерности функционирования экономики в целом, исследует взаимодействие экономических агентов и экономических рынков друг с другом, при этом экономика рассматривается как сложная, иерархически организованная система, как совокупность экономических процессов и явлений и их показ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руд предъявляют фирм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труда обеспечивают домо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ие рынка труда позволяет определить равновесное количество труда в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labour — L) и равновесную цену труда — ставку заработной платы (real wage — W/P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неравновесия на рынке труда позволяет выявить причины и формы безрабо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руд предъявляют фир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труда обеспечивают домохозяй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вновесие рынка труда позволяет определить равновесное количество труда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labour — L) и равновесную цену труда — ставку заработной платы (real wage — W/P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неравновесия на рынке труда позволяет выявить причины и формы безработиц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валюты (foreign exchange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национальную валюту предъявляют иностранцы, желающие купить товары и (или) ценные бумаги данной стра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национальной валюты обеспечивает центральный банк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мена одной национальной валюты на другую (соотношения спроса и предложения) формируется ее цена — валютный курс (е — exchange rat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валюты (foreign exchange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национальную валюту предъявляют иностранцы, желающие купить товары и (или) ценные бумаги данной стра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национальной валюты обеспечивает центральный банк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обмена одной национальной валюты на другую (соотношения спроса и предложения) формируется ее цена — валютный курс (е — exchange r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ругооборот продукта, расходов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ругооборот продукта, расходов 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кругооборота продукта, расходов и дохо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одель круговых потоков — model of circular flow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макроэкономические взаимосвязи, т.е. исследовать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кругооборота продукта, расходов и дохо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модель круговых потоков — model of circular flow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макроэкономические взаимосвязи, т.е. исследовать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дву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только из 2 макроэкономических агентов — домохозяйств и фирм — и 2 рынков — рынка товаров и услуг и рынка экономичес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дву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ит только из 2 макроэкономических агентов — домохозяйств и фирм — и 2 рынков — рынка товаров и услуг и рынка экономических ресур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атериаль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приобретают товары и услуги (предъявляют спрос на товары и услуг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 производят и поставляют на этот рынок фирмы (обеспечивают предложение товаров и услуг — совокупный проду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материаль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приобретают товары и услуги (предъявляют спрос на товары и услуг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и услуги производят и поставляют на этот рынок фирмы (обеспечивают предложение товаров и услуг — совокупный проду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неж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потоки опосредуются денежными пото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я товары и услуги, домохозяйства за них платят, обеспечивая фирмам выручку от продаж (reven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у выручку фирмы выплачивают домохозяйствам в виде факторных доходов (income), включающ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ую плату (wage) — за фактор тру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у (rent) — за фактор земл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(interest) — за фактор капит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(profit) — за фактор предпринимательские способности, в сумме составляющих совокупный (национальный)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денеж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ьные потоки опосредуются денежными пото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я товары и услуги, домохозяйства за них платят, обеспечивая фирмам выручку от продаж (reven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у выручку фирмы выплачивают домохозяйствам в виде факторных доходов (income), включающи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работную плату (wage) — за фактор тру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у (rent) — за фактор земл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нт (interest) — за фактор капита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быль (profit) — за фактор предпринимательские способности, в сумме составляющих совокупный (национальный)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потоков в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и расходы движутся по к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почему модель получила название модели кругооборота (круговых пото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потоки движутся против часовой стрелки, а денежные — по часовой стрел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и экономические ресурсы движется по часовой стрелке, а предложение — проти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ижение потоков в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и расходы движутся по круг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почему модель получила название модели кругооборота (круговых поток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ьные потоки движутся против часовой стрелки, а денежные — по часовой стрел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овары и экономические ресурсы движется по часовой стрелке, а предложение — проти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из двухсекторной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каждого материального потока равна величине денежного по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равен совокупным расх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ы из двухсекторной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каждого материального потока равна величине денежного пот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равен совокупным расход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финанс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дохода они сберегают, при этом сбережения (saving — S) должны приносить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едопределяет необходимость появления финансового рынка, на котором сбережения домохозяйств превращаются в инвестиционные ресурсы фир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финансового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ь дохода они сберегают, при этом сбережения (saving — S) должны приносить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едопределяет необходимость появления финансового рынка, на котором сбережения домохозяйств превращаются в инвестиционные ресурсы фир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макроэкономика» впер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требил в своей статье в 1933 г. известный норвежский ученый — экономист-математик, один из основоположников эконометрики, лауреат Нобелевской премии (1969 г.) Рагнар Фриш (Ragnar Fris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«макроэкономика» впер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ил в своей статье в 1933 г. известный норвежский ученый — экономист-математик, один из основоположников эконометрики, лауреат Нобелевской премии (1969 г.) Рагнар Фриш (Ragnar Fri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двухсекторной модели экономики с финансовым ры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двухсекторной модели экономики с финансовым рын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способа превращения сбережений домохозяйств в инвестиционные ресурсы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осредованный (косвенный)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й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а способа превращения сбережений домохозяйств в инвестиционные ресурсы фи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осредованный (косвенный)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ой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домохозяйств на покупку товаров и услуг — потребительские расходы (consumption spending — С) дополняются инвестиционными расходами фирм (investment spending — 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Y (yiel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овокупного продукта тождественно равна сумме совокупных расходов (expenditures — 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домохозяйств на покупку товаров и услуг — потребительские расходы (consumption spending — С) дополняются инвестиционными расходами фирм (investment spending — 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Y (yie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овокупного продукта тождественно равна сумме совокупных расходов (expenditures — Е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двухсекторной модели экономики состоят из потребительских расходов домохозяйств (С) и инвестиционных расходов фирм (I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Е тождественно равны совокупному доходу (Y), 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инвестиции тождественно равны сбережения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двухсекторной модели экономики состоят из потребительских расходов домохозяйств (С) и инвестиционных расходов фирм (I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совокупные расходы Е тождественно равны совокупному доходу (Y), 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овательно, инвестиции тождественно равны сбережени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и и изъ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представляют собой инъекции (injections) в экономику, а сбережения — изъятия (leakages — утечки) из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и — это все, что увеличивает поток расходов и, следовательно, доходов (за исключением потребительских расходов, которые не относятся ни к инъекциям, ни к изъятия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ъятия — это все, что сокращает поток расходов и, следовательно,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и и изъ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 представляют собой инъекции (injections) в экономику, а сбережения — изъятия (leakages — утечки) из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и — это все, что увеличивает поток расходов и, следовательно, доходов (за исключением потребительских расходов, которые не относятся ни к инъекциям, ни к изъятия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ъятия — это все, что сокращает поток расходов и, следовательно,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и сбере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вновесной экономике инъекции тождественно равны изъят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 и сбере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вновесной экономике инъекции тождественно равны изъяти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т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ы в основном денежные пот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т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ы в основном денежные пото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государство делает закупки товаров и услуг (government spending — G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государство делает закупки товаров и услуг (government spending — G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государство обязывает всех платить налоги (taxes — Тх), являющие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перераспределитель национального дохода не только собирает налоги, но и выплачивает трансферты (transfer payments — Т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ы — это платежи, которые домохозяйства и фирмы безвозмездно (не в обмен на товары и услуги) получают от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домохозяйствам — это различные социальные выплаты (social benefits): пенсии, стипендии, пособия по безработице, пособия по нетрудоспособности, пособия по бедност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фирмам — это субсидии (subsidi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государство обязывает всех платить налоги (taxes — Тх), являющие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перераспределитель национального дохода не только собирает налоги, но и выплачивает трансферты (transfer payments — Т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ы — это платежи, которые домохозяйства и фирмы безвозмездно (не в обмен на товары и услуги) получают от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ные платежи государства домохозяйствам — это различные социальные выплаты (social benefits): пенсии, стипендии, пособия по безработице, пособия по нетрудоспособности, пособия по бедност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ные платежи государства фирмам — это субсидии (subsidi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креди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ы государства превышают расходы, т.е. имеет место профицит (излишек) государственного бюджета, то государство может выступить на финансовом рынке кредитором, покупая ценные бумаги частн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&gt; Расходы = Про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креди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доходы государства превышают расходы, т.е. имеет место профицит (излишек) государственного бюджета, то государство может выступить на финансовом рынке кредитором, покупая ценные бумаги частны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&gt; Расходы = Профиц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ая теория берет 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о от фундаментального труда выдающегося английского экономиста Джона Мейнарда Кейнса (John Maynard Keyn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36 г. вышла его книга "Общая теория занятости, процента и денег", в которой он заложил основы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кейнсианская макроэкономическая модель, 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(классическая мод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ая теория берет нач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тельно от фундаментального труда выдающегося английского экономиста Джона Мейнарда Кейнса (John Maynard Keyn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36 г. вышла его книга "Общая теория занятости, процента и денег", в которой он заложил основы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кейнсианская макроэкономическая модель, 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(классическая модел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заемщ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асходы государства (государственные закупки плюс трансферты) превышают доходы государства (налоги), что соответствует дефициту государственного бюджета, то государство для оплаты своих расходов должно занять деньги на финансовом рынке, выступая заемщ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&lt; Расходы = 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заемщи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расходы государства (государственные закупки плюс трансферты) превышают доходы государства (налоги), что соответствует дефициту государственного бюджета, то государство для оплаты своих расходов должно занять деньги на финансовом рынке, выступая заемщ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&lt; Расходы = Дефиц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государственного зай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ханизм государственного зай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аковы для двух- и трехсекторной мод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вокупный продукт = Совокуп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Совокупный доход = Совокупные рас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Инъекции = Изъ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инаковы для двух- и трехсекторной моде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Совокупный продукт = Совокуп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Совокупный доход = Совокупные 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Инъекции = Изъ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трехсекторной модели экономики состоят из потребления (С), инвестиций (I) и государственных закупок (G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 +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налоги – разница между налогами и трансфер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 = Tx – T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трехсекторной модели экономики состоят из потребления (С), инвестиций (I) и государственных закупок (G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 +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ые налоги – разница между налогами и трансферта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T = Tx – 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+ G =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процентов по государственным облигациям обычно учитываются в величине трансфертов (также, как и трансферты, выплачиваются не в обмен на товар или услуг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 + G =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латы процентов по государственным облигациям обычно учитываются в величине трансфертов (также, как и трансферты, выплачиваются не в обмен на товар или услугу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(совокупный) доход (Y) - сумма факторных доходов, т.е. доходов, заработанным собственниками экономических ресурсов (домохозяйствам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(disposal income — Yd) - доход, которым домохозяйства могут распоряжаться и расходовать по собственному усмотр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отличается от национального дохода на величину налогов (Тх), которые домохозяйства платят государству, и величину трансфертов (Тr), которые государство платит домохозяй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й (совокупный) доход (Y) - сумма факторных доходов, т.е. доходов, заработанным собственниками экономических ресурсов (домохозяйствам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(disposal income — Yd) - доход, которым домохозяйства могут распоряжаться и расходовать по собственному усмотр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отличается от национального дохода на величину налогов (Тх), которые домохозяйства платят государству, и величину трансфертов (Тr), которые государство платит домохозяйства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Y - Tx + 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вычесть чистые налоги 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Y -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C +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Y - Tx + 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ли вычесть чистые налоги 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Y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C +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ырехсекторная модель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ение в модель кругооборота иностранного сектора дает четырехсекторную модель экономики (модель открытой экономи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 модели кругооборота отражены только денежные потоки, то под экспортом (export — Ex) понимается выручка (доходы) от экспорта (стрелка от иностранного сектора), а под импортом (import — Im) — расходы по импорту (стрелка к иностранному сектор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тырехсекторная модель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ключение в модель кругооборота иностранного сектора дает четырехсекторную модель экономики (модель открытой экономик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в модели кругооборота отражены только денежные потоки, то под экспортом (export — Ex) понимается выручка (доходы) от экспорта (стрелка от иностранного сектора), а под импортом (import — Im) — расходы по импорту (стрелка к иностранному сектору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четы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четы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экспорта и импорта отражается в торговом балан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 расходы   по   импорту  превышают  доходы  от  экспорта  (Iт &gt; Ех), то это соответствует дефициту торгового балан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на финансовый рынок страны происходит приток денежных средств из иностранного сектора, который называется притоком капитала (capital inflow), и страна выступает заемщ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экспорта и импорта отражается в торговом баланс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 расходы   по   импорту  превышают  доходы  от  экспорта  (Iт &gt; Ех), то это соответствует дефициту торгового балан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на финансовый рынок страны происходит приток денежных средств из иностранного сектора, который называется притоком капитала (capital inflow), и страна выступает заемщ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исследует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, общие для всей экономики и оперирует совокупными величинами, такими к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спро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отребл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уровень це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безработ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исследует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, общие для всей экономики и оперирует совокупными величинами, такими ка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ой внутренний продукт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й доход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отребл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уровень цен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безработиц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ы от экспорта превышают расходы по импорту (Ex &gt; Iт), что означает профицит (излишек) торгового баланса, то из страны происходит отток капитала (capital outflow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случае страна выступает креди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доходы от экспорта превышают расходы по импорту (Ex &gt; Iт), что означает профицит (излишек) торгового баланса, то из страны происходит отток капитала (capital outflow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ом случае страна выступает кредито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 + G + X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n – чистый экспорт (расходы иностранного секто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 – разница между экспортом и импор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n = Ex - 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 + G + 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Xn – чистый экспорт (расходы иностранного сектор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ый экспорт – разница между экспортом и импор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Xn = Ex - 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е макроэкономическое тожд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тождественно равны совокупному доходу (             )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формула называется основным макроэкономическим тожде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ое макроэкономическое тожд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совокупные расходы тождественно равны совокупному доходу (             ), 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формула называется основным макроэкономическим тождеств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ждество инъекций и изъ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казателе чистого экспорта присутству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я — экспорт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ъятие — импорт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для четырехсекторной модели экономики тождество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ждество инъекций и изъ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казателе чистого экспорта присутству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я — экспорт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ъятие — импорт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для четырехсекторной модели экономики тождество имеет ви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редмет макроэкономики можно определить более точно: макроэкономика изучает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ерь предмет макроэкономики можно определить более точно: макроэкономика изучает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акроэкономические модели и их показ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Макроэкономические модели и их показа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макроэкономические процессы изучаются на основе построения мод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макроэкономические процессы изучаются на основе построения мод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могут выступать в виде теорий, функций, рисунков, схем, таблиц, 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могут выступать в виде теорий, функций, рисунков, схем, таблиц, 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ые и эндогенные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включают два вида переменных: экзогенные и эндог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ые переменные — это переменные, задающиеся извне, значение которых формируется вне модели. Экзогенные переменные являются в моделях независимыми величинами, а их изменение называется автономным изме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догенные переменные — это переменные, значение которых формируется внутри модели. Это зависимые перем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ые и эндогенные перем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 включают два вида переменных: экзогенные и эндогенны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ые переменные — это переменные, задающиеся извне, значение которых формируется вне модели. Экзогенные переменные являются в моделях независимыми величинами, а их изменение называется автономным измене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догенные переменные — это переменные, значение которых формируется внутри модели. Это зависимые перемен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ая пе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догенная пе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ая перем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догенная перем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облемы, которые изучает макро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рост, его факторы и тем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цикл и его прич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ятость и безработ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уровень цен и инфля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ставки процента и денежное обра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государственного бюджета и финансирование бюджетного дефиц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платежного баланса и 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проблемы, которые изучает макроэкономи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й рост, его факторы и темп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й цикл и его причи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нятость и безработиц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уровень цен и инфляц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ставки процента и денежное обращ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государственного бюджета и финансирование бюджетного дефици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платежного баланса и валютный кур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ункции (модели) потребления С = С (Yd), где С — величина совокупных потребительских расходов, a    Yd — располагаемый доход, Yd является экзогенной переменной, а С — эндог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функции (модели) потребления С = С (Yd), где С — величина совокупных потребительских расходов, a    Yd — располагаемый доход, Yd является экзогенной переменной, а С — эндоген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ных моделях одна и та же величина может быть и экзогенной, и эндог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AD = C+ I+ G+Xn 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зных моделях одна и та же величина может быть и экзогенной, и эндоген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AD = C+ I+ G+Xn 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е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составляют переменные государственного управления, называемые политическими переменными, которые, как правило, в макроэкономических моделях являются экзогенны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ордные налог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став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трансфер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ная ставка процен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обязательных резерв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м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ческие перем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лючение составляют переменные государственного управления, называемые политическими переменными, которые, как правило, в макроэкономических моделях являются экзогенны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кордные налог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овые став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трансферт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тная ставка процент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обязательных резерв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ая мас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потоков и зап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азатели потоков и зап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к (flow) — это показатель, характеризующий количество за определенный период времени             (в макроэкономике, как правило, за го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рассчитываются за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к (flow) — это показатель, характеризующий количество за определенный период времени             (в макроэкономике, как правило, за год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рассчитываются за г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 (stock) — это показатель, характеризующий количество на определенный момент, на определенную дату (например, 1 января 2012 г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 (stock) — это показатель, характеризующий количество на определенный момент, на определенную дату (например, 1 января 2012 г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е и относительные показ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е 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ые 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ые и относительные показа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ые 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ительные 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эти пробл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макро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эти пробле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макро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7AA4-0732-4474-A6C8-62E07269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9802-6948-4A07-BE24-695A6254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DAFF-9D42-4A3D-A300-5A9C173C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B9C8-DA7F-4C1B-B2A2-209D65BF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DE8F-E181-4FAD-8529-27315DFB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14BB-6FEB-414D-8484-9BEA8040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03F5-A6A5-4276-BC20-1117063A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DB1F-55AC-44D3-B72E-4089C72B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30B1-971C-4E81-A5CF-D766130D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CC8D-154D-4EF2-8D08-18A15DBF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80CE-1F4E-40E0-B0DA-CB9C713C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1C7-E93B-4B88-B579-5FEB1522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AA40-CFCC-44E1-88B2-9D68FBA9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0B03-92F9-4857-A78D-241B6F8D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512E-205D-43E5-BD3C-9BA1DC21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8151-960D-41A5-AD7D-3C96048C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F518-6CB3-4EA2-BC5B-FE1C2CB0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B4519-3B8B-465A-9C66-4B5967BC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D7E9D-D1DE-466E-ACE5-C0C359EB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4DAFE-BF4F-4BAB-9FE3-F8AAB824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1474F-46F3-413C-A500-03C1E73F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8CF43-E791-4750-BE5A-A595B8B5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621D-045D-4F90-8859-5CD656F6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6B4D2-0D09-4EFB-B8EC-A5C0E570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CE144-57B8-4156-AAE7-F3D5E573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FAD64-153E-4D75-9B65-55A112A7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77F99-FEA7-4A4D-B094-30E961C1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26185-0919-4D5C-BB46-9629DC6D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4D622-3EB0-457C-A57B-5D3AFB97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AD682-FA81-4F38-9C1F-CC18AFB9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80B37-77F6-44AE-A0FD-FC5D9348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F1CE8-339A-46A9-9541-B5872964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428B6-6A0F-4D84-9972-76D9805D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8F9F-EF69-4C59-AEAA-7AA4419C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538FA-A08D-4CBC-A6FF-4113BF47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E78FF-7FA3-42B0-9320-DD6DF405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8C88F-86E1-4481-8A6C-B689DF8C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3BBFE-AECA-4951-897F-A783D211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1E241-470D-4F34-BEBD-F33011E4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C8A96-93E0-4D82-98CA-3ED0076E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58209-F2AE-4B96-976B-175294C0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CFCA8-EA29-49C1-9B4F-02464A2C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EDF83-ED65-4F60-85F1-68B7CA2F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D84D2-D11E-4808-8916-BD6C6F90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A871-5C71-46AD-B4B5-183184CF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3CA0A-10D8-4A92-B108-7BCD8810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3711C-BD39-4BF9-90B3-62805B8D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A2862-529C-4915-9C5C-5A27512F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95F3F-E3E2-457F-88D3-EF260EB9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BF906-034C-4F25-BC44-887569E5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02E33-5875-4C51-A336-803173C7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F5BFB-253F-4270-97E0-6A6428A1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680E6-E72C-4BA4-9B3C-6173CD12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1699F-E9FD-4FC8-8C1C-F38AB68C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431A5-4EE8-4B26-9419-EBBDCC0E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C2A8-BD9B-402C-BC3D-7803D954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7F0EA-5F65-4C83-9C58-08A76884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21CF7-6900-4477-A42F-4058686F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11C83-85D9-4670-BB4B-B78174EC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24BFE-A628-4170-AF93-41618305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D8A56-9DDB-4C89-8595-411AF11E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F0418-B39E-4980-8351-96559E37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E87A3-5978-4E1C-A523-D4E8289B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98F6A-A3ED-4DA9-B465-341B64F5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02C29-0232-40B6-AF07-F310FB4F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37602-A627-4FAC-BC48-F19C0E8C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1DB4-6CD0-4A61-943D-04D29ED0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CBBC1-A4B5-4DC6-A493-F7EF63CD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45D9D-43CF-4548-A573-60AEE404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BB759-9FD7-483D-B908-8231D29E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BE717-E5B9-4378-8656-0FA4B65D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7A8CD-B738-4000-AE45-7BE88DF7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BCAC4-3092-454E-93B2-68C0D85F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3A5EA-0C37-4C1D-A4DB-DA408183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01391-34CF-44F1-94CB-5D816832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CB215-7C36-44FB-B3DF-42494E45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1F0F6-FF6C-40F1-9EC6-69CBD79F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E034-6C26-4018-8046-8E452418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46EE8-289A-4C3A-855E-F414BC57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97850-554B-45DF-BDA1-37E5B9F4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BC488-4020-4FB7-9EC0-E7861772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9008B-E6BA-4A73-9CC8-2D69D0C2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303F6-2A47-47ED-B25D-5DEB0267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11EFA-575F-44A1-BC03-B1A3B04F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44ABC-9D5A-4608-9642-14C45506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E2E63-FE74-474C-AE8B-F52F110D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1679F-788F-4D8B-BCEC-1D8ED069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60302-201F-4EDE-A120-0DD0C16F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B6A2-9962-4BBA-8B4F-2C1FCFE8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49362-483F-46D3-8722-B72BC3DB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561AD-85D1-4CDE-8A76-FE358365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26309-1DBD-4027-9C2A-8E274EE5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F4454-CB82-41D3-87E5-937A400C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8D9E8-E7BC-4C38-B3EB-CFADE4E0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DA0BC-9ED2-41F7-B451-48DB4D6A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451A4-DE32-431F-AA23-15B0A09A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93C4-1AC1-47A2-A64E-BA7C15722695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4DB7-3EB0-4B3C-8373-FB72A2052B4D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2849-6EF6-4FCC-BC1E-53AEAE3A7F27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97FA-C60E-4F09-9578-8358019AEBB3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D6D3-CAA2-4409-A157-1D8541266986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EBB0-0D70-4B9D-948E-215275E0638E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E17B-664F-492E-B656-67DD8960DC67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B4FE-BEA8-44C7-B82D-DD1EC59429D7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mbria"/>
              </a:rPr>
              <a:t>Макроэкономика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mbria"/>
              </a:rPr>
              <a:t>Тема 1. Методология макро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mbria"/>
              </a:rPr>
              <a:t>Малышев Денис Перфильевич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4617b"/>
                </a:solidFill>
                <a:latin typeface="Cambria"/>
              </a:rPr>
              <a:t>Важность изучения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макроэкономики заключается в том, что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а не просто описывает макроэкономические явления и процессы, н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являет их закономерности и зависимост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ними, исследу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ичинно-следственные связ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экономике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зработать принципы экономической политик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ние макроэкономики дает возможность предвидеть, как будут развиваться процессы в будущем, т.е.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ставлять прогноз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видеть будущие экономические проблем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сновные теории макроэкономики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экономического рост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делового цикл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безработицы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инфляции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денег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государственного долг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открытой экономики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макроэкономической политики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2. Макроэкономический анализ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а вида анализа макроэкономических процессов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ex post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национальное счетоводство, — 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нализ статистических данных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орый позволяе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ценивать результат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ex ant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гнозное моделирование экономических процесс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явлений на основе определенных теоретических концепций, что позволяе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пределить закономерност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я экономических процессов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ыявить причинно-следственные связ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экономическими явлениями и переменными. Это и есть макроэкономика как наук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нципы макроэкономического анализ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рациональност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"при прочих равных условиях"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абстрагировани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нципы макроэкономического анализ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позитивной экономической тео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тражающей фактическое состояние дел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нормативно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ческой теорией, показывающей, как должны развиваться экономические процессы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индуктивного мет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 помощью которого экономисты собирают, систематизируют и обобщают факты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дедуктивного мет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ирокое использование график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иллюстрации экономических закономерностей, связей между переменными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Агрегировани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жнейший принцип макроэкономического анализ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требует агрегирован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грегирование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яет собой объединение отдельных элементов в одно целое, в агрегат, в совокупность. Оно основано 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бстрагировании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грегирование позволяет выделить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х агентов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рынки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агенты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, основанное на выявлени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ипичных черт экономического повед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ет возможность вы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макроэкономических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агент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Прямоугольник 4"/>
          <p:cNvSpPr/>
          <p:nvPr/>
        </p:nvSpPr>
        <p:spPr>
          <a:xfrm>
            <a:off x="114300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оугольник 5"/>
          <p:cNvSpPr/>
          <p:nvPr/>
        </p:nvSpPr>
        <p:spPr>
          <a:xfrm>
            <a:off x="485784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Прямоугольник 6"/>
          <p:cNvSpPr/>
          <p:nvPr/>
        </p:nvSpPr>
        <p:spPr>
          <a:xfrm>
            <a:off x="1143000" y="421488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Прямоугольник 7"/>
          <p:cNvSpPr/>
          <p:nvPr/>
        </p:nvSpPr>
        <p:spPr>
          <a:xfrm>
            <a:off x="4857840" y="421488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ностранный се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Домохозяйства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household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кономической деятельности которого состоит 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ксимизации полез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являются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бственниками экономических ресурс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труда, земли, капитала и предпринимательских способностей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сновными покупателями товаров и услуг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сновными сберегателями и поэтому кредиторам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lenders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вая предложение кредитных средств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nable fund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в экономик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Фирмы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business firm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целью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экономической деятельности которого выступает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аксимизация прибыл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рмы являютс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изводителя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варов и услуг в экономике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купателями экономических ресурс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с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мощью которых осуществляется процесс производств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1. Предмет макро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Фирмы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business firm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купателями инвестиционных товар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.е. предъявляют спрос на часть произведенной в экономике продукци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емщикам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rrower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в экономике, предъявляя спрос на кредитные средств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Частный сектор 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мохозяйства и фирмы образую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частный сектор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Прямоугольник 4"/>
          <p:cNvSpPr/>
          <p:nvPr/>
        </p:nvSpPr>
        <p:spPr>
          <a:xfrm>
            <a:off x="114300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Прямоугольник 5"/>
          <p:cNvSpPr/>
          <p:nvPr/>
        </p:nvSpPr>
        <p:spPr>
          <a:xfrm>
            <a:off x="1143000" y="407196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Правая фигурная скобка 7"/>
          <p:cNvSpPr/>
          <p:nvPr/>
        </p:nvSpPr>
        <p:spPr>
          <a:xfrm>
            <a:off x="3714840" y="2571840"/>
            <a:ext cx="428400" cy="271440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400"/>
              <a:gd name="textAreaBottom" fmla="*/ 2504520 h 27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Прямоугольник 8"/>
          <p:cNvSpPr/>
          <p:nvPr/>
        </p:nvSpPr>
        <p:spPr>
          <a:xfrm>
            <a:off x="4500720" y="335772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Государство 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government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рационально действующий макроэкономический агент, представленны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остью государственных учреждений и организаций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ная задача государства в рыночной экономике состоит в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устранении провалов рынк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rket failure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симизации общественного благосостояни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cial welfare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выступает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изводителем общественных бла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купателем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необходимо для обеспечения функционирования государственного сектор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ерераспределителем национального доход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через систему налогов и трансфертов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зависимости от состояния государственного бюджет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 или заемщиком на финансовом рынк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выступает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егулятором и организаторо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онирования рыночной экономик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первых, создавая и обеспечива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ституциональные основ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вторых, провод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ую политику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орая делится н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руктурную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авленную на обеспечение экономического роста, 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онъюнктурную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Основные виды макроэкономической полит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скальная (или бюджетно-налоговая)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нетарная (или денежно-кредитная)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нешнеторговая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итика доходов (политика "заработная плата — цены"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Закрытая экономи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ный и государственный секторы образую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закрытую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Прямоугольник 4"/>
          <p:cNvSpPr/>
          <p:nvPr/>
        </p:nvSpPr>
        <p:spPr>
          <a:xfrm>
            <a:off x="785880" y="214308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Прямоугольник 5"/>
          <p:cNvSpPr/>
          <p:nvPr/>
        </p:nvSpPr>
        <p:spPr>
          <a:xfrm>
            <a:off x="785880" y="357192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Правая фигурная скобка 7"/>
          <p:cNvSpPr/>
          <p:nvPr/>
        </p:nvSpPr>
        <p:spPr>
          <a:xfrm>
            <a:off x="3214800" y="2143080"/>
            <a:ext cx="428400" cy="271476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760"/>
              <a:gd name="textAreaBottom" fmla="*/ 250488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Прямоугольник 8"/>
          <p:cNvSpPr/>
          <p:nvPr/>
        </p:nvSpPr>
        <p:spPr>
          <a:xfrm>
            <a:off x="3857760" y="300024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Прямоугольник 9"/>
          <p:cNvSpPr/>
          <p:nvPr/>
        </p:nvSpPr>
        <p:spPr>
          <a:xfrm>
            <a:off x="3857760" y="442908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Правая фигурная скобка 10"/>
          <p:cNvSpPr/>
          <p:nvPr/>
        </p:nvSpPr>
        <p:spPr>
          <a:xfrm>
            <a:off x="6286680" y="3000240"/>
            <a:ext cx="428400" cy="271476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760"/>
              <a:gd name="textAreaBottom" fmla="*/ 250488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Прямоугольник 11"/>
          <p:cNvSpPr/>
          <p:nvPr/>
        </p:nvSpPr>
        <p:spPr>
          <a:xfrm>
            <a:off x="6858000" y="3500280"/>
            <a:ext cx="1714680" cy="15717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Иностранный сектор 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foreign sector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объединяющи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 остальные страны мир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 которыми данная страна взаимодействует посредством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еждународной торгов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покупки и продажи товаров и услуг (экспорт и импорт товаров и услуг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еремещения капитал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покупки и продажи финансовых активов — ценных бумаг (экспорт и импорт капитала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ткрытая экономи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бавление в анализ иностранного сектора дае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открытую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Прямоугольник 4"/>
          <p:cNvSpPr/>
          <p:nvPr/>
        </p:nvSpPr>
        <p:spPr>
          <a:xfrm>
            <a:off x="285840" y="2143080"/>
            <a:ext cx="2286000" cy="5000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оугольник 5"/>
          <p:cNvSpPr/>
          <p:nvPr/>
        </p:nvSpPr>
        <p:spPr>
          <a:xfrm>
            <a:off x="285840" y="2786040"/>
            <a:ext cx="2286000" cy="5000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авая фигурная скобка 7"/>
          <p:cNvSpPr/>
          <p:nvPr/>
        </p:nvSpPr>
        <p:spPr>
          <a:xfrm>
            <a:off x="2643120" y="2143080"/>
            <a:ext cx="285840" cy="114300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1143000"/>
              <a:gd name="textAreaBottom" fmla="*/ 10029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230"/>
                  <a:pt x="10800" y="8460"/>
                </a:cubicBezTo>
                <a:lnTo>
                  <a:pt x="10800" y="2454"/>
                </a:lnTo>
                <a:cubicBezTo>
                  <a:pt x="10800" y="6684"/>
                  <a:pt x="16200" y="10914"/>
                  <a:pt x="21600" y="10914"/>
                </a:cubicBezTo>
                <a:cubicBezTo>
                  <a:pt x="16200" y="10914"/>
                  <a:pt x="10800" y="15144"/>
                  <a:pt x="10800" y="19374"/>
                </a:cubicBezTo>
                <a:lnTo>
                  <a:pt x="10800" y="13140"/>
                </a:lnTo>
                <a:cubicBezTo>
                  <a:pt x="10800" y="1737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Прямоугольник 8"/>
          <p:cNvSpPr/>
          <p:nvPr/>
        </p:nvSpPr>
        <p:spPr>
          <a:xfrm>
            <a:off x="3000240" y="2143080"/>
            <a:ext cx="164304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оугольник 9"/>
          <p:cNvSpPr/>
          <p:nvPr/>
        </p:nvSpPr>
        <p:spPr>
          <a:xfrm>
            <a:off x="3000240" y="3500280"/>
            <a:ext cx="164304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Правая фигурная скобка 10"/>
          <p:cNvSpPr/>
          <p:nvPr/>
        </p:nvSpPr>
        <p:spPr>
          <a:xfrm>
            <a:off x="4643280" y="2071800"/>
            <a:ext cx="285840" cy="264312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2643120"/>
              <a:gd name="textAreaBottom" fmla="*/ 2503080 h 264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29"/>
                  <a:pt x="10800" y="3658"/>
                </a:cubicBezTo>
                <a:lnTo>
                  <a:pt x="10800" y="7256"/>
                </a:lnTo>
                <a:cubicBezTo>
                  <a:pt x="10800" y="9085"/>
                  <a:pt x="16200" y="10914"/>
                  <a:pt x="21600" y="10914"/>
                </a:cubicBezTo>
                <a:cubicBezTo>
                  <a:pt x="16200" y="10914"/>
                  <a:pt x="10800" y="12743"/>
                  <a:pt x="10800" y="14572"/>
                </a:cubicBezTo>
                <a:lnTo>
                  <a:pt x="10800" y="17942"/>
                </a:lnTo>
                <a:cubicBezTo>
                  <a:pt x="10800" y="1977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Прямоугольник 11"/>
          <p:cNvSpPr/>
          <p:nvPr/>
        </p:nvSpPr>
        <p:spPr>
          <a:xfrm>
            <a:off x="5000760" y="3071880"/>
            <a:ext cx="1857240" cy="8571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Прямоугольник 12"/>
          <p:cNvSpPr/>
          <p:nvPr/>
        </p:nvSpPr>
        <p:spPr>
          <a:xfrm>
            <a:off x="5000760" y="4071960"/>
            <a:ext cx="1857240" cy="8571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Иностранный секто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Правая фигурная скобка 13"/>
          <p:cNvSpPr/>
          <p:nvPr/>
        </p:nvSpPr>
        <p:spPr>
          <a:xfrm>
            <a:off x="6929280" y="3071880"/>
            <a:ext cx="285840" cy="192888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1928880"/>
              <a:gd name="textAreaBottom" fmla="*/ 178884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07"/>
                  <a:pt x="10800" y="5013"/>
                </a:cubicBezTo>
                <a:lnTo>
                  <a:pt x="10800" y="5901"/>
                </a:lnTo>
                <a:cubicBezTo>
                  <a:pt x="10800" y="8408"/>
                  <a:pt x="16200" y="10914"/>
                  <a:pt x="21600" y="10914"/>
                </a:cubicBezTo>
                <a:cubicBezTo>
                  <a:pt x="16200" y="10914"/>
                  <a:pt x="10800" y="13421"/>
                  <a:pt x="10800" y="15927"/>
                </a:cubicBezTo>
                <a:lnTo>
                  <a:pt x="10800" y="16587"/>
                </a:lnTo>
                <a:cubicBezTo>
                  <a:pt x="10800" y="1909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Прямоугольник 14"/>
          <p:cNvSpPr/>
          <p:nvPr/>
        </p:nvSpPr>
        <p:spPr>
          <a:xfrm>
            <a:off x="7286760" y="3643200"/>
            <a:ext cx="1643040" cy="857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т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рын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 рынков производится с целью выяв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кономерностей функционирова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ждого из них, а именно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следования особенносте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ормирования спроса и предло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условий их равновесия на каждом из рынков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реде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авновесной цены и равновесного объем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основе соотношения спроса и предложени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следствий изменения равновес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каждом из рынк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Экономическая теория включает  2 раздела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икроэкономика («микро» – маленький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ка («макро» – большой; «экономика» – ведение хозяйств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Микроэкономик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сследует закономерности экономического поведения на уровне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тдельных экономических агентов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ынков отдельных товар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рын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 рынков дает возможность вы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макроэкономических рынка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товаров и услуг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нансовый рынок (рынок финансовых активов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экономических ресурсов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лютный рынок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Агрегированный 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товаров и услуг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good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Агрегированный 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товаров и услуг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good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товары и услуг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агенты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отношение спроса и предложения позволяет получить величину равновесного уровня цен на товары и услуги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ce level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равновесного объема их производства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outpu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товаров и услуг называют такж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еальным рынк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market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поскольку на нем продают и покупают реальные активы (реальные ценност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Финансовый рынок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financial asset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Прямоугольник 4"/>
          <p:cNvSpPr/>
          <p:nvPr/>
        </p:nvSpPr>
        <p:spPr>
          <a:xfrm>
            <a:off x="2643120" y="2143080"/>
            <a:ext cx="2857680" cy="4287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нансовый ры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Прямоугольник 5"/>
          <p:cNvSpPr/>
          <p:nvPr/>
        </p:nvSpPr>
        <p:spPr>
          <a:xfrm>
            <a:off x="714240" y="3357720"/>
            <a:ext cx="2857680" cy="1928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денежный рынок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money market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) — рынок денежных финансовых актив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Прямоугольник 6"/>
          <p:cNvSpPr/>
          <p:nvPr/>
        </p:nvSpPr>
        <p:spPr>
          <a:xfrm>
            <a:off x="4643280" y="3357720"/>
            <a:ext cx="2786400" cy="1928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рынок ценных бумаг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bonds market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) — рынок неденежных финансовых актив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Прямая со стрелкой 8"/>
          <p:cNvCxnSpPr>
            <a:stCxn id="481" idx="2"/>
            <a:endCxn id="482" idx="0"/>
          </p:cNvCxnSpPr>
          <p:nvPr/>
        </p:nvCxnSpPr>
        <p:spPr>
          <a:xfrm flipH="1">
            <a:off x="2142720" y="2571480"/>
            <a:ext cx="1929600" cy="7866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485" name="Прямая со стрелкой 11"/>
          <p:cNvCxnSpPr>
            <a:stCxn id="481" idx="2"/>
            <a:endCxn id="483" idx="0"/>
          </p:cNvCxnSpPr>
          <p:nvPr/>
        </p:nvCxnSpPr>
        <p:spPr>
          <a:xfrm>
            <a:off x="4070880" y="2571480"/>
            <a:ext cx="1965960" cy="7866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48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нежный рын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денежном рынк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деньг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 внутренние макроэкономические агент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домохозяйства, фирмы и государство)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дене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центральный бан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адающий монопольным правом выпуска денег в обращение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нежный рын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зучение денежного рынка, условий его равновесия позволяет получ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ставку процент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nterest rate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выступающую ценой денег (ценой кредита), и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величину денежной масс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money stock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— 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средника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денежном рынке являю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анк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принимают денежные вклады и выдают кредит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рынке ценных бумаг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аются и покупаются акции и облигаци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кц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ессрочна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ценная бумага (т.е. не имеющая срока погашения и существующая столько лет, сколько существует выпустившая ее фирма), делающая ее покупател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ладельце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й фирмы и обеспечивающая ему право участия в ее управлении и право на получение доход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ивиденд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личина которого зависит от размеров прибыли фирм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рынке ценных бумаг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аются и покупаются акции и облигаци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блигаци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рочна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ценная бумага (т.е. выпущенная на определенный срок — например, на год, на 5 лет и т.п.), покупатель которой явля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цент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в момент наступления срока погашения — возвращение номинальной стоимости облигации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купателями ценных бумаг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давцам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эмитентами)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кций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тупаю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блигаций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ирмы и государство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пускают акции и облигации с целью получения средств для финансирования свои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вестиционных расход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расширения объема производства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пускает облигации для финансировани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фици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государственног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юдже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экономических ресурсов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resource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 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макроэкономических моделях представлен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ынком труда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labour market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ка – это …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ука, которая изучает закономерности функционирова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ономики в цел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следу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заимодействи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х агентов и экономических рынков друг с другом, при этом экономика рассматривается как сложная, иерархически организованная система, как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ость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х процессов и явлений и их показателей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Рынок труд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труд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труд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вновесие рынка труда позволяет опре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ое количество труд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экономике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abour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цену труд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ставку заработной платы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wage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W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ализ неравновесия на рынке труда позволяет выявить причины и формы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езработиц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валюты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foreign exchange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прос на национальную валюту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остранц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лающие купить товары и (или) ценные бумаги данной страны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дложение национальной валю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ва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центральный банк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езультате обмена одной национальной валюты на другую (соотношения спроса и предложения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е це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change rat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3. Кругооборот продукта, расходов и доходов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4617b"/>
                </a:solidFill>
                <a:latin typeface="Cambria"/>
              </a:rPr>
              <a:t>Модель кругооборота продукта, расходов и доходов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mbria"/>
              </a:rPr>
              <a:t>(модель круговых потоков — </a:t>
            </a:r>
            <a:r>
              <a:rPr b="0" lang="en-US" sz="2400" spc="-1" strike="noStrike">
                <a:solidFill>
                  <a:srgbClr val="04617b"/>
                </a:solidFill>
                <a:latin typeface="Bookman Old Style"/>
              </a:rPr>
              <a:t>model of circular flows</a:t>
            </a:r>
            <a:r>
              <a:rPr b="0" lang="ru-RU" sz="24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.е. исследовать закономерности поведения макроэкономических агентов на макроэкономических рынках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дву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21896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оит только из 2 макроэкономических агентов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охозяйств и фир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и 2 рынков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ынка товаров и услуг и рынка экономических ресурсо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9" name="Picture 3" descr="C:\Users\х\Desktop\макро\тема 1\2секторная чистая.jpg"/>
          <p:cNvPicPr/>
          <p:nvPr/>
        </p:nvPicPr>
        <p:blipFill>
          <a:blip r:embed="rId1"/>
          <a:stretch/>
        </p:blipFill>
        <p:spPr>
          <a:xfrm>
            <a:off x="216000" y="1125360"/>
            <a:ext cx="8748720" cy="3811680"/>
          </a:xfrm>
          <a:prstGeom prst="rect">
            <a:avLst/>
          </a:prstGeom>
          <a:ln w="0">
            <a:noFill/>
          </a:ln>
        </p:spPr>
      </p:pic>
      <p:sp>
        <p:nvSpPr>
          <p:cNvPr id="520" name="Стрелка углом 7"/>
          <p:cNvSpPr/>
          <p:nvPr/>
        </p:nvSpPr>
        <p:spPr>
          <a:xfrm>
            <a:off x="395280" y="1341360"/>
            <a:ext cx="2448000" cy="1511280"/>
          </a:xfrm>
          <a:custGeom>
            <a:avLst/>
            <a:gdLst/>
            <a:ahLst/>
            <a:rect l="l" t="t" r="r" b="b"/>
            <a:pathLst>
              <a:path w="2447925" h="1511300">
                <a:moveTo>
                  <a:pt x="0" y="1511300"/>
                </a:moveTo>
                <a:lnTo>
                  <a:pt x="0" y="806830"/>
                </a:lnTo>
                <a:cubicBezTo>
                  <a:pt x="0" y="457688"/>
                  <a:pt x="283035" y="174653"/>
                  <a:pt x="632177" y="174653"/>
                </a:cubicBezTo>
                <a:lnTo>
                  <a:pt x="2262488" y="174653"/>
                </a:lnTo>
                <a:lnTo>
                  <a:pt x="2262488" y="0"/>
                </a:lnTo>
                <a:lnTo>
                  <a:pt x="2447925" y="272563"/>
                </a:lnTo>
                <a:lnTo>
                  <a:pt x="2262488" y="545126"/>
                </a:lnTo>
                <a:lnTo>
                  <a:pt x="2262488" y="370473"/>
                </a:lnTo>
                <a:lnTo>
                  <a:pt x="632177" y="370473"/>
                </a:lnTo>
                <a:cubicBezTo>
                  <a:pt x="391183" y="370473"/>
                  <a:pt x="195819" y="565837"/>
                  <a:pt x="195819" y="806831"/>
                </a:cubicBezTo>
                <a:lnTo>
                  <a:pt x="195819" y="1511300"/>
                </a:lnTo>
                <a:lnTo>
                  <a:pt x="0" y="15113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Стрелка углом 8"/>
          <p:cNvSpPr/>
          <p:nvPr/>
        </p:nvSpPr>
        <p:spPr>
          <a:xfrm rot="10800000">
            <a:off x="6300720" y="3429000"/>
            <a:ext cx="2519280" cy="1440000"/>
          </a:xfrm>
          <a:custGeom>
            <a:avLst/>
            <a:gdLst/>
            <a:ahLst/>
            <a:rect l="l" t="t" r="r" b="b"/>
            <a:pathLst>
              <a:path w="2519362" h="1439863">
                <a:moveTo>
                  <a:pt x="0" y="1439863"/>
                </a:moveTo>
                <a:lnTo>
                  <a:pt x="0" y="796338"/>
                </a:lnTo>
                <a:cubicBezTo>
                  <a:pt x="0" y="448432"/>
                  <a:pt x="282034" y="166398"/>
                  <a:pt x="629940" y="166398"/>
                </a:cubicBezTo>
                <a:lnTo>
                  <a:pt x="2342691" y="166398"/>
                </a:lnTo>
                <a:lnTo>
                  <a:pt x="2342691" y="0"/>
                </a:lnTo>
                <a:lnTo>
                  <a:pt x="2519362" y="259679"/>
                </a:lnTo>
                <a:lnTo>
                  <a:pt x="2342691" y="519359"/>
                </a:lnTo>
                <a:lnTo>
                  <a:pt x="2342691" y="352961"/>
                </a:lnTo>
                <a:lnTo>
                  <a:pt x="629940" y="352961"/>
                </a:lnTo>
                <a:cubicBezTo>
                  <a:pt x="385070" y="352961"/>
                  <a:pt x="186563" y="551468"/>
                  <a:pt x="186563" y="796338"/>
                </a:cubicBezTo>
                <a:lnTo>
                  <a:pt x="186563" y="1439863"/>
                </a:lnTo>
                <a:lnTo>
                  <a:pt x="0" y="14398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Стрелка углом 9"/>
          <p:cNvSpPr/>
          <p:nvPr/>
        </p:nvSpPr>
        <p:spPr>
          <a:xfrm rot="16200000">
            <a:off x="971640" y="2781360"/>
            <a:ext cx="1224000" cy="2519280"/>
          </a:xfrm>
          <a:custGeom>
            <a:avLst/>
            <a:gdLst/>
            <a:ahLst/>
            <a:rect l="l" t="t" r="r" b="b"/>
            <a:pathLst>
              <a:path w="1223963" h="2519363">
                <a:moveTo>
                  <a:pt x="0" y="2519363"/>
                </a:moveTo>
                <a:lnTo>
                  <a:pt x="0" y="676931"/>
                </a:lnTo>
                <a:cubicBezTo>
                  <a:pt x="0" y="381191"/>
                  <a:pt x="239744" y="141447"/>
                  <a:pt x="535484" y="141447"/>
                </a:cubicBezTo>
                <a:lnTo>
                  <a:pt x="1073783" y="141447"/>
                </a:lnTo>
                <a:lnTo>
                  <a:pt x="1073783" y="0"/>
                </a:lnTo>
                <a:lnTo>
                  <a:pt x="1223963" y="220742"/>
                </a:lnTo>
                <a:lnTo>
                  <a:pt x="1073783" y="441483"/>
                </a:lnTo>
                <a:lnTo>
                  <a:pt x="1073783" y="300036"/>
                </a:lnTo>
                <a:lnTo>
                  <a:pt x="535484" y="300036"/>
                </a:lnTo>
                <a:cubicBezTo>
                  <a:pt x="327331" y="300036"/>
                  <a:pt x="158589" y="468778"/>
                  <a:pt x="158589" y="676931"/>
                </a:cubicBezTo>
                <a:lnTo>
                  <a:pt x="158589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Стрелка углом 10"/>
          <p:cNvSpPr/>
          <p:nvPr/>
        </p:nvSpPr>
        <p:spPr>
          <a:xfrm rot="5400000">
            <a:off x="6912360" y="871920"/>
            <a:ext cx="1368360" cy="2592360"/>
          </a:xfrm>
          <a:custGeom>
            <a:avLst/>
            <a:gdLst/>
            <a:ahLst/>
            <a:rect l="l" t="t" r="r" b="b"/>
            <a:pathLst>
              <a:path w="1368425" h="2592387">
                <a:moveTo>
                  <a:pt x="0" y="2592387"/>
                </a:moveTo>
                <a:lnTo>
                  <a:pt x="0" y="756828"/>
                </a:lnTo>
                <a:cubicBezTo>
                  <a:pt x="0" y="426183"/>
                  <a:pt x="268041" y="158142"/>
                  <a:pt x="598686" y="158142"/>
                </a:cubicBezTo>
                <a:lnTo>
                  <a:pt x="1200519" y="158142"/>
                </a:lnTo>
                <a:lnTo>
                  <a:pt x="1200519" y="0"/>
                </a:lnTo>
                <a:lnTo>
                  <a:pt x="1368425" y="246795"/>
                </a:lnTo>
                <a:lnTo>
                  <a:pt x="1200519" y="493591"/>
                </a:lnTo>
                <a:lnTo>
                  <a:pt x="1200519" y="335449"/>
                </a:lnTo>
                <a:lnTo>
                  <a:pt x="598686" y="335449"/>
                </a:lnTo>
                <a:cubicBezTo>
                  <a:pt x="365965" y="335449"/>
                  <a:pt x="177307" y="524107"/>
                  <a:pt x="177307" y="756828"/>
                </a:cubicBezTo>
                <a:lnTo>
                  <a:pt x="177307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Стрелка углом 11"/>
          <p:cNvSpPr/>
          <p:nvPr/>
        </p:nvSpPr>
        <p:spPr>
          <a:xfrm flipH="1">
            <a:off x="6300000" y="1844640"/>
            <a:ext cx="2016360" cy="1008000"/>
          </a:xfrm>
          <a:custGeom>
            <a:avLst/>
            <a:gdLst/>
            <a:ahLst/>
            <a:rect l="l" t="t" r="r" b="b"/>
            <a:pathLst>
              <a:path w="2016125" h="1008063">
                <a:moveTo>
                  <a:pt x="0" y="1008063"/>
                </a:moveTo>
                <a:lnTo>
                  <a:pt x="0" y="557524"/>
                </a:lnTo>
                <a:cubicBezTo>
                  <a:pt x="0" y="313951"/>
                  <a:pt x="197455" y="116496"/>
                  <a:pt x="441028" y="116496"/>
                </a:cubicBezTo>
                <a:lnTo>
                  <a:pt x="1892436" y="116497"/>
                </a:lnTo>
                <a:lnTo>
                  <a:pt x="1892436" y="0"/>
                </a:lnTo>
                <a:lnTo>
                  <a:pt x="2016125" y="181804"/>
                </a:lnTo>
                <a:lnTo>
                  <a:pt x="1892436" y="363608"/>
                </a:lnTo>
                <a:lnTo>
                  <a:pt x="1892436" y="247112"/>
                </a:lnTo>
                <a:lnTo>
                  <a:pt x="441028" y="247112"/>
                </a:lnTo>
                <a:cubicBezTo>
                  <a:pt x="269592" y="247112"/>
                  <a:pt x="130615" y="386089"/>
                  <a:pt x="130615" y="557525"/>
                </a:cubicBezTo>
                <a:lnTo>
                  <a:pt x="130615" y="1008063"/>
                </a:lnTo>
                <a:lnTo>
                  <a:pt x="0" y="10080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Стрелка углом 12"/>
          <p:cNvSpPr/>
          <p:nvPr/>
        </p:nvSpPr>
        <p:spPr>
          <a:xfrm flipH="1" rot="16200000">
            <a:off x="1366560" y="1377000"/>
            <a:ext cx="863640" cy="2087640"/>
          </a:xfrm>
          <a:custGeom>
            <a:avLst/>
            <a:gdLst/>
            <a:ahLst/>
            <a:rect l="l" t="t" r="r" b="b"/>
            <a:pathLst>
              <a:path w="863600" h="2087563">
                <a:moveTo>
                  <a:pt x="0" y="2087563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757636" y="99802"/>
                </a:lnTo>
                <a:lnTo>
                  <a:pt x="757636" y="0"/>
                </a:lnTo>
                <a:lnTo>
                  <a:pt x="863600" y="155750"/>
                </a:lnTo>
                <a:lnTo>
                  <a:pt x="757636" y="311501"/>
                </a:lnTo>
                <a:lnTo>
                  <a:pt x="757636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2087563"/>
                </a:lnTo>
                <a:lnTo>
                  <a:pt x="0" y="20875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Стрелка углом 13"/>
          <p:cNvSpPr/>
          <p:nvPr/>
        </p:nvSpPr>
        <p:spPr>
          <a:xfrm flipH="1" rot="10800000">
            <a:off x="826920" y="3428640"/>
            <a:ext cx="2089440" cy="863640"/>
          </a:xfrm>
          <a:custGeom>
            <a:avLst/>
            <a:gdLst/>
            <a:ahLst/>
            <a:rect l="l" t="t" r="r" b="b"/>
            <a:pathLst>
              <a:path w="2089150" h="863600">
                <a:moveTo>
                  <a:pt x="0" y="863600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1983186" y="99802"/>
                </a:lnTo>
                <a:lnTo>
                  <a:pt x="1983186" y="0"/>
                </a:lnTo>
                <a:lnTo>
                  <a:pt x="2089150" y="155750"/>
                </a:lnTo>
                <a:lnTo>
                  <a:pt x="1983186" y="311501"/>
                </a:lnTo>
                <a:lnTo>
                  <a:pt x="1983186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Стрелка углом 14"/>
          <p:cNvSpPr/>
          <p:nvPr/>
        </p:nvSpPr>
        <p:spPr>
          <a:xfrm flipH="1" rot="5400000">
            <a:off x="7018920" y="2709720"/>
            <a:ext cx="720720" cy="2158920"/>
          </a:xfrm>
          <a:custGeom>
            <a:avLst/>
            <a:gdLst/>
            <a:ahLst/>
            <a:rect l="l" t="t" r="r" b="b"/>
            <a:pathLst>
              <a:path w="720725" h="2159000">
                <a:moveTo>
                  <a:pt x="0" y="2159000"/>
                </a:moveTo>
                <a:lnTo>
                  <a:pt x="0" y="376820"/>
                </a:lnTo>
                <a:cubicBezTo>
                  <a:pt x="0" y="226745"/>
                  <a:pt x="121660" y="105085"/>
                  <a:pt x="271735" y="105085"/>
                </a:cubicBezTo>
                <a:lnTo>
                  <a:pt x="632292" y="105085"/>
                </a:lnTo>
                <a:lnTo>
                  <a:pt x="632292" y="0"/>
                </a:lnTo>
                <a:lnTo>
                  <a:pt x="720725" y="151777"/>
                </a:lnTo>
                <a:lnTo>
                  <a:pt x="632292" y="303555"/>
                </a:lnTo>
                <a:lnTo>
                  <a:pt x="632292" y="198470"/>
                </a:lnTo>
                <a:lnTo>
                  <a:pt x="271735" y="198470"/>
                </a:lnTo>
                <a:cubicBezTo>
                  <a:pt x="173234" y="198470"/>
                  <a:pt x="93384" y="278320"/>
                  <a:pt x="93384" y="376821"/>
                </a:cubicBezTo>
                <a:lnTo>
                  <a:pt x="93384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ухсекторная модель экономики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материальные потоки                             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06400" y="121896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приобретают товары и услуги (предъявляют спрос на товары и услуги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вары и услуги производят и поставляют на этот рынок фирмы (обеспечивают предложение товаров и услуг —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вокупный продукт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Стрелка вправо 5"/>
          <p:cNvSpPr/>
          <p:nvPr/>
        </p:nvSpPr>
        <p:spPr>
          <a:xfrm rot="10800000">
            <a:off x="5363640" y="764280"/>
            <a:ext cx="2087640" cy="287640"/>
          </a:xfrm>
          <a:prstGeom prst="rightArrow">
            <a:avLst>
              <a:gd name="adj1" fmla="val 50000"/>
              <a:gd name="adj2" fmla="val 127751"/>
            </a:avLst>
          </a:prstGeom>
          <a:solidFill>
            <a:srgbClr val="ff00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Стрелка углом 6"/>
          <p:cNvSpPr/>
          <p:nvPr/>
        </p:nvSpPr>
        <p:spPr>
          <a:xfrm flipH="1" rot="16200000">
            <a:off x="359640" y="1232640"/>
            <a:ext cx="576000" cy="936720"/>
          </a:xfrm>
          <a:custGeom>
            <a:avLst/>
            <a:gdLst/>
            <a:ahLst/>
            <a:rect l="l" t="t" r="r" b="b"/>
            <a:pathLst>
              <a:path w="576263" h="936625">
                <a:moveTo>
                  <a:pt x="0" y="936625"/>
                </a:moveTo>
                <a:lnTo>
                  <a:pt x="0" y="304189"/>
                </a:lnTo>
                <a:cubicBezTo>
                  <a:pt x="0" y="205044"/>
                  <a:pt x="80372" y="124672"/>
                  <a:pt x="179517" y="124672"/>
                </a:cubicBezTo>
                <a:lnTo>
                  <a:pt x="403920" y="124672"/>
                </a:lnTo>
                <a:lnTo>
                  <a:pt x="403920" y="0"/>
                </a:lnTo>
                <a:lnTo>
                  <a:pt x="576263" y="162005"/>
                </a:lnTo>
                <a:lnTo>
                  <a:pt x="403920" y="324010"/>
                </a:lnTo>
                <a:lnTo>
                  <a:pt x="403920" y="199338"/>
                </a:lnTo>
                <a:lnTo>
                  <a:pt x="179517" y="199338"/>
                </a:lnTo>
                <a:cubicBezTo>
                  <a:pt x="121609" y="199338"/>
                  <a:pt x="74666" y="246281"/>
                  <a:pt x="74666" y="304189"/>
                </a:cubicBezTo>
                <a:lnTo>
                  <a:pt x="74666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Стрелка углом 7"/>
          <p:cNvSpPr/>
          <p:nvPr/>
        </p:nvSpPr>
        <p:spPr>
          <a:xfrm flipH="1">
            <a:off x="179280" y="2205000"/>
            <a:ext cx="936720" cy="792360"/>
          </a:xfrm>
          <a:custGeom>
            <a:avLst/>
            <a:gdLst/>
            <a:ahLst/>
            <a:rect l="l" t="t" r="r" b="b"/>
            <a:pathLst>
              <a:path w="936625" h="792162">
                <a:moveTo>
                  <a:pt x="0" y="792162"/>
                </a:moveTo>
                <a:lnTo>
                  <a:pt x="0" y="438117"/>
                </a:lnTo>
                <a:cubicBezTo>
                  <a:pt x="0" y="246711"/>
                  <a:pt x="155165" y="91546"/>
                  <a:pt x="346571" y="91546"/>
                </a:cubicBezTo>
                <a:lnTo>
                  <a:pt x="679759" y="91546"/>
                </a:lnTo>
                <a:lnTo>
                  <a:pt x="679759" y="0"/>
                </a:lnTo>
                <a:lnTo>
                  <a:pt x="936625" y="142866"/>
                </a:lnTo>
                <a:lnTo>
                  <a:pt x="679759" y="285733"/>
                </a:lnTo>
                <a:lnTo>
                  <a:pt x="679759" y="194187"/>
                </a:lnTo>
                <a:lnTo>
                  <a:pt x="346571" y="194187"/>
                </a:lnTo>
                <a:cubicBezTo>
                  <a:pt x="211852" y="194187"/>
                  <a:pt x="102641" y="303398"/>
                  <a:pt x="102641" y="438117"/>
                </a:cubicBezTo>
                <a:cubicBezTo>
                  <a:pt x="102641" y="556132"/>
                  <a:pt x="102640" y="674147"/>
                  <a:pt x="102640" y="792162"/>
                </a:cubicBezTo>
                <a:lnTo>
                  <a:pt x="0" y="792162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Стрелка углом 8"/>
          <p:cNvSpPr/>
          <p:nvPr/>
        </p:nvSpPr>
        <p:spPr>
          <a:xfrm flipH="1" rot="5400000">
            <a:off x="430200" y="3464640"/>
            <a:ext cx="576000" cy="936360"/>
          </a:xfrm>
          <a:custGeom>
            <a:avLst/>
            <a:gdLst/>
            <a:ahLst/>
            <a:rect l="l" t="t" r="r" b="b"/>
            <a:pathLst>
              <a:path w="576263" h="936625">
                <a:moveTo>
                  <a:pt x="0" y="936625"/>
                </a:moveTo>
                <a:lnTo>
                  <a:pt x="0" y="301290"/>
                </a:lnTo>
                <a:cubicBezTo>
                  <a:pt x="0" y="181296"/>
                  <a:pt x="97274" y="84022"/>
                  <a:pt x="217268" y="84022"/>
                </a:cubicBezTo>
                <a:lnTo>
                  <a:pt x="401016" y="84022"/>
                </a:lnTo>
                <a:lnTo>
                  <a:pt x="401016" y="0"/>
                </a:lnTo>
                <a:lnTo>
                  <a:pt x="576263" y="121355"/>
                </a:lnTo>
                <a:lnTo>
                  <a:pt x="401016" y="242710"/>
                </a:lnTo>
                <a:lnTo>
                  <a:pt x="401016" y="158688"/>
                </a:lnTo>
                <a:lnTo>
                  <a:pt x="217268" y="158688"/>
                </a:lnTo>
                <a:cubicBezTo>
                  <a:pt x="138511" y="158688"/>
                  <a:pt x="74666" y="222533"/>
                  <a:pt x="74666" y="301290"/>
                </a:cubicBezTo>
                <a:lnTo>
                  <a:pt x="74666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Стрелка углом 9"/>
          <p:cNvSpPr/>
          <p:nvPr/>
        </p:nvSpPr>
        <p:spPr>
          <a:xfrm flipH="1" rot="10800000">
            <a:off x="249840" y="4868640"/>
            <a:ext cx="936360" cy="863640"/>
          </a:xfrm>
          <a:custGeom>
            <a:avLst/>
            <a:gdLst/>
            <a:ahLst/>
            <a:rect l="l" t="t" r="r" b="b"/>
            <a:pathLst>
              <a:path w="936625" h="863600">
                <a:moveTo>
                  <a:pt x="0" y="863600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714611" y="99802"/>
                </a:lnTo>
                <a:lnTo>
                  <a:pt x="714611" y="0"/>
                </a:lnTo>
                <a:lnTo>
                  <a:pt x="936625" y="155750"/>
                </a:lnTo>
                <a:lnTo>
                  <a:pt x="714611" y="311501"/>
                </a:lnTo>
                <a:lnTo>
                  <a:pt x="714611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ухсекторная модель экономики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денежные потоки                             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териальные потоки опосредуются денежными потокам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упая товары и услуги, домохозяйства за них платят, обеспечивая фирма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ручку от продаж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venu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у выручку фирмы выплачивают домохозяйствам в вид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акторных доход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om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включающих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работную плату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g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труд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нту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n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землю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нт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e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капитал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быль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fi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предпринимательские способности, в сумме составляющи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й (национальный) дохо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Стрелка вправо 4"/>
          <p:cNvSpPr/>
          <p:nvPr/>
        </p:nvSpPr>
        <p:spPr>
          <a:xfrm>
            <a:off x="5003640" y="765000"/>
            <a:ext cx="2089440" cy="287640"/>
          </a:xfrm>
          <a:prstGeom prst="rightArrow">
            <a:avLst>
              <a:gd name="adj1" fmla="val 50000"/>
              <a:gd name="adj2" fmla="val 127760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Стрелка углом 5"/>
          <p:cNvSpPr/>
          <p:nvPr/>
        </p:nvSpPr>
        <p:spPr>
          <a:xfrm>
            <a:off x="179280" y="5373720"/>
            <a:ext cx="936720" cy="792000"/>
          </a:xfrm>
          <a:custGeom>
            <a:avLst/>
            <a:gdLst/>
            <a:ahLst/>
            <a:rect l="l" t="t" r="r" b="b"/>
            <a:pathLst>
              <a:path w="936625" h="792162">
                <a:moveTo>
                  <a:pt x="0" y="792162"/>
                </a:moveTo>
                <a:lnTo>
                  <a:pt x="0" y="422908"/>
                </a:lnTo>
                <a:cubicBezTo>
                  <a:pt x="0" y="239902"/>
                  <a:pt x="148355" y="91547"/>
                  <a:pt x="331361" y="91547"/>
                </a:cubicBezTo>
                <a:lnTo>
                  <a:pt x="694271" y="91546"/>
                </a:lnTo>
                <a:lnTo>
                  <a:pt x="694271" y="0"/>
                </a:lnTo>
                <a:lnTo>
                  <a:pt x="936625" y="142866"/>
                </a:lnTo>
                <a:lnTo>
                  <a:pt x="694271" y="285733"/>
                </a:lnTo>
                <a:lnTo>
                  <a:pt x="694271" y="194187"/>
                </a:lnTo>
                <a:lnTo>
                  <a:pt x="331361" y="194187"/>
                </a:lnTo>
                <a:cubicBezTo>
                  <a:pt x="205042" y="194187"/>
                  <a:pt x="102640" y="296589"/>
                  <a:pt x="102640" y="422908"/>
                </a:cubicBezTo>
                <a:lnTo>
                  <a:pt x="102640" y="792162"/>
                </a:lnTo>
                <a:lnTo>
                  <a:pt x="0" y="792162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Стрелка углом 6"/>
          <p:cNvSpPr/>
          <p:nvPr/>
        </p:nvSpPr>
        <p:spPr>
          <a:xfrm rot="5400000">
            <a:off x="287280" y="1665360"/>
            <a:ext cx="792000" cy="1008000"/>
          </a:xfrm>
          <a:custGeom>
            <a:avLst/>
            <a:gdLst/>
            <a:ahLst/>
            <a:rect l="l" t="t" r="r" b="b"/>
            <a:pathLst>
              <a:path w="792162" h="1008062">
                <a:moveTo>
                  <a:pt x="0" y="1008062"/>
                </a:moveTo>
                <a:lnTo>
                  <a:pt x="0" y="438117"/>
                </a:lnTo>
                <a:cubicBezTo>
                  <a:pt x="0" y="246711"/>
                  <a:pt x="155165" y="91546"/>
                  <a:pt x="346571" y="91546"/>
                </a:cubicBezTo>
                <a:lnTo>
                  <a:pt x="622386" y="91546"/>
                </a:lnTo>
                <a:lnTo>
                  <a:pt x="622386" y="0"/>
                </a:lnTo>
                <a:lnTo>
                  <a:pt x="792162" y="142866"/>
                </a:lnTo>
                <a:lnTo>
                  <a:pt x="622386" y="285733"/>
                </a:lnTo>
                <a:lnTo>
                  <a:pt x="622386" y="194187"/>
                </a:lnTo>
                <a:lnTo>
                  <a:pt x="346571" y="194187"/>
                </a:lnTo>
                <a:cubicBezTo>
                  <a:pt x="211852" y="194187"/>
                  <a:pt x="102641" y="303398"/>
                  <a:pt x="102641" y="438117"/>
                </a:cubicBezTo>
                <a:cubicBezTo>
                  <a:pt x="102641" y="628099"/>
                  <a:pt x="102640" y="818080"/>
                  <a:pt x="102640" y="1008062"/>
                </a:cubicBezTo>
                <a:lnTo>
                  <a:pt x="0" y="1008062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Стрелка углом 7"/>
          <p:cNvSpPr/>
          <p:nvPr/>
        </p:nvSpPr>
        <p:spPr>
          <a:xfrm rot="10800000">
            <a:off x="178920" y="2781000"/>
            <a:ext cx="863640" cy="1152360"/>
          </a:xfrm>
          <a:custGeom>
            <a:avLst/>
            <a:gdLst/>
            <a:ahLst/>
            <a:rect l="l" t="t" r="r" b="b"/>
            <a:pathLst>
              <a:path w="863600" h="1152525">
                <a:moveTo>
                  <a:pt x="0" y="1152525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699611" y="99802"/>
                </a:lnTo>
                <a:lnTo>
                  <a:pt x="699611" y="0"/>
                </a:lnTo>
                <a:lnTo>
                  <a:pt x="863600" y="155750"/>
                </a:lnTo>
                <a:lnTo>
                  <a:pt x="699611" y="311501"/>
                </a:lnTo>
                <a:lnTo>
                  <a:pt x="699611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1152525"/>
                </a:lnTo>
                <a:lnTo>
                  <a:pt x="0" y="11525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Стрелка углом 8"/>
          <p:cNvSpPr/>
          <p:nvPr/>
        </p:nvSpPr>
        <p:spPr>
          <a:xfrm rot="16200000">
            <a:off x="108000" y="4076640"/>
            <a:ext cx="1079280" cy="936720"/>
          </a:xfrm>
          <a:custGeom>
            <a:avLst/>
            <a:gdLst/>
            <a:ahLst/>
            <a:rect l="l" t="t" r="r" b="b"/>
            <a:pathLst>
              <a:path w="1079500" h="936625">
                <a:moveTo>
                  <a:pt x="0" y="936625"/>
                </a:moveTo>
                <a:lnTo>
                  <a:pt x="0" y="518015"/>
                </a:lnTo>
                <a:cubicBezTo>
                  <a:pt x="0" y="291704"/>
                  <a:pt x="183462" y="108242"/>
                  <a:pt x="409773" y="108242"/>
                </a:cubicBezTo>
                <a:lnTo>
                  <a:pt x="877442" y="108241"/>
                </a:lnTo>
                <a:lnTo>
                  <a:pt x="877442" y="0"/>
                </a:lnTo>
                <a:lnTo>
                  <a:pt x="1079500" y="168920"/>
                </a:lnTo>
                <a:lnTo>
                  <a:pt x="877442" y="337841"/>
                </a:lnTo>
                <a:lnTo>
                  <a:pt x="877442" y="229600"/>
                </a:lnTo>
                <a:lnTo>
                  <a:pt x="409773" y="229600"/>
                </a:lnTo>
                <a:cubicBezTo>
                  <a:pt x="250486" y="229600"/>
                  <a:pt x="121358" y="358728"/>
                  <a:pt x="121358" y="518015"/>
                </a:cubicBezTo>
                <a:cubicBezTo>
                  <a:pt x="121358" y="657552"/>
                  <a:pt x="121359" y="797088"/>
                  <a:pt x="121359" y="936625"/>
                </a:cubicBezTo>
                <a:lnTo>
                  <a:pt x="0" y="9366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вижение потоков в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ходы и расходы движутся по кругу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т почему модель получила название модели кругооборота (круговых потоков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атериаль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токи движутся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оти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совой стрелки, а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денеж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по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часов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релк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Спро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товары и экономические ресурсы движется 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по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часов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релке, 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едлож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оти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Выводы из двухсекторной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оимость каждого материального потока равна величине денежного поток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окупный доход равен совокупным расхода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Необходимость финансового рын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ь дохода они сберегают, при этом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v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должны приносить доход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предопределяет необходимость появ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нансового рынк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котором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 домохозяйств превращаютс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вестиционные ресурсы фир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Термин «макроэкономика» вперв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потребил в своей статье в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933 г.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звестный норвежский ученый — экономист-математик, один из основоположников эконометрики, лауреат Нобелевской премии (1969 г.)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гнар Фриш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(Ragnar Frisch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дву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 с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финансовым рынком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6" name="Picture 2" descr="C:\Users\х\Desktop\макро\тема 1\2 секторная пустая с финансовым.jpg"/>
          <p:cNvPicPr/>
          <p:nvPr/>
        </p:nvPicPr>
        <p:blipFill>
          <a:blip r:embed="rId1"/>
          <a:stretch/>
        </p:blipFill>
        <p:spPr>
          <a:xfrm>
            <a:off x="220680" y="1266840"/>
            <a:ext cx="8815320" cy="4610160"/>
          </a:xfrm>
          <a:prstGeom prst="rect">
            <a:avLst/>
          </a:prstGeom>
          <a:ln w="0">
            <a:noFill/>
          </a:ln>
        </p:spPr>
      </p:pic>
      <p:sp>
        <p:nvSpPr>
          <p:cNvPr id="557" name="Стрелка углом 5"/>
          <p:cNvSpPr/>
          <p:nvPr/>
        </p:nvSpPr>
        <p:spPr>
          <a:xfrm>
            <a:off x="395280" y="1484280"/>
            <a:ext cx="2448000" cy="2232000"/>
          </a:xfrm>
          <a:custGeom>
            <a:avLst/>
            <a:gdLst/>
            <a:ahLst/>
            <a:rect l="l" t="t" r="r" b="b"/>
            <a:pathLst>
              <a:path w="2447925" h="2232025">
                <a:moveTo>
                  <a:pt x="0" y="2232025"/>
                </a:moveTo>
                <a:lnTo>
                  <a:pt x="0" y="811977"/>
                </a:lnTo>
                <a:cubicBezTo>
                  <a:pt x="0" y="420578"/>
                  <a:pt x="317291" y="103287"/>
                  <a:pt x="708690" y="103287"/>
                </a:cubicBezTo>
                <a:lnTo>
                  <a:pt x="2145932" y="103287"/>
                </a:lnTo>
                <a:lnTo>
                  <a:pt x="2145932" y="0"/>
                </a:lnTo>
                <a:lnTo>
                  <a:pt x="2447925" y="198673"/>
                </a:lnTo>
                <a:lnTo>
                  <a:pt x="2145932" y="397345"/>
                </a:lnTo>
                <a:lnTo>
                  <a:pt x="2145932" y="294058"/>
                </a:lnTo>
                <a:lnTo>
                  <a:pt x="708690" y="294058"/>
                </a:lnTo>
                <a:cubicBezTo>
                  <a:pt x="422651" y="294058"/>
                  <a:pt x="190771" y="525938"/>
                  <a:pt x="190771" y="811977"/>
                </a:cubicBezTo>
                <a:lnTo>
                  <a:pt x="190771" y="2232025"/>
                </a:lnTo>
                <a:lnTo>
                  <a:pt x="0" y="22320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Стрелка углом 6"/>
          <p:cNvSpPr/>
          <p:nvPr/>
        </p:nvSpPr>
        <p:spPr>
          <a:xfrm rot="10800000">
            <a:off x="6227280" y="4220640"/>
            <a:ext cx="2521080" cy="1729080"/>
          </a:xfrm>
          <a:custGeom>
            <a:avLst/>
            <a:gdLst/>
            <a:ahLst/>
            <a:rect l="l" t="t" r="r" b="b"/>
            <a:pathLst>
              <a:path w="2520950" h="1728787">
                <a:moveTo>
                  <a:pt x="0" y="1728787"/>
                </a:moveTo>
                <a:lnTo>
                  <a:pt x="0" y="869009"/>
                </a:lnTo>
                <a:cubicBezTo>
                  <a:pt x="0" y="451292"/>
                  <a:pt x="338627" y="112665"/>
                  <a:pt x="756344" y="112665"/>
                </a:cubicBezTo>
                <a:lnTo>
                  <a:pt x="2250758" y="112665"/>
                </a:lnTo>
                <a:lnTo>
                  <a:pt x="2250758" y="0"/>
                </a:lnTo>
                <a:lnTo>
                  <a:pt x="2520950" y="188369"/>
                </a:lnTo>
                <a:lnTo>
                  <a:pt x="2250758" y="376737"/>
                </a:lnTo>
                <a:lnTo>
                  <a:pt x="2250758" y="264072"/>
                </a:lnTo>
                <a:lnTo>
                  <a:pt x="756344" y="264072"/>
                </a:lnTo>
                <a:cubicBezTo>
                  <a:pt x="422247" y="264072"/>
                  <a:pt x="151407" y="534912"/>
                  <a:pt x="151407" y="869009"/>
                </a:cubicBezTo>
                <a:lnTo>
                  <a:pt x="151407" y="1728787"/>
                </a:lnTo>
                <a:lnTo>
                  <a:pt x="0" y="17287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Стрелка углом 7"/>
          <p:cNvSpPr/>
          <p:nvPr/>
        </p:nvSpPr>
        <p:spPr>
          <a:xfrm rot="16200000">
            <a:off x="755280" y="3715920"/>
            <a:ext cx="1511640" cy="2520720"/>
          </a:xfrm>
          <a:custGeom>
            <a:avLst/>
            <a:gdLst/>
            <a:ahLst/>
            <a:rect l="l" t="t" r="r" b="b"/>
            <a:pathLst>
              <a:path w="1511300" h="2520950">
                <a:moveTo>
                  <a:pt x="0" y="2520950"/>
                </a:moveTo>
                <a:lnTo>
                  <a:pt x="0" y="756066"/>
                </a:lnTo>
                <a:cubicBezTo>
                  <a:pt x="0" y="390899"/>
                  <a:pt x="296027" y="94872"/>
                  <a:pt x="661194" y="94872"/>
                </a:cubicBezTo>
                <a:lnTo>
                  <a:pt x="1325863" y="94872"/>
                </a:lnTo>
                <a:lnTo>
                  <a:pt x="1325863" y="0"/>
                </a:lnTo>
                <a:lnTo>
                  <a:pt x="1511300" y="192781"/>
                </a:lnTo>
                <a:lnTo>
                  <a:pt x="1325863" y="385563"/>
                </a:lnTo>
                <a:lnTo>
                  <a:pt x="1325863" y="290691"/>
                </a:lnTo>
                <a:lnTo>
                  <a:pt x="661194" y="290691"/>
                </a:lnTo>
                <a:cubicBezTo>
                  <a:pt x="404174" y="290691"/>
                  <a:pt x="195819" y="499046"/>
                  <a:pt x="195819" y="756066"/>
                </a:cubicBezTo>
                <a:lnTo>
                  <a:pt x="195819" y="2520950"/>
                </a:lnTo>
                <a:lnTo>
                  <a:pt x="0" y="252095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Стрелка углом 8"/>
          <p:cNvSpPr/>
          <p:nvPr/>
        </p:nvSpPr>
        <p:spPr>
          <a:xfrm rot="5400000">
            <a:off x="6517080" y="1340280"/>
            <a:ext cx="2158920" cy="2592360"/>
          </a:xfrm>
          <a:custGeom>
            <a:avLst/>
            <a:gdLst/>
            <a:ahLst/>
            <a:rect l="l" t="t" r="r" b="b"/>
            <a:pathLst>
              <a:path w="2159000" h="2592387">
                <a:moveTo>
                  <a:pt x="0" y="2592387"/>
                </a:moveTo>
                <a:lnTo>
                  <a:pt x="0" y="1114281"/>
                </a:lnTo>
                <a:cubicBezTo>
                  <a:pt x="0" y="592613"/>
                  <a:pt x="422895" y="169718"/>
                  <a:pt x="944563" y="169718"/>
                </a:cubicBezTo>
                <a:lnTo>
                  <a:pt x="1894091" y="169719"/>
                </a:lnTo>
                <a:lnTo>
                  <a:pt x="1894091" y="0"/>
                </a:lnTo>
                <a:lnTo>
                  <a:pt x="2159000" y="244312"/>
                </a:lnTo>
                <a:lnTo>
                  <a:pt x="1894091" y="488625"/>
                </a:lnTo>
                <a:lnTo>
                  <a:pt x="1894091" y="318906"/>
                </a:lnTo>
                <a:lnTo>
                  <a:pt x="944563" y="318906"/>
                </a:lnTo>
                <a:cubicBezTo>
                  <a:pt x="505289" y="318906"/>
                  <a:pt x="149187" y="675008"/>
                  <a:pt x="149187" y="1114282"/>
                </a:cubicBezTo>
                <a:lnTo>
                  <a:pt x="149187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Стрелка углом 9"/>
          <p:cNvSpPr/>
          <p:nvPr/>
        </p:nvSpPr>
        <p:spPr>
          <a:xfrm flipH="1">
            <a:off x="6300000" y="1916280"/>
            <a:ext cx="2016360" cy="1800000"/>
          </a:xfrm>
          <a:custGeom>
            <a:avLst/>
            <a:gdLst/>
            <a:ahLst/>
            <a:rect l="l" t="t" r="r" b="b"/>
            <a:pathLst>
              <a:path w="2016125" h="1800225">
                <a:moveTo>
                  <a:pt x="0" y="1800225"/>
                </a:moveTo>
                <a:lnTo>
                  <a:pt x="0" y="923074"/>
                </a:lnTo>
                <a:cubicBezTo>
                  <a:pt x="0" y="488096"/>
                  <a:pt x="352620" y="135476"/>
                  <a:pt x="787598" y="135476"/>
                </a:cubicBezTo>
                <a:lnTo>
                  <a:pt x="1795237" y="135476"/>
                </a:lnTo>
                <a:lnTo>
                  <a:pt x="1795237" y="0"/>
                </a:lnTo>
                <a:lnTo>
                  <a:pt x="2016125" y="194046"/>
                </a:lnTo>
                <a:lnTo>
                  <a:pt x="1795237" y="388093"/>
                </a:lnTo>
                <a:lnTo>
                  <a:pt x="1795237" y="252617"/>
                </a:lnTo>
                <a:lnTo>
                  <a:pt x="787598" y="252617"/>
                </a:lnTo>
                <a:cubicBezTo>
                  <a:pt x="417314" y="252617"/>
                  <a:pt x="117140" y="552791"/>
                  <a:pt x="117140" y="923075"/>
                </a:cubicBezTo>
                <a:cubicBezTo>
                  <a:pt x="117140" y="1215458"/>
                  <a:pt x="117141" y="1507842"/>
                  <a:pt x="117141" y="1800225"/>
                </a:cubicBezTo>
                <a:lnTo>
                  <a:pt x="0" y="18002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Стрелка углом 10"/>
          <p:cNvSpPr/>
          <p:nvPr/>
        </p:nvSpPr>
        <p:spPr>
          <a:xfrm flipH="1" rot="16200000">
            <a:off x="898920" y="1773000"/>
            <a:ext cx="1727280" cy="2158920"/>
          </a:xfrm>
          <a:custGeom>
            <a:avLst/>
            <a:gdLst/>
            <a:ahLst/>
            <a:rect l="l" t="t" r="r" b="b"/>
            <a:pathLst>
              <a:path w="1727200" h="2159000">
                <a:moveTo>
                  <a:pt x="0" y="2159000"/>
                </a:moveTo>
                <a:lnTo>
                  <a:pt x="0" y="841725"/>
                </a:lnTo>
                <a:cubicBezTo>
                  <a:pt x="0" y="424391"/>
                  <a:pt x="338316" y="86075"/>
                  <a:pt x="755650" y="86075"/>
                </a:cubicBezTo>
                <a:lnTo>
                  <a:pt x="1469864" y="86075"/>
                </a:lnTo>
                <a:lnTo>
                  <a:pt x="1469864" y="0"/>
                </a:lnTo>
                <a:lnTo>
                  <a:pt x="1727200" y="167694"/>
                </a:lnTo>
                <a:lnTo>
                  <a:pt x="1469864" y="335388"/>
                </a:lnTo>
                <a:lnTo>
                  <a:pt x="1469864" y="249313"/>
                </a:lnTo>
                <a:lnTo>
                  <a:pt x="755650" y="249313"/>
                </a:lnTo>
                <a:cubicBezTo>
                  <a:pt x="428470" y="249313"/>
                  <a:pt x="163238" y="514545"/>
                  <a:pt x="163238" y="841725"/>
                </a:cubicBezTo>
                <a:lnTo>
                  <a:pt x="163238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Стрелка углом 11"/>
          <p:cNvSpPr/>
          <p:nvPr/>
        </p:nvSpPr>
        <p:spPr>
          <a:xfrm flipH="1" rot="10800000">
            <a:off x="684360" y="4221000"/>
            <a:ext cx="2087280" cy="1152720"/>
          </a:xfrm>
          <a:custGeom>
            <a:avLst/>
            <a:gdLst/>
            <a:ahLst/>
            <a:rect l="l" t="t" r="r" b="b"/>
            <a:pathLst>
              <a:path w="2087562" h="1152525">
                <a:moveTo>
                  <a:pt x="0" y="1152525"/>
                </a:moveTo>
                <a:lnTo>
                  <a:pt x="0" y="506748"/>
                </a:lnTo>
                <a:cubicBezTo>
                  <a:pt x="0" y="300439"/>
                  <a:pt x="167247" y="133192"/>
                  <a:pt x="373556" y="133192"/>
                </a:cubicBezTo>
                <a:lnTo>
                  <a:pt x="1946147" y="133192"/>
                </a:lnTo>
                <a:lnTo>
                  <a:pt x="1946147" y="0"/>
                </a:lnTo>
                <a:lnTo>
                  <a:pt x="2087562" y="207858"/>
                </a:lnTo>
                <a:lnTo>
                  <a:pt x="1946147" y="415716"/>
                </a:lnTo>
                <a:lnTo>
                  <a:pt x="1946147" y="282524"/>
                </a:lnTo>
                <a:lnTo>
                  <a:pt x="373556" y="282524"/>
                </a:lnTo>
                <a:cubicBezTo>
                  <a:pt x="249721" y="282524"/>
                  <a:pt x="149332" y="382913"/>
                  <a:pt x="149332" y="506748"/>
                </a:cubicBezTo>
                <a:cubicBezTo>
                  <a:pt x="149332" y="722007"/>
                  <a:pt x="149333" y="937266"/>
                  <a:pt x="149333" y="1152525"/>
                </a:cubicBezTo>
                <a:lnTo>
                  <a:pt x="0" y="11525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Стрелка углом 12"/>
          <p:cNvSpPr/>
          <p:nvPr/>
        </p:nvSpPr>
        <p:spPr>
          <a:xfrm flipH="1" rot="5400000">
            <a:off x="6839640" y="3681000"/>
            <a:ext cx="1079640" cy="2158920"/>
          </a:xfrm>
          <a:custGeom>
            <a:avLst/>
            <a:gdLst/>
            <a:ahLst/>
            <a:rect l="l" t="t" r="r" b="b"/>
            <a:pathLst>
              <a:path w="1079500" h="2159000">
                <a:moveTo>
                  <a:pt x="0" y="2159000"/>
                </a:moveTo>
                <a:lnTo>
                  <a:pt x="0" y="564400"/>
                </a:lnTo>
                <a:cubicBezTo>
                  <a:pt x="0" y="339618"/>
                  <a:pt x="182222" y="157396"/>
                  <a:pt x="407004" y="157396"/>
                </a:cubicBezTo>
                <a:lnTo>
                  <a:pt x="947045" y="157396"/>
                </a:lnTo>
                <a:lnTo>
                  <a:pt x="947045" y="0"/>
                </a:lnTo>
                <a:lnTo>
                  <a:pt x="1079500" y="227332"/>
                </a:lnTo>
                <a:lnTo>
                  <a:pt x="947045" y="454664"/>
                </a:lnTo>
                <a:lnTo>
                  <a:pt x="947045" y="297267"/>
                </a:lnTo>
                <a:lnTo>
                  <a:pt x="407004" y="297267"/>
                </a:lnTo>
                <a:cubicBezTo>
                  <a:pt x="259471" y="297267"/>
                  <a:pt x="139871" y="416867"/>
                  <a:pt x="139871" y="564400"/>
                </a:cubicBezTo>
                <a:lnTo>
                  <a:pt x="139871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Стрелка вправо 13"/>
          <p:cNvSpPr/>
          <p:nvPr/>
        </p:nvSpPr>
        <p:spPr>
          <a:xfrm>
            <a:off x="2050920" y="3860640"/>
            <a:ext cx="1441440" cy="21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Стрелка вправо 14"/>
          <p:cNvSpPr/>
          <p:nvPr/>
        </p:nvSpPr>
        <p:spPr>
          <a:xfrm>
            <a:off x="5651640" y="3860640"/>
            <a:ext cx="1441440" cy="21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Стрелка углом вверх 20"/>
          <p:cNvSpPr/>
          <p:nvPr/>
        </p:nvSpPr>
        <p:spPr>
          <a:xfrm flipH="1" rot="10800000">
            <a:off x="4715280" y="2636640"/>
            <a:ext cx="3311640" cy="1091880"/>
          </a:xfrm>
          <a:custGeom>
            <a:avLst/>
            <a:gdLst/>
            <a:ahLst/>
            <a:rect l="l" t="t" r="r" b="b"/>
            <a:pathLst>
              <a:path w="3311525" h="1092200">
                <a:moveTo>
                  <a:pt x="0" y="936562"/>
                </a:moveTo>
                <a:lnTo>
                  <a:pt x="3085407" y="936562"/>
                </a:lnTo>
                <a:lnTo>
                  <a:pt x="3085407" y="170623"/>
                </a:lnTo>
                <a:lnTo>
                  <a:pt x="3014927" y="170623"/>
                </a:lnTo>
                <a:lnTo>
                  <a:pt x="3163226" y="0"/>
                </a:lnTo>
                <a:lnTo>
                  <a:pt x="3311525" y="170623"/>
                </a:lnTo>
                <a:lnTo>
                  <a:pt x="3241045" y="170623"/>
                </a:lnTo>
                <a:lnTo>
                  <a:pt x="3241045" y="1092200"/>
                </a:lnTo>
                <a:lnTo>
                  <a:pt x="0" y="1092200"/>
                </a:lnTo>
                <a:lnTo>
                  <a:pt x="0" y="936562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инус 21"/>
          <p:cNvSpPr/>
          <p:nvPr/>
        </p:nvSpPr>
        <p:spPr>
          <a:xfrm rot="5400000">
            <a:off x="4428360" y="2132640"/>
            <a:ext cx="718920" cy="720720"/>
          </a:xfrm>
          <a:custGeom>
            <a:avLst/>
            <a:gdLst/>
            <a:ahLst/>
            <a:rect l="l" t="t" r="r" b="b"/>
            <a:pathLst>
              <a:path w="719138" h="720725">
                <a:moveTo>
                  <a:pt x="95322" y="275605"/>
                </a:moveTo>
                <a:lnTo>
                  <a:pt x="623816" y="275605"/>
                </a:lnTo>
                <a:lnTo>
                  <a:pt x="623816" y="445120"/>
                </a:lnTo>
                <a:lnTo>
                  <a:pt x="95322" y="445120"/>
                </a:lnTo>
                <a:lnTo>
                  <a:pt x="95322" y="27560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Стрелка углом вверх 24"/>
          <p:cNvSpPr/>
          <p:nvPr/>
        </p:nvSpPr>
        <p:spPr>
          <a:xfrm flipH="1">
            <a:off x="3923640" y="2276640"/>
            <a:ext cx="3600360" cy="1008000"/>
          </a:xfrm>
          <a:custGeom>
            <a:avLst/>
            <a:gdLst/>
            <a:ahLst/>
            <a:rect l="l" t="t" r="r" b="b"/>
            <a:pathLst>
              <a:path w="3600450" h="1008063">
                <a:moveTo>
                  <a:pt x="0" y="850866"/>
                </a:moveTo>
                <a:lnTo>
                  <a:pt x="3303696" y="850866"/>
                </a:lnTo>
                <a:lnTo>
                  <a:pt x="3303696" y="197832"/>
                </a:lnTo>
                <a:lnTo>
                  <a:pt x="3164140" y="197832"/>
                </a:lnTo>
                <a:lnTo>
                  <a:pt x="3382295" y="0"/>
                </a:lnTo>
                <a:lnTo>
                  <a:pt x="3600450" y="197832"/>
                </a:lnTo>
                <a:lnTo>
                  <a:pt x="3460894" y="197832"/>
                </a:lnTo>
                <a:lnTo>
                  <a:pt x="3460894" y="1008063"/>
                </a:lnTo>
                <a:lnTo>
                  <a:pt x="0" y="1008063"/>
                </a:lnTo>
                <a:lnTo>
                  <a:pt x="0" y="850866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Минус 29"/>
          <p:cNvSpPr/>
          <p:nvPr/>
        </p:nvSpPr>
        <p:spPr>
          <a:xfrm rot="5400000">
            <a:off x="7091640" y="3069360"/>
            <a:ext cx="720720" cy="718920"/>
          </a:xfrm>
          <a:custGeom>
            <a:avLst/>
            <a:gdLst/>
            <a:ahLst/>
            <a:rect l="l" t="t" r="r" b="b"/>
            <a:pathLst>
              <a:path w="720725" h="719138">
                <a:moveTo>
                  <a:pt x="95532" y="274998"/>
                </a:moveTo>
                <a:lnTo>
                  <a:pt x="625193" y="274998"/>
                </a:lnTo>
                <a:lnTo>
                  <a:pt x="625193" y="444140"/>
                </a:lnTo>
                <a:lnTo>
                  <a:pt x="95532" y="444140"/>
                </a:lnTo>
                <a:lnTo>
                  <a:pt x="95532" y="27499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а способа превращения сбережений домохозяйств в инвестиционные ресурсы фирм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посредованный (косвенный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ямой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ходы домохозяйств на покупку товаров и услуг — потребительские расходы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sumption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полняются инвестиционными расходами фирм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vestment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ield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личина совокупного продукта тождественно равна сумме совокупных расходов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enditures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Е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3348000" y="5516640"/>
                <a:ext cx="1373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двухсекторной модели экономики состоят из потребительских расходов домохозяйств (С) и инвестиционных расходов фирм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ждественно равны совокупному доходу 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овательно, инвестиции тождественно равны сбережениям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3"/>
              <p:cNvSpPr txBox="1"/>
              <p:nvPr/>
            </p:nvSpPr>
            <p:spPr>
              <a:xfrm>
                <a:off x="3203640" y="4508640"/>
                <a:ext cx="2376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≡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6"/>
              <p:cNvSpPr txBox="1"/>
              <p:nvPr/>
            </p:nvSpPr>
            <p:spPr>
              <a:xfrm>
                <a:off x="3965400" y="5589720"/>
                <a:ext cx="1155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≡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Инъекции и изъятия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ставляют собо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jection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в экономику, 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зъят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akages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утечки) из экономик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все, ч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увеличивае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ток расход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ход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за исключением потребительских расходов, которые не относятся ни к инъекциям, ни к изъятия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зъят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все, ч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кращает поток расход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ход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Инвестиции и сбережения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авновесной экономик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 тождественно равны изъятия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тре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442880"/>
            <a:ext cx="822960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ены в основном денежные поток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2" name="Picture 2" descr="C:\Users\х\Desktop\макро\тема 1\3 секторная.jpg"/>
          <p:cNvPicPr/>
          <p:nvPr/>
        </p:nvPicPr>
        <p:blipFill>
          <a:blip r:embed="rId1"/>
          <a:stretch/>
        </p:blipFill>
        <p:spPr>
          <a:xfrm>
            <a:off x="179280" y="1074600"/>
            <a:ext cx="8748720" cy="5018400"/>
          </a:xfrm>
          <a:prstGeom prst="rect">
            <a:avLst/>
          </a:prstGeom>
          <a:ln w="0">
            <a:noFill/>
          </a:ln>
        </p:spPr>
      </p:pic>
      <p:sp>
        <p:nvSpPr>
          <p:cNvPr id="593" name="Стрелка углом 5"/>
          <p:cNvSpPr/>
          <p:nvPr/>
        </p:nvSpPr>
        <p:spPr>
          <a:xfrm>
            <a:off x="395280" y="1197000"/>
            <a:ext cx="2448000" cy="2232000"/>
          </a:xfrm>
          <a:custGeom>
            <a:avLst/>
            <a:gdLst/>
            <a:ahLst/>
            <a:rect l="l" t="t" r="r" b="b"/>
            <a:pathLst>
              <a:path w="2447925" h="2232025">
                <a:moveTo>
                  <a:pt x="0" y="2232025"/>
                </a:moveTo>
                <a:lnTo>
                  <a:pt x="0" y="811977"/>
                </a:lnTo>
                <a:cubicBezTo>
                  <a:pt x="0" y="420578"/>
                  <a:pt x="317291" y="103287"/>
                  <a:pt x="708690" y="103287"/>
                </a:cubicBezTo>
                <a:lnTo>
                  <a:pt x="2145932" y="103287"/>
                </a:lnTo>
                <a:lnTo>
                  <a:pt x="2145932" y="0"/>
                </a:lnTo>
                <a:lnTo>
                  <a:pt x="2447925" y="198673"/>
                </a:lnTo>
                <a:lnTo>
                  <a:pt x="2145932" y="397345"/>
                </a:lnTo>
                <a:lnTo>
                  <a:pt x="2145932" y="294058"/>
                </a:lnTo>
                <a:lnTo>
                  <a:pt x="708690" y="294058"/>
                </a:lnTo>
                <a:cubicBezTo>
                  <a:pt x="422651" y="294058"/>
                  <a:pt x="190771" y="525938"/>
                  <a:pt x="190771" y="811977"/>
                </a:cubicBezTo>
                <a:lnTo>
                  <a:pt x="190771" y="2232025"/>
                </a:lnTo>
                <a:lnTo>
                  <a:pt x="0" y="22320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Стрелка углом 6"/>
          <p:cNvSpPr/>
          <p:nvPr/>
        </p:nvSpPr>
        <p:spPr>
          <a:xfrm rot="10800000">
            <a:off x="6084360" y="3933720"/>
            <a:ext cx="2519640" cy="2159280"/>
          </a:xfrm>
          <a:custGeom>
            <a:avLst/>
            <a:gdLst/>
            <a:ahLst/>
            <a:rect l="l" t="t" r="r" b="b"/>
            <a:pathLst>
              <a:path w="2519362" h="2159000">
                <a:moveTo>
                  <a:pt x="0" y="2159000"/>
                </a:moveTo>
                <a:lnTo>
                  <a:pt x="0" y="1012744"/>
                </a:lnTo>
                <a:cubicBezTo>
                  <a:pt x="0" y="491076"/>
                  <a:pt x="422895" y="68181"/>
                  <a:pt x="944563" y="68181"/>
                </a:cubicBezTo>
                <a:lnTo>
                  <a:pt x="2181932" y="68181"/>
                </a:lnTo>
                <a:lnTo>
                  <a:pt x="2181932" y="0"/>
                </a:lnTo>
                <a:lnTo>
                  <a:pt x="2519362" y="162724"/>
                </a:lnTo>
                <a:lnTo>
                  <a:pt x="2181932" y="325448"/>
                </a:lnTo>
                <a:lnTo>
                  <a:pt x="2181932" y="257266"/>
                </a:lnTo>
                <a:lnTo>
                  <a:pt x="944563" y="257266"/>
                </a:lnTo>
                <a:cubicBezTo>
                  <a:pt x="527325" y="257266"/>
                  <a:pt x="189086" y="595505"/>
                  <a:pt x="189086" y="1012743"/>
                </a:cubicBezTo>
                <a:cubicBezTo>
                  <a:pt x="189086" y="1394829"/>
                  <a:pt x="189085" y="1776914"/>
                  <a:pt x="189085" y="2159000"/>
                </a:cubicBezTo>
                <a:lnTo>
                  <a:pt x="0" y="21590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Стрелка углом 7"/>
          <p:cNvSpPr/>
          <p:nvPr/>
        </p:nvSpPr>
        <p:spPr>
          <a:xfrm rot="16200000">
            <a:off x="503640" y="3609000"/>
            <a:ext cx="1943280" cy="2592360"/>
          </a:xfrm>
          <a:custGeom>
            <a:avLst/>
            <a:gdLst/>
            <a:ahLst/>
            <a:rect l="l" t="t" r="r" b="b"/>
            <a:pathLst>
              <a:path w="1943100" h="2592387">
                <a:moveTo>
                  <a:pt x="0" y="2592387"/>
                </a:moveTo>
                <a:lnTo>
                  <a:pt x="0" y="1026103"/>
                </a:lnTo>
                <a:cubicBezTo>
                  <a:pt x="0" y="556602"/>
                  <a:pt x="380605" y="175997"/>
                  <a:pt x="850106" y="175997"/>
                </a:cubicBezTo>
                <a:lnTo>
                  <a:pt x="1704682" y="175996"/>
                </a:lnTo>
                <a:lnTo>
                  <a:pt x="1704682" y="0"/>
                </a:lnTo>
                <a:lnTo>
                  <a:pt x="1943100" y="247862"/>
                </a:lnTo>
                <a:lnTo>
                  <a:pt x="1704682" y="495724"/>
                </a:lnTo>
                <a:lnTo>
                  <a:pt x="1704682" y="319727"/>
                </a:lnTo>
                <a:lnTo>
                  <a:pt x="850106" y="319727"/>
                </a:lnTo>
                <a:cubicBezTo>
                  <a:pt x="459986" y="319727"/>
                  <a:pt x="143731" y="635982"/>
                  <a:pt x="143731" y="1026102"/>
                </a:cubicBezTo>
                <a:lnTo>
                  <a:pt x="143731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Стрелка углом 8"/>
          <p:cNvSpPr/>
          <p:nvPr/>
        </p:nvSpPr>
        <p:spPr>
          <a:xfrm rot="5400000">
            <a:off x="6335640" y="1088640"/>
            <a:ext cx="2160720" cy="2519280"/>
          </a:xfrm>
          <a:custGeom>
            <a:avLst/>
            <a:gdLst/>
            <a:ahLst/>
            <a:rect l="l" t="t" r="r" b="b"/>
            <a:pathLst>
              <a:path w="2160587" h="2519363">
                <a:moveTo>
                  <a:pt x="0" y="2519363"/>
                </a:moveTo>
                <a:lnTo>
                  <a:pt x="0" y="1049786"/>
                </a:lnTo>
                <a:cubicBezTo>
                  <a:pt x="0" y="527735"/>
                  <a:pt x="423206" y="104529"/>
                  <a:pt x="945257" y="104529"/>
                </a:cubicBezTo>
                <a:lnTo>
                  <a:pt x="1939040" y="104529"/>
                </a:lnTo>
                <a:lnTo>
                  <a:pt x="1939040" y="0"/>
                </a:lnTo>
                <a:lnTo>
                  <a:pt x="2160587" y="179177"/>
                </a:lnTo>
                <a:lnTo>
                  <a:pt x="1939040" y="358355"/>
                </a:lnTo>
                <a:lnTo>
                  <a:pt x="1939040" y="253826"/>
                </a:lnTo>
                <a:lnTo>
                  <a:pt x="945257" y="253826"/>
                </a:lnTo>
                <a:cubicBezTo>
                  <a:pt x="505660" y="253826"/>
                  <a:pt x="149297" y="610189"/>
                  <a:pt x="149297" y="1049786"/>
                </a:cubicBezTo>
                <a:lnTo>
                  <a:pt x="149297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Стрелка углом 9"/>
          <p:cNvSpPr/>
          <p:nvPr/>
        </p:nvSpPr>
        <p:spPr>
          <a:xfrm flipH="1">
            <a:off x="6156360" y="1628640"/>
            <a:ext cx="2016000" cy="1800360"/>
          </a:xfrm>
          <a:custGeom>
            <a:avLst/>
            <a:gdLst/>
            <a:ahLst/>
            <a:rect l="l" t="t" r="r" b="b"/>
            <a:pathLst>
              <a:path w="2016125" h="1800225">
                <a:moveTo>
                  <a:pt x="0" y="1800225"/>
                </a:moveTo>
                <a:lnTo>
                  <a:pt x="0" y="923074"/>
                </a:lnTo>
                <a:cubicBezTo>
                  <a:pt x="0" y="488096"/>
                  <a:pt x="352620" y="135476"/>
                  <a:pt x="787598" y="135476"/>
                </a:cubicBezTo>
                <a:lnTo>
                  <a:pt x="1795237" y="135476"/>
                </a:lnTo>
                <a:lnTo>
                  <a:pt x="1795237" y="0"/>
                </a:lnTo>
                <a:lnTo>
                  <a:pt x="2016125" y="194046"/>
                </a:lnTo>
                <a:lnTo>
                  <a:pt x="1795237" y="388093"/>
                </a:lnTo>
                <a:lnTo>
                  <a:pt x="1795237" y="252617"/>
                </a:lnTo>
                <a:lnTo>
                  <a:pt x="787598" y="252617"/>
                </a:lnTo>
                <a:cubicBezTo>
                  <a:pt x="417314" y="252617"/>
                  <a:pt x="117140" y="552791"/>
                  <a:pt x="117140" y="923075"/>
                </a:cubicBezTo>
                <a:cubicBezTo>
                  <a:pt x="117140" y="1215458"/>
                  <a:pt x="117141" y="1507842"/>
                  <a:pt x="117141" y="1800225"/>
                </a:cubicBezTo>
                <a:lnTo>
                  <a:pt x="0" y="18002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Стрелка углом 10"/>
          <p:cNvSpPr/>
          <p:nvPr/>
        </p:nvSpPr>
        <p:spPr>
          <a:xfrm flipH="1" rot="16200000">
            <a:off x="934920" y="1521720"/>
            <a:ext cx="1655640" cy="2158920"/>
          </a:xfrm>
          <a:custGeom>
            <a:avLst/>
            <a:gdLst/>
            <a:ahLst/>
            <a:rect l="l" t="t" r="r" b="b"/>
            <a:pathLst>
              <a:path w="1655762" h="2159000">
                <a:moveTo>
                  <a:pt x="0" y="2159000"/>
                </a:moveTo>
                <a:lnTo>
                  <a:pt x="0" y="806911"/>
                </a:lnTo>
                <a:cubicBezTo>
                  <a:pt x="0" y="406838"/>
                  <a:pt x="324323" y="82515"/>
                  <a:pt x="724396" y="82515"/>
                </a:cubicBezTo>
                <a:lnTo>
                  <a:pt x="1409070" y="82515"/>
                </a:lnTo>
                <a:lnTo>
                  <a:pt x="1409070" y="0"/>
                </a:lnTo>
                <a:lnTo>
                  <a:pt x="1655762" y="160758"/>
                </a:lnTo>
                <a:lnTo>
                  <a:pt x="1409070" y="321516"/>
                </a:lnTo>
                <a:lnTo>
                  <a:pt x="1409070" y="239001"/>
                </a:lnTo>
                <a:lnTo>
                  <a:pt x="724396" y="239001"/>
                </a:lnTo>
                <a:cubicBezTo>
                  <a:pt x="410748" y="239001"/>
                  <a:pt x="156486" y="493263"/>
                  <a:pt x="156486" y="806911"/>
                </a:cubicBezTo>
                <a:lnTo>
                  <a:pt x="156486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Стрелка углом 11"/>
          <p:cNvSpPr/>
          <p:nvPr/>
        </p:nvSpPr>
        <p:spPr>
          <a:xfrm flipH="1" rot="10800000">
            <a:off x="684360" y="3933720"/>
            <a:ext cx="2087280" cy="1656000"/>
          </a:xfrm>
          <a:custGeom>
            <a:avLst/>
            <a:gdLst/>
            <a:ahLst/>
            <a:rect l="l" t="t" r="r" b="b"/>
            <a:pathLst>
              <a:path w="2087562" h="1655763">
                <a:moveTo>
                  <a:pt x="0" y="1655763"/>
                </a:moveTo>
                <a:lnTo>
                  <a:pt x="0" y="470750"/>
                </a:lnTo>
                <a:cubicBezTo>
                  <a:pt x="0" y="289560"/>
                  <a:pt x="146883" y="142677"/>
                  <a:pt x="328073" y="142677"/>
                </a:cubicBezTo>
                <a:lnTo>
                  <a:pt x="1884400" y="142677"/>
                </a:lnTo>
                <a:lnTo>
                  <a:pt x="1884400" y="0"/>
                </a:lnTo>
                <a:lnTo>
                  <a:pt x="2087562" y="222137"/>
                </a:lnTo>
                <a:lnTo>
                  <a:pt x="1884400" y="444274"/>
                </a:lnTo>
                <a:lnTo>
                  <a:pt x="1884400" y="301597"/>
                </a:lnTo>
                <a:lnTo>
                  <a:pt x="328073" y="301597"/>
                </a:lnTo>
                <a:cubicBezTo>
                  <a:pt x="234652" y="301597"/>
                  <a:pt x="158920" y="377329"/>
                  <a:pt x="158920" y="470750"/>
                </a:cubicBezTo>
                <a:lnTo>
                  <a:pt x="158920" y="1655763"/>
                </a:lnTo>
                <a:lnTo>
                  <a:pt x="0" y="16557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Стрелка углом 12"/>
          <p:cNvSpPr/>
          <p:nvPr/>
        </p:nvSpPr>
        <p:spPr>
          <a:xfrm flipH="1" rot="5400000">
            <a:off x="6516720" y="3573360"/>
            <a:ext cx="1440000" cy="2160720"/>
          </a:xfrm>
          <a:custGeom>
            <a:avLst/>
            <a:gdLst/>
            <a:ahLst/>
            <a:rect l="l" t="t" r="r" b="b"/>
            <a:pathLst>
              <a:path w="1439863" h="2160588">
                <a:moveTo>
                  <a:pt x="0" y="2160588"/>
                </a:moveTo>
                <a:lnTo>
                  <a:pt x="0" y="626621"/>
                </a:lnTo>
                <a:cubicBezTo>
                  <a:pt x="0" y="326801"/>
                  <a:pt x="243052" y="83749"/>
                  <a:pt x="542872" y="83749"/>
                </a:cubicBezTo>
                <a:lnTo>
                  <a:pt x="1288433" y="83750"/>
                </a:lnTo>
                <a:lnTo>
                  <a:pt x="1288433" y="0"/>
                </a:lnTo>
                <a:lnTo>
                  <a:pt x="1439863" y="139177"/>
                </a:lnTo>
                <a:lnTo>
                  <a:pt x="1288433" y="278354"/>
                </a:lnTo>
                <a:lnTo>
                  <a:pt x="1288433" y="194605"/>
                </a:lnTo>
                <a:lnTo>
                  <a:pt x="542872" y="194605"/>
                </a:lnTo>
                <a:cubicBezTo>
                  <a:pt x="304276" y="194605"/>
                  <a:pt x="110856" y="388025"/>
                  <a:pt x="110856" y="626621"/>
                </a:cubicBezTo>
                <a:cubicBezTo>
                  <a:pt x="110856" y="1137943"/>
                  <a:pt x="110855" y="1649266"/>
                  <a:pt x="110855" y="2160588"/>
                </a:cubicBezTo>
                <a:lnTo>
                  <a:pt x="0" y="2160588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Стрелка углом 15"/>
          <p:cNvSpPr/>
          <p:nvPr/>
        </p:nvSpPr>
        <p:spPr>
          <a:xfrm>
            <a:off x="1258920" y="2781360"/>
            <a:ext cx="2089080" cy="647640"/>
          </a:xfrm>
          <a:custGeom>
            <a:avLst/>
            <a:gdLst/>
            <a:ahLst/>
            <a:rect l="l" t="t" r="r" b="b"/>
            <a:pathLst>
              <a:path w="2089150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796357" y="93256"/>
                </a:lnTo>
                <a:lnTo>
                  <a:pt x="1796357" y="0"/>
                </a:lnTo>
                <a:lnTo>
                  <a:pt x="2089150" y="150908"/>
                </a:lnTo>
                <a:lnTo>
                  <a:pt x="1796357" y="301815"/>
                </a:lnTo>
                <a:lnTo>
                  <a:pt x="1796357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Стрелка углом 16"/>
          <p:cNvSpPr/>
          <p:nvPr/>
        </p:nvSpPr>
        <p:spPr>
          <a:xfrm flipH="1">
            <a:off x="5508000" y="2781360"/>
            <a:ext cx="1871640" cy="647640"/>
          </a:xfrm>
          <a:custGeom>
            <a:avLst/>
            <a:gdLst/>
            <a:ahLst/>
            <a:rect l="l" t="t" r="r" b="b"/>
            <a:pathLst>
              <a:path w="1871663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578870" y="93256"/>
                </a:lnTo>
                <a:lnTo>
                  <a:pt x="1578870" y="0"/>
                </a:lnTo>
                <a:lnTo>
                  <a:pt x="1871663" y="150908"/>
                </a:lnTo>
                <a:lnTo>
                  <a:pt x="1578870" y="301815"/>
                </a:lnTo>
                <a:lnTo>
                  <a:pt x="1578870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Стрелка углом 17"/>
          <p:cNvSpPr/>
          <p:nvPr/>
        </p:nvSpPr>
        <p:spPr>
          <a:xfrm flipH="1" rot="10800000">
            <a:off x="1258920" y="3933360"/>
            <a:ext cx="2160720" cy="647640"/>
          </a:xfrm>
          <a:custGeom>
            <a:avLst/>
            <a:gdLst/>
            <a:ahLst/>
            <a:rect l="l" t="t" r="r" b="b"/>
            <a:pathLst>
              <a:path w="2160587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867794" y="93256"/>
                </a:lnTo>
                <a:lnTo>
                  <a:pt x="1867794" y="0"/>
                </a:lnTo>
                <a:lnTo>
                  <a:pt x="2160587" y="150908"/>
                </a:lnTo>
                <a:lnTo>
                  <a:pt x="1867794" y="301815"/>
                </a:lnTo>
                <a:lnTo>
                  <a:pt x="1867794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Стрелка углом 18"/>
          <p:cNvSpPr/>
          <p:nvPr/>
        </p:nvSpPr>
        <p:spPr>
          <a:xfrm flipH="1" rot="5400000">
            <a:off x="6408720" y="3033000"/>
            <a:ext cx="647640" cy="2448000"/>
          </a:xfrm>
          <a:custGeom>
            <a:avLst/>
            <a:gdLst/>
            <a:ahLst/>
            <a:rect l="l" t="t" r="r" b="b"/>
            <a:pathLst>
              <a:path w="647700" h="2447925">
                <a:moveTo>
                  <a:pt x="0" y="2447925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354907" y="93256"/>
                </a:lnTo>
                <a:lnTo>
                  <a:pt x="354907" y="0"/>
                </a:lnTo>
                <a:lnTo>
                  <a:pt x="647700" y="150908"/>
                </a:lnTo>
                <a:lnTo>
                  <a:pt x="354907" y="301815"/>
                </a:lnTo>
                <a:lnTo>
                  <a:pt x="354907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1102284"/>
                  <a:pt x="115304" y="1775105"/>
                  <a:pt x="115304" y="2447925"/>
                </a:cubicBezTo>
                <a:lnTo>
                  <a:pt x="0" y="24479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Стрелка углом 19"/>
          <p:cNvSpPr/>
          <p:nvPr/>
        </p:nvSpPr>
        <p:spPr>
          <a:xfrm flipH="1" rot="10800000">
            <a:off x="5147280" y="3284280"/>
            <a:ext cx="1871640" cy="431640"/>
          </a:xfrm>
          <a:custGeom>
            <a:avLst/>
            <a:gdLst/>
            <a:ahLst/>
            <a:rect l="l" t="t" r="r" b="b"/>
            <a:pathLst>
              <a:path w="1871662" h="431800">
                <a:moveTo>
                  <a:pt x="0" y="431800"/>
                </a:moveTo>
                <a:lnTo>
                  <a:pt x="0" y="297916"/>
                </a:lnTo>
                <a:cubicBezTo>
                  <a:pt x="0" y="174127"/>
                  <a:pt x="100350" y="73777"/>
                  <a:pt x="224139" y="73777"/>
                </a:cubicBezTo>
                <a:lnTo>
                  <a:pt x="1734492" y="73777"/>
                </a:lnTo>
                <a:lnTo>
                  <a:pt x="1734492" y="0"/>
                </a:lnTo>
                <a:lnTo>
                  <a:pt x="1871662" y="126716"/>
                </a:lnTo>
                <a:lnTo>
                  <a:pt x="1734492" y="253432"/>
                </a:lnTo>
                <a:lnTo>
                  <a:pt x="1734492" y="179655"/>
                </a:lnTo>
                <a:lnTo>
                  <a:pt x="224139" y="179655"/>
                </a:lnTo>
                <a:cubicBezTo>
                  <a:pt x="158825" y="179655"/>
                  <a:pt x="105878" y="232602"/>
                  <a:pt x="105878" y="297916"/>
                </a:cubicBezTo>
                <a:cubicBezTo>
                  <a:pt x="105878" y="342544"/>
                  <a:pt x="105877" y="387172"/>
                  <a:pt x="105877" y="431800"/>
                </a:cubicBez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Стрелка углом 20"/>
          <p:cNvSpPr/>
          <p:nvPr/>
        </p:nvSpPr>
        <p:spPr>
          <a:xfrm rot="10800000">
            <a:off x="1979640" y="3284280"/>
            <a:ext cx="1728720" cy="431640"/>
          </a:xfrm>
          <a:custGeom>
            <a:avLst/>
            <a:gdLst/>
            <a:ahLst/>
            <a:rect l="l" t="t" r="r" b="b"/>
            <a:pathLst>
              <a:path w="1728787" h="431800">
                <a:moveTo>
                  <a:pt x="0" y="431800"/>
                </a:moveTo>
                <a:lnTo>
                  <a:pt x="0" y="286309"/>
                </a:lnTo>
                <a:cubicBezTo>
                  <a:pt x="0" y="162520"/>
                  <a:pt x="100350" y="62170"/>
                  <a:pt x="224139" y="62170"/>
                </a:cubicBezTo>
                <a:lnTo>
                  <a:pt x="1533592" y="62171"/>
                </a:lnTo>
                <a:lnTo>
                  <a:pt x="1533592" y="0"/>
                </a:lnTo>
                <a:lnTo>
                  <a:pt x="1728787" y="100605"/>
                </a:lnTo>
                <a:lnTo>
                  <a:pt x="1533592" y="201210"/>
                </a:lnTo>
                <a:lnTo>
                  <a:pt x="1533592" y="139040"/>
                </a:lnTo>
                <a:lnTo>
                  <a:pt x="224139" y="139040"/>
                </a:lnTo>
                <a:cubicBezTo>
                  <a:pt x="142804" y="139040"/>
                  <a:pt x="76869" y="204975"/>
                  <a:pt x="76869" y="286310"/>
                </a:cubicBezTo>
                <a:lnTo>
                  <a:pt x="76869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Стрелка углом 21"/>
          <p:cNvSpPr/>
          <p:nvPr/>
        </p:nvSpPr>
        <p:spPr>
          <a:xfrm rot="16200000">
            <a:off x="6264000" y="1017000"/>
            <a:ext cx="576360" cy="2519280"/>
          </a:xfrm>
          <a:custGeom>
            <a:avLst/>
            <a:gdLst/>
            <a:ahLst/>
            <a:rect l="l" t="t" r="r" b="b"/>
            <a:pathLst>
              <a:path w="576262" h="2519363">
                <a:moveTo>
                  <a:pt x="0" y="2519363"/>
                </a:moveTo>
                <a:lnTo>
                  <a:pt x="0" y="367577"/>
                </a:lnTo>
                <a:cubicBezTo>
                  <a:pt x="0" y="202374"/>
                  <a:pt x="133923" y="68451"/>
                  <a:pt x="299126" y="68451"/>
                </a:cubicBezTo>
                <a:lnTo>
                  <a:pt x="315763" y="68451"/>
                </a:lnTo>
                <a:lnTo>
                  <a:pt x="315763" y="0"/>
                </a:lnTo>
                <a:lnTo>
                  <a:pt x="576262" y="134263"/>
                </a:lnTo>
                <a:lnTo>
                  <a:pt x="315763" y="268527"/>
                </a:lnTo>
                <a:lnTo>
                  <a:pt x="315763" y="200075"/>
                </a:lnTo>
                <a:lnTo>
                  <a:pt x="299126" y="200075"/>
                </a:lnTo>
                <a:cubicBezTo>
                  <a:pt x="206617" y="200075"/>
                  <a:pt x="131624" y="275068"/>
                  <a:pt x="131624" y="367577"/>
                </a:cubicBezTo>
                <a:lnTo>
                  <a:pt x="131624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Минус 22"/>
          <p:cNvSpPr/>
          <p:nvPr/>
        </p:nvSpPr>
        <p:spPr>
          <a:xfrm rot="5400000">
            <a:off x="7102080" y="2625840"/>
            <a:ext cx="1274760" cy="576360"/>
          </a:xfrm>
          <a:custGeom>
            <a:avLst/>
            <a:gdLst/>
            <a:ahLst/>
            <a:rect l="l" t="t" r="r" b="b"/>
            <a:pathLst>
              <a:path w="1274763" h="576263">
                <a:moveTo>
                  <a:pt x="168970" y="220363"/>
                </a:moveTo>
                <a:lnTo>
                  <a:pt x="1105793" y="220363"/>
                </a:lnTo>
                <a:lnTo>
                  <a:pt x="1105793" y="355900"/>
                </a:lnTo>
                <a:lnTo>
                  <a:pt x="168970" y="355900"/>
                </a:lnTo>
                <a:lnTo>
                  <a:pt x="168970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Стрелка вниз 23"/>
          <p:cNvSpPr/>
          <p:nvPr/>
        </p:nvSpPr>
        <p:spPr>
          <a:xfrm rot="10800000">
            <a:off x="4427640" y="3213000"/>
            <a:ext cx="288720" cy="9064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Стрелка вниз 24"/>
          <p:cNvSpPr/>
          <p:nvPr/>
        </p:nvSpPr>
        <p:spPr>
          <a:xfrm rot="10800000">
            <a:off x="4427640" y="1989000"/>
            <a:ext cx="288720" cy="71928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енные закуп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-первых, государ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елает закупки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overnment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Налоги и трансферты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вторых, государств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бязывает всех платить налог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xe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х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вляющиеся основным источником доходов государственного бюджет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как перераспределитель национального дохода не только собирает налоги, но 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плачивает трансфер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payment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рансфер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платежи, которые домохозяйства и фирмы безвозмездно (не в обмен на товары и услуги) получают от государств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охозяйств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это различны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циальные выплат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ial benefit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: пенсии, стипендии, пособия по безработице, пособия по нетрудоспособности, пособия по бедности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рм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убсиди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sidi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как кредитор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Если доход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сударств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вышают расход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имеет мес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фицит (излишек) государственного бюджет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 государство может выступить на финансовом рынк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упая ценные бумаги частных фирм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Доходы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&gt;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 Расходы = Профици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ая теория берет начало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держательно от фундаментального труда выдающегося английского экономист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на Мейнарда Кейнс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ohn Maynard Keyn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36 г. вышла его книг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Общая теория занятости, процента и денег"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в которой он заложил основы макроэкономического анализ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ейнсианская макроэкономическая модель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классическая модель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Государство как заемщик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Если расхо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а (государственные закупки плюс трансферты)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вышают дохо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а (налоги), что соответству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ефициту государственного бюджет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государство для оплаты своих расходов должно занять деньги на финансовом рынке, выступа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емщико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Доходы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&lt;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Расходы = Дефици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еханизм государственного займ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аковы для двух- и трехсекторной модели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1) Совокупный продукт = Совокупный доход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2) Совокупный доход = Совокупные расход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3) Инъекции = Изъят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в трехсекторной модели экономики состоят из потребления (С), инвестиц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государственных закупок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 + 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чистых налогов (Т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истые налог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разница между налогами и трансфертам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 = Tx – Tr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 + G = S + 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латы процентов по государственным облигациям обычно учитываются в величине трансфертов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же, как и трансферты, выплачиваются не в обмен на товар или услугу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асполагаемый доход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циональный (совокупный) доход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умма факторных доходов, т.е. доходов, заработанным собственниками экономических ресурсов (домохозяйствам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sposal income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- доход, которым домохозяйства могут распоряжаться и расходовать по собственному усмотрению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 отличается от национального дохода на величину налог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Тх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домохозяйства платят государству, и величину трансферт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Т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государство платит домохозяйствам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асполагаемый доход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x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ли вычесть чистые налоги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Т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Четырехсекторная модель 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ключение в модель кругооборот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остранного сектор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четырехсекторную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экономики (модель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крытой экономик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скольку в модели кругооборота отражены только денежные потоки, то под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спорт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or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Ex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нимается выручка (доходы) от экспорта (стрелк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остранного сектора), а под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мпорт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mpor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m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ходы по импорту (стрелк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остранному сектору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C:\Users\х\Desktop\макро\тема 1\4секторная.jpg"/>
          <p:cNvPicPr/>
          <p:nvPr/>
        </p:nvPicPr>
        <p:blipFill>
          <a:blip r:embed="rId1"/>
          <a:stretch/>
        </p:blipFill>
        <p:spPr>
          <a:xfrm>
            <a:off x="147600" y="1251000"/>
            <a:ext cx="8848800" cy="556272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четыре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Стрелка углом 23"/>
          <p:cNvSpPr/>
          <p:nvPr/>
        </p:nvSpPr>
        <p:spPr>
          <a:xfrm rot="10800000">
            <a:off x="5724000" y="4221000"/>
            <a:ext cx="2808360" cy="2376720"/>
          </a:xfrm>
          <a:custGeom>
            <a:avLst/>
            <a:gdLst/>
            <a:ahLst/>
            <a:rect l="l" t="t" r="r" b="b"/>
            <a:pathLst>
              <a:path w="2808288" h="2376487">
                <a:moveTo>
                  <a:pt x="0" y="2376487"/>
                </a:moveTo>
                <a:lnTo>
                  <a:pt x="0" y="1126811"/>
                </a:lnTo>
                <a:cubicBezTo>
                  <a:pt x="0" y="552593"/>
                  <a:pt x="465495" y="87098"/>
                  <a:pt x="1039713" y="87098"/>
                </a:cubicBezTo>
                <a:lnTo>
                  <a:pt x="2538462" y="87098"/>
                </a:lnTo>
                <a:lnTo>
                  <a:pt x="2538462" y="0"/>
                </a:lnTo>
                <a:lnTo>
                  <a:pt x="2808288" y="171868"/>
                </a:lnTo>
                <a:lnTo>
                  <a:pt x="2538462" y="343735"/>
                </a:lnTo>
                <a:lnTo>
                  <a:pt x="2538462" y="256637"/>
                </a:lnTo>
                <a:lnTo>
                  <a:pt x="1039713" y="256637"/>
                </a:lnTo>
                <a:cubicBezTo>
                  <a:pt x="559129" y="256637"/>
                  <a:pt x="169539" y="646227"/>
                  <a:pt x="169539" y="1126811"/>
                </a:cubicBezTo>
                <a:lnTo>
                  <a:pt x="169539" y="2376487"/>
                </a:lnTo>
                <a:lnTo>
                  <a:pt x="0" y="23764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Стрелка углом 25"/>
          <p:cNvSpPr/>
          <p:nvPr/>
        </p:nvSpPr>
        <p:spPr>
          <a:xfrm rot="16200000">
            <a:off x="934920" y="3897000"/>
            <a:ext cx="2160720" cy="2808360"/>
          </a:xfrm>
          <a:custGeom>
            <a:avLst/>
            <a:gdLst/>
            <a:ahLst/>
            <a:rect l="l" t="t" r="r" b="b"/>
            <a:pathLst>
              <a:path w="2160587" h="2808287">
                <a:moveTo>
                  <a:pt x="0" y="2808287"/>
                </a:moveTo>
                <a:lnTo>
                  <a:pt x="0" y="1061766"/>
                </a:lnTo>
                <a:cubicBezTo>
                  <a:pt x="0" y="539715"/>
                  <a:pt x="423206" y="116509"/>
                  <a:pt x="945257" y="116509"/>
                </a:cubicBezTo>
                <a:lnTo>
                  <a:pt x="2001049" y="116510"/>
                </a:lnTo>
                <a:lnTo>
                  <a:pt x="2001049" y="0"/>
                </a:lnTo>
                <a:lnTo>
                  <a:pt x="2160587" y="176628"/>
                </a:lnTo>
                <a:lnTo>
                  <a:pt x="2001049" y="353256"/>
                </a:lnTo>
                <a:lnTo>
                  <a:pt x="2001049" y="236746"/>
                </a:lnTo>
                <a:lnTo>
                  <a:pt x="945257" y="236746"/>
                </a:lnTo>
                <a:cubicBezTo>
                  <a:pt x="489611" y="236746"/>
                  <a:pt x="120237" y="606120"/>
                  <a:pt x="120237" y="1061766"/>
                </a:cubicBezTo>
                <a:lnTo>
                  <a:pt x="120237" y="2808287"/>
                </a:lnTo>
                <a:lnTo>
                  <a:pt x="0" y="28082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Стрелка углом 26"/>
          <p:cNvSpPr/>
          <p:nvPr/>
        </p:nvSpPr>
        <p:spPr>
          <a:xfrm rot="5400000">
            <a:off x="6156000" y="1196640"/>
            <a:ext cx="2158920" cy="2879640"/>
          </a:xfrm>
          <a:custGeom>
            <a:avLst/>
            <a:gdLst/>
            <a:ahLst/>
            <a:rect l="l" t="t" r="r" b="b"/>
            <a:pathLst>
              <a:path w="2159000" h="2879725">
                <a:moveTo>
                  <a:pt x="0" y="2879725"/>
                </a:moveTo>
                <a:lnTo>
                  <a:pt x="0" y="1049015"/>
                </a:lnTo>
                <a:cubicBezTo>
                  <a:pt x="0" y="527347"/>
                  <a:pt x="422895" y="104452"/>
                  <a:pt x="944563" y="104452"/>
                </a:cubicBezTo>
                <a:lnTo>
                  <a:pt x="1937616" y="104452"/>
                </a:lnTo>
                <a:lnTo>
                  <a:pt x="1937616" y="0"/>
                </a:lnTo>
                <a:lnTo>
                  <a:pt x="2159000" y="179046"/>
                </a:lnTo>
                <a:lnTo>
                  <a:pt x="1937616" y="358092"/>
                </a:lnTo>
                <a:lnTo>
                  <a:pt x="1937616" y="253639"/>
                </a:lnTo>
                <a:lnTo>
                  <a:pt x="944563" y="253639"/>
                </a:lnTo>
                <a:cubicBezTo>
                  <a:pt x="505289" y="253639"/>
                  <a:pt x="149187" y="609741"/>
                  <a:pt x="149187" y="1049015"/>
                </a:cubicBezTo>
                <a:lnTo>
                  <a:pt x="149187" y="2879725"/>
                </a:lnTo>
                <a:lnTo>
                  <a:pt x="0" y="28797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Стрелка углом 27"/>
          <p:cNvSpPr/>
          <p:nvPr/>
        </p:nvSpPr>
        <p:spPr>
          <a:xfrm>
            <a:off x="1258920" y="3284640"/>
            <a:ext cx="2305080" cy="431640"/>
          </a:xfrm>
          <a:custGeom>
            <a:avLst/>
            <a:gdLst/>
            <a:ahLst/>
            <a:rect l="l" t="t" r="r" b="b"/>
            <a:pathLst>
              <a:path w="2305050" h="431800">
                <a:moveTo>
                  <a:pt x="0" y="431800"/>
                </a:moveTo>
                <a:lnTo>
                  <a:pt x="0" y="286309"/>
                </a:lnTo>
                <a:cubicBezTo>
                  <a:pt x="0" y="162520"/>
                  <a:pt x="100350" y="62170"/>
                  <a:pt x="224139" y="62170"/>
                </a:cubicBezTo>
                <a:lnTo>
                  <a:pt x="2109855" y="62171"/>
                </a:lnTo>
                <a:lnTo>
                  <a:pt x="2109855" y="0"/>
                </a:lnTo>
                <a:lnTo>
                  <a:pt x="2305050" y="100605"/>
                </a:lnTo>
                <a:lnTo>
                  <a:pt x="2109855" y="201210"/>
                </a:lnTo>
                <a:lnTo>
                  <a:pt x="2109855" y="139040"/>
                </a:lnTo>
                <a:lnTo>
                  <a:pt x="224139" y="139040"/>
                </a:lnTo>
                <a:cubicBezTo>
                  <a:pt x="142804" y="139040"/>
                  <a:pt x="76869" y="204975"/>
                  <a:pt x="76869" y="286310"/>
                </a:cubicBezTo>
                <a:lnTo>
                  <a:pt x="76869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Стрелка углом 28"/>
          <p:cNvSpPr/>
          <p:nvPr/>
        </p:nvSpPr>
        <p:spPr>
          <a:xfrm flipH="1">
            <a:off x="5651640" y="3213000"/>
            <a:ext cx="1728720" cy="503280"/>
          </a:xfrm>
          <a:custGeom>
            <a:avLst/>
            <a:gdLst/>
            <a:ahLst/>
            <a:rect l="l" t="t" r="r" b="b"/>
            <a:pathLst>
              <a:path w="1728788" h="503238">
                <a:moveTo>
                  <a:pt x="0" y="503238"/>
                </a:moveTo>
                <a:lnTo>
                  <a:pt x="0" y="333677"/>
                </a:lnTo>
                <a:cubicBezTo>
                  <a:pt x="0" y="189409"/>
                  <a:pt x="116953" y="72456"/>
                  <a:pt x="261221" y="72456"/>
                </a:cubicBezTo>
                <a:lnTo>
                  <a:pt x="1501299" y="72456"/>
                </a:lnTo>
                <a:lnTo>
                  <a:pt x="1501299" y="0"/>
                </a:lnTo>
                <a:lnTo>
                  <a:pt x="1728788" y="117249"/>
                </a:lnTo>
                <a:lnTo>
                  <a:pt x="1501299" y="234499"/>
                </a:lnTo>
                <a:lnTo>
                  <a:pt x="1501299" y="162043"/>
                </a:lnTo>
                <a:lnTo>
                  <a:pt x="261221" y="162043"/>
                </a:lnTo>
                <a:cubicBezTo>
                  <a:pt x="166430" y="162043"/>
                  <a:pt x="89587" y="238886"/>
                  <a:pt x="89587" y="333677"/>
                </a:cubicBezTo>
                <a:cubicBezTo>
                  <a:pt x="89587" y="390197"/>
                  <a:pt x="89586" y="446718"/>
                  <a:pt x="89586" y="503238"/>
                </a:cubicBezTo>
                <a:lnTo>
                  <a:pt x="0" y="50323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Стрелка углом 30"/>
          <p:cNvSpPr/>
          <p:nvPr/>
        </p:nvSpPr>
        <p:spPr>
          <a:xfrm flipH="1" rot="10800000">
            <a:off x="1257840" y="4220640"/>
            <a:ext cx="2305080" cy="863640"/>
          </a:xfrm>
          <a:custGeom>
            <a:avLst/>
            <a:gdLst/>
            <a:ahLst/>
            <a:rect l="l" t="t" r="r" b="b"/>
            <a:pathLst>
              <a:path w="2305050" h="863600">
                <a:moveTo>
                  <a:pt x="0" y="863600"/>
                </a:moveTo>
                <a:lnTo>
                  <a:pt x="0" y="519058"/>
                </a:lnTo>
                <a:cubicBezTo>
                  <a:pt x="0" y="271481"/>
                  <a:pt x="200700" y="70781"/>
                  <a:pt x="448277" y="70781"/>
                </a:cubicBezTo>
                <a:lnTo>
                  <a:pt x="2088727" y="70781"/>
                </a:lnTo>
                <a:lnTo>
                  <a:pt x="2088727" y="0"/>
                </a:lnTo>
                <a:lnTo>
                  <a:pt x="2305050" y="147650"/>
                </a:lnTo>
                <a:lnTo>
                  <a:pt x="2088727" y="295299"/>
                </a:lnTo>
                <a:lnTo>
                  <a:pt x="2088727" y="224519"/>
                </a:lnTo>
                <a:lnTo>
                  <a:pt x="448277" y="224519"/>
                </a:lnTo>
                <a:cubicBezTo>
                  <a:pt x="285608" y="224519"/>
                  <a:pt x="153738" y="356389"/>
                  <a:pt x="153738" y="519058"/>
                </a:cubicBezTo>
                <a:lnTo>
                  <a:pt x="153738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Стрелка углом 31"/>
          <p:cNvSpPr/>
          <p:nvPr/>
        </p:nvSpPr>
        <p:spPr>
          <a:xfrm flipH="1" rot="5400000">
            <a:off x="6515640" y="3356280"/>
            <a:ext cx="792360" cy="2520720"/>
          </a:xfrm>
          <a:custGeom>
            <a:avLst/>
            <a:gdLst/>
            <a:ahLst/>
            <a:rect l="l" t="t" r="r" b="b"/>
            <a:pathLst>
              <a:path w="792162" h="2520950">
                <a:moveTo>
                  <a:pt x="0" y="2520950"/>
                </a:moveTo>
                <a:lnTo>
                  <a:pt x="0" y="525251"/>
                </a:lnTo>
                <a:cubicBezTo>
                  <a:pt x="0" y="298154"/>
                  <a:pt x="184098" y="114056"/>
                  <a:pt x="411195" y="114056"/>
                </a:cubicBezTo>
                <a:lnTo>
                  <a:pt x="434065" y="114055"/>
                </a:lnTo>
                <a:lnTo>
                  <a:pt x="434065" y="0"/>
                </a:lnTo>
                <a:lnTo>
                  <a:pt x="792162" y="184566"/>
                </a:lnTo>
                <a:lnTo>
                  <a:pt x="434065" y="369132"/>
                </a:lnTo>
                <a:lnTo>
                  <a:pt x="434065" y="255076"/>
                </a:lnTo>
                <a:lnTo>
                  <a:pt x="411195" y="255076"/>
                </a:lnTo>
                <a:cubicBezTo>
                  <a:pt x="261981" y="255076"/>
                  <a:pt x="141020" y="376037"/>
                  <a:pt x="141020" y="525251"/>
                </a:cubicBezTo>
                <a:cubicBezTo>
                  <a:pt x="141020" y="1190484"/>
                  <a:pt x="141021" y="1855717"/>
                  <a:pt x="141021" y="2520950"/>
                </a:cubicBezTo>
                <a:lnTo>
                  <a:pt x="0" y="252095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Стрелка углом 32"/>
          <p:cNvSpPr/>
          <p:nvPr/>
        </p:nvSpPr>
        <p:spPr>
          <a:xfrm flipH="1" rot="10800000">
            <a:off x="5075640" y="3716280"/>
            <a:ext cx="1871640" cy="433440"/>
          </a:xfrm>
          <a:custGeom>
            <a:avLst/>
            <a:gdLst/>
            <a:ahLst/>
            <a:rect l="l" t="t" r="r" b="b"/>
            <a:pathLst>
              <a:path w="1871663" h="433387">
                <a:moveTo>
                  <a:pt x="0" y="433387"/>
                </a:moveTo>
                <a:lnTo>
                  <a:pt x="0" y="299011"/>
                </a:lnTo>
                <a:cubicBezTo>
                  <a:pt x="0" y="174767"/>
                  <a:pt x="100719" y="74048"/>
                  <a:pt x="224963" y="74048"/>
                </a:cubicBezTo>
                <a:lnTo>
                  <a:pt x="1733989" y="74049"/>
                </a:lnTo>
                <a:lnTo>
                  <a:pt x="1733989" y="0"/>
                </a:lnTo>
                <a:lnTo>
                  <a:pt x="1871663" y="127182"/>
                </a:lnTo>
                <a:lnTo>
                  <a:pt x="1733989" y="254363"/>
                </a:lnTo>
                <a:lnTo>
                  <a:pt x="1733989" y="180315"/>
                </a:lnTo>
                <a:lnTo>
                  <a:pt x="224963" y="180315"/>
                </a:lnTo>
                <a:cubicBezTo>
                  <a:pt x="159409" y="180315"/>
                  <a:pt x="106267" y="233457"/>
                  <a:pt x="106267" y="299011"/>
                </a:cubicBezTo>
                <a:cubicBezTo>
                  <a:pt x="106267" y="343803"/>
                  <a:pt x="106266" y="388595"/>
                  <a:pt x="106266" y="433387"/>
                </a:cubicBezTo>
                <a:lnTo>
                  <a:pt x="0" y="433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Стрелка углом 33"/>
          <p:cNvSpPr/>
          <p:nvPr/>
        </p:nvSpPr>
        <p:spPr>
          <a:xfrm rot="10800000">
            <a:off x="2340000" y="3716280"/>
            <a:ext cx="1727280" cy="433440"/>
          </a:xfrm>
          <a:custGeom>
            <a:avLst/>
            <a:gdLst/>
            <a:ahLst/>
            <a:rect l="l" t="t" r="r" b="b"/>
            <a:pathLst>
              <a:path w="1727200" h="433387">
                <a:moveTo>
                  <a:pt x="0" y="433387"/>
                </a:moveTo>
                <a:lnTo>
                  <a:pt x="0" y="287362"/>
                </a:lnTo>
                <a:cubicBezTo>
                  <a:pt x="0" y="163118"/>
                  <a:pt x="100719" y="62399"/>
                  <a:pt x="224963" y="62399"/>
                </a:cubicBezTo>
                <a:lnTo>
                  <a:pt x="1531287" y="62399"/>
                </a:lnTo>
                <a:lnTo>
                  <a:pt x="1531287" y="0"/>
                </a:lnTo>
                <a:lnTo>
                  <a:pt x="1727200" y="100975"/>
                </a:lnTo>
                <a:lnTo>
                  <a:pt x="1531287" y="201950"/>
                </a:lnTo>
                <a:lnTo>
                  <a:pt x="1531287" y="139551"/>
                </a:lnTo>
                <a:lnTo>
                  <a:pt x="224963" y="139551"/>
                </a:lnTo>
                <a:cubicBezTo>
                  <a:pt x="143329" y="139551"/>
                  <a:pt x="77152" y="205728"/>
                  <a:pt x="77152" y="287362"/>
                </a:cubicBezTo>
                <a:lnTo>
                  <a:pt x="77152" y="433387"/>
                </a:lnTo>
                <a:lnTo>
                  <a:pt x="0" y="433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Стрелка вниз 36"/>
          <p:cNvSpPr/>
          <p:nvPr/>
        </p:nvSpPr>
        <p:spPr>
          <a:xfrm rot="10800000">
            <a:off x="4427640" y="3674880"/>
            <a:ext cx="288720" cy="90612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Стрелка вниз 37"/>
          <p:cNvSpPr/>
          <p:nvPr/>
        </p:nvSpPr>
        <p:spPr>
          <a:xfrm rot="10800000">
            <a:off x="4427640" y="2349360"/>
            <a:ext cx="288720" cy="71928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Стрелка углом 38"/>
          <p:cNvSpPr/>
          <p:nvPr/>
        </p:nvSpPr>
        <p:spPr>
          <a:xfrm flipH="1">
            <a:off x="5796000" y="1989000"/>
            <a:ext cx="2448000" cy="1727280"/>
          </a:xfrm>
          <a:custGeom>
            <a:avLst/>
            <a:gdLst/>
            <a:ahLst/>
            <a:rect l="l" t="t" r="r" b="b"/>
            <a:pathLst>
              <a:path w="2447925" h="1727200">
                <a:moveTo>
                  <a:pt x="0" y="1727200"/>
                </a:moveTo>
                <a:lnTo>
                  <a:pt x="0" y="978416"/>
                </a:lnTo>
                <a:cubicBezTo>
                  <a:pt x="0" y="483262"/>
                  <a:pt x="401401" y="81861"/>
                  <a:pt x="896555" y="81861"/>
                </a:cubicBezTo>
                <a:lnTo>
                  <a:pt x="2160346" y="81861"/>
                </a:lnTo>
                <a:lnTo>
                  <a:pt x="2160346" y="0"/>
                </a:lnTo>
                <a:lnTo>
                  <a:pt x="2447925" y="163065"/>
                </a:lnTo>
                <a:lnTo>
                  <a:pt x="2160346" y="326130"/>
                </a:lnTo>
                <a:lnTo>
                  <a:pt x="2160346" y="244269"/>
                </a:lnTo>
                <a:lnTo>
                  <a:pt x="896555" y="244269"/>
                </a:lnTo>
                <a:cubicBezTo>
                  <a:pt x="491097" y="244269"/>
                  <a:pt x="162409" y="572957"/>
                  <a:pt x="162409" y="978415"/>
                </a:cubicBezTo>
                <a:lnTo>
                  <a:pt x="162409" y="1727200"/>
                </a:lnTo>
                <a:lnTo>
                  <a:pt x="0" y="17272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Стрелка углом 39"/>
          <p:cNvSpPr/>
          <p:nvPr/>
        </p:nvSpPr>
        <p:spPr>
          <a:xfrm flipH="1" rot="5400000">
            <a:off x="2087640" y="1160280"/>
            <a:ext cx="792000" cy="3024000"/>
          </a:xfrm>
          <a:custGeom>
            <a:avLst/>
            <a:gdLst/>
            <a:ahLst/>
            <a:rect l="l" t="t" r="r" b="b"/>
            <a:pathLst>
              <a:path w="792163" h="3024188">
                <a:moveTo>
                  <a:pt x="0" y="3024188"/>
                </a:moveTo>
                <a:lnTo>
                  <a:pt x="0" y="525252"/>
                </a:lnTo>
                <a:cubicBezTo>
                  <a:pt x="0" y="298155"/>
                  <a:pt x="184099" y="114056"/>
                  <a:pt x="411196" y="114056"/>
                </a:cubicBezTo>
                <a:lnTo>
                  <a:pt x="434066" y="114056"/>
                </a:lnTo>
                <a:lnTo>
                  <a:pt x="434066" y="0"/>
                </a:lnTo>
                <a:lnTo>
                  <a:pt x="792163" y="184566"/>
                </a:lnTo>
                <a:lnTo>
                  <a:pt x="434066" y="369132"/>
                </a:lnTo>
                <a:lnTo>
                  <a:pt x="434066" y="255076"/>
                </a:lnTo>
                <a:lnTo>
                  <a:pt x="411196" y="255076"/>
                </a:lnTo>
                <a:cubicBezTo>
                  <a:pt x="261982" y="255076"/>
                  <a:pt x="141021" y="376037"/>
                  <a:pt x="141021" y="525251"/>
                </a:cubicBezTo>
                <a:lnTo>
                  <a:pt x="141021" y="3024188"/>
                </a:lnTo>
                <a:lnTo>
                  <a:pt x="0" y="302418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Минус 40"/>
          <p:cNvSpPr/>
          <p:nvPr/>
        </p:nvSpPr>
        <p:spPr>
          <a:xfrm rot="5400000">
            <a:off x="539280" y="2997000"/>
            <a:ext cx="1008000" cy="576360"/>
          </a:xfrm>
          <a:custGeom>
            <a:avLst/>
            <a:gdLst/>
            <a:ahLst/>
            <a:rect l="l" t="t" r="r" b="b"/>
            <a:pathLst>
              <a:path w="1008063" h="576263">
                <a:moveTo>
                  <a:pt x="133619" y="220363"/>
                </a:moveTo>
                <a:lnTo>
                  <a:pt x="874444" y="220363"/>
                </a:lnTo>
                <a:lnTo>
                  <a:pt x="874444" y="355900"/>
                </a:lnTo>
                <a:lnTo>
                  <a:pt x="133619" y="355900"/>
                </a:lnTo>
                <a:lnTo>
                  <a:pt x="133619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Стрелка углом 41"/>
          <p:cNvSpPr/>
          <p:nvPr/>
        </p:nvSpPr>
        <p:spPr>
          <a:xfrm flipH="1" rot="5400000">
            <a:off x="1907280" y="3573360"/>
            <a:ext cx="503280" cy="3671640"/>
          </a:xfrm>
          <a:custGeom>
            <a:avLst/>
            <a:gdLst/>
            <a:ahLst/>
            <a:rect l="l" t="t" r="r" b="b"/>
            <a:pathLst>
              <a:path w="503237" h="3671888">
                <a:moveTo>
                  <a:pt x="0" y="3671888"/>
                </a:moveTo>
                <a:lnTo>
                  <a:pt x="0" y="333676"/>
                </a:lnTo>
                <a:cubicBezTo>
                  <a:pt x="0" y="189408"/>
                  <a:pt x="116952" y="72456"/>
                  <a:pt x="261220" y="72456"/>
                </a:cubicBezTo>
                <a:lnTo>
                  <a:pt x="275749" y="72456"/>
                </a:lnTo>
                <a:lnTo>
                  <a:pt x="275749" y="0"/>
                </a:lnTo>
                <a:lnTo>
                  <a:pt x="503237" y="117249"/>
                </a:lnTo>
                <a:lnTo>
                  <a:pt x="275749" y="234498"/>
                </a:lnTo>
                <a:lnTo>
                  <a:pt x="275749" y="162042"/>
                </a:lnTo>
                <a:lnTo>
                  <a:pt x="261220" y="162042"/>
                </a:lnTo>
                <a:cubicBezTo>
                  <a:pt x="166429" y="162042"/>
                  <a:pt x="89586" y="238885"/>
                  <a:pt x="89586" y="333676"/>
                </a:cubicBezTo>
                <a:lnTo>
                  <a:pt x="89586" y="3671888"/>
                </a:lnTo>
                <a:lnTo>
                  <a:pt x="0" y="367188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Минус 42"/>
          <p:cNvSpPr/>
          <p:nvPr/>
        </p:nvSpPr>
        <p:spPr>
          <a:xfrm rot="5400000">
            <a:off x="-1944000" y="3609000"/>
            <a:ext cx="4680000" cy="576360"/>
          </a:xfrm>
          <a:custGeom>
            <a:avLst/>
            <a:gdLst/>
            <a:ahLst/>
            <a:rect l="l" t="t" r="r" b="b"/>
            <a:pathLst>
              <a:path w="4679950" h="576263">
                <a:moveTo>
                  <a:pt x="620327" y="220363"/>
                </a:moveTo>
                <a:lnTo>
                  <a:pt x="4059623" y="220363"/>
                </a:lnTo>
                <a:lnTo>
                  <a:pt x="4059623" y="355900"/>
                </a:lnTo>
                <a:lnTo>
                  <a:pt x="620327" y="355900"/>
                </a:lnTo>
                <a:lnTo>
                  <a:pt x="620327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Стрелка вправо 45"/>
          <p:cNvSpPr/>
          <p:nvPr/>
        </p:nvSpPr>
        <p:spPr>
          <a:xfrm>
            <a:off x="1979640" y="1484280"/>
            <a:ext cx="1440000" cy="28908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Стрелка влево 46"/>
          <p:cNvSpPr/>
          <p:nvPr/>
        </p:nvSpPr>
        <p:spPr>
          <a:xfrm>
            <a:off x="1979640" y="1989000"/>
            <a:ext cx="1440000" cy="287640"/>
          </a:xfrm>
          <a:prstGeom prst="leftArrow">
            <a:avLst>
              <a:gd name="adj1" fmla="val 50000"/>
              <a:gd name="adj2" fmla="val 49947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фицит торгового баланс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7200" y="1218960"/>
            <a:ext cx="82296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отношение экспорта и импорта отражается в торговом балансе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Если  расходы   по   импорту  превышают  доходы  от  экспорт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 &gt; Ех)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 это соответствуе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ефициту торгового баланс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езультате на финансовый рынок страны происходит приток денежных средств из иностранного сектора, который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итоком капитал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pital inflow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и страна выступае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аемщиком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ка исследует…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блемы, общие для всей экономик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опериру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ыми величина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ими как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ловой внутренний продукт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циональный доход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ый спрос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е предложение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е потребление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вестици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ий уровень цен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безработицы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й долг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официт торгового баланс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Если доходы от экспорта превышают расходы по импорту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Ex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т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означ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фицит (излишек) торгового баланс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 из страны происходи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ток капитал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pital outflow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этом случае страна выступ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 + G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чистый экспорт (расходы иностранного сектор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истый экспор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разница между экспортом и импортом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x - I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чистых налогов (Т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сновное макроэкономическое тождество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тождественно равны совокупному доходу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             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а формула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сновным макроэкономическим тождеств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2"/>
              <p:cNvSpPr txBox="1"/>
              <p:nvPr/>
            </p:nvSpPr>
            <p:spPr>
              <a:xfrm>
                <a:off x="3851280" y="1700280"/>
                <a:ext cx="1030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2"/>
              <p:cNvSpPr txBox="1"/>
              <p:nvPr/>
            </p:nvSpPr>
            <p:spPr>
              <a:xfrm>
                <a:off x="826920" y="2133720"/>
                <a:ext cx="4179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Xn</m:t>
                    </m:r>
                    <m:r>
                      <m:t xml:space="preserve">≡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5"/>
              <p:cNvSpPr txBox="1"/>
              <p:nvPr/>
            </p:nvSpPr>
            <p:spPr>
              <a:xfrm>
                <a:off x="900000" y="4724280"/>
                <a:ext cx="37292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X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Тождество инъекций и изъятий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показателе чистого экспорта присутствует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нъекция — экспо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зъятие — импо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этому для четырехсекторной модели экономики тождество имеет вид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2"/>
              <p:cNvSpPr txBox="1"/>
              <p:nvPr/>
            </p:nvSpPr>
            <p:spPr>
              <a:xfrm>
                <a:off x="4230720" y="5589720"/>
                <a:ext cx="4354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Ex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едмет макро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перь предмет макроэкономики можно определить более точно: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роэкономика изучает закономерности поведения макроэкономических агентов на макроэкономических рынках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4. Макроэкономические модели и их показател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 макроэкономические процессы изучаются на основе построения моделе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модел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едставление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модели могут выступать в вид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еорий, функций, рисунков, схем, таблиц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Экзогенные и эндогенные переменн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и включают два вида переменных: экзогенные и эндогенные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зогенные переменны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переменные, задающиеся извне, значение которых формиру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не моде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зогенные переменные являются в моделях независимыми величинами, а их изменение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втономным изменение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ндогенные переменные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переменные, значение которых формиру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нутри моде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зависимые переменны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TextBox 4"/>
          <p:cNvSpPr/>
          <p:nvPr/>
        </p:nvSpPr>
        <p:spPr>
          <a:xfrm>
            <a:off x="3564000" y="3429000"/>
            <a:ext cx="1368360" cy="45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од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4" name="Прямая со стрелкой 6"/>
          <p:cNvCxnSpPr>
            <a:endCxn id="703" idx="1"/>
          </p:cNvCxnSpPr>
          <p:nvPr/>
        </p:nvCxnSpPr>
        <p:spPr>
          <a:xfrm>
            <a:off x="1403280" y="3644640"/>
            <a:ext cx="2161080" cy="1476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705" name="TextBox 7"/>
          <p:cNvSpPr/>
          <p:nvPr/>
        </p:nvSpPr>
        <p:spPr>
          <a:xfrm>
            <a:off x="1476360" y="278136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кзогенная переме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6" name="Прямая со стрелкой 8"/>
          <p:cNvCxnSpPr/>
          <p:nvPr/>
        </p:nvCxnSpPr>
        <p:spPr>
          <a:xfrm>
            <a:off x="4932360" y="3644640"/>
            <a:ext cx="2161080" cy="1476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707" name="TextBox 9"/>
          <p:cNvSpPr/>
          <p:nvPr/>
        </p:nvSpPr>
        <p:spPr>
          <a:xfrm>
            <a:off x="5003640" y="278136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ндогенная переме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4617b"/>
                </a:solidFill>
                <a:latin typeface="Cambria"/>
              </a:rPr>
              <a:t>Основные проблемы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,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оторые изучает макроэкономика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й рост, его факторы и темпы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й цикл и его причины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нятость и безработиц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щий уровень цен и инфляци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ровень ставки процента и денежное обращение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ояние государственного бюджета и финансирование бюджетного дефицит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ояние платежного баланса и валютный курс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мер 1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функции (модели) потребления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 = С 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де С — величина совокупных потребительских расходов,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,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являетс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зогенной переменной, а С — эндоген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мер 2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азных моделях одна и та же величина может быть и экзогенной, и эндоген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AD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G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Xn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литические переменн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ключение составляют переменные государственного управления, называемы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литическими переменны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, как правило, в макроэкономических моделях являются экзогенным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кордные налог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оговые ставк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личина трансфертов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ная ставка процента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рма обязательных резервов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нежная масс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казатели потоков и запасов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20" name="Picture 2" descr="C:\Users\х\Desktop\макро\тема 1\поток и запас.jpg"/>
          <p:cNvPicPr/>
          <p:nvPr/>
        </p:nvPicPr>
        <p:blipFill>
          <a:blip r:embed="rId1"/>
          <a:stretch/>
        </p:blipFill>
        <p:spPr>
          <a:xfrm>
            <a:off x="2771640" y="3645000"/>
            <a:ext cx="3162600" cy="2457360"/>
          </a:xfrm>
          <a:prstGeom prst="rect">
            <a:avLst/>
          </a:prstGeom>
          <a:ln w="0">
            <a:noFill/>
          </a:ln>
        </p:spPr>
      </p:pic>
      <p:sp>
        <p:nvSpPr>
          <p:cNvPr id="72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т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то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low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— это показатель, характеризующий количе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 определенный период времени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в макроэкономике, как правило, за год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ассчитываются за год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Запас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пас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ock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это показатель, характеризующий количе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на определенный момен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определенную дату (например, 1 января 2012 г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Абсолютные и относительные показат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бсолютны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носительны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Все эти проблемы 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макроэкономик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1:30:20Z</dcterms:created>
  <dc:creator>test</dc:creator>
  <dc:description/>
  <dc:language>en-US</dc:language>
  <cp:lastModifiedBy>LEGION</cp:lastModifiedBy>
  <dcterms:modified xsi:type="dcterms:W3CDTF">2016-01-04T14:02:40Z</dcterms:modified>
  <cp:revision>112</cp:revision>
  <dc:subject/>
  <dc:title>Макроэкономика</dc:title>
</cp:coreProperties>
</file>