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  <p:sldId id="317" r:id="rId72"/>
    <p:sldId id="318" r:id="rId73"/>
    <p:sldId id="319" r:id="rId74"/>
    <p:sldId id="320" r:id="rId75"/>
    <p:sldId id="321" r:id="rId76"/>
    <p:sldId id="322" r:id="rId77"/>
    <p:sldId id="323" r:id="rId78"/>
    <p:sldId id="324" r:id="rId79"/>
    <p:sldId id="325" r:id="rId80"/>
    <p:sldId id="326" r:id="rId81"/>
    <p:sldId id="327" r:id="rId82"/>
    <p:sldId id="328" r:id="rId83"/>
    <p:sldId id="329" r:id="rId84"/>
    <p:sldId id="330" r:id="rId85"/>
    <p:sldId id="331" r:id="rId86"/>
    <p:sldId id="332" r:id="rId87"/>
    <p:sldId id="333" r:id="rId88"/>
    <p:sldId id="334" r:id="rId89"/>
    <p:sldId id="335" r:id="rId90"/>
    <p:sldId id="336" r:id="rId91"/>
    <p:sldId id="337" r:id="rId92"/>
    <p:sldId id="338" r:id="rId93"/>
    <p:sldId id="339" r:id="rId94"/>
    <p:sldId id="340" r:id="rId95"/>
    <p:sldId id="341" r:id="rId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slide" Target="slides/slide62.xml"/><Relationship Id="rId73" Type="http://schemas.openxmlformats.org/officeDocument/2006/relationships/slide" Target="slides/slide63.xml"/><Relationship Id="rId74" Type="http://schemas.openxmlformats.org/officeDocument/2006/relationships/slide" Target="slides/slide64.xml"/><Relationship Id="rId75" Type="http://schemas.openxmlformats.org/officeDocument/2006/relationships/slide" Target="slides/slide65.xml"/><Relationship Id="rId76" Type="http://schemas.openxmlformats.org/officeDocument/2006/relationships/slide" Target="slides/slide66.xml"/><Relationship Id="rId77" Type="http://schemas.openxmlformats.org/officeDocument/2006/relationships/slide" Target="slides/slide67.xml"/><Relationship Id="rId78" Type="http://schemas.openxmlformats.org/officeDocument/2006/relationships/slide" Target="slides/slide68.xml"/><Relationship Id="rId79" Type="http://schemas.openxmlformats.org/officeDocument/2006/relationships/slide" Target="slides/slide69.xml"/><Relationship Id="rId80" Type="http://schemas.openxmlformats.org/officeDocument/2006/relationships/slide" Target="slides/slide70.xml"/><Relationship Id="rId81" Type="http://schemas.openxmlformats.org/officeDocument/2006/relationships/slide" Target="slides/slide71.xml"/><Relationship Id="rId82" Type="http://schemas.openxmlformats.org/officeDocument/2006/relationships/slide" Target="slides/slide72.xml"/><Relationship Id="rId83" Type="http://schemas.openxmlformats.org/officeDocument/2006/relationships/slide" Target="slides/slide73.xml"/><Relationship Id="rId84" Type="http://schemas.openxmlformats.org/officeDocument/2006/relationships/slide" Target="slides/slide74.xml"/><Relationship Id="rId85" Type="http://schemas.openxmlformats.org/officeDocument/2006/relationships/slide" Target="slides/slide75.xml"/><Relationship Id="rId86" Type="http://schemas.openxmlformats.org/officeDocument/2006/relationships/slide" Target="slides/slide76.xml"/><Relationship Id="rId87" Type="http://schemas.openxmlformats.org/officeDocument/2006/relationships/slide" Target="slides/slide77.xml"/><Relationship Id="rId88" Type="http://schemas.openxmlformats.org/officeDocument/2006/relationships/slide" Target="slides/slide78.xml"/><Relationship Id="rId89" Type="http://schemas.openxmlformats.org/officeDocument/2006/relationships/slide" Target="slides/slide79.xml"/><Relationship Id="rId90" Type="http://schemas.openxmlformats.org/officeDocument/2006/relationships/slide" Target="slides/slide80.xml"/><Relationship Id="rId91" Type="http://schemas.openxmlformats.org/officeDocument/2006/relationships/slide" Target="slides/slide81.xml"/><Relationship Id="rId92" Type="http://schemas.openxmlformats.org/officeDocument/2006/relationships/slide" Target="slides/slide82.xml"/><Relationship Id="rId93" Type="http://schemas.openxmlformats.org/officeDocument/2006/relationships/slide" Target="slides/slide83.xml"/><Relationship Id="rId94" Type="http://schemas.openxmlformats.org/officeDocument/2006/relationships/slide" Target="slides/slide84.xml"/><Relationship Id="rId95" Type="http://schemas.openxmlformats.org/officeDocument/2006/relationships/slide" Target="slides/slide85.xml"/><Relationship Id="rId96" Type="http://schemas.openxmlformats.org/officeDocument/2006/relationships/slide" Target="slides/slide86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78FC-305D-4B5E-859A-62A1313DAC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к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 Методология макро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лышев Денис Перфиль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к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 1. Методология макро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лышев Денис Перфилье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сть изучения макроэкономики заключается в том, ч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не просто описывает макроэкономические явления и процессы, но выявляет их закономерности и зависимости между ними, исследует причинно-следственные связи в экономи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е макроэкономических зависимостей и связей позволяет оценить существующую в экономике ситуацию и показать, что нужно сделать для ее улучшения, и в первую очередь, что должно предпринять правительство, т.е. позволяет разработать принципы экономической поли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е макроэкономики дает возможность предвидеть, как будут развиваться процессы в будущем, т.е. составлять прогнозы, предвидеть будущие экономические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жность изучения макроэкономики заключается в том, чт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а не просто описывает макроэкономические явления и процессы, но выявляет их закономерности и зависимости между ними, исследует причинно-следственные связи в экономи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ние макроэкономических зависимостей и связей позволяет оценить существующую в экономике ситуацию и показать, что нужно сделать для ее улучшения, и в первую очередь, что должно предпринять правительство, т.е. позволяет разработать принципы экономической полити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ние макроэкономики дает возможность предвидеть, как будут развиваться процессы в будущем, т.е. составлять прогнозы, предвидеть будущие экономические пробл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еории макро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экономического рос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делового цикл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безработиц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инфля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денег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государственного долг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открытой эконом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макроэкономической политик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теории макроэкономик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экономического рост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делового цикл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безработиц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инфляци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денег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государственного долг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открытой экономи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макроэкономической политики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2. Макроэкономически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Макроэкономический анали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вида анализа макроэкономических проце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й анализ ex post, или национальное счетоводство, — это анализ статистических данных, который позволяет оценивать результаты экономической деятельности, выявлять проблемы и негативные явления, разрабатывать экономическую политику для их решения и преодоления, проводить сравнительный анализ экономических потенциалов разных стр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й анализ ex ante — это прогнозное моделирование экономических процессов и явлений на основе определенных теоретических концепций, что позволяет определить закономерности развития экономических процессов и выявить причинно-следственные связи между экономическими явлениями и переменными. Это и есть макроэкономика как нау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а вида анализа макроэкономических процес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й анализ ex post, или национальное счетоводство, — это анализ статистических данных, который позволяет оценивать результаты экономической деятельности, выявлять проблемы и негативные явления, разрабатывать экономическую политику для их решения и преодоления, проводить сравнительный анализ экономических потенциалов разных стран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й анализ ex ante — это прогнозное моделирование экономических процессов и явлений на основе определенных теоретических концепций, что позволяет определить закономерности развития экономических процессов и выявить причинно-следственные связи между экономическими явлениями и переменными. Это и есть макроэкономика как нау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макро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рациональности поведения экономических агентов, означающий, что агент выбирает оптимальное решение, сопоставляя выгоды и издерж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"при прочих равных условиях", заключающийся в допущении, что все другие переменные за исключением тех, которые рассматриваются в данный момент, не меняют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абстрагирования, т.е. отвлечения от несущественных для анализа данного процесса или явления факторов и выделения только наиболее значим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ы макро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 рациональности поведения экономических агентов, означающий, что агент выбирает оптимальное решение, сопоставляя выгоды и издерж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 "при прочих равных условиях", заключающийся в допущении, что все другие переменные за исключением тех, которые рассматриваются в данный момент, не меняютс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 абстрагирования, т.е. отвлечения от несущественных для анализа данного процесса или явления факторов и выделения только наиболее значимы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макро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етание позитивной экономической теории, отражающей фактическое состояние дел, с нормативной экономической теорией, показывающей, как должны развиваться экономические процес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етание индуктивного метода, с помощью которого экономисты собирают, систематизируют и обобщают факты, и дедуктивного метода, позволяющего выдвинуть ту или иную гипотезу, т.е. логическое умозаключение, объясняющее какой-либо экономический процес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е использование графиков для иллюстрации экономических закономерностей, связей между переменным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ы макро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четание позитивной экономической теории, отражающей фактическое состояние дел, с нормативной экономической теорией, показывающей, как должны развиваться экономические процесс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четание индуктивного метода, с помощью которого экономисты собирают, систематизируют и обобщают факты, и дедуктивного метода, позволяющего выдвинуть ту или иную гипотезу, т.е. логическое умозаключение, объясняющее какой-либо экономический процесс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ое использование графиков для иллюстрации экономических закономерностей, связей между переменными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й принцип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экономических зависимостей и закономерностей на уровне экономики в целом возможно лишь, если рассматривать совокупности, или агрег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й анализ требует агрег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 представляет собой объединение отдельных элементов в одно целое, в агрегат, в совокупность. Оно основано на абстрагировании. Агрегирование позволяет выдел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х аг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ры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взаимосвяз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показа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жнейший принцип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ение экономических зависимостей и закономерностей на уровне экономики в целом возможно лишь, если рассматривать совокупности, или агрега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й анализ требует агрег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ие представляет собой объединение отдельных элементов в одно целое, в агрегат, в совокупность. Оно основано на абстрагировании. Агрегирование позволяет выдели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х аген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рын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взаимосвяз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показате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аг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, основанное на выявлении типичных черт экономического поведения, дает возможность выделить четыре макроэкономических аг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ый се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аген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ие, основанное на выявлении типичных черт экономического поведения, дает возможность выделить четыре макроэкономических аген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странный се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(household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цель экономической деятельности которого состоит в максимизации полез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иками экономических ресурсов (труда, земли, капитала и предпринимательских способносте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ая экономические ресурсы, домохозяйства получают доходы, большую часть которых они тратят на потребление (потребительские расходы), а оставшуюся часть сберегают и поэтому выступ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окупателями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сберегателями и поэтому кредиторами (lenders), обеспечивая предложение кредитных средств (loanable funds)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(househol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овокупный, рационально действующий макроэкономический агент, цель экономической деятельности которого состоит в максимизации полез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иками экономических ресурсов (труда, земли, капитала и предпринимательских способностей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ая экономические ресурсы, домохозяйства получают доходы, большую часть которых они тратят на потребление (потребительские расходы), а оставшуюся часть сберегают и поэтому выступаю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и покупателями товаров и услу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и сберегателями и поэтому кредиторами (lenders), обеспечивая предложение кредитных средств (loanable funds) в экономи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(business fir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целью экономической деятельности которого выступает максимизация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роизводителями товаров и услуг в экономи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ями экономических ресурсов, с помощью которых осуществляется процесс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 (business fir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овокупный, рационально действующий макроэкономический агент, целью экономической деятельности которого выступает максимизация прибы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и производителями товаров и услуг в экономи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ями экономических ресурсов, с помощью которых осуществляется процесс производ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. Предмет макро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редмет макро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(business fir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сширения производства, обеспечения прироста запаса капитала и возмещения износа капитала фирмам необходимы инвестиционные товары (в первую очередь, оборудование), поэтому они явля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ями инвестиционных товаров, т.е. предъявляют спрос на часть произведенной в экономике проду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выручка от продаж выплачивается домохозяйствам в виде факторных доходов, то для финансирования своих инвестиционных расходов фирмы используют, как правило, заемные средства, выступ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заемщиками (borrowers) в экономике, предъявляя спрос на кредитные сре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 (business fir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расширения производства, обеспечения прироста запаса капитала и возмещения износа капитала фирмам необходимы инвестиционные товары (в первую очередь, оборудование), поэтому они являют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ями инвестиционных товаров, т.е. предъявляют спрос на часть произведенной в экономике продук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кольку выручка от продаж выплачивается домохозяйствам в виде факторных доходов, то для финансирования своих инвестиционных расходов фирмы используют, как правило, заемные средства, выступ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и заемщиками (borrowers) в экономике, предъявляя спрос на кредитные сред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и фирмы образуют 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и фирмы образуют 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(governme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ационально действующий макроэкономический агент, представленный совокупностью государственных учреждений и организаций, обладающих политическим и юридическим правом воздействовать на ход экономических процессов, регулировать эконом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задача государства в рыночной экономике состоит в устранении провалов рынка (market failures) и максимизации общественного благосостояния (social welfar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(govern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рационально действующий макроэкономический агент, представленный совокупностью государственных учреждений и организаций, обладающих политическим и юридическим правом воздействовать на ход экономических процессов, регулировать экономи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ая задача государства в рыночной экономике состоит в устранении провалов рынка (market failures) и максимизации общественного благосостояния (social welfar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выступ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ем общественных бла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ем товаров и услуг, что необходимо для обеспечения функционирования государственного секто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спределителем национального до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через систему налогов и трансферт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состояния государственного бюджета — кредитором или заемщиком на финансовом рын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ыступа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телем общественных бла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ем товаров и услуг, что необходимо для обеспечения функционирования государственного секто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распределителем национального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через систему налогов и трансфертов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зависимости от состояния государственного бюджета — кредитором или заемщиком на финансовом рын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выступ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тором и организатором функционирования рыночной эконом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создавая и обеспечивая институциональные основы эффективного развития экономики (законодательная база, система безопасности, налоговая система и др.), т.е. разрабатывает "правила игры"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проводя макроэкономическую политику, которая делится на структурную, направленную на обеспечение экономического роста, и конъюнктурную (стабилизационную), направленную на сглаживание циклических колебаний экономики (обеспечение полной занятости ресурсов и стабильного уровня це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ыступа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улятором и организатором функционирования рыночной экономи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первых, создавая и обеспечивая институциональные основы эффективного развития экономики (законодательная база, система безопасности, налоговая система и др.), т.е. разрабатывает "правила игры"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вторых, проводя макроэкономическую политику, которая делится на структурную, направленную на обеспечение экономического роста, и конъюнктурную (стабилизационную), направленную на сглаживание циклических колебаний экономики (обеспечение полной занятости ресурсов и стабильного уровня цен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иды макроэкономической поли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скальная (или бюджетно-налоговая) полит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етарная (или денежно-кредитная) полит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торговая полит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доходов (политика "заработная плата — цены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виды макроэкономической поли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скальная (или бюджетно-налоговая) политик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етарная (или денежно-кредитная) политик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торговая политик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итика доходов (политика "заработная плата — цены"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и государственный секторы образуют закрытую эконом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ый и государственный секторы образуют закрытую экономи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ый сектор (foreign secto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объединяющий все остальные страны мира, с которыми данная страна взаимодействует посредств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й торговли, т.е. покупки и продажи товаров и услуг (экспорт и импорт товаров и услуг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щения капиталов, т.е. покупки и продажи финансовых активов — ценных бумаг (экспорт и импорт капитал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странный сектор (foreign se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овокупный, рационально действующий макроэкономический агент, объединяющий все остальные страны мира, с которыми данная страна взаимодействует посредств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ой торговли, т.е. покупки и продажи товаров и услуг (экспорт и импорт товаров и услуг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мещения капиталов, т.е. покупки и продажи финансовых активов — ценных бумаг (экспорт и импорт капитал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авление в анализ иностранного сектора дает открытую эконом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ый се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рыт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бавление в анализ иностранного сектора дает открытую экономи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странный се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рыт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ры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 рынков производится с целью выявления закономерностей функционирования каждого из них, а имен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я особенностей формирования спроса и предложения и условий их равновесия на каждом из рын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я равновесной цены и равновесного объема на основе соотношения спроса и предло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а последствий изменения равновесия на каждом из рын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рын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ие рынков производится с целью выявления закономерностей функционирования каждого из них, а именн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следования особенностей формирования спроса и предложения и условий их равновесия на каждом из рынк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я равновесной цены и равновесного объема на основе соотношения спроса и предлож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а последствий изменения равновесия на каждом из рын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теория включает  2 разде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экономика («микро» – маленьк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ка («макро» – большой; «экономика» – ведение хозяй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экономика исследует закономерности экономического поведения на уровне отдельных экономических агентов: потребителя (домохозяйства) и производителя (фирмы) и объясняет, как и почему они принимают экономические решения, а также изучает принципы функционирования рынков отдельных тов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ая теория включает  2 раздел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кроэкономика («микро» – маленьки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ка («макро» – большой; «экономика» – ведение хозяйств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кроэкономика исследует закономерности экономического поведения на уровне отдельных экономических агентов: потребителя (домохозяйства) и производителя (фирмы) и объясняет, как и почему они принимают экономические решения, а также изучает принципы функционирования рынков отдельных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ры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 рынков дает возможность выделить четыре макроэкономических рын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рынок (рынок финансовых актив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кономических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рын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ие рынков дает возможность выделить четыре макроэкономических рынк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товаров и услу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рынок (рынок финансовых активов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экономических ресурс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ютный рын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ный рынок товаров и услуг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goods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абстрагирование (отвлечение) от всего разнообразия производимых экономикой товаров и выделение наиболее важных закономерностей функционирования этого рынка, т.е. формирования спроса и предложения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ный рынок товаров и услуг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goods mark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полагает абстрагирование (отвлечение) от всего разнообразия производимых экономикой товаров и выделение наиболее важных закономерностей функционирования этого рынка, т.е. формирования спроса и предложения товаров и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ный рынок товаров и услуг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goods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товары и услуги предъявляют все макроэкономические агент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редложение товаров и услуг обеспечивают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спроса и предложения позволяет получить величину равновесного уровня цен на товары и услуги (price level — Р) и равновесного объема их производства (real output — 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услуг называют также реальным рынком (real market), поскольку на нем продают и покупают реальные активы (реальные ценнос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ный рынок товаров и услуг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goods mark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на товары и услуги предъявляют все макроэкономические агент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редложение товаров и услуг обеспечивают фир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ношение спроса и предложения позволяет получить величину равновесного уровня цен на товары и услуги (price level — Р) и равновесного объема их производства (real output — 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товаров и услуг называют также реальным рынком (real market), поскольку на нем продают и покупают реальные активы (реальные ценност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рынок (financial assets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ынок, на котором предъявляется спрос и обеспечивается предложение финансовых актив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й рынок (money market) — рынок денежных финансовых акти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ценных бумаг (bonds market) — рынок неденежных финансовых акти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рынок (financial assets mark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рынок, на котором предъявляется спрос и обеспечивается предложение финансовых актив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ый рынок (money market) — рынок денежных финансовых актив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ценных бумаг (bonds market) — рынок неденежных финансовых актив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енежном рынке не происходят процессы купли и продажи (покупать деньги за деньги бессмысленно), однако исследование закономерностей функционирования денежного рынка, формирования спроса на деньги и предложения денег очень важно для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деньги предъявляют все внутренние макроэкономические агенты (домохозяйства, фирмы и государство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редложение денег обеспечивает центральный банк, обладающий монопольным правом выпуска денег в обращ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денежном рынке не происходят процессы купли и продажи (покупать деньги за деньги бессмысленно), однако исследование закономерностей функционирования денежного рынка, формирования спроса на деньги и предложения денег очень важно для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на деньги предъявляют все внутренние макроэкономические агенты (домохозяйства, фирмы и государство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редложение денег обеспечивает центральный банк, обладающий монопольным правом выпуска денег в обраще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денежного рынка, условий его равновесия позволяет получить равновесную ставку процента (interest rate — R), выступающую ценой денег (ценой кредита), и равновесную величину денежной массы (money stock — М), а также рассмотреть последствия изменения равновесия на денежном рынке и его влияния на рынок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осредниками на денежном рынке являются банки, которые принимают денежные вклады и выдают кред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ение денежного рынка, условий его равновесия позволяет получить равновесную ставку процента (interest rate — R), выступающую ценой денег (ценой кредита), и равновесную величину денежной массы (money stock — М), а также рассмотреть последствия изменения равновесия на денежном рынке и его влияния на рынок товаров и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и посредниками на денежном рынке являются банки, которые принимают денежные вклады и выдают креди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ынке ценных бумаг продаются и покупаются акции и облиг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я — это бессрочная ценная бумага (т.е. не имеющая срока погашения и существующая столько лет, сколько существует выпустившая ее фирма), делающая ее покупателя совладельцем этой фирмы и обеспечивающая ему право участия в ее управлении и право на получение дохода — дивиденда, величина которого зависит от размеров прибыли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рынке ценных бумаг продаются и покупаются акции и облиг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ция — это бессрочная ценная бумага (т.е. не имеющая срока погашения и существующая столько лет, сколько существует выпустившая ее фирма), делающая ее покупателя совладельцем этой фирмы и обеспечивающая ему право участия в ее управлении и право на получение дохода — дивиденда, величина которого зависит от размеров прибыли фир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ынке ценных бумаг продаются и покупаются акции и облиг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игация — это срочная ценная бумага (т.е. выпущенная на определенный срок — например, на год, на 5 лет и т.п.), покупатель которой является кредито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игация не дает ее владельцу право на управление фирмой, однако обеспечивает получение фиксированного (независимо от величины прибыли) дохода — процента, а в момент наступления срока погашения — возвращение номинальной стоимости облиг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рынке ценных бумаг продаются и покупаются акции и облиг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лигация — это срочная ценная бумага (т.е. выпущенная на определенный срок — например, на год, на 5 лет и т.п.), покупатель которой является кредито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лигация не дает ее владельцу право на управление фирмой, однако обеспечивает получение фиксированного (независимо от величины прибыли) дохода — процента, а в момент наступления срока погашения — возвращение номинальной стоимости облигац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ями ценных бумаг прежде всего являются домохозяйства, которые тратят свои сбережения с целью получения дохода (дивиденда по акциям и процента по облигация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ами (эмитентами) акций выступают фирмы, а облигаций — фирмы и госуда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выпускают акции и облигации с целью получения средств для финансирования своих инвестиционных расходов и расширения объема производ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государство выпускает облигации для финансирования дефицита государственного бюдж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ями ценных бумаг прежде всего являются домохозяйства, которые тратят свои сбережения с целью получения дохода (дивиденда по акциям и процента по облигациям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цами (эмитентами) акций выступают фирмы, а облигаций — фирмы и государст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 выпускают акции и облигации с целью получения средств для финансирования своих инвестиционных расходов и расширения объема производств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государство выпускает облигации для финансирования дефицита государственного бюдже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кономических ресурс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resource market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кроэкономических моделях представлен рынком труда (labour market), поскольку закономерности его функционирования (формирование спроса на труд и предложения труда) позволяют объяснить макроэкономические процессы, особенно в краткосрочном пери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зучении рынка труда необходимо отвлечься (абстрагироваться) от всех различий в видах труда, в уровнях квалификации и профессиональной подгот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экономических ресурс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resource marke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акроэкономических моделях представлен рынком труда (labour market), поскольку закономерности его функционирования (формирование спроса на труд и предложения труда) позволяют объяснить макроэкономические процессы, особенно в краткосрочном перио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изучении рынка труда необходимо отвлечься (абстрагироваться) от всех различий в видах труда, в уровнях квалификации и профессиональной подготов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ка – это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, которая изучает закономерности функционирования экономики в целом, исследует взаимодействие экономических агентов и экономических рынков друг с другом, при этом экономика рассматривается как сложная, иерархически организованная система, как совокупность экономических процессов и явлений и их показа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ка – это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ка, которая изучает закономерности функционирования экономики в целом, исследует взаимодействие экономических агентов и экономических рынков друг с другом, при этом экономика рассматривается как сложная, иерархически организованная система, как совокупность экономических процессов и явлений и их показ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труд предъявляют фирм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редложение труда обеспечивают домо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весие рынка труда позволяет определить равновесное количество труда в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labour — L) и равновесную цену труда — ставку заработной платы (real wage — W/P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неравновесия на рынке труда позволяет выявить причины и формы безработ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на труд предъявляют фирм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редложение труда обеспечивают домохозяй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вновесие рынка труда позволяет определить равновесное количество труда в эконом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labour — L) и равновесную цену труда — ставку заработной платы (real wage — W/P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неравновесия на рынке труда позволяет выявить причины и формы безработиц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валюты (foreign exchange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ынок, на котором происходит обмен друг на друга национальных денежных единиц (валют) разных стран (долларов на иены, фунтов стерлингов на евро и т.п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национальную валюту предъявляют иностранцы, желающие купить товары и (или) ценные бумаги данной стран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редложение национальной валюты обеспечивает центральный банк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обмена одной национальной валюты на другую (соотношения спроса и предложения) формируется ее цена — валютный курс (е — exchange rat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валюты (foreign exchange mark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рынок, на котором происходит обмен друг на друга национальных денежных единиц (валют) разных стран (долларов на иены, фунтов стерлингов на евро и т.п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на национальную валюту предъявляют иностранцы, желающие купить товары и (или) ценные бумаги данной стран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редложение национальной валюты обеспечивает центральный банк стра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обмена одной национальной валюты на другую (соотношения спроса и предложения) формируется ее цена — валютный курс (е — exchange ra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ругооборот продукта, расходов и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Кругооборот продукта, расходов 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кругооборота продукта, расходов и доход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одель круговых потоков — model of circular flow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наиболее типичных черт поведения экономических агентов (агрегирование агентов) и наиболее существенных закономерностей функционирования экономических рынков (агрегирование рынков) позволяет агрегировать макроэкономические взаимосвязи, т.е. исследовать закономерности поведения макроэкономических агентов на макроэкономических рын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 кругооборота продукта, расходов и доход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модель круговых потоков — model of circular flow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явление наиболее типичных черт поведения экономических агентов (агрегирование агентов) и наиболее существенных закономерностей функционирования экономических рынков (агрегирование рынков) позволяет агрегировать макроэкономические взаимосвязи, т.е. исследовать закономерности поведения макроэкономических агентов на макроэкономических рын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оборот продукта, расходов и доходов в дву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только из 2 макроэкономических агентов — домохозяйств и фирм — и 2 рынков — рынка товаров и услуг и рынка экономически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оборот продукта, расходов и доходов в дву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ит только из 2 макроэкономических агентов — домохозяйств и фирм — и 2 рынков — рынка товаров и услуг и рынка экономических ресур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ухсекторная модель эконом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атериальные потоки                            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приобретают товары и услуги (предъявляют спрос на товары и услуг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 производят и поставляют на этот рынок фирмы (обеспечивают предложение товаров и услуг — совокупный продук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производить товары и услуги, фирмы закупают экономические ресурсы — труд, землю, капитал и предпринимательские способности (предъявляют спрос на экономические ресурс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иками этих ресурсов являются домохозяйства (обеспечивают предложение экономических ресурс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ухсекторная модель эконом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материальные потоки                     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приобретают товары и услуги (предъявляют спрос на товары и услуг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и услуги производят и поставляют на этот рынок фирмы (обеспечивают предложение товаров и услуг — совокупный продук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бы производить товары и услуги, фирмы закупают экономические ресурсы — труд, землю, капитал и предпринимательские способности (предъявляют спрос на экономические ресурсы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иками этих ресурсов являются домохозяйства (обеспечивают предложение экономических ресурсов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ухсекторная модель эконом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енежные потоки                            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ые потоки опосредуются денежными пото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я товары и услуги, домохозяйства за них платят, обеспечивая фирмам выручку от продаж (reven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у выручку фирмы выплачивают домохозяйствам в виде факторных доходов (income), включающ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ую плату (wage) — за фактор тру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нту (rent) — за фактор земл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 (interest) — за фактор капита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(profit) — за фактор предпринимательские способности, в сумме составляющих совокупный (национальный) дох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ые доходы домохозяйства тратят на покупку товаров и услуг (совокупного продук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ухсекторная модель эконом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денежные потоки                     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риальные потоки опосредуются денежными поток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я товары и услуги, домохозяйства за них платят, обеспечивая фирмам выручку от продаж (reven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у выручку фирмы выплачивают домохозяйствам в виде факторных доходов (income), включающи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работную плату (wage) — за фактор труд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нту (rent) — за фактор землю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нт (interest) — за фактор капита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быль (profit) — за фактор предпринимательские способности, в сумме составляющих совокупный (национальный) дох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ные доходы домохозяйства тратят на покупку товаров и услуг (совокупного продукт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потоков в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и расходы движутся по к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 каждого экономического агента расходуется, создавая доход другому экономическому агенту, служащий основой для его рас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расходов ведет к росту доходов, а рост доходов служит предпосылкой дальнейшему увеличению рас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почему модель получила название модели кругооборота (круговых поток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ые потоки движутся против часовой стрелки, а денежные — по часовой стрел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товары и экономические ресурсы движется по часовой стрелке, а предложение — проти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ижение потоков в мод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и расходы движутся по круг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 каждого экономического агента расходуется, создавая доход другому экономическому агенту, служащий основой для его расх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ение расходов ведет к росту доходов, а рост доходов служит предпосылкой дальнейшему увеличению расх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т почему модель получила название модели кругооборота (круговых потоков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риальные потоки движутся против часовой стрелки, а денежные — по часовой стрел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на товары и экономические ресурсы движется по часовой стрелке, а предложение — проти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 из двухсекторной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каждого материального потока равна величине денежного пот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совокупного продукта (объема выпуска) равна величине совокупного (национального) до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е расходы (совокупный спрос) равны совокупному выпуску (совокупному предложен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доход равен совокупным расход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воды из двухсекторной мод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имость каждого материального потока равна величине денежного пото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имость совокупного продукта (объема выпуска) равна величине совокупного (национального)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е расходы (совокупный спрос) равны совокупному выпуску (совокупному предложению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доход равен совокупным расход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сть финансового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действуют рационально, поэтому тратят на покупку товаров и услуг не весь свой дох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дохода они сберегают, при этом сбережения (saving — S) должны приносить дох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же испытывают потребность в дополнительных средствах для обеспечения и расширения производства, т.е. в кредитных средст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едопределяет необходимость появления финансового рынка, на котором сбережения домохозяйств превращаются в инвестиционные ресурсы фир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финансового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действуют рационально, поэтому тратят на покупку товаров и услуг не весь свой дох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ь дохода они сберегают, при этом сбережения (saving — S) должны приносить дох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 же испытывают потребность в дополнительных средствах для обеспечения и расширения производства, т.е. в кредитных средств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предопределяет необходимость появления финансового рынка, на котором сбережения домохозяйств превращаются в инвестиционные ресурсы фир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макроэкономика» впер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требил в своей статье в 1933 г. известный норвежский ученый — экономист-математик, один из основоположников эконометрики, лауреат Нобелевской премии (1969 г.) Рагнар Фриш (Ragnar Frisc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мин «макроэкономика» вперв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отребил в своей статье в 1933 г. известный норвежский ученый — экономист-математик, один из основоположников эконометрики, лауреат Нобелевской премии (1969 г.) Рагнар Фриш (Ragnar Fris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оборот продукта, расходов и доходов в двухсекторной модели экономики с финансовым рын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оборот продукта, расходов и доходов в двухсекторной модели экономики с финансовым рынк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способа превращения сбережений домохозяйств в инвестиционные ресурсы фи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осредованный (косвенный): домохозяйства предоставляют свои сбережения финансовым посредникам (прежде всего банкам), у которых фирмы берут кредиты (связь опосредованно через денежный рыно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й: домохозяйства тратят свои сбережения на покупку ценных бумаг, выпускаемых фирмами, напрямую обеспечивая их инвестиционными ресурсами (связь напрямую через рынок ценных бума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ые на финансовом рынке средства фирмы тратят на покупку инвестиционных товаров (оборудования и п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а способа превращения сбережений домохозяйств в инвестиционные ресурсы фир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осредованный (косвенный): домохозяйства предоставляют свои сбережения финансовым посредникам (прежде всего банкам), у которых фирмы берут кредиты (связь опосредованно через денежный рыно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ямой: домохозяйства тратят свои сбережения на покупку ценных бумаг, выпускаемых фирмами, напрямую обеспечивая их инвестиционными ресурсами (связь напрямую через рынок ценных бума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ные на финансовом рынке средства фирмы тратят на покупку инвестиционных товаров (оборудования и пр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ходы домохозяйств на покупку товаров и услуг — потребительские расходы (consumption spending — С) дополняются инвестиционными расходами фирм (investment spending — 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енство совокупного дохода совокупному продукту сохраняется, поэтому в макроэкономике совокупный (национальный) доход и совокупный продукт (выпуск) обозначают одной буквой — Y (yiel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совокупного продукта тождественно равна сумме совокупных расходов (expenditures — Е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ходы домохозяйств на покупку товаров и услуг — потребительские расходы (consumption spending — С) дополняются инвестиционными расходами фирм (investment spending — 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венство совокупного дохода совокупному продукту сохраняется, поэтому в макроэкономике совокупный (национальный) доход и совокупный продукт (выпуск) обозначают одной буквой — Y (yie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совокупного продукта тождественно равна сумме совокупных расходов (expenditures — Е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е расходы в двухсекторной модели экономики состоят из потребительских расходов домохозяйств (С) и инвестиционных расходов фирм (I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 = C +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доход состоит из потребления (С) и сбережений (S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 = C +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совокупные расходы Е тождественно равны совокупному доходу (Y), 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, инвестиции тождественно равны сбережения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е расходы в двухсекторной модели экономики состоят из потребительских расходов домохозяйств (С) и инвестиционных расходов фирм (I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E = C +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доход состоит из потребления (С) и сбережений (S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 = C +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кольку совокупные расходы Е тождественно равны совокупному доходу (Y), 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овательно, инвестиции тождественно равны сбережения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ъекции и изъ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представляют собой инъекции (injections) в экономику, а сбережения — изъятия (leakages — утечки) из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ъекции — это все, что увеличивает поток расходов и, следовательно, доходов (за исключением потребительских расходов, которые не относятся ни к инъекциям, ни к изъятия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ъятия — это все, что сокращает поток расходов и, следовательно,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ъекции и изъ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вестиции представляют собой инъекции (injections) в экономику, а сбережения — изъятия (leakages — утечки) из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ъекции — это все, что увеличивает поток расходов и, следовательно, доходов (за исключением потребительских расходов, которые не относятся ни к инъекциям, ни к изъятия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ъятия — это все, что сокращает поток расходов и, следовательно,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и сбере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инвестиций увеличивает совокупные расходы (совокупный спрос), обеспечивает дополнительные доходы производителям, служит стимулом для увеличения совокупного продукта (выпус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сбережений сокращает совокупные расходы и может привести к сокращению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вновесной экономике инъекции тождественно равны изъят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вестиции и сбере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инвестиций увеличивает совокупные расходы (совокупный спрос), обеспечивает дополнительные доходы производителям, служит стимулом для увеличения совокупного продукта (выпуск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сбережений сокращает совокупные расходы и может привести к сокращению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вновесной экономике инъекции тождественно равны изъяти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оборот продукта, расходов и доходов в тре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ы в основном денежные пот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оборот продукта, расходов и доходов в тре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ы в основном денежные пото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закуп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государство делает закупки товаров и услуг (government spending — G), что связано с необходимостью содержания государственного сектора экономики, обеспечения производства общественных благ, выполнения функций по регулированию экономики и управлению стра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заработная плата государственных служащих рассматривается не как плата за экономический ресурс на ресурсном рынке, а как оплата услуги на рынке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 увеличивают совокупный спрос на производимый в экономике продукт, т.е. совокупные расх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е закуп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первых, государство делает закупки товаров и услуг (government spending — G), что связано с необходимостью содержания государственного сектора экономики, обеспечения производства общественных благ, выполнения функций по регулированию экономики и управлению стран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этом заработная плата государственных служащих рассматривается не как плата за экономический ресурс на ресурсном рынке, а как оплата услуги на рынке товаров и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е закупки товаров и услуг увеличивают совокупный спрос на производимый в экономике продукт, т.е. совокупные расхо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и трансфе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государство обязывает всех платить налоги (taxes — Тх), являющиеся основным источником доходов государственного бюдж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как перераспределитель национального дохода не только собирает налоги, но и выплачивает трансферты (transfer payments — Т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ферты — это платежи, которые домохозяйства и фирмы безвозмездно (не в обмен на товары и услуги) получают от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фертные платежи государства домохозяйствам — это различные социальные выплаты (social benefits): пенсии, стипендии, пособия по безработице, пособия по нетрудоспособности, пособия по бедност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фертные платежи государства фирмам — это субсидии (subsidi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оги и трансфер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вторых, государство обязывает всех платить налоги (taxes — Тх), являющиеся основным источником доходов государственного бюдже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как перераспределитель национального дохода не только собирает налоги, но и выплачивает трансферты (transfer payments — Т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ферты — это платежи, которые домохозяйства и фирмы безвозмездно (не в обмен на товары и услуги) получают от государ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фертные платежи государства домохозяйствам — это различные социальные выплаты (social benefits): пенсии, стипендии, пособия по безработице, пособия по нетрудоспособности, пособия по бедности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фертные платежи государства фирмам — это субсидии (subsidi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как креди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третьих, в зависимости от состояния государственного бюджета государство может выступать либо кредитором, либо заемщиком на финансовом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доходы государства превышают расходы, т.е. имеет место профицит (излишек) государственного бюджета, то государство может выступить на финансовом рынке кредитором, покупая ценные бумаги частных фи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&gt; Расходы = Про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как креди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-третьих, в зависимости от состояния государственного бюджета государство может выступать либо кредитором, либо заемщиком на финансовом рын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доходы государства превышают расходы, т.е. имеет место профицит (излишек) государственного бюджета, то государство может выступить на финансовом рынке кредитором, покупая ценные бумаги частны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&gt; Расходы = Профиц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ая теория берет нача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ельно от фундаментального труда выдающегося английского экономиста Джона Мейнарда Кейнса (John Maynard Keyn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36 г. вышла его книга "Общая теория занятости, процента и денег", в которой он заложил основы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этой работы Кейнса было так велико, что в экономической литературе возник термин "кейнсианская революция" и появилась кейнсианская макроэкономическая модель, или кейнсианский подход в противовес традиционному, единственно существовавшему до того времени классическому подходу к изучению экономических явлений (классическая модел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ая теория берет начал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тельно от фундаментального труда выдающегося английского экономиста Джона Мейнарда Кейнса (John Maynard Keyn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36 г. вышла его книга "Общая теория занятости, процента и денег", в которой он заложил основы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ение этой работы Кейнса было так велико, что в экономической литературе возник термин "кейнсианская революция" и появилась кейнсианская макроэкономическая модель, или кейнсианский подход в противовес традиционному, единственно существовавшему до того времени классическому подходу к изучению экономических явлений (классическая модель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как заемщ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асходы государства (государственные закупки плюс трансферты) превышают доходы государства (налоги), что соответствует дефициту государственного бюджета, то государство для оплаты своих расходов должно занять деньги на финансовом рынке, выступая заемщ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&lt; Расходы = 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любого макроэкономического агента действует одинаковый принцип: если его доходы превышают расходы, он выступает кредитором, если, наоборот, расходы больше доходов, заемщик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как заемщи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расходы государства (государственные закупки плюс трансферты) превышают доходы государства (налоги), что соответствует дефициту государственного бюджета, то государство для оплаты своих расходов должно занять деньги на финансовом рынке, выступая заемщи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&lt; Расходы = Дефиц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любого макроэкономического агента действует одинаковый принцип: если его доходы превышают расходы, он выступает кредитором, если, наоборот, расходы больше доходов, заемщик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государственного зай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выпускает государственные облигации (делает внутренний заем) и продает их на рынке ценных бумаг домохозяйств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тратят часть своих сбережений на покупку государственных облигаций (тем самым финансируя дефицит государственного бюдже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выплачивает домохозяйствам процент по своим облигациям, делая их привлекательными для покуп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латы процентов увеличивают доходы домохозяйств, но являются расходами государственного бюджета и называются расходами на обслуживание государственного дол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ханизм государственного зай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ыпускает государственные облигации (делает внутренний заем) и продает их на рынке ценных бумаг домохозяйств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тратят часть своих сбережений на покупку государственных облигаций (тем самым финансируя дефицит государственного бюджет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ыплачивает домохозяйствам процент по своим облигациям, делая их привлекательными для покуп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латы процентов увеличивают доходы домохозяйств, но являются расходами государственного бюджета и называются расходами на обслуживание государственного дол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аковы для двух- и трехсекторной мод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Совокупный продукт = Совокупн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Совокупный доход = Совокупные расх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Инъекции = Изъ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инаковы для двух- и трехсекторной моде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Совокупный продукт = Совокупн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Совокупный доход = Совокупные расх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) Инъекции = Изъ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е расходы в трехсекторной модели экономики состоят из потребления (С), инвестиций (I) и государственных закупок (G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 = C + I +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доход состоит из потребления (С) и сбережений (S) и чистых налогов (Т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 = C + S +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е налоги – разница между налогами и трансферт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 = Tx – T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е расходы в трехсекторной модели экономики состоят из потребления (С), инвестиций (I) и государственных закупок (G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E = C + I +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доход состоит из потребления (С) и сбережений (S) и чистых налогов (Т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 = C + S +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тые налоги – разница между налогами и трансфертам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T = Tx – T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 являются инъекциями, а чистые налоги — изъятиями из потока расходов и доходов, поэтому формула равенства инъекций и изъятий приобретает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+ G = S +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латы процентов по государственным облигациям обычно учитываются в величине трансфертов (также, как и трансферты, выплачиваются не в обмен на товар или услуг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и трансферты, и выплаты процентов по государственным облигациям являются инъекциями, поскольку увеличивают поток доходов и, следовательно, рас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е закупки товаров и услуг являются инъекциями, а чистые налоги — изъятиями из потока расходов и доходов, поэтому формула равенства инъекций и изъятий приобретает ви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 + G = S +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латы процентов по государственным облигациям обычно учитываются в величине трансфертов (также, как и трансферты, выплачиваются не в обмен на товар или услугу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этом и трансферты, и выплаты процентов по государственным облигациям являются инъекциями, поскольку увеличивают поток доходов и, следовательно, расх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ем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(совокупный) доход (Y) - сумма факторных доходов, т.е. доходов, заработанным собственниками экономических ресурсов (домохозяйствам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емый доход (disposal income — Yd) - доход, которым домохозяйства могут распоряжаться и расходовать по собственному усмотр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емый доход отличается от национального дохода на величину налогов (Тх), которые домохозяйства платят государству, и величину трансфертов (Тr), которые государство платит домохозяйств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ый (совокупный) доход (Y) - сумма факторных доходов, т.е. доходов, заработанным собственниками экономических ресурсов (домохозяйствам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 (disposal income — Yd) - доход, которым домохозяйства могут распоряжаться и расходовать по собственному усмотрен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 отличается от национального дохода на величину налогов (Тх), которые домохозяйства платят государству, и величину трансфертов (Тr), которые государство платит домохозяйства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ем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получить величину располагаемого дохода, надо из национального дохода вычесть налоги и прибавить трансфер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d = Y - Tx + T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вычесть чистые налоги 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d = Y -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емый доход домохозяйства используют на потребление (потребительские расходы) и сбере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d = C +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бы получить величину располагаемого дохода, надо из национального дохода вычесть налоги и прибавить трансфер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d = Y - Tx + 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ли вычесть чистые налоги 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d = Y -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 домохозяйства используют на потребление (потребительские расходы) и сбереж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d = C +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ырехсекторная модель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ение в модель кругооборота иностранного сектора дает четырехсекторную модель экономики (модель открытой экономи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связи национальной экономики с экономиками других стран проявляются через международную торговлю товарами и услугами, т.е. экспорт и импорт товаров и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в модели кругооборота отражены только денежные потоки, то под экспортом (export — Ex) понимается выручка (доходы) от экспорта (стрелка от иностранного сектора), а под импортом (import — Im) — расходы по импорту (стрелка к иностранному сектор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тырехсекторная модель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ключение в модель кругооборота иностранного сектора дает четырехсекторную модель экономики (модель открытой экономик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связи национальной экономики с экономиками других стран проявляются через международную торговлю товарами и услугами, т.е. экспорт и импорт товаров 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кольку в модели кругооборота отражены только денежные потоки, то под экспортом (export — Ex) понимается выручка (доходы) от экспорта (стрелка от иностранного сектора), а под импортом (import — Im) — расходы по импорту (стрелка к иностранному сектору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оборот продукта, расходов и доходов в четыре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оборот продукта, расходов и доходов в четыре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торгового балан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экспорта и импорта отражается в торговом балан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 расходы   по   импорту  превышают  доходы  от  экспорта  (Iт &gt; Ех), то это соответствует дефициту торгового балан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ирование дефицита торгового баланса происходит за счет внешнего займа (может также использоваться для финансирования дефицита государственного бюджета) и может осуществляться пут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жи иностранцам финансовых активов (частных и государственных ценных бумаг — акций и облигаций) и поступления в страну денежных средств в счет их опла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ых заимствований у других стран и у международных финансовых организаций, таких, как Международный валютный фонд, Мировой банк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на финансовый рынок страны происходит приток денежных средств из иностранного сектора, который называется притоком капитала (capital inflow), и страна выступает заемщ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фицит торгового балан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ношение экспорта и импорта отражается в торговом баланс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 расходы   по   импорту  превышают  доходы  от  экспорта  (Iт &gt; Ех), то это соответствует дефициту торгового балан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ирование дефицита торгового баланса происходит за счет внешнего займа (может также использоваться для финансирования дефицита государственного бюджета) и может осуществляться пут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жи иностранцам финансовых активов (частных и государственных ценных бумаг — акций и облигаций) и поступления в страну денежных средств в счет их оплат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ямых заимствований у других стран и у международных финансовых организаций, таких, как Международный валютный фонд, Мировой банк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на финансовый рынок страны происходит приток денежных средств из иностранного сектора, который называется притоком капитала (capital inflow), и страна выступает заемщи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ка исследует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, общие для всей экономики и оперирует совокупными величинами, такими ка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внутренний продук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дохо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спро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предложе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потребле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уровень це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безработиц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долг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ка исследует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, общие для всей экономики и оперирует совокупными величинами, такими ка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овой внутренний продукт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ый доход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спрос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редложе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отребле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вестици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й уровень цен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безработиц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й долг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цит торгового балан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доходы от экспорта превышают расходы по импорту (Ex &gt; Iт), что означает профицит (излишек) торгового баланса, то из страны происходит отток капитала (capital outflow), поскольку в этом случае иностранцы продают данной стране свои финансовые активы (берут кредит) и получают необходимые для оплаты экспорта денежные сре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случае страна выступает кредито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ицит торгового балан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доходы от экспорта превышают расходы по импорту (Ex &gt; Iт), что означает профицит (излишек) торгового баланса, то из страны происходит отток капитала (capital outflow), поскольку в этом случае иностранцы продают данной стране свои финансовые активы (берут кредит) и получают необходимые для оплаты экспорта денежные сред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этом случае страна выступает кредито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е расходы в четырехсекторной модели экономики представляют собой сумму расходов всех макроэкономических агентов — домохозяйств, фирм, государства и иностранного сект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 = C + I + G + X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n – чистый экспорт (расходы иностранного сектор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экспорт – разница между экспортом и импорт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n = Ex - I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доход состоит из потребления (С) и сбережений (S) и чистых налогов (Т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 = C + S +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е расходы в четырехсекторной модели экономики представляют собой сумму расходов всех макроэкономических агентов — домохозяйств, фирм, государства и иностранного секто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E = C + I + G + 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Xn – чистый экспорт (расходы иностранного сектор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тый экспорт – разница между экспортом и импорт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Xn = Ex - 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доход состоит из потребления (С) и сбережений (S) и чистых налогов (Т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 = C + S +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е макроэкономическое тожд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совокупные расходы тождественно равны совокупному доходу (             ), 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формула называется основным макроэкономическим тожде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стоимость совокупного выпуска (совокупного продукта) тождественно равна величине совокупных расход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ое макроэкономическое тожде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кольку совокупные расходы тождественно равны совокупному доходу (             ), т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 формула называется основным макроэкономическим тождеств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этом стоимость совокупного выпуска (совокупного продукта) тождественно равна величине совокупных расход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ждество инъекций и изъ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казателе чистого экспорта присутству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ъекция — экспорт, представляющий собой расходы (спрос) иностранного сектора на продукцию данной страны, т.е. являющийся частью совокупных расходов и увеличивающий поток расходов и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ъятие — импорт, являющийся утечкой части совокупного дохода страны (домохозяйств) в иностранный сектор и сокращающий внутренние расходы и соответственно дох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для четырехсекторной модели экономики тождество имеет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ждество инъекций и изъят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оказателе чистого экспорта присутству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ъекция — экспорт, представляющий собой расходы (спрос) иностранного сектора на продукцию данной страны, т.е. являющийся частью совокупных расходов и увеличивающий поток расходов 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ъятие — импорт, являющийся утечкой части совокупного дохода страны (домохозяйств) в иностранный сектор и сокращающий внутренние расходы и соответственно дохо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тому для четырехсекторной модели экономики тождество имеет ви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 макро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кругооборота показывает все виды взаимосвязей и взаимозависимостей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предмет макроэкономики можно определить более точно: макроэкономика изучает закономерности поведения макроэкономических агентов на макроэкономических рын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мет макро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 кругооборота показывает все виды взаимосвязей и взаимозависимостей в экономи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перь предмет макроэкономики можно определить более точно: макроэкономика изучает закономерности поведения макроэкономических агентов на макроэкономических рын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акроэкономические модели и их показ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Макроэкономические модели и их показа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макроэкономические процессы изучаются на основе построения мод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модели — это формализованное (графическое или алгебраическое) описание экономических процессов и явлений с целью выявления основных взаимосвязей между н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строения модели выделяют существенные, наиболее важные характеристики исследуемого процесса, отвлекаются (абстрагируются) от несущественных для исследования ф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мод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макроэкономические процессы изучаются на основе построения модел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модели — это формализованное (графическое или алгебраическое) описание экономических процессов и явлений с целью выявления основных взаимосвязей между ни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остроения модели выделяют существенные, наиболее важные характеристики исследуемого процесса, отвлекаются (абстрагируются) от несущественных для исследования фак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представляет собой упрощенное отражение действительности, позволяющее выявить основные закономерности экономических процессов и разработать варианты решения сложных макроэкономических проблем, таких, как экономический рост, инфляция, безработиц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модели могут выступать в виде теорий, функций, рисунков, схем, таблиц, которые выявляют взаимозависимости между макроэкономическими величинами, причинно-следственные связи между экономическими явле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мод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 представляет собой упрощенное отражение действительности, позволяющее выявить основные закономерности экономических процессов и разработать варианты решения сложных макроэкономических проблем, таких, как экономический рост, инфляция, безработица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модели могут выступать в виде теорий, функций, рисунков, схем, таблиц, которые выявляют взаимозависимости между макроэкономическими величинами, причинно-следственные связи между экономическими явления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зогенные и эндогенные пер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 включают два вида переменных: экзогенные и эндоген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зогенные переменные — это переменные, задающиеся извне, значение которых формируется вне модели. Экзогенные переменные являются в моделях независимыми величинами, а их изменение называется автономным измен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догенные переменные — это переменные, значение которых формируется внутри модели. Это зависимые переме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зогенные и эндогенные перем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 включают два вида переменных: экзогенные и эндогенны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зогенные переменные — это переменные, задающиеся извне, значение которых формируется вне модели. Экзогенные переменные являются в моделях независимыми величинами, а их изменение называется автономным изменен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ндогенные переменные — это переменные, значение которых формируется внутри модели. Это зависимые переменны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позволяет показать, как изменение экзогенных переменных влияет на изменение величины эндогенных перем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зогенная перем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догенная перем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 позволяет показать, как изменение экзогенных переменных влияет на изменение величины эндогенных переме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зогенная переме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ндогенная переме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облемы, которые изучает макроэконом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рост, его факторы и темп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цикл и его причи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нятость и безработи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уровень цен и инфляц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ставки процента и денежное обращ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государственного бюджета и финансирование бюджетного дефици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платежного баланса и валютный ку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проблемы, которые изучает макроэкономик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й рост, его факторы и темп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й цикл и его причин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нятость и безработиц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й уровень цен и инфляц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ставки процента и денежное обращ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ние государственного бюджета и финансирование бюджетного дефици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ние платежного баланса и валютный кур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функции (модели) потребления С = С (Yd), где С — величина совокупных потребительских расходов, a    Yd — располагаемый доход, Yd является экзогенной переменной, а С — эндог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модель позволяет исследовать, как изменение располагаемого дохода меняет величину потребительских рас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ление выступает как зависимая величина (функция), а располагаемый доход — как независимая величина (аргумент функци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функции (модели) потребления С = С (Yd), где С — величина совокупных потребительских расходов, a    Yd — располагаемый доход, Yd является экзогенной переменной, а С — эндогенн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 модель позволяет исследовать, как изменение располагаемого дохода меняет величину потребительских расх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ребление выступает как зависимая величина (функция), а располагаемый доход — как независимая величина (аргумент функци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зных моделях одна и та же величина может быть и экзогенной, и эндог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, в модели потребления потребительские расходы (С) выступают в качестве эндогенной (зависимой) величины, а в модели совокупного спроса                    AD = C+ I+ G+Xn потребительские расходы (С) являются экзогенной (независимой) величиной, т.е. переменной, определяющей величину совокупного выпуска и совокупного до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зных моделях одна и та же величина может быть и экзогенной, и эндогенн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, в модели потребления потребительские расходы (С) выступают в качестве эндогенной (зависимой) величины, а в модели совокупного спроса                    AD = C+ I+ G+Xn потребительские расходы (С) являются экзогенной (независимой) величиной, т.е. переменной, определяющей величину совокупного выпуска и совокупного дох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ие пер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ение составляют переменные государственного управления, называемые политическими переменными, которые, как правило, в макроэкономических моделях являются экзогенны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кордные налог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е став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трансферт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тная ставка процен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обязательных резерв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ая ма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итические перем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ключение составляют переменные государственного управления, называемые политическими переменными, которые, как правило, в макроэкономических моделях являются экзогенным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е закупки товаров и услуг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кордные налог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оговые став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трансферт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тная ставка процент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 обязательных резерв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ая мас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и потоков и зап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нна служит классическим примером для иллюстрации понятий потока и запаса. Количество воды в ванне — запас, поскольку это ее количество в данный момент, а вода, поступающая через кран, — поток — количество воды, поступающее в ванну в единицу времени и меняющее величину ее запа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азатели потоков и запа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нна служит классическим примером для иллюстрации понятий потока и запаса. Количество воды в ванне — запас, поскольку это ее количество в данный момент, а вода, поступающая через кран, — поток — количество воды, поступающее в ванну в единицу времени и меняющее величину ее запа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ок (flow) — это показатель, характеризующий количество за определенный период времени             (в макроэкономике, как правило, за го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оказателям потоков относятся: совокупный выпуск, совокупный доход, потребление, инвестиции, дефицит (профицит) государственного бюджета, экспорт и др., так как они рассчитываются за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показатели, отображенные в модели кругооборота, являются потоками (неслучайно она называется моделью круговых поток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ок (flow) — это показатель, характеризующий количество за определенный период времени             (в макроэкономике, как правило, за год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показателям потоков относятся: совокупный выпуск, совокупный доход, потребление, инвестиции, дефицит (профицит) государственного бюджета, экспорт и др., так как они рассчитываются за г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показатели, отображенные в модели кругооборота, являются потоками (неслучайно она называется моделью круговых потоков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с (stock) — это показатель, характеризующий количество на определенный момент, на определенную дату (например, 1 января 2012 г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оказателям запасов относятся: национальное богатство, личное богатство, запас капитала, количество безработных, производственный потенциал, государственный долг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а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ас (stock) — это показатель, характеризующий количество на определенный момент, на определенную дату (например, 1 января 2012 г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показателям запасов относятся: национальное богатство, личное богатство, запас капитала, количество безработных, производственный потенциал, государственный долг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ые и относительные показ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ые показатели измеряются в денежном (стоимостном) выражении (например, совокупный выпуск, национальный доход, налоговые поступления, совокупные инвестиционные расходы и др.) или в количестве человек (например, общая численность безработных, численность рабочей силы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ельные показатели измеряются в процентах или долях единицы (например, уровень безработицы, общий уровень цен, темп инфляции, темп экономического роста, ставка процента, ставка налога и т.п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бсолютные и относительные показа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бсолютные показатели измеряются в денежном (стоимостном) выражении (например, совокупный выпуск, национальный доход, налоговые поступления, совокупные инвестиционные расходы и др.) или в количестве человек (например, общая численность безработных, численность рабочей силы и др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носительные показатели измеряются в процентах или долях единицы (например, уровень безработицы, общий уровень цен, темп инфляции, темп экономического роста, ставка процента, ставка налога и т.п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эти пробл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можно решить с позиций микроэкономического анализа, т.е. с уровня отдельного потребителя, отдельной фирмы и даже отдельной отрас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потому, что существует целый ряд таких общеэкономических проблем, появляется необходимость в возникновении самостоятельного раздела экономической теории, самостоятельной дисциплины — макро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эти проблем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возможно решить с позиций микроэкономического анализа, т.е. с уровня отдельного потребителя, отдельной фирмы и даже отдельной отрас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нно потому, что существует целый ряд таких общеэкономических проблем, появляется необходимость в возникновении самостоятельного раздела экономической теории, самостоятельной дисциплины — макроэкономи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03E9-C212-4B17-9ABF-0430DDF56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046A-85A1-42FF-9AAA-7958A652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1187-03D9-4BB4-9B16-674F56F94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431D-3BD9-4146-81C8-649170704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9EB0-2A22-4CD1-897D-A7DB746D4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E9C9-C538-49DB-9C1C-CB678EB4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3624-9779-48F5-A7B6-6EB8C077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B940-5BE8-41B9-99EE-3F6C55ED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75B3-AFAB-4D5A-8795-4AEF5A6B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6751-DF76-41CA-96EA-C98CD1AF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8C22-C532-4878-BA3C-B1BBD3C4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9DD7-078D-4D3C-819A-8C5A247A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1F83-2C31-4050-B2A6-DF79D1D0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1FD6-DD3B-4AE3-B598-87010C37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D221-340C-494A-BC80-30B0C553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276C-95ED-4FD2-9C57-2923C4EC7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0FA1-2431-40A9-B986-902C61A0D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71838-9831-4E87-91DC-31C089F25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3B8C0-518C-429D-B780-E8357801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8569C-195F-485E-A5F2-9B32F493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BB393-9118-4C7F-90E0-D87B53E1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56EB8-B2AE-48A0-A902-B7350CDA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E577-DBBC-4514-8FEA-8EF01AA0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5D463-281A-4A8D-A86E-91A3CDE2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B0B90-9A8A-40C8-B24A-3B863199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528A0-EC07-4F75-8982-5DB40A34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36832-1320-4EEF-ACB6-3D22E835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B59A9-053A-43BC-8DE2-01150ACC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44876-32E6-4F34-9512-BE4433960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D08DB-5354-4B4A-890F-25E9E02BE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11234-B41A-4D2F-A417-BEAEEEC1C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B92B6-129F-49C0-81D4-2E7F9086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C4084-8A6B-4CB5-8B8B-DD6E273E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A44C-21D3-4C4A-82BF-0592B59E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E6E7B-7C17-4347-9A5C-51866D52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BC3BC-3A71-4A6E-A89A-8482A975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E0677-75C2-4F53-8C9F-7937721C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15CD6-4790-4FE4-BDFD-4446E67A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FF136-9EED-4F7D-845E-C4AD5801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5953A-8BAF-4063-8F4B-FC852241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BA186-EC42-4228-BB17-F9A4D494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9E342-5C3F-454D-AE22-E1235F4A4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785A8-4F6E-4898-BC95-EEB47FF54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0E1B7-9A65-46F4-8BD3-16C9199CB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94AF-B107-485F-8BE7-61A45C47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1150F-B4C6-41A6-9948-7AB81B9B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B3E05-EF58-4EC8-8B7C-5DC3BA81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D7D54-60E5-4C1D-BD22-C35E0FE0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A1526-A2E8-491E-AAC7-EBA7AC51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51C03-D074-419A-94EA-57F13797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08B86-EA20-4922-A82A-B8E3B972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8EB12-47B2-4283-8587-5E436DA5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E704D-6523-4257-8E50-BD9259E0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FDC59-C998-4318-B24D-EE303305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B8218-65D8-4705-81B6-98AA00691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9374-8740-46B2-A121-0A12201C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47C1A-7A88-4B1A-A27F-8F31AD640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6A36E-73C1-4411-B7BC-296D92A08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A29E6-8A93-49BF-BB86-B0B7B66C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A8944-2BC9-4049-90EA-B0687DCC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BD2C1-6E64-44C8-824A-613169BD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9689E-9C95-4318-9043-A557C2B0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ACFA0-3E8C-456E-A59C-4FA8099F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8EA97-EA56-4D5C-8E0D-B73AE700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BA356-6BE5-4A03-97C9-C24BA8FD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BED35-FB1E-4186-AE37-0B5977E5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2680-7695-4313-B43B-7AE93F14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59934-C3CD-44E0-B29A-9B3D1123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D8EAF-F0C5-42F7-BFCE-32600303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DEFBF-FE98-4B10-AB0F-69199724D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0CD81-1EE6-43D8-A042-2B7FBA1B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B1D21-CB15-4E88-9AEA-6D6D71C0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D1EA4-8F75-44FF-903A-81F30FE5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EC7AC-8090-4EDC-A7B2-70288020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4CC28-09DA-4670-AA7C-37D3CD78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EEBCE-2BC5-4BD0-8205-0C28BFCD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248AE-C118-494F-8CB9-D110EB0D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616C-8034-457A-BF27-D84A4057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2AF72-19BD-4955-B7EC-7204DB99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3D327-8C80-46C2-A4B1-CD02B251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8AFF2-69F9-4C27-B493-07C31907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39FCD-9141-4A08-A059-9A892CF55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19108-772D-4DC1-BAD5-4BCCC1A3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E7F27-829D-4BF1-ACEF-67833634D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07026-C030-4DB3-9240-4092D2EC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E208E-6F74-4CD4-90AC-E3067D6C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471B4-DB73-4997-82D6-0EBBA7AA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C9094-D8E3-457E-8EC9-846E2F14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9DE6-E8CD-4D6F-A849-0A1336CB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973F1-F0D1-48BD-9DB9-A3B4B096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E385A-3B59-4087-B25A-B061EC27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A9BF0-3EE1-4D7D-83EA-D2E3D415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91EAB-8523-4E5D-AEBA-AE0C6018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5A97E-AE5C-4AA4-9101-B33C786D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A62F4-A0F5-4B0B-B400-FC51DEF39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6447C-D11C-481F-B283-F81429D31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CBAF-E968-47A2-8C67-5674CF60AFA1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7135-2D8F-439A-B665-05E6CEA5BFE2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6C48-C9AE-4F2D-8CEF-F9746E524351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07A1-DF39-4CC8-A5A6-D813B39C7637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0C2F-D81A-4121-A0E5-DC21E20260EE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301D-6E7D-4876-AE1F-1BB4E8150D2D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8AF6-1563-402D-A7D8-FADB0E728F3D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FE83-300B-429F-979C-93EB2A142EFC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mbria"/>
              </a:rPr>
              <a:t>Макроэкономика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mbria"/>
              </a:rPr>
              <a:t>Тема 1. Методология макроэкономик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mbria"/>
              </a:rPr>
              <a:t>Малышев Денис Перфильевич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4617b"/>
                </a:solidFill>
                <a:latin typeface="Cambria"/>
              </a:rPr>
              <a:t>Важность изучения 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макроэкономики заключается в том, что: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а не просто описывает макроэкономические явления и процессы, н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ыявляет их закономерности и зависимост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жду ними, исследуе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ичинно-следственные связ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экономике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ние макроэкономических зависимостей и связей позволяет оценить существующую в экономике ситуацию и показать, что нужно сделать для ее улучшения, и в первую очередь, что должно предпринять правительство, т.е. позволяе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азработать принципы экономической политик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ние макроэкономики дает возможность предвидеть, как будут развиваться процессы в будущем, т.е.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оставлять прогноз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видеть будущие экономические проблемы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Основные теории макроэкономики: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экономического рост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делового цикл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безработицы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инфляции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денег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государственного долг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открытой экономики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макроэкономической политики и др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2. Макроэкономический анализ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Два вида анализа макроэкономических процессов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акроэкономический анализ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ex post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ли национальное счетоводство, — эт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нализ статистических данных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торый позволяет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ценивать результат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номической деятельности, выявлять проблемы и негативные явления, разрабатывать экономическую политику для их решения и преодоления, проводить сравнительный анализ экономических потенциалов разных стран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акроэкономический анализ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ex ante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огнозное моделирование экономических процессо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явлений на основе определенных теоретических концепций, что позволяет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пределить закономерност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я экономических процессов 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ыявить причинно-следственные связ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жду экономическими явлениями и переменными. Это и есть макроэкономика как наук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инципы макроэкономического анализ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нцип рациональност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поведения экономических агентов, означающий, что агент выбирает оптимальное решение, сопоставляя выгоды и издержки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нцип "при прочих равных условиях"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заключающийся в допущении, что все другие переменные за исключением тех, которые рассматриваются в данный момент, не меняются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нцип абстрагирования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т.е. отвлечения от несущественных для анализа данного процесса или явления факторов и выделения только наиболее значимых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инципы макроэкономического анализ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четание позитивной экономической теор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отражающей фактическое состояние дел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нормативной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номической теорией, показывающей, как должны развиваться экономические процессы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четание индуктивного метод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 помощью которого экономисты собирают, систематизируют и обобщают факты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дедуктивного метод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позволяющего выдвинуть ту или иную гипотезу, т.е. логическое умозаключение, объясняющее какой-либо экономический процесс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широкое использование графиков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иллюстрации экономических закономерностей, связей между переменными и др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Агрегирование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жнейший принцип макроэкономического анализ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учение экономических зависимостей и закономерностей на уровне экономики в целом возможно лишь, если рассматривать совокупности, или агрегаты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кроэкономический анализ требует агрегирования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грегирование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ставляет собой объединение отдельных элементов в одно целое, в агрегат, в совокупность. Оно основано н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абстрагировании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грегирование позволяет выделить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кроэкономических агентов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кроэкономические рынки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кроэкономические взаимосвязи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кроэкономические показатели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агенты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грегирование, основанное на выявлении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типичных черт экономического поведен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ает возможность выдели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четыре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макроэкономических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агент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Прямоугольник 4"/>
          <p:cNvSpPr/>
          <p:nvPr/>
        </p:nvSpPr>
        <p:spPr>
          <a:xfrm>
            <a:off x="1143000" y="264312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омохозя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Прямоугольник 5"/>
          <p:cNvSpPr/>
          <p:nvPr/>
        </p:nvSpPr>
        <p:spPr>
          <a:xfrm>
            <a:off x="4857840" y="264312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Прямоугольник 6"/>
          <p:cNvSpPr/>
          <p:nvPr/>
        </p:nvSpPr>
        <p:spPr>
          <a:xfrm>
            <a:off x="1143000" y="4214880"/>
            <a:ext cx="2286000" cy="121428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Государ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Прямоугольник 7"/>
          <p:cNvSpPr/>
          <p:nvPr/>
        </p:nvSpPr>
        <p:spPr>
          <a:xfrm>
            <a:off x="4857840" y="4214880"/>
            <a:ext cx="2286000" cy="121428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ностранный сек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Домохозяйства (</a:t>
            </a:r>
            <a:r>
              <a:rPr b="0" i="1" lang="en-US" sz="3200" spc="-1" strike="noStrike">
                <a:solidFill>
                  <a:srgbClr val="04617b"/>
                </a:solidFill>
                <a:latin typeface="Bookman Old Style"/>
              </a:rPr>
              <a:t>households</a:t>
            </a: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экономической деятельности которого состоит в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ксимизации полезнос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мохозяйства являются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обственниками экономических ресурсов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труда, земли, капитала и предпринимательских способностей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давая экономические ресурсы, домохозяйства получают доходы, большую часть которых они тратят на потребление (потребительские расходы), а оставшуюся часть сберегают и поэтому выступают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сновными покупателями товаров и услуг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сновными сберегателями и поэтому кредиторам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lenders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ивая предложение кредитных средств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anable fund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в экономике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Фирмы (</a:t>
            </a:r>
            <a:r>
              <a:rPr b="0" i="1" lang="en-US" sz="3200" spc="-1" strike="noStrike">
                <a:solidFill>
                  <a:srgbClr val="04617b"/>
                </a:solidFill>
                <a:latin typeface="Bookman Old Style"/>
              </a:rPr>
              <a:t>business firms</a:t>
            </a: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целью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экономической деятельности которого выступает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максимизация прибыл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ирмы являются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сновными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изводителям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оваров и услуг в экономике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купателями экономических ресурсов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с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мощью которых осуществляется процесс производств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1. Предмет макроэкономи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Фирмы (</a:t>
            </a:r>
            <a:r>
              <a:rPr b="0" i="1" lang="en-US" sz="3200" spc="-1" strike="noStrike">
                <a:solidFill>
                  <a:srgbClr val="04617b"/>
                </a:solidFill>
                <a:latin typeface="Bookman Old Style"/>
              </a:rPr>
              <a:t>business firms</a:t>
            </a: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расширения производства, обеспечения прироста запаса капитала и возмещения износа капитала фирмам необходимы инвестиционные товары (в первую очередь, оборудование), поэтому они являются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купателями инвестиционных товаро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.е. предъявляют спрос на часть произведенной в экономике продукции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кольку выручка от продаж выплачивается домохозяйствам в виде факторных доходов, то для финансирования своих инвестиционных расходов фирмы используют, как правило, заемные средства, выступая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новным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емщикам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rrower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в экономике, предъявляя спрос на кредитные средств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Частный сектор экономи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мохозяйства и фирмы образуют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частный сектор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к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Прямоугольник 4"/>
          <p:cNvSpPr/>
          <p:nvPr/>
        </p:nvSpPr>
        <p:spPr>
          <a:xfrm>
            <a:off x="1143000" y="264312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омохозя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Прямоугольник 5"/>
          <p:cNvSpPr/>
          <p:nvPr/>
        </p:nvSpPr>
        <p:spPr>
          <a:xfrm>
            <a:off x="1143000" y="4071960"/>
            <a:ext cx="2286000" cy="121428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Правая фигурная скобка 7"/>
          <p:cNvSpPr/>
          <p:nvPr/>
        </p:nvSpPr>
        <p:spPr>
          <a:xfrm>
            <a:off x="3714840" y="2571840"/>
            <a:ext cx="428400" cy="2714400"/>
          </a:xfrm>
          <a:custGeom>
            <a:avLst/>
            <a:gdLst>
              <a:gd name="textAreaLeft" fmla="*/ 0 w 428400"/>
              <a:gd name="textAreaRight" fmla="*/ 154800 w 428400"/>
              <a:gd name="textAreaTop" fmla="*/ 209880 h 2714400"/>
              <a:gd name="textAreaBottom" fmla="*/ 2504520 h 27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72"/>
                  <a:pt x="10800" y="5343"/>
                </a:cubicBezTo>
                <a:lnTo>
                  <a:pt x="10800" y="5571"/>
                </a:lnTo>
                <a:cubicBezTo>
                  <a:pt x="10800" y="8243"/>
                  <a:pt x="16200" y="10914"/>
                  <a:pt x="21600" y="10914"/>
                </a:cubicBezTo>
                <a:cubicBezTo>
                  <a:pt x="16200" y="10914"/>
                  <a:pt x="10800" y="13586"/>
                  <a:pt x="10800" y="16257"/>
                </a:cubicBezTo>
                <a:lnTo>
                  <a:pt x="10800" y="16257"/>
                </a:lnTo>
                <a:cubicBezTo>
                  <a:pt x="10800" y="1892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Прямоугольник 8"/>
          <p:cNvSpPr/>
          <p:nvPr/>
        </p:nvSpPr>
        <p:spPr>
          <a:xfrm>
            <a:off x="4500720" y="3357720"/>
            <a:ext cx="2286000" cy="121428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ный сектор эконом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Государство </a:t>
            </a: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government</a:t>
            </a: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рационально действующий макроэкономический агент, представленный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овокупностью государственных учреждений и организаций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ладающих политическим и юридическим правом воздействовать на ход экономических процессов, регулировать экономику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сновная задача государства в рыночной экономике состоит в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устранении провалов рынк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rket failure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максимизации общественного благосостояния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cial welfare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Государство выступает: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изводителем общественных благ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купателем товаров и услуг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 необходимо для обеспечения функционирования государственного сектора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ерераспределителем национального доход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через систему налогов и трансфертов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зависимости от состояния государственного бюджета —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редитором или заемщиком на финансовом рынке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Государство выступает: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егулятором и организатором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ункционирования рыночной экономики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-первых, создавая и обеспечивая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нституциональные основ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ффективного развития экономики (законодательная база, система безопасности, налоговая система и др.), т.е. разрабатывает "правила игры"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-вторых, проводя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акроэкономическую политику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торая делится н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труктурную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правленную на обеспечение экономического роста, 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онъюнктурную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табилизационную), направленную на сглаживание циклических колебаний экономики (обеспечение полной занятости ресурсов и стабильного уровня цен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Основные виды макроэкономической политик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искальная (или бюджетно-налоговая) политик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нетарная (или денежно-кредитная) политик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нешнеторговая политик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итика доходов (политика "заработная плата — цены"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Закрытая экономик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астный и государственный секторы образуют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закрытую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ку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Прямоугольник 4"/>
          <p:cNvSpPr/>
          <p:nvPr/>
        </p:nvSpPr>
        <p:spPr>
          <a:xfrm>
            <a:off x="785880" y="214308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омохозя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Прямоугольник 5"/>
          <p:cNvSpPr/>
          <p:nvPr/>
        </p:nvSpPr>
        <p:spPr>
          <a:xfrm>
            <a:off x="785880" y="3571920"/>
            <a:ext cx="2286000" cy="121428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Правая фигурная скобка 7"/>
          <p:cNvSpPr/>
          <p:nvPr/>
        </p:nvSpPr>
        <p:spPr>
          <a:xfrm>
            <a:off x="3214800" y="2143080"/>
            <a:ext cx="428400" cy="2714760"/>
          </a:xfrm>
          <a:custGeom>
            <a:avLst/>
            <a:gdLst>
              <a:gd name="textAreaLeft" fmla="*/ 0 w 428400"/>
              <a:gd name="textAreaRight" fmla="*/ 154800 w 428400"/>
              <a:gd name="textAreaTop" fmla="*/ 209880 h 2714760"/>
              <a:gd name="textAreaBottom" fmla="*/ 2504880 h 271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72"/>
                  <a:pt x="10800" y="5343"/>
                </a:cubicBezTo>
                <a:lnTo>
                  <a:pt x="10800" y="5571"/>
                </a:lnTo>
                <a:cubicBezTo>
                  <a:pt x="10800" y="8243"/>
                  <a:pt x="16200" y="10914"/>
                  <a:pt x="21600" y="10914"/>
                </a:cubicBezTo>
                <a:cubicBezTo>
                  <a:pt x="16200" y="10914"/>
                  <a:pt x="10800" y="13586"/>
                  <a:pt x="10800" y="16257"/>
                </a:cubicBezTo>
                <a:lnTo>
                  <a:pt x="10800" y="16257"/>
                </a:lnTo>
                <a:cubicBezTo>
                  <a:pt x="10800" y="1892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Прямоугольник 8"/>
          <p:cNvSpPr/>
          <p:nvPr/>
        </p:nvSpPr>
        <p:spPr>
          <a:xfrm>
            <a:off x="3857760" y="300024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ный сектор эконом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Прямоугольник 9"/>
          <p:cNvSpPr/>
          <p:nvPr/>
        </p:nvSpPr>
        <p:spPr>
          <a:xfrm>
            <a:off x="3857760" y="442908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Государ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Правая фигурная скобка 10"/>
          <p:cNvSpPr/>
          <p:nvPr/>
        </p:nvSpPr>
        <p:spPr>
          <a:xfrm>
            <a:off x="6286680" y="3000240"/>
            <a:ext cx="428400" cy="2714760"/>
          </a:xfrm>
          <a:custGeom>
            <a:avLst/>
            <a:gdLst>
              <a:gd name="textAreaLeft" fmla="*/ 0 w 428400"/>
              <a:gd name="textAreaRight" fmla="*/ 154800 w 428400"/>
              <a:gd name="textAreaTop" fmla="*/ 209880 h 2714760"/>
              <a:gd name="textAreaBottom" fmla="*/ 2504880 h 271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72"/>
                  <a:pt x="10800" y="5343"/>
                </a:cubicBezTo>
                <a:lnTo>
                  <a:pt x="10800" y="5571"/>
                </a:lnTo>
                <a:cubicBezTo>
                  <a:pt x="10800" y="8243"/>
                  <a:pt x="16200" y="10914"/>
                  <a:pt x="21600" y="10914"/>
                </a:cubicBezTo>
                <a:cubicBezTo>
                  <a:pt x="16200" y="10914"/>
                  <a:pt x="10800" y="13586"/>
                  <a:pt x="10800" y="16257"/>
                </a:cubicBezTo>
                <a:lnTo>
                  <a:pt x="10800" y="16257"/>
                </a:lnTo>
                <a:cubicBezTo>
                  <a:pt x="10800" y="1892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Прямоугольник 11"/>
          <p:cNvSpPr/>
          <p:nvPr/>
        </p:nvSpPr>
        <p:spPr>
          <a:xfrm>
            <a:off x="6858000" y="3500280"/>
            <a:ext cx="1714680" cy="157176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Закрытая эконом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Иностранный сектор </a:t>
            </a: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foreign sector</a:t>
            </a: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объединяющий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се остальные страны мир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 которыми данная страна взаимодействует посредством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международной торговл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.е. покупки и продажи товаров и услуг (экспорт и импорт товаров и услуг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еремещения капиталов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.е. покупки и продажи финансовых активов — ценных бумаг (экспорт и импорт капитала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Открытая экономик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бавление в анализ иностранного сектора дает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открытую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ку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Прямоугольник 4"/>
          <p:cNvSpPr/>
          <p:nvPr/>
        </p:nvSpPr>
        <p:spPr>
          <a:xfrm>
            <a:off x="285840" y="2143080"/>
            <a:ext cx="2286000" cy="5000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омохозя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Прямоугольник 5"/>
          <p:cNvSpPr/>
          <p:nvPr/>
        </p:nvSpPr>
        <p:spPr>
          <a:xfrm>
            <a:off x="285840" y="2786040"/>
            <a:ext cx="2286000" cy="5000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Правая фигурная скобка 7"/>
          <p:cNvSpPr/>
          <p:nvPr/>
        </p:nvSpPr>
        <p:spPr>
          <a:xfrm>
            <a:off x="2643120" y="2143080"/>
            <a:ext cx="285840" cy="1143000"/>
          </a:xfrm>
          <a:custGeom>
            <a:avLst/>
            <a:gdLst>
              <a:gd name="textAreaLeft" fmla="*/ 0 w 285840"/>
              <a:gd name="textAreaRight" fmla="*/ 103320 w 285840"/>
              <a:gd name="textAreaTop" fmla="*/ 140040 h 1143000"/>
              <a:gd name="textAreaBottom" fmla="*/ 10029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230"/>
                  <a:pt x="10800" y="8460"/>
                </a:cubicBezTo>
                <a:lnTo>
                  <a:pt x="10800" y="2454"/>
                </a:lnTo>
                <a:cubicBezTo>
                  <a:pt x="10800" y="6684"/>
                  <a:pt x="16200" y="10914"/>
                  <a:pt x="21600" y="10914"/>
                </a:cubicBezTo>
                <a:cubicBezTo>
                  <a:pt x="16200" y="10914"/>
                  <a:pt x="10800" y="15144"/>
                  <a:pt x="10800" y="19374"/>
                </a:cubicBezTo>
                <a:lnTo>
                  <a:pt x="10800" y="13140"/>
                </a:lnTo>
                <a:cubicBezTo>
                  <a:pt x="10800" y="1737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Прямоугольник 8"/>
          <p:cNvSpPr/>
          <p:nvPr/>
        </p:nvSpPr>
        <p:spPr>
          <a:xfrm>
            <a:off x="3000240" y="2143080"/>
            <a:ext cx="164304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ный сектор эконом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Прямоугольник 9"/>
          <p:cNvSpPr/>
          <p:nvPr/>
        </p:nvSpPr>
        <p:spPr>
          <a:xfrm>
            <a:off x="3000240" y="3500280"/>
            <a:ext cx="164304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Государство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Правая фигурная скобка 10"/>
          <p:cNvSpPr/>
          <p:nvPr/>
        </p:nvSpPr>
        <p:spPr>
          <a:xfrm>
            <a:off x="4643280" y="2071800"/>
            <a:ext cx="285840" cy="2643120"/>
          </a:xfrm>
          <a:custGeom>
            <a:avLst/>
            <a:gdLst>
              <a:gd name="textAreaLeft" fmla="*/ 0 w 285840"/>
              <a:gd name="textAreaRight" fmla="*/ 103320 w 285840"/>
              <a:gd name="textAreaTop" fmla="*/ 140040 h 2643120"/>
              <a:gd name="textAreaBottom" fmla="*/ 2503080 h 264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29"/>
                  <a:pt x="10800" y="3658"/>
                </a:cubicBezTo>
                <a:lnTo>
                  <a:pt x="10800" y="7256"/>
                </a:lnTo>
                <a:cubicBezTo>
                  <a:pt x="10800" y="9085"/>
                  <a:pt x="16200" y="10914"/>
                  <a:pt x="21600" y="10914"/>
                </a:cubicBezTo>
                <a:cubicBezTo>
                  <a:pt x="16200" y="10914"/>
                  <a:pt x="10800" y="12743"/>
                  <a:pt x="10800" y="14572"/>
                </a:cubicBezTo>
                <a:lnTo>
                  <a:pt x="10800" y="17942"/>
                </a:lnTo>
                <a:cubicBezTo>
                  <a:pt x="10800" y="1977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Прямоугольник 11"/>
          <p:cNvSpPr/>
          <p:nvPr/>
        </p:nvSpPr>
        <p:spPr>
          <a:xfrm>
            <a:off x="5000760" y="3071880"/>
            <a:ext cx="1857240" cy="85716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Закрытая эконом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Прямоугольник 12"/>
          <p:cNvSpPr/>
          <p:nvPr/>
        </p:nvSpPr>
        <p:spPr>
          <a:xfrm>
            <a:off x="5000760" y="4071960"/>
            <a:ext cx="1857240" cy="85716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Иностранный секто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Правая фигурная скобка 13"/>
          <p:cNvSpPr/>
          <p:nvPr/>
        </p:nvSpPr>
        <p:spPr>
          <a:xfrm>
            <a:off x="6929280" y="3071880"/>
            <a:ext cx="285840" cy="1928880"/>
          </a:xfrm>
          <a:custGeom>
            <a:avLst/>
            <a:gdLst>
              <a:gd name="textAreaLeft" fmla="*/ 0 w 285840"/>
              <a:gd name="textAreaRight" fmla="*/ 103320 w 285840"/>
              <a:gd name="textAreaTop" fmla="*/ 140040 h 1928880"/>
              <a:gd name="textAreaBottom" fmla="*/ 1788840 h 19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507"/>
                  <a:pt x="10800" y="5013"/>
                </a:cubicBezTo>
                <a:lnTo>
                  <a:pt x="10800" y="5901"/>
                </a:lnTo>
                <a:cubicBezTo>
                  <a:pt x="10800" y="8408"/>
                  <a:pt x="16200" y="10914"/>
                  <a:pt x="21600" y="10914"/>
                </a:cubicBezTo>
                <a:cubicBezTo>
                  <a:pt x="16200" y="10914"/>
                  <a:pt x="10800" y="13421"/>
                  <a:pt x="10800" y="15927"/>
                </a:cubicBezTo>
                <a:lnTo>
                  <a:pt x="10800" y="16587"/>
                </a:lnTo>
                <a:cubicBezTo>
                  <a:pt x="10800" y="1909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Прямоугольник 14"/>
          <p:cNvSpPr/>
          <p:nvPr/>
        </p:nvSpPr>
        <p:spPr>
          <a:xfrm>
            <a:off x="7286760" y="3643200"/>
            <a:ext cx="1643040" cy="85752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ткрытая эконом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рын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грегирование рынков производится с целью выявлени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закономерностей функционирован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аждого из них, а именно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сследования особенностей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формирования спроса и предложен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условий их равновесия на каждом из рынков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пределени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равновесной цены и равновесного объем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основе соотношения спроса и предложения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нализ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следствий изменения равновес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каждом из рынк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Экономическая теория включает  2 раздела: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икроэкономика («микро» – маленький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акроэкономика («макро» – большой; «экономика» – ведение хозяйства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Микроэкономик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исследует закономерности экономического поведения на уровне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тдельных экономических агентов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 потребителя (домохозяйства) и производителя (фирмы) и объясняет, как и почему они принимают экономические решения, а также изучает принципы функционирования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ынков отдельных товаров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рын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грегирование рынков дает возможность выдели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четыре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макроэкономических рынка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ынок товаров и услуг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инансовый рынок (рынок финансовых активов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ынок экономических ресурсов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алютный рынок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Агрегированный </a:t>
            </a: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рынок товаров и услуг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2900" spc="-1" strike="noStrike">
                <a:solidFill>
                  <a:srgbClr val="04617b"/>
                </a:solidFill>
                <a:latin typeface="Bookman Old Style"/>
              </a:rPr>
              <a:t>goods market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полагает абстрагирование (отвлечение) от всего разнообразия производимых экономикой товаров и выделение наиболее важных закономерностей функционирования этого рынка, т.е. формирования спроса и предложения товаров и услуг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Агрегированный </a:t>
            </a: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рынок товаров и услуг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2900" spc="-1" strike="noStrike">
                <a:solidFill>
                  <a:srgbClr val="04617b"/>
                </a:solidFill>
                <a:latin typeface="Bookman Old Style"/>
              </a:rPr>
              <a:t>goods market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прос на товары и услуг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ъявляю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се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акроэкономические агенты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едложение товаров и услуг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еспечиваю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фирмы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отношение спроса и предложения позволяет получить величину равновесного уровня цен на товары и услуги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ice level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равновесного объема их производства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al output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ынок товаров и услуг называют такж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реальным рынк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al market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, поскольку на нем продают и покупают реальные активы (реальные ценности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Финансовый рынок 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2900" spc="-1" strike="noStrike">
                <a:solidFill>
                  <a:srgbClr val="04617b"/>
                </a:solidFill>
                <a:latin typeface="Bookman Old Style"/>
              </a:rPr>
              <a:t>financial assets market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рынок, на котором предъявляется спрос и обеспечивается предложение финансовых активов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Прямоугольник 4"/>
          <p:cNvSpPr/>
          <p:nvPr/>
        </p:nvSpPr>
        <p:spPr>
          <a:xfrm>
            <a:off x="2643120" y="2143080"/>
            <a:ext cx="2857680" cy="42876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нансовый ры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Прямоугольник 5"/>
          <p:cNvSpPr/>
          <p:nvPr/>
        </p:nvSpPr>
        <p:spPr>
          <a:xfrm>
            <a:off x="714240" y="3357720"/>
            <a:ext cx="2857680" cy="192852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alibri"/>
              </a:rPr>
              <a:t>денежный рынок 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money market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) — рынок денежных финансовых актив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Прямоугольник 6"/>
          <p:cNvSpPr/>
          <p:nvPr/>
        </p:nvSpPr>
        <p:spPr>
          <a:xfrm>
            <a:off x="4643280" y="3357720"/>
            <a:ext cx="2786400" cy="192852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alibri"/>
              </a:rPr>
              <a:t>рынок ценных бумаг 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bonds market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) — рынок неденежных финансовых актив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Прямая со стрелкой 8"/>
          <p:cNvCxnSpPr>
            <a:stCxn id="481" idx="2"/>
            <a:endCxn id="482" idx="0"/>
          </p:cNvCxnSpPr>
          <p:nvPr/>
        </p:nvCxnSpPr>
        <p:spPr>
          <a:xfrm flipH="1">
            <a:off x="2142720" y="2571480"/>
            <a:ext cx="1929600" cy="78660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485" name="Прямая со стрелкой 11"/>
          <p:cNvCxnSpPr>
            <a:stCxn id="481" idx="2"/>
            <a:endCxn id="483" idx="0"/>
          </p:cNvCxnSpPr>
          <p:nvPr/>
        </p:nvCxnSpPr>
        <p:spPr>
          <a:xfrm>
            <a:off x="4070880" y="2571480"/>
            <a:ext cx="1965960" cy="78660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48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Денежный рынок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На денежном рынке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 происходят процессы купли и продажи (покупать деньги за деньги бессмысленно), однако исследование закономерностей функционирования денежного рынка, формирования спроса на деньги и предложения денег очень важно для макроэкономического анализ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прос на деньг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ъявляю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се внутренние макроэкономические агенты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домохозяйства, фирмы и государство)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едложение денег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еспечива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центральный банк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ладающий монопольным правом выпуска денег в обращение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Денежный рынок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зучение денежного рынка, условий его равновесия позволяет получи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вновесную ставку процента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interest rate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, выступающую ценой денег (ценой кредита), и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вновесную величину денежной массы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money stock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— М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, а также рассмотреть последствия изменения равновесия на денежном рынке и его влияния на рынок товаров и услуг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сновными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средникам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денежном рынке являю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банк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торые принимают денежные вклады и выдают кредиты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Рынок ценных бумаг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На рынке ценных бумаг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даются и покупаются акции и облигаци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Акц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эт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бессрочна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ценная бумага (т.е. не имеющая срока погашения и существующая столько лет, сколько существует выпустившая ее фирма), делающая ее покупател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овладельце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й фирмы и обеспечивающая ему право участия в ее управлении и право на получение дохода —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ивиденд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еличина которого зависит от размеров прибыли фирмы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Рынок ценных бумаг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На рынке ценных бумаг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даются и покупаются акции и облигаци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блигация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эт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рочна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ценная бумага (т.е. выпущенная на определенный срок — например, на год, на 5 лет и т.п.), покупатель которой являе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редитор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лигация не дает ее владельцу право на управление фирмой, однако обеспечивает получение фиксированного (независимо от величины прибыли) дохода —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цент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 в момент наступления срока погашения — возвращение номинальной стоимости облигации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Рынок ценных бумаг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купателями ценных бумаг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жде всего являются домохозяйства, которые тратят свои сбережения с целью получения дохода (дивиденда по акциям и процента по облигациям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одавцам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эмитентами)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кций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ступаю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ирм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блигаций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ирмы и государство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ирм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ыпускают акции и облигации с целью получения средств для финансирования своих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вестиционных расход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расширения объема производства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ыпускает облигации для финансировани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фицит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государственног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юджет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Рынок экономических ресурсов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2900" spc="-1" strike="noStrike">
                <a:solidFill>
                  <a:srgbClr val="04617b"/>
                </a:solidFill>
                <a:latin typeface="Bookman Old Style"/>
              </a:rPr>
              <a:t>resource market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) 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макроэкономических моделях представлен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рынком труда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labour market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поскольку закономерности его функционирования (формирование спроса на труд и предложения труда) позволяют объяснить макроэкономические процессы, особенно в краткосрочном периоде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 изучении рынка труда необходимо отвлечься (абстрагироваться) от всех различий в видах труда, в уровнях квалификации и профессиональной подготовк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ка – это …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ука, которая изучает закономерности функционировани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экономики в цел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сследу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заимодействие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ческих агентов и экономических рынков друг с другом, при этом экономика рассматривается как сложная, иерархически организованная система, как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овокупность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ческих процессов и явлений и их показателей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Рынок труд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прос на труд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ъявляю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фирмы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едложение труд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еспечиваю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вновесие рынка труда позволяет определи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вновесное количество труд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экономике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abour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L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вновесную цену труд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— ставку заработной платы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al wage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W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нализ неравновесия на рынке труда позволяет выявить причины и формы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безработицы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Рынок валюты 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2900" spc="-1" strike="noStrike">
                <a:solidFill>
                  <a:srgbClr val="04617b"/>
                </a:solidFill>
                <a:latin typeface="Bookman Old Style"/>
              </a:rPr>
              <a:t>foreign exchange market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рынок, на котором происходит обмен друг на друга национальных денежных единиц (валют) разных стран (долларов на иены, фунтов стерлингов на евро и т.п.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прос на национальную валюту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ъявляю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ностранц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елающие купить товары и (или) ценные бумаги данной страны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едложение национальной валют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ивае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центральный банк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ны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результате обмена одной национальной валюты на другую (соотношения спроса и предложения) формируетс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е цен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алютный кур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change rat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3. Кругооборот продукта, расходов и доходов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4617b"/>
                </a:solidFill>
                <a:latin typeface="Cambria"/>
              </a:rPr>
              <a:t>Модель кругооборота продукта, расходов и доходов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mbria"/>
              </a:rPr>
              <a:t>(модель круговых потоков — </a:t>
            </a:r>
            <a:r>
              <a:rPr b="0" lang="en-US" sz="2400" spc="-1" strike="noStrike">
                <a:solidFill>
                  <a:srgbClr val="04617b"/>
                </a:solidFill>
                <a:latin typeface="Bookman Old Style"/>
              </a:rPr>
              <a:t>model of circular flows</a:t>
            </a:r>
            <a:r>
              <a:rPr b="0" lang="ru-RU" sz="24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24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ыявление наиболее типичных черт поведения экономических агентов (агрегирование агентов) и наиболее существенных закономерностей функционирования экономических рынков (агрегирование рынков) позволяет агрегирова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макроэкономические взаимосвяз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т.е. исследовать закономерности поведения макроэкономических агентов на макроэкономических рынках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Кругооборот продукта, расходов и доходов в </a:t>
            </a:r>
            <a:r>
              <a:rPr b="1" lang="ru-RU" sz="2900" spc="-1" strike="noStrike">
                <a:solidFill>
                  <a:srgbClr val="04617b"/>
                </a:solidFill>
                <a:latin typeface="Cambria"/>
              </a:rPr>
              <a:t>двухсекторной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 модели экономик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218960"/>
            <a:ext cx="82296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тоит только из 2 макроэкономических агентов —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мохозяйств и фир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и 2 рынков —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ынка товаров и услуг и рынка экономических ресурсов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9" name="Picture 3" descr="C:\Users\х\Desktop\макро\тема 1\2секторная чистая.jpg"/>
          <p:cNvPicPr/>
          <p:nvPr/>
        </p:nvPicPr>
        <p:blipFill>
          <a:blip r:embed="rId1"/>
          <a:stretch/>
        </p:blipFill>
        <p:spPr>
          <a:xfrm>
            <a:off x="216000" y="1125360"/>
            <a:ext cx="8748720" cy="3811680"/>
          </a:xfrm>
          <a:prstGeom prst="rect">
            <a:avLst/>
          </a:prstGeom>
          <a:ln w="0">
            <a:noFill/>
          </a:ln>
        </p:spPr>
      </p:pic>
      <p:sp>
        <p:nvSpPr>
          <p:cNvPr id="520" name="Стрелка углом 7"/>
          <p:cNvSpPr/>
          <p:nvPr/>
        </p:nvSpPr>
        <p:spPr>
          <a:xfrm>
            <a:off x="395280" y="1341360"/>
            <a:ext cx="2448000" cy="1511280"/>
          </a:xfrm>
          <a:custGeom>
            <a:avLst/>
            <a:gdLst/>
            <a:ahLst/>
            <a:rect l="l" t="t" r="r" b="b"/>
            <a:pathLst>
              <a:path w="2447925" h="1511300">
                <a:moveTo>
                  <a:pt x="0" y="1511300"/>
                </a:moveTo>
                <a:lnTo>
                  <a:pt x="0" y="806830"/>
                </a:lnTo>
                <a:cubicBezTo>
                  <a:pt x="0" y="457688"/>
                  <a:pt x="283035" y="174653"/>
                  <a:pt x="632177" y="174653"/>
                </a:cubicBezTo>
                <a:lnTo>
                  <a:pt x="2262488" y="174653"/>
                </a:lnTo>
                <a:lnTo>
                  <a:pt x="2262488" y="0"/>
                </a:lnTo>
                <a:lnTo>
                  <a:pt x="2447925" y="272563"/>
                </a:lnTo>
                <a:lnTo>
                  <a:pt x="2262488" y="545126"/>
                </a:lnTo>
                <a:lnTo>
                  <a:pt x="2262488" y="370473"/>
                </a:lnTo>
                <a:lnTo>
                  <a:pt x="632177" y="370473"/>
                </a:lnTo>
                <a:cubicBezTo>
                  <a:pt x="391183" y="370473"/>
                  <a:pt x="195819" y="565837"/>
                  <a:pt x="195819" y="806831"/>
                </a:cubicBezTo>
                <a:lnTo>
                  <a:pt x="195819" y="1511300"/>
                </a:lnTo>
                <a:lnTo>
                  <a:pt x="0" y="15113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Стрелка углом 8"/>
          <p:cNvSpPr/>
          <p:nvPr/>
        </p:nvSpPr>
        <p:spPr>
          <a:xfrm rot="10800000">
            <a:off x="6300720" y="3429000"/>
            <a:ext cx="2519280" cy="1440000"/>
          </a:xfrm>
          <a:custGeom>
            <a:avLst/>
            <a:gdLst/>
            <a:ahLst/>
            <a:rect l="l" t="t" r="r" b="b"/>
            <a:pathLst>
              <a:path w="2519362" h="1439863">
                <a:moveTo>
                  <a:pt x="0" y="1439863"/>
                </a:moveTo>
                <a:lnTo>
                  <a:pt x="0" y="796338"/>
                </a:lnTo>
                <a:cubicBezTo>
                  <a:pt x="0" y="448432"/>
                  <a:pt x="282034" y="166398"/>
                  <a:pt x="629940" y="166398"/>
                </a:cubicBezTo>
                <a:lnTo>
                  <a:pt x="2342691" y="166398"/>
                </a:lnTo>
                <a:lnTo>
                  <a:pt x="2342691" y="0"/>
                </a:lnTo>
                <a:lnTo>
                  <a:pt x="2519362" y="259679"/>
                </a:lnTo>
                <a:lnTo>
                  <a:pt x="2342691" y="519359"/>
                </a:lnTo>
                <a:lnTo>
                  <a:pt x="2342691" y="352961"/>
                </a:lnTo>
                <a:lnTo>
                  <a:pt x="629940" y="352961"/>
                </a:lnTo>
                <a:cubicBezTo>
                  <a:pt x="385070" y="352961"/>
                  <a:pt x="186563" y="551468"/>
                  <a:pt x="186563" y="796338"/>
                </a:cubicBezTo>
                <a:lnTo>
                  <a:pt x="186563" y="1439863"/>
                </a:lnTo>
                <a:lnTo>
                  <a:pt x="0" y="14398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Стрелка углом 9"/>
          <p:cNvSpPr/>
          <p:nvPr/>
        </p:nvSpPr>
        <p:spPr>
          <a:xfrm rot="16200000">
            <a:off x="971640" y="2781360"/>
            <a:ext cx="1224000" cy="2519280"/>
          </a:xfrm>
          <a:custGeom>
            <a:avLst/>
            <a:gdLst/>
            <a:ahLst/>
            <a:rect l="l" t="t" r="r" b="b"/>
            <a:pathLst>
              <a:path w="1223963" h="2519363">
                <a:moveTo>
                  <a:pt x="0" y="2519363"/>
                </a:moveTo>
                <a:lnTo>
                  <a:pt x="0" y="676931"/>
                </a:lnTo>
                <a:cubicBezTo>
                  <a:pt x="0" y="381191"/>
                  <a:pt x="239744" y="141447"/>
                  <a:pt x="535484" y="141447"/>
                </a:cubicBezTo>
                <a:lnTo>
                  <a:pt x="1073783" y="141447"/>
                </a:lnTo>
                <a:lnTo>
                  <a:pt x="1073783" y="0"/>
                </a:lnTo>
                <a:lnTo>
                  <a:pt x="1223963" y="220742"/>
                </a:lnTo>
                <a:lnTo>
                  <a:pt x="1073783" y="441483"/>
                </a:lnTo>
                <a:lnTo>
                  <a:pt x="1073783" y="300036"/>
                </a:lnTo>
                <a:lnTo>
                  <a:pt x="535484" y="300036"/>
                </a:lnTo>
                <a:cubicBezTo>
                  <a:pt x="327331" y="300036"/>
                  <a:pt x="158589" y="468778"/>
                  <a:pt x="158589" y="676931"/>
                </a:cubicBezTo>
                <a:lnTo>
                  <a:pt x="158589" y="2519363"/>
                </a:lnTo>
                <a:lnTo>
                  <a:pt x="0" y="2519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Стрелка углом 10"/>
          <p:cNvSpPr/>
          <p:nvPr/>
        </p:nvSpPr>
        <p:spPr>
          <a:xfrm rot="5400000">
            <a:off x="6912360" y="871920"/>
            <a:ext cx="1368360" cy="2592360"/>
          </a:xfrm>
          <a:custGeom>
            <a:avLst/>
            <a:gdLst/>
            <a:ahLst/>
            <a:rect l="l" t="t" r="r" b="b"/>
            <a:pathLst>
              <a:path w="1368425" h="2592387">
                <a:moveTo>
                  <a:pt x="0" y="2592387"/>
                </a:moveTo>
                <a:lnTo>
                  <a:pt x="0" y="756828"/>
                </a:lnTo>
                <a:cubicBezTo>
                  <a:pt x="0" y="426183"/>
                  <a:pt x="268041" y="158142"/>
                  <a:pt x="598686" y="158142"/>
                </a:cubicBezTo>
                <a:lnTo>
                  <a:pt x="1200519" y="158142"/>
                </a:lnTo>
                <a:lnTo>
                  <a:pt x="1200519" y="0"/>
                </a:lnTo>
                <a:lnTo>
                  <a:pt x="1368425" y="246795"/>
                </a:lnTo>
                <a:lnTo>
                  <a:pt x="1200519" y="493591"/>
                </a:lnTo>
                <a:lnTo>
                  <a:pt x="1200519" y="335449"/>
                </a:lnTo>
                <a:lnTo>
                  <a:pt x="598686" y="335449"/>
                </a:lnTo>
                <a:cubicBezTo>
                  <a:pt x="365965" y="335449"/>
                  <a:pt x="177307" y="524107"/>
                  <a:pt x="177307" y="756828"/>
                </a:cubicBezTo>
                <a:lnTo>
                  <a:pt x="177307" y="2592387"/>
                </a:lnTo>
                <a:lnTo>
                  <a:pt x="0" y="25923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Стрелка углом 11"/>
          <p:cNvSpPr/>
          <p:nvPr/>
        </p:nvSpPr>
        <p:spPr>
          <a:xfrm flipH="1">
            <a:off x="6300000" y="1844640"/>
            <a:ext cx="2016360" cy="1008000"/>
          </a:xfrm>
          <a:custGeom>
            <a:avLst/>
            <a:gdLst/>
            <a:ahLst/>
            <a:rect l="l" t="t" r="r" b="b"/>
            <a:pathLst>
              <a:path w="2016125" h="1008063">
                <a:moveTo>
                  <a:pt x="0" y="1008063"/>
                </a:moveTo>
                <a:lnTo>
                  <a:pt x="0" y="557524"/>
                </a:lnTo>
                <a:cubicBezTo>
                  <a:pt x="0" y="313951"/>
                  <a:pt x="197455" y="116496"/>
                  <a:pt x="441028" y="116496"/>
                </a:cubicBezTo>
                <a:lnTo>
                  <a:pt x="1892436" y="116497"/>
                </a:lnTo>
                <a:lnTo>
                  <a:pt x="1892436" y="0"/>
                </a:lnTo>
                <a:lnTo>
                  <a:pt x="2016125" y="181804"/>
                </a:lnTo>
                <a:lnTo>
                  <a:pt x="1892436" y="363608"/>
                </a:lnTo>
                <a:lnTo>
                  <a:pt x="1892436" y="247112"/>
                </a:lnTo>
                <a:lnTo>
                  <a:pt x="441028" y="247112"/>
                </a:lnTo>
                <a:cubicBezTo>
                  <a:pt x="269592" y="247112"/>
                  <a:pt x="130615" y="386089"/>
                  <a:pt x="130615" y="557525"/>
                </a:cubicBezTo>
                <a:lnTo>
                  <a:pt x="130615" y="1008063"/>
                </a:lnTo>
                <a:lnTo>
                  <a:pt x="0" y="1008063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Стрелка углом 12"/>
          <p:cNvSpPr/>
          <p:nvPr/>
        </p:nvSpPr>
        <p:spPr>
          <a:xfrm flipH="1" rot="16200000">
            <a:off x="1366560" y="1377000"/>
            <a:ext cx="863640" cy="2087640"/>
          </a:xfrm>
          <a:custGeom>
            <a:avLst/>
            <a:gdLst/>
            <a:ahLst/>
            <a:rect l="l" t="t" r="r" b="b"/>
            <a:pathLst>
              <a:path w="863600" h="2087563">
                <a:moveTo>
                  <a:pt x="0" y="2087563"/>
                </a:moveTo>
                <a:lnTo>
                  <a:pt x="0" y="477627"/>
                </a:lnTo>
                <a:cubicBezTo>
                  <a:pt x="0" y="268960"/>
                  <a:pt x="169158" y="99802"/>
                  <a:pt x="377825" y="99802"/>
                </a:cubicBezTo>
                <a:lnTo>
                  <a:pt x="757636" y="99802"/>
                </a:lnTo>
                <a:lnTo>
                  <a:pt x="757636" y="0"/>
                </a:lnTo>
                <a:lnTo>
                  <a:pt x="863600" y="155750"/>
                </a:lnTo>
                <a:lnTo>
                  <a:pt x="757636" y="311501"/>
                </a:lnTo>
                <a:lnTo>
                  <a:pt x="757636" y="211699"/>
                </a:lnTo>
                <a:lnTo>
                  <a:pt x="377825" y="211699"/>
                </a:lnTo>
                <a:cubicBezTo>
                  <a:pt x="230957" y="211699"/>
                  <a:pt x="111897" y="330759"/>
                  <a:pt x="111897" y="477627"/>
                </a:cubicBezTo>
                <a:lnTo>
                  <a:pt x="111897" y="2087563"/>
                </a:lnTo>
                <a:lnTo>
                  <a:pt x="0" y="2087563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Стрелка углом 13"/>
          <p:cNvSpPr/>
          <p:nvPr/>
        </p:nvSpPr>
        <p:spPr>
          <a:xfrm flipH="1" rot="10800000">
            <a:off x="826920" y="3428640"/>
            <a:ext cx="2089440" cy="863640"/>
          </a:xfrm>
          <a:custGeom>
            <a:avLst/>
            <a:gdLst/>
            <a:ahLst/>
            <a:rect l="l" t="t" r="r" b="b"/>
            <a:pathLst>
              <a:path w="2089150" h="863600">
                <a:moveTo>
                  <a:pt x="0" y="863600"/>
                </a:moveTo>
                <a:lnTo>
                  <a:pt x="0" y="477627"/>
                </a:lnTo>
                <a:cubicBezTo>
                  <a:pt x="0" y="268960"/>
                  <a:pt x="169158" y="99802"/>
                  <a:pt x="377825" y="99802"/>
                </a:cubicBezTo>
                <a:lnTo>
                  <a:pt x="1983186" y="99802"/>
                </a:lnTo>
                <a:lnTo>
                  <a:pt x="1983186" y="0"/>
                </a:lnTo>
                <a:lnTo>
                  <a:pt x="2089150" y="155750"/>
                </a:lnTo>
                <a:lnTo>
                  <a:pt x="1983186" y="311501"/>
                </a:lnTo>
                <a:lnTo>
                  <a:pt x="1983186" y="211699"/>
                </a:lnTo>
                <a:lnTo>
                  <a:pt x="377825" y="211699"/>
                </a:lnTo>
                <a:cubicBezTo>
                  <a:pt x="230957" y="211699"/>
                  <a:pt x="111897" y="330759"/>
                  <a:pt x="111897" y="477627"/>
                </a:cubicBezTo>
                <a:lnTo>
                  <a:pt x="111897" y="863600"/>
                </a:lnTo>
                <a:lnTo>
                  <a:pt x="0" y="8636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Стрелка углом 14"/>
          <p:cNvSpPr/>
          <p:nvPr/>
        </p:nvSpPr>
        <p:spPr>
          <a:xfrm flipH="1" rot="5400000">
            <a:off x="7018920" y="2709720"/>
            <a:ext cx="720720" cy="2158920"/>
          </a:xfrm>
          <a:custGeom>
            <a:avLst/>
            <a:gdLst/>
            <a:ahLst/>
            <a:rect l="l" t="t" r="r" b="b"/>
            <a:pathLst>
              <a:path w="720725" h="2159000">
                <a:moveTo>
                  <a:pt x="0" y="2159000"/>
                </a:moveTo>
                <a:lnTo>
                  <a:pt x="0" y="376820"/>
                </a:lnTo>
                <a:cubicBezTo>
                  <a:pt x="0" y="226745"/>
                  <a:pt x="121660" y="105085"/>
                  <a:pt x="271735" y="105085"/>
                </a:cubicBezTo>
                <a:lnTo>
                  <a:pt x="632292" y="105085"/>
                </a:lnTo>
                <a:lnTo>
                  <a:pt x="632292" y="0"/>
                </a:lnTo>
                <a:lnTo>
                  <a:pt x="720725" y="151777"/>
                </a:lnTo>
                <a:lnTo>
                  <a:pt x="632292" y="303555"/>
                </a:lnTo>
                <a:lnTo>
                  <a:pt x="632292" y="198470"/>
                </a:lnTo>
                <a:lnTo>
                  <a:pt x="271735" y="198470"/>
                </a:lnTo>
                <a:cubicBezTo>
                  <a:pt x="173234" y="198470"/>
                  <a:pt x="93384" y="278320"/>
                  <a:pt x="93384" y="376821"/>
                </a:cubicBezTo>
                <a:lnTo>
                  <a:pt x="93384" y="2159000"/>
                </a:lnTo>
                <a:lnTo>
                  <a:pt x="0" y="21590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Двухсекторная модель экономики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материальные потоки                             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806400" y="1218960"/>
            <a:ext cx="82296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9280" indent="7189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мохозяйства приобретают товары и услуги (предъявляют спрос на товары и услуги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19280" indent="7189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вары и услуги производят и поставляют на этот рынок фирмы (обеспечивают предложение товаров и услуг —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овокупный продукт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19280" indent="7189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бы производить товары и услуги, фирмы закупают экономические ресурсы — труд, землю, капитал и предпринимательские способности (предъявляют спрос на экономические ресурсы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19280" indent="7189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ственниками этих ресурсов являются домохозяйства (обеспечивают предложение экономических ресурсов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Стрелка вправо 5"/>
          <p:cNvSpPr/>
          <p:nvPr/>
        </p:nvSpPr>
        <p:spPr>
          <a:xfrm rot="10800000">
            <a:off x="5363640" y="764280"/>
            <a:ext cx="2087640" cy="287640"/>
          </a:xfrm>
          <a:prstGeom prst="rightArrow">
            <a:avLst>
              <a:gd name="adj1" fmla="val 50000"/>
              <a:gd name="adj2" fmla="val 127751"/>
            </a:avLst>
          </a:prstGeom>
          <a:solidFill>
            <a:srgbClr val="ff000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Стрелка углом 6"/>
          <p:cNvSpPr/>
          <p:nvPr/>
        </p:nvSpPr>
        <p:spPr>
          <a:xfrm flipH="1" rot="16200000">
            <a:off x="359640" y="1232640"/>
            <a:ext cx="576000" cy="936720"/>
          </a:xfrm>
          <a:custGeom>
            <a:avLst/>
            <a:gdLst/>
            <a:ahLst/>
            <a:rect l="l" t="t" r="r" b="b"/>
            <a:pathLst>
              <a:path w="576263" h="936625">
                <a:moveTo>
                  <a:pt x="0" y="936625"/>
                </a:moveTo>
                <a:lnTo>
                  <a:pt x="0" y="304189"/>
                </a:lnTo>
                <a:cubicBezTo>
                  <a:pt x="0" y="205044"/>
                  <a:pt x="80372" y="124672"/>
                  <a:pt x="179517" y="124672"/>
                </a:cubicBezTo>
                <a:lnTo>
                  <a:pt x="403920" y="124672"/>
                </a:lnTo>
                <a:lnTo>
                  <a:pt x="403920" y="0"/>
                </a:lnTo>
                <a:lnTo>
                  <a:pt x="576263" y="162005"/>
                </a:lnTo>
                <a:lnTo>
                  <a:pt x="403920" y="324010"/>
                </a:lnTo>
                <a:lnTo>
                  <a:pt x="403920" y="199338"/>
                </a:lnTo>
                <a:lnTo>
                  <a:pt x="179517" y="199338"/>
                </a:lnTo>
                <a:cubicBezTo>
                  <a:pt x="121609" y="199338"/>
                  <a:pt x="74666" y="246281"/>
                  <a:pt x="74666" y="304189"/>
                </a:cubicBezTo>
                <a:lnTo>
                  <a:pt x="74666" y="936625"/>
                </a:lnTo>
                <a:lnTo>
                  <a:pt x="0" y="9366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Стрелка углом 7"/>
          <p:cNvSpPr/>
          <p:nvPr/>
        </p:nvSpPr>
        <p:spPr>
          <a:xfrm flipH="1">
            <a:off x="179280" y="2205000"/>
            <a:ext cx="936720" cy="792360"/>
          </a:xfrm>
          <a:custGeom>
            <a:avLst/>
            <a:gdLst/>
            <a:ahLst/>
            <a:rect l="l" t="t" r="r" b="b"/>
            <a:pathLst>
              <a:path w="936625" h="792162">
                <a:moveTo>
                  <a:pt x="0" y="792162"/>
                </a:moveTo>
                <a:lnTo>
                  <a:pt x="0" y="438117"/>
                </a:lnTo>
                <a:cubicBezTo>
                  <a:pt x="0" y="246711"/>
                  <a:pt x="155165" y="91546"/>
                  <a:pt x="346571" y="91546"/>
                </a:cubicBezTo>
                <a:lnTo>
                  <a:pt x="679759" y="91546"/>
                </a:lnTo>
                <a:lnTo>
                  <a:pt x="679759" y="0"/>
                </a:lnTo>
                <a:lnTo>
                  <a:pt x="936625" y="142866"/>
                </a:lnTo>
                <a:lnTo>
                  <a:pt x="679759" y="285733"/>
                </a:lnTo>
                <a:lnTo>
                  <a:pt x="679759" y="194187"/>
                </a:lnTo>
                <a:lnTo>
                  <a:pt x="346571" y="194187"/>
                </a:lnTo>
                <a:cubicBezTo>
                  <a:pt x="211852" y="194187"/>
                  <a:pt x="102641" y="303398"/>
                  <a:pt x="102641" y="438117"/>
                </a:cubicBezTo>
                <a:cubicBezTo>
                  <a:pt x="102641" y="556132"/>
                  <a:pt x="102640" y="674147"/>
                  <a:pt x="102640" y="792162"/>
                </a:cubicBezTo>
                <a:lnTo>
                  <a:pt x="0" y="792162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Стрелка углом 8"/>
          <p:cNvSpPr/>
          <p:nvPr/>
        </p:nvSpPr>
        <p:spPr>
          <a:xfrm flipH="1" rot="5400000">
            <a:off x="430200" y="3464640"/>
            <a:ext cx="576000" cy="936360"/>
          </a:xfrm>
          <a:custGeom>
            <a:avLst/>
            <a:gdLst/>
            <a:ahLst/>
            <a:rect l="l" t="t" r="r" b="b"/>
            <a:pathLst>
              <a:path w="576263" h="936625">
                <a:moveTo>
                  <a:pt x="0" y="936625"/>
                </a:moveTo>
                <a:lnTo>
                  <a:pt x="0" y="301290"/>
                </a:lnTo>
                <a:cubicBezTo>
                  <a:pt x="0" y="181296"/>
                  <a:pt x="97274" y="84022"/>
                  <a:pt x="217268" y="84022"/>
                </a:cubicBezTo>
                <a:lnTo>
                  <a:pt x="401016" y="84022"/>
                </a:lnTo>
                <a:lnTo>
                  <a:pt x="401016" y="0"/>
                </a:lnTo>
                <a:lnTo>
                  <a:pt x="576263" y="121355"/>
                </a:lnTo>
                <a:lnTo>
                  <a:pt x="401016" y="242710"/>
                </a:lnTo>
                <a:lnTo>
                  <a:pt x="401016" y="158688"/>
                </a:lnTo>
                <a:lnTo>
                  <a:pt x="217268" y="158688"/>
                </a:lnTo>
                <a:cubicBezTo>
                  <a:pt x="138511" y="158688"/>
                  <a:pt x="74666" y="222533"/>
                  <a:pt x="74666" y="301290"/>
                </a:cubicBezTo>
                <a:lnTo>
                  <a:pt x="74666" y="936625"/>
                </a:lnTo>
                <a:lnTo>
                  <a:pt x="0" y="9366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Стрелка углом 9"/>
          <p:cNvSpPr/>
          <p:nvPr/>
        </p:nvSpPr>
        <p:spPr>
          <a:xfrm flipH="1" rot="10800000">
            <a:off x="249840" y="4868640"/>
            <a:ext cx="936360" cy="863640"/>
          </a:xfrm>
          <a:custGeom>
            <a:avLst/>
            <a:gdLst/>
            <a:ahLst/>
            <a:rect l="l" t="t" r="r" b="b"/>
            <a:pathLst>
              <a:path w="936625" h="863600">
                <a:moveTo>
                  <a:pt x="0" y="863600"/>
                </a:moveTo>
                <a:lnTo>
                  <a:pt x="0" y="477627"/>
                </a:lnTo>
                <a:cubicBezTo>
                  <a:pt x="0" y="268960"/>
                  <a:pt x="169158" y="99802"/>
                  <a:pt x="377825" y="99802"/>
                </a:cubicBezTo>
                <a:lnTo>
                  <a:pt x="714611" y="99802"/>
                </a:lnTo>
                <a:lnTo>
                  <a:pt x="714611" y="0"/>
                </a:lnTo>
                <a:lnTo>
                  <a:pt x="936625" y="155750"/>
                </a:lnTo>
                <a:lnTo>
                  <a:pt x="714611" y="311501"/>
                </a:lnTo>
                <a:lnTo>
                  <a:pt x="714611" y="211699"/>
                </a:lnTo>
                <a:lnTo>
                  <a:pt x="377825" y="211699"/>
                </a:lnTo>
                <a:cubicBezTo>
                  <a:pt x="230957" y="211699"/>
                  <a:pt x="111897" y="330759"/>
                  <a:pt x="111897" y="477627"/>
                </a:cubicBezTo>
                <a:lnTo>
                  <a:pt x="111897" y="863600"/>
                </a:lnTo>
                <a:lnTo>
                  <a:pt x="0" y="8636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Двухсекторная модель экономики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денежные потоки                             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териальные потоки опосредуются денежными потоками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упая товары и услуги, домохозяйства за них платят, обеспечивая фирмам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ручку от продаж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venu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у выручку фирмы выплачивают домохозяйствам в вид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акторных доходов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com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, включающих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работную плату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ag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— за фактор труд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нту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n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— за фактор землю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нт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es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— за фактор капитал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быль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fi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— за фактор предпринимательские способности, в сумме составляющих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вокупный (национальный) дохо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ученные доходы домохозяйства тратят на покупку товаров и услуг (совокупного продукта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Стрелка вправо 4"/>
          <p:cNvSpPr/>
          <p:nvPr/>
        </p:nvSpPr>
        <p:spPr>
          <a:xfrm>
            <a:off x="5003640" y="765000"/>
            <a:ext cx="2089440" cy="287640"/>
          </a:xfrm>
          <a:prstGeom prst="rightArrow">
            <a:avLst>
              <a:gd name="adj1" fmla="val 50000"/>
              <a:gd name="adj2" fmla="val 127760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Стрелка углом 5"/>
          <p:cNvSpPr/>
          <p:nvPr/>
        </p:nvSpPr>
        <p:spPr>
          <a:xfrm>
            <a:off x="179280" y="5373720"/>
            <a:ext cx="936720" cy="792000"/>
          </a:xfrm>
          <a:custGeom>
            <a:avLst/>
            <a:gdLst/>
            <a:ahLst/>
            <a:rect l="l" t="t" r="r" b="b"/>
            <a:pathLst>
              <a:path w="936625" h="792162">
                <a:moveTo>
                  <a:pt x="0" y="792162"/>
                </a:moveTo>
                <a:lnTo>
                  <a:pt x="0" y="422908"/>
                </a:lnTo>
                <a:cubicBezTo>
                  <a:pt x="0" y="239902"/>
                  <a:pt x="148355" y="91547"/>
                  <a:pt x="331361" y="91547"/>
                </a:cubicBezTo>
                <a:lnTo>
                  <a:pt x="694271" y="91546"/>
                </a:lnTo>
                <a:lnTo>
                  <a:pt x="694271" y="0"/>
                </a:lnTo>
                <a:lnTo>
                  <a:pt x="936625" y="142866"/>
                </a:lnTo>
                <a:lnTo>
                  <a:pt x="694271" y="285733"/>
                </a:lnTo>
                <a:lnTo>
                  <a:pt x="694271" y="194187"/>
                </a:lnTo>
                <a:lnTo>
                  <a:pt x="331361" y="194187"/>
                </a:lnTo>
                <a:cubicBezTo>
                  <a:pt x="205042" y="194187"/>
                  <a:pt x="102640" y="296589"/>
                  <a:pt x="102640" y="422908"/>
                </a:cubicBezTo>
                <a:lnTo>
                  <a:pt x="102640" y="792162"/>
                </a:lnTo>
                <a:lnTo>
                  <a:pt x="0" y="792162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Стрелка углом 6"/>
          <p:cNvSpPr/>
          <p:nvPr/>
        </p:nvSpPr>
        <p:spPr>
          <a:xfrm rot="5400000">
            <a:off x="287280" y="1665360"/>
            <a:ext cx="792000" cy="1008000"/>
          </a:xfrm>
          <a:custGeom>
            <a:avLst/>
            <a:gdLst/>
            <a:ahLst/>
            <a:rect l="l" t="t" r="r" b="b"/>
            <a:pathLst>
              <a:path w="792162" h="1008062">
                <a:moveTo>
                  <a:pt x="0" y="1008062"/>
                </a:moveTo>
                <a:lnTo>
                  <a:pt x="0" y="438117"/>
                </a:lnTo>
                <a:cubicBezTo>
                  <a:pt x="0" y="246711"/>
                  <a:pt x="155165" y="91546"/>
                  <a:pt x="346571" y="91546"/>
                </a:cubicBezTo>
                <a:lnTo>
                  <a:pt x="622386" y="91546"/>
                </a:lnTo>
                <a:lnTo>
                  <a:pt x="622386" y="0"/>
                </a:lnTo>
                <a:lnTo>
                  <a:pt x="792162" y="142866"/>
                </a:lnTo>
                <a:lnTo>
                  <a:pt x="622386" y="285733"/>
                </a:lnTo>
                <a:lnTo>
                  <a:pt x="622386" y="194187"/>
                </a:lnTo>
                <a:lnTo>
                  <a:pt x="346571" y="194187"/>
                </a:lnTo>
                <a:cubicBezTo>
                  <a:pt x="211852" y="194187"/>
                  <a:pt x="102641" y="303398"/>
                  <a:pt x="102641" y="438117"/>
                </a:cubicBezTo>
                <a:cubicBezTo>
                  <a:pt x="102641" y="628099"/>
                  <a:pt x="102640" y="818080"/>
                  <a:pt x="102640" y="1008062"/>
                </a:cubicBezTo>
                <a:lnTo>
                  <a:pt x="0" y="1008062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Стрелка углом 7"/>
          <p:cNvSpPr/>
          <p:nvPr/>
        </p:nvSpPr>
        <p:spPr>
          <a:xfrm rot="10800000">
            <a:off x="178920" y="2781000"/>
            <a:ext cx="863640" cy="1152360"/>
          </a:xfrm>
          <a:custGeom>
            <a:avLst/>
            <a:gdLst/>
            <a:ahLst/>
            <a:rect l="l" t="t" r="r" b="b"/>
            <a:pathLst>
              <a:path w="863600" h="1152525">
                <a:moveTo>
                  <a:pt x="0" y="1152525"/>
                </a:moveTo>
                <a:lnTo>
                  <a:pt x="0" y="477627"/>
                </a:lnTo>
                <a:cubicBezTo>
                  <a:pt x="0" y="268960"/>
                  <a:pt x="169158" y="99802"/>
                  <a:pt x="377825" y="99802"/>
                </a:cubicBezTo>
                <a:lnTo>
                  <a:pt x="699611" y="99802"/>
                </a:lnTo>
                <a:lnTo>
                  <a:pt x="699611" y="0"/>
                </a:lnTo>
                <a:lnTo>
                  <a:pt x="863600" y="155750"/>
                </a:lnTo>
                <a:lnTo>
                  <a:pt x="699611" y="311501"/>
                </a:lnTo>
                <a:lnTo>
                  <a:pt x="699611" y="211699"/>
                </a:lnTo>
                <a:lnTo>
                  <a:pt x="377825" y="211699"/>
                </a:lnTo>
                <a:cubicBezTo>
                  <a:pt x="230957" y="211699"/>
                  <a:pt x="111897" y="330759"/>
                  <a:pt x="111897" y="477627"/>
                </a:cubicBezTo>
                <a:lnTo>
                  <a:pt x="111897" y="1152525"/>
                </a:lnTo>
                <a:lnTo>
                  <a:pt x="0" y="11525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Стрелка углом 8"/>
          <p:cNvSpPr/>
          <p:nvPr/>
        </p:nvSpPr>
        <p:spPr>
          <a:xfrm rot="16200000">
            <a:off x="108000" y="4076640"/>
            <a:ext cx="1079280" cy="936720"/>
          </a:xfrm>
          <a:custGeom>
            <a:avLst/>
            <a:gdLst/>
            <a:ahLst/>
            <a:rect l="l" t="t" r="r" b="b"/>
            <a:pathLst>
              <a:path w="1079500" h="936625">
                <a:moveTo>
                  <a:pt x="0" y="936625"/>
                </a:moveTo>
                <a:lnTo>
                  <a:pt x="0" y="518015"/>
                </a:lnTo>
                <a:cubicBezTo>
                  <a:pt x="0" y="291704"/>
                  <a:pt x="183462" y="108242"/>
                  <a:pt x="409773" y="108242"/>
                </a:cubicBezTo>
                <a:lnTo>
                  <a:pt x="877442" y="108241"/>
                </a:lnTo>
                <a:lnTo>
                  <a:pt x="877442" y="0"/>
                </a:lnTo>
                <a:lnTo>
                  <a:pt x="1079500" y="168920"/>
                </a:lnTo>
                <a:lnTo>
                  <a:pt x="877442" y="337841"/>
                </a:lnTo>
                <a:lnTo>
                  <a:pt x="877442" y="229600"/>
                </a:lnTo>
                <a:lnTo>
                  <a:pt x="409773" y="229600"/>
                </a:lnTo>
                <a:cubicBezTo>
                  <a:pt x="250486" y="229600"/>
                  <a:pt x="121358" y="358728"/>
                  <a:pt x="121358" y="518015"/>
                </a:cubicBezTo>
                <a:cubicBezTo>
                  <a:pt x="121358" y="657552"/>
                  <a:pt x="121359" y="797088"/>
                  <a:pt x="121359" y="936625"/>
                </a:cubicBezTo>
                <a:lnTo>
                  <a:pt x="0" y="9366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Движение потоков в модел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ходы и расходы движутся по кругу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ход каждого экономического агента расходуется, создавая доход другому экономическому агенту, служащий основой для его расходов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еличение расходов ведет к росту доходов, а рост доходов служит предпосылкой дальнейшему увеличению расходов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т почему модель получила название модели кругооборота (круговых потоков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атериальны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отоки движутся 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проти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асовой стрелки, а 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денежны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по 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часово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трелке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Спро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 товары и экономические ресурсы движется </a:t>
            </a: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по 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часово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трелке, а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редложе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проти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Выводы из двухсекторной модел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оимость каждого материального потока равна величине денежного поток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оимость совокупного продукта (объема выпуска) равна величине совокупного (национального) доход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вокупные расходы (совокупный спрос) равны совокупному выпуску (совокупному предложению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вокупный доход равен совокупным расходам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Необходимость финансового рынк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мохозяйства действуют рационально, поэтому тратят на покупку товаров и услуг не весь свой доход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асть дохода они сберегают, при этом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бережен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ving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должны приносить доход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ирмы же испытывают потребность в дополнительных средствах для обеспечения и расширения производства, т.е. в кредитных средствах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предопределяет необходимость появлени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финансового рынк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котором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бережения домохозяйств превращаются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вестиционные ресурсы фирм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Термин «макроэкономика» впервые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потребил в своей статье в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1933 г.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известный норвежский ученый — экономист-математик, один из основоположников эконометрики, лауреат Нобелевской премии (1969 г.)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гнар Фриш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(Ragnar Frisch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Кругооборот продукта, расходов и доходов в </a:t>
            </a:r>
            <a:r>
              <a:rPr b="1" lang="ru-RU" sz="2900" spc="-1" strike="noStrike">
                <a:solidFill>
                  <a:srgbClr val="04617b"/>
                </a:solidFill>
                <a:latin typeface="Cambria"/>
              </a:rPr>
              <a:t>двухсекторной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 модели экономики с </a:t>
            </a:r>
            <a:r>
              <a:rPr b="1" lang="ru-RU" sz="2900" spc="-1" strike="noStrike">
                <a:solidFill>
                  <a:srgbClr val="04617b"/>
                </a:solidFill>
                <a:latin typeface="Cambria"/>
              </a:rPr>
              <a:t>финансовым рынком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56" name="Picture 2" descr="C:\Users\х\Desktop\макро\тема 1\2 секторная пустая с финансовым.jpg"/>
          <p:cNvPicPr/>
          <p:nvPr/>
        </p:nvPicPr>
        <p:blipFill>
          <a:blip r:embed="rId1"/>
          <a:stretch/>
        </p:blipFill>
        <p:spPr>
          <a:xfrm>
            <a:off x="220680" y="1266840"/>
            <a:ext cx="8815320" cy="4610160"/>
          </a:xfrm>
          <a:prstGeom prst="rect">
            <a:avLst/>
          </a:prstGeom>
          <a:ln w="0">
            <a:noFill/>
          </a:ln>
        </p:spPr>
      </p:pic>
      <p:sp>
        <p:nvSpPr>
          <p:cNvPr id="557" name="Стрелка углом 5"/>
          <p:cNvSpPr/>
          <p:nvPr/>
        </p:nvSpPr>
        <p:spPr>
          <a:xfrm>
            <a:off x="395280" y="1484280"/>
            <a:ext cx="2448000" cy="2232000"/>
          </a:xfrm>
          <a:custGeom>
            <a:avLst/>
            <a:gdLst/>
            <a:ahLst/>
            <a:rect l="l" t="t" r="r" b="b"/>
            <a:pathLst>
              <a:path w="2447925" h="2232025">
                <a:moveTo>
                  <a:pt x="0" y="2232025"/>
                </a:moveTo>
                <a:lnTo>
                  <a:pt x="0" y="811977"/>
                </a:lnTo>
                <a:cubicBezTo>
                  <a:pt x="0" y="420578"/>
                  <a:pt x="317291" y="103287"/>
                  <a:pt x="708690" y="103287"/>
                </a:cubicBezTo>
                <a:lnTo>
                  <a:pt x="2145932" y="103287"/>
                </a:lnTo>
                <a:lnTo>
                  <a:pt x="2145932" y="0"/>
                </a:lnTo>
                <a:lnTo>
                  <a:pt x="2447925" y="198673"/>
                </a:lnTo>
                <a:lnTo>
                  <a:pt x="2145932" y="397345"/>
                </a:lnTo>
                <a:lnTo>
                  <a:pt x="2145932" y="294058"/>
                </a:lnTo>
                <a:lnTo>
                  <a:pt x="708690" y="294058"/>
                </a:lnTo>
                <a:cubicBezTo>
                  <a:pt x="422651" y="294058"/>
                  <a:pt x="190771" y="525938"/>
                  <a:pt x="190771" y="811977"/>
                </a:cubicBezTo>
                <a:lnTo>
                  <a:pt x="190771" y="2232025"/>
                </a:lnTo>
                <a:lnTo>
                  <a:pt x="0" y="22320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Стрелка углом 6"/>
          <p:cNvSpPr/>
          <p:nvPr/>
        </p:nvSpPr>
        <p:spPr>
          <a:xfrm rot="10800000">
            <a:off x="6227280" y="4220640"/>
            <a:ext cx="2521080" cy="1729080"/>
          </a:xfrm>
          <a:custGeom>
            <a:avLst/>
            <a:gdLst/>
            <a:ahLst/>
            <a:rect l="l" t="t" r="r" b="b"/>
            <a:pathLst>
              <a:path w="2520950" h="1728787">
                <a:moveTo>
                  <a:pt x="0" y="1728787"/>
                </a:moveTo>
                <a:lnTo>
                  <a:pt x="0" y="869009"/>
                </a:lnTo>
                <a:cubicBezTo>
                  <a:pt x="0" y="451292"/>
                  <a:pt x="338627" y="112665"/>
                  <a:pt x="756344" y="112665"/>
                </a:cubicBezTo>
                <a:lnTo>
                  <a:pt x="2250758" y="112665"/>
                </a:lnTo>
                <a:lnTo>
                  <a:pt x="2250758" y="0"/>
                </a:lnTo>
                <a:lnTo>
                  <a:pt x="2520950" y="188369"/>
                </a:lnTo>
                <a:lnTo>
                  <a:pt x="2250758" y="376737"/>
                </a:lnTo>
                <a:lnTo>
                  <a:pt x="2250758" y="264072"/>
                </a:lnTo>
                <a:lnTo>
                  <a:pt x="756344" y="264072"/>
                </a:lnTo>
                <a:cubicBezTo>
                  <a:pt x="422247" y="264072"/>
                  <a:pt x="151407" y="534912"/>
                  <a:pt x="151407" y="869009"/>
                </a:cubicBezTo>
                <a:lnTo>
                  <a:pt x="151407" y="1728787"/>
                </a:lnTo>
                <a:lnTo>
                  <a:pt x="0" y="17287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Стрелка углом 7"/>
          <p:cNvSpPr/>
          <p:nvPr/>
        </p:nvSpPr>
        <p:spPr>
          <a:xfrm rot="16200000">
            <a:off x="755280" y="3715920"/>
            <a:ext cx="1511640" cy="2520720"/>
          </a:xfrm>
          <a:custGeom>
            <a:avLst/>
            <a:gdLst/>
            <a:ahLst/>
            <a:rect l="l" t="t" r="r" b="b"/>
            <a:pathLst>
              <a:path w="1511300" h="2520950">
                <a:moveTo>
                  <a:pt x="0" y="2520950"/>
                </a:moveTo>
                <a:lnTo>
                  <a:pt x="0" y="756066"/>
                </a:lnTo>
                <a:cubicBezTo>
                  <a:pt x="0" y="390899"/>
                  <a:pt x="296027" y="94872"/>
                  <a:pt x="661194" y="94872"/>
                </a:cubicBezTo>
                <a:lnTo>
                  <a:pt x="1325863" y="94872"/>
                </a:lnTo>
                <a:lnTo>
                  <a:pt x="1325863" y="0"/>
                </a:lnTo>
                <a:lnTo>
                  <a:pt x="1511300" y="192781"/>
                </a:lnTo>
                <a:lnTo>
                  <a:pt x="1325863" y="385563"/>
                </a:lnTo>
                <a:lnTo>
                  <a:pt x="1325863" y="290691"/>
                </a:lnTo>
                <a:lnTo>
                  <a:pt x="661194" y="290691"/>
                </a:lnTo>
                <a:cubicBezTo>
                  <a:pt x="404174" y="290691"/>
                  <a:pt x="195819" y="499046"/>
                  <a:pt x="195819" y="756066"/>
                </a:cubicBezTo>
                <a:lnTo>
                  <a:pt x="195819" y="2520950"/>
                </a:lnTo>
                <a:lnTo>
                  <a:pt x="0" y="252095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Стрелка углом 8"/>
          <p:cNvSpPr/>
          <p:nvPr/>
        </p:nvSpPr>
        <p:spPr>
          <a:xfrm rot="5400000">
            <a:off x="6517080" y="1340280"/>
            <a:ext cx="2158920" cy="2592360"/>
          </a:xfrm>
          <a:custGeom>
            <a:avLst/>
            <a:gdLst/>
            <a:ahLst/>
            <a:rect l="l" t="t" r="r" b="b"/>
            <a:pathLst>
              <a:path w="2159000" h="2592387">
                <a:moveTo>
                  <a:pt x="0" y="2592387"/>
                </a:moveTo>
                <a:lnTo>
                  <a:pt x="0" y="1114281"/>
                </a:lnTo>
                <a:cubicBezTo>
                  <a:pt x="0" y="592613"/>
                  <a:pt x="422895" y="169718"/>
                  <a:pt x="944563" y="169718"/>
                </a:cubicBezTo>
                <a:lnTo>
                  <a:pt x="1894091" y="169719"/>
                </a:lnTo>
                <a:lnTo>
                  <a:pt x="1894091" y="0"/>
                </a:lnTo>
                <a:lnTo>
                  <a:pt x="2159000" y="244312"/>
                </a:lnTo>
                <a:lnTo>
                  <a:pt x="1894091" y="488625"/>
                </a:lnTo>
                <a:lnTo>
                  <a:pt x="1894091" y="318906"/>
                </a:lnTo>
                <a:lnTo>
                  <a:pt x="944563" y="318906"/>
                </a:lnTo>
                <a:cubicBezTo>
                  <a:pt x="505289" y="318906"/>
                  <a:pt x="149187" y="675008"/>
                  <a:pt x="149187" y="1114282"/>
                </a:cubicBezTo>
                <a:lnTo>
                  <a:pt x="149187" y="2592387"/>
                </a:lnTo>
                <a:lnTo>
                  <a:pt x="0" y="25923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Стрелка углом 9"/>
          <p:cNvSpPr/>
          <p:nvPr/>
        </p:nvSpPr>
        <p:spPr>
          <a:xfrm flipH="1">
            <a:off x="6300000" y="1916280"/>
            <a:ext cx="2016360" cy="1800000"/>
          </a:xfrm>
          <a:custGeom>
            <a:avLst/>
            <a:gdLst/>
            <a:ahLst/>
            <a:rect l="l" t="t" r="r" b="b"/>
            <a:pathLst>
              <a:path w="2016125" h="1800225">
                <a:moveTo>
                  <a:pt x="0" y="1800225"/>
                </a:moveTo>
                <a:lnTo>
                  <a:pt x="0" y="923074"/>
                </a:lnTo>
                <a:cubicBezTo>
                  <a:pt x="0" y="488096"/>
                  <a:pt x="352620" y="135476"/>
                  <a:pt x="787598" y="135476"/>
                </a:cubicBezTo>
                <a:lnTo>
                  <a:pt x="1795237" y="135476"/>
                </a:lnTo>
                <a:lnTo>
                  <a:pt x="1795237" y="0"/>
                </a:lnTo>
                <a:lnTo>
                  <a:pt x="2016125" y="194046"/>
                </a:lnTo>
                <a:lnTo>
                  <a:pt x="1795237" y="388093"/>
                </a:lnTo>
                <a:lnTo>
                  <a:pt x="1795237" y="252617"/>
                </a:lnTo>
                <a:lnTo>
                  <a:pt x="787598" y="252617"/>
                </a:lnTo>
                <a:cubicBezTo>
                  <a:pt x="417314" y="252617"/>
                  <a:pt x="117140" y="552791"/>
                  <a:pt x="117140" y="923075"/>
                </a:cubicBezTo>
                <a:cubicBezTo>
                  <a:pt x="117140" y="1215458"/>
                  <a:pt x="117141" y="1507842"/>
                  <a:pt x="117141" y="1800225"/>
                </a:cubicBezTo>
                <a:lnTo>
                  <a:pt x="0" y="18002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Стрелка углом 10"/>
          <p:cNvSpPr/>
          <p:nvPr/>
        </p:nvSpPr>
        <p:spPr>
          <a:xfrm flipH="1" rot="16200000">
            <a:off x="898920" y="1773000"/>
            <a:ext cx="1727280" cy="2158920"/>
          </a:xfrm>
          <a:custGeom>
            <a:avLst/>
            <a:gdLst/>
            <a:ahLst/>
            <a:rect l="l" t="t" r="r" b="b"/>
            <a:pathLst>
              <a:path w="1727200" h="2159000">
                <a:moveTo>
                  <a:pt x="0" y="2159000"/>
                </a:moveTo>
                <a:lnTo>
                  <a:pt x="0" y="841725"/>
                </a:lnTo>
                <a:cubicBezTo>
                  <a:pt x="0" y="424391"/>
                  <a:pt x="338316" y="86075"/>
                  <a:pt x="755650" y="86075"/>
                </a:cubicBezTo>
                <a:lnTo>
                  <a:pt x="1469864" y="86075"/>
                </a:lnTo>
                <a:lnTo>
                  <a:pt x="1469864" y="0"/>
                </a:lnTo>
                <a:lnTo>
                  <a:pt x="1727200" y="167694"/>
                </a:lnTo>
                <a:lnTo>
                  <a:pt x="1469864" y="335388"/>
                </a:lnTo>
                <a:lnTo>
                  <a:pt x="1469864" y="249313"/>
                </a:lnTo>
                <a:lnTo>
                  <a:pt x="755650" y="249313"/>
                </a:lnTo>
                <a:cubicBezTo>
                  <a:pt x="428470" y="249313"/>
                  <a:pt x="163238" y="514545"/>
                  <a:pt x="163238" y="841725"/>
                </a:cubicBezTo>
                <a:lnTo>
                  <a:pt x="163238" y="2159000"/>
                </a:lnTo>
                <a:lnTo>
                  <a:pt x="0" y="21590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Стрелка углом 11"/>
          <p:cNvSpPr/>
          <p:nvPr/>
        </p:nvSpPr>
        <p:spPr>
          <a:xfrm flipH="1" rot="10800000">
            <a:off x="684360" y="4221000"/>
            <a:ext cx="2087280" cy="1152720"/>
          </a:xfrm>
          <a:custGeom>
            <a:avLst/>
            <a:gdLst/>
            <a:ahLst/>
            <a:rect l="l" t="t" r="r" b="b"/>
            <a:pathLst>
              <a:path w="2087562" h="1152525">
                <a:moveTo>
                  <a:pt x="0" y="1152525"/>
                </a:moveTo>
                <a:lnTo>
                  <a:pt x="0" y="506748"/>
                </a:lnTo>
                <a:cubicBezTo>
                  <a:pt x="0" y="300439"/>
                  <a:pt x="167247" y="133192"/>
                  <a:pt x="373556" y="133192"/>
                </a:cubicBezTo>
                <a:lnTo>
                  <a:pt x="1946147" y="133192"/>
                </a:lnTo>
                <a:lnTo>
                  <a:pt x="1946147" y="0"/>
                </a:lnTo>
                <a:lnTo>
                  <a:pt x="2087562" y="207858"/>
                </a:lnTo>
                <a:lnTo>
                  <a:pt x="1946147" y="415716"/>
                </a:lnTo>
                <a:lnTo>
                  <a:pt x="1946147" y="282524"/>
                </a:lnTo>
                <a:lnTo>
                  <a:pt x="373556" y="282524"/>
                </a:lnTo>
                <a:cubicBezTo>
                  <a:pt x="249721" y="282524"/>
                  <a:pt x="149332" y="382913"/>
                  <a:pt x="149332" y="506748"/>
                </a:cubicBezTo>
                <a:cubicBezTo>
                  <a:pt x="149332" y="722007"/>
                  <a:pt x="149333" y="937266"/>
                  <a:pt x="149333" y="1152525"/>
                </a:cubicBezTo>
                <a:lnTo>
                  <a:pt x="0" y="11525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Стрелка углом 12"/>
          <p:cNvSpPr/>
          <p:nvPr/>
        </p:nvSpPr>
        <p:spPr>
          <a:xfrm flipH="1" rot="5400000">
            <a:off x="6839640" y="3681000"/>
            <a:ext cx="1079640" cy="2158920"/>
          </a:xfrm>
          <a:custGeom>
            <a:avLst/>
            <a:gdLst/>
            <a:ahLst/>
            <a:rect l="l" t="t" r="r" b="b"/>
            <a:pathLst>
              <a:path w="1079500" h="2159000">
                <a:moveTo>
                  <a:pt x="0" y="2159000"/>
                </a:moveTo>
                <a:lnTo>
                  <a:pt x="0" y="564400"/>
                </a:lnTo>
                <a:cubicBezTo>
                  <a:pt x="0" y="339618"/>
                  <a:pt x="182222" y="157396"/>
                  <a:pt x="407004" y="157396"/>
                </a:cubicBezTo>
                <a:lnTo>
                  <a:pt x="947045" y="157396"/>
                </a:lnTo>
                <a:lnTo>
                  <a:pt x="947045" y="0"/>
                </a:lnTo>
                <a:lnTo>
                  <a:pt x="1079500" y="227332"/>
                </a:lnTo>
                <a:lnTo>
                  <a:pt x="947045" y="454664"/>
                </a:lnTo>
                <a:lnTo>
                  <a:pt x="947045" y="297267"/>
                </a:lnTo>
                <a:lnTo>
                  <a:pt x="407004" y="297267"/>
                </a:lnTo>
                <a:cubicBezTo>
                  <a:pt x="259471" y="297267"/>
                  <a:pt x="139871" y="416867"/>
                  <a:pt x="139871" y="564400"/>
                </a:cubicBezTo>
                <a:lnTo>
                  <a:pt x="139871" y="2159000"/>
                </a:lnTo>
                <a:lnTo>
                  <a:pt x="0" y="21590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Стрелка вправо 13"/>
          <p:cNvSpPr/>
          <p:nvPr/>
        </p:nvSpPr>
        <p:spPr>
          <a:xfrm>
            <a:off x="2050920" y="3860640"/>
            <a:ext cx="1441440" cy="2160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Стрелка вправо 14"/>
          <p:cNvSpPr/>
          <p:nvPr/>
        </p:nvSpPr>
        <p:spPr>
          <a:xfrm>
            <a:off x="5651640" y="3860640"/>
            <a:ext cx="1441440" cy="2160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Стрелка углом вверх 20"/>
          <p:cNvSpPr/>
          <p:nvPr/>
        </p:nvSpPr>
        <p:spPr>
          <a:xfrm flipH="1" rot="10800000">
            <a:off x="4715280" y="2636640"/>
            <a:ext cx="3311640" cy="1091880"/>
          </a:xfrm>
          <a:custGeom>
            <a:avLst/>
            <a:gdLst/>
            <a:ahLst/>
            <a:rect l="l" t="t" r="r" b="b"/>
            <a:pathLst>
              <a:path w="3311525" h="1092200">
                <a:moveTo>
                  <a:pt x="0" y="936562"/>
                </a:moveTo>
                <a:lnTo>
                  <a:pt x="3085407" y="936562"/>
                </a:lnTo>
                <a:lnTo>
                  <a:pt x="3085407" y="170623"/>
                </a:lnTo>
                <a:lnTo>
                  <a:pt x="3014927" y="170623"/>
                </a:lnTo>
                <a:lnTo>
                  <a:pt x="3163226" y="0"/>
                </a:lnTo>
                <a:lnTo>
                  <a:pt x="3311525" y="170623"/>
                </a:lnTo>
                <a:lnTo>
                  <a:pt x="3241045" y="170623"/>
                </a:lnTo>
                <a:lnTo>
                  <a:pt x="3241045" y="1092200"/>
                </a:lnTo>
                <a:lnTo>
                  <a:pt x="0" y="1092200"/>
                </a:lnTo>
                <a:lnTo>
                  <a:pt x="0" y="936562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Минус 21"/>
          <p:cNvSpPr/>
          <p:nvPr/>
        </p:nvSpPr>
        <p:spPr>
          <a:xfrm rot="5400000">
            <a:off x="4428360" y="2132640"/>
            <a:ext cx="718920" cy="720720"/>
          </a:xfrm>
          <a:custGeom>
            <a:avLst/>
            <a:gdLst/>
            <a:ahLst/>
            <a:rect l="l" t="t" r="r" b="b"/>
            <a:pathLst>
              <a:path w="719138" h="720725">
                <a:moveTo>
                  <a:pt x="95322" y="275605"/>
                </a:moveTo>
                <a:lnTo>
                  <a:pt x="623816" y="275605"/>
                </a:lnTo>
                <a:lnTo>
                  <a:pt x="623816" y="445120"/>
                </a:lnTo>
                <a:lnTo>
                  <a:pt x="95322" y="445120"/>
                </a:lnTo>
                <a:lnTo>
                  <a:pt x="95322" y="27560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Стрелка углом вверх 24"/>
          <p:cNvSpPr/>
          <p:nvPr/>
        </p:nvSpPr>
        <p:spPr>
          <a:xfrm flipH="1">
            <a:off x="3923640" y="2276640"/>
            <a:ext cx="3600360" cy="1008000"/>
          </a:xfrm>
          <a:custGeom>
            <a:avLst/>
            <a:gdLst/>
            <a:ahLst/>
            <a:rect l="l" t="t" r="r" b="b"/>
            <a:pathLst>
              <a:path w="3600450" h="1008063">
                <a:moveTo>
                  <a:pt x="0" y="850866"/>
                </a:moveTo>
                <a:lnTo>
                  <a:pt x="3303696" y="850866"/>
                </a:lnTo>
                <a:lnTo>
                  <a:pt x="3303696" y="197832"/>
                </a:lnTo>
                <a:lnTo>
                  <a:pt x="3164140" y="197832"/>
                </a:lnTo>
                <a:lnTo>
                  <a:pt x="3382295" y="0"/>
                </a:lnTo>
                <a:lnTo>
                  <a:pt x="3600450" y="197832"/>
                </a:lnTo>
                <a:lnTo>
                  <a:pt x="3460894" y="197832"/>
                </a:lnTo>
                <a:lnTo>
                  <a:pt x="3460894" y="1008063"/>
                </a:lnTo>
                <a:lnTo>
                  <a:pt x="0" y="1008063"/>
                </a:lnTo>
                <a:lnTo>
                  <a:pt x="0" y="850866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Минус 29"/>
          <p:cNvSpPr/>
          <p:nvPr/>
        </p:nvSpPr>
        <p:spPr>
          <a:xfrm rot="5400000">
            <a:off x="7091640" y="3069360"/>
            <a:ext cx="720720" cy="718920"/>
          </a:xfrm>
          <a:custGeom>
            <a:avLst/>
            <a:gdLst/>
            <a:ahLst/>
            <a:rect l="l" t="t" r="r" b="b"/>
            <a:pathLst>
              <a:path w="720725" h="719138">
                <a:moveTo>
                  <a:pt x="95532" y="274998"/>
                </a:moveTo>
                <a:lnTo>
                  <a:pt x="625193" y="274998"/>
                </a:lnTo>
                <a:lnTo>
                  <a:pt x="625193" y="444140"/>
                </a:lnTo>
                <a:lnTo>
                  <a:pt x="95532" y="444140"/>
                </a:lnTo>
                <a:lnTo>
                  <a:pt x="95532" y="274998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Два способа превращения сбережений домохозяйств в инвестиционные ресурсы фирм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посредованный (косвенный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 домохозяйства предоставляют свои сбережения финансовым посредникам (прежде всего банкам), у которых фирмы берут кредиты (связь опосредованно через денежный рынок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ямой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 домохозяйства тратят свои сбережения на покупку ценных бумаг, выпускаемых фирмами, напрямую обеспечивая их инвестиционными ресурсами (связь напрямую через рынок ценных бумаг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ученные на финансовом рынке средства фирмы тратят на покупку инвестиционных товаров (оборудования и пр.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4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тождеств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ходы домохозяйств на покупку товаров и услуг — потребительские расходы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sumption spending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С)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полняются инвестиционными расходами фирм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vestment spending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венство совокупного дохода совокупному продукту сохраняется, поэтому в макроэкономике совокупный (национальный) доход и совокупный продукт (выпуск) обозначают одной буквой 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ield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еличина совокупного продукта тождественно равна сумме совокупных расходов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penditures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Е)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Object 3"/>
              <p:cNvSpPr txBox="1"/>
              <p:nvPr/>
            </p:nvSpPr>
            <p:spPr>
              <a:xfrm>
                <a:off x="3348000" y="5516640"/>
                <a:ext cx="13734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≡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тождеств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вокупные расход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двухсекторной модели экономики состоят из потребительских расходов домохозяйств (С) и инвестиционных расходов фирм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вокупный дохо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остоит из потребления (С) и сбережений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кольку совокупные расходы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ждественно равны совокупному доходу 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едовательно, инвестиции тождественно равны сбережениям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Object 3"/>
              <p:cNvSpPr txBox="1"/>
              <p:nvPr/>
            </p:nvSpPr>
            <p:spPr>
              <a:xfrm>
                <a:off x="3203640" y="4508640"/>
                <a:ext cx="23763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≡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Object 6"/>
              <p:cNvSpPr txBox="1"/>
              <p:nvPr/>
            </p:nvSpPr>
            <p:spPr>
              <a:xfrm>
                <a:off x="3965400" y="5589720"/>
                <a:ext cx="11559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≡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Инъекции и изъятия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ставляют собой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ъекци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jection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в экономику, 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бережен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зъят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eakages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утечки) из экономик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ъекци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все, чт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увеличивает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ток расходов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и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ледовательно,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оходов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за исключением потребительских расходов, которые не относятся ни к инъекциям, ни к изъятия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зъят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это все, чт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окращает поток расходов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и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ледовательно,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оходов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Инвестиции и сбережения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ост инвестиций увеличивает совокупные расходы (совокупный спрос), обеспечивает дополнительные доходы производителям, служит стимулом для увеличения совокупного продукта (выпуска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ост сбережений сокращает совокупные расходы и может привести к сокращению производств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равновесной экономик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ъекции тождественно равны изъятиям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Кругооборот продукта, расходов и доходов в </a:t>
            </a:r>
            <a:r>
              <a:rPr b="1" lang="ru-RU" sz="2900" spc="-1" strike="noStrike">
                <a:solidFill>
                  <a:srgbClr val="04617b"/>
                </a:solidFill>
                <a:latin typeface="Cambria"/>
              </a:rPr>
              <a:t>трехсекторной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 модели экономик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442880"/>
            <a:ext cx="8229600" cy="54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ставлены в основном денежные потоки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2" name="Picture 2" descr="C:\Users\х\Desktop\макро\тема 1\3 секторная.jpg"/>
          <p:cNvPicPr/>
          <p:nvPr/>
        </p:nvPicPr>
        <p:blipFill>
          <a:blip r:embed="rId1"/>
          <a:stretch/>
        </p:blipFill>
        <p:spPr>
          <a:xfrm>
            <a:off x="179280" y="1074600"/>
            <a:ext cx="8748720" cy="5018400"/>
          </a:xfrm>
          <a:prstGeom prst="rect">
            <a:avLst/>
          </a:prstGeom>
          <a:ln w="0">
            <a:noFill/>
          </a:ln>
        </p:spPr>
      </p:pic>
      <p:sp>
        <p:nvSpPr>
          <p:cNvPr id="593" name="Стрелка углом 5"/>
          <p:cNvSpPr/>
          <p:nvPr/>
        </p:nvSpPr>
        <p:spPr>
          <a:xfrm>
            <a:off x="395280" y="1197000"/>
            <a:ext cx="2448000" cy="2232000"/>
          </a:xfrm>
          <a:custGeom>
            <a:avLst/>
            <a:gdLst/>
            <a:ahLst/>
            <a:rect l="l" t="t" r="r" b="b"/>
            <a:pathLst>
              <a:path w="2447925" h="2232025">
                <a:moveTo>
                  <a:pt x="0" y="2232025"/>
                </a:moveTo>
                <a:lnTo>
                  <a:pt x="0" y="811977"/>
                </a:lnTo>
                <a:cubicBezTo>
                  <a:pt x="0" y="420578"/>
                  <a:pt x="317291" y="103287"/>
                  <a:pt x="708690" y="103287"/>
                </a:cubicBezTo>
                <a:lnTo>
                  <a:pt x="2145932" y="103287"/>
                </a:lnTo>
                <a:lnTo>
                  <a:pt x="2145932" y="0"/>
                </a:lnTo>
                <a:lnTo>
                  <a:pt x="2447925" y="198673"/>
                </a:lnTo>
                <a:lnTo>
                  <a:pt x="2145932" y="397345"/>
                </a:lnTo>
                <a:lnTo>
                  <a:pt x="2145932" y="294058"/>
                </a:lnTo>
                <a:lnTo>
                  <a:pt x="708690" y="294058"/>
                </a:lnTo>
                <a:cubicBezTo>
                  <a:pt x="422651" y="294058"/>
                  <a:pt x="190771" y="525938"/>
                  <a:pt x="190771" y="811977"/>
                </a:cubicBezTo>
                <a:lnTo>
                  <a:pt x="190771" y="2232025"/>
                </a:lnTo>
                <a:lnTo>
                  <a:pt x="0" y="22320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Стрелка углом 6"/>
          <p:cNvSpPr/>
          <p:nvPr/>
        </p:nvSpPr>
        <p:spPr>
          <a:xfrm rot="10800000">
            <a:off x="6084360" y="3933720"/>
            <a:ext cx="2519640" cy="2159280"/>
          </a:xfrm>
          <a:custGeom>
            <a:avLst/>
            <a:gdLst/>
            <a:ahLst/>
            <a:rect l="l" t="t" r="r" b="b"/>
            <a:pathLst>
              <a:path w="2519362" h="2159000">
                <a:moveTo>
                  <a:pt x="0" y="2159000"/>
                </a:moveTo>
                <a:lnTo>
                  <a:pt x="0" y="1012744"/>
                </a:lnTo>
                <a:cubicBezTo>
                  <a:pt x="0" y="491076"/>
                  <a:pt x="422895" y="68181"/>
                  <a:pt x="944563" y="68181"/>
                </a:cubicBezTo>
                <a:lnTo>
                  <a:pt x="2181932" y="68181"/>
                </a:lnTo>
                <a:lnTo>
                  <a:pt x="2181932" y="0"/>
                </a:lnTo>
                <a:lnTo>
                  <a:pt x="2519362" y="162724"/>
                </a:lnTo>
                <a:lnTo>
                  <a:pt x="2181932" y="325448"/>
                </a:lnTo>
                <a:lnTo>
                  <a:pt x="2181932" y="257266"/>
                </a:lnTo>
                <a:lnTo>
                  <a:pt x="944563" y="257266"/>
                </a:lnTo>
                <a:cubicBezTo>
                  <a:pt x="527325" y="257266"/>
                  <a:pt x="189086" y="595505"/>
                  <a:pt x="189086" y="1012743"/>
                </a:cubicBezTo>
                <a:cubicBezTo>
                  <a:pt x="189086" y="1394829"/>
                  <a:pt x="189085" y="1776914"/>
                  <a:pt x="189085" y="2159000"/>
                </a:cubicBezTo>
                <a:lnTo>
                  <a:pt x="0" y="21590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Стрелка углом 7"/>
          <p:cNvSpPr/>
          <p:nvPr/>
        </p:nvSpPr>
        <p:spPr>
          <a:xfrm rot="16200000">
            <a:off x="503640" y="3609000"/>
            <a:ext cx="1943280" cy="2592360"/>
          </a:xfrm>
          <a:custGeom>
            <a:avLst/>
            <a:gdLst/>
            <a:ahLst/>
            <a:rect l="l" t="t" r="r" b="b"/>
            <a:pathLst>
              <a:path w="1943100" h="2592387">
                <a:moveTo>
                  <a:pt x="0" y="2592387"/>
                </a:moveTo>
                <a:lnTo>
                  <a:pt x="0" y="1026103"/>
                </a:lnTo>
                <a:cubicBezTo>
                  <a:pt x="0" y="556602"/>
                  <a:pt x="380605" y="175997"/>
                  <a:pt x="850106" y="175997"/>
                </a:cubicBezTo>
                <a:lnTo>
                  <a:pt x="1704682" y="175996"/>
                </a:lnTo>
                <a:lnTo>
                  <a:pt x="1704682" y="0"/>
                </a:lnTo>
                <a:lnTo>
                  <a:pt x="1943100" y="247862"/>
                </a:lnTo>
                <a:lnTo>
                  <a:pt x="1704682" y="495724"/>
                </a:lnTo>
                <a:lnTo>
                  <a:pt x="1704682" y="319727"/>
                </a:lnTo>
                <a:lnTo>
                  <a:pt x="850106" y="319727"/>
                </a:lnTo>
                <a:cubicBezTo>
                  <a:pt x="459986" y="319727"/>
                  <a:pt x="143731" y="635982"/>
                  <a:pt x="143731" y="1026102"/>
                </a:cubicBezTo>
                <a:lnTo>
                  <a:pt x="143731" y="2592387"/>
                </a:lnTo>
                <a:lnTo>
                  <a:pt x="0" y="25923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Стрелка углом 8"/>
          <p:cNvSpPr/>
          <p:nvPr/>
        </p:nvSpPr>
        <p:spPr>
          <a:xfrm rot="5400000">
            <a:off x="6335640" y="1088640"/>
            <a:ext cx="2160720" cy="2519280"/>
          </a:xfrm>
          <a:custGeom>
            <a:avLst/>
            <a:gdLst/>
            <a:ahLst/>
            <a:rect l="l" t="t" r="r" b="b"/>
            <a:pathLst>
              <a:path w="2160587" h="2519363">
                <a:moveTo>
                  <a:pt x="0" y="2519363"/>
                </a:moveTo>
                <a:lnTo>
                  <a:pt x="0" y="1049786"/>
                </a:lnTo>
                <a:cubicBezTo>
                  <a:pt x="0" y="527735"/>
                  <a:pt x="423206" y="104529"/>
                  <a:pt x="945257" y="104529"/>
                </a:cubicBezTo>
                <a:lnTo>
                  <a:pt x="1939040" y="104529"/>
                </a:lnTo>
                <a:lnTo>
                  <a:pt x="1939040" y="0"/>
                </a:lnTo>
                <a:lnTo>
                  <a:pt x="2160587" y="179177"/>
                </a:lnTo>
                <a:lnTo>
                  <a:pt x="1939040" y="358355"/>
                </a:lnTo>
                <a:lnTo>
                  <a:pt x="1939040" y="253826"/>
                </a:lnTo>
                <a:lnTo>
                  <a:pt x="945257" y="253826"/>
                </a:lnTo>
                <a:cubicBezTo>
                  <a:pt x="505660" y="253826"/>
                  <a:pt x="149297" y="610189"/>
                  <a:pt x="149297" y="1049786"/>
                </a:cubicBezTo>
                <a:lnTo>
                  <a:pt x="149297" y="2519363"/>
                </a:lnTo>
                <a:lnTo>
                  <a:pt x="0" y="2519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Стрелка углом 9"/>
          <p:cNvSpPr/>
          <p:nvPr/>
        </p:nvSpPr>
        <p:spPr>
          <a:xfrm flipH="1">
            <a:off x="6156360" y="1628640"/>
            <a:ext cx="2016000" cy="1800360"/>
          </a:xfrm>
          <a:custGeom>
            <a:avLst/>
            <a:gdLst/>
            <a:ahLst/>
            <a:rect l="l" t="t" r="r" b="b"/>
            <a:pathLst>
              <a:path w="2016125" h="1800225">
                <a:moveTo>
                  <a:pt x="0" y="1800225"/>
                </a:moveTo>
                <a:lnTo>
                  <a:pt x="0" y="923074"/>
                </a:lnTo>
                <a:cubicBezTo>
                  <a:pt x="0" y="488096"/>
                  <a:pt x="352620" y="135476"/>
                  <a:pt x="787598" y="135476"/>
                </a:cubicBezTo>
                <a:lnTo>
                  <a:pt x="1795237" y="135476"/>
                </a:lnTo>
                <a:lnTo>
                  <a:pt x="1795237" y="0"/>
                </a:lnTo>
                <a:lnTo>
                  <a:pt x="2016125" y="194046"/>
                </a:lnTo>
                <a:lnTo>
                  <a:pt x="1795237" y="388093"/>
                </a:lnTo>
                <a:lnTo>
                  <a:pt x="1795237" y="252617"/>
                </a:lnTo>
                <a:lnTo>
                  <a:pt x="787598" y="252617"/>
                </a:lnTo>
                <a:cubicBezTo>
                  <a:pt x="417314" y="252617"/>
                  <a:pt x="117140" y="552791"/>
                  <a:pt x="117140" y="923075"/>
                </a:cubicBezTo>
                <a:cubicBezTo>
                  <a:pt x="117140" y="1215458"/>
                  <a:pt x="117141" y="1507842"/>
                  <a:pt x="117141" y="1800225"/>
                </a:cubicBezTo>
                <a:lnTo>
                  <a:pt x="0" y="18002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Стрелка углом 10"/>
          <p:cNvSpPr/>
          <p:nvPr/>
        </p:nvSpPr>
        <p:spPr>
          <a:xfrm flipH="1" rot="16200000">
            <a:off x="934920" y="1521720"/>
            <a:ext cx="1655640" cy="2158920"/>
          </a:xfrm>
          <a:custGeom>
            <a:avLst/>
            <a:gdLst/>
            <a:ahLst/>
            <a:rect l="l" t="t" r="r" b="b"/>
            <a:pathLst>
              <a:path w="1655762" h="2159000">
                <a:moveTo>
                  <a:pt x="0" y="2159000"/>
                </a:moveTo>
                <a:lnTo>
                  <a:pt x="0" y="806911"/>
                </a:lnTo>
                <a:cubicBezTo>
                  <a:pt x="0" y="406838"/>
                  <a:pt x="324323" y="82515"/>
                  <a:pt x="724396" y="82515"/>
                </a:cubicBezTo>
                <a:lnTo>
                  <a:pt x="1409070" y="82515"/>
                </a:lnTo>
                <a:lnTo>
                  <a:pt x="1409070" y="0"/>
                </a:lnTo>
                <a:lnTo>
                  <a:pt x="1655762" y="160758"/>
                </a:lnTo>
                <a:lnTo>
                  <a:pt x="1409070" y="321516"/>
                </a:lnTo>
                <a:lnTo>
                  <a:pt x="1409070" y="239001"/>
                </a:lnTo>
                <a:lnTo>
                  <a:pt x="724396" y="239001"/>
                </a:lnTo>
                <a:cubicBezTo>
                  <a:pt x="410748" y="239001"/>
                  <a:pt x="156486" y="493263"/>
                  <a:pt x="156486" y="806911"/>
                </a:cubicBezTo>
                <a:lnTo>
                  <a:pt x="156486" y="2159000"/>
                </a:lnTo>
                <a:lnTo>
                  <a:pt x="0" y="21590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Стрелка углом 11"/>
          <p:cNvSpPr/>
          <p:nvPr/>
        </p:nvSpPr>
        <p:spPr>
          <a:xfrm flipH="1" rot="10800000">
            <a:off x="684360" y="3933720"/>
            <a:ext cx="2087280" cy="1656000"/>
          </a:xfrm>
          <a:custGeom>
            <a:avLst/>
            <a:gdLst/>
            <a:ahLst/>
            <a:rect l="l" t="t" r="r" b="b"/>
            <a:pathLst>
              <a:path w="2087562" h="1655763">
                <a:moveTo>
                  <a:pt x="0" y="1655763"/>
                </a:moveTo>
                <a:lnTo>
                  <a:pt x="0" y="470750"/>
                </a:lnTo>
                <a:cubicBezTo>
                  <a:pt x="0" y="289560"/>
                  <a:pt x="146883" y="142677"/>
                  <a:pt x="328073" y="142677"/>
                </a:cubicBezTo>
                <a:lnTo>
                  <a:pt x="1884400" y="142677"/>
                </a:lnTo>
                <a:lnTo>
                  <a:pt x="1884400" y="0"/>
                </a:lnTo>
                <a:lnTo>
                  <a:pt x="2087562" y="222137"/>
                </a:lnTo>
                <a:lnTo>
                  <a:pt x="1884400" y="444274"/>
                </a:lnTo>
                <a:lnTo>
                  <a:pt x="1884400" y="301597"/>
                </a:lnTo>
                <a:lnTo>
                  <a:pt x="328073" y="301597"/>
                </a:lnTo>
                <a:cubicBezTo>
                  <a:pt x="234652" y="301597"/>
                  <a:pt x="158920" y="377329"/>
                  <a:pt x="158920" y="470750"/>
                </a:cubicBezTo>
                <a:lnTo>
                  <a:pt x="158920" y="1655763"/>
                </a:lnTo>
                <a:lnTo>
                  <a:pt x="0" y="1655763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Стрелка углом 12"/>
          <p:cNvSpPr/>
          <p:nvPr/>
        </p:nvSpPr>
        <p:spPr>
          <a:xfrm flipH="1" rot="5400000">
            <a:off x="6516720" y="3573360"/>
            <a:ext cx="1440000" cy="2160720"/>
          </a:xfrm>
          <a:custGeom>
            <a:avLst/>
            <a:gdLst/>
            <a:ahLst/>
            <a:rect l="l" t="t" r="r" b="b"/>
            <a:pathLst>
              <a:path w="1439863" h="2160588">
                <a:moveTo>
                  <a:pt x="0" y="2160588"/>
                </a:moveTo>
                <a:lnTo>
                  <a:pt x="0" y="626621"/>
                </a:lnTo>
                <a:cubicBezTo>
                  <a:pt x="0" y="326801"/>
                  <a:pt x="243052" y="83749"/>
                  <a:pt x="542872" y="83749"/>
                </a:cubicBezTo>
                <a:lnTo>
                  <a:pt x="1288433" y="83750"/>
                </a:lnTo>
                <a:lnTo>
                  <a:pt x="1288433" y="0"/>
                </a:lnTo>
                <a:lnTo>
                  <a:pt x="1439863" y="139177"/>
                </a:lnTo>
                <a:lnTo>
                  <a:pt x="1288433" y="278354"/>
                </a:lnTo>
                <a:lnTo>
                  <a:pt x="1288433" y="194605"/>
                </a:lnTo>
                <a:lnTo>
                  <a:pt x="542872" y="194605"/>
                </a:lnTo>
                <a:cubicBezTo>
                  <a:pt x="304276" y="194605"/>
                  <a:pt x="110856" y="388025"/>
                  <a:pt x="110856" y="626621"/>
                </a:cubicBezTo>
                <a:cubicBezTo>
                  <a:pt x="110856" y="1137943"/>
                  <a:pt x="110855" y="1649266"/>
                  <a:pt x="110855" y="2160588"/>
                </a:cubicBezTo>
                <a:lnTo>
                  <a:pt x="0" y="2160588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Стрелка углом 15"/>
          <p:cNvSpPr/>
          <p:nvPr/>
        </p:nvSpPr>
        <p:spPr>
          <a:xfrm>
            <a:off x="1258920" y="2781360"/>
            <a:ext cx="2089080" cy="647640"/>
          </a:xfrm>
          <a:custGeom>
            <a:avLst/>
            <a:gdLst/>
            <a:ahLst/>
            <a:rect l="l" t="t" r="r" b="b"/>
            <a:pathLst>
              <a:path w="2089150" h="647700">
                <a:moveTo>
                  <a:pt x="0" y="647700"/>
                </a:moveTo>
                <a:lnTo>
                  <a:pt x="0" y="429464"/>
                </a:lnTo>
                <a:cubicBezTo>
                  <a:pt x="0" y="243781"/>
                  <a:pt x="150525" y="93256"/>
                  <a:pt x="336208" y="93256"/>
                </a:cubicBezTo>
                <a:lnTo>
                  <a:pt x="1796357" y="93256"/>
                </a:lnTo>
                <a:lnTo>
                  <a:pt x="1796357" y="0"/>
                </a:lnTo>
                <a:lnTo>
                  <a:pt x="2089150" y="150908"/>
                </a:lnTo>
                <a:lnTo>
                  <a:pt x="1796357" y="301815"/>
                </a:lnTo>
                <a:lnTo>
                  <a:pt x="1796357" y="208559"/>
                </a:lnTo>
                <a:lnTo>
                  <a:pt x="336208" y="208559"/>
                </a:lnTo>
                <a:cubicBezTo>
                  <a:pt x="214206" y="208559"/>
                  <a:pt x="115303" y="307462"/>
                  <a:pt x="115303" y="429464"/>
                </a:cubicBezTo>
                <a:cubicBezTo>
                  <a:pt x="115303" y="502209"/>
                  <a:pt x="115304" y="574955"/>
                  <a:pt x="115304" y="647700"/>
                </a:cubicBezTo>
                <a:lnTo>
                  <a:pt x="0" y="6477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Стрелка углом 16"/>
          <p:cNvSpPr/>
          <p:nvPr/>
        </p:nvSpPr>
        <p:spPr>
          <a:xfrm flipH="1">
            <a:off x="5508000" y="2781360"/>
            <a:ext cx="1871640" cy="647640"/>
          </a:xfrm>
          <a:custGeom>
            <a:avLst/>
            <a:gdLst/>
            <a:ahLst/>
            <a:rect l="l" t="t" r="r" b="b"/>
            <a:pathLst>
              <a:path w="1871663" h="647700">
                <a:moveTo>
                  <a:pt x="0" y="647700"/>
                </a:moveTo>
                <a:lnTo>
                  <a:pt x="0" y="429464"/>
                </a:lnTo>
                <a:cubicBezTo>
                  <a:pt x="0" y="243781"/>
                  <a:pt x="150525" y="93256"/>
                  <a:pt x="336208" y="93256"/>
                </a:cubicBezTo>
                <a:lnTo>
                  <a:pt x="1578870" y="93256"/>
                </a:lnTo>
                <a:lnTo>
                  <a:pt x="1578870" y="0"/>
                </a:lnTo>
                <a:lnTo>
                  <a:pt x="1871663" y="150908"/>
                </a:lnTo>
                <a:lnTo>
                  <a:pt x="1578870" y="301815"/>
                </a:lnTo>
                <a:lnTo>
                  <a:pt x="1578870" y="208559"/>
                </a:lnTo>
                <a:lnTo>
                  <a:pt x="336208" y="208559"/>
                </a:lnTo>
                <a:cubicBezTo>
                  <a:pt x="214206" y="208559"/>
                  <a:pt x="115303" y="307462"/>
                  <a:pt x="115303" y="429464"/>
                </a:cubicBezTo>
                <a:cubicBezTo>
                  <a:pt x="115303" y="502209"/>
                  <a:pt x="115304" y="574955"/>
                  <a:pt x="115304" y="647700"/>
                </a:cubicBezTo>
                <a:lnTo>
                  <a:pt x="0" y="6477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Стрелка углом 17"/>
          <p:cNvSpPr/>
          <p:nvPr/>
        </p:nvSpPr>
        <p:spPr>
          <a:xfrm flipH="1" rot="10800000">
            <a:off x="1258920" y="3933360"/>
            <a:ext cx="2160720" cy="647640"/>
          </a:xfrm>
          <a:custGeom>
            <a:avLst/>
            <a:gdLst/>
            <a:ahLst/>
            <a:rect l="l" t="t" r="r" b="b"/>
            <a:pathLst>
              <a:path w="2160587" h="647700">
                <a:moveTo>
                  <a:pt x="0" y="647700"/>
                </a:moveTo>
                <a:lnTo>
                  <a:pt x="0" y="429464"/>
                </a:lnTo>
                <a:cubicBezTo>
                  <a:pt x="0" y="243781"/>
                  <a:pt x="150525" y="93256"/>
                  <a:pt x="336208" y="93256"/>
                </a:cubicBezTo>
                <a:lnTo>
                  <a:pt x="1867794" y="93256"/>
                </a:lnTo>
                <a:lnTo>
                  <a:pt x="1867794" y="0"/>
                </a:lnTo>
                <a:lnTo>
                  <a:pt x="2160587" y="150908"/>
                </a:lnTo>
                <a:lnTo>
                  <a:pt x="1867794" y="301815"/>
                </a:lnTo>
                <a:lnTo>
                  <a:pt x="1867794" y="208559"/>
                </a:lnTo>
                <a:lnTo>
                  <a:pt x="336208" y="208559"/>
                </a:lnTo>
                <a:cubicBezTo>
                  <a:pt x="214206" y="208559"/>
                  <a:pt x="115303" y="307462"/>
                  <a:pt x="115303" y="429464"/>
                </a:cubicBezTo>
                <a:cubicBezTo>
                  <a:pt x="115303" y="502209"/>
                  <a:pt x="115304" y="574955"/>
                  <a:pt x="115304" y="647700"/>
                </a:cubicBezTo>
                <a:lnTo>
                  <a:pt x="0" y="6477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Стрелка углом 18"/>
          <p:cNvSpPr/>
          <p:nvPr/>
        </p:nvSpPr>
        <p:spPr>
          <a:xfrm flipH="1" rot="5400000">
            <a:off x="6408720" y="3033000"/>
            <a:ext cx="647640" cy="2448000"/>
          </a:xfrm>
          <a:custGeom>
            <a:avLst/>
            <a:gdLst/>
            <a:ahLst/>
            <a:rect l="l" t="t" r="r" b="b"/>
            <a:pathLst>
              <a:path w="647700" h="2447925">
                <a:moveTo>
                  <a:pt x="0" y="2447925"/>
                </a:moveTo>
                <a:lnTo>
                  <a:pt x="0" y="429464"/>
                </a:lnTo>
                <a:cubicBezTo>
                  <a:pt x="0" y="243781"/>
                  <a:pt x="150525" y="93256"/>
                  <a:pt x="336208" y="93256"/>
                </a:cubicBezTo>
                <a:lnTo>
                  <a:pt x="354907" y="93256"/>
                </a:lnTo>
                <a:lnTo>
                  <a:pt x="354907" y="0"/>
                </a:lnTo>
                <a:lnTo>
                  <a:pt x="647700" y="150908"/>
                </a:lnTo>
                <a:lnTo>
                  <a:pt x="354907" y="301815"/>
                </a:lnTo>
                <a:lnTo>
                  <a:pt x="354907" y="208559"/>
                </a:lnTo>
                <a:lnTo>
                  <a:pt x="336208" y="208559"/>
                </a:lnTo>
                <a:cubicBezTo>
                  <a:pt x="214206" y="208559"/>
                  <a:pt x="115303" y="307462"/>
                  <a:pt x="115303" y="429464"/>
                </a:cubicBezTo>
                <a:cubicBezTo>
                  <a:pt x="115303" y="1102284"/>
                  <a:pt x="115304" y="1775105"/>
                  <a:pt x="115304" y="2447925"/>
                </a:cubicBezTo>
                <a:lnTo>
                  <a:pt x="0" y="24479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Стрелка углом 19"/>
          <p:cNvSpPr/>
          <p:nvPr/>
        </p:nvSpPr>
        <p:spPr>
          <a:xfrm flipH="1" rot="10800000">
            <a:off x="5147280" y="3284280"/>
            <a:ext cx="1871640" cy="431640"/>
          </a:xfrm>
          <a:custGeom>
            <a:avLst/>
            <a:gdLst/>
            <a:ahLst/>
            <a:rect l="l" t="t" r="r" b="b"/>
            <a:pathLst>
              <a:path w="1871662" h="431800">
                <a:moveTo>
                  <a:pt x="0" y="431800"/>
                </a:moveTo>
                <a:lnTo>
                  <a:pt x="0" y="297916"/>
                </a:lnTo>
                <a:cubicBezTo>
                  <a:pt x="0" y="174127"/>
                  <a:pt x="100350" y="73777"/>
                  <a:pt x="224139" y="73777"/>
                </a:cubicBezTo>
                <a:lnTo>
                  <a:pt x="1734492" y="73777"/>
                </a:lnTo>
                <a:lnTo>
                  <a:pt x="1734492" y="0"/>
                </a:lnTo>
                <a:lnTo>
                  <a:pt x="1871662" y="126716"/>
                </a:lnTo>
                <a:lnTo>
                  <a:pt x="1734492" y="253432"/>
                </a:lnTo>
                <a:lnTo>
                  <a:pt x="1734492" y="179655"/>
                </a:lnTo>
                <a:lnTo>
                  <a:pt x="224139" y="179655"/>
                </a:lnTo>
                <a:cubicBezTo>
                  <a:pt x="158825" y="179655"/>
                  <a:pt x="105878" y="232602"/>
                  <a:pt x="105878" y="297916"/>
                </a:cubicBezTo>
                <a:cubicBezTo>
                  <a:pt x="105878" y="342544"/>
                  <a:pt x="105877" y="387172"/>
                  <a:pt x="105877" y="431800"/>
                </a:cubicBezTo>
                <a:lnTo>
                  <a:pt x="0" y="431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Стрелка углом 20"/>
          <p:cNvSpPr/>
          <p:nvPr/>
        </p:nvSpPr>
        <p:spPr>
          <a:xfrm rot="10800000">
            <a:off x="1979640" y="3284280"/>
            <a:ext cx="1728720" cy="431640"/>
          </a:xfrm>
          <a:custGeom>
            <a:avLst/>
            <a:gdLst/>
            <a:ahLst/>
            <a:rect l="l" t="t" r="r" b="b"/>
            <a:pathLst>
              <a:path w="1728787" h="431800">
                <a:moveTo>
                  <a:pt x="0" y="431800"/>
                </a:moveTo>
                <a:lnTo>
                  <a:pt x="0" y="286309"/>
                </a:lnTo>
                <a:cubicBezTo>
                  <a:pt x="0" y="162520"/>
                  <a:pt x="100350" y="62170"/>
                  <a:pt x="224139" y="62170"/>
                </a:cubicBezTo>
                <a:lnTo>
                  <a:pt x="1533592" y="62171"/>
                </a:lnTo>
                <a:lnTo>
                  <a:pt x="1533592" y="0"/>
                </a:lnTo>
                <a:lnTo>
                  <a:pt x="1728787" y="100605"/>
                </a:lnTo>
                <a:lnTo>
                  <a:pt x="1533592" y="201210"/>
                </a:lnTo>
                <a:lnTo>
                  <a:pt x="1533592" y="139040"/>
                </a:lnTo>
                <a:lnTo>
                  <a:pt x="224139" y="139040"/>
                </a:lnTo>
                <a:cubicBezTo>
                  <a:pt x="142804" y="139040"/>
                  <a:pt x="76869" y="204975"/>
                  <a:pt x="76869" y="286310"/>
                </a:cubicBezTo>
                <a:lnTo>
                  <a:pt x="76869" y="431800"/>
                </a:lnTo>
                <a:lnTo>
                  <a:pt x="0" y="431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Стрелка углом 21"/>
          <p:cNvSpPr/>
          <p:nvPr/>
        </p:nvSpPr>
        <p:spPr>
          <a:xfrm rot="16200000">
            <a:off x="6264000" y="1017000"/>
            <a:ext cx="576360" cy="2519280"/>
          </a:xfrm>
          <a:custGeom>
            <a:avLst/>
            <a:gdLst/>
            <a:ahLst/>
            <a:rect l="l" t="t" r="r" b="b"/>
            <a:pathLst>
              <a:path w="576262" h="2519363">
                <a:moveTo>
                  <a:pt x="0" y="2519363"/>
                </a:moveTo>
                <a:lnTo>
                  <a:pt x="0" y="367577"/>
                </a:lnTo>
                <a:cubicBezTo>
                  <a:pt x="0" y="202374"/>
                  <a:pt x="133923" y="68451"/>
                  <a:pt x="299126" y="68451"/>
                </a:cubicBezTo>
                <a:lnTo>
                  <a:pt x="315763" y="68451"/>
                </a:lnTo>
                <a:lnTo>
                  <a:pt x="315763" y="0"/>
                </a:lnTo>
                <a:lnTo>
                  <a:pt x="576262" y="134263"/>
                </a:lnTo>
                <a:lnTo>
                  <a:pt x="315763" y="268527"/>
                </a:lnTo>
                <a:lnTo>
                  <a:pt x="315763" y="200075"/>
                </a:lnTo>
                <a:lnTo>
                  <a:pt x="299126" y="200075"/>
                </a:lnTo>
                <a:cubicBezTo>
                  <a:pt x="206617" y="200075"/>
                  <a:pt x="131624" y="275068"/>
                  <a:pt x="131624" y="367577"/>
                </a:cubicBezTo>
                <a:lnTo>
                  <a:pt x="131624" y="2519363"/>
                </a:lnTo>
                <a:lnTo>
                  <a:pt x="0" y="2519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Минус 22"/>
          <p:cNvSpPr/>
          <p:nvPr/>
        </p:nvSpPr>
        <p:spPr>
          <a:xfrm rot="5400000">
            <a:off x="7102080" y="2625840"/>
            <a:ext cx="1274760" cy="576360"/>
          </a:xfrm>
          <a:custGeom>
            <a:avLst/>
            <a:gdLst/>
            <a:ahLst/>
            <a:rect l="l" t="t" r="r" b="b"/>
            <a:pathLst>
              <a:path w="1274763" h="576263">
                <a:moveTo>
                  <a:pt x="168970" y="220363"/>
                </a:moveTo>
                <a:lnTo>
                  <a:pt x="1105793" y="220363"/>
                </a:lnTo>
                <a:lnTo>
                  <a:pt x="1105793" y="355900"/>
                </a:lnTo>
                <a:lnTo>
                  <a:pt x="168970" y="355900"/>
                </a:lnTo>
                <a:lnTo>
                  <a:pt x="168970" y="220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Стрелка вниз 23"/>
          <p:cNvSpPr/>
          <p:nvPr/>
        </p:nvSpPr>
        <p:spPr>
          <a:xfrm rot="10800000">
            <a:off x="4427640" y="3213000"/>
            <a:ext cx="288720" cy="9064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Стрелка вниз 24"/>
          <p:cNvSpPr/>
          <p:nvPr/>
        </p:nvSpPr>
        <p:spPr>
          <a:xfrm rot="10800000">
            <a:off x="4427640" y="1989000"/>
            <a:ext cx="288720" cy="719280"/>
          </a:xfrm>
          <a:prstGeom prst="downArrow">
            <a:avLst>
              <a:gd name="adj1" fmla="val 50000"/>
              <a:gd name="adj2" fmla="val 50045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Государственные закуп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о-первых, государств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елает закупки товаров и услуг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overnment spending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, что связано с необходимостью содержания государственного сектора экономики, обеспечения производства общественных благ, выполнения функций по регулированию экономики и управлению страно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 этом заработная плата государственных служащих рассматривается не как плата за экономический ресурс на ресурсном рынке, а как оплата услуги на рынке товаров и услуг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 увеличивают совокупный спрос на производимый в экономике продукт, т.е. совокупные расходы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Налоги и трансферты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-вторых, государств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бязывает всех платить налог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axes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х)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вляющиеся основным источником доходов государственного бюджет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о как перераспределитель национального дохода не только собирает налоги, но 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ыплачивает трансферт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fer payments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Трансферт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платежи, которые домохозяйства и фирмы безвозмездно (не в обмен на товары и услуги) получают от государств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нсфертные платежи государств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мохозяйства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это различны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циальные выплат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ial benefit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: пенсии, стипендии, пособия по безработице, пособия по нетрудоспособности, пособия по бедности и др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нсфертные платежи государств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ирма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эт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убсиди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bsidi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Государство как кредитор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-третьих, в зависимости от состояния государственного бюджета государство может выступать либо кредитором, либо заемщиком на финансовом рынке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Если доходы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осударств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евышают расходы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.е. имеет мест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фицит (излишек) государственного бюджет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о государство может выступить на финансовом рынк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редитор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купая ценные бумаги частных фирм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Доходы </a:t>
            </a:r>
            <a:r>
              <a:rPr b="0" lang="en-US" sz="2600" spc="-1" strike="noStrike">
                <a:solidFill>
                  <a:srgbClr val="00b050"/>
                </a:solidFill>
                <a:latin typeface="Gill Sans MT"/>
              </a:rPr>
              <a:t>&gt;</a:t>
            </a: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 Расходы = Профици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ая теория берет начало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держательно от фундаментального труда выдающегося английского экономист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жона Мейнарда Кейнс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John Maynard Keyn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936 г. вышла его книг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"Общая теория занятости, процента и денег"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в которой он заложил основы макроэкономического анализ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чение этой работы Кейнса было так велико, что в экономической литературе возник термин "кейнсианская революция" и появилась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ейнсианская макроэкономическая модель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ли кейнсианский подход в противовес традиционному, единственно существовавшему до того времени классическому подходу к изучению экономических явлений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классическая модель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Государство как заемщик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Если расход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а (государственные закупки плюс трансферты)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евышают доход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а (налоги), что соответствуе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дефициту государственного бюджета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 государство для оплаты своих расходов должно занять деньги на финансовом рынке, выступая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емщиком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Доходы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&lt;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Расходы = Дефици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любого макроэкономического агента действует одинаковый принцип: если его доходы превышают расходы, он выступает кредитором, если, наоборот, расходы больше доходов, заемщиком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3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еханизм государственного займ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о выпускает государственные облигации (делает внутренний заем) и продает их на рынке ценных бумаг домохозяйствам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мохозяйства тратят часть своих сбережений на покупку государственных облигаций (тем самым финансируя дефицит государственного бюджета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о выплачивает домохозяйствам процент по своим облигациям, делая их привлекательными для покупки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платы процентов увеличивают доходы домохозяйств, но являются расходами государственного бюджета и называются расходами на обслуживание государственного долга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тождеств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инаковы для двух- и трехсекторной модели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6fc6"/>
                </a:solidFill>
                <a:latin typeface="Calibri"/>
              </a:rPr>
              <a:t>1) Совокупный продукт = Совокупный доход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6fc6"/>
                </a:solidFill>
                <a:latin typeface="Calibri"/>
              </a:rPr>
              <a:t>2) Совокупный доход = Совокупные расход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6fc6"/>
                </a:solidFill>
                <a:latin typeface="Calibri"/>
              </a:rPr>
              <a:t>3) Инъекции = Изъяти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тождеств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овокупные расходы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в трехсекторной модели экономики состоят из потребления (С), инвестиций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государственных закупок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+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I + 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овокупный доход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состоит из потребления (С) и сбережений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чистых налогов (Т)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Чистые налог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разница между налогами и трансфертами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 = Tx – Tr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 являются инъекциями, а чистые налоги — изъятиями из потока расходов и доходов, поэтому формула равенства инъекций и изъятий приобретает вид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I + G = S + 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платы процентов по государственным облигациям обычно учитываются в величине трансфертов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же, как и трансферты, выплачиваются не в обмен на товар или услугу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этом и трансферты, и выплаты процентов по государственным облигациям являются инъекциями, поскольку увеличивают поток доходов и, следовательно, расходов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Располагаемый доход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циональный (совокупный) доход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 -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умма факторных доходов, т.е. доходов, заработанным собственниками экономических ресурсов (домохозяйствами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сполагаемый доход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sposal income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- доход, которым домохозяйства могут распоряжаться и расходовать по собственному усмотрению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полагаемый доход отличается от национального дохода на величину налогов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(Тх)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торые домохозяйства платят государству, и величину трансфертов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(Т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торые государство платит домохозяйствам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Располагаемый доход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бы получить величину располагаемого дохода, надо из национального дохода вычесть налоги и прибавить трансферты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x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ли вычесть чистые налоги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Т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-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полагаемый доход домохозяйства используют на потребление (потребительские расходы) и сбережения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Четырехсекторная модель экономи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ключение в модель кругооборот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остранного сектор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а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четырехсекторную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ель экономики (модель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ткрытой экономик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заимосвязи национальной экономики с экономиками других стран проявляются через международную торговлю товарами и услугами, т.е. экспорт и импорт товаров и услуг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скольку в модели кругооборота отражены только денежные потоки, то под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экспорт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port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Ex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нимается выручка (доходы) от экспорта (стрелк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т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ностранного сектора), а под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мпорт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mport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m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 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ходы по импорту (стрелк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ностранному сектору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C:\Users\х\Desktop\макро\тема 1\4секторная.jpg"/>
          <p:cNvPicPr/>
          <p:nvPr/>
        </p:nvPicPr>
        <p:blipFill>
          <a:blip r:embed="rId1"/>
          <a:stretch/>
        </p:blipFill>
        <p:spPr>
          <a:xfrm>
            <a:off x="147600" y="1251000"/>
            <a:ext cx="8848800" cy="556272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Кругооборот продукта, расходов и доходов в </a:t>
            </a:r>
            <a:r>
              <a:rPr b="1" lang="ru-RU" sz="2900" spc="-1" strike="noStrike">
                <a:solidFill>
                  <a:srgbClr val="04617b"/>
                </a:solidFill>
                <a:latin typeface="Cambria"/>
              </a:rPr>
              <a:t>четырехсекторной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 модели экономик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Стрелка углом 23"/>
          <p:cNvSpPr/>
          <p:nvPr/>
        </p:nvSpPr>
        <p:spPr>
          <a:xfrm rot="10800000">
            <a:off x="5724000" y="4221000"/>
            <a:ext cx="2808360" cy="2376720"/>
          </a:xfrm>
          <a:custGeom>
            <a:avLst/>
            <a:gdLst/>
            <a:ahLst/>
            <a:rect l="l" t="t" r="r" b="b"/>
            <a:pathLst>
              <a:path w="2808288" h="2376487">
                <a:moveTo>
                  <a:pt x="0" y="2376487"/>
                </a:moveTo>
                <a:lnTo>
                  <a:pt x="0" y="1126811"/>
                </a:lnTo>
                <a:cubicBezTo>
                  <a:pt x="0" y="552593"/>
                  <a:pt x="465495" y="87098"/>
                  <a:pt x="1039713" y="87098"/>
                </a:cubicBezTo>
                <a:lnTo>
                  <a:pt x="2538462" y="87098"/>
                </a:lnTo>
                <a:lnTo>
                  <a:pt x="2538462" y="0"/>
                </a:lnTo>
                <a:lnTo>
                  <a:pt x="2808288" y="171868"/>
                </a:lnTo>
                <a:lnTo>
                  <a:pt x="2538462" y="343735"/>
                </a:lnTo>
                <a:lnTo>
                  <a:pt x="2538462" y="256637"/>
                </a:lnTo>
                <a:lnTo>
                  <a:pt x="1039713" y="256637"/>
                </a:lnTo>
                <a:cubicBezTo>
                  <a:pt x="559129" y="256637"/>
                  <a:pt x="169539" y="646227"/>
                  <a:pt x="169539" y="1126811"/>
                </a:cubicBezTo>
                <a:lnTo>
                  <a:pt x="169539" y="2376487"/>
                </a:lnTo>
                <a:lnTo>
                  <a:pt x="0" y="23764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Стрелка углом 25"/>
          <p:cNvSpPr/>
          <p:nvPr/>
        </p:nvSpPr>
        <p:spPr>
          <a:xfrm rot="16200000">
            <a:off x="934920" y="3897000"/>
            <a:ext cx="2160720" cy="2808360"/>
          </a:xfrm>
          <a:custGeom>
            <a:avLst/>
            <a:gdLst/>
            <a:ahLst/>
            <a:rect l="l" t="t" r="r" b="b"/>
            <a:pathLst>
              <a:path w="2160587" h="2808287">
                <a:moveTo>
                  <a:pt x="0" y="2808287"/>
                </a:moveTo>
                <a:lnTo>
                  <a:pt x="0" y="1061766"/>
                </a:lnTo>
                <a:cubicBezTo>
                  <a:pt x="0" y="539715"/>
                  <a:pt x="423206" y="116509"/>
                  <a:pt x="945257" y="116509"/>
                </a:cubicBezTo>
                <a:lnTo>
                  <a:pt x="2001049" y="116510"/>
                </a:lnTo>
                <a:lnTo>
                  <a:pt x="2001049" y="0"/>
                </a:lnTo>
                <a:lnTo>
                  <a:pt x="2160587" y="176628"/>
                </a:lnTo>
                <a:lnTo>
                  <a:pt x="2001049" y="353256"/>
                </a:lnTo>
                <a:lnTo>
                  <a:pt x="2001049" y="236746"/>
                </a:lnTo>
                <a:lnTo>
                  <a:pt x="945257" y="236746"/>
                </a:lnTo>
                <a:cubicBezTo>
                  <a:pt x="489611" y="236746"/>
                  <a:pt x="120237" y="606120"/>
                  <a:pt x="120237" y="1061766"/>
                </a:cubicBezTo>
                <a:lnTo>
                  <a:pt x="120237" y="2808287"/>
                </a:lnTo>
                <a:lnTo>
                  <a:pt x="0" y="28082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Стрелка углом 26"/>
          <p:cNvSpPr/>
          <p:nvPr/>
        </p:nvSpPr>
        <p:spPr>
          <a:xfrm rot="5400000">
            <a:off x="6156000" y="1196640"/>
            <a:ext cx="2158920" cy="2879640"/>
          </a:xfrm>
          <a:custGeom>
            <a:avLst/>
            <a:gdLst/>
            <a:ahLst/>
            <a:rect l="l" t="t" r="r" b="b"/>
            <a:pathLst>
              <a:path w="2159000" h="2879725">
                <a:moveTo>
                  <a:pt x="0" y="2879725"/>
                </a:moveTo>
                <a:lnTo>
                  <a:pt x="0" y="1049015"/>
                </a:lnTo>
                <a:cubicBezTo>
                  <a:pt x="0" y="527347"/>
                  <a:pt x="422895" y="104452"/>
                  <a:pt x="944563" y="104452"/>
                </a:cubicBezTo>
                <a:lnTo>
                  <a:pt x="1937616" y="104452"/>
                </a:lnTo>
                <a:lnTo>
                  <a:pt x="1937616" y="0"/>
                </a:lnTo>
                <a:lnTo>
                  <a:pt x="2159000" y="179046"/>
                </a:lnTo>
                <a:lnTo>
                  <a:pt x="1937616" y="358092"/>
                </a:lnTo>
                <a:lnTo>
                  <a:pt x="1937616" y="253639"/>
                </a:lnTo>
                <a:lnTo>
                  <a:pt x="944563" y="253639"/>
                </a:lnTo>
                <a:cubicBezTo>
                  <a:pt x="505289" y="253639"/>
                  <a:pt x="149187" y="609741"/>
                  <a:pt x="149187" y="1049015"/>
                </a:cubicBezTo>
                <a:lnTo>
                  <a:pt x="149187" y="2879725"/>
                </a:lnTo>
                <a:lnTo>
                  <a:pt x="0" y="28797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Стрелка углом 27"/>
          <p:cNvSpPr/>
          <p:nvPr/>
        </p:nvSpPr>
        <p:spPr>
          <a:xfrm>
            <a:off x="1258920" y="3284640"/>
            <a:ext cx="2305080" cy="431640"/>
          </a:xfrm>
          <a:custGeom>
            <a:avLst/>
            <a:gdLst/>
            <a:ahLst/>
            <a:rect l="l" t="t" r="r" b="b"/>
            <a:pathLst>
              <a:path w="2305050" h="431800">
                <a:moveTo>
                  <a:pt x="0" y="431800"/>
                </a:moveTo>
                <a:lnTo>
                  <a:pt x="0" y="286309"/>
                </a:lnTo>
                <a:cubicBezTo>
                  <a:pt x="0" y="162520"/>
                  <a:pt x="100350" y="62170"/>
                  <a:pt x="224139" y="62170"/>
                </a:cubicBezTo>
                <a:lnTo>
                  <a:pt x="2109855" y="62171"/>
                </a:lnTo>
                <a:lnTo>
                  <a:pt x="2109855" y="0"/>
                </a:lnTo>
                <a:lnTo>
                  <a:pt x="2305050" y="100605"/>
                </a:lnTo>
                <a:lnTo>
                  <a:pt x="2109855" y="201210"/>
                </a:lnTo>
                <a:lnTo>
                  <a:pt x="2109855" y="139040"/>
                </a:lnTo>
                <a:lnTo>
                  <a:pt x="224139" y="139040"/>
                </a:lnTo>
                <a:cubicBezTo>
                  <a:pt x="142804" y="139040"/>
                  <a:pt x="76869" y="204975"/>
                  <a:pt x="76869" y="286310"/>
                </a:cubicBezTo>
                <a:lnTo>
                  <a:pt x="76869" y="431800"/>
                </a:lnTo>
                <a:lnTo>
                  <a:pt x="0" y="431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Стрелка углом 28"/>
          <p:cNvSpPr/>
          <p:nvPr/>
        </p:nvSpPr>
        <p:spPr>
          <a:xfrm flipH="1">
            <a:off x="5651640" y="3213000"/>
            <a:ext cx="1728720" cy="503280"/>
          </a:xfrm>
          <a:custGeom>
            <a:avLst/>
            <a:gdLst/>
            <a:ahLst/>
            <a:rect l="l" t="t" r="r" b="b"/>
            <a:pathLst>
              <a:path w="1728788" h="503238">
                <a:moveTo>
                  <a:pt x="0" y="503238"/>
                </a:moveTo>
                <a:lnTo>
                  <a:pt x="0" y="333677"/>
                </a:lnTo>
                <a:cubicBezTo>
                  <a:pt x="0" y="189409"/>
                  <a:pt x="116953" y="72456"/>
                  <a:pt x="261221" y="72456"/>
                </a:cubicBezTo>
                <a:lnTo>
                  <a:pt x="1501299" y="72456"/>
                </a:lnTo>
                <a:lnTo>
                  <a:pt x="1501299" y="0"/>
                </a:lnTo>
                <a:lnTo>
                  <a:pt x="1728788" y="117249"/>
                </a:lnTo>
                <a:lnTo>
                  <a:pt x="1501299" y="234499"/>
                </a:lnTo>
                <a:lnTo>
                  <a:pt x="1501299" y="162043"/>
                </a:lnTo>
                <a:lnTo>
                  <a:pt x="261221" y="162043"/>
                </a:lnTo>
                <a:cubicBezTo>
                  <a:pt x="166430" y="162043"/>
                  <a:pt x="89587" y="238886"/>
                  <a:pt x="89587" y="333677"/>
                </a:cubicBezTo>
                <a:cubicBezTo>
                  <a:pt x="89587" y="390197"/>
                  <a:pt x="89586" y="446718"/>
                  <a:pt x="89586" y="503238"/>
                </a:cubicBezTo>
                <a:lnTo>
                  <a:pt x="0" y="503238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Стрелка углом 30"/>
          <p:cNvSpPr/>
          <p:nvPr/>
        </p:nvSpPr>
        <p:spPr>
          <a:xfrm flipH="1" rot="10800000">
            <a:off x="1257840" y="4220640"/>
            <a:ext cx="2305080" cy="863640"/>
          </a:xfrm>
          <a:custGeom>
            <a:avLst/>
            <a:gdLst/>
            <a:ahLst/>
            <a:rect l="l" t="t" r="r" b="b"/>
            <a:pathLst>
              <a:path w="2305050" h="863600">
                <a:moveTo>
                  <a:pt x="0" y="863600"/>
                </a:moveTo>
                <a:lnTo>
                  <a:pt x="0" y="519058"/>
                </a:lnTo>
                <a:cubicBezTo>
                  <a:pt x="0" y="271481"/>
                  <a:pt x="200700" y="70781"/>
                  <a:pt x="448277" y="70781"/>
                </a:cubicBezTo>
                <a:lnTo>
                  <a:pt x="2088727" y="70781"/>
                </a:lnTo>
                <a:lnTo>
                  <a:pt x="2088727" y="0"/>
                </a:lnTo>
                <a:lnTo>
                  <a:pt x="2305050" y="147650"/>
                </a:lnTo>
                <a:lnTo>
                  <a:pt x="2088727" y="295299"/>
                </a:lnTo>
                <a:lnTo>
                  <a:pt x="2088727" y="224519"/>
                </a:lnTo>
                <a:lnTo>
                  <a:pt x="448277" y="224519"/>
                </a:lnTo>
                <a:cubicBezTo>
                  <a:pt x="285608" y="224519"/>
                  <a:pt x="153738" y="356389"/>
                  <a:pt x="153738" y="519058"/>
                </a:cubicBezTo>
                <a:lnTo>
                  <a:pt x="153738" y="863600"/>
                </a:lnTo>
                <a:lnTo>
                  <a:pt x="0" y="8636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Стрелка углом 31"/>
          <p:cNvSpPr/>
          <p:nvPr/>
        </p:nvSpPr>
        <p:spPr>
          <a:xfrm flipH="1" rot="5400000">
            <a:off x="6515640" y="3356280"/>
            <a:ext cx="792360" cy="2520720"/>
          </a:xfrm>
          <a:custGeom>
            <a:avLst/>
            <a:gdLst/>
            <a:ahLst/>
            <a:rect l="l" t="t" r="r" b="b"/>
            <a:pathLst>
              <a:path w="792162" h="2520950">
                <a:moveTo>
                  <a:pt x="0" y="2520950"/>
                </a:moveTo>
                <a:lnTo>
                  <a:pt x="0" y="525251"/>
                </a:lnTo>
                <a:cubicBezTo>
                  <a:pt x="0" y="298154"/>
                  <a:pt x="184098" y="114056"/>
                  <a:pt x="411195" y="114056"/>
                </a:cubicBezTo>
                <a:lnTo>
                  <a:pt x="434065" y="114055"/>
                </a:lnTo>
                <a:lnTo>
                  <a:pt x="434065" y="0"/>
                </a:lnTo>
                <a:lnTo>
                  <a:pt x="792162" y="184566"/>
                </a:lnTo>
                <a:lnTo>
                  <a:pt x="434065" y="369132"/>
                </a:lnTo>
                <a:lnTo>
                  <a:pt x="434065" y="255076"/>
                </a:lnTo>
                <a:lnTo>
                  <a:pt x="411195" y="255076"/>
                </a:lnTo>
                <a:cubicBezTo>
                  <a:pt x="261981" y="255076"/>
                  <a:pt x="141020" y="376037"/>
                  <a:pt x="141020" y="525251"/>
                </a:cubicBezTo>
                <a:cubicBezTo>
                  <a:pt x="141020" y="1190484"/>
                  <a:pt x="141021" y="1855717"/>
                  <a:pt x="141021" y="2520950"/>
                </a:cubicBezTo>
                <a:lnTo>
                  <a:pt x="0" y="252095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Стрелка углом 32"/>
          <p:cNvSpPr/>
          <p:nvPr/>
        </p:nvSpPr>
        <p:spPr>
          <a:xfrm flipH="1" rot="10800000">
            <a:off x="5075640" y="3716280"/>
            <a:ext cx="1871640" cy="433440"/>
          </a:xfrm>
          <a:custGeom>
            <a:avLst/>
            <a:gdLst/>
            <a:ahLst/>
            <a:rect l="l" t="t" r="r" b="b"/>
            <a:pathLst>
              <a:path w="1871663" h="433387">
                <a:moveTo>
                  <a:pt x="0" y="433387"/>
                </a:moveTo>
                <a:lnTo>
                  <a:pt x="0" y="299011"/>
                </a:lnTo>
                <a:cubicBezTo>
                  <a:pt x="0" y="174767"/>
                  <a:pt x="100719" y="74048"/>
                  <a:pt x="224963" y="74048"/>
                </a:cubicBezTo>
                <a:lnTo>
                  <a:pt x="1733989" y="74049"/>
                </a:lnTo>
                <a:lnTo>
                  <a:pt x="1733989" y="0"/>
                </a:lnTo>
                <a:lnTo>
                  <a:pt x="1871663" y="127182"/>
                </a:lnTo>
                <a:lnTo>
                  <a:pt x="1733989" y="254363"/>
                </a:lnTo>
                <a:lnTo>
                  <a:pt x="1733989" y="180315"/>
                </a:lnTo>
                <a:lnTo>
                  <a:pt x="224963" y="180315"/>
                </a:lnTo>
                <a:cubicBezTo>
                  <a:pt x="159409" y="180315"/>
                  <a:pt x="106267" y="233457"/>
                  <a:pt x="106267" y="299011"/>
                </a:cubicBezTo>
                <a:cubicBezTo>
                  <a:pt x="106267" y="343803"/>
                  <a:pt x="106266" y="388595"/>
                  <a:pt x="106266" y="433387"/>
                </a:cubicBezTo>
                <a:lnTo>
                  <a:pt x="0" y="4333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Стрелка углом 33"/>
          <p:cNvSpPr/>
          <p:nvPr/>
        </p:nvSpPr>
        <p:spPr>
          <a:xfrm rot="10800000">
            <a:off x="2340000" y="3716280"/>
            <a:ext cx="1727280" cy="433440"/>
          </a:xfrm>
          <a:custGeom>
            <a:avLst/>
            <a:gdLst/>
            <a:ahLst/>
            <a:rect l="l" t="t" r="r" b="b"/>
            <a:pathLst>
              <a:path w="1727200" h="433387">
                <a:moveTo>
                  <a:pt x="0" y="433387"/>
                </a:moveTo>
                <a:lnTo>
                  <a:pt x="0" y="287362"/>
                </a:lnTo>
                <a:cubicBezTo>
                  <a:pt x="0" y="163118"/>
                  <a:pt x="100719" y="62399"/>
                  <a:pt x="224963" y="62399"/>
                </a:cubicBezTo>
                <a:lnTo>
                  <a:pt x="1531287" y="62399"/>
                </a:lnTo>
                <a:lnTo>
                  <a:pt x="1531287" y="0"/>
                </a:lnTo>
                <a:lnTo>
                  <a:pt x="1727200" y="100975"/>
                </a:lnTo>
                <a:lnTo>
                  <a:pt x="1531287" y="201950"/>
                </a:lnTo>
                <a:lnTo>
                  <a:pt x="1531287" y="139551"/>
                </a:lnTo>
                <a:lnTo>
                  <a:pt x="224963" y="139551"/>
                </a:lnTo>
                <a:cubicBezTo>
                  <a:pt x="143329" y="139551"/>
                  <a:pt x="77152" y="205728"/>
                  <a:pt x="77152" y="287362"/>
                </a:cubicBezTo>
                <a:lnTo>
                  <a:pt x="77152" y="433387"/>
                </a:lnTo>
                <a:lnTo>
                  <a:pt x="0" y="4333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Стрелка вниз 36"/>
          <p:cNvSpPr/>
          <p:nvPr/>
        </p:nvSpPr>
        <p:spPr>
          <a:xfrm rot="10800000">
            <a:off x="4427640" y="3674880"/>
            <a:ext cx="288720" cy="90612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Стрелка вниз 37"/>
          <p:cNvSpPr/>
          <p:nvPr/>
        </p:nvSpPr>
        <p:spPr>
          <a:xfrm rot="10800000">
            <a:off x="4427640" y="2349360"/>
            <a:ext cx="288720" cy="719280"/>
          </a:xfrm>
          <a:prstGeom prst="downArrow">
            <a:avLst>
              <a:gd name="adj1" fmla="val 50000"/>
              <a:gd name="adj2" fmla="val 50045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Стрелка углом 38"/>
          <p:cNvSpPr/>
          <p:nvPr/>
        </p:nvSpPr>
        <p:spPr>
          <a:xfrm flipH="1">
            <a:off x="5796000" y="1989000"/>
            <a:ext cx="2448000" cy="1727280"/>
          </a:xfrm>
          <a:custGeom>
            <a:avLst/>
            <a:gdLst/>
            <a:ahLst/>
            <a:rect l="l" t="t" r="r" b="b"/>
            <a:pathLst>
              <a:path w="2447925" h="1727200">
                <a:moveTo>
                  <a:pt x="0" y="1727200"/>
                </a:moveTo>
                <a:lnTo>
                  <a:pt x="0" y="978416"/>
                </a:lnTo>
                <a:cubicBezTo>
                  <a:pt x="0" y="483262"/>
                  <a:pt x="401401" y="81861"/>
                  <a:pt x="896555" y="81861"/>
                </a:cubicBezTo>
                <a:lnTo>
                  <a:pt x="2160346" y="81861"/>
                </a:lnTo>
                <a:lnTo>
                  <a:pt x="2160346" y="0"/>
                </a:lnTo>
                <a:lnTo>
                  <a:pt x="2447925" y="163065"/>
                </a:lnTo>
                <a:lnTo>
                  <a:pt x="2160346" y="326130"/>
                </a:lnTo>
                <a:lnTo>
                  <a:pt x="2160346" y="244269"/>
                </a:lnTo>
                <a:lnTo>
                  <a:pt x="896555" y="244269"/>
                </a:lnTo>
                <a:cubicBezTo>
                  <a:pt x="491097" y="244269"/>
                  <a:pt x="162409" y="572957"/>
                  <a:pt x="162409" y="978415"/>
                </a:cubicBezTo>
                <a:lnTo>
                  <a:pt x="162409" y="1727200"/>
                </a:lnTo>
                <a:lnTo>
                  <a:pt x="0" y="17272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Стрелка углом 39"/>
          <p:cNvSpPr/>
          <p:nvPr/>
        </p:nvSpPr>
        <p:spPr>
          <a:xfrm flipH="1" rot="5400000">
            <a:off x="2087640" y="1160280"/>
            <a:ext cx="792000" cy="3024000"/>
          </a:xfrm>
          <a:custGeom>
            <a:avLst/>
            <a:gdLst/>
            <a:ahLst/>
            <a:rect l="l" t="t" r="r" b="b"/>
            <a:pathLst>
              <a:path w="792163" h="3024188">
                <a:moveTo>
                  <a:pt x="0" y="3024188"/>
                </a:moveTo>
                <a:lnTo>
                  <a:pt x="0" y="525252"/>
                </a:lnTo>
                <a:cubicBezTo>
                  <a:pt x="0" y="298155"/>
                  <a:pt x="184099" y="114056"/>
                  <a:pt x="411196" y="114056"/>
                </a:cubicBezTo>
                <a:lnTo>
                  <a:pt x="434066" y="114056"/>
                </a:lnTo>
                <a:lnTo>
                  <a:pt x="434066" y="0"/>
                </a:lnTo>
                <a:lnTo>
                  <a:pt x="792163" y="184566"/>
                </a:lnTo>
                <a:lnTo>
                  <a:pt x="434066" y="369132"/>
                </a:lnTo>
                <a:lnTo>
                  <a:pt x="434066" y="255076"/>
                </a:lnTo>
                <a:lnTo>
                  <a:pt x="411196" y="255076"/>
                </a:lnTo>
                <a:cubicBezTo>
                  <a:pt x="261982" y="255076"/>
                  <a:pt x="141021" y="376037"/>
                  <a:pt x="141021" y="525251"/>
                </a:cubicBezTo>
                <a:lnTo>
                  <a:pt x="141021" y="3024188"/>
                </a:lnTo>
                <a:lnTo>
                  <a:pt x="0" y="3024188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Минус 40"/>
          <p:cNvSpPr/>
          <p:nvPr/>
        </p:nvSpPr>
        <p:spPr>
          <a:xfrm rot="5400000">
            <a:off x="539280" y="2997000"/>
            <a:ext cx="1008000" cy="576360"/>
          </a:xfrm>
          <a:custGeom>
            <a:avLst/>
            <a:gdLst/>
            <a:ahLst/>
            <a:rect l="l" t="t" r="r" b="b"/>
            <a:pathLst>
              <a:path w="1008063" h="576263">
                <a:moveTo>
                  <a:pt x="133619" y="220363"/>
                </a:moveTo>
                <a:lnTo>
                  <a:pt x="874444" y="220363"/>
                </a:lnTo>
                <a:lnTo>
                  <a:pt x="874444" y="355900"/>
                </a:lnTo>
                <a:lnTo>
                  <a:pt x="133619" y="355900"/>
                </a:lnTo>
                <a:lnTo>
                  <a:pt x="133619" y="220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Стрелка углом 41"/>
          <p:cNvSpPr/>
          <p:nvPr/>
        </p:nvSpPr>
        <p:spPr>
          <a:xfrm flipH="1" rot="5400000">
            <a:off x="1907280" y="3573360"/>
            <a:ext cx="503280" cy="3671640"/>
          </a:xfrm>
          <a:custGeom>
            <a:avLst/>
            <a:gdLst/>
            <a:ahLst/>
            <a:rect l="l" t="t" r="r" b="b"/>
            <a:pathLst>
              <a:path w="503237" h="3671888">
                <a:moveTo>
                  <a:pt x="0" y="3671888"/>
                </a:moveTo>
                <a:lnTo>
                  <a:pt x="0" y="333676"/>
                </a:lnTo>
                <a:cubicBezTo>
                  <a:pt x="0" y="189408"/>
                  <a:pt x="116952" y="72456"/>
                  <a:pt x="261220" y="72456"/>
                </a:cubicBezTo>
                <a:lnTo>
                  <a:pt x="275749" y="72456"/>
                </a:lnTo>
                <a:lnTo>
                  <a:pt x="275749" y="0"/>
                </a:lnTo>
                <a:lnTo>
                  <a:pt x="503237" y="117249"/>
                </a:lnTo>
                <a:lnTo>
                  <a:pt x="275749" y="234498"/>
                </a:lnTo>
                <a:lnTo>
                  <a:pt x="275749" y="162042"/>
                </a:lnTo>
                <a:lnTo>
                  <a:pt x="261220" y="162042"/>
                </a:lnTo>
                <a:cubicBezTo>
                  <a:pt x="166429" y="162042"/>
                  <a:pt x="89586" y="238885"/>
                  <a:pt x="89586" y="333676"/>
                </a:cubicBezTo>
                <a:lnTo>
                  <a:pt x="89586" y="3671888"/>
                </a:lnTo>
                <a:lnTo>
                  <a:pt x="0" y="3671888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Минус 42"/>
          <p:cNvSpPr/>
          <p:nvPr/>
        </p:nvSpPr>
        <p:spPr>
          <a:xfrm rot="5400000">
            <a:off x="-1944000" y="3609000"/>
            <a:ext cx="4680000" cy="576360"/>
          </a:xfrm>
          <a:custGeom>
            <a:avLst/>
            <a:gdLst/>
            <a:ahLst/>
            <a:rect l="l" t="t" r="r" b="b"/>
            <a:pathLst>
              <a:path w="4679950" h="576263">
                <a:moveTo>
                  <a:pt x="620327" y="220363"/>
                </a:moveTo>
                <a:lnTo>
                  <a:pt x="4059623" y="220363"/>
                </a:lnTo>
                <a:lnTo>
                  <a:pt x="4059623" y="355900"/>
                </a:lnTo>
                <a:lnTo>
                  <a:pt x="620327" y="355900"/>
                </a:lnTo>
                <a:lnTo>
                  <a:pt x="620327" y="220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Стрелка вправо 45"/>
          <p:cNvSpPr/>
          <p:nvPr/>
        </p:nvSpPr>
        <p:spPr>
          <a:xfrm>
            <a:off x="1979640" y="1484280"/>
            <a:ext cx="1440000" cy="28908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Стрелка влево 46"/>
          <p:cNvSpPr/>
          <p:nvPr/>
        </p:nvSpPr>
        <p:spPr>
          <a:xfrm>
            <a:off x="1979640" y="1989000"/>
            <a:ext cx="1440000" cy="287640"/>
          </a:xfrm>
          <a:prstGeom prst="leftArrow">
            <a:avLst>
              <a:gd name="adj1" fmla="val 50000"/>
              <a:gd name="adj2" fmla="val 49947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Дефицит торгового баланс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457200" y="1218960"/>
            <a:ext cx="822960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отношение экспорта и импорта отражается в торговом балансе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Если  расходы   по   импорту  превышают  доходы  от  экспорта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(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т &gt; Ех)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 это соответствует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дефициту торгового баланса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нансирование дефицита торгового баланса происходит за счет внешнего займа (может также использоваться для финансирования дефицита государственного бюджета) и может осуществляться путем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дажи иностранцам финансовых активов (частных и государственных ценных бумаг — акций и облигаций) и поступления в страну денежных средств в счет их оплаты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ямых заимствований у других стран и у международных финансовых организаций, таких, как Международный валютный фонд, Мировой банк и др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результате на финансовый рынок страны происходит приток денежных средств из иностранного сектора, который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ритоком капитал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pital inflow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, и страна выступает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заемщиком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ка исследует…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блемы, общие для всей экономик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опериру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овокупными величинам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акими как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ловой внутренний продукт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циональный доход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окупный спрос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окупное предложение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окупное потребление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вестиции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ий уровень цен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ровень безработицы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енный долг и др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официт торгового баланс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Если доходы от экспорта превышают расходы по импорту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Ex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т)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 означа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фицит (излишек) торгового баланс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о из страны происходи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тток капитал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pital outflow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, поскольку в этом случае иностранцы продают данной стране свои финансовые активы (берут кредит) и получают необходимые для оплаты экспорта денежные средств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этом случае страна выступа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редитор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тождеств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овокупные расходы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в четырехсекторной модели экономики представляют собой сумму расходов всех макроэкономических агентов — домохозяйств, фирм, государства и иностранного сектора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+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I + G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X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Xn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чистый экспорт (расходы иностранного сектора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Чистый экспорт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– разница между экспортом и импортом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Xn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Ex - I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овокупный доход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состоит из потребления (С) и сбережений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чистых налогов (Т)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Основное макроэкономическое тождество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скольку совокупные расходы тождественно равны совокупному доходу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(             )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о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а формула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сновным макроэкономическим тождеств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 этом стоимость совокупного выпуска (совокупного продукта) тождественно равна величине совокупных расходов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Object 2"/>
              <p:cNvSpPr txBox="1"/>
              <p:nvPr/>
            </p:nvSpPr>
            <p:spPr>
              <a:xfrm>
                <a:off x="3851280" y="1700280"/>
                <a:ext cx="10303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≡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Object 2"/>
              <p:cNvSpPr txBox="1"/>
              <p:nvPr/>
            </p:nvSpPr>
            <p:spPr>
              <a:xfrm>
                <a:off x="826920" y="2133720"/>
                <a:ext cx="4179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G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Xn</m:t>
                    </m:r>
                    <m:r>
                      <m:t xml:space="preserve">≡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Object 5"/>
              <p:cNvSpPr txBox="1"/>
              <p:nvPr/>
            </p:nvSpPr>
            <p:spPr>
              <a:xfrm>
                <a:off x="900000" y="4724280"/>
                <a:ext cx="37292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≡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G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X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Тождество инъекций и изъятий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показателе чистого экспорта присутствует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инъекция — экспорт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представляющий собой расходы (спрос) иностранного сектора на продукцию данной страны, т.е. являющийся частью совокупных расходов и увеличивающий поток расходов и доходов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изъятие — импорт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являющийся утечкой части совокупного дохода страны (домохозяйств) в иностранный сектор и сокращающий внутренние расходы и соответственно доходы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этому для четырехсекторной модели экономики тождество имеет вид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Object 2"/>
              <p:cNvSpPr txBox="1"/>
              <p:nvPr/>
            </p:nvSpPr>
            <p:spPr>
              <a:xfrm>
                <a:off x="4230720" y="5589720"/>
                <a:ext cx="43545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G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Ex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I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едмет макроэкономи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ель кругооборота показывает все виды взаимосвязей и взаимозависимостей в экономике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перь предмет макроэкономики можно определить более точно: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макроэкономика изучает закономерности поведения макроэкономических агентов на макроэкономических рынках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4. Макроэкономические модели и их показател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1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модел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се макроэкономические процессы изучаются на основе построения моделе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Макроэкономические модел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это формализованное (графическое или алгебраическое) описание экономических процессов и явлений с целью выявления основных взаимосвязей между ним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ля построения модели выделяют существенные, наиболее важные характеристики исследуемого процесса, отвлекаются (абстрагируются) от несущественных для исследования фактов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едставление модел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ель представляет собой упрощенное отражение действительности, позволяющее выявить основные закономерности экономических процессов и разработать варианты решения сложных макроэкономических проблем, таких, как экономический рост, инфляция, безработица и др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акроэкономические модели могут выступать в вид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теорий, функций, рисунков, схем, таблиц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торые выявляют взаимозависимости между макроэкономическими величинами, причинно-следственные связи между экономическими явлениям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Экзогенные и эндогенные переменные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ели включают два вида переменных: экзогенные и эндогенные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Экзогенные переменные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это переменные, задающиеся извне, значение которых формируе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не модел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зогенные переменные являются в моделях независимыми величинами, а их изменение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автономным изменение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Эндогенные переменные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переменные, значение которых формируе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нутри модел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зависимые переменные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ель позволяет показать, как изменение экзогенных переменных влияет на изменение величины эндогенных переменных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3" name="TextBox 4"/>
          <p:cNvSpPr/>
          <p:nvPr/>
        </p:nvSpPr>
        <p:spPr>
          <a:xfrm>
            <a:off x="3564000" y="3429000"/>
            <a:ext cx="1368360" cy="4597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Мод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4" name="Прямая со стрелкой 6"/>
          <p:cNvCxnSpPr>
            <a:endCxn id="703" idx="1"/>
          </p:cNvCxnSpPr>
          <p:nvPr/>
        </p:nvCxnSpPr>
        <p:spPr>
          <a:xfrm>
            <a:off x="1403280" y="3644640"/>
            <a:ext cx="2161080" cy="1476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705" name="TextBox 7"/>
          <p:cNvSpPr/>
          <p:nvPr/>
        </p:nvSpPr>
        <p:spPr>
          <a:xfrm>
            <a:off x="1476360" y="278136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Экзогенная переме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6" name="Прямая со стрелкой 8"/>
          <p:cNvCxnSpPr/>
          <p:nvPr/>
        </p:nvCxnSpPr>
        <p:spPr>
          <a:xfrm>
            <a:off x="4932360" y="3644640"/>
            <a:ext cx="2161080" cy="1476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707" name="TextBox 9"/>
          <p:cNvSpPr/>
          <p:nvPr/>
        </p:nvSpPr>
        <p:spPr>
          <a:xfrm>
            <a:off x="5003640" y="278136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Эндогенная переме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4617b"/>
                </a:solidFill>
                <a:latin typeface="Cambria"/>
              </a:rPr>
              <a:t>Основные проблемы</a:t>
            </a: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, 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которые изучает макроэкономика: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ческий рост, его факторы и темпы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ческий цикл и его причины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занятость и безработица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щий уровень цен и инфляция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ровень ставки процента и денежное обращение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стояние государственного бюджета и финансирование бюджетного дефицита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стояние платежного баланса и валютный курс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имер 1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функции (модели) потребления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С = С (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де С — величина совокупных потребительских расходов,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d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полагаемый доход,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является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зогенной переменной, а С — эндогенно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а модель позволяет исследовать, как изменение располагаемого дохода меняет величину потребительских расход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требление выступает как зависимая величина (функция), а располагаемый доход — как независимая величина (аргумент функции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имер 2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разных моделях одна и та же величина может быть и экзогенной, и эндогенно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ак, в модели потребления потребительские расходы (С) выступают в качестве эндогенной (зависимой) величины, а в модели совокупного спроса                   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AD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G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Xn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требительские расходы (С) являются экзогенной (независимой) величиной, т.е. переменной, определяющей величину совокупного выпуска и совокупного доход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олитические переменные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сключение составляют переменные государственного управления, называемы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литическими переменным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торые, как правило, в макроэкономических моделях являются экзогенными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кордные налоги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логовые ставки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личина трансфертов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тная ставка процента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рма обязательных резервов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нежная масс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оказатели потоков и запасов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анна служит классическим примером для иллюстрации понятий потока и запаса. Количество воды в ванне — запас, поскольку это ее количество в данный момент, а вода, поступающая через кран, — поток — количество воды, поступающее в ванну в единицу времени и меняющее величину ее запас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20" name="Picture 2" descr="C:\Users\х\Desktop\макро\тема 1\поток и запас.jpg"/>
          <p:cNvPicPr/>
          <p:nvPr/>
        </p:nvPicPr>
        <p:blipFill>
          <a:blip r:embed="rId1"/>
          <a:stretch/>
        </p:blipFill>
        <p:spPr>
          <a:xfrm>
            <a:off x="2771640" y="3645000"/>
            <a:ext cx="3162600" cy="2457360"/>
          </a:xfrm>
          <a:prstGeom prst="rect">
            <a:avLst/>
          </a:prstGeom>
          <a:ln w="0">
            <a:noFill/>
          </a:ln>
        </p:spPr>
      </p:pic>
      <p:sp>
        <p:nvSpPr>
          <p:cNvPr id="72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оток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ток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low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— это показатель, характеризующий количеств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за определенный период времени       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в макроэкономике, как правило, за год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 показателям потоков относятся: совокупный выпуск, совокупный доход, потребление, инвестиции, дефицит (профицит) государственного бюджета, экспорт и др., так как они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рассчитываются за год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се показатели, отображенные в модели кругооборота, являются потоками (неслучайно она называется моделью круговых потоков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Запас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Запас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tock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— это показатель, характеризующий количеств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на определенный момент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определенную дату (например, 1 января 2012 г.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 показателям запасов относятся: национальное богатство, личное богатство, запас капитала, количество безработных, производственный потенциал, государственный долг и др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Абсолютные и относительные показател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Абсолютные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казатели измеряются в денежном (стоимостном) выражении (например, совокупный выпуск, национальный доход, налоговые поступления, совокупные инвестиционные расходы и др.) или в количестве человек (например, общая численность безработных, численность рабочей силы и др.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тносительные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казатели измеряются в процентах или долях единицы (например, уровень безработицы, общий уровень цен, темп инфляции, темп экономического роста, ставка процента, ставка налога и т.п.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Все эти проблемы 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возможно решить с позиций микроэкономического анализа, т.е. с уровня отдельного потребителя, отдельной фирмы и даже отдельной отрасл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менно потому, что существует целый ряд таких общеэкономических проблем, появляется необходимость в возникновении самостоятельного раздела экономической теории, самостоятельной дисциплины —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макроэкономик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1:30:20Z</dcterms:created>
  <dc:creator>test</dc:creator>
  <dc:description/>
  <dc:language>en-US</dc:language>
  <cp:lastModifiedBy>LEGION</cp:lastModifiedBy>
  <dcterms:modified xsi:type="dcterms:W3CDTF">2016-01-04T14:02:40Z</dcterms:modified>
  <cp:revision>112</cp:revision>
  <dc:subject/>
  <dc:title>Макроэкономика</dc:title>
</cp:coreProperties>
</file>