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4C6F-5A8F-496F-8864-6ED1C7D740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8D0-C0D7-4300-9F13-6FC235EC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C0F-5EFE-4C38-A226-8BC7B6F2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660-A4E5-4937-B8D6-96E48C52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C82-3501-461C-9CF7-424FB855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0167-E003-4643-99EC-8321909F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E0D7-BF5C-44CB-BCBD-D8A50025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6920-C340-45C7-BE3A-6897FFC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1A03-3284-48D0-8217-F4E8EADA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03D7-D7BB-436B-846F-3F74A55A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AA48-A6C3-4ACE-8C99-6E76D290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F249-B47A-43D9-B944-4DF39E3C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668-25E8-45EC-AEBC-8FCC3D1E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FC6F-F3F5-40F7-8EFE-538D9DA5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6540-37E5-4A7A-9266-6D6AE598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A2AE-817E-4A74-90CF-5F2FF325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1947-5A8D-4036-B79A-3EA30922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CD89-2502-44AA-85D6-41DBD7FA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F6177-E2CD-4D90-BC99-6AFFCB2D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245F-71F3-4D93-A26B-3C85B6BE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A990-ED76-4FDF-B835-052A79BC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0249-832B-4E27-9793-31BF62D0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D570-12F3-4D5B-BE10-5EA777F4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C64-59BA-4638-85CD-651ABB46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9A64-1686-49E7-A98E-B2FF4222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F114-9774-4758-AE9E-5658DB4E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6559A-A21B-4559-8898-0FE0C8E2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B5813-D000-40D4-B77D-D3D66A1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52FA-18F8-45C2-BD3B-7EAA5D9B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F777-170E-4E9D-8454-CE5D0FA1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E351-FFF0-438A-9729-18219E36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0149D-F7B8-4B30-866E-BB2C8DBC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BBA3-3BAD-4389-9D42-03249DE9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40B55-693B-4565-B87B-6D7F2678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4C4-549F-4C36-A16D-2A36AD4A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ACD6-9AD3-4A4B-9683-E9FC1E10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B4565-E4C8-41A6-A24A-6DE20D87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BA89-F57F-485B-8616-FE015E24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0B5F-A3E3-42F0-AD96-12FC09EB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D961-88E9-4372-B059-5D0FCD1C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1AED-1100-479C-8D32-2A4D2C16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0062-A42B-40C0-BF72-44E066D6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EBD5F-1C6B-4E89-B6D6-805CE825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62EE2-3069-44EE-82F4-D13AE8A9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5CDC5-A37F-419F-A40D-719A7385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EA1-8280-41DA-8305-BFCFC3CF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76DB7-0508-4B78-BC01-C9242ABC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F7040-2F04-465F-A501-C7DE9476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53C02-F87B-4D49-B9AD-498A860B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F59F0-CB16-4BF9-BDC0-8164FC6E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7E50D-1836-4054-A374-41C9B685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1CFF5-2380-4211-ADD7-4B6870F4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4FE55-37EA-42C2-BFAA-57375E8C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26213-6884-4739-BC37-2942029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8CFAB-5755-4249-B511-88CBBC8F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66D27-F43F-44BF-85B7-8DA553C8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004-311C-4EE3-A906-21BE595F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AEAD3-8284-4087-902D-5D7516B6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1C86B-12F3-460F-BC82-DCAE2838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375B8-868A-4706-A73D-FB48690A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0BB17-2B35-46C6-A3F8-ACD30C94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F31DA-605A-4335-9B1F-42E625C0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30660-F579-4D75-9A49-5C65A4DF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C3E02-EA2B-49E5-AC37-15ED148C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3A6DE-B8BD-404E-93D1-6D9FEF02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EE3AF-27DA-476E-ABD5-6BE1094A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98E4-81E5-49D2-BBF5-E160E727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018-A18D-4020-A653-C9CD3162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CA0F5-DBD7-41BB-AD3B-BD33B0E2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CDEFF-503F-42C4-B1D4-2721111C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C6838-607E-4614-B33D-4F90C242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DFBA5-FA7B-4E72-9A81-5D392762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A35BF-8AE6-47DE-8B9F-21C4371B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8DCF6-71DA-4877-8C6F-8BE746D8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B5C3B-13F0-40A3-B7D0-F4433877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9C669-3717-41B2-84D6-1AD094ED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725EE-F145-44C3-B300-ED09ACC8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7DB19-8A5E-4F71-AF87-236245B4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42D-F374-4DFB-8D91-B2D5985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34652-2F7B-4D54-9E97-BD557DF0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215E1-8DF1-4E5A-A88B-DB4FD18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5EBB4-FE79-44E6-8F9E-0D6720BD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87563-B0FA-4A88-9975-A12EDC49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84880-2517-4D86-ADA8-BF8442F5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3047E-9ABB-4E0B-BD91-47BF81EA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B0138-9DEF-4B92-BCE1-649957D5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721FE-09D5-4C1A-B966-BF6C20A6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F09B6-5544-4896-BD94-1F57C50E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3A861-1A07-4477-9CAA-12D910E6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330-29A1-4E8B-965D-B550FD10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8E46D-5725-4105-ACDE-7C4A6E08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4F2EA-8084-4B76-9802-371CC23B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F7266-3657-44F4-86A4-CFAAF1B7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94A06-50BA-40F3-9515-7E65AFC8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5AADD-2AD9-424F-AE18-3AFCC141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630B0-1F5C-4C72-B57F-7E7DEC39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1F876-6FE0-45BA-8F3F-F0868CBB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B90B-11FC-45D8-BE17-3A28B107033A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18B2-62AC-4A70-8A5C-AB4C9E3D2E96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B837-5AFE-4212-BA09-00110EACA211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8B58-4A3E-4E7F-A907-B5F60CB684CF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AFEA-6B9D-4CF1-AADC-C1A9C7696CC7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02AF-079B-41B0-839C-017055C3CD5A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47F7-CA61-4078-B318-25E114AC6515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8973-301B-403F-941E-2ED916997F72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Макроэкономика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Тема 1. Методология макро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mbria"/>
              </a:rPr>
              <a:t>Малышев Денис Перфилье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Важность изучения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макроэкономики заключается в том, что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яет их закономерности и зависим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ними, исслед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чинно-следственные связ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кономике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работать принципы экономической политик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ставлять прогноз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видеть будущие экономические проблем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ые теории макроэкономики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2. Макроэкономический анализ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вида анализа макроэкономических процесс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po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ациональное счетоводство,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нализ статистических данны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й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ценивать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ant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гнозное моделирование экономических процесс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явлений на основе определенных теоретических концепций, что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ределить закономер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я экономических процессов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вить причинно-следственные связ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экономическими явлениями и переменными. Это и есть макроэкономика как нау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рациона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абстрагир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тражающей фактическое состояние дел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нормативн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теорией, показывающей, как должны развиваться экономические процессы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помощью которого экономисты собирают, систематизируют и обобщают факты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иллюстрации экономических закономерностей, связей между переменным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грегировани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бой объединение отдельных элементов в одно целое, в агрегат, в совокупность. Оно основано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бстрагировании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гирование позволяет выдели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аген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ипичных черт экономического повед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г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485784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114300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485784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Домохозяйства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household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состоит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изации полез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труда, земли, капитала и предпринимательских способност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ender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я предложение кредитных средств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nable fund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выступа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изация прибы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я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варов и услуг в экономик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ю которых осуществляется процесс произво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1. 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предъявляют спрос на часть произведенной в экономике продукци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rrower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, предъявляя спрос на кредитные сред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астный сектор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астный сектор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143000" y="407196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авая фигурная скобка 7"/>
          <p:cNvSpPr/>
          <p:nvPr/>
        </p:nvSpPr>
        <p:spPr>
          <a:xfrm>
            <a:off x="3714840" y="2571840"/>
            <a:ext cx="428400" cy="271440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400"/>
              <a:gd name="textAreaBottom" fmla="*/ 2504520 h 27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4500720" y="33577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Государство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government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ю государственных учреждений и организаций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странении провалов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failure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симизации общественного благосостоя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cial welfar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ем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необходимо для обеспечения функционирования государственного сектор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 или заемщиком на финансовом рынк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гулятором и организатор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онирования рыночной экономи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итуциональные осно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провод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ую политик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ая делится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авленную на обеспечение экономического роста,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нъюн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Основные виды макроэкономической полит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за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785880" y="2143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Прямоугольник 5"/>
          <p:cNvSpPr/>
          <p:nvPr/>
        </p:nvSpPr>
        <p:spPr>
          <a:xfrm>
            <a:off x="785880" y="35719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авая фигурная скобка 7"/>
          <p:cNvSpPr/>
          <p:nvPr/>
        </p:nvSpPr>
        <p:spPr>
          <a:xfrm>
            <a:off x="3214800" y="214308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3857760" y="300024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3857760" y="4429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авая фигурная скобка 10"/>
          <p:cNvSpPr/>
          <p:nvPr/>
        </p:nvSpPr>
        <p:spPr>
          <a:xfrm>
            <a:off x="6286680" y="300024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858000" y="3500280"/>
            <a:ext cx="1714680" cy="1571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Иностранный сектор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foreign sector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остальные страны ми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которыми данная страна взаимодействует посредств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ждународной торгов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товаров и услуг (экспорт и импорт товаров и услуг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мещения капитал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финансовых активов — ценных бумаг (экспорт и импорт капитала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т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т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85840" y="214308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285840" y="278604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авая фигурная скобка 7"/>
          <p:cNvSpPr/>
          <p:nvPr/>
        </p:nvSpPr>
        <p:spPr>
          <a:xfrm>
            <a:off x="2643120" y="2143080"/>
            <a:ext cx="285840" cy="114300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143000"/>
              <a:gd name="textAreaBottom" fmla="*/ 1002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30"/>
                  <a:pt x="10800" y="8460"/>
                </a:cubicBezTo>
                <a:lnTo>
                  <a:pt x="10800" y="2454"/>
                </a:lnTo>
                <a:cubicBezTo>
                  <a:pt x="10800" y="6684"/>
                  <a:pt x="16200" y="10914"/>
                  <a:pt x="21600" y="10914"/>
                </a:cubicBezTo>
                <a:cubicBezTo>
                  <a:pt x="16200" y="10914"/>
                  <a:pt x="10800" y="15144"/>
                  <a:pt x="10800" y="19374"/>
                </a:cubicBezTo>
                <a:lnTo>
                  <a:pt x="10800" y="13140"/>
                </a:lnTo>
                <a:cubicBezTo>
                  <a:pt x="10800" y="173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3000240" y="21430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3000240" y="35002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авая фигурная скобка 10"/>
          <p:cNvSpPr/>
          <p:nvPr/>
        </p:nvSpPr>
        <p:spPr>
          <a:xfrm>
            <a:off x="4643280" y="2071800"/>
            <a:ext cx="285840" cy="264312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2643120"/>
              <a:gd name="textAreaBottom" fmla="*/ 250308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7256"/>
                </a:lnTo>
                <a:cubicBezTo>
                  <a:pt x="10800" y="9085"/>
                  <a:pt x="16200" y="10914"/>
                  <a:pt x="21600" y="10914"/>
                </a:cubicBezTo>
                <a:cubicBezTo>
                  <a:pt x="16200" y="10914"/>
                  <a:pt x="10800" y="12743"/>
                  <a:pt x="10800" y="14572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5000760" y="307188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12"/>
          <p:cNvSpPr/>
          <p:nvPr/>
        </p:nvSpPr>
        <p:spPr>
          <a:xfrm>
            <a:off x="5000760" y="407196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авая фигурная скобка 13"/>
          <p:cNvSpPr/>
          <p:nvPr/>
        </p:nvSpPr>
        <p:spPr>
          <a:xfrm>
            <a:off x="6929280" y="3071880"/>
            <a:ext cx="285840" cy="192888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928880"/>
              <a:gd name="textAreaBottom" fmla="*/ 1788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07"/>
                  <a:pt x="10800" y="5013"/>
                </a:cubicBezTo>
                <a:lnTo>
                  <a:pt x="10800" y="5901"/>
                </a:lnTo>
                <a:cubicBezTo>
                  <a:pt x="10800" y="8408"/>
                  <a:pt x="16200" y="10914"/>
                  <a:pt x="21600" y="10914"/>
                </a:cubicBezTo>
                <a:cubicBezTo>
                  <a:pt x="16200" y="10914"/>
                  <a:pt x="10800" y="13421"/>
                  <a:pt x="10800" y="15927"/>
                </a:cubicBezTo>
                <a:lnTo>
                  <a:pt x="10800" y="16587"/>
                </a:lnTo>
                <a:cubicBezTo>
                  <a:pt x="10800" y="190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7286760" y="3643200"/>
            <a:ext cx="1643040" cy="857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кономерностей функцион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ждого из них, а именн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ования особенносте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ния спроса и предло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словий их равновесия на каждом из рынк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вновесной цены и равновесного объем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снове соотношения спроса и предложен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ледствий изменения равновес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аждом из рынк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Экономическая теория включает  2 раздел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икроэкономик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сследует закономерности экономического поведения на уровн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тдельных экономических аген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ынков отдельных товар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рын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овары и услу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агент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level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равновесного объема их производства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outpu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еальным рынк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marke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на нем продают и покупают реальные активы (реальные ценност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Финансовый рынок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inancial asset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2643120" y="2143080"/>
            <a:ext cx="2857680" cy="428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нансовы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714240" y="3357720"/>
            <a:ext cx="285768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денежный рынок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oney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4643280" y="3357720"/>
            <a:ext cx="278640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рынок ценных бумаг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bonds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не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Прямая со стрелкой 8"/>
          <p:cNvCxnSpPr>
            <a:stCxn id="481" idx="2"/>
            <a:endCxn id="482" idx="0"/>
          </p:cNvCxnSpPr>
          <p:nvPr/>
        </p:nvCxnSpPr>
        <p:spPr>
          <a:xfrm flipH="1">
            <a:off x="2142720" y="2571480"/>
            <a:ext cx="192960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85" name="Прямая со стрелкой 11"/>
          <p:cNvCxnSpPr>
            <a:stCxn id="481" idx="2"/>
            <a:endCxn id="483" idx="0"/>
          </p:cNvCxnSpPr>
          <p:nvPr/>
        </p:nvCxnSpPr>
        <p:spPr>
          <a:xfrm>
            <a:off x="4070880" y="2571480"/>
            <a:ext cx="196596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48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денежном рынк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день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внутренние макроэкономические агент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мохозяйства, фирмы и государство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дене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й монопольным правом выпуска денег в обращени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ставку процент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est rate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выступающую ценой денег (ценой кредита), 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величину денежной масс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oney stock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редник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денежном рынке явл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ан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принимают денежные вклады и выдают кредит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кц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с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не имеющая срока погашения и существующая столько лет, сколько существует выпустившая ее фирма), делающая ее покупател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ладельц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й фирмы и обеспечивающая ему право участия в ее управлении и право на получение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ивиден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которого зависит от размеров прибыли фирм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блигац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выпущенная на определенный срок — например, на год, на 5 лет и т.п.), покупатель которой явля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цен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в момент наступления срока погашения — возвращение номинальной стоимости облигации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ценных бума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давц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митентами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упа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лига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 и государств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ют акции и облигации с целью получения средств для финансирования сво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естиционных расход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расширения объема производств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ет облигации для финанс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сударствен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экономических ресурсов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resourc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 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ынком труд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abour market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– это 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ономики в цел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агентов и экономических рынков друг с другом, при этом экономика рассматривается как сложная, иерархически организованная система, как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процессов и явлений и их показател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Рынок труд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ру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ру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ое количество труд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кономик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bour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цену тру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тавку заработной пла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wag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зработиц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валюты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oreign exchang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прос на национальную валют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остранц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ющие купить товары и (или) ценные бумаги данной стран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ложение национальной валю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е це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hange rat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3. Кругооборот продукта, расходов и доход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Cambria"/>
              </a:rPr>
              <a:t>Модель кругооборота продукта, расходов и дох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(модель круговых потоков — </a:t>
            </a:r>
            <a:r>
              <a:rPr b="0" lang="en-US" sz="2400" spc="-1" strike="noStrike">
                <a:solidFill>
                  <a:srgbClr val="04617b"/>
                </a:solidFill>
                <a:latin typeface="Bookman Old Style"/>
              </a:rPr>
              <a:t>model of circular flows</a:t>
            </a: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исследовать закономерности поведения макроэкономических агентов на макроэкономических рынк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 и фир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и 2 рынк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ынка товаров и услуг и рынка экономических ресурс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3" descr="C:\Users\х\Desktop\макро\тема 1\2секторная чистая.jpg"/>
          <p:cNvPicPr/>
          <p:nvPr/>
        </p:nvPicPr>
        <p:blipFill>
          <a:blip r:embed="rId1"/>
          <a:stretch/>
        </p:blipFill>
        <p:spPr>
          <a:xfrm>
            <a:off x="216000" y="1125360"/>
            <a:ext cx="8748720" cy="3811680"/>
          </a:xfrm>
          <a:prstGeom prst="rect">
            <a:avLst/>
          </a:prstGeom>
          <a:ln w="0">
            <a:noFill/>
          </a:ln>
        </p:spPr>
      </p:pic>
      <p:sp>
        <p:nvSpPr>
          <p:cNvPr id="520" name="Стрелка углом 7"/>
          <p:cNvSpPr/>
          <p:nvPr/>
        </p:nvSpPr>
        <p:spPr>
          <a:xfrm>
            <a:off x="395280" y="1341360"/>
            <a:ext cx="2448000" cy="1511280"/>
          </a:xfrm>
          <a:custGeom>
            <a:avLst/>
            <a:gdLst/>
            <a:ahLst/>
            <a:rect l="l" t="t" r="r" b="b"/>
            <a:pathLst>
              <a:path w="2447925" h="1511300">
                <a:moveTo>
                  <a:pt x="0" y="1511300"/>
                </a:moveTo>
                <a:lnTo>
                  <a:pt x="0" y="806830"/>
                </a:lnTo>
                <a:cubicBezTo>
                  <a:pt x="0" y="457688"/>
                  <a:pt x="283035" y="174653"/>
                  <a:pt x="632177" y="174653"/>
                </a:cubicBezTo>
                <a:lnTo>
                  <a:pt x="2262488" y="174653"/>
                </a:lnTo>
                <a:lnTo>
                  <a:pt x="2262488" y="0"/>
                </a:lnTo>
                <a:lnTo>
                  <a:pt x="2447925" y="272563"/>
                </a:lnTo>
                <a:lnTo>
                  <a:pt x="2262488" y="545126"/>
                </a:lnTo>
                <a:lnTo>
                  <a:pt x="2262488" y="370473"/>
                </a:lnTo>
                <a:lnTo>
                  <a:pt x="632177" y="370473"/>
                </a:lnTo>
                <a:cubicBezTo>
                  <a:pt x="391183" y="370473"/>
                  <a:pt x="195819" y="565837"/>
                  <a:pt x="195819" y="806831"/>
                </a:cubicBezTo>
                <a:lnTo>
                  <a:pt x="195819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трелка углом 8"/>
          <p:cNvSpPr/>
          <p:nvPr/>
        </p:nvSpPr>
        <p:spPr>
          <a:xfrm rot="10800000">
            <a:off x="6300720" y="3429000"/>
            <a:ext cx="2519280" cy="1440000"/>
          </a:xfrm>
          <a:custGeom>
            <a:avLst/>
            <a:gdLst/>
            <a:ahLst/>
            <a:rect l="l" t="t" r="r" b="b"/>
            <a:pathLst>
              <a:path w="2519362" h="1439863">
                <a:moveTo>
                  <a:pt x="0" y="1439863"/>
                </a:moveTo>
                <a:lnTo>
                  <a:pt x="0" y="796338"/>
                </a:lnTo>
                <a:cubicBezTo>
                  <a:pt x="0" y="448432"/>
                  <a:pt x="282034" y="166398"/>
                  <a:pt x="629940" y="166398"/>
                </a:cubicBezTo>
                <a:lnTo>
                  <a:pt x="2342691" y="166398"/>
                </a:lnTo>
                <a:lnTo>
                  <a:pt x="2342691" y="0"/>
                </a:lnTo>
                <a:lnTo>
                  <a:pt x="2519362" y="259679"/>
                </a:lnTo>
                <a:lnTo>
                  <a:pt x="2342691" y="519359"/>
                </a:lnTo>
                <a:lnTo>
                  <a:pt x="2342691" y="352961"/>
                </a:lnTo>
                <a:lnTo>
                  <a:pt x="629940" y="352961"/>
                </a:lnTo>
                <a:cubicBezTo>
                  <a:pt x="385070" y="352961"/>
                  <a:pt x="186563" y="551468"/>
                  <a:pt x="186563" y="796338"/>
                </a:cubicBezTo>
                <a:lnTo>
                  <a:pt x="186563" y="1439863"/>
                </a:lnTo>
                <a:lnTo>
                  <a:pt x="0" y="14398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трелка углом 9"/>
          <p:cNvSpPr/>
          <p:nvPr/>
        </p:nvSpPr>
        <p:spPr>
          <a:xfrm rot="16200000">
            <a:off x="971640" y="2781360"/>
            <a:ext cx="1224000" cy="2519280"/>
          </a:xfrm>
          <a:custGeom>
            <a:avLst/>
            <a:gdLst/>
            <a:ahLst/>
            <a:rect l="l" t="t" r="r" b="b"/>
            <a:pathLst>
              <a:path w="1223963" h="2519363">
                <a:moveTo>
                  <a:pt x="0" y="2519363"/>
                </a:moveTo>
                <a:lnTo>
                  <a:pt x="0" y="676931"/>
                </a:lnTo>
                <a:cubicBezTo>
                  <a:pt x="0" y="381191"/>
                  <a:pt x="239744" y="141447"/>
                  <a:pt x="535484" y="141447"/>
                </a:cubicBezTo>
                <a:lnTo>
                  <a:pt x="1073783" y="141447"/>
                </a:lnTo>
                <a:lnTo>
                  <a:pt x="1073783" y="0"/>
                </a:lnTo>
                <a:lnTo>
                  <a:pt x="1223963" y="220742"/>
                </a:lnTo>
                <a:lnTo>
                  <a:pt x="1073783" y="441483"/>
                </a:lnTo>
                <a:lnTo>
                  <a:pt x="1073783" y="300036"/>
                </a:lnTo>
                <a:lnTo>
                  <a:pt x="535484" y="300036"/>
                </a:lnTo>
                <a:cubicBezTo>
                  <a:pt x="327331" y="300036"/>
                  <a:pt x="158589" y="468778"/>
                  <a:pt x="158589" y="676931"/>
                </a:cubicBezTo>
                <a:lnTo>
                  <a:pt x="158589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Стрелка углом 10"/>
          <p:cNvSpPr/>
          <p:nvPr/>
        </p:nvSpPr>
        <p:spPr>
          <a:xfrm rot="5400000">
            <a:off x="6912360" y="871920"/>
            <a:ext cx="1368360" cy="2592360"/>
          </a:xfrm>
          <a:custGeom>
            <a:avLst/>
            <a:gdLst/>
            <a:ahLst/>
            <a:rect l="l" t="t" r="r" b="b"/>
            <a:pathLst>
              <a:path w="1368425" h="2592387">
                <a:moveTo>
                  <a:pt x="0" y="2592387"/>
                </a:moveTo>
                <a:lnTo>
                  <a:pt x="0" y="756828"/>
                </a:lnTo>
                <a:cubicBezTo>
                  <a:pt x="0" y="426183"/>
                  <a:pt x="268041" y="158142"/>
                  <a:pt x="598686" y="158142"/>
                </a:cubicBezTo>
                <a:lnTo>
                  <a:pt x="1200519" y="158142"/>
                </a:lnTo>
                <a:lnTo>
                  <a:pt x="1200519" y="0"/>
                </a:lnTo>
                <a:lnTo>
                  <a:pt x="1368425" y="246795"/>
                </a:lnTo>
                <a:lnTo>
                  <a:pt x="1200519" y="493591"/>
                </a:lnTo>
                <a:lnTo>
                  <a:pt x="1200519" y="335449"/>
                </a:lnTo>
                <a:lnTo>
                  <a:pt x="598686" y="335449"/>
                </a:lnTo>
                <a:cubicBezTo>
                  <a:pt x="365965" y="335449"/>
                  <a:pt x="177307" y="524107"/>
                  <a:pt x="177307" y="756828"/>
                </a:cubicBezTo>
                <a:lnTo>
                  <a:pt x="17730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Стрелка углом 11"/>
          <p:cNvSpPr/>
          <p:nvPr/>
        </p:nvSpPr>
        <p:spPr>
          <a:xfrm flipH="1">
            <a:off x="6300000" y="1844640"/>
            <a:ext cx="2016360" cy="1008000"/>
          </a:xfrm>
          <a:custGeom>
            <a:avLst/>
            <a:gdLst/>
            <a:ahLst/>
            <a:rect l="l" t="t" r="r" b="b"/>
            <a:pathLst>
              <a:path w="2016125" h="1008063">
                <a:moveTo>
                  <a:pt x="0" y="1008063"/>
                </a:moveTo>
                <a:lnTo>
                  <a:pt x="0" y="557524"/>
                </a:lnTo>
                <a:cubicBezTo>
                  <a:pt x="0" y="313951"/>
                  <a:pt x="197455" y="116496"/>
                  <a:pt x="441028" y="116496"/>
                </a:cubicBezTo>
                <a:lnTo>
                  <a:pt x="1892436" y="116497"/>
                </a:lnTo>
                <a:lnTo>
                  <a:pt x="1892436" y="0"/>
                </a:lnTo>
                <a:lnTo>
                  <a:pt x="2016125" y="181804"/>
                </a:lnTo>
                <a:lnTo>
                  <a:pt x="1892436" y="363608"/>
                </a:lnTo>
                <a:lnTo>
                  <a:pt x="1892436" y="247112"/>
                </a:lnTo>
                <a:lnTo>
                  <a:pt x="441028" y="247112"/>
                </a:lnTo>
                <a:cubicBezTo>
                  <a:pt x="269592" y="247112"/>
                  <a:pt x="130615" y="386089"/>
                  <a:pt x="130615" y="557525"/>
                </a:cubicBezTo>
                <a:lnTo>
                  <a:pt x="130615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Стрелка углом 12"/>
          <p:cNvSpPr/>
          <p:nvPr/>
        </p:nvSpPr>
        <p:spPr>
          <a:xfrm flipH="1" rot="16200000">
            <a:off x="1366560" y="1377000"/>
            <a:ext cx="863640" cy="2087640"/>
          </a:xfrm>
          <a:custGeom>
            <a:avLst/>
            <a:gdLst/>
            <a:ahLst/>
            <a:rect l="l" t="t" r="r" b="b"/>
            <a:pathLst>
              <a:path w="863600" h="2087563">
                <a:moveTo>
                  <a:pt x="0" y="2087563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57636" y="99802"/>
                </a:lnTo>
                <a:lnTo>
                  <a:pt x="757636" y="0"/>
                </a:lnTo>
                <a:lnTo>
                  <a:pt x="863600" y="155750"/>
                </a:lnTo>
                <a:lnTo>
                  <a:pt x="757636" y="311501"/>
                </a:lnTo>
                <a:lnTo>
                  <a:pt x="75763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2087563"/>
                </a:lnTo>
                <a:lnTo>
                  <a:pt x="0" y="20875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Стрелка углом 13"/>
          <p:cNvSpPr/>
          <p:nvPr/>
        </p:nvSpPr>
        <p:spPr>
          <a:xfrm flipH="1" rot="10800000">
            <a:off x="826920" y="3428640"/>
            <a:ext cx="2089440" cy="863640"/>
          </a:xfrm>
          <a:custGeom>
            <a:avLst/>
            <a:gdLst/>
            <a:ahLst/>
            <a:rect l="l" t="t" r="r" b="b"/>
            <a:pathLst>
              <a:path w="2089150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1983186" y="99802"/>
                </a:lnTo>
                <a:lnTo>
                  <a:pt x="1983186" y="0"/>
                </a:lnTo>
                <a:lnTo>
                  <a:pt x="2089150" y="155750"/>
                </a:lnTo>
                <a:lnTo>
                  <a:pt x="1983186" y="311501"/>
                </a:lnTo>
                <a:lnTo>
                  <a:pt x="198318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Стрелка углом 14"/>
          <p:cNvSpPr/>
          <p:nvPr/>
        </p:nvSpPr>
        <p:spPr>
          <a:xfrm flipH="1" rot="5400000">
            <a:off x="7018920" y="2709720"/>
            <a:ext cx="720720" cy="2158920"/>
          </a:xfrm>
          <a:custGeom>
            <a:avLst/>
            <a:gdLst/>
            <a:ahLst/>
            <a:rect l="l" t="t" r="r" b="b"/>
            <a:pathLst>
              <a:path w="720725" h="2159000">
                <a:moveTo>
                  <a:pt x="0" y="2159000"/>
                </a:moveTo>
                <a:lnTo>
                  <a:pt x="0" y="376820"/>
                </a:lnTo>
                <a:cubicBezTo>
                  <a:pt x="0" y="226745"/>
                  <a:pt x="121660" y="105085"/>
                  <a:pt x="271735" y="105085"/>
                </a:cubicBezTo>
                <a:lnTo>
                  <a:pt x="632292" y="105085"/>
                </a:lnTo>
                <a:lnTo>
                  <a:pt x="632292" y="0"/>
                </a:lnTo>
                <a:lnTo>
                  <a:pt x="720725" y="151777"/>
                </a:lnTo>
                <a:lnTo>
                  <a:pt x="632292" y="303555"/>
                </a:lnTo>
                <a:lnTo>
                  <a:pt x="632292" y="198470"/>
                </a:lnTo>
                <a:lnTo>
                  <a:pt x="271735" y="198470"/>
                </a:lnTo>
                <a:cubicBezTo>
                  <a:pt x="173234" y="198470"/>
                  <a:pt x="93384" y="278320"/>
                  <a:pt x="93384" y="376821"/>
                </a:cubicBezTo>
                <a:lnTo>
                  <a:pt x="93384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материаль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64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окупный продук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Стрелка вправо 5"/>
          <p:cNvSpPr/>
          <p:nvPr/>
        </p:nvSpPr>
        <p:spPr>
          <a:xfrm rot="10800000">
            <a:off x="5363640" y="764280"/>
            <a:ext cx="2087640" cy="287640"/>
          </a:xfrm>
          <a:prstGeom prst="rightArrow">
            <a:avLst>
              <a:gd name="adj1" fmla="val 50000"/>
              <a:gd name="adj2" fmla="val 127751"/>
            </a:avLst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Стрелка углом 6"/>
          <p:cNvSpPr/>
          <p:nvPr/>
        </p:nvSpPr>
        <p:spPr>
          <a:xfrm flipH="1" rot="16200000">
            <a:off x="359640" y="1232640"/>
            <a:ext cx="576000" cy="93672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4189"/>
                </a:lnTo>
                <a:cubicBezTo>
                  <a:pt x="0" y="205044"/>
                  <a:pt x="80372" y="124672"/>
                  <a:pt x="179517" y="124672"/>
                </a:cubicBezTo>
                <a:lnTo>
                  <a:pt x="403920" y="124672"/>
                </a:lnTo>
                <a:lnTo>
                  <a:pt x="403920" y="0"/>
                </a:lnTo>
                <a:lnTo>
                  <a:pt x="576263" y="162005"/>
                </a:lnTo>
                <a:lnTo>
                  <a:pt x="403920" y="324010"/>
                </a:lnTo>
                <a:lnTo>
                  <a:pt x="403920" y="199338"/>
                </a:lnTo>
                <a:lnTo>
                  <a:pt x="179517" y="199338"/>
                </a:lnTo>
                <a:cubicBezTo>
                  <a:pt x="121609" y="199338"/>
                  <a:pt x="74666" y="246281"/>
                  <a:pt x="74666" y="304189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Стрелка углом 7"/>
          <p:cNvSpPr/>
          <p:nvPr/>
        </p:nvSpPr>
        <p:spPr>
          <a:xfrm flipH="1">
            <a:off x="179280" y="2205000"/>
            <a:ext cx="936720" cy="79236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79759" y="91546"/>
                </a:lnTo>
                <a:lnTo>
                  <a:pt x="679759" y="0"/>
                </a:lnTo>
                <a:lnTo>
                  <a:pt x="936625" y="142866"/>
                </a:lnTo>
                <a:lnTo>
                  <a:pt x="679759" y="285733"/>
                </a:lnTo>
                <a:lnTo>
                  <a:pt x="679759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556132"/>
                  <a:pt x="102640" y="674147"/>
                  <a:pt x="102640" y="792162"/>
                </a:cubicBezTo>
                <a:lnTo>
                  <a:pt x="0" y="7921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Стрелка углом 8"/>
          <p:cNvSpPr/>
          <p:nvPr/>
        </p:nvSpPr>
        <p:spPr>
          <a:xfrm flipH="1" rot="5400000">
            <a:off x="430200" y="3464640"/>
            <a:ext cx="576000" cy="93636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1290"/>
                </a:lnTo>
                <a:cubicBezTo>
                  <a:pt x="0" y="181296"/>
                  <a:pt x="97274" y="84022"/>
                  <a:pt x="217268" y="84022"/>
                </a:cubicBezTo>
                <a:lnTo>
                  <a:pt x="401016" y="84022"/>
                </a:lnTo>
                <a:lnTo>
                  <a:pt x="401016" y="0"/>
                </a:lnTo>
                <a:lnTo>
                  <a:pt x="576263" y="121355"/>
                </a:lnTo>
                <a:lnTo>
                  <a:pt x="401016" y="242710"/>
                </a:lnTo>
                <a:lnTo>
                  <a:pt x="401016" y="158688"/>
                </a:lnTo>
                <a:lnTo>
                  <a:pt x="217268" y="158688"/>
                </a:lnTo>
                <a:cubicBezTo>
                  <a:pt x="138511" y="158688"/>
                  <a:pt x="74666" y="222533"/>
                  <a:pt x="74666" y="301290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Стрелка углом 9"/>
          <p:cNvSpPr/>
          <p:nvPr/>
        </p:nvSpPr>
        <p:spPr>
          <a:xfrm flipH="1" rot="10800000">
            <a:off x="249840" y="486864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14611" y="99802"/>
                </a:lnTo>
                <a:lnTo>
                  <a:pt x="714611" y="0"/>
                </a:lnTo>
                <a:lnTo>
                  <a:pt x="936625" y="155750"/>
                </a:lnTo>
                <a:lnTo>
                  <a:pt x="714611" y="311501"/>
                </a:lnTo>
                <a:lnTo>
                  <a:pt x="714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денеж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учку от прода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enu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ных дох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om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ключающих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аботную пла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g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труд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н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землю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нт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капитал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быль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fi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предпринимательские способности, в сумме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(национальный)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Стрелка вправо 4"/>
          <p:cNvSpPr/>
          <p:nvPr/>
        </p:nvSpPr>
        <p:spPr>
          <a:xfrm>
            <a:off x="5003640" y="765000"/>
            <a:ext cx="2089440" cy="287640"/>
          </a:xfrm>
          <a:prstGeom prst="rightArrow">
            <a:avLst>
              <a:gd name="adj1" fmla="val 50000"/>
              <a:gd name="adj2" fmla="val 127760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Стрелка углом 5"/>
          <p:cNvSpPr/>
          <p:nvPr/>
        </p:nvSpPr>
        <p:spPr>
          <a:xfrm>
            <a:off x="179280" y="537372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22908"/>
                </a:lnTo>
                <a:cubicBezTo>
                  <a:pt x="0" y="239902"/>
                  <a:pt x="148355" y="91547"/>
                  <a:pt x="331361" y="91547"/>
                </a:cubicBezTo>
                <a:lnTo>
                  <a:pt x="694271" y="91546"/>
                </a:lnTo>
                <a:lnTo>
                  <a:pt x="694271" y="0"/>
                </a:lnTo>
                <a:lnTo>
                  <a:pt x="936625" y="142866"/>
                </a:lnTo>
                <a:lnTo>
                  <a:pt x="694271" y="285733"/>
                </a:lnTo>
                <a:lnTo>
                  <a:pt x="694271" y="194187"/>
                </a:lnTo>
                <a:lnTo>
                  <a:pt x="331361" y="194187"/>
                </a:lnTo>
                <a:cubicBezTo>
                  <a:pt x="205042" y="194187"/>
                  <a:pt x="102640" y="296589"/>
                  <a:pt x="102640" y="422908"/>
                </a:cubicBezTo>
                <a:lnTo>
                  <a:pt x="102640" y="792162"/>
                </a:lnTo>
                <a:lnTo>
                  <a:pt x="0" y="7921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Стрелка углом 6"/>
          <p:cNvSpPr/>
          <p:nvPr/>
        </p:nvSpPr>
        <p:spPr>
          <a:xfrm rot="5400000">
            <a:off x="287280" y="1665360"/>
            <a:ext cx="792000" cy="1008000"/>
          </a:xfrm>
          <a:custGeom>
            <a:avLst/>
            <a:gdLst/>
            <a:ahLst/>
            <a:rect l="l" t="t" r="r" b="b"/>
            <a:pathLst>
              <a:path w="792162" h="1008062">
                <a:moveTo>
                  <a:pt x="0" y="10080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22386" y="91546"/>
                </a:lnTo>
                <a:lnTo>
                  <a:pt x="622386" y="0"/>
                </a:lnTo>
                <a:lnTo>
                  <a:pt x="792162" y="142866"/>
                </a:lnTo>
                <a:lnTo>
                  <a:pt x="622386" y="285733"/>
                </a:lnTo>
                <a:lnTo>
                  <a:pt x="622386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628099"/>
                  <a:pt x="102640" y="818080"/>
                  <a:pt x="102640" y="1008062"/>
                </a:cubicBezTo>
                <a:lnTo>
                  <a:pt x="0" y="10080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Стрелка углом 7"/>
          <p:cNvSpPr/>
          <p:nvPr/>
        </p:nvSpPr>
        <p:spPr>
          <a:xfrm rot="10800000">
            <a:off x="178920" y="2781000"/>
            <a:ext cx="863640" cy="1152360"/>
          </a:xfrm>
          <a:custGeom>
            <a:avLst/>
            <a:gdLst/>
            <a:ahLst/>
            <a:rect l="l" t="t" r="r" b="b"/>
            <a:pathLst>
              <a:path w="863600" h="1152525">
                <a:moveTo>
                  <a:pt x="0" y="1152525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699611" y="99802"/>
                </a:lnTo>
                <a:lnTo>
                  <a:pt x="699611" y="0"/>
                </a:lnTo>
                <a:lnTo>
                  <a:pt x="863600" y="155750"/>
                </a:lnTo>
                <a:lnTo>
                  <a:pt x="699611" y="311501"/>
                </a:lnTo>
                <a:lnTo>
                  <a:pt x="699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Стрелка углом 8"/>
          <p:cNvSpPr/>
          <p:nvPr/>
        </p:nvSpPr>
        <p:spPr>
          <a:xfrm rot="16200000">
            <a:off x="108000" y="4076640"/>
            <a:ext cx="1079280" cy="936720"/>
          </a:xfrm>
          <a:custGeom>
            <a:avLst/>
            <a:gdLst/>
            <a:ahLst/>
            <a:rect l="l" t="t" r="r" b="b"/>
            <a:pathLst>
              <a:path w="1079500" h="936625">
                <a:moveTo>
                  <a:pt x="0" y="936625"/>
                </a:moveTo>
                <a:lnTo>
                  <a:pt x="0" y="518015"/>
                </a:lnTo>
                <a:cubicBezTo>
                  <a:pt x="0" y="291704"/>
                  <a:pt x="183462" y="108242"/>
                  <a:pt x="409773" y="108242"/>
                </a:cubicBezTo>
                <a:lnTo>
                  <a:pt x="877442" y="108241"/>
                </a:lnTo>
                <a:lnTo>
                  <a:pt x="877442" y="0"/>
                </a:lnTo>
                <a:lnTo>
                  <a:pt x="1079500" y="168920"/>
                </a:lnTo>
                <a:lnTo>
                  <a:pt x="877442" y="337841"/>
                </a:lnTo>
                <a:lnTo>
                  <a:pt x="877442" y="229600"/>
                </a:lnTo>
                <a:lnTo>
                  <a:pt x="409773" y="229600"/>
                </a:lnTo>
                <a:cubicBezTo>
                  <a:pt x="250486" y="229600"/>
                  <a:pt x="121358" y="358728"/>
                  <a:pt x="121358" y="518015"/>
                </a:cubicBezTo>
                <a:cubicBezTo>
                  <a:pt x="121358" y="657552"/>
                  <a:pt x="121359" y="797088"/>
                  <a:pt x="121359" y="936625"/>
                </a:cubicBezTo>
                <a:lnTo>
                  <a:pt x="0" y="9366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вижение потоков в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териа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оки движу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овой стрелки, а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енеж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товары и экономические ресурсы движется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, 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ыводы из двухсекторной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еобходимость финансового рын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v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должны приносить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нансового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отор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 домохозяйств превращаю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онные ресурсы фир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ермин «макроэкономика» вперв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требил в своей статье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933 г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звестный норвежский ученый — экономист-математик, один из основоположников эконометрики, лауреат Нобелевской премии (1969 г.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гнар Фриш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Ragnar Frisc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 с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финансовым рынко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2" descr="C:\Users\х\Desktop\макро\тема 1\2 секторная пустая с финансовым.jpg"/>
          <p:cNvPicPr/>
          <p:nvPr/>
        </p:nvPicPr>
        <p:blipFill>
          <a:blip r:embed="rId1"/>
          <a:stretch/>
        </p:blipFill>
        <p:spPr>
          <a:xfrm>
            <a:off x="220680" y="1266840"/>
            <a:ext cx="8815320" cy="4610160"/>
          </a:xfrm>
          <a:prstGeom prst="rect">
            <a:avLst/>
          </a:prstGeom>
          <a:ln w="0">
            <a:noFill/>
          </a:ln>
        </p:spPr>
      </p:pic>
      <p:sp>
        <p:nvSpPr>
          <p:cNvPr id="557" name="Стрелка углом 5"/>
          <p:cNvSpPr/>
          <p:nvPr/>
        </p:nvSpPr>
        <p:spPr>
          <a:xfrm>
            <a:off x="395280" y="148428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Стрелка углом 6"/>
          <p:cNvSpPr/>
          <p:nvPr/>
        </p:nvSpPr>
        <p:spPr>
          <a:xfrm rot="10800000">
            <a:off x="6227280" y="4220640"/>
            <a:ext cx="2521080" cy="1729080"/>
          </a:xfrm>
          <a:custGeom>
            <a:avLst/>
            <a:gdLst/>
            <a:ahLst/>
            <a:rect l="l" t="t" r="r" b="b"/>
            <a:pathLst>
              <a:path w="2520950" h="1728787">
                <a:moveTo>
                  <a:pt x="0" y="1728787"/>
                </a:moveTo>
                <a:lnTo>
                  <a:pt x="0" y="869009"/>
                </a:lnTo>
                <a:cubicBezTo>
                  <a:pt x="0" y="451292"/>
                  <a:pt x="338627" y="112665"/>
                  <a:pt x="756344" y="112665"/>
                </a:cubicBezTo>
                <a:lnTo>
                  <a:pt x="2250758" y="112665"/>
                </a:lnTo>
                <a:lnTo>
                  <a:pt x="2250758" y="0"/>
                </a:lnTo>
                <a:lnTo>
                  <a:pt x="2520950" y="188369"/>
                </a:lnTo>
                <a:lnTo>
                  <a:pt x="2250758" y="376737"/>
                </a:lnTo>
                <a:lnTo>
                  <a:pt x="2250758" y="264072"/>
                </a:lnTo>
                <a:lnTo>
                  <a:pt x="756344" y="264072"/>
                </a:lnTo>
                <a:cubicBezTo>
                  <a:pt x="422247" y="264072"/>
                  <a:pt x="151407" y="534912"/>
                  <a:pt x="151407" y="869009"/>
                </a:cubicBezTo>
                <a:lnTo>
                  <a:pt x="151407" y="1728787"/>
                </a:lnTo>
                <a:lnTo>
                  <a:pt x="0" y="17287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Стрелка углом 7"/>
          <p:cNvSpPr/>
          <p:nvPr/>
        </p:nvSpPr>
        <p:spPr>
          <a:xfrm rot="16200000">
            <a:off x="755280" y="3715920"/>
            <a:ext cx="1511640" cy="2520720"/>
          </a:xfrm>
          <a:custGeom>
            <a:avLst/>
            <a:gdLst/>
            <a:ahLst/>
            <a:rect l="l" t="t" r="r" b="b"/>
            <a:pathLst>
              <a:path w="1511300" h="2520950">
                <a:moveTo>
                  <a:pt x="0" y="2520950"/>
                </a:moveTo>
                <a:lnTo>
                  <a:pt x="0" y="756066"/>
                </a:lnTo>
                <a:cubicBezTo>
                  <a:pt x="0" y="390899"/>
                  <a:pt x="296027" y="94872"/>
                  <a:pt x="661194" y="94872"/>
                </a:cubicBezTo>
                <a:lnTo>
                  <a:pt x="1325863" y="94872"/>
                </a:lnTo>
                <a:lnTo>
                  <a:pt x="1325863" y="0"/>
                </a:lnTo>
                <a:lnTo>
                  <a:pt x="1511300" y="192781"/>
                </a:lnTo>
                <a:lnTo>
                  <a:pt x="1325863" y="385563"/>
                </a:lnTo>
                <a:lnTo>
                  <a:pt x="1325863" y="290691"/>
                </a:lnTo>
                <a:lnTo>
                  <a:pt x="661194" y="290691"/>
                </a:lnTo>
                <a:cubicBezTo>
                  <a:pt x="404174" y="290691"/>
                  <a:pt x="195819" y="499046"/>
                  <a:pt x="195819" y="756066"/>
                </a:cubicBezTo>
                <a:lnTo>
                  <a:pt x="195819" y="2520950"/>
                </a:ln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Стрелка углом 8"/>
          <p:cNvSpPr/>
          <p:nvPr/>
        </p:nvSpPr>
        <p:spPr>
          <a:xfrm rot="5400000">
            <a:off x="6517080" y="1340280"/>
            <a:ext cx="2158920" cy="2592360"/>
          </a:xfrm>
          <a:custGeom>
            <a:avLst/>
            <a:gdLst/>
            <a:ahLst/>
            <a:rect l="l" t="t" r="r" b="b"/>
            <a:pathLst>
              <a:path w="2159000" h="2592387">
                <a:moveTo>
                  <a:pt x="0" y="2592387"/>
                </a:moveTo>
                <a:lnTo>
                  <a:pt x="0" y="1114281"/>
                </a:lnTo>
                <a:cubicBezTo>
                  <a:pt x="0" y="592613"/>
                  <a:pt x="422895" y="169718"/>
                  <a:pt x="944563" y="169718"/>
                </a:cubicBezTo>
                <a:lnTo>
                  <a:pt x="1894091" y="169719"/>
                </a:lnTo>
                <a:lnTo>
                  <a:pt x="1894091" y="0"/>
                </a:lnTo>
                <a:lnTo>
                  <a:pt x="2159000" y="244312"/>
                </a:lnTo>
                <a:lnTo>
                  <a:pt x="1894091" y="488625"/>
                </a:lnTo>
                <a:lnTo>
                  <a:pt x="1894091" y="318906"/>
                </a:lnTo>
                <a:lnTo>
                  <a:pt x="944563" y="318906"/>
                </a:lnTo>
                <a:cubicBezTo>
                  <a:pt x="505289" y="318906"/>
                  <a:pt x="149187" y="675008"/>
                  <a:pt x="149187" y="1114282"/>
                </a:cubicBezTo>
                <a:lnTo>
                  <a:pt x="14918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Стрелка углом 9"/>
          <p:cNvSpPr/>
          <p:nvPr/>
        </p:nvSpPr>
        <p:spPr>
          <a:xfrm flipH="1">
            <a:off x="6300000" y="1916280"/>
            <a:ext cx="2016360" cy="180000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Стрелка углом 10"/>
          <p:cNvSpPr/>
          <p:nvPr/>
        </p:nvSpPr>
        <p:spPr>
          <a:xfrm flipH="1" rot="16200000">
            <a:off x="898920" y="1773000"/>
            <a:ext cx="1727280" cy="2158920"/>
          </a:xfrm>
          <a:custGeom>
            <a:avLst/>
            <a:gdLst/>
            <a:ahLst/>
            <a:rect l="l" t="t" r="r" b="b"/>
            <a:pathLst>
              <a:path w="1727200" h="2159000">
                <a:moveTo>
                  <a:pt x="0" y="2159000"/>
                </a:moveTo>
                <a:lnTo>
                  <a:pt x="0" y="841725"/>
                </a:lnTo>
                <a:cubicBezTo>
                  <a:pt x="0" y="424391"/>
                  <a:pt x="338316" y="86075"/>
                  <a:pt x="755650" y="86075"/>
                </a:cubicBezTo>
                <a:lnTo>
                  <a:pt x="1469864" y="86075"/>
                </a:lnTo>
                <a:lnTo>
                  <a:pt x="1469864" y="0"/>
                </a:lnTo>
                <a:lnTo>
                  <a:pt x="1727200" y="167694"/>
                </a:lnTo>
                <a:lnTo>
                  <a:pt x="1469864" y="335388"/>
                </a:lnTo>
                <a:lnTo>
                  <a:pt x="1469864" y="249313"/>
                </a:lnTo>
                <a:lnTo>
                  <a:pt x="755650" y="249313"/>
                </a:lnTo>
                <a:cubicBezTo>
                  <a:pt x="428470" y="249313"/>
                  <a:pt x="163238" y="514545"/>
                  <a:pt x="163238" y="841725"/>
                </a:cubicBezTo>
                <a:lnTo>
                  <a:pt x="163238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Стрелка углом 11"/>
          <p:cNvSpPr/>
          <p:nvPr/>
        </p:nvSpPr>
        <p:spPr>
          <a:xfrm flipH="1" rot="10800000">
            <a:off x="684360" y="4221000"/>
            <a:ext cx="2087280" cy="1152720"/>
          </a:xfrm>
          <a:custGeom>
            <a:avLst/>
            <a:gdLst/>
            <a:ahLst/>
            <a:rect l="l" t="t" r="r" b="b"/>
            <a:pathLst>
              <a:path w="2087562" h="1152525">
                <a:moveTo>
                  <a:pt x="0" y="1152525"/>
                </a:moveTo>
                <a:lnTo>
                  <a:pt x="0" y="506748"/>
                </a:lnTo>
                <a:cubicBezTo>
                  <a:pt x="0" y="300439"/>
                  <a:pt x="167247" y="133192"/>
                  <a:pt x="373556" y="133192"/>
                </a:cubicBezTo>
                <a:lnTo>
                  <a:pt x="1946147" y="133192"/>
                </a:lnTo>
                <a:lnTo>
                  <a:pt x="1946147" y="0"/>
                </a:lnTo>
                <a:lnTo>
                  <a:pt x="2087562" y="207858"/>
                </a:lnTo>
                <a:lnTo>
                  <a:pt x="1946147" y="415716"/>
                </a:lnTo>
                <a:lnTo>
                  <a:pt x="1946147" y="282524"/>
                </a:lnTo>
                <a:lnTo>
                  <a:pt x="373556" y="282524"/>
                </a:lnTo>
                <a:cubicBezTo>
                  <a:pt x="249721" y="282524"/>
                  <a:pt x="149332" y="382913"/>
                  <a:pt x="149332" y="506748"/>
                </a:cubicBezTo>
                <a:cubicBezTo>
                  <a:pt x="149332" y="722007"/>
                  <a:pt x="149333" y="937266"/>
                  <a:pt x="149333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Стрелка углом 12"/>
          <p:cNvSpPr/>
          <p:nvPr/>
        </p:nvSpPr>
        <p:spPr>
          <a:xfrm flipH="1" rot="5400000">
            <a:off x="6839640" y="3681000"/>
            <a:ext cx="1079640" cy="2158920"/>
          </a:xfrm>
          <a:custGeom>
            <a:avLst/>
            <a:gdLst/>
            <a:ahLst/>
            <a:rect l="l" t="t" r="r" b="b"/>
            <a:pathLst>
              <a:path w="1079500" h="2159000">
                <a:moveTo>
                  <a:pt x="0" y="2159000"/>
                </a:moveTo>
                <a:lnTo>
                  <a:pt x="0" y="564400"/>
                </a:lnTo>
                <a:cubicBezTo>
                  <a:pt x="0" y="339618"/>
                  <a:pt x="182222" y="157396"/>
                  <a:pt x="407004" y="157396"/>
                </a:cubicBezTo>
                <a:lnTo>
                  <a:pt x="947045" y="157396"/>
                </a:lnTo>
                <a:lnTo>
                  <a:pt x="947045" y="0"/>
                </a:lnTo>
                <a:lnTo>
                  <a:pt x="1079500" y="227332"/>
                </a:lnTo>
                <a:lnTo>
                  <a:pt x="947045" y="454664"/>
                </a:lnTo>
                <a:lnTo>
                  <a:pt x="947045" y="297267"/>
                </a:lnTo>
                <a:lnTo>
                  <a:pt x="407004" y="297267"/>
                </a:lnTo>
                <a:cubicBezTo>
                  <a:pt x="259471" y="297267"/>
                  <a:pt x="139871" y="416867"/>
                  <a:pt x="139871" y="564400"/>
                </a:cubicBezTo>
                <a:lnTo>
                  <a:pt x="139871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Стрелка вправо 13"/>
          <p:cNvSpPr/>
          <p:nvPr/>
        </p:nvSpPr>
        <p:spPr>
          <a:xfrm>
            <a:off x="205092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Стрелка вправо 14"/>
          <p:cNvSpPr/>
          <p:nvPr/>
        </p:nvSpPr>
        <p:spPr>
          <a:xfrm>
            <a:off x="565164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Стрелка углом вверх 20"/>
          <p:cNvSpPr/>
          <p:nvPr/>
        </p:nvSpPr>
        <p:spPr>
          <a:xfrm flipH="1" rot="10800000">
            <a:off x="4715280" y="2636640"/>
            <a:ext cx="3311640" cy="1091880"/>
          </a:xfrm>
          <a:custGeom>
            <a:avLst/>
            <a:gdLst/>
            <a:ahLst/>
            <a:rect l="l" t="t" r="r" b="b"/>
            <a:pathLst>
              <a:path w="3311525" h="1092200">
                <a:moveTo>
                  <a:pt x="0" y="936562"/>
                </a:moveTo>
                <a:lnTo>
                  <a:pt x="3085407" y="936562"/>
                </a:lnTo>
                <a:lnTo>
                  <a:pt x="3085407" y="170623"/>
                </a:lnTo>
                <a:lnTo>
                  <a:pt x="3014927" y="170623"/>
                </a:lnTo>
                <a:lnTo>
                  <a:pt x="3163226" y="0"/>
                </a:lnTo>
                <a:lnTo>
                  <a:pt x="3311525" y="170623"/>
                </a:lnTo>
                <a:lnTo>
                  <a:pt x="3241045" y="170623"/>
                </a:lnTo>
                <a:lnTo>
                  <a:pt x="3241045" y="1092200"/>
                </a:lnTo>
                <a:lnTo>
                  <a:pt x="0" y="1092200"/>
                </a:lnTo>
                <a:lnTo>
                  <a:pt x="0" y="9365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инус 21"/>
          <p:cNvSpPr/>
          <p:nvPr/>
        </p:nvSpPr>
        <p:spPr>
          <a:xfrm rot="5400000">
            <a:off x="4428360" y="2132640"/>
            <a:ext cx="718920" cy="720720"/>
          </a:xfrm>
          <a:custGeom>
            <a:avLst/>
            <a:gdLst/>
            <a:ahLst/>
            <a:rect l="l" t="t" r="r" b="b"/>
            <a:pathLst>
              <a:path w="719138" h="720725">
                <a:moveTo>
                  <a:pt x="95322" y="275605"/>
                </a:moveTo>
                <a:lnTo>
                  <a:pt x="623816" y="275605"/>
                </a:lnTo>
                <a:lnTo>
                  <a:pt x="623816" y="445120"/>
                </a:lnTo>
                <a:lnTo>
                  <a:pt x="95322" y="445120"/>
                </a:lnTo>
                <a:lnTo>
                  <a:pt x="95322" y="27560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Стрелка углом вверх 24"/>
          <p:cNvSpPr/>
          <p:nvPr/>
        </p:nvSpPr>
        <p:spPr>
          <a:xfrm flipH="1">
            <a:off x="3923640" y="2276640"/>
            <a:ext cx="3600360" cy="1008000"/>
          </a:xfrm>
          <a:custGeom>
            <a:avLst/>
            <a:gdLst/>
            <a:ahLst/>
            <a:rect l="l" t="t" r="r" b="b"/>
            <a:pathLst>
              <a:path w="3600450" h="1008063">
                <a:moveTo>
                  <a:pt x="0" y="850866"/>
                </a:moveTo>
                <a:lnTo>
                  <a:pt x="3303696" y="850866"/>
                </a:lnTo>
                <a:lnTo>
                  <a:pt x="3303696" y="197832"/>
                </a:lnTo>
                <a:lnTo>
                  <a:pt x="3164140" y="197832"/>
                </a:lnTo>
                <a:lnTo>
                  <a:pt x="3382295" y="0"/>
                </a:lnTo>
                <a:lnTo>
                  <a:pt x="3600450" y="197832"/>
                </a:lnTo>
                <a:lnTo>
                  <a:pt x="3460894" y="197832"/>
                </a:lnTo>
                <a:lnTo>
                  <a:pt x="3460894" y="1008063"/>
                </a:lnTo>
                <a:lnTo>
                  <a:pt x="0" y="1008063"/>
                </a:lnTo>
                <a:lnTo>
                  <a:pt x="0" y="8508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Минус 29"/>
          <p:cNvSpPr/>
          <p:nvPr/>
        </p:nvSpPr>
        <p:spPr>
          <a:xfrm rot="5400000">
            <a:off x="7091640" y="3069360"/>
            <a:ext cx="720720" cy="718920"/>
          </a:xfrm>
          <a:custGeom>
            <a:avLst/>
            <a:gdLst/>
            <a:ahLst/>
            <a:rect l="l" t="t" r="r" b="b"/>
            <a:pathLst>
              <a:path w="720725" h="719138">
                <a:moveTo>
                  <a:pt x="95532" y="274998"/>
                </a:moveTo>
                <a:lnTo>
                  <a:pt x="625193" y="274998"/>
                </a:lnTo>
                <a:lnTo>
                  <a:pt x="625193" y="444140"/>
                </a:lnTo>
                <a:lnTo>
                  <a:pt x="95532" y="444140"/>
                </a:lnTo>
                <a:lnTo>
                  <a:pt x="95532" y="27499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способа превращения сбережений домохозяйств в инвестиционные ресурсы фир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осредованный (косвенный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ямо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ption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олняются инвестиционными расходами фирм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iel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nditur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Е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348000" y="5516640"/>
                <a:ext cx="1373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вухсекторной модели экономики состоят из потребительских расходов домохозяйств (С) и инвестиционных расходов фир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о равны совокупному доходу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3203640" y="4508640"/>
                <a:ext cx="2376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6"/>
              <p:cNvSpPr txBox="1"/>
              <p:nvPr/>
            </p:nvSpPr>
            <p:spPr>
              <a:xfrm>
                <a:off x="3965400" y="5589720"/>
                <a:ext cx="1155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ъекции и изъят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ставляют собо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jectio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в экономику, 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kag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утечки) из 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величивае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 исключением потребительских расходов, которые не относятся ни к инъекциям, ни к изъятия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кращает 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вестиции и сбережен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вновесной экономи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 тождественно равны изъятия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т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442880"/>
            <a:ext cx="8229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х\Desktop\макро\тема 1\3 секторная.jpg"/>
          <p:cNvPicPr/>
          <p:nvPr/>
        </p:nvPicPr>
        <p:blipFill>
          <a:blip r:embed="rId1"/>
          <a:stretch/>
        </p:blipFill>
        <p:spPr>
          <a:xfrm>
            <a:off x="179280" y="1074600"/>
            <a:ext cx="8748720" cy="501840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углом 5"/>
          <p:cNvSpPr/>
          <p:nvPr/>
        </p:nvSpPr>
        <p:spPr>
          <a:xfrm>
            <a:off x="395280" y="119700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Стрелка углом 6"/>
          <p:cNvSpPr/>
          <p:nvPr/>
        </p:nvSpPr>
        <p:spPr>
          <a:xfrm rot="10800000">
            <a:off x="6084360" y="3933720"/>
            <a:ext cx="2519640" cy="2159280"/>
          </a:xfrm>
          <a:custGeom>
            <a:avLst/>
            <a:gdLst/>
            <a:ahLst/>
            <a:rect l="l" t="t" r="r" b="b"/>
            <a:pathLst>
              <a:path w="2519362" h="2159000">
                <a:moveTo>
                  <a:pt x="0" y="2159000"/>
                </a:moveTo>
                <a:lnTo>
                  <a:pt x="0" y="1012744"/>
                </a:lnTo>
                <a:cubicBezTo>
                  <a:pt x="0" y="491076"/>
                  <a:pt x="422895" y="68181"/>
                  <a:pt x="944563" y="68181"/>
                </a:cubicBezTo>
                <a:lnTo>
                  <a:pt x="2181932" y="68181"/>
                </a:lnTo>
                <a:lnTo>
                  <a:pt x="2181932" y="0"/>
                </a:lnTo>
                <a:lnTo>
                  <a:pt x="2519362" y="162724"/>
                </a:lnTo>
                <a:lnTo>
                  <a:pt x="2181932" y="325448"/>
                </a:lnTo>
                <a:lnTo>
                  <a:pt x="2181932" y="257266"/>
                </a:lnTo>
                <a:lnTo>
                  <a:pt x="944563" y="257266"/>
                </a:lnTo>
                <a:cubicBezTo>
                  <a:pt x="527325" y="257266"/>
                  <a:pt x="189086" y="595505"/>
                  <a:pt x="189086" y="1012743"/>
                </a:cubicBezTo>
                <a:cubicBezTo>
                  <a:pt x="189086" y="1394829"/>
                  <a:pt x="189085" y="1776914"/>
                  <a:pt x="189085" y="2159000"/>
                </a:cubicBezTo>
                <a:lnTo>
                  <a:pt x="0" y="21590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Стрелка углом 7"/>
          <p:cNvSpPr/>
          <p:nvPr/>
        </p:nvSpPr>
        <p:spPr>
          <a:xfrm rot="16200000">
            <a:off x="503640" y="3609000"/>
            <a:ext cx="1943280" cy="2592360"/>
          </a:xfrm>
          <a:custGeom>
            <a:avLst/>
            <a:gdLst/>
            <a:ahLst/>
            <a:rect l="l" t="t" r="r" b="b"/>
            <a:pathLst>
              <a:path w="1943100" h="2592387">
                <a:moveTo>
                  <a:pt x="0" y="2592387"/>
                </a:moveTo>
                <a:lnTo>
                  <a:pt x="0" y="1026103"/>
                </a:lnTo>
                <a:cubicBezTo>
                  <a:pt x="0" y="556602"/>
                  <a:pt x="380605" y="175997"/>
                  <a:pt x="850106" y="175997"/>
                </a:cubicBezTo>
                <a:lnTo>
                  <a:pt x="1704682" y="175996"/>
                </a:lnTo>
                <a:lnTo>
                  <a:pt x="1704682" y="0"/>
                </a:lnTo>
                <a:lnTo>
                  <a:pt x="1943100" y="247862"/>
                </a:lnTo>
                <a:lnTo>
                  <a:pt x="1704682" y="495724"/>
                </a:lnTo>
                <a:lnTo>
                  <a:pt x="1704682" y="319727"/>
                </a:lnTo>
                <a:lnTo>
                  <a:pt x="850106" y="319727"/>
                </a:lnTo>
                <a:cubicBezTo>
                  <a:pt x="459986" y="319727"/>
                  <a:pt x="143731" y="635982"/>
                  <a:pt x="143731" y="1026102"/>
                </a:cubicBezTo>
                <a:lnTo>
                  <a:pt x="143731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углом 8"/>
          <p:cNvSpPr/>
          <p:nvPr/>
        </p:nvSpPr>
        <p:spPr>
          <a:xfrm rot="5400000">
            <a:off x="6335640" y="1088640"/>
            <a:ext cx="2160720" cy="2519280"/>
          </a:xfrm>
          <a:custGeom>
            <a:avLst/>
            <a:gdLst/>
            <a:ahLst/>
            <a:rect l="l" t="t" r="r" b="b"/>
            <a:pathLst>
              <a:path w="2160587" h="2519363">
                <a:moveTo>
                  <a:pt x="0" y="2519363"/>
                </a:moveTo>
                <a:lnTo>
                  <a:pt x="0" y="1049786"/>
                </a:lnTo>
                <a:cubicBezTo>
                  <a:pt x="0" y="527735"/>
                  <a:pt x="423206" y="104529"/>
                  <a:pt x="945257" y="104529"/>
                </a:cubicBezTo>
                <a:lnTo>
                  <a:pt x="1939040" y="104529"/>
                </a:lnTo>
                <a:lnTo>
                  <a:pt x="1939040" y="0"/>
                </a:lnTo>
                <a:lnTo>
                  <a:pt x="2160587" y="179177"/>
                </a:lnTo>
                <a:lnTo>
                  <a:pt x="1939040" y="358355"/>
                </a:lnTo>
                <a:lnTo>
                  <a:pt x="1939040" y="253826"/>
                </a:lnTo>
                <a:lnTo>
                  <a:pt x="945257" y="253826"/>
                </a:lnTo>
                <a:cubicBezTo>
                  <a:pt x="505660" y="253826"/>
                  <a:pt x="149297" y="610189"/>
                  <a:pt x="149297" y="1049786"/>
                </a:cubicBezTo>
                <a:lnTo>
                  <a:pt x="149297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Стрелка углом 9"/>
          <p:cNvSpPr/>
          <p:nvPr/>
        </p:nvSpPr>
        <p:spPr>
          <a:xfrm flipH="1">
            <a:off x="6156360" y="1628640"/>
            <a:ext cx="2016000" cy="180036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трелка углом 10"/>
          <p:cNvSpPr/>
          <p:nvPr/>
        </p:nvSpPr>
        <p:spPr>
          <a:xfrm flipH="1" rot="16200000">
            <a:off x="934920" y="1521720"/>
            <a:ext cx="1655640" cy="2158920"/>
          </a:xfrm>
          <a:custGeom>
            <a:avLst/>
            <a:gdLst/>
            <a:ahLst/>
            <a:rect l="l" t="t" r="r" b="b"/>
            <a:pathLst>
              <a:path w="1655762" h="2159000">
                <a:moveTo>
                  <a:pt x="0" y="2159000"/>
                </a:moveTo>
                <a:lnTo>
                  <a:pt x="0" y="806911"/>
                </a:lnTo>
                <a:cubicBezTo>
                  <a:pt x="0" y="406838"/>
                  <a:pt x="324323" y="82515"/>
                  <a:pt x="724396" y="82515"/>
                </a:cubicBezTo>
                <a:lnTo>
                  <a:pt x="1409070" y="82515"/>
                </a:lnTo>
                <a:lnTo>
                  <a:pt x="1409070" y="0"/>
                </a:lnTo>
                <a:lnTo>
                  <a:pt x="1655762" y="160758"/>
                </a:lnTo>
                <a:lnTo>
                  <a:pt x="1409070" y="321516"/>
                </a:lnTo>
                <a:lnTo>
                  <a:pt x="1409070" y="239001"/>
                </a:lnTo>
                <a:lnTo>
                  <a:pt x="724396" y="239001"/>
                </a:lnTo>
                <a:cubicBezTo>
                  <a:pt x="410748" y="239001"/>
                  <a:pt x="156486" y="493263"/>
                  <a:pt x="156486" y="806911"/>
                </a:cubicBezTo>
                <a:lnTo>
                  <a:pt x="156486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Стрелка углом 11"/>
          <p:cNvSpPr/>
          <p:nvPr/>
        </p:nvSpPr>
        <p:spPr>
          <a:xfrm flipH="1" rot="10800000">
            <a:off x="684360" y="3933720"/>
            <a:ext cx="2087280" cy="1656000"/>
          </a:xfrm>
          <a:custGeom>
            <a:avLst/>
            <a:gdLst/>
            <a:ahLst/>
            <a:rect l="l" t="t" r="r" b="b"/>
            <a:pathLst>
              <a:path w="2087562" h="1655763">
                <a:moveTo>
                  <a:pt x="0" y="1655763"/>
                </a:moveTo>
                <a:lnTo>
                  <a:pt x="0" y="470750"/>
                </a:lnTo>
                <a:cubicBezTo>
                  <a:pt x="0" y="289560"/>
                  <a:pt x="146883" y="142677"/>
                  <a:pt x="328073" y="142677"/>
                </a:cubicBezTo>
                <a:lnTo>
                  <a:pt x="1884400" y="142677"/>
                </a:lnTo>
                <a:lnTo>
                  <a:pt x="1884400" y="0"/>
                </a:lnTo>
                <a:lnTo>
                  <a:pt x="2087562" y="222137"/>
                </a:lnTo>
                <a:lnTo>
                  <a:pt x="1884400" y="444274"/>
                </a:lnTo>
                <a:lnTo>
                  <a:pt x="1884400" y="301597"/>
                </a:lnTo>
                <a:lnTo>
                  <a:pt x="328073" y="301597"/>
                </a:lnTo>
                <a:cubicBezTo>
                  <a:pt x="234652" y="301597"/>
                  <a:pt x="158920" y="377329"/>
                  <a:pt x="158920" y="470750"/>
                </a:cubicBezTo>
                <a:lnTo>
                  <a:pt x="158920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Стрелка углом 12"/>
          <p:cNvSpPr/>
          <p:nvPr/>
        </p:nvSpPr>
        <p:spPr>
          <a:xfrm flipH="1" rot="5400000">
            <a:off x="6516720" y="3573360"/>
            <a:ext cx="1440000" cy="2160720"/>
          </a:xfrm>
          <a:custGeom>
            <a:avLst/>
            <a:gdLst/>
            <a:ahLst/>
            <a:rect l="l" t="t" r="r" b="b"/>
            <a:pathLst>
              <a:path w="1439863" h="2160588">
                <a:moveTo>
                  <a:pt x="0" y="2160588"/>
                </a:moveTo>
                <a:lnTo>
                  <a:pt x="0" y="626621"/>
                </a:lnTo>
                <a:cubicBezTo>
                  <a:pt x="0" y="326801"/>
                  <a:pt x="243052" y="83749"/>
                  <a:pt x="542872" y="83749"/>
                </a:cubicBezTo>
                <a:lnTo>
                  <a:pt x="1288433" y="83750"/>
                </a:lnTo>
                <a:lnTo>
                  <a:pt x="1288433" y="0"/>
                </a:lnTo>
                <a:lnTo>
                  <a:pt x="1439863" y="139177"/>
                </a:lnTo>
                <a:lnTo>
                  <a:pt x="1288433" y="278354"/>
                </a:lnTo>
                <a:lnTo>
                  <a:pt x="1288433" y="194605"/>
                </a:lnTo>
                <a:lnTo>
                  <a:pt x="542872" y="194605"/>
                </a:lnTo>
                <a:cubicBezTo>
                  <a:pt x="304276" y="194605"/>
                  <a:pt x="110856" y="388025"/>
                  <a:pt x="110856" y="626621"/>
                </a:cubicBezTo>
                <a:cubicBezTo>
                  <a:pt x="110856" y="1137943"/>
                  <a:pt x="110855" y="1649266"/>
                  <a:pt x="110855" y="2160588"/>
                </a:cubicBezTo>
                <a:lnTo>
                  <a:pt x="0" y="2160588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Стрелка углом 15"/>
          <p:cNvSpPr/>
          <p:nvPr/>
        </p:nvSpPr>
        <p:spPr>
          <a:xfrm>
            <a:off x="1258920" y="2781360"/>
            <a:ext cx="2089080" cy="647640"/>
          </a:xfrm>
          <a:custGeom>
            <a:avLst/>
            <a:gdLst/>
            <a:ahLst/>
            <a:rect l="l" t="t" r="r" b="b"/>
            <a:pathLst>
              <a:path w="2089150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796357" y="93256"/>
                </a:lnTo>
                <a:lnTo>
                  <a:pt x="1796357" y="0"/>
                </a:lnTo>
                <a:lnTo>
                  <a:pt x="2089150" y="150908"/>
                </a:lnTo>
                <a:lnTo>
                  <a:pt x="1796357" y="301815"/>
                </a:lnTo>
                <a:lnTo>
                  <a:pt x="179635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Стрелка углом 16"/>
          <p:cNvSpPr/>
          <p:nvPr/>
        </p:nvSpPr>
        <p:spPr>
          <a:xfrm flipH="1">
            <a:off x="5508000" y="2781360"/>
            <a:ext cx="1871640" cy="647640"/>
          </a:xfrm>
          <a:custGeom>
            <a:avLst/>
            <a:gdLst/>
            <a:ahLst/>
            <a:rect l="l" t="t" r="r" b="b"/>
            <a:pathLst>
              <a:path w="1871663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578870" y="93256"/>
                </a:lnTo>
                <a:lnTo>
                  <a:pt x="1578870" y="0"/>
                </a:lnTo>
                <a:lnTo>
                  <a:pt x="1871663" y="150908"/>
                </a:lnTo>
                <a:lnTo>
                  <a:pt x="1578870" y="301815"/>
                </a:lnTo>
                <a:lnTo>
                  <a:pt x="1578870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Стрелка углом 17"/>
          <p:cNvSpPr/>
          <p:nvPr/>
        </p:nvSpPr>
        <p:spPr>
          <a:xfrm flipH="1" rot="10800000">
            <a:off x="1258920" y="3933360"/>
            <a:ext cx="2160720" cy="647640"/>
          </a:xfrm>
          <a:custGeom>
            <a:avLst/>
            <a:gdLst/>
            <a:ahLst/>
            <a:rect l="l" t="t" r="r" b="b"/>
            <a:pathLst>
              <a:path w="2160587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867794" y="93256"/>
                </a:lnTo>
                <a:lnTo>
                  <a:pt x="1867794" y="0"/>
                </a:lnTo>
                <a:lnTo>
                  <a:pt x="2160587" y="150908"/>
                </a:lnTo>
                <a:lnTo>
                  <a:pt x="1867794" y="301815"/>
                </a:lnTo>
                <a:lnTo>
                  <a:pt x="1867794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Стрелка углом 18"/>
          <p:cNvSpPr/>
          <p:nvPr/>
        </p:nvSpPr>
        <p:spPr>
          <a:xfrm flipH="1" rot="5400000">
            <a:off x="6408720" y="3033000"/>
            <a:ext cx="647640" cy="2448000"/>
          </a:xfrm>
          <a:custGeom>
            <a:avLst/>
            <a:gdLst/>
            <a:ahLst/>
            <a:rect l="l" t="t" r="r" b="b"/>
            <a:pathLst>
              <a:path w="647700" h="2447925">
                <a:moveTo>
                  <a:pt x="0" y="2447925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354907" y="93256"/>
                </a:lnTo>
                <a:lnTo>
                  <a:pt x="354907" y="0"/>
                </a:lnTo>
                <a:lnTo>
                  <a:pt x="647700" y="150908"/>
                </a:lnTo>
                <a:lnTo>
                  <a:pt x="354907" y="301815"/>
                </a:lnTo>
                <a:lnTo>
                  <a:pt x="35490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1102284"/>
                  <a:pt x="115304" y="1775105"/>
                  <a:pt x="115304" y="2447925"/>
                </a:cubicBezTo>
                <a:lnTo>
                  <a:pt x="0" y="24479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Стрелка углом 19"/>
          <p:cNvSpPr/>
          <p:nvPr/>
        </p:nvSpPr>
        <p:spPr>
          <a:xfrm flipH="1" rot="10800000">
            <a:off x="5147280" y="3284280"/>
            <a:ext cx="1871640" cy="431640"/>
          </a:xfrm>
          <a:custGeom>
            <a:avLst/>
            <a:gdLst/>
            <a:ahLst/>
            <a:rect l="l" t="t" r="r" b="b"/>
            <a:pathLst>
              <a:path w="1871662" h="431800">
                <a:moveTo>
                  <a:pt x="0" y="431800"/>
                </a:moveTo>
                <a:lnTo>
                  <a:pt x="0" y="297916"/>
                </a:lnTo>
                <a:cubicBezTo>
                  <a:pt x="0" y="174127"/>
                  <a:pt x="100350" y="73777"/>
                  <a:pt x="224139" y="73777"/>
                </a:cubicBezTo>
                <a:lnTo>
                  <a:pt x="1734492" y="73777"/>
                </a:lnTo>
                <a:lnTo>
                  <a:pt x="1734492" y="0"/>
                </a:lnTo>
                <a:lnTo>
                  <a:pt x="1871662" y="126716"/>
                </a:lnTo>
                <a:lnTo>
                  <a:pt x="1734492" y="253432"/>
                </a:lnTo>
                <a:lnTo>
                  <a:pt x="1734492" y="179655"/>
                </a:lnTo>
                <a:lnTo>
                  <a:pt x="224139" y="179655"/>
                </a:lnTo>
                <a:cubicBezTo>
                  <a:pt x="158825" y="179655"/>
                  <a:pt x="105878" y="232602"/>
                  <a:pt x="105878" y="297916"/>
                </a:cubicBezTo>
                <a:cubicBezTo>
                  <a:pt x="105878" y="342544"/>
                  <a:pt x="105877" y="387172"/>
                  <a:pt x="105877" y="431800"/>
                </a:cubicBez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Стрелка углом 20"/>
          <p:cNvSpPr/>
          <p:nvPr/>
        </p:nvSpPr>
        <p:spPr>
          <a:xfrm rot="10800000">
            <a:off x="1979640" y="3284280"/>
            <a:ext cx="1728720" cy="431640"/>
          </a:xfrm>
          <a:custGeom>
            <a:avLst/>
            <a:gdLst/>
            <a:ahLst/>
            <a:rect l="l" t="t" r="r" b="b"/>
            <a:pathLst>
              <a:path w="1728787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1533592" y="62171"/>
                </a:lnTo>
                <a:lnTo>
                  <a:pt x="1533592" y="0"/>
                </a:lnTo>
                <a:lnTo>
                  <a:pt x="1728787" y="100605"/>
                </a:lnTo>
                <a:lnTo>
                  <a:pt x="1533592" y="201210"/>
                </a:lnTo>
                <a:lnTo>
                  <a:pt x="1533592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Стрелка углом 21"/>
          <p:cNvSpPr/>
          <p:nvPr/>
        </p:nvSpPr>
        <p:spPr>
          <a:xfrm rot="16200000">
            <a:off x="6264000" y="1017000"/>
            <a:ext cx="576360" cy="2519280"/>
          </a:xfrm>
          <a:custGeom>
            <a:avLst/>
            <a:gdLst/>
            <a:ahLst/>
            <a:rect l="l" t="t" r="r" b="b"/>
            <a:pathLst>
              <a:path w="576262" h="2519363">
                <a:moveTo>
                  <a:pt x="0" y="2519363"/>
                </a:moveTo>
                <a:lnTo>
                  <a:pt x="0" y="367577"/>
                </a:lnTo>
                <a:cubicBezTo>
                  <a:pt x="0" y="202374"/>
                  <a:pt x="133923" y="68451"/>
                  <a:pt x="299126" y="68451"/>
                </a:cubicBezTo>
                <a:lnTo>
                  <a:pt x="315763" y="68451"/>
                </a:lnTo>
                <a:lnTo>
                  <a:pt x="315763" y="0"/>
                </a:lnTo>
                <a:lnTo>
                  <a:pt x="576262" y="134263"/>
                </a:lnTo>
                <a:lnTo>
                  <a:pt x="315763" y="268527"/>
                </a:lnTo>
                <a:lnTo>
                  <a:pt x="315763" y="200075"/>
                </a:lnTo>
                <a:lnTo>
                  <a:pt x="299126" y="200075"/>
                </a:lnTo>
                <a:cubicBezTo>
                  <a:pt x="206617" y="200075"/>
                  <a:pt x="131624" y="275068"/>
                  <a:pt x="131624" y="367577"/>
                </a:cubicBezTo>
                <a:lnTo>
                  <a:pt x="131624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Минус 22"/>
          <p:cNvSpPr/>
          <p:nvPr/>
        </p:nvSpPr>
        <p:spPr>
          <a:xfrm rot="5400000">
            <a:off x="7102080" y="2625840"/>
            <a:ext cx="1274760" cy="576360"/>
          </a:xfrm>
          <a:custGeom>
            <a:avLst/>
            <a:gdLst/>
            <a:ahLst/>
            <a:rect l="l" t="t" r="r" b="b"/>
            <a:pathLst>
              <a:path w="1274763" h="576263">
                <a:moveTo>
                  <a:pt x="168970" y="220363"/>
                </a:moveTo>
                <a:lnTo>
                  <a:pt x="1105793" y="220363"/>
                </a:lnTo>
                <a:lnTo>
                  <a:pt x="1105793" y="355900"/>
                </a:lnTo>
                <a:lnTo>
                  <a:pt x="168970" y="355900"/>
                </a:lnTo>
                <a:lnTo>
                  <a:pt x="168970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Стрелка вниз 23"/>
          <p:cNvSpPr/>
          <p:nvPr/>
        </p:nvSpPr>
        <p:spPr>
          <a:xfrm rot="10800000">
            <a:off x="4427640" y="3213000"/>
            <a:ext cx="288720" cy="9064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Стрелка вниз 24"/>
          <p:cNvSpPr/>
          <p:nvPr/>
        </p:nvSpPr>
        <p:spPr>
          <a:xfrm rot="10800000">
            <a:off x="4427640" y="198900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енные закуп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-первых, государ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елает закупки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vern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алоги и трансфер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государств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язывает всех платить налог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x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х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ющиеся основным источником доходов государственного бюдже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плачивает 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payment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латежи, которые домохозяйства и фирмы безвозмездно (не в обмен на товары и услуги) получают от государ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выпл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benefi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 пенсии, стипендии, пособия по безработице, пособия по нетрудоспособности, пособия по бедност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бсид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id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как кредитор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вышают расход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имеет мес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государственного бюдже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государство может выступить на финансовом рын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упая ценные бумаги частных фир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Доходы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&gt;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Расходы = Профиц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ая теория берет начал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на Мейнарда Кейнс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ohn Maynard Key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6 г. вышла его книг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бщая теория занятости, процента и денег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й он заложил основы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ейнсианская макроэкономическая модель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лассическая модель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Государство как заемщик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рас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государственные закупки плюс трансферты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вышают до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налоги), что соотве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фициту государственного бюджет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государство для оплаты своих расходов должно занять деньги на финансовом рынке, выступ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ходы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&lt;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Расходы = Дефици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еханизм государственного займ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1) Совокупный продукт = Совокупный доход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2) Совокупный доход = Совокупные расход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3) Инъекции = Изъят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трехсекторной модели экономики состоят из потребления (С), инвестиц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государственных закупок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е налог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разница между налогами и трансферта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 = Tx – T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 + G = S + 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, как и трансферты, выплачиваются не в обмен на товар или услугу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мма факторных доходов, т.е. доходов, заработанным собственниками экономических ресурсов (домохозяйствам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osal incom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доход, которым домохозяйства могут распоряжаться и расходовать по собственному усмотрени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х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домохозяйства платят государству, и величину трансферт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государство платит домохозяйствам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x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вычесть чистые налог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етырехсекторная модель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четырехсекторну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экономики (модель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крытой 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с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тся выручка (доходы) от экспорта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), а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м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по импорту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му сектору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Users\х\Desktop\макро\тема 1\4секторная.jpg"/>
          <p:cNvPicPr/>
          <p:nvPr/>
        </p:nvPicPr>
        <p:blipFill>
          <a:blip r:embed="rId1"/>
          <a:stretch/>
        </p:blipFill>
        <p:spPr>
          <a:xfrm>
            <a:off x="147600" y="1251000"/>
            <a:ext cx="8848800" cy="5562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четы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Стрелка углом 23"/>
          <p:cNvSpPr/>
          <p:nvPr/>
        </p:nvSpPr>
        <p:spPr>
          <a:xfrm rot="10800000">
            <a:off x="5724000" y="4221000"/>
            <a:ext cx="2808360" cy="2376720"/>
          </a:xfrm>
          <a:custGeom>
            <a:avLst/>
            <a:gdLst/>
            <a:ahLst/>
            <a:rect l="l" t="t" r="r" b="b"/>
            <a:pathLst>
              <a:path w="2808288" h="2376487">
                <a:moveTo>
                  <a:pt x="0" y="2376487"/>
                </a:moveTo>
                <a:lnTo>
                  <a:pt x="0" y="1126811"/>
                </a:lnTo>
                <a:cubicBezTo>
                  <a:pt x="0" y="552593"/>
                  <a:pt x="465495" y="87098"/>
                  <a:pt x="1039713" y="87098"/>
                </a:cubicBezTo>
                <a:lnTo>
                  <a:pt x="2538462" y="87098"/>
                </a:lnTo>
                <a:lnTo>
                  <a:pt x="2538462" y="0"/>
                </a:lnTo>
                <a:lnTo>
                  <a:pt x="2808288" y="171868"/>
                </a:lnTo>
                <a:lnTo>
                  <a:pt x="2538462" y="343735"/>
                </a:lnTo>
                <a:lnTo>
                  <a:pt x="2538462" y="256637"/>
                </a:lnTo>
                <a:lnTo>
                  <a:pt x="1039713" y="256637"/>
                </a:lnTo>
                <a:cubicBezTo>
                  <a:pt x="559129" y="256637"/>
                  <a:pt x="169539" y="646227"/>
                  <a:pt x="169539" y="1126811"/>
                </a:cubicBezTo>
                <a:lnTo>
                  <a:pt x="169539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Стрелка углом 25"/>
          <p:cNvSpPr/>
          <p:nvPr/>
        </p:nvSpPr>
        <p:spPr>
          <a:xfrm rot="16200000">
            <a:off x="934920" y="3897000"/>
            <a:ext cx="2160720" cy="2808360"/>
          </a:xfrm>
          <a:custGeom>
            <a:avLst/>
            <a:gdLst/>
            <a:ahLst/>
            <a:rect l="l" t="t" r="r" b="b"/>
            <a:pathLst>
              <a:path w="2160587" h="2808287">
                <a:moveTo>
                  <a:pt x="0" y="2808287"/>
                </a:moveTo>
                <a:lnTo>
                  <a:pt x="0" y="1061766"/>
                </a:lnTo>
                <a:cubicBezTo>
                  <a:pt x="0" y="539715"/>
                  <a:pt x="423206" y="116509"/>
                  <a:pt x="945257" y="116509"/>
                </a:cubicBezTo>
                <a:lnTo>
                  <a:pt x="2001049" y="116510"/>
                </a:lnTo>
                <a:lnTo>
                  <a:pt x="2001049" y="0"/>
                </a:lnTo>
                <a:lnTo>
                  <a:pt x="2160587" y="176628"/>
                </a:lnTo>
                <a:lnTo>
                  <a:pt x="2001049" y="353256"/>
                </a:lnTo>
                <a:lnTo>
                  <a:pt x="2001049" y="236746"/>
                </a:lnTo>
                <a:lnTo>
                  <a:pt x="945257" y="236746"/>
                </a:lnTo>
                <a:cubicBezTo>
                  <a:pt x="489611" y="236746"/>
                  <a:pt x="120237" y="606120"/>
                  <a:pt x="120237" y="1061766"/>
                </a:cubicBezTo>
                <a:lnTo>
                  <a:pt x="120237" y="2808287"/>
                </a:lnTo>
                <a:lnTo>
                  <a:pt x="0" y="28082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Стрелка углом 26"/>
          <p:cNvSpPr/>
          <p:nvPr/>
        </p:nvSpPr>
        <p:spPr>
          <a:xfrm rot="5400000">
            <a:off x="6156000" y="1196640"/>
            <a:ext cx="2158920" cy="2879640"/>
          </a:xfrm>
          <a:custGeom>
            <a:avLst/>
            <a:gdLst/>
            <a:ahLst/>
            <a:rect l="l" t="t" r="r" b="b"/>
            <a:pathLst>
              <a:path w="2159000" h="2879725">
                <a:moveTo>
                  <a:pt x="0" y="2879725"/>
                </a:moveTo>
                <a:lnTo>
                  <a:pt x="0" y="1049015"/>
                </a:lnTo>
                <a:cubicBezTo>
                  <a:pt x="0" y="527347"/>
                  <a:pt x="422895" y="104452"/>
                  <a:pt x="944563" y="104452"/>
                </a:cubicBezTo>
                <a:lnTo>
                  <a:pt x="1937616" y="104452"/>
                </a:lnTo>
                <a:lnTo>
                  <a:pt x="1937616" y="0"/>
                </a:lnTo>
                <a:lnTo>
                  <a:pt x="2159000" y="179046"/>
                </a:lnTo>
                <a:lnTo>
                  <a:pt x="1937616" y="358092"/>
                </a:lnTo>
                <a:lnTo>
                  <a:pt x="1937616" y="253639"/>
                </a:lnTo>
                <a:lnTo>
                  <a:pt x="944563" y="253639"/>
                </a:lnTo>
                <a:cubicBezTo>
                  <a:pt x="505289" y="253639"/>
                  <a:pt x="149187" y="609741"/>
                  <a:pt x="149187" y="1049015"/>
                </a:cubicBezTo>
                <a:lnTo>
                  <a:pt x="149187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Стрелка углом 27"/>
          <p:cNvSpPr/>
          <p:nvPr/>
        </p:nvSpPr>
        <p:spPr>
          <a:xfrm>
            <a:off x="1258920" y="3284640"/>
            <a:ext cx="2305080" cy="431640"/>
          </a:xfrm>
          <a:custGeom>
            <a:avLst/>
            <a:gdLst/>
            <a:ahLst/>
            <a:rect l="l" t="t" r="r" b="b"/>
            <a:pathLst>
              <a:path w="2305050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2109855" y="62171"/>
                </a:lnTo>
                <a:lnTo>
                  <a:pt x="2109855" y="0"/>
                </a:lnTo>
                <a:lnTo>
                  <a:pt x="2305050" y="100605"/>
                </a:lnTo>
                <a:lnTo>
                  <a:pt x="2109855" y="201210"/>
                </a:lnTo>
                <a:lnTo>
                  <a:pt x="2109855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Стрелка углом 28"/>
          <p:cNvSpPr/>
          <p:nvPr/>
        </p:nvSpPr>
        <p:spPr>
          <a:xfrm flipH="1">
            <a:off x="5651640" y="3213000"/>
            <a:ext cx="1728720" cy="503280"/>
          </a:xfrm>
          <a:custGeom>
            <a:avLst/>
            <a:gdLst/>
            <a:ahLst/>
            <a:rect l="l" t="t" r="r" b="b"/>
            <a:pathLst>
              <a:path w="1728788" h="503238">
                <a:moveTo>
                  <a:pt x="0" y="503238"/>
                </a:moveTo>
                <a:lnTo>
                  <a:pt x="0" y="333677"/>
                </a:lnTo>
                <a:cubicBezTo>
                  <a:pt x="0" y="189409"/>
                  <a:pt x="116953" y="72456"/>
                  <a:pt x="261221" y="72456"/>
                </a:cubicBezTo>
                <a:lnTo>
                  <a:pt x="1501299" y="72456"/>
                </a:lnTo>
                <a:lnTo>
                  <a:pt x="1501299" y="0"/>
                </a:lnTo>
                <a:lnTo>
                  <a:pt x="1728788" y="117249"/>
                </a:lnTo>
                <a:lnTo>
                  <a:pt x="1501299" y="234499"/>
                </a:lnTo>
                <a:lnTo>
                  <a:pt x="1501299" y="162043"/>
                </a:lnTo>
                <a:lnTo>
                  <a:pt x="261221" y="162043"/>
                </a:lnTo>
                <a:cubicBezTo>
                  <a:pt x="166430" y="162043"/>
                  <a:pt x="89587" y="238886"/>
                  <a:pt x="89587" y="333677"/>
                </a:cubicBezTo>
                <a:cubicBezTo>
                  <a:pt x="89587" y="390197"/>
                  <a:pt x="89586" y="446718"/>
                  <a:pt x="89586" y="503238"/>
                </a:cubicBezTo>
                <a:lnTo>
                  <a:pt x="0" y="50323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Стрелка углом 30"/>
          <p:cNvSpPr/>
          <p:nvPr/>
        </p:nvSpPr>
        <p:spPr>
          <a:xfrm flipH="1" rot="10800000">
            <a:off x="1257840" y="4220640"/>
            <a:ext cx="2305080" cy="863640"/>
          </a:xfrm>
          <a:custGeom>
            <a:avLst/>
            <a:gdLst/>
            <a:ahLst/>
            <a:rect l="l" t="t" r="r" b="b"/>
            <a:pathLst>
              <a:path w="2305050" h="863600">
                <a:moveTo>
                  <a:pt x="0" y="863600"/>
                </a:moveTo>
                <a:lnTo>
                  <a:pt x="0" y="519058"/>
                </a:lnTo>
                <a:cubicBezTo>
                  <a:pt x="0" y="271481"/>
                  <a:pt x="200700" y="70781"/>
                  <a:pt x="448277" y="70781"/>
                </a:cubicBezTo>
                <a:lnTo>
                  <a:pt x="2088727" y="70781"/>
                </a:lnTo>
                <a:lnTo>
                  <a:pt x="2088727" y="0"/>
                </a:lnTo>
                <a:lnTo>
                  <a:pt x="2305050" y="147650"/>
                </a:lnTo>
                <a:lnTo>
                  <a:pt x="2088727" y="295299"/>
                </a:lnTo>
                <a:lnTo>
                  <a:pt x="2088727" y="224519"/>
                </a:lnTo>
                <a:lnTo>
                  <a:pt x="448277" y="224519"/>
                </a:lnTo>
                <a:cubicBezTo>
                  <a:pt x="285608" y="224519"/>
                  <a:pt x="153738" y="356389"/>
                  <a:pt x="153738" y="519058"/>
                </a:cubicBezTo>
                <a:lnTo>
                  <a:pt x="153738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Стрелка углом 31"/>
          <p:cNvSpPr/>
          <p:nvPr/>
        </p:nvSpPr>
        <p:spPr>
          <a:xfrm flipH="1" rot="5400000">
            <a:off x="6515640" y="3356280"/>
            <a:ext cx="792360" cy="2520720"/>
          </a:xfrm>
          <a:custGeom>
            <a:avLst/>
            <a:gdLst/>
            <a:ahLst/>
            <a:rect l="l" t="t" r="r" b="b"/>
            <a:pathLst>
              <a:path w="792162" h="2520950">
                <a:moveTo>
                  <a:pt x="0" y="2520950"/>
                </a:moveTo>
                <a:lnTo>
                  <a:pt x="0" y="525251"/>
                </a:lnTo>
                <a:cubicBezTo>
                  <a:pt x="0" y="298154"/>
                  <a:pt x="184098" y="114056"/>
                  <a:pt x="411195" y="114056"/>
                </a:cubicBezTo>
                <a:lnTo>
                  <a:pt x="434065" y="114055"/>
                </a:lnTo>
                <a:lnTo>
                  <a:pt x="434065" y="0"/>
                </a:lnTo>
                <a:lnTo>
                  <a:pt x="792162" y="184566"/>
                </a:lnTo>
                <a:lnTo>
                  <a:pt x="434065" y="369132"/>
                </a:lnTo>
                <a:lnTo>
                  <a:pt x="434065" y="255076"/>
                </a:lnTo>
                <a:lnTo>
                  <a:pt x="411195" y="255076"/>
                </a:lnTo>
                <a:cubicBezTo>
                  <a:pt x="261981" y="255076"/>
                  <a:pt x="141020" y="376037"/>
                  <a:pt x="141020" y="525251"/>
                </a:cubicBezTo>
                <a:cubicBezTo>
                  <a:pt x="141020" y="1190484"/>
                  <a:pt x="141021" y="1855717"/>
                  <a:pt x="141021" y="2520950"/>
                </a:cubicBez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Стрелка углом 32"/>
          <p:cNvSpPr/>
          <p:nvPr/>
        </p:nvSpPr>
        <p:spPr>
          <a:xfrm flipH="1" rot="10800000">
            <a:off x="5075640" y="3716280"/>
            <a:ext cx="1871640" cy="433440"/>
          </a:xfrm>
          <a:custGeom>
            <a:avLst/>
            <a:gdLst/>
            <a:ahLst/>
            <a:rect l="l" t="t" r="r" b="b"/>
            <a:pathLst>
              <a:path w="1871663" h="433387">
                <a:moveTo>
                  <a:pt x="0" y="433387"/>
                </a:moveTo>
                <a:lnTo>
                  <a:pt x="0" y="299011"/>
                </a:lnTo>
                <a:cubicBezTo>
                  <a:pt x="0" y="174767"/>
                  <a:pt x="100719" y="74048"/>
                  <a:pt x="224963" y="74048"/>
                </a:cubicBezTo>
                <a:lnTo>
                  <a:pt x="1733989" y="74049"/>
                </a:lnTo>
                <a:lnTo>
                  <a:pt x="1733989" y="0"/>
                </a:lnTo>
                <a:lnTo>
                  <a:pt x="1871663" y="127182"/>
                </a:lnTo>
                <a:lnTo>
                  <a:pt x="1733989" y="254363"/>
                </a:lnTo>
                <a:lnTo>
                  <a:pt x="1733989" y="180315"/>
                </a:lnTo>
                <a:lnTo>
                  <a:pt x="224963" y="180315"/>
                </a:lnTo>
                <a:cubicBezTo>
                  <a:pt x="159409" y="180315"/>
                  <a:pt x="106267" y="233457"/>
                  <a:pt x="106267" y="299011"/>
                </a:cubicBezTo>
                <a:cubicBezTo>
                  <a:pt x="106267" y="343803"/>
                  <a:pt x="106266" y="388595"/>
                  <a:pt x="106266" y="433387"/>
                </a:cubicBez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Стрелка углом 33"/>
          <p:cNvSpPr/>
          <p:nvPr/>
        </p:nvSpPr>
        <p:spPr>
          <a:xfrm rot="10800000">
            <a:off x="2340000" y="3716280"/>
            <a:ext cx="1727280" cy="433440"/>
          </a:xfrm>
          <a:custGeom>
            <a:avLst/>
            <a:gdLst/>
            <a:ahLst/>
            <a:rect l="l" t="t" r="r" b="b"/>
            <a:pathLst>
              <a:path w="1727200" h="433387">
                <a:moveTo>
                  <a:pt x="0" y="433387"/>
                </a:moveTo>
                <a:lnTo>
                  <a:pt x="0" y="287362"/>
                </a:lnTo>
                <a:cubicBezTo>
                  <a:pt x="0" y="163118"/>
                  <a:pt x="100719" y="62399"/>
                  <a:pt x="224963" y="62399"/>
                </a:cubicBezTo>
                <a:lnTo>
                  <a:pt x="1531287" y="62399"/>
                </a:lnTo>
                <a:lnTo>
                  <a:pt x="1531287" y="0"/>
                </a:lnTo>
                <a:lnTo>
                  <a:pt x="1727200" y="100975"/>
                </a:lnTo>
                <a:lnTo>
                  <a:pt x="1531287" y="201950"/>
                </a:lnTo>
                <a:lnTo>
                  <a:pt x="1531287" y="139551"/>
                </a:lnTo>
                <a:lnTo>
                  <a:pt x="224963" y="139551"/>
                </a:lnTo>
                <a:cubicBezTo>
                  <a:pt x="143329" y="139551"/>
                  <a:pt x="77152" y="205728"/>
                  <a:pt x="77152" y="287362"/>
                </a:cubicBezTo>
                <a:lnTo>
                  <a:pt x="7715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Стрелка вниз 36"/>
          <p:cNvSpPr/>
          <p:nvPr/>
        </p:nvSpPr>
        <p:spPr>
          <a:xfrm rot="10800000">
            <a:off x="4427640" y="3674880"/>
            <a:ext cx="288720" cy="9061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Стрелка вниз 37"/>
          <p:cNvSpPr/>
          <p:nvPr/>
        </p:nvSpPr>
        <p:spPr>
          <a:xfrm rot="10800000">
            <a:off x="4427640" y="234936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Стрелка углом 38"/>
          <p:cNvSpPr/>
          <p:nvPr/>
        </p:nvSpPr>
        <p:spPr>
          <a:xfrm flipH="1">
            <a:off x="5796000" y="1989000"/>
            <a:ext cx="2448000" cy="1727280"/>
          </a:xfrm>
          <a:custGeom>
            <a:avLst/>
            <a:gdLst/>
            <a:ahLst/>
            <a:rect l="l" t="t" r="r" b="b"/>
            <a:pathLst>
              <a:path w="2447925" h="1727200">
                <a:moveTo>
                  <a:pt x="0" y="1727200"/>
                </a:moveTo>
                <a:lnTo>
                  <a:pt x="0" y="978416"/>
                </a:lnTo>
                <a:cubicBezTo>
                  <a:pt x="0" y="483262"/>
                  <a:pt x="401401" y="81861"/>
                  <a:pt x="896555" y="81861"/>
                </a:cubicBezTo>
                <a:lnTo>
                  <a:pt x="2160346" y="81861"/>
                </a:lnTo>
                <a:lnTo>
                  <a:pt x="2160346" y="0"/>
                </a:lnTo>
                <a:lnTo>
                  <a:pt x="2447925" y="163065"/>
                </a:lnTo>
                <a:lnTo>
                  <a:pt x="2160346" y="326130"/>
                </a:lnTo>
                <a:lnTo>
                  <a:pt x="2160346" y="244269"/>
                </a:lnTo>
                <a:lnTo>
                  <a:pt x="896555" y="244269"/>
                </a:lnTo>
                <a:cubicBezTo>
                  <a:pt x="491097" y="244269"/>
                  <a:pt x="162409" y="572957"/>
                  <a:pt x="162409" y="978415"/>
                </a:cubicBezTo>
                <a:lnTo>
                  <a:pt x="162409" y="1727200"/>
                </a:lnTo>
                <a:lnTo>
                  <a:pt x="0" y="17272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Стрелка углом 39"/>
          <p:cNvSpPr/>
          <p:nvPr/>
        </p:nvSpPr>
        <p:spPr>
          <a:xfrm flipH="1" rot="5400000">
            <a:off x="2087640" y="1160280"/>
            <a:ext cx="792000" cy="3024000"/>
          </a:xfrm>
          <a:custGeom>
            <a:avLst/>
            <a:gdLst/>
            <a:ahLst/>
            <a:rect l="l" t="t" r="r" b="b"/>
            <a:pathLst>
              <a:path w="792163" h="3024188">
                <a:moveTo>
                  <a:pt x="0" y="3024188"/>
                </a:moveTo>
                <a:lnTo>
                  <a:pt x="0" y="525252"/>
                </a:lnTo>
                <a:cubicBezTo>
                  <a:pt x="0" y="298155"/>
                  <a:pt x="184099" y="114056"/>
                  <a:pt x="411196" y="114056"/>
                </a:cubicBezTo>
                <a:lnTo>
                  <a:pt x="434066" y="114056"/>
                </a:lnTo>
                <a:lnTo>
                  <a:pt x="434066" y="0"/>
                </a:lnTo>
                <a:lnTo>
                  <a:pt x="792163" y="184566"/>
                </a:lnTo>
                <a:lnTo>
                  <a:pt x="434066" y="369132"/>
                </a:lnTo>
                <a:lnTo>
                  <a:pt x="434066" y="255076"/>
                </a:lnTo>
                <a:lnTo>
                  <a:pt x="411196" y="255076"/>
                </a:lnTo>
                <a:cubicBezTo>
                  <a:pt x="261982" y="255076"/>
                  <a:pt x="141021" y="376037"/>
                  <a:pt x="141021" y="525251"/>
                </a:cubicBezTo>
                <a:lnTo>
                  <a:pt x="141021" y="3024188"/>
                </a:lnTo>
                <a:lnTo>
                  <a:pt x="0" y="30241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Минус 40"/>
          <p:cNvSpPr/>
          <p:nvPr/>
        </p:nvSpPr>
        <p:spPr>
          <a:xfrm rot="5400000">
            <a:off x="539280" y="2997000"/>
            <a:ext cx="1008000" cy="576360"/>
          </a:xfrm>
          <a:custGeom>
            <a:avLst/>
            <a:gdLst/>
            <a:ahLst/>
            <a:rect l="l" t="t" r="r" b="b"/>
            <a:pathLst>
              <a:path w="1008063" h="576263">
                <a:moveTo>
                  <a:pt x="133619" y="220363"/>
                </a:moveTo>
                <a:lnTo>
                  <a:pt x="874444" y="220363"/>
                </a:lnTo>
                <a:lnTo>
                  <a:pt x="874444" y="355900"/>
                </a:lnTo>
                <a:lnTo>
                  <a:pt x="133619" y="355900"/>
                </a:lnTo>
                <a:lnTo>
                  <a:pt x="133619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Стрелка углом 41"/>
          <p:cNvSpPr/>
          <p:nvPr/>
        </p:nvSpPr>
        <p:spPr>
          <a:xfrm flipH="1" rot="5400000">
            <a:off x="1907280" y="3573360"/>
            <a:ext cx="503280" cy="3671640"/>
          </a:xfrm>
          <a:custGeom>
            <a:avLst/>
            <a:gdLst/>
            <a:ahLst/>
            <a:rect l="l" t="t" r="r" b="b"/>
            <a:pathLst>
              <a:path w="503237" h="3671888">
                <a:moveTo>
                  <a:pt x="0" y="3671888"/>
                </a:moveTo>
                <a:lnTo>
                  <a:pt x="0" y="333676"/>
                </a:lnTo>
                <a:cubicBezTo>
                  <a:pt x="0" y="189408"/>
                  <a:pt x="116952" y="72456"/>
                  <a:pt x="261220" y="72456"/>
                </a:cubicBezTo>
                <a:lnTo>
                  <a:pt x="275749" y="72456"/>
                </a:lnTo>
                <a:lnTo>
                  <a:pt x="275749" y="0"/>
                </a:lnTo>
                <a:lnTo>
                  <a:pt x="503237" y="117249"/>
                </a:lnTo>
                <a:lnTo>
                  <a:pt x="275749" y="234498"/>
                </a:lnTo>
                <a:lnTo>
                  <a:pt x="275749" y="162042"/>
                </a:lnTo>
                <a:lnTo>
                  <a:pt x="261220" y="162042"/>
                </a:lnTo>
                <a:cubicBezTo>
                  <a:pt x="166429" y="162042"/>
                  <a:pt x="89586" y="238885"/>
                  <a:pt x="89586" y="333676"/>
                </a:cubicBezTo>
                <a:lnTo>
                  <a:pt x="89586" y="3671888"/>
                </a:lnTo>
                <a:lnTo>
                  <a:pt x="0" y="36718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Минус 42"/>
          <p:cNvSpPr/>
          <p:nvPr/>
        </p:nvSpPr>
        <p:spPr>
          <a:xfrm rot="5400000">
            <a:off x="-1944000" y="3609000"/>
            <a:ext cx="4680000" cy="576360"/>
          </a:xfrm>
          <a:custGeom>
            <a:avLst/>
            <a:gdLst/>
            <a:ahLst/>
            <a:rect l="l" t="t" r="r" b="b"/>
            <a:pathLst>
              <a:path w="4679950" h="576263">
                <a:moveTo>
                  <a:pt x="620327" y="220363"/>
                </a:moveTo>
                <a:lnTo>
                  <a:pt x="4059623" y="220363"/>
                </a:lnTo>
                <a:lnTo>
                  <a:pt x="4059623" y="355900"/>
                </a:lnTo>
                <a:lnTo>
                  <a:pt x="620327" y="355900"/>
                </a:lnTo>
                <a:lnTo>
                  <a:pt x="620327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Стрелка вправо 45"/>
          <p:cNvSpPr/>
          <p:nvPr/>
        </p:nvSpPr>
        <p:spPr>
          <a:xfrm>
            <a:off x="1979640" y="1484280"/>
            <a:ext cx="1440000" cy="2890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Стрелка влево 46"/>
          <p:cNvSpPr/>
          <p:nvPr/>
        </p:nvSpPr>
        <p:spPr>
          <a:xfrm>
            <a:off x="1979640" y="1989000"/>
            <a:ext cx="1440000" cy="287640"/>
          </a:xfrm>
          <a:prstGeom prst="lef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218960"/>
            <a:ext cx="8229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&gt; Ех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это соответству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фициту торгового баланс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током капита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ital inflo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и страна выступ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емщик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исследует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ерир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ыми величин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ми как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о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означ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торгового баланс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из страны происходи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ток капитал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pital out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чистый экспорт (расходы иностранного сектор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й экспор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разница между экспортом и импорт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 - 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ое макроэкономическое тождеств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             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формула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сновным макроэкономическим тождеств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851280" y="1700280"/>
                <a:ext cx="1030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826920" y="2133720"/>
                <a:ext cx="41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900000" y="4724280"/>
                <a:ext cx="3729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ождество инъекций и изъятий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нъекция — экс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ъятие — им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4230720" y="5589720"/>
                <a:ext cx="435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E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ка изучает закономерности поведения макроэкономических агентов на макроэкономических рынках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4. Макроэкономические модели и их показател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ставлен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еорий, функций, рисунков, схем, таблиц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Экзогенные и эндогенны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переменные, задающиеся извн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е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являются в моделях независимыми величинами, а их изменение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втономным изменени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ндогенные переменны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еременны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утри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зависимые переменны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564000" y="3429000"/>
            <a:ext cx="136836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Прямая со стрелкой 6"/>
          <p:cNvCxnSpPr>
            <a:endCxn id="703" idx="1"/>
          </p:cNvCxnSpPr>
          <p:nvPr/>
        </p:nvCxnSpPr>
        <p:spPr>
          <a:xfrm>
            <a:off x="140328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5" name="TextBox 7"/>
          <p:cNvSpPr/>
          <p:nvPr/>
        </p:nvSpPr>
        <p:spPr>
          <a:xfrm>
            <a:off x="147636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Прямая со стрелкой 8"/>
          <p:cNvCxnSpPr/>
          <p:nvPr/>
        </p:nvCxnSpPr>
        <p:spPr>
          <a:xfrm>
            <a:off x="493236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7" name="TextBox 9"/>
          <p:cNvSpPr/>
          <p:nvPr/>
        </p:nvSpPr>
        <p:spPr>
          <a:xfrm>
            <a:off x="500364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нд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Основные проблемы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,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оторые изучает макроэкономик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1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 = С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 С — величина совокупных потребительских расходов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ой переменной, а С —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2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X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литически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литическими переменны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, как правило, в макроэкономических моделях являются экзогенны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казатели потоков и запасов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2" descr="C:\Users\х\Desktop\макро\тема 1\поток и запас.jpg"/>
          <p:cNvPicPr/>
          <p:nvPr/>
        </p:nvPicPr>
        <p:blipFill>
          <a:blip r:embed="rId1"/>
          <a:stretch/>
        </p:blipFill>
        <p:spPr>
          <a:xfrm>
            <a:off x="2771640" y="3645000"/>
            <a:ext cx="3162600" cy="2457360"/>
          </a:xfrm>
          <a:prstGeom prst="rect">
            <a:avLst/>
          </a:prstGeom>
          <a:ln w="0">
            <a:noFill/>
          </a:ln>
        </p:spPr>
      </p:pic>
      <p:sp>
        <p:nvSpPr>
          <p:cNvPr id="7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т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 определенный период времени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в макроэкономике, как правило, за год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считываются за го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пас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пас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ock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а определенный момен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пределенную дату (например, 1 января 2012 г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бсолютные и относительные показат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бсолют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носитель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се эти проблемы 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акро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0:20Z</dcterms:created>
  <dc:creator>test</dc:creator>
  <dc:description/>
  <dc:language>en-US</dc:language>
  <cp:lastModifiedBy>LEGION</cp:lastModifiedBy>
  <dcterms:modified xsi:type="dcterms:W3CDTF">2016-01-04T14:02:40Z</dcterms:modified>
  <cp:revision>112</cp:revision>
  <dc:subject/>
  <dc:title>Макроэкономика</dc:title>
</cp:coreProperties>
</file>