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3F4D-1080-46BE-B1EF-D2DD115712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CE4-D89B-4B19-9BC5-D3F7F287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665-9956-4FE8-8E8F-E2F930C7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DA1-43DD-4402-B777-E475D832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3A50-43A0-45C1-890B-802FE5FE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55D1-27EA-4A1E-9015-9A907DC0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0BA3-D276-4AB3-8221-25D90AA5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14C2-1E1A-4AC7-9AEF-3E8DDFF9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2602-1FF3-4C29-A178-3B22795F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B3DB-E635-4156-BD7F-F4F51EDF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F866-11A1-4F98-AC84-E8A7D1BC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F71B-C808-4674-97FB-57F08E73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3EB-7B98-4472-BFB8-5BC21A54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B2DF-3D23-4D7A-A4F1-B2BB997D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C856-6EB7-4FA5-8CC3-3D7EA402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4891-2CD4-45CF-ACC9-4F867FD0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33A0-8FB4-47B7-8068-7D6940A1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836B-2436-43AF-A548-5C38F986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470-ADD4-492F-88A5-026DF63A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838-EE1B-4885-A7DA-15224E79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ACC-F5AC-4248-B111-1253C1B6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C0F-39DB-4666-AA30-4AB9D0B4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4BF-1160-44BC-9EFE-6004B46E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B85-891F-4DA9-9698-8C95E2C7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886-BE69-4834-A17E-4BF8D759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1A74-8C08-4017-9287-7F93B63157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719A-6A22-4DBE-96D7-5CE823ABDB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yas.yuna.ru/?1879053312@0815995392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2155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Макроэкономическое </a:t>
            </a:r>
            <a:br>
              <a:rPr sz="4800"/>
            </a:b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равновесие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5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–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00000" y="3357720"/>
            <a:ext cx="770436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                       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k 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 Q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/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i="1" lang="en-US" sz="25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мультипликатор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национальный доход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автономные затраты.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A = C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I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G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автономное потребление,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I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– автономные инвестиции,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G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– государственные закупки товаров и услуг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2742840"/>
            <a:ext cx="81360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 структуре совокупного спроса выделяют: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потребительские товары и услуги (C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инвестиционные товары ( I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3137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313400" cy="18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овокупный спрос можно выразить формулой:</a:t>
            </a:r>
            <a:br>
              <a:rPr sz="2500"/>
            </a:b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AD = C + I + G + X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4008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5" descr="http://market-pages.ru/images/makroec/image061.jpg"/>
          <p:cNvPicPr/>
          <p:nvPr/>
        </p:nvPicPr>
        <p:blipFill>
          <a:blip r:embed="rId1"/>
          <a:srcRect l="0" t="0" r="0" b="12155"/>
          <a:stretch/>
        </p:blipFill>
        <p:spPr>
          <a:xfrm>
            <a:off x="1835280" y="1916280"/>
            <a:ext cx="5545080" cy="3724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979640" y="5877000"/>
            <a:ext cx="55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Кривая совокупного спроса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58920" y="3284640"/>
            <a:ext cx="68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6666"/>
                </a:solidFill>
                <a:latin typeface="Verdana"/>
              </a:rPr>
              <a:t>Уравнение Ирвинга Фише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        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× </a:t>
            </a:r>
            <a:r>
              <a:rPr b="0" i="1" lang="el-GR" sz="4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=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Q × P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М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количество денег в обращении; </a:t>
            </a:r>
            <a:r>
              <a:rPr b="0" i="1" lang="el-GR" sz="3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скорость их обращения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цена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объем продаж товаров и усл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313760" cy="20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5" descr="http://banking.mfpa.ru/economist/irving_fisher.jpg"/>
          <p:cNvPicPr/>
          <p:nvPr/>
        </p:nvPicPr>
        <p:blipFill>
          <a:blip r:embed="rId1"/>
          <a:stretch/>
        </p:blipFill>
        <p:spPr>
          <a:xfrm>
            <a:off x="1116000" y="126828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5219640" y="1557360"/>
            <a:ext cx="316728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рвинг Фишер (1867-1947) - американский ученый-экономист. Начав свою научную деятельность как математик, он затем переключился на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экономическую теорию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, был одним из создателей Эконометрического общества и стал в 1930 г. первым его президентом.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9"/>
          <p:cNvSpPr/>
          <p:nvPr/>
        </p:nvSpPr>
        <p:spPr>
          <a:xfrm>
            <a:off x="971640" y="2565360"/>
            <a:ext cx="73436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Вместо показателя скорости оборота денег </a:t>
            </a:r>
            <a:r>
              <a:rPr b="0" i="1" lang="en-US" sz="2500" spc="-1" strike="noStrike">
                <a:solidFill>
                  <a:srgbClr val="006666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подставим коэффициент </a:t>
            </a:r>
            <a:r>
              <a:rPr b="0" i="1" lang="en-US" sz="1800" spc="-1" strike="noStrike">
                <a:solidFill>
                  <a:srgbClr val="006666"/>
                </a:solidFill>
                <a:latin typeface="Verdana"/>
              </a:rPr>
              <a:t>m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величину, обратную скорости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обращения денег: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           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Учтем также, что цены на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вары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 услуги, согласно нашему предположению, неизменны, а предложение денег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у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нас принимается как реальное. Поэтому и спрос на деньги также должен быть реальным показателем. Это значит, что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уровень цен) можно приравнять к 1. Поскольку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=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1, а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v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мы заменяем на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т,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 уравнение принимает вид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где </a:t>
            </a:r>
            <a:r>
              <a:rPr b="1" i="1" lang="ru-RU" sz="2300" spc="-1" strike="noStrike">
                <a:solidFill>
                  <a:srgbClr val="006666"/>
                </a:solidFill>
                <a:latin typeface="Times New Roman"/>
              </a:rPr>
              <a:t>М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спрос на деньги в реальном исчислении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3137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Picture 8" descr="Eqn075"/>
          <p:cNvPicPr/>
          <p:nvPr/>
        </p:nvPicPr>
        <p:blipFill>
          <a:blip r:embed="rId1"/>
          <a:stretch/>
        </p:blipFill>
        <p:spPr>
          <a:xfrm>
            <a:off x="3851280" y="1484280"/>
            <a:ext cx="1368360" cy="1039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2"/>
          <p:cNvSpPr/>
          <p:nvPr/>
        </p:nvSpPr>
        <p:spPr>
          <a:xfrm>
            <a:off x="202248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1152360" cy="7365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5"/>
          <p:cNvSpPr/>
          <p:nvPr/>
        </p:nvSpPr>
        <p:spPr>
          <a:xfrm>
            <a:off x="1943280" y="20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3"/>
          <a:stretch/>
        </p:blipFill>
        <p:spPr>
          <a:xfrm>
            <a:off x="3276720" y="5805360"/>
            <a:ext cx="2303280" cy="389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6"/>
          <p:cNvSpPr/>
          <p:nvPr/>
        </p:nvSpPr>
        <p:spPr>
          <a:xfrm>
            <a:off x="3276720" y="3284640"/>
            <a:ext cx="503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331640" y="2781000"/>
            <a:ext cx="7313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i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еличина процентного реагирования спроса на деньги, </a:t>
            </a:r>
            <a:r>
              <a:rPr b="1" i="1" lang="en-US" sz="2300" spc="-1" strike="noStrike">
                <a:solidFill>
                  <a:srgbClr val="006666"/>
                </a:solidFill>
                <a:latin typeface="Times New Roman"/>
              </a:rPr>
              <a:t>i 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роцентная ставк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Тогда формула национального дохода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386480" cy="15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189240" y="24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681440" cy="102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2"/>
          <a:stretch/>
        </p:blipFill>
        <p:spPr>
          <a:xfrm>
            <a:off x="2843280" y="4581360"/>
            <a:ext cx="3456000" cy="114012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3137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Совокупное предложение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 AS – aggregate supply ) – вся конечная продукция (в стоимостном выражении) произведенная (предложенная) в обществе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042920" y="5950080"/>
            <a:ext cx="691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Кривая совокупного предложения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6" descr="image063"/>
          <p:cNvPicPr/>
          <p:nvPr/>
        </p:nvPicPr>
        <p:blipFill>
          <a:blip r:embed="rId1"/>
          <a:srcRect l="0" t="0" r="0" b="19781"/>
          <a:stretch/>
        </p:blipFill>
        <p:spPr>
          <a:xfrm>
            <a:off x="2124000" y="2421000"/>
            <a:ext cx="4537080" cy="3483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5" descr="keynes_large"/>
          <p:cNvPicPr/>
          <p:nvPr/>
        </p:nvPicPr>
        <p:blipFill>
          <a:blip r:embed="rId1"/>
          <a:stretch/>
        </p:blipFill>
        <p:spPr>
          <a:xfrm>
            <a:off x="4643280" y="981000"/>
            <a:ext cx="3965760" cy="494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66960" y="260280"/>
            <a:ext cx="817704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Пересечение кривых совокупного спроса AD и совокупного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предложения AS дает точку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общего экономического равновесия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Это означает, что экономика находится в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краткосрочном равновесии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image065"/>
          <p:cNvPicPr/>
          <p:nvPr/>
        </p:nvPicPr>
        <p:blipFill>
          <a:blip r:embed="rId1"/>
          <a:srcRect l="0" t="0" r="0" b="54407"/>
          <a:stretch/>
        </p:blipFill>
        <p:spPr>
          <a:xfrm>
            <a:off x="1763640" y="2825640"/>
            <a:ext cx="5473800" cy="40323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313760" cy="25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Picture 5" descr="image065"/>
          <p:cNvPicPr/>
          <p:nvPr/>
        </p:nvPicPr>
        <p:blipFill>
          <a:blip r:embed="rId1"/>
          <a:srcRect l="0" t="51008" r="0" b="9253"/>
          <a:stretch/>
        </p:blipFill>
        <p:spPr>
          <a:xfrm>
            <a:off x="1763640" y="2781360"/>
            <a:ext cx="5616720" cy="3608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модели макроэкономического равновес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2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Франсуа Кенэ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(1694-1774)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французский экономист XVIII в,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Kene_01"/>
          <p:cNvPicPr/>
          <p:nvPr/>
        </p:nvPicPr>
        <p:blipFill>
          <a:blip r:embed="rId1"/>
          <a:stretch/>
        </p:blipFill>
        <p:spPr>
          <a:xfrm>
            <a:off x="684360" y="1916280"/>
            <a:ext cx="3346200" cy="40320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5370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5" descr="http://www.internet-school.ru/@@167983"/>
          <p:cNvPicPr/>
          <p:nvPr/>
        </p:nvPicPr>
        <p:blipFill>
          <a:blip r:embed="rId1"/>
          <a:stretch/>
        </p:blipFill>
        <p:spPr>
          <a:xfrm>
            <a:off x="1187280" y="1916280"/>
            <a:ext cx="2945160" cy="41050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еон Вальра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439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альрас Леон (1834-1910) - французский экономист, живший в Швейцарии.</a:t>
            </a:r>
            <a:r>
              <a:rPr b="0" lang="ru-RU" sz="2100" spc="-1" strike="noStrike">
                <a:solidFill>
                  <a:srgbClr val="006666"/>
                </a:solidFill>
                <a:latin typeface="Verdana"/>
              </a:rPr>
              <a:t> Он исходил из того, что проблема общего экономического равновесия решаема, и это можно доказать математически.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4" descr="leonwalras"/>
          <p:cNvPicPr/>
          <p:nvPr/>
        </p:nvPicPr>
        <p:blipFill>
          <a:blip r:embed="rId1"/>
          <a:stretch/>
        </p:blipFill>
        <p:spPr>
          <a:xfrm>
            <a:off x="5076720" y="1557360"/>
            <a:ext cx="3170520" cy="4248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76360" y="2205000"/>
            <a:ext cx="70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краткосрочное                             долгосрочное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куще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3203640" y="155736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96000" y="15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258920" y="3141720"/>
            <a:ext cx="720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i="1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258920" y="371628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042920" y="4653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деальное                                      реальное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оретически желаемо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2916360" y="378936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084720" y="3789360"/>
            <a:ext cx="64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1280" y="2060640"/>
            <a:ext cx="2448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Частичное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установив-шееся в отдельных отраслях и сферах экономики)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0"/>
          <p:cNvSpPr/>
          <p:nvPr/>
        </p:nvSpPr>
        <p:spPr>
          <a:xfrm flipH="1">
            <a:off x="2050920" y="1557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35280" y="2852640"/>
            <a:ext cx="194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бщее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равновесие экономической системы в целом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4572000" y="15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6012000" y="242100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Полное (</a:t>
            </a: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птимальная сбалансированность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экономической системы, ее идеальная пропорциональность – высшая цель структурной политики общества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372360" y="155736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334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в ответ 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нешний импульс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зрушающ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вновесие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экономи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амостоятельн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озвращается 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остояние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932360" y="2349360"/>
            <a:ext cx="2879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Неустойчивое</a:t>
            </a: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 flipH="1">
            <a:off x="2771280" y="155736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5219640" y="155736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 "/>
          <p:cNvPicPr/>
          <p:nvPr/>
        </p:nvPicPr>
        <p:blipFill>
          <a:blip r:embed="rId1"/>
          <a:stretch/>
        </p:blipFill>
        <p:spPr>
          <a:xfrm>
            <a:off x="1763640" y="2060640"/>
            <a:ext cx="5472360" cy="4384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7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Равновесие на рынке благ           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2500" spc="-1" strike="noStrike">
                <a:solidFill>
                  <a:srgbClr val="006666"/>
                </a:solidFill>
                <a:latin typeface="Arial"/>
              </a:rPr>
              <a:t>(классическая концепция)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отребл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22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национальный доход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;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отребление - С; сбережения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иращение дохода, приращение потребления и приращение сбережений соответственно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 и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едельная склонность к потреблению — </a:t>
            </a:r>
            <a:r>
              <a:rPr b="0" i="1" lang="ru-RU" sz="2500" spc="-1" strike="noStrike">
                <a:solidFill>
                  <a:srgbClr val="006666"/>
                </a:solidFill>
                <a:latin typeface="Times New Roman"/>
              </a:rPr>
              <a:t>с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 предельная склонность к сбережениям — </a:t>
            </a:r>
            <a:r>
              <a:rPr b="0" i="1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743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+ s = 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8:02:27Z</dcterms:created>
  <dc:creator>Anna</dc:creator>
  <dc:description/>
  <dc:language>en-US</dc:language>
  <cp:lastModifiedBy>LEGION</cp:lastModifiedBy>
  <dcterms:modified xsi:type="dcterms:W3CDTF">2016-01-04T14:02:55Z</dcterms:modified>
  <cp:revision>20</cp:revision>
  <dc:subject/>
  <dc:title>Макроэкономическое равновесие</dc:title>
</cp:coreProperties>
</file>