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2AD-EF3A-49C3-925E-DA10D45BC0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руктурированной оценк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анализ, концептуальная карта, 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: «Сканирование» кон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: 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: 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/затормозить развитие региона в интересующе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: 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: Оценивание разработанной policy-стратегии (опциональ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 тре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едшествующих опытов – «извлечение уро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е рассмотрение необходимого и недостаточного – ресурсов, концептуальных элементов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ние возможностей и перспекти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ante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ный анализ сильных и слабых сторон, угроз и альтернати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непредвиденных результатов (влияниях) реализуемой политики на элементы ее кон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ая корректировк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mid-term/on-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mid-term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валидности SWOT-матрицы и адекватности ее элементов текуще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ex-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ex-post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 использован при разработке плана регионального развития «Объекта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ыт Швеции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ex-ante и mid-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а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illiam Trochim (1989)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SWOT-анализа (на примере оценивания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составления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1: Подгот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2: Выработка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тверждений - &gt;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  слова, краткие формули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3: Структурирова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 матрицы  комбинированные матр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уктурирование утверждений: сортировка кар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: Представление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1: Проведение анализа для расположения точек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SWOT-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 -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2: Кластер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анализ – метод, позволяющий разбить изучаемую совокупность объектов на группы «схожих» объектов, класт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гломеративная группировка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4.3: Составление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5: Интерпретация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клас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тер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 6: Применение концептуальной к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ante – для определения основных целей и приорит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ex post – для оформления критериев эффективности и индика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тексте on going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 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но концептуализир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нцептуальных ка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а проведение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по при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 – Вынесение окончательного ре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применения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SW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анализ (анализ контекс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нутренних факторов             Анализ внешних факторов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/                       \                              /                                  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льные стороны  Слабые стороны      Возможности                    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SWOT-матрицы (профил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WOT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WOT-анали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примере оценки региональной поли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ивание разработанной policy-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605-A42D-439B-9C1C-3232C668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7DA-5DE0-4EE1-B802-07562DC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A47-3DCC-4ED4-8E7B-1ABDAD6E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8B7-BC49-4932-879F-BECF1675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3717-51A5-40DA-B796-D3BF31CF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A82-BD8B-44E9-976F-7F6026D6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7F9-FF0B-4A34-A51C-5FF9F34B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5A73-44AE-40C7-ACBA-92478BF7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6A78-A050-4766-A28F-AD47985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721-5854-43A6-BECF-C6112699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07FF-6ADC-44E2-967A-7FCD2B51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64C-CF69-47B7-A048-A0CA162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AC1-2E17-42DD-8F1D-419EBAFA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FA9-07B6-4EAF-85FD-20FC9C4C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DF20-2037-4551-8BC6-76F7F39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EA9-F735-466A-873B-F48E6A25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CB6-35B3-4602-8C9B-D92495BB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0C9-FA21-4415-8B13-EBDC1F0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32D-11EC-4F23-8859-DC2217D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AEF-E470-4D6E-A3F6-0456A42B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DAA-6281-4753-A8B8-DD38E985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F63-2FA3-4DAA-9685-297DAB9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902-7C9E-4A08-BAEF-0E3115A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DBE-3C44-43BB-8BD8-948DCFF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797F-9253-43B6-A279-4803F4D6C2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93BA-48D2-4550-88B3-94A9734A59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етоды структурированной оценки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анализ, концептуальная карта, цветовое голосова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дим Марша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 Кузне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лия Бу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1: «Сканирование» контекс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 и установка основных проблемных трендов, которые могут повлиять на развитие конкретного реги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политических, социально-демографических, экономических и физико-географических индика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Этап 2: Подготовка и инвентаризация возможных действий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возможных действий в общих концептуально-однородных по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лен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3: Внешний анализ возможностей и угро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тех параметров «окружения» региона, которые не доступны для контроля региональной власти, но могут существенно повлиять на реализацию полит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4: Внутренний анализ сильных и слабых сторон</a:t>
            </a:r>
            <a:br>
              <a:rPr sz="28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ие и анализ факторов, которые хотя-бы частично подконтрольны региональной администрации и могут ускори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тормозить развитие региона в интересующе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Этап 5: Классификация возможных действий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ение тех действий, который в соответствии с результатами этапа 4 могут по максимуму использовать сильные стороны программы и региона и нивелировать слаб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Этап 6: Оценивание разработанной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policy-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тратегии (опциональн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вается на сравнительном анализе релевантных опытов тех программ, которые уже были реализова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 трех уровнях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ante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ивание, проводимое на стадии формулирования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going/midterm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ое оцени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post evaluatio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нальное оцениван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предшествующих опытов – «извлечение уроков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совокупное рассмотрение необходимого и недостаточного – ресурсов, концептуальных элементов,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рассмотрение возможностей и перспекти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ante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грегированный анализ сильных и слабых сторон, угроз и альтернативных возможнос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Анализ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непредвиденных результат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в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  <a:ea typeface="Tahoma"/>
              </a:rPr>
              <a:t> (влияниях) реализуемой политики на элементы ее контекста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варительная корректировка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-term/on-go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е систем мониторинга промежуточных результатов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ая корректировка задач, стратегий и методов оце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межуточная оценка эффективности и соответствия достигнутого поставленным це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ветовое голос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id-term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алид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матрицы и адекватности ее элементов текуще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вен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-p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и мониторинг реализации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незапланирован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поставление результатов двух предыдущих уровней оцен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ведение итога и структурирование референтного опы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Цели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-post </a:t>
            </a: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применения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дач и неу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Что могло быть сделано, но не сдела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долгосрочности результатов и учет возможных флукту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использован при разработке плана регионального развития «Объекта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ент сделан на факторы окружения, структурных и демографических характеристиках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результатами стратегия скорректир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ыт Швеции 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719360"/>
          <a:ext cx="8229600" cy="4614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Большие запасы природных ресурс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равнительно богатые месторожд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Туризим (туристический бизнес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чественная добываемая древесин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ресные и минеральные вод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золированный регион с низкой плотностью насел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асность экономических флуктуаций и отклонений от бюдж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труктурная слабость фирм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Демографический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едостаточное количество рабочих м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имущества и недостатки метода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 на поиск наиболее эффектив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учета мнений партн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эффективен при последовательном использовании на уровня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an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озраст» метода и его трансдисциплинарная специ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ая субъективность при построении классифик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качественного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тех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мет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цесса составления ка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этапы составлен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имущества и недостатки инструм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цептуальная карта – графическое представление экспертного заключения, отражающего основные идеи, выработанные группой в ходе обсуждения проблемы, а также показывающего связи одних положений с другими, их важность и релевант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метода концептуальных ка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 структурной концептуализации, используемый группами для разработки концептуального фона, иллюстрации проведения оценки либо планирования какой-либо программы/политик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мерное представление набора понятий, описывающих объекты или явления, и функциональных взаимосвязей между ни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евовидная структура, целиком посвящённая какой-либо теме; отдельные узлы на ней являют собой более мелкие составляющие общего знания, важные для понимания значения общей темы, связи объясняют, каким образом узлы взаимодействуют между соб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Trochi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989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разработка метода, введение понятия структурной концептуализации, показана возможность использования процессов на практи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-анализ: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пыт и перспективы применения при оценивании политик и программ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этап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(на примере оценивания региональной полит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на различных уровнях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Шв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имущества и недостатки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не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концептуальных карт используется д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улировка ключевых вопросов и фокусов программ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отки дизайна и плана проведения оцени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нерелевантных для программы или политики аспектов оценки, которые необходимо опустить в процессе исслед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эффектов воздействия программы/политики, которые необходимо оцен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я основных целей и задач оценива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техн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а – взаимодействие нескольких 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грегирование индивидуальных точек зрения по определенному вопрос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и различных источников информации: документации, исторических записях, более ранних оценках и исследованиях, интервью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астники процесса составления кар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(10-20 человек) состоит обычно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министраторов различных зве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програм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и академического сообщ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сообще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ителей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деров комп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П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щ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нсоров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модератора (внешний эксперт или участник программы) – управление процед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участников – определение содержания, интерпретация и применен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этапы составления концептуальных кар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– отбор участников и выбор фокусов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работка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ирование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утверждений в виде концептуальных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претаци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ение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1: Подготов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бор учас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отка фокуса исследования: мозговой штурм, общее собр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2: Выработка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зговой штур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тверждений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лова, краткие формулиро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3: Структурирова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неструктурированной сортировки карточ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бинирование результатов: таблица или квадратичная матр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дивидуальные матрицы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омбинированные матр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нжирование утверждений (Шкала Лайкер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труктурирование утверждений: сортировка карточек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5" descr="fig-2"/>
          <p:cNvPicPr/>
          <p:nvPr/>
        </p:nvPicPr>
        <p:blipFill>
          <a:blip r:embed="rId1"/>
          <a:stretch/>
        </p:blipFill>
        <p:spPr>
          <a:xfrm>
            <a:off x="2124000" y="1557360"/>
            <a:ext cx="4907160" cy="46767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: Представление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дение анализа для помещения концепта на ту или иную точку кар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ировка или разделение утверждений на карте по кластерам, которые отражают более высокие порядки концептуальных группировок изначального блока утверж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ставление карт, которые покрывают утверждения либо по точкам, либо по кластер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Шаг 4.1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оведение анализа для расположения точек на карт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омерное шкалирование – представление совокупности интересующих исследователя объекта в виде некоторого набора точек многомерного пространства некоторой небольшой размерности, при этом каждому объекту соответствует одна точка. Координаты точек истолковываются как значения неких характеристик исходных объектов, которые объясняют их свойства и взаимоотно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етрическое шкалирование – использование не оценок сходства объектов, а результатов их ранж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 – Strengths, Weakness, Opportunities, Thr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тод структурирования и оценивания информации на предварительной стадии разработки программы, позволяющий выделить ее основные сильные и слабые стороны, а также возможные «побочные эффекты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2: Кластерный анали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етод, позволяющий разбить изучаемую совокупность объектов на группы «схожих» объектов,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ггломеративная группиро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начинаем с создания элементарных кластеров, каждый состоит из одного наблюдения, на каждом последующем шаге объединяем два наиболее близких кластеров в оди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4.3: Составление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рем усредненные рейтинги по участникам для каждого утверждения и кластера. Переносим это графически на карту – точечную ранжированную и/или кластерную ранжированную карту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5: Интерпретация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ст утвержд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ый л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ка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ая ранжирован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ная ранжированная ка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утверждени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верждения, полученный в процессе мозгового штур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ст кластер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9" descr="fig-3"/>
          <p:cNvPicPr/>
          <p:nvPr/>
        </p:nvPicPr>
        <p:blipFill>
          <a:blip r:embed="rId1"/>
          <a:stretch/>
        </p:blipFill>
        <p:spPr>
          <a:xfrm>
            <a:off x="1619280" y="1989000"/>
            <a:ext cx="6057720" cy="41245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fin-1"/>
          <p:cNvPicPr/>
          <p:nvPr/>
        </p:nvPicPr>
        <p:blipFill>
          <a:blip r:embed="rId1"/>
          <a:stretch/>
        </p:blipFill>
        <p:spPr>
          <a:xfrm>
            <a:off x="2124000" y="1700280"/>
            <a:ext cx="4762440" cy="4438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ig-5"/>
          <p:cNvPicPr/>
          <p:nvPr/>
        </p:nvPicPr>
        <p:blipFill>
          <a:blip r:embed="rId1"/>
          <a:stretch/>
        </p:blipFill>
        <p:spPr>
          <a:xfrm>
            <a:off x="1476360" y="1557360"/>
            <a:ext cx="6039000" cy="49244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чеч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астерная ранжированная кар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1" name="Picture 4" descr="fig-6"/>
          <p:cNvPicPr/>
          <p:nvPr/>
        </p:nvPicPr>
        <p:blipFill>
          <a:blip r:embed="rId1"/>
          <a:stretch/>
        </p:blipFill>
        <p:spPr>
          <a:xfrm>
            <a:off x="1809720" y="1719360"/>
            <a:ext cx="5524560" cy="44114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Шаг 6: Применение концептуальной кар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ланировании проведения оценивания: метод позволяет акцентировать внимание на ключевых оценочных ресурсах для достижения максимальной эффективности программ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ыработке консенсуса среди партнеров, заинтересованных в оценк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лучае отсутствия ясности по поводу программных целей и ожидаемых результатов, а также критериев изменения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хника оптимальна на различных этапах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пределения основных целей и приор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я оформления критериев эффективности и индик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тек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мето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60 гг. – описание метода (Лернд, Эндрю,  Кристиансен, Гат) и обоснование его применения для стратегического план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0-е гг. - активное использова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инистрациями штатов и городов при реализации политик развития а также управленцами государственного сектора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можно концептуализировать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евая аудит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/содержание програм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итический ци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н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етод концептуальных кар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имуществ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нимает мало време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сть проце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т большого количества мнений, в т.ч. стэйкхолде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ит лишь для начального эта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омоздкость мет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е голосо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ика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омендации по примене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емы цветового голос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редел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техника, применяемая для проведения встреч, основанная на визуальном представлении мнений в группе. В ситуации оценивания, когда вовлечены несколько участников, оно может быть использовано для структурирования дискуссии и коллективной рефлексии, способствуя выражению всех точек зрения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– это инструмент, повышения объективности оценивания в контексте плюралистического подхода. Этот метод может быть применен для прояснения и классификации вопросов оценивания, выборы критериев оценивания, обоснования заключения и формулировки рекоменд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хника проведение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ветовое голосование - запись всех высказывания на больших листах бумаги большими буквами и размещение этих листов на стене. Рядом с каждым высказыванием оставляется место для «голосования». У каждого из участников обсуждения в распоряжении имеется некоторое количество разноцветных стикеров (в зависимости от количества обсуждаемых высказываний). Каждый может поместить один или все стикеры напротив заявления (или заявлений), с которым больше всего соглас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комендации по применению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высказываний: не более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участников: не более 5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стикеров: общее число стикеров должно примерно совпадать с числом обсуждаемых высказываний (не более 10, не менее 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емы цветового голос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влять достаточно места для голосования рядом с обсуждаемыми высказываниями, разграничивать их горизонтальными ли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сить участников наклеивать стикеры так, чтобы один заходил на другой, в случае голосования несколькими стикерами за одно высказывание одним участником. Тогда по завершении можно будет отследить, сколько человек проголосовало за то или иное высказыв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дставлено несколько типов участников, различным группам выдаются стикеры различных цветов. Это позволяет увидеть различие точек зрения различных категорий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использовать позитивное и негативное голосование. Например, стикеры красного цвета для голосования против, а зеленого – 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едложить участникам писать комментарии на стикерах, аргументирующие их поз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оединение метода «мозгового штурма» и «цветового голосования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1 - Мозговой штурм критериев оценки идеи или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2 - Цветовое голосование для определения приоритетных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3 – Определение наиболее удачных решений, присвоение им цв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4 - Разделение помеченных и не помеченных стикерами идей, ранжир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5 – Обсуждение наиболее популярных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п 6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несение окончательного ре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ласти применения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региональной политики (наиболее распростране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социальной поли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эффективности бюрократических структур и управленческих решений в рамках государственного се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ка отраслевых полит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уктура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итуационный анализ (анализ кон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утренних 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Анализ внешних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факторо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\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/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стороны  Слабые стороны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В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озможности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WOT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-матрицы (профиля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343400" y="42670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WOT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матриц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276640"/>
          <a:ext cx="8229600" cy="391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риятные возм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 стор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ые этапы </a:t>
            </a: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WOT-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анализа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на примере оценки региональной политик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канирование» контекста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и инвентариз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анализ возможностей и уг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й анализ сильных и слаб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озмож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разработа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icy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9:41:50Z</dcterms:created>
  <dc:creator>USER</dc:creator>
  <dc:description/>
  <dc:language>en-US</dc:language>
  <cp:lastModifiedBy>LEGION</cp:lastModifiedBy>
  <dcterms:modified xsi:type="dcterms:W3CDTF">2016-01-04T14:03:03Z</dcterms:modified>
  <cp:revision>18</cp:revision>
  <dc:subject/>
  <dc:title>Методы структурированной оценки: SWOT анализ, концептуальная карта, цветовое голосование</dc:title>
</cp:coreProperties>
</file>