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8FFA-4A1D-4314-848A-FCE16BE673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5D4-4E8D-4B88-9FEA-EBB60349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DB0-03F7-4AE2-89C5-912FB184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3CD-3DAA-4796-8CEF-B3D27D47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914-FCE6-41C4-BE21-6C29B033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AE05-8CDE-46ED-BA08-0B567854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1B33-830E-4EC1-965E-A3510B29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8E5C-5346-4917-822F-20095D16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53C8-5A8B-4EA8-B9D0-B532F22D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61DA-2E0E-4B27-BA3A-C51F7759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19F3-BA71-4125-80A5-26F8BB90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526F-6A30-4FB7-ADED-43C8504D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152-D07D-44CB-88FA-60C8C11D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9588-A8BC-49D8-BDE5-951CB4D6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7342-F1BC-4EF9-A552-462ED570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5315-B733-43FF-BB0F-9537D4C7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CF6C-9D98-4700-A84A-5233260A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162-DA2F-4C9C-84E2-ECC7AAC0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C28-29E2-49E8-818C-E77DCD26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89E-D557-47D5-A6B8-8B1CA421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623-2B2F-40C4-AD9D-165DEE34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36E-6A8C-4F0B-9D33-272DDAAD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3A8-E3F2-4F39-8616-2D54D27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57D-FC68-4A20-90AF-7671A56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D08-4360-4EBC-A9C4-B28ABBA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A0B1-894D-433F-804A-CA723812BD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F73D-C6A6-43E1-8B72-DC44DFFA2B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етоды структурированной оценки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анализ, концептуальная карта, цветовое голосов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1: «Сканирование» контекс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Этап 2: Подготовка и инвентаризация возможных действий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3: Внешний анализ возможностей и угро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28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ормозить развитие региона в интересующе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5: Классификация возможных действи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Этап 6: Оценивание разработанной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policy-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тратегии (опциональн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трех уровнях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предшествующих опытов – «извлечение уроков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совокупное рассмотрение необходимого и недостаточного – ресурсов, концептуальных элементов,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ние возможностей и перспекти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ante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грегированный анализ сильных и слабых сторон, угроз и альтернативных возмож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нализ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непредвиденных результат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в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 (влияниях) реализуемой политики на элементы ее контекста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варительная корректиров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-term/on-g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id-term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алид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атрицы и адекватности ее элементов текуще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p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post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спользован при разработке плана регионального развития «Объекта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 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719360"/>
          <a:ext cx="8229600" cy="461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ольшие запасы природных ресур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равнительно богатые месторожд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уризим (туристический бизнес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чественная добываемая древес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ресные и минеральные вод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олированный регион с низкой плотностью насел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асность экономических флуктуаций и отклонений от бюдж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уктурная слабость фирм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Демографический кризи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достаточное количество рабочих м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имущества и недостатки метода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an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метода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Trochi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98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-анализ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(на примере оценивания региональной поли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астники процесса составления кар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этапы составления концептуальных кар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1: Подготов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2: Выработка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тверждений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лова, краткие формулиро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3: Структурирова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ивидуальные матрицы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омбинированные матр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труктурирование утверждений: сортировка карточе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5" descr="fig-2"/>
          <p:cNvPicPr/>
          <p:nvPr/>
        </p:nvPicPr>
        <p:blipFill>
          <a:blip r:embed="rId1"/>
          <a:stretch/>
        </p:blipFill>
        <p:spPr>
          <a:xfrm>
            <a:off x="2124000" y="1557360"/>
            <a:ext cx="4907160" cy="46767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: Представле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Шаг 4.1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ведение анализа для расположения точек на карт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2: Кластерный анали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етод, позволяющий разбить изучаемую совокупность объектов на группы «схожих» объектов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ггломеративная группиро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3: Составление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5: Интерпретация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кластер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fig-3"/>
          <p:cNvPicPr/>
          <p:nvPr/>
        </p:nvPicPr>
        <p:blipFill>
          <a:blip r:embed="rId1"/>
          <a:stretch/>
        </p:blipFill>
        <p:spPr>
          <a:xfrm>
            <a:off x="1619280" y="1989000"/>
            <a:ext cx="6057720" cy="4124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fin-1"/>
          <p:cNvPicPr/>
          <p:nvPr/>
        </p:nvPicPr>
        <p:blipFill>
          <a:blip r:embed="rId1"/>
          <a:stretch/>
        </p:blipFill>
        <p:spPr>
          <a:xfrm>
            <a:off x="2124000" y="1700280"/>
            <a:ext cx="4762440" cy="4438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fig-5"/>
          <p:cNvPicPr/>
          <p:nvPr/>
        </p:nvPicPr>
        <p:blipFill>
          <a:blip r:embed="rId1"/>
          <a:stretch/>
        </p:blipFill>
        <p:spPr>
          <a:xfrm>
            <a:off x="1476360" y="1557360"/>
            <a:ext cx="6039000" cy="49244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1" name="Picture 4" descr="fig-6"/>
          <p:cNvPicPr/>
          <p:nvPr/>
        </p:nvPicPr>
        <p:blipFill>
          <a:blip r:embed="rId1"/>
          <a:stretch/>
        </p:blipFill>
        <p:spPr>
          <a:xfrm>
            <a:off x="1809720" y="1719360"/>
            <a:ext cx="5524560" cy="44114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6: Примен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пределения основных целей и приор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формления критериев эффективности и индик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можно концептуализировать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е голос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комендации по примене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хника провед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комендации по применению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ы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6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есение окончатель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ласти применен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итуационный анализ (анализ кон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утренних 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ешних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\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стороны  Слабые стороны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зможности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-матрицы (профил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34340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матриц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276640"/>
          <a:ext cx="8229600" cy="391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ые этапы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анализа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на примере оценки региональной политик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разработа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icy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9:41:50Z</dcterms:created>
  <dc:creator>USER</dc:creator>
  <dc:description/>
  <dc:language>en-US</dc:language>
  <cp:lastModifiedBy>LEGION</cp:lastModifiedBy>
  <dcterms:modified xsi:type="dcterms:W3CDTF">2016-01-04T14:03:03Z</dcterms:modified>
  <cp:revision>18</cp:revision>
  <dc:subject/>
  <dc:title>Методы структурированной оценки: SWOT анализ, концептуальная карта, цветовое голосование</dc:title>
</cp:coreProperties>
</file>