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E059-CCA5-4B0B-B3B9-E177F5F003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3C4-58F4-4344-BFB7-DEEBE161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43C-8B46-4431-9840-7230811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B06-7B9D-4689-92A8-E293F20E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D18-228A-428B-A0E3-DC29DBC0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9E71-7838-46E5-82EF-65475EEF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1E41-C5CB-4318-8750-DA9CAFB3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05ED-7971-4B07-9ABB-3600E4F0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B84F-84D4-45CB-A080-70BFBF1A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DE3B-040C-4A60-8494-636E6F78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C8E2-6CCB-4B12-BFEF-6BE2059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29E3-3A6C-4F44-AA7D-CCD6B92E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455-79E3-4A70-AA94-7C411371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EDEC-6FA8-4D26-9D5B-A78186D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5901-9DFA-47AF-A305-AEB6611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3C86-B293-48AD-8F60-7811DE60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1A87-90BB-4550-8FCB-995319A0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9A25-FC6A-449E-9512-608E3F14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7C3-1596-4ADF-9B7B-94185F88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92A-72E0-4957-8392-779C65F5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C2E-07FC-417D-8F6A-3EB6B120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338-EA9C-4B47-A0A0-7887E428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893-F24B-4767-BF17-1F1FFEF9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FA6-0966-4F06-B108-0E674553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2D5-7464-4413-B2F5-44E7012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B27-4CF3-4CDB-9030-3ABC4ABA43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2964-B493-400D-857A-0F8C0E931B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етоды структурированной оценки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анализ, концептуальная карта, цветовое голосов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1: «Сканирование» контекс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Этап 2: Подготовка и инвентаризация возможных действий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3: Внешний анализ возможностей и угро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28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ормозить развитие региона в интересующе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5: Классификация возможных действи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Этап 6: Оценивание разработанной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policy-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тратегии (опциональн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трех уровнях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предшествующих опытов – «извлечение уроков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совокупное рассмотрение необходимого и недостаточного – ресурсов, концептуальных элементов,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ние возможностей и перспекти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ante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грегированный анализ сильных и слабых сторон, угроз и альтернативных возмож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нализ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непредвиденных результат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в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 (влияниях) реализуемой политики на элементы ее контекста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варительная корректиров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-term/on-g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id-term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алид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атрицы и адекватности ее элементов текуще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p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post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спользован при разработке плана регионального развития «Объекта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 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719360"/>
          <a:ext cx="8229600" cy="461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ольшие запасы природных ресур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равнительно богатые месторожд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уризим (туристический бизнес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чественная добываемая древес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ресные и минеральные вод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олированный регион с низкой плотностью насел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асность экономических флуктуаций и отклонений от бюдж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уктурная слабость фирм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Демографический кризи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достаточное количество рабочих м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имущества и недостатки метода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an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метода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Trochi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98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-анализ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(на примере оценивания региональной поли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астники процесса составления кар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этапы составления концептуальных кар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1: Подготов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2: Выработка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тверждений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лова, краткие формулиро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3: Структурирова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ивидуальные матрицы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омбинированные матр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труктурирование утверждений: сортировка карточе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5" descr="fig-2"/>
          <p:cNvPicPr/>
          <p:nvPr/>
        </p:nvPicPr>
        <p:blipFill>
          <a:blip r:embed="rId1"/>
          <a:stretch/>
        </p:blipFill>
        <p:spPr>
          <a:xfrm>
            <a:off x="2124000" y="1557360"/>
            <a:ext cx="4907160" cy="46767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: Представле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Шаг 4.1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ведение анализа для расположения точек на карт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2: Кластерный анали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етод, позволяющий разбить изучаемую совокупность объектов на группы «схожих» объектов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ггломеративная группиро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3: Составление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5: Интерпретация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кластер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fig-3"/>
          <p:cNvPicPr/>
          <p:nvPr/>
        </p:nvPicPr>
        <p:blipFill>
          <a:blip r:embed="rId1"/>
          <a:stretch/>
        </p:blipFill>
        <p:spPr>
          <a:xfrm>
            <a:off x="1619280" y="1989000"/>
            <a:ext cx="6057720" cy="4124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fin-1"/>
          <p:cNvPicPr/>
          <p:nvPr/>
        </p:nvPicPr>
        <p:blipFill>
          <a:blip r:embed="rId1"/>
          <a:stretch/>
        </p:blipFill>
        <p:spPr>
          <a:xfrm>
            <a:off x="2124000" y="1700280"/>
            <a:ext cx="4762440" cy="4438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fig-5"/>
          <p:cNvPicPr/>
          <p:nvPr/>
        </p:nvPicPr>
        <p:blipFill>
          <a:blip r:embed="rId1"/>
          <a:stretch/>
        </p:blipFill>
        <p:spPr>
          <a:xfrm>
            <a:off x="1476360" y="1557360"/>
            <a:ext cx="6039000" cy="49244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1" name="Picture 4" descr="fig-6"/>
          <p:cNvPicPr/>
          <p:nvPr/>
        </p:nvPicPr>
        <p:blipFill>
          <a:blip r:embed="rId1"/>
          <a:stretch/>
        </p:blipFill>
        <p:spPr>
          <a:xfrm>
            <a:off x="1809720" y="1719360"/>
            <a:ext cx="5524560" cy="44114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6: Примен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пределения основных целей и приор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формления критериев эффективности и индик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можно концептуализировать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е голос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комендации по примене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хника провед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комендации по применению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ы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6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есение окончатель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ласти применен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итуационный анализ (анализ кон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утренних 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ешних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\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стороны  Слабые стороны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зможности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-матрицы (профил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34340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матриц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276640"/>
          <a:ext cx="8229600" cy="391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ые этапы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анализа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на примере оценки региональной политик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разработа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icy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9:41:50Z</dcterms:created>
  <dc:creator>USER</dc:creator>
  <dc:description/>
  <dc:language>en-US</dc:language>
  <cp:lastModifiedBy>LEGION</cp:lastModifiedBy>
  <dcterms:modified xsi:type="dcterms:W3CDTF">2016-01-04T14:03:03Z</dcterms:modified>
  <cp:revision>18</cp:revision>
  <dc:subject/>
  <dc:title>Методы структурированной оценки: SWOT анализ, концептуальная карта, цветовое голосование</dc:title>
</cp:coreProperties>
</file>