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AF1E-6595-41A7-9D03-B692CBBCA9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083-81D2-4F2C-BE68-F12DACD1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916-3E6F-4255-A5C4-0EB8F722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99A-1DBD-488C-8FA2-070CD649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D92-7999-46EE-826A-6545A1AE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466D-A5A9-436F-A923-7AEC89E5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BEB3-6B25-44BA-8836-E0BF23D8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6E20-1B1D-40AE-BA79-74C12D3D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7174-29FB-46BE-993D-E3C68366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CE3B-A56B-4852-BAC1-CB681FBB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A34A-6567-4A5E-ADF2-5B867381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AD3A-4C4F-45CD-9AE0-430FD236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E32-EA24-403C-A2B1-8D33F3B1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B863-550D-44A7-8405-3F251B3F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ADAA-6BF6-49C4-9B5C-33BC809C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139B-27E4-4530-8C99-B2890677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1DB1-53A6-411C-B093-787F4659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4039-7419-438D-9C0C-C675F8F3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CE35-1B5B-4CBC-9067-EFF09A16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E47-3742-42A7-8C61-A4432961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F8C-259C-45D3-A776-59113748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4F7-46FB-44F4-87D0-1DF3A05D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834-FD1F-4F70-9F3C-881E69F9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E9B-6D9E-489F-85B1-0A9DAA6F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E63-8687-425F-B3A4-89C48EF9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98CF-9AF0-4AC7-825E-6F92AC1A10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95A0-B39B-4FCC-BD2F-E98CD86F51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етоды структурированной оценки: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анализ, концептуальная карта, цветовое голосова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1: «Сканирование» контекс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Этап 2: Подготовка и инвентаризация возможных действий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3: Внешний анализ возможностей и угроз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28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тормозить развитие региона в интересующе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5: Классификация возможных действий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Этап 6: Оценивание разработанной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policy-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стратегии (опционально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 трех уровнях оцени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an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предшествующих опытов – «извлечение уроков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совокупное рассмотрение необходимого и недостаточного – ресурсов, концептуальных элементов,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рассмотрение возможностей и перспекти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ante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грегированный анализ сильных и слабых сторон, угроз и альтернативных возможнос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нализ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непредвиденных результат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в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 (влияниях) реализуемой политики на элементы ее контекста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варительная корректиров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d-term/on-go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держ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анали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id-term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алид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матрицы и адекватности ее элементов текущей ситу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po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post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спользован при разработке плана регионального развития «Объекта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 (продолжени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719360"/>
          <a:ext cx="8229600" cy="4614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Большие запасы природных ресурс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равнительно богатые месторожд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Туризим (туристический бизнес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чественная добываемая древесин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ресные и минеральные вод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золированный регион с низкой плотностью насел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асность экономических флуктуаций и отклонений от бюдже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труктурная слабость фирм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Демографический кризи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едостаточное количество рабочих ме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еимущества и недостатки метода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-an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метода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am Trochim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989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-анализ: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 (на примере оценивания региональной полит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иса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астники процесса составления кар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этапы составления концептуальных кар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1: Подготовк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2: Выработка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тверждений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лова, краткие формулиро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3: Структурирова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дивидуальные матрицы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омбинированные матри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труктурирование утверждений: сортировка карточек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7" name="Picture 5" descr="fig-2"/>
          <p:cNvPicPr/>
          <p:nvPr/>
        </p:nvPicPr>
        <p:blipFill>
          <a:blip r:embed="rId1"/>
          <a:stretch/>
        </p:blipFill>
        <p:spPr>
          <a:xfrm>
            <a:off x="2124000" y="1557360"/>
            <a:ext cx="4907160" cy="46767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: Представле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Шаг 4.1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оведение анализа для расположения точек на карт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нали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2: Кластерный анали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ный анали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етод, позволяющий разбить изучаемую совокупность объектов на группы «схожих» объектов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ггломеративная группиров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3: Составление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5: Интерпретация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кластер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9" descr="fig-3"/>
          <p:cNvPicPr/>
          <p:nvPr/>
        </p:nvPicPr>
        <p:blipFill>
          <a:blip r:embed="rId1"/>
          <a:stretch/>
        </p:blipFill>
        <p:spPr>
          <a:xfrm>
            <a:off x="1619280" y="1989000"/>
            <a:ext cx="6057720" cy="41245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fin-1"/>
          <p:cNvPicPr/>
          <p:nvPr/>
        </p:nvPicPr>
        <p:blipFill>
          <a:blip r:embed="rId1"/>
          <a:stretch/>
        </p:blipFill>
        <p:spPr>
          <a:xfrm>
            <a:off x="2124000" y="1700280"/>
            <a:ext cx="4762440" cy="4438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fig-5"/>
          <p:cNvPicPr/>
          <p:nvPr/>
        </p:nvPicPr>
        <p:blipFill>
          <a:blip r:embed="rId1"/>
          <a:stretch/>
        </p:blipFill>
        <p:spPr>
          <a:xfrm>
            <a:off x="1476360" y="1557360"/>
            <a:ext cx="6039000" cy="49244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1" name="Picture 4" descr="fig-6"/>
          <p:cNvPicPr/>
          <p:nvPr/>
        </p:nvPicPr>
        <p:blipFill>
          <a:blip r:embed="rId1"/>
          <a:stretch/>
        </p:blipFill>
        <p:spPr>
          <a:xfrm>
            <a:off x="1809720" y="1719360"/>
            <a:ext cx="5524560" cy="44114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6: Примен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пределения основных целей и приорит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po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формления критериев эффективности и индик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то можно концептуализировать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ветовое голос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комендации по применен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хника провед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комендации по применению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емы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6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несение окончательного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бласти применения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уктура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итуационный анализ (анализ контек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утренних 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ешних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\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ильные стороны  Слабые стороны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В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зможности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оздание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WOT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-матрицы (профиля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4343400" y="4267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матриц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2276640"/>
          <a:ext cx="8229600" cy="391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3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ые этапы 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анализа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на примере оценки региональной политик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разработа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icy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те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9:41:50Z</dcterms:created>
  <dc:creator>USER</dc:creator>
  <dc:description/>
  <dc:language>en-US</dc:language>
  <cp:lastModifiedBy>LEGION</cp:lastModifiedBy>
  <dcterms:modified xsi:type="dcterms:W3CDTF">2016-01-04T14:03:03Z</dcterms:modified>
  <cp:revision>18</cp:revision>
  <dc:subject/>
  <dc:title>Методы структурированной оценки: SWOT анализ, концептуальная карта, цветовое голосование</dc:title>
</cp:coreProperties>
</file>