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-360" y="6948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ведение в теорию национальной экономик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чик: Фролова Е.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предмета теории национальной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огика формирования и развития теории национальной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вченко П.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мечает, что предмет изучения национальной экономики – совокупность производительных сил и производственных отношений, социокультурных традиций ведения хозяйства и ценностей, влияющих на особенности экономического роста стра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циональная экономика / ред. Савченко П.В.. – М., 2005. - С.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мет национальной экономики - эт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тегральная характеристика хозяйства страны, его структуры в длительной исторической ретроспективе с учетом действия неэкономических факторов (политики, права, культуры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енностью национальной экономики являетс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смотрение логики формирования развития и трансформации хозяйства страны с позиций поведения его субъектов и во взаимодействии со всеми неэкономическими подсистем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огика формирования и развит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ории национальной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ю недолгую историю существования данной теоретической концепции можно условно разделит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5 основных этап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ап 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иод возникновения национальной экономики датируется 40-ми годами 19 века. В это время в Германии появилась старая историческая школа во главе с  Ф. Листом (1789-1846) которому принадлежит слава отца – основателя теории национальной экономи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841 года Ф. Лист опубликовал свою основную работу под названием «Национальная система политической экономии», в которой нашли отражение его  основные иде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деи Лис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циональная экономия – это моральная наука. Ее объектом является человек, не только хозяйствующий в связи  с необходимостью, обусловленной естественными законами, но и обладающий свободной волей, накладывающий отпечаток своего духа на мир. Национальная экономия должна быть этической наукой, поскольку человек имеет свободную волю. Фактором дальнейшего развития человека и данной экономической системы является свобода, потому что она делает возможным многообразие, которое одновременно служит предпосылкой для индивидуального выражения духовного челове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деи Лис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омерности совместной социальной жизни имеют иной вид, чем те, которые могли показать естественные науки. Поворот классической школы к системе  laissez – faire следует отвергнуть вследствие ее тезиса о гармонии, базирующегося на естественно – научных закономерностях и ее негативного восприятия государства. Большое значение экономической свободы для содействия благосостоянию не должно недооцениваться. Но этой свободы недостаточно, чтобы создать всеобщее благосостояние, необходимо активное участие государства в формировании эффективной экономической сист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деи Лис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качестве примера экономического развития для Германии в области стимулирования производительных сил, а также защиты отечественного производства в форме воспитательных пошлин может выступать Англия. Воспитательные пошлины предполагают таможенную защиту молодых отраслей национальной промышленности, пока они не достигнут уровня международной конкурентоспособ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предмета теории национальной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деи Лис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итическая экономия национальных производительных сил как способности создавать богатство нации, в состав которых включаются различные институты (религия, общественные организации и т.д.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ап 2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90-е годы 19 века, в Германии начала формироваться новая историческая школа во главе с Г. Шмоллером (1838-1912) и К.Бюхером (1847-1930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идеи данных автор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али концепцию народного хозяйства центром которого являлась общность языка, истории, обычаев, культуры, что, по их мнению, крепче связывает народ, чем экономика. Политическая экономия должна стать историко-этической наукой, которая с одной стороны должна давать подробное описание реальной хозяйственной практики, а с другой  включать теорию моральных норм хозяйствования и этику формирования экономических предпочтен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айне отрицательно относились к экономическому анализу без учета истории, географии, психологии, юриспруденции и  других черт, определяющих национальное своеобразие. Не считали возможным применение в экономическом анализе математических методов, так как доказывали, что человеческое поведение – очень сложная задача для дифференциального исчисления. Однако авторы приветствовали использование статистического материала, описывающего реальные хозяйственные проце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дали общую схему экономического развития народов Европы  с выделением трех этапов в зависимости от длины пути, проходимого продуктом от производителя до потребителя: домашнее хозяйство (предметы потребляются там, где производятся) – городское хозяйство (произведенные предметы непосредственно поступают в хозяйства, которые их потребляют) – народное хозяйство (предметы проходят ряд посредников, прежде чем дойдут до конечного потребителя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ап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0-40-х гг. ХХ века в Германии появилось экономическое направление, получившее название «Ордолиберализм» которое отражало специфику методологического подхода ученых к исследованию экономической систем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м идеологом данного подхода является В.Ойкен (1891-1950), перу которого принадлежит две знаменательные книги «Основы национальной экономии» - 1940 года издания и «Основные принципы экономической политики» подготовленная женой ученого и изданная посмертно в 1952 году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идеи В.Ойке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йкен провел морфологический анализ экономической действительности и выделил ограниченное число «чистых форм», из которых образуются разнообразные хозяйственные порядки. Последние сводятся к нескольким идеальным типам хозяйства, из которых непосредственно выводится категория «хозяйственный порядок»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рядок Ойкен понимал как совокупность обычаев, писаных и неписаных правил и норм поведения, а также механизмов, обеспечивающих их реализаци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идеи В.Ойке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идеи В.Ойке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рядок экономики рассматривается лишь как элемент общественной системы, взаимосвязанный с другими элементами – государственным устройством, правовым устройством и так далее. Ойкен выдвинул положение о взаимозависимости порядков (интердепенденции), то есть взаимозависимости и взаимообусловленности политического, экономического, социального, правового порядк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идеи В.Ойке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шающим элементом эффективного хозяйственного порядка является свободная конкуренция, которая гарантирует личные права и свободы челове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циональная эконом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общественное хозяйство определенной стра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ап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70-е годы ХХ века идеи теории национальной экономики переросли географические рамки Германии и получили признание науки и общественности в других страна, в том числе во Франции. В этот период французская экономическая мысль развивалась под флагом  институционально-социологической традиции во главе с  Ф.Перру (1903-1987), Р.Барр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ап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90-е годы ХХ века идей теории национальной экономики начали обретать и российские контур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 влиянием дискуссий видных представителей современной российской экономической науки – А. П. Градова, Л. Абалкина, А. В. Сидоровича, Е.Т. Гайдара и других начала разрабатываться концепция трансформации, учитывающая уникальные национальные особенности России, реализуемые, прежде всего в природно-географическом, политическом, идеологическом, культурном аспектах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современном этапе теория национальной экономики в России развивается по двум основным направлениям – это описание хозяйственной системы нашей страны или выявление факторов, которые определяют национальное своеобразие любого государ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рмин «Национальная экономика» имеет тройственный смысл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циональная экономика как система общественного хозяйства, сложившаяся на территории определенного государ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циональная экономика  как отрасль экономической науки, изучающая закономерности формирования, функционирования и развития хозяйства стра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циональная экономика как учебная дисциплина в системе подготовки специалистов в рамках высшего профессионального образов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 о предмете теории национальной экономики до сих пор окончательно не решен. Существует две основных точки зрения по этому поводу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исательный подход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оронники этой позиции полагают, что предмет национальной экономики – это экономическая система конкретной стран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нный поход имеет много последователей, однако обладает низкой познавательной ценностью так как на практике сводится к элементарному макроэкономическому описанию экономической системы той или иной стра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итический подход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оронники этой позиции малочисленны, но подход более плодотворный, так как он позволяет выйти на качественно новый уровень осмысления сущности экономических процессов в масштабах всего государ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адов А.П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агает, что национальная экономика – это структурированная в отраслевом и региональном аспектах экономическая деятельность в масштабах страны, регулирование институциональной системы, отвечающей складывающемуся в этой стране экономическому, политическому и идеологическому порядкам. Акцент в данном определении автора смещен на структурную составляющую хозяйственной деятельности и влияние на экономические процессы и явления параметров порядка  в идеологическом и политическом аспекта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адов А.П.  Национальная экономика – СПб, 2005. – С.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дорович А.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мечает, что изучение экономического строя общества, национальной экономической системы должно опираться на выявление как общих закономерностей экономического развития, которые неизбежно преломляются в экономике страны, так и ее своеобразия, вытекающего из неэкономических основ жизни общества и сочетания различных укладов экономической жизни стра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урс экономической теории…/ ред. Сидоровича А.В.. – М., 2001. – С.4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848F-4603-4634-9C82-34A9FA97B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0160"/>
            <a:ext cx="79995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C3F1-DD44-4E33-A60F-681C7EBDB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016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240" y="398016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CE5A-841B-4AF9-9162-373DFA260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0960" y="175212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5640" y="175212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016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0960" y="398016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5640" y="398016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3891-29A9-4645-81FA-53983B534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227E1-9A6C-4F4B-BE9B-B8CE80B92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12AD0-4192-42E5-8CAA-A9037C041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73873-80F4-4C19-83CE-0E9930F0D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8BE02-5EDC-46FF-AD0B-4B11DC7CA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FD4AE-2822-4167-B7E4-3C3A461A7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267840"/>
            <a:ext cx="799956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2A7FE-981B-4221-9CE6-F01FE3F0E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016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19C7D-C049-4DC4-8DE9-BAB91768A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AECE-B185-4F87-9D72-86807F75F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240" y="398016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3CC6A-A30E-452C-ABEE-EE77BA0F7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0160"/>
            <a:ext cx="79995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F328A-300A-46C0-B62F-7390B92E5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0160"/>
            <a:ext cx="79995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13DDF-C9AA-4110-A939-C14C6FCEE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016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240" y="398016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E1FCD-13C9-4B67-84B2-C33B837A6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0960" y="175212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5640" y="175212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016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0960" y="398016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5640" y="398016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69DB3-0522-4050-9817-E274A76AE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E4AF-4359-4E62-A128-88F7B0E54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EF0B-DE09-420A-9D6D-48DE42073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1C71-CE9A-4C61-9DE2-AD278212C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267840"/>
            <a:ext cx="799956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EC7A-B513-4FB0-9C53-C6EA764D5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016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8CCA-7E5F-4BC2-831D-DB11A1F05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240" y="398016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EC4A-0132-42EA-BE7C-22B2B01ED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0160"/>
            <a:ext cx="79995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30C9-8E7A-4C44-BE94-FE985BC0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6480" indent="-43668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3200" indent="-39348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2360" indent="-387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2320" indent="-39852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2320" indent="-398520">
              <a:lnSpc>
                <a:spcPct val="97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2320" indent="-398520">
              <a:lnSpc>
                <a:spcPct val="97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3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Line 4"/>
          <p:cNvSpPr/>
          <p:nvPr/>
        </p:nvSpPr>
        <p:spPr>
          <a:xfrm>
            <a:off x="609480" y="6172200"/>
            <a:ext cx="7925040" cy="144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120" y="6245280"/>
            <a:ext cx="19796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19796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C882F79-3B43-4B88-937A-27001B407317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00C51AB-F78D-485B-9F57-E47FC49EE7D6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6480" indent="-43668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3200" indent="-39348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2360" indent="-387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2320" indent="-39852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2320" indent="-398520">
              <a:lnSpc>
                <a:spcPct val="97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2320" indent="-398520">
              <a:lnSpc>
                <a:spcPct val="97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42960" y="49968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Введение в теорию национальной экономики</a:t>
            </a:r>
            <a:br>
              <a:rPr sz="3800"/>
            </a:br>
            <a:r>
              <a:rPr b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разработчик: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Фролова Е.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57160" y="2928960"/>
            <a:ext cx="7010640" cy="25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ределение предмета теории национальной экономи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1720" indent="-5317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огика формирования и развития теории национальной экономи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1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Савченко П.В.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мечает, что предмет изучения национальной экономики – совокупность производительных сил и производственных отношений, социокультурных традиций ведения хозяйства и ценностей, влияющих на особенности экономического роста стран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циональная экономика / ред. Савченко П.В.. – М., 2005. - С.2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едмет национальной экономики - эт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тегральная характеристика хозяйства страны, его структуры в длительной исторической ретроспективе с учетом действия неэкономических факторов (политики, права, культуры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Особенностью национальной экономики являетс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смотрение логики формирования развития и трансформации хозяйства страны с позиций поведения его субъектов и во взаимодействии со всеми неэкономическими подсистема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опрос 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1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1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17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огика формирования и развити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17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ории национальной экономи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0">
              <a:lnSpc>
                <a:spcPct val="97000"/>
              </a:lnSpc>
              <a:spcBef>
                <a:spcPts val="751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сю недолгую историю существования данной теоретической концепции можно условно разделить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lnSpc>
                <a:spcPct val="97000"/>
              </a:lnSpc>
              <a:spcBef>
                <a:spcPts val="751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lnSpc>
                <a:spcPct val="97000"/>
              </a:lnSpc>
              <a:spcBef>
                <a:spcPts val="751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а 5 основных этапов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3800" spc="-1" strike="noStrike">
                <a:solidFill>
                  <a:srgbClr val="000000"/>
                </a:solidFill>
                <a:latin typeface="Verdana"/>
              </a:rPr>
              <a:t>Этап 1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ериод возникновения национальной экономики датируется 40-ми годами 19 века. В это время в Германии появилась старая историческая школа во главе с  Ф. Листом (1789-1846) которому принадлежит слава отца – основателя теории национальной экономик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42760" y="1752480"/>
            <a:ext cx="592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1841 года Ф. Лист опубликовал свою основную работу под названием «Национальная система политической экономии», в которой нашли отражение его  основные идеи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1857240" y="5072040"/>
            <a:ext cx="506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2" descr="F:\list.gif"/>
          <p:cNvPicPr/>
          <p:nvPr/>
        </p:nvPicPr>
        <p:blipFill>
          <a:blip r:embed="rId1"/>
          <a:stretch/>
        </p:blipFill>
        <p:spPr>
          <a:xfrm>
            <a:off x="642960" y="2357280"/>
            <a:ext cx="1643040" cy="278640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Идеи Лист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циональная экономия – это моральная наука. Ее объектом является человек, не только хозяйствующий в связи  с необходимостью, обусловленной естественными законами, но и обладающий свободной волей, накладывающий отпечаток своего духа на мир. Национальная экономия должна быть этической наукой, поскольку человек имеет свободную волю. Фактором дальнейшего развития человека и данной экономической системы является свобода, потому что она делает возможным многообразие, которое одновременно служит предпосылкой для индивидуального выражения духовного человек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Идеи Лист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кономерности совместной социальной жизни имеют иной вид, чем те, которые могли показать естественные науки. Поворот классической школы к системе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issez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aire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следует отвергнуть вследствие ее тезиса о гармонии, базирующегося на естественно – научных закономерностях и ее негативного восприятия государства. Большое значение экономической свободы для содействия благосостоянию не должно недооцениваться. Но этой свободы недостаточно, чтобы создать всеобщее благосостояние, необходимо активное участие государства в формировании эффективной экономической систем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Идеи Лист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755640" y="1752480"/>
            <a:ext cx="724536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В качестве примера экономического развития для Германии в области стимулирования производительных сил, а также защиты отечественного производства в форме воспитательных пошлин может выступать Англия. Воспитательные пошлины предполагают таможенную защиту молодых отраслей национальной промышленности, пока они не достигнут уровня международной конкурентоспособ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Вопрос 1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836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836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ределение предмета теории национальной экономи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Идеи Лист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литическая экономия национальных производительных сил как способности создавать богатство нации, в состав которых включаются различные институты (религия, общественные организации и т.д.)</a:t>
            </a:r>
            <a:br>
              <a:rPr sz="1500"/>
            </a:b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-125640"/>
            <a:ext cx="8001000" cy="16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Этап 2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90-е годы 19 века, в Германии начала формироваться новая историческая школа во главе с Г. Шмоллером (1838-1912) и К.Бюхером (1847-1930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Основные идеи данных авторов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99680" y="18572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зработали концепцию народного хозяйства центром которого являлась общность языка, истории, обычаев, культуры, что, по их мнению, крепче связывает народ, чем экономика. Политическая экономия должна стать историко-этической наукой, которая с одной стороны должна давать подробное описание реальной хозяйственной практики, а с другой  включать теорию моральных норм хозяйствования и этику формирования экономических предпочтен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6480" indent="-436680">
              <a:lnSpc>
                <a:spcPct val="97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райне отрицательно относились к экономическому анализу без учета истории, географии, психологии, юриспруденции и  других черт, определяющих национальное своеобразие. Не считали возможным применение в экономическом анализе математических методов, так как доказывали, что человеческое поведение – очень сложная задача для дифференциального исчисления. Однако авторы приветствовали использование статистического материала, описывающего реальные хозяйственные процесс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6480" indent="-436680">
              <a:lnSpc>
                <a:spcPct val="97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здали общую схему экономического развития народов Европы  с выделением трех этапов в зависимости от длины пути, проходимого продуктом от производителя до потребителя: домашнее хозяйство (предметы потребляются там, где производятся) – городское хозяйство (произведенные предметы непосредственно поступают в хозяйства, которые их потребляют) – народное хозяйство (предметы проходят ряд посредников, прежде чем дойдут до конечного потребителя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Этап 3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071800" y="1752480"/>
            <a:ext cx="64958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0-40-х гг. ХХ века в Германии появилось экономическое направление, получившее название «Ордолиберализм» которое отражало специфику методологического подхода ученых к исследованию экономической системы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сновным идеологом данного подхода является В.Ойкен (1891-1950), перу которого принадлежит две знаменательные книги «Основы национальной экономии» - 1940 года издания и «Основные принципы экономической политики» подготовленная женой ученого и изданная посмертно в 1952 году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1" name="Picture 2" descr="F:\eucken.gif"/>
          <p:cNvPicPr/>
          <p:nvPr/>
        </p:nvPicPr>
        <p:blipFill>
          <a:blip r:embed="rId1"/>
          <a:stretch/>
        </p:blipFill>
        <p:spPr>
          <a:xfrm>
            <a:off x="500040" y="3571920"/>
            <a:ext cx="1571760" cy="235728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Основные идеи В.Ойкен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йкен провел морфологический анализ экономической действительности и выделил ограниченное число «чистых форм», из которых образуются разнообразные хозяйственные порядки. Последние сводятся к нескольким идеальным типам хозяйства, из которых непосредственно выводится категория «хозяйственный порядок»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рядок Ойкен понимал как совокупность обычаев, писаных и неписаных правил и норм поведения, а также механизмов, обеспечивающих их реализацию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Прямоугольник 2"/>
          <p:cNvSpPr/>
          <p:nvPr/>
        </p:nvSpPr>
        <p:spPr>
          <a:xfrm>
            <a:off x="571680" y="928800"/>
            <a:ext cx="7786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Основные идеи В.Ойкена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Основные идеи В.Ойкен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рядок экономики рассматривается лишь как элемент общественной системы, взаимосвязанный с другими элементами – государственным устройством, правовым устройством и так далее. Ойкен выдвинул положение о взаимозависимости порядков (интердепенденции), то есть взаимозависимости и взаимообусловленности политического, экономического, социального, правового порядк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Основные идеи В.Ойкен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шающим элементом эффективного хозяйственного порядка является свободная конкуренция, которая гарантирует личные права и свободы человек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Национальная экономик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684360" y="1773360"/>
            <a:ext cx="792000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общественное хозяйство определенной стра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Этап 4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70-е годы ХХ века идеи теории национальной экономики переросли географические рамки Германии и получили признание науки и общественности в других страна, в том числе во Франции. В этот период французская экономическая мысль развивалась под флагом  институционально-социологической традиции во главе с  Ф.Перру (1903-1987), Р.Барро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Этап 5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90-е годы ХХ века идей теории национальной экономики начали обретать и российские контуры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д влиянием дискуссий видных представителей современной российской экономической науки – А. П. Градова, Л. Абалкина, А. В. Сидоровича, Е.Т. Гайдара и других начала разрабатываться концепция трансформации, учитывающая уникальные национальные особенности России, реализуемые, прежде всего в природно-географическом, политическом, идеологическом, культурном аспектах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а современном этапе теория национальной экономики в России развивается по двум основным направлениям – это описание хозяйственной системы нашей страны или выявление факторов, которые определяют национальное своеобразие любого государств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рмин «Национальная экономика» имеет тройственный смысл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179280" y="1916280"/>
            <a:ext cx="835344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циональная экономика как система общественного хозяйства, сложившаяся на территории определенного государ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циональная экономика  как отрасль экономической науки, изучающая закономерности формирования, функционирования и развития хозяйства стран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циональная экономика как учебная дисциплина в системе подготовки специалистов в рамках высшего профессионального образов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0">
              <a:lnSpc>
                <a:spcPct val="97000"/>
              </a:lnSpc>
              <a:spcBef>
                <a:spcPts val="751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опрос о предмете теории национальной экономики до сих пор окончательно не решен. Существует две основных точки зрения по этому поводу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Описательный подход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оронники этой позиции полагают, что предмет национальной экономики – это экономическая система конкретной страны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нный поход имеет много последователей, однако обладает низкой познавательной ценностью так как на практике сводится к элементарному макроэкономическому описанию экономической системы той или иной стран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-125640"/>
            <a:ext cx="8001000" cy="16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Аналитический подход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оронники этой позиции малочисленны, но подход более плодотворный, так как он позволяет выйти на качественно новый уровень осмысления сущности экономических процессов в масштабах всего государств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Градов А.П.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лагает, что национальная экономика – это структурированная в отраслевом и региональном аспектах экономическая деятельность в масштабах страны, регулирование институциональной системы, отвечающей складывающемуся в этой стране экономическому, политическому и идеологическому порядкам. Акцент в данном определении автора смещен на структурную составляющую хозяйственной деятельности и влияние на экономические процессы и явления параметров порядка  в идеологическом и политическом аспектах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радов А.П.  Национальная экономика – СПб, 2005. – С.4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Сидорович А.В.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мечает, что изучение экономического строя общества, национальной экономической системы должно опираться на выявление как общих закономерностей экономического развития, которые неизбежно преломляются в экономике страны, так и ее своеобразия, вытекающего из неэкономических основ жизни общества и сочетания различных укладов экономической жизни стран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lnSpc>
                <a:spcPct val="97000"/>
              </a:lnSpc>
              <a:spcBef>
                <a:spcPts val="751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урс экономической теории…/ ред. Сидоровича А.В.. – М., 2001. – С.40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рина</dc:creator>
  <dc:description/>
  <dc:language>en-US</dc:language>
  <cp:lastModifiedBy>LEGION</cp:lastModifiedBy>
  <dcterms:modified xsi:type="dcterms:W3CDTF">2016-01-04T14:03:19Z</dcterms:modified>
  <cp:revision>36</cp:revision>
  <dc:subject/>
  <dc:title>Лекция  Инфляция и безработица в экономике</dc:title>
</cp:coreProperties>
</file>