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теорию национальной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чик: Фролова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ченко П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/ ред. Савченко П.В.. – М., 2005. - С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национальной экономики - э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ю национальной экономики явля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5 основных этап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laissez – faire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данных автор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бщественное хозяйство определенной стр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Национальная экономика» имеет тройственный смыс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ательны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тически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 Национальная экономика – СПб, 2005. – С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дорович А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экономической теории…/ ред. Сидоровича А.В.. – М., 2001. – С.4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444-08EC-464A-B9F3-89458C18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D45-5470-418C-A2C6-438CD904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B0D-888B-4D00-AD04-29C2CB1D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E3C-74A6-4B55-93DC-297C24A0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B6A3-5FE2-4CAB-9DC2-78DA6E6A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319E-1694-400A-9A2C-D11074DE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491E-ADAD-475A-B3B6-B045F81A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8C0B-BF29-435C-94AF-9B7236AE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9706-186F-4CB9-ABB8-187D5DE8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5D22-A733-47F4-ACAC-BBA1984A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4E5C-2B21-423B-B6CD-2BC9F7E9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257-3592-406D-9FD8-1844FAD2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AB4E-1A61-4833-9AA7-B68C9150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5C5B-3643-49BD-8386-185C9ABE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7AE6-10DC-453D-932D-D5E48A78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5FC1-940B-4B58-9068-17EA20F8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D93D-7FC8-4FA9-8CBD-A009B7D7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98F-B0B4-4216-8412-022BDA8F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87A-9DE5-4214-B55F-AF8150FB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D88-C49B-420C-902D-F5EB6C62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443-3E69-4555-93C8-FEBB9106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F9A-7C7C-4EB6-B49E-783091F8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06D-00A1-4516-8AAE-5B3DDE11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E91-EF7F-4691-9037-31F15625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AABA09-7655-4D90-9AAF-48CB629B26EB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24EE184-2C1B-4924-B4B6-E41F7817C65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Введение в теорию национальной экономики</a:t>
            </a:r>
            <a:br>
              <a:rPr sz="38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разработчик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Фролова Е.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2928960"/>
            <a:ext cx="701064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авченко П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/ ред. Савченко П.В.. – М., 2005. - С.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дмет национальной экономики - э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ью национальной экономики являет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5 основных этапов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Verdana"/>
              </a:rPr>
              <a:t>Этап 1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42760" y="1752480"/>
            <a:ext cx="592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857240" y="5072040"/>
            <a:ext cx="50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F:\list.gif"/>
          <p:cNvPicPr/>
          <p:nvPr/>
        </p:nvPicPr>
        <p:blipFill>
          <a:blip r:embed="rId1"/>
          <a:stretch/>
        </p:blipFill>
        <p:spPr>
          <a:xfrm>
            <a:off x="642960" y="2357280"/>
            <a:ext cx="1643040" cy="27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issez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r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755640" y="1752480"/>
            <a:ext cx="7245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Вопрос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Этап 2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идеи данных авторов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71800" y="1752480"/>
            <a:ext cx="6495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2" descr="F:\eucken.gif"/>
          <p:cNvPicPr/>
          <p:nvPr/>
        </p:nvPicPr>
        <p:blipFill>
          <a:blip r:embed="rId1"/>
          <a:stretch/>
        </p:blipFill>
        <p:spPr>
          <a:xfrm>
            <a:off x="500040" y="3571920"/>
            <a:ext cx="1571760" cy="235728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928800"/>
            <a:ext cx="778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ациональная эконом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684360" y="1773360"/>
            <a:ext cx="7920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бщественное хозяйство определенной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ап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мин «Национальная экономика» имеет тройственный смыс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79280" y="1916280"/>
            <a:ext cx="8353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исательный подход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Аналитический подход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радов А.П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адов А.П.  Национальная экономика – СПб, 2005. – С.4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идорович А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с экономической теории…/ ред. Сидоровича А.В.. – М., 2001. – С.4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LEGION</cp:lastModifiedBy>
  <dcterms:modified xsi:type="dcterms:W3CDTF">2016-01-04T14:03:19Z</dcterms:modified>
  <cp:revision>36</cp:revision>
  <dc:subject/>
  <dc:title>Лекция  Инфляция и безработица в экономике</dc:title>
</cp:coreProperties>
</file>