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теорию национальной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чик: Фролова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ченко П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/ ред. Савченко П.В.. – М., 2005. - С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национальной экономики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ю национальной экономики явля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5 основных этап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laissez – faire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данных автор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щественное хозяйство определенной стр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Национальная экономика» имеет тройственный смыс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ательны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 Национальная экономика – СПб, 2005. – С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дорович А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экономической теории…/ ред. Сидоровича А.В.. – М., 2001. – С.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E6C-F22B-4A8F-9959-370D328E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4C6-F243-4403-9DEA-2C678F9A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05E-E468-48B4-8B11-DAF29D23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B9E-81EE-484C-864F-6FB89989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654F-5395-4111-A8E7-F7613AA7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A4E6-D7B9-4224-B78E-E3C5330E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60DC-4578-43F7-BEBB-9BDDCCF9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4C6E-FD2C-48EF-AEFB-F47C67E2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C6D1-E8BD-4F74-9123-AE7E9553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8768-BF9C-4DA3-8B46-2A4BCDC3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3B6D-B0CA-4B19-A6C5-E2497762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894-0D20-44E3-AD62-3A5C8E4A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4C0E-B2E7-4DCA-ADD0-07537CAA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3DEC-99E2-4A67-932F-2A0B35B4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47CD-C8EE-4F23-BD8C-83EDEB8D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3299-64ED-4941-B2E3-9FD2FFCC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32E0-AD44-4B3A-B04E-E777DAC0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CC3-3E3D-45D3-8B52-D030C68B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2B7-5AAB-488D-9CA7-4E1DBC88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10D-C527-40AE-A355-7393845A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F43-0B7A-4FDF-9193-1D39DE9A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90B-AFD2-4D95-83E8-FD7D5C09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F7B-5B51-4584-95B7-4F2EB235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731-5FA4-47E9-B5EB-E4B68DBD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050603-42DC-4D9C-A66B-092DF109291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3EDFB6-7CD7-4510-B41E-79AE01FB129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ведение в теорию национальной экономики</a:t>
            </a:r>
            <a:br>
              <a:rPr sz="38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азработчик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ролова Е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2928960"/>
            <a:ext cx="70106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авченко П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/ ред. Савченко П.В.. – М., 2005. - С.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мет национальной экономики - э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ью национальной экономики явля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5 основных этапо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Этап 1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42760" y="1752480"/>
            <a:ext cx="592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57240" y="5072040"/>
            <a:ext cx="50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F:\list.gif"/>
          <p:cNvPicPr/>
          <p:nvPr/>
        </p:nvPicPr>
        <p:blipFill>
          <a:blip r:embed="rId1"/>
          <a:stretch/>
        </p:blipFill>
        <p:spPr>
          <a:xfrm>
            <a:off x="642960" y="2357280"/>
            <a:ext cx="1643040" cy="27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isse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r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755640" y="1752480"/>
            <a:ext cx="7245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Вопрос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Этап 2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идеи данных автор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71800" y="1752480"/>
            <a:ext cx="6495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2" descr="F:\eucken.gif"/>
          <p:cNvPicPr/>
          <p:nvPr/>
        </p:nvPicPr>
        <p:blipFill>
          <a:blip r:embed="rId1"/>
          <a:stretch/>
        </p:blipFill>
        <p:spPr>
          <a:xfrm>
            <a:off x="500040" y="3571920"/>
            <a:ext cx="1571760" cy="2357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928800"/>
            <a:ext cx="778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циональная эконом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84360" y="1773360"/>
            <a:ext cx="7920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щественное хозяйство определенной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ап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мин «Национальная экономика» имеет тройственный смыс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79280" y="1916280"/>
            <a:ext cx="835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исательный подх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налитический подход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дов А.П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ов А.П.  Национальная экономика – СПб, 2005. – С.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идорович А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с экономической теории…/ ред. Сидоровича А.В.. – М., 2001. – С.4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3:19Z</dcterms:modified>
  <cp:revision>36</cp:revision>
  <dc:subject/>
  <dc:title>Лекция  Инфляция и безработица в экономике</dc:title>
</cp:coreProperties>
</file>