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82DAB-53C0-430F-BB22-80C7EC629B2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а и ее роль в жизни современного общества 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у выполни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ючникова 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а и ее роль в жизни современного общества 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у выполнил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ючникова 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й доход (НД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Это исчисленная в денежном выражении стоимость созданного  в стране в течение года совокупного проду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НД = ВНП – амортизация и косвенные нало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Это общий доход, приносимый всеми факторами производства: трудом, землей, капиталом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й доход (НД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Это исчисленная в денежном выражении стоимость созданного  в стране в течение года совокупного проду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НД = ВНП – амортизация и косвенные нало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Это общий доход, приносимый всеми факторами производства: трудом, землей, капиталом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экономики и уровень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 фактором экономического роста в условиях НТП является – интенсивный путь развития производства, при котором уменьшается число занятых в производстве, количество используемого сырья и энер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экономики и уровень жи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 фактором экономического роста в условиях НТП является – интенсивный путь развития производства, при котором уменьшается число занятых в производстве, количество используемого сырья и энерг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чего зависит уровень жизни в стран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чего зависит уровень жизни в стран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я собств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важнейшая сторона экономически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ственник средств производства владеет и самостоятельно распоряжается ими, использует их для организации производства и извлечения доход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ошения собств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важнейшая сторона экономических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ственник средств производства владеет и самостоятельно распоряжается ими, использует их для организации производства и извлечения доход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ственность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инадлежность средств и продуктов производства определенным лицам – индивидам или коллектив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ственность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принадлежность средств и продуктов производства определенным лицам – индивидам или коллектив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онерная (корпора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онерное общество выпускает ценные бумаги – акции разного достоинства, собственники которых (акционеры) имеют право на получение части доходов акционерного общества (дивиденда), соответствующей сумме акции, и на участие в управлении его дел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ионерная (корпорац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ионерное общество выпускает ценные бумаги – акции разного достоинства, собственники которых (акционеры) имеют право на получение части доходов акционерного общества (дивиденда), соответствующей сумме акции, и на участие в управлении его дел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а главным образом в сельском хозяйстве, ремесле, торговле, сфере услуг. В частной собственности находится значительное число мелких и средних фирм, использующих наемный тру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а стимулирует инициативу, предприимчивость, ответственное отношение к тру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лена главным образом в сельском хозяйстве, ремесле, торговле, сфере услуг. В частной собственности находится значительное число мелких и средних фирм, использующих наемный тру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а стимулирует инициативу, предприимчивость, ответственное отношение к тру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бственности государства находятся крупные промышленные предприятия, банки, предприятия тех отраслей, которые обслуживают производство и социально-бытовую сферу (грузовой транспорт, энергетику, связь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ен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обственности государства находятся крупные промышленные предприятия, банки, предприятия тех отраслей, которые обслуживают производство и социально-бытовую сферу (грузовой транспорт, энергетику, связь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оператив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член кооператива имеет свою долю в его имуществе и может выйти из него вернув эту долю. Члены кооператива непосредственно принимают участие в его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оператив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ый член кооператива имеет свою долю в его имуществе и может выйти из него вернув эту долю. Члены кооператива непосредственно принимают участие в его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ктив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ой коллектив, будучи собственником, участвует в управлении производст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собственност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лектив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ой коллектив, будучи собственником, участвует в управлении производств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(греч.) Искусство управления домашним хозяй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овокупность средств, объектов, процессов, используемых людьми для обеспечения жизни, удовлетворения потребностей  путем создания необходимых человеку благ, условий и средств существования с применением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(греч.) Искусство управления домашним хозяй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Совокупность средств, объектов, процессов, используемых людьми для обеспечения жизни, удовлетворения потребностей  путем создания необходимых человеку благ, условий и средств существования с применением тру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Экономика есть искусство удовлетворять безграничные потребности при помощи  ограниченных ресурсов» 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Л. Питер (американский писатель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Экономика есть искусство удовлетворять безграничные потребности при помощи  ограниченных ресурсов» 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Л. Питер (американский писатель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экономики и уровень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прямая зависимость между состоянием экономики и уровнем жизни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жизни характеризу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ление на душу насе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ьные доходы насе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ность жиль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е обеспе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экономики и уровень жи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прямая зависимость между состоянием экономики и уровнем жизни насе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жизни характеризуе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ление на душу насе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ые доходы насе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ность жилье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е обеспеч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то уровень благосостояния населения, степень удовлетворения основных жизненных потребностей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жи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это уровень благосостояния населения, степень удовлетворения основных жизненных потребностей лю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экономики и уровень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того, чтобы уровень жизни повышался, необходим постоянный экономический рост (увеличение реального объема производства, улучшение технических, экономических и социальных характеристик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экономики и уровень жи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того, чтобы уровень жизни повышался, необходим постоянный экономический рост (увеличение реального объема производства, улучшение технических, экономических и социальных характеристик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экономики и уровень жи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елями экономического роста являются валовой национальный продукт (ВНП), валовой внутренний продукт (ВВП), национальный доход (НД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экономики и уровень жиз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зателями экономического роста являются валовой национальный продукт (ВНП), валовой внутренний продукт (ВВП), национальный доход (НД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овой национальный продукт (ВНП)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бщающий экономический показатель, определяемый как сумма рыночных цен всех конечных товаров и услуг, созданный производителями данной страны в течение года как внутри страны, так и за рубеж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ой национальный продукт (ВНП)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бщающий экономический показатель, определяемый как сумма рыночных цен всех конечных товаров и услуг, созданный производителями данной страны в течение года как внутри страны, так и за рубеж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овой внутренний продукт (ВВП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бщающий экономический показатель, определяемый как сумма рыночных цен всех конечных товаров и услуг, созданный производителями данной страны в течение года внутри ст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ой внутренний продукт (ВВП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бщающий экономический показатель, определяемый как сумма рыночных цен всех конечных товаров и услуг, созданный производителями данной страны в течение года внутри стр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2DAC-DDFB-4D48-A123-4E0922E90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DF2F-9BBB-45D6-8ED6-1BC3B2608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64BF-A76B-4B93-8C44-CEDC69EEE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8846-9662-47FD-A0D0-285B5ADA5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433D9-4D66-4632-99D3-DA898FFA7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7DABB-1DD3-4AC4-A585-3B187F349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A31C5-8B73-485B-A576-6C514478E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326D3-461F-4A80-A0DD-41C8D62A1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52259-DD41-4461-892A-3BDD51BB5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AB47B-4163-4906-82CA-68E86913A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A9CFF-B40E-4D43-B7A4-D6CD0CF1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2A5C-FFF0-4808-A3A4-D3FB696D1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EC4FD-B205-4CF9-8D94-1224D279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D7845-9241-45A9-8177-9E82B28E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E09AE-C808-4A54-9D51-4FB58DA6D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E9A9F-A0B9-4133-86C9-FC2F13A6D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BDE7B-E651-4820-B6A5-A084ED2AF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D8EA-CCD9-4875-A4EF-FC046AC72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1E67-D0F3-436A-BA72-AC0F1438D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2DFD-F872-46F4-92EE-D74E3895C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EF32-9250-48D0-8DB9-99C3420E0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33A4-8582-447A-9C6C-DF1204EC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1346-C9D9-40DC-B1B5-1FCDA093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8DDD-3E1E-413A-880A-85DBD144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0087"/>
            </a:gs>
            <a:gs pos="50000">
              <a:srgbClr val="6600cc"/>
            </a:gs>
            <a:gs pos="100000">
              <a:srgbClr val="44008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D6606-750C-4A62-B548-7017F79CC8D2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40087"/>
            </a:gs>
            <a:gs pos="50000">
              <a:srgbClr val="6600cc"/>
            </a:gs>
            <a:gs pos="100000">
              <a:srgbClr val="44008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BCF6B-A56E-4C50-B57C-869D77AB82C8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12..ppt" TargetMode="External"/><Relationship Id="rId2" Type="http://schemas.openxmlformats.org/officeDocument/2006/relationships/image" Target="../media/image5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12..ppt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12..ppt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12..ppt" TargetMode="External"/><Relationship Id="rId3" Type="http://schemas.openxmlformats.org/officeDocument/2006/relationships/hyperlink" Target="12..ppt" TargetMode="External"/><Relationship Id="rId4" Type="http://schemas.openxmlformats.org/officeDocument/2006/relationships/hyperlink" Target="12..ppt" TargetMode="External"/><Relationship Id="rId5" Type="http://schemas.openxmlformats.org/officeDocument/2006/relationships/hyperlink" Target="12..ppt" TargetMode="External"/><Relationship Id="rId6" Type="http://schemas.openxmlformats.org/officeDocument/2006/relationships/hyperlink" Target="12..ppt" TargetMode="External"/><Relationship Id="rId7" Type="http://schemas.openxmlformats.org/officeDocument/2006/relationships/hyperlink" Target="12..ppt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1233000"/>
            <a:ext cx="85327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600" spc="-1" strike="noStrike">
                <a:solidFill>
                  <a:srgbClr val="ffffff"/>
                </a:solidFill>
                <a:latin typeface="Comic Sans MS"/>
              </a:rPr>
              <a:t>Экономика и ее роль в жизни современного общества</a:t>
            </a:r>
            <a:r>
              <a:rPr b="1" lang="ru-RU" sz="5600" spc="-1" strike="noStrike">
                <a:solidFill>
                  <a:srgbClr val="ff0066"/>
                </a:solidFill>
                <a:latin typeface="Comic Sans MS"/>
              </a:rPr>
              <a:t> </a:t>
            </a:r>
            <a:br>
              <a:rPr sz="5600"/>
            </a:br>
            <a:br>
              <a:rPr sz="5600"/>
            </a:br>
            <a:br>
              <a:rPr sz="5600"/>
            </a:br>
            <a:endParaRPr b="0" lang="en-US" sz="5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16000" y="252000"/>
            <a:ext cx="6400800" cy="5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6778800" y="5576760"/>
            <a:ext cx="2365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4572000" y="58374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3466440" y="4862160"/>
            <a:ext cx="225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у выполни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ючникова 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Национальный доход (НД)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i="1" lang="ru-RU" sz="3000" spc="-1" strike="noStrike">
                <a:solidFill>
                  <a:srgbClr val="ffffff"/>
                </a:solidFill>
                <a:latin typeface="Arial"/>
              </a:rPr>
              <a:t>Это исчисленная в денежном выражении стоимость созданного  в стране в течение года совокупного продукт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НД = ВНП – амортизация и косвенные налог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3. Это общий доход, приносимый всеми факторами производства: трудом, землей, капиталом и т.д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BS01576_"/>
          <p:cNvPicPr/>
          <p:nvPr/>
        </p:nvPicPr>
        <p:blipFill>
          <a:blip r:embed="rId1"/>
          <a:stretch/>
        </p:blipFill>
        <p:spPr>
          <a:xfrm>
            <a:off x="7093080" y="692280"/>
            <a:ext cx="1795320" cy="1376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PE03554_"/>
          <p:cNvPicPr/>
          <p:nvPr/>
        </p:nvPicPr>
        <p:blipFill>
          <a:blip r:embed="rId2"/>
          <a:stretch/>
        </p:blipFill>
        <p:spPr>
          <a:xfrm>
            <a:off x="7596360" y="5084640"/>
            <a:ext cx="1547640" cy="149220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Состояние экономики и уровень жизни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9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ff99ff"/>
                </a:solidFill>
                <a:latin typeface="Arial"/>
              </a:rPr>
              <a:t>основным фактором экономического роста в условиях НТП является – интенсивный путь развития производства, при котором уменьшается число занятых в производстве, количество используемого сырья и энерг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1699920"/>
            <a:ext cx="8229600" cy="308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ffff"/>
                </a:solidFill>
                <a:latin typeface="Comic Sans MS"/>
              </a:rPr>
              <a:t>От чего зависит уровень жизни в стране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2" name="Picture 4" descr="PE03753_"/>
          <p:cNvPicPr/>
          <p:nvPr/>
        </p:nvPicPr>
        <p:blipFill>
          <a:blip r:embed="rId1"/>
          <a:stretch/>
        </p:blipFill>
        <p:spPr>
          <a:xfrm>
            <a:off x="395280" y="2565360"/>
            <a:ext cx="2619360" cy="346860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Comic Sans MS"/>
              </a:rPr>
              <a:t>Отношения </a:t>
            </a:r>
            <a:r>
              <a:rPr b="0" lang="ru-RU" sz="4200" spc="-1" strike="noStrike" u="sng">
                <a:solidFill>
                  <a:srgbClr val="996600"/>
                </a:solidFill>
                <a:uFillTx/>
                <a:latin typeface="Comic Sans MS"/>
                <a:hlinkClick r:id="rId1"/>
              </a:rPr>
              <a:t>собственност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124000" y="1599840"/>
            <a:ext cx="65628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99ff"/>
                </a:solidFill>
                <a:latin typeface="Arial"/>
              </a:rPr>
              <a:t>это важнейшая сторона экономических отнош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ff"/>
                </a:solidFill>
                <a:latin typeface="Arial"/>
              </a:rPr>
              <a:t>Собственник средств производства владеет и самостоятельно распоряжается ими, использует их для организации производства и извлечения доходов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PE02955_"/>
          <p:cNvPicPr/>
          <p:nvPr/>
        </p:nvPicPr>
        <p:blipFill>
          <a:blip r:embed="rId2"/>
          <a:stretch/>
        </p:blipFill>
        <p:spPr>
          <a:xfrm>
            <a:off x="171360" y="1557360"/>
            <a:ext cx="1917720" cy="2459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PE03556_"/>
          <p:cNvPicPr/>
          <p:nvPr/>
        </p:nvPicPr>
        <p:blipFill>
          <a:blip r:embed="rId3"/>
          <a:stretch/>
        </p:blipFill>
        <p:spPr>
          <a:xfrm>
            <a:off x="468360" y="4797360"/>
            <a:ext cx="1836720" cy="191628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Comic Sans MS"/>
              </a:rPr>
              <a:t>Собственность -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84000" y="1052280"/>
            <a:ext cx="6202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это принадлежность средств и продуктов производства определенным лицам – индивидам или коллектива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BS01576_"/>
          <p:cNvPicPr/>
          <p:nvPr/>
        </p:nvPicPr>
        <p:blipFill>
          <a:blip r:embed="rId1"/>
          <a:stretch/>
        </p:blipFill>
        <p:spPr>
          <a:xfrm>
            <a:off x="611280" y="1916280"/>
            <a:ext cx="1795320" cy="1376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PE03554_"/>
          <p:cNvPicPr/>
          <p:nvPr/>
        </p:nvPicPr>
        <p:blipFill>
          <a:blip r:embed="rId2"/>
          <a:stretch/>
        </p:blipFill>
        <p:spPr>
          <a:xfrm>
            <a:off x="6732720" y="4365720"/>
            <a:ext cx="2158920" cy="208116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6" descr="BD07179_"/>
          <p:cNvPicPr/>
          <p:nvPr/>
        </p:nvPicPr>
        <p:blipFill>
          <a:blip r:embed="rId1"/>
          <a:stretch/>
        </p:blipFill>
        <p:spPr>
          <a:xfrm>
            <a:off x="6300720" y="270000"/>
            <a:ext cx="2843280" cy="20415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6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Comic Sans MS"/>
              </a:rPr>
              <a:t>Виды собственности:</a:t>
            </a:r>
            <a:br>
              <a:rPr sz="4200"/>
            </a:br>
            <a:r>
              <a:rPr b="1" lang="ru-RU" sz="4200" spc="-1" strike="noStrike">
                <a:solidFill>
                  <a:srgbClr val="ffffff"/>
                </a:solidFill>
                <a:latin typeface="Comic Sans MS"/>
              </a:rPr>
              <a:t>Акционерная (корпорация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8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Акционерное общество выпускает ценные бумаги – акции разного достоинства, собственники которых (акционеры) имеют право на получение части доходов акционерного общества (дивиденда), соответствующей сумме акции, и на участие в управлении его дела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BD05082_"/>
          <p:cNvPicPr/>
          <p:nvPr/>
        </p:nvPicPr>
        <p:blipFill>
          <a:blip r:embed="rId1"/>
          <a:stretch/>
        </p:blipFill>
        <p:spPr>
          <a:xfrm>
            <a:off x="6645240" y="333360"/>
            <a:ext cx="2498760" cy="3672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Виды собственности:</a:t>
            </a:r>
            <a:br>
              <a:rPr sz="3800"/>
            </a:b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Частна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Представлена главным образом в сельском хозяйстве, ремесле, торговле, сфере услуг. В частной собственности находится значительное число мелких и средних фирм, использующих наемный труд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Она стимулирует инициативу, предприимчивость, ответственное отношение к труд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Виды собственности:</a:t>
            </a:r>
            <a:br>
              <a:rPr sz="3800"/>
            </a:b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Государственная</a:t>
            </a:r>
            <a:r>
              <a:rPr b="1" lang="ru-RU" sz="3800" spc="-1" strike="noStrike">
                <a:solidFill>
                  <a:srgbClr val="ff0066"/>
                </a:solidFill>
                <a:latin typeface="Comic Sans MS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ff"/>
                </a:solidFill>
                <a:latin typeface="Arial"/>
              </a:rPr>
              <a:t>В собственности государства находятся крупные промышленные предприятия, банки, предприятия тех отраслей, которые обслуживают производство и социально-бытовую сферу (грузовой транспорт, энергетику, связ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6" descr="BD07240_"/>
          <p:cNvPicPr/>
          <p:nvPr/>
        </p:nvPicPr>
        <p:blipFill>
          <a:blip r:embed="rId1"/>
          <a:stretch/>
        </p:blipFill>
        <p:spPr>
          <a:xfrm>
            <a:off x="7020000" y="476280"/>
            <a:ext cx="1819080" cy="1554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BL01065_"/>
          <p:cNvPicPr/>
          <p:nvPr/>
        </p:nvPicPr>
        <p:blipFill>
          <a:blip r:embed="rId2"/>
          <a:stretch/>
        </p:blipFill>
        <p:spPr>
          <a:xfrm>
            <a:off x="6732720" y="4149720"/>
            <a:ext cx="1871640" cy="187164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Виды собственности:</a:t>
            </a:r>
            <a:br>
              <a:rPr sz="3800"/>
            </a:b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Кооперативна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2134800"/>
            <a:ext cx="8229600" cy="39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Каждый член кооператива имеет свою долю в его имуществе и может выйти из него вернув эту долю. Члены кооператива непосредственно принимают участие в его деятельност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BD07161_"/>
          <p:cNvPicPr/>
          <p:nvPr/>
        </p:nvPicPr>
        <p:blipFill>
          <a:blip r:embed="rId1"/>
          <a:stretch/>
        </p:blipFill>
        <p:spPr>
          <a:xfrm>
            <a:off x="3203640" y="4437000"/>
            <a:ext cx="2448000" cy="217188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Виды собственности:</a:t>
            </a:r>
            <a:br>
              <a:rPr sz="3800"/>
            </a:b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Коллективная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ff"/>
                </a:solidFill>
                <a:latin typeface="Arial"/>
              </a:rPr>
              <a:t>Трудовой коллектив, будучи собственником, участвует в управлении производств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PE07675_"/>
          <p:cNvPicPr/>
          <p:nvPr/>
        </p:nvPicPr>
        <p:blipFill>
          <a:blip r:embed="rId1"/>
          <a:stretch/>
        </p:blipFill>
        <p:spPr>
          <a:xfrm>
            <a:off x="5435640" y="3500280"/>
            <a:ext cx="2205000" cy="259092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540036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 u="sng">
                <a:solidFill>
                  <a:srgbClr val="996600"/>
                </a:solidFill>
                <a:uFillTx/>
                <a:latin typeface="Comic Sans MS"/>
                <a:hlinkClick r:id="rId1"/>
              </a:rPr>
              <a:t>Экономика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99ff"/>
                </a:solidFill>
                <a:latin typeface="Arial"/>
              </a:rPr>
              <a:t>1.</a:t>
            </a:r>
            <a:r>
              <a:rPr b="0" lang="ru-RU" sz="3000" spc="-1" strike="noStrike">
                <a:solidFill>
                  <a:srgbClr val="ff99ff"/>
                </a:solidFill>
                <a:latin typeface="Arial"/>
              </a:rPr>
              <a:t> </a:t>
            </a:r>
            <a:r>
              <a:rPr b="1" i="1" lang="ru-RU" sz="3000" spc="-1" strike="noStrike">
                <a:solidFill>
                  <a:srgbClr val="ff99ff"/>
                </a:solidFill>
                <a:latin typeface="Arial"/>
              </a:rPr>
              <a:t>(греч.) Искусство управления домашним хозяйств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99ff"/>
                </a:solidFill>
                <a:latin typeface="Arial"/>
              </a:rPr>
              <a:t>2. Совокупность средств, объектов, процессов, используемых людьми для обеспечения жизни, удовлетворения потребностей  путем создания необходимых человеку благ, условий и средств существования с применением труд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PE03556_"/>
          <p:cNvPicPr/>
          <p:nvPr/>
        </p:nvPicPr>
        <p:blipFill>
          <a:blip r:embed="rId2"/>
          <a:stretch/>
        </p:blipFill>
        <p:spPr>
          <a:xfrm>
            <a:off x="7236000" y="620640"/>
            <a:ext cx="1766880" cy="184320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5"/>
          <p:cNvSpPr/>
          <p:nvPr/>
        </p:nvSpPr>
        <p:spPr>
          <a:xfrm>
            <a:off x="7885080" y="62064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  <a:path fill="darken" w="21600" h="28812">
                <a:moveTo>
                  <a:pt x="3794" y="7400"/>
                </a:moveTo>
                <a:lnTo>
                  <a:pt x="17806" y="14406"/>
                </a:lnTo>
                <a:lnTo>
                  <a:pt x="3794" y="21412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PE03554_"/>
          <p:cNvPicPr/>
          <p:nvPr/>
        </p:nvPicPr>
        <p:blipFill>
          <a:blip r:embed="rId1"/>
          <a:stretch/>
        </p:blipFill>
        <p:spPr>
          <a:xfrm>
            <a:off x="684360" y="4653000"/>
            <a:ext cx="2158920" cy="20811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9152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ffff"/>
                </a:solidFill>
                <a:latin typeface="Comic Sans MS"/>
              </a:rPr>
              <a:t>«Экономика есть искусство удовлетворять безграничные потребности при помощи  ограниченных ресурсов»</a:t>
            </a:r>
            <a:r>
              <a:rPr b="0" lang="ru-RU" sz="4200" spc="-1" strike="noStrike">
                <a:solidFill>
                  <a:srgbClr val="ffffff"/>
                </a:solidFill>
                <a:latin typeface="Garamond"/>
              </a:rPr>
              <a:t> -</a:t>
            </a:r>
            <a:br>
              <a:rPr sz="4200"/>
            </a:br>
            <a:r>
              <a:rPr b="0" lang="ru-RU" sz="4200" spc="-1" strike="noStrike">
                <a:solidFill>
                  <a:srgbClr val="ffffff"/>
                </a:solidFill>
                <a:latin typeface="Garamond"/>
              </a:rPr>
              <a:t>   </a:t>
            </a:r>
            <a:br>
              <a:rPr sz="4200"/>
            </a:br>
            <a:r>
              <a:rPr b="0" lang="ru-RU" sz="42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ru-RU" sz="2900" spc="-1" strike="noStrike">
                <a:solidFill>
                  <a:srgbClr val="ff99ff"/>
                </a:solidFill>
                <a:latin typeface="Comic Sans MS"/>
              </a:rPr>
              <a:t>Л. Питер (американский писатель).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AutoShape 4">
            <a:hlinkClick r:id="" action="ppaction://hlinkshowjump?jump=previousslide"/>
          </p:cNvPr>
          <p:cNvSpPr/>
          <p:nvPr/>
        </p:nvSpPr>
        <p:spPr>
          <a:xfrm>
            <a:off x="611280" y="4581360"/>
            <a:ext cx="431640" cy="719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719280"/>
              <a:gd name="textAreaBottom" fmla="*/ 691560 h 719280"/>
            </a:gdLst>
            <a:ahLst/>
            <a:rect l="textAreaLeft" t="textAreaTop" r="textAreaRight" b="textAreaBottom"/>
            <a:pathLst>
              <a:path w="21600" h="35982">
                <a:moveTo>
                  <a:pt x="0" y="0"/>
                </a:moveTo>
                <a:lnTo>
                  <a:pt x="21600" y="0"/>
                </a:lnTo>
                <a:lnTo>
                  <a:pt x="21600" y="35982"/>
                </a:lnTo>
                <a:lnTo>
                  <a:pt x="0" y="35982"/>
                </a:lnTo>
                <a:close/>
              </a:path>
              <a:path fill="lightenLess" w="21600" h="359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82">
                <a:moveTo>
                  <a:pt x="21600" y="0"/>
                </a:moveTo>
                <a:lnTo>
                  <a:pt x="21600" y="35982"/>
                </a:lnTo>
                <a:lnTo>
                  <a:pt x="20200" y="34582"/>
                </a:lnTo>
                <a:lnTo>
                  <a:pt x="20200" y="1400"/>
                </a:lnTo>
                <a:close/>
              </a:path>
              <a:path fill="darkenLess" w="21600" h="35982">
                <a:moveTo>
                  <a:pt x="21600" y="35982"/>
                </a:moveTo>
                <a:lnTo>
                  <a:pt x="0" y="35982"/>
                </a:lnTo>
                <a:lnTo>
                  <a:pt x="1400" y="34582"/>
                </a:lnTo>
                <a:lnTo>
                  <a:pt x="20200" y="34582"/>
                </a:lnTo>
                <a:close/>
              </a:path>
              <a:path fill="lighten" w="21600" h="35982">
                <a:moveTo>
                  <a:pt x="0" y="35982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82"/>
                </a:lnTo>
                <a:close/>
              </a:path>
              <a:path fill="darken" w="21600" h="35982">
                <a:moveTo>
                  <a:pt x="3794" y="17991"/>
                </a:moveTo>
                <a:lnTo>
                  <a:pt x="17806" y="10985"/>
                </a:lnTo>
                <a:lnTo>
                  <a:pt x="17806" y="24997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Состояние экономики и уровень жизни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Существует прямая зависимость между состоянием экономики и </a:t>
            </a:r>
            <a:r>
              <a:rPr b="0" lang="ru-RU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уровнем жизни насел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Уровень жизни характеризуется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Потребление на душу населени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Реальные доходы населения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Обеспеченность жильем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Социальное обеспечени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PE03556_"/>
          <p:cNvPicPr/>
          <p:nvPr/>
        </p:nvPicPr>
        <p:blipFill>
          <a:blip r:embed="rId2"/>
          <a:stretch/>
        </p:blipFill>
        <p:spPr>
          <a:xfrm>
            <a:off x="6754680" y="4365720"/>
            <a:ext cx="2389320" cy="249228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Comic Sans MS"/>
              </a:rPr>
              <a:t>Уровень жизн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3000" spc="-1" strike="noStrike">
                <a:solidFill>
                  <a:srgbClr val="ffffff"/>
                </a:solidFill>
                <a:latin typeface="Arial"/>
              </a:rPr>
              <a:t>это уровень благосостояния населения, степень удовлетворения основных жизненных потребностей люд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PE03554_"/>
          <p:cNvPicPr/>
          <p:nvPr/>
        </p:nvPicPr>
        <p:blipFill>
          <a:blip r:embed="rId1"/>
          <a:stretch/>
        </p:blipFill>
        <p:spPr>
          <a:xfrm>
            <a:off x="971640" y="3448080"/>
            <a:ext cx="2736720" cy="263844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Состояние экономики и уровень жизни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        </a:t>
            </a:r>
            <a:r>
              <a:rPr b="1" lang="ru-RU" sz="3000" spc="-1" strike="noStrike">
                <a:solidFill>
                  <a:srgbClr val="ff99ff"/>
                </a:solidFill>
                <a:latin typeface="Arial"/>
              </a:rPr>
              <a:t>Для того, чтобы уровень жизни повышался, необходим постоянный экономический рост (увеличение реального объема производства, улучшение технических, экономических и социальных характеристик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PE03556_"/>
          <p:cNvPicPr/>
          <p:nvPr/>
        </p:nvPicPr>
        <p:blipFill>
          <a:blip r:embed="rId1"/>
          <a:stretch/>
        </p:blipFill>
        <p:spPr>
          <a:xfrm>
            <a:off x="5219640" y="3933720"/>
            <a:ext cx="2525760" cy="26352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Состояние экономики и уровень жизни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99ff"/>
                </a:solidFill>
                <a:latin typeface="Arial"/>
              </a:rPr>
              <a:t>Показателями экономического роста являются </a:t>
            </a:r>
            <a:r>
              <a:rPr b="0" lang="ru-RU" sz="3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валовой национальный продукт</a:t>
            </a:r>
            <a:r>
              <a:rPr b="0" lang="ru-RU" sz="30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 </a:t>
            </a:r>
            <a:r>
              <a:rPr b="0" lang="ru-RU" sz="3000" spc="-1" strike="noStrike">
                <a:solidFill>
                  <a:srgbClr val="ff99ff"/>
                </a:solidFill>
                <a:latin typeface="Arial"/>
              </a:rPr>
              <a:t>(ВНП), </a:t>
            </a:r>
            <a:r>
              <a:rPr b="0" lang="ru-RU" sz="30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валовой внутренний продукт</a:t>
            </a:r>
            <a:r>
              <a:rPr b="0" lang="ru-RU" sz="30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 </a:t>
            </a:r>
            <a:r>
              <a:rPr b="0" lang="ru-RU" sz="3000" spc="-1" strike="noStrike">
                <a:solidFill>
                  <a:srgbClr val="ff99ff"/>
                </a:solidFill>
                <a:latin typeface="Arial"/>
              </a:rPr>
              <a:t>(ВВП), </a:t>
            </a:r>
            <a:r>
              <a:rPr b="0" lang="ru-RU" sz="3000" spc="-1" strike="noStrike" u="sng">
                <a:solidFill>
                  <a:srgbClr val="996600"/>
                </a:solidFill>
                <a:uFillTx/>
                <a:latin typeface="Arial"/>
                <a:hlinkClick r:id="rId6"/>
              </a:rPr>
              <a:t>национальный доход</a:t>
            </a:r>
            <a:r>
              <a:rPr b="0" lang="ru-RU" sz="3000" spc="-1" strike="noStrike" u="sng">
                <a:solidFill>
                  <a:srgbClr val="996600"/>
                </a:solidFill>
                <a:uFillTx/>
                <a:latin typeface="Arial"/>
                <a:hlinkClick r:id="rId7"/>
              </a:rPr>
              <a:t> (НД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Валовой национальный продукт (ВНП) -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95280" y="1599840"/>
            <a:ext cx="6491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ru-RU" sz="3000" spc="-1" strike="noStrike">
                <a:solidFill>
                  <a:srgbClr val="ffffff"/>
                </a:solidFill>
                <a:latin typeface="Arial"/>
              </a:rPr>
              <a:t>Обобщающий экономический показатель, определяемый как сумма рыночных цен всех конечных товаров и услуг, созданный производителями данной страны в течение года как внутри страны, так и за рубеж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BS01576_"/>
          <p:cNvPicPr/>
          <p:nvPr/>
        </p:nvPicPr>
        <p:blipFill>
          <a:blip r:embed="rId1"/>
          <a:stretch/>
        </p:blipFill>
        <p:spPr>
          <a:xfrm>
            <a:off x="324000" y="1773360"/>
            <a:ext cx="1795320" cy="1376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PE03554_"/>
          <p:cNvPicPr/>
          <p:nvPr/>
        </p:nvPicPr>
        <p:blipFill>
          <a:blip r:embed="rId2"/>
          <a:stretch/>
        </p:blipFill>
        <p:spPr>
          <a:xfrm>
            <a:off x="468360" y="4857840"/>
            <a:ext cx="1871640" cy="180504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Comic Sans MS"/>
              </a:rPr>
              <a:t>Валовой внутренний продукт (ВВП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050920" y="1628640"/>
            <a:ext cx="68421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3000" spc="-1" strike="noStrike">
                <a:solidFill>
                  <a:srgbClr val="ffffff"/>
                </a:solidFill>
                <a:latin typeface="Arial"/>
              </a:rPr>
              <a:t>Обобщающий экономический показатель, определяемый как сумма рыночных цен всех конечных товаров и услуг, созданный производителями данной страны в течение года внутри страны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BS01576_"/>
          <p:cNvPicPr/>
          <p:nvPr/>
        </p:nvPicPr>
        <p:blipFill>
          <a:blip r:embed="rId1"/>
          <a:stretch/>
        </p:blipFill>
        <p:spPr>
          <a:xfrm>
            <a:off x="468360" y="1773360"/>
            <a:ext cx="1795320" cy="1376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PE03554_"/>
          <p:cNvPicPr/>
          <p:nvPr/>
        </p:nvPicPr>
        <p:blipFill>
          <a:blip r:embed="rId2"/>
          <a:stretch/>
        </p:blipFill>
        <p:spPr>
          <a:xfrm>
            <a:off x="684360" y="4653000"/>
            <a:ext cx="2158920" cy="208116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01:53:27Z</dcterms:created>
  <dc:creator>Тимотыш</dc:creator>
  <dc:description/>
  <dc:language>en-US</dc:language>
  <cp:lastModifiedBy>LEGION</cp:lastModifiedBy>
  <dcterms:modified xsi:type="dcterms:W3CDTF">2016-01-04T14:03:33Z</dcterms:modified>
  <cp:revision>10</cp:revision>
  <dc:subject/>
  <dc:title>Экономика и ее роль в жизни современного общества</dc:title>
</cp:coreProperties>
</file>