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406C-422C-421B-938B-E290760757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8C0-4B27-45A5-8AC6-BB2478E1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EE7E-0539-448F-B253-E876D129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72E-F693-4208-9C49-6E1300A6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70E-2290-4BAB-930F-EA76F97E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4230-9F9F-47A8-8EF5-4E4E69B6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CC4A-2E21-4A4A-BC18-824A82F8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1E45-E191-4B94-9FBB-290A5BC0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27CE-9C40-4E0D-8D75-2D88B10D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DDFB-EB8C-4BE3-BB16-ACC790E8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6EB5-C074-4C78-B554-A15DBC17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AE9D-B4B5-45ED-AA7D-FD5FC2BE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090-C655-4BD5-A633-92F56DB8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C370-11B5-4B81-89F0-99514100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8932-9176-407B-98F1-301DC59E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B3C5-1EA3-43F4-99A5-67009C53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81C0-9558-4788-B08F-FA849C40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F73B-F8A3-4CD3-945E-559EFD87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145-7F2C-4ABB-8E84-37CABE67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455-2801-488A-99F8-45E8FBDE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270-B455-4F17-A8EC-14784BAF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03C-F771-4484-856F-F13115DA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6C8-16CB-4A69-A5F3-562466CC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9F3-14BF-4988-9001-0B83B414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FFD-65EC-477A-AFF2-A776AF2E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4BA7-10F9-4EEB-B787-E5717313D38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3437-4E86-413B-ACC5-1ED9B91AA96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12..ppt" TargetMode="External"/><Relationship Id="rId3" Type="http://schemas.openxmlformats.org/officeDocument/2006/relationships/hyperlink" Target="12..ppt" TargetMode="External"/><Relationship Id="rId4" Type="http://schemas.openxmlformats.org/officeDocument/2006/relationships/hyperlink" Target="12..ppt" TargetMode="External"/><Relationship Id="rId5" Type="http://schemas.openxmlformats.org/officeDocument/2006/relationships/hyperlink" Target="12..ppt" TargetMode="External"/><Relationship Id="rId6" Type="http://schemas.openxmlformats.org/officeDocument/2006/relationships/hyperlink" Target="12..ppt" TargetMode="External"/><Relationship Id="rId7" Type="http://schemas.openxmlformats.org/officeDocument/2006/relationships/hyperlink" Target="12.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233000"/>
            <a:ext cx="85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Comic Sans MS"/>
              </a:rPr>
              <a:t>Экономика и ее роль в жизни современного общества</a:t>
            </a:r>
            <a:r>
              <a:rPr b="1" lang="ru-RU" sz="56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5600"/>
            </a:br>
            <a:br>
              <a:rPr sz="5600"/>
            </a:br>
            <a:br>
              <a:rPr sz="5600"/>
            </a:b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252000"/>
            <a:ext cx="64008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78800" y="5576760"/>
            <a:ext cx="236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0" y="583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66440" y="4862160"/>
            <a:ext cx="22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Национальный доход (НД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исчисленная в денежном выражении стоимость созданного  в стране в течение года совокупного проду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Д = ВНП – амортизация и косвенные нало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S01576_"/>
          <p:cNvPicPr/>
          <p:nvPr/>
        </p:nvPicPr>
        <p:blipFill>
          <a:blip r:embed="rId1"/>
          <a:stretch/>
        </p:blipFill>
        <p:spPr>
          <a:xfrm>
            <a:off x="7093080" y="692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E03554_"/>
          <p:cNvPicPr/>
          <p:nvPr/>
        </p:nvPicPr>
        <p:blipFill>
          <a:blip r:embed="rId2"/>
          <a:stretch/>
        </p:blipFill>
        <p:spPr>
          <a:xfrm>
            <a:off x="7596360" y="5084640"/>
            <a:ext cx="1547640" cy="149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От чего зависит уровень жизни в стран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4" descr="PE03753_"/>
          <p:cNvPicPr/>
          <p:nvPr/>
        </p:nvPicPr>
        <p:blipFill>
          <a:blip r:embed="rId1"/>
          <a:stretch/>
        </p:blipFill>
        <p:spPr>
          <a:xfrm>
            <a:off x="395280" y="2565360"/>
            <a:ext cx="261936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Отношения </a:t>
            </a: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собствен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E02955_"/>
          <p:cNvPicPr/>
          <p:nvPr/>
        </p:nvPicPr>
        <p:blipFill>
          <a:blip r:embed="rId2"/>
          <a:stretch/>
        </p:blipFill>
        <p:spPr>
          <a:xfrm>
            <a:off x="171360" y="1557360"/>
            <a:ext cx="191772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E03556_"/>
          <p:cNvPicPr/>
          <p:nvPr/>
        </p:nvPicPr>
        <p:blipFill>
          <a:blip r:embed="rId3"/>
          <a:stretch/>
        </p:blipFill>
        <p:spPr>
          <a:xfrm>
            <a:off x="468360" y="4797360"/>
            <a:ext cx="183672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Собственность -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6202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S01576_"/>
          <p:cNvPicPr/>
          <p:nvPr/>
        </p:nvPicPr>
        <p:blipFill>
          <a:blip r:embed="rId1"/>
          <a:stretch/>
        </p:blipFill>
        <p:spPr>
          <a:xfrm>
            <a:off x="611280" y="1916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PE03554_"/>
          <p:cNvPicPr/>
          <p:nvPr/>
        </p:nvPicPr>
        <p:blipFill>
          <a:blip r:embed="rId2"/>
          <a:stretch/>
        </p:blipFill>
        <p:spPr>
          <a:xfrm>
            <a:off x="6732720" y="436572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D07179_"/>
          <p:cNvPicPr/>
          <p:nvPr/>
        </p:nvPicPr>
        <p:blipFill>
          <a:blip r:embed="rId1"/>
          <a:stretch/>
        </p:blipFill>
        <p:spPr>
          <a:xfrm>
            <a:off x="6300720" y="270000"/>
            <a:ext cx="2843280" cy="2041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Акционерная (корпора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D05082_"/>
          <p:cNvPicPr/>
          <p:nvPr/>
        </p:nvPicPr>
        <p:blipFill>
          <a:blip r:embed="rId1"/>
          <a:stretch/>
        </p:blipFill>
        <p:spPr>
          <a:xfrm>
            <a:off x="6645240" y="333360"/>
            <a:ext cx="2498760" cy="3672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Част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Государственная</a:t>
            </a:r>
            <a:r>
              <a:rPr b="1" lang="ru-RU" sz="3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BD07240_"/>
          <p:cNvPicPr/>
          <p:nvPr/>
        </p:nvPicPr>
        <p:blipFill>
          <a:blip r:embed="rId1"/>
          <a:stretch/>
        </p:blipFill>
        <p:spPr>
          <a:xfrm>
            <a:off x="7020000" y="476280"/>
            <a:ext cx="1819080" cy="155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L01065_"/>
          <p:cNvPicPr/>
          <p:nvPr/>
        </p:nvPicPr>
        <p:blipFill>
          <a:blip r:embed="rId2"/>
          <a:stretch/>
        </p:blipFill>
        <p:spPr>
          <a:xfrm>
            <a:off x="6732720" y="41497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опера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BD07161_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171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ллек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E07675_"/>
          <p:cNvPicPr/>
          <p:nvPr/>
        </p:nvPicPr>
        <p:blipFill>
          <a:blip r:embed="rId1"/>
          <a:stretch/>
        </p:blipFill>
        <p:spPr>
          <a:xfrm>
            <a:off x="5435640" y="3500280"/>
            <a:ext cx="220500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540036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Экономи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(греч.) Искусство управления домашним хозяйст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E03556_"/>
          <p:cNvPicPr/>
          <p:nvPr/>
        </p:nvPicPr>
        <p:blipFill>
          <a:blip r:embed="rId2"/>
          <a:stretch/>
        </p:blipFill>
        <p:spPr>
          <a:xfrm>
            <a:off x="7236000" y="620640"/>
            <a:ext cx="1766880" cy="18432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7885080" y="620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E03554_"/>
          <p:cNvPicPr/>
          <p:nvPr/>
        </p:nvPicPr>
        <p:blipFill>
          <a:blip r:embed="rId1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915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«Экономика есть искусство удовлетворять безграничные потребности при помощи  ограниченных ресурсов»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-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900" spc="-1" strike="noStrike">
                <a:solidFill>
                  <a:srgbClr val="ff99ff"/>
                </a:solidFill>
                <a:latin typeface="Comic Sans MS"/>
              </a:rPr>
              <a:t>Л. Питер (американский писатель)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AutoShape 4">
            <a:hlinkClick r:id="" action="ppaction://hlinkshowjump?jump=previousslide"/>
          </p:cNvPr>
          <p:cNvSpPr/>
          <p:nvPr/>
        </p:nvSpPr>
        <p:spPr>
          <a:xfrm>
            <a:off x="611280" y="458136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3794" y="17991"/>
                </a:moveTo>
                <a:lnTo>
                  <a:pt x="17806" y="10985"/>
                </a:lnTo>
                <a:lnTo>
                  <a:pt x="17806" y="24997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уществует прямая зависимость между состоянием экономики и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уровнем жизни нас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ровень жизни характеризуе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отребление на душу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Реальные доходы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беспеченность жилье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оциальное обеспе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E03556_"/>
          <p:cNvPicPr/>
          <p:nvPr/>
        </p:nvPicPr>
        <p:blipFill>
          <a:blip r:embed="rId2"/>
          <a:stretch/>
        </p:blipFill>
        <p:spPr>
          <a:xfrm>
            <a:off x="6754680" y="4365720"/>
            <a:ext cx="238932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Уровень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уровень благосостояния населения, степень удовлетворения основных жизненных потребностей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E03554_"/>
          <p:cNvPicPr/>
          <p:nvPr/>
        </p:nvPicPr>
        <p:blipFill>
          <a:blip r:embed="rId1"/>
          <a:stretch/>
        </p:blipFill>
        <p:spPr>
          <a:xfrm>
            <a:off x="971640" y="3448080"/>
            <a:ext cx="2736720" cy="2638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E03556_"/>
          <p:cNvPicPr/>
          <p:nvPr/>
        </p:nvPicPr>
        <p:blipFill>
          <a:blip r:embed="rId1"/>
          <a:stretch/>
        </p:blipFill>
        <p:spPr>
          <a:xfrm>
            <a:off x="5219640" y="3933720"/>
            <a:ext cx="2525760" cy="263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Показателями экономического роста являются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аловой национальны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Н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валовой внутренни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В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национальный доход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 (Н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национальный продукт (ВНП) -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4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S01576_"/>
          <p:cNvPicPr/>
          <p:nvPr/>
        </p:nvPicPr>
        <p:blipFill>
          <a:blip r:embed="rId1"/>
          <a:stretch/>
        </p:blipFill>
        <p:spPr>
          <a:xfrm>
            <a:off x="32400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E03554_"/>
          <p:cNvPicPr/>
          <p:nvPr/>
        </p:nvPicPr>
        <p:blipFill>
          <a:blip r:embed="rId2"/>
          <a:stretch/>
        </p:blipFill>
        <p:spPr>
          <a:xfrm>
            <a:off x="468360" y="4857840"/>
            <a:ext cx="187164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внутренний продукт (ВВП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0920" y="1628640"/>
            <a:ext cx="68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S01576_"/>
          <p:cNvPicPr/>
          <p:nvPr/>
        </p:nvPicPr>
        <p:blipFill>
          <a:blip r:embed="rId1"/>
          <a:stretch/>
        </p:blipFill>
        <p:spPr>
          <a:xfrm>
            <a:off x="46836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03554_"/>
          <p:cNvPicPr/>
          <p:nvPr/>
        </p:nvPicPr>
        <p:blipFill>
          <a:blip r:embed="rId2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1:53:27Z</dcterms:created>
  <dc:creator>Тимотыш</dc:creator>
  <dc:description/>
  <dc:language>en-US</dc:language>
  <cp:lastModifiedBy>LEGION</cp:lastModifiedBy>
  <dcterms:modified xsi:type="dcterms:W3CDTF">2016-01-04T14:03:33Z</dcterms:modified>
  <cp:revision>10</cp:revision>
  <dc:subject/>
  <dc:title>Экономика и ее роль в жизни современного общества</dc:title>
</cp:coreProperties>
</file>