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52B6-FB5F-4FE9-A48D-EEB254487F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A029-58F6-474D-B282-AEBB4C52D8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ие славяноф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B06E-83ED-44D2-870B-67D675F2DB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FEB3-85B5-4C49-908C-9E201D6411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ложительные и отрицательные дея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464D-8E68-4D4C-8D63-DD72A3F06A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2CF6-E54A-4BB1-8775-247943D330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C693-DA2A-4A9B-8051-BDDCD8E9F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ат Европы и ненависть Запада к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Европейская цивилизац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ж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шла период расцвета и находи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 пути к дрях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й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мен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дё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ая цивилиз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лементы провиденциализм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в концепции, которая в целом вполн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уч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: история славянских народов свидетельствует об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обой заботе Прови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стинктивным пониманием того, чт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дущее за славянств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объясняетс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ррациональная ненависть Запада к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46AA-0C95-4196-B052-B388C23D34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ительная черта «психического настроя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ермано-рома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сильственность и чрезмерно-развитое чувство индивидуальн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личительная чер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ирождённая гуманност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пешному решению социально-экономического вопрос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амках славяно-русской цивилизации способствует 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циально-экономическая специф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льшинство населения обладает землё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тогда как в Европе большинство населения представляет соб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езземеленную ма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ранах второго типа экономический строй основывается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ужде большинства гражда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в странах первого –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номической обеспеченнос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ответственно, те общественные классы, которые, будучи (как в Европе) сосредоточены в городах, составляю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ссовую базу революций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России оказываю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ыми консерватив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688B-5A84-4B52-8D1D-3C606C089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Леонтье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C65F-FC6A-4A4F-8B4E-0B31538CA2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ант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культуры: концепция «цветущей сло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антидемократизм и антиэгалитар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5F0C-0C62-452D-B757-D675F10146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ционализ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даже русский)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редная запад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Единство православно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византийской)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ы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ажне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авянского бра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изантиз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ес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что культурно определённое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анславизм же – или абстракция, или меч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ные (а с недавних пор – и южные) уже слишком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аражены европейским духо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представляют скорее угрозу для будущего России, чем действительную помощ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100C-55CF-4043-ACA6-1907205402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дро византийской культуры составля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в Бог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в Царство Божие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озна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лигиоз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авослав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сударственн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державие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равствен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увеличенного понятия о земной личности человеческой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ерие в способность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лному нравственному совершенству на зем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аз о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дежды на грядущее «всеобщее благоденствие народов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земное всеравенство, всесвобода, всесовершенство и вседовольство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E3B1-E8FD-45AB-8BD1-7E3493620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ие славянофи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25AC-A446-4FA0-9A6A-4F7B76F676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усской культуре много чуждого византизму (как собственно русского, так и заимствованного)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личие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оим она обязана имен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изантийским нача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ое же отношение к византийской культур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усском обществе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едствие «незрелости» и несамостоятельности русской исторической наук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просто незнания реальной истории, а знакомства с нею через посредство западных писателей, византийской культуре чуждых и даже враждеб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34E5-D7E4-43E7-A4D4-44DF276BAF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Фазы развития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375B-BDFF-4EB5-AAF2-559A37A4B3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эгалитарно-либеральным поступательным движением и идеей развития н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чего логически родственно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аже более: прогресс есть не что иное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цесс разлож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итог развития – преодоление равенства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ение свобод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«цветущей сложности» есть именно период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го неравен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бразования э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смесительного упрощения характеризуется стремлением ко всеобщем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вен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мократии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е имеет своим результат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цвет техники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ирание искусства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пошление жизн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замену воли к положительному творчеству ценностей волей к механическому использованию работы и жаждой удоволь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4762-B511-4C16-A0BE-B7CB6AA206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DE1A-2BF5-432B-BEFF-117D24AB58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3928-AE39-44FC-9790-73FD55A23A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EB59-B0A5-4552-BC55-4E4AAB6565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и мотивирована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литическа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Леонтье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80C5-2908-4F2B-ACE0-F2A8277C44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970D-AA5F-4774-9160-26A275E74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8212-6573-44BD-8FB6-C6EF134ECE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166D-9310-4820-B2A4-3E3D9630EF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Я. Данилев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B937-153B-463B-B720-75024FE118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епени (уровни) развития и типы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ять законов культурно-историческ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ат европей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ррациональная ненависть Запада к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FE29-AD2F-4FA6-86AB-29F95DDBC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7376-644F-44EF-9013-749B15CB9B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D59E-6E77-4B3E-9064-D548AE542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2BD7-1050-4AC2-ABF3-9DEAFF124A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E375-0067-41F5-9E53-89F2A56A0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968-3FFC-4BD2-A49A-F1D89734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2BB-F378-4D84-9DCB-907926EC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730-1B3B-4A89-95F3-9D8B028A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F5F-5DB7-4F1B-A154-1759E30D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699-9350-4178-92EA-FC64F36F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C21-ED42-4D75-ABEE-5835EACF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692-30C6-4C56-957F-8B1831C1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DEB-0FCE-4B92-87C1-CC0D416E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B0A-AED4-479C-9919-5CE6106B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E15-218F-42D7-A242-92F12398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7985-21B7-4380-884E-13F417DC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99D-1269-425F-A01C-0D79E502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A8D5-44CE-4E49-BF26-0D45E0EDC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1071720" y="2357280"/>
            <a:ext cx="71215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здние славяноф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gypt"/>
          <p:cNvPicPr/>
          <p:nvPr/>
        </p:nvPicPr>
        <p:blipFill>
          <a:blip r:embed="rId1"/>
          <a:stretch/>
        </p:blipFill>
        <p:spPr>
          <a:xfrm>
            <a:off x="3778200" y="1619280"/>
            <a:ext cx="1800360" cy="13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Picture 5" descr="China"/>
          <p:cNvPicPr/>
          <p:nvPr/>
        </p:nvPicPr>
        <p:blipFill>
          <a:blip r:embed="rId2"/>
          <a:stretch/>
        </p:blipFill>
        <p:spPr>
          <a:xfrm>
            <a:off x="5397480" y="1798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0" name="Picture 6" descr="ishtar_gate19"/>
          <p:cNvPicPr/>
          <p:nvPr/>
        </p:nvPicPr>
        <p:blipFill>
          <a:blip r:embed="rId3"/>
          <a:stretch/>
        </p:blipFill>
        <p:spPr>
          <a:xfrm>
            <a:off x="7197840" y="1978200"/>
            <a:ext cx="156816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1" name="Picture 7" descr="India (2)"/>
          <p:cNvPicPr/>
          <p:nvPr/>
        </p:nvPicPr>
        <p:blipFill>
          <a:blip r:embed="rId4"/>
          <a:stretch/>
        </p:blipFill>
        <p:spPr>
          <a:xfrm>
            <a:off x="3849840" y="277020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2" name="Picture 8" descr="Persia"/>
          <p:cNvPicPr/>
          <p:nvPr/>
        </p:nvPicPr>
        <p:blipFill>
          <a:blip r:embed="rId5"/>
          <a:stretch/>
        </p:blipFill>
        <p:spPr>
          <a:xfrm>
            <a:off x="5468760" y="3022560"/>
            <a:ext cx="1800360" cy="12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3" name="Picture 17" descr="Dome of the Rock, Jerusalem_sm"/>
          <p:cNvPicPr/>
          <p:nvPr/>
        </p:nvPicPr>
        <p:blipFill>
          <a:blip r:embed="rId6"/>
          <a:stretch/>
        </p:blipFill>
        <p:spPr>
          <a:xfrm>
            <a:off x="7088040" y="3273480"/>
            <a:ext cx="1800360" cy="143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Greece"/>
          <p:cNvPicPr/>
          <p:nvPr/>
        </p:nvPicPr>
        <p:blipFill>
          <a:blip r:embed="rId7"/>
          <a:stretch/>
        </p:blipFill>
        <p:spPr>
          <a:xfrm>
            <a:off x="3922560" y="3922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7" name="Picture 11" descr="Rome"/>
          <p:cNvPicPr/>
          <p:nvPr/>
        </p:nvPicPr>
        <p:blipFill>
          <a:blip r:embed="rId8"/>
          <a:stretch/>
        </p:blipFill>
        <p:spPr>
          <a:xfrm>
            <a:off x="5576760" y="410220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8" name="Picture 12" descr="Aravia"/>
          <p:cNvPicPr/>
          <p:nvPr/>
        </p:nvPicPr>
        <p:blipFill>
          <a:blip r:embed="rId9"/>
          <a:stretch/>
        </p:blipFill>
        <p:spPr>
          <a:xfrm>
            <a:off x="7197840" y="4281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" name="Picture 13" descr="Europe (3)"/>
          <p:cNvPicPr/>
          <p:nvPr/>
        </p:nvPicPr>
        <p:blipFill>
          <a:blip r:embed="rId10"/>
          <a:stretch/>
        </p:blipFill>
        <p:spPr>
          <a:xfrm>
            <a:off x="3994200" y="5073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0" name="Picture 14" descr="Mexico (2)"/>
          <p:cNvPicPr/>
          <p:nvPr/>
        </p:nvPicPr>
        <p:blipFill>
          <a:blip r:embed="rId11"/>
          <a:stretch/>
        </p:blipFill>
        <p:spPr>
          <a:xfrm>
            <a:off x="5649840" y="525312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Picture 15" descr="Peru"/>
          <p:cNvPicPr/>
          <p:nvPr/>
        </p:nvPicPr>
        <p:blipFill>
          <a:blip r:embed="rId12"/>
          <a:stretch/>
        </p:blipFill>
        <p:spPr>
          <a:xfrm>
            <a:off x="7269120" y="543384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2" name="Picture 16" descr="Russia"/>
          <p:cNvPicPr/>
          <p:nvPr/>
        </p:nvPicPr>
        <p:blipFill>
          <a:blip r:embed="rId13"/>
          <a:stretch/>
        </p:blipFill>
        <p:spPr>
          <a:xfrm>
            <a:off x="4786200" y="2878200"/>
            <a:ext cx="3598920" cy="253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3" descr="Delaroche, Hemicycle_of_the_Ecole_des_Beaux-Arts_sm"/>
          <p:cNvPicPr/>
          <p:nvPr/>
        </p:nvPicPr>
        <p:blipFill>
          <a:blip r:embed="rId1"/>
          <a:stretch/>
        </p:blipFill>
        <p:spPr>
          <a:xfrm>
            <a:off x="4317840" y="1619280"/>
            <a:ext cx="3059280" cy="20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ожительные и отрицательные дея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Глазунов, Битва - Временный перевес татар"/>
          <p:cNvPicPr/>
          <p:nvPr/>
        </p:nvPicPr>
        <p:blipFill>
          <a:blip r:embed="rId2"/>
          <a:stretch/>
        </p:blipFill>
        <p:spPr>
          <a:xfrm>
            <a:off x="4929120" y="3057480"/>
            <a:ext cx="3238560" cy="160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8" name="Picture 7" descr="Parched Village Huts, Niger, Africa_sm"/>
          <p:cNvPicPr/>
          <p:nvPr/>
        </p:nvPicPr>
        <p:blipFill>
          <a:blip r:embed="rId3"/>
          <a:stretch/>
        </p:blipFill>
        <p:spPr>
          <a:xfrm>
            <a:off x="5757840" y="4030560"/>
            <a:ext cx="3059280" cy="244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3739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ат Европы и ненависть Запада к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вропейская цивилиз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ж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шла период расцвета и находи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 пути к дрях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й н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е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дё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ая цивилиз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лементы провиденциализ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 концепции, которая в целом вполн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уч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: история славянских народов свидетельствует об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ой заботе Прови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тинктивным пониманием того, ч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удущее за славянств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объясняе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ррациональная ненависть Запада к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7760" y="2743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ительная черта «психического настроя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ермано-рома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сильственность и чрезмерно-развитое чувство индивидуальн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личительная чер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ирождённая гуманност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пешному решению социально-экономического вопрос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амках славяно-русской цивилизации способствует 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циально-экономическая специф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льшинство населения обладает землё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тогда как в Европе большинство населения представляет соб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езземеленную ма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ранах второго типа экономический строй основывается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ужде большинства гражда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в странах первого –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номической обеспеченнос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ответственно, те общественные классы, которые, будучи (как в Европе) сосредоточены в городах, составляю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ссовую базу революций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России оказываю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ыми консерватив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317840" y="2878200"/>
            <a:ext cx="467856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и славян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‑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ий европеец как идеал и орудие всемирного разруш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-1884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димир Соловьёв против Данилевско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циональная политика как орудие всемирной револю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Леонтьев (2)"/>
          <p:cNvPicPr/>
          <p:nvPr/>
        </p:nvPicPr>
        <p:blipFill>
          <a:blip r:embed="rId1"/>
          <a:stretch/>
        </p:blipFill>
        <p:spPr>
          <a:xfrm>
            <a:off x="358920" y="1798560"/>
            <a:ext cx="370980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ант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культуры: концепция «цветущей сло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антидемократизм и антиэгалитар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ционализ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даже русский)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редная запад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динство православ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изантийской)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ажне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лавянского брат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изантиз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ес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что культурно определённое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нславизм же – или абстракция, или меч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западные (а с недавних пор – и южные) уже слишком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ражены европейским духо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представляют скорее угрозу для будущего России, чем действительн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8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дро византийской культуры составля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в Бог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в Царство Божие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озна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лигиоз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авослав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сударственн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державие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равствен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увеличенного понятия о земной личности человеческой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ерие в способность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лному нравственному совершенству на зем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аз о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дежды на грядущее «всеобщее благоденствие народов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земное всеравенство, всесвобода, всесовершенство и вседовольство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085040" y="5468760"/>
            <a:ext cx="7003800" cy="1135080"/>
          </a:xfrm>
          <a:prstGeom prst="rect">
            <a:avLst/>
          </a:prstGeom>
          <a:noFill/>
          <a:ln w="158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ая же иде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земного рая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мещански-утилитарн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эвдемонистический идеал прогресса)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ощунствен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научн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мечтательство под флагом реализма»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антиэстетичн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ибо предполагает однообразие и унис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здние славянофи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Данилевский (1)"/>
          <p:cNvPicPr/>
          <p:nvPr/>
        </p:nvPicPr>
        <p:blipFill>
          <a:blip r:embed="rId1"/>
          <a:stretch/>
        </p:blipFill>
        <p:spPr>
          <a:xfrm>
            <a:off x="539640" y="1906560"/>
            <a:ext cx="235764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Rectangle 8"/>
          <p:cNvSpPr/>
          <p:nvPr/>
        </p:nvSpPr>
        <p:spPr>
          <a:xfrm>
            <a:off x="3057480" y="1870200"/>
            <a:ext cx="3598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22‑1885)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Леонтьев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Леонтьев (1-1-cut)"/>
          <p:cNvPicPr/>
          <p:nvPr/>
        </p:nvPicPr>
        <p:blipFill>
          <a:blip r:embed="rId2"/>
          <a:stretch/>
        </p:blipFill>
        <p:spPr>
          <a:xfrm>
            <a:off x="6045120" y="3346560"/>
            <a:ext cx="2505240" cy="30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усской культуре много чуждого византизму (как собственно русского, так и заимствованного)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личи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им она обязана имен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зантийским нача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ое же отношение к византийской культур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усском обществе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ледствие «незрелости» и несамостоятельности русской исторической нау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просто незнания реальной истории, а знакомства с нею через посредство западных писателей, византийской культуре чуждых и даже враждеб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Aligny_Claude_Felix_Theodore_Homer_And_The_Sheperds_sm"/>
          <p:cNvPicPr/>
          <p:nvPr/>
        </p:nvPicPr>
        <p:blipFill>
          <a:blip r:embed="rId1"/>
          <a:stretch/>
        </p:blipFill>
        <p:spPr>
          <a:xfrm>
            <a:off x="4497480" y="1619280"/>
            <a:ext cx="2501640" cy="28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Фазы развития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Brown_Ford_Madox_Work_sm"/>
          <p:cNvPicPr/>
          <p:nvPr/>
        </p:nvPicPr>
        <p:blipFill>
          <a:blip r:embed="rId2"/>
          <a:stretch/>
        </p:blipFill>
        <p:spPr>
          <a:xfrm>
            <a:off x="5289480" y="2878200"/>
            <a:ext cx="2879640" cy="20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4" name="Picture 10" descr="Axentowics_Theodor_The_Omnibus_sm"/>
          <p:cNvPicPr/>
          <p:nvPr/>
        </p:nvPicPr>
        <p:blipFill>
          <a:blip r:embed="rId3"/>
          <a:stretch/>
        </p:blipFill>
        <p:spPr>
          <a:xfrm>
            <a:off x="6008760" y="4317840"/>
            <a:ext cx="2879640" cy="221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7870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эгалитарно-либеральным поступательным движением и идеей развития н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чего логически родственно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аже более: прогресс есть не что иное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цесс разлож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итог развития – преодоление равенства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ение свобод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«цветущей сложности» есть именно период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го неравен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бразования э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смесительного упрощения характеризуется стремлением ко всеобщем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вен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мократии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е имеет своим результат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цвет техники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ирание искусства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пошление жизн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замену воли к положительному творчеству ценностей волей к механическому использованию работы и жаждой удоволь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был в восторге от Кри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критских простолюдин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ходил в них множ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зии. Особенно восхищ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я то, что я почти совс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идал там на мужчинах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европейской одежд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ую я с ранних л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енавидел всем сердц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 возмутительн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живописность её, и з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шлость, и, наконец, за сам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терпимую всеобщность её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дальнейшее и беспрерыв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е человечества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му пути –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оникнов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юду европейского буржуа, </a:t>
            </a:r>
            <a:br>
              <a:rPr sz="1800"/>
            </a:b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рубки лесов, прорыти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налов, просверливания гор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.д. – прежде всего э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убитель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ля 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мирной эстетик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А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бель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родной и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оциальной эстетик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ный признак глубоког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рения; есть признак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ближающейся смерт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, воображая, что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е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ад природ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редством всех этих открыти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зобретений, только ещё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е стал рабом её; убивая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траняя одни силы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роятно, высшие) посредство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х, более стихийных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убых сил, он ничего ещё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л, а разрушил много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красное, 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вободитьс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му теперь от подчинени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 этим машинам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ет, конечно, не легко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и мотивирована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акцио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еонть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 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ение повсюду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рхии, дворянства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стических положитель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лигий, войн и неравенств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вело бы к такой ужасающе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зе, что и вообрази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ашно!.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стетик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жизн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искусства!.. Чёрт его возьм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 – без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жизни!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), поэзия 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ействитель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 тог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знообраз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–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ложений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чувст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которое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вается благодар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венству и борьбе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0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 rot="10800000">
            <a:off x="251748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о дня цвет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лучше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русом или паровым котло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этог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евозвратного дн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йнее быть якорем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рмозом для народ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емящихся вниз под крутую гор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мящихся нередко наив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совестно, при кликах торже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распущенными знамёнами надежд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Леонтьев (2b)"/>
          <p:cNvPicPr/>
          <p:nvPr/>
        </p:nvPicPr>
        <p:blipFill>
          <a:blip r:embed="rId1"/>
          <a:stretch/>
        </p:blipFill>
        <p:spPr>
          <a:xfrm>
            <a:off x="647640" y="2158920"/>
            <a:ext cx="1629000" cy="20098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505440" y="5289480"/>
            <a:ext cx="188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изантизм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 rot="10800000">
            <a:off x="251748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ончить историю, погуби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тво разлити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рного равенства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делать жизнь челове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окончательно невыносимой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этом ли уготова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е предназначение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Леонтьев (2b)"/>
          <p:cNvPicPr/>
          <p:nvPr/>
        </p:nvPicPr>
        <p:blipFill>
          <a:blip r:embed="rId1"/>
          <a:stretch/>
        </p:blipFill>
        <p:spPr>
          <a:xfrm>
            <a:off x="647640" y="2158920"/>
            <a:ext cx="1629000" cy="200988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Данилевский (1-3)"/>
          <p:cNvPicPr/>
          <p:nvPr/>
        </p:nvPicPr>
        <p:blipFill>
          <a:blip r:embed="rId1"/>
          <a:stretch/>
        </p:blipFill>
        <p:spPr>
          <a:xfrm>
            <a:off x="611280" y="1798560"/>
            <a:ext cx="2763720" cy="431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Rectangle 5"/>
          <p:cNvSpPr/>
          <p:nvPr/>
        </p:nvSpPr>
        <p:spPr>
          <a:xfrm>
            <a:off x="4246560" y="3057480"/>
            <a:ext cx="44989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: Взгляд на культурные и политические отношения славянского мир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романо-германскому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9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рвинизм: Критическое исследова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85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67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епени (уровни) развития и типы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ять законов культурно-историческ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ат европей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ррациональная ненависть Запада к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957480" y="4857840"/>
            <a:ext cx="521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. «Философические пись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rossija-europa"/>
          <p:cNvPicPr/>
          <p:nvPr/>
        </p:nvPicPr>
        <p:blipFill>
          <a:blip r:embed="rId1"/>
          <a:stretch/>
        </p:blipFill>
        <p:spPr>
          <a:xfrm>
            <a:off x="358920" y="1798560"/>
            <a:ext cx="2979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Rectangle 6"/>
          <p:cNvSpPr/>
          <p:nvPr/>
        </p:nvSpPr>
        <p:spPr>
          <a:xfrm>
            <a:off x="3489480" y="5468760"/>
            <a:ext cx="55782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Данилевского – первый значительный вклад России в мировую филосо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 rot="10800000">
            <a:off x="3957480" y="1618920"/>
            <a:ext cx="4857840" cy="305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окие в мире, мы ми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дали, ничего у ми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зяли, мы не внесли в масс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и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дной мыс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 в чём не содействова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ю вперё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азума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бы поступательное движ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не прекратилось в жиз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о человечества, необход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, дойдя в одном напр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известной степени соверше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сь оно с новой точки исход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ло по другому пути, т. е. надо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тупили на поприще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ие психические особен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склад ума, чувств и во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и обладают только на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го культурно-исторического тип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гресс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ит не в том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ти все в одном направлении (в та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учае он скоро бы прекратился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 том, что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ходить все по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авляющее поприще историческ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ятельности человечества, во все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ях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этому ни од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я не может гордиться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 она представляла высш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ку развития, в сравнении с е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енницами или современниц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оронах развит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21:06:53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42:00Z</dcterms:modified>
  <cp:revision>38</cp:revision>
  <dc:subject>История русской философии - Лекция 5</dc:subject>
  <dc:title>Поздние славянофилы</dc:title>
</cp:coreProperties>
</file>