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27.jpeg" ContentType="image/jpeg"/>
  <Override PartName="/ppt/media/image13.jpeg" ContentType="image/jpeg"/>
  <Override PartName="/ppt/media/image8.jpeg" ContentType="image/jpeg"/>
  <Override PartName="/ppt/media/image2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29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1091-5755-4555-83E8-B83086DE49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F3BD-2094-4641-AA07-C76FAE18C4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дние славянофи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184D-1694-4FE6-9126-61A6762E91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Египет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ита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Древнесемит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нди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ран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Евре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Гре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им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рави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омано-герман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ксиканск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уан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лавяно-рус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B380-AFA6-410A-AF0A-AE5E5E3DBB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Положительные и отрицательные дея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оложительные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самобытные цивилиз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трицательные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народы-разрушите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роды, не достигшие исторической индивиду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4EC2-040E-421F-9DEA-BA6D8A88A5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коны культурно-исторического дв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Языковое родств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ритер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сно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амобытного культурно-исторического тип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олитическая независимость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услов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развития самобытного культурно-исторического типа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Начала цивилизац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дного культурно-исторического тип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 передаютс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ародам другого тип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Цивилизация достигает полноты развития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гда составляющие её этнографические элементы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 поглощены одним политическим целым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а составляют политическую систему государ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витие цивилизац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одобно жизни многолетних одноплодных растений, у которых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должительный период рост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меняется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оротким (и никогда не повторяющимся) периодом расцв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4A00-A3DC-4737-8F6C-E8FFDD8D00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и не бываю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лучш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хуж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они прос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и различаются преимущественным развитием какой-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дной стороны куль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ейская цивилизация – преимущественно религиоз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еческая – преимущественно эстетическ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имская – преимущественно политико-правов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опейцы расширили область культурного творчества, создав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двуосновную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цивилизацию – научно-промышлен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ядущая славяно-русская цивилизация будет – впервые в истории – полно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четырёхосновной»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оссия призвана решить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о-экономический вопро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который в Европе остался неразрешё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EE5F-24C6-46D1-93EC-68B9DA7B42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стояние России и Европы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кат Европы и ненависть Запада к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Европейская цивилизац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ж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шла период расцвета и находитс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а пути к дряхл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й н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мену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дё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лавяно-русская цивилиз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Элементы провиденциализм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в концепции, которая в целом вполн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аучн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: история славянских народов свидетельствует об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собой заботе Прови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нстинктивным пониманием того, чт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удущее за славянством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объясняетс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иррациональная ненависть Запада к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7918-CF66-49D9-8D3D-5B691A3D3B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тивостояние России и Европ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имущества славяно-русской циви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личительная черта «психического настроя»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германо-романских народо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сильственность и чрезмерно-развитое чувство индивидуальности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тличительная черт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лавянских народо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ирождённая гуманность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пешному решению социально-экономического вопрос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рамках славяно-русской цивилизации способствует 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оциально-экономическая специф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осс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осси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ольшинство населения обладает землё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тогда как в Европе большинство населения представляет собой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езземеленную мас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транах второго типа экономический строй основывается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ужде большинства гражда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в странах первого –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кономической обеспеченност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ответственно, те общественные классы, которые, будучи (как в Европе) сосредоточены в городах, составляют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ассовую базу революций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 России оказываю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амыми консерватив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8CE9-4272-4DA1-BD15-640E6A79E2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 Леонтьев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31‑189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B504-0805-4D70-9E6D-602F8382E9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Леонтье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31‑189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зантиз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зантизм против панслав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обенности византийск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зантийские основы русск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культуры: концепция «цветущей слож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азы развития куль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пология деспотизма и элитарност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антидемократизм и антиэгалитариз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пология реакцио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ческий пессим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FF87-1C7C-4D03-B44E-DD3363A7B6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изантиз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изантизм против панслав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Национализ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даже русский) –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редная западная иде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Единство православно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византийской)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культуры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ажне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лавянского брат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изантиз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есть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что культурно определённое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анславизм же – или абстракция, или меч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лавян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западные (а с недавних пор – и южные) уже слишком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заражены европейским духо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представляют скорее угрозу для будущего России, чем действительную помощ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BDB6-6FE3-485F-9C7F-5C6E6020A4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изант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обенности византийской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дро византийской культуры составляе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ера в Бога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в Царство Божие на зем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зантизм озна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елигиозн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фере –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авослав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осударственно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фере –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амодержавие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равственн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фере –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еувеличенного понятия о земной личности человеческой;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верие в способность к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олному нравственному совершенству на земл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каз о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адежды на грядущее «всеобщее благоденствие народов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«земное всеравенство, всесвобода, всесовершенство и вседовольство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0DE0-1259-4B8D-891E-37367C0E8D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дние славянофил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068F-23BD-40DD-8E18-F71610F9C9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изантиз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изантийские основы русской куль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русской культуре много чуждого византизму (как собственно русского, так и заимствованного), н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еличие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оим она обязана именн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изантийским начал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трицательное же отношение к византийской культур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русском обществе –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ледствие «незрелости» и несамостоятельности русской исторической наук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 просто незнания реальной истории, а знакомства с нею через посредство западных писателей, византийской культуре чуждых и даже враждеб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0D17-B3BB-4D97-9351-AEB4EF7D7F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Фазы развития куль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 культуры подчинены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бщему закону циклического развит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согласно которому всё развивающееся проходит через три периода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рвичной простоты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цветущей сложности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вторичного смесительного упрощения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83DB-E44A-42CC-8506-7F6A7C55D1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логия деспотизма и элита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эгалитарно-либеральным поступательным движением и идеей развития не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ичего логически родственног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аже более: прогресс есть не что иное,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цесс разлож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ый итог развития – преодоление равенства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граничение свобод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иод «цветущей сложности» есть именно период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ого неравенства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бразования эли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иод смесительного упрощения характеризуется стремлением ко всеобщему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венств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емократии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оторое имеет своим результатом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цвет техники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мирание искусства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пошление жизн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замену воли к положительному творчеству ценностей волей к механическому использованию работы и жаждой удоволь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E8A1-28B4-4555-8670-8DE8A4D6A6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A5C3-CDBA-4CDA-AC03-3A8EA8B41B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еонтьевская критик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уржуазн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Запада мотивирована, прежде всего, эстетиче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стетическая обеспокоенность делает Леонтьева одним из провозвестнико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экологическ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ви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2C16-EBCD-48B9-AC34-910BE5175D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еонтьевская критик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уржуазн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Запада мотивирована, прежде всего, эстетиче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стетическая обеспокоенность делает Леонтьева одним из провозвестнико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экологическ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ви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а же делает его одним из предшественнико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ехнофобных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нтиутоп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XX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ка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8EA8-0454-47DA-9B9B-F20A59385D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еонтьевская критик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уржуазн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Запада мотивирована, прежде всего, эстетиче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стетическая обеспокоенность делает Леонтьева одним из провозвестнико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экологическ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ви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а же делает его одним из предшественнико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ехнофобных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нтиутоп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XX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ка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стетически мотивирована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олитическа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еакционность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Леонтье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C373-0144-4F94-A30F-D599CD0C92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логия реакцио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A294-45B5-4680-BBED-D7F6051D79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ческий пессим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C67C-F602-4043-B069-9AAB7DCD50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500F-7840-442A-B571-92AA35ECCC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Я. Данилевски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22‑188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E674-74EA-471B-98EC-96BB209E14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Я. Данилевски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22‑188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епени (уровни) развития и типы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ожительные и отрицательные дея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ять законов культурно-исторического дви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тивостояние России и Европ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ат европейской циви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ррациональная ненависть Запада к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имущества славяно-русской циви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3A60-7B56-43CF-BD2A-8BEF25AEBA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9FA6-59F1-4795-8426-FD15FF50C1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епени развития и ти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снове универсалистской парадигмы лежи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огически не корректно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еление истории на периоды: древность, средневековье, новое 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убеж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отделяющие один период от другого, не имели общечеловеческого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стории каждой цивилизации выделяютс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и фазисы развит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свои «древность», «средневековье» и «новое врем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последними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льше общег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м между ними и соответствующими периодами других цивилиз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ление истории по степеням развит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е исчерпыва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его богат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ё содерж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5CBA-DF84-450D-A21A-358BDFFAB9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Культура не универсальн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западная – в том числ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вокупное человечество не есть реальный субъект истории, н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лишь абстрактная иде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ообраз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а не единообразие – закон и условие прогрес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4FDE-A0EA-4A25-BE02-64F1045B5B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8FC0-3EA7-43CE-B630-624885456E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659E-72B7-4725-9518-468E0E7D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630A-618B-486F-8EC3-F88D1EB1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8E77-8AF5-44C1-9555-C09A314A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CB98-182F-47A3-BAE1-95D5AD9CC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8BD2-26E3-4D80-B394-5FC8B1AF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10E7-3735-4258-85E8-0E280D97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12BF-A6A8-46F9-8D42-D9D7C347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36C9-DC1E-42CD-9687-1CCE0695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54EC-D4FB-42D9-B713-D14E2983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AE9D-3C18-4820-B2F9-9714AE7E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643A-83AF-49CA-829E-D5487A1D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DB9C-EFC2-421C-9B3F-6DFE050E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149F-16B9-4CEC-9F1B-C43D2D9B7F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9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1071720" y="2357280"/>
            <a:ext cx="712152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здние славянофи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Egypt"/>
          <p:cNvPicPr/>
          <p:nvPr/>
        </p:nvPicPr>
        <p:blipFill>
          <a:blip r:embed="rId1"/>
          <a:stretch/>
        </p:blipFill>
        <p:spPr>
          <a:xfrm>
            <a:off x="3778200" y="1619280"/>
            <a:ext cx="1800360" cy="1352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9" name="Picture 5" descr="China"/>
          <p:cNvPicPr/>
          <p:nvPr/>
        </p:nvPicPr>
        <p:blipFill>
          <a:blip r:embed="rId2"/>
          <a:stretch/>
        </p:blipFill>
        <p:spPr>
          <a:xfrm>
            <a:off x="5397480" y="1798560"/>
            <a:ext cx="180036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0" name="Picture 6" descr="ishtar_gate19"/>
          <p:cNvPicPr/>
          <p:nvPr/>
        </p:nvPicPr>
        <p:blipFill>
          <a:blip r:embed="rId3"/>
          <a:stretch/>
        </p:blipFill>
        <p:spPr>
          <a:xfrm>
            <a:off x="7197840" y="1978200"/>
            <a:ext cx="1568160" cy="180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1" name="Picture 7" descr="India (2)"/>
          <p:cNvPicPr/>
          <p:nvPr/>
        </p:nvPicPr>
        <p:blipFill>
          <a:blip r:embed="rId4"/>
          <a:stretch/>
        </p:blipFill>
        <p:spPr>
          <a:xfrm>
            <a:off x="3849840" y="2770200"/>
            <a:ext cx="180000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2" name="Picture 8" descr="Persia"/>
          <p:cNvPicPr/>
          <p:nvPr/>
        </p:nvPicPr>
        <p:blipFill>
          <a:blip r:embed="rId5"/>
          <a:stretch/>
        </p:blipFill>
        <p:spPr>
          <a:xfrm>
            <a:off x="5468760" y="3022560"/>
            <a:ext cx="1800360" cy="120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3" name="Picture 17" descr="Dome of the Rock, Jerusalem_sm"/>
          <p:cNvPicPr/>
          <p:nvPr/>
        </p:nvPicPr>
        <p:blipFill>
          <a:blip r:embed="rId6"/>
          <a:stretch/>
        </p:blipFill>
        <p:spPr>
          <a:xfrm>
            <a:off x="7088040" y="3273480"/>
            <a:ext cx="1800360" cy="1439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Египет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ита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ревнесемит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нди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ран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Евре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ре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им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рави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омано-герман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ксиканск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уа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лавяно-рус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Greece"/>
          <p:cNvPicPr/>
          <p:nvPr/>
        </p:nvPicPr>
        <p:blipFill>
          <a:blip r:embed="rId7"/>
          <a:stretch/>
        </p:blipFill>
        <p:spPr>
          <a:xfrm>
            <a:off x="3922560" y="3922560"/>
            <a:ext cx="180036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7" name="Picture 11" descr="Rome"/>
          <p:cNvPicPr/>
          <p:nvPr/>
        </p:nvPicPr>
        <p:blipFill>
          <a:blip r:embed="rId8"/>
          <a:stretch/>
        </p:blipFill>
        <p:spPr>
          <a:xfrm>
            <a:off x="5576760" y="4102200"/>
            <a:ext cx="1800360" cy="135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8" name="Picture 12" descr="Aravia"/>
          <p:cNvPicPr/>
          <p:nvPr/>
        </p:nvPicPr>
        <p:blipFill>
          <a:blip r:embed="rId9"/>
          <a:stretch/>
        </p:blipFill>
        <p:spPr>
          <a:xfrm>
            <a:off x="7197840" y="4281480"/>
            <a:ext cx="180000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9" name="Picture 13" descr="Europe (3)"/>
          <p:cNvPicPr/>
          <p:nvPr/>
        </p:nvPicPr>
        <p:blipFill>
          <a:blip r:embed="rId10"/>
          <a:stretch/>
        </p:blipFill>
        <p:spPr>
          <a:xfrm>
            <a:off x="3994200" y="5073480"/>
            <a:ext cx="180000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0" name="Picture 14" descr="Mexico (2)"/>
          <p:cNvPicPr/>
          <p:nvPr/>
        </p:nvPicPr>
        <p:blipFill>
          <a:blip r:embed="rId11"/>
          <a:stretch/>
        </p:blipFill>
        <p:spPr>
          <a:xfrm>
            <a:off x="5649840" y="5253120"/>
            <a:ext cx="1800360" cy="135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1" name="Picture 15" descr="Peru"/>
          <p:cNvPicPr/>
          <p:nvPr/>
        </p:nvPicPr>
        <p:blipFill>
          <a:blip r:embed="rId12"/>
          <a:stretch/>
        </p:blipFill>
        <p:spPr>
          <a:xfrm>
            <a:off x="7269120" y="5433840"/>
            <a:ext cx="180036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2" name="Picture 16" descr="Russia"/>
          <p:cNvPicPr/>
          <p:nvPr/>
        </p:nvPicPr>
        <p:blipFill>
          <a:blip r:embed="rId13"/>
          <a:stretch/>
        </p:blipFill>
        <p:spPr>
          <a:xfrm>
            <a:off x="4786200" y="2878200"/>
            <a:ext cx="3598920" cy="2535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3" descr="Delaroche, Hemicycle_of_the_Ecole_des_Beaux-Arts_sm"/>
          <p:cNvPicPr/>
          <p:nvPr/>
        </p:nvPicPr>
        <p:blipFill>
          <a:blip r:embed="rId1"/>
          <a:stretch/>
        </p:blipFill>
        <p:spPr>
          <a:xfrm>
            <a:off x="4317840" y="1619280"/>
            <a:ext cx="3059280" cy="2084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Положительные и отрицательные дея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ложительные 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самобытные цивилизац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трицательные 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народы-разрушител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роды, не достигшие исторической индивидуа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Глазунов, Битва - Временный перевес татар"/>
          <p:cNvPicPr/>
          <p:nvPr/>
        </p:nvPicPr>
        <p:blipFill>
          <a:blip r:embed="rId2"/>
          <a:stretch/>
        </p:blipFill>
        <p:spPr>
          <a:xfrm>
            <a:off x="4929120" y="3057480"/>
            <a:ext cx="3238560" cy="1604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8" name="Picture 7" descr="Parched Village Huts, Niger, Africa_sm"/>
          <p:cNvPicPr/>
          <p:nvPr/>
        </p:nvPicPr>
        <p:blipFill>
          <a:blip r:embed="rId3"/>
          <a:stretch/>
        </p:blipFill>
        <p:spPr>
          <a:xfrm>
            <a:off x="5757840" y="4030560"/>
            <a:ext cx="3059280" cy="2446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ы культурно-исторического дв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Языковое родств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ритер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снов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амобытного культурно-исторического 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литическая независим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слов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азвития самобытного культурно-исторического типа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ачала цивилизац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дного культурно-исторического типа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передаютс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ародам другого 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Цивилизация достигает полноты развития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огда составляющие её этнографические элементы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поглощены одним политическим целым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составляют политическую систему государ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азвитие цивилизац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одобно жизни многолетних одноплодных растений, у которых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должительный период рост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меняе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ротким (и никогда не повторяющимся) периодом расц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3760" y="1600200"/>
            <a:ext cx="837396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и не бываю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лучш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хуж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они прос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и различаются преимущественным развитием какой-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дной стороны куль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ейская цивилизация – преимущественно религиоз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еческая – преимущественно эстетическ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имская – преимущественно политико-правов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опейцы расширили область культурного творчества, создав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двуосновную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цивилизацию – научно-промышлен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ядущая славяно-русская цивилизация будет – впервые в истории – полно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четырёхосновной»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оссия призвана решить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о-экономический вопро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который в Европе остался неразрешё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тивостояние России и Европ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ат Европы и ненависть Запада к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Европейская цивилизац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ж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шла период расцвета и находитс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а пути к дряхл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й на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мен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дё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лавяно-русская цивилиз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лементы провиденциализм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в концепции, которая в целом вполн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учн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): история славянских народов свидетельствует об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собой заботе Прови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стинктивным пониманием того, ч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удущее за славянством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объясняетс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иррациональная ненависть Запада к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7760" y="2743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тивостояние России и Европ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имущества славяно-русской циви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личительная черта «психического настроя»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германо-романских народо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сильственность и чрезмерно-развитое чувство индивидуальности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тличительная черт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лавянских народо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ирождённая гуманность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пешному решению социально-экономического вопрос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рамках славяно-русской цивилизации способствует 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оциально-экономическая специф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осс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осси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ольшинство населения обладает землё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тогда как в Европе большинство населения представляет собой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езземеленную мас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транах второго типа экономический строй основывается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ужде большинства гражда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в странах первого –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кономической обеспеченност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ответственно, те общественные классы, которые, будучи (как в Европе) сосредоточены в городах, составляют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ассовую базу революций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 России оказываю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амыми консерватив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Леонтье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31‑189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317840" y="2878200"/>
            <a:ext cx="467856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зантизм и славянств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3‑18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ний европеец как идеал и орудие всемирного разруш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2-1884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ладимир Соловьёв против Данилевског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циональная политика как орудие всемирной революц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Леонтьев (2)"/>
          <p:cNvPicPr/>
          <p:nvPr/>
        </p:nvPicPr>
        <p:blipFill>
          <a:blip r:embed="rId1"/>
          <a:stretch/>
        </p:blipFill>
        <p:spPr>
          <a:xfrm>
            <a:off x="358920" y="1798560"/>
            <a:ext cx="370980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5" name="Text Box 6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Леонтье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31‑189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зантиз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зантизм против панслав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обенности византийск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зантийские основы русск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культуры: концепция «цветущей слож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азы развития куль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пология деспотизма и элитарност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антидемократизм и антиэгалитариз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пология реакцио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ческий пессим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изант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изантизм против панслав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ационализ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даже русский)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редная западная иде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Единство православно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византийской)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уль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ажне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лавянского брат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изантиз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есть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что культурно определённое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анславизм же – или абстракция, или меч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лавян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западные (а с недавних пор – и южные) уже слишком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аражены европейским духо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представляют скорее угрозу для будущего России, чем действительную помощ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изант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обенности византийской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8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дро византийской культуры составляе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ера в Бога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в Царство Божие на зем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зантизм озна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елигиозн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фере –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авослав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осударственно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фере –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амодержавие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равственн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фере –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еувеличенного понятия о земной личности человеческой;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верие в способность к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олному нравственному совершенству на земл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каз о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адежды на грядущее «всеобщее благоденствие народов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«земное всеравенство, всесвобода, всесовершенство и вседовольство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085040" y="5468760"/>
            <a:ext cx="7003800" cy="1135080"/>
          </a:xfrm>
          <a:prstGeom prst="rect">
            <a:avLst/>
          </a:prstGeom>
          <a:noFill/>
          <a:ln w="158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адная же иде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«земного рая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мещански-утилитарны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эвдемонистический идеал прогресса) 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кощунственн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научн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«мечтательство под флагом реализма»)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антиэстетичн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ибо предполагает однообразие и унисо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здние славянофил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Данилевский (1)"/>
          <p:cNvPicPr/>
          <p:nvPr/>
        </p:nvPicPr>
        <p:blipFill>
          <a:blip r:embed="rId1"/>
          <a:stretch/>
        </p:blipFill>
        <p:spPr>
          <a:xfrm>
            <a:off x="539640" y="1906560"/>
            <a:ext cx="2357640" cy="30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5" name="Rectangle 8"/>
          <p:cNvSpPr/>
          <p:nvPr/>
        </p:nvSpPr>
        <p:spPr>
          <a:xfrm>
            <a:off x="3057480" y="1870200"/>
            <a:ext cx="3598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. Данилевский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22‑1885)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 Леонтьев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31‑189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Леонтьев (1-1-cut)"/>
          <p:cNvPicPr/>
          <p:nvPr/>
        </p:nvPicPr>
        <p:blipFill>
          <a:blip r:embed="rId2"/>
          <a:stretch/>
        </p:blipFill>
        <p:spPr>
          <a:xfrm>
            <a:off x="6045120" y="3346560"/>
            <a:ext cx="2505240" cy="30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изант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изантийские основы русской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русской культуре много чуждого византизму (как собственно русского, так и заимствованного), н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еличие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воим она обязана именн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изантийским начал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трицательное же отношение к византийской культур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русском обществе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ледствие «незрелости» и несамостоятельности русской исторической нау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просто незнания реальной истории, а знакомства с нею через посредство западных писателей, византийской культуре чуждых и даже враждеб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9" descr="Aligny_Claude_Felix_Theodore_Homer_And_The_Sheperds_sm"/>
          <p:cNvPicPr/>
          <p:nvPr/>
        </p:nvPicPr>
        <p:blipFill>
          <a:blip r:embed="rId1"/>
          <a:stretch/>
        </p:blipFill>
        <p:spPr>
          <a:xfrm>
            <a:off x="4497480" y="1619280"/>
            <a:ext cx="2501640" cy="288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Фазы развития куль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57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 культуры подчинены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бщему закону циклического развит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согласно которому всё развивающееся проходит через три периода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рвичной простоты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цветущей сложности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вторичного смесительного упрощения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1" descr="Brown_Ford_Madox_Work_sm"/>
          <p:cNvPicPr/>
          <p:nvPr/>
        </p:nvPicPr>
        <p:blipFill>
          <a:blip r:embed="rId2"/>
          <a:stretch/>
        </p:blipFill>
        <p:spPr>
          <a:xfrm>
            <a:off x="5289480" y="2878200"/>
            <a:ext cx="2879640" cy="202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4" name="Picture 10" descr="Axentowics_Theodor_The_Omnibus_sm"/>
          <p:cNvPicPr/>
          <p:nvPr/>
        </p:nvPicPr>
        <p:blipFill>
          <a:blip r:embed="rId3"/>
          <a:stretch/>
        </p:blipFill>
        <p:spPr>
          <a:xfrm>
            <a:off x="6008760" y="4317840"/>
            <a:ext cx="2879640" cy="2219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логия деспотизма и элита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7870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эгалитарно-либеральным поступательным движением и идеей развития не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ичего логически родственног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аже более: прогресс есть не что иное,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цесс разлож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ый итог развития – преодоление равенства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граничение свобод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иод «цветущей сложности» есть именно период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ого неравенства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бразования эли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иод смесительного упрощения характеризуется стремлением ко всеобщему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венств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емократии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оторое имеет своим результатом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цвет техники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мирание искусства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пошление жизн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замену воли к положительному творчеству ценностей волей к механическому использованию работы и жаждой удоволь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8120" y="1599840"/>
            <a:ext cx="367848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онтьевская критик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уржуазн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пада мотивирована, прежде всего, эстетиче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 rot="10800000">
            <a:off x="3817440" y="1630080"/>
            <a:ext cx="52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был в восторге от Кри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критских простолюдин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аходил в них множе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зии. Особенно восхища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ня то, что я почти совс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идал там на мужчинах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европейской одежд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ую я с ранних л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ненавидел всем сердц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за возмутительн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живописность её, и з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шлость, и, наконец, за сам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стерпимую всеобщность её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794520" y="5433840"/>
            <a:ext cx="284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Н. Леонтье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ладимир Соловьё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Данилевског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8120" y="1599840"/>
            <a:ext cx="367848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онтьевская критик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уржуазн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пада мотивирована, прежде всего, эстетиче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стетическая обеспокоенность делает Леонтьева одним из провозвестнико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кологическ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в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 rot="10800000">
            <a:off x="3817440" y="1630080"/>
            <a:ext cx="52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дальнейшее и беспрерывно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жение человечества п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му пути –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роникнове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юду европейского буржуа, </a:t>
            </a:r>
            <a:br>
              <a:rPr sz="1800"/>
            </a:b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ырубки лесов, прорыти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налов, просверливания гор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.д. – прежде всего эт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жение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губительн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для 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семирной эстетик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 А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ибель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иродной и 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оциальной эстетик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есть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ный признак глубокого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тарения; есть признак 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иближающейся смерт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94520" y="5433840"/>
            <a:ext cx="284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Н. Леонтье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ладимир Соловьё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Данилевског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0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8120" y="1599840"/>
            <a:ext cx="367848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онтьевская критик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уржуазн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пада мотивирована, прежде всего, эстетиче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стетическая обеспокоенность делает Леонтьева одним из провозвестнико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кологическ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в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а же делает его одним из предшественнико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хнофобных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нтиутопи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XX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 rot="10800000">
            <a:off x="3817440" y="1630080"/>
            <a:ext cx="52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, воображая, что 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подствует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над природ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редством всех этих открыти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изобретений, только ещё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ьше стал рабом её; убивая 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страняя одни силы прир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ероятно, высшие) посредство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их, более стихийных 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рубых сил, он ничего ещё н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дал, а разрушил много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красное, и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свободиться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му теперь от подчинения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м этим машинам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удет, конечно, не легко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794520" y="5433840"/>
            <a:ext cx="284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Н. Леонтье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ладимир Соловьё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Данилевског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0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8120" y="1599840"/>
            <a:ext cx="367848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онтьевская критик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уржуазн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пада мотивирована, прежде всего, эстетиче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стетическая обеспокоенность делает Леонтьева одним из провозвестнико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кологическ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в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а же делает его одним из предшественнико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хнофобных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нтиутопи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XX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стетически мотивирована 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литическа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еакцион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Леонтье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 rot="10800000">
            <a:off x="3817440" y="1630080"/>
            <a:ext cx="52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 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чтожение повсюду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рхии, дворянства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стических положитель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лигий, войн и неравенств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вело бы к такой ужасающе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зе, что и вообрази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ашно!.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стетик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жизн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 искусства!.. Чёрт его возьм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кусство – без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жизни!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), поэзия 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действительн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з тог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азнообразия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– 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оложений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и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чувств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которое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вивается благодар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равенству и борьбе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0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логия реакцио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"/>
          <p:cNvSpPr/>
          <p:nvPr/>
        </p:nvSpPr>
        <p:spPr>
          <a:xfrm rot="10800000">
            <a:off x="2517480" y="1977840"/>
            <a:ext cx="62974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До дня цвете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лучше бы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арусом или паровым котлом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 этого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невозвратного дн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стойнее быть якорем и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рмозом для народо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емящихся вниз под крутую гор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емящихся нередко наив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осовестно, при кликах торжества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распущенными знамёнами надежд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Леонтьев (2b)"/>
          <p:cNvPicPr/>
          <p:nvPr/>
        </p:nvPicPr>
        <p:blipFill>
          <a:blip r:embed="rId1"/>
          <a:stretch/>
        </p:blipFill>
        <p:spPr>
          <a:xfrm>
            <a:off x="647640" y="2158920"/>
            <a:ext cx="1629000" cy="20098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7"/>
          <p:cNvSpPr/>
          <p:nvPr/>
        </p:nvSpPr>
        <p:spPr>
          <a:xfrm>
            <a:off x="505440" y="5289480"/>
            <a:ext cx="188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Н. Леонтье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изантизм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авянств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ий пессим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 rot="10800000">
            <a:off x="2517480" y="1977840"/>
            <a:ext cx="62974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кончить историю, погуби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тво разлити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мирного равенства…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делать жизнь человеческ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же окончательно невыносимой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 этом ли уготова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е предназначение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Леонтьев (2b)"/>
          <p:cNvPicPr/>
          <p:nvPr/>
        </p:nvPicPr>
        <p:blipFill>
          <a:blip r:embed="rId1"/>
          <a:stretch/>
        </p:blipFill>
        <p:spPr>
          <a:xfrm>
            <a:off x="647640" y="2158920"/>
            <a:ext cx="1629000" cy="200988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0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Я. Данилевски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22‑188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Данилевский (1-3)"/>
          <p:cNvPicPr/>
          <p:nvPr/>
        </p:nvPicPr>
        <p:blipFill>
          <a:blip r:embed="rId1"/>
          <a:stretch/>
        </p:blipFill>
        <p:spPr>
          <a:xfrm>
            <a:off x="611280" y="1798560"/>
            <a:ext cx="2763720" cy="431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0" name="Rectangle 5"/>
          <p:cNvSpPr/>
          <p:nvPr/>
        </p:nvSpPr>
        <p:spPr>
          <a:xfrm>
            <a:off x="4246560" y="3057480"/>
            <a:ext cx="44989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и Европа: Взгляд на культурные и политические отношения славянского мир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романо-германскому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9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рвинизм: Критическое исследовани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0-1885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4678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Я. Данилевски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22‑188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епени (уровни) развития и типы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ожительные и отрицательные дея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ять законов культурно-исторического дви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тивостояние России и Европ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ат европейской циви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ррациональная ненависть Запада к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имущества славяно-русской циви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957480" y="4857840"/>
            <a:ext cx="521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. «Философические письм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rossija-europa"/>
          <p:cNvPicPr/>
          <p:nvPr/>
        </p:nvPicPr>
        <p:blipFill>
          <a:blip r:embed="rId1"/>
          <a:stretch/>
        </p:blipFill>
        <p:spPr>
          <a:xfrm>
            <a:off x="358920" y="1798560"/>
            <a:ext cx="297972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9" name="Rectangle 6"/>
          <p:cNvSpPr/>
          <p:nvPr/>
        </p:nvSpPr>
        <p:spPr>
          <a:xfrm>
            <a:off x="3489480" y="5468760"/>
            <a:ext cx="55782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Данилевского – первый значительный вклад России в мировую философ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 rot="10800000">
            <a:off x="3957480" y="1618920"/>
            <a:ext cx="4857840" cy="305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окие в мире, мы мир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го не дали, ничего у мир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зяли, мы не внесли в масс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их ид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одной мыс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ни в чём не содействова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жению вперё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го разума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епени развития и ти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снове универсалистской парадигмы лежи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огически не корректно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еление истории на периоды: древность, средневековье, новое 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убеж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отделяющие один период от другого, не имели общечеловеческого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стории каждой цивилизации выделяютс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и фазисы развит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свои «древность», «средневековье» и «новое врем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последними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льше общег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м между ними и соответствующими периодами других цивилиз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ление истории по степеням развит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е исчерпыва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его богат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ё содерж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98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ультура не универсальн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западная – в том числ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вокупное человечество не есть реальный субъект истории, н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ишь абстрактная иде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азнообраз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а не единообразие – закон и условие прогр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 rot="10800000">
            <a:off x="250560" y="1977840"/>
            <a:ext cx="62974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бы поступательное движ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обще не прекратилось в жиз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го человечества, необходим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ы, дойдя в одном направле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 известной степени совершен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ось оно с новой точки исхода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ло по другому пути, т. е. надо что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тупили на поприще деятель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ие психические особенност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ой склад ума, чувств и во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ми обладают только нар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ого культурно-исторического тип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Данилевский (1-1)"/>
          <p:cNvPicPr/>
          <p:nvPr/>
        </p:nvPicPr>
        <p:blipFill>
          <a:blip r:embed="rId1"/>
          <a:stretch/>
        </p:blipFill>
        <p:spPr>
          <a:xfrm>
            <a:off x="6788160" y="2050920"/>
            <a:ext cx="1600200" cy="21812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6442920" y="4965840"/>
            <a:ext cx="24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Я. Данилев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оссия и Европ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 rot="10800000">
            <a:off x="250560" y="1977840"/>
            <a:ext cx="62974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гресс </a:t>
            </a: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остоит не в том, что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ти все в одном направлении (в так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учае он скоро бы прекратился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в том, чтоб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ходить все пол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ставляющее поприще историческ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ятельности человечества, во все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правлениях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этому ни од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ивилизация не может гордиться т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 она представляла высш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чку развития, в сравнении с е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шественницами или современница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 всех сторонах развит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Данилевский (1-1)"/>
          <p:cNvPicPr/>
          <p:nvPr/>
        </p:nvPicPr>
        <p:blipFill>
          <a:blip r:embed="rId1"/>
          <a:stretch/>
        </p:blipFill>
        <p:spPr>
          <a:xfrm>
            <a:off x="6788160" y="2050920"/>
            <a:ext cx="1600200" cy="21812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6442920" y="4965840"/>
            <a:ext cx="24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Я. Данилев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оссия и Европ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21:06:53Z</dcterms:created>
  <dc:creator>Николай Бирюков / Nikolai Biryukov</dc:creator>
  <dc:description>Версия марта 2006 г.</dc:description>
  <dc:language>en-US</dc:language>
  <cp:lastModifiedBy>LEGION</cp:lastModifiedBy>
  <dcterms:modified xsi:type="dcterms:W3CDTF">2014-11-11T12:42:00Z</dcterms:modified>
  <cp:revision>38</cp:revision>
  <dc:subject>История русской философии - Лекция 5</dc:subject>
  <dc:title>Поздние славянофилы</dc:title>
</cp:coreProperties>
</file>