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19.png" ContentType="image/png"/>
  <Override PartName="/ppt/media/image20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6.jpeg" ContentType="image/jpeg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A593-44AE-47DE-B97C-9AB700DBB3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СБЕРЕЖЕНИЕ –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 К ИНВЕСТИЦИОННОЙ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КАТЕЛЬНОСТИ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СБЕРЕЖЕНИЕ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 К ИНВЕСТИЦИО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КАТЕЛЬНОСТИ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ный фак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отопительный период длится в среднем 6-7 месяцев в году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электроцентраль на базе ПГУ - комбинированная выработка тепла и электричеств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ксплуатации ТЭЦ доля потерь электроэнергии и тепла на собственные нужды достигает 15%, а иногда и боле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оприятия, направленные на повышения энергосбережения и энергоэффектив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ные меро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нструкция и модерн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изация состава работающего оборуд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перераспределение нагрузок между источникам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на морально и физически устаревшего оборуд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овых технологий и материалов на существующем оборудов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сновных мероприятий, направленных на повышение энергосбережения и энергоэффективности на ТЭЦ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ный фак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отопительный период длится в среднем 6-7 месяцев в год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электроцентраль на базе ПГУ - комбинированная выработка тепла и электри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ксплуатации ТЭЦ доля потерь электроэнергии и тепла на собственные нужды достигает 15%, а иногда и бол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оприятия, направленные на повышения энергосбережения и энергоэффе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ные 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нструкция и модер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изация состава работающего обору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перераспределение нагрузок между источник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на морально и физически устаревшего оборуд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овых технологий и материалов на существующем оборудов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сновных мероприятий, направленных на повышение энергосбережения и энергоэффективности на ТЭ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ификация угля для снабжения нашей ТЭЦ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ость и энергоснаб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ая ресурсосберегающая технология освоения угольных месторождений заключается в совмещении в единое целое двух известных технологий – подземной газификации угля и технологии добычи метана из угольных пласт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технологические операции производятся с поверхности земли, без применения подземного труда работников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ая себестоимость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ная технология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а «газосбережения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ификация угля для снабжения нашей ТЭ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ость и энергоснаб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ая ресурсосберегающая технология освоения угольных месторождений заключается в совмещении в единое целое двух известных технологий – подземной газификации угля и технологии добычи метана из угольных плас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технологические операции производятся с поверхности земли, без применения подземного труда работнико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ая себестоимост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ная технолог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а «газосбережения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ение режима, несомненно, очень важно! Как для людей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и для предприятия в целом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ные мероприят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птимизация состава работающего оборудования источника»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распределение тепловой нагрузки между турбоагрегатами источни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: снижение затрат на топливо  в среднем до 1% или 10 млн. руб/г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птимальное перераспределение нагрузок между источниками»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ытие неэффективно эксплуатируемых индивидуальных источников в зоне действия ТЭЦ с переводом тепловой нагрузки потребителей на ТЭЦ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: повышение коэффициента использования установленной тепловой мощности ТЭЦ и увеличение комбинированной выработки электрической энерг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ение режима, несомненно, очень важно! Как для люде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и для предприятия в цело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ные мероприят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птимизация состава работающего оборудования источника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распределение тепловой нагрузки между турбоагрегатами источ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: снижение затрат на топливо  в среднем до 1% или 10 млн. руб/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птимальное перераспределение нагрузок между источниками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ытие неэффективно эксплуатируемых индивидуальных источников в зоне действия ТЭЦ с переводом тепловой нагрузки потребителей на ТЭ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: повышение коэффициента использования установленной тепловой мощности ТЭЦ и увеличение комбинированной выработки электрической энер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нергетике размер не имеет значения…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-ТЭЦ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мини-ТЭЦ в местах отсутствия сетей коммунальной инфраструктуры. При этом сбросное тепло первичного двигателя (газовой турбины или поршневого двигателя) используется для нужд отопления и горячего водоснабжения (ГВС) локальных потребителей тепл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росное тепло модулей мини-ТЭЦ используется в абсорбционных тепловых насосах для получения холод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нижение себестоимости продукции из-за отсутствия затрат на ремонт и обслуживание сетей коммунальной инфраструкту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Централизованное тепло-, электроснабжение и кондиционирован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ополнительная экономия электроэнергии вследствие подключения к мини-ТЭЦ системы общедомового кондициониров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нергетике размер не имеет значения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-ТЭ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мини-ТЭЦ в местах отсутствия сетей коммунальной инфраструктуры. При этом сбросное тепло первичного двигателя (газовой турбины или поршневого двигателя) используется для нужд отопления и горячего водоснабжения (ГВС) локальных потребителей теп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росное тепло модулей мини-ТЭЦ используется в абсорбционных тепловых насосах для получения хол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нижение себестоимости продукции из-за отсутствия затрат на ремонт и обслуживание сетей коммунальной инфра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Централизованное тепло-, электроснабжение и кондициониров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ополнительная экономия электроэнергии вследствие подключения к мини-ТЭЦ системы общедомового кондицио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дает нам жизнь и энерги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ГЭ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обеспечение небольших отдельных объектов в горах, удаленных от территории основных городских посел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рытие дополнительных нагрузок, возникающих преимущественно в летний период вследствие притока турист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арийный резерв мощности для снабжения объектов социальной сферы, в случае аварий на основном источнике (ТЭЦ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полное отсутствие потерь энергоносителя, и как следствие снижение тарифа для потребит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изводства, в т.ч. строительство заводов в близлежащих города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дает нам жизнь и энерг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ГЭ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обеспечение небольших отдельных объектов в горах, удаленных от территории основных городских посе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рытие дополнительных нагрузок, возникающих преимущественно в летний период вследствие притока турис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арийный резерв мощности для снабжения объектов социальной сферы, в случае аварий на основном источнике (ТЭЦ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полное отсутствие потерь энергоносителя, и как следствие снижение тарифа для потреб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изводства, в т.ч. строительство заводов в близлежащих гор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энергети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олю альтернативных источников в энергосистеме Нашего города  приходится не более 15% мощ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ридные системы, состоящие из ветрогенератора и фотоэлектрических модул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комбинированной системы теплоснабже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ок-схема гибридной энергосистем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нергоснабжения отдельных домов, зданий и сооружений применяются комбинированные системы, состоящ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тепловых насосов и солнечных коллект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энерге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олю альтернативных источников в энергосистеме Нашего города  приходится не более 15% мощ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ридные системы, состоящие из ветрогенератора и фотоэлектрических моду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комбинированной системы теплоснабж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ок-схема гибридной энергосисте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нергоснабжения отдельных домов, зданий и сооружений применяются комбинированные системы, состоя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тепловых насосов и солнечных колл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евое хозяйство и связ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просто необходимо связать нашу генерацию и потребителей! И этой связью будет умная электрическая се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ция и альтернативные источ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ые дом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исы и зд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оды и фабр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ная сеть связывает  и активно управляет всеми типами генерации и электроснабжением потребител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у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единой системы диспетчерского контроля и мониторинга всех энергоресурсов (электроэнергия, тепло и вода) по всей цепочке «источник – сеть – потребитель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иды генерации взаимодействуют с системой через энергоприсоединенные сети и участвуют в обеспечении регулирования качества поставляемой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ые типы потребителей (включая домашние хозяйства) принимают участие в регулировании качества и надежности энергосист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евое хозяйство и связ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просто необходимо связать нашу генерацию и потребителей! И этой связью будет умная электрическая се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ция и альтернативные источ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ые до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исы и з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оды и фабр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ная сеть связывает  и активно управляет всеми типами генерации и электроснабжением потреб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единой системы диспетчерского контроля и мониторинга всех энергоресурсов (электроэнергия, тепло и вода) по всей цепочке «источник – сеть – потребител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иды генерации взаимодействуют с системой через энергоприсоединенные сети и участвуют в обеспечении регулирования качества поставляемой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ые типы потребителей (включая домашние хозяйства) принимают участие в регулировании качества и надежности энерго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я должна быть экономной. И энергетика не исключение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ежимные мероприятия по энергосбережению и повышению энергоэффективности на участке «тепловая сеть – потребител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на количественный метод отпуска тепл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от ЦТП к использованию автоматизированных ИТП в каждом здании с количественно-качественным регулированием потребления тепла в зависимости от температуры наружного воздух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соединение потребителей по независимой схеме через теплообменни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современной тепловой изоляции и трубопроводов высокой заводской готовности с системой ОДК для отопления и использование пластиковых труб для горячего водоснабж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кращение капительных, эксплуатационных и ремонтных затра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кономия энергоресурсов за счет оптимальных температурных условий в помещениях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кращение потерь тепловой энергии в трубопроводах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можность применения пластиковых труб на обратных трубопроводах систем отоплен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е тарифов для конечного потребител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я должна быть экономной. И энергетика не исключе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ежимные мероприятия по энергосбережению и повышению энергоэффективности на участке «тепловая сеть – потребите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на количественный метод отпуска теп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от ЦТП к использованию автоматизированных ИТП в каждом здании с количественно-качественным регулированием потребления тепла в зависимости от температуры наружного возду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соединение потребителей по независимой схеме через теплообмен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современной тепловой изоляции и трубопроводов высокой заводской готовности с системой ОДК для отопления и использование пластиковых труб для горячего водоснаб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кращение капительных, эксплуатационных и ремонтных затра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кономия энергоресурсов за счет оптимальных температурных условий в помещен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кращение потерь тепловой энергии в трубопровод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можность применения пластиковых труб на обратных трубопроводах систем отоп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е тарифов для конечного потреб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обеспечить надёжную и эффективную передачу электроэнергии потребителям! Бесперебойность электропитания – важный фактор для производ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надёжности в распределительных сетях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замкнутых сетей с установкой реклоузеров для вывода в ремонт участков без отключения  потребителе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ЛЭП с применением кабельных линий и самонесущих изолированных проводов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эффектив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АСКУЭ для точной оценки потребляемой мощности и эффектом от проводимых мероприяти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БСК с телеуправлением и Автоматических Устройств Компенсации реактивной мощности на КТП потребителей выключателями ячеек на распределительных подстанция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е потерь, связанных с передачей реактивной энергии, до 95%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обеспечить надёжную и эффективную передачу электроэнергии потребителям! Бесперебойность электропитания – важный фактор для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надёжности в распределительных сетя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замкнутых сетей с установкой реклоузеров для вывода в ремонт участков без отключения  потреб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ЛЭП с применением кабельных линий и самонесущих изолированных проводо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эффектив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АСКУЭ для точной оценки потребляемой мощности и эффектом от проводимых мероприят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БСК с телеуправлением и Автоматических Устройств Компенсации реактивной мощности на КТП потребителей выключателями ячеек на распределительных подстанц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е потерь, связанных с передачей реактивной энергии, до 95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с внешним миром осуществляется через геостационарный спутни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в горах базовых станций сотовых операторов, работающих от солнечных батаре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размеров и площадей установок солнечных батарей за счет применения батарей ориентированных в пространств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домов цифровым телевидением и телевидением 3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 городе сетей 4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городцы любят поговорить 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с внешним миром осуществляется через геостационарный спут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в горах базовых станций сотовых операторов, работающих от солнечных батар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размеров и площадей установок солнечных батарей за счет применения батарей ориентированных в простран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домов цифровым телевидением и телевидением 3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 городе сетей 4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городцы любят поговорить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«Пять Э»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эффективно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ый обмен ресурсам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но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выгод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город будущего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город новых технологий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идеальный город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может стать твоим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 Нашего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эр Нашего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«Пять Э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эффектив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ый обмен ресурс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выго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город будущег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город новых технологи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идеальный город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может стать твои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 Наше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эр Наше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ворил господин Печкин:  «Это почему я такой злой был? Потому что у меня раньше велосипеда не было!» :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городцы сами выбирают на чем именно им ездить. Главное, чтобы это было экологичн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елосипедного направления, как средства передвижения для туристов и молодежи. Внедрение электро-велотраспорта. Строительство велопарковок и велодороже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 города отдается преимущество городскому транспорту с электродвигателями с потенциальным переходом на водородный транспорт. Оборудование дорог индукционными полосами для бесконтактной подзарядки электромобилей. Применение электромобилей с аккумуляторными блоками конденсаторного типа и возможностью быстрой подзарядк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литражного транспорта и гибридных автомобилей, работающих на биотлоплив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светофоров, оборудованных интеллектуальным регулированием пропускной способности автодорог с учетом плотности движения. Питание осуществляется от солнечных батаре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ворил господин Печкин:  «Это почему я такой злой был? Потому что у меня раньше велосипеда не было!» :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городцы сами выбирают на чем именно им ездить. Главное, чтобы это было экологич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елосипедного направления, как средства передвижения для туристов и молодежи. Внедрение электро-велотраспорта. Строительство велопарковок и велодорож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 города отдается преимущество городскому транспорту с электродвигателями с потенциальным переходом на водородный транспорт. Оборудование дорог индукционными полосами для бесконтактной подзарядки электромобилей. Применение электромобилей с аккумуляторными блоками конденсаторного типа и возможностью быстрой подзаряд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литражного транспорта и гибридных автомобилей, работающих на биотлопли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светофоров, оборудованных интеллектуальным регулированием пропускной способности автодорог с учетом плотности движения. Питание осуществляется от солнечных батар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2 беды… Разберемся и с дорог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ых путей сообщения города с «внешним миром» для расширения экспорта и импорт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удоход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уется строительство тунн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нутренней транспортной инфраструктур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борьбы с запыленностью в целях достижения санитарной чистоты, необходимой для развития научного городка и фармацевтики в Нашем городе, производится «заливка» дорожными покрытиями всех открытых участков земли (создание площадей, новых улиц), а так же создание «зеленых зон» (парков, скверо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автоматических компактных парковок (принцип хранения автомобилей в специальных ячейках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2 беды… Разберемся и с дор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ых путей сообщения города с «внешним миром» для расширения экспорта и импор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удох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уется строительство тунн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нутренней транспортной инфраструк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борьбы с запыленностью в целях достижения санитарной чистоты, необходимой для развития научного городка и фармацевтики в Нашем городе, производится «заливка» дорожными покрытиями всех открытых участков земли (создание площадей, новых улиц), а так же создание «зеленых зон» (парков, сквер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автоматических компактных парковок (принцип хранения автомобилей в специальных ячейк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2 беды… Разберемся и с дорог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дорог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резиновой крошки при покрытии пешеходных зон и переездов через ж/д и трамвайные пути. Применение крошки для оборудование детских площадок (комфорт малышей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 предотвращение наледи, повышенная износостойкость, эстетическая красо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состояния дорожного покрытия для обеспечения благоприятных условий развитию альтернативных видов транспор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ещение улиц и дорог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автономных фотоэлектрических систем наружного ос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датчиков движения на трассах для автоматического освещения и экономии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2 беды… Разберемся и с дор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дорог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резиновой крошки при покрытии пешеходных зон и переездов через ж/д и трамвайные пути. Применение крошки для оборудование детских площадок (комфорт малыш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 предотвращение наледи, повышенная износостойкость, эстетическая крас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состояния дорожного покрытия для обеспечения благоприятных условий развитию альтернативных видов трансп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ещение улиц и дорог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автономных фотоэлектрических систем наружного осве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датчиков движения на трассах для автоматического освещения и экономии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 канализ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та – залог здоровья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станции сверхглубокой очистки сточных вод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ая очистка сточных вод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капитальных затрат на 40-5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энергозатрат до 4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высокотехнологичного коагулянта для очистки сточных в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ысокой степени очистки в промышленном водоснабжении применяются методы дополнительной обработки (сорбция, ионообмен, гиперфильтрация и др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очищенных сточных вод для орошения сельскохозяйственных земель (в  т.ч. в качестве удобрен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адок сточных вод сбраживается для получения биогаза. Полученный биогаз применяется для собственных нужд мини-ТЭЦ, обслуживающей станци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 канализ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та – залог здоровь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станции сверхглубокой очистки сточных в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ая очистка сточных 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капитальных затрат на 40-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энергозатрат до 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высокотехнологичного коагулянта для очистки сточных в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ысокой степени очистки в промышленном водоснабжении применяются методы дополнительной обработки (сорбция, ионообмен, гиперфильтрация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очищенных сточных вод для орошения сельскохозяйственных земель (в  т.ч. в качестве удобрени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адок сточных вод сбраживается для получения биогаза. Полученный биогаз применяется для собственных нужд мини-ТЭЦ, обслуживающей стан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 канализ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шь в туалет – помой руки!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торичного использования воды и экономии ресурсов в жилых помещения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ащение всех кранов и душевых датчиками движения (снижение водопотребления до 190-200 л/сутки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дрение механизмов применения воды, уходящей в слив в ванной комнате, для смыва в уборных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кови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 канализ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шь в туалет – помой рук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торичного использования воды и экономии ресурсов в жилых помеще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ащение всех кранов и душевых датчиками движения (снижение водопотребления до 190-200 л/сут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дрение механизмов применения воды, уходящей в слив в ванной комнате, для смыва в уборн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ков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новых жилых кварталов с многоэтажными домами с одновременной ликвидацией «ветхого» жилья и реконструкция существующих зданий и сооружени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ирование жилых домов и их строительство должно вестись в строгом соответствии с ФЗ №261 «Об энергосбережении» и с использованием новых технолог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троительстве применяется заливка слоя утеплителя наружных стен здания (например, пенополистерол – теплоотражающий экран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уделяем большое внимание строительству. Ведь мы строим дома, в которых будут жить жители Нашего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ерметичные теплозащитные стеклопакеты. При этом площадь остекления не должна превышать 20% от всей поверхности здания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окон-хамелеонов, работающих по принципу поглощения солнечной энергии в отопительный период и ее отражения – в межотопительный пери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новых жилых кварталов с многоэтажными домами с одновременной ликвидацией «ветхого» жилья и реконструкция существующих зданий и сооруж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ирование жилых домов и их строительство должно вестись в строгом соответствии с ФЗ №261 «Об энергосбережении» и с использованием нов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троительстве применяется заливка слоя утеплителя наружных стен здания (например, пенополистерол – теплоотражающий экран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уделяем большое внимание строительству. Ведь мы строим дома, в которых будут жить жители Наше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ерметичные теплозащитные стеклопакеты. При этом площадь остекления не должна превышать 20% от всей поверхности здан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окон-хамелеонов, работающих по принципу поглощения солнечной энергии в отопительный период и ее отражения – в межотопительный пер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с все по фен-шую! Точнее по нано-фен-шую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в домах рекуперативной системы вентиля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мой система работает по принципу подогрева входящего воздуха исходящим в специальных устройствах-рекуперативных блок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ом входящий горячий воздух охлаждается по обратному принцип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визионный контро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красная съемка позволяет выявить дефекты, которые допущены в строительных сооружения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: экономия тепловой энергии до 40%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с все по фен-шую! Точнее по нано-фен-шую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в домах рекуперативной системы венти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мой система работает по принципу подогрева входящего воздуха исходящим в специальных устройствах-рекуперативных блок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ом входящий горячий воздух охлаждается по обратному принци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визионны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красная съемка позволяет выявить дефекты, которые допущены в строительных сооружен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: экономия тепловой энергии до 4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возобновляемых источников углеводородного сырья (растениеводство, животноводство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альтернативных источников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велосипедов, электромобилей, транспорта на биотоплив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до минимума вредных выбросов в атмосферу ввиду использования новых технолог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й подход к утилизаци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ая вода и в реке и в кра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жное отношение к природ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со здоровой экологией живут здоровые люди и рождаются здоровые де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возобновляемых источников углеводородного сырья (растениеводство, животновод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альтернативных источников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велосипедов, электромобилей, транспорта на биотопли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до минимума вредных выбросов в атмосферу ввиду использования нов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й подход к утил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ая вода и в реке и в кр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жное отношение к при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со здоровой экологией живут здоровые люди и рождаются здоровые 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шего города замечательная энергетика! Я говорю сейчас об эмоциональной составляющей! Спасибо жителям Нашего города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любим Наш город и счастливы здес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ть, учиться и ж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ать, жениться, друж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у любить, на работу спеш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аться на велике, в горы ход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рекам сплавляться и рыбу лов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лочкам чистым с друзьями брод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эко-продукты, детишек рожа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ом чистым полной грудью дыша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диться величием нашей души и тем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очень и очень дружны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все команда, мы все за одно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ем что мы очень любим его –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шего города замечательная энергетика! Я говорю сейчас об эмоциональной составляющей! Спасибо жителям Нашего город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любим Наш город и счастливы зде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ть, учиться и ж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ать, жениться, друж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у любить, на работу спеш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аться на велике, в горы ход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рекам сплавляться и рыбу лов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лочкам чистым с друзьями брод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эко-продукты, детишек рожа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ом чистым полной грудью дыша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диться величием нашей души и те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очень и очень дружн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все команда, мы все за одн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ем что мы очень любим его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.S. Приезжайте к нам отдыхать! Вам понравится! Обещаю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.S. Приезжайте к нам отдыхать! Вам понравится! Обещаю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зм – основа Нашего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оборудование части гостиничных комплексов в круглогодичные специализированные санатории и здравницы, лечение в которых основано на применении водорослей (поставка водорослей осуществляется с предприятия, выращивающего их для производства биотоплива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PA-салоны (эко-продукты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е минеральные источни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лощадок для торговли экологически-чистыми продуктам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горно-лыжного туризм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ртивное рыболов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з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рады, что Наш город любим всеми: и жителями, и туристами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зм – основа Наше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оборудование части гостиничных комплексов в круглогодичные специализированные санатории и здравницы, лечение в которых основано на применении водорослей (поставка водорослей осуществляется с предприятия, выращивающего их для производства биотопли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PA-салоны (эко-продукты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е минеральные источн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лощадок для торговли экологически-чистыми продук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горно-лыжного туризм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ртивное рыболов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рады, что Наш город любим всеми: и жителями, и туристам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ая отрасль промышленности должна носить либо сезонный характер либо характер внутреннего потреб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в городе нутрицевтического класте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 с хорошей экологией (Наш Город) идеально подходит для развития нутрицевти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трицевтический бизнес достаточно прибыльный и позволяет в виду высокой окупаемости экспорт продукции любым доступным для города путем (речной транспорт, авто- и авиаперевозки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натуральных лекарственных компонентов и препаратов для нужд города и на экспор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новейших лекарственных препаратов на основе исследований научных лаборатор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развития нутрицевтики в Нашем город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ая отрасль промышленности должна носить либо сезонный характер либо характер внутреннего потре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в городе нутрицевтического класт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 с хорошей экологией (Наш Город) идеально подходит для развития нутрицев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трицевтический бизнес достаточно прибыльный и позволяет в виду высокой окупаемости экспорт продукции любым доступным для города путем (речной транспорт, авто- и авиаперевозк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натуральных лекарственных компонентов и препаратов для нужд города и на эк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новейших лекарственных препаратов на основе исследований научных лаборато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развития нутрицевтики в Нашем го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две беды… Но мы собрали у себя лучшие умы Росс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ого городк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ресурсах застойных предприятий гостиничного сектора создаются научно-исследовательские центры.  Необходимо привлечение инвестиций для переоборудования зданий гостиничных комплексов в научные центры/лаборатории, а так же привлечение научных сотрудников и ученых для работы в этих центр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ых лабораторий по разработке лекарственных препаратов для лечения и профилактики тяжелых болезн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и продажа патентных решений для бизне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ых центров по изучению и развитию альтернативной энергети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нормативно-правовой базы в сфере энергосбережения, энергоэффективных технологий и использования альтернативных источников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создана специальная внутренняя сеть между лабораториями для оперативного обмена информацией между учеными и видеосвяз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две беды… Но мы собрали у себя лучшие умы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ого город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ресурсах застойных предприятий гостиничного сектора создаются научно-исследовательские центры.  Необходимо привлечение инвестиций для переоборудования зданий гостиничных комплексов в научные центры/лаборатории, а так же привлечение научных сотрудников и ученых для работы в этих цент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ых лабораторий по разработке лекарственных препаратов для лечения и профилактики тяжелых болез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и продажа патентных решений дл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ых центров по изучению и развитию альтернативной энергет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нормативно-правовой базы в сфере энергосбережения, энергоэффективных технологий и использования альтернативных источников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создана специальная внутренняя сеть между лабораториями для оперативного обмена информацией между учеными и видео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никогда не думал, что водоросли можно выращивать вот так, как помидоры, в теплица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в городе предприятия  по выращиванию и переработке растений для производства биотоплива. В качестве сырья для получения биотоплива можно использовать водоросли, которые выращивают в фотобиоректор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биореактор закрытого типа производит около 140 тонн сырья/г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том его объем 700 м. куб./ площадь 1 гекта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биореактор характеризую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производитель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эколог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й контро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никогда не думал, что водоросли можно выращивать вот так, как помидоры, в теплиц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в городе предприятия  по выращиванию и переработке растений для производства биотоплива. В качестве сырья для получения биотоплива можно использовать водоросли, которые выращивают в фотобиоректо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биореактор закрытого типа производит около 140 тонн сырья/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том его объем 700 м. куб./ площадь 1 гект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биореактор характериз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производ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эколог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движемся в верном направлении. Сегодня мы добываем электричество из водорослей, а завтра запускаем коллайде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чищенное топли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ысоким содержанием кисло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содержания кисло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ка электричества и теп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движемся в верном направлении. Сегодня мы добываем электричество из водорослей, а завтра запускаем коллайд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чищенное топли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ысоким содержанием кисл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содержания кисл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ка электричества и теп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вижение культуры раздельного сбора мусора. Установка на территории города контейнеров для отходов из стекла, полиэтилена и бумаг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го и среднего бизнеса на базе комплексов по переработке (измельчению) отход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илизация и промышлен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, кто не хочет жить по законам людей и города – будем штрафовать. А бизнесменам даю наводку: на утилизации можно хорошенько заработа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туалетной бумаг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ЭТ-бутылок, пластиковой мебели для гостиничного бизнеса и дачной мебе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бутылок для                            газированных напит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гуму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бумажных отход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отходов пласти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отходов из стек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пищевых отход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шиеся ТБО сжигают и золу-уноса используют для производства строительных материал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вижение культуры раздельного сбора мусора. Установка на территории города контейнеров для отходов из стекла, полиэтилена и бума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го и среднего бизнеса на базе комплексов по переработке (измельчению) от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илизация и промышл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, кто не хочет жить по законам людей и города – будем штрафовать. А бизнесменам даю наводку: на утилизации можно хорошенько заработ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туалетной бума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ЭТ-бутылок, пластиковой мебели для гостиничного бизнеса и дачной меб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бутылок для                            газированных напи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гуму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бумажных от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отходов пла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отходов из сте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пищевых от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шиеся ТБО сжигают и золу-уноса используют для производства строительных матери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е хозяйство должно не только обеспечивать жителей едой, но и дать толчок внедрению новых технологий в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оводств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для нужд города (свиноводство, овцеводство, птицеводство и т.д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навоза, в качестве удобрений и как сырья для производства биогаз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ующая переработка биогаза  для производства тепловой и электрической энергии, в том числе и для собственных нужд с/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ениеводств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для нужд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щивание лекарственных растений для кластера нутрицевт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ечные хозяй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е хозяйство должно не только обеспечивать жителей едой, но и дать толчок внедрению новых технологий в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овод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для нужд города (свиноводство, овцеводство, птицеводство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навоза, в качестве удобрений и как сырья для производства биог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ующая переработка биогаза  для производства тепловой и электрической энергии, в том числе и для собственных нужд с/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ениевод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для нужд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щивание лекарственных растений для кластера нутрицев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ечные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6AFC-A352-42B8-849E-F1023CEB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822C-834F-4D24-B4F0-3CA04257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3286-3BC5-4A36-8EFD-A04C8BB1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2FF4-6FDF-4D7A-A510-ED8B0CF0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5736-DA7F-4BED-8BC7-3AB5E261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C435-F28C-4FF6-9375-37F113F0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0239-87C4-4A4F-A1CB-139E5196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0FDA-50F0-45C2-BB1A-C4EA7194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1807-11E7-431C-AD44-21D7B4C9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D8E7-8497-469A-80C5-9C337DBD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E38F-90E4-48DC-8E84-F8FB35BC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410C-C58E-4265-82FB-B8F5856E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4A07-DA41-4F27-8DC6-504E6C247B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1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НАш город"/>
          <p:cNvPicPr/>
          <p:nvPr/>
        </p:nvPicPr>
        <p:blipFill>
          <a:blip r:embed="rId1"/>
          <a:stretch/>
        </p:blipFill>
        <p:spPr>
          <a:xfrm>
            <a:off x="23760" y="60480"/>
            <a:ext cx="5513400" cy="5770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4859280" y="5616720"/>
            <a:ext cx="792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4788000" y="4044960"/>
            <a:ext cx="4176720" cy="2428920"/>
          </a:xfrm>
          <a:prstGeom prst="roundRect">
            <a:avLst>
              <a:gd name="adj" fmla="val 16667"/>
            </a:avLst>
          </a:prstGeom>
          <a:solidFill>
            <a:srgbClr val="ffcc00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364000" y="497376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500720" y="687240"/>
            <a:ext cx="452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НЕРГОСБЕРЕЖЕНИЕ –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ЛЮЧ К ИНВЕСТИЦИОННО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ВЛЕКАТЕЛЬНОСТИ ГОР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0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395280" y="141300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нтересный факт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России отопительный период длится в среднем 6-7 месяцев в году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250920" y="2418840"/>
            <a:ext cx="8713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Теплоэлектроцентраль на базе ПГУ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- комбинированная выработка тепла и электричеств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 эксплуатации ТЭЦ доля потерь электроэнергии и тепла на собственные нужды достигает 15%, а иногда и боле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964440" y="4337640"/>
            <a:ext cx="730692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роприятия, направленные на повышения энергосбережения и энергоэффектив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634680" y="4877280"/>
            <a:ext cx="218340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жимные меро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5767920" y="4877280"/>
            <a:ext cx="278964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конструкция и модерн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16"/>
          <p:cNvSpPr/>
          <p:nvPr/>
        </p:nvSpPr>
        <p:spPr>
          <a:xfrm flipV="1" rot="10800000">
            <a:off x="169920" y="5546880"/>
            <a:ext cx="1665360" cy="1006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птимизация состава работающего оборуд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2195640" y="5689800"/>
            <a:ext cx="2663640" cy="733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птимальное перераспределение нагрузок между источник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5292720" y="5525280"/>
            <a:ext cx="1512720" cy="1006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мена морально и физически устаревшего оборуд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6948360" y="5525280"/>
            <a:ext cx="2014560" cy="1006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менение новых технологий и материалов на существующем оборудов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1042920" y="5157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21"/>
          <p:cNvSpPr/>
          <p:nvPr/>
        </p:nvSpPr>
        <p:spPr>
          <a:xfrm>
            <a:off x="2700360" y="5157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22"/>
          <p:cNvSpPr/>
          <p:nvPr/>
        </p:nvSpPr>
        <p:spPr>
          <a:xfrm>
            <a:off x="6227640" y="5157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23"/>
          <p:cNvSpPr/>
          <p:nvPr/>
        </p:nvSpPr>
        <p:spPr>
          <a:xfrm>
            <a:off x="7956720" y="5157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Line 24"/>
          <p:cNvSpPr/>
          <p:nvPr/>
        </p:nvSpPr>
        <p:spPr>
          <a:xfrm>
            <a:off x="176364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25"/>
          <p:cNvSpPr/>
          <p:nvPr/>
        </p:nvSpPr>
        <p:spPr>
          <a:xfrm>
            <a:off x="738036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26"/>
          <p:cNvSpPr/>
          <p:nvPr/>
        </p:nvSpPr>
        <p:spPr>
          <a:xfrm>
            <a:off x="611280" y="3895560"/>
            <a:ext cx="7993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Классификация основных мероприятий, направленных на повышение энергосбережения и энергоэффективности на ТЭЦ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395280" y="1484280"/>
            <a:ext cx="756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азификация угля для снабжения нашей ТЭЦ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403280" y="115920"/>
            <a:ext cx="590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мышленность и энергоснаб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10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11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250920" y="2274840"/>
            <a:ext cx="8893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овая ресурсосберегающая технология освоения угольных месторождений заключается в совмещении в единое целое двух известных технологий – подземной газификации угля и технологии добычи метана из угольных пластов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13" descr="Схема добычи метана"/>
          <p:cNvPicPr/>
          <p:nvPr/>
        </p:nvPicPr>
        <p:blipFill>
          <a:blip r:embed="rId4"/>
          <a:srcRect l="0" t="0" r="0" b="11232"/>
          <a:stretch/>
        </p:blipFill>
        <p:spPr>
          <a:xfrm>
            <a:off x="4067280" y="3046320"/>
            <a:ext cx="4752720" cy="34466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229" name="Rectangle 14"/>
          <p:cNvSpPr/>
          <p:nvPr/>
        </p:nvSpPr>
        <p:spPr>
          <a:xfrm>
            <a:off x="250920" y="3426840"/>
            <a:ext cx="3600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се технологические операции производятся с поверхности земли, без применения подземного труда работников.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322200" y="4656960"/>
            <a:ext cx="3673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еимущест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изкая себестоимость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кологичная технология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еспечение эффекта «газосбережения»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10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395280" y="1413000"/>
            <a:ext cx="698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блюдение режима, несомненно, очень важно! Как для людей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ак и для предприятия в целом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375480" y="2059920"/>
            <a:ext cx="25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Режимные мероприят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181080" y="2416320"/>
            <a:ext cx="51116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«Оптимизация состава работающего оборудования источника»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птимальное распределение тепловой нагрузки между турбоагрегатами источник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ффект: снижение затрат на топливо  в среднем до 1% или 10 млн. руб/г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«Оптимальное перераспределение нагрузок между источниками»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крытие неэффективно эксплуатируемых индивидуальных источников в зоне действия ТЭЦ с переводом тепловой нагрузки потребителей на ТЭЦ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ффект: повышение коэффициента использования установленной тепловой мощности ТЭЦ и увеличение комбинированной выработки электрической энерг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14" descr="teplovayaen2"/>
          <p:cNvPicPr/>
          <p:nvPr/>
        </p:nvPicPr>
        <p:blipFill>
          <a:blip r:embed="rId4"/>
          <a:stretch/>
        </p:blipFill>
        <p:spPr>
          <a:xfrm>
            <a:off x="5580000" y="2349360"/>
            <a:ext cx="3225960" cy="42944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10"/>
          <p:cNvSpPr/>
          <p:nvPr/>
        </p:nvSpPr>
        <p:spPr>
          <a:xfrm>
            <a:off x="179280" y="1268280"/>
            <a:ext cx="7848720" cy="576360"/>
          </a:xfrm>
          <a:prstGeom prst="wedgeRoundRectCallout">
            <a:avLst>
              <a:gd name="adj1" fmla="val 53560"/>
              <a:gd name="adj2" fmla="val 39532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755640" y="141300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энергетике размер не имеет значения…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518760" y="189900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Мини-ТЭ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79280" y="2172960"/>
            <a:ext cx="87138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мини-ТЭЦ в местах отсутствия сетей коммунальной инфраструктуры. При этом сбросное тепло первичного двигателя (газовой турбины или поршневого двигателя) используется для нужд отопления и горячего водоснабжения (ГВС) локальных потребителей тепл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14" descr="kgu"/>
          <p:cNvPicPr/>
          <p:nvPr/>
        </p:nvPicPr>
        <p:blipFill>
          <a:blip r:embed="rId4"/>
          <a:stretch/>
        </p:blipFill>
        <p:spPr>
          <a:xfrm>
            <a:off x="4572000" y="3357720"/>
            <a:ext cx="4356000" cy="29606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5"/>
          <p:cNvSpPr/>
          <p:nvPr/>
        </p:nvSpPr>
        <p:spPr>
          <a:xfrm>
            <a:off x="179280" y="5124960"/>
            <a:ext cx="44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16"/>
          <p:cNvSpPr/>
          <p:nvPr/>
        </p:nvSpPr>
        <p:spPr>
          <a:xfrm>
            <a:off x="216000" y="3429000"/>
            <a:ext cx="4356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бросное тепло модулей мини-ТЭЦ используется в абсорбционных тепловых насосах для получения холод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еимуществ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. Снижение себестоимости продукции из-за отсутствия затрат на ремонт и обслуживание сетей коммунальной инфраструктур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. Централизованное тепло-, электроснабжение и кондиционирование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. Дополнительная экономия электроэнергии вследствие подключения к мини-ТЭЦ системы общедомового кондиционирова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10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755640" y="148428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да дает нам жизнь и энергию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33480" y="2256120"/>
            <a:ext cx="40338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Малые ГЭС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нергообеспечение небольших отдельных объектов в горах, удаленных от территории основных городских посел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крытие дополнительных нагрузок, возникающих преимущественно в летний период вследствие притока турист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варийный резерв мощности для снабжения объектов социальной сферы, в случае аварий на основном источнике (ТЭЦ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актически полное отсутствие потерь энергоносителя, и как следствие снижение тарифа для потребител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производства, в т.ч. строительство заводов в близлежащих города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13" descr="малая ГЭС"/>
          <p:cNvPicPr/>
          <p:nvPr/>
        </p:nvPicPr>
        <p:blipFill>
          <a:blip r:embed="rId4"/>
          <a:stretch/>
        </p:blipFill>
        <p:spPr>
          <a:xfrm>
            <a:off x="3995640" y="2757600"/>
            <a:ext cx="4932360" cy="369576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3527280" cy="20894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4" descr="горы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солнце"/>
          <p:cNvPicPr/>
          <p:nvPr/>
        </p:nvPicPr>
        <p:blipFill>
          <a:blip r:embed="rId3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6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1692360" y="260280"/>
            <a:ext cx="52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льтернативная энергет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10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11"/>
          <p:cNvSpPr/>
          <p:nvPr/>
        </p:nvSpPr>
        <p:spPr>
          <a:xfrm>
            <a:off x="179280" y="1268280"/>
            <a:ext cx="7777440" cy="865440"/>
          </a:xfrm>
          <a:prstGeom prst="wedgeRoundRectCallout">
            <a:avLst>
              <a:gd name="adj1" fmla="val 54509"/>
              <a:gd name="adj2" fmla="val 9634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395280" y="1484280"/>
            <a:ext cx="81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 долю альтернативных источников в энергосистеме Нашего города  приходится не более 15% мощно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4067280" y="5734080"/>
            <a:ext cx="8650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5076720" y="2347920"/>
            <a:ext cx="338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ибридные системы, состоящие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з ветрогенератора и фотоэлектрических моду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411840" y="6165000"/>
            <a:ext cx="37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Схема комбинированной системы теплоснаб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16" descr=""/>
          <p:cNvPicPr/>
          <p:nvPr/>
        </p:nvPicPr>
        <p:blipFill>
          <a:blip r:embed="rId5"/>
          <a:stretch/>
        </p:blipFill>
        <p:spPr>
          <a:xfrm>
            <a:off x="4414680" y="3068640"/>
            <a:ext cx="4729320" cy="29512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7"/>
          <p:cNvSpPr/>
          <p:nvPr/>
        </p:nvSpPr>
        <p:spPr>
          <a:xfrm>
            <a:off x="5359680" y="6237360"/>
            <a:ext cx="281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Блок-схема гибридной энергосистем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395280" y="2349360"/>
            <a:ext cx="396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ля энергоснабжения отдельных домов, зданий и сооружений применяются комбинированные системы, состоящ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з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епловых насосов и солнечных коллектор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1692360" y="311040"/>
            <a:ext cx="7200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етевое хозяйство и связ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0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10"/>
          <p:cNvSpPr/>
          <p:nvPr/>
        </p:nvSpPr>
        <p:spPr>
          <a:xfrm>
            <a:off x="179280" y="1268280"/>
            <a:ext cx="7777440" cy="865440"/>
          </a:xfrm>
          <a:prstGeom prst="wedgeRoundRectCallout">
            <a:avLst>
              <a:gd name="adj1" fmla="val 54509"/>
              <a:gd name="adj2" fmla="val 9634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395280" y="147168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м просто необходимо связать нашу генерацию и потребителей! И этой связью будет умная электрическая се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Рисунок 7" descr="SmartGridGraphicwithlogo111.JPG"/>
          <p:cNvPicPr/>
          <p:nvPr/>
        </p:nvPicPr>
        <p:blipFill>
          <a:blip r:embed="rId4"/>
          <a:stretch/>
        </p:blipFill>
        <p:spPr>
          <a:xfrm>
            <a:off x="2556000" y="3571920"/>
            <a:ext cx="3827160" cy="2809800"/>
          </a:xfrm>
          <a:prstGeom prst="rect">
            <a:avLst/>
          </a:prstGeom>
          <a:ln w="0">
            <a:noFill/>
          </a:ln>
        </p:spPr>
      </p:pic>
      <p:sp>
        <p:nvSpPr>
          <p:cNvPr id="304" name="Скругленная прямоугольная выноска 11"/>
          <p:cNvSpPr/>
          <p:nvPr/>
        </p:nvSpPr>
        <p:spPr>
          <a:xfrm>
            <a:off x="324000" y="3716280"/>
            <a:ext cx="2004840" cy="1297080"/>
          </a:xfrm>
          <a:prstGeom prst="wedgeRoundRectCallout">
            <a:avLst>
              <a:gd name="adj1" fmla="val 109305"/>
              <a:gd name="adj2" fmla="val -8384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енерация и альтернативные источни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Скругленная прямоугольная выноска 12"/>
          <p:cNvSpPr/>
          <p:nvPr/>
        </p:nvSpPr>
        <p:spPr>
          <a:xfrm>
            <a:off x="395280" y="5300640"/>
            <a:ext cx="1433520" cy="717480"/>
          </a:xfrm>
          <a:prstGeom prst="wedgeRoundRectCallout">
            <a:avLst>
              <a:gd name="adj1" fmla="val 107143"/>
              <a:gd name="adj2" fmla="val -70134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Жилые дом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Скругленная прямоугольная выноска 13"/>
          <p:cNvSpPr/>
          <p:nvPr/>
        </p:nvSpPr>
        <p:spPr>
          <a:xfrm>
            <a:off x="6659640" y="6093000"/>
            <a:ext cx="1251000" cy="601560"/>
          </a:xfrm>
          <a:prstGeom prst="wedgeRoundRectCallout">
            <a:avLst>
              <a:gd name="adj1" fmla="val -89976"/>
              <a:gd name="adj2" fmla="val -163986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фисы и зда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Скругленная прямоугольная выноска 14"/>
          <p:cNvSpPr/>
          <p:nvPr/>
        </p:nvSpPr>
        <p:spPr>
          <a:xfrm>
            <a:off x="1908000" y="6021360"/>
            <a:ext cx="1224000" cy="576360"/>
          </a:xfrm>
          <a:prstGeom prst="wedgeRoundRectCallout">
            <a:avLst>
              <a:gd name="adj1" fmla="val 123541"/>
              <a:gd name="adj2" fmla="val -78097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Заводы и фабри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Скругленная прямоугольная выноска 15"/>
          <p:cNvSpPr/>
          <p:nvPr/>
        </p:nvSpPr>
        <p:spPr>
          <a:xfrm>
            <a:off x="7093080" y="3573360"/>
            <a:ext cx="1655640" cy="2376720"/>
          </a:xfrm>
          <a:prstGeom prst="wedgeRoundRectCallout">
            <a:avLst>
              <a:gd name="adj1" fmla="val -141944"/>
              <a:gd name="adj2" fmla="val -26421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Умная сеть связывает  и активно управляет всеми типами генерации и электроснабжением потребите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Скругленный прямоугольник 16"/>
          <p:cNvSpPr/>
          <p:nvPr/>
        </p:nvSpPr>
        <p:spPr>
          <a:xfrm>
            <a:off x="3708360" y="4541760"/>
            <a:ext cx="1405080" cy="471600"/>
          </a:xfrm>
          <a:prstGeom prst="roundRect">
            <a:avLst>
              <a:gd name="adj" fmla="val 16667"/>
            </a:avLst>
          </a:prstGeom>
          <a:solidFill>
            <a:srgbClr val="ffc000">
              <a:alpha val="6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Центр управл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19"/>
          <p:cNvSpPr/>
          <p:nvPr/>
        </p:nvSpPr>
        <p:spPr>
          <a:xfrm>
            <a:off x="395280" y="2133720"/>
            <a:ext cx="8748720" cy="17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здание единой системы диспетчерского контроля и мониторинга всех энергоресурсов (электроэнергия, тепло и вода) по всей цепочке «источник – сеть – потребитель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е виды генерации взаимодействуют с системой через энергоприсоединенные сети и участвуют в обеспечении регулирования качества поставляемой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юбые типы потребителей (включая домашние хозяйства) принимают участие в регулировании качества и надежности энергосист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10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539640" y="1484280"/>
            <a:ext cx="813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кономия должна быть экономной. И энергетика не исключение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324000" y="2276640"/>
            <a:ext cx="864072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Основные режимные мероприятия по энергосбережению и повышению энергоэффективности на участке «тепловая сеть – потребитель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ереход на количественный метод отпуска тепл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ереход от ЦТП к использованию автоматизированных ИТП в каждом здании с количественно-качественным регулированием потребления тепла в зависимости от температуры наружного воздух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соединение потребителей по независимой схеме через теплообменни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нение современной тепловой изоляции и трубопроводов высокой заводской готовности с системой ОДК для отопления и использование пластиковых труб для горячего водоснабж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еимущест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окращение капительных, эксплуатационных и ремонтных затрат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Экономия энергоресурсов за счет оптимальных температурных условий в помещениях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окращение потерь тепловой энергии в трубопроводах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Возможность применения пластиковых труб на обратных трубопроводах систем отоплен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нижение тарифов для конечного потребител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Picture 10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335" name="AutoShape 12"/>
          <p:cNvSpPr/>
          <p:nvPr/>
        </p:nvSpPr>
        <p:spPr>
          <a:xfrm>
            <a:off x="179280" y="134136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395280" y="1403280"/>
            <a:ext cx="698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ажно обеспечить надёжную и эффективную передачу электроэнергии потребителям! Бесперебойность электропитания – важный фактор для производств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16"/>
          <p:cNvSpPr/>
          <p:nvPr/>
        </p:nvSpPr>
        <p:spPr>
          <a:xfrm>
            <a:off x="395280" y="2430720"/>
            <a:ext cx="59770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величение надёжности в распределительных сетях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замкнутых сетей с установкой реклоузеров для вывода в ремонт участков без отключения  потребителе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ЛЭП с применением кабельных линий и самонесущих изолированных проводов.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величение эффективност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АСКУЭ для точной оценки потребляемой мощности и эффектом от проводимых мероприят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БСК с телеуправлением и Автоматических Устройств Компенсации реактивной мощности на КТП потребителей выключателями ячеек на распределительных подстанци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еимущества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нижение потерь, связанных с передачей реактивной энергии, до 95%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4"/>
          <a:stretch/>
        </p:blipFill>
        <p:spPr>
          <a:xfrm>
            <a:off x="6443640" y="2565360"/>
            <a:ext cx="2487600" cy="1895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2"/>
          <p:cNvPicPr/>
          <p:nvPr/>
        </p:nvPicPr>
        <p:blipFill>
          <a:blip r:embed="rId5"/>
          <a:stretch/>
        </p:blipFill>
        <p:spPr>
          <a:xfrm>
            <a:off x="6804000" y="4508640"/>
            <a:ext cx="1819440" cy="216360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1619280" y="189000"/>
            <a:ext cx="34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вяз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Picture 8" descr="БС"/>
          <p:cNvPicPr/>
          <p:nvPr/>
        </p:nvPicPr>
        <p:blipFill>
          <a:blip r:embed="rId3"/>
          <a:stretch/>
        </p:blipFill>
        <p:spPr>
          <a:xfrm>
            <a:off x="324000" y="2276640"/>
            <a:ext cx="3220920" cy="429228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348" name="Rectangle 9"/>
          <p:cNvSpPr/>
          <p:nvPr/>
        </p:nvSpPr>
        <p:spPr>
          <a:xfrm>
            <a:off x="4067280" y="2432160"/>
            <a:ext cx="4537080" cy="38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вязь с внешним миром осуществляется через геостационарный спутни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становка в горах базовых станций сотовых операторов, работающих от солнечных батарей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кращение размеров и площадей установок солнечных батарей за счет применения батарей ориентированных в пространств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орудование домов цифровым телевидением и телевидением 3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в городе сетей 4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0" name="Picture 11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12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4067280" y="4292640"/>
            <a:ext cx="453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611280" y="1484280"/>
            <a:ext cx="770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егородцы любят поговорить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50920" y="1197000"/>
            <a:ext cx="74372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нципы «Пять Э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нергоэффектив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ффективный обмен ресурсам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кономич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кономическая выгод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кологично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8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0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1763640" y="189000"/>
            <a:ext cx="30956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цеп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5538960" y="4508640"/>
            <a:ext cx="3605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 – город будущего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 – город новых технологий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 – идеальный город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 – может стать твоим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179280" y="1413000"/>
            <a:ext cx="5472360" cy="1655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Picture 23" descr="мэр молодой"/>
          <p:cNvPicPr/>
          <p:nvPr/>
        </p:nvPicPr>
        <p:blipFill>
          <a:blip r:embed="rId3"/>
          <a:stretch/>
        </p:blipFill>
        <p:spPr>
          <a:xfrm>
            <a:off x="7740720" y="1341360"/>
            <a:ext cx="1189080" cy="16858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5"/>
          <p:cNvSpPr/>
          <p:nvPr/>
        </p:nvSpPr>
        <p:spPr>
          <a:xfrm flipV="1">
            <a:off x="5796000" y="1341360"/>
            <a:ext cx="1152360" cy="720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27" descr="жители нашего города"/>
          <p:cNvPicPr/>
          <p:nvPr/>
        </p:nvPicPr>
        <p:blipFill>
          <a:blip r:embed="rId4"/>
          <a:stretch/>
        </p:blipFill>
        <p:spPr>
          <a:xfrm>
            <a:off x="324000" y="3716280"/>
            <a:ext cx="4524120" cy="28209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9"/>
          <p:cNvSpPr/>
          <p:nvPr/>
        </p:nvSpPr>
        <p:spPr>
          <a:xfrm>
            <a:off x="1121760" y="61657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тели Нашего город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30"/>
          <p:cNvSpPr/>
          <p:nvPr/>
        </p:nvSpPr>
        <p:spPr>
          <a:xfrm>
            <a:off x="5724360" y="342900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эр Нашего город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AutoShape 34"/>
          <p:cNvSpPr/>
          <p:nvPr/>
        </p:nvSpPr>
        <p:spPr>
          <a:xfrm>
            <a:off x="1979640" y="5661000"/>
            <a:ext cx="792000" cy="504720"/>
          </a:xfrm>
          <a:prstGeom prst="up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AutoShape 40"/>
          <p:cNvSpPr/>
          <p:nvPr/>
        </p:nvSpPr>
        <p:spPr>
          <a:xfrm flipV="1">
            <a:off x="5435640" y="4508640"/>
            <a:ext cx="3600360" cy="1512720"/>
          </a:xfrm>
          <a:prstGeom prst="wedgeRoundRectCallout">
            <a:avLst>
              <a:gd name="adj1" fmla="val -67240"/>
              <a:gd name="adj2" fmla="val 54194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AutoShape 44"/>
          <p:cNvSpPr/>
          <p:nvPr/>
        </p:nvSpPr>
        <p:spPr>
          <a:xfrm flipV="1">
            <a:off x="7020000" y="1773360"/>
            <a:ext cx="504720" cy="792000"/>
          </a:xfrm>
          <a:prstGeom prst="wedgeRoundRectCallout">
            <a:avLst>
              <a:gd name="adj1" fmla="val 103458"/>
              <a:gd name="adj2" fmla="val -30564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AutoShape 45"/>
          <p:cNvSpPr/>
          <p:nvPr/>
        </p:nvSpPr>
        <p:spPr>
          <a:xfrm rot="2538000">
            <a:off x="7308360" y="2924280"/>
            <a:ext cx="792360" cy="504720"/>
          </a:xfrm>
          <a:prstGeom prst="up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6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1619280" y="189000"/>
            <a:ext cx="34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ранспор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324000" y="1398600"/>
            <a:ext cx="770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ак говорил господин Печкин:  «Это почему я такой злой был? Потому что у меня раньше велосипеда не было!» :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250920" y="2131920"/>
            <a:ext cx="88930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шегородцы сами выбирают на чем именно им ездить. Главное, чтобы это было экологичн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велосипедного направления, как средства передвижения для туристов и молодежи. Внедрение электро-велотраспорта. Строительство велопарковок и велодорожек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утри города отдается преимущество городскому транспорту с электродвигателями с потенциальным переходом на водородный транспорт. Оборудование дорог индукционными полосами для бесконтактной подзарядки электромобилей. Применение электромобилей с аккумуляторными блоками конденсаторного типа и возможностью быстрой подзарядк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0" descr="маленькая машинка"/>
          <p:cNvPicPr/>
          <p:nvPr/>
        </p:nvPicPr>
        <p:blipFill>
          <a:blip r:embed="rId3"/>
          <a:stretch/>
        </p:blipFill>
        <p:spPr>
          <a:xfrm>
            <a:off x="5364000" y="4437000"/>
            <a:ext cx="3311640" cy="20797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364" name="Text Box 11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12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13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324000" y="4508640"/>
            <a:ext cx="4752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малолитражного транспорта и гибридных автомобилей, работающих на биотлоплив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светофоров, оборудованных интеллектуальным регулированием пропускной способности автодорог с учетом плотности движения. Питание осуществляется от солнечных батарей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1692360" y="189000"/>
            <a:ext cx="324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фраструкту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468360" y="1539720"/>
            <a:ext cx="60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России 2 беды… Разберемся и с дорогам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250920" y="2205000"/>
            <a:ext cx="496872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Создание новых путей сообщения города с «внешним миром» для расширения экспорта и импорта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судоход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ланируется строительство туннел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Развитие внутренней транспортной инфра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ля борьбы с запыленностью в целях достижения санитарной чистоты, необходимой для развития научного городка и фармацевтики в Нашем городе, производится «заливка» дорожными покрытиями всех открытых участков земли (создание площадей, новых улиц), а так же создание «зеленых зон» (парков, скверов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орудование автоматических компактных парковок (принцип хранения автомобилей в специальных ячейках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11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12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0" name="Picture 13" descr="дорога"/>
          <p:cNvPicPr/>
          <p:nvPr/>
        </p:nvPicPr>
        <p:blipFill>
          <a:blip r:embed="rId4"/>
          <a:stretch/>
        </p:blipFill>
        <p:spPr>
          <a:xfrm>
            <a:off x="5580000" y="2349360"/>
            <a:ext cx="2865600" cy="43484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1692360" y="189000"/>
            <a:ext cx="324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фраструкту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468360" y="1539720"/>
            <a:ext cx="60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России 2 беды… Разберемся и с дорогам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Text Box 11"/>
          <p:cNvSpPr/>
          <p:nvPr/>
        </p:nvSpPr>
        <p:spPr>
          <a:xfrm>
            <a:off x="324000" y="4221000"/>
            <a:ext cx="828036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Качество дорог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резиновой крошки при покрытии пешеходных зон и переездов через ж/д и трамвайные пути. Применение крошки для оборудование детских площадок (комфорт малышей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имущества: предотвращение наледи, повышенная износостойкость, эстетическая красо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ниторинг состояния дорожного покрытия для обеспечения благоприятных условий развитию альтернативных видов транспор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1" name="Picture 15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17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Text Box 19"/>
          <p:cNvSpPr/>
          <p:nvPr/>
        </p:nvSpPr>
        <p:spPr>
          <a:xfrm>
            <a:off x="324000" y="2460600"/>
            <a:ext cx="88200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Освещение улиц и дорог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автономных фотоэлектрических систем наружного освещ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датчиков движения на трассах для автоматического освещения и экономии энерг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1547640" y="260280"/>
            <a:ext cx="460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да и канализ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2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10"/>
          <p:cNvSpPr/>
          <p:nvPr/>
        </p:nvSpPr>
        <p:spPr>
          <a:xfrm>
            <a:off x="539640" y="1539720"/>
            <a:ext cx="813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истота – залог здоровья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4" name="Picture 11" descr="вода из крана"/>
          <p:cNvPicPr/>
          <p:nvPr/>
        </p:nvPicPr>
        <p:blipFill>
          <a:blip r:embed="rId4"/>
          <a:stretch/>
        </p:blipFill>
        <p:spPr>
          <a:xfrm>
            <a:off x="6769080" y="2111400"/>
            <a:ext cx="2374920" cy="232560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12"/>
          <p:cNvSpPr/>
          <p:nvPr/>
        </p:nvSpPr>
        <p:spPr>
          <a:xfrm>
            <a:off x="324000" y="2460600"/>
            <a:ext cx="87138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Строительство станции сверхглубокой очистки сточных вод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иологическая очистка сточных вод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нижение капитальных затрат на 40-5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кращение энергозатрат до 4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нение высокотехнологичного коагулянта для очистки сточных в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ля высокой степени очистки в промышленном водоснабжении применяются методы дополнительной обработки (сорбция, ионообмен, гиперфильтрация и др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очищенных сточных вод для орошения сельскохозяйственных земель (в  т.ч. в качестве удобрений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садок сточных вод сбраживается для получения биогаза. Полученный биогаз применяется для собственных нужд мини-ТЭЦ, обслуживающей станци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AutoShape 13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Line 2"/>
          <p:cNvSpPr/>
          <p:nvPr/>
        </p:nvSpPr>
        <p:spPr>
          <a:xfrm flipV="1">
            <a:off x="6300720" y="2781360"/>
            <a:ext cx="0" cy="244800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0" name="Picture 4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6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1547640" y="260280"/>
            <a:ext cx="460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да и канализ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6" name="Picture 10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11"/>
          <p:cNvSpPr/>
          <p:nvPr/>
        </p:nvSpPr>
        <p:spPr>
          <a:xfrm>
            <a:off x="682560" y="153972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Хочешь в туалет – помой руки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AutoShape 12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250920" y="2522520"/>
            <a:ext cx="4249800" cy="34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Развитие вторичного использования воды и экономии ресурсов в жилых помещения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снащение всех кранов и душевых датчиками движения (снижение водопотребления до 190-200 л/сутк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едрение механизмов применения воды, уходящей в слив в ванной комнате, для смыва в уборных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0" name="Picture 14" descr="унитаз"/>
          <p:cNvPicPr/>
          <p:nvPr/>
        </p:nvPicPr>
        <p:blipFill>
          <a:blip r:embed="rId4"/>
          <a:stretch/>
        </p:blipFill>
        <p:spPr>
          <a:xfrm>
            <a:off x="7308720" y="4437000"/>
            <a:ext cx="1535400" cy="2205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5" descr="бачок"/>
          <p:cNvPicPr/>
          <p:nvPr/>
        </p:nvPicPr>
        <p:blipFill>
          <a:blip r:embed="rId5"/>
          <a:stretch/>
        </p:blipFill>
        <p:spPr>
          <a:xfrm>
            <a:off x="6948360" y="2276640"/>
            <a:ext cx="1255680" cy="1477800"/>
          </a:xfrm>
          <a:prstGeom prst="rect">
            <a:avLst/>
          </a:prstGeom>
          <a:ln w="0">
            <a:noFill/>
          </a:ln>
        </p:spPr>
      </p:pic>
      <p:sp>
        <p:nvSpPr>
          <p:cNvPr id="422" name="Line 16"/>
          <p:cNvSpPr/>
          <p:nvPr/>
        </p:nvSpPr>
        <p:spPr>
          <a:xfrm>
            <a:off x="5651640" y="5229360"/>
            <a:ext cx="649080" cy="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Line 17"/>
          <p:cNvSpPr/>
          <p:nvPr/>
        </p:nvSpPr>
        <p:spPr>
          <a:xfrm>
            <a:off x="6300720" y="2781360"/>
            <a:ext cx="863640" cy="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Line 18"/>
          <p:cNvSpPr/>
          <p:nvPr/>
        </p:nvSpPr>
        <p:spPr>
          <a:xfrm>
            <a:off x="7667640" y="3573360"/>
            <a:ext cx="0" cy="93528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6300720" y="5229360"/>
            <a:ext cx="0" cy="136836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Text Box 20"/>
          <p:cNvSpPr/>
          <p:nvPr/>
        </p:nvSpPr>
        <p:spPr>
          <a:xfrm>
            <a:off x="5651640" y="6583320"/>
            <a:ext cx="136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Verdana"/>
              </a:rPr>
              <a:t>канал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21"/>
          <p:cNvSpPr/>
          <p:nvPr/>
        </p:nvSpPr>
        <p:spPr>
          <a:xfrm>
            <a:off x="4653360" y="5088600"/>
            <a:ext cx="955080" cy="276480"/>
          </a:xfrm>
          <a:prstGeom prst="rect">
            <a:avLst/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Verdana"/>
              </a:rPr>
              <a:t>ракови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3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5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9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8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1619280" y="260280"/>
            <a:ext cx="34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оитель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12"/>
          <p:cNvSpPr/>
          <p:nvPr/>
        </p:nvSpPr>
        <p:spPr>
          <a:xfrm>
            <a:off x="250920" y="2395800"/>
            <a:ext cx="8281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новых жилых кварталов с многоэтажными домами с одновременной ликвидацией «ветхого» жилья и реконструкция существующих зданий и сооружений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ектирование жилых домов и их строительство должно вестись в строгом соответствии с ФЗ №261 «Об энергосбережении» и с использованием новых технолог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 строительстве применяется заливка слоя утеплителя наружных стен здания (например, пенополистерол – теплоотражающий экран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 Box 1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7" name="Picture 15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17"/>
          <p:cNvSpPr/>
          <p:nvPr/>
        </p:nvSpPr>
        <p:spPr>
          <a:xfrm>
            <a:off x="179280" y="119700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Text Box 18"/>
          <p:cNvSpPr/>
          <p:nvPr/>
        </p:nvSpPr>
        <p:spPr>
          <a:xfrm>
            <a:off x="395280" y="1398600"/>
            <a:ext cx="81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ы уделяем большое внимание строительству. Ведь мы строим дома, в которых будут жить жители Нашего горо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0" name="Picture 22" descr="яркий дом"/>
          <p:cNvPicPr/>
          <p:nvPr/>
        </p:nvPicPr>
        <p:blipFill>
          <a:blip r:embed="rId4"/>
          <a:stretch/>
        </p:blipFill>
        <p:spPr>
          <a:xfrm>
            <a:off x="5292720" y="4365720"/>
            <a:ext cx="3156120" cy="23684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441" name="Text Box 25"/>
          <p:cNvSpPr/>
          <p:nvPr/>
        </p:nvSpPr>
        <p:spPr>
          <a:xfrm>
            <a:off x="324000" y="4508640"/>
            <a:ext cx="5111640" cy="18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уются герметичные теплозащитные стеклопакеты. При этом площадь остекления не должна превышать 20% от всей поверхности здания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нение окон-хамелеонов, работающих по принципу поглощения солнечной энергии в отопительный период и ее отражения – в межотопительный пери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1619280" y="260280"/>
            <a:ext cx="34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оитель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0" name="Picture 10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12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826920" y="1539720"/>
            <a:ext cx="756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 нас все по фен-шую! Точнее по нано-фен-шую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142920" y="2511720"/>
            <a:ext cx="8677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именение в домах рекуперативной системы вентиля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имой система работает по принципу подогрева входящего воздуха исходящим в специальных устройствах-рекуперативных блока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етом входящий горячий воздух охлаждается по обратному принцип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Rectangle 20"/>
          <p:cNvSpPr/>
          <p:nvPr/>
        </p:nvSpPr>
        <p:spPr>
          <a:xfrm>
            <a:off x="324000" y="4118760"/>
            <a:ext cx="860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Rectangle 21"/>
          <p:cNvSpPr/>
          <p:nvPr/>
        </p:nvSpPr>
        <p:spPr>
          <a:xfrm>
            <a:off x="108000" y="4117320"/>
            <a:ext cx="579600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Тепловизионный контрол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ракрасная съемка позволяет выявить дефекты, которые допущены в строительных сооружени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имущество: экономия тепловой энергии до 40%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6" name="Picture 22" descr="image002"/>
          <p:cNvPicPr/>
          <p:nvPr/>
        </p:nvPicPr>
        <p:blipFill>
          <a:blip r:embed="rId4"/>
          <a:stretch/>
        </p:blipFill>
        <p:spPr>
          <a:xfrm>
            <a:off x="5796000" y="4221000"/>
            <a:ext cx="3147840" cy="23292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9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1908000" y="260280"/>
            <a:ext cx="2737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 Box 8"/>
          <p:cNvSpPr/>
          <p:nvPr/>
        </p:nvSpPr>
        <p:spPr>
          <a:xfrm>
            <a:off x="395280" y="2597040"/>
            <a:ext cx="5256360" cy="41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возобновляемых источников углеводородного сырья (растениеводство, животноводство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альтернативных источников энерг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велосипедов, электромобилей, транспорта на биотоплив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нижение до минимума вредных выбросов в атмосферу ввиду использования новых технолог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овый подход к утилизаци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истая вода и в реке и в кран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ережное отношение к природ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 Box 9"/>
          <p:cNvSpPr/>
          <p:nvPr/>
        </p:nvSpPr>
        <p:spPr>
          <a:xfrm>
            <a:off x="395280" y="141300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городе со здоровой экологией живут здоровые люди и рождаются здоровые де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6" name="Picture 10" descr="экология"/>
          <p:cNvPicPr/>
          <p:nvPr/>
        </p:nvPicPr>
        <p:blipFill>
          <a:blip r:embed="rId3"/>
          <a:stretch/>
        </p:blipFill>
        <p:spPr>
          <a:xfrm>
            <a:off x="5653080" y="3386160"/>
            <a:ext cx="3240000" cy="220356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1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Picture 13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469" name="AutoShape 15"/>
          <p:cNvSpPr/>
          <p:nvPr/>
        </p:nvSpPr>
        <p:spPr>
          <a:xfrm>
            <a:off x="179280" y="12700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AutoShape 20"/>
          <p:cNvSpPr/>
          <p:nvPr/>
        </p:nvSpPr>
        <p:spPr>
          <a:xfrm>
            <a:off x="250920" y="2349360"/>
            <a:ext cx="4465440" cy="3745080"/>
          </a:xfrm>
          <a:prstGeom prst="wedgeRoundRectCallout">
            <a:avLst>
              <a:gd name="adj1" fmla="val 78509"/>
              <a:gd name="adj2" fmla="val -5106"/>
              <a:gd name="adj3" fmla="val 16667"/>
            </a:avLst>
          </a:prstGeom>
          <a:solidFill>
            <a:srgbClr val="ffcc00">
              <a:alpha val="39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Picture 4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5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6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Text Box 8"/>
          <p:cNvSpPr/>
          <p:nvPr/>
        </p:nvSpPr>
        <p:spPr>
          <a:xfrm>
            <a:off x="1908000" y="260280"/>
            <a:ext cx="2737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ите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 Box 10"/>
          <p:cNvSpPr/>
          <p:nvPr/>
        </p:nvSpPr>
        <p:spPr>
          <a:xfrm>
            <a:off x="539640" y="1471680"/>
            <a:ext cx="741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 Нашего города замечательная энергетика! Я говорю сейчас об эмоциональной составляющей! Спасибо жителям Нашего города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 Box 11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0" name="Picture 12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14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Text Box 18"/>
          <p:cNvSpPr/>
          <p:nvPr/>
        </p:nvSpPr>
        <p:spPr>
          <a:xfrm>
            <a:off x="250920" y="2813040"/>
            <a:ext cx="5184720" cy="35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ы любим Наш город и счастливы здес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ботать, учиться и ж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зобретать, жениться, друж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роду любить, на работу спеш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ататься на велике, в горы ход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 рекам сплавляться и рыбу лов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 улочкам чистым с друзьями брод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Есть эко-продукты, детишек рожа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здухом чистым полной грудью дыша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ордиться величием нашей души и тем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то мы очень и очень дружны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то мы все команда, мы все за одно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тем что мы очень любим его –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19" descr="жители нашего города"/>
          <p:cNvPicPr/>
          <p:nvPr/>
        </p:nvPicPr>
        <p:blipFill>
          <a:blip r:embed="rId4"/>
          <a:stretch/>
        </p:blipFill>
        <p:spPr>
          <a:xfrm>
            <a:off x="4716360" y="4268880"/>
            <a:ext cx="4427640" cy="2760480"/>
          </a:xfrm>
          <a:prstGeom prst="rect">
            <a:avLst/>
          </a:prstGeom>
          <a:ln w="0">
            <a:noFill/>
          </a:ln>
        </p:spPr>
      </p:pic>
      <p:sp>
        <p:nvSpPr>
          <p:cNvPr id="4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6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1908000" y="404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2" name="Picture 11" descr="мэр молодой"/>
          <p:cNvPicPr/>
          <p:nvPr/>
        </p:nvPicPr>
        <p:blipFill>
          <a:blip r:embed="rId3"/>
          <a:stretch/>
        </p:blipFill>
        <p:spPr>
          <a:xfrm>
            <a:off x="6978600" y="3789360"/>
            <a:ext cx="2165400" cy="3068640"/>
          </a:xfrm>
          <a:prstGeom prst="rect">
            <a:avLst/>
          </a:prstGeom>
          <a:ln w="0">
            <a:noFill/>
          </a:ln>
        </p:spPr>
      </p:pic>
      <p:sp>
        <p:nvSpPr>
          <p:cNvPr id="493" name="AutoShape 13"/>
          <p:cNvSpPr/>
          <p:nvPr/>
        </p:nvSpPr>
        <p:spPr>
          <a:xfrm>
            <a:off x="250920" y="1773360"/>
            <a:ext cx="6913440" cy="2663640"/>
          </a:xfrm>
          <a:prstGeom prst="wedgeRoundRectCallout">
            <a:avLst>
              <a:gd name="adj1" fmla="val 48115"/>
              <a:gd name="adj2" fmla="val 86532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971640" y="191628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просы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 Box 16"/>
          <p:cNvSpPr/>
          <p:nvPr/>
        </p:nvSpPr>
        <p:spPr>
          <a:xfrm>
            <a:off x="900000" y="3500280"/>
            <a:ext cx="5184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.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езжайте к нам отдыхать! Вам понравится! Обещаю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95280" y="2133720"/>
            <a:ext cx="5256360" cy="49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уризм – основа Нашего горо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ереоборудование части гостиничных комплексов в круглогодичные специализированные санатории и здравницы, лечение в которых основано на применении водорослей (поставка водорослей осуществляется с предприятия, выращивающего их для производства биотоплива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PA-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алоны (эко-продукты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бственные минеральные источник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здание площадок для торговли экологически-чистыми продуктам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горно-лыжного туризм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портивное рыболовств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3" descr="аква"/>
          <p:cNvPicPr/>
          <p:nvPr/>
        </p:nvPicPr>
        <p:blipFill>
          <a:blip r:embed="rId1"/>
          <a:stretch/>
        </p:blipFill>
        <p:spPr>
          <a:xfrm>
            <a:off x="6156360" y="2349360"/>
            <a:ext cx="2835360" cy="180036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75" name="Text Box 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5" descr="горы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солнце"/>
          <p:cNvPicPr/>
          <p:nvPr/>
        </p:nvPicPr>
        <p:blipFill>
          <a:blip r:embed="rId3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Line 8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908000" y="260280"/>
            <a:ext cx="2737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ур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95280" y="1557360"/>
            <a:ext cx="74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ы рады, что Наш город любим всеми: и жителями, и туристами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Picture 12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3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15" descr="Озеро"/>
          <p:cNvPicPr/>
          <p:nvPr/>
        </p:nvPicPr>
        <p:blipFill>
          <a:blip r:embed="rId5"/>
          <a:stretch/>
        </p:blipFill>
        <p:spPr>
          <a:xfrm>
            <a:off x="5651640" y="3716280"/>
            <a:ext cx="2700360" cy="20257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86" name="Picture 16" descr="рыбак"/>
          <p:cNvPicPr/>
          <p:nvPr/>
        </p:nvPicPr>
        <p:blipFill>
          <a:blip r:embed="rId6"/>
          <a:stretch/>
        </p:blipFill>
        <p:spPr>
          <a:xfrm>
            <a:off x="6300720" y="4894200"/>
            <a:ext cx="2698920" cy="18018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фармацевтика"/>
          <p:cNvPicPr/>
          <p:nvPr/>
        </p:nvPicPr>
        <p:blipFill>
          <a:blip r:embed="rId1"/>
          <a:stretch/>
        </p:blipFill>
        <p:spPr>
          <a:xfrm>
            <a:off x="0" y="3716280"/>
            <a:ext cx="3703680" cy="29638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3"/>
          <p:cNvSpPr/>
          <p:nvPr/>
        </p:nvSpPr>
        <p:spPr>
          <a:xfrm rot="16200000">
            <a:off x="3204360" y="4213800"/>
            <a:ext cx="1405080" cy="1981080"/>
          </a:xfrm>
          <a:custGeom>
            <a:avLst/>
            <a:gdLst>
              <a:gd name="textAreaLeft" fmla="*/ 68400 w 1405080"/>
              <a:gd name="textAreaRight" fmla="*/ 1336680 w 1405080"/>
              <a:gd name="textAreaTop" fmla="*/ 68400 h 1981080"/>
              <a:gd name="textAreaBottom" fmla="*/ 1912680 h 1981080"/>
            </a:gdLst>
            <a:ahLst/>
            <a:rect l="textAreaLeft" t="textAreaTop" r="textAreaRight" b="textAreaBottom"/>
            <a:pathLst>
              <a:path w="21600" h="30452">
                <a:moveTo>
                  <a:pt x="3600" y="0"/>
                </a:moveTo>
                <a:arcTo wR="3600" hR="3600" stAng="16200000" swAng="-5400000"/>
                <a:lnTo>
                  <a:pt x="0" y="26852"/>
                </a:lnTo>
                <a:arcTo wR="3600" hR="3600" stAng="10800000" swAng="-5400000"/>
                <a:lnTo>
                  <a:pt x="18000" y="304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5" descr="горы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солнце"/>
          <p:cNvPicPr/>
          <p:nvPr/>
        </p:nvPicPr>
        <p:blipFill>
          <a:blip r:embed="rId3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Line 8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395280" y="1413000"/>
            <a:ext cx="756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юбая отрасль промышленности должна носить либо сезонный характер либо характер внутреннего потребл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24000" y="2421000"/>
            <a:ext cx="86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здание в городе нутрицевтического кластер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ород с хорошей экологией (Наш Город) идеально подходит для развития нутрицевти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утрицевтический бизнес достаточно прибыльный и позволяет в виду высокой окупаемости экспорт продукции любым доступным для города путем (речной транспорт, авто- и авиаперевозки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1403280" y="189000"/>
            <a:ext cx="590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тие промышлен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AutoShape 12"/>
          <p:cNvSpPr/>
          <p:nvPr/>
        </p:nvSpPr>
        <p:spPr>
          <a:xfrm rot="17361600">
            <a:off x="5039280" y="5474160"/>
            <a:ext cx="503280" cy="574920"/>
          </a:xfrm>
          <a:prstGeom prst="downArrow">
            <a:avLst>
              <a:gd name="adj1" fmla="val 50000"/>
              <a:gd name="adj2" fmla="val 2855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AutoShape 13"/>
          <p:cNvSpPr/>
          <p:nvPr/>
        </p:nvSpPr>
        <p:spPr>
          <a:xfrm rot="15357600">
            <a:off x="5040360" y="4465800"/>
            <a:ext cx="504720" cy="574560"/>
          </a:xfrm>
          <a:prstGeom prst="downArrow">
            <a:avLst>
              <a:gd name="adj1" fmla="val 50000"/>
              <a:gd name="adj2" fmla="val 2845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5651640" y="4070520"/>
            <a:ext cx="273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ство натуральных лекарственных компонентов и препаратов для нужд города и на экспор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5651640" y="5510160"/>
            <a:ext cx="36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ство новейших лекарственных препаратов на основе исследований научных лаборатор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17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8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3132000" y="4718160"/>
            <a:ext cx="180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правления развития нутрицевтики в Нашем город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692360" y="189000"/>
            <a:ext cx="324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фраструкту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95280" y="146844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России две беды… Но мы собрали у себя лучшие умы Росс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24000" y="2133720"/>
            <a:ext cx="8569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Verdana"/>
              </a:rPr>
              <a:t>Создание научного городка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На ресурсах застойных предприятий гостиничного сектора создаются научно-исследовательские центры.  Необходимо привлечение инвестиций для переоборудования зданий гостиничных комплексов в научные центры/лаборатории, а так же привлечение научных сотрудников и ученых для работы в этих центрах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0" descr="медведев и силиконовая долинаъ"/>
          <p:cNvPicPr/>
          <p:nvPr/>
        </p:nvPicPr>
        <p:blipFill>
          <a:blip r:embed="rId3"/>
          <a:stretch/>
        </p:blipFill>
        <p:spPr>
          <a:xfrm>
            <a:off x="539640" y="4365720"/>
            <a:ext cx="3570480" cy="23191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16" name="Text Box 11"/>
          <p:cNvSpPr/>
          <p:nvPr/>
        </p:nvSpPr>
        <p:spPr>
          <a:xfrm>
            <a:off x="395280" y="3645000"/>
            <a:ext cx="453708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создание научных лабораторий по разработке лекарственных препаратов для лечения и профилактики тяжелых болезней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859280" y="3730680"/>
            <a:ext cx="403380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разработка и продажа патентных решений для бизнеса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создание научных центров по изучению и развитию альтернативной энергетики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разработка нормативно-правовой базы в сфере энергосбережения, энергоэффективных технологий и использования альтернативных источников энергии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1619280" y="3213000"/>
            <a:ext cx="1008000" cy="360360"/>
          </a:xfrm>
          <a:prstGeom prst="down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6372360" y="3213000"/>
            <a:ext cx="1079280" cy="358920"/>
          </a:xfrm>
          <a:prstGeom prst="down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16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7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4572000" y="6021360"/>
            <a:ext cx="45370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 городе создана специальная внутренняя сеть между лабораториями для оперативного обмена информацией между учеными и видеосвязи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1476360" y="115920"/>
            <a:ext cx="590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тие сельского хозяйства и промышлен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95280" y="1398600"/>
            <a:ext cx="81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Я никогда не думал, что водоросли можно выращивать вот так, как помидоры, в теплица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250920" y="2060640"/>
            <a:ext cx="8353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здание в городе предприятия  по выращиванию и переработке растений для производства биотоплива. В качестве сырья для получения биотоплива можно использовать водоросли, которые выращивают в фотобиоректора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12" descr="27-й слайд"/>
          <p:cNvPicPr/>
          <p:nvPr/>
        </p:nvPicPr>
        <p:blipFill>
          <a:blip r:embed="rId3"/>
          <a:stretch/>
        </p:blipFill>
        <p:spPr>
          <a:xfrm>
            <a:off x="395280" y="3429000"/>
            <a:ext cx="4062600" cy="27972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34" name="Text Box 13"/>
          <p:cNvSpPr/>
          <p:nvPr/>
        </p:nvSpPr>
        <p:spPr>
          <a:xfrm>
            <a:off x="4788000" y="3573360"/>
            <a:ext cx="41767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Фотобиореактор закрытого типа производит около 140 тонн сырья/г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 этом его объем 700 м. куб./ площадь 1 гектар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Фотобиореактор характеризуют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сокая производительно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сокая экологично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сокий контрол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15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17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476360" y="115920"/>
            <a:ext cx="590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тие сельского хозяйства и промышлен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95280" y="1471680"/>
            <a:ext cx="734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ы движемся в верном направлении. Сегодня мы добываем электричество из водорослей, а завтра запускаем коллайдер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324000" y="2205000"/>
            <a:ext cx="51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Производство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17" descr="мэр молодой"/>
          <p:cNvPicPr/>
          <p:nvPr/>
        </p:nvPicPr>
        <p:blipFill>
          <a:blip r:embed="rId3"/>
          <a:stretch/>
        </p:blipFill>
        <p:spPr>
          <a:xfrm>
            <a:off x="8381880" y="126828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19"/>
          <p:cNvSpPr/>
          <p:nvPr/>
        </p:nvSpPr>
        <p:spPr>
          <a:xfrm>
            <a:off x="179280" y="1268280"/>
            <a:ext cx="7705800" cy="863640"/>
          </a:xfrm>
          <a:prstGeom prst="wedgeRoundRectCallout">
            <a:avLst>
              <a:gd name="adj1" fmla="val 55481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20" descr="12-й слайд пальма"/>
          <p:cNvPicPr/>
          <p:nvPr/>
        </p:nvPicPr>
        <p:blipFill>
          <a:blip r:embed="rId4"/>
          <a:stretch/>
        </p:blipFill>
        <p:spPr>
          <a:xfrm>
            <a:off x="755640" y="3068640"/>
            <a:ext cx="1859040" cy="21114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151" name="Picture 21" descr="12-й слайд 2-я картинка"/>
          <p:cNvPicPr/>
          <p:nvPr/>
        </p:nvPicPr>
        <p:blipFill>
          <a:blip r:embed="rId5"/>
          <a:stretch/>
        </p:blipFill>
        <p:spPr>
          <a:xfrm>
            <a:off x="3635280" y="3068640"/>
            <a:ext cx="1524240" cy="21114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152" name="Picture 22" descr="12-й слайд 3-я картинка"/>
          <p:cNvPicPr/>
          <p:nvPr/>
        </p:nvPicPr>
        <p:blipFill>
          <a:blip r:embed="rId6"/>
          <a:stretch/>
        </p:blipFill>
        <p:spPr>
          <a:xfrm>
            <a:off x="6156360" y="3284640"/>
            <a:ext cx="2293920" cy="169848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53" name="AutoShape 23"/>
          <p:cNvSpPr/>
          <p:nvPr/>
        </p:nvSpPr>
        <p:spPr>
          <a:xfrm>
            <a:off x="2843280" y="3932280"/>
            <a:ext cx="503280" cy="433440"/>
          </a:xfrm>
          <a:prstGeom prst="rightArrow">
            <a:avLst>
              <a:gd name="adj1" fmla="val 50000"/>
              <a:gd name="adj2" fmla="val 2902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AutoShape 24"/>
          <p:cNvSpPr/>
          <p:nvPr/>
        </p:nvSpPr>
        <p:spPr>
          <a:xfrm>
            <a:off x="5435640" y="3860640"/>
            <a:ext cx="503280" cy="433440"/>
          </a:xfrm>
          <a:prstGeom prst="rightArrow">
            <a:avLst>
              <a:gd name="adj1" fmla="val 50000"/>
              <a:gd name="adj2" fmla="val 2902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324000" y="5445000"/>
            <a:ext cx="25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очищенное топлив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 высоким содержанием кисло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3276720" y="5445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нижение содержания кисло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156360" y="543564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работка электричества и тепл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79280" y="2133720"/>
            <a:ext cx="8713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движение культуры раздельного сбора мусора. Установка на территории города контейнеров для отходов из стекла, полиэтилена и бумаг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малого и среднего бизнеса на базе комплексов по переработке (измельчению) отход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4643280" y="3645000"/>
            <a:ext cx="4176720" cy="2736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108000" y="3860640"/>
            <a:ext cx="3384360" cy="2305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6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8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9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1692360" y="260280"/>
            <a:ext cx="5832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тилизация и промышл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179280" y="1341360"/>
            <a:ext cx="770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ех, кто не хочет жить по законам людей и города – будем штрафовать. А бизнесменам даю наводку: на утилизации можно хорошенько заработа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AutoShape 12"/>
          <p:cNvSpPr/>
          <p:nvPr/>
        </p:nvSpPr>
        <p:spPr>
          <a:xfrm>
            <a:off x="3276720" y="2708280"/>
            <a:ext cx="1657080" cy="503280"/>
          </a:xfrm>
          <a:prstGeom prst="down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5076720" y="3716280"/>
            <a:ext cx="3961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изводство туалетной бумаг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изводство ПЭТ-бутылок, пластиковой мебели для гостиничного бизнеса и дачной мебел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изводство бутылок для                            газированных напитк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изводство гумус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181080" y="4076640"/>
            <a:ext cx="325908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работка бумажных отход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работка отходов пластик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работка отходов из стекл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работка пищевых отход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3600360" y="4653000"/>
            <a:ext cx="863640" cy="934920"/>
          </a:xfrm>
          <a:prstGeom prst="right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17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18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179280" y="6367320"/>
            <a:ext cx="871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ставшиеся ТБО сжигают и золу-уноса используют для производства строительных материал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476360" y="115920"/>
            <a:ext cx="590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тие сельского хозяйства и промышлен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395280" y="1471680"/>
            <a:ext cx="73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ельское хозяйство должно не только обеспечивать жителей едой, но и дать толчок внедрению новых технологий в промышленно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250920" y="4168800"/>
            <a:ext cx="47163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Животноводств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ство продуктов для нужд города (свиноводство, овцеводство, птицеводство и т.д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навоза, в качестве удобрений и как сырья для производства биогаз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едующая переработка биогаза  для производства тепловой и электрической энергии, в том числе и для собственных нужд с/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14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15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6" descr="ферма2"/>
          <p:cNvPicPr/>
          <p:nvPr/>
        </p:nvPicPr>
        <p:blipFill>
          <a:blip r:embed="rId4"/>
          <a:stretch/>
        </p:blipFill>
        <p:spPr>
          <a:xfrm>
            <a:off x="5003640" y="2976480"/>
            <a:ext cx="3781440" cy="23972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89" name="Text Box 17"/>
          <p:cNvSpPr/>
          <p:nvPr/>
        </p:nvSpPr>
        <p:spPr>
          <a:xfrm>
            <a:off x="216000" y="2205000"/>
            <a:ext cx="41400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Растениеводств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ство продуктов для нужд горо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ращивание лекарственных растений для кластера нутрицевти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асечные хозяй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1T15:01:30Z</dcterms:created>
  <dc:creator>User1</dc:creator>
  <dc:description/>
  <dc:language>en-US</dc:language>
  <cp:lastModifiedBy>LEGION</cp:lastModifiedBy>
  <dcterms:modified xsi:type="dcterms:W3CDTF">2016-01-04T14:03:41Z</dcterms:modified>
  <cp:revision>307</cp:revision>
  <dc:subject/>
  <dc:title>Наш город</dc:title>
</cp:coreProperties>
</file>