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7ED14-00C2-4ADD-B0A7-C82CA4630D8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иональная эконом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тает д.п.н., заведующий кафедр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Региональная экономика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исецкий Евгений Леонидови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иональная эконом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итает д.п.н., заведующий кафедр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Региональная экономика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исецкий Евгений Леонидови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ные вопросы к лекции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научные дисциплины осуществляют комплексное изучение регионов стран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в период существования плановой экономики осуществлялся учет региональных особенностей размещения производительных сил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определялись предмет и объекты изучения региональной экономик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собой представляет ТПК? Почему такая форма организации хозяйства признавалась эффективно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во современное определение предмета региональной экономик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вкладывают в содержание понятия «регион»? Что собой представляют регионы-квазигосударства и регионы-квазикорпораци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научные и практические задачи решает региональная экономик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научные методы используются в региональных исследованиях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ольные вопросы к лекции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ие научные дисциплины осуществляют комплексное изучение регионов страны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в период существования плановой экономики осуществлялся учет региональных особенностей размещения производительных сил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определялись предмет и объекты изучения региональной экономик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собой представляет ТПК? Почему такая форма организации хозяйства признавалась эффективной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ово современное определение предмета региональной экономик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вкладывают в содержание понятия «регион»? Что собой представляют регионы-квазигосударства и регионы-квазикорпораци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ие научные и практические задачи решает региональная экономик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ие научные методы используются в региональных исследованиях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кция 2. Закономерности, принципы и факторы, основные теории размещения производства и регионального разви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жнейшие экономические категории региональной науки и их соотноше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ии размещения производства и пространственной организации ры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е региональных исследований в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кция 2. Закономерности, принципы и факторы, основные теории размещения производства и регионального разви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жнейшие экономические категории региональной науки и их соотноше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ории размещения производства и пространственной организации рын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региональных исследований в Росс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омерности размещения и территориальной организации хозяйст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разрывная связь между размещением производительных сил и развитием регионов (экономических районов, субъектов РФ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циональное, наиболее эффективное размещение производства, оптимизация территориальной структуры хозяйства по экономическим районам и субъектам РФ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лексное и пропорциональное развитие хозяйства экономических районов в сочетании с их рациональной рыночной специализацие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циональное территориальное разделение труда между регионами и в пределах их территори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равнивание уровней экономического и социального развития регион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ономерности размещения и территориальной организации хозяйств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разрывная связь между размещением производительных сил и развитием регионов (экономических районов, субъектов РФ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циональное, наиболее эффективное размещение производства, оптимизация территориальной структуры хозяйства по экономическим районам и субъектам РФ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плексное и пропорциональное развитие хозяйства экономических районов в сочетании с их рациональной рыночной специализацией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циональное территориальное разделение труда между регионами и в пределах их территорий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равнивание уровней экономического и социального развития регион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ы размещения производительных си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ближение производства к источникам сырья, топлива, энергии и районам потребления готовой продукци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оочередное освоение и комплексное использование наиболее эффективных видов природных ресурсов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ффективное размещение производительных сил по территории стран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здоровление экологической обстановки, принятие эффективных мер по охране природы и рациональному природопользованию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 экономических выгод межрегионального и международного разделения труда, восстановление и развитие экономических связей со станами ближнего и дальнего зарубежь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евая государственная поддержка регионов и отраслей, расположенных в зоне Крайнего Севера и приравненных к нему местностя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йствие со стороны государства малому и среднему предпринимательству, способному вывести регионы из кризисного состоя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ы размещения производительных си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ближение производства к источникам сырья, топлива, энергии и районам потребления готовой продукци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оочередное освоение и комплексное использование наиболее эффективных видов природных ресурсов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ффективное размещение производительных сил по территории стран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здоровление экологической обстановки, принятие эффективных мер по охране природы и рациональному природопользованию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ование экономических выгод межрегионального и международного разделения труда, восстановление и развитие экономических связей со станами ближнего и дальнего зарубежья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евая государственная поддержка регионов и отраслей, расположенных в зоне Крайнего Севера и приравненных к нему местностях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действие со стороны государства малому и среднему предпринимательству, способному вывести регионы из кризисного состоя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 размещения производств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регионального разви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 размещения – это совокупность пространственно неравнозначных условий и ресурсов, их свойств (оцениваемых отраслевыми технико-экономическими показателями), правильное использование которых обеспечивает наилучшие результаты при размещении производственных объектов, развитии хозяйства регионов и расселении насел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факторам размещения относят: экономико-географическое положение, сырьевой, топливный, электроэнергетический, водный, трудовой, транспортный, природных условий, потребительский, возможностей использования прогрессивных форм организации производства (специализация, кооперирование, комбинирование и другие), научный, военно-стратегический, экологическ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 размещения производств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регионального разви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 размещения – это совокупность пространственно неравнозначных условий и ресурсов, их свойств (оцениваемых отраслевыми технико-экономическими показателями), правильное использование которых обеспечивает наилучшие результаты при размещении производственных объектов, развитии хозяйства регионов и расселении населе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факторам размещения относят: экономико-географическое положение, сырьевой, топливный, электроэнергетический, водный, трудовой, транспортный, природных условий, потребительский, возможностей использования прогрессивных форм организации производства (специализация, кооперирование, комбинирование и другие), научный, военно-стратегический, экологическ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ии размещения производства и экономического районир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мецкая географическая школа – разработка теорий штандор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. Тюнен (1783-185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 Вебер (1868-1958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 Леш (1906-194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 Кристаллер (1893-1969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сийская районная шко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.И. Арсеньев (1789-186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.П. Огарев (1813-187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.П. Семенов-Тян-Шанский (1827-191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.И. Менделеев (1834-190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ории размещения производства и экономического районир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мецкая географическая школа – разработка теорий штандор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. Тюнен (1783-185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. Вебер (1868-195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. Леш (1906-194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. Кристаллер (1893-196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ссийская районная шко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.И. Арсеньев (1789-186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.П. Огарев (1813-187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.П. Семенов-Тян-Шанский (1827-191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.И. Менделеев (1834-19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оны («кольца») сельскохозяйственной специализации И. Тюне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оны («кольца») сельскохозяйственной специализации И. Тюне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рианты размещения металлургического завод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«Локационный треугольник» В. Лаунхардт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рианты размещения металлургического завод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«Локационный треугольник» В. Лаунхардт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хематическое изображ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чной зоны по модели А. Лёш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построение «конуса спроса»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рагмент теоретическ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хемы экономическ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андшафта А. Лёш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хематическое изображ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чной зоны по модели А. Лёш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построение «конуса спроса»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рагмент теоретическ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хемы экономическо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андшафта А. Лёш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рагмент схемы размещения центральных мест по модели В. Кристалле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рагмент схемы размещения центральных мест по модели В. Кристалле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комендуемая литература по дисциплине «Региональная экономик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ведение в экономическую географию и региональную экономику России: Учеб. пособие / Под общ. ред. Е.Л. Плисецкого. – М.: Гуманитар. изд. центр ВЛАДОС, 2008. - 550 с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нберг А.Г. Основы региональной экономики: Учебник. – М.: ГУ ВШЭ, 2006. – 493 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истанов В.В., Копылов Н.В. Региональная экономика России: Учебник. – М.: Финансы и статистика, 2009. – 584 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исецкий Е.Л. Коммерческая география России: Территориальная организация производства и рынка: Учеб. пособие. – М.: КНОРУС, 2007. – 216 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едеральные округа России. Региональная экономика: Учеб. пособие / Под ред. В.Г. Глушковой и Ю.А. Симагина. – М.: КНОРУС, 2009. – 352 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рнышев В.В., Глушкова В.Г. Региональная экономика. Основы теории и методы исследования: Учеб. пособие. – М.: КНОРУС, 2010. – 256 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полнитель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мография: Учеб. пособие / Под ред. В.Г. Глушковой. – М.: КНОРУС, 2010. – 304 с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исецкий Е.Л. Социально-экономическая география России: Справочное пособие. – М.: Дрофа; Изд-во ДИК, 2010. – 72 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иональная экономика: Учебник / Под ред. В.И. Видяпина, М.В. Степанова. – М.: ИНФРА-М, 2009.– 686 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иональная экономика: Учебник / Под ред. Т.Г. Морозовой. – М.: ЮНИТИ, 2008. – 512 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ионы России: Социально-экономические показатели. 2009: Стат. сб. / Росстат. – М., 2009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сийский статистический ежегодник. 2009: Стат.сб. / Росстат. – М., 2009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апкин И.Н., Блинов А.О., Кестер Я.М. Управление региональным хозяйством.– М.: КНОРУС,2009. – 400 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о-экономические проблемы России и ее регионов: Учеб. пособие / Под общей ред. В.Г. Глушковой. – М.: Московский Лицей, 2004. – 304 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комендуемая литература по дисциплине «Региональная экономик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едение в экономическую географию и региональную экономику России: Учеб. пособие / Под общ. ред. Е.Л. Плисецкого. – М.: Гуманитар. изд. центр ВЛАДОС, 2008. - 550 с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анберг А.Г. Основы региональной экономики: Учебник. – М.: ГУ ВШЭ, 2006. – 493 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истанов В.В., Копылов Н.В. Региональная экономика России: Учебник. – М.: Финансы и статистика, 2009. – 584 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исецкий Е.Л. Коммерческая география России: Территориальная организация производства и рынка: Учеб. пособие. – М.: КНОРУС, 2007. – 216 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едеральные округа России. Региональная экономика: Учеб. пособие / Под ред. В.Г. Глушковой и Ю.А. Симагина. – М.: КНОРУС, 2009. – 352 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урнышев В.В., Глушкова В.Г. Региональная экономика. Основы теории и методы исследования: Учеб. пособие. – М.: КНОРУС, 2010. – 256 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полнитель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мография: Учеб. пособие / Под ред. В.Г. Глушковой. – М.: КНОРУС, 2010. – 304 с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исецкий Е.Л. Социально-экономическая география России: Справочное пособие. – М.: Дрофа; Изд-во ДИК, 2010. – 72 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иональная экономика: Учебник / Под ред. В.И. Видяпина, М.В. Степанова. – М.: ИНФРА-М, 2009.– 686 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иональная экономика: Учебник / Под ред. Т.Г. Морозовой. – М.: ЮНИТИ, 2008. – 512 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ионы России: Социально-экономические показатели. 2009: Стат. сб. / Росстат. – М., 2009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ссийский статистический ежегодник. 2009: Стат.сб. / Росстат. – М., 2009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апкин И.Н., Блинов А.О., Кестер Я.М. Управление региональным хозяйством.– М.: КНОРУС,2009. – 400 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о-экономические проблемы России и ее регионов: Учеб. пособие / Под общей ред. В.Г. Глушковой. – М.: Московский Лицей, 2004. – 304 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границ рыночных з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оложим, что существуют два центра (город 1 и город 2), обладающие каждый обособленными рыночными зонами (М1 и М2 ) и отделённые друг от друга на расстояние Д12 (то есть на 12 км). Тогда можно определить «точку перелома» (В2), или место где товарный поток сходит на нет, в единицах расстояния от второго города по формул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остом случае, когда два города отстоят один от другого на 12 км и обладают одинаковыми по размеру рыночными зонами (М1 = М2 = 10)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едовательно, линия границы расположится на полпути между двумя центрами одинакового размера. В случае с двумя городами неравных размеров (например, М1= 20 и М2 = 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ница во втором случае переместится в сторону меньшего центра (рис. 7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е границ рыночных зо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оложим, что существуют два центра (город 1 и город 2), обладающие каждый обособленными рыночными зонами (М1 и М2 ) и отделённые друг от друга на расстояние Д12 (то есть на 12 км). Тогда можно определить «точку перелома» (В2), или место где товарный поток сходит на нет, в единицах расстояния от второго города по формул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простом случае, когда два города отстоят один от другого на 12 км и обладают одинаковыми по размеру рыночными зонами (М1 = М2 = 10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едовательно, линия границы расположится на полпути между двумя центрами одинакового размера. В случае с двумя городами неравных размеров (например, М1= 20 и М2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аница во втором случае переместится в сторону меньшего центра (рис. 7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границ между рыночными зонами центральных мест: с одинаковой (а) и с различной (б) «массой»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_____________________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Величину рыночной зоны или ее «массу» можно выразить, например, через показатель численности населения рыночного цент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е границ между рыночными зонами центральных мест: с одинаковой (а) и с различной (б) «массой»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Величину рыночной зоны или ее «массу» можно выразить, например, через показатель численности населения рыночного цент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ные вопрос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собой представляют закономерности, принципы и факторы размещения производительных сил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во значение штандортных теорий в исследовании проблем размещения производства и территориальной организации рынк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ясните, как и почему меняется характер сельскохозяйственного производства в зависимости от его положения по отношению к рынку сбыта сельскохозяйственной продукции по модели И. Тюнен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чем суть подходов к построению моделей рыночных зон, предложенных В. Лаунхардтом, А. Вебером, А. Лешем, В. Кристаллером, У. Айзардом? В чем заслуга этих ученых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какому пути пошла отечественная географическая наука в исследовании рыночного хозяйства во второй половине Х1Х – начале ХХ в.? Какие российские ученые, внесли заметный вклад в развитие теории экономического районирования до революции и в советский период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что была нацелена концепция экономического районирования в период плановой экономики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следует понимать под энергопроизводственным циклом? Каково их значение для экономического районирова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ольные вопрос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собой представляют закономерности, принципы и факторы размещения производительных сил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ово значение штандортных теорий в исследовании проблем размещения производства и территориальной организации рынк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ясните, как и почему меняется характер сельскохозяйственного производства в зависимости от его положения по отношению к рынку сбыта сельскохозяйственной продукции по модели И. Тюнен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чем суть подходов к построению моделей рыночных зон, предложенных В. Лаунхардтом, А. Вебером, А. Лешем, В. Кристаллером, У. Айзардом? В чем заслуга этих ученых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какому пути пошла отечественная географическая наука в исследовании рыночного хозяйства во второй половине Х1Х – начале ХХ в.? Какие российские ученые, внесли заметный вклад в развитие теории экономического районирования до революции и в советский период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что была нацелена концепция экономического районирования в период плановой экономики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следует понимать под энергопроизводственным циклом? Каково их значение для экономического районирования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кция 1. Предмет, задачи и методы региональной нау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чение и место региональных исследований в Советский пери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ременное определение предмета науки, ее задач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предметные связи и методы региональных исследов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кция 1. Предмет, задачи и методы региональной наук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чение и место региональных исследований в Советский пери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ременное определение предмета науки, ее задач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предметные связи и методы региональных исследов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ие районы Госплана СССР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на начало 1980-х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еские районы Госплана СССР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на начало 1980-х гг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мет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региональной эконом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иональная экономика – это область научных знаний о размещении производительных сил, экономическом районировании территории страны, социально-экономическом развитии отдельных регионов и экономических связях между ни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мет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региональн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иональная экономика – это область научных знаний о размещении производительных сил, экономическом районировании территории страны, социально-экономическом развитии отдельных регионов и экономических связях между ни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ы изучен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региональной эконом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ие регио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иональные рын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 регионального разви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асли хозяй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рриториальные хозяйственные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региональные экономические связ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ы изучени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региональн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еские регио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иональные рын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 регионального разви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расли хозяй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рриториальные хозяйственные сист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жрегиональные экономические связ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и региональной экономи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ение закономерностей, принципов и факторов размещения производства и территориальной организации хозяйства, разработка методов их анализа и оцен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иск путей оптимизации социально-экономического развития регионов страны и управления региональным хозяйств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основание экономического районирования стран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явление особенностей и тенденций формирования и функционирования региональных рынк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основание экономического механизма региональной полити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основание наиболее эффективных форм территориальной организации хозяйств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явление и анализ хозяйственных связей между регионам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следование содержания и форм внешнеэкономической деятельности регионов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чи региональной экономик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учение закономерностей, принципов и факторов размещения производства и территориальной организации хозяйства, разработка методов их анализа и оценк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иск путей оптимизации социально-экономического развития регионов страны и управления региональным хозяйством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снование экономического районирования стран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явление особенностей и тенденций формирования и функционирования региональных рынк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снование экономического механизма региональной политик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снование наиболее эффективных форм территориальной организации хозяйства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явление и анализ хозяйственных связей между регионам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следование содержания и форм внешнеэкономической деятельности регионов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Межпредметные связи </a:t>
            </a: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региональной эконом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Межпредметные связи </a:t>
            </a: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региональной эконом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региональных исследов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авнительно-географиче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ко-статистиче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тизация (группировка, классификация, типолог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лансов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ный анали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ир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ой оцен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йонир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ртографиче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региональных исследов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авнительно-географическ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ко-статистическ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тизация (группировка, классификация, типологи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алансов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ный анали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ир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еской оцен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йонир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ртографическ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BC91-51EF-4BB6-A672-91E62C24F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2AFC-09E5-48AF-982C-08A92A40D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D9DC-C674-4AC6-B22C-E65C39543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5FDE-59A2-41D6-9E0F-D1A5F3F23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1C39-B037-44F5-A8D9-626575091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8857-24DF-4047-A6EC-E91984158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D83A-9864-4DC7-9E8D-3D2DA9E47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4EAC-E0A4-4753-A1FF-A2201682D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651B-514D-4DCD-BE47-5E508EFD2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BA31-5A67-40BB-843B-F7A496FF0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83D7-B7BF-4BBA-8149-6C859EF02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92FF-8EDF-488B-8A2C-6A6D0BAD8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EE3DA-2D82-4587-9DB3-99A0C0FB8663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C32F9-EB2A-43FC-A939-A35D7BFFE06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280" y="1267920"/>
            <a:ext cx="8248680" cy="12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егиональная экономи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Заголовок 1"/>
          <p:cNvSpPr/>
          <p:nvPr/>
        </p:nvSpPr>
        <p:spPr>
          <a:xfrm>
            <a:off x="214200" y="3071880"/>
            <a:ext cx="871560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8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Читает д.п.н., заведующий кафедр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«Региональная экономика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лисецкий Евгений Леонидо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285840" y="285480"/>
            <a:ext cx="857232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Контрольные вопросы к лекции 1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кие научные дисциплины осуществляют комплексное изучение регионов страны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к в период существования плановой экономики осуществлялся учет региональных особенностей размещения производительных сил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к определялись предмет и объекты изучения региональной экономики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то собой представляет ТПК? Почему такая форма организации хозяйства признавалась эффективной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ково современное определение предмета региональной экономики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то вкладывают в содержание понятия «регион»? Что собой представляют регионы-квазигосударства и регионы-квазикорпорации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кие научные и практические задачи решает региональная экономика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кие научные методы используются в региональных исследованиях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28760" y="785880"/>
            <a:ext cx="8229600" cy="15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екция 2. Закономерности, принципы и факторы, основные теории размещения производства и регионального развит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71680" y="2500200"/>
            <a:ext cx="8229600" cy="35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ла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ажнейшие экономические категории региональной науки и их соотношение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еории размещения производства и пространственной организации рын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звитие региональных исследований в Росс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Закономерности размещения и территориальной организации хозяйства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0" y="1428840"/>
            <a:ext cx="91440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разрывная связь между размещением производительных сил и развитием регионов (экономических районов, субъектов РФ)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циональное, наиболее эффективное размещение производства, оптимизация территориальной структуры хозяйства по экономическим районам и субъектам РФ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мплексное и пропорциональное развитие хозяйства экономических районов в сочетании с их рациональной рыночной специализацией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циональное территориальное разделение труда между регионами и в пределах их территорий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ыравнивание уровней экономического и социального развития регионов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Принципы размещения производительных сил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0" y="1214280"/>
            <a:ext cx="91440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ближение производства к источникам сырья, топлива, энергии и районам потребления готовой продукции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ервоочередное освоение и комплексное использование наиболее эффективных видов природных ресурсов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эффективное размещение производительных сил по территории страны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здоровление экологической обстановки, принятие эффективных мер по охране природы и рациональному природопользованию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спользование экономических выгод межрегионального и международного разделения труда, восстановление и развитие экономических связей со станами ближнего и дальнего зарубежья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целевая государственная поддержка регионов и отраслей, расположенных в зоне Крайнего Севера и приравненных к нему местностях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действие со стороны государства малому и среднему предпринимательству, способному вывести регионы из кризисного состоя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Факторы размещения производства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и регионального развит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0" y="15001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Факторы размещения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– это совокупность пространственно неравнозначных условий и ресурсов, их свойств (оцениваемых отраслевыми технико-экономическими показателями), правильное использование которых обеспечивает наилучшие результаты при размещении производственных объектов, развитии хозяйства регионов и расселении населения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 факторам размещения относят: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экономико-географическое положение, сырьевой, топливный, электроэнергетический, водный, трудовой, транспортный, природных условий, потребительский, возможностей использования прогрессивных форм организации производства (специализация, кооперирование, комбинирование и другие), научный, военно-стратегический, экологический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Теории размещения производства и экономического районировани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4000" y="1267920"/>
            <a:ext cx="8534160" cy="53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Немецкая географическая школа – разработка теорий штандор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И. Тюнен (1783-185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А. Вебер (1868-1958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А. Леш (1906-1945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В. Кристаллер (1893-196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оссийская районная шко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К.И. Арсеньев (1789-1865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Н.П. Огарев (1813-1877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П.П. Семенов-Тян-Шанский (1827-1914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Д.И. Менделеев (1834-1907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Рисунок 1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8172360" cy="428616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3"/>
          <p:cNvSpPr/>
          <p:nvPr/>
        </p:nvSpPr>
        <p:spPr>
          <a:xfrm>
            <a:off x="468360" y="333000"/>
            <a:ext cx="867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Зоны («кольца») сельскохозяйственной специализации И. Тюне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250920" y="273600"/>
            <a:ext cx="889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Варианты размещения металлургического завода 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«Локационный треугольник» В. Лаунхардт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250920" y="1700280"/>
            <a:ext cx="8675640" cy="264780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4587840" cy="35020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5003640" y="1916280"/>
            <a:ext cx="3829320" cy="349092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4"/>
          <p:cNvSpPr/>
          <p:nvPr/>
        </p:nvSpPr>
        <p:spPr>
          <a:xfrm>
            <a:off x="179280" y="189000"/>
            <a:ext cx="58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хематическое изображ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рыночной зоны по модели А. Лёш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(построение «конуса спроса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4284720" y="544500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Фрагмент теоретическ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хемы экономическ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ландшафта А. Лёш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4456440" y="7488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3" descr=""/>
          <p:cNvPicPr/>
          <p:nvPr/>
        </p:nvPicPr>
        <p:blipFill>
          <a:blip r:embed="rId1"/>
          <a:stretch/>
        </p:blipFill>
        <p:spPr>
          <a:xfrm>
            <a:off x="611280" y="1341360"/>
            <a:ext cx="7848360" cy="396252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4"/>
          <p:cNvSpPr/>
          <p:nvPr/>
        </p:nvSpPr>
        <p:spPr>
          <a:xfrm>
            <a:off x="611280" y="404640"/>
            <a:ext cx="828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Фрагмент схемы размещения центральных мест по модели В. Кристалл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1"/>
          <p:cNvSpPr/>
          <p:nvPr/>
        </p:nvSpPr>
        <p:spPr>
          <a:xfrm>
            <a:off x="0" y="-162360"/>
            <a:ext cx="9144000" cy="37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Рекомендуемая литература по дисциплине «Региональная экономи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Основ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31840" indent="-5256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Введение в экономическую географию и региональную экономику России: Учеб. пособие / Под общ. ред. Е.Л. Плисецкого. – М.: Гуманитар. изд. центр ВЛАДОС, 2008. - 550 с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31840" indent="-5256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Гранберг А.Г. Основы региональной экономики: Учебник. – М.: ГУ ВШЭ, 2006. – 493 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31840" indent="-5256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Кистанов В.В., Копылов Н.В. Региональная экономика России: Учебник. – М.: Финансы и статистика, 2009. – 584 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31840" indent="-5256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Плисецкий Е.Л. Коммерческая география России: Территориальная организация производства и рынка: Учеб. пособие. – М.: КНОРУС, 2007. – 216 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31840" indent="-5256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Федеральные округа России. Региональная экономика: Учеб. пособие / Под ред. В.Г. Глушковой и Ю.А. Симагина. – М.: КНОРУС, 2009. – 352 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31840" indent="-5256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Курнышев В.В., Глушкова В.Г. Региональная экономика. Основы теории и методы исследования: Учеб. пособие. – М.: КНОРУС, 2010. – 256 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31840" indent="-5256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"/>
          <p:cNvSpPr/>
          <p:nvPr/>
        </p:nvSpPr>
        <p:spPr>
          <a:xfrm>
            <a:off x="0" y="3064680"/>
            <a:ext cx="914400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85760" algn="ctr">
              <a:tabLst>
                <a:tab algn="l" pos="0"/>
                <a:tab algn="l" pos="357120"/>
                <a:tab algn="l" pos="442800"/>
                <a:tab algn="l" pos="98568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  <a:tab algn="l" pos="7500960"/>
                <a:tab algn="l" pos="785808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Дополнитель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5760" algn="ctr">
              <a:buClr>
                <a:srgbClr val="000000"/>
              </a:buClr>
              <a:buFont typeface="Arial"/>
              <a:buAutoNum type="arabicPeriod"/>
              <a:tabLst>
                <a:tab algn="l" pos="357120"/>
                <a:tab algn="l" pos="442800"/>
                <a:tab algn="l" pos="98568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  <a:tab algn="l" pos="7500960"/>
                <a:tab algn="l" pos="78580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Демография: Учеб. пособие / Под ред. В.Г. Глушковой. – М.: КНОРУС, 2010. – 304 с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5760" algn="just">
              <a:buClr>
                <a:srgbClr val="000000"/>
              </a:buClr>
              <a:buFont typeface="Arial"/>
              <a:buAutoNum type="arabicPeriod"/>
              <a:tabLst>
                <a:tab algn="l" pos="357120"/>
                <a:tab algn="l" pos="442800"/>
                <a:tab algn="l" pos="98568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  <a:tab algn="l" pos="7500960"/>
                <a:tab algn="l" pos="78580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Плисецкий Е.Л. Социально-экономическая география России: Справочное пособие. – М.: Дрофа; Изд-во ДИК, 2010. – 72 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5760" algn="just">
              <a:buClr>
                <a:srgbClr val="000000"/>
              </a:buClr>
              <a:buFont typeface="Arial"/>
              <a:buAutoNum type="arabicPeriod"/>
              <a:tabLst>
                <a:tab algn="l" pos="357120"/>
                <a:tab algn="l" pos="442800"/>
                <a:tab algn="l" pos="98568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  <a:tab algn="l" pos="7500960"/>
                <a:tab algn="l" pos="78580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Региональная экономика: Учебник / Под ред. В.И. Видяпина, М.В. Степанова. – М.: ИНФРА-М, 2009.– 686 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5760" algn="just">
              <a:buClr>
                <a:srgbClr val="000000"/>
              </a:buClr>
              <a:buFont typeface="Arial"/>
              <a:buAutoNum type="arabicPeriod"/>
              <a:tabLst>
                <a:tab algn="l" pos="357120"/>
                <a:tab algn="l" pos="442800"/>
                <a:tab algn="l" pos="98568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  <a:tab algn="l" pos="7500960"/>
                <a:tab algn="l" pos="78580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Региональная экономика: Учебник / Под ред. Т.Г. Морозовой. – М.: ЮНИТИ, 2008. – 512 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5760" algn="just">
              <a:buClr>
                <a:srgbClr val="000000"/>
              </a:buClr>
              <a:buFont typeface="Arial"/>
              <a:buAutoNum type="arabicPeriod"/>
              <a:tabLst>
                <a:tab algn="l" pos="357120"/>
                <a:tab algn="l" pos="442800"/>
                <a:tab algn="l" pos="98568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  <a:tab algn="l" pos="7500960"/>
                <a:tab algn="l" pos="78580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Регионы России: Социально-экономические показатели. 2009: Стат. сб. / Росстат. – М., 2009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5760" algn="just">
              <a:buClr>
                <a:srgbClr val="000000"/>
              </a:buClr>
              <a:buFont typeface="Arial"/>
              <a:buAutoNum type="arabicPeriod"/>
              <a:tabLst>
                <a:tab algn="l" pos="357120"/>
                <a:tab algn="l" pos="442800"/>
                <a:tab algn="l" pos="98568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  <a:tab algn="l" pos="7500960"/>
                <a:tab algn="l" pos="78580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Российский статистический ежегодник. 2009: Стат.сб. / Росстат. – М., 2009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5760" algn="just">
              <a:buClr>
                <a:srgbClr val="000000"/>
              </a:buClr>
              <a:buFont typeface="Arial"/>
              <a:buAutoNum type="arabicPeriod"/>
              <a:tabLst>
                <a:tab algn="l" pos="357120"/>
                <a:tab algn="l" pos="442800"/>
                <a:tab algn="l" pos="98568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  <a:tab algn="l" pos="7500960"/>
                <a:tab algn="l" pos="78580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Шапкин И.Н., Блинов А.О., Кестер Я.М. Управление региональным хозяйством.– М.: КНОРУС,2009. – 400 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5760" algn="just">
              <a:buClr>
                <a:srgbClr val="000000"/>
              </a:buClr>
              <a:buFont typeface="Arial"/>
              <a:buAutoNum type="arabicPeriod"/>
              <a:tabLst>
                <a:tab algn="l" pos="357120"/>
                <a:tab algn="l" pos="442800"/>
                <a:tab algn="l" pos="98568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  <a:tab algn="l" pos="7500960"/>
                <a:tab algn="l" pos="78580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Эколого-экономические проблемы России и ее регионов: Учеб. пособие / Под общей ред. В.Г. Глушковой.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М.: Московский Лицей, 2004.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304 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Рисунок 7" descr=""/>
          <p:cNvPicPr/>
          <p:nvPr/>
        </p:nvPicPr>
        <p:blipFill>
          <a:blip r:embed="rId1"/>
          <a:stretch/>
        </p:blipFill>
        <p:spPr>
          <a:xfrm>
            <a:off x="6929280" y="1071720"/>
            <a:ext cx="1785960" cy="1139760"/>
          </a:xfrm>
          <a:prstGeom prst="rect">
            <a:avLst/>
          </a:prstGeom>
          <a:ln w="0">
            <a:noFill/>
          </a:ln>
        </p:spPr>
      </p:pic>
      <p:pic>
        <p:nvPicPr>
          <p:cNvPr id="132" name="Рисунок 8" descr=""/>
          <p:cNvPicPr/>
          <p:nvPr/>
        </p:nvPicPr>
        <p:blipFill>
          <a:blip r:embed="rId2"/>
          <a:stretch/>
        </p:blipFill>
        <p:spPr>
          <a:xfrm>
            <a:off x="6715080" y="3143160"/>
            <a:ext cx="2090880" cy="979560"/>
          </a:xfrm>
          <a:prstGeom prst="rect">
            <a:avLst/>
          </a:prstGeom>
          <a:ln w="0">
            <a:noFill/>
          </a:ln>
        </p:spPr>
      </p:pic>
      <p:pic>
        <p:nvPicPr>
          <p:cNvPr id="133" name="Рисунок 9" descr=""/>
          <p:cNvPicPr/>
          <p:nvPr/>
        </p:nvPicPr>
        <p:blipFill>
          <a:blip r:embed="rId3"/>
          <a:stretch/>
        </p:blipFill>
        <p:spPr>
          <a:xfrm>
            <a:off x="6786720" y="4643280"/>
            <a:ext cx="2147760" cy="92880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4"/>
          <p:cNvSpPr/>
          <p:nvPr/>
        </p:nvSpPr>
        <p:spPr>
          <a:xfrm>
            <a:off x="285840" y="509760"/>
            <a:ext cx="6429240" cy="27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пределение границ рыночных з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едположим, что существуют два центра (город 1 и город 2), обладающие каждый обособленными рыночными зонами (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М</a:t>
            </a:r>
            <a:r>
              <a:rPr b="1" lang="ru-RU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ru-RU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и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М</a:t>
            </a:r>
            <a:r>
              <a:rPr b="1" lang="ru-RU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 и отделённые друг от друга на расстояние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Д</a:t>
            </a:r>
            <a:r>
              <a:rPr b="1" lang="ru-RU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(то есть на 12 км). Тогда можно определить «точку перелома» (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</a:t>
            </a:r>
            <a:r>
              <a:rPr b="1" lang="ru-RU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, или место где товарный поток сходит на нет, в единицах расстояния от второго города по формул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5"/>
          <p:cNvSpPr/>
          <p:nvPr/>
        </p:nvSpPr>
        <p:spPr>
          <a:xfrm>
            <a:off x="428760" y="3266280"/>
            <a:ext cx="6230880" cy="12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 простом случае, когда два города отстоят один от другого на 12 км и обладают одинаковыми по размеру рыночными зонами (М</a:t>
            </a:r>
            <a:r>
              <a:rPr b="0" lang="ru-RU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= М</a:t>
            </a:r>
            <a:r>
              <a:rPr b="0" lang="ru-RU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= 10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500040" y="4554000"/>
            <a:ext cx="6159600" cy="15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ледовательно, линия границы расположится на полпути между двумя центрами одинакового размера. В случае с двумя городами неравных размеров (например, М</a:t>
            </a:r>
            <a:r>
              <a:rPr b="0" lang="ru-RU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= 20 и М</a:t>
            </a:r>
            <a:r>
              <a:rPr b="0" lang="ru-RU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= 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7"/>
          <p:cNvSpPr/>
          <p:nvPr/>
        </p:nvSpPr>
        <p:spPr>
          <a:xfrm>
            <a:off x="0" y="23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0" y="59367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Граница во втором случае переместится в сторону меньшего центра (рис. 7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Рисунок 10" descr=""/>
          <p:cNvPicPr/>
          <p:nvPr/>
        </p:nvPicPr>
        <p:blipFill>
          <a:blip r:embed="rId1"/>
          <a:srcRect l="1582" t="2233" r="1582" b="3350"/>
          <a:stretch/>
        </p:blipFill>
        <p:spPr>
          <a:xfrm>
            <a:off x="1714680" y="500040"/>
            <a:ext cx="5715000" cy="397368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3"/>
          <p:cNvSpPr/>
          <p:nvPr/>
        </p:nvSpPr>
        <p:spPr>
          <a:xfrm>
            <a:off x="285840" y="4864680"/>
            <a:ext cx="857232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пределение границ между рыночными зонами центральных мест: с одинаковой (а) и с различной (б) «массой»</a:t>
            </a:r>
            <a:r>
              <a:rPr b="1" lang="ru-RU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Величину рыночной зоны или ее «массу» можно выразить, например, через показатель численности населения рыночного цент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1"/>
          <p:cNvSpPr/>
          <p:nvPr/>
        </p:nvSpPr>
        <p:spPr>
          <a:xfrm>
            <a:off x="214200" y="243720"/>
            <a:ext cx="864396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4861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Контрольные вопрос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18252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4861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о собой представляют закономерности, принципы и факторы размещения производительных сил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18252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4861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ово значение штандортных теорий в исследовании проблем размещения производства и территориальной организации рынк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18252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4861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ъясните, как и почему меняется характер сельскохозяйственного производства в зависимости от его положения по отношению к рынку сбыта сельскохозяйственной продукции по модели И. Тюнен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18252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4861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чем суть подходов к построению моделей рыночных зон, предложенных В. Лаунхардтом, А. Вебером, А. Лешем, В. Кристаллером, У. Айзардом? В чем заслуга этих ученых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18252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4861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какому пути пошла отечественная географическая наука в исследовании рыночного хозяйства во второй половине Х1Х – начале ХХ в.? Какие российские ученые, внесли заметный вклад в развитие теории экономического районирования до революции и в советский период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18252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4861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что была нацелена концепция экономического районирования в период плановой экономики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18252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4861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о следует понимать под энергопроизводственным циклом? Каково их значение для экономического районировани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499680" y="1142640"/>
            <a:ext cx="8248680" cy="46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екция 1. Предмет, задачи и методы региональной науки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</a:rPr>
              <a:t>План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Значение и место региональных исследований в Советский период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овременное определение предмета науки, ее задач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Межпредметные связи и методы региональных исследований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5744880"/>
            <a:ext cx="914400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Экономические районы Госплана СССР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(на начало 1980-х гг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1" descr=""/>
          <p:cNvPicPr/>
          <p:nvPr/>
        </p:nvPicPr>
        <p:blipFill>
          <a:blip r:embed="rId1"/>
          <a:stretch/>
        </p:blipFill>
        <p:spPr>
          <a:xfrm>
            <a:off x="285840" y="214200"/>
            <a:ext cx="8596080" cy="5716800"/>
          </a:xfrm>
          <a:prstGeom prst="rect">
            <a:avLst/>
          </a:prstGeom>
          <a:ln w="0">
            <a:noFill/>
          </a:ln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редмет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региональной экономик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Региональная экономика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– это область научных знаний о размещении производительных сил, экономическом районировании территории страны, социально-экономическом развитии отдельных регионов и экономических связях между ни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Объекты изучения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региональной экономик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2332080"/>
            <a:ext cx="822960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кономические регион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гиональные рын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акторы регионального развит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расли хозяйст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ерриториальные хозяйственные систем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ежрегиональные экономические связ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Задачи региональной экономики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95280" y="907560"/>
            <a:ext cx="822960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зучение закономерностей, принципов и факторов размещения производства и территориальной организации хозяйства, разработка методов их анализа и оценки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иск путей оптимизации социально-экономического развития регионов страны и управления региональным хозяйством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боснование экономического районирования страны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ыявление особенностей и тенденций формирования и функционирования региональных рынков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боснование экономического механизма региональной политики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боснование наиболее эффективных форм территориальной организации хозяйства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ыявление и анализ хозяйственных связей между регионами;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сследование содержания и форм внешнеэкономической деятельности регионов и др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95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Межпредметные связи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региональной экономик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9" name="Group 49"/>
          <p:cNvGrpSpPr/>
          <p:nvPr/>
        </p:nvGrpSpPr>
        <p:grpSpPr>
          <a:xfrm>
            <a:off x="250920" y="1341360"/>
            <a:ext cx="8585280" cy="5184720"/>
            <a:chOff x="250920" y="1341360"/>
            <a:chExt cx="8585280" cy="5184720"/>
          </a:xfrm>
        </p:grpSpPr>
        <p:sp>
          <p:nvSpPr>
            <p:cNvPr id="70" name="AutoShape 26"/>
            <p:cNvSpPr/>
            <p:nvPr/>
          </p:nvSpPr>
          <p:spPr>
            <a:xfrm>
              <a:off x="250920" y="1341360"/>
              <a:ext cx="8585280" cy="518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Text Box 27"/>
            <p:cNvSpPr/>
            <p:nvPr/>
          </p:nvSpPr>
          <p:spPr>
            <a:xfrm>
              <a:off x="3290760" y="3487680"/>
              <a:ext cx="2283120" cy="80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5880" rIns="65880" tIns="32760" bIns="3276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Региональная экономика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28"/>
            <p:cNvSpPr/>
            <p:nvPr/>
          </p:nvSpPr>
          <p:spPr>
            <a:xfrm>
              <a:off x="965160" y="1341360"/>
              <a:ext cx="2146320" cy="1073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5880" rIns="65880" tIns="32760" bIns="3276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Социально-экономическая  география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29"/>
            <p:cNvSpPr/>
            <p:nvPr/>
          </p:nvSpPr>
          <p:spPr>
            <a:xfrm>
              <a:off x="6510240" y="1341360"/>
              <a:ext cx="2325960" cy="14302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5880" rIns="65880" tIns="32760" bIns="3276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Экономическая  теор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(микро- и макроэкономика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30"/>
            <p:cNvSpPr/>
            <p:nvPr/>
          </p:nvSpPr>
          <p:spPr>
            <a:xfrm>
              <a:off x="6510240" y="3129120"/>
              <a:ext cx="2324160" cy="960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5880" rIns="65880" tIns="32760" bIns="3276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Отраслевая  экономик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ectangle 31"/>
            <p:cNvSpPr/>
            <p:nvPr/>
          </p:nvSpPr>
          <p:spPr>
            <a:xfrm>
              <a:off x="250920" y="3665520"/>
              <a:ext cx="2146320" cy="546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5880" rIns="65880" tIns="32760" bIns="3276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Социология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ectangle 32"/>
            <p:cNvSpPr/>
            <p:nvPr/>
          </p:nvSpPr>
          <p:spPr>
            <a:xfrm>
              <a:off x="250920" y="4559400"/>
              <a:ext cx="2146320" cy="5475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5880" rIns="65880" tIns="32760" bIns="3276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Картография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Rectangle 33"/>
            <p:cNvSpPr/>
            <p:nvPr/>
          </p:nvSpPr>
          <p:spPr>
            <a:xfrm>
              <a:off x="3827520" y="1341360"/>
              <a:ext cx="2232000" cy="7146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5880" rIns="65880" tIns="32760" bIns="3276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Экономическая статистика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Rectangle 34"/>
            <p:cNvSpPr/>
            <p:nvPr/>
          </p:nvSpPr>
          <p:spPr>
            <a:xfrm>
              <a:off x="1860480" y="5632560"/>
              <a:ext cx="2862360" cy="7142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5880" rIns="65880" tIns="32760" bIns="3276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Экономика природопользован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35"/>
            <p:cNvSpPr/>
            <p:nvPr/>
          </p:nvSpPr>
          <p:spPr>
            <a:xfrm>
              <a:off x="3290760" y="2771640"/>
              <a:ext cx="2324160" cy="2219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Rectangle 36"/>
            <p:cNvSpPr/>
            <p:nvPr/>
          </p:nvSpPr>
          <p:spPr>
            <a:xfrm>
              <a:off x="250920" y="2771640"/>
              <a:ext cx="2146320" cy="546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5880" rIns="65880" tIns="32760" bIns="3276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Демография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Rectangle 37"/>
            <p:cNvSpPr/>
            <p:nvPr/>
          </p:nvSpPr>
          <p:spPr>
            <a:xfrm>
              <a:off x="6510240" y="4379760"/>
              <a:ext cx="2324160" cy="1073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5880" rIns="65880" tIns="32760" bIns="3276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Управление экономико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(менеджмент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Rectangle 38"/>
            <p:cNvSpPr/>
            <p:nvPr/>
          </p:nvSpPr>
          <p:spPr>
            <a:xfrm>
              <a:off x="5437080" y="5811840"/>
              <a:ext cx="2325960" cy="5461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5880" rIns="65880" tIns="32760" bIns="3276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Финансы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39"/>
            <p:cNvSpPr/>
            <p:nvPr/>
          </p:nvSpPr>
          <p:spPr>
            <a:xfrm flipV="1">
              <a:off x="2576520" y="4559400"/>
              <a:ext cx="714240" cy="241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40"/>
            <p:cNvSpPr/>
            <p:nvPr/>
          </p:nvSpPr>
          <p:spPr>
            <a:xfrm flipV="1">
              <a:off x="2576520" y="3844800"/>
              <a:ext cx="534960" cy="6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41"/>
            <p:cNvSpPr/>
            <p:nvPr/>
          </p:nvSpPr>
          <p:spPr>
            <a:xfrm>
              <a:off x="2576520" y="3013200"/>
              <a:ext cx="714240" cy="295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42"/>
            <p:cNvSpPr/>
            <p:nvPr/>
          </p:nvSpPr>
          <p:spPr>
            <a:xfrm flipV="1">
              <a:off x="3290760" y="4916520"/>
              <a:ext cx="357480" cy="536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Line 43"/>
            <p:cNvSpPr/>
            <p:nvPr/>
          </p:nvSpPr>
          <p:spPr>
            <a:xfrm flipH="1" flipV="1">
              <a:off x="5437080" y="4916160"/>
              <a:ext cx="357120" cy="716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44"/>
            <p:cNvSpPr/>
            <p:nvPr/>
          </p:nvSpPr>
          <p:spPr>
            <a:xfrm flipH="1" flipV="1">
              <a:off x="5793840" y="4379400"/>
              <a:ext cx="536760" cy="358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45"/>
            <p:cNvSpPr/>
            <p:nvPr/>
          </p:nvSpPr>
          <p:spPr>
            <a:xfrm flipH="1">
              <a:off x="5793840" y="3487680"/>
              <a:ext cx="536760" cy="177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46"/>
            <p:cNvSpPr/>
            <p:nvPr/>
          </p:nvSpPr>
          <p:spPr>
            <a:xfrm flipH="1">
              <a:off x="5616720" y="2592360"/>
              <a:ext cx="536400" cy="536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47"/>
            <p:cNvSpPr/>
            <p:nvPr/>
          </p:nvSpPr>
          <p:spPr>
            <a:xfrm flipH="1">
              <a:off x="5079960" y="2235240"/>
              <a:ext cx="357120" cy="536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Line 48"/>
            <p:cNvSpPr/>
            <p:nvPr/>
          </p:nvSpPr>
          <p:spPr>
            <a:xfrm>
              <a:off x="3290760" y="2235240"/>
              <a:ext cx="536760" cy="536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етоды региональных исследовани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равнительно-географическ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Экономико-статистическ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истематизация (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группировка, классификация, типология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алансовы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истемный анализ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оделирова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Экономической оценк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йонирова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артографическ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6T19:10:57Z</dcterms:created>
  <dc:creator>User</dc:creator>
  <dc:description/>
  <dc:language>en-US</dc:language>
  <cp:lastModifiedBy>LEGION</cp:lastModifiedBy>
  <dcterms:modified xsi:type="dcterms:W3CDTF">2016-01-04T14:04:04Z</dcterms:modified>
  <cp:revision>67</cp:revision>
  <dc:subject/>
  <dc:title>Региональная экономика</dc:title>
</cp:coreProperties>
</file>