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5DC1-E898-4B95-9080-5CCC19AC92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ет д.п.н., заведующий кафед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гиональная экономик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вгений Леони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 д.п.н., заведующий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егиональная эконом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вгений Леонид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вопросы к лекции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дисциплины осуществляют комплексное изучение регионов стра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лись предмет и объекты изучения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современное определение предмета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и практические задачи решает региональная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методы используются в региональных исследован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вопросы к лекции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дисциплины осуществляют комплексное изучение регионов стра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лись предмет и объекты изучения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современное определение предмета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и практические задачи решает региональная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методы используются в региональных исследовани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экономические категории региональной науки и их соотно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пространственной организ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гиональных исследований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экономические категории региональной науки и их соотнош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и размещения производства и пространственной организ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региональных исследований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змещения и территориальной организации хозяй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внивание уровней экономического и социального развития рег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размещения и территориальной организации хозяй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внивание уровней экономического и социального развития реги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размещения производительных си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е размещение производительных сил по территории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размещения производительных си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е размещение производительных сил по территории стра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азмещения производств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азмещения 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факторам размещения относят: 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азмещения производств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азмещения 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факторам размещения относят: 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экономического райо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ая географическая школа – разработка теорий штанд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 Тюнен (1783-185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Вебер (1868-195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Леш (1906-194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Кристаллер (1893-196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район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И. Арсеньев (1789-186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П. Огарев (1813-187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П. Семенов-Тян-Шанский (1827-19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(1834-190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и размещения производства и экономического райо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ая географическая школа – разработка теорий штанд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Тюнен (1783-18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Вебер (1868-19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Леш (1906-19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Кристаллер (1893-196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ая районн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И. Арсеньев (1789-18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П. Огарев (1813-187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.П. Семенов-Тян-Шанский (1827-19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И. Менделеев (1834-19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ы («кольца») сельскохозяйственной специализации И. Тюн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ны («кольца») сельскохозяйственной специализации И. Тюн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ы размещения металлургического завод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Локационный треугольник» В. Лаунхард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ы размещения металлургического завод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«Локационный треугольник» В. Лаунхард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тическое изобр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ой зоны по модели А. Лё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строение «конуса спрос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гмент теорет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ы эконом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ндшафта А. Лё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тическое из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й зоны по модели А. Лё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троение «конуса спрос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теоретиче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ы экономиче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ндшафта А. Лё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гмент схемы размещения центральных мест по модели В. Кристалл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схемы размещения центральных мест по модели В. Кристалл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ая литература по дисциплине «Региональная эконом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берг А.Г. Основы региональной экономики: Учебник. – М.: ГУ ВШЭ, 2006. – 493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я: Учеб. пособие / Под ред. В.Г. Глушковой. – М.: КНОРУС, 2010. – 304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: Учебник / Под ред. Т.Г. Морозовой. – М.: ЮНИТИ, 2008. – 51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ы России: Социально-экономические показатели. 2009: Стат. 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статистический ежегодник. 2009: Стат.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о-экономические проблемы России и ее регионов: Учеб. пособие / Под общей ред. В.Г. Глушковой. – М.: Московский Лицей, 2004. – 30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 по дисциплине «Региональная эконом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берг А.Г. Основы региональной экономики: Учебник. – М.: ГУ ВШЭ, 2006. – 493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я: Учеб. пособие / Под ред. В.Г. Глушковой. – М.: КНОРУС, 2010. – 304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 / Под ред. Т.Г. Морозовой. – М.: ЮНИТИ, 2008. – 51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ы России: Социально-экономические показатели. 2009: Стат. 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статистический ежегодник. 2009: Стат.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о-экономические проблемы России и ее регионов: Учеб. пособие / Под общей ред. В.Г. Глушковой. – М.: Московский Лицей, 2004. – 30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рыночных з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что существуют два центра (город 1 и город 2), обладающие каждый обособленными рыночными зонами (М1 и М2 ) и отделённые друг от друга на расстояние Д12 (то есть на 12 км). Тогда можно определить «точку перелома» (В2), или место где товарный поток сходит на нет, в единицах расстояния от второго города по форму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ом случае, когда два города отстоят один от другого на 12 км и обладают одинаковыми по размеру рыночными зонами (М1 = М2 = 10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1= 20 и М2 =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ца во втором случае переместится в сторону меньшего центра (рис. 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границ рыночных з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ложим, что существуют два центра (город 1 и город 2), обладающие каждый обособленными рыночными зонами (М1 и М2 ) и отделённые друг от друга на расстояние Д12 (то есть на 12 км). Тогда можно определить «точку перелома» (В2), или место где товарный поток сходит на нет, в единицах расстояния от второго города по форму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стом случае, когда два города отстоят один от другого на 12 км и обладают одинаковыми по размеру рыночными зонами (М1 = М2 = 10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1= 20 и М2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ица во втором случае переместится в сторону меньшего центра (рис. 7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между рыночными зонами центральных мест: с одинаковой (а) и с различной (б) «массой»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границ между рыночными зонами центральных мест: с одинаковой (а) и с различной (б) «массой»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вопро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вопрос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1. Предмет, задачи и методы региональной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 место региональных исследований в Советски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определение предмета науки, ее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предметные связи и 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1. Предмет, задачи и методы региональной нау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 место региональных исследований в Советски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е определение предмета науки, ее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предметные связи и 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районы Госплана ССС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начало 1980-х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районы Госплана ССС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 начало 1980-х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 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рег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ые хозяйстве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региональные экономически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реги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ые хозяйствен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региональные эконом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экономического районирования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экономического механизма региональн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наиболее эффективных форм территориальной организации хозяй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анализ хозяйственных связей между регион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содержания и форм внешнеэкономической деятельности регионо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еского районирования стра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еского механизма региональной полит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наиболее эффективных форм территориальной организации хозя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и анализ хозяйственных связей между регион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одержания и форм внешнеэкономической деятельности регионов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жпредметные связи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жпредметные связи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о-гео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о-статис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я (группировка, классификация, типолог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йо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о-гео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о-статис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(группировка, классификация, тип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й оц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о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872-672B-4467-AB76-9BFBAC33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EA9-ADFB-42C3-86A0-F4D3D2A7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3DC-6A29-46CD-A1C4-7B1F961C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B80-29B7-483E-A1FE-C31C7AF4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7544-4BA6-4DEC-B7E3-5D1EE9F8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F6E-8CA4-4524-AAE5-987B4B61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3FC-9D8E-4F16-A5CE-B5220209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2580-9C87-44A9-BEC5-85D36F83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996C-6B53-4F85-88E4-7D6BE70D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D6B-C33D-49D3-BE16-76C3FCB5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E452-53F0-420F-BE36-4F9D0B01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E52-24A0-4B93-8D14-0A1CA9D1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9775-6EEB-42E1-9803-D8A518513E6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7C85-4B72-4B8B-B49A-A903EC4568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82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гиональная эконом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214200" y="3071880"/>
            <a:ext cx="8715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тает д.п.н., заведующий кафед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Региональная экономи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исецкий Евгений Леонид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85840" y="28548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онтрольные вопросы к лекции 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дисциплины осуществляют комплексное изучение регионов стран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ялись предмет и объекты изучения региональной эконом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во современное определение предмета региональной эконом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и практические задачи решает региональная экономи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методы используются в региональных исследования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71680" y="2500200"/>
            <a:ext cx="8229600" cy="35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ейшие экономические категории региональной науки и их соотнош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пространственной организации ры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региональных исследований в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кономерности размещения и территориальной организации хозяйст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428840"/>
            <a:ext cx="91440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внивание уровней экономического и социального развития реги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нципы размещения производительных си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214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ффективное размещение производительных сил по территории стра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акторы размещения производств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регионального разви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500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акторы размеще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факторам размещения относят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экономического район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267920"/>
            <a:ext cx="853416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мецкая географическая школа – разработка теорий штанд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. Тюнен (1783-18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. Вебер (1868-195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. Леш (1906-194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. Кристаллер (1893-196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ая районная ш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.И. Арсеньев (1789-186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.П. Огарев (1813-187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.П. Семенов-Тян-Шанский (1827-191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.И. Менделеев (1834-190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172360" cy="42861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468360" y="33300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оны («кольца») сельскохозяйственной специализации И. Тюн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50920" y="2736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ы размещения металлургического завода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«Локационный треугольник» В. Лаунхард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75640" cy="26478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587840" cy="3502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829320" cy="34909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179280" y="18900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хематическое изоб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ыночной зоны по модели А. Лё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остроение «конуса спрос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284720" y="544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рагмент теоретиче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хемы эконом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андшафта А. Лё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456440" y="74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848360" cy="39625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611280" y="40464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рагмент схемы размещения центральных мест по модели В. Кристал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-162360"/>
            <a:ext cx="9144000" cy="37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ая литература по дисциплине «Региональная эконом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берг А.Г. Основы региональной экономики: Учебник. – М.: ГУ ВШЭ, 2006. – 493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3064680"/>
            <a:ext cx="914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algn="ctr">
              <a:tabLst>
                <a:tab algn="l" pos="0"/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олни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ctr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мография: Учеб. пособие / Под ред. В.Г. Глушковой. – М.: КНОРУС, 2010. – 304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альная экономика: Учебник / Под ред. Т.Г. Морозовой. – М.: ЮНИТИ, 2008. – 51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ы России: Социально-экономические показатели. 2009: Стат. сб. / Росстат. – М.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сийский статистический ежегодник. 2009: Стат.сб. / Росстат. – М.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колого-экономические проблемы России и ее регионов: Учеб. пособие / Под общей ред. В.Г. Глушковой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.: Московский Лицей, 2004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304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7" descr=""/>
          <p:cNvPicPr/>
          <p:nvPr/>
        </p:nvPicPr>
        <p:blipFill>
          <a:blip r:embed="rId1"/>
          <a:stretch/>
        </p:blipFill>
        <p:spPr>
          <a:xfrm>
            <a:off x="6929280" y="1071720"/>
            <a:ext cx="1785960" cy="11397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"/>
          <p:cNvPicPr/>
          <p:nvPr/>
        </p:nvPicPr>
        <p:blipFill>
          <a:blip r:embed="rId2"/>
          <a:stretch/>
        </p:blipFill>
        <p:spPr>
          <a:xfrm>
            <a:off x="6715080" y="3143160"/>
            <a:ext cx="2090880" cy="9795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"/>
          <p:cNvPicPr/>
          <p:nvPr/>
        </p:nvPicPr>
        <p:blipFill>
          <a:blip r:embed="rId3"/>
          <a:stretch/>
        </p:blipFill>
        <p:spPr>
          <a:xfrm>
            <a:off x="6786720" y="4643280"/>
            <a:ext cx="2147760" cy="928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285840" y="509760"/>
            <a:ext cx="64292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е границ рыночн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положим, что существуют два центра (город 1 и город 2), обладающие каждый обособленными рыночными зонами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и отделённые друг от друга на расстоя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то есть на 12 км). Тогда можно определить «точку перелома»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или место где товарный поток сходит на нет, в единицах расстояния от второго города по форму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28760" y="3266280"/>
            <a:ext cx="62308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стом случае, когда два города отстоят один от другого на 12 км и обладают одинаковыми по размеру рыночными зонами (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10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0040" y="4554000"/>
            <a:ext cx="61596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20 и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5936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ица во втором случае переместится в сторону меньшего центра (рис. 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0" descr=""/>
          <p:cNvPicPr/>
          <p:nvPr/>
        </p:nvPicPr>
        <p:blipFill>
          <a:blip r:embed="rId1"/>
          <a:srcRect l="1582" t="2233" r="1582" b="3350"/>
          <a:stretch/>
        </p:blipFill>
        <p:spPr>
          <a:xfrm>
            <a:off x="1714680" y="500040"/>
            <a:ext cx="5715000" cy="39736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285840" y="4864680"/>
            <a:ext cx="8572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е границ между рыночными зонами центральных мест: с одинаковой (а) и с различной (б) «массой»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214200" y="243720"/>
            <a:ext cx="86439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ьные вопро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99680" y="1142640"/>
            <a:ext cx="82486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ция 1. Предмет, задачи и методы региональной науки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начение и место региональных исследований в Советский пери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временное определение предмета науки, ее зада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жпредметные связи и методы региональных исследова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744880"/>
            <a:ext cx="91440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кономические районы Госплана СССР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на начало 1980-х г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96080" cy="57168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гиональная экономи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ъекты изучен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номические реги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гиональные ры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 регионального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асли хозяй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риториальные хозяйственные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региональные экономические свя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и рег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экономического районирования стран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экономического механизма региональной полити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наиболее эффективных форм территориальной организации хозяйств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и анализ хозяйственных связей между регионам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следование содержания и форм внешнеэкономической деятельности регионов и д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жпредметные связ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гиональной эконом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49"/>
          <p:cNvGrpSpPr/>
          <p:nvPr/>
        </p:nvGrpSpPr>
        <p:grpSpPr>
          <a:xfrm>
            <a:off x="250920" y="1341360"/>
            <a:ext cx="8585280" cy="5184720"/>
            <a:chOff x="250920" y="1341360"/>
            <a:chExt cx="8585280" cy="5184720"/>
          </a:xfrm>
        </p:grpSpPr>
        <p:sp>
          <p:nvSpPr>
            <p:cNvPr id="70" name="AutoShape 26"/>
            <p:cNvSpPr/>
            <p:nvPr/>
          </p:nvSpPr>
          <p:spPr>
            <a:xfrm>
              <a:off x="250920" y="1341360"/>
              <a:ext cx="858528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7"/>
            <p:cNvSpPr/>
            <p:nvPr/>
          </p:nvSpPr>
          <p:spPr>
            <a:xfrm>
              <a:off x="3290760" y="3487680"/>
              <a:ext cx="22831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егиональная экономи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8"/>
            <p:cNvSpPr/>
            <p:nvPr/>
          </p:nvSpPr>
          <p:spPr>
            <a:xfrm>
              <a:off x="965160" y="1341360"/>
              <a:ext cx="2146320" cy="10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оциально-экономическая  ге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9"/>
            <p:cNvSpPr/>
            <p:nvPr/>
          </p:nvSpPr>
          <p:spPr>
            <a:xfrm>
              <a:off x="6510240" y="1341360"/>
              <a:ext cx="2325960" cy="1430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ческая  теор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микро- и макроэкономика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0"/>
            <p:cNvSpPr/>
            <p:nvPr/>
          </p:nvSpPr>
          <p:spPr>
            <a:xfrm>
              <a:off x="6510240" y="3129120"/>
              <a:ext cx="2324160" cy="96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траслевая  эконом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1"/>
            <p:cNvSpPr/>
            <p:nvPr/>
          </p:nvSpPr>
          <p:spPr>
            <a:xfrm>
              <a:off x="250920" y="3665520"/>
              <a:ext cx="214632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оциолог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2"/>
            <p:cNvSpPr/>
            <p:nvPr/>
          </p:nvSpPr>
          <p:spPr>
            <a:xfrm>
              <a:off x="250920" y="4559400"/>
              <a:ext cx="2146320" cy="54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арт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3"/>
            <p:cNvSpPr/>
            <p:nvPr/>
          </p:nvSpPr>
          <p:spPr>
            <a:xfrm>
              <a:off x="3827520" y="1341360"/>
              <a:ext cx="2232000" cy="714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ческая статисти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4"/>
            <p:cNvSpPr/>
            <p:nvPr/>
          </p:nvSpPr>
          <p:spPr>
            <a:xfrm>
              <a:off x="1860480" y="5632560"/>
              <a:ext cx="2862360" cy="714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ка природопольз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5"/>
            <p:cNvSpPr/>
            <p:nvPr/>
          </p:nvSpPr>
          <p:spPr>
            <a:xfrm>
              <a:off x="3290760" y="2771640"/>
              <a:ext cx="2324160" cy="2219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6"/>
            <p:cNvSpPr/>
            <p:nvPr/>
          </p:nvSpPr>
          <p:spPr>
            <a:xfrm>
              <a:off x="250920" y="2771640"/>
              <a:ext cx="214632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ем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7"/>
            <p:cNvSpPr/>
            <p:nvPr/>
          </p:nvSpPr>
          <p:spPr>
            <a:xfrm>
              <a:off x="6510240" y="4379760"/>
              <a:ext cx="2324160" cy="10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правление экономик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менеджмен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8"/>
            <p:cNvSpPr/>
            <p:nvPr/>
          </p:nvSpPr>
          <p:spPr>
            <a:xfrm>
              <a:off x="5437080" y="5811840"/>
              <a:ext cx="232596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Финанс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9"/>
            <p:cNvSpPr/>
            <p:nvPr/>
          </p:nvSpPr>
          <p:spPr>
            <a:xfrm flipV="1">
              <a:off x="2576520" y="4559400"/>
              <a:ext cx="714240" cy="24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40"/>
            <p:cNvSpPr/>
            <p:nvPr/>
          </p:nvSpPr>
          <p:spPr>
            <a:xfrm flipV="1">
              <a:off x="2576520" y="3844800"/>
              <a:ext cx="534960" cy="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1"/>
            <p:cNvSpPr/>
            <p:nvPr/>
          </p:nvSpPr>
          <p:spPr>
            <a:xfrm>
              <a:off x="2576520" y="3013200"/>
              <a:ext cx="714240" cy="2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2"/>
            <p:cNvSpPr/>
            <p:nvPr/>
          </p:nvSpPr>
          <p:spPr>
            <a:xfrm flipV="1">
              <a:off x="3290760" y="4916520"/>
              <a:ext cx="35748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3"/>
            <p:cNvSpPr/>
            <p:nvPr/>
          </p:nvSpPr>
          <p:spPr>
            <a:xfrm flipH="1" flipV="1">
              <a:off x="5437080" y="4916160"/>
              <a:ext cx="357120" cy="7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4"/>
            <p:cNvSpPr/>
            <p:nvPr/>
          </p:nvSpPr>
          <p:spPr>
            <a:xfrm flipH="1" flipV="1">
              <a:off x="5793840" y="4379400"/>
              <a:ext cx="53676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5"/>
            <p:cNvSpPr/>
            <p:nvPr/>
          </p:nvSpPr>
          <p:spPr>
            <a:xfrm flipH="1">
              <a:off x="5793840" y="3487680"/>
              <a:ext cx="5367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6"/>
            <p:cNvSpPr/>
            <p:nvPr/>
          </p:nvSpPr>
          <p:spPr>
            <a:xfrm flipH="1">
              <a:off x="5616720" y="2592360"/>
              <a:ext cx="536400" cy="53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7"/>
            <p:cNvSpPr/>
            <p:nvPr/>
          </p:nvSpPr>
          <p:spPr>
            <a:xfrm flipH="1">
              <a:off x="5079960" y="2235240"/>
              <a:ext cx="35712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8"/>
            <p:cNvSpPr/>
            <p:nvPr/>
          </p:nvSpPr>
          <p:spPr>
            <a:xfrm>
              <a:off x="3290760" y="2235240"/>
              <a:ext cx="53676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ы региональных исследова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внительно-географ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ко-статист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атизация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ировка, классификация, типолог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алансо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ческой оце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йон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ртограф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9:10:57Z</dcterms:created>
  <dc:creator>User</dc:creator>
  <dc:description/>
  <dc:language>en-US</dc:language>
  <cp:lastModifiedBy>LEGION</cp:lastModifiedBy>
  <dcterms:modified xsi:type="dcterms:W3CDTF">2016-01-04T14:04:04Z</dcterms:modified>
  <cp:revision>67</cp:revision>
  <dc:subject/>
  <dc:title>Региональная экономика</dc:title>
</cp:coreProperties>
</file>