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DCFF-D188-4DD2-A1A7-3F9E29AA3A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68D-2842-458C-A355-4254FCF1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8F3-6A6E-460B-9608-4B5BAA8A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E66-87E4-48BE-AB58-54B207A6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689-2D72-47D3-940B-EB5D5975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F19-D664-4D1B-8B50-7D9ABB9D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4C8-C3F9-4200-873A-E271F230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30E-C4C1-43F9-892C-3417B3B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EB1-B08C-4354-950E-088F5B99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7E2-BAFE-4F60-B66B-06123F71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C8F-FE31-4DE3-8F97-28438ED8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D6E-1575-470C-891C-EE3152E7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1C6-4F3C-4153-8A5B-DC842FB6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7B0D-1BDE-4AB4-A327-917FF4228B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975F-5CB5-42D0-8D33-FACF1F71CA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2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214200" y="3071880"/>
            <a:ext cx="8715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680" y="2500200"/>
            <a:ext cx="8229600" cy="35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428840"/>
            <a:ext cx="91440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14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акторы размещ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267920"/>
            <a:ext cx="85341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72360" cy="4286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68360" y="333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ы («кольца») сельскохозяйственной специализации И. Тю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50920" y="2736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ы размещения металлургического завод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«Локационный треугольник» В. Лаунхард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75640" cy="2647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587840" cy="350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829320" cy="3490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79280" y="18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28472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11280" y="40464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-162360"/>
            <a:ext cx="914400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ая литература по дисциплине «Региональная эконом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берг А.Г. Основы региональной экономики: Учебник. – М.: ГУ ВШЭ, 2006. – 49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306468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algn="ctr">
              <a:tabLst>
                <a:tab algn="l" pos="0"/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ctr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я: Учеб. пособие / Под ред. В.Г. Глушковой. – М.: КНОРУС, 2010. – 30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Т.Г. Морозовой. – М.: ЮНИТИ, 2008. – 51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ы России: Социально-экономические показатели. 2009: Стат. 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йский статистический ежегодник. 2009: Стат.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лого-экономические проблемы России и ее регионов: Учеб. пособие / Под общей ред. В.Г. Глушково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.: Московский Лицей, 200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0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7" descr=""/>
          <p:cNvPicPr/>
          <p:nvPr/>
        </p:nvPicPr>
        <p:blipFill>
          <a:blip r:embed="rId1"/>
          <a:stretch/>
        </p:blipFill>
        <p:spPr>
          <a:xfrm>
            <a:off x="6929280" y="1071720"/>
            <a:ext cx="1785960" cy="113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"/>
          <p:cNvPicPr/>
          <p:nvPr/>
        </p:nvPicPr>
        <p:blipFill>
          <a:blip r:embed="rId2"/>
          <a:stretch/>
        </p:blipFill>
        <p:spPr>
          <a:xfrm>
            <a:off x="6715080" y="3143160"/>
            <a:ext cx="2090880" cy="979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"/>
          <p:cNvPicPr/>
          <p:nvPr/>
        </p:nvPicPr>
        <p:blipFill>
          <a:blip r:embed="rId3"/>
          <a:stretch/>
        </p:blipFill>
        <p:spPr>
          <a:xfrm>
            <a:off x="6786720" y="4643280"/>
            <a:ext cx="2147760" cy="928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85840" y="509760"/>
            <a:ext cx="64292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рыноч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оложим, что существуют два центра (город 1 и город 2), обладающие каждый обособленными рыночными зонам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и отделённые друг от друга на расстоя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то есть на 12 км). Тогда можно определить «точку перелома»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или место где товарный поток сходит на нет, в единицах расстояния от второго города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28760" y="3266280"/>
            <a:ext cx="62308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стом случае, когда два города отстоят один от другого на 12 км и обладают одинаковыми по размеру рыночными зонами (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0040" y="4554000"/>
            <a:ext cx="615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20 и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5936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а во втором случае переместится в сторону меньшего центра (рис. 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0" descr=""/>
          <p:cNvPicPr/>
          <p:nvPr/>
        </p:nvPicPr>
        <p:blipFill>
          <a:blip r:embed="rId1"/>
          <a:srcRect l="1582" t="2233" r="1582" b="3350"/>
          <a:stretch/>
        </p:blipFill>
        <p:spPr>
          <a:xfrm>
            <a:off x="1714680" y="500040"/>
            <a:ext cx="5715000" cy="397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85840" y="4864680"/>
            <a:ext cx="8572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между рыночными зонами центральных мест: с одинаковой (а) и с различной (б) «массой»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214200" y="24372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ные вопро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99680" y="1142640"/>
            <a:ext cx="82486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744880"/>
            <a:ext cx="9144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96080" cy="5716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альная экономи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50920" y="1341360"/>
            <a:ext cx="8585280" cy="5184720"/>
            <a:chOff x="250920" y="1341360"/>
            <a:chExt cx="8585280" cy="5184720"/>
          </a:xfrm>
        </p:grpSpPr>
        <p:sp>
          <p:nvSpPr>
            <p:cNvPr id="70" name="AutoShape 26"/>
            <p:cNvSpPr/>
            <p:nvPr/>
          </p:nvSpPr>
          <p:spPr>
            <a:xfrm>
              <a:off x="250920" y="1341360"/>
              <a:ext cx="858528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7"/>
            <p:cNvSpPr/>
            <p:nvPr/>
          </p:nvSpPr>
          <p:spPr>
            <a:xfrm>
              <a:off x="3290760" y="3487680"/>
              <a:ext cx="22831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егиональная эконом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965160" y="1341360"/>
              <a:ext cx="214632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ально-экономическая  ге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6510240" y="1341360"/>
              <a:ext cx="2325960" cy="143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 те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икро- и макроэкономик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0"/>
            <p:cNvSpPr/>
            <p:nvPr/>
          </p:nvSpPr>
          <p:spPr>
            <a:xfrm>
              <a:off x="6510240" y="3129120"/>
              <a:ext cx="2324160" cy="96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траслевая  эконом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1"/>
            <p:cNvSpPr/>
            <p:nvPr/>
          </p:nvSpPr>
          <p:spPr>
            <a:xfrm>
              <a:off x="250920" y="366552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2"/>
            <p:cNvSpPr/>
            <p:nvPr/>
          </p:nvSpPr>
          <p:spPr>
            <a:xfrm>
              <a:off x="250920" y="4559400"/>
              <a:ext cx="2146320" cy="54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арт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3"/>
            <p:cNvSpPr/>
            <p:nvPr/>
          </p:nvSpPr>
          <p:spPr>
            <a:xfrm>
              <a:off x="3827520" y="1341360"/>
              <a:ext cx="2232000" cy="714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статист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4"/>
            <p:cNvSpPr/>
            <p:nvPr/>
          </p:nvSpPr>
          <p:spPr>
            <a:xfrm>
              <a:off x="1860480" y="5632560"/>
              <a:ext cx="2862360" cy="714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ка природопольз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5"/>
            <p:cNvSpPr/>
            <p:nvPr/>
          </p:nvSpPr>
          <p:spPr>
            <a:xfrm>
              <a:off x="3290760" y="2771640"/>
              <a:ext cx="2324160" cy="221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6"/>
            <p:cNvSpPr/>
            <p:nvPr/>
          </p:nvSpPr>
          <p:spPr>
            <a:xfrm>
              <a:off x="250920" y="277164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м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"/>
            <p:cNvSpPr/>
            <p:nvPr/>
          </p:nvSpPr>
          <p:spPr>
            <a:xfrm>
              <a:off x="6510240" y="4379760"/>
              <a:ext cx="232416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правление экономик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енедж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8"/>
            <p:cNvSpPr/>
            <p:nvPr/>
          </p:nvSpPr>
          <p:spPr>
            <a:xfrm>
              <a:off x="5437080" y="5811840"/>
              <a:ext cx="232596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Финанс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 flipV="1">
              <a:off x="2576520" y="4559400"/>
              <a:ext cx="71424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V="1">
              <a:off x="2576520" y="3844800"/>
              <a:ext cx="5349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2576520" y="3013200"/>
              <a:ext cx="71424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 flipV="1">
              <a:off x="3290760" y="4916520"/>
              <a:ext cx="35748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 flipH="1" flipV="1">
              <a:off x="5437080" y="4916160"/>
              <a:ext cx="35712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H="1" flipV="1">
              <a:off x="5793840" y="4379400"/>
              <a:ext cx="53676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 flipH="1">
              <a:off x="5793840" y="3487680"/>
              <a:ext cx="5367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 flipH="1">
              <a:off x="5616720" y="2592360"/>
              <a:ext cx="53640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7"/>
            <p:cNvSpPr/>
            <p:nvPr/>
          </p:nvSpPr>
          <p:spPr>
            <a:xfrm flipH="1">
              <a:off x="5079960" y="2235240"/>
              <a:ext cx="35712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8"/>
            <p:cNvSpPr/>
            <p:nvPr/>
          </p:nvSpPr>
          <p:spPr>
            <a:xfrm>
              <a:off x="3290760" y="2235240"/>
              <a:ext cx="53676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ация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ировка, классификация, тип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9:10:57Z</dcterms:created>
  <dc:creator>User</dc:creator>
  <dc:description/>
  <dc:language>en-US</dc:language>
  <cp:lastModifiedBy>LEGION</cp:lastModifiedBy>
  <dcterms:modified xsi:type="dcterms:W3CDTF">2016-01-04T14:04:04Z</dcterms:modified>
  <cp:revision>67</cp:revision>
  <dc:subject/>
  <dc:title>Региональная экономика</dc:title>
</cp:coreProperties>
</file>