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F57B-91C9-4159-A5DB-868906E467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ое районирова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дходы рассмотрения проблем функционирования регионов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региональной экономик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истемный анали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систематизац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алансов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ормативны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Картографический мето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региональных экономических исследовани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ы для самостоятельной работы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Главные задачи кур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ые ресурсы в Интернете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Росстата – www.gks.r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http://leontief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http://www.regionalistica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http://www.fpcenter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http://www.minregion.ru/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ТЕМА 1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, ОБЪЕКТ И МЕТОДЫ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ОЙ ЭКОНОМИКИ КАК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редмет и объект региональной экономи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Этапы становления наук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содержание и функционирование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regio) в переводе означает страна, край, область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 признаков и обладающая некоторой целостностью, взаимосвязанностью составляющих ее элементов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1DA6-3A4A-44F8-8B23-729FE729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7AF2-CF4C-4140-877B-44D41E49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450-2382-47CF-B274-DB36458F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7BD-B43C-450C-89F3-9CDFC29B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7BF6-625C-46AA-914B-9C2577CE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B07F-E86C-40C3-AFC5-1847E6B1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EE7D-2464-42ED-9424-4D899635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2FC6-22F4-404F-A299-B20ED3FC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8E78-D6B1-423D-BA66-2E17504F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22C8-D8C1-4A9A-B4A8-65122F29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7165-7FC1-44F1-A098-902983AF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E87-17EC-46BA-860F-75341445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1382-FAD1-4F4D-AB5A-7A8F088D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D67F-9F66-454E-9B68-46522AE7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DF36-CC32-46B7-A725-F73CFBA1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FAE1-59DB-4713-8E29-0109269E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AB32-D6A5-4DD5-958F-E8CD4630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0EE-1D7B-4F1F-B392-0B450A7C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8FB-6794-4F2C-832A-2E8BA126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695-C327-4E3D-9ABC-948CD55A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F13-DA06-4148-818B-A8018627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0AA-3347-48D7-823F-D4434F7B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506-D8F6-4CFB-8CBC-03FF38AD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1EF-7003-465A-8AA4-23FC8F1F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364A-4F8C-42BB-8C22-1CA1C3A1A1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827A-9374-4AE2-9CE0-462DA2821B54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gks.ru/" TargetMode="External"/><Relationship Id="rId3" Type="http://schemas.openxmlformats.org/officeDocument/2006/relationships/hyperlink" Target="http://www.gks.ru/" TargetMode="External"/><Relationship Id="rId4" Type="http://schemas.openxmlformats.org/officeDocument/2006/relationships/hyperlink" Target="http://www.gks.ru/" TargetMode="External"/><Relationship Id="rId5" Type="http://schemas.openxmlformats.org/officeDocument/2006/relationships/hyperlink" Target="http://www.gks.ru/" TargetMode="External"/><Relationship Id="rId6" Type="http://schemas.openxmlformats.org/officeDocument/2006/relationships/hyperlink" Target="http://leontief.ru/" TargetMode="External"/><Relationship Id="rId7" Type="http://schemas.openxmlformats.org/officeDocument/2006/relationships/hyperlink" Target="http://leontief.ru/" TargetMode="External"/><Relationship Id="rId8" Type="http://schemas.openxmlformats.org/officeDocument/2006/relationships/hyperlink" Target="http://leontief.ru/" TargetMode="External"/><Relationship Id="rId9" Type="http://schemas.openxmlformats.org/officeDocument/2006/relationships/hyperlink" Target="http://leontief.ru/" TargetMode="External"/><Relationship Id="rId10" Type="http://schemas.openxmlformats.org/officeDocument/2006/relationships/hyperlink" Target="http://leontief.ru/" TargetMode="External"/><Relationship Id="rId11" Type="http://schemas.openxmlformats.org/officeDocument/2006/relationships/hyperlink" Target="http://leontief.ru/" TargetMode="External"/><Relationship Id="rId12" Type="http://schemas.openxmlformats.org/officeDocument/2006/relationships/hyperlink" Target="http://www.regionalistica.ru/" TargetMode="External"/><Relationship Id="rId13" Type="http://schemas.openxmlformats.org/officeDocument/2006/relationships/hyperlink" Target="http://www.regionalistica.ru/" TargetMode="External"/><Relationship Id="rId14" Type="http://schemas.openxmlformats.org/officeDocument/2006/relationships/hyperlink" Target="http://www.regionalistica.ru/" TargetMode="External"/><Relationship Id="rId15" Type="http://schemas.openxmlformats.org/officeDocument/2006/relationships/hyperlink" Target="http://www.regionalistica.ru/" TargetMode="External"/><Relationship Id="rId16" Type="http://schemas.openxmlformats.org/officeDocument/2006/relationships/hyperlink" Target="http://www.regionalistica.ru/" TargetMode="External"/><Relationship Id="rId17" Type="http://schemas.openxmlformats.org/officeDocument/2006/relationships/hyperlink" Target="http://www.regionalistica.ru/" TargetMode="External"/><Relationship Id="rId18" Type="http://schemas.openxmlformats.org/officeDocument/2006/relationships/hyperlink" Target="http://www.regionalistica.ru/" TargetMode="External"/><Relationship Id="rId19" Type="http://schemas.openxmlformats.org/officeDocument/2006/relationships/hyperlink" Target="http://www.regionalistica.ru/" TargetMode="External"/><Relationship Id="rId20" Type="http://schemas.openxmlformats.org/officeDocument/2006/relationships/hyperlink" Target="http://www.fpcenter.ru/" TargetMode="External"/><Relationship Id="rId21" Type="http://schemas.openxmlformats.org/officeDocument/2006/relationships/hyperlink" Target="http://www.fpcenter.ru/" TargetMode="External"/><Relationship Id="rId22" Type="http://schemas.openxmlformats.org/officeDocument/2006/relationships/hyperlink" Target="http://www.fpcenter.ru/" TargetMode="External"/><Relationship Id="rId23" Type="http://schemas.openxmlformats.org/officeDocument/2006/relationships/hyperlink" Target="http://www.fpcenter.ru/" TargetMode="External"/><Relationship Id="rId24" Type="http://schemas.openxmlformats.org/officeDocument/2006/relationships/hyperlink" Target="http://www.fpcenter.ru/" TargetMode="External"/><Relationship Id="rId25" Type="http://schemas.openxmlformats.org/officeDocument/2006/relationships/hyperlink" Target="http://www.fpcenter.ru/" TargetMode="External"/><Relationship Id="rId26" Type="http://schemas.openxmlformats.org/officeDocument/2006/relationships/hyperlink" Target="http://www.fpcenter.ru/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0000"/>
            <a:ext cx="708660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ональная экономика и упр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39640" y="4571640"/>
            <a:ext cx="5638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Курс лекци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оташева Ольга Вячеславовн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научный сотрудник ИЭ КарНЦ РАН, к.э.н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01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номическое район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 экономическом районировании в Российской Федерации выделяют 12 экономических районов (ЭР)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Центрально-Чернозём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сточ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Дальневосточны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Кавказ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веро-Западны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оволж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Ураль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олго-Вят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Западно-Сибирский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ибалтийски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91200" y="630864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http://openbudget.karelia.ru/budnord/russian/russia_map.ht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5514840" cy="3249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ходы рассмотрения проблем функционирования регион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Мирохозяй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еополитически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о-воспроизводственный подход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оцесс воспроизводств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15824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ы рег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истемный анализ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систематизации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Балансов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ормативны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географического исслед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Картографический метод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 экономико-математического моделирования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53200" indent="-42192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Методы многомерного статистического анализа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циологических исследован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Методы сопоставления региональных уровней жизни населения и прогнозирования развития региональной социальной инфраструктуры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апы региональных экономических исследова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России в 20-е годы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ИОКР связан с территориальным развитием и индустриализацией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ачало 60-х годов ХХ века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опросы развития и размещения промышленных производств, отраслей промышленности по территории страны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осле распада СССР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адаптацией региональной экономики, её методологической базы крыночным отношениям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1578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нятие пространственного развития, факторы , отражающие влияние пространств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Задачи управления регионом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азмещение производительных сил – закономерности, принципы и фактор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ые задачи 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ить фундаментальные знания по теоретическим вопросам регионального управл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знакомиться с состоянием экономики российских регионов, с основными проблемами и путями их решения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работать навыки системного, комплексного подхода к решению проблем регионального управления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ерриториальная организаци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управлен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иполог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Дифференциация регион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ое развити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Бутов В.И., Игнатов В.Г., Кетова Н.В. Основы региональной экономики.- М.,2000 г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/Тяглов С.Г., Черныш Е.А., Молчанова Н.П. и др. /Под редакцией проф. Н.Г. Кузнецова и проф. Тяглова С.Г. – Ростов н/Д., 2001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ое пособие/Под ред. М.В. Степанова. – М., 2002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: Учебник/ Под ред. В.И. Видяпина, М.В. Степанова. – М.: ИНФРА-М, 2005. – 686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ое развитие: опыт России и Европейского Союза. Под ред. А.Г.Гранберга. – М., 2001. 2003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оведение / Под ред. Т.Г. Морозовой. – М.: ИНФРА-М, 2004. – 567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ровень жизни населения Томской области. 2005 г. – Томск, 2006. – 120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Экономическая и региональная география России/ Под ред. А.П. Хрущева. – М.: Дрофа, 2002. – 672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Тургель И.Д. Региональная экономика и управление: Курс лекций. – М.: РУДН, 2003. – 403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Региональная экономика и управление: Учебное пособие / А.А. Воронина, Л.Н. Лисовцева, Б.Г. Преображенский, Н.И. Рогачева и др. – Воронеж: Воронежский государственный университет, 2004. – с. 7-8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правление региональной экономикой / Г.В. Гутман, А.А. Мироедов, С.В. Федин; Под ред. Г.В. Гутмана. – М.: Финансы и статистика, 2002. – 176 с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15824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формационные ресурсы в Интерне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информационно-аналитические сайты регионов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Росстата –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gks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r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еждународного центра социально-экономических исследований Леонтьевский центр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leontief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Института регион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regionalistica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ru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Центра фискальной политики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://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www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fpcenter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.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нистерства регионального развития - 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http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://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minregion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йт Мирового банка - http://web.worldbank.or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1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, ОБЪЕКТ И МЕТОД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ОЙ ЭКОНОМИКИ КАК НА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1. Предмет и объект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2. Методы региональной экономики.</a:t>
            </a:r>
            <a:br>
              <a:rPr sz="2800"/>
            </a:b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3. Этапы региональных экономических исследований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90264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 и объект региональн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гиональная экономика  - наук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изучает проблемы и закономерности функционирования и развития экономики страны, которая рассматривается как система взаимодействующих регионов, свободных экономических зон, крупных экономических районов, отдельных территориально-производственных комплексов, а также крупных промышленных и городских агломераций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апы становления на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ыделяют три этапа развития теоретических основ региональной экономики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Зарождение теорий и их генезис в рамках науки Запад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азвитие в СССР; сближение региональных исследований Запада и Востока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Современные направления развития регионально экономики как единой мировой наук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15824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гион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держание и функциониров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«регион»- слово латинского происхождения (от корня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gio)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в переводе означает страна, край,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бласть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егион – это определенная территория, отличающаяся от других территорий по ряду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изнаков и обладающая некоторой целостностью, взаимосвязанностью составляющих ее элементов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7:16:08Z</dcterms:created>
  <dc:creator>potasheva</dc:creator>
  <dc:description/>
  <dc:language>en-US</dc:language>
  <cp:lastModifiedBy>LEGION</cp:lastModifiedBy>
  <dcterms:modified xsi:type="dcterms:W3CDTF">2016-01-04T14:04:10Z</dcterms:modified>
  <cp:revision>11</cp:revision>
  <dc:subject/>
  <dc:title>Региональная экономика и управление</dc:title>
</cp:coreProperties>
</file>