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EDA1-33CC-4D0E-848B-68E2F3665D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ле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ашева Ольга Вяче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й сотрудник ИЭ КарНЦ РАН, к.э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Курс лекц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ташева Ольга Вячеславовн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аучный сотрудник ИЭ КарНЦ РАН, к.э.н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2010 г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й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о-Чернозём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очно-Сибир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о-Кавказ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о-Запад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олж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ль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го-Вят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адно-Сибир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алт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openbudget.karelia.ru/budnord/russian/russia_ma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кономическое районирова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Централь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Центрально-Чернозём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сточно-Сибир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Дальневосточны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о-Кавказ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о-Запад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волж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раль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лго-Вят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падно-Сибир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ибалтийск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http://openbudget.karelia.ru/budnord/russian/russia_map.ht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рассмотрения проблем функционирования регион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хозяйственны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политически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о-воспроизводственны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вос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дходы рассмотрения проблем функционирования регионов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ирохозяйственны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еополитически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рриториально-воспроизводственны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еографическо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оцесс воспроизводств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ный анал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истемат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овы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экономико-географического исслед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ографически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экономико-математического моде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ногомерного статистического 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оциологически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региональной экономик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истемный анализ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систематизаци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Балансовы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ормативны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экономико-географического исследования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Картографически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экономико-математического моделирования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многомерного статистического анализ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социологических исследован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егиональных экономических исслед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в 20-е годы ХХ 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 60-х годов ХХ 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распада ССС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тапы региональных экономических исследован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 России в 20-е годы ХХ век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ачало 60-х годов ХХ век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сле распада СССР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управления реги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просы для самостоятельной работы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дачи управления регионом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е задачи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лавные задачи кур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ая 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ология рег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ция рег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рриториальная организац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ипология регион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Дифференциация регион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развит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ресурсы в Интернет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-аналитические сайты регион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Росстата – www.gk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еждународного центра социально-экономических исследований Леонтьевский центр http://leontief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Института региональной политики - http://www.regionalistica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Центра фискальной политики - http://www.fpcenter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инистерства регионального развития -  http://www.minregion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ирового банка - http://web.worldbank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нформационные ресурсы в Интернете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нформационно-аналитические сайты регионов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Росстата – www.gks.r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еждународного центра социально-экономических исследований Леонтьевский центр http://leontief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Института региональной политики - http://www.regionalistica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Центра фискальной политики - http://www.fpcenter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инистерства регионального развития -  http://www.minregion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ирового банка - http://web.worldbank.or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, ОБЪЕКТ И МЕТО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Й ЭКОНОМИКИ КАК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едмет и объект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етоды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МА 1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ЕДМЕТ, ОБЪЕКТ И МЕТОДЫ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Й ЭКОНОМИКИ КАК НАУ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1. Предмет и объект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2. Методы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и объект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 - на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едмет и объект региональной экономи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 - наук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становлен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тапы становления нау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функционир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егион»- слово латинского происхождения (от корня regio) в переводе означает страна, край, обла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 – это определенная территория, отличающаяся от других территорий по ряду признаков и обладающая некоторой целостностью, взаимосвязанностью составляющих ее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: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одержание и функционирование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«регион»- слово латинского происхождения (от корня regio) в переводе означает страна, край, область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 – это определенная территория, отличающаяся от других территорий по ряду признаков и обладающая некоторой целостностью, взаимосвязанностью составляющих ее элементов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F653-D902-45AD-83E3-84F86628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2E1-CFD3-40B7-B1BB-FD877738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3B0-D804-4B9D-9C38-0A56EE16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20AE-8510-4CBD-8C0A-48A362DC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65C4-E61E-4D02-9AC2-E7F3B261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2F6F-757C-4F86-ACB5-6D9C8739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61A6-684F-4481-80B7-62CF15DF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8E1F-6963-4892-91A6-91F49F00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8810-E852-4223-94F8-57BAD44E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1219-51F8-45C2-AAB1-A822E043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2E59-6C4B-4D73-89B8-E5ACE457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50D-2427-405C-A3E1-DC16583F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58D0-023A-4CD6-A364-C6CCA0FF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8964-3B07-4419-9A26-2F1E15A5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9FD3-2211-41A5-9D0C-8B9C6C10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0813-DC0B-431A-AD50-82FF27CF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D069-6328-4EC2-91F1-D6A11EB4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19A-7300-4EB8-ABD9-9D939450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1C1-E351-45BB-934E-3CE793C7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D43D-1B62-402F-AC97-9D7F93D0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68F-8204-44F0-8A1D-7CDA66FB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FAC5-3AC2-41C6-8EE8-823997C2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3A5-E392-471A-B34D-718C2C03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B62-68B3-4AC7-B58D-24DB2E8B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2377-EA06-46B2-91E9-F5FAB6E47A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4692-33FA-4E4F-BDD4-E02F33DF3E91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ks.ru/" TargetMode="External"/><Relationship Id="rId2" Type="http://schemas.openxmlformats.org/officeDocument/2006/relationships/hyperlink" Target="http://www.gks.ru/" TargetMode="External"/><Relationship Id="rId3" Type="http://schemas.openxmlformats.org/officeDocument/2006/relationships/hyperlink" Target="http://www.gks.ru/" TargetMode="External"/><Relationship Id="rId4" Type="http://schemas.openxmlformats.org/officeDocument/2006/relationships/hyperlink" Target="http://www.gks.ru/" TargetMode="External"/><Relationship Id="rId5" Type="http://schemas.openxmlformats.org/officeDocument/2006/relationships/hyperlink" Target="http://www.gks.ru/" TargetMode="External"/><Relationship Id="rId6" Type="http://schemas.openxmlformats.org/officeDocument/2006/relationships/hyperlink" Target="http://leontief.ru/" TargetMode="External"/><Relationship Id="rId7" Type="http://schemas.openxmlformats.org/officeDocument/2006/relationships/hyperlink" Target="http://leontief.ru/" TargetMode="External"/><Relationship Id="rId8" Type="http://schemas.openxmlformats.org/officeDocument/2006/relationships/hyperlink" Target="http://leontief.ru/" TargetMode="External"/><Relationship Id="rId9" Type="http://schemas.openxmlformats.org/officeDocument/2006/relationships/hyperlink" Target="http://leontief.ru/" TargetMode="External"/><Relationship Id="rId10" Type="http://schemas.openxmlformats.org/officeDocument/2006/relationships/hyperlink" Target="http://leontief.ru/" TargetMode="External"/><Relationship Id="rId11" Type="http://schemas.openxmlformats.org/officeDocument/2006/relationships/hyperlink" Target="http://leontief.ru/" TargetMode="External"/><Relationship Id="rId12" Type="http://schemas.openxmlformats.org/officeDocument/2006/relationships/hyperlink" Target="http://www.regionalistica.ru/" TargetMode="External"/><Relationship Id="rId13" Type="http://schemas.openxmlformats.org/officeDocument/2006/relationships/hyperlink" Target="http://www.regionalistica.ru/" TargetMode="External"/><Relationship Id="rId14" Type="http://schemas.openxmlformats.org/officeDocument/2006/relationships/hyperlink" Target="http://www.regionalistica.ru/" TargetMode="External"/><Relationship Id="rId15" Type="http://schemas.openxmlformats.org/officeDocument/2006/relationships/hyperlink" Target="http://www.regionalistica.ru/" TargetMode="External"/><Relationship Id="rId16" Type="http://schemas.openxmlformats.org/officeDocument/2006/relationships/hyperlink" Target="http://www.regionalistica.ru/" TargetMode="External"/><Relationship Id="rId17" Type="http://schemas.openxmlformats.org/officeDocument/2006/relationships/hyperlink" Target="http://www.regionalistica.ru/" TargetMode="External"/><Relationship Id="rId18" Type="http://schemas.openxmlformats.org/officeDocument/2006/relationships/hyperlink" Target="http://www.regionalistica.ru/" TargetMode="External"/><Relationship Id="rId19" Type="http://schemas.openxmlformats.org/officeDocument/2006/relationships/hyperlink" Target="http://www.regionalistica.ru/" TargetMode="External"/><Relationship Id="rId20" Type="http://schemas.openxmlformats.org/officeDocument/2006/relationships/hyperlink" Target="http://www.fpcenter.ru/" TargetMode="External"/><Relationship Id="rId21" Type="http://schemas.openxmlformats.org/officeDocument/2006/relationships/hyperlink" Target="http://www.fpcenter.ru/" TargetMode="External"/><Relationship Id="rId22" Type="http://schemas.openxmlformats.org/officeDocument/2006/relationships/hyperlink" Target="http://www.fpcenter.ru/" TargetMode="External"/><Relationship Id="rId23" Type="http://schemas.openxmlformats.org/officeDocument/2006/relationships/hyperlink" Target="http://www.fpcenter.ru/" TargetMode="External"/><Relationship Id="rId24" Type="http://schemas.openxmlformats.org/officeDocument/2006/relationships/hyperlink" Target="http://www.fpcenter.ru/" TargetMode="External"/><Relationship Id="rId25" Type="http://schemas.openxmlformats.org/officeDocument/2006/relationships/hyperlink" Target="http://www.fpcenter.ru/" TargetMode="External"/><Relationship Id="rId26" Type="http://schemas.openxmlformats.org/officeDocument/2006/relationships/hyperlink" Target="http://www.fpcenter.ru/" TargetMode="Externa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0000"/>
            <a:ext cx="708660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339640" y="4571640"/>
            <a:ext cx="5638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Курс лекций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оташева Ольга Вячеславовн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научный сотрудник ИЭ КарНЦ РАН, к.э.н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010 г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1578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номическое район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Централь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Центрально-Чернозём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осточно-Сибир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Дальневосточны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о-Кавказ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о-Запад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оволж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Ураль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олго-Вят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Западно-Сибир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ибалтийски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91200" y="630864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http://openbudget.karelia.ru/budnord/russian/russia_map.ht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5514840" cy="3249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15788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ходы рассмотрения проблем функционирования регион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Мирохозяйственны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Геополитически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ерриториально-воспроизводственны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Географическое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оцесс воспроизводства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158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тоды рег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истемный анализ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систематизации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Балансовы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Нормативны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экономико-географического исследования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Картографически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экономико-математического моделирования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53200" indent="-42192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Методы многомерного статистического анализа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ы социологических исследовани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тапы региональных экономических исследова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 России в 20-е годы ХХ века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начало 60-х годов ХХ века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осле распада СССР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1578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Задачи управления регионом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ые задачи 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Управлен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ерриториальная организация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ое управлен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ипология регионо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Дифференциация регионо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ое развит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15824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формационные ресурсы в Интерне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информационно-аналитические сайты регионов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Росстата –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gks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r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еждународного центра социально-экономических исследований Леонтьевский центр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leontief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ru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Института региональной политики -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regionalistica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8"/>
              </a:rPr>
              <a:t>ru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9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Центра фискальной политики -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0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1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2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3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4"/>
              </a:rPr>
              <a:t>fpcenter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5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6"/>
              </a:rPr>
              <a:t>ru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инистерства регионального развития -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http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://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minregion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ru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ирового банка - http://web.worldbank.or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1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, ОБЪЕКТ И МЕТОД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ОНАЛЬНОЙ ЭКОНОМИКИ КАК НА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1. Предмет и объект региональной экономики.</a:t>
            </a:r>
            <a:br>
              <a:rPr sz="2800"/>
            </a:b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2. Методы региональной экономики.</a:t>
            </a:r>
            <a:br>
              <a:rPr sz="2800"/>
            </a:b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690264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 и объект региональной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ая экономика  - наук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апы становления нау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15824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егион: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держание и функционирова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«регион»- слово латинского происхождения (от корня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gio)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 переводе означает страна, край,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бласть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егион – это определенная территория, отличающаяся от других территорий по ряду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изнаков и обладающая некоторой целостностью, взаимосвязанностью составляющих ее элементов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7:16:08Z</dcterms:created>
  <dc:creator>potasheva</dc:creator>
  <dc:description/>
  <dc:language>en-US</dc:language>
  <cp:lastModifiedBy>LEGION</cp:lastModifiedBy>
  <dcterms:modified xsi:type="dcterms:W3CDTF">2016-01-04T14:04:10Z</dcterms:modified>
  <cp:revision>11</cp:revision>
  <dc:subject/>
  <dc:title>Региональная экономика и управление</dc:title>
</cp:coreProperties>
</file>