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61D7-DA64-4D8F-BFDA-06F4C8403F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окуп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ое равновес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в экономик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ко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-за резкого ро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происход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издерж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й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ое сокращ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еурож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йн и других соци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родных катакл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в экономике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котор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-за резкого рос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 происход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издерж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й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еурож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йн и других социаль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иродных катакл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≈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≈ ВВ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 зависит 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на рынке труд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а, земли и других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в технологи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а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й на рынке труд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, земли и других природны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й в технологии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различаются между собой индивидуальное, рыночное и совокупное предлож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различаются между собой индивидуальное, рыночное и совокупное предлож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извод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цен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производ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правовых н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 совокупного пред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йнсиа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Кей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ейнсиан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.Кейн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кроэкономическое равновес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ое равновес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к спроса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спро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ок спроса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479-519C-4334-B211-BD2F2696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CD6-178A-46D1-836F-BC2943CD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30B-462D-4CAE-827D-80CB5A17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D88-FA7A-476F-84F4-A1D2BF61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8BA7-7A78-4978-A7AF-DD0003F1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238D-8C57-47CB-8A47-084BFB99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87C3-C346-4481-AD4B-52BE5808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7A6D-3421-45C4-907A-0A8844B5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EE4B-9A4C-4757-8264-85E56A22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9BA0-CDB6-413E-9344-C2F5237D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F7D2-CD2F-4D55-ACC9-203D5CCD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80F-C841-4C3E-A229-4EE2F526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38D6-D7A9-49E1-B3F1-BC3FD40C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0C7D-370C-4EE9-ABB9-2C4A6231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5AF8-37A0-4C6A-9FC5-2218A3EE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D0E7-EFED-4ADF-990C-C5C5B8D6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F936-039B-43D2-B1E1-9A415D87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1BC-F4D9-4E96-81F2-B35A6D3A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A38-00E8-4A52-A28B-BAD9FF7D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83F-EEE7-434B-BDA4-98EB02ED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A333-FFE5-41B4-960C-A24A815E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0BF-C7DA-4924-AE60-F7A5B978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D3D-EAC5-4A01-ABEF-9D9C4BBC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647-1482-4E49-A37F-43A9C523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9B5A-E6F4-4C2A-938D-E079624568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BF0A-C5D6-406C-85FC-52352645B5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7280" y="1828800"/>
            <a:ext cx="74170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"/>
              </a:rPr>
              <a:t>Совокупное предложение</a:t>
            </a:r>
            <a:endParaRPr b="0" i="1" lang="en-US" sz="5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6600"/>
                </a:solidFill>
                <a:latin typeface="Arial"/>
              </a:rPr>
              <a:t>Макроэкономическое равновес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ок предложения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4" name="Picture 7" descr="Картинка 28 из 302"/>
          <p:cNvPicPr/>
          <p:nvPr/>
        </p:nvPicPr>
        <p:blipFill>
          <a:blip r:embed="rId1"/>
          <a:stretch/>
        </p:blipFill>
        <p:spPr>
          <a:xfrm>
            <a:off x="2987640" y="4581360"/>
            <a:ext cx="2808360" cy="2102040"/>
          </a:xfrm>
          <a:prstGeom prst="rect">
            <a:avLst/>
          </a:prstGeom>
          <a:ln w="0">
            <a:noFill/>
          </a:ln>
        </p:spPr>
      </p:pic>
      <p:sp>
        <p:nvSpPr>
          <p:cNvPr id="385" name="Line 9"/>
          <p:cNvSpPr/>
          <p:nvPr/>
        </p:nvSpPr>
        <p:spPr>
          <a:xfrm flipH="1">
            <a:off x="3634920" y="836640"/>
            <a:ext cx="792360" cy="43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4427640" y="836640"/>
            <a:ext cx="865080" cy="50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Блок-схема: альтернативный процесс 4"/>
          <p:cNvSpPr/>
          <p:nvPr/>
        </p:nvSpPr>
        <p:spPr>
          <a:xfrm>
            <a:off x="395280" y="1341360"/>
            <a:ext cx="3745080" cy="302436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туация в экономик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ко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-за резкого рос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 происход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ение издерж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сей экономи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Блок-схема: альтернативный процесс 4"/>
          <p:cNvSpPr/>
          <p:nvPr/>
        </p:nvSpPr>
        <p:spPr>
          <a:xfrm>
            <a:off x="4716360" y="1413000"/>
            <a:ext cx="4032360" cy="29527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кое сокращ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окупного предлож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езультате неурож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йн и других социа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риродных катаклизм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Arial"/>
              </a:rPr>
              <a:t>Совокупное предложение</a:t>
            </a:r>
            <a:r>
              <a:rPr b="0" i="1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10920" y="1125360"/>
            <a:ext cx="79880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категория макроэкономики, характеризующая полное количество товаров и услуг, которое может быть предложено на рынке при различных уровнях ц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Содержимое 6"/>
          <p:cNvSpPr/>
          <p:nvPr/>
        </p:nvSpPr>
        <p:spPr>
          <a:xfrm>
            <a:off x="826920" y="4724280"/>
            <a:ext cx="7772400" cy="12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овокупное предложение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Совокупное предложение зависит от:</a:t>
            </a:r>
            <a:r>
              <a:rPr b="0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Блок-схема: альтернативный процесс 4"/>
          <p:cNvSpPr/>
          <p:nvPr/>
        </p:nvSpPr>
        <p:spPr>
          <a:xfrm>
            <a:off x="468360" y="1125360"/>
            <a:ext cx="8280360" cy="5749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ера зат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Блок-схема: альтернативный процесс 5"/>
          <p:cNvSpPr/>
          <p:nvPr/>
        </p:nvSpPr>
        <p:spPr>
          <a:xfrm>
            <a:off x="468360" y="2133720"/>
            <a:ext cx="8353440" cy="1224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й на рынке труд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питала, земли и других природных ресур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Блок-схема: альтернативный процесс 6"/>
          <p:cNvSpPr/>
          <p:nvPr/>
        </p:nvSpPr>
        <p:spPr>
          <a:xfrm>
            <a:off x="468360" y="3860640"/>
            <a:ext cx="8280360" cy="11527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й в технологи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ительности тру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опрос</a:t>
            </a:r>
            <a:br>
              <a:rPr sz="4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5" name="Picture 5" descr="E:\marina\картинки\человек\Рисунок1.gif"/>
          <p:cNvPicPr/>
          <p:nvPr/>
        </p:nvPicPr>
        <p:blipFill>
          <a:blip r:embed="rId1"/>
          <a:stretch/>
        </p:blipFill>
        <p:spPr>
          <a:xfrm>
            <a:off x="7740720" y="4869000"/>
            <a:ext cx="1038240" cy="1333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E:\marina\картинки\разное\Vopros[1].jpg"/>
          <p:cNvPicPr/>
          <p:nvPr/>
        </p:nvPicPr>
        <p:blipFill>
          <a:blip r:embed="rId2"/>
          <a:srcRect l="5414" t="1721" r="4873" b="4016"/>
          <a:stretch/>
        </p:blipFill>
        <p:spPr>
          <a:xfrm>
            <a:off x="8101080" y="260280"/>
            <a:ext cx="595080" cy="593640"/>
          </a:xfrm>
          <a:prstGeom prst="rect">
            <a:avLst/>
          </a:prstGeom>
          <a:ln w="0">
            <a:noFill/>
          </a:ln>
        </p:spPr>
      </p:pic>
      <p:sp>
        <p:nvSpPr>
          <p:cNvPr id="347" name="Овальная выноска 8"/>
          <p:cNvSpPr/>
          <p:nvPr/>
        </p:nvSpPr>
        <p:spPr>
          <a:xfrm>
            <a:off x="1042920" y="1413000"/>
            <a:ext cx="7274160" cy="2879640"/>
          </a:xfrm>
          <a:prstGeom prst="wedgeEllipseCallout">
            <a:avLst>
              <a:gd name="adj1" fmla="val 39305"/>
              <a:gd name="adj2" fmla="val 915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ем различаются между собой индивидуальное, рыночное и совокупное предложе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Овальная выноска 8"/>
          <p:cNvSpPr/>
          <p:nvPr/>
        </p:nvSpPr>
        <p:spPr>
          <a:xfrm>
            <a:off x="1042920" y="1413000"/>
            <a:ext cx="7274160" cy="2879640"/>
          </a:xfrm>
          <a:prstGeom prst="wedgeEllipseCallout">
            <a:avLst>
              <a:gd name="adj1" fmla="val 39305"/>
              <a:gd name="adj2" fmla="val 915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очему увеличение рыночного предложения имеет менее жесткие границы, чем совокупного предложе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ценовые факторы совокупного предложения</a:t>
            </a:r>
            <a:r>
              <a:rPr b="0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Блок-схема: альтернативный процесс 4"/>
          <p:cNvSpPr/>
          <p:nvPr/>
        </p:nvSpPr>
        <p:spPr>
          <a:xfrm>
            <a:off x="468360" y="1125360"/>
            <a:ext cx="8280360" cy="57492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цен на ресур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Блок-схема: альтернативный процесс 5"/>
          <p:cNvSpPr/>
          <p:nvPr/>
        </p:nvSpPr>
        <p:spPr>
          <a:xfrm>
            <a:off x="539640" y="2924280"/>
            <a:ext cx="8353440" cy="57456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производ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Блок-схема: альтернативный процесс 6"/>
          <p:cNvSpPr/>
          <p:nvPr/>
        </p:nvSpPr>
        <p:spPr>
          <a:xfrm>
            <a:off x="468360" y="4724280"/>
            <a:ext cx="8280360" cy="648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правовых нор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Times New Roman"/>
              </a:rPr>
              <a:t>Неценовые факторы совокупного предложения</a:t>
            </a:r>
            <a:r>
              <a:rPr b="0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Picture 6" descr="macroecon-003"/>
          <p:cNvPicPr/>
          <p:nvPr/>
        </p:nvPicPr>
        <p:blipFill>
          <a:blip r:embed="rId1"/>
          <a:srcRect l="10635" t="4082" r="8181" b="12245"/>
          <a:stretch/>
        </p:blipFill>
        <p:spPr>
          <a:xfrm>
            <a:off x="468360" y="1125360"/>
            <a:ext cx="5095800" cy="5266080"/>
          </a:xfrm>
          <a:prstGeom prst="rect">
            <a:avLst/>
          </a:prstGeom>
          <a:ln w="0">
            <a:noFill/>
          </a:ln>
        </p:spPr>
      </p:pic>
      <p:sp>
        <p:nvSpPr>
          <p:cNvPr id="357" name="Line 9"/>
          <p:cNvSpPr/>
          <p:nvPr/>
        </p:nvSpPr>
        <p:spPr>
          <a:xfrm>
            <a:off x="1116000" y="472428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4572000" y="1989000"/>
            <a:ext cx="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rc 11"/>
          <p:cNvSpPr/>
          <p:nvPr/>
        </p:nvSpPr>
        <p:spPr>
          <a:xfrm flipV="1">
            <a:off x="3419640" y="3141720"/>
            <a:ext cx="1152360" cy="1582560"/>
          </a:xfrm>
          <a:custGeom>
            <a:avLst/>
            <a:gdLst>
              <a:gd name="textAreaLeft" fmla="*/ 0 w 1152360"/>
              <a:gd name="textAreaRight" fmla="*/ 1152360 w 1152360"/>
              <a:gd name="textAreaTop" fmla="*/ 360 h 1582560"/>
              <a:gd name="textAreaBottom" fmla="*/ 1583280 h 1582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1116000" y="5445000"/>
            <a:ext cx="2303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5148360" y="2060640"/>
            <a:ext cx="0" cy="1152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rc 14"/>
          <p:cNvSpPr/>
          <p:nvPr/>
        </p:nvSpPr>
        <p:spPr>
          <a:xfrm flipV="1">
            <a:off x="3419640" y="3181320"/>
            <a:ext cx="1730160" cy="2263680"/>
          </a:xfrm>
          <a:custGeom>
            <a:avLst/>
            <a:gdLst>
              <a:gd name="textAreaLeft" fmla="*/ 0 w 1730160"/>
              <a:gd name="textAreaRight" fmla="*/ 1730520 w 1730160"/>
              <a:gd name="textAreaTop" fmla="*/ 360 h 2263680"/>
              <a:gd name="textAreaBottom" fmla="*/ 2264400 h 2263680"/>
            </a:gdLst>
            <a:ahLst/>
            <a:rect l="textAreaLeft" t="textAreaTop" r="textAreaRight" b="textAreaBottom"/>
            <a:pathLst>
              <a:path fill="none" w="21600" h="2192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07"/>
                  <a:pt x="21599" y="21815"/>
                  <a:pt x="21597" y="21922"/>
                </a:cubicBezTo>
              </a:path>
              <a:path stroke="0" w="21600" h="2192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707"/>
                  <a:pt x="21599" y="21815"/>
                  <a:pt x="21597" y="2192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5"/>
          <p:cNvSpPr/>
          <p:nvPr/>
        </p:nvSpPr>
        <p:spPr>
          <a:xfrm flipV="1">
            <a:off x="2843280" y="4723920"/>
            <a:ext cx="0" cy="360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6"/>
          <p:cNvSpPr/>
          <p:nvPr/>
        </p:nvSpPr>
        <p:spPr>
          <a:xfrm flipH="1" flipV="1">
            <a:off x="4500360" y="3141720"/>
            <a:ext cx="431640" cy="712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7"/>
          <p:cNvSpPr/>
          <p:nvPr/>
        </p:nvSpPr>
        <p:spPr>
          <a:xfrm flipH="1" flipV="1">
            <a:off x="4067280" y="4508280"/>
            <a:ext cx="288720" cy="144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987640" y="5084640"/>
            <a:ext cx="0" cy="28908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9"/>
          <p:cNvSpPr/>
          <p:nvPr/>
        </p:nvSpPr>
        <p:spPr>
          <a:xfrm>
            <a:off x="4211640" y="4797360"/>
            <a:ext cx="289080" cy="2160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0"/>
          <p:cNvSpPr/>
          <p:nvPr/>
        </p:nvSpPr>
        <p:spPr>
          <a:xfrm>
            <a:off x="4788000" y="3500280"/>
            <a:ext cx="36036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Содержимое 6"/>
          <p:cNvSpPr/>
          <p:nvPr/>
        </p:nvSpPr>
        <p:spPr>
          <a:xfrm>
            <a:off x="5940360" y="1268280"/>
            <a:ext cx="28796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фически их воздействие на совокупное предложение изображается сдвигом кривой совокупного предложения влево или впра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Times New Roman"/>
              </a:rPr>
              <a:t>Макроэкономические модели</a:t>
            </a: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2" name="Содержимое 6"/>
          <p:cNvSpPr/>
          <p:nvPr/>
        </p:nvSpPr>
        <p:spPr>
          <a:xfrm>
            <a:off x="3635280" y="981000"/>
            <a:ext cx="53294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ейнсиан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экономическая те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окупность макроэкономических концепций, в соответствии с которыми современная рыночная экономика  сама по себе не  обеспечивает полное использование своих ресурсов, и для достижения их полной занятости следует применять фискальную и кредитно-денежную полити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18" descr="Картинка 1 из 1552"/>
          <p:cNvPicPr/>
          <p:nvPr/>
        </p:nvPicPr>
        <p:blipFill>
          <a:blip r:embed="rId1"/>
          <a:stretch/>
        </p:blipFill>
        <p:spPr>
          <a:xfrm>
            <a:off x="539640" y="1052640"/>
            <a:ext cx="2981520" cy="3809880"/>
          </a:xfrm>
          <a:prstGeom prst="rect">
            <a:avLst/>
          </a:prstGeom>
          <a:ln w="0">
            <a:noFill/>
          </a:ln>
        </p:spPr>
      </p:pic>
      <p:sp>
        <p:nvSpPr>
          <p:cNvPr id="374" name="Блок-схема: альтернативный процесс 5"/>
          <p:cNvSpPr/>
          <p:nvPr/>
        </p:nvSpPr>
        <p:spPr>
          <a:xfrm>
            <a:off x="539640" y="4365720"/>
            <a:ext cx="2952720" cy="576000"/>
          </a:xfrm>
          <a:prstGeom prst="flowChartAlternateProcess">
            <a:avLst/>
          </a:prstGeom>
          <a:solidFill>
            <a:srgbClr val="ffd5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.Кей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7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-48,-2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Макроэкономическое равновесие</a:t>
            </a: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77" name="Picture 7" descr="Картинка 28 из 67"/>
          <p:cNvPicPr/>
          <p:nvPr/>
        </p:nvPicPr>
        <p:blipFill>
          <a:blip r:embed="rId1"/>
          <a:stretch/>
        </p:blipFill>
        <p:spPr>
          <a:xfrm>
            <a:off x="826920" y="1052640"/>
            <a:ext cx="7345440" cy="553392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Шок спроса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0" name="Picture 7" descr="Картинка 21 из 1231"/>
          <p:cNvPicPr/>
          <p:nvPr/>
        </p:nvPicPr>
        <p:blipFill>
          <a:blip r:embed="rId1"/>
          <a:srcRect l="0" t="5039" r="10798" b="0"/>
          <a:stretch/>
        </p:blipFill>
        <p:spPr>
          <a:xfrm>
            <a:off x="1692360" y="1052640"/>
            <a:ext cx="5905440" cy="3671640"/>
          </a:xfrm>
          <a:prstGeom prst="rect">
            <a:avLst/>
          </a:prstGeom>
          <a:ln w="0">
            <a:noFill/>
          </a:ln>
        </p:spPr>
      </p:pic>
      <p:sp>
        <p:nvSpPr>
          <p:cNvPr id="381" name="Содержимое 6"/>
          <p:cNvSpPr/>
          <p:nvPr/>
        </p:nvSpPr>
        <p:spPr>
          <a:xfrm>
            <a:off x="1332000" y="4724280"/>
            <a:ext cx="6696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ок спро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ситуация, которая ведет к значительному потреблению во всей экономике страны вследствие резкого повышения дохо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04:20:26Z</dcterms:created>
  <dc:creator>Администратор</dc:creator>
  <dc:description/>
  <dc:language>en-US</dc:language>
  <cp:lastModifiedBy>LEGION</cp:lastModifiedBy>
  <dcterms:modified xsi:type="dcterms:W3CDTF">2016-01-04T14:04:30Z</dcterms:modified>
  <cp:revision>50</cp:revision>
  <dc:subject/>
  <dc:title>Спрос. Закон спроса. Эластичность спроса</dc:title>
</cp:coreProperties>
</file>