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ема 5. Системный характер национальной эконом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ациональная экономика как многоуровневая хозяйственная систе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ропорции национальной эконом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а 5. Системный характер национальной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ка как многоуровневая хозяйственная систе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порции национальной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фические сво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рытость национальной экономики. Национальная экономика  - открытая система, которая находится в постоянном взаимодействии с внешним миро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временной мировой экономике крайне мало закрытых стран (С. Корея, Куба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остальные активно интегрированы в мировые хозяйственные процесс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фические сво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хастичность национальной экономик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дельные компоненты национальной экономики развиваются неравномерно, что затрудняет процесс ее анализа и прогноз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ропорции национальной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ропорции национального хозяйства - э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оотношения материально-вещественных элементов и рабочей силы в процессе общественного воспроизвод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Формируются стихийно под действием рыночных сил или целенаправленно под влиянием государственной политики (структурной политик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порции национального хозяйства - э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ношения материально-вещественных элементов и рабочей силы в процессе общественного воспроизвод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уются стихийно под действием рыночных сил или целенаправленно под влиянием государственной политики (структурной политик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основным макроэкономическим пропорциям относя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ношение объемов производства в первичном, вторичном и третичном секторах общественного 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ношение между стоимостью потребленных средств производства и величиной добавленной стоимости  в составе ВВ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отраслевые, отраслевые и внутриотраслевые пропор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риториальные пропор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шнеэкономические и другие пропор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ропорции измеряются при помощ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Абсолютных показателей (численность занятых, объем произведенной продукции, инвестиций…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тносительных показателей (доля в структуре производства продукции разных отраслей, удельный вес регионального продукта в валовом внутреннем продукте…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порции измеряются при помощ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бсолютных показателей (численность занятых, объем произведенной продукции, инвестиций…)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носительных показателей (доля в структуре производства продукции разных отраслей, удельный вес регионального продукта в валовом внутреннем продукте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траслевые, внутриотраслевые, межотраслевые пропор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ерриториальные пропор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тоимостные (воспроизводственные) пропор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иды пропорц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раслевые, внутриотраслевые, межотраслевые пропор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риториальные пропор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имостные (воспроизводственные) пропор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пропор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пережающий рост сферу услуг в ВВП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величение доли внешнеэкономической деятельности в силу глобализац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сложнение профессионально-квалификационной структуры занятости, появление новых професс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сложнение отраслевой структуры производства в силу появления новых видов дея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енденции изменения пропорци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ежающий рост сферу услуг в ВВП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ение доли внешнеэкономической деятельности в силу глобализ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ожнение профессионально-квалификационной структуры занятости, появление новых професс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ожнение отраслевой структуры производства в силу появления новых видов деятель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нденции изменения пропорци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Функционально-производственные пропор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временной национальной экономике сформировались устойчивые ФПП, которые отражают отраслевую структуру национального производства и включают все существующие виды деятельности; организационно они представлены в виде функционально-производственных комплекс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ациональная экономика как многоуровневая хозяйственная систе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ка как многоуровневая хозяйственная систе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аиболее значимыми из них являютс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Аграрно-промышленный комплекс (АПК) включают в себя собственно сельское хозяйство, отрасли, которые создают средства производства для сельского хозяйства, а также отрасли, занимающиеся переработкой сельскохозяйственной продук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значимыми из них явля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арно-промышленный комплекс (АПК) включают в себя собственно сельское хозяйство, отрасли, которые создают средства производства для сельского хозяйства, а также отрасли, занимающиеся переработкой сельскохозяйственной продук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боронно-промышленный комплекс (ОПК) включает в себя отрасли, обеспечивающие обороноспособность страны: машиностроение, пищевая, легкая и т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онно-промышленный комплекс (ОПК) включает в себя отрасли, обеспечивающие обороноспособность страны: машиностроение, пищевая, легкая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пливно-энергетический комплекс включает в себя отрасли, которые занимаются разведкой, добычей, транспортировкой, переработкой и реализацией энергетических ресурсов, обеспечивая энергобезопасность национальной экономики в рамках производственно - технологической цепоч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 целом современная функционально-видовая (отраслевая) структура национальной экономики отражает соотношения, связи и пропорции между крупными группами видов экономической деятель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целом современная функционально-видовая (отраслевая) структура национальной экономики отражает соотношения, связи и пропорции между крупными группами видов экономической дея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ставе функционально-видовой структуры НЭ выделя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фера материального производства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льское хозяйство, охота и лесное хозяйство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боловство, рыбоводство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быча полезных ископаемы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батывающие производ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оительств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фера материальных услуг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ство и распределение электроэнергии, газа и вод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товая и розничная торговля, ремонт автотранспортных средств, мотоциклов, бытовых изделий и предметов личного пользов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тиницы и ресторан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порт и связ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ая деятельн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ции с недвижимым имуществом, аренда и предоставление услуг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оставление прочих коммунальных, социальных и персональных услу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фера социальных услуг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ое управление и обеспечение военной безопасности, обязательное социальное обеспеч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дравоохранение и предоставление социальных услуг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ятельность экстерриториальных организац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Воспроизводственные пропорции национального проду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ВП = C+G+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ременная национальная экономика – это общество массового потребл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этому в общем объеме произведенного продукта основная доля приходится на личное потребление (С=57-65%), доля государственного потребления  и валовых инвестиций примерно одинакова (I=17-22%,  G=12-20%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оссии удельный вес личных потребительских расходов составляет 48%, что дополняется относительно низкой долей государственных расходов (16%) и относительно высокой долей валовых инвестиций (почти 36%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труктурная сложность экономики как системы предопределяется многообразием ее элементов, числом и разнородностью связей между ними, количеством иерархических уровней, характером подсистем, роль которых выполняют практически все элементы и блоки макроэкономи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уктурная сложность экономики как системы предопределяется многообразием ее элементов, числом и разнородностью связей между ними, количеством иерархических уровней, характером подсистем, роль которых выполняют практически все элементы и блоки макроэкономи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– личные потребительские расходы, совокупная величина которых зависит о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ера первичных доходов и социальных трансфер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ельной склонности к потреблению (MPC). Она представляет собой отношение величины потребительских расходов к общему объему дохо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мере развития национальной экономики постепенно растет абсолютный размер дохода, потребления и сбережени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ако, степень роста потребления меньше, чем степень роста дохода, что объясняется действием основного психологического закона Кейнса и определяет наличие парадокса бережлив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ть основного психологического зако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мере роста дохода возрастает как потребление, так и сбережения, однако потребление растёт в меньшей мере, чем растет доход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им образом по мере роста дохода предельная склонность к потреблению сокращается, а предельная склонность к сбережению растет (для рациональных индивидов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G-расходы на потребление государственных организаций и учрежд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ер государственных расходов зависит от факторных доходов субъектов, экономического цикла, целей и задач государственной политик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словиях экономического спада государственные расходы растут, компенсируя выпадающие доходы других экономических субъек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словиях экономического роста государственные расходы остаются на прежнем уровне несмотря на рост доходов экономических субъектов – это так называемая жесткость государственных расход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ественное снижение уровня государственных расходов возможно лишь в условиях кардинальной смены политического курса (смены правительства, например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I – валовое накопление – приобретение компонентов основного и оборотного капитала в целях развития производственного потенциала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ловое накопление зависит от уровня валовых сбережений в национальной экономике, а также нормы процента и нормы рентабельности инвестиционных проек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позиций неоклассической школы валовые накопления  и валовые сбережения равны друг другу в силу действия принципа равновес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ако в реальной хозяйственной практике из-за дефектов механизма трансформации сбережений в инвестиции  их объемы не совпадаю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ловые сбережения больше валовых инвестиций – в странах с высоким уровнем экономического развит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сокий уровень дохода, насыщенность потребительского рынка, высокая склонность к сбережениям, сложности в поиске новых выгодных способов вложения свободных активов заставляют собственников капитала вывозить активы из страны, что на короткое время выравнивает сбережения и инвестиц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ловые сбережения меньше валовых инвестиций – в странах с относительно низким уровнем экономического развит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зкие доходы, низкая норма сбережений, ненасыщенность потребительского рынка сокращают валовые сбереж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ую сложность структуре экономики придает большое разнообразие, переплетающихся взаимозависимых процессов (воспроизводственных, ресурсных, инвестиционных, инновационных, финансовых, трудовых, технологических), которые и делают экономику живым, постоянно совершенствующимся, динамичным организм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ако, высокий потребительский спрос позволяет собственникам капитала получать дополнительный доход от развития производства товар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этому потребность в расширении производства  увеличивает спрос на инвестиционные активы, который в силу дефицита национальных сбережений компенсируется за счет импорта капитала (в том числе за счет создания филиалов ТНК, например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 процента выступает явными или альтернативными издержками при оценке эффективности инвестиционных проек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 рентабельности определяет величину доходности инвестици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х сравнение позволяет сделать вывод об экономической эффективности инвестиц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лучае, когда норма рентабельности выше нормы банковского процента  (ставки по кредитам или вкладам)– валовые инвестиции растут. И напроти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вышение нормы процента над нормой рентабельности заставляет рациональных инвесторов выводить активы из бизнеса, так как их окупаемость превращается в отрицательную величин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правк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няя норма рентабельности инвестиционного проекта составляет 10-15% (как в развитых, так и развивающихся странах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ако процентные ставки довольно сильно отличаютс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оссии ставка рефинансирования Центрального банка составляет 8,25%, кредитная ставка 12-45%. Соответственно, динамика инвестиций (в первую очередь прямых) – отрицательна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ША – ставка рефинансирования ФРС – 0,25%, в Японии – 0%,  кредитная – 5-8% - динамика инвестиций положительна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ациональной экономике присущ ряд как общесистемных, так и особенных свойст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 общесистемным свойствам национальной экономики можно отнести целостность, иерархичность и интегративн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собенные, или специфические, свойства национальной экономики включают в себя: динамичность, открытость, стохастичн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ой экономике присущ ряд как общесистемных, так и особенных свойст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общесистемным свойствам национальной экономики можно отнести целостность, иерархичность и интегратив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ые, или специфические, свойства национальной экономики включают в себя: динамичность, открытость, стохастич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истемные свойств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остность национальной экономики проявляется в том, что изменение структуры, связей и поведения любого экономического субъекта оказывает воздействие на все другие экономические субъекты и изменяет систему в цел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бщесистемные свойств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ерархичность национальной экономики означает, что она включена подсистемой в систему более высокого порядка – мировую экономику, а каждый ее компонент также является систем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истемные свойств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ерархичность национальной экономики означает, что она включена подсистемой в систему более высокого порядка – мировую экономику, а каждый ее компонент также является систем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бщесистемные свойств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нтегративность национальной экономики означает обладание свойствами, отсутствующими у отдельных компонентов. Поэтому перенесение на национальную экономику свойств единичного хозяйства означает отрицание ее социального характер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истемные свойств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гративность национальной экономики означает обладание свойствами, отсутствующими у отдельных компонентов. Поэтому перенесение на национальную экономику свойств единичного хозяйства означает отрицание ее социального характер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пецифические свойств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Динамичность национальной экономики. Национальная экономика находится в постоянном развитии , причем в строгом временнОм векторе – от прошлого к настоящему и далее в будуще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фические свойства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намичность национальной экономики. Национальная экономика находится в постоянном развитии , причем в строгом временнОм векторе – от прошлого к настоящему и далее в будуще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57BF-21A2-440F-AC20-FBAFDA96B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963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640" y="3979080"/>
            <a:ext cx="79963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D3E8-E5DD-4E28-B153-B97EEFCB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416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640" y="39790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4160" y="39790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E383-EB5F-469F-8BED-35EFE4E9B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600" y="17524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4200" y="17524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640" y="39790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600" y="39790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4200" y="39790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2510-CC0E-42B8-9716-D8692E7E8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B01A9-8441-416C-A0B6-4D92F4F9D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C916-45C7-4149-9115-49E4120E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53F9-EAFB-473D-A73A-4979E81A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204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160" y="1752480"/>
            <a:ext cx="390204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9270A-00CF-4475-93CB-5BC2BC50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5FC6-CEB0-4930-9FC5-4C91B4CC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560" y="266760"/>
            <a:ext cx="799632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A16F-412A-47F4-AD7C-807DEAD5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4160" y="1752480"/>
            <a:ext cx="390204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640" y="39790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4DB9-1C6D-4EE8-A02E-E82017F5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6BDC-31B2-43FC-B66A-857AC370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204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16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4160" y="39790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1474-D9C9-4998-B572-02378D2E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16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640" y="3979080"/>
            <a:ext cx="79963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B38F4-E9EC-4643-A681-0E953F9C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963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640" y="3979080"/>
            <a:ext cx="79963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F0B2-9F12-4838-86F4-033F95A2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16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640" y="39790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4160" y="39790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539EE-69FB-4513-A8CE-3C5EA4260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0600" y="17524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4200" y="17524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640" y="39790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0600" y="39790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4200" y="39790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2D683-0A84-4664-AA4E-419FF8CC6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C506-06BF-4281-A523-2B897466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204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4160" y="1752480"/>
            <a:ext cx="390204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1F09-84D5-4186-9DF7-3A97BD63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C95A-E064-4E0E-8E03-8A2E391A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560" y="266760"/>
            <a:ext cx="799632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E154-F947-4FD3-95D6-8E0088AA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4160" y="1752480"/>
            <a:ext cx="390204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640" y="39790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8C5F-CB0E-4E82-80B8-99CF2236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204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416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4160" y="39790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AEED-51E0-4E3B-83D0-EFA963A2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416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640" y="3979080"/>
            <a:ext cx="79963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4F88-25D6-45CC-A7A9-F6625EB0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3240" indent="-43344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0320" indent="-39240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89120" indent="-38736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89080" indent="-39852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89080" indent="-398520">
              <a:lnSpc>
                <a:spcPct val="91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89080" indent="-398520">
              <a:lnSpc>
                <a:spcPct val="91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4"/>
          <p:cNvSpPr/>
          <p:nvPr/>
        </p:nvSpPr>
        <p:spPr>
          <a:xfrm>
            <a:off x="609480" y="6172200"/>
            <a:ext cx="7925040" cy="144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5280"/>
            <a:ext cx="1976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1976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6DC4FC-640E-4EB5-B102-BD2E4483CB21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13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B4D2B30-7977-411C-AB70-D87A574257A4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5120" indent="-46512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3240" indent="-43344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0320" indent="-39240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89120" indent="-38736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89080" indent="-39852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89080" indent="-398520">
              <a:lnSpc>
                <a:spcPct val="91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89080" indent="-398520">
              <a:lnSpc>
                <a:spcPct val="91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2208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Тема 5. Системный характер национальной экономик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15640" y="2708280"/>
            <a:ext cx="70102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28480" indent="-5284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циональная экономика как многоуровневая хозяйственная систем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8480" indent="-5284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порции национальной экономи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8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13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пецифические свой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Прямоугольник 2"/>
          <p:cNvSpPr/>
          <p:nvPr/>
        </p:nvSpPr>
        <p:spPr>
          <a:xfrm>
            <a:off x="684360" y="2709720"/>
            <a:ext cx="7848360" cy="32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крытость национальной экономики. Национальная экономика  - открытая система, которая находится в постоянном взаимодействии с внешним мир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современной мировой экономике крайне мало закрытых стран (С. Корея, Куба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е остальные активно интегрированы в мировые хозяйственные процесс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2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13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пецифические свой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Прямоугольник 2"/>
          <p:cNvSpPr/>
          <p:nvPr/>
        </p:nvSpPr>
        <p:spPr>
          <a:xfrm>
            <a:off x="684360" y="2637000"/>
            <a:ext cx="770400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охастичность национальной экономи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дельные компоненты национальной экономики развиваются неравномерно, что затрудняет процесс ее анализа и прогнозиров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Місце для нижнього колонтитула 2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13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Прямоугольник 3"/>
          <p:cNvSpPr/>
          <p:nvPr/>
        </p:nvSpPr>
        <p:spPr>
          <a:xfrm>
            <a:off x="900000" y="3122640"/>
            <a:ext cx="748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порции национальной экономи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13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порции национального хозяйства - эт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Прямоугольник 1"/>
          <p:cNvSpPr/>
          <p:nvPr/>
        </p:nvSpPr>
        <p:spPr>
          <a:xfrm>
            <a:off x="684360" y="2708280"/>
            <a:ext cx="7848360" cy="32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00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90324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704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оотношения материально-вещественных элементов и рабочей силы в процессе общественного воспроизводств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2600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90324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704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ормируются стихийно под действием рыночных сил или целенаправленно под влиянием государственной политики (структурной политики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69800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90324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704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Місце для нижнього колонтитула 2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13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 основным макроэкономическим пропорциям относятс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Прямоугольник 2"/>
          <p:cNvSpPr/>
          <p:nvPr/>
        </p:nvSpPr>
        <p:spPr>
          <a:xfrm>
            <a:off x="820800" y="2708280"/>
            <a:ext cx="7993080" cy="30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1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ношение объемов производства в первичном, вторичном и третичном секторах общественного хозяй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1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ношение между стоимостью потребленных средств производства и величиной добавленной стоимости  в составе ВВ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1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отраслевые, отраслевые и внутриотраслевые пропор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1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риториальные пропор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1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шнеэкономические и другие пропор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035000"/>
            <a:ext cx="7770960" cy="12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порции измеряются при помощи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720720" y="2665440"/>
            <a:ext cx="755964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86000"/>
          </a:bodyPr>
          <a:p>
            <a:pPr marL="293400" indent="-293400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90324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704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бсолютных показателей (численность занятых, объем произведенной продукции, инвестиций…);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3400" indent="-293400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90324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704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тносительных показателей (доля в структуре производства продукции разных отраслей, удельный вес регионального продукта в валовом внутреннем продукте…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0800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90324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704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754200" y="1844640"/>
            <a:ext cx="7129440" cy="22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раслевые, внутриотраслевые, межотраслевые пропор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4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рриториальные пропор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4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оимостные (воспроизводственные) пропор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2"/>
          <p:cNvSpPr/>
          <p:nvPr/>
        </p:nvSpPr>
        <p:spPr>
          <a:xfrm>
            <a:off x="642960" y="714240"/>
            <a:ext cx="77151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иды пропорц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571320" y="1999800"/>
            <a:ext cx="80010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ережающий рост сферу услуг в ВВП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5120" indent="-46512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величение доли внешнеэкономической деятельности в силу глобализа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5120" indent="-46512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жнение профессионально-квалификационной структуры занятости, появление новых професси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5120" indent="-46512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жнение отраслевой структуры производства в силу появления новых видов деятель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096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Тенденции изменения пропорций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2"/>
          <p:cNvSpPr/>
          <p:nvPr/>
        </p:nvSpPr>
        <p:spPr>
          <a:xfrm>
            <a:off x="611280" y="192420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ункционально-производственные пропор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7770600" cy="8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Прямоугольник 3"/>
          <p:cNvSpPr/>
          <p:nvPr/>
        </p:nvSpPr>
        <p:spPr>
          <a:xfrm>
            <a:off x="684360" y="2149560"/>
            <a:ext cx="784836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временной национальной экономике сформировались устойчивые ФПП, которые отражают отраслевую структуру национального производства и включают все существующие виды деятельности; организационно они представлены в виде функционально-производственных комплекс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6840" y="1649520"/>
            <a:ext cx="8435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Национальная экономика как многоуровневая хозяйственная систем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иболее значимыми из них являются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Прямоугольник 1"/>
          <p:cNvSpPr/>
          <p:nvPr/>
        </p:nvSpPr>
        <p:spPr>
          <a:xfrm>
            <a:off x="611280" y="1989000"/>
            <a:ext cx="7705800" cy="28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91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грарно-промышленный комплекс (АПК) включают в себя собственно сельское хозяйство, отрасли, которые создают средства производства для сельского хозяйства, а также отрасли, занимающиеся переработкой сельскохозяйственной продук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1"/>
          <p:cNvSpPr/>
          <p:nvPr/>
        </p:nvSpPr>
        <p:spPr>
          <a:xfrm>
            <a:off x="684360" y="1927080"/>
            <a:ext cx="7848360" cy="20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91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rabicPeriod" startAt="2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оронно-промышленный комплекс (ОПК) включает в себя отрасли, обеспечивающие обороноспособность страны: машиностроение, пищевая, легкая и т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55640" y="1915920"/>
            <a:ext cx="7996320" cy="41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91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Verdana"/>
              <a:buAutoNum type="arabicPeriod" startAt="3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опливно-энергетический комплекс включает в себя отрасли, которые занимаются разведкой, добычей, транспортировкой, переработкой и реализацией энергетических ресурсов, обеспечивая энергобезопасность национальной экономики в рамках производственно - технологической цепоч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Місце для нижнього колонтитула 2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80010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целом современная функционально-видовая (отраслевая) структура национальной экономики отражает соотношения, связи и пропорции между крупными группами видов экономическ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260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составе функционально-видовой структуры НЭ выделяются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фера материального производства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3240" indent="-43344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ельское хозяйство, охота и лесное хозяйство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3240" indent="-43344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ыболовство, рыбоводство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3240" indent="-43344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быча полезных ископаемых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3240" indent="-43344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рабатывающие производств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3240" indent="-43344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оительств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11280" y="1773000"/>
            <a:ext cx="7996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18320" indent="-41832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фера материальных услуг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8988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изводство и распределение электроэнергии, газа и вод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8988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товая и розничная торговля, ремонт автотранспортных средств, мотоциклов, бытовых изделий и предметов личного пользова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8988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остиницы и ресторан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8988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анспорт и связ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8988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инансовая деятельно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8988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ерации с недвижимым имуществом, аренда и предоставление услуг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8988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оставление прочих коммунальных, социальных и персональных услуг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39640" y="1916280"/>
            <a:ext cx="7996320" cy="39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1080" indent="-45108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фера социальных услуг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75880" indent="-42012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осударственное управление и обеспечение военной безопасности, обязательное социальное обеспечени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75880" indent="-42012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разовани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75880" indent="-42012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дравоохранение и предоставление социальных услуг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75880" indent="-42012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еятельность экстерриториальных организац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Місце для нижнього колонтитула 2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66640" y="1988640"/>
            <a:ext cx="799632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спроизводственные пропорции национального продук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ВП =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+G+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1916280"/>
            <a:ext cx="7996320" cy="39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временная национальная экономика – это общество массового потребления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этому в общем объеме произведенного продукта основная доля приходится на личное потребление (С=57-65%), доля государственного потребления  и валовых инвестиций примерно одинакова (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=17-22%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G=12-20%)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 России удельный вес личных потребительских расходов составляет 48%, что дополняется относительно низкой долей государственных расходов (16%) и относительно высокой долей валовых инвестиций (почти 36%)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8000" y="2492280"/>
            <a:ext cx="8227800" cy="36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080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73980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70272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уктурная сложность экономики как системы предопределяется многообразием ее элементов, числом и разнородностью связей между ними, количеством иерархических уровней, характером подсистем, роль которых выполняют практически все элементы и блоки макроэкономи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9640" y="1699920"/>
            <a:ext cx="7996320" cy="35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 – личные потребительские расходы, совокупная величина которых зависит от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змера первичных доходов и социальных трансферт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едельной склонности к потреблению (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PC)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. Она представляет собой отношение величины потребительских расходов к общему объему доход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мере развития национальной экономики постепенно растет абсолютный размер дохода, потребления и сбережений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днако, степень роста потребления меньше, чем степень роста дохода, что объясняется действием основного психологического закона Кейнса и определяет наличие парадокса бережливос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Місце для нижнього колонтитула 2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уть основного психологического зако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мере роста дохода возрастает как потребление, так и сбережения, однако потребление растёт в меньшей мере, чем растет доход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аким образом по мере роста дохода предельная склонность к потреблению сокращается, а предельная склонность к сбережению растет (для рациональных индивидов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Місце для нижнього колонтитула 2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95280" y="1752480"/>
            <a:ext cx="84247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-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ходы на потребление государственных организаций и учрежде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мер государственных расходов зависит от факторных доходов субъектов, экономического цикла, целей и задач государственной политик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Місце для нижнього колонтитула 2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9640" y="1915920"/>
            <a:ext cx="7996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условиях экономического спада государственные расходы растут, компенсируя выпадающие доходы других экономических субъект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условиях экономического роста государственные расходы остаются на прежнем уровне несмотря на рост доходов экономических субъектов – это так называемая жесткость государственных расходов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Місце для нижнього колонтитула 2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39640" y="2133360"/>
            <a:ext cx="7996320" cy="35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ущественное снижение уровня государственных расходов возможно лишь в условиях кардинальной смены политического курса (смены правительства, например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68360" y="177336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 –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ловое накопление – приобретение компонентов основного и оборотного капитала в целях развития производственного потенциала предприят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ловое накопление зависит от уровня валовых сбережений в национальной экономике, а также нормы процента и нормы рентабельности инвестиционных проект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позиций неоклассической школы валовые накопления  и валовые сбережения равны друг другу в силу действия принципа равновес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днако в реальной хозяйственной практике из-за дефектов механизма трансформации сбережений в инвестиции  их объемы не совпадаю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ловые сбережения больше валовых инвестиций – в странах с высоким уровнем экономического развит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сокий уровень дохода, насыщенность потребительского рынка, высокая склонность к сбережениям, сложности в поиске новых выгодных способов вложения свободных активов заставляют собственников капитала вывозить активы из страны, что на короткое время выравнивает сбережения и инвестици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9640" y="1844280"/>
            <a:ext cx="79963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ловые сбережения меньше валовых инвестиций – в странах с относительно низким уровнем экономического развит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изкие доходы, низкая норма сбережений, ненасыщенность потребительского рынка сокращают валовые сбережен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13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Прямоугольник 2"/>
          <p:cNvSpPr/>
          <p:nvPr/>
        </p:nvSpPr>
        <p:spPr>
          <a:xfrm>
            <a:off x="704880" y="2565360"/>
            <a:ext cx="8018280" cy="41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73980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70272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обую сложность структуре экономики придает большое разнообразие, переплетающихся взаимозависимых процессов (воспроизводственных, ресурсных, инвестиционных, инновационных, финансовых, трудовых, технологических), которые и делают экономику живым, постоянно совершенствующимся, динамичным организм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днако, высокий потребительский спрос позволяет собственникам капитала получать дополнительный доход от развития производства товаров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этому потребность в расширении производства  увеличивает спрос на инвестиционные активы, который в силу дефицита национальных сбережений компенсируется за счет импорта капитала (в том числе за счет создания филиалов ТНК, например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66640" y="1844640"/>
            <a:ext cx="799632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рма процента выступает явными или альтернативными издержками при оценке эффективности инвестиционных проектов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рма рентабельности определяет величину доходности инвестиций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х сравнение позволяет сделать вывод об экономической эффективности инвестиц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66640" y="1752480"/>
            <a:ext cx="825336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случае, когда норма рентабельности выше нормы банковского процента  (ставки по кредитам или вкладам)– валовые инвестиции растут. И напротив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вышение нормы процента над нормой рентабельности заставляет рациональных инвесторов выводить активы из бизнеса, так как их окупаемость превращается в отрицательную величин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ля справки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редняя норма рентабельности инвестиционного проекта составляет 10-15% (как в развитых, так и развивающихся странах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днако процентные ставки довольно сильно отличаются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России ставка рефинансирования Центрального банка составляет 8,25%, кредитная ставка 12-45%. Соответственно, динамика инвестиций (в первую очередь прямых) – отрицательна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США – ставка рефинансирования ФРС – 0,25%, в Японии – 0%,  кредитная – 5-8% - динамика инвестиций положительна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035000"/>
            <a:ext cx="7770960" cy="12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циональной экономике присущ ряд как общесистемных, так и особенных свойств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4000" y="2997360"/>
            <a:ext cx="822780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080" indent="0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73980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70272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 общесистемным свойствам национальной экономики можно отнести целостность, иерархичность и интегративнос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9080" indent="0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73980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70272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9080" indent="0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73980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70272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обенные, или специфические, свойства национальной экономики включают в себя: динамичность, открытость, стохастичнос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0920" y="1125360"/>
            <a:ext cx="776772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щесистемные свойств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Прямоугольник 2"/>
          <p:cNvSpPr/>
          <p:nvPr/>
        </p:nvSpPr>
        <p:spPr>
          <a:xfrm>
            <a:off x="755640" y="2708280"/>
            <a:ext cx="7704000" cy="21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57200">
              <a:lnSpc>
                <a:spcPct val="94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0324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704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Целостность национальной экономики проявляется в том, что изменение структуры, связей и поведения любого экономического субъекта оказывает воздействие на все другие экономические субъекты и изменяет систему в цел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щесистемные свойств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Прямоугольник 1"/>
          <p:cNvSpPr/>
          <p:nvPr/>
        </p:nvSpPr>
        <p:spPr>
          <a:xfrm>
            <a:off x="826920" y="2708280"/>
            <a:ext cx="7490160" cy="24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57200">
              <a:lnSpc>
                <a:spcPct val="94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0324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704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ерархичность национальной экономики означает, что она включена подсистемой в систему более высокого порядка – мировую экономику, а каждый ее компонент также является системо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611280" y="1565280"/>
            <a:ext cx="7632720" cy="5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щесистемные свойств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2"/>
          <p:cNvSpPr/>
          <p:nvPr/>
        </p:nvSpPr>
        <p:spPr>
          <a:xfrm>
            <a:off x="826920" y="2852640"/>
            <a:ext cx="7201080" cy="32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57200">
              <a:lnSpc>
                <a:spcPct val="94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0324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704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тегративность национальной экономики означает обладание свойствами, отсутствующими у отдельных компонентов. Поэтому перенесение на национальную экономику свойств единичного хозяйства означает отрицание ее социального характер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755640" y="1577880"/>
            <a:ext cx="7343640" cy="5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пецифические свойства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оугольник 2"/>
          <p:cNvSpPr/>
          <p:nvPr/>
        </p:nvSpPr>
        <p:spPr>
          <a:xfrm>
            <a:off x="785880" y="2708280"/>
            <a:ext cx="7673760" cy="24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57200">
              <a:lnSpc>
                <a:spcPct val="94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0324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704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инамичность национальной экономики. Национальная экономика находится в постоянном развитии , причем в строгом временнОм векторе – от прошлого к настоящему и далее в будуще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Місце для нижнього колонтитула 2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LEGION</cp:lastModifiedBy>
  <dcterms:modified xsi:type="dcterms:W3CDTF">2016-01-04T14:04:37Z</dcterms:modified>
  <cp:revision>257</cp:revision>
  <dc:subject/>
  <dc:title>Тема 5. Системный характер национальной экономики</dc:title>
</cp:coreProperties>
</file>