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ма 5. Системный характер национальной эконом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ая экономика как многоуровневая хозяйственная 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национальной эконом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5. Системный характер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многоуровневая хозяйстве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ость национальной экономики. Национальная экономика  - открытая система, которая находится в постоянном взаимодействии с внешним мир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мировой экономике крайне мало закрытых стран (С. Корея, Куба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остальные активно интегрированы в мировые хозяйственные процесс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хастичность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ые компоненты национальной экономики развиваются неравномерно, что затрудняет процесс ее анализа и прогноз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национального хозяйства - э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национального хозяйства - э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основным макроэкономическим пропорциям относя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объемов производства в первичном, вторичном и третичном секторах общественн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между стоимостью потребленных средств производства и величиной добавленной стоимости  в составе ВВ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отраслевые, отраслевые и внутриотраслев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экономические и други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и измеряются при помощ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орции измеряются при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траслевые, внутриотраслевые, межотраслевые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рриториальные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оимостные (воспроизводственные) пропор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иды пропор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раслевые, внутриотраслевые, межотраслев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ные (воспроизводственные)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пропор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пережающий рост сферу услуг в ВВП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личение доли внешнеэкономической деятельности в силу глобализ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нденции изменения пропорц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ежающий рост сферу услуг в ВВП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доли внешнеэкономической деятельности в силу глобал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нции изменения пропор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Функционально-производственные 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национальной экономике сформировались устойчивые ФПП, которые отражают отраслевую структуру национального производства и включают все существующие виды деятельности; организационно они представлены в виде функционально-производственных комплек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ая экономика как многоуровневая хозяйственная 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многоуровневая хозяйстве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иболее значимыми из них являю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значимыми из них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пливно-энергетический комплекс включает в себя отрасли, которые занимаются разведкой, добычей, транспортировкой, переработкой и реализацией энергетических ресурсов, обеспечивая энергобезопасность национальной экономики в рамках производственно - технологической цепо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е функционально-видовой структуры НЭ выде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материального производств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льское хозяйство, охота и лесное хозяйств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боловство, рыбоводств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ыча полезных ископае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ие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материальных услу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о и распределение электроэнергии, газа и во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овая и розничная торговля, ремонт автотранспортных средств, мотоциклов, бытовых изделий и предметов личного польз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тиницы и рестора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 и связ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ая деятель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и с недвижимым имуществом, аренда и предоставление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 прочих коммунальных, социальных и персональных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социальных услу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управление и обеспечение военной безопасности, обязательное социальное обеспеч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равоохранение и предоставление социальных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экстерриториальных организа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оспроизводственные пропорции национальног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П = C+G+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ая национальная экономика – это общество массового потреб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в общем объеме произведенного продукта основная доля приходится на личное потребление (С=57-65%), доля государственного потребления  и валовых инвестиций примерно одинакова (I=17-22%,  G=12-20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удельный вес личных потребительских расходов составляет 48%, что дополняется относительно низкой долей государственных расходов (16%) и относительно высокой долей валовых инвестиций (почти 36%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личные потребительские расходы, совокупная величина которых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а первичных доходов и социальных трансфер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ельной склонности к потреблению (MPC). Она представляет собой отношение величины потребительских расходов к общему объему до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мере развития национальной экономики постепенно растет абсолютный размер дохода, потребления и сбереже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, степень роста потребления меньше, чем степень роста дохода, что объясняется действием основного психологического закона Кейнса и определяет наличие парадокса бережлив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ть основного психологического зако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мере роста дохода возрастает как потребление, так и сбережения, однако потребление растёт в меньшей мере, чем растет дохо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по мере роста дохода предельная склонность к потреблению сокращается, а предельная склонность к сбережению растет (для рациональных индивидов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G-расходы на потребление государственных организаций и учрежд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 государственных расходов зависит от факторных доходов субъектов, экономического цикла, целей и задач государственной полити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экономического спада государственные расходы растут, компенсируя выпадающие доходы других экономических субъек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экономического роста государственные расходы остаются на прежнем уровне несмотря на рост доходов экономических субъектов – это так называемая жесткость государственных рас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енное снижение уровня государственных расходов возможно лишь в условиях кардинальной смены политического курса (смены правительства, например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– валовое накопление – приобретение компонентов основного и оборотного капитала в целях развития производственного потенциал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ое накопление зависит от уровня валовых сбережений в национальной экономике, а также нормы процента и нормы рентабельности инвестиционных проек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зиций неоклассической школы валовые накопления  и валовые сбережения равны друг другу в силу действия принципа равновес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 в реальной хозяйственной практике из-за дефектов механизма трансформации сбережений в инвестиции  их объемы не совпада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ые сбережения больше валовых инвестиций – в странах с высоким уровнем экономического разви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ий уровень дохода, насыщенность потребительского рынка, высокая склонность к сбережениям, сложности в поиске новых выгодных способов вложения свободных активов заставляют собственников капитала вывозить активы из страны, что на короткое время выравнивает сбережения и инвести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ые сбережения меньше валовых инвестиций – в странах с относительно низким уровнем экономического развит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ие доходы, низкая норма сбережений, ненасыщенность потребительского рынка сокращают валовые сбере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ую сложность структуре экономики придает большое разнообразие, переплетающихся взаимозависимых процессов (воспроизводственных, ресурсных, инвестиционных, инновационных, финансовых, трудовых, технологических), которые и делают экономику живым, постоянно совершенствующимся, динамичным организм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, высокий потребительский спрос позволяет собственникам капитала получать дополнительный доход от развития производства това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потребность в расширении производства  увеличивает спрос на инвестиционные активы, который в силу дефицита национальных сбережений компенсируется за счет импорта капитала (в том числе за счет создания филиалов ТНК, например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процента выступает явными или альтернативными издержками при оценке эффективности инвестиционных прое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рентабельности определяет величину доходности инвестиц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сравнение позволяет сделать вывод об экономической эффективности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лучае, когда норма рентабельности выше нормы банковского процента  (ставки по кредитам или вкладам)– валовые инвестиции растут. И напроти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вышение нормы процента над нормой рентабельности заставляет рациональных инвесторов выводить активы из бизнеса, так как их окупаемость превращается в отрицательную величи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прав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яя норма рентабельности инвестиционного проекта составляет 10-15% (как в развитых, так и развивающихся странах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 процентные ставки довольно сильно отличаю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ставка рефинансирования Центрального банка составляет 8,25%, кредитная ставка 12-45%. Соответственно, динамика инвестиций (в первую очередь прямых) – отрицатель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– ставка рефинансирования ФРС – 0,25%, в Японии – 0%,  кредитная – 5-8% - динамика инвестиций положитель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циональной экономике присущ ряд как общесистемных, так и особенных свой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й экономике присущ ряд как общесистемных, так и особенных свой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остность национальной экономики проявляется в том, что изменение структуры, связей и поведения любого экономического субъекта оказывает воздействие на все другие экономические субъекты и изменяет систему в ц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системные свой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щесистемные свой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истемные свой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пецифические свойств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ческие свойств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5B2-6E84-4FD4-8005-3BEBB606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D37-2739-402F-964E-307260F7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E64-5A9B-4EB1-86B0-84296B0E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6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2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6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2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C73-6C60-40EF-ADAD-87010CAB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2AC5-A955-49EC-8772-F505F9D2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A07B-B260-4377-814B-4BF24C87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1C2E-090A-48A0-9E25-CAA9805E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B37C-1284-4E70-A57A-62ED6A2F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E5D9-EAAB-49FB-B4AE-AA8FDBAC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560" y="266760"/>
            <a:ext cx="79963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DFF9-ABF9-44EC-95FA-CD5FEBA5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019E-3BFC-414B-83CF-60D7F48A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CD1-BF0C-4581-BE0C-C413E51D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7CE0-F344-49D3-9833-44242FD4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035F-50C9-46D7-8BA2-1E39C1F5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8AFB-9572-4537-8635-36E1D350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96E1-8FE7-480C-A7F9-A6E2798C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6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17524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6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3979080"/>
            <a:ext cx="25747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86C4-DB27-45BB-B5BC-B0F4E05D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B5F-F5F1-4434-B4E1-E02ECFAC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7EE-037A-4DED-B6D7-6EE6FBEC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F8B-0C0B-4DF4-B69E-671E9912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560" y="266760"/>
            <a:ext cx="79963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41A-6AD1-4239-AEBF-C71AC57D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335-CAAD-427B-9100-D345EEEF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160" y="39790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354-0879-4EEF-89AD-F6792467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160" y="1752480"/>
            <a:ext cx="390204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080"/>
            <a:ext cx="7996320" cy="203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4FF-1E02-4ABF-8B64-72359855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0320" indent="-39240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38736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89080" indent="-3985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197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197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0F0E6-BF2B-485F-9A64-043BAA3A7AB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07762E2-D7E6-4995-992F-6E159F7C65D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0320" indent="-39240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38736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89080" indent="-3985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89080" indent="-39852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22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ема 5. Системный характер национальной экономи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5640" y="2708280"/>
            <a:ext cx="7010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28480" indent="-528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экономика как многоуровневая хозяйственная систе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8480" indent="-528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8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684360" y="2709720"/>
            <a:ext cx="784836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крытость национальной экономики. Национальная экономика  - открытая система, которая находится в постоянном взаимодействии с внешним мир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овременной мировой экономике крайне мало закрытых стран (С. Корея, Куба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остальные активно интегрированы в мировые хозяйственные процесс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684360" y="2637000"/>
            <a:ext cx="77040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охастичность национальной эконом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дельные компоненты национальной экономики развиваются неравномерно, что затрудняет процесс ее анализа и прогнозир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900000" y="3122640"/>
            <a:ext cx="74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порции национальной эконом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национального хозяйства - эт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1"/>
          <p:cNvSpPr/>
          <p:nvPr/>
        </p:nvSpPr>
        <p:spPr>
          <a:xfrm>
            <a:off x="684360" y="2708280"/>
            <a:ext cx="7848360" cy="32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отношения материально-вещественных элементов и рабочей силы в процессе общественного воспроизводст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26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ормируются стихийно под действием рыночных сил или целенаправленно под влиянием государственной политики (структурной политики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698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основным макроэкономическим пропорциям относят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820800" y="2708280"/>
            <a:ext cx="799308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объемов производства в первичном, вторичном и третичном секторах общественного хозя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между стоимостью потребленных средств производства и величиной добавленной стоимости  в составе ВВ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отраслевые, отраслевые и внутриотраслевы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риториальны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экономические и другие пропор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35000"/>
            <a:ext cx="777096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порции измеряются при помощ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720720" y="2665440"/>
            <a:ext cx="755964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6000"/>
          </a:bodyPr>
          <a:p>
            <a:pPr marL="293400" indent="-2934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бсолютных показателей (численность занятых, объем произведенной продукции, инвестиций…)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3400" indent="-29340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носительных показателей (доля в структуре производства продукции разных отраслей, удельный вес регионального продукта в валовом внутреннем продукте…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80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754200" y="1844640"/>
            <a:ext cx="7129440" cy="22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слевые, внутриотраслевые, межотраслевые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риториальные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оимостные (воспроизводственные)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642960" y="714240"/>
            <a:ext cx="7715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ды пропор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71320" y="1999800"/>
            <a:ext cx="80010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ежающий рост сферу услуг в ВВП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ение доли внешнеэкономической деятельности в силу глобализа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жнение профессионально-квалификационной структуры занятости, появление новых професс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жнение отраслевой структуры производства в силу появления нов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09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енденции изменения пропорций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2"/>
          <p:cNvSpPr/>
          <p:nvPr/>
        </p:nvSpPr>
        <p:spPr>
          <a:xfrm>
            <a:off x="611280" y="19242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нкционально-производственные пропор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77060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684360" y="2149560"/>
            <a:ext cx="784836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национальной экономике сформировались устойчивые ФПП, которые отражают отраслевую структуру национального производства и включают все существующие виды деятельности; организационно они представлены в виде функционально-производственных комплек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649520"/>
            <a:ext cx="843588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ациональная экономика как многоуровневая хозяйственная систем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иболее значимыми из них являютс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611280" y="1989000"/>
            <a:ext cx="7705800" cy="28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грарно-промышленный комплекс (АПК) включают в себя собственно сельское хозяйство, отрасли, которые создают средства производства для сельского хозяйства, а также отрасли, занимающиеся переработкой сельскохозяйственной проду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684360" y="1927080"/>
            <a:ext cx="7848360" cy="20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онно-промышленный комплекс (ОПК) включает в себя отрасли, обеспечивающие обороноспособность страны: машиностроение, пищевая, легкая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5640" y="1915920"/>
            <a:ext cx="799632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1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пливно-энергетический комплекс включает в себя отрасли, которые занимаются разведкой, добычей, транспортировкой, переработкой и реализацией энергетических ресурсов, обеспечивая энергобезопасность национальной экономики в рамках производственно -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целом современная функционально-видовая (отраслевая) структура национальной экономики отражает соотношения, связи и пропорции между крупными группами видов эконом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26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составе функционально-видовой структуры НЭ выделяютс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материального производства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льское хозяйство, охота и лесное хозяйство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ыболовство, рыбоводств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быча полезных ископаемы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батывающие производств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3240" indent="-43344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оитель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11280" y="1773000"/>
            <a:ext cx="7996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8320" indent="-41832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материальных услу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ство и распределение электроэнергии, газа и вод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товая и розничная торговля, ремонт автотранспортных средств, мотоциклов, бытовых изделий и предметов личного пользов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стиницы и ресторан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 и связ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нансовая деятель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ции с недвижимым имуществом, аренда и предоставление услу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8988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ставление прочих коммунальных, социальных и персональных услу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9640" y="1916280"/>
            <a:ext cx="79963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1080" indent="-451080"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а социальных услу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осударственное управление и обеспечение военной безопасности, обязательное социальное обеспеч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ова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дравоохранение и предоставление социальных услу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5880" indent="-420120">
              <a:lnSpc>
                <a:spcPct val="91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ятельность экстерриториальных организа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66640" y="1988640"/>
            <a:ext cx="799632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производственные пропорции национального проду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ВП =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+G+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916280"/>
            <a:ext cx="79963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временная национальная экономика – это общество массового потребл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этому в общем объеме произведенного продукта основная доля приходится на личное потребление (С=57-65%), доля государственного потребления  и валовых инвестиций примерно одинакова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=17-22%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G=12-20%)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России удельный вес личных потребительских расходов составляет 48%, что дополняется относительно низкой долей государственных расходов (16%) и относительно высокой долей валовых инвестиций (почти 36%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2492280"/>
            <a:ext cx="822780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0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ная сложность экономики как системы предопределяется многообразием ее элементов, числом и разнородностью связей между ними, количеством иерархических уровней, характером подсистем, роль которых выполняют практически все элементы и блоки макроэконом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699920"/>
            <a:ext cx="799632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– личные потребительские расходы, совокупная величина которых зависит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мера первичных доходов и социальных трансфер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ельной склонности к потреблению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PC)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Она представляет собой отношение величины потребительских расходов к общему объему дохо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мере развития национальной экономики постепенно растет абсолютный размер дохода, потребления и сбережен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, степень роста потребления меньше, чем степень роста дохода, что объясняется действием основного психологического закона Кейнса и определяет наличие парадокса бережлив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уть основного психологического зако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мере роста дохода возрастает как потребление, так и сбережения, однако потребление растёт в меньшей мере, чем растет доход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м образом по мере роста дохода предельная склонность к потреблению сокращается, а предельная склонность к сбережению растет (для рациональных индивидов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752480"/>
            <a:ext cx="84247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ходы на потребление государственных организаций и учрежд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мер государственных расходов зависит от факторных доходов субъектов, экономического цикла, целей и задач государственной полит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9640" y="1915920"/>
            <a:ext cx="7996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условиях экономического спада государственные расходы растут, компенсируя выпадающие доходы других экономических субъек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условиях экономического роста государственные расходы остаются на прежнем уровне несмотря на рост доходов экономических субъектов – это так называемая жесткость государственных расход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2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640" y="2133360"/>
            <a:ext cx="799632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щественное снижение уровня государственных расходов возможно лишь в условиях кардинальной смены политического курса (смены правительства, например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77336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ое накопление – приобретение компонентов основного и оборотного капитала в целях развития производственного потенциала предприят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ое накопление зависит от уровня валовых сбережений в национальной экономике, а также нормы процента и нормы рентабельности инвестиционных проек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позиций неоклассической школы валовые накопления  и валовые сбережения равны друг другу в силу действия принципа равновес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 в реальной хозяйственной практике из-за дефектов механизма трансформации сбережений в инвестиции  их объемы не совпадаю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ые сбережения больше валовых инвестиций – в странах с высоким уровнем экономического развит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окий уровень дохода, насыщенность потребительского рынка, высокая склонность к сбережениям, сложности в поиске новых выгодных способов вложения свободных активов заставляют собственников капитала вывозить активы из страны, что на короткое время выравнивает сбережения и инвести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9640" y="1844280"/>
            <a:ext cx="79963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ловые сбережения меньше валовых инвестиций – в странах с относительно низким уровнем экономического развит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кие доходы, низкая норма сбережений, ненасыщенность потребительского рынка сокращают валовые сбереж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704880" y="2565360"/>
            <a:ext cx="801828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ую сложность структуре экономики придает большое разнообразие, переплетающихся взаимозависимых процессов (воспроизводственных, ресурсных, инвестиционных, инновационных, финансовых, трудовых, технологических), которые и делают экономику живым, постоянно совершенствующимся, динамичным организм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ко, высокий потребительский спрос позволяет собственникам капитала получать дополнительный доход от развития производства товар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этому потребность в расширении производства  увеличивает спрос на инвестиционные активы, который в силу дефицита национальных сбережений компенсируется за счет импорта капитала (в том числе за счет создания филиалов ТНК, например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66640" y="1844640"/>
            <a:ext cx="799632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рма процента выступает явными или альтернативными издержками при оценке эффективности инвестиционных проект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рма рентабельности определяет величину доходности инвести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х сравнение позволяет сделать вывод об экономической эффективности инвести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66640" y="1752480"/>
            <a:ext cx="82533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лучае, когда норма рентабельности выше нормы банковского процента  (ставки по кредитам или вкладам)– валовые инвестиции растут. И напроти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вышение нормы процента над нормой рентабельности заставляет рациональных инвесторов выводить активы из бизнеса, так как их окупаемость превращается в отрицательную величин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560" y="266760"/>
            <a:ext cx="79963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я справк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66640" y="1752480"/>
            <a:ext cx="799632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редняя норма рентабельности инвестиционного проекта составляет 10-15% (как в развитых, так и развивающихся странах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днако процентные ставки довольно сильно отличаютс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России ставка рефинансирования Центрального банка составляет 8,25%, кредитная ставка 12-45%. Соответственно, динамика инвестиций (в первую очередь прямых) – отрицательна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1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США – ставка рефинансирования ФРС – 0,25%, в Японии – 0%,  кредитная – 5-8% - динамика инвестиций положительна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35000"/>
            <a:ext cx="777096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ой экономике присущ ряд как общесистемных, так и особенных свойст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4000" y="2997360"/>
            <a:ext cx="822780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общесистемным свойствам национальной экономики можно отнести целостность, иерархичность и интегратив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90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73980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70272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ые, или специфические, свойства национальной экономики включают в себя: динамичность, открытость, стохастич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77677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755640" y="2708280"/>
            <a:ext cx="770400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остность национальной экономики проявляется в том, что изменение структуры, связей и поведения любого экономического субъекта оказывает воздействие на все другие экономические субъекты и изменяет систему в це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826920" y="2708280"/>
            <a:ext cx="7490160" cy="24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ерархичность национальной экономики означает, что она включена подсистемой в систему более высокого порядка – мировую экономику, а каждый ее компонент также является систем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611280" y="1565280"/>
            <a:ext cx="7632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системные свойст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826920" y="2852640"/>
            <a:ext cx="720108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тивность национальной экономики означает обладание свойствами, отсутствующими у отдельных компонентов. Поэтому перенесение на национальную экономику свойств единичного хозяйства означает отрицание ее социального характе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755640" y="1577880"/>
            <a:ext cx="734364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ецифические свойств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785880" y="2708280"/>
            <a:ext cx="7673760" cy="24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57200">
              <a:lnSpc>
                <a:spcPct val="94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0324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70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намичность национальной экономики. Национальная экономика находится в постоянном развитии , причем в строгом временнОм векторе – от прошлого к настоящему и далее в будуще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2"/>
          <p:cNvSpPr/>
          <p:nvPr/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LEGION</cp:lastModifiedBy>
  <dcterms:modified xsi:type="dcterms:W3CDTF">2016-01-04T14:04:37Z</dcterms:modified>
  <cp:revision>257</cp:revision>
  <dc:subject/>
  <dc:title>Тема 5. Системный характер национальной экономики</dc:title>
</cp:coreProperties>
</file>