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38.png" ContentType="image/png"/>
  <Override PartName="/ppt/media/image36.jpeg" ContentType="image/jpeg"/>
  <Override PartName="/ppt/media/image33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8551-9934-487B-94A1-83EE163054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489A-2D07-491D-AC44-B6F45E6A6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D4EF-B301-417C-8166-51466EECF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774A-9064-4AE8-907B-EAFE11A79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DB16-96B1-4BE6-A4D7-FC50BF154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DDDE-4661-4BA2-83F1-7F97EF168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8F03-C53A-445A-8F16-46755A9F7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631C-0472-4E61-BCC0-ED0A9CB73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691B-A781-442C-A875-7BCA72E80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C890-CCFC-4377-9AFA-C263AC1A9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D90A-BCAF-4C14-93B2-31BD51823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186C-2FFF-477F-9322-54A6B926C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910B-FA62-446F-A33C-69085F45B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3ADD-C08C-409C-818F-ECBE2247C4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8BC-ADAD-4205-96E1-39AF41C22A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4A2A-C62C-476A-9112-7D1910AB1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ECE3-88A1-479B-BD8C-C246E6DC7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EAF6-C378-422F-B41A-5F1D51AFC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B783-1354-4C3F-94E6-C882C73E9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6753-BE22-4B2C-8557-6640DAE44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F5B6-D783-415B-BA56-625B424EA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A61F-FFFF-420F-AD09-B1CAA5F4E2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AF02-2229-4D0C-B7D6-FF41AF303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323B-5000-4DA4-803F-807C2609D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2C5D-A8A6-4E5F-8F73-C81A2E4F3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B567-4DDC-4B06-8760-51FA9B7BC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935C-1B6C-4FE1-B5AC-B11228FA2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4D0D-49FA-47BF-B774-DC8A21BD8D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426D-B84D-4A27-A7BB-01AEE5E7D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FD62-389D-4269-A2C7-9517A5B08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4EEE-3C55-4E01-AD48-5200253EC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BC71-A465-4AD8-889C-95EFF95EA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2756-ECC8-4B67-9BF3-1F68C84F2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388F-69E8-4DF2-952E-512422738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FC2D-A49A-48E4-AF53-E3801C494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901D-A197-4AE5-92ED-8BE7CC709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038E-495D-40A1-96AD-83CF89E55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D8BE-D04F-4011-8276-7AC36B1B7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2C0-F0FD-47E3-8D20-97F4485C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7E6-161E-42BE-9FB8-7E27663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2FB-CE73-4D69-B957-C05FA9A1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1E6-2973-43F0-8CC9-0822ED41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A88-7B24-4F17-9631-AE493E65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545-C5CE-4A61-9C7D-243CFD75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F57-6A69-4856-84F8-EC04622E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B81-3757-4E70-9AB4-85D6615C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C8D-5187-41D7-A3C0-0AFE885E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1C1-33CB-42E8-843B-544C04A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6EF-962C-438B-AE2A-76D51D78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215-D4A9-456A-8EEB-7A61B9D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02D9-64D7-458C-8AFC-9DC63ECBF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192852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философия социального и исторического 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 rot="10800000">
            <a:off x="2877840" y="1726920"/>
            <a:ext cx="618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естантств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 для цел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ины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постоян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еб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обода, всегда гото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ь назад приговоры, ею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несённые накануне...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же лица… свобода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сомн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являю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, кто, зная себя, сознаёт св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мощь,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нелепой в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, проявляющаяся в том, кто твор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 кумир из своей гордости. В то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м виде это, пожалуй, тоже своб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…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в смысле политическ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 rot="10800000">
            <a:off x="2806560" y="1726920"/>
            <a:ext cx="629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истинное, внутренне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л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оявление свободы, 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му основанием служит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ый рационализм и не произво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ность учреждения, а нравств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взаимной любви и молитв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о, в котором, при всём раз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тепени иерархических полномоч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овершение таинств,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абощается, но все ра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ываются быть участниками в общ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, слов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по благода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жией, а не по человеческ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ю, – таково единство Церкв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ак не можем понять 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ого процесса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го из германского нача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ленного самому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й идеи лич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нуть иное общество, кром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кусственной условной ассоциации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начало разобщаю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тится в противоположное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ирения и единения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tropinin_portrait_of_samarin_in_the_hunting_dress"/>
          <p:cNvPicPr/>
          <p:nvPr/>
        </p:nvPicPr>
        <p:blipFill>
          <a:blip r:embed="rId1"/>
          <a:stretch/>
        </p:blipFill>
        <p:spPr>
          <a:xfrm>
            <a:off x="6729480" y="1798560"/>
            <a:ext cx="199080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504840" y="4678200"/>
            <a:ext cx="213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. Ф. Самар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мнени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ременни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н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. Я. Данил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70920"/>
            <a:ext cx="8302680" cy="67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циальная и политическая онт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ория культурно-исторических типов Н. Я. Данил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тология и историософия В. С. Соловьё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цепция всеединства в русской социальной философи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. Л. Франк: соборность как основа соци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. П. Карсавин: концепция «симфонической лич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3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4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5" name="Picture 5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6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1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2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6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культуры К. Н. Леонтье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6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 rot="10800000">
            <a:off x="35892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йно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 б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бует  одинакового просто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целого и для част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н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от особен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ольк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т их исключитель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та этой свободы требует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частные элементы наход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я друг в друге и в целом, кажд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агало себя в другом и другое в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ало в своей частности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ого и в целом свою частность,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дарность всего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– всё во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840000" y="539748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бщий смыс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razy-mirrors"/>
          <p:cNvPicPr/>
          <p:nvPr/>
        </p:nvPicPr>
        <p:blipFill>
          <a:blip r:embed="rId1"/>
          <a:stretch/>
        </p:blipFill>
        <p:spPr>
          <a:xfrm>
            <a:off x="2133720" y="1619280"/>
            <a:ext cx="487656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71640" y="1798560"/>
            <a:ext cx="7197480" cy="403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ь категория онтологии, обозначающа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нцип внутренней формы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вершенного единства множеств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которому все элементы такого множества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ы между собой и тождественны цело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в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сливаются в неразличимое и сплошное единств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образуют особый полифонический строй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ансрациональное единств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ьности и взаимопроникнутост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сформулировал С. Л. Фра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515640" y="6118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С. Хоруж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В. С. Соловьёв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все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Pyramyd"/>
          <p:cNvPicPr/>
          <p:nvPr/>
        </p:nvPicPr>
        <p:blipFill>
          <a:blip r:embed="rId1"/>
          <a:stretch/>
        </p:blipFill>
        <p:spPr>
          <a:xfrm>
            <a:off x="4095720" y="29494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yr_big_red12"/>
          <p:cNvPicPr/>
          <p:nvPr/>
        </p:nvPicPr>
        <p:blipFill>
          <a:blip r:embed="rId2"/>
          <a:stretch/>
        </p:blipFill>
        <p:spPr>
          <a:xfrm>
            <a:off x="1644480" y="1619280"/>
            <a:ext cx="585504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31" name="Picture 8" descr="koch_snowflake_red"/>
          <p:cNvPicPr/>
          <p:nvPr/>
        </p:nvPicPr>
        <p:blipFill>
          <a:blip r:embed="rId3"/>
          <a:stretch/>
        </p:blipFill>
        <p:spPr>
          <a:xfrm>
            <a:off x="1322280" y="1619280"/>
            <a:ext cx="6500880" cy="487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деальном космосе, воплощающем полноту совершенства, нет мес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цессу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ю, переходу от менее совершенного к более совершенному – всей исторической дра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Загадкой для разум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является отнюдь не идеальный, ясный космос, а наш мир, непонятный, нестройный и преход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этот мир предполагает мир идеальный как свою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ор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итерий оцен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не находили бы его полным заблуждений, если бы не имели представления о суще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стин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считали бы его злым, если бы не носили в себе идею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обр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чувствовали его безобразия, если бы были слепы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расот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кольку он носит в себе идеалы истины, добра и красоты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к оказывается посредствующим звеном между миром идеальным и земны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ивная, существенн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ая, устойчив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ь 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8000" y="5037120"/>
            <a:ext cx="194292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ективное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ующ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зависимо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и и созн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ъект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ндиви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формы общечеловеческо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церквей и его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9760" y="1492200"/>
            <a:ext cx="86630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смысл истории заключается в свободном вхождении человечества в церковь и 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ом оцерковлении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этот положительный смысл бы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ен разделением церкве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церковь может быть лишь вселенской), что привело к духовному оскудению отдельных церквей и отделению культуры светской от культуры духовной: культура стала безбожной, а церковь стала чуждаться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дствиям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ыва светской культуры от духов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интеллектуального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просвеще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абсолютных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снований бы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свобод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истин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её положительной це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ыв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н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осток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Западо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«бесчеловечный Восток» и «безбожный Запад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национальны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вселенски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ыв между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классовы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сословным и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общечеловече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зультате весь социальный прогресс последних веков обязан своим существованием почти исключительно неверующим;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орическая же церковь взяла сторону реак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тормозила этот прогресс, как только могл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 В. С. Соловьёв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кратическая ут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481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могут быть соединены лиш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етьей силой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й от их крайностей. Такой силой должна ста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сс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обязана своим величием «сил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усского народа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кие племена не побоялись приз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ла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– варяг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я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ую ве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византийское правосла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знать собственную отсталость и приобщитьс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уж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ой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ультуре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перь от России требу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четвёртый акт самоотр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знание главенства римского пап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 имя восстановления единства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юз римского папы и русского цар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олжен стать институциональной гарантией «богочеловеческого процесс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онцепция всеединства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русской социальной философи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Трубецкой С (1)"/>
          <p:cNvPicPr/>
          <p:nvPr/>
        </p:nvPicPr>
        <p:blipFill>
          <a:blip r:embed="rId1"/>
          <a:stretch/>
        </p:blipFill>
        <p:spPr>
          <a:xfrm>
            <a:off x="358920" y="179856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2" name="Text Box 6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Франк СЛ (3bw)"/>
          <p:cNvPicPr/>
          <p:nvPr/>
        </p:nvPicPr>
        <p:blipFill>
          <a:blip r:embed="rId2"/>
          <a:stretch/>
        </p:blipFill>
        <p:spPr>
          <a:xfrm>
            <a:off x="539640" y="431784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4" name="Text Box 9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Карсавин (1-1)"/>
          <p:cNvPicPr/>
          <p:nvPr/>
        </p:nvPicPr>
        <p:blipFill>
          <a:blip r:embed="rId3"/>
          <a:stretch/>
        </p:blipFill>
        <p:spPr>
          <a:xfrm>
            <a:off x="7377120" y="4317840"/>
            <a:ext cx="131760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6" name="Text Box 11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Лосский (1-3)"/>
          <p:cNvPicPr/>
          <p:nvPr/>
        </p:nvPicPr>
        <p:blipFill>
          <a:blip r:embed="rId4"/>
          <a:stretch/>
        </p:blipFill>
        <p:spPr>
          <a:xfrm>
            <a:off x="726912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8" name="Text Box 13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 Карсав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имфон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с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ос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2193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133020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3164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21600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107964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197820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84148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 С. Л. Фран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1440" y="564984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ы» – не имя класса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ми котор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многие «я»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конкретная об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2"/>
          <p:cNvSpPr/>
          <p:nvPr/>
        </p:nvSpPr>
        <p:spPr>
          <a:xfrm>
            <a:off x="2139840" y="455148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880920" y="2824200"/>
            <a:ext cx="925560" cy="1531800"/>
          </a:xfrm>
          <a:custGeom>
            <a:avLst/>
            <a:gdLst>
              <a:gd name="textAreaLeft" fmla="*/ 123840 w 925560"/>
              <a:gd name="textAreaRight" fmla="*/ 801720 w 925560"/>
              <a:gd name="textAreaTop" fmla="*/ 267840 h 1531800"/>
              <a:gd name="textAreaBottom" fmla="*/ 1110600 h 15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итическая философия русского марксизма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 «класса в себе» к «классу для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539640" y="151128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сам по себе способен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е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он способен вести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лассовую борьбу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питализм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за улучш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1798560" y="3238560"/>
            <a:ext cx="550728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ыйти за эти рамки, начать борьбу за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ничтожение самого капиталист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троя, 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сию «могильщика капитализма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бочий класс может лишь при условии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он станет действовать как еди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нное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3057480" y="4965840"/>
            <a:ext cx="5506920" cy="16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овать и повести его на борьб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ожет лишь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й авангард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у которого составляет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сторического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7124760" y="15112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еб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358920" y="496584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Кла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nodeType="clickEffect" fill="hold">
                      <p:stCondLst>
                        <p:cond delay="0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2949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2122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295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46656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1042920" y="2446200"/>
            <a:ext cx="4749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в принципе рассматривать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о обусловленное бе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отрицать при этом 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2698920" y="4605480"/>
            <a:ext cx="4749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етические предпосылки социальной наук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525840" y="568476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216000" y="136692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1870200" y="3525840"/>
            <a:ext cx="4749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трактные и конкретные социальные об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6000" y="1978200"/>
            <a:ext cx="428292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трак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ласс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о индивид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одинаковыми св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78200" y="1978200"/>
            <a:ext cx="4283280" cy="133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кретная социальная об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оллектив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окуп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ующ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8728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динаковость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 класс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ждественностью свойст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характеристик или услов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749840" y="3778200"/>
            <a:ext cx="4138560" cy="21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симфоничность»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я индивид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адлежащих к од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лективу, обеспеч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особ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он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лософия истории славянофил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исторические общности (А. С. 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мет истории и её действующ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всего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ности (определяемые по вероисповедани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овая парадигма исторической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ные верования как исторические источн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этический инстинкт» как метод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троспективный метод («возвратный ход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ая схема исторического проце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ранство» и «кушитство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на и друж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удущее человечества и мисс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ение человечества на органически-духовных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механических (империалистических) нача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906560" y="2367000"/>
            <a:ext cx="53992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108000" bIns="108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бор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единство свободное и органическо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вое начало которого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ая благода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ной люб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45720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ди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" y="472284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селенская церковь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 (православ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5720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7200" y="331956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ротестан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5720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57200" y="1916280"/>
            <a:ext cx="4114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атолиц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57200" y="3319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57200" y="4722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4572000" y="1916280"/>
            <a:ext cx="0" cy="42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457200" y="1916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572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8686800" y="1916280"/>
            <a:ext cx="0" cy="42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стории славянофилов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трина собо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 rot="10800000">
            <a:off x="2877840" y="1726920"/>
            <a:ext cx="611820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манизм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рно понятом,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христиан ес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ушания центральной вла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порабощение христиан доктрин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й они не содействуют и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а навсегда оставаться для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-то внешним (так как она всеце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иет в едином главе иерарх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конец, это узаконенное равноду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вере, которая окончательно с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чинение вере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очевид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в смыс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ном, а не в смысле христиа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4880" y="4786200"/>
            <a:ext cx="301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С. Хомяк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щё несколько с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ина о запа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исповеда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Хомяков Алексей Степанович (sm10-3)"/>
          <p:cNvPicPr/>
          <p:nvPr/>
        </p:nvPicPr>
        <p:blipFill>
          <a:blip r:embed="rId1"/>
          <a:stretch/>
        </p:blipFill>
        <p:spPr>
          <a:xfrm>
            <a:off x="539640" y="1727280"/>
            <a:ext cx="238140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52:40Z</dcterms:created>
  <dc:creator>Николай Бирюков / Nikolai Biryukov</dc:creator>
  <dc:description>редакция апреля 2008 г.</dc:description>
  <dc:language>en-US</dc:language>
  <cp:lastModifiedBy>LEGION</cp:lastModifiedBy>
  <dcterms:modified xsi:type="dcterms:W3CDTF">2014-11-11T12:43:56Z</dcterms:modified>
  <cp:revision>47</cp:revision>
  <dc:subject>История и философия науки - Тема 1</dc:subject>
  <dc:title>Русская философия социального и исторического знания</dc:title>
</cp:coreProperties>
</file>