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14.jpeg" ContentType="image/jpeg"/>
  <Override PartName="/ppt/media/image30.gif" ContentType="image/gif"/>
  <Override PartName="/ppt/media/image8.png" ContentType="image/png"/>
  <Override PartName="/ppt/media/image38.png" ContentType="image/png"/>
  <Override PartName="/ppt/media/image36.jpeg" ContentType="image/jpeg"/>
  <Override PartName="/ppt/media/image33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13.png" ContentType="image/png"/>
  <Override PartName="/ppt/media/image37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4EA4-0F35-49E2-B0A6-44A3087EF5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2B73-8B6B-4D1C-9E20-0FB3002F97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9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ая философия социального и исторического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147C-E582-4EAE-8F09-347EBA565E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AE7F-5730-4B5D-A2EE-5B8B6B4769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C408-6CBC-466A-9CE4-83AAB821AE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7914-5BD6-4B5A-9F52-DE67E2E085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F90B-5882-4C49-84FD-09ACD42074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3C06-8112-4CA3-93AB-92D4E56BAF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еория культурно-исторических типов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 Я. Данилевс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D1D1-23FA-4959-9D70-110426A9CE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епени развития и типы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снове универсалистской парадигмы лежи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огически не корректно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еление истории на периоды: древность, средневековье, новое 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убеж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отделяющие один период от другого, не имели общечеловеческого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стории каждой цивилизации выделяютс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и фазисы развит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свои «древность», «средневековье» и «новое врем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последними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льше общег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м между ними и соответствующими периодами других цивилиз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ление истории по степеням развит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е исчерпыва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его богат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ё содерж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5BB7-E9CD-4E0A-B2FA-BBB38B0CAE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Культура не универсальн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западная – в том числ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вокупное человечество не есть реальный субъект истории, н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лишь абстрактная иде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ообраз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а не единообразие – закон и условие прогрес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2480-B4DA-493E-BE70-4F9AC9FBF8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D713-EA5B-4526-8E0F-B394EE1077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7884-237D-4454-98AA-BD455EE877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оретические предпосылки социальной 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бстрактные и конкретные социальные общ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илософия истории славянофи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ультурно-исторические общности (А. С. Хомяк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ория культурно-исторических типов Н. Я. Данил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епени развития и типы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ложительные и отрицательные деятели ист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коны культурно-исторического дв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илософия культуры К. Н. Леонть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азы развития куль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нтология и историософия В. С. Соловьё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ные формы общечеловеческого орган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деление церквей и его послед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кратическая утоп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нцепция всеединства в русской социальной философии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XX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. Л. Франк: соборность как основа социа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. П. Карсавин: концепция «симфонической лично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литическая философия русского маркс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 «класса в себе» к «классу для себ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5F98-9EB5-41F2-BFA4-A4AB093B60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Египет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ита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Древнесемит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нди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ран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Евре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Гре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им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рави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омано-герман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ксиканск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уан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лавяно-рус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B946-C08B-43F7-BBFA-E1727BFD46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ложительные и отрицательные деятели ист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оложительные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самобытные цивилиз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трицательные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народы-разрушите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роды, не достигшие исторической индивиду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1CF6-8136-436A-B9EF-F3D6A58075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коны культурно-исторического дви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Языковое родств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ритер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сно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амобытного культурно-исторического тип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олитическая независимость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услов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развития самобытного культурно-исторического типа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Начала цивилизац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дного культурно-исторического тип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 передаютс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ародам другого тип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Цивилизация достигает полноты развития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гда составляющие её этнографические элементы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 поглощены одним политическим целым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а составляют политическую систему государ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витие цивилизац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одобно жизни многолетних одноплодных растений, у которых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должительный период рост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меняется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оротким (и никогда не повторяющимся) периодом расцв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C8FC-698B-45DF-84C0-8D77BA009E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лизации не бываю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лучш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хуж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они прос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и различаются преимущественным развитием какой-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дной стороны куль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ейская цивилизация – преимущественно религиоз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еческая – преимущественно эстетическ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имская – преимущественно политико-правов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опейцы расширили область культурного творчества, создав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двуосновную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цивилизацию – научно-промышлен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ядущая славяно-русская цивилизация будет – впервые в истории – полно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четырёхосновной»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оссия призвана решить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о-экономический вопро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который в Европе остался неразрешё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EFD3-586C-48A9-A936-C3D3F07481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илософия культуры К. Н. Леонтье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азы развития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 культуры подчинены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бщему закону циклического развития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огласно которому всё развивающееся проходит через три периода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рвичной простоты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цветущей сложности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вторичного смесительного упрощения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DF11-5D45-4FC3-88F1-BCEA05824B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2B85-C727-48CE-A91C-A828C7D37E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93A8-FAB7-4C15-8B0F-9C181825A7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1626-3B86-4D62-B516-5E5B0C6431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9734-33B9-4846-99C6-8C585E525C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деальном космосе, воплощающем полноту совершенства, нет мест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цессу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азвитию, переходу от менее совершенного к более совершенному – всей исторической дра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Загадкой для разума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является отнюдь не идеальный, ясный космос, а наш мир, непонятный, нестройный и преход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ако этот мир предполагает мир идеальный как свою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орм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критерий оценк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 не находили бы его полным заблуждений, если бы не имели представления о сущей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истин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считали бы его злым, если бы не носили в себе идею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добр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чувствовали его безобразия, если бы были слепы к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красоте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кольку он носит в себе идеалы истины, добра и красоты,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человек оказывается посредствующим звеном между миром идеальным и земным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A5FD-6E8F-4613-835E-7C86F721C0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еоретические предпосылки социальной науки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74E5-0CE5-4A3D-A2F9-2A0389DF95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формы общечеловеческого орга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DB25-C264-4C11-85D8-9B8DEFC0D2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деление церквей и его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ительный смысл истории заключается в свободном вхождении человечества в церковь и 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вободном оцерковлении челов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этот положительный смысл был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рушен разделением церкве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церковь может быть лишь вселенской), что привело к духовному оскудению отдельных церквей и отделению культуры светской от культуры духовной: культура стала безбожной, а церковь стала чуждаться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едствиям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трыва светской культуры от духовн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та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интеллектуального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просвещения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абсолютных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оснований быт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свободы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истины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как её положительной цел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знания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жизн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Востоко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Западо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(«бесчеловечный Восток» и «безбожный Запад»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национальны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вселенски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классовым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сословным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общечеловеческ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езультате весь социальный прогресс последних веков обязан своим существованием почти исключительно неверующим;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сторическая же церковь взяла сторону реакц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тормозила этот прогресс, как только могл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EF81-C29A-4164-A921-E4C3BA8A98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ократическая утоп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 и Восток могут быть соединены лишь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ретьей силой,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ной от их крайностей. Такой силой должна стать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оссия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обязана своим величием «сил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амоотреч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усского народа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авянские племена не побоялись призва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ую вла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– варяг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я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ую вер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византийское православ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ознать собственную отсталость и приобщитьс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адной –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культуре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перь от России требуе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четвёртый акт самоотреч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изнание главенства римского пап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 имя восстановления единства церкв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юз римского папы и русского цар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олжен стать институциональной гарантией «богочеловеческого процесс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F47E-A68D-4CDC-A59F-C7E3A5BEEE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онцепция всеединства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 русской социальной философии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XX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7C6C-893E-4945-AF0B-65250EDC67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Л. П. Карсавин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симфонической личн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385E-95D6-459E-BC03-EF840898EA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A4FC-E59D-4A54-A830-5DCD49C793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олитическая философия русского марксиз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т «класса в себе» к «классу для себ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46F9-4EFA-4D0E-B027-9F4E8BA8D1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AE0B-4E8C-49CE-8E98-92343AAA0B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оретические предпосылки социальной нау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337A-158C-4CE9-8DCF-2B796E88E4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бстрактные и конкретные социальные общ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0279-129F-4D14-A9A2-CA93EB3C56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илософия истории славянофило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льтурно-исторические общности (А. С. Хомя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дмет истории и её действующие 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изнь всего челове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ности (определяемые по вероисповедания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овая парадигма исторической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родные верования как исторические источни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оэтический инстинкт» как метод исслед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троспективный метод («возвратный ход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щая схема исторического процес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ранство» и «кушитство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ина и друж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и Евро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удущее человечества и миссия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динение человечества на органически-духовных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не механических (империалистических) начал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185B-E88E-4711-8B9C-5F70683B9C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340B-7656-4434-B7CB-840C85E143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FCF8-0029-4BF5-A53F-2B7CFBEEDD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2C46-93F2-4765-84ED-8B14C6E8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DB17-AE96-43ED-A64D-D0B8FE19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D618-576E-4C1E-B022-50B61885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D68F-800E-4DAB-A574-CD60C2382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8F2B-3304-496B-8096-018A0ECA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4D79-B520-4178-9001-9FF10445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4D2A-1E58-45BA-9839-1BA28F58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4E69-A9B3-43DB-87B1-5AF65B42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BB91-787D-49DB-8BA1-AB342DD3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9D3C-6E3D-443B-B63C-ABCE3DB4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C410-AEC9-4316-A266-61E26BA2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76A3-3B11-497D-8E65-EA07BBF7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5D6C-363D-4A4A-85BC-006E957F9E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14200" y="1928520"/>
            <a:ext cx="8274240" cy="18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усская философия социального и исторического зн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"/>
          <p:cNvSpPr/>
          <p:nvPr/>
        </p:nvSpPr>
        <p:spPr>
          <a:xfrm rot="10800000">
            <a:off x="2877840" y="1726920"/>
            <a:ext cx="618948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естантств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вобода для цел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ины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постоян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еб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вобода, всегда готов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зять назад приговоры, ею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знесённые накануне... Дл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дельного же лица… свобода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сомне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оявляющая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м, кто, зная себя, сознаёт сво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мощь, 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нелепой вер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бя, проявляющаяся в том, кто твор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бе кумир из своей гордости. В том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ом виде это, пожалуй, тоже свобод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…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в смысле политическом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о не в смысле христианск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Хомяков Алексей Степанович (sm10-3)"/>
          <p:cNvPicPr/>
          <p:nvPr/>
        </p:nvPicPr>
        <p:blipFill>
          <a:blip r:embed="rId1"/>
          <a:stretch/>
        </p:blipFill>
        <p:spPr>
          <a:xfrm>
            <a:off x="539640" y="1727280"/>
            <a:ext cx="2381400" cy="29811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74880" y="4786200"/>
            <a:ext cx="3015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С. Хомяко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Ещё несколько сл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ослав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ристианина о запад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оисповедани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 rot="10800000">
            <a:off x="2806560" y="1726920"/>
            <a:ext cx="629784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 истинное, внутренне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л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роявление свободы, един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му основанием служит 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ный рационализм и не произволь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ловность учреждения, а нравственн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 взаимной любви и молитв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ство, в котором, при всём различ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тепени иерархических полномоч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совершение таинств, ник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рабощается, но все рав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зываются быть участниками в общ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е, слов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 по благода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жией, а не по человеческо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тановлению, – таково единство Церкв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Хомяков Алексей Степанович (sm10-3)"/>
          <p:cNvPicPr/>
          <p:nvPr/>
        </p:nvPicPr>
        <p:blipFill>
          <a:blip r:embed="rId1"/>
          <a:stretch/>
        </p:blipFill>
        <p:spPr>
          <a:xfrm>
            <a:off x="539640" y="1727280"/>
            <a:ext cx="2381400" cy="29811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74880" y="4786200"/>
            <a:ext cx="3015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С. Хомяко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Ещё несколько сл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ослав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ристианина о запад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оисповедани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"/>
          <p:cNvSpPr/>
          <p:nvPr/>
        </p:nvSpPr>
        <p:spPr>
          <a:xfrm rot="10800000">
            <a:off x="280620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Когда мы говорим, что нар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ует, мыслит, чувствует,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ражаемся отвлечённо: собств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уют, чувствуют, мысля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ицы, лица, его составляющи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личность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ющ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а по себе своё бесконеч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 достоинство, –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е условие вся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овного развития наро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61800" y="500220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Д. Кавел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згляд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ридический бы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евней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Кавелин, Константин Дмитриевич (sm10)"/>
          <p:cNvPicPr/>
          <p:nvPr/>
        </p:nvPicPr>
        <p:blipFill>
          <a:blip r:embed="rId1"/>
          <a:stretch/>
        </p:blipFill>
        <p:spPr>
          <a:xfrm>
            <a:off x="324000" y="1727280"/>
            <a:ext cx="2504880" cy="3105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 rot="10800000">
            <a:off x="28692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никак не можем понять т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огического процесса, посред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го из германского начал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оставленного самому себ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й идеи личн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никнуть иное общество, кром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кусственной условной ассоциации?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 образом начало разобщающ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тится в противоположное нача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ирения и единения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tropinin_portrait_of_samarin_in_the_hunting_dress"/>
          <p:cNvPicPr/>
          <p:nvPr/>
        </p:nvPicPr>
        <p:blipFill>
          <a:blip r:embed="rId1"/>
          <a:stretch/>
        </p:blipFill>
        <p:spPr>
          <a:xfrm>
            <a:off x="6729480" y="1798560"/>
            <a:ext cx="1990800" cy="25909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6504840" y="4678200"/>
            <a:ext cx="2139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. Ф. Самар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мнениях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временник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торических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тературны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59436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Самобытность (национализ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2004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Универсализм (космополитиз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572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окультурная 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59436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ера и религ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2004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Разум и наук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4572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уховная 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59436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рганическое развит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32004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бщественный догово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4572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итическая онт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59436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Культура как продукт стихийного развит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32004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Культура как сознательное творчеств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4572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ая онт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59436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Славянофи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32004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Запад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7"/>
          <p:cNvSpPr/>
          <p:nvPr/>
        </p:nvSpPr>
        <p:spPr>
          <a:xfrm>
            <a:off x="4572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8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>
            <a:off x="457200" y="25052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0"/>
          <p:cNvSpPr/>
          <p:nvPr/>
        </p:nvSpPr>
        <p:spPr>
          <a:xfrm>
            <a:off x="457200" y="34639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1"/>
          <p:cNvSpPr/>
          <p:nvPr/>
        </p:nvSpPr>
        <p:spPr>
          <a:xfrm>
            <a:off x="457200" y="43704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2"/>
          <p:cNvSpPr/>
          <p:nvPr/>
        </p:nvSpPr>
        <p:spPr>
          <a:xfrm>
            <a:off x="457200" y="52754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3"/>
          <p:cNvSpPr/>
          <p:nvPr/>
        </p:nvSpPr>
        <p:spPr>
          <a:xfrm>
            <a:off x="457200" y="618012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4"/>
          <p:cNvSpPr/>
          <p:nvPr/>
        </p:nvSpPr>
        <p:spPr>
          <a:xfrm>
            <a:off x="457200" y="1600200"/>
            <a:ext cx="0" cy="4579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5"/>
          <p:cNvSpPr/>
          <p:nvPr/>
        </p:nvSpPr>
        <p:spPr>
          <a:xfrm>
            <a:off x="3200400" y="1600200"/>
            <a:ext cx="0" cy="457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6"/>
          <p:cNvSpPr/>
          <p:nvPr/>
        </p:nvSpPr>
        <p:spPr>
          <a:xfrm>
            <a:off x="5943600" y="1600200"/>
            <a:ext cx="0" cy="457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7"/>
          <p:cNvSpPr/>
          <p:nvPr/>
        </p:nvSpPr>
        <p:spPr>
          <a:xfrm>
            <a:off x="8686800" y="1600200"/>
            <a:ext cx="0" cy="4579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еория культурно-исторических типо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. Я. Данилев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957480" y="4857840"/>
            <a:ext cx="521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. «Философические письм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489480" y="5468760"/>
            <a:ext cx="55782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Данилевского – первый значительный вклад России в мировую философ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 rot="10800000">
            <a:off x="3957480" y="1618920"/>
            <a:ext cx="4857840" cy="305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окие в мире, мы мир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го не дали, ничего у мир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зяли, мы не внесли в масс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их ид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одной мыс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ни в чём не содействова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жению вперё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го разума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Данилевский (1-3)"/>
          <p:cNvPicPr/>
          <p:nvPr/>
        </p:nvPicPr>
        <p:blipFill>
          <a:blip r:embed="rId1"/>
          <a:stretch/>
        </p:blipFill>
        <p:spPr>
          <a:xfrm>
            <a:off x="611280" y="1798560"/>
            <a:ext cx="2763720" cy="431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епени развития и типы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снове универсалистской парадигмы лежи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огически не корректно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еление истории на периоды: древность, средневековье, новое 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убеж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отделяющие один период от другого, не имели общечеловеческого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стории каждой цивилизации выделяютс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и фазисы развит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свои «древность», «средневековье» и «новое врем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последними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льше общег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м между ними и соответствующими периодами других цивилиз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ление истории по степеням развит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е исчерпыва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его богат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ё содерж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98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ультура не универсальн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западная – в том числ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вокупное человечество не есть реальный субъект истории, н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ишь абстрактная иде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азнообраз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а не единообразие – закон и условие прогр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 rot="10800000">
            <a:off x="250560" y="1977840"/>
            <a:ext cx="62974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бы поступательное движ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обще не прекратилось в жиз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го человечества, необходим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ы, дойдя в одном направле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 известной степени совершен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ось оно с новой точки исхода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ло по другому пути, т. е. надо что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тупили на поприще деятель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ие психические особенност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ой склад ума, чувств и во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ми обладают только нар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ого культурно-исторического тип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Данилевский (1-1)"/>
          <p:cNvPicPr/>
          <p:nvPr/>
        </p:nvPicPr>
        <p:blipFill>
          <a:blip r:embed="rId1"/>
          <a:stretch/>
        </p:blipFill>
        <p:spPr>
          <a:xfrm>
            <a:off x="6788160" y="2050920"/>
            <a:ext cx="1600200" cy="21812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6442920" y="4965840"/>
            <a:ext cx="24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Я. Данилев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оссия и Европ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 rot="10800000">
            <a:off x="250560" y="1977840"/>
            <a:ext cx="62974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гресс </a:t>
            </a: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остоит не в том, что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ти все в одном направлении (в так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учае он скоро бы прекратился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в том, чтоб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ходить все пол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ставляющее поприще историческ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ятельности человечества, во все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правлениях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этому ни од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ивилизация не может гордиться т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 она представляла высш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чку развития, в сравнении с е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шественницами или современница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 всех сторонах развит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Данилевский (1-1)"/>
          <p:cNvPicPr/>
          <p:nvPr/>
        </p:nvPicPr>
        <p:blipFill>
          <a:blip r:embed="rId1"/>
          <a:stretch/>
        </p:blipFill>
        <p:spPr>
          <a:xfrm>
            <a:off x="6788160" y="2050920"/>
            <a:ext cx="1600200" cy="21812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6442920" y="4965840"/>
            <a:ext cx="24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Я. Данилев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оссия и Европ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0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70920"/>
            <a:ext cx="8302680" cy="676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оретические предпосылки социальной 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бстрактные и конкретные социальные общ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илософия истории славянофи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ультурно-исторические общности (А. С. Хомяк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ория культурно-исторических типов Н. Я. Данил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епени развития и типы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ложительные и отрицательные деятели ист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коны культурно-исторического дв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илософия культуры К. Н. Леонть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азы развития куль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нтология и историософия В. С. Соловьё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ные формы общечеловеческого орган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деление церквей и его послед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кратическая утоп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нцепция всеединства в русской социальной философии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XX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. Л. Франк: соборность как основа социа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. П. Карсавин: концепция «симфонической лично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литическая философия русского маркс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 «класса в себе» к «классу для себ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Egypt"/>
          <p:cNvPicPr/>
          <p:nvPr/>
        </p:nvPicPr>
        <p:blipFill>
          <a:blip r:embed="rId1"/>
          <a:stretch/>
        </p:blipFill>
        <p:spPr>
          <a:xfrm>
            <a:off x="3778200" y="1619280"/>
            <a:ext cx="1800360" cy="1352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3" name="Picture 3" descr="China"/>
          <p:cNvPicPr/>
          <p:nvPr/>
        </p:nvPicPr>
        <p:blipFill>
          <a:blip r:embed="rId2"/>
          <a:stretch/>
        </p:blipFill>
        <p:spPr>
          <a:xfrm>
            <a:off x="5397480" y="1798560"/>
            <a:ext cx="180036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4" name="Picture 4" descr="ishtar_gate19"/>
          <p:cNvPicPr/>
          <p:nvPr/>
        </p:nvPicPr>
        <p:blipFill>
          <a:blip r:embed="rId3"/>
          <a:stretch/>
        </p:blipFill>
        <p:spPr>
          <a:xfrm>
            <a:off x="7197840" y="1978200"/>
            <a:ext cx="1568160" cy="180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5" name="Picture 5" descr="India (2)"/>
          <p:cNvPicPr/>
          <p:nvPr/>
        </p:nvPicPr>
        <p:blipFill>
          <a:blip r:embed="rId4"/>
          <a:stretch/>
        </p:blipFill>
        <p:spPr>
          <a:xfrm>
            <a:off x="3849840" y="2770200"/>
            <a:ext cx="180000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6" name="Picture 6" descr="Persia"/>
          <p:cNvPicPr/>
          <p:nvPr/>
        </p:nvPicPr>
        <p:blipFill>
          <a:blip r:embed="rId5"/>
          <a:stretch/>
        </p:blipFill>
        <p:spPr>
          <a:xfrm>
            <a:off x="5468760" y="3022560"/>
            <a:ext cx="1800360" cy="120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7" name="Picture 7" descr="Dome of the Rock, Jerusalem_sm"/>
          <p:cNvPicPr/>
          <p:nvPr/>
        </p:nvPicPr>
        <p:blipFill>
          <a:blip r:embed="rId6"/>
          <a:stretch/>
        </p:blipFill>
        <p:spPr>
          <a:xfrm>
            <a:off x="7088040" y="3273480"/>
            <a:ext cx="1800360" cy="1439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Египет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ита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ревнесемит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нди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ран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Евре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ре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им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рави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омано-герман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ксиканск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уа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лавяно-рус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0" descr="Greece"/>
          <p:cNvPicPr/>
          <p:nvPr/>
        </p:nvPicPr>
        <p:blipFill>
          <a:blip r:embed="rId7"/>
          <a:stretch/>
        </p:blipFill>
        <p:spPr>
          <a:xfrm>
            <a:off x="3922560" y="3922560"/>
            <a:ext cx="180036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1" name="Picture 11" descr="Rome"/>
          <p:cNvPicPr/>
          <p:nvPr/>
        </p:nvPicPr>
        <p:blipFill>
          <a:blip r:embed="rId8"/>
          <a:stretch/>
        </p:blipFill>
        <p:spPr>
          <a:xfrm>
            <a:off x="5576760" y="4102200"/>
            <a:ext cx="1800360" cy="135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2" name="Picture 12" descr="Aravia"/>
          <p:cNvPicPr/>
          <p:nvPr/>
        </p:nvPicPr>
        <p:blipFill>
          <a:blip r:embed="rId9"/>
          <a:stretch/>
        </p:blipFill>
        <p:spPr>
          <a:xfrm>
            <a:off x="7197840" y="4281480"/>
            <a:ext cx="180000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3" name="Picture 13" descr="Europe (3)"/>
          <p:cNvPicPr/>
          <p:nvPr/>
        </p:nvPicPr>
        <p:blipFill>
          <a:blip r:embed="rId10"/>
          <a:stretch/>
        </p:blipFill>
        <p:spPr>
          <a:xfrm>
            <a:off x="3994200" y="5073480"/>
            <a:ext cx="180000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4" name="Picture 14" descr="Mexico (2)"/>
          <p:cNvPicPr/>
          <p:nvPr/>
        </p:nvPicPr>
        <p:blipFill>
          <a:blip r:embed="rId11"/>
          <a:stretch/>
        </p:blipFill>
        <p:spPr>
          <a:xfrm>
            <a:off x="5649840" y="5253120"/>
            <a:ext cx="1800360" cy="135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5" name="Picture 15" descr="Peru"/>
          <p:cNvPicPr/>
          <p:nvPr/>
        </p:nvPicPr>
        <p:blipFill>
          <a:blip r:embed="rId12"/>
          <a:stretch/>
        </p:blipFill>
        <p:spPr>
          <a:xfrm>
            <a:off x="7269120" y="5433840"/>
            <a:ext cx="180036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6" name="Picture 16" descr="Russia"/>
          <p:cNvPicPr/>
          <p:nvPr/>
        </p:nvPicPr>
        <p:blipFill>
          <a:blip r:embed="rId13"/>
          <a:stretch/>
        </p:blipFill>
        <p:spPr>
          <a:xfrm>
            <a:off x="4786200" y="2878200"/>
            <a:ext cx="3598920" cy="2535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Delaroche, Hemicycle_of_the_Ecole_des_Beaux-Arts_sm"/>
          <p:cNvPicPr/>
          <p:nvPr/>
        </p:nvPicPr>
        <p:blipFill>
          <a:blip r:embed="rId1"/>
          <a:stretch/>
        </p:blipFill>
        <p:spPr>
          <a:xfrm>
            <a:off x="4317840" y="1619280"/>
            <a:ext cx="3059280" cy="2084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ые и отрицательные деятели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ложительные 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самобытные цивилизац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трицательные 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народы-разрушител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роды, не достигшие исторической индивидуа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Глазунов, Битва - Временный перевес татар"/>
          <p:cNvPicPr/>
          <p:nvPr/>
        </p:nvPicPr>
        <p:blipFill>
          <a:blip r:embed="rId2"/>
          <a:stretch/>
        </p:blipFill>
        <p:spPr>
          <a:xfrm>
            <a:off x="4929120" y="3057480"/>
            <a:ext cx="3238560" cy="1604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2" name="Picture 6" descr="Parched Village Huts, Niger, Africa_sm"/>
          <p:cNvPicPr/>
          <p:nvPr/>
        </p:nvPicPr>
        <p:blipFill>
          <a:blip r:embed="rId3"/>
          <a:stretch/>
        </p:blipFill>
        <p:spPr>
          <a:xfrm>
            <a:off x="5757840" y="4030560"/>
            <a:ext cx="3059280" cy="2446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культурно-исторического дв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Языковое родств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ритер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снов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амобытного культурно-исторического 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литическая независим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слов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азвития самобытного культурно-исторического типа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ачала цивилизац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дного культурно-исторического типа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передаютс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ародам другого 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Цивилизация достигает полноты развития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огда составляющие её этнографические элементы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поглощены одним политическим целым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составляют политическую систему государ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азвитие цивилизац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одобно жизни многолетних одноплодных растений, у которых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должительный период рост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меняе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ротким (и никогда не повторяющимся) периодом расц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3760" y="1600200"/>
            <a:ext cx="837396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лизации не бываю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лучш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хуж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они прос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и различаются преимущественным развитием какой-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дной стороны куль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ейская цивилизация – преимущественно религиоз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еческая – преимущественно эстетическ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имская – преимущественно политико-правов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опейцы расширили область культурного творчества, создав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двуосновную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цивилизацию – научно-промышлен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ядущая славяно-русская цивилизация будет – впервые в истории – полно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четырёхосновной»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оссия призвана решить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о-экономический вопро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который в Европе остался неразрешё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Aligny_Claude_Felix_Theodore_Homer_And_The_Sheperds_sm"/>
          <p:cNvPicPr/>
          <p:nvPr/>
        </p:nvPicPr>
        <p:blipFill>
          <a:blip r:embed="rId1"/>
          <a:stretch/>
        </p:blipFill>
        <p:spPr>
          <a:xfrm>
            <a:off x="4497480" y="1619280"/>
            <a:ext cx="2501640" cy="288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илософия культуры К. Н. Леонтье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азы развития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757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 культуры подчинены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бщему закону циклического развития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огласно которому всё развивающееся проходит через три периода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рвичной простоты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цветущей сложности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вторичного смесительного упрощения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Brown_Ford_Madox_Work_sm"/>
          <p:cNvPicPr/>
          <p:nvPr/>
        </p:nvPicPr>
        <p:blipFill>
          <a:blip r:embed="rId2"/>
          <a:stretch/>
        </p:blipFill>
        <p:spPr>
          <a:xfrm>
            <a:off x="5289480" y="2878200"/>
            <a:ext cx="2879640" cy="202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4" name="Picture 6" descr="Axentowics_Theodor_The_Omnibus_sm"/>
          <p:cNvPicPr/>
          <p:nvPr/>
        </p:nvPicPr>
        <p:blipFill>
          <a:blip r:embed="rId3"/>
          <a:stretch/>
        </p:blipFill>
        <p:spPr>
          <a:xfrm>
            <a:off x="6008760" y="4317840"/>
            <a:ext cx="2879640" cy="2219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"/>
          <p:cNvSpPr/>
          <p:nvPr/>
        </p:nvSpPr>
        <p:spPr>
          <a:xfrm rot="10800000">
            <a:off x="358920" y="1798200"/>
            <a:ext cx="647856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стойное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альное бы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ебует  одинакового простор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ля целого и для часте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не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от особенно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только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от их исключительност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нота этой свободы требует, что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частные элементы наход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бя друг в друге и в целом, кажд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агало себя в другом и другое в себ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щущало в своей частности един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лого и в целом свою частность, 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им словом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олютн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идарность всего существующе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 – всё во все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6840000" y="5397480"/>
            <a:ext cx="19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С. Соловьё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бщий смыс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кусст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Соловьев (2-3 - sel)"/>
          <p:cNvPicPr/>
          <p:nvPr/>
        </p:nvPicPr>
        <p:blipFill>
          <a:blip r:embed="rId1"/>
          <a:stretch/>
        </p:blipFill>
        <p:spPr>
          <a:xfrm>
            <a:off x="7197840" y="1798560"/>
            <a:ext cx="1485720" cy="251640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crazy-mirrors"/>
          <p:cNvPicPr/>
          <p:nvPr/>
        </p:nvPicPr>
        <p:blipFill>
          <a:blip r:embed="rId1"/>
          <a:stretch/>
        </p:blipFill>
        <p:spPr>
          <a:xfrm>
            <a:off x="2133720" y="1619280"/>
            <a:ext cx="4876560" cy="4876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971640" y="1798560"/>
            <a:ext cx="7197480" cy="4030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сеединств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сть категория онтологии, обозначающая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инцип внутренней формы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овершенного единства множества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гласно которому все элементы такого множества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ождественны между собой и тождественны целому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в то же время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сливаются в неразличимое и сплошное единство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образуют особый полифонический строй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рансрациональное единств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дельности и взаимопроникнутости»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 сформулировал С. Л. Фран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6515640" y="61182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 С. Хоруж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Pyramyd"/>
          <p:cNvPicPr/>
          <p:nvPr/>
        </p:nvPicPr>
        <p:blipFill>
          <a:blip r:embed="rId1"/>
          <a:stretch/>
        </p:blipFill>
        <p:spPr>
          <a:xfrm>
            <a:off x="4095720" y="29494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pyr_big_red12"/>
          <p:cNvPicPr/>
          <p:nvPr/>
        </p:nvPicPr>
        <p:blipFill>
          <a:blip r:embed="rId2"/>
          <a:stretch/>
        </p:blipFill>
        <p:spPr>
          <a:xfrm>
            <a:off x="1644480" y="1619280"/>
            <a:ext cx="5855040" cy="4876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31" name="Picture 8" descr="koch_snowflake_red"/>
          <p:cNvPicPr/>
          <p:nvPr/>
        </p:nvPicPr>
        <p:blipFill>
          <a:blip r:embed="rId3"/>
          <a:stretch/>
        </p:blipFill>
        <p:spPr>
          <a:xfrm>
            <a:off x="1322280" y="1619280"/>
            <a:ext cx="6500880" cy="4876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деальном космосе, воплощающем полноту совершенства, нет мест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цессу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азвитию, переходу от менее совершенного к более совершенному – всей исторической дра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Загадкой для разума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является отнюдь не идеальный, ясный космос, а наш мир, непонятный, нестройный и преход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ако этот мир предполагает мир идеальный как свою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орм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критерий оценк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 не находили бы его полным заблуждений, если бы не имели представления о сущей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истин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считали бы его злым, если бы не носили в себе идею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добр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чувствовали его безобразия, если бы были слепы к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красоте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кольку он носит в себе идеалы истины, добра и красоты,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человек оказывается посредствующим звеном между миром идеальным и земным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/>
          <p:cNvSpPr/>
          <p:nvPr/>
        </p:nvSpPr>
        <p:spPr>
          <a:xfrm>
            <a:off x="2949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"/>
          <p:cNvSpPr/>
          <p:nvPr/>
        </p:nvSpPr>
        <p:spPr>
          <a:xfrm>
            <a:off x="2122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129528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46656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1042920" y="2446200"/>
            <a:ext cx="474984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иде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ческ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омер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жется внутренне противоречиво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история имеет сво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метом человеческую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2698920" y="4605480"/>
            <a:ext cx="4749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если человеческая деятель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дчиняется законам, историческ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е не может приня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у наук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ваясь просто набором све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еоретические предпосылки социальной науки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525840" y="568476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рицание свободы воли (фатализм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ность истории не спасает, так как 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транением человеческой специфи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траняется и самы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мет ис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216000" y="136692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знан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омерности в приро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здаёт затруднений: объекты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ладающие волей и сознанием, лег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ть подчинёнными закон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"/>
          <p:cNvSpPr/>
          <p:nvPr/>
        </p:nvSpPr>
        <p:spPr>
          <a:xfrm>
            <a:off x="1870200" y="352584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 образом деятельность, направ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яем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лей и сознание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жет регу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роватьс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ами, по определени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ависящими от воли и созна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5937120" y="1366920"/>
            <a:ext cx="3059280" cy="17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акон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ъективная, существенная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обходимая, устойчива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вязь между явлениями;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учное положение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ображающее такую связ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108000" y="5037120"/>
            <a:ext cx="1942920" cy="17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ъективное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ществующе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зависимо о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ли и созна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бъект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индиви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формы общечеловеческого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66294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номическ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земст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45720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ительная нау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25146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хническое творчеств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4572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атериальная степ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66294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итическ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государство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45720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влечённая философ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25146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ящное художеств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4572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ормальная степ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66294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уховн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церковь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45720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25146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4572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бсолютная степ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66294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практи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45720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7"/>
          <p:cNvSpPr/>
          <p:nvPr/>
        </p:nvSpPr>
        <p:spPr>
          <a:xfrm>
            <a:off x="25146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8"/>
          <p:cNvSpPr/>
          <p:nvPr/>
        </p:nvSpPr>
        <p:spPr>
          <a:xfrm>
            <a:off x="4572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9"/>
          <p:cNvSpPr/>
          <p:nvPr/>
        </p:nvSpPr>
        <p:spPr>
          <a:xfrm>
            <a:off x="457200" y="17114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"/>
          <p:cNvSpPr/>
          <p:nvPr/>
        </p:nvSpPr>
        <p:spPr>
          <a:xfrm>
            <a:off x="457200" y="2843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1"/>
          <p:cNvSpPr/>
          <p:nvPr/>
        </p:nvSpPr>
        <p:spPr>
          <a:xfrm>
            <a:off x="457200" y="39751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2"/>
          <p:cNvSpPr/>
          <p:nvPr/>
        </p:nvSpPr>
        <p:spPr>
          <a:xfrm>
            <a:off x="457200" y="51055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3"/>
          <p:cNvSpPr/>
          <p:nvPr/>
        </p:nvSpPr>
        <p:spPr>
          <a:xfrm>
            <a:off x="457200" y="623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4"/>
          <p:cNvSpPr/>
          <p:nvPr/>
        </p:nvSpPr>
        <p:spPr>
          <a:xfrm>
            <a:off x="4572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5"/>
          <p:cNvSpPr/>
          <p:nvPr/>
        </p:nvSpPr>
        <p:spPr>
          <a:xfrm>
            <a:off x="25146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>
            <a:off x="45720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>
            <a:off x="66294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>
            <a:off x="86868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деление церквей и его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39760" y="1492200"/>
            <a:ext cx="866304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ительный смысл истории заключается в свободном вхождении человечества в церковь и 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вободном оцерковлении челов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этот положительный смысл был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рушен разделением церкве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церковь может быть лишь вселенской), что привело к духовному оскудению отдельных церквей и отделению культуры светской от культуры духовной: культура стала безбожной, а церковь стала чуждаться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едствиям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трыва светской культуры от духовн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та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интеллектуального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просвещения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абсолютных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оснований быт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свободы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истины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как её положительной цел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знания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жизн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Востоко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Западо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(«бесчеловечный Восток» и «безбожный Запад»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национальны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вселенски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классовым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сословным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общечеловеческ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езультате весь социальный прогресс последних веков обязан своим существованием почти исключительно неверующим;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сторическая же церковь взяла сторону реакц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тормозила этот прогресс, как только могл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nodeType="clickEffect" fill="hold">
                      <p:stCondLst>
                        <p:cond delay="indefinite"/>
                      </p:stCondLst>
                      <p:childTnLst>
                        <p:par>
                          <p:cTn id="1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ократическая утоп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3760" y="1600200"/>
            <a:ext cx="848196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 и Восток могут быть соединены лишь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ретьей силой,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ной от их крайностей. Такой силой должна стать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оссия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обязана своим величием «сил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амоотреч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усского народа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авянские племена не побоялись призва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ую вла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– варяг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я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ую вер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византийское православ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ознать собственную отсталость и приобщитьс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адной –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культуре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перь от России требуе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четвёртый акт самоотреч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изнание главенства римского пап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 имя восстановления единства церкв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юз римского папы и русского цар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олжен стать институциональной гарантией «богочеловеческого процесс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онцепция всеединства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 русской социальной философии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X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Трубецкой С (1)"/>
          <p:cNvPicPr/>
          <p:nvPr/>
        </p:nvPicPr>
        <p:blipFill>
          <a:blip r:embed="rId1"/>
          <a:stretch/>
        </p:blipFill>
        <p:spPr>
          <a:xfrm>
            <a:off x="358920" y="1798560"/>
            <a:ext cx="1662120" cy="19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2" name="Text Box 6"/>
          <p:cNvSpPr/>
          <p:nvPr/>
        </p:nvSpPr>
        <p:spPr>
          <a:xfrm>
            <a:off x="2230560" y="179856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2-19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8" descr="Франк СЛ (3bw)"/>
          <p:cNvPicPr/>
          <p:nvPr/>
        </p:nvPicPr>
        <p:blipFill>
          <a:blip r:embed="rId2"/>
          <a:stretch/>
        </p:blipFill>
        <p:spPr>
          <a:xfrm>
            <a:off x="539640" y="4317840"/>
            <a:ext cx="1320840" cy="198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4" name="Text Box 9"/>
          <p:cNvSpPr/>
          <p:nvPr/>
        </p:nvSpPr>
        <p:spPr>
          <a:xfrm>
            <a:off x="2230560" y="431784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. Франк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7‑19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0" descr="Карсавин (1-1)"/>
          <p:cNvPicPr/>
          <p:nvPr/>
        </p:nvPicPr>
        <p:blipFill>
          <a:blip r:embed="rId3"/>
          <a:stretch/>
        </p:blipFill>
        <p:spPr>
          <a:xfrm>
            <a:off x="7377120" y="4317840"/>
            <a:ext cx="1317600" cy="198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6" name="Text Box 11"/>
          <p:cNvSpPr/>
          <p:nvPr/>
        </p:nvSpPr>
        <p:spPr>
          <a:xfrm>
            <a:off x="4786200" y="179856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. Лосски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0-19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2" descr="Лосский (1-3)"/>
          <p:cNvPicPr/>
          <p:nvPr/>
        </p:nvPicPr>
        <p:blipFill>
          <a:blip r:embed="rId4"/>
          <a:stretch/>
        </p:blipFill>
        <p:spPr>
          <a:xfrm>
            <a:off x="7269120" y="1798560"/>
            <a:ext cx="1496880" cy="19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8" name="Text Box 13"/>
          <p:cNvSpPr/>
          <p:nvPr/>
        </p:nvSpPr>
        <p:spPr>
          <a:xfrm>
            <a:off x="4786200" y="431784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 Карсавин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2-19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4786200" y="528948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имфон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чно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4786200" y="277020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ерархи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сонал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2230560" y="528948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ор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основ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2230560" y="277020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 соборн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AutoShape 2"/>
          <p:cNvSpPr/>
          <p:nvPr/>
        </p:nvSpPr>
        <p:spPr>
          <a:xfrm>
            <a:off x="219384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"/>
          <p:cNvSpPr/>
          <p:nvPr/>
        </p:nvSpPr>
        <p:spPr>
          <a:xfrm>
            <a:off x="133020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43164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21600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нешняя сфера социальности («общественности»)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новывается 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соборности»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– первичн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лидарной слитности индивидуальных “я”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о всеобъемлющем “мы”.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107964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не есть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осто множественное число от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(в своём основном и первичном смысле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ообще не может иметь множественного числа) –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есть единство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197820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есть, следовательно, нек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ичн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тегория социального быти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(столь ж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ервична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как и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), в которой преодолеваетс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ечна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отивопоставленность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ы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8"/>
          <p:cNvSpPr/>
          <p:nvPr/>
        </p:nvSpPr>
        <p:spPr>
          <a:xfrm>
            <a:off x="284148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борн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“мы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есть непосредственно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тражен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в социально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циальная философия С. Л. Фран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орность как основа социа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1"/>
          <p:cNvSpPr/>
          <p:nvPr/>
        </p:nvSpPr>
        <p:spPr>
          <a:xfrm>
            <a:off x="1440" y="5649840"/>
            <a:ext cx="29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ы» – не имя класса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ементами которог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вляются многие «я»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конкретная общ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2" dur="indefinite" restart="never" nodeType="tmRoot">
          <p:childTnLst>
            <p:seq>
              <p:cTn id="1383" dur="indefinite" nodeType="mainSeq">
                <p:childTnLst>
                  <p:par>
                    <p:cTn id="1384" nodeType="clickEffect" fill="hold">
                      <p:stCondLst>
                        <p:cond delay="indefinite"/>
                      </p:stCondLst>
                      <p:childTnLst>
                        <p:par>
                          <p:cTn id="1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nodeType="clickEffect" fill="hold">
                      <p:stCondLst>
                        <p:cond delay="indefinite"/>
                      </p:stCondLst>
                      <p:childTnLst>
                        <p:par>
                          <p:cTn id="1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3" dur="8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4" dur="8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5" dur="8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19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Л. П. Карсавин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симфонической лич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4"/>
          <p:cNvSpPr/>
          <p:nvPr/>
        </p:nvSpPr>
        <p:spPr>
          <a:xfrm>
            <a:off x="3957480" y="1906560"/>
            <a:ext cx="4318200" cy="4318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5"/>
          <p:cNvSpPr/>
          <p:nvPr/>
        </p:nvSpPr>
        <p:spPr>
          <a:xfrm>
            <a:off x="4173480" y="3346560"/>
            <a:ext cx="251928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5540400" y="3346560"/>
            <a:ext cx="251928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2"/>
          <p:cNvSpPr/>
          <p:nvPr/>
        </p:nvSpPr>
        <p:spPr>
          <a:xfrm>
            <a:off x="4856040" y="1943280"/>
            <a:ext cx="251964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7"/>
          <p:cNvSpPr/>
          <p:nvPr/>
        </p:nvSpPr>
        <p:spPr>
          <a:xfrm>
            <a:off x="5000760" y="2770200"/>
            <a:ext cx="143964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6"/>
          <p:cNvSpPr/>
          <p:nvPr/>
        </p:nvSpPr>
        <p:spPr>
          <a:xfrm>
            <a:off x="5792760" y="2770200"/>
            <a:ext cx="144000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0"/>
          <p:cNvSpPr/>
          <p:nvPr/>
        </p:nvSpPr>
        <p:spPr>
          <a:xfrm>
            <a:off x="5397480" y="1978200"/>
            <a:ext cx="1440000" cy="14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5470560" y="240984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8"/>
          <p:cNvSpPr/>
          <p:nvPr/>
        </p:nvSpPr>
        <p:spPr>
          <a:xfrm>
            <a:off x="5902200" y="240984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3"/>
          <p:cNvSpPr/>
          <p:nvPr/>
        </p:nvSpPr>
        <p:spPr>
          <a:xfrm>
            <a:off x="5686560" y="201456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14"/>
          <p:cNvSpPr/>
          <p:nvPr/>
        </p:nvSpPr>
        <p:spPr>
          <a:xfrm>
            <a:off x="5756400" y="230184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5"/>
          <p:cNvSpPr/>
          <p:nvPr/>
        </p:nvSpPr>
        <p:spPr>
          <a:xfrm>
            <a:off x="6008760" y="230184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6"/>
          <p:cNvSpPr/>
          <p:nvPr/>
        </p:nvSpPr>
        <p:spPr>
          <a:xfrm>
            <a:off x="5865840" y="205092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7"/>
          <p:cNvSpPr/>
          <p:nvPr/>
        </p:nvSpPr>
        <p:spPr>
          <a:xfrm>
            <a:off x="5902200" y="219384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8"/>
          <p:cNvSpPr/>
          <p:nvPr/>
        </p:nvSpPr>
        <p:spPr>
          <a:xfrm>
            <a:off x="6043680" y="219384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9"/>
          <p:cNvSpPr/>
          <p:nvPr/>
        </p:nvSpPr>
        <p:spPr>
          <a:xfrm>
            <a:off x="5973840" y="206856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359640" y="1978200"/>
            <a:ext cx="3061080" cy="25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елове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сло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м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2"/>
          <p:cNvSpPr/>
          <p:nvPr/>
        </p:nvSpPr>
        <p:spPr>
          <a:xfrm>
            <a:off x="509040" y="4786200"/>
            <a:ext cx="308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ьные эфемер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иодическ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оян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3"/>
          <p:cNvSpPr/>
          <p:nvPr/>
        </p:nvSpPr>
        <p:spPr>
          <a:xfrm>
            <a:off x="507600" y="5865840"/>
            <a:ext cx="332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модовлеющ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ункциональ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0" dur="indefinite" restart="never" nodeType="tmRoot">
          <p:childTnLst>
            <p:seq>
              <p:cTn id="1431" dur="indefinite" nodeType="mainSeq">
                <p:childTnLst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1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1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9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nodeType="clickEffect" fill="hold">
                      <p:stCondLst>
                        <p:cond delay="indefinite"/>
                      </p:stCondLst>
                      <p:childTnLst>
                        <p:par>
                          <p:cTn id="1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3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nodeType="clickEffect" fill="hold">
                      <p:stCondLst>
                        <p:cond delay="indefinite"/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1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nodeType="clickEffect" fill="hold">
                      <p:stCondLst>
                        <p:cond delay="indefinite"/>
                      </p:stCondLst>
                      <p:childTnLst>
                        <p:par>
                          <p:cTn id="1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5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9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3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nodeType="clickEffect" fill="hold">
                      <p:stCondLst>
                        <p:cond delay="indefinite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nodeType="clickEffect" fill="hold">
                      <p:stCondLst>
                        <p:cond delay="indefinite"/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nodeType="clickEffect" fill="hold">
                      <p:stCondLst>
                        <p:cond delay="indefinite"/>
                      </p:stCondLst>
                      <p:childTnLst>
                        <p:par>
                          <p:cTn id="1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nodeType="clickEffect" fill="hold">
                      <p:stCondLst>
                        <p:cond delay="indefinite"/>
                      </p:stCondLst>
                      <p:childTnLst>
                        <p:par>
                          <p:cTn id="1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nodeType="clickEffect" fill="hold">
                      <p:stCondLst>
                        <p:cond delay="indefinite"/>
                      </p:stCondLst>
                      <p:childTnLst>
                        <p:par>
                          <p:cTn id="1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AutoShape 2"/>
          <p:cNvSpPr/>
          <p:nvPr/>
        </p:nvSpPr>
        <p:spPr>
          <a:xfrm>
            <a:off x="2139840" y="4551480"/>
            <a:ext cx="925560" cy="1531800"/>
          </a:xfrm>
          <a:custGeom>
            <a:avLst/>
            <a:gdLst>
              <a:gd name="textAreaLeft" fmla="*/ 123840 w 925560"/>
              <a:gd name="textAreaRight" fmla="*/ 801720 w 925560"/>
              <a:gd name="textAreaTop" fmla="*/ 267840 h 1531800"/>
              <a:gd name="textAreaBottom" fmla="*/ 1110600 h 153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3"/>
          <p:cNvSpPr/>
          <p:nvPr/>
        </p:nvSpPr>
        <p:spPr>
          <a:xfrm>
            <a:off x="880920" y="2824200"/>
            <a:ext cx="925560" cy="1531800"/>
          </a:xfrm>
          <a:custGeom>
            <a:avLst/>
            <a:gdLst>
              <a:gd name="textAreaLeft" fmla="*/ 123840 w 925560"/>
              <a:gd name="textAreaRight" fmla="*/ 801720 w 925560"/>
              <a:gd name="textAreaTop" fmla="*/ 267840 h 1531800"/>
              <a:gd name="textAreaBottom" fmla="*/ 1110600 h 153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олитическая философия русского марксизм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 «класса в себе» к «классу для себ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5"/>
          <p:cNvSpPr/>
          <p:nvPr/>
        </p:nvSpPr>
        <p:spPr>
          <a:xfrm>
            <a:off x="539640" y="1511280"/>
            <a:ext cx="5507280" cy="16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Рабочий класс сам по себе способен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ыработать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ед-юнионистское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знание;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т.е. он способен вести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классовую борьбу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рамках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питализм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– за улучшение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условий труда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6"/>
          <p:cNvSpPr/>
          <p:nvPr/>
        </p:nvSpPr>
        <p:spPr>
          <a:xfrm>
            <a:off x="1798560" y="3238560"/>
            <a:ext cx="5507280" cy="16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ыйти за эти рамки, начать борьбу за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уничтожение самого капиталистического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троя, т.е. выполнить сво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ческую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ссию «могильщика капитализма»,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рабочий класс может лишь при условии,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что он станет действовать как едино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рганизованное цел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7"/>
          <p:cNvSpPr/>
          <p:nvPr/>
        </p:nvSpPr>
        <p:spPr>
          <a:xfrm>
            <a:off x="3057480" y="4965840"/>
            <a:ext cx="5506920" cy="16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рганизовать и повести его на борьбу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может лишь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революционный авангард»,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нову которого составляет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революционн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теллигенция,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ладеющ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учной теорией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исторического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развития и классовой борь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8"/>
          <p:cNvSpPr/>
          <p:nvPr/>
        </p:nvSpPr>
        <p:spPr>
          <a:xfrm>
            <a:off x="7124760" y="1511280"/>
            <a:ext cx="1619280" cy="16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Клас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себ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9"/>
          <p:cNvSpPr/>
          <p:nvPr/>
        </p:nvSpPr>
        <p:spPr>
          <a:xfrm>
            <a:off x="358920" y="4965840"/>
            <a:ext cx="1619280" cy="16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Клас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ля себ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2" dur="indefinite" restart="never" nodeType="tmRoot">
          <p:childTnLst>
            <p:seq>
              <p:cTn id="1563" dur="indefinite" nodeType="mainSeq">
                <p:childTnLst>
                  <p:par>
                    <p:cTn id="1564" nodeType="clickEffect" fill="hold">
                      <p:stCondLst>
                        <p:cond delay="indefinite"/>
                      </p:stCondLst>
                      <p:childTnLst>
                        <p:par>
                          <p:cTn id="1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nodeType="clickEffect" fill="hold">
                      <p:stCondLst>
                        <p:cond delay="indefinite"/>
                      </p:stCondLst>
                      <p:childTnLst>
                        <p:par>
                          <p:cTn id="1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nodeType="clickEffect" fill="hold">
                      <p:stCondLst>
                        <p:cond delay="indefinite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3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9" dur="indefinite" restart="never" nodeType="tmRoot">
          <p:childTnLst>
            <p:seq>
              <p:cTn id="1600" dur="indefinite" nodeType="mainSeq">
                <p:childTnLst>
                  <p:par>
                    <p:cTn id="1601" nodeType="clickEffect" fill="hold">
                      <p:stCondLst>
                        <p:cond delay="0"/>
                      </p:stCondLst>
                      <p:childTnLst>
                        <p:par>
                          <p:cTn id="1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nodeType="clickEffect" fill="hold">
                      <p:stCondLst>
                        <p:cond delay="indefinite"/>
                      </p:stCondLst>
                      <p:childTnLst>
                        <p:par>
                          <p:cTn id="1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nodeType="clickEffect" fill="hold">
                      <p:stCondLst>
                        <p:cond delay="indefinite"/>
                      </p:stCondLst>
                      <p:childTnLst>
                        <p:par>
                          <p:cTn id="1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1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7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2"/>
          <p:cNvSpPr/>
          <p:nvPr/>
        </p:nvSpPr>
        <p:spPr>
          <a:xfrm>
            <a:off x="2949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"/>
          <p:cNvSpPr/>
          <p:nvPr/>
        </p:nvSpPr>
        <p:spPr>
          <a:xfrm>
            <a:off x="2122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129528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46656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1042920" y="2446200"/>
            <a:ext cx="474984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ведение коллективны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в принципе рассматривать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ективно обусловленное без т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ы отрицать при этом свободу в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2698920" y="4605480"/>
            <a:ext cx="4749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ерами таких общностей являю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ственные класс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.е. групп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ей, занимающих одинаковое ме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истеме общественного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етические предпосылки социальной науки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"/>
          <p:cNvSpPr/>
          <p:nvPr/>
        </p:nvSpPr>
        <p:spPr>
          <a:xfrm>
            <a:off x="3525840" y="568476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и характеристи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лассов не зависят от воли и со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ленов общества, а обусловле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уктурой и характером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216000" y="136692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сё же историческая законом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ма, поскольку субъект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омерной деятельности не обяза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льно должны выступ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1"/>
          <p:cNvSpPr/>
          <p:nvPr/>
        </p:nvSpPr>
        <p:spPr>
          <a:xfrm>
            <a:off x="1870200" y="352584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закономерности повед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циальных общностей проявл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 значимых характеристи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индивидуальных чле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marx (6)"/>
          <p:cNvPicPr/>
          <p:nvPr/>
        </p:nvPicPr>
        <p:blipFill>
          <a:blip r:embed="rId1"/>
          <a:stretch/>
        </p:blipFill>
        <p:spPr>
          <a:xfrm>
            <a:off x="468360" y="4678200"/>
            <a:ext cx="1465200" cy="1898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3"/>
          <p:cNvSpPr/>
          <p:nvPr/>
        </p:nvSpPr>
        <p:spPr>
          <a:xfrm>
            <a:off x="5937120" y="1366920"/>
            <a:ext cx="3059280" cy="17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ественные классы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льшие группы людей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личающиеся п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х месту в систем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щественног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извод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бстрактные и конкретные социальные общ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16000" y="1978200"/>
            <a:ext cx="4282920" cy="1331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бстрактная социальная общ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класс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жество индивид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одинаковыми свойст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678200" y="1978200"/>
            <a:ext cx="4283280" cy="1331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нкретная социальная общ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коллектив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вокуп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аимодействующих инди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87280" y="3778200"/>
            <a:ext cx="4138560" cy="21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гласован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динаковость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едения индивидов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адлежащих к одному классу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еспечи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ждественностью свойст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характеристик или услови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4749840" y="3778200"/>
            <a:ext cx="4138560" cy="21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гласован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«симфоничность»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едения индивидов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адлежащих к одном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лективу, обеспечива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редством особ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грационных механиз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илософия истории славянофило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льтурно-исторические общности (А. С. Хомя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дмет истории и её действующие 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изнь всего челове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ности (определяемые по вероисповедания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овая парадигма исторической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родные верования как исторические источни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оэтический инстинкт» как метод исслед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троспективный метод («возвратный ход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щая схема исторического процес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ранство» и «кушитство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ина и друж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и Евро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удущее человечества и миссия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динение человечества на органически-духовных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не механических (империалистических) начал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906560" y="2367000"/>
            <a:ext cx="539928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108000" bIns="108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борно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единство свободное и органическое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ивое начало которого ест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жественная благодат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заимной любв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4572000" y="472284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бод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еди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457200" y="472284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селенская церковь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 (православ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4572000" y="331956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бод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 ед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457200" y="331956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Протестан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4572000" y="191628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динство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 своб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457200" y="191628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Католиц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457200" y="33195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457200" y="47228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1"/>
          <p:cNvSpPr/>
          <p:nvPr/>
        </p:nvSpPr>
        <p:spPr>
          <a:xfrm>
            <a:off x="457200" y="612612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4572000" y="1916280"/>
            <a:ext cx="0" cy="42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457200" y="191628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457200" y="1916280"/>
            <a:ext cx="0" cy="42098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8686800" y="1916280"/>
            <a:ext cx="0" cy="42098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 rot="10800000">
            <a:off x="2877840" y="1726920"/>
            <a:ext cx="611820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манизм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рно понятом, един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христиан есть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лушания центральной власти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 порабощение христиан доктрин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й они не содействуют и котор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а навсегда оставаться для 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-то внешним (так как она всеце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иет в едином главе иерархии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конец, это узаконенное равнодуш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вере, которая окончательно свод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одчинение вере друго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, очевидн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 в смысл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ловном, а не в смысле христианск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74880" y="4786200"/>
            <a:ext cx="3015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С. Хомяко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Ещё несколько сл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ослав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ристианина о запад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оисповедани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Хомяков Алексей Степанович (sm10-3)"/>
          <p:cNvPicPr/>
          <p:nvPr/>
        </p:nvPicPr>
        <p:blipFill>
          <a:blip r:embed="rId1"/>
          <a:stretch/>
        </p:blipFill>
        <p:spPr>
          <a:xfrm>
            <a:off x="539640" y="1727280"/>
            <a:ext cx="2381400" cy="29811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21:52:40Z</dcterms:created>
  <dc:creator>Николай Бирюков / Nikolai Biryukov</dc:creator>
  <dc:description>редакция апреля 2008 г.</dc:description>
  <dc:language>en-US</dc:language>
  <cp:lastModifiedBy>LEGION</cp:lastModifiedBy>
  <dcterms:modified xsi:type="dcterms:W3CDTF">2014-11-11T12:43:56Z</dcterms:modified>
  <cp:revision>47</cp:revision>
  <dc:subject>История и философия науки - Тема 1</dc:subject>
  <dc:title>Русская философия социального и исторического знания</dc:title>
</cp:coreProperties>
</file>