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4.jpeg" ContentType="image/jpeg"/>
  <Override PartName="/ppt/media/image30.gif" ContentType="image/gif"/>
  <Override PartName="/ppt/media/image8.png" ContentType="image/png"/>
  <Override PartName="/ppt/media/image38.png" ContentType="image/png"/>
  <Override PartName="/ppt/media/image36.jpeg" ContentType="image/jpeg"/>
  <Override PartName="/ppt/media/image33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13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A09A-6D0B-409E-BC10-1014635131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4856-BD76-44B3-9904-7FE387B874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ая философия социального и историческ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4EA8-230A-41C6-809D-88C16FF19B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293F-E085-449A-BCB8-90C6E37686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8A21-BAB5-4CB4-868D-FE2C413803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981A-A31C-4CF2-8D28-C879FD5ECC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3158-10CE-49F8-8823-C350023A42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C7DB-ED02-4544-B77A-B824F63D0F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еория культурно-исторических типов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Я. Данилев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2D76-62EB-4086-A942-D82D3CA497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снове универсалистской парадигмы леж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и не корректно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ение истории на периоды: древность, средневековье, ново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убеж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отделяющие один период от другого, не имели общечеловеческого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стории каждой цивилизации выделяю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и фазисы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свои «древность», «средневековье» и «новое врем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последним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 обще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м между ними и соответствующими периодами других цивил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ление истории по степеням развит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 исчерпыва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го богат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ё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B965-9CA5-4BAA-A414-6B9B452460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Культура не универсальн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западная – в том числ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вокупное человечество не есть реальный субъект истории, 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лишь абстрактная ид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ообраз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а не единообразие – закон и условие прогр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F76E-4C65-488A-9DDD-2D8790D961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944E-C8D6-4B6D-8BEC-DBD69F842E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E36F-5788-4335-98BE-22AA7819D7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оретические предпосылки социальной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бстрактные и конкретные социальные общ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лософия истории славяноф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ультурно-исторические общности (А. С. Хомя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ория культурно-исторических типов Н. Я. Данил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 ист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лософия культуры К. Н. Леонт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нтология и историософия В. С. Соловьё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ые формы общечеловеческого орган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деление церквей и его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кратическая утоп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нцепция всеединства в русской социальной философии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. Л. Франк: соборность как основа социа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. П. Карсавин: концепция «симфонической лич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литическая философия русского маркс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 «класса в себе» к «классу для себ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B0AC-8159-41DA-A468-729E324170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гипет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ита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Древнесемит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нд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ра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вре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ре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им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рав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омано-герма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ксиканск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уан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лавяно-рус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4C1B-D250-4E28-9ACF-654A32EAD8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 ист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ложительные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самобытные цивилиз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трицательные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народы-разрушите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роды, не достигшие исторической индивиду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B0A3-FF00-49A5-8D16-7426D8C547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Языковое родств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ритер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сно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амобытного культурно-исторического ти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литическая независимость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слов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развития самобытного культурно-исторического тип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ачала цивилизац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дного культурно-исторического тип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 передаютс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родам другого ти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Цивилизация достигает полноты развития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гда составляющие её этнографические элемент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 поглощены одним политическим целы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а составляют политическую систему государ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витие цивилизац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одобно жизни многолетних одноплодных растений, у которых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должительный период рост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меня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оротким (и никогда не повторяющимся) периодом расц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0CEA-59BC-4D23-B340-5B0E8960CC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лизации не б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хуж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они прос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различаются преимущественным развитием какой-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ой стороны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ейская цивилизация – преимущественно религиоз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ческая – преимущественно эстетичес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мская – преимущественно политико-правов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цы расширили область культурного творчества, созда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двуосновну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цивилизацию – научно-промыш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ядущая славяно-русская цивилизация будет – впервые в истории – полн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четырёхосновной»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я призвана решить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-экономический вопро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который в Европе остался неразрешё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6368-1B3B-4C63-BCEE-8AF6A32383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лософия культуры К. Н. Леонтье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культуры подчинен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щему закону циклического развити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огласно которому всё развивающееся проходит через три период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ой простоты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цветущей сложности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торичного смесительного упрощения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29A0-082C-4C7A-97B0-804EC557E3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6FEA-DFD4-4ED2-9D63-FEC4E3BDDE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242B-7FE6-4B16-8F0A-69102073B2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75FC-C828-4747-9932-3BDA0ADFCD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4CE3-1E3E-4AC4-8419-625FCDADE8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деальном космосе, воплощающем полноту совершенства, нет мес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цессу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витию, переходу от менее совершенного к более совершенному – всей исторической дра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Загадкой для разума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является отнюдь не идеальный, ясный космос, а наш мир, непонятный, нестройный и преход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ако этот мир предполагает мир идеальный как свою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орм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критерий оцен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не находили бы его полным заблуждений, если бы не имели представления о суще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стин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считали бы его злым, если бы не носили в себе идею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добр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чувствовали его безобразия, если бы были слепы 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расот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кольку он носит в себе идеалы истины, добра и красоты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человек оказывается посредствующим звеном между миром идеальным и земным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64A9-6B78-47E2-9763-901AE947CE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еоретические предпосылки социальной наук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FF04-C323-4180-B9F5-15EEB28D79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формы общечеловеческого орга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7AEB-1D78-4370-BBB2-32B63F94BC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еление церквей и его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ый смысл истории заключается в свободном вхождении человечества в церковь и 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бодном оцерковлении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этот положительный смысл был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рушен разделением церкве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церковь может быть лишь вселенской), что привело к духовному оскудению отдельных церквей и отделению культуры светской от культуры духовной: культура стала безбожной, а церковь стала чуждаться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едствиям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рыва светской культуры от духов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т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интеллектуального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просвеще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абсолютных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оснований быт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свобод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истин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ак её положительной цел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зна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жиз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Восток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Запад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(«бесчеловечный Восток» и «безбожный Запад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национальны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вселенски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классовым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сословным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общечеловеческ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зультате весь социальный прогресс последних веков обязан своим существованием почти исключительно неверующим;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торическая же церковь взяла сторону реакц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тормозила этот прогресс, как только могл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4064-1B3B-4FE8-9217-9187707F0D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кратическая уто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могут быть соединены лиш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ретьей силой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ной от их крайностей. Такой силой должна стат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ссия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обязана своим величием «сил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амоотр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усского народа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вянские племена не побоялись призва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ую вла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– варяг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я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ую вер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византийское православ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ознать собственную отсталость и приобщитьс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адной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ультуре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перь от России требу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четвёртый акт самоотр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изнание главенства римского пап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 имя восстановления единства церк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юз римского папы и русского цар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олжен стать институциональной гарантией «богочеловеческого процесс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A396-A7A4-422A-BF06-4C9B91EA36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онцепция всеединства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 русской социальной философии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EA8E-900A-4B18-9770-0120BEB169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E528-3D0C-4E32-BC43-2AE90BD6F6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6A85-25FB-4524-80AE-92BCD1618C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литическая философия русского марксиз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т «класса в себе» к «классу для себ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B622-4357-49CE-9B94-514D6571D9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4A9C-1BFF-4EB8-A716-2F48EBE7EA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етические предпосылки социальной нау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E1B2-C63A-4409-A623-0715DDA9E3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бстрактные и конкретные социальные общ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F9B8-F39D-420A-9CBF-D220755302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лософия истории славянофило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льтурно-исторические общности (А. С. Хомя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мет истории и её действующие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знь всего челов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ности (определяемые по вероисповедания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овая парадигма исторической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одные верования как исторические источни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этический инстинкт» как метод исслед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троспективный метод («возвратный ход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ая схема исторического процес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ранство» и «кушитство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ина и друж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и Евро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удущее человечества и миссия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ение человечества на органически-духовных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не механических (империалистических) нача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768A-F4ED-40BC-B05B-4834B7679F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37C1-F615-46F4-81A0-A742905B28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929B-6C44-4DB9-8862-84A35DD5EB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EBE0-EC55-4A8D-A1E8-F4FAF78F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9440-2EF0-4936-BF60-559D6763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BDE2-9F4A-4E54-BA9C-600561ED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81E9-E214-4F72-8CD1-B1AA2F4A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7532-A434-4F9C-8E3A-8D0ADB11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B830-B759-4F92-9EEE-CC7FAE95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D9A0-9BF1-4F24-83D1-88C060A4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3F9B-2F84-47E8-B704-D4FF69D6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FB85-4C0E-4FDF-99E5-D25D5EB7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1D86-DAA7-4319-9E10-1F66115C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9E6-C0D0-4AAE-9CCC-276F4B58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9C28-6525-4A16-8BAD-B72FD1F4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9CDA-4FE8-4D51-81E2-3A11E285C4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4200" y="1928520"/>
            <a:ext cx="827424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сская философия социального и исторического зн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 rot="10800000">
            <a:off x="2877840" y="1726920"/>
            <a:ext cx="6189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естантств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вобода для цел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ины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постоян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еб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вобода, всегда готов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зять назад приговоры, ею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несённые накануне... Д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дельного же лица… свобода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сомне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оявляющая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м, кто, зная себя, сознаёт сво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мощь,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нелепой вер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я, проявляющаяся в том, кто твор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е кумир из своей гордости. В том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ом виде это, пожалуй, тоже свобо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…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в смысле политическо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о не в смысле христианск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Хомяков Алексей Степанович (sm10-3)"/>
          <p:cNvPicPr/>
          <p:nvPr/>
        </p:nvPicPr>
        <p:blipFill>
          <a:blip r:embed="rId1"/>
          <a:stretch/>
        </p:blipFill>
        <p:spPr>
          <a:xfrm>
            <a:off x="539640" y="1727280"/>
            <a:ext cx="2381400" cy="29811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4880" y="4786200"/>
            <a:ext cx="301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С. Хомяк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щё несколько сл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ина о запад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оисповеда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 rot="10800000">
            <a:off x="2806560" y="1726920"/>
            <a:ext cx="629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истинное, внутренне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л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роявление свободы, еди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му основанием служит 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ый рационализм и не произво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овность учреждения, а нравстве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 взаимной любви и молитв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о, в котором, при всём различ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тепени иерархических полномоч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совершение таинств, ник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рабощается, но все рав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ываются быть участниками в общ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е, слов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по благода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жией, а не по человеческ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тановлению, – таково единство Церкв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Хомяков Алексей Степанович (sm10-3)"/>
          <p:cNvPicPr/>
          <p:nvPr/>
        </p:nvPicPr>
        <p:blipFill>
          <a:blip r:embed="rId1"/>
          <a:stretch/>
        </p:blipFill>
        <p:spPr>
          <a:xfrm>
            <a:off x="539640" y="1727280"/>
            <a:ext cx="2381400" cy="2981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74880" y="4786200"/>
            <a:ext cx="301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С. Хомяк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щё несколько сл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ина о запад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оисповеда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 rot="10800000">
            <a:off x="280620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Когда мы говорим, что нар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ет, мыслит, чувствует,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жаемся отвлечённо: соб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ют, чувствуют, мысл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ицы, лица, его составляющи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личность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ющ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а по себе своё бесконеч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 достоинство, –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е условие вся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ого развития нар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61800" y="500220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Д. Кавел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згляд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дический бы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евней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324000" y="1727280"/>
            <a:ext cx="2504880" cy="3105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 rot="10800000">
            <a:off x="28692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икак не можем понять 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гического процесса, посред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го из германского нача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оставленного самому себ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й идеи лич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нуть иное общество, кром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кусственной условной ассоциации?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 образом начало разобщающ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тится в противоположное нача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ирения и единения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tropinin_portrait_of_samarin_in_the_hunting_dress"/>
          <p:cNvPicPr/>
          <p:nvPr/>
        </p:nvPicPr>
        <p:blipFill>
          <a:blip r:embed="rId1"/>
          <a:stretch/>
        </p:blipFill>
        <p:spPr>
          <a:xfrm>
            <a:off x="6729480" y="1798560"/>
            <a:ext cx="1990800" cy="2590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6504840" y="4678200"/>
            <a:ext cx="2139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. Ф. Самар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мнениях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временник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орических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ературны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9436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Самобытность (национал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2004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Универсализм (космополит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572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окультур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59436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ера и религ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2004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азум и нау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572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ухов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59436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рганическое развит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32004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бщественный догово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4572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итическ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9436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продукт стихийного развит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32004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сознательное творчеств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4572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9436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Славяноф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2004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Запа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7"/>
          <p:cNvSpPr/>
          <p:nvPr/>
        </p:nvSpPr>
        <p:spPr>
          <a:xfrm>
            <a:off x="4572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457200" y="2505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0"/>
          <p:cNvSpPr/>
          <p:nvPr/>
        </p:nvSpPr>
        <p:spPr>
          <a:xfrm>
            <a:off x="457200" y="34639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1"/>
          <p:cNvSpPr/>
          <p:nvPr/>
        </p:nvSpPr>
        <p:spPr>
          <a:xfrm>
            <a:off x="457200" y="43704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2"/>
          <p:cNvSpPr/>
          <p:nvPr/>
        </p:nvSpPr>
        <p:spPr>
          <a:xfrm>
            <a:off x="457200" y="5275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3"/>
          <p:cNvSpPr/>
          <p:nvPr/>
        </p:nvSpPr>
        <p:spPr>
          <a:xfrm>
            <a:off x="457200" y="6180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4"/>
          <p:cNvSpPr/>
          <p:nvPr/>
        </p:nvSpPr>
        <p:spPr>
          <a:xfrm>
            <a:off x="4572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5"/>
          <p:cNvSpPr/>
          <p:nvPr/>
        </p:nvSpPr>
        <p:spPr>
          <a:xfrm>
            <a:off x="32004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6"/>
          <p:cNvSpPr/>
          <p:nvPr/>
        </p:nvSpPr>
        <p:spPr>
          <a:xfrm>
            <a:off x="59436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7"/>
          <p:cNvSpPr/>
          <p:nvPr/>
        </p:nvSpPr>
        <p:spPr>
          <a:xfrm>
            <a:off x="86868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ория культурно-исторических типо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. Я. Данилев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957480" y="4857840"/>
            <a:ext cx="521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. «Философические пись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489480" y="5468760"/>
            <a:ext cx="55782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Данилевского – первый значительный вклад России в мировую философ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 rot="10800000">
            <a:off x="3957480" y="1618920"/>
            <a:ext cx="4857840" cy="305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окие в мире, мы мир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не дали, ничего у мир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зяли, мы не внесли в масс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их ид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одной мыс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и в чём не содействова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ению вперё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азума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Данилевский (1-3)"/>
          <p:cNvPicPr/>
          <p:nvPr/>
        </p:nvPicPr>
        <p:blipFill>
          <a:blip r:embed="rId1"/>
          <a:stretch/>
        </p:blipFill>
        <p:spPr>
          <a:xfrm>
            <a:off x="611280" y="1798560"/>
            <a:ext cx="2763720" cy="431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снове универсалистской парадигмы леж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и не корректно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ение истории на периоды: древность, средневековье, ново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убеж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отделяющие один период от другого, не имели общечеловеческого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стории каждой цивилизации выделяю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и фазисы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свои «древность», «средневековье» и «новое врем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последним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 обще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м между ними и соответствующими периодами других цивил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ление истории по степеням развит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 исчерпыва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го богат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ё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ультура не универсальн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западная – в том числ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вокупное человечество не есть реальный субъект истории, 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ишь абстрактная ид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нообраз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а не единообразие – закон и условие прогр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 rot="10800000">
            <a:off x="25056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бы поступательное движ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обще не прекратилось в жиз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го человечества, необходим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, дойдя в одном направл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известной степени совершен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ось оно с новой точки исход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ло по другому пути, т. е. надо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тупили на поприще 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ие психические особенн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ой склад ума, чувств и во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ми обладают только на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ого культурно-исторического тип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Данилевский (1-1)"/>
          <p:cNvPicPr/>
          <p:nvPr/>
        </p:nvPicPr>
        <p:blipFill>
          <a:blip r:embed="rId1"/>
          <a:stretch/>
        </p:blipFill>
        <p:spPr>
          <a:xfrm>
            <a:off x="6788160" y="2050920"/>
            <a:ext cx="1600200" cy="21812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6442920" y="496584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Я. Данилев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оссия и Европ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 rot="10800000">
            <a:off x="25056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гресс </a:t>
            </a: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остоит не в том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ти все в одном направлении (в та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учае он скоро бы прекратился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в том, чтоб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ходить все пол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ставляющее поприще историческ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ятельности человечества, во все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иях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этому ни од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ивилизация не может гордиться т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 она представляла высш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ку развития, в сравнении с е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шественницами или современниц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 всех сторонах развит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Данилевский (1-1)"/>
          <p:cNvPicPr/>
          <p:nvPr/>
        </p:nvPicPr>
        <p:blipFill>
          <a:blip r:embed="rId1"/>
          <a:stretch/>
        </p:blipFill>
        <p:spPr>
          <a:xfrm>
            <a:off x="6788160" y="2050920"/>
            <a:ext cx="1600200" cy="21812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6442920" y="496584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Я. Данилев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оссия и Европ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70920"/>
            <a:ext cx="8302680" cy="676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оретические предпосылки социальной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бстрактные и конкретные социальные общ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лософия истории славяноф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ультурно-исторические общности (А. С. Хомя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ория культурно-исторических типов Н. Я. Данил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 ист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лософия культуры К. Н. Леонт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нтология и историософия В. С. Соловьё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ые формы общечеловеческого орган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деление церквей и его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кратическая утоп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нцепция всеединства в русской социальной философии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. Л. Франк: соборность как основа социа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. П. Карсавин: концепция «симфонической лич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литическая философия русского маркс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 «класса в себе» к «классу для себ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Egypt"/>
          <p:cNvPicPr/>
          <p:nvPr/>
        </p:nvPicPr>
        <p:blipFill>
          <a:blip r:embed="rId1"/>
          <a:stretch/>
        </p:blipFill>
        <p:spPr>
          <a:xfrm>
            <a:off x="3778200" y="1619280"/>
            <a:ext cx="1800360" cy="135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3" name="Picture 3" descr="China"/>
          <p:cNvPicPr/>
          <p:nvPr/>
        </p:nvPicPr>
        <p:blipFill>
          <a:blip r:embed="rId2"/>
          <a:stretch/>
        </p:blipFill>
        <p:spPr>
          <a:xfrm>
            <a:off x="5397480" y="179856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4" name="Picture 4" descr="ishtar_gate19"/>
          <p:cNvPicPr/>
          <p:nvPr/>
        </p:nvPicPr>
        <p:blipFill>
          <a:blip r:embed="rId3"/>
          <a:stretch/>
        </p:blipFill>
        <p:spPr>
          <a:xfrm>
            <a:off x="7197840" y="1978200"/>
            <a:ext cx="156816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5" name="Picture 5" descr="India (2)"/>
          <p:cNvPicPr/>
          <p:nvPr/>
        </p:nvPicPr>
        <p:blipFill>
          <a:blip r:embed="rId4"/>
          <a:stretch/>
        </p:blipFill>
        <p:spPr>
          <a:xfrm>
            <a:off x="3849840" y="277020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6" name="Picture 6" descr="Persia"/>
          <p:cNvPicPr/>
          <p:nvPr/>
        </p:nvPicPr>
        <p:blipFill>
          <a:blip r:embed="rId5"/>
          <a:stretch/>
        </p:blipFill>
        <p:spPr>
          <a:xfrm>
            <a:off x="5468760" y="3022560"/>
            <a:ext cx="1800360" cy="120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7" name="Picture 7" descr="Dome of the Rock, Jerusalem_sm"/>
          <p:cNvPicPr/>
          <p:nvPr/>
        </p:nvPicPr>
        <p:blipFill>
          <a:blip r:embed="rId6"/>
          <a:stretch/>
        </p:blipFill>
        <p:spPr>
          <a:xfrm>
            <a:off x="7088040" y="3273480"/>
            <a:ext cx="1800360" cy="143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гипе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ита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ревнесеми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нд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ра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вре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ре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им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рав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мано-герма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ксиканск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уа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о-рус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0" descr="Greece"/>
          <p:cNvPicPr/>
          <p:nvPr/>
        </p:nvPicPr>
        <p:blipFill>
          <a:blip r:embed="rId7"/>
          <a:stretch/>
        </p:blipFill>
        <p:spPr>
          <a:xfrm>
            <a:off x="3922560" y="392256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1" name="Picture 11" descr="Rome"/>
          <p:cNvPicPr/>
          <p:nvPr/>
        </p:nvPicPr>
        <p:blipFill>
          <a:blip r:embed="rId8"/>
          <a:stretch/>
        </p:blipFill>
        <p:spPr>
          <a:xfrm>
            <a:off x="5576760" y="4102200"/>
            <a:ext cx="1800360" cy="135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2" name="Picture 12" descr="Aravia"/>
          <p:cNvPicPr/>
          <p:nvPr/>
        </p:nvPicPr>
        <p:blipFill>
          <a:blip r:embed="rId9"/>
          <a:stretch/>
        </p:blipFill>
        <p:spPr>
          <a:xfrm>
            <a:off x="7197840" y="428148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3" name="Picture 13" descr="Europe (3)"/>
          <p:cNvPicPr/>
          <p:nvPr/>
        </p:nvPicPr>
        <p:blipFill>
          <a:blip r:embed="rId10"/>
          <a:stretch/>
        </p:blipFill>
        <p:spPr>
          <a:xfrm>
            <a:off x="3994200" y="507348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4" name="Picture 14" descr="Mexico (2)"/>
          <p:cNvPicPr/>
          <p:nvPr/>
        </p:nvPicPr>
        <p:blipFill>
          <a:blip r:embed="rId11"/>
          <a:stretch/>
        </p:blipFill>
        <p:spPr>
          <a:xfrm>
            <a:off x="5649840" y="5253120"/>
            <a:ext cx="1800360" cy="135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5" name="Picture 15" descr="Peru"/>
          <p:cNvPicPr/>
          <p:nvPr/>
        </p:nvPicPr>
        <p:blipFill>
          <a:blip r:embed="rId12"/>
          <a:stretch/>
        </p:blipFill>
        <p:spPr>
          <a:xfrm>
            <a:off x="7269120" y="543384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6" name="Picture 16" descr="Russia"/>
          <p:cNvPicPr/>
          <p:nvPr/>
        </p:nvPicPr>
        <p:blipFill>
          <a:blip r:embed="rId13"/>
          <a:stretch/>
        </p:blipFill>
        <p:spPr>
          <a:xfrm>
            <a:off x="4786200" y="2878200"/>
            <a:ext cx="3598920" cy="2535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Delaroche, Hemicycle_of_the_Ecole_des_Beaux-Arts_sm"/>
          <p:cNvPicPr/>
          <p:nvPr/>
        </p:nvPicPr>
        <p:blipFill>
          <a:blip r:embed="rId1"/>
          <a:stretch/>
        </p:blipFill>
        <p:spPr>
          <a:xfrm>
            <a:off x="4317840" y="1619280"/>
            <a:ext cx="3059280" cy="2084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ложительные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самобытные цивилиза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трицательные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народы-разрушите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оды, не достигшие исторической индивидуа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Глазунов, Битва - Временный перевес татар"/>
          <p:cNvPicPr/>
          <p:nvPr/>
        </p:nvPicPr>
        <p:blipFill>
          <a:blip r:embed="rId2"/>
          <a:stretch/>
        </p:blipFill>
        <p:spPr>
          <a:xfrm>
            <a:off x="4929120" y="3057480"/>
            <a:ext cx="3238560" cy="160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2" name="Picture 6" descr="Parched Village Huts, Niger, Africa_sm"/>
          <p:cNvPicPr/>
          <p:nvPr/>
        </p:nvPicPr>
        <p:blipFill>
          <a:blip r:embed="rId3"/>
          <a:stretch/>
        </p:blipFill>
        <p:spPr>
          <a:xfrm>
            <a:off x="5757840" y="4030560"/>
            <a:ext cx="3059280" cy="2446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Языковое родст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ритер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но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амобытного культурно-историческ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литическая независим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слов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вития самобытного культурно-исторического типа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ачала цивилизац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дного культурно-исторического тип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ередаютс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родам друг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Цивилизация достигает полноты развити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гда составляющие её этнографические элементы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оглощены одним политическим целы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составляют политическую систему государ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витие цивилизац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одобно жизни многолетних одноплодных растений, у которых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должительный период рост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меня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ротким (и никогда не повторяющимся) периодом расц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3760" y="1600200"/>
            <a:ext cx="837396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лизации не б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хуж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они прос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различаются преимущественным развитием какой-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ой стороны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ейская цивилизация – преимущественно религиоз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ческая – преимущественно эстетичес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мская – преимущественно политико-правов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цы расширили область культурного творчества, созда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двуосновну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цивилизацию – научно-промыш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ядущая славяно-русская цивилизация будет – впервые в истории – полн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четырёхосновной»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я призвана решить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-экономический вопро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который в Европе остался неразрешё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Aligny_Claude_Felix_Theodore_Homer_And_The_Sheperds_sm"/>
          <p:cNvPicPr/>
          <p:nvPr/>
        </p:nvPicPr>
        <p:blipFill>
          <a:blip r:embed="rId1"/>
          <a:stretch/>
        </p:blipFill>
        <p:spPr>
          <a:xfrm>
            <a:off x="4497480" y="1619280"/>
            <a:ext cx="2501640" cy="28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лософия культуры К. Н. Леонтье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757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культуры подчинен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щему закону циклического развити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огласно которому всё развивающееся проходит через три период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ой простоты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цветущей сложности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торичного смесительного упрощения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Brown_Ford_Madox_Work_sm"/>
          <p:cNvPicPr/>
          <p:nvPr/>
        </p:nvPicPr>
        <p:blipFill>
          <a:blip r:embed="rId2"/>
          <a:stretch/>
        </p:blipFill>
        <p:spPr>
          <a:xfrm>
            <a:off x="5289480" y="2878200"/>
            <a:ext cx="2879640" cy="20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4" name="Picture 6" descr="Axentowics_Theodor_The_Omnibus_sm"/>
          <p:cNvPicPr/>
          <p:nvPr/>
        </p:nvPicPr>
        <p:blipFill>
          <a:blip r:embed="rId3"/>
          <a:stretch/>
        </p:blipFill>
        <p:spPr>
          <a:xfrm>
            <a:off x="6008760" y="4317840"/>
            <a:ext cx="2879640" cy="2219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 rot="10800000">
            <a:off x="358920" y="1798200"/>
            <a:ext cx="647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ойное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е б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бует  одинакового просто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целого и для часте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не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от особен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только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от их исключительност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нота этой свободы требует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частные элементы наход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я друг в друге и в целом, кажд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агало себя в другом и другое в себ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щущало в своей частности един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ого и в целом свою частность, 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им словом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идарность всего существующе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– всё во вс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6840000" y="5397480"/>
            <a:ext cx="19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С. Соловьё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бщий смыс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кус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Соловьев (2-3 - sel)"/>
          <p:cNvPicPr/>
          <p:nvPr/>
        </p:nvPicPr>
        <p:blipFill>
          <a:blip r:embed="rId1"/>
          <a:stretch/>
        </p:blipFill>
        <p:spPr>
          <a:xfrm>
            <a:off x="7197840" y="1798560"/>
            <a:ext cx="1485720" cy="251640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razy-mirrors"/>
          <p:cNvPicPr/>
          <p:nvPr/>
        </p:nvPicPr>
        <p:blipFill>
          <a:blip r:embed="rId1"/>
          <a:stretch/>
        </p:blipFill>
        <p:spPr>
          <a:xfrm>
            <a:off x="2133720" y="1619280"/>
            <a:ext cx="4876560" cy="487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971640" y="1798560"/>
            <a:ext cx="7197480" cy="4030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сеединств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ть категория онтологии, обозначающая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инцип внутренней формы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овершенного единства множества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гласно которому все элементы такого множества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ждественны между собой и тождественны целому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в то же врем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сливаются в неразличимое и сплошное единство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образуют особый полифонический строй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рансрациональное единств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дельности и взаимопроникнутости»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 сформулировал С. Л. Фран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6515640" y="61182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 С. Хоруж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Pyramyd"/>
          <p:cNvPicPr/>
          <p:nvPr/>
        </p:nvPicPr>
        <p:blipFill>
          <a:blip r:embed="rId1"/>
          <a:stretch/>
        </p:blipFill>
        <p:spPr>
          <a:xfrm>
            <a:off x="4095720" y="29494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pyr_big_red12"/>
          <p:cNvPicPr/>
          <p:nvPr/>
        </p:nvPicPr>
        <p:blipFill>
          <a:blip r:embed="rId2"/>
          <a:stretch/>
        </p:blipFill>
        <p:spPr>
          <a:xfrm>
            <a:off x="1644480" y="1619280"/>
            <a:ext cx="5855040" cy="487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31" name="Picture 8" descr="koch_snowflake_red"/>
          <p:cNvPicPr/>
          <p:nvPr/>
        </p:nvPicPr>
        <p:blipFill>
          <a:blip r:embed="rId3"/>
          <a:stretch/>
        </p:blipFill>
        <p:spPr>
          <a:xfrm>
            <a:off x="1322280" y="1619280"/>
            <a:ext cx="6500880" cy="487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деальном космосе, воплощающем полноту совершенства, нет мес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цессу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витию, переходу от менее совершенного к более совершенному – всей исторической дра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Загадкой для разума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является отнюдь не идеальный, ясный космос, а наш мир, непонятный, нестройный и преход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ако этот мир предполагает мир идеальный как свою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орм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критерий оцен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не находили бы его полным заблуждений, если бы не имели представления о суще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стин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считали бы его злым, если бы не носили в себе идею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добр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чувствовали его безобразия, если бы были слепы 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расот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кольку он носит в себе идеалы истины, добра и красоты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человек оказывается посредствующим звеном между миром идеальным и земным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2949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2122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29528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46656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1042920" y="2446200"/>
            <a:ext cx="4749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де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ется внутренне противоречиво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история имеет сво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ом человеческ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2698920" y="4605480"/>
            <a:ext cx="4749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сли человеческая деятель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дчиняется законам, историчес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не может приня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у наук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ваясь просто набором све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оретические предпосылки социальной науки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525840" y="568476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ицание свободы воли (фатализм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ость истории не спасает, так как 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ением человеческой специф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яется и самы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мет ис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216000" y="136692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на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 в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здаёт затруднений: объекты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ющие волей и сознанием, лег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ь подчинёнными зако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/>
          <p:cNvSpPr/>
          <p:nvPr/>
        </p:nvSpPr>
        <p:spPr>
          <a:xfrm>
            <a:off x="1870200" y="352584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 образом деятельность, направ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яем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лей и сознани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 регу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ровать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ми, по определен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висящими от воли и созн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5937120" y="1366920"/>
            <a:ext cx="305928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кон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ъективная, существенная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обходимая, устойчива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язь между явлениями;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учное положени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ображающее такую связ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108000" y="5037120"/>
            <a:ext cx="194292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ъективное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ществующе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зависимо о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ли и созна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бъект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индиви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формы общечеловеческого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66294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ческ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зем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45720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ая нау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25146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ическое творче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4572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атериальная степ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66294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итическ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государство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45720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влечённ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25146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ящное художе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4572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ормальн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66294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уховн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церковь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5720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25146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4572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бсолютн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66294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практи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45720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7"/>
          <p:cNvSpPr/>
          <p:nvPr/>
        </p:nvSpPr>
        <p:spPr>
          <a:xfrm>
            <a:off x="25146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4572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"/>
          <p:cNvSpPr/>
          <p:nvPr/>
        </p:nvSpPr>
        <p:spPr>
          <a:xfrm>
            <a:off x="457200" y="2843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1"/>
          <p:cNvSpPr/>
          <p:nvPr/>
        </p:nvSpPr>
        <p:spPr>
          <a:xfrm>
            <a:off x="457200" y="3975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2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3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4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5"/>
          <p:cNvSpPr/>
          <p:nvPr/>
        </p:nvSpPr>
        <p:spPr>
          <a:xfrm>
            <a:off x="25146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>
            <a:off x="45720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>
            <a:off x="66294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еление церквей и его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39760" y="1492200"/>
            <a:ext cx="866304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ый смысл истории заключается в свободном вхождении человечества в церковь и 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бодном оцерковлении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этот положительный смысл был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рушен разделением церкве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церковь может быть лишь вселенской), что привело к духовному оскудению отдельных церквей и отделению культуры светской от культуры духовной: культура стала безбожной, а церковь стала чуждаться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едствиям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рыва светской культуры от духов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т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интеллектуального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просвеще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абсолютных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оснований быт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свобод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истин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ак её положительной цел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зна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жиз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Восток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Запад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(«бесчеловечный Восток» и «безбожный Запад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национальны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вселенски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классовым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сословным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общечеловеческ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зультате весь социальный прогресс последних веков обязан своим существованием почти исключительно неверующим;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торическая же церковь взяла сторону реакц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тормозила этот прогресс, как только могл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кратическая уто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3760" y="1600200"/>
            <a:ext cx="848196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могут быть соединены лиш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ретьей силой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ной от их крайностей. Такой силой должна стат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ссия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обязана своим величием «сил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амоотр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усского народа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вянские племена не побоялись призва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ую вла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– варяг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я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ую вер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византийское православ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ознать собственную отсталость и приобщитьс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адной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ультуре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перь от России требу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четвёртый акт самоотр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изнание главенства римского пап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 имя восстановления единства церк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юз римского папы и русского цар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олжен стать институциональной гарантией «богочеловеческого процесс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онцепция всеединства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 русской социальной философии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Трубецкой С (1)"/>
          <p:cNvPicPr/>
          <p:nvPr/>
        </p:nvPicPr>
        <p:blipFill>
          <a:blip r:embed="rId1"/>
          <a:stretch/>
        </p:blipFill>
        <p:spPr>
          <a:xfrm>
            <a:off x="358920" y="1798560"/>
            <a:ext cx="1662120" cy="19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2" name="Text Box 6"/>
          <p:cNvSpPr/>
          <p:nvPr/>
        </p:nvSpPr>
        <p:spPr>
          <a:xfrm>
            <a:off x="223056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Франк СЛ (3bw)"/>
          <p:cNvPicPr/>
          <p:nvPr/>
        </p:nvPicPr>
        <p:blipFill>
          <a:blip r:embed="rId2"/>
          <a:stretch/>
        </p:blipFill>
        <p:spPr>
          <a:xfrm>
            <a:off x="539640" y="4317840"/>
            <a:ext cx="1320840" cy="19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4" name="Text Box 9"/>
          <p:cNvSpPr/>
          <p:nvPr/>
        </p:nvSpPr>
        <p:spPr>
          <a:xfrm>
            <a:off x="223056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. Франк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7‑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0" descr="Карсавин (1-1)"/>
          <p:cNvPicPr/>
          <p:nvPr/>
        </p:nvPicPr>
        <p:blipFill>
          <a:blip r:embed="rId3"/>
          <a:stretch/>
        </p:blipFill>
        <p:spPr>
          <a:xfrm>
            <a:off x="7377120" y="4317840"/>
            <a:ext cx="1317600" cy="19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6" name="Text Box 11"/>
          <p:cNvSpPr/>
          <p:nvPr/>
        </p:nvSpPr>
        <p:spPr>
          <a:xfrm>
            <a:off x="478620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. Лосск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0-19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2" descr="Лосский (1-3)"/>
          <p:cNvPicPr/>
          <p:nvPr/>
        </p:nvPicPr>
        <p:blipFill>
          <a:blip r:embed="rId4"/>
          <a:stretch/>
        </p:blipFill>
        <p:spPr>
          <a:xfrm>
            <a:off x="7269120" y="1798560"/>
            <a:ext cx="1496880" cy="19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8" name="Text Box 13"/>
          <p:cNvSpPr/>
          <p:nvPr/>
        </p:nvSpPr>
        <p:spPr>
          <a:xfrm>
            <a:off x="478620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 Карсави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2-19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478620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имфон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ч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478620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сонал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223056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р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осно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223056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собор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/>
          <p:cNvSpPr/>
          <p:nvPr/>
        </p:nvSpPr>
        <p:spPr>
          <a:xfrm>
            <a:off x="2193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133020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43164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21600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нешняя сфера социальности («общественности»)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ывается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оборности»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первич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лидарной слитности индивидуальных “я”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 всеобъемлющем “мы”.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107964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е есть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сто множественное число от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(в своём основном и первичном смысле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обще не может иметь множественного числа) –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есть единств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197820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, следовательно, не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ич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тегория социального быти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(столь ж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ерви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ак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), в которой преодолеваетс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е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тивопоставленность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8"/>
          <p:cNvSpPr/>
          <p:nvPr/>
        </p:nvSpPr>
        <p:spPr>
          <a:xfrm>
            <a:off x="284148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бор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“мы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 непосредственн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траже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в социаль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циальная философия С. Л. Фран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1"/>
          <p:cNvSpPr/>
          <p:nvPr/>
        </p:nvSpPr>
        <p:spPr>
          <a:xfrm>
            <a:off x="1440" y="5649840"/>
            <a:ext cx="29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ы» – не имя класса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ментами котор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ются многие «я»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конкретная общ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2" dur="indefinite" restart="never" nodeType="tmRoot">
          <p:childTnLst>
            <p:seq>
              <p:cTn id="1383" dur="indefinite" nodeType="mainSeq">
                <p:childTnLst>
                  <p:par>
                    <p:cTn id="1384" nodeType="clickEffect" fill="hold">
                      <p:stCondLst>
                        <p:cond delay="indefinite"/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nodeType="clickEffect" fill="hold">
                      <p:stCondLst>
                        <p:cond delay="indefinite"/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3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4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5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9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4"/>
          <p:cNvSpPr/>
          <p:nvPr/>
        </p:nvSpPr>
        <p:spPr>
          <a:xfrm>
            <a:off x="3957480" y="1906560"/>
            <a:ext cx="4318200" cy="4318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5"/>
          <p:cNvSpPr/>
          <p:nvPr/>
        </p:nvSpPr>
        <p:spPr>
          <a:xfrm>
            <a:off x="417348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554040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2"/>
          <p:cNvSpPr/>
          <p:nvPr/>
        </p:nvSpPr>
        <p:spPr>
          <a:xfrm>
            <a:off x="4856040" y="1943280"/>
            <a:ext cx="251964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7"/>
          <p:cNvSpPr/>
          <p:nvPr/>
        </p:nvSpPr>
        <p:spPr>
          <a:xfrm>
            <a:off x="5000760" y="2770200"/>
            <a:ext cx="143964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6"/>
          <p:cNvSpPr/>
          <p:nvPr/>
        </p:nvSpPr>
        <p:spPr>
          <a:xfrm>
            <a:off x="5792760" y="2770200"/>
            <a:ext cx="144000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0"/>
          <p:cNvSpPr/>
          <p:nvPr/>
        </p:nvSpPr>
        <p:spPr>
          <a:xfrm>
            <a:off x="5397480" y="1978200"/>
            <a:ext cx="144000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547056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8"/>
          <p:cNvSpPr/>
          <p:nvPr/>
        </p:nvSpPr>
        <p:spPr>
          <a:xfrm>
            <a:off x="590220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3"/>
          <p:cNvSpPr/>
          <p:nvPr/>
        </p:nvSpPr>
        <p:spPr>
          <a:xfrm>
            <a:off x="5686560" y="201456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4"/>
          <p:cNvSpPr/>
          <p:nvPr/>
        </p:nvSpPr>
        <p:spPr>
          <a:xfrm>
            <a:off x="575640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5"/>
          <p:cNvSpPr/>
          <p:nvPr/>
        </p:nvSpPr>
        <p:spPr>
          <a:xfrm>
            <a:off x="600876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6"/>
          <p:cNvSpPr/>
          <p:nvPr/>
        </p:nvSpPr>
        <p:spPr>
          <a:xfrm>
            <a:off x="5865840" y="205092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7"/>
          <p:cNvSpPr/>
          <p:nvPr/>
        </p:nvSpPr>
        <p:spPr>
          <a:xfrm>
            <a:off x="590220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8"/>
          <p:cNvSpPr/>
          <p:nvPr/>
        </p:nvSpPr>
        <p:spPr>
          <a:xfrm>
            <a:off x="604368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9"/>
          <p:cNvSpPr/>
          <p:nvPr/>
        </p:nvSpPr>
        <p:spPr>
          <a:xfrm>
            <a:off x="5973840" y="206856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359640" y="1978200"/>
            <a:ext cx="306108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лове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2"/>
          <p:cNvSpPr/>
          <p:nvPr/>
        </p:nvSpPr>
        <p:spPr>
          <a:xfrm>
            <a:off x="509040" y="4786200"/>
            <a:ext cx="308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ые эфеме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иодическ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оян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3"/>
          <p:cNvSpPr/>
          <p:nvPr/>
        </p:nvSpPr>
        <p:spPr>
          <a:xfrm>
            <a:off x="507600" y="5865840"/>
            <a:ext cx="33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одовлеющ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ункцион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3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nodeType="clickEffect" fill="hold">
                      <p:stCondLst>
                        <p:cond delay="indefinite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nodeType="clickEffect" fill="hold">
                      <p:stCondLst>
                        <p:cond delay="indefinite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AutoShape 2"/>
          <p:cNvSpPr/>
          <p:nvPr/>
        </p:nvSpPr>
        <p:spPr>
          <a:xfrm>
            <a:off x="2139840" y="4551480"/>
            <a:ext cx="925560" cy="1531800"/>
          </a:xfrm>
          <a:custGeom>
            <a:avLst/>
            <a:gdLst>
              <a:gd name="textAreaLeft" fmla="*/ 123840 w 925560"/>
              <a:gd name="textAreaRight" fmla="*/ 801720 w 925560"/>
              <a:gd name="textAreaTop" fmla="*/ 267840 h 1531800"/>
              <a:gd name="textAreaBottom" fmla="*/ 1110600 h 153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"/>
          <p:cNvSpPr/>
          <p:nvPr/>
        </p:nvSpPr>
        <p:spPr>
          <a:xfrm>
            <a:off x="880920" y="2824200"/>
            <a:ext cx="925560" cy="1531800"/>
          </a:xfrm>
          <a:custGeom>
            <a:avLst/>
            <a:gdLst>
              <a:gd name="textAreaLeft" fmla="*/ 123840 w 925560"/>
              <a:gd name="textAreaRight" fmla="*/ 801720 w 925560"/>
              <a:gd name="textAreaTop" fmla="*/ 267840 h 1531800"/>
              <a:gd name="textAreaBottom" fmla="*/ 1110600 h 153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литическая философия русского марксизм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 «класса в себе» к «классу для себ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5"/>
          <p:cNvSpPr/>
          <p:nvPr/>
        </p:nvSpPr>
        <p:spPr>
          <a:xfrm>
            <a:off x="539640" y="1511280"/>
            <a:ext cx="5507280" cy="16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абочий класс сам по себе способен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ыработать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д-юнионистское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нание;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т.е. он способен вести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лассовую борьбу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рамках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питализм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за улучшение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условий труда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6"/>
          <p:cNvSpPr/>
          <p:nvPr/>
        </p:nvSpPr>
        <p:spPr>
          <a:xfrm>
            <a:off x="1798560" y="3238560"/>
            <a:ext cx="5507280" cy="16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ыйти за эти рамки, начать борьбу за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уничтожение самого капиталистического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троя, т.е. выполнить сво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ую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ссию «могильщика капитализма»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абочий класс может лишь при условии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что он станет действовать как един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рганизованное цел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7"/>
          <p:cNvSpPr/>
          <p:nvPr/>
        </p:nvSpPr>
        <p:spPr>
          <a:xfrm>
            <a:off x="3057480" y="4965840"/>
            <a:ext cx="5506920" cy="16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рганизовать и повести его на борьбу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может лишь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революционный авангард»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у которого составляет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еволюцио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теллигенция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ладеющ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учной теорией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сторического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азвития и классовой борь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8"/>
          <p:cNvSpPr/>
          <p:nvPr/>
        </p:nvSpPr>
        <p:spPr>
          <a:xfrm>
            <a:off x="7124760" y="151128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Клас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еб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9"/>
          <p:cNvSpPr/>
          <p:nvPr/>
        </p:nvSpPr>
        <p:spPr>
          <a:xfrm>
            <a:off x="358920" y="496584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Клас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себ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2" dur="indefinite" restart="never" nodeType="tmRoot">
          <p:childTnLst>
            <p:seq>
              <p:cTn id="1563" dur="indefinite" nodeType="mainSeq">
                <p:childTnLst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3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nodeType="clickEffect" fill="hold">
                      <p:stCondLst>
                        <p:cond delay="0"/>
                      </p:stCondLst>
                      <p:childTnLst>
                        <p:par>
                          <p:cTn id="1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nodeType="clickEffect" fill="hold">
                      <p:stCondLst>
                        <p:cond delay="indefinite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nodeType="clickEffect" fill="hold">
                      <p:stCondLst>
                        <p:cond delay="indefinite"/>
                      </p:stCondLst>
                      <p:childTnLst>
                        <p:par>
                          <p:cTn id="1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2"/>
          <p:cNvSpPr/>
          <p:nvPr/>
        </p:nvSpPr>
        <p:spPr>
          <a:xfrm>
            <a:off x="2949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"/>
          <p:cNvSpPr/>
          <p:nvPr/>
        </p:nvSpPr>
        <p:spPr>
          <a:xfrm>
            <a:off x="2122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129528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46656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1042920" y="2446200"/>
            <a:ext cx="4749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ведение коллективны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в принципе рассматривать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ективно обусловленное без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 отрицать при этом свободу в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2698920" y="4605480"/>
            <a:ext cx="4749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рами таких общностей являю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ственные класс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групп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, занимающих одинаковое ме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истеме общественного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етические предпосылки социальной науки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3525840" y="568476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и характерист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ассов не зависят от воли и с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ленов общества, а обусловле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уктурой и характером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216000" y="136692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ё же историческая законом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ма, поскольку субъект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омерной деятельности не обяза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льно должны выступ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1"/>
          <p:cNvSpPr/>
          <p:nvPr/>
        </p:nvSpPr>
        <p:spPr>
          <a:xfrm>
            <a:off x="1870200" y="352584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закономерности пове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циальных общностей прояв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значимых характеристи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индивидуальных чле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3"/>
          <p:cNvSpPr/>
          <p:nvPr/>
        </p:nvSpPr>
        <p:spPr>
          <a:xfrm>
            <a:off x="5937120" y="1366920"/>
            <a:ext cx="305928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ственные классы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льшие группы люде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личающиеся п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х месту в систем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щественно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извод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бстрактные и конкретные социальные общ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16000" y="1978200"/>
            <a:ext cx="4282920" cy="133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бстрактная социальная общ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ласс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о индивид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одинаковыми свойст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678200" y="1978200"/>
            <a:ext cx="4283280" cy="133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нкретная социальная общ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оллектив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вокуп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действующих инди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87280" y="3778200"/>
            <a:ext cx="4138560" cy="21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гласован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динаковость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едения индивидов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адлежащих к одному классу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еспеч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ждественностью свойст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характеристик или услов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4749840" y="3778200"/>
            <a:ext cx="4138560" cy="21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гласован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«симфоничность»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едения индивидов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адлежащих к одном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лективу, обеспечив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редством особ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онных механиз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лософия истории славянофило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льтурно-исторические общности (А. С. Хомя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мет истории и её действующие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знь всего челов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ности (определяемые по вероисповедания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овая парадигма исторической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одные верования как исторические источни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этический инстинкт» как метод исслед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троспективный метод («возвратный ход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ая схема исторического процес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ранство» и «кушитство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ина и друж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и Евро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удущее человечества и миссия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ение человечества на органически-духовных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не механических (империалистических) нача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906560" y="2367000"/>
            <a:ext cx="539928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108000" bIns="108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бор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единство свободное и органическое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вое начало которого ес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жественная благода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аимной любв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4572000" y="472284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еди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57200" y="472284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селенская церковь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 (православ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4572000" y="331956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 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57200" y="331956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Протестан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572000" y="191628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динство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 своб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457200" y="191628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Католиц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457200" y="33195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457200" y="47228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4572000" y="1916280"/>
            <a:ext cx="0" cy="42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457200" y="191628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457200" y="1916280"/>
            <a:ext cx="0" cy="42098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8686800" y="1916280"/>
            <a:ext cx="0" cy="42098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 rot="10800000">
            <a:off x="2877840" y="1726920"/>
            <a:ext cx="611820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манизм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рно понятом, един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христиан есть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лушания центральной власти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 порабощение христиан доктрин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й они не содействуют и котор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а навсегда оставаться для 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-то внешним (так как она всеце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иет в едином главе иерархии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конец, это узаконенное равнодуш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вере, которая окончательно свод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дчинение вере друго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, очевидн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в смысл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ном, а не в смысле христианск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4880" y="4786200"/>
            <a:ext cx="301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С. Хомяк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щё несколько сл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ина о запад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оисповеда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Хомяков Алексей Степанович (sm10-3)"/>
          <p:cNvPicPr/>
          <p:nvPr/>
        </p:nvPicPr>
        <p:blipFill>
          <a:blip r:embed="rId1"/>
          <a:stretch/>
        </p:blipFill>
        <p:spPr>
          <a:xfrm>
            <a:off x="539640" y="1727280"/>
            <a:ext cx="2381400" cy="29811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21:52:40Z</dcterms:created>
  <dc:creator>Николай Бирюков / Nikolai Biryukov</dc:creator>
  <dc:description>редакция апреля 2008 г.</dc:description>
  <dc:language>en-US</dc:language>
  <cp:lastModifiedBy>LEGION</cp:lastModifiedBy>
  <dcterms:modified xsi:type="dcterms:W3CDTF">2014-11-11T12:43:56Z</dcterms:modified>
  <cp:revision>47</cp:revision>
  <dc:subject>История и философия науки - Тема 1</dc:subject>
  <dc:title>Русская философия социального и исторического знания</dc:title>
</cp:coreProperties>
</file>