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8B21-C32D-4B70-A56F-80AA311BD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EE31-5081-4028-9786-8D9D1519BF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B13D-8914-4665-804F-AC2B5882F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1630-E40A-4D2E-A4FC-D80960201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405E-C94B-490F-9EEE-ACD8DF69A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3641-9222-4E62-BA45-0DD54411B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A777-6D07-4C6F-8470-EC2CA8AC9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5D2D-1C73-4B4E-9FDD-2FAB07055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DDE2-46CB-4A82-9A6D-6D393B17D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FF67-C31E-4C8C-B9F4-AE473A434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0E71-4E70-46A8-8122-7FF0B55D7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9789-1173-4BAE-80C3-E137CD710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E240-B9BF-47D8-9DC8-2300B5111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F547-662C-451A-A4F2-A75756C13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B53A-C2AE-4D66-A2A6-CD511E96E0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4E65-59CF-447F-9803-1F8283AC6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137-3A7E-4BEB-9B10-D78EAB531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5CDF-CC21-4923-9CF0-843C95204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077F-D486-49AB-92F0-47685F069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1A7F-50E4-4DE7-92D8-7966DEE4E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10D3-9F5B-47E9-928F-C4888EA69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8885-E51A-429B-96F4-3D79C804A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57A6-FF4D-41C0-9E32-CDF849A81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336C-3230-4823-93E8-5EAB1CDDE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D31A-9C2C-4971-8550-E2332265C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55CD-365C-417A-99C2-66A18A974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0E97-C270-40EA-88A3-AB82D60B2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F00C-4D32-43BE-8143-DE272B05D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BFE7-1FA8-44DB-B73D-E444FA155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4A7A-FA2F-438A-9FE6-8EF8554FF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AEE5-12F1-4BFB-95FE-8B68C4488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E221-D7B4-4E2B-B144-52F9AB96C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7025-AA41-45EC-BEE4-148D32F7F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B3F9-9F46-4C52-B2BD-2C86F2ECA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E6C1-56F6-4464-95A0-EAC3747A7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8975-71C5-4DEB-96E6-382CD07F0A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EC06-7CA1-4586-8F71-4981E3501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6624-E192-405D-A299-64640EAFFA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4BE-2AFC-4F55-9895-8F5AB401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75E-6FFC-4B76-B9B5-7AA12908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76D-D80F-4E52-964A-AB9D0B9A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767-C7D7-4399-86C0-E2523C0B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E11-9D8D-41B7-B1DF-BC1F9BDB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C61-06B3-41BB-89B9-0A6F5A4F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96B-1DF0-4A4B-AC8C-EBCFFDBD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D5D-5F42-40EC-B85A-CCF8BA4B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397-D447-478A-807A-65EC01E1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E51-1F51-4535-AFCE-705B7BE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1BD-A1B5-4B5A-AEA2-D4526B1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F15-614C-4283-BBC8-EB92C798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6B4F-EDD9-4ED1-BD3D-5053815F4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 rot="10800000">
            <a:off x="2877840" y="1726920"/>
            <a:ext cx="618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естантств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 для цел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ины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постоян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б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, всегда гото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ь назад приговоры, ею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несённые накануне...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же лица… свобода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сомн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являю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, кто, зная себя, сознаёт св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мощь,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нелепой в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, проявляющаяся в том, кто твор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 кумир из своей гордости. В то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м виде это, пожалуй, тоже своб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…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в смысле политическ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806560" y="1726920"/>
            <a:ext cx="629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истинное, внутренне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л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оявление свободы, 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му основанием служит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ый рационализм и не произво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ность учреждения, а нравств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взаимной любви и молитв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о, в котором, при всём раз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тепени иерархических полномоч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овершение таинств,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абощается, но все ра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ываются быть участниками в общ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, слов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по благода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жией, а не по человеческ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ю, – таково единство Церкв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ак не можем понять 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ого процесса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го из германского нача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ленного самому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й идеи лич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нуть иное общество, кром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кусственной условной ассоциации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начало разобщаю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тится в противоположное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ирения и единения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ropinin_portrait_of_samarin_in_the_hunting_dress"/>
          <p:cNvPicPr/>
          <p:nvPr/>
        </p:nvPicPr>
        <p:blipFill>
          <a:blip r:embed="rId1"/>
          <a:stretch/>
        </p:blipFill>
        <p:spPr>
          <a:xfrm>
            <a:off x="6729480" y="1798560"/>
            <a:ext cx="199080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504840" y="4678200"/>
            <a:ext cx="21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 Ф. Самар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мнени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и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н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70920"/>
            <a:ext cx="8302680" cy="67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3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4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5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6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6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 rot="10800000">
            <a:off x="35892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йно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 б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ует  одинакового просто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целого и для част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н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от особен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ольк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т их исключитель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та этой свободы требует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частные элементы наход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 друг в друге и в целом, кажд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агало себя в другом и другое в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ало в своей частности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ого и в целом свою частность,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дарность всего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– всё во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40000" y="53974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щий смыс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razy-mirrors"/>
          <p:cNvPicPr/>
          <p:nvPr/>
        </p:nvPicPr>
        <p:blipFill>
          <a:blip r:embed="rId1"/>
          <a:stretch/>
        </p:blipFill>
        <p:spPr>
          <a:xfrm>
            <a:off x="2133720" y="1619280"/>
            <a:ext cx="487656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71640" y="1798560"/>
            <a:ext cx="7197480" cy="403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ь категория онтологии, обозначающа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нцип внутренней формы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вершенного единства множеств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которому все элементы такого множества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ы между собой и тождественны цело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ливаются в неразличимое и сплошное единств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образуют особый полифонический стр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ансрациональное 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ьности и взаимопроникнутост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сформулировал С. Л. Фра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515640" y="6118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С. Хору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Pyramyd"/>
          <p:cNvPicPr/>
          <p:nvPr/>
        </p:nvPicPr>
        <p:blipFill>
          <a:blip r:embed="rId1"/>
          <a:stretch/>
        </p:blipFill>
        <p:spPr>
          <a:xfrm>
            <a:off x="4095720" y="2949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yr_big_red12"/>
          <p:cNvPicPr/>
          <p:nvPr/>
        </p:nvPicPr>
        <p:blipFill>
          <a:blip r:embed="rId2"/>
          <a:stretch/>
        </p:blipFill>
        <p:spPr>
          <a:xfrm>
            <a:off x="1644480" y="1619280"/>
            <a:ext cx="585504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31" name="Picture 8" descr="koch_snowflake_red"/>
          <p:cNvPicPr/>
          <p:nvPr/>
        </p:nvPicPr>
        <p:blipFill>
          <a:blip r:embed="rId3"/>
          <a:stretch/>
        </p:blipFill>
        <p:spPr>
          <a:xfrm>
            <a:off x="1322280" y="1619280"/>
            <a:ext cx="650088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ивная, существенн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ая, устойчив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ь 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8000" y="5037120"/>
            <a:ext cx="194292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ктивно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ующ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зависимо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и и созн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ъект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ндиви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9760" y="1492200"/>
            <a:ext cx="86630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481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Трубецкой С (1)"/>
          <p:cNvPicPr/>
          <p:nvPr/>
        </p:nvPicPr>
        <p:blipFill>
          <a:blip r:embed="rId1"/>
          <a:stretch/>
        </p:blipFill>
        <p:spPr>
          <a:xfrm>
            <a:off x="358920" y="179856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2" name="Text Box 6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Франк СЛ (3bw)"/>
          <p:cNvPicPr/>
          <p:nvPr/>
        </p:nvPicPr>
        <p:blipFill>
          <a:blip r:embed="rId2"/>
          <a:stretch/>
        </p:blipFill>
        <p:spPr>
          <a:xfrm>
            <a:off x="539640" y="431784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4" name="Text Box 9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Карсавин (1-1)"/>
          <p:cNvPicPr/>
          <p:nvPr/>
        </p:nvPicPr>
        <p:blipFill>
          <a:blip r:embed="rId3"/>
          <a:stretch/>
        </p:blipFill>
        <p:spPr>
          <a:xfrm>
            <a:off x="7377120" y="4317840"/>
            <a:ext cx="131760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6" name="Text Box 11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Лосский (1-3)"/>
          <p:cNvPicPr/>
          <p:nvPr/>
        </p:nvPicPr>
        <p:blipFill>
          <a:blip r:embed="rId4"/>
          <a:stretch/>
        </p:blipFill>
        <p:spPr>
          <a:xfrm>
            <a:off x="726912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8" name="Text Box 13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 Карсав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имфон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с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о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193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33020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3164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21600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107964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97820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84148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 С. Л. Фран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1440" y="56498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ы» – не имя класса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ми котор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многие «я»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конкретная об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2139840" y="455148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880920" y="282420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539640" y="151128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сам по себе способен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е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он способен вести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лассовую борьбу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питализм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за улучш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798560" y="323856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йти за эти рамки, начать борьбу з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ничтожение самого капиталист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роя, 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сию «могильщика капитализма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может лишь при условии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он станет действовать как еди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н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057480" y="4965840"/>
            <a:ext cx="550692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ть и повести его на борьб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ет лишь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й авангард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у которого составляет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стор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124760" y="15112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358920" y="496584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nodeType="clickEffect" fill="hold">
                      <p:stCondLst>
                        <p:cond delay="0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в принципе рассматривать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о обусловленное бе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отрицать при этом 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00" y="1978200"/>
            <a:ext cx="428292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трак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ласс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о индиви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динаков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78200" y="1978200"/>
            <a:ext cx="428328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кре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ллектив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окуп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ующ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8728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динаковость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 класс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ждественностью свойст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характеристик или услов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4984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симфоничность»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лективу, обеспеч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особ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он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906560" y="2367000"/>
            <a:ext cx="53992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08000" bIns="10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р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единство свободное и органическо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вое начало которого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ая благод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й люб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ди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ленская церковь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(правосла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ротест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2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атолиц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" y="3319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57200" y="4722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1916280"/>
            <a:ext cx="0" cy="42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457200" y="1916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86868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 rot="10800000">
            <a:off x="2877840" y="1726920"/>
            <a:ext cx="611820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манизм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рно понятом,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христиан ес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ушания центральной вла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порабощение христиан доктрин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й они не содействуют и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а навсегда оставаться для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-то внешним (так как она всеце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иет в едином главе иерарх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конец, это узаконенное равноду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вере, которая окончательно с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чинение вере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очевид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в смыс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ном, а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52:40Z</dcterms:created>
  <dc:creator>Николай Бирюков / Nikolai Biryukov</dc:creator>
  <dc:description>редакция апреля 2008 г.</dc:description>
  <dc:language>en-US</dc:language>
  <cp:lastModifiedBy>LEGION</cp:lastModifiedBy>
  <dcterms:modified xsi:type="dcterms:W3CDTF">2014-11-11T12:43:56Z</dcterms:modified>
  <cp:revision>47</cp:revision>
  <dc:subject>История и философия науки - Тема 1</dc:subject>
  <dc:title>Русская философия социального и исторического знания</dc:title>
</cp:coreProperties>
</file>