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F77D0-8D35-4980-A0AC-1899958A1CB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7. Финансовые ресурсы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ма 7. Финансовые ресурсы ми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е золотовалютные резервы: назначение, масштабы,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ые ЗВР – принадлежащие государству резервы золота (монетарное золото)и иностранной валю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на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платежеспособности страны по ее международным финансовым обязатель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на курс национальной валю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коло 5 трлн.в мире, не считая монетарного зо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1/4 состоят из монетарного золо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 3/4 состоят из иностранной валюты, основная часть которой вложена в надежные иностранные ценные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иальные золотовалютные резервы: назначение, масштабы, 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иальные ЗВР – принадлежащие государству резервы золота (монетарное золото)и иностранной валю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х назнач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еспечение платежеспособности страны по ее международным финансовым обязательств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здействие на курс национальной валют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коло 5 трлн.в мире, не считая монетарного золо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на 1/4 состоят из монетарного золот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на 3/4 состоят из иностранной валюты, основная часть которой вложена в надежные иностранные ценные бумаг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го долга в мире: причины, масштабы, 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ток в страну ссудного капита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иток в страну финансо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формально сосредоточен в странах с неконвертируемой валю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оставляет более $ 3 трл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фициальный (государственный) внешний долг (около $1 трл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астный внешний долг (более $ 2 трл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блема внешнего долга в мире: причины, масштабы, 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иток в страну ссудного капитал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иток в страну финансовой помощ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сштаб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формально сосредоточен в странах с неконвертируемой валюто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оставляет более $ 3 трлн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фициальный (государственный) внешний долг (около $1 трлн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частный внешний долг (более $ 2 трлн.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нешнего долга в мире: последствия и пути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я (позитивные и негатив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озможность использовать внешние средства при нехватке или дороговизне сбережений и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ольшие размеры обслуживания внешнего долга отрицательно сказываются на валовом накоп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олговая петля (heavily indebted countri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решения проблемы внешнего дол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ыстрый рост экспортных поступлений и иностранных прямых и портфельных инвести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ефолт (банкротство государства по отношению к внешним кредиторам в форме отказа от обслуживания внешнего долг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реструктур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правление вешним долг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блема внешнего долга в мире: последствия и пути реш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ледствия (позитивные и негативны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возможность использовать внешние средства при нехватке или дороговизне сбережений и инвести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большие размеры обслуживания внешнего долга отрицательно сказываются на валовом накопле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долговая петля (heavily indebted count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ути решения проблемы внешнего долг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быстрый рост экспортных поступлений и иностранных прямых и портфельных инвестици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дефолт (банкротство государства по отношению к внешним кредиторам в форме отказа от обслуживания внешнего долг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реструктуризац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управление вешним долго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е и негативные последствия глобализации финансовых ресурсов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мягчение нехватки финансовых ресурсов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 со стороны внешних финансовых ресурсов снижает стоимость финансовых услуг в стр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гатив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усиление неустойчивости национальных рынков капитала, особенно в формирующихся экономиках (мировые финансовые кризис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слабление влияния национальных правительств на национальные финан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тивные и негативные последствия глобализации финансовых ресурсов ми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зи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мягчение нехватки финансовых ресурсов в мир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нкуренция со стороны внешних финансовых ресурсов снижает стоимость финансовых услуг в стра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гатив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усиление неустойчивости национальных рынков капитала, особенно в формирующихся экономиках (мировые финансовые кризис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слабление влияния национальных правительств на национальные финанс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мировая финансовая архите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мировая финансовая архитектура –проекты усиления стабильности мировой финансовой системы прежде всего с целью предотвращения мировых финансовых криз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Превращение МВФ в кредитора последней инстанции для стран - потенциальных банкро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через профилактику финансовых криз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едоставление достаточных кредитов во время финансовых криз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анкротство государств по внешнему долгу по заранее установленным международным правил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Усиление контроля над международным движением капита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налог Тоб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авила госрегулирования притока «горячих дене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ая мировая финансовая архитекту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овая мировая финансовая архитектура –проекты усиления стабильности мировой финансовой системы прежде всего с целью предотвращения мировых финансовых кризи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ект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Превращение МВФ в кредитора последней инстанции для стран - потенциальных банкротов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через профилактику финансовых кризи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едоставление достаточных кредитов во время финансовых кризис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банкротство государств по внешнему долгу по заранее установленным международным правила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Усиление контроля над международным движением капитал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налог Тоби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авила госрегулирования притока «горячих денег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как экономический ресурс и его формы–реальный и финансовый капитал (финансовые ресурс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как экономический ресурс под-разделяется на реальный капитал (средства производства) и финансовый капитал (деньги,ценные бумаги, монетарное золото). Финансовый капитал можно называть также финансовыми ресурс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е ресурсы мира (мировые финансы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 широкому определению, являются суммой финансовых ресурсов всех стран, между-народных организаций и мировых финан-совых цен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 узкому определению – это только те финансовые ресурсы, которые используются в международных экономических отношени-ях, т.е. между резидентами и нерезиден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питал как экономический ресурс и его формы–реальный и финансовый капитал (финансовые ресурсы)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питал как экономический ресурс под-разделяется на реальный капитал (средства производства) и финансовый капитал (деньги,ценные бумаги, монетарное золото). Финансовый капитал можно называть также финансовыми ресурсами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ые ресурсы мира (мировые финансы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 широкому определению, являются суммой финансовых ресурсов всех стран, между-народных организаций и мировых финан-совых цент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 узкому определению – это только те финансовые ресурсы, которые используются в международных экономических отношени-ях, т.е. между резидентами и нерезидентам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ережения и инвестиции как главные элементы процесса капи-тало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питал пополняется за счет инвестиций, а они финансируются за счет сбережений. Этот процесс называется капиталообра-з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д сбережениями подразумевается та часть ВНД/ВВП, которая не идет на конечное потребление товаров и услуг. Отношение всех сбережений страны к ее ВВП назы-вается нормой валового сбере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бережения являются основой для инвестиций как в финансовый, так и реальный капитал. В ходе капиталообразования инвестиции в финансовый капитал затем финансируют инвестиции в реаль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-талообразова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питал пополняется за счет инвестиций, а они финансируются за счет сбережений. Этот процесс называется капиталообра-зованием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д сбережениями подразумевается та часть ВНД/ВВП, которая не идет на конечное потребление товаров и услуг. Отношение всех сбережений страны к ее ВВП назы-вается нормой валового сбережени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бережения являются основой для инвестиций как в финансовый, так и реальный капитал. В ходе капиталообразования инвестиции в финансовый капитал затем финансируют инвестиции в реальный капитал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ережения и инвестиции как главные элементы процесса капиталообразования(оконч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вестиции в реальный капитал приводят к его росту, или, как принято писать в статистике, к валовому накоплению. В нем выделяют его основную часть –валовое накопление основного капитала , а также изменение запасов материальных оборотных средств и чистое приобретение цен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тношение валового накопления к ВВП называется нормой валового накопления. В сущности, это отношение инвестиций в реальный капитал к ВВ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талообразования(окончание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инвестиции в реальный капитал приводят к его росту, или, как принято писать в статистике, к валовому накоплению. В нем выделяют его основную часть –валовое накопление основного капитала , а также изменение запасов материальных оборотных средств и чистое приобретение ценносте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тношение валового накопления к ВВП называется нормой валового накопления. В сущности, это отношение инвестиций в реальный капитал к ВВП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 со сбережениями и инвестициями в различных группах и подгруппах стран, 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итуация со сбережениями и инвестициями в различных группах и подгруппах стран,  2006г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й климат: понятие, элементы, особенности в различных группах и подгруппах стран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й климат – это условия для приложения капитала (осуществления инвестиций). В узком значении – для приложения иностранного капитал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значении –как для иностранного, так и националь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 оценки  инвестиционного климата – соотношение прибыли и риска в будущем (или только рис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онный климат оценивается (часто специализирован-ными агентствами) с точки зрения различных категорий инвес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ямых инвесторов (инвестиционные рейтинг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у ВER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ортфельных инвесторов и кредиторов  (кредитные рейтинги,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у Moody’s, Standard and Poor’s, Fit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й климат: понятие, элементы, особенности в различных группах и подгруппах стран                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й климат – это условия для приложения капитала (осуществления инвестиций). В узком значении – для приложения иностранного капитала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широком значении –как для иностранного, так и национального капитал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а оценки  инвестиционного климата – соотношение прибыли и риска в будущем (или только риска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вестиционный климат оценивается (часто специализирован-ными агентствами) с точки зрения различных категорий инвесторов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ямых инвесторов (инвестиционные рейтинги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 у ВERI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ортфельных инвесторов и кредиторов  (кредитные рейтинги,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пример,у Moody’s, Standard and Poor’s, Fitch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финансовых ресурсов и механизм их перелива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ды финансовых ресурсов и механизм их перелива в мир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рынки капитала: понятие, основные участники, главные центры, характерные черты отдельных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рынки капитала (мировой финансовый рынок)- охватывают целый ряд финансовых рынков, которые, в свою очередь, подразделяют- на более мелкие. Масштабы некоторых из них исчисляют по широкому определению, некоторых – по узк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участ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ранснациональные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ранснациональные ба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институциональные инвестор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а также государства, международные организации, физл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е финансовые центры – те места в мире, где торговля финансовыми активами между резидентами разных стран имеет особенно большие масшта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е рынки капитала: понятие, основные участники, главные центры, характерные черты отдельных рынк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е рынки капитала (мировой финансовый рынок)- охватывают целый ряд финансовых рынков, которые, в свою очередь, подразделяют- на более мелкие. Масштабы некоторых из них исчисляют по широкому определению, некоторых – по узком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участ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транснациональные компан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транснациональные бан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институциональные инвесторы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а также государства, международные организации, физлиц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ировые финансовые центры – те места в мире, где торговля финансовыми активами между резидентами разных стран имеет особенно большие масштаб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ая и другая помощь в мире: формы, источники, основные страны-получатели, политика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Военн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Официальная помощь на цели развития  -сро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продовольственная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техн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писание задолж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от международных организаци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рочие виды помощи развития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ы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ы-получ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абсолютной велич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азмерам на душу насе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а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енная помощь – наиболее сильно политизиров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ициальная помощь на цели развития -  на основе соответствия политики стран-реципи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ингтонскому и поствашингтонскому консенсу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инансовая и другая помощь в мире: формы, источники, основные страны-получатели, политика помощ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ые форм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Военная помощ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.Официальная помощь на цели развития  -срочн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продовольственная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техническа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списание задолженн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от международных организаций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прочие виды помощи развития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Источник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витые стра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чие стран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ждународные организац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траны-получат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абсолютной величи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размерам на душу насел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литика помощ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енная помощь – наиболее сильно политизирован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фициальная помощь на цели развития -  на основе соответствия политики стран-реципиент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ашингтонскому и поствашингтонскому консенсус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6677-D156-4985-9471-A6A379C1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568A-DDD3-4BDD-9A5E-4865054F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C1CD-DF15-4901-A235-2D57B6F0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5BB-A302-4A7A-B00D-5E19404C6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535D-E192-4EA1-B474-26B8E1171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6912A-A448-4051-964C-F012C609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0BCA9-397E-4AD1-BB32-B9A30637E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876C-9D4C-484B-870A-7291E86E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F606-E1EF-4B9C-B0E0-4B9F1C69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F87CA-E7A8-4B47-9211-D752486AF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FBDB-88DB-46AA-93EF-1431E2C5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0A30-A1C2-432B-80FA-E7D5E03EC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7969-F6DD-4BA7-916C-FD43014E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B4C3-2E75-4A1F-8A64-6F4280FF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F8BE-19A2-46B3-8370-0683AD3A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58807-9159-43FE-92A2-03E9EBA9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9E5A-475B-4CD0-9B03-A7749ECE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56805-1622-4A02-B238-CCA8F3CE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B94E0-1E8E-4265-99B1-A0364B22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04562-B3CD-4E02-AC47-7DFF7B66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B30D44-6BA5-4C08-9F3E-6EDF3D60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00BF0-C0A7-4599-B0FD-89DBAC32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1E4F-D45B-4B0D-A778-CB999DD0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5BF64-20E3-4DFA-8115-A2AC3CBA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5E7A0-FCDE-4031-8508-A3D25903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D7A0F-DC62-47AD-A691-E2C6935E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16B25-8322-42D5-8BC1-3E5320EC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FECA0-E1A0-49EB-A946-D8D7C189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75592-5AEA-443C-98A3-F44530A55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94966-A4B1-4065-B7A9-1BA536AB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95D0-64BE-46E9-81FC-D5DEEB29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FAF2-F0C2-4ECA-ADA9-622D6E4C2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6B4E-DFD6-46FE-9958-DE995F96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9EEE-E232-479A-8916-45BAE8F5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535F-72E4-4121-B63D-0B48D64A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6E00-BE43-4070-9988-E7A10FC9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E710-689D-4817-BC84-4B17E6C6C3D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5D59-CCFE-4BE4-B55E-320627A6EA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12A5-4CF2-4FA1-8CFD-4B7754CE865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803592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ема 7. Финансовые ресурсы ми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фициальные золотовалютные резервы: назначение, масштабы, струк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фициальные ЗВР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принадлежащие государству резервы золота (монетарное золото)и иностранной валю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х на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еспечение платежеспособности страны по ее международным финансовым обязательств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действие на курс национальной валю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шт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коло 5 трлн.в мире, не считая монетарного зол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 1/4 состоят из монетарного золо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 3/4 состоят из иностранной валюты, основная часть которой вложена в надежные иностранные ценные бум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а внешнего долга в мире: причины, масштабы, стру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иток в страну ссудного капит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иток в страну финансов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сштаб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формально сосредоточен в странах с неконвертируемой валю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оставляет боле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л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фициальный (государственный) внешний долг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трл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частный внешний долг (боле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трл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блема внешнего долга в мире: последствия и пути ре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дствия (позитивные и негатив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можность использовать внешние средства при нехватке или дороговизне сбережений и инвест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ольшие размеры обслуживания внешнего долга отрицательно сказываются на валовом накопл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долговая петля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vily indebted countr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и решения проблемы внешнего дол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ыстрый рост экспортных поступлений и иностранных прямых и портфельных инвест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дефолт (банкротство государства по отношению к внешним кредиторам в форме отказа от обслуживания внешнего дол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еструктуриз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правление вешним долг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зитивные и негативные последствия глобализации финансовых ресурсов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зи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мягчение нехватки финансовых ресурсов в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куренция со стороны внешних финансовых ресурсов снижает стоимость финансовых услуг в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гатив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усиление неустойчивости национальных рынков капитала, особенно в формирующихся экономиках (мировые финансовые кризис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ослабление влияния национальных правительств на национальные финан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овая мировая финансовая архитек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овая мировая финансовая архитектур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проекты усиления стабильности мировой финансовой системы прежде всего с целью предотвращения мировых финансовых криз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оек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.Превращение МВФ в кредитора последней инстанции для стран - потенциальных банкрот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через профилактику финансовых криз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едоставление достаточных кредитов во время финансовых кризи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банкротство государств по внешнему долгу по заранее установленным международным прави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2.Усиление контроля над международным движением капитал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налог Тоб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авила госрегулирования притока «горячих денег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питал как экономический ресурс и его формы–реальный и финансовый капитал (финансовые ресурс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Капитал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как экономический ресурс под-разделяется на </a:t>
            </a: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реальный</a:t>
            </a: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капитал</a:t>
            </a:r>
            <a:r>
              <a:rPr b="0" i="1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средства производства) и </a:t>
            </a: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финансовый капитал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деньги,ценные бумаги, монетарное золото). Финансовый капитал можно называть также финансовыми ресурсам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Финансовые ресурсы мира (мировые финансы)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широкому определению, являются суммой финансовых ресурсов всех стран, между-народных организаций и мировых финан-совых центр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узкому определению – это только те финансовые ресурсы, которые используются в международных экономических отношени-ях, т.е. между резидентами и нерезид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-талообразования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питал пополняется за счет инвестиций, а они финансируются за счет сбережений. Этот процесс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капиталообра-з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под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бережениями</a:t>
            </a:r>
            <a:r>
              <a:rPr b="0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разумевается та часть ВНД/ВВП, которая не идет на конечное потребление товаров и услуг. Отношение всех сбережений страны к ее ВВП назы-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ормой валового сбережени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-сбережения являются основой для инвестиций как в финансовый, так и реальный капитал. В ходе капиталообразования инвестиции в финансовый капитал затем финансируют инвестиции в реальный капит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ережения и инвестиции как главные элементы процесса капиталообразования(окончание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-инвестиции в реальный капитал приводят к его росту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ли, как принято писать в статистике, к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валовому накоплению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нем выделяют его основную часть –валовое накопление основного капитала , а также изменение запасов материальных оборотных средств и чистое приобретение ценностей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-о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ношение валового накопления к ВВП называется </a:t>
            </a: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нормой валового накопления</a:t>
            </a: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 сущности, это отношение инвестиций в реальный капитал к ВВП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туация со сбережениями и инвестициями в различных группах и подгруппах стран,  2006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79280" y="692280"/>
          <a:ext cx="8856720" cy="6121440"/>
        </p:xfrm>
        <a:graphic>
          <a:graphicData uri="http://schemas.openxmlformats.org/drawingml/2006/table">
            <a:tbl>
              <a:tblPr/>
              <a:tblGrid>
                <a:gridCol w="2521080"/>
                <a:gridCol w="2519280"/>
                <a:gridCol w="2448000"/>
                <a:gridCol w="1368360"/>
              </a:tblGrid>
              <a:tr h="961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 валового сбере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а валового накопл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ни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иты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вроз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пония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е индустр. азиатские эк-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ч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ч. ЦВ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Н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9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ия,кр.Ср.Восто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.Вост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т. Аме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- 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фри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стиционный климат: понятие, элементы, особенности в различных группах и подгруппах стран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Инвестиционный клима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– это условия для приложения капитала (осуществления инвестиций). В узком значении – для приложения иностранного капитал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ироком значении –как для иностранного, так и национального капитал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 оценки  инвестиционного климата – соотношение прибыли и риска в будущем (или только рис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вестиционный климат оценивается (часто специализирован-ными агентствами) с точки зрения различных категорий инвест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рямых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инвестор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(инвестиционные рейтинг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 у В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R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портфельных инвесторов и кредиторов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(кредитные рейтинги,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пример,у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ody’s, Standard and Poor’s, Fit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ды финансовых ресурсов и механизм их перелива в ми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Organization Chart 6"/>
          <p:cNvGrpSpPr/>
          <p:nvPr/>
        </p:nvGrpSpPr>
        <p:grpSpPr>
          <a:xfrm>
            <a:off x="324000" y="1141920"/>
            <a:ext cx="9038880" cy="4698360"/>
            <a:chOff x="324000" y="1141920"/>
            <a:chExt cx="9038880" cy="4698360"/>
          </a:xfrm>
        </p:grpSpPr>
        <p:cxnSp>
          <p:nvCxnSpPr>
            <p:cNvPr id="152" name="_s1028"/>
            <p:cNvCxnSpPr>
              <a:stCxn id="153" idx="0"/>
              <a:endCxn id="154" idx="2"/>
            </p:cNvCxnSpPr>
            <p:nvPr/>
          </p:nvCxnSpPr>
          <p:spPr>
            <a:xfrm flipV="1" rot="16200000">
              <a:off x="6248520" y="4939200"/>
              <a:ext cx="177840" cy="810000"/>
            </a:xfrm>
            <a:prstGeom prst="bentConnector3">
              <a:avLst>
                <a:gd name="adj1" fmla="val 494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1029"/>
            <p:cNvCxnSpPr>
              <a:stCxn id="156" idx="0"/>
              <a:endCxn id="154" idx="2"/>
            </p:cNvCxnSpPr>
            <p:nvPr/>
          </p:nvCxnSpPr>
          <p:spPr>
            <a:xfrm flipH="1" flipV="1" rot="5400000">
              <a:off x="5438520" y="4939200"/>
              <a:ext cx="177840" cy="810360"/>
            </a:xfrm>
            <a:prstGeom prst="bentConnector3">
              <a:avLst>
                <a:gd name="adj1" fmla="val 4949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1030"/>
            <p:cNvCxnSpPr>
              <a:stCxn id="154" idx="1"/>
              <a:endCxn id="158" idx="2"/>
            </p:cNvCxnSpPr>
            <p:nvPr/>
          </p:nvCxnSpPr>
          <p:spPr>
            <a:xfrm rot="10800000">
              <a:off x="4282560" y="2110680"/>
              <a:ext cx="546480" cy="2970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031"/>
            <p:cNvCxnSpPr>
              <a:stCxn id="160" idx="1"/>
              <a:endCxn id="158" idx="2"/>
            </p:cNvCxnSpPr>
            <p:nvPr/>
          </p:nvCxnSpPr>
          <p:spPr>
            <a:xfrm rot="10800000">
              <a:off x="4282560" y="2110680"/>
              <a:ext cx="546480" cy="2446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1032"/>
            <p:cNvCxnSpPr>
              <a:stCxn id="162" idx="1"/>
              <a:endCxn id="158" idx="2"/>
            </p:cNvCxnSpPr>
            <p:nvPr/>
          </p:nvCxnSpPr>
          <p:spPr>
            <a:xfrm rot="10800000">
              <a:off x="4282560" y="2110680"/>
              <a:ext cx="546480" cy="1922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1033"/>
            <p:cNvCxnSpPr>
              <a:stCxn id="164" idx="1"/>
              <a:endCxn id="158" idx="2"/>
            </p:cNvCxnSpPr>
            <p:nvPr/>
          </p:nvCxnSpPr>
          <p:spPr>
            <a:xfrm rot="10800000">
              <a:off x="4282560" y="2110680"/>
              <a:ext cx="5464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34"/>
            <p:cNvCxnSpPr>
              <a:stCxn id="166" idx="1"/>
              <a:endCxn id="158" idx="2"/>
            </p:cNvCxnSpPr>
            <p:nvPr/>
          </p:nvCxnSpPr>
          <p:spPr>
            <a:xfrm rot="10800000">
              <a:off x="4282560" y="2110680"/>
              <a:ext cx="546480" cy="87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1035"/>
            <p:cNvCxnSpPr>
              <a:stCxn id="168" idx="1"/>
              <a:endCxn id="158" idx="2"/>
            </p:cNvCxnSpPr>
            <p:nvPr/>
          </p:nvCxnSpPr>
          <p:spPr>
            <a:xfrm rot="10800000">
              <a:off x="4282560" y="2110680"/>
              <a:ext cx="546480" cy="3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1036"/>
            <p:cNvCxnSpPr>
              <a:stCxn id="170" idx="1"/>
              <a:endCxn id="171" idx="2"/>
            </p:cNvCxnSpPr>
            <p:nvPr/>
          </p:nvCxnSpPr>
          <p:spPr>
            <a:xfrm rot="10800000">
              <a:off x="7095240" y="2110680"/>
              <a:ext cx="61200" cy="87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_s1037"/>
            <p:cNvCxnSpPr>
              <a:stCxn id="173" idx="1"/>
              <a:endCxn id="171" idx="2"/>
            </p:cNvCxnSpPr>
            <p:nvPr/>
          </p:nvCxnSpPr>
          <p:spPr>
            <a:xfrm rot="10800000">
              <a:off x="7095240" y="2110680"/>
              <a:ext cx="61200" cy="3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1038"/>
            <p:cNvCxnSpPr>
              <a:stCxn id="175" idx="3"/>
              <a:endCxn id="176" idx="2"/>
            </p:cNvCxnSpPr>
            <p:nvPr/>
          </p:nvCxnSpPr>
          <p:spPr>
            <a:xfrm flipV="1">
              <a:off x="2530080" y="2111040"/>
              <a:ext cx="62280" cy="875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_s1039"/>
            <p:cNvCxnSpPr>
              <a:stCxn id="178" idx="3"/>
              <a:endCxn id="176" idx="2"/>
            </p:cNvCxnSpPr>
            <p:nvPr/>
          </p:nvCxnSpPr>
          <p:spPr>
            <a:xfrm flipV="1">
              <a:off x="2530080" y="2111040"/>
              <a:ext cx="62280" cy="34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1040"/>
            <p:cNvCxnSpPr>
              <a:stCxn id="171" idx="0"/>
              <a:endCxn id="180" idx="2"/>
            </p:cNvCxnSpPr>
            <p:nvPr/>
          </p:nvCxnSpPr>
          <p:spPr>
            <a:xfrm flipV="1" rot="16200000">
              <a:off x="5882040" y="445680"/>
              <a:ext cx="175320" cy="2252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1041"/>
            <p:cNvCxnSpPr>
              <a:stCxn id="158" idx="0"/>
              <a:endCxn id="180" idx="2"/>
            </p:cNvCxnSpPr>
            <p:nvPr/>
          </p:nvCxnSpPr>
          <p:spPr>
            <a:xfrm flipH="1" flipV="1" rot="5400000">
              <a:off x="4475880" y="1292040"/>
              <a:ext cx="175320" cy="56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1042"/>
            <p:cNvCxnSpPr>
              <a:stCxn id="176" idx="0"/>
              <a:endCxn id="180" idx="2"/>
            </p:cNvCxnSpPr>
            <p:nvPr/>
          </p:nvCxnSpPr>
          <p:spPr>
            <a:xfrm flipH="1" flipV="1" rot="5400000">
              <a:off x="3630240" y="446400"/>
              <a:ext cx="175320" cy="225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0" name="_s1043"/>
            <p:cNvSpPr/>
            <p:nvPr/>
          </p:nvSpPr>
          <p:spPr>
            <a:xfrm>
              <a:off x="3441960" y="1141920"/>
              <a:ext cx="2803320" cy="3434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Финансовые ресурсы мир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_s1044"/>
            <p:cNvSpPr/>
            <p:nvPr/>
          </p:nvSpPr>
          <p:spPr>
            <a:xfrm>
              <a:off x="1775880" y="1659960"/>
              <a:ext cx="16308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Финансовая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помощь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_s1045"/>
            <p:cNvSpPr/>
            <p:nvPr/>
          </p:nvSpPr>
          <p:spPr>
            <a:xfrm>
              <a:off x="3466800" y="1659960"/>
              <a:ext cx="16308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Мировые рынки</a:t>
              </a:r>
              <a:r>
                <a:rPr b="1" lang="en-US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Verdana"/>
                </a:rPr>
                <a:t>капитала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1" name="_s1046"/>
            <p:cNvSpPr/>
            <p:nvPr/>
          </p:nvSpPr>
          <p:spPr>
            <a:xfrm>
              <a:off x="6280920" y="1659960"/>
              <a:ext cx="1630800" cy="4510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360" bIns="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Золотовалютные</a:t>
              </a:r>
              <a:r>
                <a:rPr b="1" lang="en-US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резервы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8" name="_s1047"/>
            <p:cNvSpPr/>
            <p:nvPr/>
          </p:nvSpPr>
          <p:spPr>
            <a:xfrm>
              <a:off x="324000" y="2286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" rIns="108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Межгосударственные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кредиты и гранты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_s1048"/>
            <p:cNvSpPr/>
            <p:nvPr/>
          </p:nvSpPr>
          <p:spPr>
            <a:xfrm>
              <a:off x="324000" y="2810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" rIns="144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Кредиты и гранты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международных организаций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_s1049"/>
            <p:cNvSpPr/>
            <p:nvPr/>
          </p:nvSpPr>
          <p:spPr>
            <a:xfrm>
              <a:off x="7156080" y="2286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40" rIns="144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Официальные ЗВР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_s1050"/>
            <p:cNvSpPr/>
            <p:nvPr/>
          </p:nvSpPr>
          <p:spPr>
            <a:xfrm>
              <a:off x="7156080" y="2810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" rIns="1800" tIns="720" bIns="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Частные ЗВР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_s1051"/>
            <p:cNvSpPr/>
            <p:nvPr/>
          </p:nvSpPr>
          <p:spPr>
            <a:xfrm>
              <a:off x="4829040" y="2286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Валютный рынок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_s1052"/>
            <p:cNvSpPr/>
            <p:nvPr/>
          </p:nvSpPr>
          <p:spPr>
            <a:xfrm>
              <a:off x="4829040" y="2810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Verdana"/>
                </a:rPr>
                <a:t>Рынок дериватив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_s1053"/>
            <p:cNvSpPr/>
            <p:nvPr/>
          </p:nvSpPr>
          <p:spPr>
            <a:xfrm>
              <a:off x="4829040" y="333468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Рынок страховых услуг</a:t>
              </a:r>
              <a:r>
                <a:rPr b="0" lang="en-US" sz="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_s1054"/>
            <p:cNvSpPr/>
            <p:nvPr/>
          </p:nvSpPr>
          <p:spPr>
            <a:xfrm>
              <a:off x="4829040" y="385884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520" rIns="2520" tIns="1080" bIns="1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Verdana"/>
                </a:rPr>
                <a:t>Рынок прямых инвестиций?</a:t>
              </a:r>
              <a:endParaRPr b="0" lang="en-US" sz="11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_s1055"/>
            <p:cNvSpPr/>
            <p:nvPr/>
          </p:nvSpPr>
          <p:spPr>
            <a:xfrm>
              <a:off x="4829040" y="438336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" rIns="288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Рынок акций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_s1056"/>
            <p:cNvSpPr/>
            <p:nvPr/>
          </p:nvSpPr>
          <p:spPr>
            <a:xfrm>
              <a:off x="4829040" y="4907520"/>
              <a:ext cx="2206800" cy="3492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880" rIns="2880" tIns="1440" bIns="1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Verdana"/>
                </a:rPr>
                <a:t>Кредитный рынок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6" name="_s1057"/>
            <p:cNvSpPr/>
            <p:nvPr/>
          </p:nvSpPr>
          <p:spPr>
            <a:xfrm>
              <a:off x="4342320" y="5431680"/>
              <a:ext cx="1559880" cy="408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8960" rIns="4896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Рынок долговых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ценных бумаг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_s1058"/>
            <p:cNvSpPr/>
            <p:nvPr/>
          </p:nvSpPr>
          <p:spPr>
            <a:xfrm>
              <a:off x="5962320" y="5431680"/>
              <a:ext cx="1559880" cy="4086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Рынок банковских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Verdana"/>
                </a:rPr>
                <a:t>кредит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3" name="Rectangle 50"/>
          <p:cNvSpPr/>
          <p:nvPr/>
        </p:nvSpPr>
        <p:spPr>
          <a:xfrm>
            <a:off x="7031880" y="20606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овые рынки капитала: понятие, основные участники, главные центры, характерные черты отдельных рын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Мировые рынки капитала (мировой финансовый рынок)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хватывают целый ряд финансовых рынков, которые, в свою очередь, подразделяют- на более мелкие. Масштабы некоторых из них исчисляют по широкому определению, некоторых – по узк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Основные участ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ранснациональны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транснациональные ба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институциональные инвестор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а также государства, международные организации, физл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Мировые финансовые центры –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 места в мире, где торговля финансовыми активами между резидентами разных стран имеет особенно большие масшта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инансовая и другая помощь в мире: формы, источники, основные страны-получатели, политика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сновные фор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Военная помощ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Официальная помощь на цели развития  -сроч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продовольственная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техническ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списание задолжен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от международных организаци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прочие виды помощи развития  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звитые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чие стр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еждународные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траны-получат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абсолютной величи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размерам на душу на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литика помощ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енная помощь – наиболее сильно политизиров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фициальная помощь на цели развития -  на основе соответствия политики стран-реципиен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ашингтонскому и поствашингтонскому консенсус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3:20:28Z</dcterms:created>
  <dc:creator>b</dc:creator>
  <dc:description/>
  <dc:language>en-US</dc:language>
  <cp:lastModifiedBy>LEGION</cp:lastModifiedBy>
  <dcterms:modified xsi:type="dcterms:W3CDTF">2016-01-05T11:04:11Z</dcterms:modified>
  <cp:revision>45</cp:revision>
  <dc:subject/>
  <dc:title>Тема 7. Финансовые ресурсы мира</dc:title>
</cp:coreProperties>
</file>