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5204-5684-4B07-94E0-3EE430EEA12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C1F-5198-4E2F-BBCD-115139F4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C0C-457E-417C-A02F-97D79C7C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EAF-4A8B-490C-A681-ED09CA32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140-4B31-4E95-BF02-E85FCF9D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1AF8-2F1E-4EB6-B4C6-34C410D5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87BE-350C-49AA-B1D2-4D0FA770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B108-0930-4859-856B-8689FFA7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7EB4-4DC8-4B9E-8A5D-D98DDEC8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A122-5727-465B-B9C3-1772281F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EBDB-B411-4A4A-9B27-19D3CF61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EA67-5D3C-40A3-B486-2D47F5A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0830-1D5B-4DF7-8987-A6A3EE74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A324-8CB4-4ADA-9378-7BEC7065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B9EF-45BA-4EC6-BA2C-0D8DF32C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D1B2-D1C4-4F40-B055-C5B23512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0175-4425-432E-A4CA-2DF4EBE0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8DEB-0CDC-4F34-9ED2-6FED0847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F1CDA-3CBA-48EC-BB2A-C7B2D5CA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09EA5-3E6A-43E9-B17A-F4641C1B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46AB7-A481-497E-82DD-0E8B6CDC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7C9D-42DC-453E-817D-1C3CD7B9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3F89-DCD3-431B-80A1-5CF9CB44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253-0941-4F87-95D2-77425FD1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E41C-8617-4F40-B88D-30B02BFC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9D999-50BF-4848-84A7-7E3B4BA4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CE17-4154-4325-8BF6-425A7993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3251-9235-4D13-98CF-BF54C23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1FFA-78C7-4F5C-B41F-9524C18F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44A0-6356-4D79-B8D2-0B7FC667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D772-FB40-4F0D-9378-DAF35DE6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DC6-DC05-4B25-8F8A-7FE949E4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111-91BC-48CB-87BD-7C038A34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DC0-9BF5-44FB-A6FE-865976CC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1A6-482B-4968-87B9-DCE5442F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7B8-415D-4E94-9631-36975840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DD72-6E33-491C-8CCA-F784E2A9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D7A4-456A-4412-A332-21AF6C8F71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043F-4E14-4FBE-B2A2-E13FC0F38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F94F-CDD7-4466-A42D-1FEDF6160E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0359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циальные золотовалютные резервы: назначение, масштабы,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ЗВ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инадлежащие государству резервы золота (монетарное золото)и иностранной валю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ие на курс национальной валю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коло 5 трлн.в мире, не считая монетарного з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1/4 состоят из монетарного 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ричины, масштабы,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ссудного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финансов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формально сосредоточен в странах с неконвертируемой валю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ставляет 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фициальный (государственный) внешний дол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астный внешний долг (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оследствия и пут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ствия (позитивные и негатив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использовать внешние средства при нехватке или дороговизне сбережений и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олговая петл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ly indebted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 проблемы внешне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ыстрый рост экспортных поступлений и иностранных прямых и портфель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еструкту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вление вешним дол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итивные и негативные последствия глобализации финансовых ресурсов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мягчение нехватки финансовых ресурсов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слабление влияния национальных правительств на национальные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ерез профилактику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едоставление достаточных кредитов во время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Усиление контроля над международным движением капит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лог Т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а госрегулирования притока «горячих дене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пита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ак экономический ресурс под-разделяется на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реальный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капитал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средства производства) и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финансовый капитал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еньги,ценные бумаги, монетарное золото). Финансовый капитал можно называть также финансовыми ресурс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питалообра-з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под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бережениями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азумевается та часть ВНД/ВВП, которая не идет на конечное потребление товаров и услуг. Отношение всех сбережений страны к ее ВВП назы-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рмой валового сбере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ли, как принято писать в статистике, к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аловому накоплению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ношение валового накопления к ВВП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нормой валового накоплен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ущности, это отношение инвестиций в реальный капитал к ВВ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со сбережениями и инвестициями в различных группах и подгруппах стран, 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692280"/>
          <a:ext cx="8856720" cy="61214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448000"/>
                <a:gridCol w="1368360"/>
              </a:tblGrid>
              <a:tr h="96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сбере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нак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з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е индустр. азиатские эк-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Ц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,кр.Ср.Вос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.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значении –как для иностранного, так и национального капи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ямы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инвес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инвестиционные рейтинг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у 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ртфельных инвесторов и креди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(кредитные рейтинги,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ody’s, Standard and Poor’s, F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финансовых ресурсов и механизм их перелива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6"/>
          <p:cNvGrpSpPr/>
          <p:nvPr/>
        </p:nvGrpSpPr>
        <p:grpSpPr>
          <a:xfrm>
            <a:off x="324000" y="1141920"/>
            <a:ext cx="9038880" cy="4698360"/>
            <a:chOff x="324000" y="1141920"/>
            <a:chExt cx="9038880" cy="4698360"/>
          </a:xfrm>
        </p:grpSpPr>
        <p:cxnSp>
          <p:nvCxnSpPr>
            <p:cNvPr id="152" name="_s1028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248520" y="4939200"/>
              <a:ext cx="177840" cy="81000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4" idx="2"/>
            </p:cNvCxnSpPr>
            <p:nvPr/>
          </p:nvCxnSpPr>
          <p:spPr>
            <a:xfrm flipH="1" flipV="1" rot="5400000">
              <a:off x="5438520" y="4939200"/>
              <a:ext cx="177840" cy="81036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30"/>
            <p:cNvCxnSpPr>
              <a:stCxn id="154" idx="1"/>
              <a:endCxn id="158" idx="2"/>
            </p:cNvCxnSpPr>
            <p:nvPr/>
          </p:nvCxnSpPr>
          <p:spPr>
            <a:xfrm rot="10800000">
              <a:off x="4282560" y="2110680"/>
              <a:ext cx="546480" cy="29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1"/>
            <p:cNvCxnSpPr>
              <a:stCxn id="160" idx="1"/>
              <a:endCxn id="158" idx="2"/>
            </p:cNvCxnSpPr>
            <p:nvPr/>
          </p:nvCxnSpPr>
          <p:spPr>
            <a:xfrm rot="10800000">
              <a:off x="4282560" y="2110680"/>
              <a:ext cx="546480" cy="24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2"/>
            <p:cNvCxnSpPr>
              <a:stCxn id="162" idx="1"/>
              <a:endCxn id="158" idx="2"/>
            </p:cNvCxnSpPr>
            <p:nvPr/>
          </p:nvCxnSpPr>
          <p:spPr>
            <a:xfrm rot="10800000">
              <a:off x="4282560" y="2110680"/>
              <a:ext cx="546480" cy="1922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33"/>
            <p:cNvCxnSpPr>
              <a:stCxn id="164" idx="1"/>
              <a:endCxn id="158" idx="2"/>
            </p:cNvCxnSpPr>
            <p:nvPr/>
          </p:nvCxnSpPr>
          <p:spPr>
            <a:xfrm rot="10800000">
              <a:off x="4282560" y="2110680"/>
              <a:ext cx="5464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4"/>
            <p:cNvCxnSpPr>
              <a:stCxn id="166" idx="1"/>
              <a:endCxn id="158" idx="2"/>
            </p:cNvCxnSpPr>
            <p:nvPr/>
          </p:nvCxnSpPr>
          <p:spPr>
            <a:xfrm rot="10800000">
              <a:off x="4282560" y="2110680"/>
              <a:ext cx="5464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5"/>
            <p:cNvCxnSpPr>
              <a:stCxn id="168" idx="1"/>
              <a:endCxn id="158" idx="2"/>
            </p:cNvCxnSpPr>
            <p:nvPr/>
          </p:nvCxnSpPr>
          <p:spPr>
            <a:xfrm rot="10800000">
              <a:off x="4282560" y="2110680"/>
              <a:ext cx="5464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6"/>
            <p:cNvCxnSpPr>
              <a:stCxn id="170" idx="1"/>
              <a:endCxn id="171" idx="2"/>
            </p:cNvCxnSpPr>
            <p:nvPr/>
          </p:nvCxnSpPr>
          <p:spPr>
            <a:xfrm rot="10800000">
              <a:off x="7095240" y="2110680"/>
              <a:ext cx="6120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7"/>
            <p:cNvCxnSpPr>
              <a:stCxn id="173" idx="1"/>
              <a:endCxn id="171" idx="2"/>
            </p:cNvCxnSpPr>
            <p:nvPr/>
          </p:nvCxnSpPr>
          <p:spPr>
            <a:xfrm rot="10800000">
              <a:off x="7095240" y="2110680"/>
              <a:ext cx="6120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8"/>
            <p:cNvCxnSpPr>
              <a:stCxn id="175" idx="3"/>
              <a:endCxn id="176" idx="2"/>
            </p:cNvCxnSpPr>
            <p:nvPr/>
          </p:nvCxnSpPr>
          <p:spPr>
            <a:xfrm flipV="1">
              <a:off x="2530080" y="2111040"/>
              <a:ext cx="622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39"/>
            <p:cNvCxnSpPr>
              <a:stCxn id="178" idx="3"/>
              <a:endCxn id="176" idx="2"/>
            </p:cNvCxnSpPr>
            <p:nvPr/>
          </p:nvCxnSpPr>
          <p:spPr>
            <a:xfrm flipV="1">
              <a:off x="2530080" y="2111040"/>
              <a:ext cx="622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40"/>
            <p:cNvCxnSpPr>
              <a:stCxn id="171" idx="0"/>
              <a:endCxn id="180" idx="2"/>
            </p:cNvCxnSpPr>
            <p:nvPr/>
          </p:nvCxnSpPr>
          <p:spPr>
            <a:xfrm flipV="1" rot="16200000">
              <a:off x="5882040" y="445680"/>
              <a:ext cx="175320" cy="225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41"/>
            <p:cNvCxnSpPr>
              <a:stCxn id="158" idx="0"/>
              <a:endCxn id="180" idx="2"/>
            </p:cNvCxnSpPr>
            <p:nvPr/>
          </p:nvCxnSpPr>
          <p:spPr>
            <a:xfrm flipH="1" flipV="1" rot="5400000">
              <a:off x="4475880" y="1292040"/>
              <a:ext cx="175320" cy="56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42"/>
            <p:cNvCxnSpPr>
              <a:stCxn id="176" idx="0"/>
              <a:endCxn id="180" idx="2"/>
            </p:cNvCxnSpPr>
            <p:nvPr/>
          </p:nvCxnSpPr>
          <p:spPr>
            <a:xfrm flipH="1" flipV="1" rot="5400000">
              <a:off x="3630240" y="446400"/>
              <a:ext cx="175320" cy="225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043"/>
            <p:cNvSpPr/>
            <p:nvPr/>
          </p:nvSpPr>
          <p:spPr>
            <a:xfrm>
              <a:off x="3441960" y="1141920"/>
              <a:ext cx="280332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ые ресурсы мир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44"/>
            <p:cNvSpPr/>
            <p:nvPr/>
          </p:nvSpPr>
          <p:spPr>
            <a:xfrm>
              <a:off x="177588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ая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помощь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_s1045"/>
            <p:cNvSpPr/>
            <p:nvPr/>
          </p:nvSpPr>
          <p:spPr>
            <a:xfrm>
              <a:off x="346680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Мировые рынки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капитал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_s1046"/>
            <p:cNvSpPr/>
            <p:nvPr/>
          </p:nvSpPr>
          <p:spPr>
            <a:xfrm>
              <a:off x="628092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Золотовалютные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езерв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_s1047"/>
            <p:cNvSpPr/>
            <p:nvPr/>
          </p:nvSpPr>
          <p:spPr>
            <a:xfrm>
              <a:off x="32400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государственные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_s1048"/>
            <p:cNvSpPr/>
            <p:nvPr/>
          </p:nvSpPr>
          <p:spPr>
            <a:xfrm>
              <a:off x="32400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дународных организаций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1049"/>
            <p:cNvSpPr/>
            <p:nvPr/>
          </p:nvSpPr>
          <p:spPr>
            <a:xfrm>
              <a:off x="715608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Официаль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1050"/>
            <p:cNvSpPr/>
            <p:nvPr/>
          </p:nvSpPr>
          <p:spPr>
            <a:xfrm>
              <a:off x="715608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" rIns="18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Част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1051"/>
            <p:cNvSpPr/>
            <p:nvPr/>
          </p:nvSpPr>
          <p:spPr>
            <a:xfrm>
              <a:off x="482904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Валютный рынок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_s1052"/>
            <p:cNvSpPr/>
            <p:nvPr/>
          </p:nvSpPr>
          <p:spPr>
            <a:xfrm>
              <a:off x="482904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Verdana"/>
                </a:rPr>
                <a:t>Рынок дериватив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_s1053"/>
            <p:cNvSpPr/>
            <p:nvPr/>
          </p:nvSpPr>
          <p:spPr>
            <a:xfrm>
              <a:off x="4829040" y="333468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страховых услуг</a:t>
              </a:r>
              <a:r>
                <a:rPr b="0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1054"/>
            <p:cNvSpPr/>
            <p:nvPr/>
          </p:nvSpPr>
          <p:spPr>
            <a:xfrm>
              <a:off x="4829040" y="385884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ынок прямых инвестиций?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_s1055"/>
            <p:cNvSpPr/>
            <p:nvPr/>
          </p:nvSpPr>
          <p:spPr>
            <a:xfrm>
              <a:off x="4829040" y="4383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Рынок акций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1056"/>
            <p:cNvSpPr/>
            <p:nvPr/>
          </p:nvSpPr>
          <p:spPr>
            <a:xfrm>
              <a:off x="4829040" y="4907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Кредитный рыно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1057"/>
            <p:cNvSpPr/>
            <p:nvPr/>
          </p:nvSpPr>
          <p:spPr>
            <a:xfrm>
              <a:off x="434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долговы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ценных бумаг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1058"/>
            <p:cNvSpPr/>
            <p:nvPr/>
          </p:nvSpPr>
          <p:spPr>
            <a:xfrm>
              <a:off x="596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банковски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" name="Rectangle 50"/>
          <p:cNvSpPr/>
          <p:nvPr/>
        </p:nvSpPr>
        <p:spPr>
          <a:xfrm>
            <a:off x="7031880" y="2060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рынки капитала (мировой финансовый рынок)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сновные 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ституциональные инве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 также государства, международные организации, физ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финансовые центры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оенная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Официальная помощь на цели развития  -сро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родовольственна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техн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писание задолж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т международных организац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чие виды помощи развития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ны-получ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абсолютной велич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азмерам на душу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итика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помощь – наиболее сильно политизиров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ингтонскому и поствашингтонскому консенсу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3:20:28Z</dcterms:created>
  <dc:creator>b</dc:creator>
  <dc:description/>
  <dc:language>en-US</dc:language>
  <cp:lastModifiedBy>LEGION</cp:lastModifiedBy>
  <dcterms:modified xsi:type="dcterms:W3CDTF">2016-01-05T11:04:11Z</dcterms:modified>
  <cp:revision>45</cp:revision>
  <dc:subject/>
  <dc:title>Тема 7. Финансовые ресурсы мира</dc:title>
</cp:coreProperties>
</file>