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63A83-F838-4003-87D3-DCCDD5349F94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 7. Финансовые ресурсы ми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Тема 7. Финансовые ресурсы мир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фициальные золотовалютные резервы: назначение, масштабы, струк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фициальные ЗВР – принадлежащие государству резервы золота (монетарное золото)и иностранной валю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х назнач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еспечение платежеспособности страны по ее международным финансовым обязательств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действие на курс национальной валют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сштаб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около 5 трлн.в мире, не считая монетарного золо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ук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на 1/4 состоят из монетарного золот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на 3/4 состоят из иностранной валюты, основная часть которой вложена в надежные иностранные ценные бумаг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фициальные золотовалютные резервы: назначение, масштабы, структур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фициальные ЗВР – принадлежащие государству резервы золота (монетарное золото)и иностранной валюты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Их назначение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беспечение платежеспособности страны по ее международным финансовым обязательствам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оздействие на курс национальной валюты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Масштабы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около 5 трлн.в мире, не считая монетарного золот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труктур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на 1/4 состоят из монетарного золота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на 3/4 состоят из иностранной валюты, основная часть которой вложена в надежные иностранные ценные бумаг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блема внешнего долга в мире: причины, масштабы, струк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чи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приток в страну ссудного капита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приток в страну финансовой помощ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сштаб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формально сосредоточен в странах с неконвертируемой валют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составляет более $ 3 трлн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ук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официальный (государственный) внешний долг (около $1 трлн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частный внешний долг (более $ 2 трлн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облема внешнего долга в мире: причины, масштабы, структур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ичины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приток в страну ссудного капитал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приток в страну финансовой помощ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Масштабы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формально сосредоточен в странах с неконвертируемой валютой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составляет более $ 3 трлн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труктур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официальный (государственный) внешний долг (около $1 трлн.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частный внешний долг (более $ 2 трлн.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блема внешнего долга в мире: последствия и пути реш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ледствия (позитивные и негативны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возможность использовать внешние средства при нехватке или дороговизне сбережений и инвестиц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большие размеры обслуживания внешнего долга отрицательно сказываются на валовом накоплен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долговая петля (heavily indebted countrie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ути решения проблемы внешнего долг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быстрый рост экспортных поступлений и иностранных прямых и портфельных инвестиц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дефолт (банкротство государства по отношению к внешним кредиторам в форме отказа от обслуживания внешнего долг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реструктуриз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управление вешним долг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облема внешнего долга в мире: последствия и пути решени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оследствия (позитивные и негативные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 возможность использовать внешние средства при нехватке или дороговизне сбережений и инвестиций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большие размеры обслуживания внешнего долга отрицательно сказываются на валовом накоплени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долговая петля (heavily indebted countries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ути решения проблемы внешнего долг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быстрый рост экспортных поступлений и иностранных прямых и портфельных инвестиций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дефолт (банкротство государства по отношению к внешним кредиторам в форме отказа от обслуживания внешнего долга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реструктуризаци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управление вешним долгом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зитивные и негативные последствия глобализации финансовых ресурсов ми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зитив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смягчение нехватки финансовых ресурсов в мир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куренция со стороны внешних финансовых ресурсов снижает стоимость финансовых услуг в стран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гатив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усиление неустойчивости национальных рынков капитала, особенно в формирующихся экономиках (мировые финансовые кризисы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ослабление влияния национальных правительств на национальные финан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озитивные и негативные последствия глобализации финансовых ресурсов мир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озитивные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смягчение нехватки финансовых ресурсов в мире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онкуренция со стороны внешних финансовых ресурсов снижает стоимость финансовых услуг в стране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егативные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усиление неустойчивости национальных рынков капитала, особенно в формирующихся экономиках (мировые финансовые кризисы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ослабление влияния национальных правительств на национальные финансы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вая мировая финансовая архитек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вая мировая финансовая архитектура –проекты усиления стабильности мировой финансовой системы прежде всего с целью предотвращения мировых финансовых кризис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ек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Превращение МВФ в кредитора последней инстанции для стран - потенциальных банкротов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через профилактику финансовых кризис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предоставление достаточных кредитов во время финансовых кризис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банкротство государств по внешнему долгу по заранее установленным международным правил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Усиление контроля над международным движением капитал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налог Тоби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правила госрегулирования притока «горячих денег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овая мировая финансовая архитектур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овая мировая финансовая архитектура –проекты усиления стабильности мировой финансовой системы прежде всего с целью предотвращения мировых финансовых кризисов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оекты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1.Превращение МВФ в кредитора последней инстанции для стран - потенциальных банкротов: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через профилактику финансовых кризисов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предоставление достаточных кредитов во время финансовых кризисов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банкротство государств по внешнему долгу по заранее установленным международным правилам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2.Усиление контроля над международным движением капитала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налог Тобин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правила госрегулирования притока «горячих денег»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питал как экономический ресурс и его формы–реальный и финансовый капитал (финансовые ресурсы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питал как экономический ресурс под-разделяется на реальный капитал (средства производства) и финансовый капитал (деньги,ценные бумаги, монетарное золото). Финансовый капитал можно называть также финансовыми ресурс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нансовые ресурсы мира (мировые финансы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по широкому определению, являются суммой финансовых ресурсов всех стран, между-народных организаций и мировых финан-совых центр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по узкому определению – это только те финансовые ресурсы, которые используются в международных экономических отношени-ях, т.е. между резидентами и нерезидент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апитал как экономический ресурс и его формы–реальный и финансовый капитал (финансовые ресурсы)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апитал как экономический ресурс под-разделяется на реальный капитал (средства производства) и финансовый капитал (деньги,ценные бумаги, монетарное золото). Финансовый капитал можно называть также финансовыми ресурсами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Финансовые ресурсы мира (мировые финансы)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по широкому определению, являются суммой финансовых ресурсов всех стран, между-народных организаций и мировых финан-совых центров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по узкому определению – это только те финансовые ресурсы, которые используются в международных экономических отношени-ях, т.е. между резидентами и нерезидентам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бережения и инвестиции как главные элементы процесса капи-талообразова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питал пополняется за счет инвестиций, а они финансируются за счет сбережений. Этот процесс называется капиталообра-зовани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под сбережениями подразумевается та часть ВНД/ВВП, которая не идет на конечное потребление товаров и услуг. Отношение всех сбережений страны к ее ВВП назы-вается нормой валового сбереж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сбережения являются основой для инвестиций как в финансовый, так и реальный капитал. В ходе капиталообразования инвестиции в финансовый капитал затем финансируют инвестиции в реальный капита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бережения и инвестиции как главные элементы процесса капи-талообразования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апитал пополняется за счет инвестиций, а они финансируются за счет сбережений. Этот процесс называется капиталообра-зованием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под сбережениями подразумевается та часть ВНД/ВВП, которая не идет на конечное потребление товаров и услуг. Отношение всех сбережений страны к ее ВВП назы-вается нормой валового сбережения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сбережения являются основой для инвестиций как в финансовый, так и реальный капитал. В ходе капиталообразования инвестиции в финансовый капитал затем финансируют инвестиции в реальный капитал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бережения и инвестиции как главные элементы процесса капиталообразования(окончани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инвестиции в реальный капитал приводят к его росту, или, как принято писать в статистике, к валовому накоплению. В нем выделяют его основную часть –валовое накопление основного капитала , а также изменение запасов материальных оборотных средств и чистое приобретение ценност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отношение валового накопления к ВВП называется нормой валового накопления. В сущности, это отношение инвестиций в реальный капитал к ВВП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бережения и инвестиции как главные элементы процесса капиталообразования(окончание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инвестиции в реальный капитал приводят к его росту, или, как принято писать в статистике, к валовому накоплению. В нем выделяют его основную часть –валовое накопление основного капитала , а также изменение запасов материальных оборотных средств и чистое приобретение ценностей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отношение валового накопления к ВВП называется нормой валового накопления. В сущности, это отношение инвестиций в реальный капитал к ВВП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туация со сбережениями и инвестициями в различных группах и подгруппах стран,  2006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итуация со сбережениями и инвестициями в различных группах и подгруппах стран,  2006г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вестиционный климат: понятие, элементы, особенности в различных группах и подгруппах стран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вестиционный климат – это условия для приложения капитала (осуществления инвестиций). В узком значении – для приложения иностранного капитала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широком значении –как для иностранного, так и национального капитал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а оценки  инвестиционного климата – соотношение прибыли и риска в будущем (или только риск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вестиционный климат оценивается (часто специализирован-ными агентствами) с точки зрения различных категорий инвесторо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прямых инвесторов (инвестиционные рейтинги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имер, у ВER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портфельных инвесторов и кредиторов  (кредитные рейтинги,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имер,у Moody’s, Standard and Poor’s, Fitch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Инвестиционный климат: понятие, элементы, особенности в различных группах и подгруппах стран                 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Инвестиционный климат – это условия для приложения капитала (осуществления инвестиций). В узком значении – для приложения иностранного капитала,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 широком значении –как для иностранного, так и национального капитала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снова оценки  инвестиционного климата – соотношение прибыли и риска в будущем (или только риска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Инвестиционный климат оценивается (часто специализирован-ными агентствами) с точки зрения различных категорий инвесторов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прямых инвесторов (инвестиционные рейтинги,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апример, у ВERI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портфельных инвесторов и кредиторов  (кредитные рейтинги,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апример,у Moody’s, Standard and Poor’s, Fitch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финансовых ресурсов и механизм их перелива в мир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иды финансовых ресурсов и механизм их перелива в мире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овые рынки капитала: понятие, основные участники, главные центры, характерные черты отдельных рын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овые рынки капитала (мировой финансовый рынок)- охватывают целый ряд финансовых рынков, которые, в свою очередь, подразделяют- на более мелкие. Масштабы некоторых из них исчисляют по широкому определению, некоторых – по узком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участн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транснациональные компан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транснациональные бан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институциональные инвесторы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а также государства, международные организации, физлиц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овые финансовые центры – те места в мире, где торговля финансовыми активами между резидентами разных стран имеет особенно большие масштаб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Мировые рынки капитала: понятие, основные участники, главные центры, характерные черты отдельных рынков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Мировые рынки капитала (мировой финансовый рынок)- охватывают целый ряд финансовых рынков, которые, в свою очередь, подразделяют- на более мелкие. Масштабы некоторых из них исчисляют по широкому определению, некоторых – по узкому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сновные участник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транснациональные компани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транснациональные банк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институциональные инвесторы,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а также государства, международные организации, физлиц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Мировые финансовые центры – те места в мире, где торговля финансовыми активами между резидентами разных стран имеет особенно большие масштабы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нансовая и другая помощь в мире: формы, источники, основные страны-получатели, политика помощ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фор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Военная помощ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Официальная помощь на цели развития  -сроч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продовольственная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техническ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списание задолжен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от международных организаций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прочие виды помощи развития                        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Источн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витые стра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чие стра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е орган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аны-получате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абсолютной величин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размерам на душу насе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итика помощ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енная помощь – наиболее сильно политизирова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фициальная помощь на цели развития -  на основе соответствия политики стран-реципиен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шингтонскому и поствашингтонскому консенсус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Финансовая и другая помощь в мире: формы, источники, основные страны-получатели, политика помощ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сновные формы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1.Военная помощь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2.Официальная помощь на цели развития  -срочна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 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продовольственная 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 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техническа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 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списание задолженност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 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от международных организаций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 прочие виды помощи развития                        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Источник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азвитые страны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очие страны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Международные организаци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траны-получател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о абсолютной величине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о размерам на душу населени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олитика помощ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оенная помощь – наиболее сильно политизирован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фициальная помощь на цели развития -  на основе соответствия политики стран-реципиентов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ашингтонскому и поствашингтонскому консенсусу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12B09-FCFB-40F6-80B4-C979D3FB9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4B7E4-B65B-462C-A2E6-20E09277B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401CF-DC02-4076-BB83-5C8DBB797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2FCEC-1B15-4B5E-9330-26A0BBBD6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0E403-2E72-41E5-B0C2-EBF3B6852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26755-3FCF-4525-A658-96FA4DE7A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BD828-697E-40E9-92DD-B1162FD9A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3A547-E0E5-4ACE-9D64-CAA8C5A64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560BC-2655-4124-9CFC-9A64BFFDE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67742-CFE5-4E8B-8BC8-67779DDC9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49B1F-1A8D-4F1D-A19B-D8958225D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8BF74-B496-4878-A9DF-C2BA1EC26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E829D-920D-4C4D-8B3C-0E5CB24AF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B108D-E39F-4DA6-9D73-FD9301053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8A0FB-F08C-40DA-B40D-4C48AAD04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819F4-D672-49B9-84D8-D60EF6A2F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5D5B3-22CF-4E5A-9F26-F9AEAF41C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96E984-CAD5-4092-9A78-2A2307C50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9D3F6F-B5EA-4D3D-8C51-8890982F6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BE8D85-094A-46C9-BAD1-F4E372376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EA870B-77D9-4DC7-B1FD-E1E154B1D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45E549-3566-4AA8-996B-17800AB86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E9C5E-8ECA-4FE1-AF2A-54165E535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ECD6BD-A78D-4E2C-A1B2-919F841D4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191380-36F2-4663-AA73-42C5141D2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78FDF2-BE6D-4F23-9971-2658B3183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C1A6E1-4584-4AEF-B9CD-49D93BD28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E2EBA2-BACF-4A36-BE9E-C37D1B499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941CD2-8E51-4753-8673-7C8A16AD4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725704-DFC2-4C0D-83FF-77ACCE2C0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BC87C-4B97-4DE7-B50A-E5B94E9E8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5CBEF-D3F8-44EC-878E-532F588DE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A7005-D777-428E-9B89-260DF6CD5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3A805-A8E1-4FB3-80FF-58C51A38C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DB411-20A2-4997-8DEF-3B0EF01AD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D45A3-CCD8-4FD5-A913-82D7FED29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A23B8-EE66-491F-BE1B-FA52704E8769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0F77D-28E1-4DB2-9AF9-0F07ECD07E2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E2A68-6A26-45BF-9469-FE61267B6B08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39640" y="1699920"/>
            <a:ext cx="8035920" cy="125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Тема 7. Финансовые ресурсы мира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фициальные золотовалютные резервы: назначение, масштабы, структу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фициальные ЗВР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принадлежащие государству резервы золота (монетарное золото)и иностранной валю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х назнач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еспечение платежеспособности страны по ее международным финансовым обязательства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здействие на курс национальной валют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асштаб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около 5 трлн.в мире, не считая монетарного золо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трукту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на 1/4 состоят из монетарного золот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на 3/4 состоят из иностранной валюты, основная часть которой вложена в надежные иностранные ценные бумаг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облема внешнего долга в мире: причины, масштабы, структу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чи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приток в страну ссудного капита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приток в страну финансовой помощ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асштаб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формально сосредоточен в странах с неконвертируемой валют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составляет боле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 3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трлн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трукту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официальный (государственный) внешний долг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коло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 трлн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частный внешний долг (боле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 трлн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облема внешнего долга в мире: последствия и пути реш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следствия (позитивные и негативны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зможность использовать внешние средства при нехватке или дороговизне сбережений и инвестиц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большие размеры обслуживания внешнего долга отрицательно сказываются на валовом накоплен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долговая петля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avily indebted countri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ути решения проблемы внешнего дол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быстрый рост экспортных поступлений и иностранных прямых и портфельных инвестиц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дефолт (банкротство государства по отношению к внешним кредиторам в форме отказа от обслуживания внешнего долг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реструктуриза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управление вешним долг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зитивные и негативные последствия глобализации финансовых ресурсов ми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зитив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смягчение нехватки финансовых ресурсов в мир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нкуренция со стороны внешних финансовых ресурсов снижает стоимость финансовых услуг в стра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егатив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усиление неустойчивости национальных рынков капитала, особенно в формирующихся экономиках (мировые финансовые кризисы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ослабление влияния национальных правительств на национальные финанс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овая мировая финансовая архитекту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Новая мировая финансовая архитектура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проекты усиления стабильности мировой финансовой системы прежде всего с целью предотвращения мировых финансовых кризис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роек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1.Превращение МВФ в кредитора последней инстанции для стран - потенциальных банкротов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через профилактику финансовых кризис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предоставление достаточных кредитов во время финансовых кризис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банкротство государств по внешнему долгу по заранее установленным международным правила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2.Усиление контроля над международным движением капитал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налог Тоби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правила госрегулирования притока «горячих денег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23640" y="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Капитал как экономический ресурс и его формы–реальный и финансовый капитал (финансовые ресурсы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9280" y="169992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427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Капитал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как экономический ресурс под-разделяется на </a:t>
            </a:r>
            <a:r>
              <a:rPr b="0" i="1" lang="ru-RU" sz="2400" spc="-1" strike="noStrike">
                <a:solidFill>
                  <a:srgbClr val="cc0000"/>
                </a:solidFill>
                <a:latin typeface="Verdana"/>
              </a:rPr>
              <a:t>реальный</a:t>
            </a:r>
            <a:r>
              <a:rPr b="0" i="1" lang="ru-RU" sz="24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0" i="1" lang="ru-RU" sz="2400" spc="-1" strike="noStrike">
                <a:solidFill>
                  <a:srgbClr val="cc0000"/>
                </a:solidFill>
                <a:latin typeface="Verdana"/>
              </a:rPr>
              <a:t>капитал</a:t>
            </a:r>
            <a:r>
              <a:rPr b="0" i="1" lang="ru-RU" sz="24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(средства производства) и </a:t>
            </a:r>
            <a:r>
              <a:rPr b="0" i="1" lang="ru-RU" sz="2400" spc="-1" strike="noStrike">
                <a:solidFill>
                  <a:srgbClr val="cc0000"/>
                </a:solidFill>
                <a:latin typeface="Verdana"/>
              </a:rPr>
              <a:t>финансовый капитал</a:t>
            </a: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(деньги,ценные бумаги, монетарное золото). Финансовый капитал можно называть также финансовыми ресурсам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27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Финансовые ресурсы мира (мировые финансы)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27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 широкому определению, являются суммой финансовых ресурсов всех стран, между-народных организаций и мировых финан-совых центр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27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 узкому определению – это только те финансовые ресурсы, которые используются в международных экономических отношени-ях, т.е. между резидентами и нерезидентам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бережения и инвестиции как главные элементы процесса капи-талообразования</a:t>
            </a: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апитал пополняется за счет инвестиций, а они финансируются за счет сбережений. Этот процесс называется </a:t>
            </a: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капиталообра-зованием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-под </a:t>
            </a: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сбережениями</a:t>
            </a: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дразумевается та часть ВНД/ВВП, которая не идет на конечное потребление товаров и услуг. Отношение всех сбережений страны к ее ВВП назы-вается </a:t>
            </a: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нормой валового сбережения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-сбережения являются основой для инвестиций как в финансовый, так и реальный капитал. В ходе капиталообразования инвестиции в финансовый капитал затем финансируют инвестиции в реальный капитал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бережения и инвестиции как главные элементы процесса капиталообразования(окончание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-инвестиции в реальный капитал приводят к его росту</a:t>
            </a:r>
            <a:r>
              <a:rPr b="0" i="1" lang="ru-RU" sz="26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или, как принято писать в статистике, к </a:t>
            </a:r>
            <a:r>
              <a:rPr b="1" i="1" lang="ru-RU" sz="2600" spc="-1" strike="noStrike">
                <a:solidFill>
                  <a:srgbClr val="000000"/>
                </a:solidFill>
                <a:latin typeface="Verdana"/>
              </a:rPr>
              <a:t>валовому накоплению</a:t>
            </a:r>
            <a:r>
              <a:rPr b="0" i="1" lang="ru-RU" sz="26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В нем выделяют его основную часть –валовое накопление основного капитала , а также изменение запасов материальных оборотных средств и чистое приобретение ценностей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2600" spc="-1" strike="noStrike">
                <a:solidFill>
                  <a:srgbClr val="000000"/>
                </a:solidFill>
                <a:latin typeface="Verdana"/>
              </a:rPr>
              <a:t>-о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тношение валового накопления к ВВП называется </a:t>
            </a:r>
            <a:r>
              <a:rPr b="1" i="1" lang="ru-RU" sz="2600" spc="-1" strike="noStrike">
                <a:solidFill>
                  <a:srgbClr val="000000"/>
                </a:solidFill>
                <a:latin typeface="Verdana"/>
              </a:rPr>
              <a:t>нормой валового накопления</a:t>
            </a:r>
            <a:r>
              <a:rPr b="0" i="1" lang="ru-RU" sz="26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В сущности, это отношение инвестиций в реальный капитал к ВВП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24000" y="-571680"/>
            <a:ext cx="8229600" cy="114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итуация со сбережениями и инвестициями в различных группах и подгруппах стран,  2006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179280" y="692280"/>
          <a:ext cx="8856720" cy="6121440"/>
        </p:xfrm>
        <a:graphic>
          <a:graphicData uri="http://schemas.openxmlformats.org/drawingml/2006/table">
            <a:tbl>
              <a:tblPr/>
              <a:tblGrid>
                <a:gridCol w="2521080"/>
                <a:gridCol w="2519280"/>
                <a:gridCol w="2448000"/>
                <a:gridCol w="1368360"/>
              </a:tblGrid>
              <a:tr h="961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ран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орма валового сбереж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орма валового накопл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ниц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витые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- 1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т.ч. СШ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,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- 6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врозон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пония   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,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0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овые индустр. азиатские эк-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ч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т.ч. ЦВ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,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- 5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Н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,9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зия,кр.Ср.Восто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.Восто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,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,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ат. Амери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,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- 1,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фри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нвестиционный климат: понятие, элементы, особенности в различных группах и подгруппах стран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Инвестиционный климат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это условия для приложения капитала (осуществления инвестиций). В узком значении – для приложения иностранного капитал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широком значении –как для иностранного, так и национального капитал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нова оценки  инвестиционного климата – соотношение прибыли и риска в будущем (или только риск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вестиционный климат оценивается (часто специализирован-ными агентствами) с точки зрения различных категорий инвесторов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3300"/>
                </a:solidFill>
                <a:latin typeface="Arial"/>
              </a:rPr>
              <a:t>-</a:t>
            </a:r>
            <a:r>
              <a:rPr b="0" i="1" lang="ru-RU" sz="2000" spc="-1" strike="noStrike">
                <a:solidFill>
                  <a:srgbClr val="ff3300"/>
                </a:solidFill>
                <a:latin typeface="Arial"/>
              </a:rPr>
              <a:t>прямых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ff3300"/>
                </a:solidFill>
                <a:latin typeface="Arial"/>
              </a:rPr>
              <a:t>инвесторов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(инвестиционные рейтинг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например, у В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R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i="1" lang="ru-RU" sz="2000" spc="-1" strike="noStrike">
                <a:solidFill>
                  <a:srgbClr val="ff3300"/>
                </a:solidFill>
                <a:latin typeface="Arial"/>
              </a:rPr>
              <a:t>портфельных инвесторов и кредиторов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 (кредитные рейтинги,   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например,у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oody’s, Standard and Poor’s, Fitc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иды финансовых ресурсов и механизм их перелива в мир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Organization Chart 6"/>
          <p:cNvGrpSpPr/>
          <p:nvPr/>
        </p:nvGrpSpPr>
        <p:grpSpPr>
          <a:xfrm>
            <a:off x="324000" y="1141920"/>
            <a:ext cx="9038880" cy="4698360"/>
            <a:chOff x="324000" y="1141920"/>
            <a:chExt cx="9038880" cy="4698360"/>
          </a:xfrm>
        </p:grpSpPr>
        <p:cxnSp>
          <p:nvCxnSpPr>
            <p:cNvPr id="152" name="_s1028"/>
            <p:cNvCxnSpPr>
              <a:stCxn id="153" idx="0"/>
              <a:endCxn id="154" idx="2"/>
            </p:cNvCxnSpPr>
            <p:nvPr/>
          </p:nvCxnSpPr>
          <p:spPr>
            <a:xfrm flipV="1" rot="16200000">
              <a:off x="6248520" y="4939200"/>
              <a:ext cx="177840" cy="810000"/>
            </a:xfrm>
            <a:prstGeom prst="bentConnector3">
              <a:avLst>
                <a:gd name="adj1" fmla="val 4949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5" name="_s1029"/>
            <p:cNvCxnSpPr>
              <a:stCxn id="156" idx="0"/>
              <a:endCxn id="154" idx="2"/>
            </p:cNvCxnSpPr>
            <p:nvPr/>
          </p:nvCxnSpPr>
          <p:spPr>
            <a:xfrm flipH="1" flipV="1" rot="5400000">
              <a:off x="5438520" y="4939200"/>
              <a:ext cx="177840" cy="810360"/>
            </a:xfrm>
            <a:prstGeom prst="bentConnector3">
              <a:avLst>
                <a:gd name="adj1" fmla="val 4949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7" name="_s1030"/>
            <p:cNvCxnSpPr>
              <a:stCxn id="154" idx="1"/>
              <a:endCxn id="158" idx="2"/>
            </p:cNvCxnSpPr>
            <p:nvPr/>
          </p:nvCxnSpPr>
          <p:spPr>
            <a:xfrm rot="10800000">
              <a:off x="4282560" y="2110680"/>
              <a:ext cx="546480" cy="2970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9" name="_s1031"/>
            <p:cNvCxnSpPr>
              <a:stCxn id="160" idx="1"/>
              <a:endCxn id="158" idx="2"/>
            </p:cNvCxnSpPr>
            <p:nvPr/>
          </p:nvCxnSpPr>
          <p:spPr>
            <a:xfrm rot="10800000">
              <a:off x="4282560" y="2110680"/>
              <a:ext cx="546480" cy="24469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1" name="_s1032"/>
            <p:cNvCxnSpPr>
              <a:stCxn id="162" idx="1"/>
              <a:endCxn id="158" idx="2"/>
            </p:cNvCxnSpPr>
            <p:nvPr/>
          </p:nvCxnSpPr>
          <p:spPr>
            <a:xfrm rot="10800000">
              <a:off x="4282560" y="2110680"/>
              <a:ext cx="546480" cy="19227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3" name="_s1033"/>
            <p:cNvCxnSpPr>
              <a:stCxn id="164" idx="1"/>
              <a:endCxn id="158" idx="2"/>
            </p:cNvCxnSpPr>
            <p:nvPr/>
          </p:nvCxnSpPr>
          <p:spPr>
            <a:xfrm rot="10800000">
              <a:off x="4282560" y="2110680"/>
              <a:ext cx="546480" cy="13986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5" name="_s1034"/>
            <p:cNvCxnSpPr>
              <a:stCxn id="166" idx="1"/>
              <a:endCxn id="158" idx="2"/>
            </p:cNvCxnSpPr>
            <p:nvPr/>
          </p:nvCxnSpPr>
          <p:spPr>
            <a:xfrm rot="10800000">
              <a:off x="4282560" y="2110680"/>
              <a:ext cx="546480" cy="8755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7" name="_s1035"/>
            <p:cNvCxnSpPr>
              <a:stCxn id="168" idx="1"/>
              <a:endCxn id="158" idx="2"/>
            </p:cNvCxnSpPr>
            <p:nvPr/>
          </p:nvCxnSpPr>
          <p:spPr>
            <a:xfrm rot="10800000">
              <a:off x="4282560" y="2110680"/>
              <a:ext cx="546480" cy="3499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9" name="_s1036"/>
            <p:cNvCxnSpPr>
              <a:stCxn id="170" idx="1"/>
              <a:endCxn id="171" idx="2"/>
            </p:cNvCxnSpPr>
            <p:nvPr/>
          </p:nvCxnSpPr>
          <p:spPr>
            <a:xfrm rot="10800000">
              <a:off x="7095240" y="2110680"/>
              <a:ext cx="61200" cy="8755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72" name="_s1037"/>
            <p:cNvCxnSpPr>
              <a:stCxn id="173" idx="1"/>
              <a:endCxn id="171" idx="2"/>
            </p:cNvCxnSpPr>
            <p:nvPr/>
          </p:nvCxnSpPr>
          <p:spPr>
            <a:xfrm rot="10800000">
              <a:off x="7095240" y="2110680"/>
              <a:ext cx="61200" cy="3499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74" name="_s1038"/>
            <p:cNvCxnSpPr>
              <a:stCxn id="175" idx="3"/>
              <a:endCxn id="176" idx="2"/>
            </p:cNvCxnSpPr>
            <p:nvPr/>
          </p:nvCxnSpPr>
          <p:spPr>
            <a:xfrm flipV="1">
              <a:off x="2530080" y="2111040"/>
              <a:ext cx="62280" cy="8755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77" name="_s1039"/>
            <p:cNvCxnSpPr>
              <a:stCxn id="178" idx="3"/>
              <a:endCxn id="176" idx="2"/>
            </p:cNvCxnSpPr>
            <p:nvPr/>
          </p:nvCxnSpPr>
          <p:spPr>
            <a:xfrm flipV="1">
              <a:off x="2530080" y="2111040"/>
              <a:ext cx="62280" cy="3499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79" name="_s1040"/>
            <p:cNvCxnSpPr>
              <a:stCxn id="171" idx="0"/>
              <a:endCxn id="180" idx="2"/>
            </p:cNvCxnSpPr>
            <p:nvPr/>
          </p:nvCxnSpPr>
          <p:spPr>
            <a:xfrm flipV="1" rot="16200000">
              <a:off x="5882040" y="445680"/>
              <a:ext cx="175320" cy="2252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81" name="_s1041"/>
            <p:cNvCxnSpPr>
              <a:stCxn id="158" idx="0"/>
              <a:endCxn id="180" idx="2"/>
            </p:cNvCxnSpPr>
            <p:nvPr/>
          </p:nvCxnSpPr>
          <p:spPr>
            <a:xfrm flipH="1" flipV="1" rot="5400000">
              <a:off x="4475880" y="1292040"/>
              <a:ext cx="175320" cy="56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82" name="_s1042"/>
            <p:cNvCxnSpPr>
              <a:stCxn id="176" idx="0"/>
              <a:endCxn id="180" idx="2"/>
            </p:cNvCxnSpPr>
            <p:nvPr/>
          </p:nvCxnSpPr>
          <p:spPr>
            <a:xfrm flipH="1" flipV="1" rot="5400000">
              <a:off x="3630240" y="446400"/>
              <a:ext cx="175320" cy="22518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80" name="_s1043"/>
            <p:cNvSpPr/>
            <p:nvPr/>
          </p:nvSpPr>
          <p:spPr>
            <a:xfrm>
              <a:off x="3441960" y="1141920"/>
              <a:ext cx="2803320" cy="3434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" rIns="1080" tIns="360" bIns="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Verdana"/>
                </a:rPr>
                <a:t>Финансовые ресурсы мира</a:t>
              </a:r>
              <a:endParaRPr b="0" lang="en-US" sz="13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6" name="_s1044"/>
            <p:cNvSpPr/>
            <p:nvPr/>
          </p:nvSpPr>
          <p:spPr>
            <a:xfrm>
              <a:off x="1775880" y="1659960"/>
              <a:ext cx="1630800" cy="4510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" rIns="1080" tIns="360" bIns="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Verdana"/>
                </a:rPr>
                <a:t>Финансовая</a:t>
              </a:r>
              <a:endParaRPr b="0" lang="en-US" sz="13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1300" spc="-1" strike="noStrike">
                  <a:solidFill>
                    <a:srgbClr val="000000"/>
                  </a:solidFill>
                  <a:latin typeface="Verdana"/>
                </a:rPr>
                <a:t>помощь</a:t>
              </a:r>
              <a:endParaRPr b="0" lang="en-US" sz="13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8" name="_s1045"/>
            <p:cNvSpPr/>
            <p:nvPr/>
          </p:nvSpPr>
          <p:spPr>
            <a:xfrm>
              <a:off x="3466800" y="1659960"/>
              <a:ext cx="1630800" cy="4510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" rIns="1080" tIns="360" bIns="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Verdana"/>
                </a:rPr>
                <a:t>Мировые рынки</a:t>
              </a:r>
              <a:r>
                <a:rPr b="1" lang="en-US" sz="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0" lang="en-US" sz="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Verdana"/>
                </a:rPr>
                <a:t>капитала</a:t>
              </a:r>
              <a:endParaRPr b="0" lang="en-US" sz="13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1" name="_s1046"/>
            <p:cNvSpPr/>
            <p:nvPr/>
          </p:nvSpPr>
          <p:spPr>
            <a:xfrm>
              <a:off x="6280920" y="1659960"/>
              <a:ext cx="1630800" cy="4510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" rIns="1080" tIns="360" bIns="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Verdana"/>
                </a:rPr>
                <a:t>Золотовалютные</a:t>
              </a:r>
              <a:r>
                <a:rPr b="1" lang="en-US" sz="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0" lang="en-US" sz="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Verdana"/>
                </a:rPr>
                <a:t>резервы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8" name="_s1047"/>
            <p:cNvSpPr/>
            <p:nvPr/>
          </p:nvSpPr>
          <p:spPr>
            <a:xfrm>
              <a:off x="324000" y="2286360"/>
              <a:ext cx="2206800" cy="349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" rIns="1080" tIns="720" bIns="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Verdana"/>
                </a:rPr>
                <a:t>Межгосударственные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Verdana"/>
                </a:rPr>
                <a:t>кредиты и гранты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5" name="_s1048"/>
            <p:cNvSpPr/>
            <p:nvPr/>
          </p:nvSpPr>
          <p:spPr>
            <a:xfrm>
              <a:off x="324000" y="2810520"/>
              <a:ext cx="2206800" cy="349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440" rIns="1440" tIns="720" bIns="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Verdana"/>
                </a:rPr>
                <a:t>Кредиты и гранты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Verdana"/>
                </a:rPr>
                <a:t>международных организаций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3" name="_s1049"/>
            <p:cNvSpPr/>
            <p:nvPr/>
          </p:nvSpPr>
          <p:spPr>
            <a:xfrm>
              <a:off x="7156080" y="2286360"/>
              <a:ext cx="2206800" cy="349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440" rIns="1440" tIns="720" bIns="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Verdana"/>
                </a:rPr>
                <a:t>Официальные ЗВР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0" name="_s1050"/>
            <p:cNvSpPr/>
            <p:nvPr/>
          </p:nvSpPr>
          <p:spPr>
            <a:xfrm>
              <a:off x="7156080" y="2810520"/>
              <a:ext cx="2206800" cy="349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" rIns="1800" tIns="720" bIns="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Verdana"/>
                </a:rPr>
                <a:t>Частные ЗВР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8" name="_s1051"/>
            <p:cNvSpPr/>
            <p:nvPr/>
          </p:nvSpPr>
          <p:spPr>
            <a:xfrm>
              <a:off x="4829040" y="2286360"/>
              <a:ext cx="2206800" cy="349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520" rIns="2520" tIns="1080" bIns="1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Verdana"/>
                </a:rPr>
                <a:t>Валютный рынок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6" name="_s1052"/>
            <p:cNvSpPr/>
            <p:nvPr/>
          </p:nvSpPr>
          <p:spPr>
            <a:xfrm>
              <a:off x="4829040" y="2810520"/>
              <a:ext cx="2206800" cy="349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520" rIns="2520" tIns="1080" bIns="1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Verdana"/>
                </a:rPr>
                <a:t>Рынок деривативов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4" name="_s1053"/>
            <p:cNvSpPr/>
            <p:nvPr/>
          </p:nvSpPr>
          <p:spPr>
            <a:xfrm>
              <a:off x="4829040" y="3334680"/>
              <a:ext cx="2206800" cy="349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520" rIns="2520" tIns="1080" bIns="1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Verdana"/>
                </a:rPr>
                <a:t>Рынок страховых услуг</a:t>
              </a:r>
              <a:r>
                <a:rPr b="0" lang="en-US" sz="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0" lang="en-US" sz="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2" name="_s1054"/>
            <p:cNvSpPr/>
            <p:nvPr/>
          </p:nvSpPr>
          <p:spPr>
            <a:xfrm>
              <a:off x="4829040" y="3858840"/>
              <a:ext cx="2206800" cy="349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520" rIns="2520" tIns="1080" bIns="1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Verdana"/>
                </a:rPr>
                <a:t>Рынок прямых инвестиций?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0" name="_s1055"/>
            <p:cNvSpPr/>
            <p:nvPr/>
          </p:nvSpPr>
          <p:spPr>
            <a:xfrm>
              <a:off x="4829040" y="4383360"/>
              <a:ext cx="2206800" cy="349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880" rIns="2880" tIns="1440" bIns="1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</a:rPr>
                <a:t>Рынок акций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4" name="_s1056"/>
            <p:cNvSpPr/>
            <p:nvPr/>
          </p:nvSpPr>
          <p:spPr>
            <a:xfrm>
              <a:off x="4829040" y="4907520"/>
              <a:ext cx="2206800" cy="349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880" rIns="2880" tIns="1440" bIns="1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</a:rPr>
                <a:t>Кредитный рынок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6" name="_s1057"/>
            <p:cNvSpPr/>
            <p:nvPr/>
          </p:nvSpPr>
          <p:spPr>
            <a:xfrm>
              <a:off x="4342320" y="5431680"/>
              <a:ext cx="1559880" cy="4086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8960" rIns="4896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Verdana"/>
                </a:rPr>
                <a:t>Рынок долговых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Verdana"/>
                </a:rPr>
                <a:t>ценных бумаг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3" name="_s1058"/>
            <p:cNvSpPr/>
            <p:nvPr/>
          </p:nvSpPr>
          <p:spPr>
            <a:xfrm>
              <a:off x="5962320" y="5431680"/>
              <a:ext cx="1559880" cy="4086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720" rIns="54720" tIns="27360" bIns="27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Verdana"/>
                </a:rPr>
                <a:t>Рынок банковских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Verdana"/>
                </a:rPr>
                <a:t>кредитов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83" name="Rectangle 50"/>
          <p:cNvSpPr/>
          <p:nvPr/>
        </p:nvSpPr>
        <p:spPr>
          <a:xfrm>
            <a:off x="7031880" y="2060640"/>
            <a:ext cx="36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ировые рынки капитала: понятие, основные участники, главные центры, характерные черты отдельных рын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Мировые рынки капитала (мировой финансовый рынок)-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хватывают целый ряд финансовых рынков, которые, в свою очередь, подразделяют- на более мелкие. Масштабы некоторых из них исчисляют по широкому определению, некоторых – по узком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Основные участн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транснациональные компан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транснациональные бан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институциональные инвесторы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а также государства, международные организации, физли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Мировые финансовые центры –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 места в мире, где торговля финансовыми активами между резидентами разных стран имеет особенно большие масштаб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Финансовая и другая помощь в мире: формы, источники, основные страны-получатели, политика помощ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сновные форм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.Военная помощ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.Официальная помощь на цели развития  -срочна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продовольственная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техническа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списание задолженно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от международных организаций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 прочие виды помощи развития                                                   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сточни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азвитые стран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чие стран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еждународные организац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траны-получател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 абсолютной величин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 размерам на душу насе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олитика помощ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оенная помощь – наиболее сильно политизирова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фициальная помощь на цели развития -  на основе соответствия политики стран-реципиент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ашингтонскому и поствашингтонскому консенсус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20T13:20:28Z</dcterms:created>
  <dc:creator>b</dc:creator>
  <dc:description/>
  <dc:language>en-US</dc:language>
  <cp:lastModifiedBy>LEGION</cp:lastModifiedBy>
  <dcterms:modified xsi:type="dcterms:W3CDTF">2016-01-05T11:04:11Z</dcterms:modified>
  <cp:revision>45</cp:revision>
  <dc:subject/>
  <dc:title>Тема 7. Финансовые ресурсы мира</dc:title>
</cp:coreProperties>
</file>