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1215-206B-4B43-83F2-8B893201A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 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 (trade in goods) — купля-продажа овеществленных результатов производства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 (trade in services) — покупка-продажа неовеществленных результатов производства, приводящих к изменению условий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 (income) — получение и выплата зарплаты, обычно работникам, пребывающи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 (current transfers) 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переводы (capital transfers) — передача собственности на капитал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 (direct investment) — приобретение резидентом длительного интерес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 (portfolio investment) 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инвестиции (other investment) — получ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икроэкономика — международная торговля товарами, услугами, факторами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егулирующая их государственная политик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макроэкономика —международные финансы, государственная экономическая политика в условиях открытой экономик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берт Соло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род.1924), 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н Тимберг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1903–1994), 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еждународной экономике страны делятся на страны с развитой экономикой, другие стран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формирующимся рынком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вивающиеся стра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и доход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с доходами ниже средних считаются развивающимис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уппа из наименее развитых стран имеет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иденты в каждом из основных секторов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и — реальном, бюджетном и денежном — экономически связаны с нерезидент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и связи составляют внешний сектор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следующие формы международных экономических операци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товар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рговля услугам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воды доход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перев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инвестиц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тфельные инвестици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чие инвестиции и движения резервных актив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е группы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развитой экономикой (advanced economics) — 29 промышленно развитых стран Северной Америки, Западной Европы и Тихоокеанского бассейна с высоким уровнем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ругие страны с формирующимся рынком и развивающиеся страны (other emerging markets and developing countries) — все остальные стран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ые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major advanced economies) — Группа 7 (Group of 7, G-7): Канада, Франция, Германия, Италия, Япония, Великобритания,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она Евро (Euro area) — европейские страны, в которых используется евро в качестве единой денежной единиц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вропейский союз (European Union) — 25 стран — членов Европейского союза — крупнейшей экономической интеграционной группировки в мир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newly industrialized Asian economies)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экономического разви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низким уровнем доходов (low-income countries) — 64 государства, в которых ВНД на душу населения составил в 2005 г. менее 87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ниже среднего уровня (lower middle-income countries) — 66 государств, в которых ВНД на душу населения составил 876–3465 долл.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доходами выше среднего уровня (upper middle-income countries) — 35 государств, в которых ВНД на душу населения составил 3466–10725 долл. Россия входит в эту групп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ны с высоким уровнем доходов (high-income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countries) — 44 государства, в которых ВНД на душу населения составил более 10 726 дол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иеся стр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developing countries) — государства, в основном в Азии, Африке, Латинской Америке, характеризующиеся низким и средним уровнем доходов на душу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менее развитые страны (least developed countries, LDCs) — группа развивающихся стран, имеющих право на особое отношени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 стороны других стран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ре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S-I=CA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обственное развити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же текущий баланс отрицательный, страна привлекает средства других стран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может инвестировать в свой экономический рост не только сбережения внутри страны, но и сбережения других стра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бюджет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резидент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ймов у нерезиден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е финансирование бюджета является основным связующим звеном между бюджетным и внешним сектор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заимосвязь денеж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нешнего секто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текущий баланс страны отрицательный, то источников финансирования у нее дв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полнительный приток капитала  из-за рубеж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государственных валютных резерв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озможности финансирования платежных дисбалансов заключается связь денежного и внешнего сек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0.Структура международ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ая экономическая опер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international economic transaction) — сделка между резидентам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нерезидентами, при которой передается право собственност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материальные или финансовые активы или оказываются услуг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кущи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ьные и финансовые опера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EB3A-3AAE-48A2-B925-08FF83FE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05A0-D131-4CA5-A361-25E785CD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1D42-659C-4C9B-9D4B-571B7049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B7A14-7FF0-4143-9AC5-F3904E7E2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9EC4F-1A87-4A08-AD63-B3664828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D81E8-EDC1-41EA-B0FD-11BA7FAA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31811-B997-439E-8D81-434E729E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5C55D-712A-480A-A607-9A865E9F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5C424-5538-44DA-BFF8-A6E25CFE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DCBF7-66F4-4C8F-86A1-C6232590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C85FD-DCEB-43B2-BD77-F9BD6145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CF47-E5BC-4A23-9D1C-EB88F042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24580-930F-4C12-89A9-E2EFCA05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6DCD2-B738-4276-A1D2-6D8BE398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C3DC6-9FAE-4FDA-8441-13F230D6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1EF53-57B4-4B0B-B187-F959027F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C0DB6-76FF-4F17-B661-CF859861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1B396-1D5E-4257-AC14-1FB81163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CDB4-7407-4B86-A7BD-7023E29D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34668-165E-466D-9339-72961626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E872-75F7-4CB4-A2E7-10027C08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2FA0F-AD08-4B5B-9AF4-0EBF93E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75F9-120B-47A6-8A71-34915B4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5879C-41D3-4AF4-9523-0FD5DC3A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8C9C-CBA1-43E1-BBB3-4923488463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5. Экономика ми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9AFE-1C06-42F8-9A22-59A78CEFE9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96520"/>
            <a:ext cx="7772400" cy="14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5. Экономика ми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1937880"/>
            <a:ext cx="79246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0. Структура международной эконом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0" descr=""/>
          <p:cNvPicPr/>
          <p:nvPr/>
        </p:nvPicPr>
        <p:blipFill>
          <a:blip r:embed="rId1"/>
          <a:stretch/>
        </p:blipFill>
        <p:spPr>
          <a:xfrm>
            <a:off x="5181480" y="2460600"/>
            <a:ext cx="299880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кущие опера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товар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ood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упля-продажа овеществленных результатов производства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орговля услугам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d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servic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купка-продажа неовеществленных результатов производства, приводящих к изменению условий потребл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ереводы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и выпла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зарплаты, обычно работ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м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ебывающ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 рубежом менее года, а также доходы и платежи процентов по иностранным инвестициям и кредитам между резидентами и нерезидент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Текущи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urr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другие платежи между резидентами и нерезидентами (почтовые переводы, оплата налогов, субсидий, социальных пособий),  межправительственные платежи, получение и выдача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питальные и финансовые оп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апитальные переводы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nsfer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ередача собственности на капитал между резидентам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нерезидентами или прощение долга кредиторо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ям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риобретение резидентом длительного интерес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едприятии нерезидента, обычно пакета акций, превышающего 10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ртфельны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rtfoli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сделки с акциями, облигациями и другими ценными бумагами, обеспечивающими участие в капитале, но не представляющими длительный интерес для инвесто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ругие инвестиц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получени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едоставление коммерческих кредитов, финансовых ссуд, покупка-продажа иностранной валюты, монетарного золота и других резервных актив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труктура международной экономик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и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международная торговля товарами, услугами, факторами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егулирующая их государственная политик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еждународная макроэкономика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международные финансы, государствен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экономическая политика в условиях открытой эконом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оберт Соло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Picture 4" descr="Robert M. Solow (Роберт Солоу)"/>
          <p:cNvPicPr/>
          <p:nvPr/>
        </p:nvPicPr>
        <p:blipFill>
          <a:blip r:embed="rId1"/>
          <a:stretch/>
        </p:blipFill>
        <p:spPr>
          <a:xfrm>
            <a:off x="525924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304920" y="1676520"/>
            <a:ext cx="464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1924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, автор неоклассической теории экономического роста и развития. Показал, что в длительной перспективе технологическое развитие является фундаментальной предпосылкой для экономического роста. В статье “Вклад в теорию экономического роста” (1956) предложил математическую модель, которая показывала, как возросший основной капитал вызывает рост продукции на душу населения. Эта модель экономического роста получила название модель Сол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Ян Тимберге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ЯН ТИНБЕРГЕН"/>
          <p:cNvPicPr/>
          <p:nvPr/>
        </p:nvPicPr>
        <p:blipFill>
          <a:blip r:embed="rId1"/>
          <a:stretch/>
        </p:blipFill>
        <p:spPr>
          <a:xfrm>
            <a:off x="4952880" y="1295280"/>
            <a:ext cx="3498840" cy="4953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80880" y="1066680"/>
            <a:ext cx="434340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–1994)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дерландский экономист, один из создателей эконометрики — дисциплины, соединившей экономическую теорию со статистикой и матема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70-е гг. возглавлял работ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подготовке доклада о концепции и методологии глобалистики как новой науки. Основы ее были изложены в монографии “Пересмотр международного порядка” (197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57200" y="49528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облемы человечества уж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е могут быть решены правительствами стран. Нужно мировое правительство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международной экономике страны делятся на страны с развитой экономикой, другие стран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формирующимся рынком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развивающиеся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траны с низкими доход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с доходами ниже средних считаются развивающимися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уппа из наименее развитых стран имеет право н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ое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тношени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езиденты в каждом из основных сектор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кономики — реальном, бюджетном и денежном — экономически связаны с нерезидентам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и связи составляют внешний сектор экономик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уществуют следующие формы международных экономических операций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товар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рговля услуга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воды доход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кущие переводы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ямые инвес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ртфельные инвестиции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чие инвестиции и движения резервных актив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налитические группы стр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раны с развитой экономикой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dvance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conomic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29 промышленно развит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тран Северной Америки, Западной Европы и Тихоокеанского бассейна с высоким уровнем дохо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Другие страны с формирующимся рынком и развивающиеся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other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merg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се остальные страны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тые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упнейшие страны с развитой экономикой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jor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dvanc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Группа 7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7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7): Канада, Франция, Германия, Италия, Япония, Великобритания, СШ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она Евро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европейские страны, в которых используется евро в качестве единой денежной единиц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вропейский союз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pe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o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— 25 стран — членов Европейского союза — крупнейшей экономической интеграционной группировки в ми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овые индустриальные экономики Азии 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ly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dustrialize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conomies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— 4 страны и территории в Азии (Гонконг, Корея, Сингапур, Тайвань), которые характеризуются стабильно высокими темпами рос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ровни экономического развит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низ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4 государства, в которых ВНД на душу населения составил в 2005 г. менее 87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ниж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low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66 государств, в которых ВНД на душу населения составил 876–3465 долл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доходами выше среднего уровн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upp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iddl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35 государств, в которых ВНД на душу населения составил 3466–10725 долл. Россия входит в эту групп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траны с высоким уровнем доходов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igh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come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— 44 государства, в которых ВНД на душу населения составил более 10 726 дол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звивающиеся стран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ing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государства, в основном в Азии, Аф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Латинской Америк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характеризующиеся низким и средним уровнем доходов на душу насел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Наименее развитые страны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eveloped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ountrie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DCs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группа развивающихся стран, имеющих право на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о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е отношен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о стороны других стран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реаль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ность сбережений и инвестиций внутри страны равна счету текущих операций платежного баланс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-I=C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текущий баланс положительный, страна фактически отдает часть своих сбережений другим странам и не может вкладывать их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собственное развит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ли же текущий баланс отрицательный, страна привлекает средства других стран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 может инвестировать в свой экономический рост не только сбереж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я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внутри страны, но и сбережения других стран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бюджет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обеспечения сбалансированности бюджета дефицит можно финансировать из двух источников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резидентов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ймов у нерезидент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нешнее финансирование бюджета является основным связующим звеном между бюджетным и внешним сектора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заимосвязь денежного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 внешнего секторо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Если текущий баланс страны отрицательный, то источников финансирования у нее дв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ительный приток капитала  из-за рубеж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ование государственных валютных резерв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возможности финансирован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латежных дисбалансов заключается связь денежного и внешнего се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5"/>
          <p:cNvSpPr/>
          <p:nvPr/>
        </p:nvSpPr>
        <p:spPr>
          <a:xfrm>
            <a:off x="3124080" y="6477120"/>
            <a:ext cx="4419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еждународная экономическая операц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nation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economic transaction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— сделка между резидентам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и нерезидентами, при которой передается право собственн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материальные или финансовые активы или оказываются услуг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ущи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питальные и финансовые опер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/>
  <dc:description/>
  <dc:language>en-US</dc:language>
  <cp:lastModifiedBy>LEGION</cp:lastModifiedBy>
  <dcterms:modified xsi:type="dcterms:W3CDTF">2016-01-05T11:04:04Z</dcterms:modified>
  <cp:revision>140</cp:revision>
  <dc:subject/>
  <dc:title>18. Фирма на рынке</dc:title>
</cp:coreProperties>
</file>