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31B9-9942-4995-B589-DD4D8B021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 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 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товарами (trade in goods) — купля-продажа овеществленных результатов производства между резидентами и нерези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услугами (trade in services) — покупка-продажа неовеществленных результатов производства, приводящих к изменению условий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доходов (income) — получение и выплата зарплаты, обычно работникам, пребывающи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переводы (current transfers) 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оп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товарами (trade in goods) — купля-продажа овеществленных результатов производства между резидентами и нерезидент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услугами (trade in services) — покупка-продажа неовеществленных результатов производства, приводящих к изменению условий потреб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воды доходов (income) — получение и выплата зарплаты, обычно работникам, пребывающим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переводы (current transfers) 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и финансовы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переводы (capital transfers) — передача собственности на капитал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 (direct investment) — приобретение резидентом длительного интере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 (portfolio investment) 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инвестиции (other investment) — получ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и финансовые оп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переводы (capital transfers) — передача собственности на капитал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инвестиции (direct investment) — приобретение резидентом длительного интерес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тфельные инвестиции (portfolio investment) 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 инвестиции (other investment) — получ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кроэкономика — международная торговля товарами, услугами, факторами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егулирующая их государственная поли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акроэкономика —международные финансы, государственная экономическая политика в условиях открыт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микроэкономика — международная торговля товарами, услугами, факторами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егулирующая их государственная политик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макроэкономика —международные финансы, государственная экономическая политика в условиях открытой экономи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Соло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од.1924), 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берт Соло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род.1924), 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н Тимберг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903–1994), 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70-е гг. возглавлял работ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человечества у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ут быть решены правительствами стран. Нужно мировое правительство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н Тимберг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1903–1994), 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70-е гг. возглавлял работу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блемы человечества уж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 могут быть решены правительствами стран. Нужно мировое правительство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еждународной экономике страны делятся на страны с развитой экономикой, другие стра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формирующимся рынк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звивающиеся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низкими доход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 доходами ниже средних считаются развивающими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из наименее развитых стран имеет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тороны други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еждународной экономике страны делятся на страны с развитой экономикой, другие страны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формирующимся рынком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азвивающиеся стра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низкими доход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с доходами ниже средних считаются развивающимис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уппа из наименее развитых стран имеет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 стороны других стра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иденты в каждом из основных сектор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и — реальном, бюджетном и денежном — экономически связаны с нерезиден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связи составляют внешний сектор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следующие формы международных экономических операц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товар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дохо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перев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е инвестиции и движения резервных акт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зиденты в каждом из основных секторов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и — реальном, бюджетном и денежном — экономически связаны с нерезидент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 связи составляют внешний сектор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следующие формы международных экономических операций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товарам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услугам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воды доход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перев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инвестици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тфельные инвестиции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чие инвестиции и движения резервных актив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ческие группы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развитой экономикой (advanced economics) — 29 промышленно развитых стран Северной Америки, Западной Европы и Тихоокеанского бассейна с высоким уровнем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страны с формирующимся рынком и развивающиеся страны (other emerging markets and developing countries) — все остальные стр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тические группы ст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развитой экономикой (advanced economics) — 29 промышленно развитых стран Северной Америки, Западной Европы и Тихоокеанского бассейна с высоким уровнем дох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 страны с формирующимся рынком и развивающиеся страны (other emerging markets and developing countries) — все остальные стран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ие страны с развитой экономикой (major advanced economies) — Группа 7 (Group of 7, G-7): Канада, Франция, Германия, Италия, Япония, Великобритания,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на Евро (Euro area) — европейские страны, в которых используется евро в качестве еди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ий союз (European Union) — 25 стран — членов Европейского союза — крупнейшей экономической интеграционной группировки в ми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индустриальные экономики Азии (newly industrialized Asian economies)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ые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пнейшие страны с развитой экономикой (major advanced economies) — Группа 7 (Group of 7, G-7): Канада, Франция, Германия, Италия, Япония, Великобритания, СШ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она Евро (Euro area) — европейские страны, в которых используется евро в качестве единой денежной единиц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вропейский союз (European Union) — 25 стран — членов Европейского союза — крупнейшей экономической интеграционной группировки в мир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вые индустриальные экономики Азии (newly industrialized Asian economies)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низким уровнем доходов (low-income countries) — 64 государства, в которых ВНД на душу населения составил в 2005 г. менее 875 долл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доходами ниже среднего уровня (lower middle-income countries) — 66 государств, в которых ВНД на душу населения составил 876–3465 долл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доходами выше среднего уровня (upper middle-income countries) — 35 государств, в которых ВНД на душу населения составил 3466–10725 долл. Россия входит в эту групп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высоким уровнем доходов (high-income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ountries) — 44 государства, в которых ВНД на душу населения составил более 10 726 дол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экономического разви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низким уровнем доходов (low-income countries) — 64 государства, в которых ВНД на душу населения составил в 2005 г. менее 875 долл.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доходами ниже среднего уровня (lower middle-income countries) — 66 государств, в которых ВНД на душу населения составил 876–3465 долл.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доходами выше среднего уровня (upper middle-income countries) — 35 государств, в которых ВНД на душу населения составил 3466–10725 долл. Россия входит в эту групп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высоким уровнем доходов (high-income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countries) — 44 государства, в которых ВНД на душу населения составил более 10 726 дол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иеся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veloping countries) — государства, в основном в Азии, Африке, Латинской Америке, характеризующиеся низким и средним уровнем доходов на душу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менее развитые страны (least developed countries, LDCs) — группа развивающихся стран, имеющих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тороны други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ющиеся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developing countries) — государства, в основном в Азии, Африке, Латинской Америке, характеризующиеся низким и средним уровнем доходов на душу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менее развитые страны (least developed countries, LDCs) — группа развивающихся стран, имеющих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 стороны других стран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реаль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-I=C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бственное развит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же текущий баланс отрицательный, страна привлекает средства других стра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ожет инвестировать в свой экономический рост не только сбережения внутри страны, но и сбережения други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реаль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S-I=C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обственное развити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же текущий баланс отрицательный, страна привлекает средства других стран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может инвестировать в свой экономический рост не только сбережения внутри страны, но и сбережения других стра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бюджет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ймов у резидент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ймов у нерезид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е финансирование бюджета является основным связующим звеном между бюджетным и внешним сектор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бюджет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ймов у резидентов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ймов у нерезиден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ешнее финансирование бюджета является основным связующим звеном между бюджетным и внешним сектор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денеж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екущий баланс страны отрицательный, то источников финансирования у нее д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ый приток капитала  из-за рубеж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государственных валютных резерв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озможности финансирования платежных дисбалансов заключается связь денежного и внешнего се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денеж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текущий баланс страны отрицательный, то источников финансирования у нее дв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й приток капитала  из-за рубеж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государственных валютных резерв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зможности финансирования платежных дисбалансов заключается связь денежного и внешнего сек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экономическая опе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international economic transaction) — сделка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ерезидентами, при которой передается право собствен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атериальные или финансовые активы или оказываются услу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и финансовы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экономическая опер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international economic transaction) — сделка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нерезидентами, при которой передается право собственност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материальные или финансовые активы или оказываются услуг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опер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и финансовые опер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74831-F9F9-4A1C-840A-FFADB8C3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2D0EC-DD28-4342-AA3A-C00CB7A3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68B3B-D6BE-4ABD-81AD-BB3E448F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533FF-A2CA-468D-9E23-A1D65BA8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24239-5453-43D0-9821-664B7D87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E268C-99BC-4CBF-8829-52E6AEDF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5037E-85F4-4E69-906A-B30EC548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FDF10-38B1-4176-9D9A-E95978D8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73239-F6DC-4F77-A8CB-46D4C432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B5E5D-EDBD-4E8A-AE6D-F073DC82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7EB15-333B-492B-93BB-EB62283E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C83C6-5585-4113-8953-0A66A985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CD7F6-F8CF-48D6-A5E0-E0E2C194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6957D-C50F-4D87-A131-1D030476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BB6EB-B688-48FF-A435-77D5D750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FD43B-CA37-4EB3-B599-27F80E35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2AEF1-BCE2-42AB-A1A1-FBA837F8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BFB6D-D617-40D0-A6DF-6829E572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F93BF-091C-410C-8782-0545E803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09535-519E-4670-A929-46210D3F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F630E-82EB-4660-8D0D-13A16AD1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9D9C-D07E-47B3-8516-B8C1AC57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2FC8C-2FDD-4AC7-A078-48B6E673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E2227-4A2D-486B-990B-9589D770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974D-9618-4501-87C7-EE713F1A09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6F29-C6E8-409C-88B7-79934A1983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9652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лава 5. Экономика ми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61760" y="1937880"/>
            <a:ext cx="792468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0. Структура международной эконом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20" descr=""/>
          <p:cNvPicPr/>
          <p:nvPr/>
        </p:nvPicPr>
        <p:blipFill>
          <a:blip r:embed="rId1"/>
          <a:stretch/>
        </p:blipFill>
        <p:spPr>
          <a:xfrm>
            <a:off x="5181480" y="2460600"/>
            <a:ext cx="29988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кущие опера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орговля товарам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d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ood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упля-продажа овеществленных результатов производства между резидентами и нерезидент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орговля услугам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d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ervic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купка-продажа неовеществленных результатов производства, приводящих к изменению условий потребл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ереводы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и выпла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зарплаты, обычно работни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м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ребывающ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екущие переводы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urren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nsfer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апитальные и финансовые операц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апитальные переводы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ansfer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ередача собственности на капитал между резидента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ямы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rec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риобретение резидентом длительного интерес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ртфельны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rtfolio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руги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олучени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руктура международной экономик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еждународная ми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международная торговля товарами, услугами, факторами производств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регулирующая их государственная политик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еждународная ма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международные финансы, государствен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экономическая политика в условиях открытой экономи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оберт Соло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Picture 4" descr="Robert M. Solow (Роберт Солоу)"/>
          <p:cNvPicPr/>
          <p:nvPr/>
        </p:nvPicPr>
        <p:blipFill>
          <a:blip r:embed="rId1"/>
          <a:stretch/>
        </p:blipFill>
        <p:spPr>
          <a:xfrm>
            <a:off x="5259240" y="1295280"/>
            <a:ext cx="3498840" cy="49532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304920" y="1676520"/>
            <a:ext cx="4647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1924)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Ян Тимберге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4" descr="ЯН ТИНБЕРГЕН"/>
          <p:cNvPicPr/>
          <p:nvPr/>
        </p:nvPicPr>
        <p:blipFill>
          <a:blip r:embed="rId1"/>
          <a:stretch/>
        </p:blipFill>
        <p:spPr>
          <a:xfrm>
            <a:off x="4952880" y="1295280"/>
            <a:ext cx="3498840" cy="4953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80880" y="1066680"/>
            <a:ext cx="43434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–1994)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970-е гг. возглавлял работ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57200" y="49528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блемы человечества уж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е могут быть решены правительствами стран. Нужно мировое правительств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международной экономике страны делятся на страны с развитой экономикой, другие стран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формирующимся рынком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развивающиеся стра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раны с низкими доходам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с доходами ниже средних считаются развивающимис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уппа из наименее развитых стран имеет право н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о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тношени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 стороны других стра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зиденты в каждом из основных сектор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кономики — реальном, бюджетном и денежном — экономически связаны с нерезидента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и связи составляют внешний сектор экономи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уществуют следующие формы международных экономических операций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рговля товара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рговля услуга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еводы доход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екущие переводы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ямые инвес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ртфельные инвестиции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чие инвестиции и движения резервных актив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налитические группы стра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траны с развитой экономикой 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vance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conomics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29 промышленно разви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тран Северной Америки, Западной Европы и Тихоокеанского бассейна с высоким уровнем доход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Другие страны с формирующимся рынком и развивающиеся страны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other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merg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arket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все остальные страны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звитые стра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рупнейшие страны с развитой экономикой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jor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dvanced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onomie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Группа 7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7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7): Канада, Франция, Германия, Италия, Япония, Великобритания, СШ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она Евро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ro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европейские страны, в которых используется евро в качестве единой денежной единиц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вропейский союз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ropea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o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25 стран — членов Европейского союза — крупнейшей экономической интеграционной группировки в мир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овые индустриальные экономики Аз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ewly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dustrialized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ia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onomie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ровни экономического развит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низким уровнем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ow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64 государства, в которых ВНД на душу населения составил в 2005 г. менее 875 долл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доходами ниже среднего уровн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ow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ddl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66 государств, в которых ВНД на душу населения составил 876–3465 долл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доходами выше среднего уровн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upp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ddl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35 государств, в которых ВНД на душу населения составил 3466–10725 долл. Россия входит в эту групп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высоким уровнем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igh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44 государства, в которых ВНД на душу населения составил более 10 726 дол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звивающиеся стра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— государства, в основном в Азии, Афри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Латинской Амери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характеризующиеся низким и средним уровнем доходов на душу насел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аименее развитые страны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s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ed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DC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группа развивающихся стран, имеющих право н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об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е отношени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о стороны других стран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реаль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-I=C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собственное развити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же текущий баланс отрицательный, страна привлекает средства других стран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может инвестировать в свой экономический рост не только сбереже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нутри страны, но и сбережения других стра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бюджет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ймов у резиденто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ймов у нерезидент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нешнее финансирование бюджета является основным связующим звеном между бюджетным и внешним секторам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денеж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ли текущий баланс страны отрицательный, то источников финансирования у нее дв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полнительный приток капитала  из-за рубеж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ование государственных валютных резерв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возможности финансирован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платежных дисбалансов заключается связь денежного и внешнего сектор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ждународная экономическая операц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ternational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economic transaction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— сделка между резидентам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 нерезидентами, при которой передается право собственност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 материальные или финансовые активы или оказываются услуг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кущие опер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питальные и финансовые опер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1:46:14Z</dcterms:created>
  <dc:creator/>
  <dc:description/>
  <dc:language>en-US</dc:language>
  <cp:lastModifiedBy>LEGION</cp:lastModifiedBy>
  <dcterms:modified xsi:type="dcterms:W3CDTF">2016-01-05T11:04:04Z</dcterms:modified>
  <cp:revision>140</cp:revision>
  <dc:subject/>
  <dc:title>18. Фирма на рынке</dc:title>
</cp:coreProperties>
</file>