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A838-308A-41A8-8FA7-C65EE07B2A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21B-6401-449F-9446-CA19DB5E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7A3-B514-460F-8555-BF048D15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5C3-E90C-40F3-84FC-33D554B2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DD5-1AC6-4248-BBF0-D8CE3FF4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43E-08EB-4FE6-8A0D-2E6EB1C9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7BD-BAAB-4380-8AFF-34621F5E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D4F-F183-4EFE-8E31-B97D34B2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899-9759-4652-9906-231A84D2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0AE-C3B3-4B47-9A3C-10C9D615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7AD-7030-442F-94C8-D5A9E88C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4CC-98E0-4603-B23B-91475F3A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EAE-B855-4BBA-B256-28A963E0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ABCB-867D-4D75-BCD5-245981C63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775040" y="-193680"/>
            <a:ext cx="5383440" cy="779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-103320"/>
            <a:ext cx="4775040" cy="784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3320" y="0"/>
            <a:ext cx="10302840" cy="7759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  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Рождение валюты Казахстана –  тенге произошло  12 ноября 1993 года.</a:t>
            </a:r>
            <a:r>
              <a:rPr b="1" lang="en-US" sz="35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В этот день вышел указ Президента Республики Казахстан «</a:t>
            </a:r>
            <a:r>
              <a:rPr b="1" lang="en-US" sz="3500" spc="-1" strike="noStrike" u="sng">
                <a:solidFill>
                  <a:srgbClr val="0099ff"/>
                </a:solidFill>
                <a:uFillTx/>
                <a:latin typeface="Arial"/>
              </a:rPr>
              <a:t>О введении национальной валюты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 Республики Казахстан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Сейчас на руках у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казахстанце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в имеются следующие бумажные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банкноты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GION</cp:lastModifiedBy>
  <dcterms:modified xsi:type="dcterms:W3CDTF">2016-01-05T11:04:17Z</dcterms:modified>
  <cp:revision>3</cp:revision>
  <dc:subject/>
  <dc:title>PowerPoint Presentation</dc:title>
</cp:coreProperties>
</file>