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63E9-595C-405B-8A75-35F6D719486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Е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НГЕ-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ЦИОНАЛЬНАЯ  ВАЛЮТА КАЗАХСТ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ЕНГЕ-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НАЦИОНАЛЬНАЯ  ВАЛЮТА КАЗАХСТА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 валюты Казахстана –  тенге произошло  12 ноября 1993 года. В этот день вышел указ Президента Республики Казахстан «О введении национальной валюты Республики Казахста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 название валюта получила от  древних тюркских денег под названием «таньга», что очень созвучно со словом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ждение валюты Казахстана –  тенге произошло  12 ноября 1993 года. В этот день вышел указ Президента Республики Казахстан «О введении национальной валюты Республики Казахстан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е название валюта получила от  древних тюркских денег под названием «таньга», что очень созвучно со словом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ервые банкноты Казахстана "Тенг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ервые банкноты Казахстана "Тенге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на руках у казахстанцев имеются следующие бумажные банкноты: двести тенге, пятьсот  тенге, одна тысяча тенге, две тысячи, пять тысяч, десять тыся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йчас на руках у казахстанцев имеются следующие бумажные банкноты: двести тенге, пятьсот  тенге, одна тысяча тенге, две тысячи, пять тысяч, десять тыся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5A67-4CE2-4E3A-9F3E-9489B0D9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DBE5-3693-4A7C-8F90-069407A1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0970-8353-4D9E-A327-13D8A2F6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2E63-54CC-42C5-88BA-D3A11501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7A3B-A927-4D18-A7A9-73FEC6AD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B5AC-AB73-4797-9055-C0252327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293C-390F-4F5A-B068-3E4139C5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60D-7DA7-449C-BFBF-55C5EE8B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4A16-8E9E-4BDE-9B63-169287D3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ED9E-7777-4D43-92AB-8F0E188B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517-3CEB-4F54-B274-FE76736E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4E66-D168-4112-B580-26E0747E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B323-6B60-4557-9BB5-792442969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357120" y="-339840"/>
            <a:ext cx="10764720" cy="7913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0040" y="2352240"/>
            <a:ext cx="68659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990000"/>
                </a:solidFill>
                <a:latin typeface="Georgia"/>
              </a:rPr>
              <a:t>ТЕНГЕ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270080" y="1841400"/>
            <a:ext cx="7619760" cy="39369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270080" y="1816200"/>
            <a:ext cx="7619760" cy="3987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482920" y="1905120"/>
            <a:ext cx="5194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270080" y="1784520"/>
            <a:ext cx="7619760" cy="40510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270080" y="1803240"/>
            <a:ext cx="7619760" cy="40132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775040" y="-193680"/>
            <a:ext cx="5383440" cy="7796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0" y="-103320"/>
            <a:ext cx="4775040" cy="7848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03320" y="0"/>
            <a:ext cx="10302840" cy="77598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-458640" y="-255600"/>
            <a:ext cx="10644120" cy="8075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47560" y="129708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ТЕНГЕ-  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НАЦИОНАЛЬНАЯ  ВАЛЮТА КАЗАХСТАНА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-358920" y="-85680"/>
            <a:ext cx="10628280" cy="7837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55280" y="812880"/>
            <a:ext cx="8705880" cy="60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Рождение валюты Казахстана –  тенге произошло  12 ноября 1993 года.</a:t>
            </a:r>
            <a:r>
              <a:rPr b="1" lang="en-US" sz="35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00ff"/>
                </a:solidFill>
                <a:latin typeface="Arial"/>
              </a:rPr>
              <a:t>В этот день вышел указ Президента Республики Казахстан «</a:t>
            </a:r>
            <a:r>
              <a:rPr b="1" lang="en-US" sz="3500" spc="-1" strike="noStrike" u="sng">
                <a:solidFill>
                  <a:srgbClr val="0099ff"/>
                </a:solidFill>
                <a:uFillTx/>
                <a:latin typeface="Arial"/>
              </a:rPr>
              <a:t>О введении национальной валюты</a:t>
            </a:r>
            <a:r>
              <a:rPr b="1" lang="en-US" sz="3500" spc="-1" strike="noStrike">
                <a:solidFill>
                  <a:srgbClr val="ff00ff"/>
                </a:solidFill>
                <a:latin typeface="Arial"/>
              </a:rPr>
              <a:t> Республики Казахстан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Свое название валюта получила от  древних тюркских денег под названием «таньга», что очень созвучно со словом деньги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46160" y="-20520"/>
            <a:ext cx="1002816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6e"/>
                </a:solidFill>
                <a:latin typeface="Tahoma"/>
              </a:rPr>
              <a:t>Первые банкноты Казахстана "Тенге"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03040" y="2336760"/>
            <a:ext cx="5112000" cy="5118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978440" y="812880"/>
            <a:ext cx="5041800" cy="50799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293400"/>
            <a:ext cx="8602920" cy="77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741b47"/>
                </a:solidFill>
                <a:latin typeface="Georgia"/>
              </a:rPr>
              <a:t>Сейчас на руках у </a:t>
            </a:r>
            <a:r>
              <a:rPr b="0" lang="en-US" sz="3500" spc="-1" strike="noStrike" u="sng">
                <a:solidFill>
                  <a:srgbClr val="0099ff"/>
                </a:solidFill>
                <a:uFillTx/>
                <a:latin typeface="Georgia"/>
              </a:rPr>
              <a:t>казахстанце</a:t>
            </a:r>
            <a:r>
              <a:rPr b="0" lang="en-US" sz="3500" spc="-1" strike="noStrike">
                <a:solidFill>
                  <a:srgbClr val="741b47"/>
                </a:solidFill>
                <a:latin typeface="Georgia"/>
              </a:rPr>
              <a:t>в имеются следующие бумажные </a:t>
            </a:r>
            <a:r>
              <a:rPr b="0" lang="en-US" sz="3500" spc="-1" strike="noStrike" u="sng">
                <a:solidFill>
                  <a:srgbClr val="0099ff"/>
                </a:solidFill>
                <a:uFillTx/>
                <a:latin typeface="Georgia"/>
              </a:rPr>
              <a:t>банкноты</a:t>
            </a:r>
            <a:r>
              <a:rPr b="0" lang="en-US" sz="3500" spc="-1" strike="noStrike">
                <a:solidFill>
                  <a:srgbClr val="741b47"/>
                </a:solidFill>
                <a:latin typeface="Georgia"/>
              </a:rPr>
              <a:t>: двести тенге, пятьсот  тенге, одна тысяча тенге, две тысячи, пять тысяч, десять тысяч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89080" y="2641680"/>
            <a:ext cx="9646920" cy="47228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57600" y="68400"/>
            <a:ext cx="97268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41b47"/>
                </a:solidFill>
                <a:latin typeface="Georgia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9536040" cy="41608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5892840" y="4165560"/>
            <a:ext cx="3873600" cy="285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5892840" y="507960"/>
            <a:ext cx="3879720" cy="3335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04920" y="4064040"/>
            <a:ext cx="3423960" cy="306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4"/>
          <a:stretch/>
        </p:blipFill>
        <p:spPr>
          <a:xfrm>
            <a:off x="406440" y="507960"/>
            <a:ext cx="3457440" cy="3235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5"/>
          <a:stretch/>
        </p:blipFill>
        <p:spPr>
          <a:xfrm>
            <a:off x="3251160" y="2336760"/>
            <a:ext cx="3114720" cy="29401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35040" y="1619280"/>
            <a:ext cx="8889840" cy="43815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EGION</cp:lastModifiedBy>
  <dcterms:modified xsi:type="dcterms:W3CDTF">2016-01-05T11:04:17Z</dcterms:modified>
  <cp:revision>3</cp:revision>
  <dc:subject/>
  <dc:title>PowerPoint Presentation</dc:title>
</cp:coreProperties>
</file>