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CB62-21FA-4C6C-B42D-0A7371A848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6C9-885C-46AA-987C-0FCAADBB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190-7057-49D6-8C75-CDBE2721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729-8FF0-44BB-B6E6-6654E0DD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35F-8FBB-4304-935E-5E683163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0F5-65EC-4D7F-BBD0-5D070DC4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273-0896-46B9-BA8F-8248D7E3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7D7-F59F-4DD5-80C8-D09FBF43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F83-F956-42BD-8E76-83E96F01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687-30D4-4F83-89B8-9ED9143C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A19-3031-48A5-951D-8126D7CC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E34-0555-44B8-8C14-1DDCCACF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4CF-960B-4865-A98D-3B27A97C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8BA5-38D8-4CDE-9CC9-99AE4B6A9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775040" y="-193680"/>
            <a:ext cx="5383440" cy="77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-103320"/>
            <a:ext cx="4775040" cy="784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3320" y="0"/>
            <a:ext cx="10302840" cy="7759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  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Рождение валюты Казахстана –  тенге произошло  12 ноября 1993 года.</a:t>
            </a: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В этот день вышел указ Президента Республики Казахстан «</a:t>
            </a:r>
            <a:r>
              <a:rPr b="1" lang="en-US" sz="3500" spc="-1" strike="noStrike" u="sng">
                <a:solidFill>
                  <a:srgbClr val="0099ff"/>
                </a:solidFill>
                <a:uFillTx/>
                <a:latin typeface="Arial"/>
              </a:rPr>
              <a:t>О введении национальной валюты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 Республики Казахстан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Сейчас на руках у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казахстанце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в имеются следующие бумажные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банкноты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GION</cp:lastModifiedBy>
  <dcterms:modified xsi:type="dcterms:W3CDTF">2016-01-05T11:04:17Z</dcterms:modified>
  <cp:revision>3</cp:revision>
  <dc:subject/>
  <dc:title>PowerPoint Presentation</dc:title>
</cp:coreProperties>
</file>