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FDEF-2CAF-4097-B4D5-0BBCE18642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ТЕНГЕ-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НАЦИОНАЛЬНАЯ  ВАЛЮТА КАЗАХСТА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ждение валюты Казахстана –  тенге произошло  12 ноября 1993 года. В этот день вышел указ Президента Республики Казахстан «О введении национальной валюты Республики Казахстан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ервые банкноты Казахстана "Тенге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йчас на руках у казахстанцев имеются следующие бумажные банкноты: двести тенге, пятьсот  тенге, одна тысяча тенге, две тысячи, пять тысяч, десять тыся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0B3-08DC-4EDB-83A3-D7C41228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E92-B470-4AE9-9395-8486E0D7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2D0-3E85-46C4-B3C6-C36BE808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50A-103B-4B71-AD77-88660364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966-F097-4B8B-BFFB-D4FB472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0A5-8FB8-43B8-B021-EBB241C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FDB-9955-4A40-9673-ED6C3B3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34C-752C-46BB-872B-F05C25D4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4D8-C0F6-4F93-BCA3-F6ACC97D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217-B736-4D2F-A7FF-8264561E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23FD-3CED-4329-AE9C-09AFF3F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17C-F98B-4042-BA98-81910712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AFE7-C70A-4E11-A9D2-A19E9BD1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357120" y="-339840"/>
            <a:ext cx="10764720" cy="7913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0040" y="2352240"/>
            <a:ext cx="68659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990000"/>
                </a:solidFill>
                <a:latin typeface="Georgia"/>
              </a:rPr>
              <a:t>ТЕНГЕ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270080" y="1841400"/>
            <a:ext cx="7619760" cy="3936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270080" y="1816200"/>
            <a:ext cx="7619760" cy="3987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482920" y="1905120"/>
            <a:ext cx="5194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70080" y="1784520"/>
            <a:ext cx="7619760" cy="40510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70080" y="1803240"/>
            <a:ext cx="7619760" cy="401328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775040" y="-193680"/>
            <a:ext cx="5383440" cy="779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0" y="-103320"/>
            <a:ext cx="4775040" cy="784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d626c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3320" y="0"/>
            <a:ext cx="10302840" cy="77598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-458640" y="-255600"/>
            <a:ext cx="10644120" cy="8075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47560" y="129708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ТЕНГЕ-  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4c1130"/>
                </a:solidFill>
                <a:latin typeface="Georgia"/>
              </a:rPr>
              <a:t>НАЦИОНАЛЬНАЯ  ВАЛЮТА КАЗАХСТАНА.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358920" y="-85680"/>
            <a:ext cx="10628280" cy="7837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55280" y="812880"/>
            <a:ext cx="8705880" cy="60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Рождение валюты Казахстана –  тенге произошло  12 ноября 1993 года.</a:t>
            </a:r>
            <a:r>
              <a:rPr b="1" lang="en-US" sz="35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В этот день вышел указ Президента Республики Казахстан «</a:t>
            </a:r>
            <a:r>
              <a:rPr b="1" lang="en-US" sz="3500" spc="-1" strike="noStrike" u="sng">
                <a:solidFill>
                  <a:srgbClr val="0099ff"/>
                </a:solidFill>
                <a:uFillTx/>
                <a:latin typeface="Arial"/>
              </a:rPr>
              <a:t>О введении национальной валюты</a:t>
            </a: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 Республики Казахстан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Свое название валюта получила от  древних тюркских денег под названием «таньга», что очень созвучно со словом деньги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46160" y="-20520"/>
            <a:ext cx="1002816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336e"/>
                </a:solidFill>
                <a:latin typeface="Tahoma"/>
              </a:rPr>
              <a:t>Первые банкноты Казахстана "Тенге"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03040" y="2336760"/>
            <a:ext cx="5112000" cy="5118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978440" y="812880"/>
            <a:ext cx="5041800" cy="50799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293400"/>
            <a:ext cx="8602920" cy="77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Сейчас на руках у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казахстанце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в имеются следующие бумажные </a:t>
            </a:r>
            <a:r>
              <a:rPr b="0" lang="en-US" sz="3500" spc="-1" strike="noStrike" u="sng">
                <a:solidFill>
                  <a:srgbClr val="0099ff"/>
                </a:solidFill>
                <a:uFillTx/>
                <a:latin typeface="Georgia"/>
              </a:rPr>
              <a:t>банкноты</a:t>
            </a:r>
            <a:r>
              <a:rPr b="0" lang="en-US" sz="3500" spc="-1" strike="noStrike">
                <a:solidFill>
                  <a:srgbClr val="741b47"/>
                </a:solidFill>
                <a:latin typeface="Georgia"/>
              </a:rPr>
              <a:t>: двести тенге, пятьсот  тенге, одна тысяча тенге, две тысячи, пять тысяч, десять тысяч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9080" y="2641680"/>
            <a:ext cx="9646920" cy="47228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57600" y="68400"/>
            <a:ext cx="972684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741b47"/>
                </a:solidFill>
                <a:latin typeface="Georgia"/>
              </a:rPr>
              <a:t>А также металлические монеты  достоинством: одна тенге, две, пять, десять, двадцать, пятьдесят и сто тенге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9536040" cy="4160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892840" y="4165560"/>
            <a:ext cx="3873600" cy="285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5892840" y="507960"/>
            <a:ext cx="3879720" cy="333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4920" y="4064040"/>
            <a:ext cx="3423960" cy="306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406440" y="507960"/>
            <a:ext cx="3457440" cy="323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3251160" y="2336760"/>
            <a:ext cx="3114720" cy="2940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5040" y="1619280"/>
            <a:ext cx="8889840" cy="4381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470400" y="6942240"/>
            <a:ext cx="32194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EGION</cp:lastModifiedBy>
  <dcterms:modified xsi:type="dcterms:W3CDTF">2016-01-05T11:04:17Z</dcterms:modified>
  <cp:revision>3</cp:revision>
  <dc:subject/>
  <dc:title>PowerPoint Presentation</dc:title>
</cp:coreProperties>
</file>