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F4E1-4195-4EE7-AFFD-94E2BE253E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09D1-D9FB-41A5-9795-B205F950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B91-5DE4-4717-8519-7318C567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6B8-77B2-426D-A7E8-D0925D83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91E-3869-4AD3-8BD6-C04ADD94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0CA-A4BB-423B-B095-63ED2017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11F-99A9-4A5D-90F9-DCF6005A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A3F-6811-45B7-BE59-EF20B611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A38-9A57-48C1-A94C-D982C80B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80F-F79F-4559-9EF0-FB7E5242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DC9-FA88-42CB-AC97-CA6AFF62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FF5-61B4-41C5-ACF5-7F63E59C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27F-BA18-49F0-8B22-BF84FFA9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EF40-8CBA-4832-8536-00B571CCD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роизводитель в пери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ет на свои машины арендную плат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3"/>
          <p:cNvGrpSpPr/>
          <p:nvPr/>
        </p:nvGrpSpPr>
        <p:grpSpPr>
          <a:xfrm>
            <a:off x="539640" y="3127320"/>
            <a:ext cx="8604360" cy="2298240"/>
            <a:chOff x="539640" y="3127320"/>
            <a:chExt cx="8604360" cy="2298240"/>
          </a:xfrm>
        </p:grpSpPr>
        <mc:AlternateContent>
          <mc:Choice xmlns:a14="http://schemas.microsoft.com/office/drawing/2010/main" Requires="a14">
            <p:sp>
              <p:nvSpPr>
                <p:cNvPr id="93" name="Object 4"/>
                <p:cNvSpPr txBox="1"/>
                <p:nvPr/>
              </p:nvSpPr>
              <p:spPr>
                <a:xfrm>
                  <a:off x="539640" y="3127320"/>
                  <a:ext cx="842508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lim>
                          <m:r>
                            <m:t xml:space="preserve">x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L</m:t>
                          </m:r>
                        </m:lim>
                      </m:limLow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e>
                      </m:d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β</m:t>
                          </m:r>
                        </m:sup>
                      </m:sSup>
                      <m:r>
                        <m:t xml:space="preserve">−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−</m:t>
                          </m:r>
                          <m:r>
                            <m:t xml:space="preserve">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4" name="AutoShape 6"/>
            <p:cNvSpPr/>
            <p:nvPr/>
          </p:nvSpPr>
          <p:spPr>
            <a:xfrm rot="16200000">
              <a:off x="3599640" y="2672280"/>
              <a:ext cx="289080" cy="3097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80640 h 3097080"/>
                <a:gd name="textAreaBottom" fmla="*/ 3016440 h 30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 rot="16200000">
              <a:off x="6552360" y="3032640"/>
              <a:ext cx="289080" cy="2376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 rot="16200000">
              <a:off x="8424000" y="3824640"/>
              <a:ext cx="289080" cy="792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2268360" y="4581360"/>
              <a:ext cx="31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5724360" y="4508640"/>
              <a:ext cx="21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ендная плата за использование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8028000" y="46530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м спрос на ма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 тип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468360" y="1989000"/>
                <a:ext cx="81374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["/>
                                            <m:endChr m:val="]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L</m:t>
                                </m:r>
                              </m:e>
                            </m:nary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468360" y="3789360"/>
            <a:ext cx="8434440" cy="3068640"/>
            <a:chOff x="468360" y="3789360"/>
            <a:chExt cx="8434440" cy="3068640"/>
          </a:xfrm>
        </p:grpSpPr>
        <p:sp>
          <p:nvSpPr>
            <p:cNvPr id="107" name="Rectangle 4"/>
            <p:cNvSpPr/>
            <p:nvPr/>
          </p:nvSpPr>
          <p:spPr>
            <a:xfrm>
              <a:off x="611280" y="4869000"/>
              <a:ext cx="829152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15"/>
                <p:cNvSpPr txBox="1"/>
                <p:nvPr/>
              </p:nvSpPr>
              <p:spPr>
                <a:xfrm>
                  <a:off x="539640" y="3789360"/>
                  <a:ext cx="799308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AutoShape 25"/>
            <p:cNvSpPr/>
            <p:nvPr/>
          </p:nvSpPr>
          <p:spPr>
            <a:xfrm rot="16200000">
              <a:off x="7489080" y="4688280"/>
              <a:ext cx="289080" cy="1081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8080 h 1081080"/>
                <a:gd name="textAreaBottom" fmla="*/ 10530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7308720" y="54450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4067280" y="5373720"/>
              <a:ext cx="280980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(i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произвед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28"/>
                <p:cNvSpPr txBox="1"/>
                <p:nvPr/>
              </p:nvSpPr>
              <p:spPr>
                <a:xfrm>
                  <a:off x="826920" y="5300640"/>
                  <a:ext cx="25196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β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AutoShape 29"/>
            <p:cNvSpPr/>
            <p:nvPr/>
          </p:nvSpPr>
          <p:spPr>
            <a:xfrm rot="16200000">
              <a:off x="5147280" y="3861000"/>
              <a:ext cx="360360" cy="2520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5520 h 2520720"/>
                <a:gd name="textAreaBottom" fmla="*/ 2455200 h 25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0"/>
            <p:cNvSpPr/>
            <p:nvPr/>
          </p:nvSpPr>
          <p:spPr>
            <a:xfrm rot="16200000">
              <a:off x="1980360" y="3429360"/>
              <a:ext cx="360360" cy="33843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88200 h 3384360"/>
                <a:gd name="textAreaBottom" fmla="*/ 3296160 h 33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1"/>
            <p:cNvSpPr/>
            <p:nvPr/>
          </p:nvSpPr>
          <p:spPr>
            <a:xfrm>
              <a:off x="826920" y="6093000"/>
              <a:ext cx="281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степен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539640" y="2060640"/>
                <a:ext cx="302436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(i,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8"/>
              <p:cNvSpPr txBox="1"/>
              <p:nvPr/>
            </p:nvSpPr>
            <p:spPr>
              <a:xfrm>
                <a:off x="608040" y="3789360"/>
                <a:ext cx="3897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539640" y="2421000"/>
            <a:ext cx="6912000" cy="2056680"/>
            <a:chOff x="539640" y="2421000"/>
            <a:chExt cx="6912000" cy="2056680"/>
          </a:xfrm>
        </p:grpSpPr>
        <mc:AlternateContent>
          <mc:Choice xmlns:a14="http://schemas.microsoft.com/office/drawing/2010/main" Requires="a14">
            <p:sp>
              <p:nvSpPr>
                <p:cNvPr id="129" name="Object 6"/>
                <p:cNvSpPr txBox="1"/>
                <p:nvPr/>
              </p:nvSpPr>
              <p:spPr>
                <a:xfrm>
                  <a:off x="539640" y="2421000"/>
                  <a:ext cx="674712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  <m:r>
                                    <m:t xml:space="preserve">'</m:t>
                                  </m:r>
                                </m:e>
                              </m:nary>
                            </m:sup>
                          </m:sSup>
                        </m:e>
                      </m:nary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ψ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AutoShape 7"/>
            <p:cNvSpPr/>
            <p:nvPr/>
          </p:nvSpPr>
          <p:spPr>
            <a:xfrm rot="16200000">
              <a:off x="2807280" y="2660760"/>
              <a:ext cx="289080" cy="12240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8"/>
            <p:cNvSpPr/>
            <p:nvPr/>
          </p:nvSpPr>
          <p:spPr>
            <a:xfrm rot="16200000">
              <a:off x="4354920" y="2408400"/>
              <a:ext cx="289080" cy="172872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9"/>
            <p:cNvSpPr/>
            <p:nvPr/>
          </p:nvSpPr>
          <p:spPr>
            <a:xfrm rot="16200000">
              <a:off x="6084000" y="2768760"/>
              <a:ext cx="289080" cy="1008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1403280" y="356076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эффициент дисконтир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3635280" y="356076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 от продажи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5796000" y="3560760"/>
              <a:ext cx="165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держки на производство маши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13"/>
          <p:cNvSpPr/>
          <p:nvPr/>
        </p:nvSpPr>
        <p:spPr>
          <a:xfrm>
            <a:off x="468360" y="4437000"/>
            <a:ext cx="820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вка процента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s’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етчики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аж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539640" y="1773360"/>
                <a:ext cx="20052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39640" y="2349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611280" y="2781360"/>
                <a:ext cx="2923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12"/>
          <p:cNvSpPr/>
          <p:nvPr/>
        </p:nvSpPr>
        <p:spPr>
          <a:xfrm>
            <a:off x="611280" y="3429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го типа по их цене составляет 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755640" y="5734080"/>
                <a:ext cx="2448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539640" y="4870440"/>
                <a:ext cx="6337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</m:e>
                    </m:nary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351000" y="2133720"/>
                <a:ext cx="2925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9"/>
          <p:cNvSpPr/>
          <p:nvPr/>
        </p:nvSpPr>
        <p:spPr>
          <a:xfrm>
            <a:off x="395280" y="3068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68360" y="3500280"/>
                <a:ext cx="4321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Rectangle 14"/>
          <p:cNvSpPr/>
          <p:nvPr/>
        </p:nvSpPr>
        <p:spPr>
          <a:xfrm>
            <a:off x="539640" y="4365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539640" y="5877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468360" y="3429000"/>
                <a:ext cx="4174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8360" y="4221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7"/>
              <p:cNvSpPr txBox="1"/>
              <p:nvPr/>
            </p:nvSpPr>
            <p:spPr>
              <a:xfrm>
                <a:off x="611280" y="4724280"/>
                <a:ext cx="25462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ψ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18"/>
          <p:cNvSpPr/>
          <p:nvPr/>
        </p:nvSpPr>
        <p:spPr>
          <a:xfrm>
            <a:off x="611280" y="5300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9"/>
              <p:cNvSpPr txBox="1"/>
              <p:nvPr/>
            </p:nvSpPr>
            <p:spPr>
              <a:xfrm>
                <a:off x="684360" y="5805360"/>
                <a:ext cx="37065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4"/>
              <p:cNvSpPr txBox="1"/>
              <p:nvPr/>
            </p:nvSpPr>
            <p:spPr>
              <a:xfrm>
                <a:off x="468360" y="4581360"/>
                <a:ext cx="388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395280" y="1916280"/>
                <a:ext cx="770580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ψ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ψ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ψ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324000" y="4149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, поделив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X+Z=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7"/>
              <p:cNvSpPr txBox="1"/>
              <p:nvPr/>
            </p:nvSpPr>
            <p:spPr>
              <a:xfrm>
                <a:off x="3276720" y="5157720"/>
                <a:ext cx="10792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468360" y="371628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24000" y="2276640"/>
                <a:ext cx="1584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24000" y="270828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ыразим темпы прироста продуктового разнообраз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68360" y="4653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"/>
              <p:cNvSpPr txBox="1"/>
              <p:nvPr/>
            </p:nvSpPr>
            <p:spPr>
              <a:xfrm>
                <a:off x="395280" y="155736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50920" y="2565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на первый взгляд это не очевидно, можно показать, что это утверждение справедливо для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производства машин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днотипными, но разными производственными фун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1042920" y="2755800"/>
                <a:ext cx="5905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с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использованных маш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ое ограничение, разумеется, будет для каждой страны собственным, раз у нее свой выпу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900000" y="2421000"/>
                <a:ext cx="3936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39640" y="299736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м более существенное изменение: уровень развития мировы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342900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ыв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чувствительности скорости преследования к величине отста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826920" y="2276640"/>
                <a:ext cx="3600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39640" y="2349360"/>
                <a:ext cx="32403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611280" y="5603760"/>
                <a:ext cx="3960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2400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1"/>
              <p:cNvSpPr txBox="1"/>
              <p:nvPr/>
            </p:nvSpPr>
            <p:spPr>
              <a:xfrm>
                <a:off x="816120" y="4094280"/>
                <a:ext cx="29034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50920" y="2492280"/>
                <a:ext cx="5903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79280" y="4076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250920" y="5373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0"/>
              <p:cNvSpPr txBox="1"/>
              <p:nvPr/>
            </p:nvSpPr>
            <p:spPr>
              <a:xfrm>
                <a:off x="250920" y="4437000"/>
                <a:ext cx="1977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φ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всех изобретений в мире приходится на развитые страны. Соответствует ли этот факт предсказаниям мо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571680" y="2647800"/>
            <a:ext cx="3809880" cy="242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4762440" y="2690640"/>
            <a:ext cx="3810240" cy="23432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0"/>
          <p:cNvSpPr/>
          <p:nvPr/>
        </p:nvSpPr>
        <p:spPr>
          <a:xfrm>
            <a:off x="32400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6448320" cy="24289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250920" y="1413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«Макроэкономике» Тумановой и Шагас, п. 10.3.1.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там несколько другие обознач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их число не изменяется со време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116000" y="2852640"/>
                <a:ext cx="40384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ρt</m:t>
                            </m:r>
                          </m:sup>
                        </m:sSup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C(t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бъем потребления блага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 дисконтирования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ь межвременной эластичности за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производственная функция выгляди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042920" y="2720880"/>
                <a:ext cx="40370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астичность выпуска по затратам труда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ат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 типа оборудования в произ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и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зобретение) приводят к появлению новых машин в соответствии со следующим урав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84360" y="2349360"/>
                <a:ext cx="187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9640" y="292428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ффективность вложений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ходы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611280" y="4149720"/>
                <a:ext cx="19317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1"/>
          <p:cNvSpPr/>
          <p:nvPr/>
        </p:nvSpPr>
        <p:spPr>
          <a:xfrm>
            <a:off x="611280" y="508464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 в эконом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яется меж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лением С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ием новых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(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539640" y="2852640"/>
                <a:ext cx="4248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6:15Z</dcterms:created>
  <dc:creator>IK</dc:creator>
  <dc:description/>
  <dc:language>en-US</dc:language>
  <cp:lastModifiedBy>LEGION</cp:lastModifiedBy>
  <dcterms:modified xsi:type="dcterms:W3CDTF">2016-01-05T11:04:23Z</dcterms:modified>
  <cp:revision>6</cp:revision>
  <dc:subject/>
  <dc:title>Современные проблемы экономической теории</dc:title>
</cp:coreProperties>
</file>