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3F48E-C18E-4138-B59B-6B2E044F6DE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ременные проблемы экономической теор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дел: Международн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ременные проблемы экономической теор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дел: Международн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дель растущего разнообразия товаров в закрытой экономи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усть i-й производитель в период t назначает на свои машины арендную плату p(i,t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гда производители конечного блага выбирают такие объемы потребления машин и труда, чтобы максимизировать свою прибыл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ель растущего разнообразия товаров в закрытой экономик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усть i-й производитель в период t назначает на свои машины арендную плату p(i,t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гда производители конечного блага выбирают такие объемы потребления машин и труда, чтобы максимизировать свою прибыль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дель растущего разнообразия товаров в закрытой экономи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им спрос на машины i-го тип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пишем следующим образом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ель растущего разнообразия товаров в закрытой экономик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им спрос на машины i-го тип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пишем следующим образом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дель растущего разнообразия товаров в закрытой экономи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так, получаем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разим x(i,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ель растущего разнообразия товаров в закрытой экономик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так, получаем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разим x(i,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дель растущего разнообразия товаров в закрытой экономи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 временем производитель машин максимизирует свою чистую приведенную стоимость, начиная с текущего момента и до бесконеч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r(t) – ставка процента; s, s’ – счетчики време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жно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сконтирование для фирмы производится по текущей ставке процента, которая может быть неодинаковой во времени, поэтому дисконтирующий множитель выглядит та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быль фирмы в одном периоде не влияет на прибыль в остальных период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ель растущего разнообразия товаров в закрытой экономик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 временем производитель машин максимизирует свою чистую приведенную стоимость, начиная с текущего момента и до бесконеч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r(t) – ставка процента; s, s’ – счетчики време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жно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сконтирование для фирмы производится по текущей ставке процента, которая может быть неодинаковой во времени, поэтому дисконтирующий множитель выглядит та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быль фирмы в одном периоде не влияет на прибыль в остальных периода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дель растущего разнообразия товаров в закрытой экономи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ксимизируем прибыль фирм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имеющемся спросе на машин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имая во внимание, что эластичность спроса на машины i-го типа по их цене составляет -1/b, неудивительно, что все фирмы установят одинаковую надбавку к цене (вспомним индекс Лернера). С другой стороны, все фирмы во все периоды сталкиваются с постоянными предельными издержками. Таким образом, цены всех фирм и во все периоды времени будут одинаков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ель растущего разнообразия товаров в закрытой экономик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ксимизируем прибыль фирм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 имеющемся спросе на машин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имая во внимание, что эластичность спроса на машины i-го типа по их цене составляет -1/b, неудивительно, что все фирмы установят одинаковую надбавку к цене (вспомним индекс Лернера). С другой стороны, все фирмы во все периоды сталкиваются с постоянными предельными издержками. Таким образом, цены всех фирм и во все периоды времени будут одинаков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дель растущего разнообразия товаров в закрытой экономи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ставляем равновесную цену в функцию спроса, получаем равновесное количество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перь подставим это в производственную функцию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учаем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начение изобретения новых машин в данной модели становится очевидным: производительность труда прямо пропорциональна их разнообрази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ель растущего разнообразия товаров в закрытой экономик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ставляем равновесную цену в функцию спроса, получаем равновесное количество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перь подставим это в производственную функцию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учаем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начение изобретения новых машин в данной модели становится очевидным: производительность труда прямо пропорциональна их разнообрази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дель растущего разнообразия товаров в закрытой экономи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кольку вход в отрасль по производству машин свободный, в этой отрасли (как и в отрасли по производству конечных благ) не будет экономической прибыли, то есть затраты, включающие в себя затраты на изобретение и производство, окажутся равны выручк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ким образом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другой стороны, затраты на производство машин составляю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ответственно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ель растущего разнообразия товаров в закрытой экономик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кольку вход в отрасль по производству машин свободный, в этой отрасли (как и в отрасли по производству конечных благ) не будет экономической прибыли, то есть затраты, включающие в себя затраты на изобретение и производство, окажутся равны выручк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ким образом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другой стороны, затраты на производство машин составляю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ответственно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дель растущего разнообразия товаров в закрытой экономи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ставим равновесные цены и количества машин и получим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сюда, поделив на Y(t) получаем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кольку C+X+Z=Y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ель растущего разнообразия товаров в закрытой экономик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ставим равновесные цены и количества машин и получим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сюда, поделив на Y(t) получаем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кольку C+X+Z=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дель растущего разнообразия товаров в закрытой экономи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перь вспомним, что расходы на изобретения определяют темп роста разнообразия машин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ставив эту формулу в полученное на предыдущем слайде выражение для Z(t), выразим темпы прироста продуктового разнообраз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мы видели раньше, этот темп прироста и определяет скорость изменения основных переменных модели: выпуска, потребления, заработной платы и т.п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ель растущего разнообразия товаров в закрытой экономик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перь вспомним, что расходы на изобретения определяют темп роста разнообразия машин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ставив эту формулу в полученное на предыдущем слайде выражение для Z(t), выразим темпы прироста продуктового разнообрази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мы видели раньше, этот темп прироста и определяет скорость изменения основных переменных модели: выпуска, потребления, заработной платы и т.п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дель растущего разнообразия товаров в закрытой экономи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темпы роста положительно влияют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исленность населения экономики (L) – потому что достижения изобретателей свободно тиражируются и опосредованно употребляются всеми членами обществ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дача от вложений в изобретения (h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астичность выпуска по объему использованного труда (b) – хотя на первый взгляд это не очевидно, можно показать, что это утверждение справедливо для 0&lt;b&lt;1. Причина этого неочевидного результата в том, что чем меньше эластичность выпуска по объему использованных машин, тем, при том же количестве сбережений, больший объем ресурсов может быть использован для изобретения, а не производства маши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рицательно влияю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держки производства машин (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ель растущего разнообразия товаров в закрытой экономик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темпы роста положительно влияют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исленность населения экономики (L) – потому что достижения изобретателей свободно тиражируются и опосредованно употребляются всеми членами обществ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дача от вложений в изобретения (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ластичность выпуска по объему использованного труда (b) – хотя на первый взгляд это не очевидно, можно показать, что это утверждение справедливо для 0&lt;b&lt;1. Причина этого неочевидного результата в том, что чем меньше эластичность выпуска по объему использованных машин, тем, при том же количестве сбережений, больший объем ресурсов может быть использован для изобретения, а не производства маши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рицательно влияют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держки производства машин (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вед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ая экономика тесно переплетена с макроэкономикой, это касается не только международных финансов, но и международной торговли. Однако в базовых курсах международной экономики этой связи уделяется немного внимания, точно так же, как и в курсе макроэконом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вед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народная экономика тесно переплетена с макроэкономикой, это касается не только международных финансов, но и международной торговли. Однако в базовых курсах международной экономики этой связи уделяется немного внимания, точно так же, как и в курсе макро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перь применим эту модель к мировой экономи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этого введем следующие измен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перь применим эту модель к мировой экономик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этого введем следующие измен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дель растущего разнообразия товаров в мировой экономи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Пусть у нас теперь будет некоторое количество стран J с однотипными, но разными производственными функция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х индивидуальные переменные помечены индексом страны j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пуск (Yj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вень технического прогресса (Nj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ем использованных машин (xj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ель растущего разнообразия товаров в мировой экономик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Пусть у нас теперь будет некоторое количество стран J с однотипными, но разными производственными функция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х индивидуальные переменные помечены индексом страны j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пуск (Yj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ровень технического прогресса (Nj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ъем использованных машин (xj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дель растущего разнообразия товаров в мировой экономи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Бюджетное ограничение, разумеется, будет для каждой страны собственным, раз у нее свой выпус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имание: поскольку предполагается, что ежегодно соблюдается это равенство, неявно предполагается, что в экономике сбалансированы торговые балансы, и не производится перелив капитала. Впрочем, если мы не сделаем дополнительных допущений, в стационарном состоянии процентные ставки будут равны, и перелива действительно не произойд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ель растущего разнообразия товаров в мировой экономик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Бюджетное ограничение, разумеется, будет для каждой страны собственным, раз у нее свой выпус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нимание: поскольку предполагается, что ежегодно соблюдается это равенство, неявно предполагается, что в экономике сбалансированы торговые балансы, и не производится перелив капитала. Впрочем, если мы не сделаем дополнительных допущений, в стационарном состоянии процентные ставки будут равны, и перелива действительно не произойде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дель растущего разнообразия товаров в мировой экономи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Введем более существенное изменение: уровень развития мировых технологий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ы, таким образом, предполагаем, что чем сильнее отставание странового уровня развития технологий от уровня развития мировых технологий, тем быстрее происходит преследование. Это свойство позволит моделировать догоняющее развитие на переходных этап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f показывает степень чувствительности скорости преследования к величине отста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ель растущего разнообразия товаров в мировой экономик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Введем более существенное изменение: уровень развития мировых технологий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ы, таким образом, предполагаем, что чем сильнее отставание странового уровня развития технологий от уровня развития мировых технологий, тем быстрее происходит преследование. Это свойство позволит моделировать догоняющее развитие на переходных этапа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f показывает степень чувствительности скорости преследования к величине отста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дель растущего разнообразия товаров в мировой экономи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помним, что, как и раньше, равновесный объем вложений в исследования составляет (с учетом страновых различий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то же время, расходы на исследования обеспечивают рост национального уровня технологий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сю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ель растущего разнообразия товаров в мировой экономик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помним, что, как и раньше, равновесный объем вложений в исследования составляет (с учетом страновых различий)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то же время, расходы на исследования обеспечивают рост национального уровня технологий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сю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дель растущего разнообразия товаров в мировой экономи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тационарном состоянии темпы роста экономики одинаковы. Что же будет известно об уровнях развития технологий и, соответственно, доходах в разных странах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, следовательн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ким образом, уровень технического развития в этой модели будет прямо пропорционален численности населения и эффективности вложений в заимствование технолог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ель растущего разнообразия товаров в мировой экономик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стационарном состоянии темпы роста экономики одинаковы. Что же будет известно об уровнях развития технологий и, соответственно, доходах в разных странах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, следовательн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ким образом, уровень технического развития в этой модели будет прямо пропорционален численности населения и эффективности вложений в заимствование технолог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ипичное свойство моделей типа AK, в том числе и рассмотренной, – предсказывать для крупных экономик бОльшие темпы роста, чем для маленьких. Однако статистика опровергает такой вывод. Как вы считаете, где находится расхождение между описанной моделью (в приложении к мировой экономике) и реальностью, которое ведет к этому разногласию в отношении связи между размером экономики и темпами рост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коло 9/10 всех изобретений в мире приходится на развитые страны. Соответствует ли этот факт предсказаниям модел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оложим, при оценке модели вы хотите учесть глобализацию мировой экономики. Каким(и) параметром(ами) вы бы попытались отразить это изменени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д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ипичное свойство моделей типа AK, в том числе и рассмотренной, – предсказывать для крупных экономик бОльшие темпы роста, чем для маленьких. Однако статистика опровергает такой вывод. Как вы считаете, где находится расхождение между описанной моделью (в приложении к мировой экономике) и реальностью, которое ведет к этому разногласию в отношении связи между размером экономики и темпами рост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коло 9/10 всех изобретений в мире приходится на развитые страны. Соответствует ли этот факт предсказаниям модели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оложим, при оценке модели вы хотите учесть глобализацию мировой экономики. Каким(и) параметром(ами) вы бы попытались отразить это изменение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Джонатан Хюбнер обнаружил, что число патентов в США и изобретений в мире имеет Л-образную форму (см. картинк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Какие гипотезы можно выдвинуть о причинах такого поведения в свете представленной модели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д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Джонатан Хюбнер обнаружил, что число патентов в США и изобретений в мире имеет Л-образную форму (см. картинк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) Какие гипотезы можно выдвинуть о причинах такого поведения в свете представленной модели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Пол Ромер в 1986 году предположил, что темпы экономического роста даже для стран-лидеров технического прогресса в перспективе нескольких столетий возрастают (см. таблицу). Обсудите, совместимы ли такие выводы с находкой Хюбнер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д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) Пол Ромер в 1986 году предположил, что темпы экономического роста даже для стран-лидеров технического прогресса в перспективе нескольких столетий возрастают (см. таблицу). Обсудите, совместимы ли такие выводы с находкой Хюбнер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вед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данной лекции речь пойдет об одном относительно несложном приложении модели экономического роста к мировой экономике, состоящей из неодинаковых национальных экономик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ходе изложения будут выявлены некоторые факторы, обеспечивающие сильное неравенство в распределении доходов в мире и указывающие на дополнительные выгоды от свободы торговли по сравнению с обсуждаемыми в стандартном курсе международной эконом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вед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данной лекции речь пойдет об одном относительно несложном приложении модели экономического роста к мировой экономике, состоящей из неодинаковых национальных экономик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ходе изложения будут выявлены некоторые факторы, обеспечивающие сильное неравенство в распределении доходов в мире и указывающие на дополнительные выгоды от свободы торговли по сравнению с обсуждаемыми в стандартном курсе международн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вед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воря точнее, речь пойдет о приложении к мировой экономики известной вам модели растущего разнообразия товаров Пола Роме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ложение базовой модели см., например, в «Макроэкономике» Тумановой и Шагас, п. 10.3.1. (там несколько другие обозначени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простоты я сделаю основные выкладки прямо в презент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вед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оворя точнее, речь пойдет о приложении к мировой экономики известной вам модели растущего разнообразия товаров Пола Роме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ложение базовой модели см., например, в «Макроэкономике» Тумановой и Шагас, п. 10.3.1. (там несколько другие обозначения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простоты я сделаю основные выкладки прямо в презент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дель растущего разнообразия товаров в закрытой экономи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усть в нашей экономике есть бесконечно живущие репрезентативные потребители, потребляющие некоторое агрегированное благо, все из которых работают фиксированное количество времени L, и их число не изменяется со времен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ель растущего разнообразия товаров в закрытой экономик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усть в нашей экономике есть бесконечно живущие репрезентативные потребители, потребляющие некоторое агрегированное благо, все из которых работают фиксированное количество времени L, и их число не изменяется со времен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дель растущего разнообразия товаров в закрытой экономи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ункция полезности этих индивидов описывается функцией полезност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десь t – время; C(t) – объем потребления блага; r – коэффициент дисконтирования;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θ - показатель межвременной эластичности замеще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ель растущего разнообразия товаров в закрытой экономик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ункция полезности этих индивидов описывается функцией полезност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десь t – время; C(t) – объем потребления блага; r – коэффициент дисконтирования;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θ - показатель межвременной эластичности замещен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дель растущего разнообразия товаров в закрытой экономи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производства этого агрегированного блага требуется разное оборудование, которое представлено континуумом типов от 0 до N(t), а производственная функция выглядит следующим образом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десь b – эластичность выпуска по затратам труда; xi,t – затраты i-го типа оборудования в производств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ель растущего разнообразия товаров в закрытой экономик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производства этого агрегированного блага требуется разное оборудование, которое представлено континуумом типов от 0 до N(t), а производственная функция выглядит следующим образом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десь b – эластичность выпуска по затратам труда; xi,t – затраты i-го типа оборудования в производств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дель растущего разнообразия товаров в закрытой экономи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ложения в R&amp;D (изобретение) приводят к появлению новых машин в соответствии со следующим уравнени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д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η &gt; 0 – эффективность вложений в R&amp;D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Z – расходы на R&amp;D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рма, совершившая изобретение, становится монополистом по производству соответствующего типа машин. Предельные издержки производства каждой машины одинаковы для всех фирм и составляют ψ &gt; 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ель растущего разнообразия товаров в закрытой экономик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ложения в R&amp;D (изобретение) приводят к появлению новых машин в соответствии со следующим уравнени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д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η &gt; 0 – эффективность вложений в R&amp;D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Z – расходы на R&amp;D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рма, совершившая изобретение, становится монополистом по производству соответствующего типа машин. Предельные издержки производства каждой машины одинаковы для всех фирм и составляют ψ &gt;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дель растущего разнообразия товаров в закрытой экономи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пуск в экономике Y(t) распределяется между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треблением С(t)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ложением в производство машин X(t) 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обретением новых машин Z(t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ель растущего разнообразия товаров в закрытой экономик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пуск в экономике Y(t) распределяется между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треблением С(t)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ложением в производство машин X(t) 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обретением новых машин Z(t)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9E137-2218-4810-9F8A-FE83D12E7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884C3-4F66-457A-B412-BE545324E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8B182-FB74-4A89-AFCD-AA7785979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C3B64-485E-402A-8A42-06E83C154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BD1C8-DE46-489A-A8DD-202A01C84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47B77-AC1F-49CD-A74C-322CB16D0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EEC70-84CE-40CA-9196-E36DA48E3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C58E7-C454-4430-A3B9-881EFF99B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C6550-8F27-47C5-B65B-A4C2E4287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D1AB4-5C0C-414D-9B07-BADA99BE7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B195B-9CF1-42C3-B170-135E182B6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D4B3D-2F5D-4A40-BB35-268C9EC23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F60E7-21F1-4769-B421-864757215A5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овременные проблемы экономической теор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здел: Международная эконом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одель растущего разнообразия товаров в закрытой экономи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152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усть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-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й производитель в период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значает на свои машины арендную плату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(i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огда производители конечного блага выбирают такие объемы потребления машин и труда, чтобы максимизировать свою прибыль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5"/>
          <p:cNvSpPr/>
          <p:nvPr/>
        </p:nvSpPr>
        <p:spPr>
          <a:xfrm>
            <a:off x="611280" y="4869000"/>
            <a:ext cx="8291520" cy="19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Group 13"/>
          <p:cNvGrpSpPr/>
          <p:nvPr/>
        </p:nvGrpSpPr>
        <p:grpSpPr>
          <a:xfrm>
            <a:off x="539640" y="3127320"/>
            <a:ext cx="8604360" cy="2298240"/>
            <a:chOff x="539640" y="3127320"/>
            <a:chExt cx="8604360" cy="2298240"/>
          </a:xfrm>
        </p:grpSpPr>
        <mc:AlternateContent>
          <mc:Choice xmlns:a14="http://schemas.microsoft.com/office/drawing/2010/main" Requires="a14">
            <p:sp>
              <p:nvSpPr>
                <p:cNvPr id="93" name="Object 4"/>
                <p:cNvSpPr txBox="1"/>
                <p:nvPr/>
              </p:nvSpPr>
              <p:spPr>
                <a:xfrm>
                  <a:off x="539640" y="3127320"/>
                  <a:ext cx="8425080" cy="868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limLow>
                        <m:e>
                          <m:r>
                            <m:rPr>
                              <m:lit/>
                              <m:nor/>
                            </m:rPr>
                            <m:t xml:space="preserve">max</m:t>
                          </m:r>
                        </m:e>
                        <m:lim>
                          <m:r>
                            <m:t xml:space="preserve">x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i</m:t>
                              </m:r>
                              <m:r>
                                <m:t xml:space="preserve">,</m:t>
                              </m:r>
                              <m:r>
                                <m:t xml:space="preserve">t</m:t>
                              </m:r>
                            </m:e>
                          </m:d>
                          <m:r>
                            <m:t xml:space="preserve">,</m:t>
                          </m:r>
                          <m:r>
                            <m:t xml:space="preserve">i</m:t>
                          </m:r>
                          <m:r>
                            <m:t xml:space="preserve">∈</m:t>
                          </m:r>
                          <m:d>
                            <m:dPr>
                              <m:begChr m:val="["/>
                              <m:endChr m:val="]"/>
                            </m:dPr>
                            <m:e>
                              <m:r>
                                <m:t xml:space="preserve">0</m:t>
                              </m:r>
                              <m:r>
                                <m:t xml:space="preserve">;</m:t>
                              </m:r>
                              <m:r>
                                <m:t xml:space="preserve">N</m:t>
                              </m:r>
                              <m:r>
                                <m:t xml:space="preserve">(</m:t>
                              </m:r>
                              <m:r>
                                <m:t xml:space="preserve">t</m:t>
                              </m:r>
                              <m:r>
                                <m:t xml:space="preserve">)</m:t>
                              </m:r>
                            </m:e>
                          </m:d>
                          <m:r>
                            <m:t xml:space="preserve">,</m:t>
                          </m:r>
                          <m:r>
                            <m:t xml:space="preserve">L</m:t>
                          </m:r>
                        </m:lim>
                      </m:limLow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1</m:t>
                          </m:r>
                          <m:r>
                            <m:t xml:space="preserve">−</m:t>
                          </m:r>
                          <m:r>
                            <m:t xml:space="preserve">β</m:t>
                          </m:r>
                        </m:den>
                      </m:f>
                      <m:d>
                        <m:dPr>
                          <m:begChr m:val="["/>
                          <m:endChr m:val="]"/>
                        </m:dPr>
                        <m:e>
                          <m:nary>
                            <m:naryPr>
                              <m:chr m:val="∫"/>
                              <m:subHide m:val="1"/>
                              <m:supHide m:val="1"/>
                            </m:naryPr>
                            <m:sub/>
                            <m:sup/>
                            <m:e>
                              <m:sSup>
                                <m:e>
                                  <m:d>
                                    <m:dPr>
                                      <m:begChr m:val="["/>
                                      <m:endChr m:val="]"/>
                                    </m:dPr>
                                    <m:e>
                                      <m:r>
                                        <m:t xml:space="preserve">x</m:t>
                                      </m:r>
                                      <m:r>
                                        <m:t xml:space="preserve">(</m:t>
                                      </m:r>
                                      <m:r>
                                        <m:t xml:space="preserve">i</m:t>
                                      </m:r>
                                      <m:r>
                                        <m:t xml:space="preserve">,</m:t>
                                      </m:r>
                                      <m:r>
                                        <m:t xml:space="preserve">t</m:t>
                                      </m:r>
                                      <m:r>
                                        <m:t xml:space="preserve">)</m:t>
                                      </m:r>
                                    </m:e>
                                  </m:d>
                                </m:e>
                                <m:sup>
                                  <m:r>
                                    <m:t xml:space="preserve">1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β</m:t>
                                  </m:r>
                                </m:sup>
                              </m:sSup>
                              <m:r>
                                <m:rPr>
                                  <m:lit/>
                                  <m:nor/>
                                </m:rPr>
                                <m:t xml:space="preserve">di</m:t>
                              </m:r>
                            </m:e>
                          </m:nary>
                        </m:e>
                      </m:d>
                      <m:sSup>
                        <m:e>
                          <m:r>
                            <m:t xml:space="preserve">L</m:t>
                          </m:r>
                        </m:e>
                        <m:sup>
                          <m:r>
                            <m:t xml:space="preserve">β</m:t>
                          </m:r>
                        </m:sup>
                      </m:sSup>
                      <m:r>
                        <m:t xml:space="preserve">−</m:t>
                      </m:r>
                      <m:nary>
                        <m:naryPr>
                          <m:chr m:val="∫"/>
                          <m:subHide m:val="1"/>
                          <m:supHide m:val="1"/>
                        </m:naryPr>
                        <m:sub/>
                        <m:sup/>
                        <m:e>
                          <m:r>
                            <m:t xml:space="preserve">p</m:t>
                          </m:r>
                          <m:r>
                            <m:t xml:space="preserve">(</m:t>
                          </m:r>
                          <m:r>
                            <m:t xml:space="preserve">i</m:t>
                          </m:r>
                          <m:r>
                            <m:t xml:space="preserve">,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t xml:space="preserve">x</m:t>
                          </m:r>
                          <m:r>
                            <m:t xml:space="preserve">(</m:t>
                          </m:r>
                          <m:r>
                            <m:t xml:space="preserve">i</m:t>
                          </m:r>
                          <m:r>
                            <m:t xml:space="preserve">,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rPr>
                              <m:lit/>
                              <m:nor/>
                            </m:rPr>
                            <m:t xml:space="preserve">di</m:t>
                          </m:r>
                          <m:r>
                            <m:t xml:space="preserve">−</m:t>
                          </m:r>
                          <m:r>
                            <m:t xml:space="preserve">w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t xml:space="preserve">L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94" name="AutoShape 6"/>
            <p:cNvSpPr/>
            <p:nvPr/>
          </p:nvSpPr>
          <p:spPr>
            <a:xfrm rot="16200000">
              <a:off x="3599640" y="2672280"/>
              <a:ext cx="289080" cy="3097080"/>
            </a:xfrm>
            <a:custGeom>
              <a:avLst/>
              <a:gdLst>
                <a:gd name="textAreaLeft" fmla="*/ 184680 w 289080"/>
                <a:gd name="textAreaRight" fmla="*/ 289080 w 289080"/>
                <a:gd name="textAreaTop" fmla="*/ 80640 h 3097080"/>
                <a:gd name="textAreaBottom" fmla="*/ 3016440 h 3097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AutoShape 7"/>
            <p:cNvSpPr/>
            <p:nvPr/>
          </p:nvSpPr>
          <p:spPr>
            <a:xfrm rot="16200000">
              <a:off x="6552360" y="3032640"/>
              <a:ext cx="289080" cy="2376360"/>
            </a:xfrm>
            <a:custGeom>
              <a:avLst/>
              <a:gdLst>
                <a:gd name="textAreaLeft" fmla="*/ 184680 w 289080"/>
                <a:gd name="textAreaRight" fmla="*/ 289080 w 289080"/>
                <a:gd name="textAreaTop" fmla="*/ 61920 h 2376360"/>
                <a:gd name="textAreaBottom" fmla="*/ 2314440 h 23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AutoShape 8"/>
            <p:cNvSpPr/>
            <p:nvPr/>
          </p:nvSpPr>
          <p:spPr>
            <a:xfrm rot="16200000">
              <a:off x="8424000" y="3824640"/>
              <a:ext cx="289080" cy="792360"/>
            </a:xfrm>
            <a:custGeom>
              <a:avLst/>
              <a:gdLst>
                <a:gd name="textAreaLeft" fmla="*/ 184680 w 289080"/>
                <a:gd name="textAreaRight" fmla="*/ 289080 w 289080"/>
                <a:gd name="textAreaTop" fmla="*/ 20520 h 792360"/>
                <a:gd name="textAreaBottom" fmla="*/ 771840 h 792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Text Box 9"/>
            <p:cNvSpPr/>
            <p:nvPr/>
          </p:nvSpPr>
          <p:spPr>
            <a:xfrm>
              <a:off x="2268360" y="4581360"/>
              <a:ext cx="316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Выручк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Text Box 10"/>
            <p:cNvSpPr/>
            <p:nvPr/>
          </p:nvSpPr>
          <p:spPr>
            <a:xfrm>
              <a:off x="5724360" y="4508640"/>
              <a:ext cx="21607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Арендная плата за использование машин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Text Box 11"/>
            <p:cNvSpPr/>
            <p:nvPr/>
          </p:nvSpPr>
          <p:spPr>
            <a:xfrm>
              <a:off x="8028000" y="4653000"/>
              <a:ext cx="111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Оплата труд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одель растущего разнообразия товаров в закрытой экономи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715160" cy="38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пределим спрос на машины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-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о тип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Object 6"/>
              <p:cNvSpPr txBox="1"/>
              <p:nvPr/>
            </p:nvSpPr>
            <p:spPr>
              <a:xfrm>
                <a:off x="468360" y="1989000"/>
                <a:ext cx="8137440" cy="140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β</m:t>
                                </m:r>
                              </m:den>
                            </m:f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p>
                                      <m:e>
                                        <m:d>
                                          <m:dPr>
                                            <m:begChr m:val="["/>
                                            <m:endChr m:val="]"/>
                                          </m:dPr>
                                          <m:e>
                                            <m:r>
                                              <m:t xml:space="preserve">x</m:t>
                                            </m:r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t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e>
                                        </m:d>
                                      </m:e>
                                      <m:sup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β</m:t>
                                        </m:r>
                                      </m:sup>
                                    </m:sSup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i</m:t>
                                    </m:r>
                                  </m:e>
                                </m:nary>
                              </m:e>
                            </m:d>
                            <m:sSup>
                              <m:e>
                                <m:r>
                                  <m:t xml:space="preserve">L</m:t>
                                </m:r>
                              </m:e>
                              <m:sup>
                                <m:r>
                                  <m:t xml:space="preserve">β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nary>
                              <m:naryPr>
                                <m:chr m:val="∫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p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w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L</m:t>
                                </m:r>
                              </m:e>
                            </m:nary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4" name="Rectangle 13"/>
          <p:cNvSpPr/>
          <p:nvPr/>
        </p:nvSpPr>
        <p:spPr>
          <a:xfrm>
            <a:off x="611280" y="3645000"/>
            <a:ext cx="82915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4"/>
          <p:cNvSpPr/>
          <p:nvPr/>
        </p:nvSpPr>
        <p:spPr>
          <a:xfrm>
            <a:off x="539640" y="3357720"/>
            <a:ext cx="82915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ерепишем следующим образом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Group 32"/>
          <p:cNvGrpSpPr/>
          <p:nvPr/>
        </p:nvGrpSpPr>
        <p:grpSpPr>
          <a:xfrm>
            <a:off x="468360" y="3789360"/>
            <a:ext cx="8434440" cy="3068640"/>
            <a:chOff x="468360" y="3789360"/>
            <a:chExt cx="8434440" cy="3068640"/>
          </a:xfrm>
        </p:grpSpPr>
        <p:sp>
          <p:nvSpPr>
            <p:cNvPr id="107" name="Rectangle 4"/>
            <p:cNvSpPr/>
            <p:nvPr/>
          </p:nvSpPr>
          <p:spPr>
            <a:xfrm>
              <a:off x="611280" y="4869000"/>
              <a:ext cx="8291520" cy="19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9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8" name="Object 15"/>
                <p:cNvSpPr txBox="1"/>
                <p:nvPr/>
              </p:nvSpPr>
              <p:spPr>
                <a:xfrm>
                  <a:off x="539640" y="3789360"/>
                  <a:ext cx="7993080" cy="1177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sSup>
                            <m:e>
                              <m:r>
                                <m:t xml:space="preserve">L</m:t>
                              </m:r>
                            </m:e>
                            <m:sup>
                              <m:r>
                                <m:t xml:space="preserve">β</m:t>
                              </m:r>
                            </m:sup>
                          </m:sSup>
                        </m:num>
                        <m:den>
                          <m:r>
                            <m:t xml:space="preserve">1</m:t>
                          </m:r>
                          <m:r>
                            <m:t xml:space="preserve">−</m:t>
                          </m:r>
                          <m:r>
                            <m:t xml:space="preserve">β</m:t>
                          </m:r>
                        </m:den>
                      </m:f>
                      <m:f>
                        <m:num>
                          <m:r>
                            <m:t xml:space="preserve">d</m:t>
                          </m:r>
                          <m:nary>
                            <m:naryPr>
                              <m:chr m:val="∫"/>
                              <m:subHide m:val="1"/>
                              <m:supHide m:val="1"/>
                            </m:naryPr>
                            <m:sub/>
                            <m:sup/>
                            <m:e>
                              <m:sSup>
                                <m:e>
                                  <m:d>
                                    <m:dPr>
                                      <m:begChr m:val="["/>
                                      <m:endChr m:val="]"/>
                                    </m:dPr>
                                    <m:e>
                                      <m:r>
                                        <m:t xml:space="preserve">x</m:t>
                                      </m:r>
                                      <m:r>
                                        <m:t xml:space="preserve">(</m:t>
                                      </m:r>
                                      <m:r>
                                        <m:t xml:space="preserve">i</m:t>
                                      </m:r>
                                      <m:r>
                                        <m:t xml:space="preserve">,</m:t>
                                      </m:r>
                                      <m:r>
                                        <m:t xml:space="preserve">t</m:t>
                                      </m:r>
                                      <m:r>
                                        <m:t xml:space="preserve">)</m:t>
                                      </m:r>
                                    </m:e>
                                  </m:d>
                                </m:e>
                                <m:sup>
                                  <m:r>
                                    <m:t xml:space="preserve">1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β</m:t>
                                  </m:r>
                                </m:sup>
                              </m:sSup>
                              <m:r>
                                <m:rPr>
                                  <m:lit/>
                                  <m:nor/>
                                </m:rPr>
                                <m:t xml:space="preserve">di</m:t>
                              </m:r>
                            </m:e>
                          </m:nary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x</m:t>
                          </m:r>
                          <m:r>
                            <m:t xml:space="preserve">(</m:t>
                          </m:r>
                          <m:r>
                            <m:t xml:space="preserve">i</m:t>
                          </m:r>
                          <m:r>
                            <m:t xml:space="preserve">,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</m:den>
                      </m:f>
                      <m:r>
                        <m:t xml:space="preserve">−</m:t>
                      </m:r>
                      <m:f>
                        <m:num>
                          <m:r>
                            <m:t xml:space="preserve">d</m:t>
                          </m:r>
                          <m:nary>
                            <m:naryPr>
                              <m:chr m:val="∫"/>
                              <m:subHide m:val="1"/>
                              <m:supHide m:val="1"/>
                            </m:naryPr>
                            <m:sub/>
                            <m:sup/>
                            <m:e>
                              <m:r>
                                <m:t xml:space="preserve">p</m:t>
                              </m:r>
                              <m:r>
                                <m:t xml:space="preserve">(</m:t>
                              </m:r>
                              <m:r>
                                <m:t xml:space="preserve">i</m:t>
                              </m:r>
                              <m:r>
                                <m:t xml:space="preserve">,</m:t>
                              </m:r>
                              <m:r>
                                <m:t xml:space="preserve">t</m:t>
                              </m:r>
                              <m:r>
                                <m:t xml:space="preserve">)</m:t>
                              </m:r>
                              <m:r>
                                <m:t xml:space="preserve">x</m:t>
                              </m:r>
                              <m:r>
                                <m:t xml:space="preserve">(</m:t>
                              </m:r>
                              <m:r>
                                <m:t xml:space="preserve">i</m:t>
                              </m:r>
                              <m:r>
                                <m:t xml:space="preserve">,</m:t>
                              </m:r>
                              <m:r>
                                <m:t xml:space="preserve">t</m:t>
                              </m:r>
                              <m:r>
                                <m:t xml:space="preserve">)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di</m:t>
                              </m:r>
                            </m:e>
                          </m:nary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x</m:t>
                          </m:r>
                          <m:r>
                            <m:t xml:space="preserve">(</m:t>
                          </m:r>
                          <m:r>
                            <m:t xml:space="preserve">i</m:t>
                          </m:r>
                          <m:r>
                            <m:t xml:space="preserve">,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</m:den>
                      </m:f>
                      <m:r>
                        <m:t xml:space="preserve">−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dw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t xml:space="preserve">L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x</m:t>
                          </m:r>
                          <m:r>
                            <m:t xml:space="preserve">(</m:t>
                          </m:r>
                          <m:r>
                            <m:t xml:space="preserve">i</m:t>
                          </m:r>
                          <m:r>
                            <m:t xml:space="preserve">,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09" name="AutoShape 25"/>
            <p:cNvSpPr/>
            <p:nvPr/>
          </p:nvSpPr>
          <p:spPr>
            <a:xfrm rot="16200000">
              <a:off x="7489080" y="4688280"/>
              <a:ext cx="289080" cy="1081080"/>
            </a:xfrm>
            <a:custGeom>
              <a:avLst/>
              <a:gdLst>
                <a:gd name="textAreaLeft" fmla="*/ 184680 w 289080"/>
                <a:gd name="textAreaRight" fmla="*/ 289080 w 289080"/>
                <a:gd name="textAreaTop" fmla="*/ 28080 h 1081080"/>
                <a:gd name="textAreaBottom" fmla="*/ 1053000 h 1081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Text Box 26"/>
            <p:cNvSpPr/>
            <p:nvPr/>
          </p:nvSpPr>
          <p:spPr>
            <a:xfrm>
              <a:off x="7308720" y="5445000"/>
              <a:ext cx="100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=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Text Box 27"/>
            <p:cNvSpPr/>
            <p:nvPr/>
          </p:nvSpPr>
          <p:spPr>
            <a:xfrm>
              <a:off x="4067280" y="5373720"/>
              <a:ext cx="2809800" cy="119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(i,t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В данном случае интеграл – просто сумма произведени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2" name="Object 28"/>
                <p:cNvSpPr txBox="1"/>
                <p:nvPr/>
              </p:nvSpPr>
              <p:spPr>
                <a:xfrm>
                  <a:off x="826920" y="5300640"/>
                  <a:ext cx="2519640" cy="773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sSup>
                            <m:e>
                              <m:r>
                                <m:t xml:space="preserve">L</m:t>
                              </m:r>
                            </m:e>
                            <m:sup>
                              <m:r>
                                <m:t xml:space="preserve">β</m:t>
                              </m:r>
                            </m:sup>
                          </m:sSup>
                        </m:num>
                        <m:den>
                          <m:r>
                            <m:t xml:space="preserve">1</m:t>
                          </m:r>
                          <m:r>
                            <m:t xml:space="preserve">−</m:t>
                          </m:r>
                          <m:r>
                            <m:t xml:space="preserve">β</m:t>
                          </m:r>
                        </m:den>
                      </m:f>
                      <m:f>
                        <m:num>
                          <m:r>
                            <m:t xml:space="preserve">1</m:t>
                          </m:r>
                          <m:r>
                            <m:t xml:space="preserve">−</m:t>
                          </m:r>
                          <m:r>
                            <m:t xml:space="preserve">β</m:t>
                          </m:r>
                        </m:num>
                        <m:den>
                          <m:sSup>
                            <m:e>
                              <m:d>
                                <m:dPr>
                                  <m:begChr m:val="["/>
                                  <m:endChr m:val="]"/>
                                </m:dPr>
                                <m:e>
                                  <m:r>
                                    <m:t xml:space="preserve">x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,</m:t>
                                  </m:r>
                                  <m:r>
                                    <m:t xml:space="preserve">t</m:t>
                                  </m:r>
                                  <m:r>
                                    <m:t xml:space="preserve">)</m:t>
                                  </m:r>
                                </m:e>
                              </m:d>
                            </m:e>
                            <m:sup>
                              <m:r>
                                <m:t xml:space="preserve">β</m:t>
                              </m:r>
                            </m:sup>
                          </m:sSup>
                        </m:den>
                      </m:f>
                      <m:r>
                        <m:t xml:space="preserve">=</m:t>
                      </m:r>
                      <m:sSup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f>
                                <m:num>
                                  <m:r>
                                    <m:t xml:space="preserve">L</m:t>
                                  </m:r>
                                </m:num>
                                <m:den>
                                  <m:r>
                                    <m:t xml:space="preserve">x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,</m:t>
                                  </m:r>
                                  <m:r>
                                    <m:t xml:space="preserve">t</m:t>
                                  </m:r>
                                  <m:r>
                                    <m:t xml:space="preserve">)</m:t>
                                  </m:r>
                                </m:den>
                              </m:f>
                            </m:e>
                          </m:d>
                        </m:e>
                        <m:sup>
                          <m:r>
                            <m:t xml:space="preserve">β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113" name="AutoShape 29"/>
            <p:cNvSpPr/>
            <p:nvPr/>
          </p:nvSpPr>
          <p:spPr>
            <a:xfrm rot="16200000">
              <a:off x="5147280" y="3861000"/>
              <a:ext cx="360360" cy="2520720"/>
            </a:xfrm>
            <a:custGeom>
              <a:avLst/>
              <a:gdLst>
                <a:gd name="textAreaLeft" fmla="*/ 230400 w 360360"/>
                <a:gd name="textAreaRight" fmla="*/ 360720 w 360360"/>
                <a:gd name="textAreaTop" fmla="*/ 65520 h 2520720"/>
                <a:gd name="textAreaBottom" fmla="*/ 2455200 h 252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AutoShape 30"/>
            <p:cNvSpPr/>
            <p:nvPr/>
          </p:nvSpPr>
          <p:spPr>
            <a:xfrm rot="16200000">
              <a:off x="1980360" y="3429360"/>
              <a:ext cx="360360" cy="3384360"/>
            </a:xfrm>
            <a:custGeom>
              <a:avLst/>
              <a:gdLst>
                <a:gd name="textAreaLeft" fmla="*/ 230400 w 360360"/>
                <a:gd name="textAreaRight" fmla="*/ 360720 w 360360"/>
                <a:gd name="textAreaTop" fmla="*/ 88200 h 3384360"/>
                <a:gd name="textAreaBottom" fmla="*/ 3296160 h 338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Text Box 31"/>
            <p:cNvSpPr/>
            <p:nvPr/>
          </p:nvSpPr>
          <p:spPr>
            <a:xfrm>
              <a:off x="826920" y="6093000"/>
              <a:ext cx="28101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В данном случае интеграл – просто сумма степене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одель растущего разнообразия товаров в закрытой экономи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715160" cy="38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так, получаем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Object 4"/>
              <p:cNvSpPr txBox="1"/>
              <p:nvPr/>
            </p:nvSpPr>
            <p:spPr>
              <a:xfrm>
                <a:off x="539640" y="2060640"/>
                <a:ext cx="3024360" cy="13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L</m:t>
                                </m:r>
                              </m:num>
                              <m:den>
                                <m:r>
                                  <m:t xml:space="preserve">x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β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0" name="Rectangle 5"/>
          <p:cNvSpPr/>
          <p:nvPr/>
        </p:nvSpPr>
        <p:spPr>
          <a:xfrm>
            <a:off x="611280" y="3645000"/>
            <a:ext cx="82915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6"/>
          <p:cNvSpPr/>
          <p:nvPr/>
        </p:nvSpPr>
        <p:spPr>
          <a:xfrm>
            <a:off x="539640" y="3357720"/>
            <a:ext cx="82915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разим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(i,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8"/>
          <p:cNvSpPr/>
          <p:nvPr/>
        </p:nvSpPr>
        <p:spPr>
          <a:xfrm>
            <a:off x="611280" y="4869000"/>
            <a:ext cx="8291520" cy="19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Object 18"/>
              <p:cNvSpPr txBox="1"/>
              <p:nvPr/>
            </p:nvSpPr>
            <p:spPr>
              <a:xfrm>
                <a:off x="608040" y="3789360"/>
                <a:ext cx="3897360" cy="73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β</m:t>
                            </m:r>
                          </m:den>
                        </m:f>
                      </m:sup>
                    </m:sSup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одель растущего разнообразия товаров в закрытой экономи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152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м временем производитель машин максимизирует свою чистую приведенную стоимость, начиная с текущего момента и до бесконеч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4"/>
          <p:cNvSpPr/>
          <p:nvPr/>
        </p:nvSpPr>
        <p:spPr>
          <a:xfrm>
            <a:off x="611280" y="4869000"/>
            <a:ext cx="8291520" cy="19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Group 14"/>
          <p:cNvGrpSpPr/>
          <p:nvPr/>
        </p:nvGrpSpPr>
        <p:grpSpPr>
          <a:xfrm>
            <a:off x="539640" y="2421000"/>
            <a:ext cx="6912000" cy="2056680"/>
            <a:chOff x="539640" y="2421000"/>
            <a:chExt cx="6912000" cy="2056680"/>
          </a:xfrm>
        </p:grpSpPr>
        <mc:AlternateContent>
          <mc:Choice xmlns:a14="http://schemas.microsoft.com/office/drawing/2010/main" Requires="a14">
            <p:sp>
              <p:nvSpPr>
                <p:cNvPr id="129" name="Object 6"/>
                <p:cNvSpPr txBox="1"/>
                <p:nvPr/>
              </p:nvSpPr>
              <p:spPr>
                <a:xfrm>
                  <a:off x="539640" y="2421000"/>
                  <a:ext cx="6747120" cy="842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V</m:t>
                      </m:r>
                      <m:r>
                        <m:t xml:space="preserve">(</m:t>
                      </m:r>
                      <m:r>
                        <m:t xml:space="preserve">i</m:t>
                      </m:r>
                      <m:r>
                        <m:t xml:space="preserve">,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nary>
                        <m:naryPr>
                          <m:chr m:val="∫"/>
                          <m:subHide m:val="1"/>
                          <m:supHide m:val="1"/>
                        </m:naryPr>
                        <m:sub/>
                        <m:sup/>
                        <m:e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−</m:t>
                              </m:r>
                              <m:nary>
                                <m:naryPr>
                                  <m:chr m:val="∫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r>
                                    <m:t xml:space="preserve">r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s</m:t>
                                  </m:r>
                                  <m:r>
                                    <m:t xml:space="preserve">'</m:t>
                                  </m:r>
                                  <m:r>
                                    <m:t xml:space="preserve">)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ds</m:t>
                                  </m:r>
                                  <m:r>
                                    <m:t xml:space="preserve">'</m:t>
                                  </m:r>
                                </m:e>
                              </m:nary>
                            </m:sup>
                          </m:sSup>
                        </m:e>
                      </m:nary>
                      <m:d>
                        <m:dPr>
                          <m:begChr m:val="["/>
                          <m:endChr m:val="]"/>
                        </m:dPr>
                        <m:e>
                          <m:r>
                            <m:t xml:space="preserve">p</m:t>
                          </m:r>
                          <m:r>
                            <m:t xml:space="preserve">(</m:t>
                          </m:r>
                          <m:r>
                            <m:t xml:space="preserve">i</m:t>
                          </m:r>
                          <m:r>
                            <m:t xml:space="preserve">,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t xml:space="preserve">x</m:t>
                          </m:r>
                          <m:r>
                            <m:t xml:space="preserve">(</m:t>
                          </m:r>
                          <m:r>
                            <m:t xml:space="preserve">i</m:t>
                          </m:r>
                          <m:r>
                            <m:t xml:space="preserve">,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t xml:space="preserve">−</m:t>
                          </m:r>
                          <m:r>
                            <m:t xml:space="preserve">ψx</m:t>
                          </m:r>
                          <m:r>
                            <m:t xml:space="preserve">(</m:t>
                          </m:r>
                          <m:r>
                            <m:t xml:space="preserve">i</m:t>
                          </m:r>
                          <m:r>
                            <m:t xml:space="preserve">,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</m:e>
                      </m:d>
                      <m:r>
                        <m:rPr>
                          <m:lit/>
                          <m:nor/>
                        </m:rPr>
                        <m:t xml:space="preserve">ds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30" name="AutoShape 7"/>
            <p:cNvSpPr/>
            <p:nvPr/>
          </p:nvSpPr>
          <p:spPr>
            <a:xfrm rot="16200000">
              <a:off x="2807280" y="2660760"/>
              <a:ext cx="289080" cy="1224000"/>
            </a:xfrm>
            <a:custGeom>
              <a:avLst/>
              <a:gdLst>
                <a:gd name="textAreaLeft" fmla="*/ 184680 w 289080"/>
                <a:gd name="textAreaRight" fmla="*/ 289080 w 289080"/>
                <a:gd name="textAreaTop" fmla="*/ 31680 h 1224000"/>
                <a:gd name="textAreaBottom" fmla="*/ 1192320 h 1224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AutoShape 8"/>
            <p:cNvSpPr/>
            <p:nvPr/>
          </p:nvSpPr>
          <p:spPr>
            <a:xfrm rot="16200000">
              <a:off x="4354920" y="2408400"/>
              <a:ext cx="289080" cy="1728720"/>
            </a:xfrm>
            <a:custGeom>
              <a:avLst/>
              <a:gdLst>
                <a:gd name="textAreaLeft" fmla="*/ 184680 w 289080"/>
                <a:gd name="textAreaRight" fmla="*/ 289080 w 289080"/>
                <a:gd name="textAreaTop" fmla="*/ 45000 h 1728720"/>
                <a:gd name="textAreaBottom" fmla="*/ 1683720 h 1728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AutoShape 9"/>
            <p:cNvSpPr/>
            <p:nvPr/>
          </p:nvSpPr>
          <p:spPr>
            <a:xfrm rot="16200000">
              <a:off x="6084000" y="2768760"/>
              <a:ext cx="289080" cy="1008360"/>
            </a:xfrm>
            <a:custGeom>
              <a:avLst/>
              <a:gdLst>
                <a:gd name="textAreaLeft" fmla="*/ 184680 w 289080"/>
                <a:gd name="textAreaRight" fmla="*/ 289080 w 289080"/>
                <a:gd name="textAreaTop" fmla="*/ 26280 h 1008360"/>
                <a:gd name="textAreaBottom" fmla="*/ 982080 h 1008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Text Box 10"/>
            <p:cNvSpPr/>
            <p:nvPr/>
          </p:nvSpPr>
          <p:spPr>
            <a:xfrm>
              <a:off x="1403280" y="3560760"/>
              <a:ext cx="2232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Коэффициент дисконтировани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Text Box 11"/>
            <p:cNvSpPr/>
            <p:nvPr/>
          </p:nvSpPr>
          <p:spPr>
            <a:xfrm>
              <a:off x="3635280" y="3560760"/>
              <a:ext cx="2160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Выручка от продажи машин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Text Box 12"/>
            <p:cNvSpPr/>
            <p:nvPr/>
          </p:nvSpPr>
          <p:spPr>
            <a:xfrm>
              <a:off x="5796000" y="3560760"/>
              <a:ext cx="16556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Издержки на производство машин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Text Box 13"/>
          <p:cNvSpPr/>
          <p:nvPr/>
        </p:nvSpPr>
        <p:spPr>
          <a:xfrm>
            <a:off x="468360" y="4437000"/>
            <a:ext cx="8209080" cy="24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(t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авка процента;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, s’ –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четчики време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Важно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исконтирование для фирмы производится по текущей ставке процента, которая может быть неодинаковой во времени, поэтому дисконтирующий множитель выглядит та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быль фирмы в одном периоде не влияет на прибыль в остальных период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одель растущего разнообразия товаров в закрытой экономи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8000" y="1413000"/>
            <a:ext cx="7715160" cy="38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аксимизируем прибыль фирм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" name="Object 9"/>
              <p:cNvSpPr txBox="1"/>
              <p:nvPr/>
            </p:nvSpPr>
            <p:spPr>
              <a:xfrm>
                <a:off x="539640" y="1773360"/>
                <a:ext cx="2005200" cy="57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1" name="Rectangle 5"/>
          <p:cNvSpPr/>
          <p:nvPr/>
        </p:nvSpPr>
        <p:spPr>
          <a:xfrm>
            <a:off x="611280" y="3645000"/>
            <a:ext cx="82915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6"/>
          <p:cNvSpPr/>
          <p:nvPr/>
        </p:nvSpPr>
        <p:spPr>
          <a:xfrm>
            <a:off x="539640" y="2349360"/>
            <a:ext cx="8291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 имеющемся спросе на машин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7"/>
          <p:cNvSpPr/>
          <p:nvPr/>
        </p:nvSpPr>
        <p:spPr>
          <a:xfrm>
            <a:off x="611280" y="4869000"/>
            <a:ext cx="8291520" cy="19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" name="Object 8"/>
              <p:cNvSpPr txBox="1"/>
              <p:nvPr/>
            </p:nvSpPr>
            <p:spPr>
              <a:xfrm>
                <a:off x="611280" y="2781360"/>
                <a:ext cx="2923920" cy="55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β</m:t>
                            </m:r>
                          </m:den>
                        </m:f>
                      </m:sup>
                    </m:sSup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5" name="Rectangle 12"/>
          <p:cNvSpPr/>
          <p:nvPr/>
        </p:nvSpPr>
        <p:spPr>
          <a:xfrm>
            <a:off x="611280" y="3429000"/>
            <a:ext cx="8291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7000"/>
          </a:bodyPr>
          <a:p>
            <a:pPr marL="160920" indent="-1609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нимая во внимание, что эластичность спроса на машины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го типа по их цене составляет -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удивительно, что все фирмы установят одинаковую надбавку к цене (вспомним индекс Лернера). С другой стороны, все фирмы во все периоды сталкиваются с постоянными предельными издержками. Таким образом, цены всех фирм и во все периоды времени будут одинаков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Object 13"/>
              <p:cNvSpPr txBox="1"/>
              <p:nvPr/>
            </p:nvSpPr>
            <p:spPr>
              <a:xfrm>
                <a:off x="755640" y="5734080"/>
                <a:ext cx="244800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ψ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β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одель растущего разнообразия товаров в закрытой экономи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68000" y="1413000"/>
            <a:ext cx="7715160" cy="38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дставляем равновесную цену в функцию спроса, получаем равновесное количество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Object 10"/>
              <p:cNvSpPr txBox="1"/>
              <p:nvPr/>
            </p:nvSpPr>
            <p:spPr>
              <a:xfrm>
                <a:off x="539640" y="4870440"/>
                <a:ext cx="6337440" cy="93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β</m:t>
                        </m:r>
                      </m:den>
                    </m:f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β</m:t>
                                    </m:r>
                                  </m:num>
                                  <m:den>
                                    <m:r>
                                      <m:t xml:space="preserve">ψ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β</m:t>
                                </m:r>
                              </m:num>
                              <m:den>
                                <m:r>
                                  <m:t xml:space="preserve">β</m:t>
                                </m:r>
                              </m:den>
                            </m:f>
                          </m:sup>
                        </m:sSup>
                      </m:e>
                    </m:nary>
                    <m:sSup>
                      <m:e>
                        <m:r>
                          <m:t xml:space="preserve">L</m:t>
                        </m:r>
                      </m:e>
                      <m:sup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β</m:t>
                        </m:r>
                      </m:sup>
                    </m:sSup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diL</m:t>
                        </m:r>
                      </m:e>
                      <m:sup>
                        <m:r>
                          <m:t xml:space="preserve">β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β</m:t>
                            </m:r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β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p>
                    <m:sSup>
                      <m:e>
                        <m:r>
                          <m:t xml:space="preserve">ψ</m:t>
                        </m:r>
                      </m:e>
                      <m:sup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β</m:t>
                            </m:r>
                          </m:den>
                        </m:f>
                      </m:sup>
                    </m:sSup>
                    <m:r>
                      <m:t xml:space="preserve">N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1" name="Rectangle 5"/>
          <p:cNvSpPr/>
          <p:nvPr/>
        </p:nvSpPr>
        <p:spPr>
          <a:xfrm>
            <a:off x="611280" y="3645000"/>
            <a:ext cx="82915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7"/>
          <p:cNvSpPr/>
          <p:nvPr/>
        </p:nvSpPr>
        <p:spPr>
          <a:xfrm>
            <a:off x="611280" y="4869000"/>
            <a:ext cx="8291520" cy="19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" name="Object 8"/>
              <p:cNvSpPr txBox="1"/>
              <p:nvPr/>
            </p:nvSpPr>
            <p:spPr>
              <a:xfrm>
                <a:off x="351000" y="2133720"/>
                <a:ext cx="2925720" cy="98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β</m:t>
                                </m:r>
                              </m:num>
                              <m:den>
                                <m:r>
                                  <m:t xml:space="preserve">ψ</m:t>
                                </m:r>
                              </m:den>
                            </m:f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β</m:t>
                            </m:r>
                          </m:den>
                        </m:f>
                      </m:sup>
                    </m:sSup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4" name="Rectangle 9"/>
          <p:cNvSpPr/>
          <p:nvPr/>
        </p:nvSpPr>
        <p:spPr>
          <a:xfrm>
            <a:off x="395280" y="3068640"/>
            <a:ext cx="8291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перь подставим это в производственную функцию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Object 12"/>
              <p:cNvSpPr txBox="1"/>
              <p:nvPr/>
            </p:nvSpPr>
            <p:spPr>
              <a:xfrm>
                <a:off x="468360" y="3500280"/>
                <a:ext cx="432108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β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x</m:t>
                                    </m:r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t</m:t>
                                    </m:r>
                                    <m:r>
                                      <m:t xml:space="preserve">)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β</m:t>
                                </m:r>
                              </m:sup>
                            </m:sSup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e>
                    </m:d>
                    <m:sSup>
                      <m:e>
                        <m:r>
                          <m:t xml:space="preserve">L</m:t>
                        </m:r>
                      </m:e>
                      <m:sup>
                        <m:r>
                          <m:t xml:space="preserve">β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56" name="Rectangle 14"/>
          <p:cNvSpPr/>
          <p:nvPr/>
        </p:nvSpPr>
        <p:spPr>
          <a:xfrm>
            <a:off x="539640" y="4365720"/>
            <a:ext cx="82915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лучаем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15"/>
          <p:cNvSpPr/>
          <p:nvPr/>
        </p:nvSpPr>
        <p:spPr>
          <a:xfrm>
            <a:off x="539640" y="5877000"/>
            <a:ext cx="82915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1000"/>
          </a:bodyPr>
          <a:p>
            <a:pPr marL="243360" indent="-243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Значение изобретения новых машин в данной модели становится очевидным: производительность труда прямо пропорциональна их разнообрази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одель растущего разнообразия товаров в закрытой экономи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68000" y="1413000"/>
            <a:ext cx="7715160" cy="38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0000"/>
          </a:bodyPr>
          <a:p>
            <a:pPr marL="1026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скольку вход в отрасль по производству машин свободный, в этой отрасли (как и в отрасли по производству конечных благ) не будет экономической прибыли, то есть затраты, включающие в себя затраты на изобретение и производство, окажутся равны выручк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026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аким образом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Object 9"/>
              <p:cNvSpPr txBox="1"/>
              <p:nvPr/>
            </p:nvSpPr>
            <p:spPr>
              <a:xfrm>
                <a:off x="468360" y="3429000"/>
                <a:ext cx="4174920" cy="70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Z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nary>
                    <m:r>
                      <m:rPr>
                        <m:lit/>
                        <m:nor/>
                      </m:rPr>
                      <m:t xml:space="preserve">di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2" name="Rectangle 5"/>
          <p:cNvSpPr/>
          <p:nvPr/>
        </p:nvSpPr>
        <p:spPr>
          <a:xfrm>
            <a:off x="611280" y="3645000"/>
            <a:ext cx="82915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6"/>
          <p:cNvSpPr/>
          <p:nvPr/>
        </p:nvSpPr>
        <p:spPr>
          <a:xfrm>
            <a:off x="611280" y="4869000"/>
            <a:ext cx="8291520" cy="19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10"/>
          <p:cNvSpPr/>
          <p:nvPr/>
        </p:nvSpPr>
        <p:spPr>
          <a:xfrm>
            <a:off x="468360" y="4221000"/>
            <a:ext cx="8291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 другой стороны, затраты на производство машин составляю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5" name="Object 17"/>
              <p:cNvSpPr txBox="1"/>
              <p:nvPr/>
            </p:nvSpPr>
            <p:spPr>
              <a:xfrm>
                <a:off x="611280" y="4724280"/>
                <a:ext cx="2546280" cy="65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ψx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nary>
                    <m:r>
                      <m:rPr>
                        <m:lit/>
                        <m:nor/>
                      </m:rPr>
                      <m:t xml:space="preserve">di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6" name="Rectangle 18"/>
          <p:cNvSpPr/>
          <p:nvPr/>
        </p:nvSpPr>
        <p:spPr>
          <a:xfrm>
            <a:off x="611280" y="5300640"/>
            <a:ext cx="8291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ответственно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" name="Object 19"/>
              <p:cNvSpPr txBox="1"/>
              <p:nvPr/>
            </p:nvSpPr>
            <p:spPr>
              <a:xfrm>
                <a:off x="684360" y="5805360"/>
                <a:ext cx="3706560" cy="65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r>
                              <m:t xml:space="preserve">ψ</m:t>
                            </m:r>
                          </m:e>
                        </m:d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nary>
                    <m:r>
                      <m:rPr>
                        <m:lit/>
                        <m:nor/>
                      </m:rPr>
                      <m:t xml:space="preserve">di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одель растущего разнообразия товаров в закрытой экономи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" name="Object 14"/>
              <p:cNvSpPr txBox="1"/>
              <p:nvPr/>
            </p:nvSpPr>
            <p:spPr>
              <a:xfrm>
                <a:off x="468360" y="4581360"/>
                <a:ext cx="388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Y</m:t>
                        </m:r>
                      </m:den>
                    </m:f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β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;</m:t>
                    </m:r>
                    <m:f>
                      <m:fPr>
                        <m:type m:val="lin"/>
                      </m:fPr>
                      <m:num>
                        <m:r>
                          <m:t xml:space="preserve">Z</m:t>
                        </m:r>
                      </m:num>
                      <m:den>
                        <m:r>
                          <m:t xml:space="preserve">Y</m:t>
                        </m:r>
                      </m:den>
                    </m:f>
                    <m:r>
                      <m:t xml:space="preserve">=</m:t>
                    </m:r>
                    <m:r>
                      <m:t xml:space="preserve">β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β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" name="Object 8"/>
              <p:cNvSpPr txBox="1"/>
              <p:nvPr/>
            </p:nvSpPr>
            <p:spPr>
              <a:xfrm>
                <a:off x="395280" y="1916280"/>
                <a:ext cx="7705800" cy="21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ψ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β</m:t>
                                        </m:r>
                                      </m:num>
                                      <m:den>
                                        <m:r>
                                          <m:t xml:space="preserve">ψ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β</m:t>
                                    </m:r>
                                  </m:den>
                                </m:f>
                              </m:sup>
                            </m:sSup>
                            <m:r>
                              <m:t xml:space="preserve">L</m:t>
                            </m:r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  <m:r>
                          <m:t xml:space="preserve">=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β</m:t>
                                </m:r>
                              </m:e>
                            </m:d>
                          </m:e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β</m:t>
                                </m:r>
                              </m:den>
                            </m:f>
                          </m:sup>
                        </m:sSup>
                        <m:sSup>
                          <m:e>
                            <m:r>
                              <m:t xml:space="preserve">ψ</m:t>
                            </m:r>
                          </m:e>
                          <m:sup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β</m:t>
                                </m:r>
                              </m:den>
                            </m:f>
                          </m:sup>
                        </m:sSup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L</m:t>
                        </m:r>
                      </m:e>
                      <m:e>
                        <m:r>
                          <m:t xml:space="preserve">Z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ψ</m:t>
                                    </m:r>
                                  </m:num>
                                  <m:den>
                                    <m:r>
                                      <m:t xml:space="preserve">1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β</m:t>
                                    </m:r>
                                  </m:den>
                                </m:f>
                                <m:r>
                                  <m:t xml:space="preserve">−</m:t>
                                </m:r>
                                <m:r>
                                  <m:t xml:space="preserve">ψ</m:t>
                                </m:r>
                              </m:e>
                            </m:d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β</m:t>
                                        </m:r>
                                      </m:num>
                                      <m:den>
                                        <m:r>
                                          <m:t xml:space="preserve">ψ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β</m:t>
                                    </m:r>
                                  </m:den>
                                </m:f>
                              </m:sup>
                            </m:sSup>
                            <m:r>
                              <m:t xml:space="preserve">L</m:t>
                            </m:r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  <m:r>
                          <m:t xml:space="preserve">=</m:t>
                        </m:r>
                        <m:r>
                          <m:t xml:space="preserve">β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β</m:t>
                                    </m:r>
                                  </m:num>
                                  <m:den>
                                    <m:r>
                                      <m:t xml:space="preserve">ψ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β</m:t>
                                </m:r>
                              </m:den>
                            </m:f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L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72" name="Rectangle 5"/>
          <p:cNvSpPr/>
          <p:nvPr/>
        </p:nvSpPr>
        <p:spPr>
          <a:xfrm>
            <a:off x="611280" y="3645000"/>
            <a:ext cx="82915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6"/>
          <p:cNvSpPr/>
          <p:nvPr/>
        </p:nvSpPr>
        <p:spPr>
          <a:xfrm>
            <a:off x="611280" y="4869000"/>
            <a:ext cx="8291520" cy="19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250920" y="1557360"/>
            <a:ext cx="8291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дставим равновесные цены и количества машин и получим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13"/>
          <p:cNvSpPr/>
          <p:nvPr/>
        </p:nvSpPr>
        <p:spPr>
          <a:xfrm>
            <a:off x="324000" y="4149720"/>
            <a:ext cx="8291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сюда, поделив н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(t)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лучаем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16"/>
          <p:cNvSpPr/>
          <p:nvPr/>
        </p:nvSpPr>
        <p:spPr>
          <a:xfrm>
            <a:off x="468360" y="5084640"/>
            <a:ext cx="8291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скольку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+X+Z=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Object 17"/>
              <p:cNvSpPr txBox="1"/>
              <p:nvPr/>
            </p:nvSpPr>
            <p:spPr>
              <a:xfrm>
                <a:off x="3276720" y="5157720"/>
                <a:ext cx="1079280" cy="36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С</m:t>
                        </m:r>
                      </m:num>
                      <m:den>
                        <m:r>
                          <m:t xml:space="preserve">Y</m:t>
                        </m:r>
                      </m:den>
                    </m:f>
                    <m:r>
                      <m:t xml:space="preserve">=</m:t>
                    </m:r>
                    <m:r>
                      <m:t xml:space="preserve">β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одель растущего разнообразия товаров в закрытой экономи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Object 3"/>
              <p:cNvSpPr txBox="1"/>
              <p:nvPr/>
            </p:nvSpPr>
            <p:spPr>
              <a:xfrm>
                <a:off x="468360" y="3716280"/>
                <a:ext cx="3311640" cy="93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acc>
                          <m:accPr>
                            <m:chr m:val="˙"/>
                          </m:accPr>
                          <m:e>
                            <m:r>
                              <m:t xml:space="preserve">N</m:t>
                            </m:r>
                          </m:e>
                        </m:acc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r>
                      <m:t xml:space="preserve">β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β</m:t>
                                </m:r>
                              </m:num>
                              <m:den>
                                <m:r>
                                  <m:t xml:space="preserve">ψ</m:t>
                                </m:r>
                              </m:den>
                            </m:f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β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η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Object 4"/>
              <p:cNvSpPr txBox="1"/>
              <p:nvPr/>
            </p:nvSpPr>
            <p:spPr>
              <a:xfrm>
                <a:off x="324000" y="2276640"/>
                <a:ext cx="158400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N</m:t>
                        </m:r>
                      </m:e>
                    </m:acc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ηZ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2" name="Rectangle 5"/>
          <p:cNvSpPr/>
          <p:nvPr/>
        </p:nvSpPr>
        <p:spPr>
          <a:xfrm>
            <a:off x="611280" y="3645000"/>
            <a:ext cx="82915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6"/>
          <p:cNvSpPr/>
          <p:nvPr/>
        </p:nvSpPr>
        <p:spPr>
          <a:xfrm>
            <a:off x="611280" y="4869000"/>
            <a:ext cx="8291520" cy="19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7"/>
          <p:cNvSpPr/>
          <p:nvPr/>
        </p:nvSpPr>
        <p:spPr>
          <a:xfrm>
            <a:off x="250920" y="1557360"/>
            <a:ext cx="8291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 marL="246960" indent="-246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перь вспомним, что расходы на изобретения определяют темп роста разнообразия машин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8"/>
          <p:cNvSpPr/>
          <p:nvPr/>
        </p:nvSpPr>
        <p:spPr>
          <a:xfrm>
            <a:off x="324000" y="2708280"/>
            <a:ext cx="8291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1000"/>
          </a:bodyPr>
          <a:p>
            <a:pPr marL="243360" indent="-243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дставив эту формулу в полученное на предыдущем слайде выражение для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(t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выразим темпы прироста продуктового разнообраз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9"/>
          <p:cNvSpPr/>
          <p:nvPr/>
        </p:nvSpPr>
        <p:spPr>
          <a:xfrm>
            <a:off x="468360" y="4653000"/>
            <a:ext cx="8291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1000"/>
          </a:bodyPr>
          <a:p>
            <a:pPr marL="243360" indent="-243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к мы видели раньше, этот темп прироста и определяет скорость изменения основных переменных модели: выпуска, потребления, заработной платы и т.п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одель растущего разнообразия товаров в закрытой экономи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9" name="Object 3"/>
              <p:cNvSpPr txBox="1"/>
              <p:nvPr/>
            </p:nvSpPr>
            <p:spPr>
              <a:xfrm>
                <a:off x="395280" y="1557360"/>
                <a:ext cx="3311640" cy="93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acc>
                          <m:accPr>
                            <m:chr m:val="˙"/>
                          </m:accPr>
                          <m:e>
                            <m:r>
                              <m:t xml:space="preserve">N</m:t>
                            </m:r>
                          </m:e>
                        </m:acc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r>
                      <m:t xml:space="preserve">β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β</m:t>
                                </m:r>
                              </m:num>
                              <m:den>
                                <m:r>
                                  <m:t xml:space="preserve">ψ</m:t>
                                </m:r>
                              </m:den>
                            </m:f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β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η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0" name="Rectangle 6"/>
          <p:cNvSpPr/>
          <p:nvPr/>
        </p:nvSpPr>
        <p:spPr>
          <a:xfrm>
            <a:off x="611280" y="4869000"/>
            <a:ext cx="8291520" cy="19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9"/>
          <p:cNvSpPr/>
          <p:nvPr/>
        </p:nvSpPr>
        <p:spPr>
          <a:xfrm>
            <a:off x="250920" y="2565360"/>
            <a:ext cx="8291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0000"/>
          </a:bodyPr>
          <a:p>
            <a:pPr marL="68400" indent="-684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темпы роста положительно влияют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8400" indent="-684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исленность населения экономики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)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 потому что достижения изобретателей свободно тиражируются и опосредованно употребляются всеми членами обществ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8400" indent="-684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дача от вложений в изобретения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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8400" indent="-684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ластичность выпуска по объему использованного труда (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–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отя на первый взгляд это не очевидно, можно показать, что это утверждение справедливо для 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Причина этого неочевидного результата в том, что чем меньше эластичность выпуска по объему использованных машин, тем, при том же количестве сбережений, больший объем ресурсов может быть использован для изобретения, а не производства маши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8400" indent="-684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рицательно влияю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8400" indent="-684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держки производства машин (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вед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ждународная экономика тесно переплетена с макроэкономикой, это касается не только международных финансов, но и международной торговли. Однако в базовых курсах международной экономики этой связи уделяется немного внимания, точно так же, как и в курсе макроэконом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Теперь применим эту модель к мировой экономи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ля этого введем следующие измен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одель растущего разнообразия товаров в мировой экономи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152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Пусть у нас теперь будет некоторое количество стран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однотипными, но разными производственными функция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Object 4"/>
              <p:cNvSpPr txBox="1"/>
              <p:nvPr/>
            </p:nvSpPr>
            <p:spPr>
              <a:xfrm>
                <a:off x="1042920" y="2755800"/>
                <a:ext cx="5905440" cy="111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β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j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t</m:t>
                                    </m:r>
                                    <m:r>
                                      <m:t xml:space="preserve">)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β</m:t>
                                </m:r>
                              </m:sup>
                            </m:sSup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e>
                    </m:d>
                    <m:sSub>
                      <m:e>
                        <m:r>
                          <m:t xml:space="preserve">L</m:t>
                        </m:r>
                      </m:e>
                      <m:sub>
                        <m:sSup>
                          <m:e>
                            <m:r>
                              <m:t xml:space="preserve">j</m:t>
                            </m:r>
                          </m:e>
                          <m:sup>
                            <m:r>
                              <m:t xml:space="preserve">β</m:t>
                            </m:r>
                          </m:sup>
                        </m:sSup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9" name="Rectangle 5"/>
          <p:cNvSpPr/>
          <p:nvPr/>
        </p:nvSpPr>
        <p:spPr>
          <a:xfrm>
            <a:off x="611280" y="4869000"/>
            <a:ext cx="8291520" cy="19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6"/>
          <p:cNvSpPr/>
          <p:nvPr/>
        </p:nvSpPr>
        <p:spPr>
          <a:xfrm>
            <a:off x="539640" y="4221000"/>
            <a:ext cx="8291520" cy="21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х индивидуальные переменные помечены индексом страны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пуск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j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ровень технического прогресс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Nj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ъем использованных машин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xj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одель растущего разнообразия товаров в мировой экономи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1520" cy="74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юджетное ограничение, разумеется, будет для каждой страны собственным, раз у нее свой выпус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" name="Object 4"/>
              <p:cNvSpPr txBox="1"/>
              <p:nvPr/>
            </p:nvSpPr>
            <p:spPr>
              <a:xfrm>
                <a:off x="900000" y="2421000"/>
                <a:ext cx="393696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5" name="Rectangle 5"/>
          <p:cNvSpPr/>
          <p:nvPr/>
        </p:nvSpPr>
        <p:spPr>
          <a:xfrm>
            <a:off x="611280" y="4869000"/>
            <a:ext cx="8291520" cy="19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6"/>
          <p:cNvSpPr/>
          <p:nvPr/>
        </p:nvSpPr>
        <p:spPr>
          <a:xfrm>
            <a:off x="539640" y="2997360"/>
            <a:ext cx="8291520" cy="21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нимание: поскольку предполагается, что ежегодно соблюдается это равенство, неявно предполагается, что в экономике сбалансированы торговые балансы, и не производится перелив капитала. Впрочем, если мы не сделаем дополнительных допущений, в стационарном состоянии процентные ставки будут равны, и перелива действительно не произойд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одель растущего разнообразия товаров в мировой экономи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152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ведем более существенное изменение: уровень развития мировых технологий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5"/>
          <p:cNvSpPr/>
          <p:nvPr/>
        </p:nvSpPr>
        <p:spPr>
          <a:xfrm>
            <a:off x="611280" y="4869000"/>
            <a:ext cx="8291520" cy="19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6"/>
          <p:cNvSpPr/>
          <p:nvPr/>
        </p:nvSpPr>
        <p:spPr>
          <a:xfrm>
            <a:off x="468360" y="3429000"/>
            <a:ext cx="8291520" cy="21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ы, таким образом, предполагаем, что чем сильнее отставание странового уровня развития технологий от уровня развития мировых технологий, тем быстрее происходит преследование. Это свойство позволит моделировать догоняющее развитие на переходных этап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казывае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епень чувствительности скорости преследования к величине отста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2" name="Object 7"/>
              <p:cNvSpPr txBox="1"/>
              <p:nvPr/>
            </p:nvSpPr>
            <p:spPr>
              <a:xfrm>
                <a:off x="826920" y="2276640"/>
                <a:ext cx="3600720" cy="107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N</m:t>
                            </m:r>
                          </m:e>
                        </m:acc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η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N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  <m:r>
                                      <m:t xml:space="preserve">(</m:t>
                                    </m:r>
                                    <m:r>
                                      <m:t xml:space="preserve">t</m:t>
                                    </m:r>
                                    <m:r>
                                      <m:t xml:space="preserve">)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φ</m:t>
                        </m:r>
                      </m:sup>
                    </m:sSup>
                    <m:r>
                      <m:t xml:space="preserve">Z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φ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одель растущего разнообразия товаров в мировой экономи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5" name="Object 4"/>
              <p:cNvSpPr txBox="1"/>
              <p:nvPr/>
            </p:nvSpPr>
            <p:spPr>
              <a:xfrm>
                <a:off x="539640" y="2349360"/>
                <a:ext cx="3240360" cy="89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β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β</m:t>
                                </m:r>
                              </m:num>
                              <m:den>
                                <m:r>
                                  <m:t xml:space="preserve">ψ</m:t>
                                </m:r>
                              </m:den>
                            </m:f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β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" name="Object 10"/>
              <p:cNvSpPr txBox="1"/>
              <p:nvPr/>
            </p:nvSpPr>
            <p:spPr>
              <a:xfrm>
                <a:off x="611280" y="5603760"/>
                <a:ext cx="396072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N</m:t>
                                </m:r>
                              </m:e>
                            </m:acc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r>
                      <m:t xml:space="preserve">β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β</m:t>
                                </m:r>
                              </m:num>
                              <m:den>
                                <m:r>
                                  <m:t xml:space="preserve">ψ</m:t>
                                </m:r>
                              </m:den>
                            </m:f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β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N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φ</m:t>
                        </m:r>
                      </m:sup>
                    </m:sSup>
                    <m:sSub>
                      <m:e>
                        <m:r>
                          <m:t xml:space="preserve">η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7" name="Rectangle 5"/>
          <p:cNvSpPr/>
          <p:nvPr/>
        </p:nvSpPr>
        <p:spPr>
          <a:xfrm>
            <a:off x="611280" y="3645000"/>
            <a:ext cx="82915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6"/>
          <p:cNvSpPr/>
          <p:nvPr/>
        </p:nvSpPr>
        <p:spPr>
          <a:xfrm>
            <a:off x="611280" y="4869000"/>
            <a:ext cx="8291520" cy="19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7"/>
          <p:cNvSpPr/>
          <p:nvPr/>
        </p:nvSpPr>
        <p:spPr>
          <a:xfrm>
            <a:off x="250920" y="1557360"/>
            <a:ext cx="8291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 marL="246960" indent="-246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спомним, что, как и раньше, равновесный объем вложений в исследования составляет (с учетом страновых различий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8"/>
          <p:cNvSpPr/>
          <p:nvPr/>
        </p:nvSpPr>
        <p:spPr>
          <a:xfrm>
            <a:off x="324000" y="3357720"/>
            <a:ext cx="82915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 marL="246960" indent="-246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то же время, расходы на исследования обеспечивают рост национального уровня технологий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9"/>
          <p:cNvSpPr/>
          <p:nvPr/>
        </p:nvSpPr>
        <p:spPr>
          <a:xfrm>
            <a:off x="468360" y="5084640"/>
            <a:ext cx="8291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сю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2" name="Object 11"/>
              <p:cNvSpPr txBox="1"/>
              <p:nvPr/>
            </p:nvSpPr>
            <p:spPr>
              <a:xfrm>
                <a:off x="816120" y="4094280"/>
                <a:ext cx="2903400" cy="103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N</m:t>
                            </m:r>
                          </m:e>
                        </m:acc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η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N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φ</m:t>
                        </m:r>
                      </m:sup>
                    </m:sSup>
                    <m:r>
                      <m:t xml:space="preserve">Z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одель растущего разнообразия товаров в мировой экономи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5" name="Object 4"/>
              <p:cNvSpPr txBox="1"/>
              <p:nvPr/>
            </p:nvSpPr>
            <p:spPr>
              <a:xfrm>
                <a:off x="250920" y="2492280"/>
                <a:ext cx="5903640" cy="161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sSub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N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N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r>
                          <m:t xml:space="preserve">β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β</m:t>
                                    </m:r>
                                  </m:num>
                                  <m:den>
                                    <m:r>
                                      <m:t xml:space="preserve">ψ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β</m:t>
                                </m:r>
                              </m:den>
                            </m:f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N</m:t>
                                    </m:r>
                                    <m:r>
                                      <m:t xml:space="preserve">(</m:t>
                                    </m:r>
                                    <m:r>
                                      <m:t xml:space="preserve">t</m:t>
                                    </m:r>
                                    <m:r>
                                      <m:t xml:space="preserve">)</m:t>
                                    </m:r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N</m:t>
                                        </m:r>
                                      </m:e>
                                      <m:sub>
                                        <m:r>
                                          <m:t xml:space="preserve">j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r>
                                      <m:t xml:space="preserve">t</m:t>
                                    </m:r>
                                    <m:r>
                                      <m:t xml:space="preserve">)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φ</m:t>
                            </m:r>
                          </m:sup>
                        </m:sSup>
                        <m:sSub>
                          <m:e>
                            <m:r>
                              <m:t xml:space="preserve">η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β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β</m:t>
                                    </m:r>
                                  </m:num>
                                  <m:den>
                                    <m:r>
                                      <m:t xml:space="preserve">ψ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β</m:t>
                                </m:r>
                              </m:den>
                            </m:f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N</m:t>
                                    </m:r>
                                    <m:r>
                                      <m:t xml:space="preserve">(</m:t>
                                    </m:r>
                                    <m:r>
                                      <m:t xml:space="preserve">t</m:t>
                                    </m:r>
                                    <m:r>
                                      <m:t xml:space="preserve">)</m:t>
                                    </m:r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N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r>
                                      <m:t xml:space="preserve">t</m:t>
                                    </m:r>
                                    <m:r>
                                      <m:t xml:space="preserve">)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φ</m:t>
                            </m:r>
                          </m:sup>
                        </m:sSup>
                        <m:sSub>
                          <m:e>
                            <m:r>
                              <m:t xml:space="preserve">η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26" name="Rectangle 5"/>
          <p:cNvSpPr/>
          <p:nvPr/>
        </p:nvSpPr>
        <p:spPr>
          <a:xfrm>
            <a:off x="611280" y="3645000"/>
            <a:ext cx="82915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6"/>
          <p:cNvSpPr/>
          <p:nvPr/>
        </p:nvSpPr>
        <p:spPr>
          <a:xfrm>
            <a:off x="611280" y="4869000"/>
            <a:ext cx="8291520" cy="19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7"/>
          <p:cNvSpPr/>
          <p:nvPr/>
        </p:nvSpPr>
        <p:spPr>
          <a:xfrm>
            <a:off x="250920" y="1557360"/>
            <a:ext cx="8291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1000"/>
          </a:bodyPr>
          <a:p>
            <a:pPr marL="243360" indent="-243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стационарном состоянии темпы роста экономики одинаковы. Что же будет известно об уровнях развития технологий и, соответственно, доходах в разных странах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8"/>
          <p:cNvSpPr/>
          <p:nvPr/>
        </p:nvSpPr>
        <p:spPr>
          <a:xfrm>
            <a:off x="179280" y="4076640"/>
            <a:ext cx="8291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, следователь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9"/>
          <p:cNvSpPr/>
          <p:nvPr/>
        </p:nvSpPr>
        <p:spPr>
          <a:xfrm>
            <a:off x="250920" y="5373720"/>
            <a:ext cx="8291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1000"/>
          </a:bodyPr>
          <a:p>
            <a:pPr marL="243360" indent="-243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аким образом, уровень технического развития в этой модели будет прямо пропорционален численности населения и эффективности вложений в заимствование технолог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1" name="Object 10"/>
              <p:cNvSpPr txBox="1"/>
              <p:nvPr/>
            </p:nvSpPr>
            <p:spPr>
              <a:xfrm>
                <a:off x="250920" y="4437000"/>
                <a:ext cx="1977840" cy="87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L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η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L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η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φ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3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д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4"/>
          <p:cNvSpPr/>
          <p:nvPr/>
        </p:nvSpPr>
        <p:spPr>
          <a:xfrm>
            <a:off x="611280" y="3645000"/>
            <a:ext cx="82915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5"/>
          <p:cNvSpPr/>
          <p:nvPr/>
        </p:nvSpPr>
        <p:spPr>
          <a:xfrm>
            <a:off x="611280" y="4869000"/>
            <a:ext cx="8291520" cy="19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6"/>
          <p:cNvSpPr/>
          <p:nvPr/>
        </p:nvSpPr>
        <p:spPr>
          <a:xfrm>
            <a:off x="250920" y="1557360"/>
            <a:ext cx="8291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0000"/>
          </a:bodyPr>
          <a:p>
            <a:pPr marL="159840" indent="-15984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ипичное свойство моделей тип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K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в том числе и рассмотренной, – предсказывать для крупных экономик бОльшие темпы роста, чем для маленьких. Однако статистика опровергает такой вывод. Как вы считаете, где находится расхождение между описанной моделью (в приложении к мировой экономике) и реальностью, которое ведет к этому разногласию в отношении связи между размером экономики и темпами рост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59840" indent="-15984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коло 9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0 всех изобретений в мире приходится на развитые страны. Соответствует ли этот факт предсказаниям модел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59840" indent="-15984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едположим, при оценке модели вы хотите учесть глобализацию мировой экономики. Каким(и) параметром(ами) вы бы попытались отразить это изменени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59840" indent="-159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59840" indent="-15984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59840" indent="-15984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д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6" descr=""/>
          <p:cNvPicPr/>
          <p:nvPr/>
        </p:nvPicPr>
        <p:blipFill>
          <a:blip r:embed="rId1"/>
          <a:stretch/>
        </p:blipFill>
        <p:spPr>
          <a:xfrm>
            <a:off x="571680" y="2647800"/>
            <a:ext cx="3809880" cy="2428920"/>
          </a:xfrm>
          <a:prstGeom prst="rect">
            <a:avLst/>
          </a:prstGeom>
          <a:ln w="0">
            <a:noFill/>
          </a:ln>
        </p:spPr>
      </p:pic>
      <p:sp>
        <p:nvSpPr>
          <p:cNvPr id="240" name="Rectangle 3"/>
          <p:cNvSpPr/>
          <p:nvPr/>
        </p:nvSpPr>
        <p:spPr>
          <a:xfrm>
            <a:off x="611280" y="3645000"/>
            <a:ext cx="82915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4"/>
          <p:cNvSpPr/>
          <p:nvPr/>
        </p:nvSpPr>
        <p:spPr>
          <a:xfrm>
            <a:off x="611280" y="4869000"/>
            <a:ext cx="8291520" cy="19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5"/>
          <p:cNvSpPr/>
          <p:nvPr/>
        </p:nvSpPr>
        <p:spPr>
          <a:xfrm>
            <a:off x="250920" y="1557360"/>
            <a:ext cx="8291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 marL="384120" indent="-384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 Джонатан Хюбнер обнаружил, что число патентов в США и изобретений в мире имеет Л-образную форму (см. картинки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8" descr=""/>
          <p:cNvPicPr/>
          <p:nvPr/>
        </p:nvPicPr>
        <p:blipFill>
          <a:blip r:embed="rId2"/>
          <a:stretch/>
        </p:blipFill>
        <p:spPr>
          <a:xfrm>
            <a:off x="4762440" y="2690640"/>
            <a:ext cx="3810240" cy="2343240"/>
          </a:xfrm>
          <a:prstGeom prst="rect">
            <a:avLst/>
          </a:prstGeom>
          <a:ln w="0">
            <a:noFill/>
          </a:ln>
        </p:spPr>
      </p:pic>
      <p:sp>
        <p:nvSpPr>
          <p:cNvPr id="244" name="Rectangle 10"/>
          <p:cNvSpPr/>
          <p:nvPr/>
        </p:nvSpPr>
        <p:spPr>
          <a:xfrm>
            <a:off x="324000" y="5084640"/>
            <a:ext cx="8291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 marL="384120" indent="-384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) Какие гипотезы можно выдвинуть о причинах такого поведения в свете представленной модели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д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3" descr=""/>
          <p:cNvPicPr/>
          <p:nvPr/>
        </p:nvPicPr>
        <p:blipFill>
          <a:blip r:embed="rId1"/>
          <a:stretch/>
        </p:blipFill>
        <p:spPr>
          <a:xfrm>
            <a:off x="755640" y="2852640"/>
            <a:ext cx="6448320" cy="2428920"/>
          </a:xfrm>
          <a:prstGeom prst="rect">
            <a:avLst/>
          </a:prstGeom>
          <a:ln w="0">
            <a:noFill/>
          </a:ln>
        </p:spPr>
      </p:pic>
      <p:sp>
        <p:nvSpPr>
          <p:cNvPr id="248" name="Rectangle 5"/>
          <p:cNvSpPr/>
          <p:nvPr/>
        </p:nvSpPr>
        <p:spPr>
          <a:xfrm>
            <a:off x="611280" y="4869000"/>
            <a:ext cx="8291520" cy="19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8"/>
          <p:cNvSpPr/>
          <p:nvPr/>
        </p:nvSpPr>
        <p:spPr>
          <a:xfrm>
            <a:off x="250920" y="1413000"/>
            <a:ext cx="82915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3000"/>
          </a:bodyPr>
          <a:p>
            <a:pPr marL="282600" indent="-282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) Пол Ромер в 1986 году предположил, что темпы экономического роста даже для стран-лидеров технического прогресса в перспективе нескольких столетий возрастают (см. таблицу). Обсудите, совместимы ли такие выводы с находкой Хюбнер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вед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данной лекции речь пойдет об одном относительно несложном приложении модели экономического роста к мировой экономике, состоящей из неодинаковых национальных экономик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ходе изложения будут выявлены некоторые факторы, обеспечивающие сильное неравенство в распределении доходов в мире и указывающие на дополнительные выгоды от свободы торговли по сравнению с обсуждаемыми в стандартном курсе международной эконом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вед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оворя точнее, речь пойдет о приложении к мировой экономики известной вам модели растущего разнообразия товаров Пола Роме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зложение базовой модели см., например, в </a:t>
            </a:r>
            <a:r>
              <a:rPr b="0" lang="ru-RU" sz="2800" spc="-1" strike="noStrike">
                <a:solidFill>
                  <a:srgbClr val="339933"/>
                </a:solidFill>
                <a:latin typeface="Arial"/>
              </a:rPr>
              <a:t>«Макроэкономике» Тумановой и Шагас, п. 10.3.1.</a:t>
            </a:r>
            <a:r>
              <a:rPr b="0" lang="en-US" sz="2800" spc="-1" strike="noStrike">
                <a:solidFill>
                  <a:srgbClr val="339933"/>
                </a:solidFill>
                <a:latin typeface="Arial"/>
              </a:rPr>
              <a:t> (</a:t>
            </a:r>
            <a:r>
              <a:rPr b="0" lang="ru-RU" sz="2800" spc="-1" strike="noStrike">
                <a:solidFill>
                  <a:srgbClr val="339933"/>
                </a:solidFill>
                <a:latin typeface="Arial"/>
              </a:rPr>
              <a:t>там несколько другие обозначения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ля простоты я сделаю основные выкладки прямо в презент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одель растущего разнообразия товаров в закрытой экономи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1520" cy="29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усть в нашей экономике есть бесконечно живущие репрезентативные потребители, потребляющие некоторое агрегированное благо, все из которых работают фиксированное количество времени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и их число не изменяется со времене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"/>
          <p:cNvSpPr/>
          <p:nvPr/>
        </p:nvSpPr>
        <p:spPr>
          <a:xfrm>
            <a:off x="611280" y="4869000"/>
            <a:ext cx="8291520" cy="19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одель растущего разнообразия товаров в закрытой экономи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152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ункция полезности этих индивидов описывается функцией полезност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Object 4"/>
              <p:cNvSpPr txBox="1"/>
              <p:nvPr/>
            </p:nvSpPr>
            <p:spPr>
              <a:xfrm>
                <a:off x="1116000" y="2852640"/>
                <a:ext cx="4038480" cy="115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ρt</m:t>
                            </m:r>
                          </m:sup>
                        </m:sSup>
                        <m:f>
                          <m:num>
                            <m:r>
                              <m:t xml:space="preserve">C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θ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θ</m:t>
                            </m:r>
                          </m:den>
                        </m:f>
                      </m:e>
                    </m:nary>
                    <m:r>
                      <m:rPr>
                        <m:lit/>
                        <m:nor/>
                      </m:rPr>
                      <m:t xml:space="preserve">d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7" name="Rectangle 5"/>
          <p:cNvSpPr/>
          <p:nvPr/>
        </p:nvSpPr>
        <p:spPr>
          <a:xfrm>
            <a:off x="611280" y="4869000"/>
            <a:ext cx="8291520" cy="19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539640" y="4221000"/>
            <a:ext cx="8291520" cy="21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десь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рем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; C(t)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– объем потребления блага;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эффициент дисконтирования;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казатель межвременной эластичности замеще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одель растущего разнообразия товаров в закрытой экономи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152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производства этого агрегированного блага требуется разное оборудование, которое представлено континуумом типов от 0 до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(t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а производственная функция выглядит следующим образом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Object 4"/>
              <p:cNvSpPr txBox="1"/>
              <p:nvPr/>
            </p:nvSpPr>
            <p:spPr>
              <a:xfrm>
                <a:off x="1042920" y="2720880"/>
                <a:ext cx="4037040" cy="83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β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x</m:t>
                                    </m:r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t</m:t>
                                    </m:r>
                                    <m:r>
                                      <m:t xml:space="preserve">)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β</m:t>
                                </m:r>
                              </m:sup>
                            </m:sSup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e>
                    </m:d>
                    <m:sSup>
                      <m:e>
                        <m:r>
                          <m:t xml:space="preserve">L</m:t>
                        </m:r>
                      </m:e>
                      <m:sup>
                        <m:r>
                          <m:t xml:space="preserve">β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73" name="Rectangle 5"/>
          <p:cNvSpPr/>
          <p:nvPr/>
        </p:nvSpPr>
        <p:spPr>
          <a:xfrm>
            <a:off x="611280" y="4869000"/>
            <a:ext cx="8291520" cy="19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6"/>
          <p:cNvSpPr/>
          <p:nvPr/>
        </p:nvSpPr>
        <p:spPr>
          <a:xfrm>
            <a:off x="539640" y="4221000"/>
            <a:ext cx="8291520" cy="21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десь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ластичность выпуска по затратам труда;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,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траты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-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о типа оборудования в производств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одель растущего разнообразия товаров в закрытой экономи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02440" cy="96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ложения в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&amp;D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изобретение) приводят к появлению новых машин в соответствии со следующим уравнени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" name="Object 4"/>
              <p:cNvSpPr txBox="1"/>
              <p:nvPr/>
            </p:nvSpPr>
            <p:spPr>
              <a:xfrm>
                <a:off x="684360" y="2349360"/>
                <a:ext cx="187164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N</m:t>
                        </m:r>
                      </m:e>
                    </m:acc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ηZ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9" name="Rectangle 5"/>
          <p:cNvSpPr/>
          <p:nvPr/>
        </p:nvSpPr>
        <p:spPr>
          <a:xfrm>
            <a:off x="611280" y="4869000"/>
            <a:ext cx="8291520" cy="19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6"/>
          <p:cNvSpPr/>
          <p:nvPr/>
        </p:nvSpPr>
        <p:spPr>
          <a:xfrm>
            <a:off x="539640" y="2924280"/>
            <a:ext cx="8291520" cy="11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д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η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 0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эффективность вложений в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&amp;D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 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сходы н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&amp;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Object 9"/>
              <p:cNvSpPr txBox="1"/>
              <p:nvPr/>
            </p:nvSpPr>
            <p:spPr>
              <a:xfrm>
                <a:off x="611280" y="4149720"/>
                <a:ext cx="1931760" cy="84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N</m:t>
                        </m:r>
                      </m:e>
                    </m:acc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N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2" name="Rectangle 11"/>
          <p:cNvSpPr/>
          <p:nvPr/>
        </p:nvSpPr>
        <p:spPr>
          <a:xfrm>
            <a:off x="611280" y="5084640"/>
            <a:ext cx="8291520" cy="11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ирма, совершившая изобретение, становится монополистом по производству соответствующего типа машин. Предельные издержки производства каждой машины одинаковы для всех фирм и составляют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ψ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&gt;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одель растущего разнообразия товаров в закрытой экономи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152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пуск в экономике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(t)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спределяется между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треблением С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ложением в производство машин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(t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обретением новых машин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(t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" name="Object 4"/>
              <p:cNvSpPr txBox="1"/>
              <p:nvPr/>
            </p:nvSpPr>
            <p:spPr>
              <a:xfrm>
                <a:off x="539640" y="2852640"/>
                <a:ext cx="4248360" cy="55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C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Z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7" name="Rectangle 5"/>
          <p:cNvSpPr/>
          <p:nvPr/>
        </p:nvSpPr>
        <p:spPr>
          <a:xfrm>
            <a:off x="611280" y="4869000"/>
            <a:ext cx="8291520" cy="19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2T16:46:15Z</dcterms:created>
  <dc:creator>IK</dc:creator>
  <dc:description/>
  <dc:language>en-US</dc:language>
  <cp:lastModifiedBy>LEGION</cp:lastModifiedBy>
  <dcterms:modified xsi:type="dcterms:W3CDTF">2016-01-05T11:04:23Z</dcterms:modified>
  <cp:revision>6</cp:revision>
  <dc:subject/>
  <dc:title>Современные проблемы экономической теории</dc:title>
</cp:coreProperties>
</file>