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2F68-F92B-45B2-92A9-411D34DA91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ФИНАНСОВЫЕ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Платежный баланс как отражение международных валютно-кредитных операций стра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ЕЖДУНАРОДНЫЕ ФИНАНСОВЫЕ РЫНК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а: Платежный баланс как отражение международных валютно-кредитных операций страны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шибки и пропуски появляются по следующим причин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личные источники поступления информации в кредитовую и дебетовую часть платежного балан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ница во времени между поступлением товаров и услуг и их финансовым обеспечени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шибки и пропуски появляются по следующим причинам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азличные источники поступления информации в кредитовую и дебетовую часть платежного баланса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азница во времени между поступлением товаров и услуг и их финансовым обеспечением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держки в пути при доставке товаров, наприме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личие неучтенных опера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согласованность цен контрактов с действующими це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широкое развитие кредитных отношений (будущие платежи учитываются в разделе движения капиталов и кредитов).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задержки в пути при доставке товаров, например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аличие неучтенных операций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есогласованность цен контрактов с действующими ценам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широкое развитие кредитных отношений (будущие платежи учитываются в разделе движения капиталов и кредитов).        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ции с ликвидными валютными активам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ции, которые проводят государственные валютные органы для обеспечения равновесия  платежного баланса и в результате проведения которых происходит изменение величины и состава централизованных официальных золотовалютных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ерации с ликвидными валютными активами –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перации, которые проводят государственные валютные органы для обеспечения равновесия  платежного баланса и в результате проведения которых происходит изменение величины и состава централизованных официальных золотовалютных резер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платежного баланса базируется 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нятии резидент и нерезиден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ределении сдел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чете ц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иксации момента сде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ставление платежного баланса базируется н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онятии резидент и нерезидент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пределении сделк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учете цен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фиксации момента сдел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статей платежного баланса по методике МВ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Текущие оп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Прямые инвестиции и прочий долгосрочны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Краткосрочны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. Ошибки и пропу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. Компенсирующие стат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. Чрезвычайное финанс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. Обязательства, образующие валютные резервы иностранных официальных орга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. Итоговое изменение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лассификация статей платежного баланса по методике МВФ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А. Текущие операции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. Прямые инвестиции и прочий долгосрочный капита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. Краткосрочный капита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D. Ошибки и пропус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Е. Компенсирующие стать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F. Чрезвычайное финансировани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G. Обязательства, образующие валютные резервы иностранных официальных орган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H. Итоговое изменение резер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опер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това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ходы от инвести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чие услуги и дох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частные односторонние перев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фициальные односторонние пере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кущие операции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товар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услуг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доходы от инвестиций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очие услуги и доход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частные односторонние перевод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фициальные односторонние перевод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 и прочий долгосрочный капи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ямые инвести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ртфельные инвести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чий долгосрочны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ямые инвестиции и прочий долгосрочный капитал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ямые инвести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ортфельные инвестиции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очий долгосрочный капитал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овое изменение резерв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Д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зервная позиция в МВ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ностранная валю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чие треб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едиты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тоговое изменение резервов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СДР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езервная позиция в МВФ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иностранная валюта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прочие требования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кредиты МВФ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платежного баланса Р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. Счет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. Счет операций с капиталом и финансовыми инструм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II. Чистые ошибки и пропу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V. Изменение валютных резервов («+» - снижение, «-« - рос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ые разделы платежного баланса РФ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. Счет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I. Счет операций с капиталом и финансовыми инструментам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II. Чистые ошибки и пропус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IV. Изменение валютных резервов («+» - снижение, «-« - рост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ьи платежного баланса делятся на основные и балансирующ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платежного баланса – сальдо (соотношение активов и пассивов) по основным стать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положительное, если активы больше пасс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отрицательное, если активы меньше пасс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 платежного баланса всегда равен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татьи платежного баланса делятся на основные и балансирующие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платежного баланса – сальдо (соотношение активов и пассивов) по основным статья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положительное, если активы больше пасси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отрицательное, если активы меньше пасси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тог платежного баланса всегда равен 0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балансовый счет международных операций, стоимостное выражение всех мирохозяйственных связей страны в форме соотношения показателей ввоза  - вывоза товаров, услуг, капит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то балансовый счет международных операций, стоимостное выражение всех мирохозяйственных связей страны в форме соотношения показателей ввоза  - вывоза товаров, услуг, капитал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измерения сальдо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нцепция баланса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онцепция базисного бала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нцепция ликви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Концепция баланса официальных расч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особы измерения сальдо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Концепция баланса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Концепция базисного баланс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Концепция ликвидн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Концепция баланса официальных расче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ланса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текущих операций наиболее полно отражает величину реальных ценностей, которые страна передала загранице или получила от нее в дополнение к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ланса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 текущих операций наиболее полно отражает величину реальных ценностей, которые страна передала загранице или получила от нее в дополнение к ВВП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зисного балан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– текущие операции, движение долгосроч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ирующие операции – движение краткосрочного капитала и валютных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базисного баланса – сумма итогов разделов А и В, которая должна быть равна балансу операций по остальным раздел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зисного баланс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ые разделы – текущие операции, движение долгосрочного капитал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ирующие операции – движение краткосрочного капитала и валютных резерв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базисного баланса – сумма итогов разделов А и В, которая должна быть равна балансу операций по остальным раздела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ланса ликви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цель – определить прирост суммы ликвидных долларовых активов у нерезид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баланса ликвидности– сумма сальдо операций по основным группам А + В + С +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ирующие статьи – E + F + G + H ( с обратным знако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ланса ликвидн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ая цель – определить прирост суммы ликвидных долларовых активов у нерезиден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баланса ликвидности– сумма сальдо операций по основным группам А + В + С + D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ирующие статьи – E + F + G + H ( с обратным знаком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баланса официальных расч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жал положение валюты данной страны на валютных рынках (в условиях плавающих валютных курс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льдо = А + В + C + D + E + F + G (основные стать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ирующая статья – итог по группе Н (официальные валютные опера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онцепция баланса официальных расче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тражал положение валюты данной страны на валютных рынках (в условиях плавающих валютных курсов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альдо = А + В + C + D + E + F + G (основные статьи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Балансирующая статья – итог по группе Н (официальные валютные операции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состояние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еравномерность экономического и политического развития стран, международная конкурен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Циклические колебания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ост государственных расходов за границ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акторы, влияющие на состояние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Неравномерность экономического и политического развития стран, международная конкуренц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Циклические колебания экономи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ост государственных расходов за границе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илитаризация экономики и уровень военных рас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Усиление международной финансовой взаимозависим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Изменение объемов и характера международной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Динамика валютных к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Уровень инфля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Чрезвычайные обстоя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Милитаризация экономики и уровень военных расход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. Усиление международной финансовой взаимозависимост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. Изменение объемов и характера международной торговл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7. Динамика валютных курс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. Уровень инфляци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. Чрезвычайные обстоятельств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государственного регулирования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еуравновешенность и нестабильность, характерная для платежных балансов, влияет на состояние экономики, динамику валютных курсов, движение капитал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еобходимость государственного регулирования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Неуравновешенность и нестабильность, характерная для платежных балансов, влияет на состояние экономики, динамику валютных курсов, движение капиталов и т.д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ихийный механизм выравнивания платежного баланса путем ценового регулирования после отказа от золотого стандарта действует крайне сла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 условиях глобализации экономики повысилось значение платежного баланса, его роли в системе макроэкономических показателей развития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Стихийный механизм выравнивания платежного баланса путем ценового регулирования после отказа от золотого стандарта действует крайне слабо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В условиях глобализации экономики повысилось значение платежного баланса, его роли в системе макроэкономических показателей развития стран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ая основа регулирования платежного баланс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фициальные золотовалютные резер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осударственный бюдже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посредственное участие государства в МЭО как экспортера капиталов, кредитора, гаранта, заемщ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гламентация внешнеэкономическ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атериальная основа регулирования платежного баланса 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фициальные золотовалютные резервы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государственный бюджет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епосредственное участие государства в МЭО как экспортера капиталов, кредитора, гаранта, заемщика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регламентация внешнеэкономическ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истический отчет, в котором в систематическом виде приводятся суммарные данные о внешнеэкономических операциях данной страны с другими странами мира за определенный период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–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татистический отчет, в котором в систематическом виде приводятся суммарные данные о внешнеэкономических операциях данной страны с другими странами мира за определенный период времен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государственного регулирования платежного баланс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ефляцион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евальв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текционистские меры. Валютные ограни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Финансовая и денежно-кредит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пециальные меры государственного воздействия на платежный балан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етоды государственного регулирования платежного баланса 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Дефляционная политик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Девальвац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Протекционистские меры. Валютные ограничени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Финансовая и денежно-кредитная политик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. Специальные меры государственного воздействия на платежный баланс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операции включают сделки, объектом которых являются товары, услуги и доход, требования и обязательства к остальному миру, а также односторонние переводы (трансфер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кономические операции включают сделки, объектом которых являются товары, услуги и доход, требования и обязательства к остальному миру, а также односторонние переводы (трансферты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дел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по определению МВФ) – экономический поток, отражающий создание, трансформацию, обмен, передачу некоторой стоимости и сопровождающий изменение собственности на товары и/или финансовые активы, оказание услуг, а также предоставление за плату труда или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кономическая сделка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( по определению МВФ) – экономический поток, отражающий создание, трансформацию, обмен, передачу некоторой стоимости и сопровождающий изменение собственности на товары и/или финансовые активы, оказание услуг, а также предоставление за плату труда или капитала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– соотношение требований и обязательств страны  в иностранной валю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содержит все финансовые активы (или требования) и обязательства резидентов по отношению к нерезиде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принцип составления платежного баланса – принцип двойной записи, т.е. каждая операция отражается по дебету и креди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– соотношение требований и обязательств страны  в иностранной валюте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содержит все финансовые активы (или требования) и обязательства резидентов по отношению к нерезидента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ой принцип составления платежного баланса – принцип двойной записи, т.е. каждая операция отражается по дебету и кредиту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по экономическому содержанию различа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 определенную дату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ределенный пер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на определенную дату не фиксируется в форме статистических показателей, соотношение платежей и поступлений постоянно меня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 за определенный период составляется на основе показателей, характеризующих объем проведенных за этот период внешнеэкономических сдел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по экономическому содержанию различается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на определенную дату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- определенный период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на определенную дату не фиксируется в форме статистических показателей, соотношение платежей и поступлений постоянно меняется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тежный баланс за определенный период составляется на основе показателей, характеризующих объем проведенных за этот период внешнеэкономических сделок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Баланс текущ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аланс движения капиталов и креди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шибки и пропу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перации с ликвидными валютными актив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труктура платежного баланса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Баланс текущих операций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Баланс движения капиталов и кредитов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Ошибки и пропуск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Операции с ликвидными валютными активами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баланса текущих операци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рговый балан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аланс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ыплаты и поступления доходов по инвестициям и процентов по международным креди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дносторонние пере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остав баланса текущих операций: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Торговый баланс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Баланс услуг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Выплаты и поступления доходов по инвестициям и процентов по международным кредитам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. Односторонние переводы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A133-CF29-4235-8886-9A6EAA92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D20A-48CE-43AF-A61A-A507AA68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813A-8266-450D-85E4-2B4B29DA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93A3-E330-4EF2-8923-F63B587A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1AEA-9A35-4AC0-A1C6-BFA024A5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3AA4-1C08-476E-9405-508E471B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B4A4-9F3E-4323-B796-F5D57C4C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1B7D-8F48-46C6-B200-9876C012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BB39-D55C-4E9D-A695-C7C12F57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6417-8012-4A06-BAC4-42C3F300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0245-3692-4298-84FD-20731F43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C07F-4173-493A-8DF2-BA6B8ECF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6F1E-446F-4987-A7CB-BC0108F6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A283-AE5F-4F97-8D45-6B1E644E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C4FB-A01A-423F-ACAD-233C759D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C751-9CAB-4A32-AF66-26D761C9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3203-3991-41D1-83DB-A658F143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581F-D103-4F54-972F-F2E5A102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EC48-F6FC-4631-9DBF-5FA874A6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E274-B009-4509-9E77-B7C47ED1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8C50-0D2C-41F8-84BA-EDA43FF4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A55B-88C3-4DDB-91CA-55145F72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C6A9-E239-4190-9F33-00A2850A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2D84-9509-4CFB-89B9-5EEFC457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D521-5286-4AC7-BE24-BBE2ECA000E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4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55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234B-71FB-4957-A7B7-92521A7C558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МЕЖДУНАРОДНЫЕ ФИНАНСОВЫЕ РЫН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ма: Платежный баланс как отражение международных валютно-кредитных операций стра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9AD2-960B-42B3-AE66-3B56937B1CC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719280" y="871920"/>
            <a:ext cx="810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шибки и пропуски появляются по следующим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ричинам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различные источники поступления информации в кредитовую и дебетовую часть платежного баланс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разница во времени между поступлением товаров и услуг и их финансовым обеспечением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D8E8-06F2-4A99-ABB1-60C6CEC31F8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792000" y="2168640"/>
            <a:ext cx="77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задержки в пути при доставке товаров, например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наличие неучтенных операций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несогласованность цен контрактов с действующими ценам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широкое развитие кредитных отношений (будущие платежи учитываются в разделе движения капиталов и кредитов).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5427-5A10-4572-86C4-5572CC6F019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900000" y="59184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перации с ликвидными валютными активам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–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перации, которые проводят государственные валютные органы для обеспечения равновесия  платежного баланса и в результате проведения которых происходит изменение величины и состава централизованных официальных золотовалютных резерв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F41A-59C6-4405-B1C6-488A2E92AC6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971640" y="835560"/>
            <a:ext cx="759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ff"/>
                </a:solidFill>
                <a:latin typeface="Tahoma"/>
              </a:rPr>
              <a:t>Составление платежного баланс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базируется на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онятии резидент и нерезидент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определении сделк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учете цен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фиксации момента сдел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FCA9-1F4F-4D22-B0A5-FF07740CD6D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863640" y="696600"/>
            <a:ext cx="8028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Классификация статей платежного баланса по методике МВФ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А. Текущие опера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. Прямые инвестиции и прочий долгосрочный капита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С. Краткосрочный капита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D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Ошибки и пропус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Е. Компенсирующие стать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F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Чрезвычайное финансирова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G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Обязательства, образующие валютные резервы иностранных официальных орган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SimSun"/>
              </a:rPr>
              <a:t>H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Итоговое изменение резерв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971640" y="1159200"/>
            <a:ext cx="766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Текущие операци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товары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услуг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доходы от инвестиций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очие услуги и доходы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частные односторонние переводы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официальные односторонние перевод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1008000" y="871920"/>
            <a:ext cx="766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рямые инвестиции и прочий долгосрочный капитал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ямые инвестици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ортфельные инвестици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очий долгосрочный капитал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008000" y="1232280"/>
            <a:ext cx="75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Итоговое изменение резервов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СДР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резервная позиция в МВФ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иностранная валют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прочие требования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- кредиты МВФ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900000" y="906840"/>
            <a:ext cx="77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сновные разделы платежного баланса РФ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Счет текущих операц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I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Счет операций с капиталом и финансовыми инструментам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II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Чистые ошибки и пропус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IV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 Изменение валютных резервов («+» - снижение, «-« - рост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863640" y="2345400"/>
            <a:ext cx="734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Статьи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платежного баланса делятся на </a:t>
            </a:r>
            <a:r>
              <a:rPr b="0" i="1" lang="ru-RU" sz="2400" spc="-1" strike="noStrike">
                <a:solidFill>
                  <a:srgbClr val="3366ff"/>
                </a:solidFill>
                <a:latin typeface="Tahoma"/>
              </a:rPr>
              <a:t>основны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и </a:t>
            </a:r>
            <a:r>
              <a:rPr b="0" i="1" lang="ru-RU" sz="2400" spc="-1" strike="noStrike">
                <a:solidFill>
                  <a:srgbClr val="3366ff"/>
                </a:solidFill>
                <a:latin typeface="Tahoma"/>
              </a:rPr>
              <a:t>балансирующи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Сальдо платежного баланс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– сальдо (соотношение активов и пассивов) по основным статья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альдо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положительное,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если активы больше пассив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альдо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трицательно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, если активы меньше пассив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Итог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платежного баланса всегда равен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900000" y="952200"/>
            <a:ext cx="795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латежный баланс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–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то балансовый счет международных операций, стоимостное выражение всех мирохозяйственных связей страны в форме соотношения показателей ввоза  - вывоза товаров, услуг, капитал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1042920" y="943560"/>
            <a:ext cx="76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пособы измерения сальдо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платежного баланса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Концепция баланса текущих операц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Концепция базисного баланс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Концепция ликвид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 Концепция баланса официальных расче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1042920" y="871920"/>
            <a:ext cx="784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ланса текущих операций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Баланс текущих операций наиболее полно отражает величину </a:t>
            </a:r>
            <a:r>
              <a:rPr b="0" i="1" lang="ru-RU" sz="3200" spc="-1" strike="noStrike">
                <a:solidFill>
                  <a:srgbClr val="3366ff"/>
                </a:solidFill>
                <a:latin typeface="Tahoma"/>
              </a:rPr>
              <a:t>реальных ценностей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, которые страна передала загранице или получила от нее в дополнение к ВВП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792000" y="1307880"/>
            <a:ext cx="75600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зисного баланс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Основные разделы </a:t>
            </a:r>
            <a:r>
              <a:rPr b="1" lang="ru-RU" sz="2400" spc="-1" strike="noStrike" u="sng">
                <a:solidFill>
                  <a:srgbClr val="3366ff"/>
                </a:solidFill>
                <a:uFillTx/>
                <a:latin typeface="Tahoma"/>
              </a:rPr>
              <a:t>– </a:t>
            </a:r>
            <a:r>
              <a:rPr b="0" lang="ru-RU" sz="2400" spc="-1" strike="noStrike" u="sng">
                <a:solidFill>
                  <a:srgbClr val="3366ff"/>
                </a:solidFill>
                <a:uFillTx/>
                <a:latin typeface="Tahoma"/>
              </a:rPr>
              <a:t>текущие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операции, движение </a:t>
            </a:r>
            <a:r>
              <a:rPr b="0" lang="ru-RU" sz="2400" spc="-1" strike="noStrike" u="sng">
                <a:solidFill>
                  <a:srgbClr val="3366ff"/>
                </a:solidFill>
                <a:uFillTx/>
                <a:latin typeface="Tahoma"/>
              </a:rPr>
              <a:t>долгосрочного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капитал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Балансирующие операции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– движение краткосрочного капитала и валютных резерв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Сальдо базисного баланс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– сумма итогов разделов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и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В,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которая должна быть </a:t>
            </a:r>
            <a:r>
              <a:rPr b="0" i="1" lang="ru-RU" sz="2400" spc="-1" strike="noStrike">
                <a:solidFill>
                  <a:srgbClr val="3366ff"/>
                </a:solidFill>
                <a:latin typeface="Tahoma"/>
              </a:rPr>
              <a:t>равна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балансу операций по остальным разделам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24"/>
          <p:cNvSpPr/>
          <p:nvPr/>
        </p:nvSpPr>
        <p:spPr>
          <a:xfrm>
            <a:off x="755640" y="906840"/>
            <a:ext cx="8101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ланса ликвид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сновная цель 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пределить прирост суммы ликвидных долларовых активов у нерезиден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альдо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ланса ликвидност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– сумма сальдо операций по основным группам А + В + С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D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лансирующие стать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–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E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F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G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H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( с обратным знаком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934920" y="591480"/>
            <a:ext cx="7956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Концепция баланса официальных расче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66ff"/>
                </a:solidFill>
                <a:latin typeface="Tahoma"/>
              </a:rPr>
              <a:t>Отражал положение валюты данной страны на валютных рынках (в условиях плавающих валютных курсов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альдо = А + В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C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D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E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F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+ </a:t>
            </a: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SimSun"/>
              </a:rPr>
              <a:t>G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(основные статьи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лансирующая статья 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итог по группе Н (официальные валютные операции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663120"/>
            <a:ext cx="7777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Факторы, влияющие на состояние платежного баланс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Неравномерность экономического и политического развития стран, международная конкуренц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Циклические колебания эконом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Рост государственных расходов за границе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934920" y="2379600"/>
            <a:ext cx="745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4. Милитаризация экономики и уровень военных расход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5. Усиление международной финансовой взаимозависим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6. Изменение объемов и характера международной торговл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7. Динамика валютных курс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8. Уровень инфля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9. Чрезвычайные обстоятель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1079640" y="768240"/>
            <a:ext cx="777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Необходимость государственного регулирования платежного баланс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1. Неуравновешенность и нестабильность, характерная для платежных балансов, влияет на состояние экономики, динамику валютных курсов, движение капиталов и т.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971640" y="2744640"/>
            <a:ext cx="7596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2. Стихийный механизм выравнивания платежного баланса путем ценового регулирования после отказа от золотого стандарта действует крайне слаб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3. В условиях глобализации экономики повысилось значение платежного баланса, его роли в системе макроэкономических показателей развития страны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719280" y="909000"/>
            <a:ext cx="79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Материальная основа регулирования платежного баланс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официальные золотовалютные резерв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государственный бюджет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непосредственное участие государства в МЭО как экспортера капиталов, кредитора, гаранта, заемщи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регламентация внешнеэкономических операци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616E-44E6-4592-90F5-F6699410AD2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971640" y="880560"/>
            <a:ext cx="784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латежный баланс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–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татистический отчет, в котором в систематическом виде приводятся суммарные данные о внешнеэкономических операциях данной страны с другими странами мира за определенный период времен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792000" y="768960"/>
            <a:ext cx="8029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Методы государственного регулирования платежного баланс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1. Дефляционная полит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. Девальвац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3. Протекционистские меры. Валютные огранич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4. Финансовая и денежно-кредитная полит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5. Специальные меры государственного воздействия на платежный балан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BC87-1395-460B-AC1C-27DDBA9F42A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684360" y="2527920"/>
            <a:ext cx="795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кономические операции включают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делк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, объектом которых являются товары, услуги и доход, требования и обязательства к остальному миру, а также односторонние переводы (трансферты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2448-5D6E-4C4E-889B-CE57D687EF8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755640" y="1233360"/>
            <a:ext cx="7740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Экономическая сделк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( по определению МВФ) – экономический поток, отражающий создание, трансформацию, обмен, передачу некоторой стоимости и сопровождающий изменение собственности на товары и/или финансовые активы, оказание услуг, а также предоставление за плату труда или капитал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87F7-472D-4770-9D58-F58A30FD76C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76360" y="15120"/>
            <a:ext cx="7920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Платежный баланс 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оотношение требований и обязательств страны  в иностранной валют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латежный баланс содержит все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финансовые активы (или требования) и обязательства </a:t>
            </a:r>
            <a:r>
              <a:rPr b="0" lang="ru-RU" sz="3200" spc="-1" strike="noStrike" u="sng">
                <a:solidFill>
                  <a:srgbClr val="3366ff"/>
                </a:solidFill>
                <a:uFillTx/>
                <a:latin typeface="Tahoma"/>
              </a:rPr>
              <a:t>резидентов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 отношению к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3366ff"/>
                </a:solidFill>
                <a:uFillTx/>
                <a:latin typeface="Tahoma"/>
              </a:rPr>
              <a:t>нерезидента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сновной принцип составления платежного баланса – принцип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двойной записи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, т.е. каждая операция отражается по дебету и кредиту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684360" y="661680"/>
            <a:ext cx="7920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латежный баланс </a:t>
            </a:r>
            <a:r>
              <a:rPr b="0" i="1" lang="ru-RU" sz="2800" spc="-1" strike="noStrike">
                <a:solidFill>
                  <a:srgbClr val="3366ff"/>
                </a:solidFill>
                <a:latin typeface="Tahoma"/>
              </a:rPr>
              <a:t>по экономическому содержанию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различается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на определенную дату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определенный перио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латежный баланс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 на определенную дату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не фиксируется в форме статистических показателей, соотношение платежей и поступлений постоянно меняетс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латежный баланс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за определенный период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составляется на основе показателей, характеризующих объем проведенных за этот период внешнеэкономических сдело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B83D-832E-4771-8024-99AF3ADB2B5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149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611280" y="1411920"/>
            <a:ext cx="799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труктура платежного баланса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Баланс текущих операц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Баланс движения капиталов и кредито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Ошибки и пропус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 Операции с ликвидными валютными активам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73E5-E1A9-47D2-8FC0-73A5ED472DD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539640" y="1370520"/>
            <a:ext cx="8245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остав баланса текущих операций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1. Торговый балан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2. Баланс услу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3. Выплаты и поступления доходов по инвестициям и процентов по международным кредита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 Односторонние перевод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EGION</cp:lastModifiedBy>
  <dcterms:modified xsi:type="dcterms:W3CDTF">2016-01-05T11:34:34Z</dcterms:modified>
  <cp:revision>143</cp:revision>
  <dc:subject/>
  <dc:title>Международные финансовые рынки</dc:title>
</cp:coreProperties>
</file>