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4D93-BF9D-4C6C-B62C-DB2D841E9A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ФИНАНСОВЫЕ РЫ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: Платежный баланс как отражение международных валютно-кредитных операций стра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ЕЖДУНАРОДНЫЕ ФИНАНСОВЫЕ РЫНК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ма: Платежный баланс как отражение международных валютно-кредитных операций страны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шибки и пропуски появляются по следующим причина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азличные источники поступления информации в кредитовую и дебетовую часть платежного балан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азница во времени между поступлением товаров и услуг и их финансовым обеспечение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шибки и пропуски появляются по следующим причинам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различные источники поступления информации в кредитовую и дебетовую часть платежного баланса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разница во времени между поступлением товаров и услуг и их финансовым обеспечением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держки в пути при доставке товаров, наприме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личие неучтенных операц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согласованность цен контрактов с действующими цен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широкое развитие кредитных отношений (будущие платежи учитываются в разделе движения капиталов и кредитов).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задержки в пути при доставке товаров, например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наличие неучтенных операций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несогласованность цен контрактов с действующими ценам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широкое развитие кредитных отношений (будущие платежи учитываются в разделе движения капиталов и кредитов).        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ации с ликвидными валютными активам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ации, которые проводят государственные валютные органы для обеспечения равновесия  платежного баланса и в результате проведения которых происходит изменение величины и состава централизованных официальных золотовалютных резер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перации с ликвидными валютными активами –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перации, которые проводят государственные валютные органы для обеспечения равновесия  платежного баланса и в результате проведения которых происходит изменение величины и состава централизованных официальных золотовалютных резерв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ление платежного баланса базируется н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нятии резидент и нерезиден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пределении сдел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чете це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фиксации момента сдел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ставление платежного баланса базируется на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понятии резидент и нерезидент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определении сделк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учете цен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фиксации момента сделк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статей платежного баланса по методике МВФ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 Текущие оп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Прямые инвестиции и прочий долгосрочный капит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 Краткосрочный капит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. Ошибки и пропус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. Компенсирующие стать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. Чрезвычайное финанс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. Обязательства, образующие валютные резервы иностранных официальных орга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. Итоговое изменение резер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лассификация статей платежного баланса по методике МВФ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А. Текущие опер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. Прямые инвестиции и прочий долгосрочный капитал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. Краткосрочный капитал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D. Ошибки и пропуск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Е. Компенсирующие стать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F. Чрезвычайное финансирование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G. Обязательства, образующие валютные резервы иностранных официальных орган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H. Итоговое изменение резерв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ие опера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това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лу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оходы от инвестиц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чие услуги и дохо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частные односторонние перево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фициальные односторонние пере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кущие операции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товары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услуг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доходы от инвестиций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прочие услуги и доходы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частные односторонние переводы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официальные односторонние переводы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инвестиции и прочий долгосрочный капит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ямые инвести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ртфельные инвести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чий долгосрочный капит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ямые инвестиции и прочий долгосрочный капитал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прямые инвестици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портфельные инвестици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прочий долгосрочный капитал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оговое изменение резерв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Д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езервная позиция в МВ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ностранная валю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чие треб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редиты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тоговое изменение резервов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СДР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резервная позиция в МВФ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иностранная валюта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прочие требования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кредиты МВФ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платежного баланса РФ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. Счет текущ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. Счет операций с капиталом и финансовыми инструм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I. Чистые ошибки и пропус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V. Изменение валютных резервов («+» - снижение, «-« - рос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новные разделы платежного баланса РФ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I. Счет текущих операци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II. Счет операций с капиталом и финансовыми инструментам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III. Чистые ошибки и пропуск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IV. Изменение валютных резервов («+» - снижение, «-« - рост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тьи платежного баланса делятся на основные и балансирующ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ьдо платежного баланса – сальдо (соотношение активов и пассивов) по основным стать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ьдо положительное, если активы больше пасси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ьдо отрицательное, если активы меньше пасси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ог платежного баланса всегда равен 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татьи платежного баланса делятся на основные и балансирующие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альдо платежного баланса – сальдо (соотношение активов и пассивов) по основным статьям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альдо положительное, если активы больше пассив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альдо отрицательное, если активы меньше пассив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тог платежного баланса всегда равен 0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балансовый счет международных операций, стоимостное выражение всех мирохозяйственных связей страны в форме соотношения показателей ввоза  - вывоза товаров, услуг, капит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–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то балансовый счет международных операций, стоимостное выражение всех мирохозяйственных связей страны в форме соотношения показателей ввоза  - вывоза товаров, услуг, капитал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измерения сальдо платежного балан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Концепция баланса текущ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онцепция базисного балан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онцепция ликвид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Концепция баланса официальных расч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пособы измерения сальдо платежного баланса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Концепция баланса текущих операци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Концепция базисного баланс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Концепция ликвидност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. Концепция баланса официальных расчет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баланса текущ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 текущих операций наиболее полно отражает величину реальных ценностей, которые страна передала загранице или получила от нее в дополнение к ВВ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цепция баланса текущих операци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Баланс текущих операций наиболее полно отражает величину реальных ценностей, которые страна передала загранице или получила от нее в дополнение к ВВП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базисного балан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– текущие операции, движение долгосрочного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ирующие операции – движение краткосрочного капитала и валютных резер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ьдо базисного баланса – сумма итогов разделов А и В, которая должна быть равна балансу операций по остальным раздел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цепция базисного баланс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новные разделы – текущие операции, движение долгосрочного капитал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Балансирующие операции – движение краткосрочного капитала и валютных резерв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альдо базисного баланса – сумма итогов разделов А и В, которая должна быть равна балансу операций по остальным разделам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баланса ликвид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цель – определить прирост суммы ликвидных долларовых активов у нерезид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ьдо баланса ликвидности– сумма сальдо операций по основным группам А + В + С + 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ирующие статьи – E + F + G + H ( с обратным знако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цепция баланса ликвидност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новная цель – определить прирост суммы ликвидных долларовых активов у нерезидент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альдо баланса ликвидности– сумма сальдо операций по основным группам А + В + С + D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Балансирующие статьи – E + F + G + H ( с обратным знаком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баланса официальных расч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жал положение валюты данной страны на валютных рынках (в условиях плавающих валютных курс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ьдо = А + В + C + D + E + F + G (основные стать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ирующая статья – итог по группе Н (официальные валютные операц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цепция баланса официальных расчет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тражал положение валюты данной страны на валютных рынках (в условиях плавающих валютных курсов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альдо = А + В + C + D + E + F + G (основные статьи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Балансирующая статья – итог по группе Н (официальные валютные операции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состояние платежного балан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еравномерность экономического и политического развития стран, международная конкурен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Циклические колебания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ост государственных расходов за границ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Факторы, влияющие на состояние платежного баланса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Неравномерность экономического и политического развития стран, международная конкуренци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Циклические колебания экономик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Рост государственных расходов за границе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Милитаризация экономики и уровень военных рас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Усиление международной финансовой взаимозависим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Изменение объемов и характера международной торгов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Динамика валютных к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Уровень инфля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Чрезвычайные обстоя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. Милитаризация экономики и уровень военных расход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5. Усиление международной финансовой взаимозависимост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6. Изменение объемов и характера международной торговл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7. Динамика валютных курс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8. Уровень инфляци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9. Чрезвычайные обстоятельств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сть государственного регулирования платежного балан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еуравновешенность и нестабильность, характерная для платежных балансов, влияет на состояние экономики, динамику валютных курсов, движение капиталов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обходимость государственного регулирования платежного баланса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Неуравновешенность и нестабильность, характерная для платежных балансов, влияет на состояние экономики, динамику валютных курсов, движение капиталов и т.д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тихийный механизм выравнивания платежного баланса путем ценового регулирования после отказа от золотого стандарта действует крайне слаб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 условиях глобализации экономики повысилось значение платежного баланса, его роли в системе макроэкономических показателей развития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Стихийный механизм выравнивания платежного баланса путем ценового регулирования после отказа от золотого стандарта действует крайне слабо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В условиях глобализации экономики повысилось значение платежного баланса, его роли в системе макроэкономических показателей развития страны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ьная основа регулирования платежного баланса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фициальные золотовалютные резерв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государственный бюдже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посредственное участие государства в МЭО как экспортера капиталов, кредитора, гаранта, заемщ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егламентация внешнеэкономическ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атериальная основа регулирования платежного баланса 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официальные золотовалютные резервы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государственный бюджет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непосредственное участие государства в МЭО как экспортера капиталов, кредитора, гаранта, заемщика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регламентация внешнеэкономических операци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тистический отчет, в котором в систематическом виде приводятся суммарные данные о внешнеэкономических операциях данной страны с другими странами мира за определенный период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–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татистический отчет, в котором в систематическом виде приводятся суммарные данные о внешнеэкономических операциях данной страны с другими странами мира за определенный период времен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государственного регулирования платежного баланса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Дефляционная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Девальв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отекционистские меры. Валютные ограни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Финансовая и денежно-кредитная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Специальные меры государственного воздействия на платежный балан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етоды государственного регулирования платежного баланса 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Дефляционная политик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Девальваци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Протекционистские меры. Валютные ограничени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. Финансовая и денежно-кредитная политик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5. Специальные меры государственного воздействия на платежный баланс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операции включают сделки, объектом которых являются товары, услуги и доход, требования и обязательства к остальному миру, а также односторонние переводы (трансферт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кономические операции включают сделки, объектом которых являются товары, услуги и доход, требования и обязательства к остальному миру, а также односторонние переводы (трансферты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сдел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 по определению МВФ) – экономический поток, отражающий создание, трансформацию, обмен, передачу некоторой стоимости и сопровождающий изменение собственности на товары и/или финансовые активы, оказание услуг, а также предоставление за плату труда или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кономическая сделка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( по определению МВФ) – экономический поток, отражающий создание, трансформацию, обмен, передачу некоторой стоимости и сопровождающий изменение собственности на товары и/или финансовые активы, оказание услуг, а также предоставление за плату труда или капитал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– соотношение требований и обязательств страны  в иностранной валю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содержит все финансовые активы (или требования) и обязательства резидентов по отношению к нерезидент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принцип составления платежного баланса – принцип двойной записи, т.е. каждая операция отражается по дебету и креди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– соотношение требований и обязательств страны  в иностранной валюте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содержит все финансовые активы (или требования) и обязательства резидентов по отношению к нерезидентам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новной принцип составления платежного баланса – принцип двойной записи, т.е. каждая операция отражается по дебету и кредиту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по экономическому содержанию различае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 определенную дату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пределенный пери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на определенную дату не фиксируется в форме статистических показателей, соотношение платежей и поступлений постоянно меня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за определенный период составляется на основе показателей, характеризующих объем проведенных за этот период внешнеэкономических сдел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по экономическому содержанию различается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на определенную дату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определенный период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на определенную дату не фиксируется в форме статистических показателей, соотношение платежей и поступлений постоянно меняетс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за определенный период составляется на основе показателей, характеризующих объем проведенных за этот период внешнеэкономических сделок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платежного балан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Баланс текущ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Баланс движения капиталов и креди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шибки и пропус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перации с ликвидными валютными актив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труктура платежного баланса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Баланс текущих операци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Баланс движения капиталов и кредит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Ошибки и пропуск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. Операции с ликвидными валютными активам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 баланса текущих операций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Торговый балан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Баланс усл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ыплаты и поступления доходов по инвестициям и процентов по международным кредит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дносторонние пере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став баланса текущих операций: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Торговый баланс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Баланс услуг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Выплаты и поступления доходов по инвестициям и процентов по международным кредитам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. Односторонние переводы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2054-2F48-4B86-A5B8-362007FB0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E882-6261-4314-9FA4-32E07794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B143-DA26-457D-A794-49DC2343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41FB-E8E5-46E6-8DE6-5A730C25E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18FA-AD50-4B2D-B234-D8AD941BD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3616-F57E-447B-9752-87304A1B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1A5D-BFED-46B9-B32C-4292E0A5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1752-B465-4ACF-A1E6-A2D1ED15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7861-0865-4974-82FB-EF693314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0A19-72D2-4624-8E79-7074DC54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B461-F396-442B-AE4C-5C0227CA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E499-BB59-4F7F-B6EA-4ECEC5EE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33EB-69A7-48F7-B8A2-4F551749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7A8E-18D5-4FB5-B0B3-6B4184CD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A218-375F-45C7-AB5B-A21D91E3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0F85-F793-4366-89F2-3D1089E09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E13E-46EA-4770-A56D-66AC000AD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6AE3-6523-4544-AC04-4F7F06CD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3D34-D76C-477D-8CC0-4C7A1CC4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D7C9-B91C-4418-9220-61AAFF49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DCF2-1932-49C1-8CD1-07F17D39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1763-1A4E-41F0-A927-2B2672BD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7583-4775-4543-9674-A0FDA4B9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0D40-F089-4C95-B4C0-AFB39F0E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E036-888B-4314-9E6B-687C7E129D6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14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55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5159-161B-4E9D-A75B-D0E57DD936F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МЕЖДУНАРОДНЫЕ ФИНАНСОВЫЕ РЫН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ема: Платежный баланс как отражение международных валютно-кредитных операций стра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105D-E1C2-4D48-B16C-4707146D1948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719280" y="871920"/>
            <a:ext cx="810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шибки и пропуски появляются по следующим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причинам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различные источники поступления информации в кредитовую и дебетовую часть платежного баланса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разница во времени между поступлением товаров и услуг и их финансовым обеспечением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7560-1F93-40D8-82EA-2A8D76AED085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792000" y="2168640"/>
            <a:ext cx="774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задержки в пути при доставке товаров, например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наличие неучтенных операций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несогласованность цен контрактов с действующими ценами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широкое развитие кредитных отношений (будущие платежи учитываются в разделе движения капиталов и кредитов).</a:t>
            </a: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86E8-2EDD-49BF-9912-D9D66E098B16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900000" y="591840"/>
            <a:ext cx="7920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Операции с ликвидными валютными активами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–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перации, которые проводят государственные валютные органы для обеспечения равновесия  платежного баланса и в результате проведения которых происходит изменение величины и состава централизованных официальных золотовалютных резерво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BD76-909F-41B9-9A25-318AC48CF33D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971640" y="835560"/>
            <a:ext cx="759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66ff"/>
                </a:solidFill>
                <a:latin typeface="Tahoma"/>
              </a:rPr>
              <a:t>Составление платежного баланса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базируется на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понятии резидент и нерезидент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определении сделки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учете цен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фиксации момента сдел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8DC4-7DC0-4EAA-9B14-660D489E72B1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863640" y="696600"/>
            <a:ext cx="8028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Классификация статей платежного баланса по методике МВФ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А. Текущие операц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В. Прямые инвестиции и прочий долгосрочный капита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С. Краткосрочный капита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  <a:ea typeface="SimSun"/>
              </a:rPr>
              <a:t>D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 Ошибки и пропус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Е. Компенсирующие стать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  <a:ea typeface="SimSun"/>
              </a:rPr>
              <a:t>F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 Чрезвычайное финансирова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  <a:ea typeface="SimSun"/>
              </a:rPr>
              <a:t>G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 Обязательства, образующие валютные резервы иностранных официальных орган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  <a:ea typeface="SimSun"/>
              </a:rPr>
              <a:t>H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 Итоговое изменение резерв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971640" y="1159200"/>
            <a:ext cx="766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Текущие операции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товары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услуги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доходы от инвестиций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прочие услуги и доходы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частные односторонние переводы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официальные односторонние перевод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1008000" y="871920"/>
            <a:ext cx="766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Прямые инвестиции и прочий долгосрочный капитал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прямые инвестиции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портфельные инвестиции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прочий долгосрочный капитал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008000" y="1232280"/>
            <a:ext cx="752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Итоговое изменение резервов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СДР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резервная позиция в МВФ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иностранная валюта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прочие требования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кредиты МВФ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900000" y="906840"/>
            <a:ext cx="774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Основные разделы платежного баланса РФ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I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 Счет текущих операци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II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 Счет операций с капиталом и финансовыми инструментам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III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 Чистые ошибки и пропус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IV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 Изменение валютных резервов («+» - снижение, «-« - рост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863640" y="2345400"/>
            <a:ext cx="7345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Статьи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платежного баланса делятся на </a:t>
            </a:r>
            <a:r>
              <a:rPr b="0" i="1" lang="ru-RU" sz="2400" spc="-1" strike="noStrike">
                <a:solidFill>
                  <a:srgbClr val="3366ff"/>
                </a:solidFill>
                <a:latin typeface="Tahoma"/>
              </a:rPr>
              <a:t>основные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и </a:t>
            </a:r>
            <a:r>
              <a:rPr b="0" i="1" lang="ru-RU" sz="2400" spc="-1" strike="noStrike">
                <a:solidFill>
                  <a:srgbClr val="3366ff"/>
                </a:solidFill>
                <a:latin typeface="Tahoma"/>
              </a:rPr>
              <a:t>балансирующие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Сальдо платежного баланса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– сальдо (соотношение активов и пассивов) по основным статья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Сальдо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положительное,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если активы больше пассиво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Сальдо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отрицательное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, если активы меньше пассиво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Итог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платежного баланса всегда равен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0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900000" y="952200"/>
            <a:ext cx="7956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Платежный баланс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–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это балансовый счет международных операций, стоимостное выражение всех мирохозяйственных связей страны в форме соотношения показателей ввоза  - вывоза товаров, услуг, капитало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1042920" y="943560"/>
            <a:ext cx="7632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пособы измерения сальдо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платежного баланса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1. Концепция баланса текущих операци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2. Концепция базисного баланс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3. Концепция ликвидност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4. Концепция баланса официальных расчето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1042920" y="871920"/>
            <a:ext cx="7848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Концепция баланса текущих операций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Баланс текущих операций наиболее полно отражает величину </a:t>
            </a:r>
            <a:r>
              <a:rPr b="0" i="1" lang="ru-RU" sz="3200" spc="-1" strike="noStrike">
                <a:solidFill>
                  <a:srgbClr val="3366ff"/>
                </a:solidFill>
                <a:latin typeface="Tahoma"/>
              </a:rPr>
              <a:t>реальных ценностей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, которые страна передала загранице или получила от нее в дополнение к ВВП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792000" y="1307880"/>
            <a:ext cx="756000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Концепция базисного баланс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Основные разделы </a:t>
            </a:r>
            <a:r>
              <a:rPr b="1" lang="ru-RU" sz="2400" spc="-1" strike="noStrike" u="sng">
                <a:solidFill>
                  <a:srgbClr val="3366ff"/>
                </a:solidFill>
                <a:uFillTx/>
                <a:latin typeface="Tahoma"/>
              </a:rPr>
              <a:t>– </a:t>
            </a:r>
            <a:r>
              <a:rPr b="0" lang="ru-RU" sz="2400" spc="-1" strike="noStrike" u="sng">
                <a:solidFill>
                  <a:srgbClr val="3366ff"/>
                </a:solidFill>
                <a:uFillTx/>
                <a:latin typeface="Tahoma"/>
              </a:rPr>
              <a:t>текущие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операции, движение </a:t>
            </a:r>
            <a:r>
              <a:rPr b="0" lang="ru-RU" sz="2400" spc="-1" strike="noStrike" u="sng">
                <a:solidFill>
                  <a:srgbClr val="3366ff"/>
                </a:solidFill>
                <a:uFillTx/>
                <a:latin typeface="Tahoma"/>
              </a:rPr>
              <a:t>долгосрочного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капитал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Балансирующие операции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– движение краткосрочного капитала и валютных резерво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Сальдо базисного баланса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– сумма итогов разделов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А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и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В,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которая должна быть </a:t>
            </a:r>
            <a:r>
              <a:rPr b="0" i="1" lang="ru-RU" sz="2400" spc="-1" strike="noStrike">
                <a:solidFill>
                  <a:srgbClr val="3366ff"/>
                </a:solidFill>
                <a:latin typeface="Tahoma"/>
              </a:rPr>
              <a:t>равна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балансу операций по остальным разделам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24"/>
          <p:cNvSpPr/>
          <p:nvPr/>
        </p:nvSpPr>
        <p:spPr>
          <a:xfrm>
            <a:off x="755640" y="906840"/>
            <a:ext cx="8101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Концепция баланса ликвидност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Основная цель –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пределить прирост суммы ликвидных долларовых активов у нерезиденто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альдо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баланса ликвидности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– сумма сальдо операций по основным группам А + В + С +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D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Балансирующие статьи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–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E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F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G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H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( с обратным знаком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934920" y="591480"/>
            <a:ext cx="7956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Концепция баланса официальных расчето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66ff"/>
                </a:solidFill>
                <a:latin typeface="Tahoma"/>
              </a:rPr>
              <a:t>Отражал положение валюты данной страны на валютных рынках (в условиях плавающих валютных курсов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альдо = А + В + </a:t>
            </a:r>
            <a:r>
              <a:rPr b="1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C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1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D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1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E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1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F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1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G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(основные статьи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Балансирующая статья –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итог по группе Н (официальные валютные операции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900000" y="663120"/>
            <a:ext cx="7777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Факторы, влияющие на состояние платежного баланса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1. Неравномерность экономического и политического развития стран, международная конкуренц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2. Циклические колебания экономи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3. Рост государственных расходов за границе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934920" y="2379600"/>
            <a:ext cx="7453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4. Милитаризация экономики и уровень военных расход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5. Усиление международной финансовой взаимозависим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6. Изменение объемов и характера международной торговл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7. Динамика валютных курс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8. Уровень инфля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9. Чрезвычайные обстоятельст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3"/>
          <p:cNvSpPr/>
          <p:nvPr/>
        </p:nvSpPr>
        <p:spPr>
          <a:xfrm>
            <a:off x="1079640" y="768240"/>
            <a:ext cx="7777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Необходимость государственного регулирования платежного баланса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1. Неуравновешенность и нестабильность, характерная для платежных балансов, влияет на состояние экономики, динамику валютных курсов, движение капиталов и т.д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971640" y="2744640"/>
            <a:ext cx="7596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2. Стихийный механизм выравнивания платежного баланса путем ценового регулирования после отказа от золотого стандарта действует крайне слабо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3. В условиях глобализации экономики повысилось значение платежного баланса, его роли в системе макроэкономических показателей развития страны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719280" y="909000"/>
            <a:ext cx="7993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Материальная основа регулирования платежного баланса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официальные золотовалютные резервы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государственный бюджет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непосредственное участие государства в МЭО как экспортера капиталов, кредитора, гаранта, заемщик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регламентация внешнеэкономических операци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2ED6-B69C-4BBE-8A2C-82DD4BA9FAE7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971640" y="880560"/>
            <a:ext cx="7848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Платежный баланс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–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статистический отчет, в котором в систематическом виде приводятся суммарные данные о внешнеэкономических операциях данной страны с другими странами мира за определенный период времен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792000" y="768960"/>
            <a:ext cx="8029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Методы государственного регулирования платежного баланса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1. Дефляционная полити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2. Девальвац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3. Протекционистские меры. Валютные ограниче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4. Финансовая и денежно-кредитная полити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5. Специальные меры государственного воздействия на платежный балан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DDF6-7B5D-4D13-BE02-E23BD8EE1010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684360" y="2527920"/>
            <a:ext cx="795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Экономические операции включают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делки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, объектом которых являются товары, услуги и доход, требования и обязательства к остальному миру, а также односторонние переводы (трансферты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C35C-45FB-44FE-A80F-47A754EE8302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755640" y="1233360"/>
            <a:ext cx="7740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Экономическая сделка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( по определению МВФ) – экономический поток, отражающий создание, трансформацию, обмен, передачу некоторой стоимости и сопровождающий изменение собственности на товары и/или финансовые активы, оказание услуг, а также предоставление за плату труда или капитал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DAC8-B820-4BC7-BAC5-CA82AF586E33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576360" y="15120"/>
            <a:ext cx="7920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Платежный баланс –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соотношение требований и обязательств страны  в иностранной валют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латежный баланс содержит все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финансовые активы (или требования) и обязательства </a:t>
            </a:r>
            <a:r>
              <a:rPr b="0" lang="ru-RU" sz="3200" spc="-1" strike="noStrike" u="sng">
                <a:solidFill>
                  <a:srgbClr val="3366ff"/>
                </a:solidFill>
                <a:uFillTx/>
                <a:latin typeface="Tahoma"/>
              </a:rPr>
              <a:t>резидентов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о отношению к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 u="sng">
                <a:solidFill>
                  <a:srgbClr val="3366ff"/>
                </a:solidFill>
                <a:uFillTx/>
                <a:latin typeface="Tahoma"/>
              </a:rPr>
              <a:t>нерезидентам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сновной принцип составления платежного баланса – принцип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двойной записи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, т.е. каждая операция отражается по дебету и кредиту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0"/>
          <p:cNvSpPr/>
          <p:nvPr/>
        </p:nvSpPr>
        <p:spPr>
          <a:xfrm>
            <a:off x="32400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287280" y="6058080"/>
            <a:ext cx="8496360" cy="3636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684360" y="661680"/>
            <a:ext cx="7920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Платежный баланс </a:t>
            </a:r>
            <a:r>
              <a:rPr b="0" i="1" lang="ru-RU" sz="2800" spc="-1" strike="noStrike">
                <a:solidFill>
                  <a:srgbClr val="3366ff"/>
                </a:solidFill>
                <a:latin typeface="Tahoma"/>
              </a:rPr>
              <a:t>по экономическому содержанию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различается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на определенную дату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определенный период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Платежный баланс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 на определенную дату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не фиксируется в форме статистических показателей, соотношение платежей и поступлений постоянно меняетс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Платежный баланс 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за определенный период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составляется на основе показателей, характеризующих объем проведенных за этот период внешнеэкономических сделок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7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AF27-F851-4FB0-BBA2-79FFCBF33701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Rectangle 149"/>
          <p:cNvSpPr/>
          <p:nvPr/>
        </p:nvSpPr>
        <p:spPr>
          <a:xfrm>
            <a:off x="287280" y="123336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611280" y="1411920"/>
            <a:ext cx="7993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труктура платежного баланса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1. Баланс текущих операци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2. Баланс движения капиталов и кредито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3. Ошибки и пропус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4. Операции с ликвидными валютными активам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F42C-3272-4378-8C4E-68E72F3FB19A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87280" y="126828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539640" y="1370520"/>
            <a:ext cx="8245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остав баланса текущих операций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1. Торговый балан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2. Баланс услуг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3. Выплаты и поступления доходов по инвестициям и процентов по международным кредитам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4. Односторонние перевод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EGION</cp:lastModifiedBy>
  <dcterms:modified xsi:type="dcterms:W3CDTF">2016-01-05T11:34:34Z</dcterms:modified>
  <cp:revision>143</cp:revision>
  <dc:subject/>
  <dc:title>Международные финансовые рынки</dc:title>
</cp:coreProperties>
</file>