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1EC3-9ACD-4338-A02C-9E512F092A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22E-8D53-4B75-8670-5FD92ABA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BC1-6F1B-4AE6-B6C5-989DED55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67C-EB6F-4889-B778-E6CFB659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4E3-3607-4B5D-90BB-8621E803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5451-BD5C-4B20-A09E-CA58C654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1589-32CC-4332-A549-92E200E9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8C9D-C500-4814-8937-482A6FB8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44BF-71D8-4708-9346-DEE19B04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11D7-CDF3-4294-B753-7A5B29A5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FF1A-1A91-40D5-84A2-EB709F49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6B33-4B2F-4B83-942B-80C4C64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512-0114-4D5D-AE36-C14FFC2A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303B-4FF1-4527-9C9F-E72275A1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7178-C9DB-496B-A563-92DD350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2C29-FED4-445B-86E3-37FD56A8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0A3D-2EF2-4860-8CF9-10320187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D30B-B3D4-43DA-AD99-794CB959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AD3-F153-43BA-BF1E-B9278265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B26-702B-4E90-A186-C03DD143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030-6A45-46A3-B4C7-B0ADE0DA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A7F-2BF6-4DAA-A43C-9256033B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9A4-327F-406C-BEDC-F0EAD080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242-E1C3-4FDB-AE63-80FA633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B14-A380-4D3C-99A0-3C994B67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CD7C-210B-4387-9864-4331E8F7E9F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1B91-F037-4D2D-A105-6A89352FDEE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7627-A4E0-462F-98DC-E72CBDF1B92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19280" y="871920"/>
            <a:ext cx="81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шибки и пропуски появляются по следующим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ичинам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ница во времени между поступлением товаров и услуг и их финансовым обеспечени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9FC8-8084-4008-AEE3-0B09419B9B2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92000" y="21686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задержки в пути при доставке товаров, наприме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аличие неучтенных опера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есогласованность цен контрактов с действующими цена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широкое развитие кредитных отношений (будущие платежи учитываются в разделе движения капиталов и кредитов)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680-4862-494F-80C0-4DE9C5B3DFB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900000" y="5918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перации с ликвидными валютными активам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9BA2-BD95-48CF-A5F3-458D7144262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71640" y="835560"/>
            <a:ext cx="75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Составле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базируется н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нятии резидент и нерезиден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пределении сделк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чете цен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фиксации момента сдел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0E26-4020-4626-99BC-264CA59DB77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63640" y="696600"/>
            <a:ext cx="80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Классификация статей платежного баланса по методике МВФ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. Текущие опе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. Прямые инвестиции и прочий долг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. Кратк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шибки и пропус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Е. Компенсирующие стат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Чрезвычайное финансир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бязательства, образующие валютные резервы иностранных официальных орган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Итоговое изменение резерв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159200"/>
            <a:ext cx="76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Текущие операци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товар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слуг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доходы от инвести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услуги и дох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частные односторонние перев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фициальные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08000" y="871920"/>
            <a:ext cx="76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ямые инвестиции и прочий долгосрочный капитал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ям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ртфельн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й долгосрочный капит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08000" y="123228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Итоговое изменение резервов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СД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езервная позиция в МВФ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иностранная валют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требова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кредиты МВФ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900000" y="9068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ые разделы платежного баланса РФ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операций с капиталом и финансовыми инструмент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Чистые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Изменение валютных резервов («+» - снижение, «-« - рост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63640" y="234540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тать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делятся на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балансирую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платеж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альдо (соотношение активов и пассивов) по основным стать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ложительное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если активы бол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, если активы мен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тог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всегда равен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00000" y="9522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042920" y="9435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пособы измерения 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платежного балан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Концепция баланса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Концепция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8719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аланс текущих операций наиболее полно отражает величину </a:t>
            </a: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реальных ценносте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которые страна передала загранице или получила от нее в дополнение к ВВП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92000" y="1307880"/>
            <a:ext cx="756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сновные разделы </a:t>
            </a:r>
            <a:r>
              <a:rPr b="1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–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теку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операции, движение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долгосрочного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апит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ирующие операци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движение краткосрочного капитала и валютных резер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базис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умма итогов разделов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оторая должна быть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равн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у операций по остальным разделам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4"/>
          <p:cNvSpPr/>
          <p:nvPr/>
        </p:nvSpPr>
        <p:spPr>
          <a:xfrm>
            <a:off x="755640" y="906840"/>
            <a:ext cx="81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ая цель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ить прирост суммы ликвидных долларовых активов у нерезиден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а ликвидност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сумма сальдо операций по основным группам А + В + С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ие стать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( с обратным знаком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34920" y="591480"/>
            <a:ext cx="79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 = А + В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C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(основные стать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ая статья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тог по группе Н (официальные валютные операци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663120"/>
            <a:ext cx="77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Факторы, влияющие на состоя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Циклические колебания эконом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Рост государственных расходов за границ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34920" y="2379600"/>
            <a:ext cx="74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Милитаризация экономики и уровень военных расх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Усиление международной финансовой взаимозависим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6. Изменение объемов и характера международной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7. Динамика валютных кур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8. Уровень инфля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9. Чрезвычайные обстоя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79640" y="7682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Необходимость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971640" y="2744640"/>
            <a:ext cx="75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719280" y="9090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атериальная основа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официальные золотовалютные резерв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государственный бюдж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регламентация внешнеэкономических опер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5636-505A-48B8-9925-7DEC879D83E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71640" y="88056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92000" y="768960"/>
            <a:ext cx="80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етоды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Дефляцион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Девальва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текционистские меры. Валютные ограни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Финансовая и денежно-кредит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Специальные меры государственного воздействия на платежный бала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F02C-BD0D-455E-883C-FCA81F8A803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4360" y="2527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кономические операции включают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делк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FE69-54BA-4848-8716-90AFAAF3CF5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55640" y="1233360"/>
            <a:ext cx="77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Экономическая сделк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A930-15FA-41EE-959E-638B0DCEE3F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76360" y="15120"/>
            <a:ext cx="79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отношение требований и обязательств страны  в иностранной валют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латежный баланс содержит все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финансовые активы (или требования) и обязательства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резидентов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 отношению к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нерезиден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новной принцип составления платежного баланса – принцип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двойной запис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т.е. каждая операция отражается по дебету и кредит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66168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i="1" lang="ru-RU" sz="2800" spc="-1" strike="noStrike">
                <a:solidFill>
                  <a:srgbClr val="3366ff"/>
                </a:solidFill>
                <a:latin typeface="Tahoma"/>
              </a:rPr>
              <a:t>по экономическому содержанию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личае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определенный пери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е фиксируется в форме статистических показателей, соотношение платежей и поступлений постоянно меняе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за определенный период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7050-F652-4019-A895-397F59C1FBD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49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1280" y="141192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труктура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Баланс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движения капиталов и креди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перации с ликвидными валютными актив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C791-3877-472D-92B6-EE33A53C341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9640" y="1370520"/>
            <a:ext cx="82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ав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Торговый бала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услу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Выплаты и поступления доходов по инвестициям и процентов по международным креди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EGION</cp:lastModifiedBy>
  <dcterms:modified xsi:type="dcterms:W3CDTF">2016-01-05T11:34:34Z</dcterms:modified>
  <cp:revision>143</cp:revision>
  <dc:subject/>
  <dc:title>Международные финансовые рынки</dc:title>
</cp:coreProperties>
</file>