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3A13-8698-444F-878B-491841D32D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ФИНАНСОВ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Платежный баланс как отражение международных валютно-кредитных операций стр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ЕЖДУНАРОДНЫЕ ФИНАНСОВЫЕ РЫН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: Платежный баланс как отражение международных валютно-кредитных операций страны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пропуски появляются по следующим причин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ница во времени между поступлением товаров и услуг и их финансовым обеспечени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шибки и пропуски появляются по следующим причинам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азница во времени между поступлением товаров и услуг и их финансовым обеспечением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ержки в пути при доставке товаров, наприм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личие неучтенных опер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согласованность цен контрактов с действующими це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широкое развитие кредитных отношений (будущие платежи учитываются в разделе движения капиталов и кредитов).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задержки в пути при доставке товаров, например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аличие неучтенных операц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есогласованность цен контрактов с действующими ценам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широкое развитие кредитных отношений (будущие платежи учитываются в разделе движения капиталов и кредитов).       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и с ликвидными валютными активам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ерации с ликвидными валютными активами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платежного баланса базируется 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нятии резидент и нерезиден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ии сдел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чете ц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ксации момента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ставление платежного баланса базируется н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онятии резидент и нерезидент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пределении сделк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учете цен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фиксации момента сдел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статей платежного баланса по методике МВ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Текущи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Прямые инвестиции и прочий долг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Кратк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.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Компенсирующие стат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. Чрезвычайное финанс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. Обязательства, образующие валютные резервы иностранных официальных орга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. Итоговое изменение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лассификация статей платежного баланса по методике МВФ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. Текущие опер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. Прямые инвестиции и прочий долг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. Кратк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D.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Е. Компенсирующие стать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F. Чрезвычайное финансировани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G. Обязательства, образующие валютные резервы иностранных официальных орган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H. Итоговое изменение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ходы от инвести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е услуги и дох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астные односторонние пере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фициальные односторонние пере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кущие операции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товар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услуг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доходы от инвестиц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е услуги и доход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частные односторонние перевод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фициальные односторонние перевод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 и прочий долгосрочный капи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ям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ртфельн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й долг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ямые инвестиции и прочий долгосрочный капитал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ямые инвести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ортфельные инвести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й долг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овое изменение резерв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Д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зервная позиция в МВ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ностранная валю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е треб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едиты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тоговое изменение резервов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СДР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езервная позиция в МВФ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иностранная валют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е требования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кредиты МВФ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платежного баланса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Счет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Счет операций с капиталом и финансовыми инстр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Чистые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Изменение валютных резервов («+» - снижение, «-« - рос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е разделы платежного баланса РФ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. Счет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I. Счет операций с капиталом и финансовыми инструмента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II. Чистые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V. Изменение валютных резервов («+» - снижение, «-« - рост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и платежного баланса делятся на основные и балансирующ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платежного баланса – сальдо (соотношение активов и пассивов) по основным стать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положительное, если активы больше пасс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отрицательное, если активы меньше пасс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 платежного баланса всегда равен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атьи платежного баланса делятся на основные и балансирующие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платежного баланса – сальдо (соотношение активов и пассивов) по основным статья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положительное, если активы больше пасси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отрицательное, если активы меньше пасси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тог платежного баланса всегда равен 0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измерения сальдо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нцепция баланса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нцепция базисного бала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нцепция ликви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онцепция баланса официаль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особы измерения сальдо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Концепция баланса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Концепция базисного баланс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Концепция ликвид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Концепция баланса официальных расч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текущих операций наиболее полно отражает величину реальных ценностей, которые страна передала загранице или получила от нее в дополнение к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 текущих операций наиболее полно отражает величину реальных ценностей, которые страна передала загранице или получила от нее в дополнение к ВВП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зисного бала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– текущие операции, движение долгосроч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ие операции – движение краткосрочного капитала и 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базисного баланса – сумма итогов разделов А и В, которая должна быть равна балансу операций по остальным разде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зисного баланс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е разделы – текущие операции, движение долгосрочного капитал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ие операции – движение краткосрочного капитала и валютных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базисного баланса – сумма итогов разделов А и В, которая должна быть равна балансу операций по остальным раздел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ликви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цель – определить прирост суммы ликвидных долларовых активов у нерезид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баланса ликвидности– сумма сальдо операций по основным группам А + В + С +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ие статьи – E + F + G + H ( с обратным знак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ликвид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ая цель – определить прирост суммы ликвидных долларовых активов у нерезиден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баланса ликвидности– сумма сальдо операций по основным группам А + В + С + D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ие статьи – E + F + G + H ( с обратным знаком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официаль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= А + В + C + D + E + F + G (основные стать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ая статья – итог по группе Н (официальные валютные опер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официальных расч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= А + В + C + D + E + F + G (основные статьи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ая статья – итог по группе Н (официальные валютные операции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остояние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иклические колебания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ост государственных расходов за границ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влияющие на состояние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Циклические колебания экономи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ост государственных расходов за границе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илитаризация экономики и уровень военных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силение международной финансовой взаимозависим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менение объемов и характера международно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инамика валютных к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Уровень инфля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Чрезвычайные обстоя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Милитаризация экономики и уровень военных расход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. Усиление международной финансовой взаимозависим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. Изменение объемов и характера международной торговл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. Динамика валютных курс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. Уровень инфляци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. Чрезвычайные обстоятельств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государственного регулирования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обходимость государственного регулирования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ая основа регулирования платежного баланс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осударственный бюдже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гламентация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териальная основа регулирования платежного баланса 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фициальные золотовалютные резерв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государственный бюджет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егламентация внешнеэкономическ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государственного регулирования платежного баланс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ефляцион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евальв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стские меры. Валютные ограни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инансовая и денежно-кредит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пециальные меры государственного воздействия на платежный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етоды государственного регулирования платежного баланса 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Дефляционная политик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Девальвац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Протекционистские меры. Валютные ограниче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Финансовая и денежно-кредитная политик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. Специальные меры государственного воздействия на платежный балан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перации включают сделки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кономические операции включают сделки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де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кономическая сделка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соотношение требований и обязательств страны  в иностранной валю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содержит все финансовые активы (или требования) и обязательства резидентов по отношению к нерезиде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принцип составления платежного баланса – принцип двойной записи, т.е. каждая операция отражается по дебету и креди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соотношение требований и обязательств страны  в иностранной валют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содержит все финансовые активы (или требования) и обязательства резидентов по отношению к нерезидент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ой принцип составления платежного баланса – принцип двойной записи, т.е. каждая операция отражается по дебету и кредит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по экономическому содержанию различа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 определенную дату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ный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на определенную дату не фиксируется в форме статистических показателей, соотношение платежей и поступлений постоянно меня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за определенный период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по экономическому содержанию различается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а определенную дату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пределенный период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на определенную дату не фиксируется в форме статистических показателей, соотношение платежей и поступлений постоянно меняетс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за определенный период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Баланс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 движения капиталов и креди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перации с ликвидными валютными акти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руктура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Баланс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Баланс движения капиталов и креди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Операции с ликвидными валютными актива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баланса текущих операц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рговый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ыплаты и поступления доходов по инвестициям и процентов по международным креди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дносторонние пере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став баланса текущих операций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Торговый балан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Баланс услуг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Выплаты и поступления доходов по инвестициям и процентов по международным кредит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Односторонние перевод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9BC-C008-4E1D-9752-EBC67BAB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44F-380C-4E84-AF78-9D2D319D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345A-635A-42A5-87FC-7094B6C6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890-95CE-44CA-9510-8C1878D9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F0EB-A9D8-4E65-B0F2-BC92B004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1D6F-4328-4B86-BB68-CFC37916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910C-80AE-4AD9-B44D-F801AFDC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9560-8513-48DF-B790-912DD77B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08E5-A897-491B-810D-041AA9F7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8C86-A134-4095-AEBF-95852E1B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A7E1-CE67-4C00-8599-0AAD8E48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36B-15D6-41F0-8290-9A254E5D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3121-185E-4ADD-8764-9E7816C6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91A3-A37A-4305-B3B3-D557C86E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F6C3-4A08-4679-A8A5-EE02C24E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1609-0EF6-4B0C-848C-7808F694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6E24-D141-4127-A1D7-0FFA686B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C91-D864-4BA9-9DB9-B219F774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9AC5-EB8B-4F97-81A1-C879AA94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7F0-2421-4AD0-9A59-CCC4B288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811-084C-428E-997A-13BCAEC4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315-12CA-452A-BC7A-C0F67570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32AC-BF0A-46B0-A8F3-2013F559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C3C-1F64-482C-B003-D06214CF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D582-CBD1-428B-A20D-76A01A24FC6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4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3FCB-3E9D-4A94-BD2A-09A52F20D41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МЕЖДУНАРОДНЫЕ ФИНАНСОВЫЕ РЫ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ма: Платежный баланс как отражение международных валютно-кредитных операций стра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AF6D-7ECA-4AFF-B78B-9B140F5054D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719280" y="871920"/>
            <a:ext cx="810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шибки и пропуски появляются по следующим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ричинам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азница во времени между поступлением товаров и услуг и их финансовым обеспечением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7D27-9099-41A8-A42E-7541C214EA3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792000" y="2168640"/>
            <a:ext cx="77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задержки в пути при доставке товаров, например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наличие неучтенных операци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несогласованность цен контрактов с действующими ценам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широкое развитие кредитных отношений (будущие платежи учитываются в разделе движения капиталов и кредитов).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238A-9FE7-4A75-8F91-6595302C76F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900000" y="59184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перации с ликвидными валютными активам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B607-DEAC-439F-9930-50A14882A00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971640" y="835560"/>
            <a:ext cx="759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Составление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базируется н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онятии резидент и нерезидент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определении сделк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учете цен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фиксации момента сдел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B6EA-69D0-495A-BCFC-A26CAF3FA21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863640" y="696600"/>
            <a:ext cx="8028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Классификация статей платежного баланса по методике МВФ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А. Текущие опер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. Прямые инвестиции и прочий долгосрочный капит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. Краткосрочный капит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Ошибки и пропус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Е. Компенсирующие стать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Чрезвычайное финансиров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Обязательства, образующие валютные резервы иностранных официальных орган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H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Итоговое изменение резерв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71640" y="1159200"/>
            <a:ext cx="76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Текущие операци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товар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услуг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доходы от инвестици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е услуги и доход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частные односторонние перевод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официальные односторонние перевод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008000" y="871920"/>
            <a:ext cx="76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рямые инвестиции и прочий долгосрочный капитал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ямые инвестици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ортфельные инвестици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й долгосрочный капитал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008000" y="1232280"/>
            <a:ext cx="75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Итоговое изменение резервов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СДР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езервная позиция в МВФ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иностранная валют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е требова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кредиты МВФ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900000" y="906840"/>
            <a:ext cx="77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сновные разделы платежного баланса РФ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Счет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Счет операций с капиталом и финансовыми инструмент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I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Чистые ошибки и пропус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V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Изменение валютных резервов («+» - снижение, «-« - рост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863640" y="234540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татьи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платежного баланса делятся на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основны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и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балансирующи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альдо платежного баланс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сальдо (соотношение активов и пассивов) по основным статья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альдо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оложительное,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если активы больше пасси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альдо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трицательно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, если активы меньше пасси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Итог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платежного баланса всегда равен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900000" y="952200"/>
            <a:ext cx="795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1042920" y="9435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пособы измерения сальдо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платежного баланс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Концепция баланса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Концепция базисного баланс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Концепция ликвид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Концепция баланса официальных расче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042920" y="871920"/>
            <a:ext cx="78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текущих операци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Баланс текущих операций наиболее полно отражает величину </a:t>
            </a: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реальных ценносте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которые страна передала загранице или получила от нее в дополнение к ВВП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792000" y="1307880"/>
            <a:ext cx="75600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зисного баланс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сновные разделы </a:t>
            </a:r>
            <a:r>
              <a:rPr b="1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– </a:t>
            </a:r>
            <a:r>
              <a:rPr b="0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текущи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операции, движение </a:t>
            </a:r>
            <a:r>
              <a:rPr b="0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долгосрочного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капита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Балансирующие операции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движение краткосрочного капитала и валютных резер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альдо базисного баланс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сумма итогов разделов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и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В,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которая должна быть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равн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балансу операций по остальным разделам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24"/>
          <p:cNvSpPr/>
          <p:nvPr/>
        </p:nvSpPr>
        <p:spPr>
          <a:xfrm>
            <a:off x="755640" y="906840"/>
            <a:ext cx="8101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ликвид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сновная цель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ределить прирост суммы ликвидных долларовых активов у нерезиден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альдо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а ликвидност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сумма сальдо операций по основным группам А + В + С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ирующие стать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E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H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( с обратным знаком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934920" y="591480"/>
            <a:ext cx="795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официальных расче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альдо = А + В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C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E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(основные статьи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ирующая статья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итог по группе Н (официальные валютные операции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663120"/>
            <a:ext cx="777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Факторы, влияющие на состояние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Циклические колебания эконом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Рост государственных расходов за границ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934920" y="2379600"/>
            <a:ext cx="74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4. Милитаризация экономики и уровень военных расход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5. Усиление международной финансовой взаимозависим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6. Изменение объемов и характера международной торгов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7. Динамика валютных курс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8. Уровень инфля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9. Чрезвычайные обстоятель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1079640" y="76824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Необходимость государственного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971640" y="2744640"/>
            <a:ext cx="7596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719280" y="909000"/>
            <a:ext cx="79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Материальная основа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официальные золотовалютные резерв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государственный бюджет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регламентация внешнеэкономических операц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2484-0342-42CA-9C1B-5D02E5996A1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971640" y="880560"/>
            <a:ext cx="784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792000" y="768960"/>
            <a:ext cx="802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Методы государственного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. Дефляционная пол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. Девальвац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3. Протекционистские меры. Валютные огранич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4. Финансовая и денежно-кредитная пол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5. Специальные меры государственного воздействия на платежный балан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336F-66E0-4229-9B75-025D4DE5DCB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684360" y="252792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кономические операции включают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делк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529C-7D28-4214-9BAB-4C08F48264E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55640" y="1233360"/>
            <a:ext cx="774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Экономическая сделк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8E87-A711-4820-9A6C-D939490BFCF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76360" y="15120"/>
            <a:ext cx="7920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отношение требований и обязательств страны  в иностранной валют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латежный баланс содержит все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финансовые активы (или требования) и обязательства </a:t>
            </a:r>
            <a:r>
              <a:rPr b="0" lang="ru-RU" sz="3200" spc="-1" strike="noStrike" u="sng">
                <a:solidFill>
                  <a:srgbClr val="3366ff"/>
                </a:solidFill>
                <a:uFillTx/>
                <a:latin typeface="Tahoma"/>
              </a:rPr>
              <a:t>резидентов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 отношению к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3366ff"/>
                </a:solidFill>
                <a:uFillTx/>
                <a:latin typeface="Tahoma"/>
              </a:rPr>
              <a:t>нерезидента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сновной принцип составления платежного баланса – принцип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двойной запис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т.е. каждая операция отражается по дебету и кредиту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84360" y="661680"/>
            <a:ext cx="7920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0" i="1" lang="ru-RU" sz="2800" spc="-1" strike="noStrike">
                <a:solidFill>
                  <a:srgbClr val="3366ff"/>
                </a:solidFill>
                <a:latin typeface="Tahoma"/>
              </a:rPr>
              <a:t>по экономическому содержанию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различается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на определенную дату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определенный пери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латежный баланс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на определенную дату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не фиксируется в форме статистических показателей, соотношение платежей и поступлений постоянно меняетс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за определенный период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02A1-BF15-4F62-B1C5-BF45DC6B54A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149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611280" y="1411920"/>
            <a:ext cx="79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труктура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Баланс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Баланс движения капиталов и креди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Ошибки и пропус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Операции с ликвидными валютными актив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BFCE-F3B8-42E2-8997-C9970E0AE3A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539640" y="1370520"/>
            <a:ext cx="824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став баланса текущих операци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Торговый балан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Баланс услу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Выплаты и поступления доходов по инвестициям и процентов по международным кредита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Односторонние перевод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EGION</cp:lastModifiedBy>
  <dcterms:modified xsi:type="dcterms:W3CDTF">2016-01-05T11:34:34Z</dcterms:modified>
  <cp:revision>143</cp:revision>
  <dc:subject/>
  <dc:title>Международные финансовые рынки</dc:title>
</cp:coreProperties>
</file>