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HAZAR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B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3A0B-0A6E-4B17-94E2-63436A001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D9C-1F7C-40D6-AA2A-0306A8B0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D0B-6679-4E31-ADBB-C382AEC0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E333C-1DFB-419A-90AE-6149BF9D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26AFD-CB96-4E74-AD1A-F62465C2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6B48A-F4C6-4BCF-9932-BEA07F56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C570D-3164-46AB-B433-150C97E1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940F1-65C9-41C1-B836-F6E22659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93CFB-6CA5-4ED6-BAF3-A030A03D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2512E-F283-4E27-B152-D540CD33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1FFE5-8C8D-4AE4-9B3C-B0025BED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C6027-F31A-4F30-BF49-327CD6FF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00F1E-C311-476B-AF16-C5259307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140-5818-4493-808B-D935A7CB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0FD36-00CE-4CA5-9726-2FA851B1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59BEB-5F39-456B-9C86-E1A133C0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E754E-C832-42FB-A5FB-76A12E68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1C418-318E-45FD-B053-3AC056BB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2F270-C3E6-41B1-ACA1-6040DE78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21AE9-F4DC-4D70-8D60-49445225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3D39F-0126-4F27-8799-AB082111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763FE-4CB4-4B1C-A96B-271659C6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21938-E53C-46A1-93AB-90C20673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CC9EE-3CDE-4E40-A913-4089A4C2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4EB-4E1D-4967-A4DB-BD789A80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51447-4FD7-46C7-A467-6CF729BF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04E55-9B80-49A0-886B-6C478C8C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7D2C2-85E9-4D13-98E3-7B48D9F4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A8EA7-3CD7-498C-B9E6-69FA2A70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28921-BC48-4A98-B3AD-14A9B3A2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95714-5D58-47D5-8D06-3CFAB20C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DF0CE-25DF-490F-BD32-0ACECE05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5216A-A327-4B87-934A-7E0541C0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3273D-7554-4D28-A53C-D1B86808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61118-630E-4549-9A01-1729E4DA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88E4-43AB-449D-BEC3-6087BD92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EA877-584D-4E6B-9104-438F27B2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97393-5168-411B-A4F0-1B4A7D9D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420AE-8A4C-420F-B40C-646BBB0F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49898-D4F6-45D0-8244-B006849E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8A82F-3258-44C9-BADD-B94118F8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C5C33-23AE-46B8-9579-6E00975C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B932D-DE77-4712-972F-0BDA607D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4385E-5D96-48E4-8497-807FFB0C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F461C-1693-461A-96AA-7FE4530F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6CDE2-3832-436C-8835-DD96323D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D0D8-7182-49C4-AD23-05B4BACA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6E1C4-8DF1-49B4-94BD-A166D13B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5D9BA-C6DA-40E6-8735-99C201C1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08D13-A6ED-40EE-AE65-F81BD3EB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34C1A-65F2-4831-9114-EEC105FB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7221E-0DA0-42BF-B18E-0CF87019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979E2-88E3-478C-AEBC-DADC3CDB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93F57-52BA-420F-B312-72A7F0CE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4099C-696A-4796-ABF0-58E8F3D3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3BD0D-5D60-4723-951C-772E66DB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0EA09-DBD3-41D5-B954-F4774EFE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DBA0-1237-4DF4-97E9-EA178DCD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E6702-9CE4-4814-A049-BCBBD88E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56C1D-4214-4E36-BF60-35F6F65D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9B927-8466-407D-AFE1-4DDFEF79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1C11A-CC42-4B08-B4D1-C4ED6913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324AF-1029-43E5-A485-FE48C11E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BEA85-B0BE-48A0-9AD5-BC3C6602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2CCAF-0E02-4D16-9DCC-42DA8AD7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BC0F2-E982-4440-AC6B-4D535ED0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C51CD-5DA0-4EAC-AEC7-917210F7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F1C46-EB75-46C4-8E9A-BA8CCAA5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9A6F-5DB9-487A-A63C-9AA9EC5C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266C4-6FBC-4910-97C9-4F9746DD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46D335-911B-4D6F-AC02-B517BDA0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545B5-2BFA-4431-A072-A9E3FE75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2510C-23AB-42DF-87BF-C18CBD0F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24739-E976-4499-940B-77FB9FB5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A6BD9-2F53-4030-A311-EC720C50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4568A-73E7-4BCE-AE11-7E86BD8B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8593A1-B5DE-4659-A8A0-E8A01E01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84C21-348A-4B4D-8062-333AD2F7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030E-561B-4F92-8505-BE1538A7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3954-1223-456B-829D-C840CD71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7CE2-7600-4A9D-9A32-37BEA628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BFF-9FDD-4B71-9E91-80678624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ACCD-D95F-485F-B13D-5605888A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4D07-99F0-42B1-95E4-A7EF96B3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56D5-BBE5-4029-BD92-DB529129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4166-A742-4E2E-8D37-87277874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8CCB-30E0-405C-914C-10F5DB81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97B2C-3E58-4EA4-A1FE-8B62DC6F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AC253-9700-40DB-A35F-EE30AD5B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8830F-56AE-444A-BB4C-8BED9239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C858-A683-4A05-B2C9-84E201E6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0CDE-2945-499C-8F39-EAFFABC0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07F-8BAA-4B12-9D16-66DCB0FC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DE430-4029-43B3-80E8-1574F1A9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E921D-945F-40FE-AD60-57005936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774AE-0104-4807-A630-C10865AC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F9478-7716-49FB-B2F6-9302649F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E0620-5A4D-4DF4-8877-8B34D225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03A9F-55AF-4551-A095-285A3F1E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01F3-37FE-4515-A697-68CC5FD1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2FA43-0A07-4E16-9D32-687603E1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52D9C-E2A4-4875-AA93-EC8E2BC2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D0409-B3AC-4A37-A333-2E554181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BED-66AE-44EA-A3C3-19008716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85F9B-5B42-4A06-A54C-CEEFE44D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B9B1A-C9CF-43C5-98CF-CCC87615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835EF-1061-4201-BA66-EC80BB96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935D6-332D-4508-9095-6C915ED5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B600B-4E75-45F7-809E-9681FCE3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33E6-8AC5-4552-9531-26FB547C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67C4-95B4-4DD7-9A13-C519BF49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662BD-DCC8-4EDC-BD5D-AE2A49D8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47D13-FC1B-4816-AB29-67683B0C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360C6-F740-4EAC-BE19-DFD0D4DA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E44-FC00-4CBA-86EF-D8F49CD1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8EE6D-AAB7-4458-B407-67A0F90C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CF818-4A53-4CF6-B930-0B0C6C3A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B5BCD-92E2-494D-88D1-228B5DA9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B6E3E-D41E-47E2-84C9-33EADFE5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BB2FA-1FB1-402F-A7A1-8694BE73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BA0D1-C592-4E80-BC63-9508C75B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E7350-C862-4552-9A72-B929482D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120D5-E758-4EAF-BB5F-381AFDCD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4DEA9-8B1E-4F41-A675-15FDBAE8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39FFD-01EE-4EFD-8FA5-1EA2318A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E71-705A-4427-87FC-9202068E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BBF82-2931-4367-B87F-63B19FD5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3D038-C2FC-4C7D-BBA0-B9F398D4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B8690-E1EA-48E2-A8EB-985A5A7B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F90B9-9DCB-421A-9D75-0AD5BEBA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8EB18-979F-4409-ADF1-EF17EF11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8FB52-1457-4BE7-8D0B-CFC0C954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CCC60-829E-4E24-9A0C-18EF9C7E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36CD1-BD8E-49B6-8A67-0A664B5C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881FD-53C0-402D-90A4-C6F210A4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4B3CA-FDA9-44F1-B32A-E843D5E1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84F-3150-4E16-A243-632751AE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0533F-09C7-4548-A988-B8D5C17C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21A8E-8011-4AB4-9F84-A8194C4E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E91CC-5DF4-4A53-82D6-F7F77B0D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2FA5A-9C7F-4C1F-8A2F-503D9A7E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B0B10-8645-4353-974A-943EB73D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03E3F-E106-4067-B219-49503DB0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2C9A6-3EE6-4F84-95AA-BBCD01C3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9E297-589B-45F2-A5F4-34E06AAD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1F069-1BAE-4E65-BE18-44EE7D51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010EE-EE1F-4EE6-8062-22BA7A3B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C82-CCA0-488E-B04A-A0CE1938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0A6BF-1573-4457-8B56-7CD63222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EA5A9-A349-4747-A655-55DC6B36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F836A-1F1E-446C-9BEA-5B62724D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33731-001A-47DF-A6D5-AF530111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3C1F0-647D-44D1-96F9-73C3D562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B67EA-5459-4076-83D9-607A9588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D2A4F-E0E2-4A4C-BF5E-34837A6F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85D58-7607-4654-9A16-BC56EA48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09752-2FD4-4650-86AC-B0A07CBA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490F5-F249-4702-B2DB-17E7DA66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9C8-1C55-4BBC-B303-B4849FFA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68D57-63D8-44F5-9DA2-364623A0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95AEB-1783-43BC-ACCE-5D62D6CB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14CFD-2C27-4A0E-BD2A-8C156951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36FC0-8154-432B-A34D-FB7709F7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1F3F4-43E2-4585-A503-E6A74CED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1C821-02FF-4D3D-B76D-C4B39FD3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8F6B7-2DE8-486D-9E96-854AE68C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E23F3-9DB7-477C-A387-3FEA9C59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FA09B-8B9A-471E-8A14-BF4105E3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26214-6497-4E44-911D-11D90DFB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D5CF-33BD-4038-A96F-59FA98FA62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90F6-A4FB-426E-AE45-59FBFF54A9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D61E-6F6F-4DCA-A2E1-36E66B7761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8649-A70C-4D78-903B-A6200B28D9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9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6F9B-A3EE-4017-B108-3C5B389510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6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F8AA-7734-44BB-A71C-EC2A74E2D0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49EA-9F99-40FC-BE35-2C236D62AC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FAEB-8ED5-4EA1-8CD9-9D08C3D4C9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0057-B5E0-49FA-839D-0323F65A57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EF53-3F48-4EC4-A0A0-809484E9E1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A667-CFB1-4AEB-ABB6-1412E35190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D2A8-FEB0-4743-B15F-49BF190290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5CCA-3248-4E55-B5CD-B6B589E572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FFA6-4323-4252-9745-362331C4D8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6"/>
          <p:cNvSpPr/>
          <p:nvPr/>
        </p:nvSpPr>
        <p:spPr>
          <a:xfrm>
            <a:off x="228600" y="5880240"/>
            <a:ext cx="4114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6080" y="439200"/>
            <a:ext cx="6276960" cy="20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cc66"/>
                </a:solidFill>
                <a:latin typeface="Arial"/>
              </a:rPr>
              <a:t>Мировая экономик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6" name="Oval 4"/>
          <p:cNvSpPr/>
          <p:nvPr/>
        </p:nvSpPr>
        <p:spPr>
          <a:xfrm>
            <a:off x="6680160" y="501480"/>
            <a:ext cx="1295280" cy="1148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Palatino Linotype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3600" spc="-1" strike="noStrike">
                <a:solidFill>
                  <a:srgbClr val="000066"/>
                </a:solidFill>
                <a:latin typeface="Palatino Linotype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внутренни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Ценовой индекс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отнесение номинального валового внутреннего продукта к реальном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неизменных (приведенных)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текущих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ебники для первого уро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сновы мировой экономики» - </a:t>
            </a:r>
            <a:r>
              <a:rPr b="0" lang="az-Latn-AZ" sz="3000" spc="-1" strike="noStrike">
                <a:solidFill>
                  <a:srgbClr val="000000"/>
                </a:solidFill>
                <a:latin typeface="Arial"/>
              </a:rPr>
              <a:t>Johanson, P.N., (200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: 619 - 6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2f2f2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ое огл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ы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правления и формы МЭ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бъектом изучения мировой экономик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43:35Z</dcterms:created>
  <dc:creator>fahmadov</dc:creator>
  <dc:description/>
  <dc:language>en-US</dc:language>
  <cp:lastModifiedBy>LEGION</cp:lastModifiedBy>
  <dcterms:modified xsi:type="dcterms:W3CDTF">2016-01-05T11:13:28Z</dcterms:modified>
  <cp:revision>143</cp:revision>
  <dc:subject/>
  <dc:title>Chapter 1 Introduction to  Managerial Economics</dc:title>
</cp:coreProperties>
</file>