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HAZAR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B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AAAC-BB96-4FDF-BAC2-6E326D0D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r: Farid M.Mammad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внутренний продукт - 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индекс - отнесение номинального валового внутреннего продукта к реаль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стоимостная оценка ВВП, выраженная в неизменных (приведенных)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стоимостная оценка ВВП, выраженная в теку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для первого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мировой экономики» - Johanson, P.N.,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    стр: 619 - 6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е огл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и формы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изучен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Місце для нижнього колонтитула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семир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9AC-52B8-40DC-B4C4-E7A1F678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43C-9395-412D-915C-308C9DC3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45376-6F16-4780-96DD-7827393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3176-05CD-46E0-BB8D-E9C8739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2F93-AF4D-431E-B5D4-A237BF1E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4D575-933D-4585-8512-2DAB529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2C549-B376-4463-959A-977A967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BA17F-42C0-426A-963B-C3D0A78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C9549-8BB8-45C7-BD53-182DB4FE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3FB11-5806-4FDF-A3D4-B920C8C8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F147B-C4EA-49FF-88BF-A402C3A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2C786-C171-4D62-B274-D46403E1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F05-6BF0-43ED-930E-6958272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9704B-05B9-4B4B-B823-C710BF08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42D1-D0D1-4BBC-8A6B-E8800B6E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55062-85B3-4C8A-8AFE-432DA6BB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F1A23-3D29-4404-A256-44FD8CBF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3EEE1-F29A-4E3F-96DB-FB6A9EB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5926A-2BBF-49C5-B591-48CD94BB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D5F17-B905-49FE-BC67-CF3DF854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FEC3-24C8-4681-9D0B-62D7E4B3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66D36-6610-471E-9344-50ACA841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31160-3D82-49FA-918B-E8337AB7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BF8-E022-4BC0-AB80-AEBB41EB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40E4F-41BC-4CF0-9CF3-A76432A6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E4CA8-535A-470D-A8FD-984F5E4C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F06A-3DD1-4E8A-8E93-0CDE456A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BE513-25AB-4895-9335-54EDA94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3D63B-B0F1-41ED-8B29-C6230DA9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141AB-B394-46EC-A2DA-6380E383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7B5C-F2C7-40B2-9D5A-5E806412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62F3D-EF1E-4DB8-B2BC-EE62988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7ECC7-E6CD-4E60-92A5-51BE8E3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F511F-0426-443F-9D1A-29C1864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2B59-8DFC-4F59-A7B4-D8D39BC2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523D2-2296-4C39-A46E-6396AD58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6B61F-54EE-4D15-B4B1-53CE382A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95065-BC19-4017-B63A-D67B1ABA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A0E7A-09A4-4623-8886-794565F3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CE2EB-EA5B-44BF-9DA4-94C6AD0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49BB-F32F-43FC-9913-BF27657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B6EB3-D21A-4CA3-A096-6509592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FA2FA-E610-4143-A8F7-ADC7556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BD41-B129-4B33-A437-4E4B60C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20062-907F-4E40-BE9A-77D1421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F0C-FCED-43CF-A2BB-12FAEB5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88473-FAFD-4891-8A73-A90DD4B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EF724-0CCD-4C5D-B26E-6BDCC10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6B519-EB40-47CA-B1B7-B033AF1A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C6759-E7D5-4849-8870-13537BE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D943-FC2A-4207-AB40-89C0CA9B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7AA8D-C728-431E-A366-8A8A1245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D5220-5371-4946-98A6-C24397D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830EC-C5E1-4C5E-A48E-BF354B7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69743-96B4-4643-B445-CE958A8F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18F84-3E87-4E33-86EF-50904ECE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56AB-0469-497F-9868-4EF547F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231CA1-8435-4AFC-997C-851B08C1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57D8D-18C7-4F54-9280-3C846EB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4C3F3-6D4A-451E-96FC-866FC67A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24623-247E-417A-A2CE-68417727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DD2D4-08E9-495B-8D76-728870E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A46B6-1EE2-4C94-A682-C3905FFF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EFF98-3370-4CAD-932B-875CFEC0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01BC6-06E5-4C98-B9C6-A5C274F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79767-CD17-4E11-B8B6-ACA6118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7674E-C4E9-4CE1-AE71-50DBDCA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DE7C-B3D1-470F-88A0-95D9A9B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B1376-B7BF-4BC5-AC91-1068E202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C1231-D9F3-43AB-BC6D-3161D413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D2330-BCCF-483F-841D-A238EE8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9B3A1-378C-4088-AB8B-5F29445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BA560-5367-49F0-87DC-10A4C3D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7D002-D121-4B37-AB57-1AA0315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31D66-6383-49E6-85DC-A57A5CF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78F9A-6278-427A-886D-69A50E7F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4ADB3-52BB-46CD-9677-887D425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F3AF-2550-40E8-93F1-5854EFF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9C97-B413-403F-8B38-15F51D3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3946-16C2-43C4-888A-7AFBE05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A76-03DD-470E-AB19-E0F224A0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8705-5E18-4956-97FF-4EABC650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E34C-7E75-4A0C-9F81-9D9B010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3CA5-36A5-4DA8-BA08-998F4F00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9AE4-9B83-4133-8B3A-334F9D2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3A8-360E-4193-B552-9E7F9EB4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3BE4-23A1-4184-9D08-26DA021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53F95-6BAC-40BA-96C6-9E53D7A6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63CD-1852-4D0F-A2B3-332749A1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82B9-8D30-44F0-A3C0-0E2787EE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7587-EA11-41C0-8920-825F3D24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962-6534-440A-A693-7D8E3CF6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77B3-97B6-4E89-B633-42013F8C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BB32-16D4-452D-BAB8-2C5FFEC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9B9B-7EE6-4FA9-837F-64ABA83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37B8-B0B7-4BC6-AF32-B1F6580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54D1-AADB-4DC8-8A99-59B0F4F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815D-0CAC-4289-AB04-53D45252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B10C6-0BFD-48ED-8723-475747CE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045E-A282-4EC8-882A-A0CEB42C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3ABF-9383-4EF6-BC55-9D0468D5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187F0-6A5D-4B5C-B42B-2CFC37D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039-9126-45FD-8654-6CA779F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03A0-67E1-4D59-9B4F-26E0611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9F4B-A24E-41ED-9F47-6E6BB75C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C3A0D-5FF4-4F73-A2B2-1C9FA1F8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AD1D-0349-440B-B17F-3840911C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E222-6B0F-4EC4-91D1-2E311687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7845-4B3E-439D-BB28-F57978E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3107-72DD-462A-A281-C6CD3E4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5483-00E4-4A2F-9443-0F8D2915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8FDA5-AE8D-4CC3-B01A-CB3F9096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2FE03-E8AD-4B8A-A4FE-9DFC1A19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B98-D6C9-4B82-9A77-14A36D1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3A1DE-A713-4907-92E3-76B96E2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55C1C-DABB-43B5-AD92-FC08057D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7108-260C-4B45-B73D-E23B9184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9FAE-7A19-49F0-9F37-E80065A1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C308C-191D-4123-9B91-A015C725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22DF-A69A-4840-9C4A-50BB5DE2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CB66-0E8A-4957-9681-BE7F9F5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12C5-2C21-4BE5-8E0D-DC3CA373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E462-A481-4AC3-BB40-A88D7772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8428E-EF4B-4965-9840-20559D5A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F04-93CD-48A0-BE9B-74759089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3BC4-B95F-4A9D-8337-73372A69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5C2C-1EE6-4BB5-853F-8FA2465E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F308-9B06-4FAA-875D-7C4013A9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EED4-0D84-4403-B63E-519C2E9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015A-567F-4B5C-805B-65DAC4D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83EA-BE15-4A0E-97F4-8B0C77C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4401-6099-496F-B61F-2F648365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EF1C-5AC4-4FF8-BA75-A22373F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D4C0-43EF-4813-B18D-38CEEB4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22E9A-8A0A-41AA-AA28-6CF39AA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742-73B0-4396-9D0B-6DF86AF4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CD97-8799-4DC6-9E18-38925F09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5392-25AE-489D-98CE-FB926B5F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DDCA2-3897-4820-88F2-7C71BE2E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F8D8-79D6-4928-A7BB-14964576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FBEB-9F00-4175-A3D0-20E7DD7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7B013-2914-45E5-9392-4D81187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6981-095E-4117-A798-62D8E6B6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698F5-E0FF-4826-9828-6E6E3B3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E32A3-D0C2-4159-A316-61066B7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B8E4E-D9F6-46A4-9B51-D8A3116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1DD-F1BA-4601-8088-DF17A903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FEA6-5370-4274-AC23-A052F49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5587C-6405-4069-96D5-96CAF7EF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693F-183F-4193-BE58-43735555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6567E-0B2A-41F9-8782-BBCE3A5A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1637-535F-45DD-9166-3D7EDF4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864BD-8DE8-4736-8FF4-E9A3BCA5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7E6CA-8478-4AF6-8A16-4B44983F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C1D29-C906-41B0-AAAD-503B1DE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B52B5-CDEA-4751-AE1E-5055858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A0BC8-7FD8-43E6-8660-401DF703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36D-B4E1-4BF9-B10C-803BAF4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F6EB-6218-4224-A669-FD1D7CE8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530C-4AF5-4A84-9CF1-2CCBAF4A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AAA4-7B7C-4CAC-B637-C98853DC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651BB-28D9-4198-A713-87CF268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BB9E0-4912-4261-910A-1680EBC1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A89E-0BAA-4645-AD2F-AA0024BB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481A2-77FC-4A94-BC77-3BB60AC7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0C440-3B02-4E41-AC3F-20032119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9B356-17F4-420F-9930-89BD056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D9782-C579-42FE-9128-8A6A794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6AF-E780-44CC-821D-A4395082FB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B933-215D-42D5-9720-20966C9CDC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77C2-7389-42C9-A7BB-BC17A5D6B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1D9-6933-4106-B1E3-E35FC97E81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A204-939B-4207-8752-01D70991E3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6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EB34-BC87-4DC6-B3D5-2333A36B04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2D1-0772-4EBD-BE2B-3FE604914C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4CE8-3BDF-400D-AEF1-CB951237AF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12D-8CD2-4D84-8269-EE526C6FCB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C999-3AFB-41B3-BAEF-3AB87CAC3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9290-FD11-47D5-B07F-959CAB9CE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B8B-3F8C-4A7B-8995-A0D2D6EA6E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F75-5D58-474D-89F0-7C7A0496AF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5D9B-E1D9-4138-B858-BBBF18F78A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6"/>
          <p:cNvSpPr/>
          <p:nvPr/>
        </p:nvSpPr>
        <p:spPr>
          <a:xfrm>
            <a:off x="228600" y="5880240"/>
            <a:ext cx="4114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16080" y="439200"/>
            <a:ext cx="6276960" cy="200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cc66"/>
                </a:solidFill>
                <a:latin typeface="Arial"/>
              </a:rPr>
              <a:t>Мировая экономик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6" name="Oval 4"/>
          <p:cNvSpPr/>
          <p:nvPr/>
        </p:nvSpPr>
        <p:spPr>
          <a:xfrm>
            <a:off x="6680160" y="501480"/>
            <a:ext cx="1295280" cy="1148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Palatino Linotype"/>
              </a:rPr>
              <a:t>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3600" spc="-1" strike="noStrike">
                <a:solidFill>
                  <a:srgbClr val="000066"/>
                </a:solidFill>
                <a:latin typeface="Palatino Linotype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ремена ССС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капит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социалистиче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истема хозяйства развивающихся стран, освободившихся от колониаль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внутренни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оимость всех конечных благ, включающих товары и услуги, произведенные и реализованные в определенной стране за конкретный промежуток врем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Валовый национальный продукт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еличина валового внутреннего продукта за вычетом части товаров и услуг произведенных и реализованных иностранцами, проживающими в данной стране, а также суммируя соответствующие доходы граждан данной страны, проживающих за ее предела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Ценовой индекс -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отнесение номинального валового внутреннего продукта к реально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Основные показатели развития мировой экономик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неизменных (приведенных)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оминальный валовый внутренний продукт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тоимостная оценка ВВП, выраженная в текущих цен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чебники для первого уро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сновы мировой экономики» - </a:t>
            </a:r>
            <a:r>
              <a:rPr b="0" lang="az-Latn-AZ" sz="3000" spc="-1" strike="noStrike">
                <a:solidFill>
                  <a:srgbClr val="000000"/>
                </a:solidFill>
                <a:latin typeface="Arial"/>
              </a:rPr>
              <a:t>Johanson, P.N., (200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Экономика» - А.С. Булатова, - 4-е изд. 200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: 619 - 6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2f2f2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ое огл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ы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область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показатели развития миров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ы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ировая экономика, как и экономика отдельной страны или конкретного производства базируется на совокупности таких факторов,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уд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питал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емл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ровая экономика определена как совокупность национальных экономик отдельных стран и связанных системой международных экономически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едметная область мировой экономи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правления и формы международных экономических отнош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, работами, услуг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еждународная специализация производства и научно-технических работ, или международный научно-технический обме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Обмен научно-техническими результат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правления и формы МЭ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Информационные, валютно-финансовые и кредитные связи между стран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капитала (инвестиц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вижение (миграция) рабочей си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еятельность международных экономических организаций, хозяйственное сотрудничество в решении глобальных пробл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Объектом изучения мировой экономики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вляется всемирное, или мировое, хозяйство, под которым понимается совокупная система отдельных стран, участвующих в международном разделении труда и связанных системой международных экономических отно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од  - Рим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ская империя дала прообраз всемирных экономических отношений по производству, распределению, обмену и потреблению жизненных благ, а значит и начало развития всемирн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нцип Ренесс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ы внешний рынок и внешняя торговля стали приобретать особо важное значение, что подтверждается еще раз и снаряжением различных экспедиций с целью отыскания Новых земель, а значит и новых источников сырья и новых рынков сбыта создаваемой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История всемирные экономические отнош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екс Наполе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 50 - 60 годам XIX века мировой рынок стал быстро интернационализироваться, способствуя ускоренному развитию мирового капиталистическ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0 годам XX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ориентированная на ценности рыночной эконо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, хозяйственные отношения которой ориентировались на политические и идеологически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43:35Z</dcterms:created>
  <dc:creator>fahmadov</dc:creator>
  <dc:description/>
  <dc:language>en-US</dc:language>
  <cp:lastModifiedBy>LEGION</cp:lastModifiedBy>
  <dcterms:modified xsi:type="dcterms:W3CDTF">2016-01-05T11:13:28Z</dcterms:modified>
  <cp:revision>143</cp:revision>
  <dc:subject/>
  <dc:title>Chapter 1 Introduction to  Managerial Economics</dc:title>
</cp:coreProperties>
</file>