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HAZAR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BA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34BC-E56D-4C5E-86A4-186AC9D30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r: Farid M.Mammad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r: Farid M.Mammad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r: Farid M.Mammad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r: Farid M.Mammad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AP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а ССС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капит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соци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хозяйства развивающихся стран, освободившихся от колониальной завис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а ССС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капит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соци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хозяйства развивающихся стран, освободившихся от колониальной завис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а ССС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капит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соци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хозяйства развивающихся стран, освободившихся от колониальной завис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а ССС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капит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соци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хозяйства развивающихся стран, освободившихся от колониальной завис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внутренний продукт - стоимость всех конечных благ, включающих товары и услуги, произведенные и реализованные в определенной стране за конкретный промежуток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национальный продукт - величина валового внутреннего продукта за вычетом части товаров и услуг произведенных и реализованных иностранцами, проживающими в данной стране, а также суммируя соответствующие доходы граждан данной страны, проживающих за ее преде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ой индекс - отнесение номинального валового внутреннего продукта к реаль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внутренний продукт - стоимость всех конечных благ, включающих товары и услуги, произведенные и реализованные в определенной стране за конкретный промежуток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национальный продукт - величина валового внутреннего продукта за вычетом части товаров и услуг произведенных и реализованных иностранцами, проживающими в данной стране, а также суммируя соответствующие доходы граждан данной страны, проживающих за ее преде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ой индекс - отнесение номинального валового внутреннего продукта к реаль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внутренний продукт - стоимость всех конечных благ, включающих товары и услуги, произведенные и реализованные в определенной стране за конкретный промежуток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национальный продукт - величина валового внутреннего продукта за вычетом части товаров и услуг произведенных и реализованных иностранцами, проживающими в данной стране, а также суммируя соответствующие доходы граждан данной страны, проживающих за ее преде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ой индекс - отнесение номинального валового внутреннего продукта к реаль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внутренний продукт - стоимость всех конечных благ, включающих товары и услуги, произведенные и реализованные в определенной стране за конкретный промежуток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национальный продукт - величина валового внутреннего продукта за вычетом части товаров и услуг произведенных и реализованных иностранцами, проживающими в данной стране, а также суммируя соответствующие доходы граждан данной страны, проживающих за ее преде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ой индекс - отнесение номинального валового внутреннего продукта к реаль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й валовый внутренний продукт - стоимостная оценка ВВП, выраженная в неизменных (приведенных)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минальный валовый внутренний продукт - стоимостная оценка ВВП, выраженная в текущих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й валовый внутренний продукт - стоимостная оценка ВВП, выраженная в неизменных (приведенных)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минальный валовый внутренний продукт - стоимостная оценка ВВП, выраженная в текущих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й валовый внутренний продукт - стоимостная оценка ВВП, выраженная в неизменных (приведенных)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минальный валовый внутренний продукт - стоимостная оценка ВВП, выраженная в текущих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й валовый внутренний продукт - стоимостная оценка ВВП, выраженная в неизменных (приведенных)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минальный валовый внутренний продукт - стоимостная оценка ВВП, выраженная в текущих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для первого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сновы мировой экономики» - Johanson, P.N.,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номика» - А.С. Булатова, - 4-е изд. 2008    стр: 619 - 6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для первого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сновы мировой экономики» - Johanson, P.N.,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номика» - А.С. Булатова, - 4-е изд. 2008    стр: 619 - 6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для первого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сновы мировой экономики» - Johanson, P.N.,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номика» - А.С. Булатова, - 4-е изд. 2008    стр: 619 - 6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для первого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сновы мировой экономики» - Johanson, P.N.,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номика» - А.С. Булатова, - 4-е изд. 2008    стр: 619 - 6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е огл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е огл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е огл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е огл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, как и экономика отдельной страны или конкретного производства базируется на совокупности таких факторов, ка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, как и экономика отдельной страны или конкретного производства базируется на совокупности таких факторов, ка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, как и экономика отдельной страны или конкретного производства базируется на совокупности таких факторов, ка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, как и экономика отдельной страны или конкретного производства базируется на совокупности таких факторов, ка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 определена как совокупность национальных экономик отдельных стран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 определена как совокупность национальных экономик отдельных стран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 определена как совокупность национальных экономик отдельных стран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 определена как совокупность национальных экономик отдельных стран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еждународных экономических отнош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 товарами, работами, услуг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специализация производства и научно-технических работ, или международный научно-технический обме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научно-техническими результат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еждународных экономических отнош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 товарами, работами, услуг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специализация производства и научно-технических работ, или международный научно-технический обме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научно-техническими результат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еждународных экономических отнош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 товарами, работами, услуг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специализация производства и научно-технических работ, или международный научно-технический обме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научно-техническими результат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еждународных экономических отнош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 товарами, работами, услуг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специализация производства и научно-технических работ, или международный научно-технический обме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научно-техническими результат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Э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, валютно-финансовые и кредитные связи между стран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капитала (инвестици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(миграция) рабочей си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международных экономических организаций, хозяйственное сотрудничество в решении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Э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, валютно-финансовые и кредитные связи между стран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капитала (инвестици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(миграция) рабочей си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международных экономических организаций, хозяйственное сотрудничество в решении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Э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, валютно-финансовые и кредитные связи между стран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капитала (инвестици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(миграция) рабочей си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международных экономических организаций, хозяйственное сотрудничество в решении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Э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, валютно-финансовые и кредитные связи между стран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капитала (инвестици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(миграция) рабочей си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международных экономических организаций, хозяйственное сотрудничество в решении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ом изучения мировой эконом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ется всемирное, или мировое, хозяйство, под которым понимается совокупная система отдельных стран, участвующих в международном разделении труда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ом изучения мировой эконом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ется всемирное, или мировое, хозяйство, под которым понимается совокупная система отдельных стран, участвующих в международном разделении труда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ом изучения мировой эконом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ется всемирное, или мировое, хозяйство, под которым понимается совокупная система отдельных стран, участвующих в международном разделении труда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ом изучения мировой эконом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ется всемирное, или мировое, хозяйство, под которым понимается совокупная система отдельных стран, участвующих в международном разделении труда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 - Римская импе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мская империя дала прообраз всемирных экономических отношений по производству, распределению, обмену и потреблению жизненных благ, а значит и начало развития всемирного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енесс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ы внешний рынок и внешняя торговля стали приобретать особо важное значение, что подтверждается еще раз и снаряжением различных экспедиций с целью отыскания Новых земель, а значит и новых источников сырья и новых рынков сбыта создаваемой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 - Римская импе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мская империя дала прообраз всемирных экономических отношений по производству, распределению, обмену и потреблению жизненных благ, а значит и начало развития всемирного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енесс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ы внешний рынок и внешняя торговля стали приобретать особо важное значение, что подтверждается еще раз и снаряжением различных экспедиций с целью отыскания Новых земель, а значит и новых источников сырья и новых рынков сбыта создаваемой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 - Римская импе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мская империя дала прообраз всемирных экономических отношений по производству, распределению, обмену и потреблению жизненных благ, а значит и начало развития всемирного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енесс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ы внешний рынок и внешняя торговля стали приобретать особо важное значение, что подтверждается еще раз и снаряжением различных экспедиций с целью отыскания Новых земель, а значит и новых источников сырья и новых рынков сбыта создаваемой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 - Римская импе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мская империя дала прообраз всемирных экономических отношений по производству, распределению, обмену и потреблению жизненных благ, а значит и начало развития всемирного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енесс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ы внешний рынок и внешняя торговля стали приобретать особо важное значение, что подтверждается еще раз и снаряжением различных экспедиций с целью отыскания Новых земель, а значит и новых источников сырья и новых рынков сбыта создаваемой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екс Наполео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50 - 60 годам XIX века мировой рынок стал быстро интернационализироваться, способствуя ускоренному развитию мирового капиталистического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годам XX 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ориентированная на ценности рыноч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хозяйственные отношения которой ориентировались на политические и идеологические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екс Наполео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50 - 60 годам XIX века мировой рынок стал быстро интернационализироваться, способствуя ускоренному развитию мирового капиталистического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годам XX 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ориентированная на ценности рыноч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хозяйственные отношения которой ориентировались на политические и идеологические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екс Наполео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50 - 60 годам XIX века мировой рынок стал быстро интернационализироваться, способствуя ускоренному развитию мирового капиталистического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годам XX 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ориентированная на ценности рыноч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хозяйственные отношения которой ориентировались на политические и идеологические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екс Наполео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50 - 60 годам XIX века мировой рынок стал быстро интернационализироваться, способствуя ускоренному развитию мирового капиталистического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годам XX 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ориентированная на ценности рыноч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хозяйственные отношения которой ориентировались на политические и идеологические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B83D-5A9F-4E42-B58B-DEEA85FCF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2C6D-A747-403E-987E-F4A1140C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2B4661-5F85-4E12-812C-53DBE592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B60C6C-C5B8-4238-B35A-F5DCE549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175C51-A1C5-4E76-B9DE-8060BE26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403E0-91FD-45AC-A6B0-DE6609D7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CDF053-45DA-4934-B99C-09690267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1BBBE5-15B3-4AD2-B2CD-FCF3C807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A76123-D907-48B4-9BB1-7BCB2B0F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B14FB1-09C6-4C44-8094-C844E85CB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C1A442-0EDD-4D1C-91E2-B129146B9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E2E3C4-1B3C-471D-B4B8-2DD9FB264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79D4-959C-402C-9E30-E1D7922B1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711F74-34EA-4330-A350-A1CB8C18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777369-3CA5-43B3-A411-F170DA0A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FBC0A1-9128-4090-BF40-7265145F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3E5059-B64A-49C0-A963-A0669967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0ED941-986D-4A47-8F3B-0DE15AE3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8A8B41-F1BE-4778-9B0B-3C8657D9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9105A7-7594-4D7D-8A21-CB1C6306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6E833B-4B11-4A34-8433-4E2279DA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48762D-D012-4701-BF59-A5DD147B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32EE4E-8F2E-43C4-B649-152773F4E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6311-62B4-43B5-9980-F156E9DC3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EC9657-0936-45F3-96FA-D88AE1661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18D80F-A4DF-4A21-BECC-89DD8926B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52E04-2BFC-4E42-B7F3-25156983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E05BE-8EC9-434A-9693-BA8AD6ED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B094B8-83B4-40FB-AAC2-FCEA0C10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A8FAB8-4B37-4B82-AE2F-1DD30D98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943F11-0193-4ED3-B811-39808174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A91444-DD48-4A1B-93C9-C343846A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B9C65-855D-40C6-9144-CAC7C44B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1E524A-4A39-4A7A-B7F5-5A994F60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690A-FE5D-4B3D-9FB0-E7833DCD2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83066B-D373-43CE-BFFE-95BA864F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D7C25-CD61-48B5-8BBC-709DBA8E7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AF881-6621-49DF-8D68-0E4C2DA30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E91E2B-323F-4B4C-92FD-0FE23F402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0AD38B-388A-455B-A8C2-5EA3F314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475415-4F00-47B3-A0EB-7585DD43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291E91-1EDA-41C8-AC80-643F7E7F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D454AF-E293-4332-9F42-863EC558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7D1F13-BF18-46FC-BE35-3E41A368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1CC391-1872-439A-9419-7F6A988B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C380-BCF2-4956-90B1-850BEF0E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93DA0E-718C-4DEE-836F-627C3418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229C86-A150-4F93-984A-5EF9E1E2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941430-D61A-4F1B-8BB8-1BFBB6FF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95BFBA-91C3-481A-8BFF-E9ABF90CA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6F4163-774A-4829-94AB-9FFBA24FE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5123D2-211D-4307-8215-A715F2C84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D97A69-ED5D-4B20-982C-2AA00277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2C5FA9-FA41-4833-BDEC-57FF4E35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142190-DFA6-4341-A5B3-0AD82B42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D7BB1E-FC3A-468C-A5A0-17F2E9E4F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FEA9-5FC8-411D-8477-29A3A02B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DA4FE1-E377-407B-AF56-C69EC987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E58C11-41A8-465C-AE25-137D674A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E797A3-5197-4E39-ADEF-72359C5A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670076-B316-445D-9BD5-9C7530E5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968A15-64BA-4878-BC70-8D2B8B33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086F09-0313-4727-BF68-EA39D6A11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3504EE-E6CF-489D-83A6-E0CCA9896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B70851-98E2-43E1-9CD4-FB350D67F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666BFF-977F-4AEC-A965-9051EBC0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CA7FCD-EC5F-474C-B122-C499ECA8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C21F8-E9CC-4528-80E9-E90785F2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B7788E-240C-4AB4-8007-9128D3D1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46618D-BA70-4F44-A2A0-4B4EF29A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22553A-3A9C-47DE-9806-E4B5E5D4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42C006-FC37-4A8C-876B-4CFBF882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C137AF-4530-4792-95C6-2219B6AF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92481B-DF29-4460-B491-C8B1525B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FD5AE5-04FB-41A5-A057-8B9C53F0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3FDA3A-9C15-4614-B012-18140E832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787BC7-2113-4224-B879-9E17273F8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4A7D-7D7E-4559-AF5C-DD455B22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67C6-BBFC-4F4F-ACEF-EE29800E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B2EDC-C5AE-40DF-A676-4E72DE51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6194-0759-4F7C-AEAD-97F32E18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2FD8-BC72-4357-BE05-39837046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F7CA-36E1-48F7-8676-55521D08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6BDF-45FC-475B-9971-092E2AFD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45B48-96C9-48BE-840B-B70933500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3BF3-A047-4BCF-8557-39BB067E2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87A61-CF91-4691-B822-07E9CB70C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EE95F-AB82-4D31-A748-2B73836A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01392-D29D-4A20-B4BC-0719455A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2E3C7-AE10-40C1-B1D3-5839B2C2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89186-249D-4F51-9A3A-D46B1976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210E-54A2-40F7-B51A-6E437B86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A275C-813F-4909-9388-CF971C8B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9D977-0FDF-4D7B-895B-FB2F5CDA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58BB3-A6F4-466C-BE4F-94F37105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6B0CE-4630-4502-8971-A6913D18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4E806-67FD-450B-ACF4-85FE6634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C3B41-BBBE-47FF-A649-2B32CD9E5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8DB89-60B0-4257-AD02-EB93BCAEC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79057-F0A5-4767-BC45-C5247CD14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15A7E-DBF2-4F2F-9BFB-B239B535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23673-0184-458A-A652-4488292A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1D51-F856-48F3-8C5A-C8B0939D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18927-6E7E-40F2-9DD9-3A95DF92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50366-4FE3-4122-B15E-C7820486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E36CB-5FFA-4EE5-ABE5-F93C01A7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473CB-6004-4A30-988C-5C57B065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0FAB1-3857-4B63-831F-B88C12AC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67AE0-465B-45F1-8AB0-5483CF8C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D9357-56B7-4612-99A4-E3856FCA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000E8-79D2-4BB5-873A-ABB2206EF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FDFC3-70F9-4A0F-966E-C3F1F4B8B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B5E3E-9951-4FCE-9E4F-563AC37E9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8E95-D899-4429-A76F-F546A34E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D43C5-5248-41CB-9E6E-DCB36AC0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B6D07-20C1-478C-B8C2-E3200B49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2C119-5122-4D16-AE6F-3AEA712C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DD88A-492A-4FF4-93F6-933C9A02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049E5-4CF5-49B3-9B99-07FE7293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EBB51-9EA0-4CB6-95C3-14E8DE9B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12A28-ED60-4E32-82C3-FC57FD11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DDF8E-722C-46C1-9502-2420074F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B4976-47CE-47DC-8252-E0E0BE15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6B431-6080-46F6-914E-31EA80BAF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D363-5B2F-4574-9E46-87B358E0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55929-D22B-4943-A42B-EE0726B34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C3F32-303F-4C8F-8C1A-0D8B5153F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98874-49F7-4311-9F1B-B8E4D45C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B0758-4807-4B09-B113-3FAEE3B8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89CE4-492E-49AC-ADAA-768457DA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DD04B-A9F1-4340-A1A8-E8C73141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5DA9A-D968-4F71-ADF6-5E7C3A53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1B7AF-F941-4A9F-A86A-8BB543D4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F4A50-FA86-41C4-8020-55A4970E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B990B-237D-4F01-BEC0-51D46E6E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3A8D-5C1B-4C35-983B-4D7C0D73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3E32C-2DA1-4E51-A5F4-04BEEC9E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55A3C-45D5-499A-9B93-CDA8F27E4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1C900-2F7A-4841-9CBF-80A0637EB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B2B64-00D3-4F75-96C5-467B366E2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CC367-4A7E-461B-BC34-3D5D583E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FCB30-DBC3-4956-9B90-98C8BE29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D83B9-4DFD-4CD6-B90A-4903038D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61CE3-467E-4528-B29D-18BF5134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717A2-75ED-4BC6-9EDB-7E8FF8A0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F8A72-C778-465B-B88F-0A33FE02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0C51-096D-4EB4-B471-14463150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F7C0F-B376-4847-942C-17D6494C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72FCE-9860-4355-B277-5039632D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ED4F3-1B82-443E-8F20-DDA60D96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A057D-EC0F-4EEC-8827-2922905D5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6F73C-CB26-4504-8492-B53B342A5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790FB-E9ED-4B75-B4AE-CB9C418AD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170B9-76F0-4537-957F-BA30DADB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83D77-AEA5-4B02-BF6F-4E89C75A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14BC3-4259-4F41-BD7F-581B3DBA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A41EC-61CD-47E7-8986-94433A06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77BE-C477-453B-842C-AC9028F0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510E1-38B5-46FF-8954-B98261D1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1C090-21DB-4446-B229-BD825118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1018C-B45C-4CD4-9389-5CEF53D6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1BD14-DBBE-4C2F-821F-B5D335BA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05152-0AE4-4872-8936-9A5FDF1A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20C80-BD3B-4974-A21E-8DA8FE25E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C24D5-8DDC-46D1-9F94-831C30F46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6887C2-465A-4F5F-A7CB-731D59876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F4FFCA-7F88-4992-8E28-FB519F43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0D9919-7B6A-4518-9938-7BB38FA4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28DC-228C-47A3-811E-7A27A1A14F8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6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C36A-E948-4034-99DC-CFDDE57D297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4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05D9-7F3D-4188-BF2B-B01829980A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1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E681-5DFB-4666-AC0F-205C4A3639C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9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EC4E-B960-444C-AAB7-FBD06F947E6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96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E061-F9EF-4750-9926-6545C50876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6619-7479-4603-A1AD-08EB99CAA13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B5B3-0676-412C-BFCD-7B244FEC968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2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33A0-D82E-4A1F-BC0C-82184797E4A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9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E841-EA77-4545-9E2D-9746CB23D62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37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6108-CE9C-484E-AF15-47E98CBB11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4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C631-BBAB-4585-9754-237C068F19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2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861C-BB35-41B3-A9D1-4989CAACA4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9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8A6A-D0CB-4759-8FFB-60E639936B1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00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Rectangle 6"/>
          <p:cNvSpPr/>
          <p:nvPr/>
        </p:nvSpPr>
        <p:spPr>
          <a:xfrm>
            <a:off x="228600" y="5880240"/>
            <a:ext cx="41148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Latn-AZ" sz="2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16080" y="439200"/>
            <a:ext cx="6276960" cy="200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cc66"/>
                </a:solidFill>
                <a:latin typeface="Arial"/>
              </a:rPr>
              <a:t>Мировая экономика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6" name="Oval 4"/>
          <p:cNvSpPr/>
          <p:nvPr/>
        </p:nvSpPr>
        <p:spPr>
          <a:xfrm>
            <a:off x="6680160" y="501480"/>
            <a:ext cx="1295280" cy="11480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Palatino Linotype"/>
              </a:rPr>
              <a:t>CH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Latn-AZ" sz="3600" spc="-1" strike="noStrike">
                <a:solidFill>
                  <a:srgbClr val="000066"/>
                </a:solidFill>
                <a:latin typeface="Palatino Linotype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История всемирные экономические отноше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Времена ССС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истема капиталистического хозяй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истема социалистического хозяй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истема хозяйства развивающихся стран, освободившихся от колониальной зависим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Основные показатели развития мировой экономики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Валовый внутренний продукт - 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стоимость всех конечных благ, включающих товары и услуги, произведенные и реализованные в определенной стране за конкретный промежуток времен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Валовый национальный продукт - 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величина валового внутреннего продукта за вычетом части товаров и услуг произведенных и реализованных иностранцами, проживающими в данной стране, а также суммируя соответствующие доходы граждан данной страны, проживающих за ее пределам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Ценовой индекс - 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отнесение номинального валового внутреннего продукта к реальном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Основные показатели развития мировой экономики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Реальный валовый внутренний продукт -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стоимостная оценка ВВП, выраженная в неизменных (приведенных) цена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Номинальный валовый внутренний продукт -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стоимостная оценка ВВП, выраженная в текущих цена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Учебники для первого уро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Основы мировой экономики» - </a:t>
            </a:r>
            <a:r>
              <a:rPr b="0" lang="az-Latn-AZ" sz="3000" spc="-1" strike="noStrike">
                <a:solidFill>
                  <a:srgbClr val="000000"/>
                </a:solidFill>
                <a:latin typeface="Arial"/>
              </a:rPr>
              <a:t>Johanson, P.N., (2009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Экономика» - А.С. Булатова, - 4-е изд. 2008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р: 619 - 64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f2f2f2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раткое оглавле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сновы мировой экономи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ировая экономика, как и экономика отдельной страны или конкретного производства базируется на совокупности таких факторов, как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Труд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Капитал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Земля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едметная область мировой экономи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ировая экономика определена как совокупность национальных экономик отдельных стран и связанных системой международных экономических отно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едметная область мировой экономи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Направления и формы международных экономических отношений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еждународная торговля товарами, работами, услугам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еждународная специализация производства и научно-технических работ, или международный научно-технический обмен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Обмен научно-техническими результатам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Направления и формы МЭО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Информационные, валютно-финансовые и кредитные связи между странам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Движение капитала (инвестиции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Движение (миграция) рабочей сил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Деятельность международных экономических организаций, хозяйственное сотрудничество в решении глобальных пробле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Объектом изучения мировой экономики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Является всемирное, или мировое, хозяйство, под которым понимается совокупная система отдельных стран, участвующих в международном разделении труда и связанных системой международных экономических отнош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История всемирные экономические отноше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ериод  - Римская импе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мская империя дала прообраз всемирных экономических отношений по производству, распределению, обмену и потреблению жизненных благ, а значит и начало развития всемирного хозяй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инцип Ренессан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вропы внешний рынок и внешняя торговля стали приобретать особо важное значение, что подтверждается еще раз и снаряжением различных экспедиций с целью отыскания Новых земель, а значит и новых источников сырья и новых рынков сбыта создаваемой проду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История всемирные экономические отноше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декс Наполе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 50 - 60 годам XIX века мировой рынок стал быстро интернационализироваться, способствуя ускоренному развитию мирового капиталистического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80 годам XX 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истема, ориентированная на ценности рыночной эконом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истема, хозяйственные отношения которой ориентировались на политические и идеологические свя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3:43:35Z</dcterms:created>
  <dc:creator>fahmadov</dc:creator>
  <dc:description/>
  <dc:language>en-US</dc:language>
  <cp:lastModifiedBy>LEGION</cp:lastModifiedBy>
  <dcterms:modified xsi:type="dcterms:W3CDTF">2016-01-05T11:13:28Z</dcterms:modified>
  <cp:revision>143</cp:revision>
  <dc:subject/>
  <dc:title>Chapter 1 Introduction to  Managerial Economics</dc:title>
</cp:coreProperties>
</file>