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427D-5A5A-47AB-9560-9D9D0592E2F7}" type="slidenum">
              <a:rPr b="1" lang="ru-RU" sz="12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Л. Ерем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э.н., професс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мск 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пециализация производства (МС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 виды МСП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ая (производство продукто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етальная (производство частей, компонентов продуктов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ая, или стадийная специ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МС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 - удельный вес товара (товаров-аналогов) в мировом экспо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ссортимент, номенклатура ввозимых и вывозимых в страну товаров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международного разделения тру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ая - 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капитала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разделение технологии -результат различий в уровне развития научно-технического прогресса, обеспеченность стран ресурсами знаний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стран в международной экономи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– это территориальная еди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щаяся государ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оценки 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циональный доход брутто или ВНП на душу населения ($/год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ысоким доходом – 9386 $ и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ографическое местоположение страны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внешней задолженности: высокий, умеренный и низ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- доля внешней задолженности к ВНП составляет 80 % или к годовому экспорту - 22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ый  - любое из этих соотношений не превышает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адолженности – 2 (страна не предоставляет информац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ВНП – до 50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й долг к годовому экспорту - до 275 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ашение и обслуживание внешнего долга к годовому экспорту - до 30 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луживание внешнего долга к экспорту до 20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ФОРМИРОВАНИЯ И ПЕРИО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ждународное разделение труда и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руппы стран в международной 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 практика международной торгов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рудовая теория стоимости о классической теории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тика классической те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нкурентные структуры в производстве и об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жения из-за вмешательства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международной торговли. ГАТТ. ВТО. ЮНКТАД. МТ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 – регулятор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«заповедей» В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НКТАД, МТП – особенности регулирования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 систем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 структура международного рынка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еремещ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вижение рабочей силы. Проблемы мигр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ятие и формы международного движения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ила международного инвестирования Т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ый кре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осударственный долг страны. Методы преодоления государственной задолж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вижения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– т.н. третичный сектор экономики - 2/3 мирового ВВП – отличаются от това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делимы от своего источ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оизводство и потребление, как правило, происходят одноврем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тоянство качества, изменчивость, невозможность хра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оста роли услуг в мировой и национальной экономик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доходов и платежеспособности населения во многих странах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ональные, удовлетворяющие потребности физических 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ые - для обслуживания юридических лиц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ТТ/ВТО (ГАТС) учитывает более 160 видов услуг (12 сектор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более 500 позиций и субпозиций (6 отраслевых груп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Ф - три раздела: туризм, технологии,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я стран в М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:  деловые 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ция, Египет, Таиланд, Кипр – ту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ама, Либерия, Сингапур, Гонконг - морской транспо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фшорные центры Карибского моря и Тихого океана - финанс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бязательств ГАТ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 - 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е - свободный доступ или национальный режим на рынке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уризм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-11 % мирового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 % международного рынк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8% мирового экспорта товаров и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 отрасле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- около $2 млрд в день (около трлн в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00 млн. рабочих м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туристов – более 1,7 млрд ч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уристическаяО – регулятор международного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член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действительные (суверенные государ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мировой экономики, мирового хозяй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тия тур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поведения тур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е справочники и прогно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банки данных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– регулятор международного туризма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международного туриз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ант - путешественник, который провел за границей менее 24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туристического 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стский продукт (тур) - разработка маршрута и комплекса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агент - самостоятельная фирма, распространяющая туристский продукт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 – научные методы достижения практически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передача технологии (international technology transfer) – перемещение научно-технических достижений на коммерческой или безвоздмездной осн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инструменты защиты новой технолог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- разрешение владельца на использование технологии в течение определенного времени и за определенную пла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ирайт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ая марка - обозначение, способное отличать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знак (брэнд) - промышленно - интеллектуальная собственность, связанная с торговлей технолог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международной передач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еждународного технического со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гранты (technological co-operation grants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нансирование (сo-financing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ы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ие учебные заве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и фон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лица - изобретатели и уче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международного рынка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 - Соглашение о торговых аспектах прав на интеллектуальную соб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развитию культуры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ИС в политику и программы национального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еждународных законов и норм в области 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качественных услуг в рамках глобальных систем охраны в области 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процесса управления и вспомогательных процессов в ВОИ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ехнологий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макро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я –1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ия – 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продаж - $2,3 тр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государства в финансировании НИОК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- 33 %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ании и Франции - до 40 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я товарного производства, вышедшего за национальн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ирует использование факторов производства в отраслях и регио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большая доля экспорта коммерческих услуг – 24-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: железнодорожный, автомобильный, внутренний водный, морской, речной, воздушный, трубопровод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передвижения: сухопутный, водный, воздушный, специаль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актер движения: транзитный, внутрихозяйственный, местный, даль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менение силы тяги: сплавной, парусный, гужевой, паровой, электрический, дизельный, газотурбинный, атом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рынок транспортных услуг (МРТУ)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9 % мирового ВВ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100 млрд. т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1 трлн. пассажи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ыше 650 млн. автомобил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тыс. рейсовых самоле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 тыс. локомо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50 % цены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алия и НИС ЮВА - 40 %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авка товара в международной торговле -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ой транспорт – лидер МР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80% от всего объема грузов внешней торговли, в том числе 34,3% - танкерным фло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перевозки морским транспортом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 для перевозки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кт на перевозку товара на оговоренных в нем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ораспорядительный докумен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(МВФ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Текущие операции (Current account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инвест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товарно-торгового баланса (Merchandise trade balance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по преодолению дефици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- взять в долг, продать зарубежные а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тировка - больше зарабатывать, либо меньше трат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ямые инвестиции и прочий долгосрочный капитал (Long term capital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й долгосрочный капит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заграничные активы (ЧЗА) – их алгебраическая сумма - вклю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вижим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ые цен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ую собственность корпо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Прочий краткосрочный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 Ошибки и пропу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. Компенсирующие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. Чрезвычайные источники покрытия сальд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. Обязательства, образующие валютные резервы официальных иностра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. Итоговое изменение резервов, которые состоят 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позиции в МВ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ой валю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х требова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в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латежный и торговый бал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цен на основные статьи национального экспорта и им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курсов 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на потребительские и инвестицио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экономическая, экспорт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мировых цен на сырьевые това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текущих операций (платежи за товары и услуги, а также доходы от инвестиц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торгуемых и неторгуемых това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алютных отношений и валют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. Факторы, влияющие на его формирование. Способы валютного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 (Balance of Pay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литика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нтеграционные группировк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система – форма организации и регу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х отношений, закрепленная национа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ом и межгосударствен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национальн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 валюта – установленная законом денежная единица данн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ая или резервная валю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пар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кредитные средства 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ликвид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национальной валют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необходим для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еской переоценки счетов в иностранной валюте фирм 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(ПП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ы(золото, серебро, плат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т фонар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егулируемых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валютного курса предполагает наличие 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ые -  изменение процентной ста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ые - валютные интервенции, использование валютных резервов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ые - прекращение торгов, если речь идет о биржевом варианте установления валютного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перации ба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ередачи банковск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ая позиция банков при валютных опера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евровал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собы передачи банковской информаци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 международных межбанковских финансовых телекоммуникаций СВИФТ (Society for Worldwide Interbank Finansial Telecommunication ) передает стандартные банковские сообщ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е сдел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овские перев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согла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объем, характер валютных операций и набор используемых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и местные рынки, где используется ограниченное количество СК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: торгуемые и неторгуемые (классификация О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уровень легитим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– участ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метод котировки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покупка или продажа валю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продавца –банк продает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ий курс – среднеарифметическая величина курсов продавца и покупателя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сс-курс – котировка двух иностранных валют через трет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ы валютных рынков -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й - время совершения сде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ная – кассовая или spot-сделка -  до 48 часов ( 65 % межбанковского ры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ая – более 48 часов.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сии валют в коммерческих цел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ание прямых и портфельных капиталовложений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спекулятивной прибыли за счет курсовых разниц («медведи» и «бы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экономические и валютно-финансов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агентство по инвестиционным гарантиям (МАГИ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(МЦУИ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банки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международных расч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делятся 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- за сокращение экспортной выручки (Срок кредита - 3-5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юле 1944 было на Бреттон-Вудской 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ждународной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торговля является международной, если товар пересекает таможенную границу государства - смена терри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платежного баланса определяющим является смена товаром собстве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1945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кредитов относительно богатым развивающимся стра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бедности через доступ к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 кредитным ресурс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ыгодных условия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более длительными сроками погашения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более устойчив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1960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мощь беднейшим странам в борьбе с бедностью через предоставление кредит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улевой процентной ста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рок от 35 до 40 лет, включая льготный период продолжительностью 1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 (195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поддержка частного сект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агентство по гарантированию инвестиций (1988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споров  (1966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- содействие международному капиталу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иров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исслед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информации об инвестиционном законодательстве различных стр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мая 1950 года - Декларация МИД Франции - создание ЕОУ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союз. История созд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ЕЭ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7–1968 гг. - зона свободной торговли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–1987 гг. -  таможенный союз (общий таможенный тариф и торговая политика в отношении третьи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87–1992 гг. - единый внутренний рынок (свободное движение услуг, капиталов и рабочей сил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, Маастрихт – создание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–2002 гг. - ЭВС (12 стран) - единая валюта –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ая валю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8 - создание ЕВС – соз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а валютных к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й валютной единицы ECU – ЭКЮ. международная расчётная единица на основе корзины валют стран-членов ЕЭ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е между ЕС и ЦВЕ - «копенгагенские критерии член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ыночной экономики, способной справляться с конкурен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принять на себя обязательства членства (acquis communautaire) в ЕС и Э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 правовые инструменты Е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ий инвестиционный бан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ЕС - 129 млрд евро (2011 г.) - специальные структурные фонды Е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и и гарантий в сфере сельского хозяйства (196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ого развития (197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(1960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лочения (1993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я рыболовству (1994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я условий жизни 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й подгот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международного разделения труда и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ХIХ – начало ХХ веков. Торговля дополняется экспортом капитала и миграцией рабочей сил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7 год. Сформировались международное социалистическое и капиталистическое разделение тру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астрихтский договор 1992 г. - критерии конвергенции для введения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уров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быть более 3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должен быть более 60 % ВВП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нструменты Европейск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кредитования и фискальные ме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оцентных ставо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государственных расхо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обязательных резерво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введения ев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января 1999 года - безналичные расчеты в ев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2 года – наличные евр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sofia@tpu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казатели уровня международного разделения труда (МР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международного разделения труда - соотношение удельного веса страны в мировой торговле к ее удельному весу в мировом ВВП или Н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ртная квота – доля экспорта страны в промышленном производстве в целом и в выпуске продукции теми или иными отрасл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Еремина 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1B7-AEAF-469C-85D8-8C281491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987-9D3F-4AB9-9E29-39F75043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448-5F63-4890-8F8A-0D21F1F2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558-B314-4FD8-8A34-3E229F29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6A1-0928-41A3-957C-6871667D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EEB-04EF-46C1-B4EF-A14B7BA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2B0-AE2D-4A70-9A48-47679FB2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385-5A1A-4FB2-B615-715C7C89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A72-666D-40EF-966C-B6772CAD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D73-8DE0-4D30-A5E9-0AA4C4A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DEF-38E1-4350-A336-9EE9794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B7CF-F91D-4189-946B-06CA557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0099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4CFF-002F-46EB-9614-E1E7312269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66"/>
                </a:solidFill>
                <a:latin typeface="Times New Roman"/>
              </a:rPr>
              <a:t>Мировая экономика</a:t>
            </a:r>
            <a:br>
              <a:rPr sz="4800"/>
            </a:br>
            <a:endParaRPr b="1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9" name="Text Box 38"/>
          <p:cNvSpPr/>
          <p:nvPr/>
        </p:nvSpPr>
        <p:spPr>
          <a:xfrm>
            <a:off x="1763640" y="3141720"/>
            <a:ext cx="5781600" cy="29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С. Л. Еремин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.э.н., профессор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Томск  2012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ая специализация производства (МСП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разделения труда между странами, выделение самостоятельных (обособленных) технологических процессов, отраслей и подотраслей, что требует взаимодополнения национальных комплек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Направления и виды МСП 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ое – межотраслевая, внутриотраслевая специализация и специализация отдельных комп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иториальное - стран, групп стран и регионов на производстве определенных продуктов или их част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ая (производство продукто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етальная (производство частей, компонентов продуктов)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ая, или стадийная специал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казатели МСП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3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ффициент относительной международной специализации (КОЭС) промышленности и ее отраслей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о - удельный вес товара (совокупности товаров отрасли) в экспорте страны (экспортная доля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м - удельный вес товара (товаров-аналогов) в мировом экспор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больше единицы означает явную международную специализацию соответствующей отрасл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ЭС меньше единицы, означает ориентацию при производстве такого товара на внутренний национальный рыно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Ассортимент, номенклатура ввозимых и вывозимых в страну товар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image002"/>
          <p:cNvPicPr/>
          <p:nvPr/>
        </p:nvPicPr>
        <p:blipFill>
          <a:blip r:embed="rId1"/>
          <a:stretch/>
        </p:blipFill>
        <p:spPr>
          <a:xfrm>
            <a:off x="3276720" y="2781360"/>
            <a:ext cx="1461960" cy="830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ы международного разделения труда: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тественна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дание определенными факторами производства (территория, вода, леса, природные ресурсы и полезные ископаемые, географическое положение стран, их погодно-климатические услов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зд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разделение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капитал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опыт производства, уровень развития товарного производства и рыночных отношений, денежных и других финансовых институ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ждународное разделение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результат различий в уровне развития научно-технического прогресса, обеспеченность стран ресурсами зна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Группы стран в международной экономике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трана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территориальная еди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ющаяся государство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являющаяся государством, но проводящая самостоятельную и независимую экономическую политику и ведущая отдельный статистический учет своего экономического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рганизац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стран-членов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ОН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ВФ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5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Критерии оценки МБ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циональный доход брутто или ВНП на душу населения ($/год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изким доходом, которые иногда классифицируются как развивающиеся экономики, это $765 и ниже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 средним (подразделяется на страны с доходом ниже среднего – $766 - $3035, и выше среднего – $3036 - $9385) и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высоким доходом – 9386 $ и выш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географическое местоположение страны 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уровень внешней задолженности: высокий, умеренный и низк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- 1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сок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доля внешней задолженности к ВНП составляет 80 % или к годовому экспорту - 22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меренны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любое из этих соотношений не превышает 6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Уровень задолженности – 2 (страна не предоставляет информацию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ВНП – до 50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ий долг к годовому экспорту - до 275 %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гашение и обслуживание внешнего долга к годовому экспорту - до 30 %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служивание внешнего долга к экспорту до 20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ЕДПОСЫЛКИ ФОРМИРОВАНИЯ И ПЕРИОДЫ</a:t>
            </a:r>
            <a:br>
              <a:rPr sz="2400"/>
            </a:b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РАЗВИТИЯ МИРОВОЙ ЭКОНОМИКИ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Rectangle 37"/>
          <p:cNvSpPr/>
          <p:nvPr/>
        </p:nvSpPr>
        <p:spPr>
          <a:xfrm>
            <a:off x="684360" y="1197000"/>
            <a:ext cx="4038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164960" y="1691640"/>
            <a:ext cx="705852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рынк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2. Международное разделение труда и факторов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оизводства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4749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3. Группы стран в международной экономике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еория и практика международной торговли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Трудовая теория стоимости о классической теории международной торгов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лассическая теория международной торговли в трудах основоположников теории предельной производительности (Теория факторов производств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Критика классической теор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нкурентные структуры в производстве и об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ажения из-за вмешательства государ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рганизация международной торговли. ГАТТ. ВТО. ЮНКТАД. МТП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АТТ – регулятор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 «заповедей» В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ЮНКТАД, МТП – особенности регулирования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ссия в системе международной торгов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ятие и структура международного рынка услу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ое перемещение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Движение рабочей силы. Проблемы мигра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Понятие и формы международного движения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Правила международного инвестирования ТН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Организация движения услу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Международный 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 Государственный долг страны. Методы преодоления государственной задолжен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Организация движения услу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луги – т.н. третичный сектор экономики - 2/3 мирового ВВП – отличаются от товар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сязаемы и «невидимы» - основание называть поставки услуг «невидимым» экспортом и импорто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тделимы от своего источни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х производство и потребление, как правило, происходят одноврем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тоянство качества, изменчивость, невозможность х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ричины роста роли услуг в мировой и национальной экономиках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: развитие технологий, в т.ч. Информационных, значительно расширяет предложение услу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национализация и глобализация мировой экономики расширяет международный обмен услуг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ышение доходов и платежеспособности населения во многих странах ми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труктурирование услуг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сональные, удовлетворяющие потребности физических лиц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вые - для обслуживания юридических ли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ТТ/ВТО (ГАТС) учитывает более 160 видов услуг (12 сектор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ОН - более 500 позиций и субпозиций (6 отраслевых груп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ВФ - три раздела: туризм, технологии, тран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ециализация стран в МРТ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ые страны:  деловы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финансовые, телекоммуникационные, информационные), передовые технологии, образование, здравоохранение,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ция, Египет, Таиланд, Кипр – тур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нама, Либерия, Сингапур, Гонконг - морской транспор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ффшорные центры Карибского моря и Тихого океана - финанс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обязательств ГАТ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щие 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наибольшего благоприятствования (РНБ) - равный доступ на национальный рынок без определения условий доступа. Исключение - региональная интеграция, особые обязательства в отношении партнеров по ЗСТ или Т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пецифические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вободный доступ или национальный режим на рынке данной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туризм – 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-11 % мирового ВВ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1 % международного рынк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-8% мирового экспорта товаров и услу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0 отраслей эконом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- около $2 млрд в день (около трлн в г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ее 100 млн. рабочих ме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енность туристов – более 1,7 млрд ч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уристическаяО – регулятор международного туриз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тегории членств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действительные (суверенные государств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ассоциированные (территории, не несущие самостоятельной ответственности за свою внешнюю политик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присоединившиеся (межправительственные, негосударственные и коммерческие организации и объединения, действующие в сфере, предоставляющей интерес для туризм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1. Понятие мировой экономики, мирового хозяйства: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85880" y="157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международных экономических отношений, взаимодействие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экономические отношения, отдельные секторы и отрасли национальных хозяйст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ство национальных хозяйств в их совокупности и международные отношения, связывающие их в целост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тия туриз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екс поведения турис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справочники и прогно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формационные банки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ТО – регулятор международного туризма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я международного туризм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зм - активный отдых, способствующий укреплению здоровья и связанный с передвижением за пределы постоянного места житель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рист - остается на территории другого государства не менее 24 ч, но не более 1 года в стране временного проживания оплачиваемой деятельностью (отличие от экономической мигр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скурсант - путешественник, который провел за границей менее 24 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Характеристики туристического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бизнес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истский продукт (тур) - разработка маршрута и комплекса усл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оператор - фирма, производящая туристский продукт (тур) - заключает договоры с гостиницами, транспортными фирмами и другими участниками турбизнес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урагент - самостоятельная фирма, распространяющая туристский продукт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– научные методы достижения практических результатов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укт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ссов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передача технологи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tional technology trans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– перемещение научно-технических достижений на коммерческой ил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звоздмездной осно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Правовые инструменты защиты новой технологии 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Патен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видетельство компетентного правительственного органа изобретателю о его монопольном праве на использование изобрет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Лиценз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разрешение владельца на использование технологии в течение определенного времени и за определенную плату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пирайт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сключительное право автора литературного, аудио - или видеопроизведения на показ и воспроизведение своей работ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ая марк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обозначение, способное отличать товары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Товарный знак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(брэнд) - промышленно - интеллектуальная собственность, связанная с торговлей технологиям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ормы международной передачи технологи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атентные соглашения - уступка прав узкоспециализированными фирмами, которые не в состоянии внедрить изобретение, крупным корпорация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лицензионные соглашения - нетоварная коммерческая сделка - разрешение на использование технолог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ноу-хау» - предоставление документов, технического опыта и секретов (технологических, экономических, административных, финансовых). Как правило, - незапатентованные изобретения, имеющие коммерческую ценнос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жиниринг - предоставление технологических знаний для приобретения, монтажа и использования машин и оборудова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виды международного технического содейств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гран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ical 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gran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– безвозмездная передача развитыми странами технологии, технологически емких товаров или финансовых средств на покупку технологии, обучение и переподготовку персон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офинансирова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n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(дву- и многостороннее) – получатель должен организационно обеспечить ее получение и нести некоторое бремя ее финансирования рассматривается как свидетельство заинтересованности правительства в эффективном использовании предоставляемой его стране технической помо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убъекты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сшие учебные заведе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учно-исследовательские организ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ы и фон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ие лиц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атели и учены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международного рынка технологий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 - Соглашение о торговых аспектах прав на интеллектуальную соб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ОН - Всемирная организация интеллектуальной собственности (ВОИС) – стратегические це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е развитию культуры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ключение ИС в политику и программы национального разви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международных законов и норм в области 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азание качественных услуг в рамках глобальных систем охраны в области И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оцесса управления и вспомогательных процессов в ВОИ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ехнологий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макротехнолог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2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я –1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ия –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щий объем продаж - $2,3 трл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государства в финансировании НИОКР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ША - 33 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рмании и Франции - до 4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Мировой рынок – система обменов товаров, услуг и капиталов между продавцами и покупателями -</a:t>
            </a: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4296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тегория товарного производства, вышедшего за национальные рам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государственное перемещение товаров для удовлетворения внешнего спроса и предл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мизирует использование факторов производства в отраслях и регион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раковывает из международного обмена товары и производителей, неспосбных обеспечить международный стандарт качества при конкурентных ценах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мая большая доля экспорта коммерческих услуг – 24-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ификация видов транспор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сно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железнодорожный, автомобильный, внутренний водный, морской, речной, воздушный, трубопровод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пособ пере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ухопутный, водный, воздушный, специальны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характер движ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транзитный, внутрихозяйственный, местный, даль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именение силы тя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сплавной, парусный, гужевой, паровой, электрический, дизельный, газотурбинный, атомны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еждународный рынок транспортных услуг (МРТУ) – это …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9 % мирового ВВ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100 млрд. т груз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1 трлн. пассажир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ыше 650 млн. автомобил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 тыс. рейсовых самолето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0 тыс. локомоти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ее 50 % цены тов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стралия и НИС ЮВА - 40 % рын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ставка товара в международной торговле -это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возка от внутреннего пункта производства до пограничного пункта (порта) страны-экс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дународная транзитная или морская перевозка от пункта страны-экспортера до пограничного пункта (порта) страны-импорт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ировка от пограничного пункта страны-импортера до внутреннего пункта потребления това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орской транспорт – лидер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РТУ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80% от всего объема грузов внешней торговли, в том числе 34,3% - танкерным фло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хих грузов - 4,5 млрд т, в т.ч. 1,6 млрд т - пять товарных позиций - руда, уголь, зерно, бокситы и фосфа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имущества перевозки морским транспортом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зкая себестоимость перевозок - в среднем 60 % от себестоимости железнодорожных и 2,5 % - от автомобильных. Стоимость перевозки грузов в мировом судоходстве достига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сть - можно перевозить практически все виды продукции и доставлять их в места, недоступные для других видов транспор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Документ для перевозки грузов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осамент (bill of lading) подтверждает принятие товара для морской (или речной) перевозки и обязывает перевозчика выдать товар законному владельцу, т.е. - эт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писка, подтверждающая принятие к перевозке товара, обозначенного на лицевой стороне документ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акт на перевозку товара на оговоренных в нем условиях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варораспорядительный докумен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атьи (МВФ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кущие операции (Current account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ва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инвестиц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стояние товарно-торгового баланса (Merchandise trade balanc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ры по преодолению дефицит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нансирование - взять в долг, продать зарубежные ак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ректировка - больше зарабатывать, либо меньше тратит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2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. Прямые инвестиции и прочий долгосрочный капитал (Long term capit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ые инвести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ртфе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й долгосрочный капита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истые заграничные активы (ЧЗА) – их алгебраическая сумма - включаю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игац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движимость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удожественные ценност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ямую собственность корпор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ояние ЧЗА - прирост (положительное сальдо платежного баланса) и снижение (дефицит платежного баланс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страны - 3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чий краткосрочный капита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шибки и пропу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омпенсирующие стать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F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резвычайные источники покрытия сальд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G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язательства, образующие валютные резервы официальных иностранных орган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тоговое изменение резервов, которые состоят и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лот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Р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зервной позиции в МВФ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остранной валюты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х требовани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дитов МВФ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Факторы, влияющие на платежный и торговый баланс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клическ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цен на основные статьи национального экспорта и импор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курсов вал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спроса на потребительские и инвестиционные това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еэкономическая, экспортная полит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мировых цен на сырьевые товар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Платежный баланс РФ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текущих операций (платежи за товары и услуги, а также доходы от инвести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чет операций с капиталом и финансовыми инструментами (изменения в размерах инвестиций и кредитов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государственных валютных резервов относится к финансовому счету, но на практике выделяется отдельной стро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азличия торгуемых и неторгуемых товар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ы на торгуемые товары определяются соотношением спроса и предложения на мировом рынк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ланс внутреннего спроса и предложения на неторгуемые важнее чем на торгуемые, так как  отсутствует возможность компенсации иностранными товарам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намика и зачастую уровень внутренних цен на торгуемые товары следуют за динамикой и уровнем цен в других стр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валютных отношений и валютной</a:t>
            </a:r>
            <a:br>
              <a:rPr sz="2800"/>
            </a:b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истемы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циональная валютная сист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ый курс. Факторы, влияющие на его формирование. Способы валютного регулир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атежный баланс страны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lance of Payme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ютная политика стра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волюция мировой валютн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гиональные интеграционные группиров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Международные валютные отношения – совокупность общественных отношений, складывающихся при функционировании валюты в мировом хозяйстве и обслуживающих взаимный обмен результатами деятельности национальных хозяйств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360" y="3645000"/>
            <a:ext cx="7773840" cy="24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ая система – форма организации и регулир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х отношений, закрепленная националь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одательством и межгосударствен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Элементы национальной валютной системы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валюта – установленная законом денежная единица данного государ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чевая или резервная валю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пень конвертиру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й парит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ограни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е кредитные средства обращ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ая валютная ликвид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ы национальной валютной систе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алютный курс необходим для: 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заимного обмена валютами при торговле товарами, услугами, при движении капиталов и рабочей сил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ения цен мировых и национальных рынков и определения своей функции на мировом рынке (экспортер или импорте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иодической переоценки счетов в иностранной валюте фирм и бан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66"/>
                </a:solidFill>
                <a:latin typeface="Times New Roman"/>
              </a:rPr>
              <a:t>Основа валютного курс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итет покупательной способности (ПП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аллы(золото, серебро, платин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ос и предл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т фонар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Виды регулируемых валютных курс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758960"/>
                <a:gridCol w="2201760"/>
                <a:gridCol w="2324160"/>
                <a:gridCol w="1487520"/>
              </a:tblGrid>
              <a:tr h="922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лавающи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Свободно – плавающи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В «коридоре»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Нет ограничений колебаний.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Минимальная и максимальная граница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Точка отсчета 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пределы колебаний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Фиксированные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Золото, серебр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Други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Коллективные валю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Регулирование валютного курса предполагает наличие мер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лг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изменение процентной став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реднесрочные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интервенции, использование валютных резервов ст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сроч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рекращение торгов, если речь идет о биржевом варианте установления валютного кур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еждународные операции банков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ы передачи банковской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валютных ры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ютная позиция банков при валютных операц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ынок евровалю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пособы передачи банковской информации 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О международных межбанковских финансовых телекоммуникаций СВИФТ (Society f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orldwi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nterban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inans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lecommunication ) передает стандартные банковские сообщ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рговы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ютные сделк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овские переводы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е согла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А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ъем, характер валютных опера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набор используемых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ровые (Лондон, Сингапур, Париж, Токио) рынки, использующие свободно-конвертируемую валюту (СКВ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и местные рынки, где используется ограниченное количество СКВ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рынки: совокупность операций по валютному обслуживанию компаний, частных лиц и банков, не специализирующихся на проведении международных валю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Товары: торгуемые и неторгуемые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(классификация ООН)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87280" y="1916280"/>
          <a:ext cx="6864480" cy="3962160"/>
        </p:xfrm>
        <a:graphic>
          <a:graphicData uri="http://schemas.openxmlformats.org/drawingml/2006/table">
            <a:tbl>
              <a:tblPr/>
              <a:tblGrid>
                <a:gridCol w="3432240"/>
                <a:gridCol w="3432240"/>
              </a:tblGrid>
              <a:tr h="56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това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ое хозяйство, охота, лесно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рыболов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атывающая промышленность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услуги и строитель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овая и розничная торговля, рестораны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гостиниц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ировка, хранение, связь,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ое посредничество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на и обязательные социальные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, здравоохранени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щественные работы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коммунальные, социальные и 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услуги</a:t>
                      </a: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2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оргуемы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ffff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Б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егитим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фициальный валютный рынок, когда курс той или иной валюты устанавливается центральным банком страны или банком, выполняющим эту функцию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черный» - возникает тогда, когда потребность в конвертации валюты есть, но ее запрещено совершать легальным способ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серый» - центральный банк официально не устанавливает котировки этой валюты к национальной, но и не запрещает это делать коммерческим бан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В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ссивные, то есть те, у кого необходимость в проведении валютных операций лишь возникает время от времени: государственные (национальные) банки, крупнейшие коммерческие банки, а также отдельные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тивные, так называемые «market–makers» - узкий круг гигантских банков, имеющих разветвленную сеть отделений по всему миру и огромный штат дилеров.. Сумма стандартной сделки на таком рынке $5-10 млн. М.б. до $100 м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Г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итерий - метод котировки валю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ая – когда за единицу или кратное число единиц принимается иностранная валюта, которая соизмеряется в национальной валюте. Котировки даются с точностью до четырех знаков после запятой. Например, 1 доллар США равен 27.85 руб. и называется Нью-Йорк на Москв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ая (обратная) – за единицу принимается национальная валюта и соизмеряется с определенным количеством иностранной валюты. Например, 1 рубль равен 0.3478 долларов СШ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Д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окупка или продажа валю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окупателя - за единицу иностранной валюты предлагается определенное количество националь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урс продавца –банк продает валю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ний курс – среднеарифметическая величина курсов продавца и покупателя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сс-курс – котировка двух иностранных валют через трет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ксинг - определение межбанковского курса путем последовательного сопоставления спроса и предложения по каждой валю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2. Виды валютных рынков - Е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терий -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ремя соверш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делк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ная – кассовая или spot-сделка -  до 48 часо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65 % межбанковского рын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очная – более 48 часов. Це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версии валют в коммерческих ц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ование прямых и портфельных капиталовложений за гран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ение спекулятивной прибыли за счет курсовых разниц («медведи» и «быки»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е экономические и валютно-финансовые организации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анк международных расче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й Валютный Фон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ппа Всемирного бан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банк реконструкции и развития (МБР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ассоциация развития (МАР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ая финансовая корпорация (МФК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ногостороннее агентство по инвестиционным гарантиям (МАГИ)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й центр по урегулированию инвестиционных споров (МЦУИС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ональные банки разви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Банк международных расчетов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межгосударственный банк, организованный в Базеле в 1930 году как международный банк центральных банков. Учредители - центральные банки Англии, Франции, Италии, Германии, Бельгии, Японии и группы банков США во главе с банкирским домом Морг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лавная задача БМР состояла в облегчении расчетов по репарационным долгам Германии и другим военным долга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1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н на Бреттон-Вудской конференции в 1944 году, функционирует с 1947 года. Правление состоит из пяти главных департаментов: – для Африки, - Европы, - Азии, - Среднего Востока и Западного полушар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едиты МВФ делятся 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ые –преодоление временных трудностей платежного баланса (срок - 1 год, но может быть продлен до 4-5 ле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енсационные - за сокращение экспортной выручки (Срок кредита - 3-5 л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уферные», стабилизационные - финансирование запасов добываемого сырья в связи с неблагоприятной конъюнктурой на мировых рынках. (Срок кредита 3-5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ширенное финансирование - структурная перестройка в случае серьезных нарушений платежного баланса (Срок - до трех лет сверх обычных кредитов, до 140% квоты. Погашение - 4-10 л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Валютный Фонд  - 2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дея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 государств-членов по предотвращению или урегулированию финансового кризиса, макроэкономической стабильности, ускорению экономического роста и снижению уровня беднос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енное предоставление финансирования для урегулирования проблем платежного баланс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помощь и содействие в подготовке кадров, необходимых для проведения обоснованной экономической полит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Группа Всемирного банка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юле 1944 было на Бреттон-Вудской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ференции ООН по валютно-финансовым вопросам было принято решение о создании Международного Банка Реконструкции и Развития, который нередко называют Всемирным Банком. В конференции приняли участие представители 44 стран. Самыми крупными были США, Соединенное Королевство, Франция, Китай, Индия и ССС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Понятие международной торговли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ирово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акти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орговля является международной, если товар пересекает таможенную границу государства - смена территор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ори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латежного балан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пределяющим является смена товаром собственник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банк реконструкции и развития (1945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оставление кредитов относительно богатым развивающимся стран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кращение бедности через доступ к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им кредитным ресурса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выгодных условия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олее длительными сроками погаш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более устойчивой осн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Ассоциация Развития (1960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мощь беднейшим странам в борьбе с бедностью через предоставление креди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нулевой процентной ста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срок от 35 до 40 лет, включая льготный период продолжительностью 10 л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ая финансовая корпорация  (195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 - поддержка частного секто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ое агентство по гарантированию инвестиций (1988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ель: поощрение иностранных инвестиций в развивающиеся страны путем предоставления гарантий иностранным инвесторам от некоммерческих риско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Международный центр по урегулированию инвестиционных споров  (1966 год)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- содействие международному капиталу чер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услуг по арбитражному разбирательству и урегулированию споров между правительствами и иностранными инвестор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льтировани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учные исследования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ение информации об инвестиционном законодательстве различных стр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 мая 1950 года - Декларация МИД Франции - создание ЕОУ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 апреля 1951 г. – Франция, ФРГ, БеНиЛюкс и Италия - создание общего рынка для модернизации и повышения эффективности угольной и металлургической промышленности, улучшение условий труда и решения проблем занят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 марта 1957 г. - Римский договор - учреждение ЕЭС (таможенный союз и общий рынок товаров, лиц, капиталов) и Евратом (развитие ядерной энергетики в мирных целях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ий союз. История создания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ЕЭ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57–1968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она свободной торгов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тменены пошлины, квоты и др. ограничения, сохранены автономия таможенной и торговой политики по отношению к третьим страна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68–1987 гг. -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аможенный сою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бщий таможенный тариф и торговая политика в отношении третьих стран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87–199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единый внутренний рын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вободное движение услуг, капиталов и рабочей сил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 г., Маастрихт – создание Е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7 г. – Амстердам – координация экономической, валютной, социальной политики, исследований и технологического развития, защиты окружающей среды, внешне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92–2002 гг.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В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12 стран) - единая валюта – евр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Европейская валютная система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прель 1972 - март 1979 - режим совместного плавания валютного курса - "Европейская валютная змея" - сужение пределов колебаний своих валют (± 1,125%) и о коллективном плавании своих валют к доллару и другим валютам (+2,25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3 - отмена пределов колебаний к доллару и другим валютам, пределы взаимных колебаний - ± 2,25% (Италия - ± 6%); ±15% в 1993-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978 - создание ЕВС – созд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ханизма валютных кур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й валютной единиц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EC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 ЭКЮ. международная расчётная единица на основе корзины валют стран-членов ЕЭ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вропейского фонда валютного сотрудничества (временная финансовая поддержка для финансирования дефицита платёжного баланса и расчётов по валютным интервенция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Соглашение между ЕС и ЦВЕ - «копенгагенские критерии членства»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стабильных институтов, гарантирующих демократию, правовой порядок, соблюдение прав человека и защиту национальных меньшинств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рыночной экономики, способной справляться с конкуренцие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товность принять на себя обязательства членства (acquis communautaire) в ЕС и Э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94 г. - Эссенская сессия Совета ЕС - программа подготовки стран ЦВЕ к вступлению в ЕС – Белая кни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Финансовые и правовые инструменты ЕС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вропейский инвестиционный бан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ЕС - 129 млрд евро (2011 г.) - специальные структурные фонды Е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риентации и гарантий в сфере сельского хозяйства (196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онального развития (197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(196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плочения (1993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действия рыболовству (1994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лучшения условий жизни и тр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одготов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68360" y="367812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5236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548280"/>
            <a:ext cx="853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международного разделения труда и факторов производства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468360" y="2274840"/>
            <a:ext cx="81360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ц 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 – начало ХХ веков. Торговля дополняется экспортом капитала и миграцией рабочей силы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7 год. Сформировались международное социалистическое и капиталистическое разделение труда,</a:t>
            </a:r>
            <a:endParaRPr b="1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Х-ХХ1 век. Отраслевое, производственное разделение: одна страна торгует нефтью, другая – «песком и солнцем», оказывая туристические услуги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Маастрихтский договор 1992 г. - критерии конвергенции для введения евро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ельные уровн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мп инфляции не должны превышать более чем на 1,5 % средний показатель в странах-членах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нтные ставки по долгосрочным кредитам не должны превышать более чем на 2 % соответствующий средний показатель для трех стран с наименьшим ростом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фицит госбюджета не должен быть более 3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ый долг не должен быть более 60 % ВВП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течение двух лет валюта не должна девальвироваться и ее обменный курс не должен выходить за пределы колебаний, установленные Европейской валютной систем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инструменты Европейской валютной системы: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Ю (ECU) – исходная для расчета центральных валютных курсов, расчетная и кредитная единица между ЦБ, база для расчета отклонений валютный к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валютных курсов и интервенций. - двусторонние центральные курсы по которым устанавливались допустимые пределы 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ханизм кредитования и фискальные мер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процентных ставо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кращение государственных расхо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авнивание обязательных резервов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Этапы введения евро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января 1999 года - безналичные расчеты в евр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02 года – наличные евр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165240" y="160200"/>
            <a:ext cx="8826480" cy="654552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39640" y="19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258920" y="2637000"/>
            <a:ext cx="69483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</a:t>
            </a:r>
            <a:r>
              <a:rPr b="1" lang="ru-RU" sz="4400" spc="-1" strike="noStrike">
                <a:solidFill>
                  <a:srgbClr val="ffff66"/>
                </a:solidFill>
                <a:latin typeface="Times New Roman"/>
              </a:rPr>
              <a:t>!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 algn="ctr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sofia@tpu.ru</a:t>
            </a: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  <a:p>
            <a:pPr lvl="1" marL="914400" indent="-457200"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Times New Roman"/>
              </a:rPr>
              <a:t>Основные показатели уровня международного разделения труда (МРТ) </a:t>
            </a:r>
            <a:endParaRPr b="1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коэффициент международного разделения тру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соотношение удельного веса страны в мировой торговле к ее удельному весу в мировом ВВП или Н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экспортная кв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оля экспорта страны в промышленном производстве в целом и в выпуске продукции теми или иными отрасл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260280"/>
            <a:ext cx="853416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.Л. Еремина Мировая экономика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09:09Z</dcterms:created>
  <dc:creator>Ерофеев Е.Л.</dc:creator>
  <dc:description/>
  <dc:language>en-US</dc:language>
  <cp:lastModifiedBy>LEGION</cp:lastModifiedBy>
  <dcterms:modified xsi:type="dcterms:W3CDTF">2016-01-05T11:05:03Z</dcterms:modified>
  <cp:revision>72</cp:revision>
  <dc:subject/>
  <dc:title>Мировая экономика</dc:title>
</cp:coreProperties>
</file>