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32DF-4E88-44DA-97F8-5BA0F74C67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вития мирового хозя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лизация производства и капитала, которая проявляется в деятельности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неравномерност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лобализация мирово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изация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сферы деятельности международных компаний: ТНК ( 1/3 мировой торговли)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глоб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масштаба: сокращение издержек, снижение цен, тенденция к устойчивому эк.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на взаимовыгодной основе, удовлетворяющей вс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жизненных стандартов –общее повышение благосостояния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ое проявление глобализ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работица в экономически развит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отекционизм и свобода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зм (лат.proctio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а торговли – отсутствие каких-либо барьеров и ограничений в торговл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ционистские меры вклю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оженные пошлины –величина государственных денежных сборов с товаров, пересекающих границу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ные квоты – установление квот на ввоз товаров в количественном или стоимостном выра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арифные барьеры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ьза протекционизма проявляется 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боронных отраслей промышл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и внутренней занятости ресурсов, стимулировании совокупного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собенность функционирования ТНК 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К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все фирмы как единой организации и крупной корпо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ровне дочерних обществ за рубежом гибкость стратегии мал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«трансфертного» цено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транснацион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корение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новых технолог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передов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ток капитала из-за руб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рояв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ря рабочих м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од от налогообложения части прибыли ТН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язывание неперспективных направлений в системе М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логически вредных произво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ация ТНК на поглощения порождает неустойчивость инвестицион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 мирового хозяйства и формы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хозяйство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транснационализации затронул банковскую 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Б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операций ТН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кредитной стратегии ТН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онятие о платежном балансе и валютном кур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стигается с помощью валютных рын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 – цена национальной денежной единицы, выраженная в денежной единицы другой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валют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этап – золотой стандарт , существовал со времен возникновения МЭО до начала XX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обращение валют отдельных стран в золото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валютных курсов притоком и оттоком зол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твердого золотого содержания националь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этап –золото-долларовый стандарт, 1944 – 1976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фиксированных валютных курсов. Национальные валюты были привязаны к $ США через паритеты, утверждаемые МВ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 –система плавающих валютных курсов, 1976 г. по настояще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устанавливается под воздействием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вающие валютные курсы облегчают процесс составления платежного балан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валютный кур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ого характера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ого характера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ежный бала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оказателей участия страны в МЭ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ьи платеж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текущих операций (торговый баланс) –отражает поступления и расходы по текущим внешнеторгов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движения капитала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государства –стремление обеспечить разумное по величине активное саль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– стимулирование эк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чрезмерное активное сальдо вредит экономике, т.к. из страны уходят капитальные актив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странения диспропорций платежного баланс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интервенция –продажа правительством золота. Временная мера, т.к. существует лимит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е внешнеэкономических операций –сокращение экспорта капитала, сокращение импорта товаров, повышение тариф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нутренней фискальной и монетарной политики- сдерживающая денежная политика, которая приводит к сокращению потребления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алютного курса –установление нового равновесия валютного кур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уществования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товарами и услу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и международный кре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рудовая 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научно-техническое сотрудни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важнейших тенденций формирования и развития мирового хозяйства является рост процессов интерн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усиления интернационального фактор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торговля –важнейшая форма МЭ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участия стран в мировой торгов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эффективное использование имеющихся в стране рес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приобщения к мировым достижениям науки и техн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осуществления структурной перестройки национальной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полное и разнообразное удовлетворение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международной торговли разработана А. Смитом и Д. Рикард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сравнительных преимуществ Д. Рикар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вмененные (сравнительные) издерж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разделение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ормы МР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–специализация по отраслям и сферам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 –специализация на выпуске отдельных видов готовой продукции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чное –специализация на производстве отдельных уз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еобразования М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F46-4D40-44D4-B124-157AE21F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5473-7437-4807-A9CA-F87F0240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9748-551B-40C5-B3F2-A29BB350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368-B4AE-4370-B8C0-076891A3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61D8-4B7D-412C-A083-66163DC3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AE4-E1C6-45A6-BD02-4D145CF3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F901-D962-458C-A924-B030348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5D09-798F-4264-960C-3392994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38D1-ED0A-48DA-9276-0F76CC8B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57AE-87A8-4DB7-A62C-B9DB28C4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E01-6011-4B2E-B98F-0E91F689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11D-62DF-4424-8FC4-360AAE8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FB3F-98B1-42BE-8A64-65E9377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6A46-CC4D-4444-BFC6-DFD39D5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8367-3CBC-4CCF-AD44-2C65916E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D277-7FF5-46F3-847B-F239EAA2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85B-085D-490C-87E0-AFF4C1ED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594-0268-486E-A931-A7A7F55F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043-E804-4A2E-9D53-748D0C3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07D-D476-4990-B644-5F674D72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6E4-053F-42E8-9FA6-50FF9A7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640-4721-4481-8DA0-D344775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8AA-D5B4-44CF-8173-15DFA825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D65-94D2-4278-9815-084BC948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E57-B564-4C30-9305-7C5F93E2F7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5139-68E1-469B-ADEF-A02842D7F0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Международные экономические отношения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17906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Понятие мирового хозяйства и формы МЭ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Глобализация мировой экономик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Протекционизм и свобода торгов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Особенность функционирования ТНК и ТНБ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5. Понятие о платежном балансе и валютном курс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акономерности развития мирового хозяйств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вномерность экономического развития (существуют центры и периферия, неравномерное распределение богатства, дифференциация стран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нализация производства и капитала, которая проявляется в деятельности ТНК и ТН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обализация мировой экономи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ями неравномерности являют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П и ВВП на душу населения; производительность труда; развитие отраслей; роль в мировой торговле; инвестиционный климат; расходы на НИОКР; уровень жизни населения; конкурентоспособность национальной экономики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. 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Глобализация мировой экономики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ительное формирование на базе современных (компьютерных) технологий единого общемирового финансово-экономического пространства. Это высшая стадия интегра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является в колоссальном увеличении масштабов мировой торговли и других процессов международного обмена в условиях открытой, не признающей мировых границ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: товарные, валютные потоки, движение капитала, обмен технологиями, информацией, идеями, перемещение людей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чники глобализац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е компьютерн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иберализация торгов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ширение сферы деятельности международных компаний: ТНК ( 1/3 мировой торговли) 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ижение глобального единомыслия в оценке рыночной экономики и системы свободной торгов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культурного развития. Тенденция к формированию «однородных» средств массовой информации, искусства, поп-культуры, английского языка в качестве всеобщего средства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ценка глобализац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иление международной конкуренции: углубление специализации, МРТ, рост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 масштаба: сокращение издержек, снижение цен, тенденция к устойчивому эк. рос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рговля на взаимовыгодной основе, удовлетворяющей все сторо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ционализация производства на глобальном уровне –рост производительности труда, распространение передовых технолог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жизненных стандартов –общее повышение благосостояния в ми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Негативное проявление глобализации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ую часть преимуществ от глобализации получают богатые страны или индивиды. Имеет место несправедливое распределение благ. Создается угроза возникновения конфликтов на региональном, национальном и интернациональном уровнях («Богатый Север» и «бедный Юг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окальные эк. кризисы в одной стране могут иметь глобальные последствия (финансовый кризис 1997 г. Таиланд, Ю. Корея, страны ЮВА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езработица в экономически развит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3. Протекционизм и свобода торговли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820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текциониз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лат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t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прикрытие)- экономическая политика государства, проявляющаяся в целенаправленном ограждении внутреннего рынка своей страны от проникновение на него иностранных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ача протекционизма –поощрение развития национальной экономики и ее защита от иностранной конкуренции путем установления высоких пошлин на ввозимые в страну товары или запрещения ввоза това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обода торгов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сутствие каких-либо барьеров и ограничений в торгов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отекционистские меры включают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аможенные пошли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величина государственных денежных сборов с товаров, пересекающих границу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мпортные квот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установление квот на ввоз товаров в количественном или стоимостном выражен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тарифные барьер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совокупность экономических и административных мер, выходящих за пределы таможенно-тарифных ограничений (технические, экологические и санитарные стандар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84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ольза протекционизма проявляется в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боронных отраслей промышлен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и внутренней занятости ресурсов, стимулировании совокупного спрос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новых «молодых» отраслей национальной экономики, порожденных НТП, от конкуренции более зрелых и эффективных иностранн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щите отечественных производителей от демпинга –сбыта импортной продукции по ценам, которые ниже внутренних рыночных цен в стране-изготовител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4. Особенность функционирования ТНК и ТНБ</a:t>
            </a:r>
            <a:r>
              <a:rPr b="0" lang="ru-RU" sz="36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фирмы, ведущие производственную деятельность в нескольких странах, особенностью которых является их относительная независимость от национальн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ентные преимущества ТНК основываются на способности использовать два типа стратег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все фирмы как единой организации и крупной корпор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вне дочерних обществ за рубежом гибкость стратегии малых фир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«трансфертного» ценообраз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оследствия транснационализа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корение развит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новых технолог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пространение передового опы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ток капитала из-за рубеж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гативные проя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 рабочих ме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ход от налогообложения части прибыли ТН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вязывание неперспективных направлений в системе М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экологически вредных производст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итика дезинвестиций ТНК в случае кризисов (закрытие предприятий, сокращение производства, рост безработицы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ентация ТНК на поглощения порождает неустойчивость инвестиционн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1. Понятие мирового хозяйства и формы МЭ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ое хозяйство любой страны является составной и неотъемлемой частью мировой экономи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мирового хозяйства происходило на базе национальных хозяйств и экономических связей между ни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ировое хозяй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многоуровневая глобальная экономика, связывающая национальные хозяйства в единую систему с помощью обмена экономической деятельностью (международного разделения труда)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НБ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 транснационализации затронул банковскую сфе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НБ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банк, имеющий широкую зарубежную сеть и активно участвующий в международных операциях (в финансировании международной торговли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и операций ТНБ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нтрализация управления операциями банка по причине изменения объема депозитов, выраженных в различных валют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версификация кредитной стратегии ТН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5. Понятие о платежном балансе и валютном курс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аимные операции стран на внешнем рынке предполагают приведение в определенное соответствие их национальных валют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достигается с помощью валютных рынк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цена национальной денежной единицы, выраженная в денежной единицы другой стра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стория валютных систе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 этап –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олотой стандарт 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овал со времен возникновения МЭО до начал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новные чер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ободное обращение валют отдельных стран в золото внутри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ирование валютных курсов притоком и оттоком золо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ление твердого золотого содержания национальной валю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чины отказа от золотого стандарта: добыча золота не поспевала за быстрым развитием международной торговли, «Великая депрессия», вторая мировая войн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2 этап –</a:t>
            </a: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золото-долларовый стандарт,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1944 – 1976 г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ановление фиксированных валютных курсов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циональные валюты были привязаны к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ША через паритеты, утверждаемые МВФ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 этап –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 плавающих валютных курс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976 г. по настоящее врем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урс устанавливается под воздействием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вающие валютные курсы облегчают процесс составления платежного баланса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акторы, влияющие на валютный курс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ру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тражающие состояние экономики данной страны: показатели экономического роста, состояние платежного баланса, степень зависимости от внешних источников сырья, уровень инфляции, уровень процентной ставки, доверие к национальной валюте на мировом рынк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ъюнктурного характер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зменяющиеся под влиянием тенденций развития на мировом рынке. Особенность- ведут к спекулятивным операциям на валютных рынк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латежный баланс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водный баланс сделок, заключенных в течение года между отдельными лицами, фирмами и правительственными ведомствами одной страны с теми же представителями других стран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показателей участия страны в МЭ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изует соотношение между валютными поступлениями в страну и платежами, которые данное государство осуществляет за границей в течение определенного периода време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атьи платежного баланс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текущ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торговый баланс) –отражает поступления и расходы по текущим внешнеторговым операц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аланс движения капитал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отражает куплю-продажу активов, т.е. соотношение экспорта и импорта государственного и частного капитала: прямых и портфельных инвестиций, международных кредитов, официальных резервов Ц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обенность –любая сделка отражается дважды: дебет- приток стоимостей в страну; кредит –отток стоимостей из стра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8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ложительном сальдо имеет место активный платежный баланс. Следовательно, страна имеет требования к другим стран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трицательном сальдо имеет место дефицит платежного баланса. Он охватывает сумму требований других стран к дан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государства –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обеспечить разумное по величине активное сальд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тоды – стимулирование экспор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резмерное активное сальдо вредит экономике, т.к. из страны уходят капитальные актив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етоды устранения диспропорций платежного баланса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лютная интервенц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продажа правительством золота. Временная мера, т.к. существует лимит ресурс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граничение внешнеэкономически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сокращение экспорта капитала, сокращение импорта товаров, повышение тариф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нутренней фискальной и монетар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итик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держивающая денежная политика, которая приводит к сокращению потребления импо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ение валютного кур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установление нового равновесия валютного кур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Формы существования МЭ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орговля товарами и услуг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воз капитала и международный кред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ые валютные отнош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ая трудовая мигр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дународное научно-техническое сотрудниче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й из важнейших тенденций формирования и развития мирового хозяйств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ост процессов интернализац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Причины усиления интернационального фактора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ход воспроизводственного процесса за национальные границы, расширение емкости ры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ность ресурсов отдельных стран для самостоятельного проведения фундаментальных и прикладных исследований в условиях НТР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сть включения всех факторов производства национальных государств в процесс международного разделения тру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ущий обмен полуфабрикатами, узлами и деталями в рамках международной специализации и кооперации производ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Мировая торговля –важнейшая форма МЭ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имущества участия стран в мировой торговл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эффективное использование имеющихся в стране ресурсов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приобщения к мировым достижениям науки и техн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осуществления структурной перестройки национальной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олее полное и разнообразное удовлетворение потребностей насел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Теория международной торговли разработана А. Смитом и Д. Рикардо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 Смит «Исследование о природе и причинах богатства народов» (1776): основой развития международной торговли служит различие в абсолютных издержках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Необходимо импортировать товары из той страны, где издержки абсолютно меньше, а экспортировать те товары, издержки которых ниже у экспортеров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гляды А. Смита получили развитие в работе Д. Рикардо: «Начала политической экономии и налогового обложения» (181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Теория сравнительных преимуществ Д. Рикард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окупный объем выпускаемой продукции будет максимальным лишь в том случае, если каждый товар будет производиться той страной, у которой ниже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мененные (сравнительные) издерж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обходимым условием существования международной торговли является специализация стран на производстве таких товаров, по которым она имеет сравнительно более низкие затраты труда и капита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олной свободе торговли принцип сравнительных издержек действует автоматически и сам по себе приводит к оптимальной специал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е существования мировой торговли находится международное разделение труда (МРТ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Международное разделение труд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изация отдельных стран на производстве определенных видов благ, которыми эти страны обмениваются между соб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формы МР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ще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по отраслям и сферам экономик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выпуске отдельных видов готовой продукции и услуг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Едини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специализация на производстве отдельных узлов.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Особенности преобразования МРТ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рая двухступенчатая модель утратила свое существование, когда выделялись две группы стран: индустриальные и аграрно-сырьев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1990-м годам завершилось формирование трехступенчатой модели МРТ: промышленно развитые страны, развивающиеся страны (поставщики минерального сырья), группа стран, получившая сборочные, материало-   и трудоемкие  производства и экологически грязные технолог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2:08:39Z</dcterms:created>
  <dc:creator>Комп</dc:creator>
  <dc:description/>
  <dc:language>en-US</dc:language>
  <cp:lastModifiedBy>LEGION</cp:lastModifiedBy>
  <dcterms:modified xsi:type="dcterms:W3CDTF">2016-01-05T11:05:19Z</dcterms:modified>
  <cp:revision>83</cp:revision>
  <dc:subject/>
  <dc:title>Международные экономические отношения</dc:title>
</cp:coreProperties>
</file>