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C344-CE43-4C28-9002-331BA2D9F1D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звития мирового хозя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ализация производства и капитала, которая проявляется в деятельности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ями неравномерност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развития мирового хозяй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лизация производства и капитала, которая проявляется в деятельности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ями неравномерност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глоб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компьютер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изация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сферы деятельности международных компаний: ТНК ( 1/3 мировой торговли)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глоб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компьютер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изация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сферы деятельности международных компаний: ТНК ( 1/3 мировой торговли)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глоб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масштаба: сокращение издержек, снижение цен, тенденция к устойчивому эк. ро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на взаимовыгодной основе, удовлетворяющей все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жизненных стандартов –общее повышение благосостояния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глоб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масштаба: сокращение издержек, снижение цен, тенденция к устойчивому эк. рос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на взаимовыгодной основе, удовлетворяющей все стор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жизненных стандартов –общее повышение благосостояния в ми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ое проявление глобал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 в экономически развиты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ое проявление глобализ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работица в экономически развиты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зм (лат.proctio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торговли – отсутствие каких-либо барьеров и ограничений в торгов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ционизм (лат.proctio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а торговли – отсутствие каких-либо барьеров и ограничений в торговл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стские меры 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е пошлины –величина государственных денежных сборов с товаров, пересекающих границу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ные квоты – установление квот на ввоз товаров в количественном или стоимостном выраж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арифные барьеры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ционистские меры вклю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оженные пошлины –величина государственных денежных сборов с товаров, пересекающих границу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ортные квоты – установление квот на ввоз товаров в количественном или стоимостном выраж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арифные барьеры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а протекционизма проявляется 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оборонны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и внутренней занятости ресурсов, стимулировании совокупного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ьза протекционизма проявляется 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оборонны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и внутренней занятости ресурсов, стимулировании совокупного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К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вне все фирмы как единой организации и крупной корпо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вне дочерних обществ за рубежом гибкость стратегии мал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«трансфертного» цено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К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ровне все фирмы как единой организации и крупной корпо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ровне дочерних обществ за рубежом гибкость стратегии мал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«трансфертного» цено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транснацион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ение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новых технолог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передов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ток капитала из-за руб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роя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рабочих м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 от налогообложения части прибыли ТН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язывание неперспективных направлений в системе М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экологически вредных произво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я ТНК на поглощения порождает неустойчивость инвестицион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транснацион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корение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новых технолог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передов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ток капитала из-за рубеж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роя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ря рабочих ме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ход от налогообложения части прибыли ТН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язывание неперспективных направлений в системе М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экологически вредных произво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ация ТНК на поглощения порождает неустойчивость инвестиционного проц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е хозяйство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е хозяйство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транснационализации затронул банковскую 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Б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пераций ТНБ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кредитной стратеги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транснационализации затронул банковскую сфе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Б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операций ТН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 кредитной стратеги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остигается с помощью валютных рын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– цена национальной денежной единицы, выраженная в денежной единицы другой стр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достигается с помощью валютных рын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урс – цена национальной денежной единицы, выраженная в денежной единицы другой стр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валютны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– золотой стандарт , существовал со времен возникновения МЭО до начала XX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ч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обращение валют отдельных стран в золото внутр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валютных курсов притоком и оттоком зол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твердого золотого содержания националь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алют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этап – золотой стандарт , существовал со времен возникновения МЭО до начала XX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чер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е обращение валют отдельных стран в золото внутр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ование валютных курсов притоком и оттоком зол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твердого золотого содержания националь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 –золото-долларовый стандарт, 1944 – 1976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фиксированных валютных курсов. Национальные валюты были привязаны к $ США через паритеты, утверждаемые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 –система плавающих валютных курсов, 1976 г. по настояще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устанавливается под воздействием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ающие валютные курсы облегчают процесс составления платежного балан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этап –золото-долларовый стандарт, 1944 – 1976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фиксированных валютных курсов. Национальные валюты были привязаны к $ США через паритеты, утверждаемые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этап –система плавающих валютных курсов, 1976 г. по настояще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устанавливается под воздействием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вающие валютные курсы облегчают процесс составления платежного балан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алютный кур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ого характера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ного характера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валютный кур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ого характера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ъюнктурного характера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оказателей участия страны в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оказателей участия страны в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платежн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текущих операций (торговый баланс) –отражает поступления и расходы по текущим внешнеторгов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вижения капитала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и платеж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текущих операций (торговый баланс) –отражает поступления и расходы по текущим внешнеторгов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движения капитала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государства –стремление обеспечить разумное по величине активное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– стимулирование экс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чрезмерное активное сальдо вредит экономике, т.к. из страны уходят капитальные актив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государства –стремление обеспечить разумное по величине активное саль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– стимулирование эк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, чрезмерное активное сальдо вредит экономике, т.к. из страны уходят капитальные актив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странения диспропорций платежного балан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интервенция –продажа правительством золота. Временная мера, т.к. существует лимит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внешнеэкономических операций –сокращение экспорта капитала, сокращение импорта товаров, повышение тариф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нутренней фискальной и монетарной политики- сдерживающая денежная политика, которая приводит к сокращению потребления им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алютного курса –установление нового равновесия валютного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странения диспропорций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интервенция –продажа правительством золота. Временная мера, т.к. существует лимит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внешнеэкономических операций –сокращение экспорта капитала, сокращение импорта товаров, повышение тариф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нутренней фискальной и монетарной политики- сдерживающая денежная политика, которая приводит к сокращению потребления им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алютного курса –установление нового равновесия валютного кур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существования МЭ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товарами и услу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и международный кред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рудовая миг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научно-техническое сотрудни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й из важнейших тенденций формирования и развития мирового хозяйства является рост процессов интерн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уществования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 и услу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и международный кред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рудовая миг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научно-техническое сотрудни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важнейших тенденций формирования и развития мирового хозяйства является рост процессов интерн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усиления интернационального факто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усиления интернационального фактор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торговля –важнейшая форма МЭ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участия стран в мировой торгов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эффективное использование имеющихся в стране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иобщения к мировым достижениям науки и техн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осуществления структурной перестройки национальной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полное и разнообразное удовлетворение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торговля –важнейшая форма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участия стран в мировой торгов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эффективное использование имеющихся в стране ресурс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приобщения к мировым достижениям науки и техн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осуществления структурной перестройки национальной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полное и разнообразное удовлетворение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международной торговли разработана А. Смитом и Д. Рикар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международной торговли разработана А. Смитом и Д. Рикар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сравнительных преимуществ Д. Рикар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вмененные (сравнительные) издер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сравнительных преимуществ Д. Рикар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вмененные (сравнительные) издерж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ормы М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–специализация по отраслям и сферам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–специализация на выпуске отдельных видов готовой продукции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ое –специализация на производстве отдельных уз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разделение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ормы МР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–специализация по отраслям и сферам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–специализация на выпуске отдельных видов готовой продукции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ое –специализация на производстве отдельных уз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преобразования М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еобразования М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75EE-0B60-4CB8-9593-5F510D6B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578-E90C-4D5F-A881-3F7EC0A6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FC3-22F5-4F57-B123-12A17129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DC07-40AD-45CB-B6FD-15ABF4B9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4789-AA88-45DD-B752-4E4A4563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C3E8-662A-4810-B898-83D860DD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81B2-D180-428C-AA61-AB7FFB43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58C4-B5E3-42CF-BFF5-22708797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7E81-9573-4E1D-886E-85CC0117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3456-7393-4C47-8024-D0C5CDE2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DA8D-F4E9-4D56-BD56-ED693C1B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768A-5071-4649-9DD6-32EBEF21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AE19-489F-4666-979E-A77FBCCA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11E1-D22B-42C7-B716-AE8A7C90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7585-3F68-4978-A54E-6F054002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459A-5D0B-4606-9305-BBD96050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ABCF-6E5D-4190-8C73-64196396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5C7-8F70-4178-96E1-27BAC35D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F61-9DF5-4EE1-8CA4-0A1A1018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5200-3F4D-4718-A032-8E7141FC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676D-DBFE-4999-8135-1B93CF6A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31AE-4E34-4C30-A466-4F5A1E83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257-BBC3-483E-8D74-6CD9CE34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174-9B0B-4B35-B90F-39943FA1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5F48-E6A9-41C9-8575-D38CDE04B13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FD64-A259-483E-941C-BD75EF79DA6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Международные экономические отношения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1790640"/>
            <a:ext cx="914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Понятие мирового хозяйства и формы МЭ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Глобализация мировой экономик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Протекционизм и свобода торговл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Особенность функционирования ТНК и ТНБ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 Понятие о платежном балансе и валютном курс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Закономерности развития мирового хозяйств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нализация производства и капитала, которая проявляется в деятельности ТНК и ТНБ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обализация мировой экономи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азателями неравномерности являют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2.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Глобализация мировой экономики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Источники глобал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е компьютерных технолог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берализация торгов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ширение сферы деятельности международных компаний: ТНК ( 1/3 мировой торговли) и ТН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Оценка глобализа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 масштаба: сокращение издержек, снижение цен, тенденция к устойчивому эк. рос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рговля на взаимовыгодной основе, удовлетворяющей все сторо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жизненных стандартов –общее повышение благосостояния в ми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Негативное проявление глобализации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зработица в экономически развитых стран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3. Протекционизм и свобода торговли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549360"/>
            <a:ext cx="8820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текциониз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лат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tio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вобода торговл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отсутствие каких-либо барьеров и ограничений в торговл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отекционистские меры включают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аможенные пошлин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величина государственных денежных сборов с товаров, пересекающих границу стра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мпортные квот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установление квот на ввоз товаров в количественном или стоимостном выражен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тарифные барьер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84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ольза протекционизма проявляется в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оборонных отраслей промышлен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и внутренней занятости ресурсов, стимулировании совокупного спро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4. Особенность функционирования ТНК и ТНБ</a:t>
            </a:r>
            <a:r>
              <a:rPr b="0" lang="ru-RU" sz="36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НК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вне все фирмы как единой организации и крупной корпор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вне дочерних обществ за рубежом гибкость стратегии малых фир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нение «трансфертного» ценообраз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Последствия транснационализации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корение развит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пространение новых технологи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пространение передового опы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ток капитала из-за рубеж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гативные прояв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 рабочих м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ход от налогообложения части прибыли ТН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вязывание неперспективных направлений в системе М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ие экологически вредных производст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иентация ТНК на поглощения порождает неустойчивость инвестиционного процес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1. Понятие мирового хозяйства и формы МЭО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ировое хозяй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ТНБ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 транснационализации затронул банковскую сфер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НБ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и операций ТНБ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версификация кредитной стратегии ТН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5. Понятие о платежном балансе и валютном курсе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достигается с помощью валютных рынк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цена национальной денежной единицы, выраженная в денежной единицы другой стра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История валютных систем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 этап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олотой стандарт 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уществовал со времен возникновения МЭО до начал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сновные черт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ободное обращение валют отдельных стран в золото внутри стра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ирование валютных курсов притоком и оттоком золо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ление твердого золотого содержания национальной валю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2 этап –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золото-долларовый стандарт, 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1944 – 1976 гг.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ановление фиксированных валютных курсов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ациональные валюты были привязаны к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ША через паритеты, утверждаемые МВФ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 этап –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 плавающих валютных курс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76 г. по настоящее врем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урс устанавливается под воздействием спроса и предлож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вающие валютные курсы облегчают процесс составления платежного баланса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Факторы, влияющие на валютный курс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руктурного характер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ъюнктурного характер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латежный баланс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показателей участия страны в МЭ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Статьи платежного баланс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аланс текущих операц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торговый баланс) –отражает поступления и расходы по текущим внешнеторговым операц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аланс движения капитал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51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89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ь государства –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обеспечить разумное по величине активное сальд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оды – стимулирование экспор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резмерное активное сальдо вредит экономике, т.к. из страны уходят капитальные актив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Методы устранения диспропорций платежного баланс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лютная интервенц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продажа правительством золота. Временная мера, т.к. существует лимит ресурс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граничение внешнеэкономических операц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сокращение экспорта капитала, сокращение импорта товаров, повышение тариф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ение внутренней фискальной и монетарно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итик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держивающая денежная политика, которая приводит к сокращению потребления импо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ение валютного курс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установление нового равновесия валютного курс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Формы существования МЭ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ая торговля товарами и услуг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воз капитала и международный кред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ые валютные отнош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ая трудовая мигра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ое научно-техническое сотрудничеств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й из важнейших тенденций формирования и развития мирового хозяйства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ост процессов интернализац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ичины усиления интернационального фактора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Мировая торговля –важнейшая форма МЭ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имущества участия стран в мировой торговл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ее эффективное использование имеющихся в стране ресурсов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приобщения к мировым достижениям науки и техн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осуществления структурной перестройки национальной эконом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ее полное и разнообразное удовлетворение потребностей насел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Теория международной торговли разработана А. Смитом и Д. Рикардо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Теория сравнительных преимуществ Д. Рикардо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мененные (сравнительные) издерж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Международное разделение труд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новные формы МР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ще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по отраслям и сферам эконом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на выпуске отдельных видов готовой продукции и услуг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динич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на производстве отдельных узлов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Особенности преобразования МРТ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2:08:39Z</dcterms:created>
  <dc:creator>Комп</dc:creator>
  <dc:description/>
  <dc:language>en-US</dc:language>
  <cp:lastModifiedBy>LEGION</cp:lastModifiedBy>
  <dcterms:modified xsi:type="dcterms:W3CDTF">2016-01-05T11:05:19Z</dcterms:modified>
  <cp:revision>83</cp:revision>
  <dc:subject/>
  <dc:title>Международные экономические отношения</dc:title>
</cp:coreProperties>
</file>