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8227D-9365-471B-A1D0-6D5B25F5A596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е экономические отнош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Понятие мирового хозяйства и формы МЭ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Глобализация мировой экономи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Протекционизм и свобода торгов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Особенность функционирования ТНК и ТНБ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Понятие о платежном балансе и валютном курс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народные экономические отнош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Понятие мирового хозяйства и формы МЭ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Глобализация мировой экономи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Протекционизм и свобода торговл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Особенность функционирования ТНК и ТНБ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 Понятие о платежном балансе и валютном курс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ономерности развития мирового хозяйств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равномерность экономического развития (существуют центры и периферия, неравномерное распределение богатства, дифференциация стран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тернализация производства и капитала, которая проявляется в деятельности ТНК и ТНБ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обализация мировой экономи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казателями неравномерности являютс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ВП и ВВП на душу населения; производительность труда; развитие отраслей; роль в мировой торговле; инвестиционный климат; расходы на НИОКР; уровень жизни населения; конкурентоспособность национальной экономики.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ономерности развития мирового хозяйств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равномерность экономического развития (существуют центры и периферия, неравномерное распределение богатства, дифференциация стран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тернализация производства и капитала, которая проявляется в деятельности ТНК и ТНБ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обализация мировой экономи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казателями неравномерности являютс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ВП и ВВП на душу населения; производительность труда; развитие отраслей; роль в мировой торговле; инвестиционный климат; расходы на НИОКР; уровень жизни населения; конкурентоспособность национальной экономики.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Глобализация мировой экономи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емительное формирование на базе современных (компьютерных) технологий единого общемирового финансово-экономического пространства. Это высшая стадия интегр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является в колоссальном увеличении масштабов мировой торговли и других процессов международного обмена в условиях открытой, не признающей мировых границ мировой экономик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ключает: товарные, валютные потоки, движение капитала, обмен технологиями, информацией, идеями, перемещение людей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Глобализация мировой экономи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емительное формирование на базе современных (компьютерных) технологий единого общемирового финансово-экономического пространства. Это высшая стадия интегр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является в колоссальном увеличении масштабов мировой торговли и других процессов международного обмена в условиях открытой, не признающей мировых границ мировой экономик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ключает: товарные, валютные потоки, движение капитала, обмен технологиями, информацией, идеями, перемещение людей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чники глобал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ование компьютерных технолог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берализация торгов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ширение сферы деятельности международных компаний: ТНК ( 1/3 мировой торговли) и ТНБ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стижение глобального единомыслия в оценке рыночной экономики и системы свободной торговл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обенности культурного развития. Тенденция к формированию «однородных» средств массовой информации, искусства, поп-культуры, английского языка в качестве всеобщего средства общ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чники глобализ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ользование компьютерных технолог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берализация торговл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ширение сферы деятельности международных компаний: ТНК ( 1/3 мировой торговли) и ТНБ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стижение глобального единомыслия в оценке рыночной экономики и системы свободной торговл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обенности культурного развития. Тенденция к формированию «однородных» средств массовой информации, искусства, поп-культуры, английского языка в качестве всеобщего средства общ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ценка глобал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иление международной конкуренции: углубление специализации, МРТ, рост производ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ффект масштаба: сокращение издержек, снижение цен, тенденция к устойчивому эк. рост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рговля на взаимовыгодной основе, удовлетворяющей все сторо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ционализация производства на глобальном уровне –рост производительности труда, распространение передовых технолог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вышение жизненных стандартов –общее повышение благосостояния в мир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глобализ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иление международной конкуренции: углубление специализации, МРТ, рост производ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ффект масштаба: сокращение издержек, снижение цен, тенденция к устойчивому эк. рост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рговля на взаимовыгодной основе, удовлетворяющей все сторон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ционализация производства на глобальном уровне –рост производительности труда, распространение передовых технолог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вышение жизненных стандартов –общее повышение благосостояния в мир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гативное проявление глобализаци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ую часть преимуществ от глобализации получают богатые страны или индивиды. Имеет место несправедливое распределение благ. Создается угроза возникновения конфликтов на региональном, национальном и интернациональном уровнях («Богатый Север» и «бедный Юг»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окальные эк. кризисы в одной стране могут иметь глобальные последствия (финансовый кризис 1997 г. Таиланд, Ю. Корея, страны ЮВА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зработица в экономически развитых стран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гативное проявление глобализаци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ую часть преимуществ от глобализации получают богатые страны или индивиды. Имеет место несправедливое распределение благ. Создается угроза возникновения конфликтов на региональном, национальном и интернациональном уровнях («Богатый Север» и «бедный Юг»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окальные эк. кризисы в одной стране могут иметь глобальные последствия (финансовый кризис 1997 г. Таиланд, Ю. Корея, страны ЮВА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езработица в экономически развитых страна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Протекционизм и свобода торгов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текционизм (лат.proctio –прикрытие)- экономическая политика государства, проявляющаяся в целенаправленном ограждении внутреннего рынка своей страны от проникновение на него иностранных товар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ча протекционизма –поощрение развития национальной экономики и ее защита от иностранной конкуренции путем установления высоких пошлин на ввозимые в страну товары или запрещения ввоза товар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обода торговли – отсутствие каких-либо барьеров и ограничений в торговл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Протекционизм и свобода торговл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текционизм (лат.proctio –прикрытие)- экономическая политика государства, проявляющаяся в целенаправленном ограждении внутреннего рынка своей страны от проникновение на него иностранных товар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дача протекционизма –поощрение развития национальной экономики и ее защита от иностранной конкуренции путем установления высоких пошлин на ввозимые в страну товары или запрещения ввоза товар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вобода торговли – отсутствие каких-либо барьеров и ограничений в торговл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текционистские меры включаю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моженные пошлины –величина государственных денежных сборов с товаров, пересекающих границу стра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мпортные квоты – установление квот на ввоз товаров в количественном или стоимостном выражен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тарифные барьеры – совокупность экономических и административных мер, выходящих за пределы таможенно-тарифных ограничений (технические, экологические и санитарные стандарты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текционистские меры включают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моженные пошлины –величина государственных денежных сборов с товаров, пересекающих границу стран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мпортные квоты – установление квот на ввоз товаров в количественном или стоимостном выражен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тарифные барьеры – совокупность экономических и административных мер, выходящих за пределы таможенно-тарифных ограничений (технические, экологические и санитарные стандарты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ьза протекционизма проявляется 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щите оборонных отраслей промышлен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величении внутренней занятости ресурсов, стимулировании совокупного спрос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щите новых «молодых» отраслей национальной экономики, порожденных НТП, от конкуренции более зрелых и эффективных иностранных фир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щите отечественных производителей от демпинга –сбыта импортной продукции по ценам, которые ниже внутренних рыночных цен в стране-изготовител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ьза протекционизма проявляется в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щите оборонных отраслей промышлен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величении внутренней занятости ресурсов, стимулировании совокупного спрос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щите новых «молодых» отраслей национальной экономики, порожденных НТП, от конкуренции более зрелых и эффективных иностранных фир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щите отечественных производителей от демпинга –сбыта импортной продукции по ценам, которые ниже внутренних рыночных цен в стране-изготовител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Особенность функционирования ТНК и ТНБ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НК – фирмы, ведущие производственную деятельность в нескольких странах, особенностью которых является их относительная независимость от национальной экономик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курентные преимущества ТНК основываются на способности использовать два типа стратегий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уровне все фирмы как единой организации и крупной корпорац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уровне дочерних обществ за рубежом гибкость стратегии малых фир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нение «трансфертного» ценообразов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Особенность функционирования ТНК и ТНБ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НК – фирмы, ведущие производственную деятельность в нескольких странах, особенностью которых является их относительная независимость от национальной экономик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курентные преимущества ТНК основываются на способности использовать два типа стратегий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уровне все фирмы как единой организации и крупной корпораци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уровне дочерних обществ за рубежом гибкость стратегии малых фир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менение «трансфертного» ценообразова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ледствия транснационал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корение развит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пространение новых технологий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пространение передового опы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ток капитала из-за рубеж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гативные проявле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теря рабочих мес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ход от налогообложения части прибыли ТН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вязывание неперспективных направлений в системе МР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витие экологически вредных производст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итика дезинвестиций ТНК в случае кризисов (закрытие предприятий, сокращение производства, рост безработицы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иентация ТНК на поглощения порождает неустойчивость инвестиционного процесс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ледствия транснационализ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корение развит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пространение новых технологий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пространение передового опы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ток капитала из-за рубеж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гативные проявлени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теря рабочих мес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ход от налогообложения части прибыли ТН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вязывание неперспективных направлений в системе МР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итие экологически вредных производст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итика дезинвестиций ТНК в случае кризисов (закрытие предприятий, сокращение производства, рост безработицы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иентация ТНК на поглощения порождает неустойчивость инвестиционного процесс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Понятие мирового хозяйства и формы МЭ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циональное хозяйство любой страны является составной и неотъемлемой частью мировой экономик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ирование мирового хозяйства происходило на базе национальных хозяйств и экономических связей между ни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овое хозяйство – многоуровневая глобальная экономика, связывающая национальные хозяйства в единую систему с помощью обмена экономической деятельностью (международного разделения труда)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Понятие мирового хозяйства и формы МЭ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циональное хозяйство любой страны является составной и неотъемлемой частью мировой экономик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ирование мирового хозяйства происходило на базе национальных хозяйств и экономических связей между ни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ое хозяйство – многоуровневая глобальная экономика, связывающая национальные хозяйства в единую систему с помощью обмена экономической деятельностью (международного разделения труда)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НБ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сс транснационализации затронул банковскую сфер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НБ – банк, имеющий широкую зарубежную сеть и активно участвующий в международных операциях (в финансировании международной торговли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обенности операций ТНБ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трализация управления операциями банка по причине изменения объема депозитов, выраженных в различных валют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версификация кредитной стратегии ТНБ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НБ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цесс транснационализации затронул банковскую сфер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НБ – банк, имеющий широкую зарубежную сеть и активно участвующий в международных операциях (в финансировании международной торговли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обенности операций ТНБ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трализация управления операциями банка по причине изменения объема депозитов, выраженных в различных валюта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версификация кредитной стратегии ТНБ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Понятие о платежном балансе и валютном курс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заимные операции стран на внешнем рынке предполагают приведение в определенное соответствие их национальных валю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достигается с помощью валютных рынк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й курс – цена национальной денежной единицы, выраженная в денежной единицы другой стран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 Понятие о платежном балансе и валютном курс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заимные операции стран на внешнем рынке предполагают приведение в определенное соответствие их национальных валют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 достигается с помощью валютных рынко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лютный курс – цена национальной денежной единицы, выраженная в денежной единицы другой страны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рия валютных сист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 этап – золотой стандарт , существовал со времен возникновения МЭО до начала XX ве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черт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ободное обращение валют отдельных стран в золото внутри стра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гулирование валютных курсов притоком и оттоком золо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тановление твердого золотого содержания национальной валю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чины отказа от золотого стандарта: добыча золота не поспевала за быстрым развитием международной торговли, «Великая депрессия», вторая мировая война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рия валютных сист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 этап – золотой стандарт , существовал со времен возникновения МЭО до начала XX ве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черт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вободное обращение валют отдельных стран в золото внутри стран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гулирование валютных курсов притоком и оттоком золо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ановление твердого золотого содержания национальной валют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чины отказа от золотого стандарта: добыча золота не поспевала за быстрым развитием международной торговли, «Великая депрессия», вторая мировая война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 этап –золото-долларовый стандарт, 1944 – 1976 гг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тановление фиксированных валютных курсов. Национальные валюты были привязаны к $ США через паритеты, утверждаемые МВФ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 этап –система плавающих валютных курсов, 1976 г. по настоящее врем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урс устанавливается под воздействием спроса и предлож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вающие валютные курсы облегчают процесс составления платежного баланс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 этап –золото-долларовый стандарт, 1944 – 1976 гг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ановление фиксированных валютных курсов. Национальные валюты были привязаны к $ США через паритеты, утверждаемые МВФ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 этап –система плавающих валютных курсов, 1976 г. по настоящее врем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урс устанавливается под воздействием спроса и предлож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лавающие валютные курсы облегчают процесс составления платежного баланс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оры, влияющие на валютный курс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уктурного характера, отражающие состояние экономики данной страны: показатели экономического роста, состояние платежного баланса, степень зависимости от внешних источников сырья, уровень инфляции, уровень процентной ставки, доверие к национальной валюте на мировом рынк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ъюнктурного характера, изменяющиеся под влиянием тенденций развития на мировом рынке. Особенность- ведут к спекулятивным операциям на валютных рынк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кторы, влияющие на валютный курс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уктурного характера, отражающие состояние экономики данной страны: показатели экономического роста, состояние платежного баланса, степень зависимости от внешних источников сырья, уровень инфляции, уровень процентной ставки, доверие к национальной валюте на мировом рынк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ъюнктурного характера, изменяющиеся под влиянием тенденций развития на мировом рынке. Особенность- ведут к спекулятивным операциям на валютных рынка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тежный балан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сводный баланс сделок, заключенных в течение года между отдельными лицами, фирмами и правительственными ведомствами одной страны с теми же представителями других стран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а показателей участия страны в МЭ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рактеризует соотношение между валютными поступлениями в страну и платежами, которые данное государство осуществляет за границей в течение определенного периода времен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латежный балан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 сводный баланс сделок, заключенных в течение года между отдельными лицами, фирмами и правительственными ведомствами одной страны с теми же представителями других стран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 показателей участия страны в МЭ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арактеризует соотношение между валютными поступлениями в страну и платежами, которые данное государство осуществляет за границей в течение определенного периода времен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тьи платежного балан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ланс текущих операций (торговый баланс) –отражает поступления и расходы по текущим внешнеторговым операция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ланс движения капитала – отражает куплю-продажу активов, т.е. соотношение экспорта и импорта государственного и частного капитала: прямых и портфельных инвестиций, международных кредитов, официальных резервов ЦБ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обенность –любая сделка отражается дважды: дебет- приток стоимостей в страну; кредит –отток стоимостей из стра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атьи платежного балан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аланс текущих операций (торговый баланс) –отражает поступления и расходы по текущим внешнеторговым операция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аланс движения капитала – отражает куплю-продажу активов, т.е. соотношение экспорта и импорта государственного и частного капитала: прямых и портфельных инвестиций, международных кредитов, официальных резервов ЦБ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обенность –любая сделка отражается дважды: дебет- приток стоимостей в страну; кредит –отток стоимостей из стран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положительном сальдо имеет место активный платежный баланс. Следовательно, страна имеет требования к другим страна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отрицательном сальдо имеет место дефицит платежного баланса. Он охватывает сумму требований других стран к данной стран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ь государства –стремление обеспечить разумное по величине активное сальд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– стимулирование экспор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, чрезмерное активное сальдо вредит экономике, т.к. из страны уходят капитальные актив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 положительном сальдо имеет место активный платежный баланс. Следовательно, страна имеет требования к другим страна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 отрицательном сальдо имеет место дефицит платежного баланса. Он охватывает сумму требований других стран к данной стран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ь государства –стремление обеспечить разумное по величине активное сальд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ы – стимулирование экспор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, чрезмерное активное сальдо вредит экономике, т.к. из страны уходят капитальные активы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устранения диспропорций платежного баланс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ая интервенция –продажа правительством золота. Временная мера, т.к. существует лимит ресурс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граничение внешнеэкономических операций –сокращение экспорта капитала, сокращение импорта товаров, повышение тариф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менение внутренней фискальной и монетарной политики- сдерживающая денежная политика, которая приводит к сокращению потребления импор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менение валютного курса –установление нового равновесия валютного курс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ы устранения диспропорций платежного баланс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лютная интервенция –продажа правительством золота. Временная мера, т.к. существует лимит ресурс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граничение внешнеэкономических операций –сокращение экспорта капитала, сокращение импорта товаров, повышение тариф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менение внутренней фискальной и монетарной политики- сдерживающая денежная политика, которая приводит к сокращению потребления импор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менение валютного курса –установление нового равновесия валютного курс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ы существования МЭ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ая торговля товарами и услуг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воз капитала и международный креди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е валютные отнош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ая трудовая миграц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ое научно-техническое сотрудничеств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ной из важнейших тенденций формирования и развития мирового хозяйства является рост процессов интернализац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ы существования МЭ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народная торговля товарами и услуг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воз капитала и международный креди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народные валютные отнош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народная трудовая миграц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народное научно-техническое сотрудничеств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дной из важнейших тенденций формирования и развития мирового хозяйства является рост процессов интернализац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чины усиления интернационального фактора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ход воспроизводственного процесса за национальные границы, расширение емкости рын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граниченность ресурсов отдельных стран для самостоятельного проведения фундаментальных и прикладных исследований в условиях НТ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обходимость включения всех факторов производства национальных государств в процесс международного разделения тру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тущий обмен полуфабрикатами, узлами и деталями в рамках международной специализации и кооперации производ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чины усиления интернационального фактора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ход воспроизводственного процесса за национальные границы, расширение емкости рын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граниченность ресурсов отдельных стран для самостоятельного проведения фундаментальных и прикладных исследований в условиях НТ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обходимость включения всех факторов производства национальных государств в процесс международного разделения труд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тущий обмен полуфабрикатами, узлами и деталями в рамках международной специализации и кооперации производ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овая торговля –важнейшая форма МЭ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имущества участия стран в мировой торговл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ее эффективное использование имеющихся в стране ресурс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можность приобщения к мировым достижениям науки и техник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можность осуществления структурной перестройки национальной экономик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ее полное и разнообразное удовлетворение потребностей насе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торговля –важнейшая форма МЭ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имущества участия стран в мировой торговле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лее эффективное использование имеющихся в стране ресурсо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зможность приобщения к мировым достижениям науки и техник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зможность осуществления структурной перестройки национальной экономик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лее полное и разнообразное удовлетворение потребностей насе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ория международной торговли разработана А. Смитом и Д. Рикард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. Смит «Исследование о природе и причинах богатства народов» (1776): основой развития международной торговли служит различие в абсолютных издержка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Необходимо импортировать товары из той страны, где издержки абсолютно меньше, а экспортировать те товары, издержки которых ниже у экспортеров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згляды А. Смита получили развитие в работе Д. Рикардо: «Начала политической экономии и налогового обложения» (1817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ория международной торговли разработана А. Смитом и Д. Рикард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. Смит «Исследование о природе и причинах богатства народов» (1776): основой развития международной торговли служит различие в абсолютных издержках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Необходимо импортировать товары из той страны, где издержки абсолютно меньше, а экспортировать те товары, издержки которых ниже у экспортеров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згляды А. Смита получили развитие в работе Д. Рикардо: «Начала политической экономии и налогового обложения» (181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ория сравнительных преимуществ Д. Рикард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окупный объем выпускаемой продукции будет максимальным лишь в том случае, если каждый товар будет производиться той страной, у которой ниже вмененные (сравнительные) издерж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обходимым условием существования международной торговли является специализация стран на производстве таких товаров, по которым она имеет сравнительно более низкие затраты труда и капита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полной свободе торговли принцип сравнительных издержек действует автоматически и сам по себе приводит к оптимальной специализац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основе существования мировой торговли находится международное разделение труда (МРТ)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ория сравнительных преимуществ Д. Рикард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окупный объем выпускаемой продукции будет максимальным лишь в том случае, если каждый товар будет производиться той страной, у которой ниже вмененные (сравнительные) издерж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обходимым условием существования международной торговли является специализация стран на производстве таких товаров, по которым она имеет сравнительно более низкие затраты труда и капитал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 полной свободе торговли принцип сравнительных издержек действует автоматически и сам по себе приводит к оптимальной специализац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основе существования мировой торговли находится международное разделение труда (МРТ)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ое разделение тру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ециализация отдельных стран на производстве определенных видов благ, которыми эти страны обмениваются между собо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формы МР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ее –специализация по отраслям и сферам экономик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астное –специализация на выпуске отдельных видов готовой продукции и услуг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диничное –специализация на производстве отдельных узл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народное разделение тру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ециализация отдельных стран на производстве определенных видов благ, которыми эти страны обмениваются между собо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формы МРТ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щее –специализация по отраслям и сферам экономик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астное –специализация на выпуске отдельных видов готовой продукции и услуг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диничное –специализация на производстве отдельных узло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обенности преобразования МР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рая двухступенчатая модель утратила свое существование, когда выделялись две группы стран: индустриальные и аграрно-сырьевы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1990-м годам завершилось формирование трехступенчатой модели МРТ: промышленно развитые страны, развивающиеся страны (поставщики минерального сырья), группа стран, получившая сборочные, материало-   и трудоемкие  производства и экологически грязные технолог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обенности преобразования МР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арая двухступенчатая модель утратила свое существование, когда выделялись две группы стран: индустриальные и аграрно-сырьевы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 1990-м годам завершилось формирование трехступенчатой модели МРТ: промышленно развитые страны, развивающиеся страны (поставщики минерального сырья), группа стран, получившая сборочные, материало-   и трудоемкие  производства и экологически грязные технолог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A169F-FFA1-4F32-BD4A-F5F66FEE5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2D3B8-E37B-485A-AD0F-D1AF70C71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E340B-705E-4DFD-B30D-DE1F9E11D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42035-BAEA-4171-8CE0-0AE0A3715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4BAFA-585D-48C5-9213-B6B9B6E93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769C8-1DBB-4452-A31F-08871067E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40361-BDBB-41A5-8571-7657132FB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B89D8-9640-4A6C-8006-517310C32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DF2E0-EFC7-4998-B618-8AF988716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1D3F3-B0FC-47B1-9739-726F091A8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800CB-DDAE-4486-A571-4EAEDDDB1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78630-0F81-4DA1-B118-7FE23486B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D9756-5450-4DCF-AD62-44404A091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B7CC3-0AEB-418C-996A-DD61C431A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750CB-604B-4EDD-BAC8-F3E20192A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CC4F3-0095-457E-B717-118EC3108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9D537-6E1D-4679-B5B8-BC63F81B8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9AC1C-2294-40A1-9AE0-4F509C359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13BE2-7611-44C6-93DF-DD961CCF0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ACAA4-68C2-4065-9973-3DCE7CE59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8BC79-9FA4-4104-9053-7CEC0A8BC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18784-1477-4A98-8863-DD5A702E6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BEC4A-7F29-41C5-9F5C-9E04D4932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2BAB6-2820-4C8F-A395-6D53D2317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DFB83-2607-4872-B79C-45521EC70C1D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7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46" name="Rectangle 8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9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10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8FC75-5EE1-47E1-94B1-9B5A15BDB8F8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720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200" spc="-1" strike="noStrike">
                <a:solidFill>
                  <a:srgbClr val="999900"/>
                </a:solidFill>
                <a:latin typeface="Garamond"/>
              </a:rPr>
              <a:t>Международные экономические отношения</a:t>
            </a:r>
            <a:endParaRPr b="0" lang="en-US" sz="5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0" y="1790640"/>
            <a:ext cx="91440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1.Понятие мирового хозяйства и формы МЭО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2. Глобализация мировой экономики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3. Протекционизм и свобода торговли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4. Особенность функционирования ТНК и ТНБ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5. Понятие о платежном балансе и валютном курсе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8893080" cy="115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9900"/>
                </a:solidFill>
                <a:latin typeface="Garamond"/>
              </a:rPr>
              <a:t>Закономерности развития мирового хозяйства: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50560" y="1483920"/>
            <a:ext cx="889308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еравномерность экономического развития (существуют центры и периферия, неравномерное распределение богатства, дифференциация стран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нтернализация производства и капитала, которая проявляется в деятельности ТНК и ТНБ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Глобализация мировой экономик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казателями неравномерности являются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ВП и ВВП на душу населения; производительность труда; развитие отраслей; роль в мировой торговле; инвестиционный климат; расходы на НИОКР; уровень жизни населения; конкурентоспособность национальной экономики.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9900"/>
                </a:solidFill>
                <a:latin typeface="Garamond"/>
              </a:rPr>
              <a:t>2. </a:t>
            </a:r>
            <a:r>
              <a:rPr b="1" lang="ru-RU" sz="4000" spc="-1" strike="noStrike">
                <a:solidFill>
                  <a:srgbClr val="999900"/>
                </a:solidFill>
                <a:latin typeface="Garamond"/>
              </a:rPr>
              <a:t>Глобализация мировой экономики</a:t>
            </a:r>
            <a:r>
              <a:rPr b="0" lang="ru-RU" sz="4000" spc="-1" strike="noStrike">
                <a:solidFill>
                  <a:srgbClr val="999900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8930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тремительное формирование на базе современных (компьютерных) технологий единого общемирового финансово-экономического пространства. Это высшая стадия интеграции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является в колоссальном увеличении масштабов мировой торговли и других процессов международного обмена в условиях открытой, не признающей мировых границ мировой экономики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ключает: товарные, валютные потоки, движение капитала, обмен технологиями, информацией, идеями, перемещение людей.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9900"/>
                </a:solidFill>
                <a:latin typeface="Garamond"/>
              </a:rPr>
              <a:t>Источники глобализации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50560" y="836640"/>
            <a:ext cx="889308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спользование компьютерных технологий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Либерализация торговли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сширение сферы деятельности международных компаний: ТНК ( 1/3 мировой торговли) и ТНБ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остижение глобального единомыслия в оценке рыночной экономики и системы свободной торговли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собенности культурного развития. Тенденция к формированию «однородных» средств массовой информации, искусства, поп-культуры, английского языка в качестве всеобщего средства общения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9900"/>
                </a:solidFill>
                <a:latin typeface="Garamond"/>
              </a:rPr>
              <a:t>Оценка глобализации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50560" y="980640"/>
            <a:ext cx="889308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силение международной конкуренции: углубление специализации, МРТ, рост производств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Эффект масштаба: сокращение издержек, снижение цен, тенденция к устойчивому эк. росту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орговля на взаимовыгодной основе, удовлетворяющей все стороны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ционализация производства на глобальном уровне –рост производительности труда, распространение передовых технологий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вышение жизненных стандартов –общее повышение благосостояния в мире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8893080" cy="692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9900"/>
                </a:solidFill>
                <a:latin typeface="Garamond"/>
              </a:rPr>
              <a:t>Негативное проявление глобализации: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50560" y="620280"/>
            <a:ext cx="889308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сновную часть преимуществ от глобализации получают богатые страны или индивиды. Имеет место несправедливое распределение благ. Создается угроза возникновения конфликтов на региональном, национальном и интернациональном уровнях («Богатый Север» и «бедный Юг»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Локальные эк. кризисы в одной стране могут иметь глобальные последствия (финансовый кризис 1997 г. Таиланд, Ю. Корея, страны ЮВА)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Безработица в экономически развитых странах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8893080" cy="692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9900"/>
                </a:solidFill>
                <a:latin typeface="Garamond"/>
              </a:rPr>
              <a:t>3. Протекционизм и свобода торговли.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24000" y="549360"/>
            <a:ext cx="8820000" cy="630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Протекционизм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(лат.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ctio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–прикрытие)- экономическая политика государства, проявляющаяся в целенаправленном ограждении внутреннего рынка своей страны от проникновение на него иностранных товаров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адача протекционизма –поощрение развития национальной экономики и ее защита от иностранной конкуренции путем установления высоких пошлин на ввозимые в страну товары или запрещения ввоза товаров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Свобода торговли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– отсутствие каких-либо барьеров и ограничений в торговле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9900"/>
                </a:solidFill>
                <a:latin typeface="Garamond"/>
              </a:rPr>
              <a:t>Протекционистские меры включают: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89308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Таможенные пошлины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–величина государственных денежных сборов с товаров, пересекающих границу страны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Импортные квоты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– установление квот на ввоз товаров в количественном или стоимостном выражении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Нетарифные барьеры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– совокупность экономических и административных мер, выходящих за пределы таможенно-тарифных ограничений (технические, экологические и санитарные стандарты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50560" y="277920"/>
            <a:ext cx="8893080" cy="847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9900"/>
                </a:solidFill>
                <a:latin typeface="Garamond"/>
              </a:rPr>
              <a:t>Польза протекционизма проявляется в: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8930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ащите оборонных отраслей промышленности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величении внутренней занятости ресурсов, стимулировании совокупного спрос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ащите новых «молодых» отраслей национальной экономики, порожденных НТП, от конкуренции более зрелых и эффективных иностранных фирм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ащите отечественных производителей от демпинга –сбыта импортной продукции по ценам, которые ниже внутренних рыночных цен в стране-изготовителе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620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9900"/>
                </a:solidFill>
                <a:latin typeface="Garamond"/>
              </a:rPr>
              <a:t>4. Особенность функционирования ТНК и ТНБ</a:t>
            </a:r>
            <a:r>
              <a:rPr b="0" lang="ru-RU" sz="3600" spc="-1" strike="noStrike">
                <a:solidFill>
                  <a:srgbClr val="999900"/>
                </a:solidFill>
                <a:latin typeface="Garamond"/>
              </a:rPr>
              <a:t>.</a:t>
            </a: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50560" y="620640"/>
            <a:ext cx="889308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ТНК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– фирмы, ведущие производственную деятельность в нескольких странах, особенностью которых является их относительная независимость от национальной экономики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онкурентные преимущества ТНК основываются на способности использовать два типа стратегий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 уровне все фирмы как единой организации и крупной корпорации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 уровне дочерних обществ за рубежом гибкость стратегии малых фирм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именение «трансфертного» ценообразования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9900"/>
                </a:solidFill>
                <a:latin typeface="Garamond"/>
              </a:rPr>
              <a:t>Последствия транснационализации</a:t>
            </a: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50560" y="620640"/>
            <a:ext cx="889308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скорение развития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спространение новых технологий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спространение передового опыт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иток капитала из-за рубеж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Негативные проявления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теря рабочих мест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ход от налогообложения части прибыли ТНК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вязывание неперспективных направлений в системе МРТ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звитие экологически вредных производств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литика дезинвестиций ТНК в случае кризисов (закрытие предприятий, сокращение производства, рост безработицы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риентация ТНК на поглощения порождает неустойчивость инвестиционного процесс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417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9900"/>
                </a:solidFill>
                <a:latin typeface="Garamond"/>
              </a:rPr>
              <a:t>1. Понятие мирового хозяйства и формы МЭО.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24000" y="1599840"/>
            <a:ext cx="8820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циональное хозяйство любой страны является составной и неотъемлемой частью мировой экономики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Формирование мирового хозяйства происходило на базе национальных хозяйств и экономических связей между ними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Мировое хозяйство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– многоуровневая глобальная экономика, связывающая национальные хозяйства в единую систему с помощью обмена экономической деятельностью (международного разделения труда).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9900"/>
                </a:solidFill>
                <a:latin typeface="Garamond"/>
              </a:rPr>
              <a:t>ТНБ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50560" y="549360"/>
            <a:ext cx="8893080" cy="630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цесс транснационализации затронул банковскую сферу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ТНБ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– банк, имеющий широкую зарубежную сеть и активно участвующий в международных операциях (в финансировании международной торговли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собенности операций ТНБ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Централизация управления операциями банка по причине изменения объема депозитов, выраженных в различных валютах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иверсификация кредитной стратегии ТНБ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417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9900"/>
                </a:solidFill>
                <a:latin typeface="Garamond"/>
              </a:rPr>
              <a:t>5. Понятие о платежном балансе и валютном курсе.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89308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заимные операции стран на внешнем рынке предполагают приведение в определенное соответствие их национальных валют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Это достигается с помощью валютных рынков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Валютный курс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– цена национальной денежной единицы, выраженная в денежной единицы другой страны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9900"/>
                </a:solidFill>
                <a:latin typeface="Garamond"/>
              </a:rPr>
              <a:t>История валютных систем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50560" y="620640"/>
            <a:ext cx="889308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1 этап –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золотой стандарт ,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уществовал со времен возникновения МЭО до начала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X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век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Основные черты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вободное обращение валют отдельных стран в золото внутри страны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егулирование валютных курсов притоком и оттоком золот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становление твердого золотого содержания национальной валюты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ичины отказа от золотого стандарта: добыча золота не поспевала за быстрым развитием международной торговли, «Великая депрессия», вторая мировая война.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88930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9900"/>
                </a:solidFill>
                <a:latin typeface="Garamond"/>
              </a:rPr>
              <a:t>2 этап –</a:t>
            </a:r>
            <a:r>
              <a:rPr b="1" lang="ru-RU" sz="4000" spc="-1" strike="noStrike">
                <a:solidFill>
                  <a:srgbClr val="999900"/>
                </a:solidFill>
                <a:latin typeface="Garamond"/>
              </a:rPr>
              <a:t>золото-долларовый стандарт, </a:t>
            </a:r>
            <a:r>
              <a:rPr b="0" lang="ru-RU" sz="4000" spc="-1" strike="noStrike">
                <a:solidFill>
                  <a:srgbClr val="999900"/>
                </a:solidFill>
                <a:latin typeface="Garamond"/>
              </a:rPr>
              <a:t>1944 – 1976 гг. 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50560" y="1483920"/>
            <a:ext cx="889308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Установление фиксированных валютных курсов.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Национальные валюты были привязаны к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$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США через паритеты, утверждаемые МВФ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3 этап –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система плавающих валютных курсов,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1976 г. по настоящее время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урс устанавливается под воздействием спроса и предложения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лавающие валютные курсы облегчают процесс составления платежного баланса.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9900"/>
                </a:solidFill>
                <a:latin typeface="Garamond"/>
              </a:rPr>
              <a:t>Факторы, влияющие на валютный курс: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8930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Структурного характера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, отражающие состояние экономики данной страны: показатели экономического роста, состояние платежного баланса, степень зависимости от внешних источников сырья, уровень инфляции, уровень процентной ставки, доверие к национальной валюте на мировом рынке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Конъюнктурного характера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, изменяющиеся под влиянием тенденций развития на мировом рынке. Особенность- ведут к спекулятивным операциям на валютных рынках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9900"/>
                </a:solidFill>
                <a:latin typeface="Garamond"/>
              </a:rPr>
              <a:t>Платежный баланс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50560" y="907920"/>
            <a:ext cx="889308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Это сводный баланс сделок, заключенных в течение года между отдельными лицами, фирмами и правительственными ведомствами одной страны с теми же представителями других стран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истема показателей участия страны в МЭО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Характеризует соотношение между валютными поступлениями в страну и платежами, которые данное государство осуществляет за границей в течение определенного периода времени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9900"/>
                </a:solidFill>
                <a:latin typeface="Garamond"/>
              </a:rPr>
              <a:t>Статьи платежного баланса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24000" y="620640"/>
            <a:ext cx="882000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Баланс текущих операций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(торговый баланс) –отражает поступления и расходы по текущим внешнеторговым операциям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Баланс движения капитала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– отражает куплю-продажу активов, т.е. соотношение экспорта и импорта государственного и частного капитала: прямых и портфельных инвестиций, международных кредитов, официальных резервов ЦБ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собенность –любая сделка отражается дважды: дебет- приток стоимостей в страну; кредит –отток стоимостей из страны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-5148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50560" y="189000"/>
            <a:ext cx="889308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и положительном сальдо имеет место активный платежный баланс. Следовательно, страна имеет требования к другим странам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и отрицательном сальдо имеет место дефицит платежного баланса. Он охватывает сумму требований других стран к данной стране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Цель государства –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тремление обеспечить разумное по величине активное сальдо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Методы – стимулирование экспорт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НО,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чрезмерное активное сальдо вредит экономике, т.к. из страны уходят капитальные активы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9900"/>
                </a:solidFill>
                <a:latin typeface="Garamond"/>
              </a:rPr>
              <a:t>Методы устранения диспропорций платежного баланса: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24000" y="1599840"/>
            <a:ext cx="8820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алютная интервенция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–продажа правительством золота. Временная мера, т.к. существует лимит ресурсов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Ограничение внешнеэкономических операций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–сокращение экспорта капитала, сокращение импорта товаров, повышение тарифов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Изменение внутренней фискальной и монетарной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олитики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- сдерживающая денежная политика, которая приводит к сокращению потребления импорт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Изменение валютного курса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–установление нового равновесия валютного курса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9900"/>
                </a:solidFill>
                <a:latin typeface="Garamond"/>
              </a:rPr>
              <a:t>Формы существования МЭО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8930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Международная торговля товарами и услугами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ывоз капитала и международный кредит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Международные валютные отношения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Международная трудовая миграция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Международное научно-техническое сотрудничество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дной из важнейших тенденций формирования и развития мирового хозяйства является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рост процессов интернализации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9900"/>
                </a:solidFill>
                <a:latin typeface="Garamond"/>
              </a:rPr>
              <a:t>Причины усиления интернационального фактора: 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24000" y="1341360"/>
            <a:ext cx="88200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ыход воспроизводственного процесса за национальные границы, расширение емкости рынк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граниченность ресурсов отдельных стран для самостоятельного проведения фундаментальных и прикладных исследований в условиях НТР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еобходимость включения всех факторов производства национальных государств в процесс международного разделения труд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стущий обмен полуфабрикатами, узлами и деталями в рамках международной специализации и кооперации производств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9900"/>
                </a:solidFill>
                <a:latin typeface="Garamond"/>
              </a:rPr>
              <a:t>Мировая торговля –важнейшая форма МЭО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24000" y="1599840"/>
            <a:ext cx="8820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еимущества участия стран в мировой торговле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Более эффективное использование имеющихся в стране ресурсов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озможность приобщения к мировым достижениям науки и техники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озможность осуществления структурной перестройки национальной экономики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Более полное и разнообразное удовлетворение потребностей населения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9900"/>
                </a:solidFill>
                <a:latin typeface="Garamond"/>
              </a:rPr>
              <a:t>Теория международной торговли разработана А. Смитом и Д. Рикардо.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89308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А. Смит «Исследование о природе и причинах богатства народов» (1776): основой развития международной торговли служит различие в абсолютных издержках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«Необходимо импортировать товары из той страны, где издержки абсолютно меньше, а экспортировать те товары, издержки которых ниже у экспортеров»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згляды А. Смита получили развитие в работе Д. Рикардо: «Начала политической экономии и налогового обложения» (1817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9900"/>
                </a:solidFill>
                <a:latin typeface="Garamond"/>
              </a:rPr>
              <a:t>Теория сравнительных преимуществ Д. Рикардо</a:t>
            </a: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889308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овокупный объем выпускаемой продукции будет максимальным лишь в том случае, если каждый товар будет производиться той страной, у которой ниже </a:t>
            </a: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вмененные (сравнительные) издержк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еобходимым условием существования международной торговли является специализация стран на производстве таких товаров, по которым она имеет сравнительно более низкие затраты труда и капитал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и полной свободе торговли принцип сравнительных издержек действует автоматически и сам по себе приводит к оптимальной специализации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 основе существования мировой торговли находится международное разделение труда (МРТ).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50560" y="277920"/>
            <a:ext cx="889308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9900"/>
                </a:solidFill>
                <a:latin typeface="Garamond"/>
              </a:rPr>
              <a:t>Международное разделение труда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8930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пециализация отдельных стран на производстве определенных видов благ, которыми эти страны обмениваются между собой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Основные формы МРТ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Общее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–специализация по отраслям и сферам экономики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Частное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–специализация на выпуске отдельных видов готовой продукции и услуг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Единичное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–специализация на производстве отдельных узлов.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9900"/>
                </a:solidFill>
                <a:latin typeface="Garamond"/>
              </a:rPr>
              <a:t>Особенности преобразования МРТ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8930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тарая двухступенчатая модель утратила свое существование, когда выделялись две группы стран: индустриальные и аграрно-сырьевые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 1990-м годам завершилось формирование трехступенчатой модели МРТ: промышленно развитые страны, развивающиеся страны (поставщики минерального сырья), группа стран, получившая сборочные, материало-   и трудоемкие  производства и экологически грязные технологии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01T12:08:39Z</dcterms:created>
  <dc:creator>Комп</dc:creator>
  <dc:description/>
  <dc:language>en-US</dc:language>
  <cp:lastModifiedBy>LEGION</cp:lastModifiedBy>
  <dcterms:modified xsi:type="dcterms:W3CDTF">2016-01-05T11:05:19Z</dcterms:modified>
  <cp:revision>83</cp:revision>
  <dc:subject/>
  <dc:title>Международные экономические отношения</dc:title>
</cp:coreProperties>
</file>