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9E2F-CE38-440A-8C8F-24BE2A8B29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E29D-7009-441B-ADF9-D1688355E1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и философ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2</a:t>
            </a:r>
            <a:br>
              <a:rPr sz="1000"/>
            </a:b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27DF-AD02-40E9-86CA-B27C8634C8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62B8-3F52-4C0C-9032-58B262B230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становка проблемы (А. С. Хомяков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A9AF-7B45-4A41-806E-FFA6001374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A337-BC0F-4C02-9E00-4E780E80C5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DD0D-4E21-4264-84CA-5B4A9D949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BADE-8C97-45B0-9257-0B7A31AF72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3605-AE2D-4ADF-8650-D58CA1BEBF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F5A5-F2C1-47FA-A726-E44FED55B0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79D7-85E2-49B5-89F8-121FE82D5B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9958-8AB3-40F3-8F36-8F7CC359A3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9F05-BE98-4A48-9196-F35FFB54D7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эмпириз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ая функция веры (А. С. Хомяков, В. С. Соловьё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социальной (коллективистской) природе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новка проблемы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(С. Н. Трубецк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реальности как онтологической предпосылке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(Н. О. Лос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 (С. Л. Фра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 (Г. Г. Шп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. А. Фло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60E7-E226-4D53-8D45-AA1D6ADA80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4798-8B48-45C1-A3BD-56D05CEBEE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7795-7FF4-4EF5-A704-3E0DCE4300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E247-DC93-4D20-97A4-30EAD20B66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как онтологической предпосылке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4CFE-6FFB-4432-8FD4-796E4E58F2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B5AE-2B3A-4BC1-9291-DCEBA6A62E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80B1-7223-4FB5-B971-3F8C9D7A97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AA79-FEFA-4398-920E-3673D1B0C0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FA34-A1D2-4D20-8D9D-FD128A98FC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AF9F-7832-4178-BA13-CDBBC9E001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B3BD-A805-4F54-B683-A9368A11B6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учение о социальной природ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7A23-1D26-4DB7-8CA5-D8FD920561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2E68-6050-4CD5-BCE5-1CF683C03A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DCD7-065A-43D7-B566-698055064D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A7A6-836C-4023-9EED-7BE3E2685C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A057-A30B-44CE-A2B3-267BDE1DFB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F10D-9949-4927-BF9B-0836207B12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7959-B23C-4171-9E42-BC5F94184B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59D1-118F-402F-8D32-BDC397ED3B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B374-1207-48EA-96D6-4FCF2772EA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D1B5-4A8B-4B66-9E37-CCF76038D5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5999-67EE-4C67-BB70-94D5CF898B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79E4-87AC-460A-9536-25FA724F33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5059-F050-470C-A3A8-045AE34F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4C9-A148-4045-B74E-9B90100D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31F-6BCD-4273-8286-E2D9688D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9D8B-FDBF-4FF9-BB26-134F37BF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72F-220E-43C4-ABC2-4F6FA51A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F36-C594-476D-8C7A-CABDC9FD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BA3-126C-4247-9846-A82BED94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FFA-3A08-4804-B1AD-19950CA6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E77A-541B-438A-9DFC-14345071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3DE-8647-4F49-A971-563E2FB4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7F61-D09E-4754-A996-0D595765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2FD-1F0F-437D-A03E-13B5B113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96C1-A9EF-4EE6-8762-D49BE9A564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1440" y="2130120"/>
            <a:ext cx="8277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и философия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4880" y="3885840"/>
            <a:ext cx="827424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2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3"/>
          <p:cNvSpPr/>
          <p:nvPr/>
        </p:nvSpPr>
        <p:spPr>
          <a:xfrm>
            <a:off x="334656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327348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358920" y="5145120"/>
            <a:ext cx="647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пыт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вает нам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719280" y="352584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тигает идеи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м подчинён этот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1079640" y="1906560"/>
            <a:ext cx="503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нкретное единство живых объектов)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аи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7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9"/>
          <p:cNvSpPr/>
          <p:nvPr/>
        </p:nvSpPr>
        <p:spPr>
          <a:xfrm>
            <a:off x="6981840" y="503712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286380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178452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70488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58920" y="1619280"/>
            <a:ext cx="4857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 по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о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пособен достичь исти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же если он отправляется от дан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го вос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38200" y="2878200"/>
            <a:ext cx="4857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снове познания лежа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благодаря которым мы отлич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ктивную действи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её субъективного от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2517840" y="4138560"/>
            <a:ext cx="48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сть веры удостовер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орным субъектом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рк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3598920" y="5397480"/>
            <a:ext cx="48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 и субъектом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не отдельный человек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а доступна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окуп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ш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язанных люб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ановка проблемы (А. С. 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7" descr="Хомяков Алексей Степанович (sm9)"/>
          <p:cNvPicPr/>
          <p:nvPr/>
        </p:nvPicPr>
        <p:blipFill>
          <a:blip r:embed="rId1"/>
          <a:stretch/>
        </p:blipFill>
        <p:spPr>
          <a:xfrm>
            <a:off x="250920" y="4246560"/>
            <a:ext cx="1942920" cy="24289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0"/>
          <p:cNvSpPr/>
          <p:nvPr/>
        </p:nvSpPr>
        <p:spPr>
          <a:xfrm>
            <a:off x="7448400" y="4138560"/>
            <a:ext cx="1619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6369120" y="2878200"/>
            <a:ext cx="269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я и вера как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5289480" y="1619280"/>
            <a:ext cx="37782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осторонн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удо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480" y="274320"/>
            <a:ext cx="90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6294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зем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720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ая нау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146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ическое творч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572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териальная степ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6294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т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государство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720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лечённ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5146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ящное худож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72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аль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66294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овн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церковь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45720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25146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4572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бсолют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66294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прак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45720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25146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4572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5"/>
          <p:cNvSpPr/>
          <p:nvPr/>
        </p:nvSpPr>
        <p:spPr>
          <a:xfrm>
            <a:off x="25146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7"/>
          <p:cNvSpPr/>
          <p:nvPr/>
        </p:nvSpPr>
        <p:spPr>
          <a:xfrm>
            <a:off x="6629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6908760" y="4954680"/>
            <a:ext cx="733320" cy="129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1496880" y="4954680"/>
            <a:ext cx="733680" cy="1295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492912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47508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1690560" y="2949480"/>
            <a:ext cx="2698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диничные вещи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редст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4749840" y="2949480"/>
            <a:ext cx="2698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щие начала, идеи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нципы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531720" y="1935000"/>
            <a:ext cx="1158840" cy="1917720"/>
          </a:xfrm>
          <a:custGeom>
            <a:avLst/>
            <a:gdLst>
              <a:gd name="textAreaLeft" fmla="*/ 155160 w 1158840"/>
              <a:gd name="textAreaRight" fmla="*/ 1003680 w 1158840"/>
              <a:gd name="textAreaTop" fmla="*/ 335520 h 1917720"/>
              <a:gd name="textAreaBottom" fmla="*/ 1390320 h 19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7448400" y="1935000"/>
            <a:ext cx="1101960" cy="192276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36240 h 1922760"/>
              <a:gd name="textAreaBottom" fmla="*/ 1393920 h 19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88416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ответственно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ков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1"/>
          <p:cNvSpPr/>
          <p:nvPr/>
        </p:nvSpPr>
        <p:spPr>
          <a:xfrm>
            <a:off x="566424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рационал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ое нач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1690560" y="154620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 всех различиях между ними дв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ных направления западной гносеологии: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зм и рационализм –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ходятся между собой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ивиз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2230560" y="539748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тем, сознание не может бы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езличным, ни единоличны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более, чем лично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собо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104292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первых,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ность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навательного акта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ключаетс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тношении ко вне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му предмету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«трансцендирован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467820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вторы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ий а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тендует на т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бы иметь обще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аж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611280" y="223056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7448400" y="223056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1690560" y="179856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познание выводит нас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 пределы нашей индивидуальности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двух отношениях: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 rot="10800000">
            <a:off x="250920" y="161892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обще всем на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, что я познаю им и в нём объектив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сеобщ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я признаю истинным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 всех и за всех, не для себя тольк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ктически я по поводу вс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ржу внутри себя собор со всеми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лько то для меня истинно, достовер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общим и безусло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олжно бы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таковым для всех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общее согласие, возмож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огласие, которое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матриваю в своём сознании, есть дл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ня безусловный внутренний критерий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142560" y="1618920"/>
            <a:ext cx="672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 могу ошибаться внутри себ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носительно всеобщего орга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гласия – в сложных запутанных вопроса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том, что не для всех очевидно, о чё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щё не состоялось внешнего соглашен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я моя ошибка предполага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веренность в возможности общего соглас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этому каждый может меня обличи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оказать мне моё заблуждение 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признанного,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того, что все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нутри меня признают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бы ни силил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заглушить общий голос, он непогрешим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когда я сознаю, что имею его за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смело отвечаю за все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5"/>
          <p:cNvSpPr/>
          <p:nvPr/>
        </p:nvSpPr>
        <p:spPr>
          <a:xfrm>
            <a:off x="719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3"/>
          <p:cNvSpPr/>
          <p:nvPr/>
        </p:nvSpPr>
        <p:spPr>
          <a:xfrm>
            <a:off x="431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2"/>
          <p:cNvSpPr/>
          <p:nvPr/>
        </p:nvSpPr>
        <p:spPr>
          <a:xfrm>
            <a:off x="143820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4316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мпи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33098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цио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4316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липс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33098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олир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2409840" y="1798560"/>
            <a:ext cx="431784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ая робинз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4"/>
          <p:cNvSpPr/>
          <p:nvPr/>
        </p:nvSpPr>
        <p:spPr>
          <a:xfrm>
            <a:off x="6189840" y="287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н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6189840" y="521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аковост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телл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7"/>
          <p:cNvSpPr/>
          <p:nvPr/>
        </p:nvSpPr>
        <p:spPr>
          <a:xfrm>
            <a:off x="9716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реходит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8"/>
          <p:cNvSpPr/>
          <p:nvPr/>
        </p:nvSpPr>
        <p:spPr>
          <a:xfrm>
            <a:off x="38498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тверж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"/>
          <p:cNvSpPr/>
          <p:nvPr/>
        </p:nvSpPr>
        <p:spPr>
          <a:xfrm>
            <a:off x="672948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ъясняет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щезначи-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16"/>
          <p:cNvSpPr/>
          <p:nvPr/>
        </p:nvSpPr>
        <p:spPr>
          <a:xfrm>
            <a:off x="4317840" y="50734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2590920" y="5505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овательно, созна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ая функ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"/>
          <p:cNvSpPr/>
          <p:nvPr/>
        </p:nvSpPr>
        <p:spPr>
          <a:xfrm>
            <a:off x="7088040" y="3562200"/>
            <a:ext cx="719280" cy="1258920"/>
          </a:xfrm>
          <a:custGeom>
            <a:avLst/>
            <a:gdLst>
              <a:gd name="textAreaLeft" fmla="*/ 96120 w 719280"/>
              <a:gd name="textAreaRight" fmla="*/ 623160 w 71928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1332000" y="3562200"/>
            <a:ext cx="718920" cy="1258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4749840" y="2338560"/>
            <a:ext cx="718920" cy="1258560"/>
          </a:xfrm>
          <a:custGeom>
            <a:avLst/>
            <a:gdLst>
              <a:gd name="textAreaLeft" fmla="*/ 96120 w 718920"/>
              <a:gd name="textAreaRight" fmla="*/ 622800 w 71892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670200" y="2338560"/>
            <a:ext cx="719280" cy="1258560"/>
          </a:xfrm>
          <a:custGeom>
            <a:avLst/>
            <a:gdLst>
              <a:gd name="textAreaLeft" fmla="*/ 96120 w 719280"/>
              <a:gd name="textAreaRight" fmla="*/ 623160 w 71928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611280" y="2841480"/>
            <a:ext cx="3058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не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гу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5468760" y="2841480"/>
            <a:ext cx="30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трактно-обще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йств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ног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"/>
          <p:cNvSpPr/>
          <p:nvPr/>
        </p:nvSpPr>
        <p:spPr>
          <a:xfrm>
            <a:off x="2409840" y="16192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еловеческое сознание н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адлежность инди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4"/>
          <p:cNvSpPr/>
          <p:nvPr/>
        </p:nvSpPr>
        <p:spPr>
          <a:xfrm>
            <a:off x="2050920" y="406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е, ограниченн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ет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е, коллективное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 rot="10800000">
            <a:off x="142920" y="1620360"/>
            <a:ext cx="6945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нание человека начин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чувственного опыта, показания котор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гда частны и единичны; от эт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учаев единичный субъект лично, сам по себ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л бы ни психологической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логического права перейти к чему-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му, универсальному и необходимому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в действительности это делают все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огически совершенно непонятно, каки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ом отдельный индивид может зн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безусловной всеобщей достоверностью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бы то ни было: своё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ование, бытие внешнего мир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конечного времени и 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5692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эмпириз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ая функция веры (А. С. Хомяков, В. С. Соловьё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социальной (коллективистской) природе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новка проблемы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(С. Н. Трубецк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реальности как онтологической предпосылке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(Н. О. Лос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 (С. Л. Фра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 (Г. Г. Шп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. А. Фло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"/>
          <p:cNvSpPr/>
          <p:nvPr/>
        </p:nvSpPr>
        <p:spPr>
          <a:xfrm rot="10800000">
            <a:off x="250920" y="162036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месте с тем вера каждого человек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еальное существование мира и всех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колебима и вселенски истинна.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же уполномочивает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средственно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объективность? Что свидетельству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нас непосредственно об этом реально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сеобщем существовании вещей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универсальных свойств и качеств?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 сознани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отором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нимаю вселенское соглас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 rot="10800000">
            <a:off x="431640" y="1798200"/>
            <a:ext cx="629784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итивность опыт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осприятие самобыт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ависимой от нас реаль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озможная логичность 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ют коренную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енную соборность сознан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логические функ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ные на позн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об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ышали бы компетенц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ой лич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ли бы она не заключала в себ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личного нача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0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 rot="10800000">
            <a:off x="142560" y="1474560"/>
            <a:ext cx="6910200" cy="514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е слово наше доказывает фа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ого 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полагая е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ова никогда не мыслит человек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лько в форме сло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ь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 обобщается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о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влекаем, образуем, опреде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ие универсальные понятия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 же обособляем и закрепля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изируем наши представл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мес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о есть воплощение собор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не было бы слов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были непонятны и невнятны для друг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незачем и не с кем было говорит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о предполагает орган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взаимного понимания, родов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ое единство; и вместе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говорящих и внимающих люд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как онтологической предпосылке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Лосский (1-3)"/>
          <p:cNvPicPr/>
          <p:nvPr/>
        </p:nvPicPr>
        <p:blipFill>
          <a:blip r:embed="rId1"/>
          <a:stretch/>
        </p:blipFill>
        <p:spPr>
          <a:xfrm>
            <a:off x="395280" y="1798560"/>
            <a:ext cx="149688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4" name="Text Box 5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ордин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Франк СЛ (3bw)"/>
          <p:cNvPicPr/>
          <p:nvPr/>
        </p:nvPicPr>
        <p:blipFill>
          <a:blip r:embed="rId2"/>
          <a:stretch/>
        </p:blipFill>
        <p:spPr>
          <a:xfrm>
            <a:off x="7377120" y="1798560"/>
            <a:ext cx="132084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7" name="Text Box 8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 Фран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1" descr="Шпет (1)"/>
          <p:cNvPicPr/>
          <p:nvPr/>
        </p:nvPicPr>
        <p:blipFill>
          <a:blip r:embed="rId3"/>
          <a:stretch/>
        </p:blipFill>
        <p:spPr>
          <a:xfrm>
            <a:off x="358920" y="4317840"/>
            <a:ext cx="158256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0" name="Text Box 12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 Шпет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9-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оренён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от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 Флорен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2-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и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мвол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2" descr="Флоренский (1-1cut_cmp)"/>
          <p:cNvPicPr/>
          <p:nvPr/>
        </p:nvPicPr>
        <p:blipFill>
          <a:blip r:embed="rId4"/>
          <a:stretch/>
        </p:blipFill>
        <p:spPr>
          <a:xfrm>
            <a:off x="7269120" y="4317840"/>
            <a:ext cx="1587600" cy="198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е подобно не «психическому вместилищу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е предмет должен «попасть»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ть «осознанным», а 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едоточию луч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енных на участки бытия и их освещ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этой направленности на предм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енциональности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познавательного 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знавательном акте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ич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предм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своей подлинност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его «копия», «отражение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ъективное преломление»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имеет не опосредован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посредствен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уитив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3760" y="2743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4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6"/>
          <p:cNvSpPr/>
          <p:nvPr/>
        </p:nvSpPr>
        <p:spPr>
          <a:xfrm>
            <a:off x="355680" y="61531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нтуитив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отношение субъект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 всем другим сущностям в мир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торое делает интуицию возмож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носеологическая координ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менно гносеологическая координац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не гносеологическая суб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а – предмету или предмета – субъект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ой закон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этом сама гносеологическая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лишь частный (гносеологический) аспе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ости друг другу всех индивидуаль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«субстанциальных деятеле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ниверсальность 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единосущных» субстанциальных деятеле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ующ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как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онтологическую основу интуитив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3760" y="2743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1"/>
          <p:cNvSpPr/>
          <p:nvPr/>
        </p:nvSpPr>
        <p:spPr>
          <a:xfrm>
            <a:off x="357840" y="615312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сееди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ое определённо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ожно мыслить лишь в е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отнесённости с каким-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 соотнесённость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едполагает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а они я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ленами некоего объемл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а,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которое должно мыслить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определённым, «трансцендент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о искомое единство не вмещ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амки логической системы имен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сам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 возможности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таковое оно «мета-логично», точнее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еталогическое единство»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ли «Всееди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2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3"/>
          <p:cNvSpPr/>
          <p:nvPr/>
        </p:nvSpPr>
        <p:spPr>
          <a:xfrm>
            <a:off x="357840" y="615312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сееди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 и предмет знания существуют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должны мыслиться на фоне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ъемлющего их «металогического единства»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не противостоит бытию, 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ключено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сознанию противостоит лишь «предметны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ир» – область «объективируемого», но подли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ытие не знает раздвоения на субъект и предм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ует отлич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ческое «предметное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действительности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абстрактное» знание логических связе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ежд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лементами действительности 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ив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деальное знание приводит в систему данн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пыта, но это единство рационально и статич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есть лишь «бледный намёк»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логичес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, открывающееся в «живом зн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2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3"/>
          <p:cNvSpPr/>
          <p:nvPr/>
        </p:nvSpPr>
        <p:spPr>
          <a:xfrm>
            <a:off x="355680" y="61531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нтуитив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очки зрения отрицательн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 и объект разделены пропасть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ь же понимается либо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ение вещи в себе, либо как акт субъ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блематика истин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ивается рамка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рии п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ама же истина понимается не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манентное, а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ансцендентное согласование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я – с вещью, или вещи – с позн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ь при этом имеет своим источни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рядок и связи в предмете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сть сужд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в конеч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тоге – субъекта, утверждающего 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ниман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инное отде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действитель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звёртывание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цесса познания не приближает, а, напроти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аляет понятия от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90360" y="5397480"/>
            <a:ext cx="2057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очка зрения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отрицательной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илософ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5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ожительная философия исходи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можности обоснования всякой предмет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ведения всего сущего под некотор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ие, превышающее обосновывае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основание переходит в конечном итоге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ельную полноту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сё о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оренён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тотальности совокупной действитель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тупающей единым основанием всего с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шение проблемы действительности и сред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решения суть также части действитель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язи с чем положительная философ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е бы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ирующей в себя нау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ходя этот путь до конца, положите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ия может остановиться только 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уиция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непосредственно очевидных начал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ующих всякому теоретическому зн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1"/>
          <p:cNvSpPr/>
          <p:nvPr/>
        </p:nvSpPr>
        <p:spPr>
          <a:xfrm>
            <a:off x="90360" y="5397480"/>
            <a:ext cx="2057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очка зрения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положительной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илософ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учение о социальной природе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Хомяков Алексей Степанович (sm10)"/>
          <p:cNvPicPr/>
          <p:nvPr/>
        </p:nvPicPr>
        <p:blipFill>
          <a:blip r:embed="rId1"/>
          <a:stretch/>
        </p:blipFill>
        <p:spPr>
          <a:xfrm>
            <a:off x="358920" y="1798560"/>
            <a:ext cx="152244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5" descr="Трубецкой С (1)"/>
          <p:cNvPicPr/>
          <p:nvPr/>
        </p:nvPicPr>
        <p:blipFill>
          <a:blip r:embed="rId2"/>
          <a:stretch/>
        </p:blipFill>
        <p:spPr>
          <a:xfrm>
            <a:off x="7197840" y="4317840"/>
            <a:ext cx="166212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Text Box 6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С. Хомяков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4-18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ост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И"/>
          <p:cNvPicPr/>
          <p:nvPr/>
        </p:nvPicPr>
        <p:blipFill>
          <a:blip r:embed="rId3"/>
          <a:stretch/>
        </p:blipFill>
        <p:spPr>
          <a:xfrm>
            <a:off x="7232760" y="1798560"/>
            <a:ext cx="158724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10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 Соловьёв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3-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ь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бор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Лопатин (3)"/>
          <p:cNvPicPr/>
          <p:nvPr/>
        </p:nvPicPr>
        <p:blipFill>
          <a:blip r:embed="rId4"/>
          <a:stretch/>
        </p:blipFill>
        <p:spPr>
          <a:xfrm>
            <a:off x="358920" y="4317840"/>
            <a:ext cx="154764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8" name="Text Box 15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циона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блема истины – это проблема вс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олько области 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полагает отрицательная философ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ложительной философии оказыв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возможн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ядоположное рассмотр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иллюзор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 как нет нич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оме реальной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люзия возможна только внутри са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ллюзорно не содерж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ллюзи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ерные соотнош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другими областями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та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хвате материала действи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ррелирует с истин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0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1"/>
          <p:cNvSpPr/>
          <p:nvPr/>
        </p:nvSpPr>
        <p:spPr>
          <a:xfrm>
            <a:off x="142920" y="5468760"/>
            <a:ext cx="2050920" cy="1224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 истин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своём мест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ло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месте чуж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 никаких отвлечённых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или абстрактных идей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ый предмет всегда выражен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явлен пластично и зр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т и чисто эмпирических явл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всякое явле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духовной сущ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ый облик определённого ноу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номен и ноумен выражают друг друг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уя нераздельное дву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 реальность состоит из символов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имв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мещает в себе «природное» и «духовное»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едина, она повсюду, в люб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ём элементе и чувственна, и дух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1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3"/>
          <p:cNvSpPr/>
          <p:nvPr/>
        </p:nvSpPr>
        <p:spPr>
          <a:xfrm>
            <a:off x="465120" y="61531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феномен, и ноумен простран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стран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и связь их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обое пространство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пространства чувственных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лужащее вместилищем ноумен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льное пространство не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пией эмпирического пространства, но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абсолютно иное: ноуменальный мир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мир «обращённый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мнимы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стороны символа: и чувствен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мнáя – получаются одна из друг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рачиванием наизна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0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1"/>
          <p:cNvSpPr/>
          <p:nvPr/>
        </p:nvSpPr>
        <p:spPr>
          <a:xfrm>
            <a:off x="248040" y="6153120"/>
            <a:ext cx="21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Мнимый ми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 rot="10800000">
            <a:off x="465120" y="1545480"/>
            <a:ext cx="827712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переднюю сторону плоскости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и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 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ней 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ем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отвлечённо знать о не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м образе, сущность которого – именно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сти, это значит иметь восприятие его каки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зрительным, способом, но с корректи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рительность через отвлечённое понятие или чер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 воспоминания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те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ть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воплощение отвлечённого в наглядный матери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ого и было получено отвлечённое;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им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площение того же самого отвлечё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наглядном материале инородном.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и надлежит говорить 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х ощущ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ы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ого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3352320" y="626112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А. Флоренский. «Мнимости геометр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сфере познание означ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природы яв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з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 в феномене, так что принципи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я между родами знания исчез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дходе иначе следует поним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ли познания: оно должно быть напра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 откр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лечённых закон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управляющих» разными сферами реа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а выявл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даментальных, первичных символ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ых складывается данная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ервичные символы выде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других символов сво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от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элементарность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счёт которых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тают общность и универс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1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2"/>
          <p:cNvSpPr/>
          <p:nvPr/>
        </p:nvSpPr>
        <p:spPr>
          <a:xfrm>
            <a:off x="358200" y="615312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етаге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0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553440" y="5397480"/>
            <a:ext cx="24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ения 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очеловечеств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5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мы можем знать об этом мир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по собственным своим ощущения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тому, что нами испытывается, так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держание нашего опыт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нашего знания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ственные состоя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ничего бол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всякое утверждение внешнего бы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щего этим состояния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с логической точки зр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более или ме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оятным заключением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3151080" y="49658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2071800" y="370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992160" y="2446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647640" y="161928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мпирическая философ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состоянии доказ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мир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опы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727280" y="2878200"/>
            <a:ext cx="449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числе и в особенности 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других со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2806560" y="413856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овательный эмпириз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неизбе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дёт 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псиз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3886200" y="539748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лепость выво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ставляет отвергнуть и посылку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зис о происхождении всех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й из чувственного вос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24000" y="5397480"/>
            <a:ext cx="2600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М. Лопат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оложитель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и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Лопатин (3)"/>
          <p:cNvPicPr/>
          <p:nvPr/>
        </p:nvPicPr>
        <p:blipFill>
          <a:blip r:embed="rId1"/>
          <a:stretch/>
        </p:blipFill>
        <p:spPr>
          <a:xfrm>
            <a:off x="6800760" y="1619280"/>
            <a:ext cx="2051280" cy="2158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закон причинности и наводит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внешнего бытия как прич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их ощущений и представлений, но так ка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ый этот зако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ности есть фор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го ж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нение э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й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име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условное значение 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дать безусловного непоколебим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беждения в существовании внешн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: все доказатель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я, сводимые к закон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ности, являются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как соображения вероят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как свидетельства достоверност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6553440" y="5397480"/>
            <a:ext cx="24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ения 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очеловечеств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Лопатин (3)"/>
          <p:cNvPicPr/>
          <p:nvPr/>
        </p:nvPicPr>
        <p:blipFill>
          <a:blip r:embed="rId1"/>
          <a:stretch/>
        </p:blipFill>
        <p:spPr>
          <a:xfrm>
            <a:off x="7377120" y="1258920"/>
            <a:ext cx="1525680" cy="16066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2"/>
          <p:cNvSpPr/>
          <p:nvPr/>
        </p:nvSpPr>
        <p:spPr>
          <a:xfrm>
            <a:off x="1870200" y="3778200"/>
            <a:ext cx="259056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дме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 вещ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4678200" y="3778200"/>
            <a:ext cx="2590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ь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971640" y="259092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7088040" y="259092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2050920" y="2193840"/>
            <a:ext cx="503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ренной недостаток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проявляющийся яснее вс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Спинозы и Гегеля) заклю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301440" y="5397480"/>
            <a:ext cx="27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Философские нач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ьн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вест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мет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и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ие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знак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вер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го собственном или безуслов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а  уверенность ниск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бусловлена ощущениями, получаем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и от предмета, и понятием нашим о нё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оти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е значение наши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й и понятий прямо обусловл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веренностью в самостоятель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и предмета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…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чевидно предмет  некоторого особ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тьего рода п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ьнее может быть назва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Соловьев (2-3 - sel)"/>
          <p:cNvPicPr/>
          <p:nvPr/>
        </p:nvPicPr>
        <p:blipFill>
          <a:blip r:embed="rId1"/>
          <a:stretch/>
        </p:blipFill>
        <p:spPr>
          <a:xfrm>
            <a:off x="7556400" y="539640"/>
            <a:ext cx="1181160" cy="2000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35892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уществован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нешне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тельност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тверждаетс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р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323856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одержан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нешне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тельност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ётс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ытом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611676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вяз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тдельных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едени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цельную систему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ётс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ышл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24000" y="4857840"/>
            <a:ext cx="2771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есть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ь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им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3201840" y="4857840"/>
            <a:ext cx="2772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Чт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есть – это мы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пытыв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н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6081840" y="4857840"/>
            <a:ext cx="2771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ак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а устроен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чему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им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21:39:57Z</dcterms:created>
  <dc:creator>Николай Бирюков / Nikolai Biryukov</dc:creator>
  <dc:description>Версия мая 2006 г.
Добавления концепция алогичного становления А. Ф. Лосева</dc:description>
  <dc:language>en-US</dc:language>
  <cp:lastModifiedBy>LEGION</cp:lastModifiedBy>
  <dcterms:modified xsi:type="dcterms:W3CDTF">2014-11-11T12:45:30Z</dcterms:modified>
  <cp:revision>95</cp:revision>
  <dc:subject>История и философия науки - Тема 2</dc:subject>
  <dc:title>Русская гносеология и философия науки</dc:title>
</cp:coreProperties>
</file>