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5BD8-0961-47F0-A871-F438E5BF5F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330A-F8B8-470F-BAEC-8BC12AF76B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1000"/>
            </a:b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1E36-CAA5-4633-A103-8CB7A701D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0EB3-06CE-4FF8-BBCB-D87B3A678B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569B-D09A-4762-831D-050430FB2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6496-0232-475A-BDC1-91FE5E373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50C1-6461-4835-939B-A734EA77E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F33A-AA4E-4DF3-A484-624CFE8482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4DB0-8AB6-4B7D-A9B9-519C962A9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515F-FDCA-4E69-B33F-CF652DCF00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89DA-A4DF-4784-9115-B8724FA57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B4E4-D5C7-4D34-B208-6F1BB2A56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AE08-6A1B-4E52-8AEA-0195AF67A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4044-26D3-4355-8F39-D47A89240A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458A-1E7C-43E2-82ED-3830A33A94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EE2C-9B8A-4B97-B202-B01C36B46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8363-11F4-4433-A3AF-8DBACE7765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E6C3-846B-475D-B6BA-099B9993F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22A8-CBA8-46A7-9599-E9099F156F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430E-67BC-4C66-BDD6-11881092A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F08C-E37B-4227-950F-C82294191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2198-0884-4A5C-9D4C-515EED56F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2AE2-B5A9-469D-829C-B74947CEF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8411-B690-4084-A867-EE55BD0E2E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2284-8C03-49F9-BF67-64130B425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0ECA-BDCA-4C01-8682-26E3150CD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6C0B-62F5-4496-923F-415B945EAB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0595-4EBE-4562-9587-00D6C678A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CE98-F903-46F7-ACB6-5FE0FF36CD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0DA7-AF64-4D83-B48F-6BE432093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B3AC-DFAF-4ADC-8EBB-EE69EA2E9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5CEC-A21F-4EDC-98EB-354017EBEC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B35B-2261-4E57-B469-D4273C5AC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85F7-1057-4EEE-A73A-A44B43742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A2EB-13FA-4D85-A1DC-1124E4D30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16A7-CB20-4DD9-A09D-DA9199E03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ECE-3E9E-40E3-ACB4-953ADB6A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D40-06DF-4596-A0EF-A428C64F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CBD-9C06-4CEA-A560-B99BA9BB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7D5-AA60-4C1C-A5ED-2FA3F9E6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F93-F912-497B-8CEA-FD66D24B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AE9-D64A-4B33-A064-3753D2F9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8F2-F0E4-45FD-A1ED-69AA07BF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541-7DC1-4486-B58B-26C377A7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8BB-DC5F-4731-BB6C-EB64CC5C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0BA-8FFD-45C2-A0F6-4BBEB46F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D72-6E8F-4AC6-8974-D1AB44F3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618-5DB7-4308-AC2B-5FE41268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34AD-408E-4F3F-BA9C-D4D740280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440" y="2130120"/>
            <a:ext cx="8277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880" y="388584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2863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78452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04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58920" y="1619280"/>
            <a:ext cx="4857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по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пособен достичь исти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же если он отправляется от да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38200" y="2878200"/>
            <a:ext cx="485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познания леж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благодаря которым мы отлич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ую действи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её субъективного от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517840" y="413856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ь веры удостовер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орным субъектом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рк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598920" y="539748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и субъектом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е отдельный человек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а доступн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окуп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язанных люб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Хомяков Алексей Степанович (sm9)"/>
          <p:cNvPicPr/>
          <p:nvPr/>
        </p:nvPicPr>
        <p:blipFill>
          <a:blip r:embed="rId1"/>
          <a:stretch/>
        </p:blipFill>
        <p:spPr>
          <a:xfrm>
            <a:off x="250920" y="4246560"/>
            <a:ext cx="1942920" cy="2428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0"/>
          <p:cNvSpPr/>
          <p:nvPr/>
        </p:nvSpPr>
        <p:spPr>
          <a:xfrm>
            <a:off x="7448400" y="4138560"/>
            <a:ext cx="161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6369120" y="2878200"/>
            <a:ext cx="269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я и вера как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5289480" y="1619280"/>
            <a:ext cx="377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сторон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д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480" y="27432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5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7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16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4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0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Лосский (1-3)"/>
          <p:cNvPicPr/>
          <p:nvPr/>
        </p:nvPicPr>
        <p:blipFill>
          <a:blip r:embed="rId1"/>
          <a:stretch/>
        </p:blipFill>
        <p:spPr>
          <a:xfrm>
            <a:off x="39528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4" name="Text Box 5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Франк СЛ (3bw)"/>
          <p:cNvPicPr/>
          <p:nvPr/>
        </p:nvPicPr>
        <p:blipFill>
          <a:blip r:embed="rId2"/>
          <a:stretch/>
        </p:blipFill>
        <p:spPr>
          <a:xfrm>
            <a:off x="7377120" y="179856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1" descr="Шпет (1)"/>
          <p:cNvPicPr/>
          <p:nvPr/>
        </p:nvPicPr>
        <p:blipFill>
          <a:blip r:embed="rId3"/>
          <a:stretch/>
        </p:blipFill>
        <p:spPr>
          <a:xfrm>
            <a:off x="358920" y="4317840"/>
            <a:ext cx="158256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0" name="Text Box 12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 Шпе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9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оренён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от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 Флорен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и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вол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2" descr="Флоренский (1-1cut_cmp)"/>
          <p:cNvPicPr/>
          <p:nvPr/>
        </p:nvPicPr>
        <p:blipFill>
          <a:blip r:embed="rId4"/>
          <a:stretch/>
        </p:blipFill>
        <p:spPr>
          <a:xfrm>
            <a:off x="7269120" y="4317840"/>
            <a:ext cx="158760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4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очки зрения отрицательн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 и объект разделены пропа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же понимается либо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ение вещи в себе, либо как акт су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тика исти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вается рамка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ии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ама же истина понимается не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манентное, 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нсцендентное согласование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с вещью, или вещи – с позн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 при этом имеет своим источни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ядок и связи в предмете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сть 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в конеч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тоге – субъекта, утверждающего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нима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 от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действитель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звёртывание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а познания не приближает, а, напрот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яет понятия от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отрица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ожительная философия исходи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сти обоснования всякой предмет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ведения всего сущего под некотор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е, превышающее обосновыва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основание переходит в конечном итоге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ьную полноту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о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рен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тотальности совокупной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тупающей единым основанием всего с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ение проблемы действительности и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решения суть также части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язи с чем положительн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е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ирующей в себя на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ходя этот путь до конца,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может остановиться только 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уиция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непосредственно очевидных нача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ующих всякому теоретическому зн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положи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Хомяков Алексей Степанович (sm10)"/>
          <p:cNvPicPr/>
          <p:nvPr/>
        </p:nvPicPr>
        <p:blipFill>
          <a:blip r:embed="rId1"/>
          <a:stretch/>
        </p:blipFill>
        <p:spPr>
          <a:xfrm>
            <a:off x="358920" y="1798560"/>
            <a:ext cx="15224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5" descr="Трубецкой С (1)"/>
          <p:cNvPicPr/>
          <p:nvPr/>
        </p:nvPicPr>
        <p:blipFill>
          <a:blip r:embed="rId2"/>
          <a:stretch/>
        </p:blipFill>
        <p:spPr>
          <a:xfrm>
            <a:off x="7197840" y="431784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Text Box 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С. Хомяков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4-18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ост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И"/>
          <p:cNvPicPr/>
          <p:nvPr/>
        </p:nvPicPr>
        <p:blipFill>
          <a:blip r:embed="rId3"/>
          <a:stretch/>
        </p:blipFill>
        <p:spPr>
          <a:xfrm>
            <a:off x="7232760" y="1798560"/>
            <a:ext cx="15872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Соловьё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3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Лопатин (3)"/>
          <p:cNvPicPr/>
          <p:nvPr/>
        </p:nvPicPr>
        <p:blipFill>
          <a:blip r:embed="rId4"/>
          <a:stretch/>
        </p:blipFill>
        <p:spPr>
          <a:xfrm>
            <a:off x="358920" y="4317840"/>
            <a:ext cx="154764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8" name="Text Box 15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ци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 истины – это проблема вс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олько области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полагает отрицательная философ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ложительной философии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ядоположное рассмотр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иллюзор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 как нет нич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ме реальной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люзия возможна только внутри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орно не содерж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ерные соотнош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ими областями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та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хвате материала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релирует с исти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1"/>
          <p:cNvSpPr/>
          <p:nvPr/>
        </p:nvSpPr>
        <p:spPr>
          <a:xfrm>
            <a:off x="142920" y="5468760"/>
            <a:ext cx="2050920" cy="122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истин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воём мест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ло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месте чуж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3"/>
          <p:cNvSpPr/>
          <p:nvPr/>
        </p:nvSpPr>
        <p:spPr>
          <a:xfrm>
            <a:off x="465120" y="61531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248040" y="615312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Мнимый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0800000">
            <a:off x="465120" y="1545480"/>
            <a:ext cx="827712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следует поним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 оно должно быть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откр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правляющих» 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2"/>
          <p:cNvSpPr/>
          <p:nvPr/>
        </p:nvSpPr>
        <p:spPr>
          <a:xfrm>
            <a:off x="358200" y="615312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етаге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0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мы можем знать об этом ми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о собственным своим ощуще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тому, что нами испытывается, так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держание нашего оп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ашего знания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ственные состоя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ичего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якое утверждение внешнего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его этим состоя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с логической точки з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более или ме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оятным заключением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151080" y="4965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07180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99216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647640" y="16192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мпирическ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состоянии доказ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ми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опы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727280" y="2878200"/>
            <a:ext cx="449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и в особенност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других со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13856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овательный эмпириз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неизбе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дёт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3886200" y="53974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лепость выв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ставляет отвергнуть и посылк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зис о происхождении всех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й из 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24000" y="5397480"/>
            <a:ext cx="2600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М. Лопат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оложитель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Лопатин (3)"/>
          <p:cNvPicPr/>
          <p:nvPr/>
        </p:nvPicPr>
        <p:blipFill>
          <a:blip r:embed="rId1"/>
          <a:stretch/>
        </p:blipFill>
        <p:spPr>
          <a:xfrm>
            <a:off x="6800760" y="1619280"/>
            <a:ext cx="2051280" cy="2158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закон причинности и наводит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внешнего бытия как пр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х ощущений и представлений, но так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ый этот зак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ности есть фор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ж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ение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име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условное значение 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дать безусловного непоколебим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беждения в существовании внешн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все доказатель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, сводимые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, являются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как соображения вероят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как свидетельства достоверност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Лопатин (3)"/>
          <p:cNvPicPr/>
          <p:nvPr/>
        </p:nvPicPr>
        <p:blipFill>
          <a:blip r:embed="rId1"/>
          <a:stretch/>
        </p:blipFill>
        <p:spPr>
          <a:xfrm>
            <a:off x="7377120" y="1258920"/>
            <a:ext cx="1525680" cy="1606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"/>
          <p:cNvSpPr/>
          <p:nvPr/>
        </p:nvSpPr>
        <p:spPr>
          <a:xfrm>
            <a:off x="1870200" y="3778200"/>
            <a:ext cx="259056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ме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вещ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678200" y="3778200"/>
            <a:ext cx="2590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971640" y="259092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7088040" y="259092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050920" y="2193840"/>
            <a:ext cx="503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ренной недостаток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проявляющийся яснее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Спинозы и Гегеля) заклю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301440" y="5397480"/>
            <a:ext cx="27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илософские нач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вест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мет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е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зна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го собственном или безуслов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а  уверенность ни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бусловлена ощущениями, получаем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и от предмета, и понятием нашим о 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е значение наши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й и понятий прямо обусло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ностью в самостоятель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и предмет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…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чевидно предмет  некоторого особ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тьего рода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ьнее может быть назва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Соловьев (2-3 - sel)"/>
          <p:cNvPicPr/>
          <p:nvPr/>
        </p:nvPicPr>
        <p:blipFill>
          <a:blip r:embed="rId1"/>
          <a:stretch/>
        </p:blipFill>
        <p:spPr>
          <a:xfrm>
            <a:off x="7556400" y="539640"/>
            <a:ext cx="1181160" cy="2000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5892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ществов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тверждае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р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2385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одерж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ом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1167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вяз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дельных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едени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цельную систему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ш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2400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есть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и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201840" y="4857840"/>
            <a:ext cx="2772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т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– это м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пытыв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н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608184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к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а устроен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чем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им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39:57Z</dcterms:created>
  <dc:creator>Николай Бирюков / Nikolai Biryukov</dc:creator>
  <dc:description>Версия мая 2006 г.
Добавления концепция алогичного становления А. Ф. Лосева</dc:description>
  <dc:language>en-US</dc:language>
  <cp:lastModifiedBy>LEGION</cp:lastModifiedBy>
  <dcterms:modified xsi:type="dcterms:W3CDTF">2014-11-11T12:45:30Z</dcterms:modified>
  <cp:revision>95</cp:revision>
  <dc:subject>История и философия науки - Тема 2</dc:subject>
  <dc:title>Русская гносеология и философия науки</dc:title>
</cp:coreProperties>
</file>