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11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11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11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9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120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10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10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10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106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107.xml" ContentType="application/vnd.openxmlformats-officedocument.presentationml.notesSlide+xml"/>
  <Override PartName="/ppt/notesSlides/notesSlide90.xml" ContentType="application/vnd.openxmlformats-officedocument.presentationml.notesSlide+xml"/>
  <Override PartName="/ppt/notesSlides/notesSlide91.xml" ContentType="application/vnd.openxmlformats-officedocument.presentationml.notesSlide+xml"/>
  <Override PartName="/ppt/notesSlides/notesSlide92.xml" ContentType="application/vnd.openxmlformats-officedocument.presentationml.notesSlide+xml"/>
  <Override PartName="/ppt/notesSlides/notesSlide109.xml" ContentType="application/vnd.openxmlformats-officedocument.presentationml.notesSlide+xml"/>
  <Override PartName="/ppt/notesSlides/notesSlide95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102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08.xml" ContentType="application/vnd.openxmlformats-officedocument.presentationml.notesSlide+xml"/>
  <Override PartName="/ppt/notesSlides/notesSlide9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13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93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98.xml" ContentType="application/vnd.openxmlformats-officedocument.presentationml.notesSlide+xml"/>
  <Override PartName="/ppt/notesSlides/notesSlide97.xml" ContentType="application/vnd.openxmlformats-officedocument.presentationml.notesSlide+xml"/>
  <Override PartName="/ppt/notesSlides/notesSlide96.xml" ContentType="application/vnd.openxmlformats-officedocument.presentationml.notesSlide+xml"/>
  <Override PartName="/ppt/notesSlides/notesSlide119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118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_rels/notesSlide22.xml.rels" ContentType="application/vnd.openxmlformats-package.relationships+xml"/>
  <Override PartName="/ppt/notesSlides/_rels/notesSlide11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117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118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105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1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06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114.xml.rels" ContentType="application/vnd.openxmlformats-package.relationships+xml"/>
  <Override PartName="/ppt/notesSlides/_rels/notesSlide107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9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1.xml.rels" ContentType="application/vnd.openxmlformats-package.relationships+xml"/>
  <Override PartName="/ppt/notesSlides/_rels/notesSlide92.xml.rels" ContentType="application/vnd.openxmlformats-package.relationships+xml"/>
  <Override PartName="/ppt/notesSlides/_rels/notesSlide101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104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19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100.xml.rels" ContentType="application/vnd.openxmlformats-package.relationships+xml"/>
  <Override PartName="/ppt/notesSlides/_rels/notesSlide9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115.xml.rels" ContentType="application/vnd.openxmlformats-package.relationships+xml"/>
  <Override PartName="/ppt/notesSlides/_rels/notesSlide108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116.xml.rels" ContentType="application/vnd.openxmlformats-package.relationships+xml"/>
  <Override PartName="/ppt/notesSlides/_rels/notesSlide120.xml.rels" ContentType="application/vnd.openxmlformats-package.relationships+xml"/>
  <Override PartName="/ppt/notesSlides/_rels/notesSlide109.xml.rels" ContentType="application/vnd.openxmlformats-package.relationships+xml"/>
  <Override PartName="/ppt/notesSlides/_rels/notesSlide9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3.xml.rels" ContentType="application/vnd.openxmlformats-package.relationships+xml"/>
  <Override PartName="/ppt/notesSlides/_rels/notesSlide94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02.xml.rels" ContentType="application/vnd.openxmlformats-package.relationships+xml"/>
  <Override PartName="/ppt/notesSlides/_rels/notesSlide93.xml.rels" ContentType="application/vnd.openxmlformats-package.relationships+xml"/>
  <Override PartName="/ppt/notesSlides/_rels/notesSlide89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9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9.xml.rels" ContentType="application/vnd.openxmlformats-package.relationships+xml"/>
  <Override PartName="/ppt/notesSlides/_rels/notesSlide112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90.xml.rels" ContentType="application/vnd.openxmlformats-package.relationships+xml"/>
  <Override PartName="/ppt/notesSlides/_rels/notesSlide96.xml.rels" ContentType="application/vnd.openxmlformats-package.relationships+xml"/>
  <Override PartName="/ppt/notesSlides/_rels/notesSlide4.xml.rels" ContentType="application/vnd.openxmlformats-package.relationships+xml"/>
  <Override PartName="/ppt/notesSlides/notesSlide114.xml" ContentType="application/vnd.openxmlformats-officedocument.presentationml.notesSlide+xml"/>
  <Override PartName="/ppt/notesSlides/notesSlide64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01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00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91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120.xml.rels" ContentType="application/vnd.openxmlformats-package.relationships+xml"/>
  <Override PartName="/ppt/slides/_rels/slide116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119.xml.rels" ContentType="application/vnd.openxmlformats-package.relationships+xml"/>
  <Override PartName="/ppt/slides/_rels/slide89.xml.rels" ContentType="application/vnd.openxmlformats-package.relationships+xml"/>
  <Override PartName="/ppt/slides/_rels/slide103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120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  <p:sldId id="374" r:id="rId122"/>
    <p:sldId id="375" r:id="rId1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slide" Target="slides/slide119.xml"/><Relationship Id="rId123" Type="http://schemas.openxmlformats.org/officeDocument/2006/relationships/slide" Target="slides/slide120.xml"/><Relationship Id="rId1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55A6B-65AF-4645-8DE7-4FF1CA4633A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00.xml.rels><?xml version="1.0" encoding="UTF-8"?>
<Relationships xmlns="http://schemas.openxmlformats.org/package/2006/relationships"><Relationship Id="rId1" Type="http://schemas.openxmlformats.org/officeDocument/2006/relationships/slide" Target="../slides/slide100.xml"/><Relationship Id="rId2" Type="http://schemas.openxmlformats.org/officeDocument/2006/relationships/notesMaster" Target="../notesMasters/notesMaster1.xml"/>
</Relationships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_rels/notesSlide102.xml.rels><?xml version="1.0" encoding="UTF-8"?>
<Relationships xmlns="http://schemas.openxmlformats.org/package/2006/relationships"><Relationship Id="rId1" Type="http://schemas.openxmlformats.org/officeDocument/2006/relationships/slide" Target="../slides/slide102.xml"/><Relationship Id="rId2" Type="http://schemas.openxmlformats.org/officeDocument/2006/relationships/notesMaster" Target="../notesMasters/notesMaster1.xml"/>
</Relationships>
</file>

<file path=ppt/notesSlides/_rels/notesSlide103.xml.rels><?xml version="1.0" encoding="UTF-8"?>
<Relationships xmlns="http://schemas.openxmlformats.org/package/2006/relationships"><Relationship Id="rId1" Type="http://schemas.openxmlformats.org/officeDocument/2006/relationships/slide" Target="../slides/slide103.xml"/><Relationship Id="rId2" Type="http://schemas.openxmlformats.org/officeDocument/2006/relationships/notesMaster" Target="../notesMasters/notesMaster1.xml"/>
</Relationships>
</file>

<file path=ppt/notesSlides/_rels/notesSlide104.xml.rels><?xml version="1.0" encoding="UTF-8"?>
<Relationships xmlns="http://schemas.openxmlformats.org/package/2006/relationships"><Relationship Id="rId1" Type="http://schemas.openxmlformats.org/officeDocument/2006/relationships/slide" Target="../slides/slide104.xml"/><Relationship Id="rId2" Type="http://schemas.openxmlformats.org/officeDocument/2006/relationships/notesMaster" Target="../notesMasters/notesMaster1.xml"/>
</Relationships>
</file>

<file path=ppt/notesSlides/_rels/notesSlide105.xml.rels><?xml version="1.0" encoding="UTF-8"?>
<Relationships xmlns="http://schemas.openxmlformats.org/package/2006/relationships"><Relationship Id="rId1" Type="http://schemas.openxmlformats.org/officeDocument/2006/relationships/slide" Target="../slides/slide105.xml"/><Relationship Id="rId2" Type="http://schemas.openxmlformats.org/officeDocument/2006/relationships/notesMaster" Target="../notesMasters/notesMaster1.xml"/>
</Relationships>
</file>

<file path=ppt/notesSlides/_rels/notesSlide106.xml.rels><?xml version="1.0" encoding="UTF-8"?>
<Relationships xmlns="http://schemas.openxmlformats.org/package/2006/relationships"><Relationship Id="rId1" Type="http://schemas.openxmlformats.org/officeDocument/2006/relationships/slide" Target="../slides/slide106.xml"/><Relationship Id="rId2" Type="http://schemas.openxmlformats.org/officeDocument/2006/relationships/notesMaster" Target="../notesMasters/notesMaster1.xml"/>
</Relationships>
</file>

<file path=ppt/notesSlides/_rels/notesSlide107.xml.rels><?xml version="1.0" encoding="UTF-8"?>
<Relationships xmlns="http://schemas.openxmlformats.org/package/2006/relationships"><Relationship Id="rId1" Type="http://schemas.openxmlformats.org/officeDocument/2006/relationships/slide" Target="../slides/slide107.xml"/><Relationship Id="rId2" Type="http://schemas.openxmlformats.org/officeDocument/2006/relationships/notesMaster" Target="../notesMasters/notesMaster1.xml"/>
</Relationships>
</file>

<file path=ppt/notesSlides/_rels/notesSlide108.xml.rels><?xml version="1.0" encoding="UTF-8"?>
<Relationships xmlns="http://schemas.openxmlformats.org/package/2006/relationships"><Relationship Id="rId1" Type="http://schemas.openxmlformats.org/officeDocument/2006/relationships/slide" Target="../slides/slide108.xml"/><Relationship Id="rId2" Type="http://schemas.openxmlformats.org/officeDocument/2006/relationships/notesMaster" Target="../notesMasters/notesMaster1.xml"/>
</Relationships>
</file>

<file path=ppt/notesSlides/_rels/notesSlide109.xml.rels><?xml version="1.0" encoding="UTF-8"?>
<Relationships xmlns="http://schemas.openxmlformats.org/package/2006/relationships"><Relationship Id="rId1" Type="http://schemas.openxmlformats.org/officeDocument/2006/relationships/slide" Target="../slides/slide109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10.xml.rels><?xml version="1.0" encoding="UTF-8"?>
<Relationships xmlns="http://schemas.openxmlformats.org/package/2006/relationships"><Relationship Id="rId1" Type="http://schemas.openxmlformats.org/officeDocument/2006/relationships/slide" Target="../slides/slide110.xml"/><Relationship Id="rId2" Type="http://schemas.openxmlformats.org/officeDocument/2006/relationships/notesMaster" Target="../notesMasters/notesMaster1.xml"/>
</Relationships>
</file>

<file path=ppt/notesSlides/_rels/notesSlide111.xml.rels><?xml version="1.0" encoding="UTF-8"?>
<Relationships xmlns="http://schemas.openxmlformats.org/package/2006/relationships"><Relationship Id="rId1" Type="http://schemas.openxmlformats.org/officeDocument/2006/relationships/slide" Target="../slides/slide111.xml"/><Relationship Id="rId2" Type="http://schemas.openxmlformats.org/officeDocument/2006/relationships/notesMaster" Target="../notesMasters/notesMaster1.xml"/>
</Relationships>
</file>

<file path=ppt/notesSlides/_rels/notesSlide112.xml.rels><?xml version="1.0" encoding="UTF-8"?>
<Relationships xmlns="http://schemas.openxmlformats.org/package/2006/relationships"><Relationship Id="rId1" Type="http://schemas.openxmlformats.org/officeDocument/2006/relationships/slide" Target="../slides/slide112.xml"/><Relationship Id="rId2" Type="http://schemas.openxmlformats.org/officeDocument/2006/relationships/notesMaster" Target="../notesMasters/notesMaster1.xml"/>
</Relationships>
</file>

<file path=ppt/notesSlides/_rels/notesSlide113.xml.rels><?xml version="1.0" encoding="UTF-8"?>
<Relationships xmlns="http://schemas.openxmlformats.org/package/2006/relationships"><Relationship Id="rId1" Type="http://schemas.openxmlformats.org/officeDocument/2006/relationships/slide" Target="../slides/slide113.xml"/><Relationship Id="rId2" Type="http://schemas.openxmlformats.org/officeDocument/2006/relationships/notesMaster" Target="../notesMasters/notesMaster1.xml"/>
</Relationships>
</file>

<file path=ppt/notesSlides/_rels/notesSlide114.xml.rels><?xml version="1.0" encoding="UTF-8"?>
<Relationships xmlns="http://schemas.openxmlformats.org/package/2006/relationships"><Relationship Id="rId1" Type="http://schemas.openxmlformats.org/officeDocument/2006/relationships/slide" Target="../slides/slide114.xml"/><Relationship Id="rId2" Type="http://schemas.openxmlformats.org/officeDocument/2006/relationships/notesMaster" Target="../notesMasters/notesMaster1.xml"/>
</Relationships>
</file>

<file path=ppt/notesSlides/_rels/notesSlide115.xml.rels><?xml version="1.0" encoding="UTF-8"?>
<Relationships xmlns="http://schemas.openxmlformats.org/package/2006/relationships"><Relationship Id="rId1" Type="http://schemas.openxmlformats.org/officeDocument/2006/relationships/slide" Target="../slides/slide115.xml"/><Relationship Id="rId2" Type="http://schemas.openxmlformats.org/officeDocument/2006/relationships/notesMaster" Target="../notesMasters/notesMaster1.xml"/>
</Relationships>
</file>

<file path=ppt/notesSlides/_rels/notesSlide116.xml.rels><?xml version="1.0" encoding="UTF-8"?>
<Relationships xmlns="http://schemas.openxmlformats.org/package/2006/relationships"><Relationship Id="rId1" Type="http://schemas.openxmlformats.org/officeDocument/2006/relationships/slide" Target="../slides/slide116.xml"/><Relationship Id="rId2" Type="http://schemas.openxmlformats.org/officeDocument/2006/relationships/notesMaster" Target="../notesMasters/notesMaster1.xml"/>
</Relationships>
</file>

<file path=ppt/notesSlides/_rels/notesSlide117.xml.rels><?xml version="1.0" encoding="UTF-8"?>
<Relationships xmlns="http://schemas.openxmlformats.org/package/2006/relationships"><Relationship Id="rId1" Type="http://schemas.openxmlformats.org/officeDocument/2006/relationships/slide" Target="../slides/slide117.xml"/><Relationship Id="rId2" Type="http://schemas.openxmlformats.org/officeDocument/2006/relationships/notesMaster" Target="../notesMasters/notesMaster1.xml"/>
</Relationships>
</file>

<file path=ppt/notesSlides/_rels/notesSlide118.xml.rels><?xml version="1.0" encoding="UTF-8"?>
<Relationships xmlns="http://schemas.openxmlformats.org/package/2006/relationships"><Relationship Id="rId1" Type="http://schemas.openxmlformats.org/officeDocument/2006/relationships/slide" Target="../slides/slide118.xml"/><Relationship Id="rId2" Type="http://schemas.openxmlformats.org/officeDocument/2006/relationships/notesMaster" Target="../notesMasters/notesMaster1.xml"/>
</Relationships>
</file>

<file path=ppt/notesSlides/_rels/notesSlide119.xml.rels><?xml version="1.0" encoding="UTF-8"?>
<Relationships xmlns="http://schemas.openxmlformats.org/package/2006/relationships"><Relationship Id="rId1" Type="http://schemas.openxmlformats.org/officeDocument/2006/relationships/slide" Target="../slides/slide119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20.xml.rels><?xml version="1.0" encoding="UTF-8"?>
<Relationships xmlns="http://schemas.openxmlformats.org/package/2006/relationships"><Relationship Id="rId1" Type="http://schemas.openxmlformats.org/officeDocument/2006/relationships/slide" Target="../slides/slide12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89.xml.rels><?xml version="1.0" encoding="UTF-8"?>
<Relationships xmlns="http://schemas.openxmlformats.org/package/2006/relationships"><Relationship Id="rId1" Type="http://schemas.openxmlformats.org/officeDocument/2006/relationships/slide" Target="../slides/slide89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_rels/notesSlide91.xml.rels><?xml version="1.0" encoding="UTF-8"?>
<Relationships xmlns="http://schemas.openxmlformats.org/package/2006/relationships"><Relationship Id="rId1" Type="http://schemas.openxmlformats.org/officeDocument/2006/relationships/slide" Target="../slides/slide91.xml"/><Relationship Id="rId2" Type="http://schemas.openxmlformats.org/officeDocument/2006/relationships/notesMaster" Target="../notesMasters/notesMaster1.xml"/>
</Relationships>
</file>

<file path=ppt/notesSlides/_rels/notesSlide92.xml.rels><?xml version="1.0" encoding="UTF-8"?>
<Relationships xmlns="http://schemas.openxmlformats.org/package/2006/relationships"><Relationship Id="rId1" Type="http://schemas.openxmlformats.org/officeDocument/2006/relationships/slide" Target="../slides/slide92.xml"/><Relationship Id="rId2" Type="http://schemas.openxmlformats.org/officeDocument/2006/relationships/notesMaster" Target="../notesMasters/notesMaster1.xml"/>
</Relationships>
</file>

<file path=ppt/notesSlides/_rels/notesSlide93.xml.rels><?xml version="1.0" encoding="UTF-8"?>
<Relationships xmlns="http://schemas.openxmlformats.org/package/2006/relationships"><Relationship Id="rId1" Type="http://schemas.openxmlformats.org/officeDocument/2006/relationships/slide" Target="../slides/slide93.xml"/><Relationship Id="rId2" Type="http://schemas.openxmlformats.org/officeDocument/2006/relationships/notesMaster" Target="../notesMasters/notesMaster1.xml"/>
</Relationships>
</file>

<file path=ppt/notesSlides/_rels/notesSlide94.xml.rels><?xml version="1.0" encoding="UTF-8"?>
<Relationships xmlns="http://schemas.openxmlformats.org/package/2006/relationships"><Relationship Id="rId1" Type="http://schemas.openxmlformats.org/officeDocument/2006/relationships/slide" Target="../slides/slide94.xml"/><Relationship Id="rId2" Type="http://schemas.openxmlformats.org/officeDocument/2006/relationships/notesMaster" Target="../notesMasters/notesMaster1.xml"/>
</Relationships>
</file>

<file path=ppt/notesSlides/_rels/notesSlide95.xml.rels><?xml version="1.0" encoding="UTF-8"?>
<Relationships xmlns="http://schemas.openxmlformats.org/package/2006/relationships"><Relationship Id="rId1" Type="http://schemas.openxmlformats.org/officeDocument/2006/relationships/slide" Target="../slides/slide95.xml"/><Relationship Id="rId2" Type="http://schemas.openxmlformats.org/officeDocument/2006/relationships/notesMaster" Target="../notesMasters/notesMaster1.xml"/>
</Relationships>
</file>

<file path=ppt/notesSlides/_rels/notesSlide96.xml.rels><?xml version="1.0" encoding="UTF-8"?>
<Relationships xmlns="http://schemas.openxmlformats.org/package/2006/relationships"><Relationship Id="rId1" Type="http://schemas.openxmlformats.org/officeDocument/2006/relationships/slide" Target="../slides/slide96.xml"/><Relationship Id="rId2" Type="http://schemas.openxmlformats.org/officeDocument/2006/relationships/notesMaster" Target="../notesMasters/notesMaster1.xml"/>
</Relationships>
</file>

<file path=ppt/notesSlides/_rels/notesSlide97.xml.rels><?xml version="1.0" encoding="UTF-8"?>
<Relationships xmlns="http://schemas.openxmlformats.org/package/2006/relationships"><Relationship Id="rId1" Type="http://schemas.openxmlformats.org/officeDocument/2006/relationships/slide" Target="../slides/slide97.xml"/><Relationship Id="rId2" Type="http://schemas.openxmlformats.org/officeDocument/2006/relationships/notesMaster" Target="../notesMasters/notesMaster1.xml"/>
</Relationships>
</file>

<file path=ppt/notesSlides/_rels/notesSlide98.xml.rels><?xml version="1.0" encoding="UTF-8"?>
<Relationships xmlns="http://schemas.openxmlformats.org/package/2006/relationships"><Relationship Id="rId1" Type="http://schemas.openxmlformats.org/officeDocument/2006/relationships/slide" Target="../slides/slide98.xml"/><Relationship Id="rId2" Type="http://schemas.openxmlformats.org/officeDocument/2006/relationships/notesMaster" Target="../notesMasters/notesMaster1.xml"/>
</Relationships>
</file>

<file path=ppt/notesSlides/_rels/notesSlide99.xml.rels><?xml version="1.0" encoding="UTF-8"?>
<Relationships xmlns="http://schemas.openxmlformats.org/package/2006/relationships"><Relationship Id="rId1" Type="http://schemas.openxmlformats.org/officeDocument/2006/relationships/slide" Target="../slides/slide9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ладивостокский Государственный Университет Экономики и Сервис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ститут Международных Отношений  и Социальных Технологий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федра Международных Отношений и Зарубежного регионоведени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ебная презентац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курсу «Международные экономические отношения США и Канады»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авитель ст.преподаватель кафедры МОЗР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дюк Е.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ладивостокский Государственный Университет Экономики и Сервис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ститут Международных Отношений  и Социальных Технологий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федра Международных Отношений и Зарубежного регионоведени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ебная презентац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курсу «Международные экономические отношения США и Канады»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ставитель ст.преподаватель кафедры МОЗР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дюк Е.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громен, а следовательно, и чрезвычайно привлекателен для производителей и инвесторов американский внутренний рынок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н поглощает примерно 90% всего объема внутреннего производства и, кроме того, значительную часть продукции, которая создается в других странах, в том числе в развивающих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громен, а следовательно, и чрезвычайно привлекателен для производителей и инвесторов американский внутренний рынок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н поглощает примерно 90% всего объема внутреннего производства и, кроме того, значительную часть продукции, которая создается в других странах, в том числе в развивающихс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-третьих, преступность и число заключенных в США (по отношению к общей численности населения) на порядок выше, чем в других развитых государствах, таких, как например, Япония или скандинавские страны. Серьезную нагрузку на бюджет оказывают также наркотики и СПИД, которые представляют для США более серьезную проблему, чем для других развитых стра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-третьих, преступность и число заключенных в США (по отношению к общей численности населения) на порядок выше, чем в других развитых государствах, таких, как например, Япония или скандинавские страны. Серьезную нагрузку на бюджет оказывают также наркотики и СПИД, которые представляют для США более серьезную проблему, чем для других развитых стра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-четвертых, сохраняется опасность глубокого экономического кризиса (хотя еще одна Великая депрессия вряд ли возможна)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кольку устойчивость финансовой сферы, существенно больше связанной с мировым рынком, чем в 30-е годы, не гарантирова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-четвертых, сохраняется опасность глубокого экономического кризиса (хотя еще одна Великая депрессия вряд ли возможна)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кольку устойчивость финансовой сферы, существенно больше связанной с мировым рынком, чем в 30-е годы, не гарантирован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оварь экономических терминов :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ая торговля- это обмен товарами и услугами между разными странами, связанный со всеобщей интернационализацией хозяйственной жизни и интенсификацией международного разделения труда в условиях научно- технической револю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ая миграция рабочей силы- передвижение  лиц наемного труда через государственные границы в поисках рабо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ободная торговля- это свободный, беспошлинный или облагаемый лишь незначительными пошлинами ввоз товар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оварь экономических терминов :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народная торговля- это обмен товарами и услугами между разными странами, связанный со всеобщей интернационализацией хозяйственной жизни и интенсификацией международного разделения труда в условиях научно- технической револю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народная миграция рабочей силы- передвижение  лиц наемного труда через государственные границы в поисках работ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вободная торговля- это свободный, беспошлинный или облагаемый лишь незначительными пошлинами ввоз товар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ободная торговля – это свободный, беспошлинный или облагаемый лишь незначительными пошлинами ввоз товар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а цены- валюта в которой устанавливаются цены на това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а платежа – валюта, в которой будет погашено обязательство импорте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а- денежное выражение стоимости това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мпинг- это продажа товаров на внешних рынках по ценам, значительно ниже внутренни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упочные цены- это цены, по которым реализуется сельскохозяйственная продукц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рифы транспорта- это плата за перемещение грузов и пассажиров, взимаемая транспортными организация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вободная торговля – это свободный, беспошлинный или облагаемый лишь незначительными пошлинами ввоз товар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люта цены- валюта в которой устанавливаются цены на това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люта платежа – валюта, в которой будет погашено обязательство импортер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а- денежное выражение стоимости товар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мпинг- это продажа товаров на внешних рынках по ценам, значительно ниже внутренни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очные цены- это цены, по которым реализуется сельскохозяйственная продукц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рифы транспорта- это плата за перемещение грузов и пассажиров, взимаемая транспортными организация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зничные цены- это цены, по которым товары реализуются в розничной торговле предприятиям, организациям и населени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овые цены- это цена реализации товара на мировом рынк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мпорт- ввоз в страну товаров из-за границ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спорт- вывоз товаров из страны для продажи в других стран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анснационализация- это меж государственная интеграция, реализуемая на уровне частных фир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йскурантная цена -усредненная цена, сметная стоимость единицы конечной продукции типового строительного объекта (за 1 кв. м жилой или полезной площади 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зничные цены- это цены, по которым товары реализуются в розничной торговле предприятиям, организациям и населени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ые цены- это цена реализации товара на мировом рынк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мпорт- ввоз в страну товаров из-за границ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спорт- вывоз товаров из страны для продажи в других страна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анснационализация- это меж государственная интеграция, реализуемая на уровне частных фир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йскурантная цена -усредненная цена, сметная стоимость единицы конечной продукции типового строительного объекта (за 1 кв. м жилой или полезной площади 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зор рекомендуемой литератур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 предложенных учебников по общему курсу можно порекомендовать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е экономические отношения: Учебник / Под. ред. Е. Жуковой  и Современные международные отношения: Учебник/ под. ред. А.В. Торкуновой  по лаконичному, но вместе с тем наглядному и доступному изложению материала, ориентированного на студентов экономических специальностей. В учебнике дается достаточно четкое и компактное комплексное  рассмотрение всех важнейших теоретических и практических аспектов мировой экономики и международных экономических  связей, современная их интерпретац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зор рекомендуемой литератур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 предложенных учебников по общему курсу можно порекомендовать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народные экономические отношения: Учебник / Под. ред. Е. Жуковой  и Современные международные отношения: Учебник/ под. ред. А.В. Торкуновой  по лаконичному, но вместе с тем наглядному и доступному изложению материала, ориентированного на студентов экономических специальностей. В учебнике дается достаточно четкое и компактное комплексное  рассмотрение всех важнейших теоретических и практических аспектов мировой экономики и международных экономических  связей, современная их интерпретац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к ,  в частности основные принципы американской экономической политики хорошо  отражены в учебном пособии  Ойкен В. Основные принципы экономической политики.- М.: Прогресс, 1995.- С. 32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фессиональному усвоению дисциплины способствует большее количество примеров, иллюстрирующих реальную практику принятия эффективных решений которые представлены в  таких книгах как Фишер Г. Глобализация мирохозяйственных связей: сущность, направления, перспективы. – М.: ДА МИД РФ, 1999  и  Кругман П., Обстфельд М. Международная экономика. Теория и политика. – М.: ЮНИТИ, 1997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к ,  в частности основные принципы американской экономической политики хорошо  отражены в учебном пособии  Ойкен В. Основные принципы экономической политики.- М.: Прогресс, 1995.- С. 32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фессиональному усвоению дисциплины способствует большее количество примеров, иллюстрирующих реальную практику принятия эффективных решений которые представлены в  таких книгах как Фишер Г. Глобализация мирохозяйственных связей: сущность, направления, перспективы. – М.: ДА МИД РФ, 1999  и  Кругман П., Обстфельд М. Международная экономика. Теория и политика. – М.: ЮНИТИ, 1997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щественную помощь  приносит систематическое знакомство с серьезными отечественными и зарубежными изданиями, такими, как «Коммерсант», «Файненшнл таймс», «БизнесУик», с разнообразной и оперативной  экономической информацией, представленной системой Интернет. Научная периоди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ША - Канада: экономика, политика, культура. 1992-2003 г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овая экономика и международные отношения. 1992-2003 г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пломатический вестник. 1993-2003 г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мерсант. 1999- 2004 г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нансовые известия. 2000-2004 г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щественную помощь  приносит систематическое знакомство с серьезными отечественными и зарубежными изданиями, такими, как «Коммерсант», «Файненшнл таймс», «БизнесУик», с разнообразной и оперативной  экономической информацией, представленной системой Интернет. Научная периодик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ША - Канада: экономика, политика, культура. 1992-2003 г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экономика и международные отношения. 1992-2003 г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пломатический вестник. 1993-2003 г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ммерсант. 1999- 2004 г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нансовые известия. 2000-2004 г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исок используемой литератур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 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е экономические отношения. Интеграция/ Щербанин Ю.А. , Рожков К.Л., Рыбалкин В.Е., Фишер Г. – М.: ЮНИТИ, 1997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йкен В. Основные принципы экономической политики.- М.: Прогресс, 1995.- С. 32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шер Г. Глобализация мирохозяйственных связей: сущность, направления, перспективы. – М.: ДА МИД РФ, 1999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arris S.E. International and Interregional Economics.- N.Y. 196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исок используемой литератур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народные экономические отношения. Интеграция/ Щербанин Ю.А. , Рожков К.Л., Рыбалкин В.Е., Фишер Г. – М.: ЮНИТИ, 199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йкен В. Основные принципы экономической политики.- М.: Прогресс, 1995.- С. 32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шер Г. Глобализация мирохозяйственных связей: сущность, направления, перспективы. – М.: ДА МИД РФ, 1999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Harris S.E. International and Interregional Economics.- N.Y. 196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 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углай В.Б. , Ливенцев Н.Н. Международные экономические отношения.- М.: Финансы и статистика, 1996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иреев А. Международная экономика.- М.:МО, 1997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вшин Ф.М. Мировой рынок: конъюнктура, цены и маркетинг. – М.:МО, 199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orld Investment Report. 2000. N.Y. and Geneva, 2000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углай В.Б. , Ливенцев Н.Н. Международные экономические отношения.- М.: Финансы и статистика, 1996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иреев А. Международная экономика.- М.:МО, 199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евшин Ф.М. Мировой рынок: конъюнктура, цены и маркетинг. – М.:МО, 199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orld Investment Report. 2000. N.Y. and Geneva, 2000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лько промышленность США потребляет около 1/3 сырья, добываемого в мире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также имеет самый емкий рынок машин и оборудования, на долю которого приходится свыше 40% реализуемой в развитых странах продукции машиностро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лько промышленность США потребляет около 1/3 сырья, добываемого в мире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 также имеет самый емкий рынок машин и оборудования, на долю которого приходится свыше 40% реализуемой в развитых странах продукции машиностро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Тема 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Инфляция: ценообразование и денежное обращение. – М.;: ИМЭМО РАН, 1994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Левшин Ф.М. Мировой рынок: конъюнктура, цены и маркетинг. – М.:МО, 199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Кругман П., Обстфельд М. Международная экономика. Теория и политика. – М.: ЮНИТИ, 1997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Trade Finance Payments and Services. L.: BPP Publishing Ltd, 1993, p. 84, 95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Тема 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Инфляция: ценообразование и денежное обращение. – М.;: ИМЭМО РАН, 199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Левшин Ф.М. Мировой рынок: конъюнктура, цены и маркетинг. – М.:МО, 199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Кругман П., Обстфельд М. Международная экономика. Теория и политика. – М.: ЮНИТИ, 1997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rade Finance Payments and Services. L.: BPP Publishing Ltd, 1993, p. 84, 9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Тема 4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Руджейро Р. Прямые иностранные инвестиции и многосторонняя торговая система//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Transnational corporations. – Viol. 5, No 1 (April 1996), p. 1-8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США: политическая мысль и история / Н.Н. Яковлев, В.К. Пархоменко, А.А. Каренин и др./ Ин-т Соединенных штатов Америки и Канады./ М: Наука 1976г. –619 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США в начале 80-х гг. Экономические проблемы/ ред. кол : В.М. Шамберт и др. / АН СССР. Ин-т научной информации по общественным наукам/ М.; Б.и, 1982 г. –230 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orld Investment Report, 1992, N.Y. p. 70-7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orld Investment Report, 1998, N.Y. , p. 74,75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orld Investment Report, 2000, N.Y. and Geneva, 200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Тема 4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Руджейро Р. Прямые иностранные инвестиции и многосторонняя торговая система//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ransnational corporations. – Viol. 5, No 1 (April 1996), p. 1-8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США: политическая мысль и история / Н.Н. Яковлев, В.К. Пархоменко, А.А. Каренин и др./ Ин-т Соединенных штатов Америки и Канады./ М: Наука 1976г. –619 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США в начале 80-х гг. Экономические проблемы/ ред. кол : В.М. Шамберт и др. / АН СССР. Ин-т научной информации по общественным наукам/ М.; Б.и, 1982 г. –230 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orld Investment Report, 1992, N.Y. p. 70-7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orld Investment Report, 1998, N.Y. , p. 74,7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orld Investment Report, 2000, N.Y. and Geneva, 200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 5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Деньги и Кредит», журнал, «Мировая экономика и международные финансовые рынки: итоги 2000 года», статья , №4, 2001 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Мировая экономика и международные отношения», журнал, «Экономика США на исходе века: итоги и проблемы», статья №11, 1998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ализ экономики: Учебник/ Под. ред. В.Е. Рыбалкина.- М.: МО, 1999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нансовая организация и деятельность Международного валютного фонда. – Вашингтон, 1994. – с. 1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The Economist. A Survey of the World Economy. September 19 th 1992, p.6,9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The Economist, 3 August 1996, p.27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The Economist, 27 July 1996, p. 6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васов А.Г. // Финансовый капитал и финансовая олигархия Канады»// Журнал «МЭ и МО» 1999 г. –с. 13-18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Деньги и Кредит», журнал, «Мировая экономика и международные финансовые рынки: итоги 2000 года», статья , №4, 2001 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Мировая экономика и международные отношения», журнал, «Экономика США на исходе века: итоги и проблемы», статья №11, 1998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ализ экономики: Учебник/ Под. ред. В.Е. Рыбалкина.- М.: МО, 1999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нансовая организация и деятельность Международного валютного фонда. – Вашингтон, 1994. – с. 1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The Economist. A Survey of the World Economy. September 19 th 1992, p.6,9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The Economist, 3 August 1996, p.2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The Economist, 27 July 1996, p. 6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васов А.Г. // Финансовый капитал и финансовая олигархия Канады»// Журнал «МЭ и МО» 1999 г. –с. 13-18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 6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шневская Н.Т. Рынок труда – переплетение циклических и структурных факторов// Мировая экономика и международные отношения. – 1993. - № 12. – с. 63-7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шневская Н.Т. рынок труда – проблемы и решения // Мировая экономика и международные отношения. 1995 - № 1. –с. 111 – 117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йло В.С. Проблемы интеллектуального труда // США: экономика, политика, идеология. – 1995. - №6. –с.23-36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рбек Э. Занятость и экономический рост // Человек и труд. – 1994. - №4. – с. 58-6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ТБ. Конвенции и Рекомендации, принятые Международной конвенцией труда. 1919-1986. – Женева, 1988.- С. 1428-1446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Mueller Ch/ the Economist of Labour Migration A Behavioral Analysis, N.Y. 198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6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шневская Н.Т. Рынок труда – переплетение циклических и структурных факторов// Мировая экономика и международные отношения. – 1993. - № 12. – с. 63-7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шневская Н.Т. рынок труда – проблемы и решения // Мировая экономика и международные отношения. 1995 - № 1. –с. 111 – 11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ойло В.С. Проблемы интеллектуального труда // США: экономика, политика, идеология. – 1995. - №6. –с.23-36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рбек Э. Занятость и экономический рост // Человек и труд. – 1994. - №4. – с. 58-6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ТБ. Конвенции и Рекомендации, принятые Международной конвенцией труда. 1919-1986. – Женева, 1988.- С. 1428-1446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Mueller Ch/ the Economist of Labour Migration A Behavioral Analysis, N.Y. 198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Тема 7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«Мир на рубеже тысячелетий», прогноз развития мировой экономики до 2015 года.// 2001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Стиглиц Дж. Ю. Экономика государственного сектора. / пер. с англ. М.:  Изд-во: МГУ, ИНФВА-М, 1997 г. –154 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Комлев С. // Экономика Канады- радикальные перемены// Журнал «МЭ и МО» 1998 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Gray J., Dawn Fals: The Delusions of Global Capitalism. L., 1998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Hancher, D. Messner. Global Trends. Munchen, 1998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Тема 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«Мир на рубеже тысячелетий», прогноз развития мировой экономики до 2015 года.// 2001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Стиглиц Дж. Ю. Экономика государственного сектора. / пер. с англ. М.:  Изд-во: МГУ, ИНФВА-М, 1997 г. –154 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Комлев С. // Экономика Канады- радикальные перемены// Журнал «МЭ и МО» 1998 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Gray J., Dawn Fals: The Delusions of Global Capitalism. L., 1998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ancher, D. Messner. Global Trends. Munchen, 1998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ая литератур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имов Ю.Г. Современное канадское общество: Учебное пособие. -СПб.: Петрополис. 200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ременные международные отношения: Учебник/ под. ред А.В. Торкунова. – М.:РОССПЭН, 200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ША в начале 80-х гг. Экономические проблемы/ ред. кол : В.М. Шамберт и др. / АН СССР. Ин-т научной информации по общественным наукам/ М.; Б.и, 1982 г. –230 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вшин Ф.М. Мировой рынок: конъюнктура, цены и маркетинг. – М.:МО, 199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угман П., Обстфельд М. Международная экономика. Теория и политика. – М.: ЮНИТИ, 1997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углай В.Б. , Ливенцев Н.Н. Международные экономические отношения.- М.: Финансы и статистика, 1996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иреев А. Международная экономика.- М.:МО, 1997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ая литератур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кимов Ю.Г. Современное канадское общество: Учебное пособие. -СПб.: Петрополис. 200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ременные международные отношения: Учебник/ под. ред А.В. Торкунова. – М.:РОССПЭН, 200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ША в начале 80-х гг. Экономические проблемы/ ред. кол : В.М. Шамберт и др. / АН СССР. Ин-т научной информации по общественным наукам/ М.; Б.и, 1982 г. –230 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евшин Ф.М. Мировой рынок: конъюнктура, цены и маркетинг. – М.:МО, 199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угман П., Обстфельд М. Международная экономика. Теория и политика. – М.: ЮНИТИ, 1997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углай В.Б. , Ливенцев Н.Н. Международные экономические отношения.- М.: Финансы и статистика, 1996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иреев А. Международная экономика.- М.:МО, 199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шер Г. Глобализация мирохозяйственных связей: сущность, направления, перспективы. – М.: ДА МИД РФ, 1999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arris S.E. International and Interregional Economics.- N.Y. 196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кконелл, Кемпбелл Р., Брю, Стэнли Л.  Экономикс: принципы,                проблемы и политика : Учебник М.; Инфра- М, 1990г. –905 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е экономические отношения: Учебник / Под. ред. Е. Жукова. – М.: ЮНИТИ, 1999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лодин Андрей, Глерий Широков. Глобализация: выгоды и риски. International Politic. №7, июль 2001. С. 50-57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лягин, М.Г. (ред.) Практика глобализации: игры и правила новой эпохи Москва: ИНФРА-М. 2000. Глава 1.Увлекательная жизнь технологий: информационная революция. Сс. 41-95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еннеди, Пол. Вступая в двадцать первый век. Москва: Весь мир. 1997. С. 37-65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ткин, А.И. Глобализация: процесс и осмысление. Москва: Логос. 2001. С. 160-165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Eberstadt, Nicholas. The Population Implosion. Foreign Policy, March/April 2001, p. 42-5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шер Г. Глобализация мирохозяйственных связей: сущность, направления, перспективы. – М.: ДА МИД РФ, 1999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Harris S.E. International and Interregional Economics.- N.Y. 196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кконелл, Кемпбелл Р., Брю, Стэнли Л.  Экономикс: принципы,                проблемы и политика : Учебник М.; Инфра- М, 1990г. –905 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народные экономические отношения: Учебник / Под. ред. Е. Жукова. – М.: ЮНИТИ, 1999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лодин Андрей, Глерий Широков. Глобализация: выгоды и риски. International Politic. №7, июль 2001. С. 50-5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лягин, М.Г. (ред.) Практика глобализации: игры и правила новой эпохи Москва: ИНФРА-М. 2000. Глава 1.Увлекательная жизнь технологий: информационная революция. Сс. 41-9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еннеди, Пол. Вступая в двадцать первый век. Москва: Весь мир. 1997. С. 37-6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ткин, А.И. Глобализация: процесс и осмысление. Москва: Логос. 2001. С. 160-16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Eberstadt, Nicholas. The Population Implosion. Foreign Policy, March/April 2001, p. 42-5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заменационные вопросы по курсу «Международные экономические отношения США и Канады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рактеристика и структура мирового хозяй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ая специализация и ее сущн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ы международных отношений. Внешняя и мировая торговл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воз капитала как одна из форм международных экономических отнош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щность и понятие глобальных проблем в современных условия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мировых це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направления международного экономического сотрудничества в  области глобальных пробл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заменационные вопросы по курсу «Международные экономические отношения США и Канады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арактеристика и структура мирового хозяй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народная специализация и ее сущнос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ы международных отношений. Внешняя и мировая торговл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воз капитала как одна из форм международных экономических отношен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щность и понятие глобальных проблем в современных условия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мировых це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направления международного экономического сотрудничества в  области глобальных пробле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ути решения глобальных  мировых проблем и роль США в их реализ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ие и развитие транснациональных корпораций и кредитно-финансовых  институт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едитные отношения. Кредитование импор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ая миграция рабочей сил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ьюктура мирового рынка и организация продвижения това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ообразование в международной торговле. Классификация це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ение экспортных це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бильность мировой финансовой систе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ономерности формирования це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троль государства над цен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ути решения глобальных  мировых проблем и роль США в их реализ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здание и развитие транснациональных корпораций и кредитно-финансовых  институт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едитные отношения. Кредитование импор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народная миграция рабочей сил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ьюктура мирового рынка и организация продвижения товар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ообразование в международной торговле. Классификация це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ение экспортных це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абильность мировой финансовой систем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ономерности формирования це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троль государства над цен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ы вывоза капита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ая характеристика состояния и потенциала торгово-экономических связей России и СШ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позиции России и США в области ядерного оруж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рия развития экономических отношений Канады и СШ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вестиционные позиции США в Япон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ссия и США перспективы развития на будуще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намика и структура экономических связей США с Кита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е интеграционные процесс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ение ценовой политики. Необходимая информац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ркетинговая стратегия в ценообразован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ль межгосударственного сотрудничества и международных организаций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ы вывоза капитал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щая характеристика состояния и потенциала торгово-экономических связей России и СШ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позиции России и США в области ядерного оруж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рия развития экономических отношений Канады и СШ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вестиционные позиции США в Япон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ссия и США перспективы развития на будуще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намика и структура экономических связей США с Китае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народные интеграционные процесс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ение ценовой политики. Необходимая информац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ркетинговая стратегия в ценообразован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ль межгосударственного сотрудничества и международных организаций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ана расходует огромные средства на НИОКР (до 40% мировых затрат, 162 млрд. долл. в 1992 г.). Ежегодные ассигнования на эти цели превышают подобные расходы Британии, Германии, Франции и Японии вместе взяты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ля США в общем объеме экспорта наукоемкой продукции в современном мире,  составляет не менее 20%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ана расходует огромные средства на НИОКР (до 40% мировых затрат, 162 млрд. долл. в 1992 г.). Ежегодные ассигнования на эти цели превышают подобные расходы Британии, Германии, Франции и Японии вместе взятых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ля США в общем объеме экспорта наукоемкой продукции в современном мире,  составляет не менее 20%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щность международной торговли и ее особенности на современном этап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ешнеторговая полити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вропейская ассоциация свободной торговли (ЕАСТ). Основные це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витие экономических отношений США И Ближний Восток. Американская теория модернизации Ближнего Восто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щность международной торговли и ее особенности на современном этап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нешнеторговая полити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вропейская ассоциация свободной торговли (ЕАСТ). Основные цел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итие экономических отношений США И Ближний Восток. Американская теория модернизации Ближнего Восто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бъектами международных экономических отношений являютс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 на микроэкономическом уровн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лкие и средние предприятия, а также физические лица, осуществляющие внешнеэкономические операц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  на макроэкономическом уровне субъектами     международных экономических отношений   выступают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дельные страны (их региональные и муниципальные субъекты), интеграционные объединения стран, крупные города и отдельные области (регионы) разных стран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бъектами международных экономических отношений являютс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) на микроэкономическом уровне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лкие и средние предприятия, а также физические лица, осуществляющие внешнеэкономические операци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)  на макроэкономическом уровне субъектами     международных экономических отношений   выступают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дельные страны (их региональные и муниципальные субъекты), интеграционные объединения стран, крупные города и отдельные области (регионы) разных стран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) на обоих уровнях функционируют крупнейшие международные торговые, финансовые, промышленные корпорации, а также институциональные инвесторы: инвестиционные, пенсионные и другие фонды, страховые, трастовые компании. |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) на наднациональном уровне в качестве субъектов МЭО действуют международные организации и наднациональные институ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) на обоих уровнях функционируют крупнейшие международные торговые, финансовые, промышленные корпорации, а также институциональные инвесторы: инвестиционные, пенсионные и другие фонды, страховые, трастовые компании. |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) на наднациональном уровне в качестве субъектов МЭО действуют международные организации и наднациональные институт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ая специализация и ее сущн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ециализация позволяет отдельным странам не затрачивать огромные денежные ресурсы на создание некоторых производств для выпуска товаров, а получать их путем внешней торгов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щность специализации состоит в том, что отдельные страны специализируются на выпуске каких-то конкретных товаров и услуг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народная специализация и ее сущнос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ециализация позволяет отдельным странам не затрачивать огромные денежные ресурсы на создание некоторых производств для выпуска товаров, а получать их путем внешней торговл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щность специализации состоит в том, что отдельные страны специализируются на выпуске каких-то конкретных товаров и услуг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результате дальнейшего развития международной специализации произошло разделение стран как бы на три группы 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аны производящие продукцию обрабатывающей промышленности на мировой рынок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аны дающие продукцию добывающей промышленност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аны специализирующие на производстве и продаже продукции сельского хозяйств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результате дальнейшего развития международной специализации произошло разделение стран как бы на три группы 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аны производящие продукцию обрабатывающей промышленности на мировой рынок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аны дающие продукцию добывающей промышленности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аны специализирующие на производстве и продаже продукции сельского хозяйств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это же время существует и четвертая группа стран, которая одновременно производит продукцию обрабатывающей, добывающей промышленности и сельского хозяйства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ряд западных промышленно развитых стран (США, Канада, Англия, ФРГ, Франци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это же время существует и четвертая группа стран, которая одновременно производит продукцию обрабатывающей, добывающей промышленности и сельского хозяйства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 ряд западных промышленно развитых стран (США, Канада, Англия, ФРГ, Франция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первой группе стран следует отнести в основном такие промышленно развитые западные страны, как США, Канада, ФРГ, а также Япония, Италия,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которые поставляют на мировой рынок  высокотехнологическое оборудование, автомобили, станки, химические товары, бытовую техник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 первой группе стран следует отнести в основном такие промышленно развитые западные страны, как США, Канада, ФРГ, а также Япония, Италия,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которые поставляют на мировой рынок  высокотехнологическое оборудование, автомобили, станки, химические товары, бытовую техник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 второй группе относятся страны, обладающие мощными минеральными ресурсами и продающими их на мировом рынке. Это прежде всего нефтедобывающие страны Ближнего востока, Латинской Америки, Африки, осуществляющие продажу  нефти и газа в основном промышленно развитым странам. А также  такие промышленно развитые страны как Швеция, Канада, которые добывают в большом количестве различные минеральные ресурсы (уголь, руды черных и цветных металлов, золото, серебро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 второй группе относятся страны, обладающие мощными минеральными ресурсами и продающими их на мировом рынке. Это прежде всего нефтедобывающие страны Ближнего востока, Латинской Америки, Африки, осуществляющие продажу  нефти и газа в основном промышленно развитым странам. А также  такие промышленно развитые страны как Швеция, Канада, которые добывают в большом количестве различные минеральные ресурсы (уголь, руды черных и цветных металлов, золото, серебро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третьей группе относятся страны , специализация которых на всемирном рынке ограничивается исключительно сельскохозяйственной продукцией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касается стран   Азии, Африки, и Латинской  Америки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тавщиками сельскохозяйственной продукции на мировом рынке являются также большинство промышленно развитых стран (США, Канада, Западная Европа, Австралия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 третьей группе относятся страны , специализация которых на всемирном рынке ограничивается исключительно сельскохозяйственной продукцией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 касается стран   Азии, Африки, и Латинской  Америки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тавщиками сельскохозяйственной продукции на мировом рынке являются также большинство промышленно развитых стран (США, Канада, Западная Европа, Австралия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 2. Виды и формы МЗО на современном этапе. Тенденции динамики и структур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овременных условия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ми формами международных  экономических отнош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вляются следующие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2. Виды и формы МЗО на современном этапе. Тенденции динамики и структур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современных условия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ми формами международных  экономических отнош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являются следующие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ешняя и мировая торговл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едитные отнош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е и платежно-расчетные отнош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грация и вывоз капитал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ая миграция рабочей сил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нешняя и мировая торговл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едитные отноше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лютные и платежно-расчетные отноше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грация и вывоз капитал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народная миграция рабочей сил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е интеграционные процесс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ие и развитие транснациональных корпораций и кредитно-финансовых институт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государственное регулирование международных экономических отношений (регулирование валютно-финансовых, торговых отношений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учно- техническое и производственное сотрудниче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народные интеграционные процесс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здание и развитие транснациональных корпораций и кредитно-финансовых институто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государственное регулирование международных экономических отношений (регулирование валютно-финансовых, торговых отношений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учно- техническое и производственное сотрудниче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ешняя и мировая торговл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ременный  мировой рынок- это сфера обмена, которая охватывает совокупное товарное обращение различных стран, являющихся его составными органическими элемент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емление к получению прибыли и сравнительно узкие рамки национальных  рынков за пределы своего рынка, что в итоге ведет к поискам внешних рынк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нешняя и мировая торговл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ременный  мировой рынок- это сфера обмена, которая охватывает совокупное товарное обращение различных стран, являющихся его составными органическими элемент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емление к получению прибыли и сравнительно узкие рамки национальных  рынков за пределы своего рынка, что в итоге ведет к поискам внешних рынк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едитные отнош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фер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х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ческих отношени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едитные отноше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никаю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трех случаях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-первых, в связи с кредитованием внешней торговл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-вторых, в результате движения ссудного капитала в рамках мирового рынк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- третьих, в связи с поведением международных расчет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едитные отнош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сфер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народных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номических отношени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едитные отношен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зникаю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трех случаях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-первых, в связи с кредитованием внешней торговли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-вторых, в результате движения ссудного капитала в рамках мирового рынка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- третьих, в связи с поведением международных расчет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едитование внешней торговли включает  кредитование экспорта и кредитование импорт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едитование экспорта осуществляется в форме покупательских взнос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едитование импорта также производится посредством коммерческого и банковского креди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едитование внешней торговли включает  кредитование экспорта и кредитование импорт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едитование экспорта осуществляется в форме покупательских взносо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едитование импорта также производится посредством коммерческого и банковского креди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е и платежно-расчетные отноше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е отношения между различными странам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е операции между различными участниками валютного рынка, представляющие официальные центры купли-продажи валют на основании спроса и предложения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лютные и платежно-расчетные отношен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лютные отношения между различными странами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лютные операции между различными участниками валютного рынка, представляющие официальные центры купли-продажи валют на основании спроса и предложения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й арбитраж, позволяющий использовать разницу в котировках валют на международных и национальных  валютных рынках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витие и регулирование национального валютного рынка, а также участие в операциях международного валютного рынка, осуществление валютных ограничений и использование валютных клиринг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лютный арбитраж, позволяющий использовать разницу в котировках валют на международных и национальных  валютных рынках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итие и регулирование национального валютного рынка, а также участие в операциях международного валютного рынка, осуществление валютных ограничений и использование валютных клиринг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финансовым документам относятся векселя (простые и переводные), чеки, платежные расписк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Коммерческим документам: счета-фактуры, отгрузочные документы (коносаменты, квитанции), страховые полисы и документы страховых компаний; прочие документы (сертификаты, счета и т.д.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 финансовым документам относятся векселя (простые и переводные), чеки, платежные расписк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 Коммерческим документам: счета-фактуры, отгрузочные документы (коносаменты, квитанции), страховые полисы и документы страховых компаний; прочие документы (сертификаты, счета и т.д.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ША- государство в Северной Америке, федеративная республика, состоящая из 50 штатов: Аляски, Гавайев и 48 штатов на территории между Атлантическим и Тихим океанами и между Канадой и Мексик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ША – государство-гигант, ведущая экономическая и военная держава, занимающая третье место в мире по площади и численности насел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ША- государство в Северной Америке, федеративная республика, состоящая из 50 штатов: Аляски, Гавайев и 48 штатов на территории между Атлантическим и Тихим океанами и между Канадой и Мексико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ША – государство-гигант, ведущая экономическая и военная держава, занимающая третье место в мире по площади и численности населен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ществует следующая разновидность чеко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рожный (туристический) чек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врочек(чек в евровалюте, который действует с 1968 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едитные карточ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ы СВИФТ – информация по международным банковским расчета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CEDEL – межбанковские расчеты то торговле ценными бумагами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четы по валютным операция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ществует следующая разновидность чеков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рожный (туристический) чек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врочек(чек в евровалюте, который действует с 1968 г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едитные карточ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ы СВИФТ – информация по международным банковским расчетам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CEDEL – межбанковские расчеты то торговле ценными бумагами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четы по валютным операция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грация  и  вывоз капитал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воз капитала представляет собой помещение капитала за границей в целях систематического  получения дополнительной прибыл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грация  и  вывоз капитал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воз капитала представляет собой помещение капитала за границей в целях систематического  получения дополнительной прибыл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требность повышения прибыли  заставляет капиталистов вывозить капитал за пределы национальных границ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быль от вывоза капитала за первые полвека значительно возросла. Накануне первой мировой войны доходы от всех иностранных инвестиций капиталистических стран составляли ежегодно 1,8-2 млрд. дол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требность повышения прибыли  заставляет капиталистов вывозить капитал за пределы национальных границ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быль от вывоза капитала за первые полвека значительно возросла. Накануне первой мировой войны доходы от всех иностранных инвестиций капиталистических стран составляли ежегодно 1,8-2 млрд. долл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1929 г. доходы от четырех крупных западных держав (США, Англии, Франции, Японии) от заграничных инвестиций достигали 2,3 млрд. дол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 уж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1958 г. доходы только от США, Англии и Франции превышали 6 млрд. дол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1929 г. доходы от четырех крупных западных держав (США, Англии, Франции, Японии) от заграничных инвестиций достигали 2,3 млрд. долл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 уж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1958 г. доходы только от США, Англии и Франции превышали 6 млрд. дол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ка существовали огромные  колониальные империи, вывоз капитала направлялся в первую очередь в экономически отсталые,  аграрно-сырьевые страны, где прибыль обычно более высока вследствие очень низкой оплаты труда рабочего класса, сравнительной дешевизны земли и сырьевых материал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ка существовали огромные  колониальные империи, вывоз капитала направлялся в первую очередь в экономически отсталые,  аграрно-сырьевые страны, где прибыль обычно более высока вследствие очень низкой оплаты труда рабочего класса, сравнительной дешевизны земли и сырьевых материало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рма прибыли американских нефтяных монополий в Венесуэле -33%, на Ближнем Востоке-100%, тогда как к внутри США – 10%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рма прибыли американских нефтяных монополий в Венесуэле -33%, на Ближнем Востоке-100%, тогда как к внутри США – 10%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мере роста трудностей в области экспорта товаров в связи с обострением  проблемы рынков сбыта все большую роль в завоевании внешних рынков играет вывоз капитала. Движение экспортируемого капитала подчиняло себе движение товаров в международной торговл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мере роста трудностей в области экспорта товаров в связи с обострением  проблемы рынков сбыта все большую роль в завоевании внешних рынков играет вывоз капитала. Движение экспортируемого капитала подчиняло себе движение товаров в международной торговл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  3. Ценообразование в международной торговле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ая торговля и внешнеторговая полити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а- денежное выражение стоимости това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основе  стоимости товара лежат затраты на производство и реализацию продукции с учетом чистого дохода, необходимого для эффективной деятельности предприятия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также платежи в бюдж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 3. Ценообразование в международной торговле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народная торговля и внешнеторговая полити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а- денежное выражение стоимости товар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основе  стоимости товара лежат затраты на производство и реализацию продукции с учетом чистого дохода, необходимого для эффективной деятельности предприятия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 также платежи в бюдже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международной торговле существуют следующие виды классификации цен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территориальному признаку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зависимости от порядка возмещения транспортных расходов  по доставке груз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 степени государственного регулирова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международной торговле существуют следующие виды классификации цен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территориальному признаку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зависимости от порядка возмещения транспортных расходов  по доставке груз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 степени государственного регулирован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территориальному признаку на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диные или пояс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гиональные (зональны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территориальному признаку на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диные или пояс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гиональные (зональные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 1. Характеристика и структура мирового хозяй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настоящее время США являются ведущей страной в мировом хозяйстве, одним из крупнейших по территории и населению государством ми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ни занимают территорию площадью около 9,3 млн. кв. км, на которой проживает более 265 млн. человек, или 1,7% населения ми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1. Характеристика и структура мирового хозяй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настоящее время США являются ведущей страной в мировом хозяйстве, одним из крупнейших по территории и населению государством мир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ни занимают территорию площадью около 9,3 млн. кв. км, на которой проживает более 265 млн. человек, или 1,7% населения мир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 степени государственного регулирования н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ободные цены, складывающиеся под влиянием спроса и предлож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гулируемые, складывающиеся на рынке, но испытывающие определенное влияние (прямое или косвенное) государственных орган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ксируемые, устанавливаемые государственными органами на ограниченный круг товаров, в зависимости от степени новизны това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 степени государственного регулирования н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вободные цены, складывающиеся под влиянием спроса и предлож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гулируемые, складывающиеся на рынке, но испытывающие определенное влияние (прямое или косвенное) государственных орган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ксируемые, устанавливаемые государственными органами на ограниченный круг товаров, в зависимости от степени новизны товар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ним из способов проникновения  на  рынок с новым товаром является продажа его по сравнительно низкой цене для стимулирования спрос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 наличии постоянных ценовых колебаний  и множества  скидок и надбавок, трудно определить реальный уровень цен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месте с тем цены даже идентичных товаров могут  меняться в зависимости от качества, сортов и т.д. Уровень цен зависит также от размеров сбытовых расходов: чем больше посредников при реализации товаров, тем больше разного рода надбавок к цен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дним из способов проникновения  на  рынок с новым товаром является продажа его по сравнительно низкой цене для стимулирования спрос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  наличии постоянных ценовых колебаний  и множества  скидок и надбавок, трудно определить реальный уровень цен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месте с тем цены даже идентичных товаров могут  меняться в зависимости от качества, сортов и т.д. Уровень цен зависит также от размеров сбытовых расходов: чем больше посредников при реализации товаров, тем больше разного рода надбавок к цен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товары с длительным жизненным циклом, которые реализуются на рынке продолжительное время , устанавливаются следующие виды цен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кользящая или падающая цен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лговременная цен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ибкая це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говорная цен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товары с длительным жизненным циклом, которые реализуются на рынке продолжительное время , устанавливаются следующие виды цен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кользящая или падающая цен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лговременная цен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ибкая це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говорная цен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кользящая или падающая цен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ируется под влиянием спроса и предложения,  а затем по мере насыщения рынка постепенно снижает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кользящая или падающая цен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ируется под влиянием спроса и предложения,  а затем по мере насыщения рынка постепенно снижаетс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лговременная цен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рактерна для товаров массового спроса и остается неизменной в течение длительного периода времен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лговременная цен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арактерна для товаров массового спроса и остается неизменной в течение длительного периода времен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ибкая цен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няется под влиянием спроса и предложения в относительно короткие сро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ибкая цен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няется под влиянием спроса и предложения в относительно короткие сро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говорная цен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оответствии с ней покупателям могут быть предложены  какие-либо скидки с обычной це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говорная цен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соответствии с ней покупателям могут быть предложены  какие-либо скидки с обычной цен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 сферы товарного обращения  различают следующие виды цен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товые цены на промышленную продукци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ы на продукцию строитель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упочные це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рифы грузового и пассажирского транспор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зничные це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рифы на платные услуги населени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ы обслуживающие внешнеторговый оборо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 сферы товарного обращения  различают следующие виды цен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товые цены на промышленную продукци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ы на продукцию строитель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очные цен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рифы грузового и пассажирского транспор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зничные цен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рифы на платные услуги населени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ы обслуживающие внешнеторговый оборо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ы на строительную продукцию делятся на три вид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межная стоимость -предельный размер затрат на строительство объек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йскурантная цена -усредненная цена, сметная стоимость единицы конечной продукции типового строительного объекта (за 1 кв. м жилой или полезной площади 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говорная цена- устанавливается по соглашению сторон между  заказчиками и подрядчик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ы на строительную продукцию делятся на три вид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межная стоимость -предельный размер затрат на строительство объек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йскурантная цена -усредненная цена, сметная стоимость единицы конечной продукции типового строительного объекта (за 1 кв. м жилой или полезной площади 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говорная цена- устанавливается по соглашению сторон между  заказчиками и подрядчик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ая торговля – обмен товарами и услугами между разными странами, связанный со всеобщей интернационализацией хозяйственной жизн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результате возникли два вида международных компаний, имеющих предприятия в разных странах, а именн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народная торговля – обмен товарами и услугами между разными странами, связанный со всеобщей интернационализацией хозяйственной жизн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результате возникли два вида международных компаний, имеющих предприятия в разных странах, а именн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анснациональные корпорации (ТНК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циональные  по капиталу, но интернациональные по сфере деятель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е корпорации (МНК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тернациональные  и по капиталу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сфере деятель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анснациональные корпорации (ТНК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циональные  по капиталу, но интернациональные по сфере деятель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народные корпорации (МНК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тернациональные  и по капиталу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сфере деяте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вропейский Союз (ЕС) возник на базе Европейского экономического сообщества (ЕЭС), 1 января 1958 г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цели ЕЭС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ие пространства без внутренних границ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действие сбалансированному и длительному экономическому прогрессу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вропейский Союз (ЕС) возник на базе Европейского экономического сообщества (ЕЭС), 1 января 1958 г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цели ЕЭС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здание пространства без внутренних границ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действие сбалансированному и длительному экономическому прогрессу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вропейская ассоциация свободной торговли (ЕАСТ). 3 мая 1960 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цели ЕАС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действие постоянному росту экономической активности, обеспечению полной занятости, повышению производительности, рациональному использованию ресурсов, финансовой стабильности и неуклонному повышению уровня жизн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вропейская ассоциация свободной торговли (ЕАСТ). 3 мая 1960 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цели ЕАСТ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действие постоянному росту экономической активности, обеспечению полной занятости, повышению производительности, рациональному использованию ресурсов, финансовой стабильности и неуклонному повышению уровня жизни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вропейское экономическое пространство (ЕЭП)  1994 год, приходится свыше 40% мировой торгов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этом рынке ликвидированы практически все оставшиеся барьеры на пути свободного перемещения  товаров, услуг, капиталов и людских ресурс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вропейское экономическое пространство (ЕЭП)  1994 год, приходится свыше 40% мировой торговл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этом рынке ликвидированы практически все оставшиеся барьеры на пути свободного перемещения  товаров, услуг, капиталов и людских ресурс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  4.  Миграция  и  вывоз капитала как форма международных экономических отнош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ми чертами вывоза капитала на современном этапе является его миграция как в развивающиеся, так и в развитые стра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воз капитала наиболее развитая, усовершенствованная форма международной эксплуат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 4.  Миграция  и  вывоз капитала как форма международных экономических отношен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ми чертами вывоза капитала на современном этапе является его миграция как в развивающиеся, так и в развитые стран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воз капитала наиболее развитая, усовершенствованная форма международной эксплуат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ой формой вывоза капитала остаются вывоз функционирующего ссудного капитала, осуществляемый в виде вложений в промышленность, торговлю, транспорт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торая форма– вывоз  ссудного капитала, который различается по срокам, назначению, характеру обеспечения и субъект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ой формой вывоза капитала остаются вывоз функционирующего ссудного капитала, осуществляемый в виде вложений в промышленность, торговлю, транспорт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торая форма– вывоз  ссудного капитала, который различается по срокам, назначению, характеру обеспечения и субъекту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воз функционирующего ссудного капитал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ществуют прямые вложения (инвестиции), которые дают право контроля, и портфельные, обеспечивающие только участие, а не контроль. Формой дохода может быть прибыль или прибыль в виде дивиденд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воз функционирующего ссудного капитал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ществуют прямые вложения (инвестиции), которые дают право контроля, и портфельные, обеспечивающие только участие, а не контроль. Формой дохода может быть прибыль или прибыль в виде дивидендо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воз  ссудного капитал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уществляется в виде международных займов на различные сроки, предоставляемые как частным сектором, так и государствами, и в форме вложений в ценные бумаги (акции, облигации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воз  ссудного капитал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уществляется в виде международных займов на различные сроки, предоставляемые как частным сектором, так и государствами, и в форме вложений в ценные бумаги (акции, облигации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е займы различаются по своему назначени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займы, или кредиты, производительного характер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как займы, или кредиты, непроизводительного характера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народные займы различаются по своему назначени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займы, или кредиты, производительного характер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как займы, или кредиты, непроизводительного характера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зводительного характера в промышленности, на транспорте, в сельском хозяйстве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производительного характера, т.е. используемые для гонки вооружений, содержания военно-полицейского аппарата, непосредственно для ведения войны, выплаты процентов по старым займам и т.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изводительного характера в промышленности, на транспорте, в сельском хозяйстве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производительного характера, т.е. используемые для гонки вооружений, содержания военно-полицейского аппарата, непосредственно для ведения войны, выплаты процентов по старым займам и т.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ямые и портфельные инвестиц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воз инвестиций функционирующего капитала осуществляется в двух основных формах: прямые инвестиции и портфельны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ямые и портфельные инвестици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воз инвестиций функционирующего капитала осуществляется в двух основных формах: прямые инвестиции и портфельны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ямые инвести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уществляются различными путям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одних случаях 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пании или банки создают филиалы за границей, строят там свои предприятия, образуют специальные компании, которые действуют преимущественно за границей, покупают зарубежные предприятия. При этом заграничные инвестиции находятся в полной собственности компаний, вывозящих капита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ямые инвести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уществляются различными путям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одних случаях 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мпании или банки создают филиалы за границей, строят там свои предприятия, образуют специальные компании, которые действуют преимущественно за границей, покупают зарубежные предприятия. При этом заграничные инвестиции находятся в полной собственности компаний, вывозящих капитал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других случаях 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ладелец капитала приобретает контрольный пакет акций иностранной компаний, составляю­щий, как правило, 25% или более ее акционерного капита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других случаях 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ладелец капитала приобретает контрольный пакет акций иностранной компаний, составляю­щий, как правило, 25% или более ее акционерного капитал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ртфельные инвести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ставляют собой такие вложения в ценные бумаги иностранных фирм, которые либо слишком малы, либо так распылены между держателями, что не могут дать экспортеру капитала контроль над этими фирма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ртфельные вложения составляют значительную часть заграничных инвестиций ряда малых западных стран (Швейцария, Дания, Канада и т.д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ртфельные инвести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ставляют собой такие вложения в ценные бумаги иностранных фирм, которые либо слишком малы, либо так распылены между держателями, что не могут дать экспортеру капитала контроль над этими фирмам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ртфельные вложения составляют значительную часть заграничных инвестиций ряда малых западных стран (Швейцария, Дания, Канада и т.д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нако такие вложения имеются и у ведущих держав. Так, на конец 1980 г. портфельные инвестиции США составили 12,6 млрд долл., т.е. около 22% всех частных заграничных инвестици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днако такие вложения имеются и у ведущих держав. Так, на конец 1980 г. портфельные инвестиции США составили 12,6 млрд долл., т.е. около 22% всех частных заграничных инвестици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  5. Международные валютно-денежные и кредитные рынки. 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ьшое  влияние  на  международные  валютно-кредитные  и   финансовые отношения   оказывают   ведущие   промышленно-развитые   страны    (особенно«семерка»)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торые выступают как партнеры-соперники. Последние  десятилетия отмечены активизацией развивающихся стран в этой сфере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 5. Международные валютно-денежные и кредитные рынки. 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льшое  влияние  на  международные  валютно-кредитные  и   финансовые отношения   оказывают   ведущие   промышленно-развитые   страны    (особенно«семерка»)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торые выступают как партнеры-соперники. Последние  десятилетия отмечены активизацией развивающихся стран в этой сфере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 этапа эволюции мировой валютной системы (МВС) 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Характер функционирования  и  стабильность  мировой  валютной  системы зависят  от  степени  ее  соответствия  структуре  мирового  хозяйства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ри изменении структуры мирового хозяйства и соотношения сил  на  мировой  арене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сходит замена существующей формы МВС на новую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явившись  в  XIX  веке, МВС прошла 3 этапа эволюции: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1. «Золотой стандарт» или Парижская валютная система 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2. Бреттон - Вудская система фиксированных валютных курсов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Ямайская система плавающих валютный курс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 этапа эволюции мировой валютной системы (МВС) 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Характер функционирования  и  стабильность  мировой  валютной  системы зависят  от  степени  ее  соответствия  структуре  мирового  хозяйства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При изменении структуры мирового хозяйства и соотношения сил  на  мировой  арене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исходит замена существующей формы МВС на новую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явившись  в  XIX  веке, МВС прошла 3 этапа эволюции: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1. «Золотой стандарт» или Парижская валютная система 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2. Бреттон - Вудская система фиксированных валютных курсов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Ямайская система плавающих валютный курс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ериод первой мировой войны и особенн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 времена Великой  депрессии(1929-1934   гг)   система   золотого    стандарта    переживала    кризис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-за  высокой инфляции в большинстве стран Европы их валюты стали  неконвертируемыми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ША превратились в нового финансового лидера, а золотой стандарт видоизменялс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период первой мировой войны и особенн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 времена Великой  депрессии(1929-1934   гг)   система   золотого    стандарта    переживала    кризисы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-за  высокой инфляции в большинстве стран Европы их валюты стали  неконвертируемыми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ША превратились в нового финансового лидера, а золотой стандарт видоизменялс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 апреле  1933  г.  США  вышли   из   системы   золотого  стандарт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посредственной причиной  отмены  послужило  значительное  и  не равномерное падение цен. Это вызвало  массовые  банкротств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нкротство  10000  банков подорвало  денежно-кредитную  систему  США  и  привело  к   отмене   размена долларовых банкнот на золотые монет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 апреле  1933  г.  США  вышли   из   системы   золотого  стандарт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посредственной причиной  отмены  послужило  значительное  и  не равномерное падение цен. Это вызвало  массовые  банкротств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анкротство  10000  банков подорвало  денежно-кредитную  систему  США  и  привело  к   отмене   размена долларовых банкнот на золотые монеты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ь валютных блоков – укрепление конкурентных  позиций  страны-лидера на международной арене, особенно в моменты экономических кризис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лларовый блок: возглавляемый США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ыл создан в 1933 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него вошли: Канада,  многие  страны  Центральной  и  Южной  Америки,  где  господствовал американский капита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 время второй мировой войны все валютные блоки распалис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ь валютных блоков – укрепление конкурентных  позиций  страны-лидера на международной арене, особенно в моменты экономических кризисо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лларовый блок: возглавляемый США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ыл создан в 1933 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него вошли: Канада,  многие  страны  Центральной  и  Южной  Америки,  где  господствовал американский капита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 время второй мировой войны все валютные блоки распались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нада является второй по величине страной в мире (9970610 кв.км.) которую превосходит только Росс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нады разделена на  10 провинций и 3 территории. На юге и на западе Канада граничит с СШ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селение Канады насчитывает 30,3 миллионов человек. Большинство канадцев живут в городах , 76,6 % живут в городах, а 23,4 % в сельской мест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нада является второй по величине страной в мире (9970610 кв.км.) которую превосходит только Росс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нады разделена на  10 провинций и 3 территории. На юге и на западе Канада граничит с СШ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селение Канады насчитывает 30,3 миллионов человек. Большинство канадцев живут в городах , 76,6 % живут в городах, а 23,4 % в сельской мест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торая валютная система была  официально  оформлена  на  Международной валютно-финансовой конференции ООН, проходившей с 1 по 22 июля 1944 г. в  г. Бреттон-Вудсе (США). Здесь также были основаны МВФ и МБРР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и создания второй мировой валютной системы: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Восстановление обширной свободной торговли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Установление стабильного равновесия системы  международного  обмена        на основе системы фиксированных валютных курсов.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Передача в распоряжение  государств  ресурсов  для  противодействия        временным трудностям во внешнем баланс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торая валютная система была  официально  оформлена  на  Международной валютно-финансовой конференции ООН, проходившей с 1 по 22 июля 1944 г. в  г. Бреттон-Вудсе (США). Здесь также были основаны МВФ и МБРР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и создания второй мировой валютной системы: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Восстановление обширной свободной торговли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Установление стабильного равновесия системы  международного  обмена        на основе системы фиксированных валютных курсов.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Передача в распоряжение  государств  ресурсов  для  противодействия        временным трудностям во внешнем баланс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овая валютная система  является исторически сложившейся формой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и     международных     денежных      отношений,      закрепленной межгосударственными договоренностями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ВС  представляет  собой  совокупность способов, инструментов и межгосударственных  органов  ,  с  помощью  которых осуществляется платежно-расчетный оборот в  рамках  мирового  хозяйства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валютная система  является исторически сложившейся формой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и     международных     денежных      отношений,      закрепленной межгосударственными договоренностями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ВС  представляет  собой  совокупность способов, инструментов и межгосударственных  органов  ,  с  помощью  которых осуществляется платежно-расчетный оборот в  рамках  мирового  хозяйства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е возникновение  и  последующая   эволюция   отражают   объективное   развитие процессов  интернационализации  капитала,  требующих  адекватных  условий  в международной денежной сфере.   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Различаются национальная, мировая, региональная валютные системы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е валютно-кредитные и финансовые организации условно можно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звать международными финансовыми институтами. 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е возникновение  и  последующая   эволюция   отражают   объективное   развитие процессов  интернационализации  капитала,  требующих  адекватных  условий  в международной денежной сфере.   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Различаются национальная, мировая, региональная валютные системы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народные валютно-кредитные и финансовые организации условно можно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звать международными финансовыми институтами. 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и  организации  объединяет общая  цель  –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развитие  сотрудничества   и   обеспечение   целостности   и стабилизации сложного и противоречивого всемирного хозяйства,  регулирование МЭО, в том числе валютно-кредитных  и  финансовы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и  организации  объединяет общая  цель  –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развитие  сотрудничества   и   обеспечение   целостности   и стабилизации сложного и противоречивого всемирного хозяйства,  регулирование МЭО, в том числе валютно-кредитных  и  финансовы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 ним  относятся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нк международных  расчетов,  Международный  валютный  фонд,   Всемирный   банк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ая    ассоциация    развития,    Международное    агентство    по инвестиционным  гарантиям  и  др.,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 также  региональные  банки  развития, валютно-кредитные и финансовые организации ЕС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  ним  относятся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анк международных  расчетов,  Международный  валютный  фонд,   Всемирный   банк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народная    ассоциация    развития,    Международное    агентство    по инвестиционным  гарантиям  и  др.,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  также  региональные  банки  развития, валютно-кредитные и финансовые организации ЕС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е финансовые институты преследуют следующие цел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единить  усилия  мирового  сообщества  в   целях   стабилизации        международных финансов и мировой экономики;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уществлять  межгосударственное  валютное  и  кредитно-финансовое        регулирование;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местно  разрабатывать  и  координировать  стратегию  и  тактику        мировой валютной и кредитно-финансовой политик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народные финансовые институты преследуют следующие цел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ъединить  усилия  мирового  сообщества  в   целях   стабилизации        международных финансов и мировой экономики;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уществлять  межгосударственное  валютное  и  кредитно-финансовое        регулирование;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местно  разрабатывать  и  координировать  стратегию  и  тактику        мировой валютной и кредитно-финансовой политик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 6.  Международная миграционная политика. Перемещение населения и трудовых ресурс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ичие мирового рынка рабочей силы обусловлено международной миграцией трудящихся, т.е. взаимопересекающимся потоком  миграции (отъезд из страны) и иммиграции (въезд в страну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6.  Международная миграционная политика. Перемещение населения и трудовых ресурс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личие мирового рынка рабочей силы обусловлено международной миграцией трудящихся, т.е. взаимопересекающимся потоком  миграции (отъезд из страны) и иммиграции (въезд в страну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ая миграция рабочей силы – передвижение лиц наемного труда через государственные границы в поисках работ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выезде из своей страны трудящийся является эмигрантом, а при въезде в другую страну – иммигранто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народная миграция рабочей силы – передвижение лиц наемного труда через государственные границы в поисках работы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 выезде из своей страны трудящийся является эмигрантом, а при въезде в другую страну – иммигрантом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илу экономических причи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потоки мигран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гда направлялись из стран с низкими личными доходами в страны с более высокими доход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ША,КАНАДА и АВСТРАЛ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силу экономических причи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потоки мигрант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егда направлялись из стран с низкими личными доходами в страны с более высокими доход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ША,КАНАДА и АВСТРАЛ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потоки Низкоквалифицированной рабочей силы направляются в США из латиноамериканских стран – Мексики, стран Карибского бассей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сококвалифицированной  рабочей силы иммигрируют  практически из всех стран мира , включая Западную Европу, Латинскую Америку, Россию, Индию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потоки Низкоквалифицированной рабочей силы направляются в США из латиноамериканских стран – Мексики, стран Карибского бассейн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сококвалифицированной  рабочей силы иммигрируют  практически из всех стран мира , включая Западную Европу, Латинскую Америку, Россию, Индию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нада входит в «семерку» наиболее крупных развитых стран. Ее ВВП в конце 90-х гг. приблизился к 700 млрд. долл., а ВВП на душу населения был около 22 тыс. долл.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свидетельствует о высоком уровне экономического развития страны. Традиционно на экономику Канады оказывали влияние два главных фактора — наличие богатых природных ресурсов и соседство с могущественными СШ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нада входит в «семерку» наиболее крупных развитых стран. Ее ВВП в конце 90-х гг. приблизился к 700 млрд. долл., а ВВП на душу населения был около 22 тыс. долл.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свидетельствует о высоком уровне экономического развития страны. Традиционно на экономику Канады оказывали влияние два главных фактора — наличие богатых природных ресурсов и соседство с могущественными СШ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иболее развитые  западноевропейские страны, входящие в Европейский союз, притягивают рабочую силу из менее развитых западноевропейских стран (Португалии, Мальты, Испании), арабских стран северной Африки и Ближнего Востока, стран Африки и республик бывшего ССС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иболее развитые  западноевропейские страны, входящие в Европейский союз, притягивают рабочую силу из менее развитых западноевропейских стран (Португалии, Мальты, Испании), арабских стран северной Африки и Ближнего Востока, стран Африки и республик бывшего ССС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фтедобывающие страны Ближнего Востока привлекают дешевую рабочую силу на тяжелые низкооплачиваемые работ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 Индии, Пакистана, Бангладеш, Кореи, Филиппин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фтедобывающие страны Ближнего Востока привлекают дешевую рабочую силу на тяжелые низкооплачиваемые работы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 Индии, Пакистана, Бангладеш, Кореи, Филиппин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ктически все страны, в которые иммигрирует более 25 тыс. человек в год, - высокоразвитые государства с ВНП более 6900 долл. на душу насел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чник эмиграции – развивающие страны, главные из которых -Мексика и страны Аз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ктически все страны, в которые иммигрирует более 25 тыс. человек в год, - высокоразвитые государства с ВНП более 6900 долл. на душу населен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чник эмиграции – развивающие страны, главные из которых -Мексика и страны Аз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ми формами миграции рабочей силы являются следующи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кучее переселение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грация в пределах пограничных зон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грарная миграц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зонная миграц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ятников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ми формами миграции рабочей силы являются следующие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кучее переселение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грация в пределах пограничных зон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грарная миграц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зонная миграц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ятников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жный вид современной международной миграции населения – нелегальная иммиграц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легальные иммигранты – лица, незаконно въезжающие в поисках работы в другие страны (так, из Мексики  в США нелегально переходят границу более 1 млн. человек ежегодно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жный вид современной международной миграции населения – нелегальная иммиграц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легальные иммигранты – лица, незаконно въезжающие в поисках работы в другие страны (так, из Мексики  в США нелегально переходят границу более 1 млн. человек ежегодно)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также лица, пересекающие границу на законных основаниях  ( по частным приглашениям, в качестве туристов и т.п. ), с последующим нелегальным трудоустройств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ША число подпольных мигрантов оценивается от 2 до15 млн. че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 также лица, пересекающие границу на законных основаниях  ( по частным приглашениям, в качестве туристов и т.п. ), с последующим нелегальным трудоустройств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США число подпольных мигрантов оценивается от 2 до15 млн. че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ст нелегальной  иммиграции объясняется многими причина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на из основных – тот факт, что мигранты работающие  нелегально, представляют собой для предпринимателей самую дешевую и бесправную рабочую сил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ст нелегальной  иммиграции объясняется многими причинам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дна из основных – тот факт, что мигранты работающие  нелегально, представляют собой для предпринимателей самую дешевую и бесправную рабочую сил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гласно данным, собранным Наследием Канады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1988, они (иммигранты) принесли около 6 миллиардов долларов в Канаду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0 процентов из них занимаются частным бизнесом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ни экономят больше, таким образом расширяя общий объем инвестиционного капитала, доступного в стране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ни имеют тенденцию меньше пользоваться общественными услугами, и лишь немногие из них получают социальную помощь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ммигранты имеют доходы выше среднего и более высокую заработную плату, и поэтому они платят больше налог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гласно данным, собранным Наследием Канады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1988, они (иммигранты) принесли около 6 миллиардов долларов в Канаду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0 процентов из них занимаются частным бизнесом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ни экономят больше, таким образом расширяя общий объем инвестиционного капитала, доступного в стране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ни имеют тенденцию меньше пользоваться общественными услугами, и лишь немногие из них получают социальную помощь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ммигранты имеют доходы выше среднего и более высокую заработную плату, и поэтому они платят больше налого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 7.  Глобальные проблемы в международных экономических отношения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числу глобальных проблем относят следующи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хранение мира и прекращение гонки вооружения ради экономического развития и построения процветающих общест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нужденная миграция больших масс людей, обусловленная локальными военными конфликтами, появление особой категории населения – беженце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7.  Глобальные проблемы в международных экономических отношения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 числу глобальных проблем относят следующие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хранение мира и прекращение гонки вооружения ради экономического развития и построения процветающих общест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нужденная миграция больших масс людей, обусловленная локальными военными конфликтами, появление особой категории населения – беженце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дальнейшие развитие прав человека путем усиления личной и экономической свобод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продовольственная проблема и меры по ее решению, особенно в Африке, Азии, Латинской Америк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преодоления загрязнения окружающей среды,  угрожающего самой жизни на земле, и решение экологической проблемы, которая охватывает практически все географические районы мир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дальнейшие развитие прав человека путем усиления личной и экономической свобод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продовольственная проблема и меры по ее решению, особенно в Африке, Азии, Латинской Америк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 преодоления загрязнения окружающей среды,  угрожающего самой жизни на земле, и решение экологической проблемы, которая охватывает практически все географические районы мир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масштабам хозяйства США значительно опережают любую другую промышленно развитую стран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ин лишь федеральный бюджет страны превосходит размеры ВВП всех государств мира, кроме Японии и Герман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масштабам хозяйства США значительно опережают любую другую промышленно развитую страну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дин лишь федеральный бюджет страны превосходит размеры ВВП всех государств мира, кроме Японии и Герман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 укрепление социально-экономической деятельности различных  структур ООН, а также некоторых других международных организац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. укрепление социально-экономической деятельности различных  структур ООН, а также некоторых других международных организац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я и предотвращение загрязнения окружающей сред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ществует кризисная  экологическая ситуация, которая выражается в загрязнении атмосферы, почвы, рек, морей, океана, в уменьшении зеленой среды (леса) на земл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логия и предотвращение загрязнения окружающей среды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ществует кризисная  экологическая ситуация, которая выражается в загрязнении атмосферы, почвы, рек, морей, океана, в уменьшении зеленой среды (леса) на земл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витию международного сотрудничества в области экологии способствует система международных организаций ООН, Европейское агентство по охране окружающей среды (ЮНЕП), а также неправительственные организации и движения,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имер «Green peace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итию международного сотрудничества в области экологии способствует система международных организаций ООН, Европейское агентство по охране окружающей среды (ЮНЕП), а также неправительственные организации и движения,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пример «Green peace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и организации принимают активное участие  в борьбе против сброса токсических и радиоактивных отходов, строительства производств, опасных для природы, животного мира и человека, а также продажи продуктов питания и бытовых  товаров которые созданы с экологическими нарушения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и организации принимают активное участие  в борьбе против сброса токсических и радиоактивных отходов, строительства производств, опасных для природы, животного мира и человека, а также продажи продуктов питания и бытовых  товаров которые созданы с экологическими нарушения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Зеленый бизнес»- это специфический сектор экономики, который предусматривает ресурсосбережение, технологию защиты окружающей среды, различные экологические услуг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ША, Западной Европе, Японии и ряде других стран  активно развивается корпоративный экологический бизнес, который выражается в росте числа компаний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Зеленый бизнес»- это специфический сектор экономики, который предусматривает ресурсосбережение, технологию защиты окружающей среды, различные экологические услуг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США, Западной Европе, Японии и ряде других стран  активно развивается корпоративный экологический бизнес, который выражается в росте числа компаний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зводящих различное очистительное оборудование и технологии, альтернативные источники энергии, экологическую экспертизу, озеленение территор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довой оборот природоохранных технологий составляет более 700 млрд. долл., и постоянно раст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изводящих различное очистительное оборудование и технологии, альтернативные источники энергии, экологическую экспертизу, озеленение территор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одовой оборот природоохранных технологий составляет более 700 млрд. долл., и постоянно расте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ое сотрудничество в области освоения космоса ( США, Россией и Западной Европой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местное использование российской орбитальной станции «МИР»  в виде полетов стажировок космонавтов в целях различных космических, биологических и технических экспериментов в условиях невесом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народное сотрудничество в области освоения космоса ( США, Россией и Западной Европой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местное использование российской орбитальной станции «МИР»  в виде полетов стажировок космонавтов в целях различных космических, биологических и технических экспериментов в условиях невесом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вые элементы космического сотрудничества между странам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дет подготовка к запуску и монтированию новой орбитальной космической  станции. (Россия - США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ие специальной плавающей платформы – космодрома в океане для запуска коммерческих спутников.(Россия, США, Норвеги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вые элементы космического сотрудничества между странам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дет подготовка к запуску и монтированию новой орбитальной космической  станции. (Россия - США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здание специальной плавающей платформы – космодрома в океане для запуска коммерческих спутников.(Россия, США, Норвегия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трудничество в области мирового океана, не достигло таких масштабов, как  в космос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ША обладают достаточным потенциалом в области освоения океана в виде специальных судов и подводных лодок для исследования его различных аспект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т потенциал носит  военно - политический характе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трудничество в области мирового океана, не достигло таких масштабов, как  в космос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ША обладают достаточным потенциалом в области освоения океана в виде специальных судов и подводных лодок для исследования его различных аспекто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т потенциал носит  военно - политический характе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смотря на все вышеупомянутое для США характерен ряд серьезных, прежде всего социально-политических, пробл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-первых, при исчезновении главного стратегического противника и отступлении угрозы глобальной войны сохраняется опасность локальных войн и терроризм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-вторых, несмотря на известные достижения в смягчении расовой проблемы, ее острота велика особенно потому, что расовые различия в большой мере совпадают с различиями в эко­номическом и социальном статус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смотря на все вышеупомянутое для США характерен ряд серьезных, прежде всего социально-политических, пробле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-первых, при исчезновении главного стратегического противника и отступлении угрозы глобальной войны сохраняется опасность локальных войн и терроризм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-вторых, несмотря на известные достижения в смягчении расовой проблемы, ее острота велика особенно потому, что расовые различия в большой мере совпадают с различиями в эко­номическом и социальном статус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C7E26-D9AE-423A-9A32-F0EBCC2E7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5DEF3-5E80-4F6F-A626-9458E23CC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8A00A-DE09-449D-9E13-D104B582E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5CF6C-C79D-4D45-AF4D-86E720CC3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F017C-B7F0-4C99-97F6-4EAE49B48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629BB-E11A-44D1-B47B-71A5D0251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B39AB-928B-4854-92CB-ED243827D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56748-BE45-49D4-B57B-146D59181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8F3D2-F813-434E-8B91-1716D29E0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2AC23-EA3E-46DD-998D-0174FE825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142D4-1EF3-4D11-8744-CF9768729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2643A-362F-4533-BE0D-BE81AEB2F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35329-7813-463F-9E96-8E5BF4D02A2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0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2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4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5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6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7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8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0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2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4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5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6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7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8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0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0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4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6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7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8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10920" y="333000"/>
            <a:ext cx="7846920" cy="36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ладивостокский Государственный Университет Экономики и Сервиса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ститут Международных Отношений  и Социальных Технологий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федра Международных Отношений и Зарубежного регионоведения</a:t>
            </a:r>
            <a:br>
              <a:rPr sz="40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чебная презентация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 курсу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«Международные экономические отношения США и Канады»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ставитель ст.преподаватель кафедры МОЗР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дюк Е.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395280" y="260280"/>
            <a:ext cx="829152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громен, а следовательно, и чрезвычайно привлекателен для производителей и инвесторов американский внутренний рынок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н поглощает примерно 90% всего объема внутреннего производства и, кроме того, значительную часть продукции, которая создается в других странах, в том числе в развивающих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/>
          </p:nvPr>
        </p:nvSpPr>
        <p:spPr>
          <a:xfrm>
            <a:off x="468000" y="476280"/>
            <a:ext cx="821844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В-третьих, преступность и число заключенных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в США (по отношению к общей численности населения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) на порядок выше, чем в других развитых государствах,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таких, как например, Япония или скандинавские страны.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Серьезную нагрузку на бюджет оказывают также наркотики и СПИД,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которые представляют для США более серьезную проблему, чем для других развитых стра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/>
          </p:nvPr>
        </p:nvSpPr>
        <p:spPr>
          <a:xfrm>
            <a:off x="468000" y="476280"/>
            <a:ext cx="821844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В-четвертых,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сохраняется опасность глубокого экономического кризис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хотя еще одна Великая депрессия вряд ли возможна)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скольку устойчивость финансовой сферы, существенно больше связанной с мировым рынком, чем в 30-е годы, не гарантирова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ловарь экономических терминов 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ждународная торговля- это обмен товарами и услугами между разными странами, связанный со всеобщей интернационализацией хозяйственной жизни и интенсификацией международного разделения труда в условиях научно- технической револю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ждународная миграция рабочей силы- передвижение  лиц наемного труда через государственные границы в поисках рабо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вободная торговля- это свободный, беспошлинный или облагаемый лишь незначительными пошлинами ввоз товар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/>
          </p:nvPr>
        </p:nvSpPr>
        <p:spPr>
          <a:xfrm>
            <a:off x="250560" y="333000"/>
            <a:ext cx="843588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вободная торговля – это свободный, беспошлинный или облагаемый лишь незначительными пошлинами ввоз товар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алюта цены- валюта в которой устанавливаются цены на това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алюта платежа – валюта, в которой будет погашено обязательство импорте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ена- денежное выражение стоимости това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мпинг- это продажа товаров на внешних рынках по ценам, значительно ниже внутренни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купочные цены- это цены, по которым реализуется сельскохозяйственная продукц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арифы транспорта- это плата за перемещение грузов и пассажиров, взимаемая транспортными организация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/>
          </p:nvPr>
        </p:nvSpPr>
        <p:spPr>
          <a:xfrm>
            <a:off x="468360" y="549360"/>
            <a:ext cx="8229600" cy="596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озничные цены- это цены, по которым товары реализуются в розничной торговле предприятиям, организациям и населен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ировые цены- это цена реализации товара на мировом рын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мпорт- ввоз в страну товаров из-за границ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кспорт- вывоз товаров из страны для продажи в других стран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ранснационализация- это меж государственная интеграция, реализуемая на уровне частных фир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йскурантная цена -усредненная цена, сметная стоимость единицы конечной продукции типового строительного объекта (за 1 кв. м жилой или полезной площади 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бзор рекомендуемой литературы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 предложенных учебников по общему курсу можно порекомендовать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Международные экономические отношения: Учебник / Под. ред. Е. Жуково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и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Современные международные отношения: Учебник/ под. ред. А.В. Торкуновой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лаконичному, но вместе с тем наглядному и доступному изложению материала, ориентированного на студентов экономических специальностей. В учебнике дается достаточно четкое и компактное комплексное  рассмотрение всех важнейших теоретических и практических аспектов мировой экономики и международных экономических  связей, современная их интерпретац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ак ,  в частности основные принципы американской экономической политики хорошо  отражены в учебном пособии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Ойкен В. Основные принципы экономической политики.- М.: Прогресс, 1995.- С. 32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фессиональному усвоению дисциплины способствует большее количество примеров, иллюстрирующих реальную практику принятия эффективных решений которые представлены в  таких книгах как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Фишер Г. Глобализация мирохозяйственных связей: сущность, направления, перспективы. – М.: ДА МИД РФ, 1999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Кругман П., Обстфельд М. Международная экономика. Теория и политика. – М.: ЮНИТИ, 1997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/>
          </p:nvPr>
        </p:nvSpPr>
        <p:spPr>
          <a:xfrm>
            <a:off x="324000" y="404280"/>
            <a:ext cx="83628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ущественную помощь  приносит систематическое знакомство с серьезными отечественными и зарубежными изданиями, такими, как «Коммерсант», «Файненшнл таймс», «БизнесУик», с разнообразной и оперативной  экономической информацией, представленной системой Интернет.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Научная периодик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ША - Канада: экономика, политика, культура. 1992-2003 г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ировая экономика и международные отношения. 1992-2003 г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ипломатический вестник. 1993-2003 г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ммерсант. 1999- 2004 г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инансовые известия. 2000-2004 г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писок используемой литературы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ема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ждународные экономические отношения. Интеграция/ Щербанин Ю.А. , Рожков К.Л., Рыбалкин В.Е., Фишер Г. – М.: ЮНИТИ, 1997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йкен В. Основные принципы экономической политики.- М.: Прогресс, 1995.- С. 32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ишер Г. Глобализация мирохозяйственных связей: сущность, направления, перспективы. – М.: ДА МИД РФ, 1999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rris S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national and Interregional Economics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-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196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/>
          </p:nvPr>
        </p:nvSpPr>
        <p:spPr>
          <a:xfrm>
            <a:off x="395280" y="476280"/>
            <a:ext cx="829152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ема 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углай В.Б. , Ливенцев Н.Н. Международные экономические отношения.- М.: Финансы и статистика, 1996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иреев А. Международная экономика.- М.:МО, 1997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евшин Ф.М. Мировой рынок: конъюнктура, цены и маркетинг. – М.:МО, 199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ld Investment Report. 2000. N.Y. and Geneva, 2000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395280" y="333000"/>
            <a:ext cx="829152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Только промышленность США потребляет около 1/3 сырья, добываемого в мире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а также имеет самый емкий рынок машин и оборудования, на долю которого приходится свыше 40% реализуемой в развитых странах продукци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машиностроени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/>
          </p:nvPr>
        </p:nvSpPr>
        <p:spPr>
          <a:xfrm>
            <a:off x="395280" y="692280"/>
            <a:ext cx="829152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ем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фляция: ценообразование и денежное обращение. – М.;: ИМЭМО РАН, 1994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евшин Ф.М. Мировой рынок: конъюнктура, цены и маркетинг. – М.:МО, 199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ругман П., Обстфельд М. Международная экономика. Теория и политика. – М.: ЮНИТИ, 1997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de Finance Payments and Services. L.: BPP Publishing Ltd, 1993, p. 84, 95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/>
          </p:nvPr>
        </p:nvSpPr>
        <p:spPr>
          <a:xfrm>
            <a:off x="324000" y="620280"/>
            <a:ext cx="83628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ма 4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уджейро Р. Прямые иностранные инвестиции и многосторонняя торговая система//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national corporation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ol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5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1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ril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1996)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1-8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ША: политическая мысль и история / Н.Н. Яковлев, В.К. Пархоменко, А.А. Каренин и др./ Ин-т Соединенных штатов Америки и Канады./ М: Наука 1976г. –619 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ША в начале 80-х гг. Экономические проблемы/ ред. кол : В.М. Шамберт и др. / АН СССР. Ин-т научной информации по общественным наукам/ М.; Б.и, 1982 г. –230 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ld Investment Report, 1992, N.Y. p. 70-7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ld Investment Report, 1998, N.Y. , p. 74,7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ld Investment Report, 2000, N.Y. and Geneva, 200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/>
          </p:nvPr>
        </p:nvSpPr>
        <p:spPr>
          <a:xfrm>
            <a:off x="395280" y="404280"/>
            <a:ext cx="829152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ма 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Деньги и Кредит», журнал, «Мировая экономика и международные финансовые рынки: итоги 2000 года», статья , №4, 2001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Мировая экономика и международные отношения», журнал, «Экономика США на исходе века: итоги и проблемы», статья №11, 1998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нализ экономики: Учебник/ Под. ред. В.Е. Рыбалкина.- М.: МО, 1999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инансовая организация и деятельность Международного валютного фонда. – Вашингтон, 1994. – с. 1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conomis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urvey of the World Economy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ptember 19 th 1992, p.6,9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conomist, 3 August 1996, p.2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conomis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27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ly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1996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васов А.Г. // Финансовый капитал и финансовая олигархия Канады»// Журнал «МЭ и МО» 1999 г. –с. 13-18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/>
          </p:nvPr>
        </p:nvSpPr>
        <p:spPr>
          <a:xfrm>
            <a:off x="324000" y="476280"/>
            <a:ext cx="83628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ма 6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ишневская Н.Т. Рынок труда – переплетение циклических и структурных факторов// Мировая экономика и международные отношения. – 1993. - № 12. – с. 63-7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ишневская Н.Т. рынок труда – проблемы и решения // Мировая экономика и международные отношения. 1995 - № 1. –с. 111 – 11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ойло В.С. Проблемы интеллектуального труда // США: экономика, политика, идеология. – 1995. - №6. –с.23-36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рбек Э. Занятость и экономический рост // Человек и труд. – 1994. - №4. – с. 58-6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ТБ. Конвенции и Рекомендации, принятые Международной конвенцией труда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19-1986.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Женев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1988.-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1428-1446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eller Ch/ the Economist of Labour Migration A Behavioral Analysis, N.Y. 198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/>
          </p:nvPr>
        </p:nvSpPr>
        <p:spPr>
          <a:xfrm>
            <a:off x="684000" y="476280"/>
            <a:ext cx="800244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ема 7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Мир на рубеже тысячелетий», прогноз развития мировой экономики до 2015 года.// 2001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иглиц Дж. Ю. Экономика государственного сектора. / пер. с англ. М.:  Изд-во: МГУ, ИНФВА-М, 1997 г. –154 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млев С. // Экономика Канады- радикальные перемены// Журнал «МЭ и МО» 1998 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y J., Dawn Fals: The Delusions of Global Capitalism. L., 1998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ncher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ssner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lobal Trends. Munchen, 1998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сновная литератур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кимов Ю.Г. Современное канадское общество: Учебное пособие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СПб.: Петрополис. 200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временные международные отношения: Учебник/ под. ред А.В. Торкунова. – М.:РОССПЭН, 200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ША в начале 80-х гг. Экономические проблемы/ ред. кол : В.М. Шамберт и др. / АН СССР. Ин-т научной информации по общественным наукам/ М.; Б.и, 1982 г. –230 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евшин Ф.М. Мировой рынок: конъюнктура, цены и маркетинг. – М.:МО, 1993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ругман П., Обстфельд М. Международная экономика. Теория и политика. – М.: ЮНИТИ, 1997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углай В.Б. , Ливенцев Н.Н. Международные экономические отношения.- М.: Финансы и статистика, 1996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иреев А. Международная экономика.- М.:МО, 1997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/>
          </p:nvPr>
        </p:nvSpPr>
        <p:spPr>
          <a:xfrm>
            <a:off x="324000" y="404280"/>
            <a:ext cx="83628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ишер Г. Глобализация мирохозяйственных связей: сущность, направления, перспективы. – М.: ДА МИД РФ, 1999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rris S.E. International and Interregional Economics.- N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196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акконелл, Кемпбелл Р., Брю, Стэнли Л.  Экономикс: принципы,                проблемы и политика : Учебник М.; Инфра- М, 1990г. –905 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еждународные экономические отношения: Учебник / Под. ред. Е. Жукова. – М.: ЮНИТИ, 1999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лодин Андрей, Глерий Широков. Глобализация: выгоды и риски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national Politic. №7,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юл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2001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. 50-57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елягин, М.Г. (ред.)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рактика глобализации: игры и правила новой эпох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Москва: ИНФРА-М. 2000. Глава 1.Увлекательная жизнь технологий: информационная революция. Сс. 41-9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еннеди, Пол. Вступая в двадцать первый век. Москва: Весь мир. 1997. С. 37-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ткин, А.И.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Глобализация: процесс и осмыслени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Москва: Логос. 2001. С. 160-1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berstadt, Nicholas. The Population Implosion.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oreign Polic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March/April 2001, p. 42-53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Экзаменационные вопросы по курсу «Международные экономические отношения США и Канады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арактеристика и структура мирового хозяй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ждународная специализация и ее сущн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ормы международных отношений. Внешняя и мировая торговл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воз капитала как одна из форм международных экономических отнош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ущность и понятие глобальных проблем в современных условия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иды мировых це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новные направления международного экономического сотрудничества в  области глобальных пробл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/>
          </p:nvPr>
        </p:nvSpPr>
        <p:spPr>
          <a:xfrm>
            <a:off x="468000" y="476280"/>
            <a:ext cx="821844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ути решения глобальных  мировых проблем и роль США в их реализа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здание и развитие транснациональных корпораций и кредитно-финансовых  институ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редитные отношения. Кредитование импор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ждународная миграция рабочей сил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ньюктура мирового рынка и организация продвижения това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енообразование в международной торговле. Классификация це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ределение экспортных це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абильность мировой финансовой систем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кономерности формирования це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нтроль государства над цен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/>
          </p:nvPr>
        </p:nvSpPr>
        <p:spPr>
          <a:xfrm>
            <a:off x="468000" y="404280"/>
            <a:ext cx="821844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ормы вывоза капита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щая характеристика состояния и потенциала торгово-экономических связей России и СШ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новные позиции России и США в области ядерного оруж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тория развития экономических отношений Канады и СШ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вестиционные позиции США в Япон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оссия и США перспективы развития на будуще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инамика и структура экономических связей США с Кита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ждународные интеграционные процесс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ределение ценовой политики. Необходимая информац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ркетинговая стратегия в ценообразован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оль межгосударственного сотрудничества и международных организаций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539280" y="333000"/>
            <a:ext cx="814716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трана расходует огромные средства на НИОКР (до 40% мировых затрат, 162 млрд. долл. в 1992 г.). Ежегодные ассигнования на эти цели превышают подобные расходы Британии, Германии, Франции и Японии вместе взятых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Доля США в общем объеме экспорта наукоемкой продукции в современном мире,  составляет не менее 20%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/>
          </p:nvPr>
        </p:nvSpPr>
        <p:spPr>
          <a:xfrm>
            <a:off x="395280" y="404280"/>
            <a:ext cx="829152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ущность международной торговли и ее особенности на современном этап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нешнеторговая полити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вропейская ассоциация свободной торговли (ЕАСТ). Основные це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витие экономических отношений США И Ближний Восток. Американская теория модернизации Ближнего Восто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323640" y="404280"/>
            <a:ext cx="843588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Субъектами международных экономических отношений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являютс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) на микроэкономическом уровн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лкие и средние предприятия, а также физические лица, осуществляющие внешнеэкономические операци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)  на макроэкономическом уровне субъектами     международных экономических отношений   выступают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дельные страны (их региональные и муниципальные субъекты), интеграционные объединения стран, крупные города и отдельные области (регионы) разных стран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610920" y="333360"/>
            <a:ext cx="8086680" cy="58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) на обоих уровнях функционируют крупнейшие международные торговые, финансовые, промышленные корпорации, а также институциональные инвесторы: инвестиционные, пенсионные и другие фонды, страховые, трастовые компании. |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) на наднациональном уровне в качестве субъектов МЭО действуют международные организации и наднациональные институт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539280" y="620280"/>
            <a:ext cx="814716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ждународная специализация и ее сущнос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пециализация позволяет отдельным странам не затрачивать огромные денежные ресурсы на создание некоторых производств для выпуска товаров, а получать их путем внешней торговл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ущность специализации состоит в том, что отдельные страны специализируются на выпуске каких-то конкретных товаров и услуг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результате дальнейшего развития международной специализации произошло разделение стран как бы на три группы :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раны производящие продукцию обрабатывающей промышленности на мировой рынок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раны дающие продукцию добывающей промышленности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раны специализирующие на производстве и продаже продукции сельского хозяйств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94920" y="2565360"/>
            <a:ext cx="821844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это же время существует и четвертая группа стран, которая одновременно производит продукцию обрабатывающей, добывающей промышленности и сельского хозяйства.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то ряд западных промышленно развитых стран (США, Канада, Англия, ФРГ, Франция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50920" y="1557360"/>
            <a:ext cx="8663040" cy="35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 первой группе стран следует отнести в основном такие промышленно развитые западные страны, как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ША, Канада, ФРГ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а также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Япония, Италия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которые поставляют на мировой рынок  высокотехнологическое оборудование, автомобили, станки, химические товары, бытовую техник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11280" y="278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 второй группе относятся страны, обладающие мощными минеральными ресурсами и продающими их на мировом рынке. Это прежде всего нефтедобывающие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траны Ближнего востока, Латинской Америки, Африки,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осуществляющие продажу  нефти и газа в основном промышленно развитым странам. А также  такие промышленно развитые страны как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Швеция,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анада,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торые добывают в большом количестве различные минеральные ресурсы (уголь, руды черных и цветных металлов, золото, серебро)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107789952130184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6048720"/>
          </a:xfrm>
          <a:prstGeom prst="rect">
            <a:avLst/>
          </a:prstGeom>
          <a:ln w="0">
            <a:noFill/>
          </a:ln>
        </p:spPr>
      </p:pic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95280" y="3068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 третьей группе относятся страны , специализация которых на всемирном рынке ограничивается исключительно сельскохозяйственной продукцией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то касается стран   Азии, Африки, и Латинской  Америки.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ставщиками сельскохозяйственной продукции на мировом рынке являются также большинство промышленно развитых стран (США, Канада, Западная Европа, Австралия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Тема 2. Виды и формы МЗО на современном этапе. Тенденции динамики и структур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современных условия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сновными формами международных  экономических отноше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являются следующие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468000" y="549000"/>
            <a:ext cx="821844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нешняя и мировая торговл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редитные отноше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алютные и платежно-расчетные отноше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играция и вывоз капитал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ждународная миграция рабочей сил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539280" y="333000"/>
            <a:ext cx="814716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ждународные интеграционные процесс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здание и развитие транснациональных корпораций и кредитно-финансовых институто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жгосударственное регулирование международных экономических отношений (регулирование валютно-финансовых, торговых отношений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учно- техническое и производственное сотрудничест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нешняя и мировая торговля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временный  мировой рынок- это сфера обмена, которая охватывает совокупное товарное обращение различных стран, являющихся его составными органическими элемент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ремление к получению прибыли и сравнительно узкие рамки национальных  рынков за пределы своего рынка, что в итоге ведет к поискам внешних рын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Кредитные отношения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сфер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ждународны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кономических отношен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редитные отноше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зникаю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трех случаях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-первых,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 связи с кредитованием внешней торговли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-вторых,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 результате движения ссудного капитала в рамках мирового рынка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- третьих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в связи с поведением международных расче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редитование внешней торговли включает  кредитование экспорта и кредитование импорта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редитование экспорта осуществляется в форме покупательских взносо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редитование импорта также производится посредством коммерческого и банковского креди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алютные и платежно-расчетные отношения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алютные отношения между различными странам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алютные операции между различными участниками валютного рынка, представляющие официальные центры купли-продажи валют на основании спроса и предложения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539280" y="1052280"/>
            <a:ext cx="814716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алютный арбитраж, позволяющий использовать разницу в котировках валют на международных и национальных  валютных рынках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витие и регулирование национального валютного рынка, а также участие в операциях международного валютного рынка, осуществление валютных ограничений и использование валютных клиринг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539280" y="141300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 финансовым документам относятся векселя (простые и переводные), чеки, платежные расписк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427280" y="1413000"/>
            <a:ext cx="471636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 Коммерческим документам: счета-фактуры, отгрузочные документы (коносаменты, квитанции), страховые полисы и документы страховых компаний; прочие документы (сертификаты, счета и т.д.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610920" y="404640"/>
            <a:ext cx="8086680" cy="574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ША- государство в Северной Америке, федеративная республика, состоящая из 50 штатов: Аляски, Гавайев и 48 штатов на территории между Атлантическим и Тихим океанами и между Канадой и Мекси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ША – государство-гигант, ведущая экономическая и военная держава, занимающая третье место в мире по площади и численности населени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уществует следующая разновидность чеков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орожный (туристический) чек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врочек(чек в евровалюте, который действует с 1968 г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редитные карточ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истемы СВИФТ – информация по международным банковским расчета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DEL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межбанковские расчеты то торговле ценными бумагами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счеты по валютным операция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Миграция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и  вывоз капитала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воз капитала представляет собой помещение капитала за границей в целях систематического  получения дополнительной прибыл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324000" y="189000"/>
            <a:ext cx="8362800" cy="59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требность повышения прибыли  заставляет капиталистов вывозить капитал за пределы национальных грани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быль от вывоза капитала за первые полвека значительно возросла. Накануне первой мировой войны доходы от всех иностранных инвестиций капиталистических стран составляли ежегодно 1,8-2 млрд. долл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539280" y="333000"/>
            <a:ext cx="814716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1929 г. доходы от четырех крупных западных держав (США, Англии, Франции, Японии) от заграничных инвестиций достигали 2,3 млрд. долл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о уж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1958 г. доходы только от США, Англии и Франции превышали 6 млрд. дол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395280" y="620280"/>
            <a:ext cx="829152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ка существовали огромные  колониальные империи, вывоз капитала направлялся в первую очередь в экономически отсталые,  аграрно-сырьевые страны, где прибыль обычно более высока вследствие очень низкой оплаты труда рабочего класса, сравнительной дешевизны земли и сырьевых материалов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орма прибыли американских нефтяных монополий в Венесуэле -33%, на Ближнем Востоке-100%, тогда как к внутри США – 10%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68000" y="549000"/>
            <a:ext cx="821844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 мере роста трудностей в области экспорта товаров в связи с обострением  проблемы рынков сбыта все большую роль в завоевании внешних рынков играет вывоз капитала. Движение экспортируемого капитала подчиняло себе движение товаров в международной торговл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Тема  3.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Ценообразование в международной торговле.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Международная торговля и внешнеторговая полити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Цена- денежное выражение стоимости това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основе  стоимости товара лежат затраты на производство и реализацию продукции с учетом чистого дохода, необходимого для эффективной деятельности предприяти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 также платежи в бюдж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международной торговле существуют следующие виды классификации цен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 территориальному признаку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зависимости от порядка возмещения транспортных расходов  по доставке груз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 степени государственного регулирован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11"/>
          <p:cNvSpPr/>
          <p:nvPr/>
        </p:nvSpPr>
        <p:spPr>
          <a:xfrm>
            <a:off x="8028000" y="3429000"/>
            <a:ext cx="374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о территориальному признаку на 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диные или пояс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гиональные (зональные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539280" y="333000"/>
            <a:ext cx="814716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Тема 1. Характеристика и структура мирового хозяйст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В настоящее время США являются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ведущей страной в мировом хозяйстве,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одним из крупнейших по территории и населению государством ми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Они занимают территорию площадью около 9,3 млн. кв. км, на которой проживает более 265 млн. человек,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или 1,7% населения ми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 степени государственного регулирования на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вободные цены, складывающиеся под влиянием спроса и предлож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гулируемые, складывающиеся на рынке, но испытывающие определенное влияние (прямое или косвенное) государственных орган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иксируемые, устанавливаемые государственными органами на ограниченный круг товаров, в зависимости от степени новизны това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дним из способов проникновения  на  рынок с новым товаром является продажа его по сравнительно низкой цене для стимулирования спрос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  наличии постоянных ценовых колебаний  и множества  скидок и надбавок, трудно определить реальный уровень цен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месте с тем цены даже идентичных товаров могут  меняться в зависимости от качества, сортов и т.д. Уровень цен зависит также от размеров сбытовых расходов: чем больше посредников при реализации товаров, тем больше разного рода надбавок к цен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товары с длительным жизненным циклом, которые реализуются на рынке продолжительное время , устанавливаются следующие виды цен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3964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кользящая или падающая цен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олговременная цен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ибкая це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оговорная цен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кользящая или падающая цен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ормируется под влиянием спроса и предложения,  а затем по мере насыщения рынка постепенно снижает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олговременная цен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характерна для товаров массового спроса и остается неизменной в течение длительного периода времен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гибкая цен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няется под влиянием спроса и предложения в относительно короткие сро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оговорная цен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соответствии с ней покупателям могут быть предложены  какие-либо скидки с обычной це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т сферы товарного обращения  различают следующие виды цен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птовые цены на промышленную продукци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Цены на продукцию строитель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купочные це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арифы грузового и пассажирского транспор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озничные це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арифы на платные услуги населени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Цены обслуживающие внешнеторговый оборо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Цены на строительную продукцию делятся на три вид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межная стоимость -предельный размер затрат на строительство объек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ейскурантная цена -усредненная цена, сметная стоимость единицы конечной продукции типового строительного объекта (за 1 кв. м жилой или полезной площади 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оговорная цена- устанавливается по соглашению сторон между  заказчиками и подрядчик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395280" y="981000"/>
            <a:ext cx="82915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еждународная торговл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обмен товарами и услугами между разными странами, связанный со всеобщей интернационализацией хозяйственной жизн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результате возникли два вида международных компаний, имеющих предприятия в разных странах, а имен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flagkanada"/>
          <p:cNvPicPr/>
          <p:nvPr/>
        </p:nvPicPr>
        <p:blipFill>
          <a:blip r:embed="rId1"/>
          <a:stretch/>
        </p:blipFill>
        <p:spPr>
          <a:xfrm>
            <a:off x="0" y="333360"/>
            <a:ext cx="9144000" cy="6120000"/>
          </a:xfrm>
          <a:prstGeom prst="rect">
            <a:avLst/>
          </a:prstGeom>
          <a:ln w="0">
            <a:noFill/>
          </a:ln>
        </p:spPr>
      </p:pic>
      <p:sp>
        <p:nvSpPr>
          <p:cNvPr id="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324000" y="836280"/>
            <a:ext cx="417168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ранснациональные корпорации (ТНК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циональные  по капиталу, но интернациональные по сфере деятель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0" y="9079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еждународные корпорации (МНК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тернациональные  и по капитал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 сфере деятель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468000" y="692280"/>
            <a:ext cx="821844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вропейский Союз (ЕС) возник на базе Европейского экономического сообщества (ЕЭС), 1 января 1958 г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сновные цели ЕЭС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здание пространства без внутренних границ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действие сбалансированному и длительному экономическому прогрессу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324000" y="69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вропейская ассоциация свободной торговли (ЕАСТ). 3 мая 1960 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сновные цели ЕАС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действие постоянному росту экономической активности, обеспечению полной занятости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вышению производительности, рациональному использованию ресурсов, финансовой стабильности и неуклонному повышению уровня жизн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468360" y="69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вропейское экономическое пространство (ЕЭП)  1994 год, приходится свыше 40% мировой торгов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этом рынке ликвидированы практически все оставшиеся барьеры на пути свободного перемещения  товаров, услуг, капиталов и людских ресурс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Тема  4.  Миграция  и  вывоз капитала как форма международных экономических отноше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сновными чертами вывоза капитала на современном этапе является его миграция как в развивающиеся, так и в развитые стра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ывоз капитала наиболее развитая, усовершенствованная форма международной эксплуата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403848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сновной формой вывоза капитала остаются вывоз функционирующего ссудного капитала, осуществляемый в виде вложений в промышленность, торговлю, транспорт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0" y="9079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торая форма– вывоз  ссудного капитала, который различается по срокам, назначению, характеру обеспечения и субъект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ывоз функционирующего ссудного капитал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уществуют прямые вложения (инвестиции), которые дают право контроля, и портфельные, обеспечивающие только участие, а не контроль. Формой дохода может быть прибыль или прибыль в виде дивидендов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ывоз  ссудного капитал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существляется в виде международных займов на различные сроки, предоставляемые как частным сектором, так и государствами, и в форме вложений в ценные бумаги (акции, облигации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684000" y="476280"/>
            <a:ext cx="800244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еждународные займы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различаются по своему назначени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 займы, или кредиты,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оизводительного характер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 как займы, или кредиты,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епроизводительного характера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539280" y="836280"/>
            <a:ext cx="814716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оизводительного характер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в промышленности, на транспорте, в сельском хозяйств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епроизводительного характера,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т.е. используемые для гонки вооружений, содержания военно-полицейского аппарата, непосредственно для ведения войны, выплаты процентов по старым займам и т.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8713800" cy="6264360"/>
          </a:xfrm>
          <a:prstGeom prst="rect">
            <a:avLst/>
          </a:prstGeom>
          <a:ln w="0">
            <a:noFill/>
          </a:ln>
        </p:spPr>
      </p:pic>
      <p:sp>
        <p:nvSpPr>
          <p:cNvPr id="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ямые и портфельные инвестици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воз инвестиций функционирующего капитала осуществляется в двух основных формах: прямые инвестиции и портфельны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Прямые инвести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существляются различными путям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одних случаях 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мпании или банки создают филиалы за границей, строят там свои предприятия, образуют специальные компании, которые действуют преимущественно за границей, покупают зарубежные предприятия. При этом заграничные инвестиции находятся в полной собственности компаний, вывозящих капитал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539280" y="692280"/>
            <a:ext cx="814716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других случаях 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ладелец капитала приобретает контрольный пакет акций иностранной компаний, составляю­щий, как правило, 25% или более ее акционерного капита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Портфельные инвести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едставляют собой такие вложения в ценные бумаги иностранных фирм, которые либо слишком малы, либо так распылены между держателями, что не могут дать экспортеру капитала контроль над этими фирмам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ртфельные вложения составляют значительную часть заграничных инвестиций ряда малых западных стран (Швейцария, Дания, Канада и т.д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395280" y="620280"/>
            <a:ext cx="829152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днако такие вложения имеются и у ведущих держав. Так, на конец 1980 г. портфельные инвестиции США составили 12,6 млрд долл., т.е. около 22% всех частных заграничных инвестици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291520" cy="612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Тема  5. Международные валютно-денежные и кредитные рынки.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br>
              <a:rPr sz="44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ольшое  влияние  на  международные  валютно-кредитные  и   финансовые отношения   оказывают   ведущие   промышленно-развитые   страны    (особенно«семерка»),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торые выступают как партнеры-соперники. Последние  десятилетия отмечены активизацией развивающихся стран в этой сфере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11280" y="2133720"/>
            <a:ext cx="807552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7989840" cy="305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 этапа эволюции мировой валютной системы (МВС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Характер функционирования  и  стабильность  мировой  валютной  системы зависят  от  степени  ее  соответствия  структуре  мирового  хозяйства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При изменении структуры мирового хозяйства и соотношения сил  на  мировой  арене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исходит замена существующей формы МВС на новую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395280" y="3886200"/>
            <a:ext cx="8424720" cy="249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явившись  в  XIX  веке, МВС прошла 3 этапа эволюции: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1. «Золотой стандарт» или Парижская валютная система 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2. Бреттон - Вудская система фиксированных валютных курсов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Ямайская система плавающих валютный курс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468360" y="69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период первой мировой войны и особен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 времена Великой  депрессии(1929-1934   гг)   система   золотого    стандарта    переживала    кризис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-за  высокой инфляции в большинстве стран Европы их валюты стали  неконвертируемыми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ША превратились в нового финансового лидера, а золотой стандарт видоизменялс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395280" y="836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 апреле  1933  г.  США  вышли   из   системы   золотого  стандарт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посредственной причиной  отмены  послужило  значительное  и  не равномерное падение цен. Это вызвало  массовые  банкротств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анкротство  10000  банков подорвало  денежно-кредитную  систему  США  и  привело  к   отмене   размена долларовых банкнот на золотые монет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95280" y="274320"/>
            <a:ext cx="8291520" cy="13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ель валютных блоков – укрепление конкурентных  позиций  страны-лидера на международной арене, особенно в моменты экономических кризисов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4000" y="1844280"/>
            <a:ext cx="800244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лларовый блок: возглавляемый СШ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ыл создан в 1933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него вошли: Канада,  многие  страны  Центральной  и  Южной  Америки,  где  господствовал американский капита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 время второй мировой войны все валютные блоки распалис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395280" y="404280"/>
            <a:ext cx="829152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нада является второй по величине страной в мире (9970610 кв.км.) которую превосходит только Росс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нады разделена на  10 провинций и 3 территории. На юге и на западе Канада граничит с СШ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селение Канады насчитывает 30,3 миллионов человек. Большинство канадцев живут в городах , 76,6 % живут в городах, а 23,4 % в сельской мест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95280" y="274680"/>
            <a:ext cx="8291520" cy="18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торая валютная система была  официально  оформлена  на  Международной валютно-финансовой конференции ООН, проходившей с 1 по 22 июля 1944 г. в  г. Бреттон-Вудсе (США). Здесь также были основаны МВФ и МБРР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68000" y="2133360"/>
            <a:ext cx="8218440" cy="43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ели создания второй мировой валютной системы: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Восстановление обширной свободной торговли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Установление стабильного равновесия системы  международного  обмена        на основе системы фиксированных валютных курсов.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Передача в распоряжение  государств  ресурсов  для  противодействия        временным трудностям во внешнем баланс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362800" cy="617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ировая валютная система  является исторически сложившейся формой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рганизации     международных     денежных      отношений,      закрепленной межгосударственными договоренностями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ВС  представляет  собой  совокупность способов, инструментов и межгосударственных  органов  ,  с  помощью  которых осуществляется платежно-расчетный оборот в  рамках  мирового  хозяйства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8147160" cy="589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е возникновение  и  последующая   эволюция   отражают   объективное   развитие процессов  интернационализации  капитала,  требующих  адекватных  условий  в международной денежной сфере.   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Различаются национальная, мировая, региональная валютные системы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ждународные валютно-кредитные и финансовые организации условно можно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звать международными финансовыми институтами. 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539280" y="620280"/>
            <a:ext cx="814716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ти  организации  объединяет общая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цель  –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развитие  сотрудничества   и   обеспечение   целостности   и стабилизации сложного и противоречивого всемирного хозяйства,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регулирование МЭО, в том числе валютно-кредитных  и  финансовы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324000" y="476280"/>
            <a:ext cx="83628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  ним  относятся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анк международных  расчетов,  Международный  валютный  фонд,   Всемирный   бан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ждународная    ассоциация    развития,    Международное    агентство    по инвестиционным  гарантиям  и  др.,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  также  региональные  банки  развития, валютно-кредитные и финансовые организации ЕС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ждународные финансовые институты преследуют следующие цел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ъединить  усилия  мирового  сообщества  в   целях   стабилизации        международных финансов и мировой экономики;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существлять  межгосударственное  валютное  и  кредитно-финансовое        регулирование;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вместно  разрабатывать  и  координировать  стратегию  и  тактику        мировой валютной и кредитно-финансовой политик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Тема 6.  Международная миграционная политика. Перемещение населения и трудовых ресурсов</a:t>
            </a: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личие мирового рынка рабочей силы обусловлено международной миграцией трудящихся, т.е. взаимопересекающимся потоком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играци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отъезд из страны) и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ммиграци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въезд в страну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95280" y="274680"/>
            <a:ext cx="8291520" cy="164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еждународная миграция рабочей силы –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передвижение лиц наемного труда через государственные границы в поисках работы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 выезде из своей страны трудящийся является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эмигрантом,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а при въезде в другую страну –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ммигрантом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611280" y="476280"/>
            <a:ext cx="807552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силу экономических причи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сновные потоки мигран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сегда направлялись из стран с низкими личными доходами в страны с более высокими доход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ША,КАНАДА и АВСТРАЛ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468000" y="692280"/>
            <a:ext cx="821844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сновные потоки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изкоквалифицированной рабочей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илы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направляются в США из латиноамериканских стран – Мексики, стран Карибского бассей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ысококвалифицированной  рабочей силы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иммигрируют  практически из всех стран мира , включая Западную Европу, Латинскую Америку, Россию, Индию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68000" y="333000"/>
            <a:ext cx="821844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нада входит в «семерку» наиболее крупных развитых стран. Ее ВВП в конце 90-х гг. приблизился к 700 млрд. долл., а ВВП на душу населения был около 22 тыс. долл.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то свидетельствует о высоком уровне экономического развития страны. Традиционно на экономику Канады оказывали влияние два главных фактора — наличие богатых природных ресурсов и соседство с могущественными СШ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250560" y="692280"/>
            <a:ext cx="843588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иболее развитые  западноевропейские страны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входящие в Европейский союз, притягивают рабочую силу из менее развитых западноевропейских стран (Португалии, Мальты, Испании), арабских стран северной Африки и Ближнего Востока, стран Африки и республик бывшего ССС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/>
          </p:nvPr>
        </p:nvSpPr>
        <p:spPr>
          <a:xfrm>
            <a:off x="539280" y="476280"/>
            <a:ext cx="814716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фтедобывающие страны Ближнего Востока привлекают дешевую рабочую силу на тяжелые низкооплачиваемые работ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 Индии, Пакистана, Бангладеш, Кореи, Филиппин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/>
          </p:nvPr>
        </p:nvSpPr>
        <p:spPr>
          <a:xfrm>
            <a:off x="468000" y="620280"/>
            <a:ext cx="821844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актически все страны, в которые иммигрирует более 25 тыс. человек в год, - высокоразвитые государства с ВНП более 6900 долл. на душу населени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сточник эмиграции – развивающие страны, главные из которых -Мексика и страны Аз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сновными формами миграции рабочей силы являются следующ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екучее переселение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играция в пределах пограничных зон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грарная миграц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езонная миграц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аятников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539280" y="620280"/>
            <a:ext cx="814716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ажный вид современной международной миграции населения –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елегальная иммиграци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легальные иммигранты – лица, незаконно въезжающие в поисках работы в другие страны (так, из Мексики  в США нелегально переходят границу более 1 млн. человек ежегодно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/>
          </p:nvPr>
        </p:nvSpPr>
        <p:spPr>
          <a:xfrm>
            <a:off x="468000" y="620280"/>
            <a:ext cx="821844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 также лица, пересекающие границу на законных основаниях  ( по частным приглашениям, в качестве туристов и т.п. ), с последующим нелегальным трудоустройств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США число подпольных мигрантов оценивается от 2 до15 млн. че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/>
          </p:nvPr>
        </p:nvSpPr>
        <p:spPr>
          <a:xfrm>
            <a:off x="468000" y="549000"/>
            <a:ext cx="821844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ост нелегальной  иммиграции объясняется многими причинам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дна из основных – тот факт, что мигранты работающие  нелегально, представляют собой для предпринимателей самую дешевую и бесправную рабочую сил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/>
          </p:nvPr>
        </p:nvSpPr>
        <p:spPr>
          <a:xfrm>
            <a:off x="611280" y="333000"/>
            <a:ext cx="807552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гласно данным, собранным Наследием Канад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 1988, они (иммигранты) принесли около 6 миллиардов долларов в Канаду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50 процентов из них занимаются частным бизнесом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Они экономят больше, таким образом расширяя общий объем инвестиционного капитала, доступного в стране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Они имеют тенденцию меньше пользоваться общественными услугами, и лишь немногие из них получают социальную помощь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Иммигранты имеют доходы выше среднего и более высокую заработную плату, и поэтому они платят больше налогов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Тема 7.  Глобальные проблемы в международных экономических отношениях</a:t>
            </a: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 числу глобальных проблем относят следующ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хранение мира и прекращение гонки вооружения ради экономического развития и построения процветающих общест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нужденная миграция больших масс людей, обусловленная локальными военными конфликтами, появление особой категории населения – беженце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/>
          </p:nvPr>
        </p:nvSpPr>
        <p:spPr>
          <a:xfrm>
            <a:off x="395280" y="836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 дальнейшие развитие прав человека путем усиления личной и экономической свобод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. продовольственная проблема и меры по ее решению, особенно в Африке, Азии, Латинской Америк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5. преодоления загрязнения окружающей среды,  угрожающего самой жизни на земле, и решение экологической проблемы, которая охватывает практически все географические районы мир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684000" y="404280"/>
            <a:ext cx="800244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По масштабам хозяйства США значительно опережают любую другую промышленно развитую страну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Один лишь 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федеральный бюджет страны превосходит размеры ВВП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 всех государств мира, кроме Японии и Герман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/>
          </p:nvPr>
        </p:nvSpPr>
        <p:spPr>
          <a:xfrm>
            <a:off x="324000" y="69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6. укрепление социально-экономической деятельности различных  структур ООН, а также некоторых других международных организац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/>
          </p:nvPr>
        </p:nvSpPr>
        <p:spPr>
          <a:xfrm>
            <a:off x="468000" y="549000"/>
            <a:ext cx="821844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кология и предотвращение загрязнения окружающей сред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уществует кризисная  экологическая ситуация, которая выражается в загрязнении атмосферы, почвы, рек, морей, океана, в уменьшении зеленой среды (леса) на земл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/>
          </p:nvPr>
        </p:nvSpPr>
        <p:spPr>
          <a:xfrm>
            <a:off x="468000" y="549000"/>
            <a:ext cx="821844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звитию международного сотрудничества в области экологии способствует система международных организаций ООН, Европейское агентство по охране окружающей среды (ЮНЕП), а также неправительственные организации и движения,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пример 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een peac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/>
          </p:nvPr>
        </p:nvSpPr>
        <p:spPr>
          <a:xfrm>
            <a:off x="468000" y="476280"/>
            <a:ext cx="821844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ти организации принимают активное участие  в борьбе против сброса токсических и радиоактивных отходов, строительства производств, опасных для природы, животного мира и человека, а также продажи продуктов питания и бытовых  товаров которые созданы с экологическими нарушения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/>
          </p:nvPr>
        </p:nvSpPr>
        <p:spPr>
          <a:xfrm>
            <a:off x="468000" y="333000"/>
            <a:ext cx="821844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Зеленый бизнес»- это специфический сектор экономики, который предусматривает ресурсосбережение, технологию защиты окружающей среды, различные экологические услуг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США, Западной Европе, Японии и ряде других стран  активно развивается корпоративный экологический бизнес, который выражается в росте числа компаний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/>
          </p:nvPr>
        </p:nvSpPr>
        <p:spPr>
          <a:xfrm>
            <a:off x="684000" y="404280"/>
            <a:ext cx="800244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изводящих различное очистительное оборудование и технологии, альтернативные источники энергии, экологическую экспертизу, озеленение территор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одовой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борот природоохранных технологий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составляет более 700 млрд. долл., и постоянно раст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/>
          </p:nvPr>
        </p:nvSpPr>
        <p:spPr>
          <a:xfrm>
            <a:off x="468000" y="549000"/>
            <a:ext cx="821844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ждународное сотрудничество в области освоения космоса ( США, Россией и Западной Европой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вместное использование российской орбитальной станции «МИР»  в виде полетов стажировок космонавтов в целях различных космических, биологических и технических экспериментов в условиях невесом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/>
          </p:nvPr>
        </p:nvSpPr>
        <p:spPr>
          <a:xfrm>
            <a:off x="468000" y="404280"/>
            <a:ext cx="821844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овые элементы космического сотрудничества между странам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дет подготовка к запуску и монтированию новой орбитальной космической  станции. (Россия - США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здание специальной плавающей платформы – космодрома в океане для запуска коммерческих спутников.(Россия, США, Норвегия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/>
          </p:nvPr>
        </p:nvSpPr>
        <p:spPr>
          <a:xfrm>
            <a:off x="468000" y="476280"/>
            <a:ext cx="821844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трудничество в области мирового океана, не достигло таких масштабов, как  в космос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Ш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обладают достаточным потенциалом в области освоения океана в виде специальных судов и подводных лодок для исследования его различных аспектов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тот потенциал носит  военно - политический характе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/>
          </p:nvPr>
        </p:nvSpPr>
        <p:spPr>
          <a:xfrm>
            <a:off x="610920" y="259920"/>
            <a:ext cx="815796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есмотря на все вышеупомянутое для США характерен ряд серьезных, прежде всего социально-политических, пробле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Во-первых,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при исчезновении главного стратегического противника и отступлении угрозы глобальной войны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сохраняется опасность локальных войн и терроризм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Во-вторых,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несмотря на известные достижения в смягчении расовой проблемы, ее острота велика особенно потому,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что расовые различия в большой мере совпадают с различиями в эко­номическом и социальном статус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8T10:05:57Z</dcterms:created>
  <dc:creator>User</dc:creator>
  <dc:description/>
  <dc:language>en-US</dc:language>
  <cp:lastModifiedBy>LEGION</cp:lastModifiedBy>
  <dcterms:modified xsi:type="dcterms:W3CDTF">2016-01-05T11:05:27Z</dcterms:modified>
  <cp:revision>17</cp:revision>
  <dc:subject/>
  <dc:title>Владивостокский Государственный Университет Экономики и Сервиса Институт Международных Отношений и Социальных Технологий Кафедра Международных Отношений и Зарубежного регионоведения Учебная презентация по курсу «Международные экономические отношения США</dc:title>
</cp:coreProperties>
</file>