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D2DF5-C6FD-400B-9E24-F546399E20F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: Международные валютные 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Понятие «валюта», «валютная систем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Валютный курс ,его виды. Факторы, влияющие на валютный кур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Валютные рынки и валютные опер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Регулирование международных валютных отношений. Валютная полит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: Международные валютны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Понятие «валюта», «валютная систем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Валютный курс ,его виды. Факторы, влияющие на валютный кур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Валютные рынки и валютные опер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Регулирование международных валютных отношений. Валютная полит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валютных опер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ущ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пля-продажа валютных ценностей, товаров, услуг и т.д.; расчёты по которым осуществляются без отсрочки платеж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воды процентов, дивидендов, зарплаты, стипендий и т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и предоставление коммерческих кредитов на срок не более 180 д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валютных опер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кущ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пля-продажа валютных ценностей, товаров, услуг и т.д.; расчёты по которым осуществляются без отсрочки платеж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воды процентов, дивидендов, зарплаты, стипендий и т.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ение и предоставление коммерческих кредитов на срок не более 180 дн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ьны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бретение и продажа ценных бума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оставление коммерческих и финансовых кредитов на срок более 180 д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лечение и размещение валютных средств на счетах и во вклад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иные операции с валютой, не являющиеся текущи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фические сдел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битраж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утрай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ци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ьючер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ьны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обретение и продажа ценных бума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оставление коммерческих и финансовых кредитов на срок более 180 дн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лечение и размещение валютных средств на счетах и во вклад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иные операции с валютой, не являющиеся текущи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фические сдел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битраж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утрай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цио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ьючер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политика – это комплекс мероприятий в сфере М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валютной полит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ущая – оперативное регулирование валютной сферы с помощью валютных ограничений, интервенций, субсидирования и диверсификации валютных резерв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текущей валютной полит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онтная поли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визная поли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ка в области валютных ограничений обращения иностранной валю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ая политика – это комплекс мероприятий в сфере М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валютной полити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кущая – оперативное регулирование валютной сферы с помощью валютных ограничений, интервенций, субсидирования и диверсификации валютных резерв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 текущей валютной полити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онтная поли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визная поли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ика в области валютных ограничений обращения иностранной валю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Долговременная валютная политика – предполагает меры структурного характера, направленные на последовательные изменения валютного механ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долговременная валютной полит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ядок международных расчё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валютных курсов и парите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золота, резервных валют, международных платёжных сред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международных и региональных валютно-кредитных и банковских организ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Долговременная валютная политика – предполагает меры структурного характера, направленные на последовательные изменения валютного механиз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 долговременная валютной полити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ядок международных расчё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 валютных курсов и парите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золота, резервных валют, международных платёжных сред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международных и региональных валютно-кредитных и банковских организ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широком смыс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– это любой товар, способный выполнять денежную функцию обмена на международной аре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зком смыс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– это наличная часть денежной массы, циркулирующая из рук в руки в форме денежных банкнот и мон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широком смыс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а – это любой товар, способный выполнять денежную функцию обмена на международной аре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узком смыс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а – это наличная часть денежной массы, циркулирующая из рук в руки в форме денежных банкнот и мон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ые отношения (МВО) - это совокупность денежно-кредитных связей между странами, способов их организации и регулирования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МВ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е валютн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Региональные и мировая валютные системы (сложились в середине XIX ве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валютные отношения (МВО) - это совокупность денежно-кредитных связей между странами, способов их организации и регулирования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 МВ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е валютные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  Региональные и мировая валютные системы (сложились в середине XIX ве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 валютная система (НВС) – это часть денежной системы страны, выходящая за национальные границы, тесно связанная с финансово-кредитной системой и обеспечивающая международный обор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НВ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ациональная валютная единиц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фициальные золотовалютные резерв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валютный курс и механизм его регулир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условия конвертируемости национальной валю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валютные ограни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режим и способы использования валютных инструментов при международных расчет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ациональные учреждения, регулирующие валютные отношения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условия функционирования национального золотовалютного ры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ая валютная система (НВС) – это часть денежной системы страны, выходящая за национальные границы, тесно связанная с финансово-кредитной системой и обеспечивающая международный оборо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 НВС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национальная валютная единиц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фициальные золотовалютные резерв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валютный курс и механизм его регулир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условия конвертируемости национальной валю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валютные огранич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режим и способы использования валютных инструментов при международных расчета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национальные учреждения, регулирующие валютные отношения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условия функционирования национального золотовалютного рын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 (МПС) -это форма организации международных валютных отношений, юридически закрепляемая межгосударственными соглашен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МП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е и коллективные валютные единиц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ликвидные актив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 установления валютных паритетов и кур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обмена валю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международных расче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ые рынки и рынки золо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государственные валютно-кредитные организации и правовые нормы, регулирующие валютные от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ая валютная система (МПС) -это форма организации международных валютных отношений, юридически закрепляемая межгосударственными соглашен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 МПС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е и коллективные валютные единиц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ликвидные актив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 установления валютных паритетов и курс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 обмена валю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международных расчет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ые валютные рынки и рынки золо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государственные валютно-кредитные организации и правовые нормы, регулирующие валютные отно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развития международной валютн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ижская валютная система (золотой стандарт). Официально признана в 1867 г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нуэзская валютная система (золотослитковый стандарт) с 1922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еттон-Вудская валютная система (девизный стандарт) с 1944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майская валютная система (многовалютный стандарт) с 1976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ы развития международной валютной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рижская валютная система (золотой стандарт). Официально признана в 1867 го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нуэзская валютная система (золотослитковый стандарт) с 1922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еттон-Вудская валютная система (девизный стандарт) с 1944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майская валютная система (многовалютный стандарт) с 1976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- это соотношение между двумя валютами, цена единицы валюты, выраженная в другой валю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валютных курс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 номинальный и реальны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яемый и свободны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ышенный и заниженны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я и продавц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яемый и стабильны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чный и кассов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й курс- это соотношение между двумя валютами, цена единицы валюты, выраженная в другой валю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валютных курс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 номинальный и реальны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яемый и свободны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ышенный и заниженны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я и продавц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яемый и стабильны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очный и кассовы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форм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ы инфля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ежная мас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нтная став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тельственная политика в отношении частных вкла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еторговая полити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ентоспособность товаров страны на мировых рынк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платежного балан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открытости эконом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ъюнктурные факто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 на форм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пы инфля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ежная мас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нтная став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тельственная политика в отношении частных вклад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еторговая полит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курентоспособность товаров страны на мировых рынка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платежного балан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епень открытости экономи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ъюнктурные факто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 – это сфера экономических отношений, возникающих при совершении операции по купле-продаже иностранной валю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валютных рынк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бъёмам торговли валют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е (локальны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 По срокам исполнения операц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т ры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вардные ры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видам операц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ки опци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ки фьюче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ки своп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й рынок – это сфера экономических отношений, возникающих при совершении операции по купле-продаже иностранной валю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валютных рынк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объёмам торговли валют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е (локальны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   По срокам исполнения операц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т рын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вардные рын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видам операц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 опцио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 фьючер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 сво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E224-8144-4065-93A6-349E7F76E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C03C-EECB-41D8-8FB1-16F749546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12D1-D4D3-4CB8-B3C0-F91239F0E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0B70-5576-4929-ADF7-483445244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27762-5CA5-4EF7-B13E-B91EF5E79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44B81-5862-4031-9A07-DA271AEF9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42BEA-A701-4B53-BDE7-127927876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94374-FA30-4F7E-9D36-9395330CE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95015-28AE-4176-9059-571C8BC08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A95D7-AFFB-409B-86EE-6BE2EA4C9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04663-6936-43C3-B0B9-45E2A860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876B-DA8E-4D85-8488-126A1C614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CF555-A9C5-42F9-8C16-5F260AB2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7022D-EA2A-4658-8D1B-ECBF3FB9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123D2-2DAF-431D-B7A8-72F94576F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C972D-7DF1-4B90-9AF9-2D56E05C9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E120F-7F47-49CF-BA79-0BE198160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E204-EDF2-4240-96EF-C648C8AFE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8F43-EF4A-47D2-AB01-3E6DFDDDE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0E98-A4B3-474A-B4E8-051D199F3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1341-5536-4D75-B95D-D6C6D9240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ED81-0CCC-465E-997B-9486296D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ADB1-0DE0-47C0-B85D-90CFFE02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4C4B-5ACC-441B-99A0-98E8D342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08C72-CD7A-458E-8B60-2CFBB757BC4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39C0F-CB77-47BD-850E-6F34E7F5A21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Тема: Международные валютные отношения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Понятие «валюта», «валютная систем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Валютный курс ,его виды. Факторы, влияющие на валютный кур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Валютные рынки и валютные опер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Регулирование международных валютных отношений. Валютная полит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j0222015"/>
          <p:cNvPicPr/>
          <p:nvPr/>
        </p:nvPicPr>
        <p:blipFill>
          <a:blip r:embed="rId1"/>
          <a:stretch/>
        </p:blipFill>
        <p:spPr>
          <a:xfrm>
            <a:off x="7086600" y="4800600"/>
            <a:ext cx="1779480" cy="178740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Виды валютных операций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кущ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пля-продажа валютных ценностей, товаров, услуг и т.д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счёты по которым осуществляются без отсрочки платеж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воды процентов, дивидендов, зарплаты, стипендий и т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чение и предоставление коммерческих кредитов на срок не более 180 д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j0222017"/>
          <p:cNvPicPr/>
          <p:nvPr/>
        </p:nvPicPr>
        <p:blipFill>
          <a:blip r:embed="rId1"/>
          <a:stretch/>
        </p:blipFill>
        <p:spPr>
          <a:xfrm>
            <a:off x="7086600" y="4800600"/>
            <a:ext cx="1781280" cy="17874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питаль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обретение и продажа ценных бума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оставление коммерческих и финансовых кредитов на срок более 180 д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лечение и размещение валютных средств на счетах и во вклад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иные операции с валютой, не являющиеся текущ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ецифические сдел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битраж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утрай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ци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ьючер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j0222021"/>
          <p:cNvPicPr/>
          <p:nvPr/>
        </p:nvPicPr>
        <p:blipFill>
          <a:blip r:embed="rId1"/>
          <a:stretch/>
        </p:blipFill>
        <p:spPr>
          <a:xfrm>
            <a:off x="7010280" y="4800600"/>
            <a:ext cx="1781280" cy="17874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Валютная политика – это комплекс мероприятий в сфере МВО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ды валютной полит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кущая – оперативное регулирование валютной сферы с помощью валютных ограничений, интервенций, субсидирования и диверсификации валютных резерв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лементы текущей валютной полит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контная поли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визная поли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итика в области валютных ограничений обращения иностранной валю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j0222015"/>
          <p:cNvPicPr/>
          <p:nvPr/>
        </p:nvPicPr>
        <p:blipFill>
          <a:blip r:embed="rId1"/>
          <a:stretch/>
        </p:blipFill>
        <p:spPr>
          <a:xfrm>
            <a:off x="7010280" y="4800600"/>
            <a:ext cx="1779840" cy="178740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Долговременная валютная политика – предполагает меры структурного характера, направленные на последовательные изменения валютного механ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лементы долговременная валютной полит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ядок международных расчё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жим валютных курсов и парит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золота, резервных валют, международных платёжных сред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ятельность международных и региональных валютно-кредитных и банковских организа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j0222019"/>
          <p:cNvPicPr/>
          <p:nvPr/>
        </p:nvPicPr>
        <p:blipFill>
          <a:blip r:embed="rId1"/>
          <a:stretch/>
        </p:blipFill>
        <p:spPr>
          <a:xfrm>
            <a:off x="7086600" y="4800600"/>
            <a:ext cx="1781280" cy="178740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широком смыс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люта – это любой товар, способный выполнять денежную функцию обмена на международной аре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узком смыс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люта – это наличная часть денежной массы, циркулирующая из рук в руки в форме денежных банкнот и мон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0" descr="j0222017"/>
          <p:cNvPicPr/>
          <p:nvPr/>
        </p:nvPicPr>
        <p:blipFill>
          <a:blip r:embed="rId1"/>
          <a:stretch/>
        </p:blipFill>
        <p:spPr>
          <a:xfrm>
            <a:off x="6934320" y="4724280"/>
            <a:ext cx="1780920" cy="178776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Международные валютные отношения (МВО) - это совокупность денежно-кредитных связей между странами, способов их организации и регулирования.</a:t>
            </a:r>
            <a:br>
              <a:rPr sz="2700"/>
            </a:b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2715840"/>
            <a:ext cx="7925040" cy="33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ементы МВ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циональные валютные сис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  Региональные и мировая валютные системы (сложились в середин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е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j0222021"/>
          <p:cNvPicPr/>
          <p:nvPr/>
        </p:nvPicPr>
        <p:blipFill>
          <a:blip r:embed="rId1"/>
          <a:stretch/>
        </p:blipFill>
        <p:spPr>
          <a:xfrm>
            <a:off x="7086600" y="1828800"/>
            <a:ext cx="1781280" cy="17874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15328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Национальная валютная система (НВС)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– это часть денежной системы страны, выходящая за национальные границы, тесно связанная с финансово-кредитной системой и обеспечивающая международный оборот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лементы НВ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национальная валютная единиц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официальные золотовалютные резерв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валютный курс и механизм его регулир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условия конвертируемости национальной валю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валютные огранич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режим и способы использования валютных инструментов при международных расчет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национальные учреждения, регулирующие валютные отношения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условия функционирования национального золотовалютного ры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" descr="j0222019"/>
          <p:cNvPicPr/>
          <p:nvPr/>
        </p:nvPicPr>
        <p:blipFill>
          <a:blip r:embed="rId1"/>
          <a:stretch/>
        </p:blipFill>
        <p:spPr>
          <a:xfrm>
            <a:off x="7086600" y="1447920"/>
            <a:ext cx="1781280" cy="178740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Мировая валютная система (МПС)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 -это форма организации международных валютных отношений, юридически закрепляемая межгосударственными соглашениями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лементы МП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циональные и коллективные валютные единиц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народные ликвидные актив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ханизм установления валютных паритетов и курс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жим обмена валю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ы международных расче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народные валютные рынки и рынки золо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государственные валютно-кредитные организации и правовые нормы, регулирующие валютные отно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j0222017"/>
          <p:cNvPicPr/>
          <p:nvPr/>
        </p:nvPicPr>
        <p:blipFill>
          <a:blip r:embed="rId1"/>
          <a:stretch/>
        </p:blipFill>
        <p:spPr>
          <a:xfrm>
            <a:off x="7086600" y="5070600"/>
            <a:ext cx="1781280" cy="178740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Этапы развития международной валютной систем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арижская валютная система (золотой стандарт). Официально признана в 1867 год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енуэзская валютная система (золотослитковый стандарт) с 1922 год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реттон-Вудская валютная система (девизный стандарт) с 1944 год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Ямайская валютная система (многовалютный стандарт) с 1976 год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j0222015"/>
          <p:cNvPicPr/>
          <p:nvPr/>
        </p:nvPicPr>
        <p:blipFill>
          <a:blip r:embed="rId1"/>
          <a:stretch/>
        </p:blipFill>
        <p:spPr>
          <a:xfrm>
            <a:off x="7086600" y="1828800"/>
            <a:ext cx="1779480" cy="178740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Валютный курс-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это соотношение между двумя валютами, цена единицы валюты, выраженная в другой валюте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ассификация валютных курс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 номинальный и реаль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яемый и свобод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вышенный и занижен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упателя и продавц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яемый и стабиль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очный и кассов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j0222019"/>
          <p:cNvPicPr/>
          <p:nvPr/>
        </p:nvPicPr>
        <p:blipFill>
          <a:blip r:embed="rId1"/>
          <a:stretch/>
        </p:blipFill>
        <p:spPr>
          <a:xfrm>
            <a:off x="7010280" y="4724280"/>
            <a:ext cx="1781280" cy="178776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Факторы, влияющие на формирование валютного курс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пы инфля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нежная масс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центная став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тельственная политика в отношении частных вклад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ешнеторговая полити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курентоспособность товаров страны на мировых рынк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ояние платежного баланс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епень открытости эконом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ъюнктурные факто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j0222021"/>
          <p:cNvPicPr/>
          <p:nvPr/>
        </p:nvPicPr>
        <p:blipFill>
          <a:blip r:embed="rId1"/>
          <a:stretch/>
        </p:blipFill>
        <p:spPr>
          <a:xfrm>
            <a:off x="7010280" y="4800600"/>
            <a:ext cx="1781280" cy="178740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Валютный рынок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– это сфера экономических отношений, возникающих при совершении операции по купле-продаже иностранной валюты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иды валютных рынко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 объёмам торговли валют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циональные (локальные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гиональны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иров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   По срокам исполнения операций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от рын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орвардные рын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6666"/>
              </a:buClr>
              <a:buSzPct val="8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 видам операций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ынки опцион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ынки фьючерс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ынки своп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j0222015"/>
          <p:cNvPicPr/>
          <p:nvPr/>
        </p:nvPicPr>
        <p:blipFill>
          <a:blip r:embed="rId1"/>
          <a:stretch/>
        </p:blipFill>
        <p:spPr>
          <a:xfrm>
            <a:off x="7010280" y="4800600"/>
            <a:ext cx="1779840" cy="17874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5T11:05:34Z</dcterms:modified>
  <cp:revision>6</cp:revision>
  <dc:subject/>
  <dc:title>План: 1.Понятие «валюта», «валютная система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