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7681-5DE6-4D4B-8DAB-2B141BCE1B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01B-50E8-4501-992C-75131F35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CFC-8673-47D1-92E0-E45F79BE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B65-C980-44A8-AA3C-B3F041FA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187-3F8F-471D-A743-75FC90EC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AD40-56A3-43E6-B6AA-91D0B56D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47FC-82FD-42CD-A068-6C74AE94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D6B3-3647-47B5-9E78-70FABD4A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230C-2BD6-4D5B-A845-7EB48FFB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65AF-42E6-40FC-9284-80665557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C7A1-8EC7-4E5D-B0C7-B0E72D56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4493-B140-4045-A4F1-11730A3B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AF7-1751-41E5-A416-C993D81F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01D0-F38A-4E3F-9F39-9CBD54DD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183F-C93E-482A-8FFC-70B2AEDE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B5E5-F886-4339-928A-5716CCB9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5D7E-B2BC-475E-9D26-E1AB6363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7458-88C4-48B1-913E-6FC7C159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004-44C7-4D5B-A793-7E27E977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21A-983D-47FE-80D7-5B7E1AB8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CAE-292C-4184-8656-833FA4FE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307-E38E-4B51-BFA6-7115EB48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587-20AB-4EA0-A931-8EFA2986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CF7-E3CE-466B-B494-2E46B7B8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866-6168-479D-8F9E-EEC886DE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2E78-7D15-40EE-964D-E7780C7CA6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4EA2-D437-44AE-A763-14977D97C2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47560"/>
            <a:ext cx="8424720" cy="1578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м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4000" y="2482560"/>
            <a:ext cx="78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и аналогичны принципам предшествующей Парижск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качестве критериев отбора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ону евро»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установлен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епень конвертируем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жет быть различ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основе валютного курс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собенно при фиксированном режиме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лежит валютный паритет — это соотношение между двумя валютами, устанавливаемое в законодательном поряд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тет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т. е. определенные исходя из паритета покупательной способности валют сравниваемых стра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живление инвестиционной а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 объем внутренни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предложения национальной валюты для зарубежны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екционистская политика увеличивает налоги на импорт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импорта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спроса на иностранную валюту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фективная антиинфляционная политика укрепляет национальную валю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ъюнктура валютного ры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яет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ожившимися в данный момен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росом и предложением на иностранную валю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современном этап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выглядит как совокупность национальных, региональных и мировых рын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 середине XIX ве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посыл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висимост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 степени либерализации внутреннего валютного законодательст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циональный валютный рынок может существовать в форм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черного»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сновные 5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ичие международ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инансовых центр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ые финансовые цен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пы валютных рынко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степени их организованн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биржевые валютные сдел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 течении двух рабочих дней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– наличный или спот-рын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вард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не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ьючерс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опцио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характеризует право, а не обязанность купить/продать валют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стро развивае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ного ры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Валютный Фонд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него входит 184 страны-участниц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поддержк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3 года 3 мес.-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ширенные кредит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4,5 до 10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менее развитых стран на срок от 3 лет 3 мес. до 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урегулирования долгового кризиса РС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Членами МБРР могут быть только страны-члены МВ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уппа Всемирного ба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ногоструктурная международная кредитная организац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БРР) имеет два филиал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АР) создана в 1960 г. МАР предоставляет беспроцентные кредиты наименее развитым странам на срок 35-40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ФК) создана в 1956 г. с целью стимулирования частных инвестиций в промышленность молодых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МИГА) учреждено в 1988 г. Его цель — страхования инвестиций и прямых капиталовложений от некоммерческих рис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ондонский клуб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ачестве основ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ункций МВС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едует отметит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9:54Z</dcterms:created>
  <dc:creator>Lena</dc:creator>
  <dc:description/>
  <dc:language>en-US</dc:language>
  <cp:lastModifiedBy>LEGION</cp:lastModifiedBy>
  <dcterms:modified xsi:type="dcterms:W3CDTF">2016-01-05T11:05:41Z</dcterms:modified>
  <cp:revision>19</cp:revision>
  <dc:subject/>
  <dc:title>Тема 6. Международная валютная система и мировой валютный рынок</dc:title>
</cp:coreProperties>
</file>