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19FD-446E-4E5B-8F4A-DA6187275C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541-BA09-4E73-9DE2-405FE42D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7CA-B800-42F5-B5AD-09496443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279-CD64-432E-9251-29507AD6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80D-560B-41A9-BCA0-54D22246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583-8EAB-43A1-84CF-4F950536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48E2-3535-4042-951C-F8F68F5D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A2AE-5988-4F2E-A08B-D959EC67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D0C3-C05E-4A8A-B02B-839D66F8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5716-DE0E-4E1B-AF35-6AD394C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3519-5500-4A90-B097-BFDA344B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A90F-752C-4014-9464-E91E5B29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6F2-1329-4284-AE53-AADF3D13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7D71-8F82-4C2B-9C22-B2AB4F6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8A8A-5CAC-417D-A2C2-B91128D6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BB30-0EC4-442D-8CEF-21BD9987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D069-AD62-49E2-9B61-D543E3EE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B8AE-FA94-4A41-952B-F4E1E249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662-8199-4E08-88DE-9A2CF0E4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7E8-0BAD-4396-8A4C-81562D71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20C-C9AE-4ADF-B5CF-49EA5D49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65F-6847-4DA5-A52F-CCF29F03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F5A-826B-4DF1-A1AF-7566677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1DD-9EDD-4A09-8183-1BD6F38A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868-50E1-4B3D-8C35-90D0AD1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D1F2-1F6A-427A-8952-02ACC7A656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AE86-2A62-4760-B7F6-E584DCBD78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47560"/>
            <a:ext cx="8424720" cy="157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м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482560"/>
            <a:ext cx="78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и аналогичны принципам предшествующей Парижск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честве критериев отбора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ону евро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установл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епень конвертируем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жет быть различ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основе валютного кур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собенно при фиксированном режиме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лежит валютный паритет — это соотношение между двумя валютами, устанавливаемое в законодательном поряд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тет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т. е. определенные исходя из паритета покупательной способности валют сравниваемых стра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живление инвестиционной а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объем внутренни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предложения национальной валюты для зарубежны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екционистская политика увеличивает налоги на импорт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импорта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спроса на иностранную валюту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ая антиинфляционная политика укрепляет национальную валю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ъюнктура валютного ры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яе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жившимися в данный момен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росом и предложением на иностранную валю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выглядит как совокупность национальных, региональных и мировых рын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редине XIX ве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осыл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 степени либерализации внутреннего валютного законод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циональный валютный рынок может существовать в форм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ерног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сновные 5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между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инансовых цент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ые финансовые цен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пы валютных рынк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степени их организованн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биржевые валютные сдел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течении двух рабочих дней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наличный или спот-рын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вард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не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ьючерс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опци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арактеризует право, а не обязанность купить/продать валют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ного ры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Валютный Фон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него входит 184 страны-участн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поддерж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3 года 3 мес.-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ширенные креди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4,5 до 10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менее развитых стран на срок от 3 лет 3 мес. до 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урегулирования долгового кризиса РС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Членами МБРР могут быть только страны-члены МВ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уппа Всемирного ба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ногоструктурная международная кредитная организ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БРР) имеет два филиа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АР) создана в 1960 г. МАР предоставляет беспроцентные кредиты наименее развитым странам на срок 35-4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ФК) создана в 1956 г. с целью стимулирования частных инвестиций в промышленность молодых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МИГА) учреждено в 1988 г. Его цель — страхования инвестиций и прямых капиталовложений от некоммерческих рис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ондонский клуб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честве основ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й МВ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едует отметит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9:54Z</dcterms:created>
  <dc:creator>Lena</dc:creator>
  <dc:description/>
  <dc:language>en-US</dc:language>
  <cp:lastModifiedBy>LEGION</cp:lastModifiedBy>
  <dcterms:modified xsi:type="dcterms:W3CDTF">2016-01-05T11:05:41Z</dcterms:modified>
  <cp:revision>19</cp:revision>
  <dc:subject/>
  <dc:title>Тема 6. Международная валютная система и мировой валютный рынок</dc:title>
</cp:coreProperties>
</file>