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4F11-8ADB-4BD1-B980-B2B19993A6F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система и мировой валют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 регулирование валют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и мировой валютный рын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 регулирование валютного курс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Генуэзской валютной системы были аналогичны принципам предшествующей Парижск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назначалось два основных способа размена национальной валюты в золо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ямой — для валют, выполнявших роль девизов (фунт стерлингов, долла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косвенный — для всех остальных валют дан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МВС использовался принцип свободноплавающих валютных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принципы Генуэзской валютной системы были аналогичны принципам предшествующей Парижск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о, назначалось два основных способа размена национальной валюты в золото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-первых, прямой — для валют, выполнявших роль девизов (фунт стерлингов, доллар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-вторых, косвенный — для всех остальных валют дан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данной МВС использовался принцип свободноплавающих валют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нципами Бреттон-Вудской валютной системы являл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золото сохрани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езервные валюты — доллар США,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установлены фиксированные валютные кур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МВФ, МБР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ри нарушении платежных балансов разрешалось урегулировать их зол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ми принципами Бреттон-Вудской валютной системы являлис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золото сохрани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резервные валюты — доллар США,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установлены фиксированные валютные курс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МВФ, МБР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при нарушении платежных балансов разрешалось урегулировать их золот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майская валютная система строилась на основании следующих принцип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фициально отменен золотой станда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зафиксирована демонетизация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прещены золотые паритеты — привязка валют к зол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золото рассматривается как обычный това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введен стандарт СД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установлен режим свободно плавающих валютных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) узаконено создание замкнутых валютных бл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Ямайская валютная система строилась на основании следующих принцип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официально отменен золотой стандар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зафиксирована демонетизация золо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запрещены золотые паритеты — привязка валют к золот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золото рассматривается как обычный това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введен стандарт СД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) установлен режим свободно плавающих валютных к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) узаконено создание замкнутых валютных бло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критериев отбора в «Зону евро»  установл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госбюджета не должен превышать 3% ВВ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не более 60% ВВ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критериев отбора в «Зону евро»  установлен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фицит госбюджета не должен превышать 3% ВВП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сударственный долг не более 60% ВВП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конвертируемости может быть различ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по текущим операция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по капитальным операц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ую конвертиру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пень конвертируемости может быть различно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по текущим операциям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по капитальным операция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ую конвертируем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вободно-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частично 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мкнутые (неконвертируемые)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свободно-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частично 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замкнутые (неконвертируемые) валю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атусу валюты классифицируют на следующие 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условные (СД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условные (ЭКЮ, с 1 января 1999 г. евро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ой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татусу валюты классифицируют на следующие вид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остранна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условные (СДР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иональные условные (ЭКЮ, с 1 января 1999 г. евро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ой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ая валюта — это конвертируемая национальная валюта, котор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ет функции международного платежного и резервного сред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ая валюта — это конвертируемая национальная валюта, котора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полняет функции международного платежного и резервного средств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алютного курса (особенно при фиксированном режиме)  лежит валютный паритет — это соотношение между двумя валютами, устанавливаемое в законодательном поря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основе валютного курса (особенно при фиксированном режиме)  лежит валютный паритет — это соотношение между двумя валютами, устанавливаемое в законодательном порядке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о фиксированные (опираются на: согласованный этал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говорно фиксированные (опираются на: согласованный эталон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ие валютные курсы (у валют отсутствует официальный парите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ающие (изменяются в зависимости от спроса и пред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еблющие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ибкие валютные курсы (у валют отсутствует официальный паритет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вающие (изменяются в зависимости от спроса и предложения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еблющиеся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расчета валютные курсы быв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ные (т. е. определенные исходя из паритета покупательной способности валют сравниваемых стр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пособу расчета валютные курсы бывают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актически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итетные (т. е. определенные исходя из паритета покупательной способности валют сравниваемых стран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лебания валютного курса воздействуют следующие фак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относительных темпов инфляции (рост цен) и объема денежной ма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в процентных став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кулятивные валютные опе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использования в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государственного и рыночного регул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ые фактор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колебания валютного курса воздействуют следующие фактор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е относительных темпов инфляции (рост цен) и объема денежной масс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ежный баланс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личия в процентных ставках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екулятивные валютные опер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пень использования в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ношение государственного и рыночного регулир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кроэкономические показатели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бъективные факторы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 бюджетно-налоговая и денежно-кредитная политики сопровождаются снижением налогов и ставки процента ⇒ оживление инвестиционной активности ⇒растет объем внутренних инвестиций ⇒снижение предложения национальной валюты для зарубежных инвестиций ⇒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стская политика увеличивает налоги на импорт ⇒ снижение импорта ⇒ снижение спроса на иностранную валюту ⇒ 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ая антиинфляционная политика укрепляет национальную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ующая бюджетно-налоговая и денежно-кредитная политики сопровождаются снижением налогов и ставки процента ⇒ оживление инвестиционной активности ⇒растет объем внутренних инвестиций ⇒снижение предложения национальной валюты для зарубежных инвестиций ⇒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текционистская политика увеличивает налоги на импорт ⇒ снижение импорта ⇒ снижение спроса на иностранную валюту ⇒ 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ая антиинфляционная политика укрепляет национальную валют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а валютного рынка определяется сложившимися в данный момент спросом и предложением на иностранную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ъюнктура валютного рынка определяется сложившимися в данный момент спросом и предложением на иностранную валют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ходе на валютный рынок экономические субъекты преследуют различны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е осуществление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валютных резервов и их попол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еджирование от валютных и кредитных рис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валютн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еждународных креди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выходе на валютный рынок экономические субъекты преследуют различные цел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рерывное осуществление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версификация валютных резервов и их пополнени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чение прибыл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еджирование от валютных и кредитных риск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ведение валютной политик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чение международных кредит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задачей валютного рынка является обслуживани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временном этапе валютный рынок выглядит как совокупность национальных, региональных и мировых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ой задачей валютного рынка является обслуживани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современном этапе валютный рынок выглядит как совокупность национальных, региональных и мировых рын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национальных валютных относится к середине XIX века. Предпосы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гулярных МЭ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тепень концентрации и централизации банковского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спондентские отношения между бан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распространение кредитных средств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редств связ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валютных ограничений по текущим сче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национальных валютных относится к середине XIX века. Предпосылк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витие регулярных МЭО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сокая степень концентрации и централизации банковского капитал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рреспондентские отношения между банка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е распространение кредитных средств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витие средств связ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сутствие валютных ограничений по текущим счета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тепени либерализации внутреннего валютного законодательства национальный валютный рынок может существовать в форм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официальн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рного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степени либерализации внутреннего валютного законодательства национальный валютный рынок может существовать в форм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фициального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официального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черного»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ую валютную систему возлагается ряд функ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 использование валютны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внешнеэкономических связей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оптимальных условий функционирования национальн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национальную валютную систему возлагается ряд функций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и использование валютных рес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внешнеэкономических связей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оптимальных условий функционирования национального хозяй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мирового валютного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валютные огранич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огромное число сдел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ют субъекты все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0% общего международного оборота приходится на основные 5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еждународных финансовых цен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истика мирового валютного ры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сутствуют валютные ограничения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уществляется огромное число сдел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вуют субъекты всех стран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0% общего международного оборота приходится на основные 5 валю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личие международных финансовых цент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финансовые центры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ые финансовые центры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валютных рынков в зависимости от степени их организова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ые или биржевые валютные ры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рганизованные или межбанковские валютные ры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мышленно развитых странах около 90% валютных сделок приходится на внебиржевые валютные сдел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ы валютных рынков в зависимости от степени их организованност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ованные или биржевые валютные рынк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организованные или межбанковские валютные рын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ромышленно развитых странах около 90% валютных сделок приходится на внебиржевые валютные сделк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немедленной поставки валюты (в течении двух рабочих дней) – наличный или спот-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й (форвардный рыно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е валютные контрак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вардный контракт (внебиржевой контрак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ьючерсный контракт (биржевой контрак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опцион (характеризует право, а не обязанность купить/продать валют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ынок немедленной поставки валюты (в течении двух рабочих дней) – наличный или спот-рын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очный (форвардный рынок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очные валютные контракты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вардный контракт (внебиржевой контрак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ьючерсный контракт (биржевой контрак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опцион (характеризует право, а не обязанность купить/продать валюту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мирового валютного рынка на современном этап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интернационализации валютных рынков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 совершаются непрерывно в течение сут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цируется техника валютных операций, международных расчетов и креди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 развивается срочный сектор валютного ры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т объем валютных операций с целью страх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 применяются электронные средства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обенности мирового валютного рынка на современном этап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т интернационализации валютных рынков стран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ерации совершаются непрерывно в течение сут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цируется техника валютных операций, международных расчетов и креди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стро развивается срочный сектор валютного рынк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тет объем валютных операций с целью страх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 применяются электронные средства связ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44 г. на Бреттон-Вудской международной конференции. В него входит 184 страны-участниц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Валютный Фонд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л создан в 1944 г. на Бреттон-Вудской международной конференции. В него входит 184 страны-участниц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поддержки (срок погашения 3 года 3 мес.-5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ные кредиты (срок погашения 4,5 до 10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кредиты и кредиты финансирования буферных запасов (для менее развитых стран на срок от 3 лет 3 мес. до 5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структурной адаптации (для урегулирования долгового кризиса Р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системной транс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 выдаются, как правило, кредитными долями (транши) по 2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МВФ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поддержки (срок погашения 3 года 3 мес.-5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ширенные кредиты (срок погашения 4,5 до 10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енсационные кредиты и кредиты финансирования буферных запасов (для менее развитых стран на срок от 3 лет 3 мес. до 5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структурной адаптации (для урегулирования долгового кризиса РС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системной трансформ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МВФ выдаются, как правило, кредитными долями (транши) по 25%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44 г. на Бреттон-Вудской международной конференции. Членами МБРР могут быть только страны-члены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— это многоструктурная международная кредитная организ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л создан в 1944 г. на Бреттон-Вудской международной конференции. Членами МБРР могут быть только страны-члены МВФ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 Всемирного банка — это многоструктурная международная кредитная организац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 имеет два фили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МАР) создана в 1960 г. МАР предоставляет беспроцентные кредиты наименее развитым странам на срок 35-4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(МФК) создана в 1956 г. с целью стимулирования частных инвестиций в промышленность молод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меет два филиала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ассоциация развития (МАР) создана в 1960 г. МАР предоставляет беспроцентные кредиты наименее развитым странам на срок 35-40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финансовая корпорация (МФК) создана в 1956 г. с целью стимулирования частных инвестиций в промышленность молодых государст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руппу Мирового банка входят еще три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стороннее инвестиционно-гарантийное агентство (МИГА) учреждено в 1988 г. Его цель — страхования инвестиций и прямых капиталовложений от некоммерческих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разногласий,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й фонд помощи для Африки Южнее Сахары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группу Мирового банка входят еще три организаци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ногостороннее инвестиционно-гарантийное агентство (МИГА) учреждено в 1988 г. Его цель — страхования инвестиций и прямых капиталовложений от некоммерческих рис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центр по урегулированию инвестиционных разногласий,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ециальный фонд помощи для Африки Южнее Сахары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С включает валютные отношения и валютный механ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ВС включает валютные отношения и валютный механиз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жский клуб стран-кредиторов 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ндонский клуб 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ижский клуб стран-кредиторов 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ондонский клуб 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основных функций МВС следует отметит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ование международных экономических связ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латежно-расчетного оборота в рамках мирового хозя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необходимых условий для нормального воспроизводствен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ирование и координирование режимов национальных валютных сис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 и стандартизация принципов валют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основных функций МВС следует отметит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осредование международных экономических связ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платежно-расчетного оборота в рамках мирового хозяйств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необходимых условий для нормального воспроизводственного процесс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ламентирование и координирование режимов национальных валютных систе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кация и стандартизация принципов валютных отношен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лементы мировой валютной сис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е валюты и международные счет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заимной конвертируемости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ация режимов валютных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регулирование валютных ограни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 форм международных расчетов и кредитных сред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мировых валютных рынков и рынков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элементы мировой валютной систем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ые валюты и международные счет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ловия взаимной конвертируемости валю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ламентация режимов валютных к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государственное регулирование валютных ограничени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кация форм международных расчетов и кредитных средст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жим мировых валютных рынков и рынков золо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следующие эта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арижская валютная система (с 1867 г. по 20-е годы XX в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енуэзская валютная система (с 1922 г. по 30-е го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реттон-Вудская валютная система (с 1944 г. по 1976 г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Ямайская валютная система (с 1976—1978 годов по настоящее врем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деляют следующие этап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Парижская валютная система (с 1867 г. по 20-е годы XX в.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Генуэзская валютная система (с 1922 г. по 30-е годы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Бреттон-Вудская валютная система (с 1944 г. по 1976 г.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Ямайская валютная система (с 1976—1978 годов по настоящее время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нципами золотомонетного стандарта являлис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установлено золотое содержание национальных денежных един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золото выполня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банкноты свободно обменивались на золот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курс валюты мог отклоняться от монетных паритетов в пределах «золотых точек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резервная валюта -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дефицит платежных балансов покрывался зол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ми принципами золотомонетного стандарта являлис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установлено золотое содержание национальных денежных единиц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золото выполня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банкноты свободно обменивались на золото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курс валюты мог отклоняться от монетных паритетов в пределах «золотых точек»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резервная валюта -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) дефицит платежных балансов покрывался золот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094-520A-4978-9FF0-C28E1403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7B2-AE3F-4CC2-BBA5-178039F6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A149-C1A1-4442-9909-A244F6C2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878-1F5C-4084-B350-7E1EB560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B8B1-D9B9-4A1C-90FF-F5389877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4A60-B2D3-4863-A3C8-E79EAF09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EAF2-3B37-4994-91EE-28D88EA7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666A-9D56-4697-9610-34418FCF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761A-8FE7-40C4-A8DB-AD155386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41CB-706B-4FA8-9862-966C1CF7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F7A4-4BB2-4A56-8992-B47A558C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D02-1B34-4DDE-897B-EF76ADE8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4BF8-F4EA-4310-BD69-7D9FA016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4716-62C8-4AD6-9D6A-40972EFF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82BF-D8FB-497F-AB1D-2E635367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E901-51E2-4431-8647-7A64D642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0409-47CD-4967-A035-11B8249E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36BB-AA11-4713-94B0-944D0D92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B03-0FE3-4876-AC1B-E07A8CC4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7D9C-8838-4BA1-8195-AA5282A6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FF2-0EED-461E-807B-80705847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B71-B8E2-4913-A069-7B99EC17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B03-D752-496E-BEAB-58496BDC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5F22-AD40-4439-B714-133A5F53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0f0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7C62-9148-4625-944D-4461EC8506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05E4-159C-4A0D-8531-AEA4C95BAD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547560"/>
            <a:ext cx="8424720" cy="1578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ма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и мировой валютный рын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4000" y="2482560"/>
            <a:ext cx="78483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а и валютные курсы регулирование валютного кур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е принципы Генуэзской валют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ыли аналогичны принципам предшествующей Парижск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, назначалось два основных способа размена национальной валюты в золото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-первых, прямой — для валют, выполнявших роль девизов (фунт стерлингов, доллар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-вторых, косвенный — для всех остальных валют дан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данной МВС использовался принцип свободноплавающих валютных курс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ми принципами Бреттон-Вудской валютной системы являлись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золото сохранило функцию мировых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резервные валюты — доллар США, английский фунт стерлинг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установлены фиксированные валютные курс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) МВФ, МБР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) при нарушении платежных балансов разрешалось урегулировать их золот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майская валютная система строилась на основании следующих принцип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 официально отменен золотой стандар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 зафиксирована демонетизация золот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) запрещены золотые паритеты — привязка валют к золот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) золото рассматривается как обычный товар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) введен стандарт СДР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7) установлен режим свободно плавающих валютных курс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8) узаконено создание замкнутых валютных бло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качестве критериев отбора 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Зону евро»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установлен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фицит госбюджета не должен превышать 3% ВВП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сударственный долг не более 60% ВВП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епень конвертируемос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ожет быть различн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вертируемость по текущим операциям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вертируемость по капитальным операци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ную конвертируем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свободно-конвертируемые валю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частично конвертируемые валю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замкнутые (неконвертируемые) валю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статусу валюты классифицируют на следующие вид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циональн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остранн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условные (СДР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иональные условные (ЭКЮ, с 1 января 1999 г. евро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ервной валю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зервная валюта — это конвертируемая национальная валюта, котора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полняет функции международного платежного и резервного средств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основе валютного курс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особенно при фиксированном режиме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лежит валютный паритет — это соотношение между двумя валютами, устанавливаемое в законодательном поряд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говорно фиксированные (опираются на: согласованный эталон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ибкие валютные курсы (у валют отсутствует официальный паритет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вающие (изменяются в зависимости от спроса и предложен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леблющиес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способу расчета валютные курсы бывают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актическ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аритетны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т. е. определенные исходя из паритета покупательной способности валют сравниваемых стран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колебания валютного курса воздействуют следующие фактор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менение относительных темпов инфляции (рост цен) и объема денежной масс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тежный баланс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личия в процентных ставк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екулятивные валютные опера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пень использования в международных расчет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отношение государственного и рыночного регулиро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кроэкономические показатели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бъективные факторы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имулирующая бюджетно-налоговая и денежно-кредитная политики сопровождаются снижением налогов и ставки процент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живление инвестиционной а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т объем внутренних инвестиций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предложения национальной валюты для зарубежных инвестиций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ается реальный валютный кур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екционистская политика увеличивает налоги на импорт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нижение импорта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нижение спроса на иностранную валюту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ается реальный валютный кур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ффективная антиинфляционная политика укрепляет национальную валют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ъюнктура валютного рын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яетс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ложившимися в данный момен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просом и предложением на иностранную валют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 выходе на валютный рынок экономические субъекты преследуют различные цел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прерывное осуществление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иверсификация валютных резервов и их пополне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прибы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еджирование от валютных и кредитных риск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едение валютной полити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международных креди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лавной задачей валютного рынка является обслуживание международных экономических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современном этап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 выглядит как совокупность национальных, региональных и мировых рын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ирование национальных валютных относи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 середине XIX ве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дпосыл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регулярных МЭ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ая степень концентрации и централизации банковского капитал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рреспондентские отношения между банк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е распространение кредитных средств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средств связ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утствие валютных ограничений по текущим счета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зависимост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 степени либерализации внутреннего валютного законодательств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циональный валютный рынок может существовать в форме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фициальног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луофициальног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черного»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национальную валютную систему возлагается ряд функци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ирование и использование валютных ресурс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внешнеэкономических связей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оптимальных условий функционирования национального хозяй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Характеристика мирового валютного рын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сутствуют валютные ограничени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уществляется огромное число сдел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аствуют субъекты всех стран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90% общего международного оборота приходи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основные 5 валю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личие международных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инансовых центр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ые финансовые центр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ипы валютных рынко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зависимости от степени их организованнос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ованные или биржевые валютные рын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организованные или межбанковские валютные рын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промышленно развитых странах около 90% валютных сделок приходится н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биржевые валютные сделк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иды валютных рынк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ынок немедленной поставки валют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в течении двух рабочих дней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– наличный или спот-рын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й (форвардный рынок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е валютные контракты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орвардный контрак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внебиржевой контракт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ьючерсный контрак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биржевой контракт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опцион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характеризует право, а не обязанность купить/продать валюту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обенности мирового валютного рынка на современном этап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ст интернационализации валютных рынков стран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ерации совершаются непрерывно в течение сут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цируется техника валютных операций, международных расчетов и креди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стро развивае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й сектор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алютного рын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тет объем валютных операций с целью страхо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 применяются электронные средства связ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Валютный Фонд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л создан 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944 г. на Бреттон-Вудской международной конференции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него входит 184 страны-участниц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МВФ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поддержк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срок погашения 3 года 3 мес.-5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сширенные кредит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срок погашения 4,5 до 10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мпенсационные кредиты и кредиты финансирования буферных запас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для менее развитых стран на срок от 3 лет 3 мес. до 5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структурной адапт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для урегулирования долгового кризиса РС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системной трансформ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едиты МВФ выдаются, как правило, кредитными долями (транши) по 25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л создан 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944 г. на Бреттон-Вудской международной конференции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Членами МБРР могут быть только страны-члены МВФ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руппа Всемирного бан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ногоструктурная международная кредитная организац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БРР) имеет два филиала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ая ассоциация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АР) создана в 1960 г. МАР предоставляет беспроцентные кредиты наименее развитым странам на срок 35-40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ая финансовая корпорац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ФК) создана в 1956 г. с целью стимулирования частных инвестиций в промышленность молодых государ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группу Мирового банка входят еще три организ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ногостороннее инвестиционно-гарантийное агентст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МИГА) учреждено в 1988 г. Его цель — страхования инвестиций и прямых капиталовложений от некоммерческих рис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еждународный центр по урегулированию инвестиционных разногласий,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пециальный фонд помощи для Африки Южнее Сахар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ВС включает валютные отношения и валютный механиз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арижский клуб стран-кредиторо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Лондонский клуб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ачестве основных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ункций МВС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ледует отметить следующ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осредование международных экономических связ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платежно-расчетного оборота в рамках мирового хозяй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необходимых условий для нормального воспроизводственного процесс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ламентирование и координирование режимов национальных валютных систе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кация и стандартизация принципов валютных отнош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е элементы мировой валютной систем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ервные валюты и международные счетные валютные единиц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ловия взаимной конвертируемости валю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ламентация режимов валютных курс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государственное регулирование валютных ограниче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кация форм международных расчетов и кредитных средст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жим мировых валютных рынков и рынков золо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деляют следующие этап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Парижская валютная система (с 1867 г. по 20-е годы XX в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Генуэзская валютная система (с 1922 г. по 30-е годы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Бреттон-Вудская валютная система (с 1944 г. по 1976 г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. Ямайская валютная система (с 1976—1978 годов по настоящее врем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ми принципами золотомонетного стандарта являлись следующ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установлено золотое содержание национальных денежных единиц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золото выполняло функцию мировых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банкноты свободно обменивались на золот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курс валюты мог отклоняться от монетных паритетов в пределах «золотых точек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) резервная валюта - английский фунт стерлинг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) дефицит платежных балансов покрывался золот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39:54Z</dcterms:created>
  <dc:creator>Lena</dc:creator>
  <dc:description/>
  <dc:language>en-US</dc:language>
  <cp:lastModifiedBy>LEGION</cp:lastModifiedBy>
  <dcterms:modified xsi:type="dcterms:W3CDTF">2016-01-05T11:05:41Z</dcterms:modified>
  <cp:revision>19</cp:revision>
  <dc:subject/>
  <dc:title>Тема 6. Международная валютная система и мировой валютный рынок</dc:title>
</cp:coreProperties>
</file>