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D10C-668A-4AE1-A083-45CB1A27AD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BBE-189A-4776-8D23-F6E90A69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0E3-06DE-4072-820D-CAB7DAD0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C63-35B9-44A3-94E3-4B7A4D9F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D05-DFF1-40DD-BFE7-7723D675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84C2-46E4-4D8A-A770-3E2417E7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0814-835D-4D27-BBBB-1AF6F990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BF3A-B828-4412-9407-B5D0DF27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607A-DA9B-448C-B3B0-186C72EA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EC98-21FB-48FA-854B-AD24DE63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74BE-3336-42A5-8094-D8983CD6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1A7E-A360-4576-9D71-5D0A93CD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5CB-F1F2-4D9E-A176-76708163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FF7F-C5BB-4CB7-9B64-C3418D5E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CE92-15F7-4DFB-9FC9-D975B6B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F6F9-762E-45B7-B146-0FE78617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9413-8A26-4F21-BCD5-E967D50B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ED75-AC01-487C-9901-028E5A92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0C4-43BE-414B-840B-648BE0A9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91F-DC39-49FE-8DB2-8F98442E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0C5-9599-4716-B066-F7032B74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124-7316-4D47-BF5F-C4E89CB4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BA8-504E-4F4B-811C-D9F48FE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E65-C417-456D-ACBD-C329BB4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6B3-D38A-43D1-BA4F-81313E1C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6E3F-2EC1-429F-9E1A-90227F976B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B981-2DDB-428A-AF27-41C80505B1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45820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Arial"/>
              </a:rPr>
              <a:t>История национальной валюты Тенге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временная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4" descr="239px-Kazah_tenge"/>
          <p:cNvPicPr/>
          <p:nvPr/>
        </p:nvPicPr>
        <p:blipFill>
          <a:blip r:embed="rId1"/>
          <a:stretch/>
        </p:blipFill>
        <p:spPr>
          <a:xfrm rot="882000">
            <a:off x="468000" y="836640"/>
            <a:ext cx="4456080" cy="32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kazakh_tenge"/>
          <p:cNvPicPr/>
          <p:nvPr/>
        </p:nvPicPr>
        <p:blipFill>
          <a:blip r:embed="rId2"/>
          <a:stretch/>
        </p:blipFill>
        <p:spPr>
          <a:xfrm rot="19501800">
            <a:off x="3780000" y="2636640"/>
            <a:ext cx="5717880" cy="3584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оначальные сведения о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Монета 20 тенге"/>
          <p:cNvPicPr/>
          <p:nvPr/>
        </p:nvPicPr>
        <p:blipFill>
          <a:blip r:embed="rId1"/>
          <a:stretch/>
        </p:blipFill>
        <p:spPr>
          <a:xfrm>
            <a:off x="0" y="5318280"/>
            <a:ext cx="2521080" cy="15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Монета 50 тиын"/>
          <p:cNvPicPr/>
          <p:nvPr/>
        </p:nvPicPr>
        <p:blipFill>
          <a:blip r:embed="rId2"/>
          <a:stretch/>
        </p:blipFill>
        <p:spPr>
          <a:xfrm>
            <a:off x="6659640" y="5373720"/>
            <a:ext cx="2334960" cy="128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Picture 4" descr="image012"/>
          <p:cNvPicPr/>
          <p:nvPr/>
        </p:nvPicPr>
        <p:blipFill>
          <a:blip r:embed="rId1"/>
          <a:stretch/>
        </p:blipFill>
        <p:spPr>
          <a:xfrm rot="1267200">
            <a:off x="5795640" y="1413000"/>
            <a:ext cx="302400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042920" y="3285360"/>
            <a:ext cx="63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Picture 4" descr="image010"/>
          <p:cNvPicPr/>
          <p:nvPr/>
        </p:nvPicPr>
        <p:blipFill>
          <a:blip r:embed="rId1"/>
          <a:stretch/>
        </p:blipFill>
        <p:spPr>
          <a:xfrm rot="1375800">
            <a:off x="5940000" y="1483920"/>
            <a:ext cx="292104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619280" y="3574080"/>
            <a:ext cx="56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4" descr="image008"/>
          <p:cNvPicPr/>
          <p:nvPr/>
        </p:nvPicPr>
        <p:blipFill>
          <a:blip r:embed="rId1"/>
          <a:stretch/>
        </p:blipFill>
        <p:spPr>
          <a:xfrm rot="1368600">
            <a:off x="5867280" y="1483920"/>
            <a:ext cx="293868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124000" y="2925360"/>
            <a:ext cx="508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Picture 4" descr="image006"/>
          <p:cNvPicPr/>
          <p:nvPr/>
        </p:nvPicPr>
        <p:blipFill>
          <a:blip r:embed="rId1"/>
          <a:stretch/>
        </p:blipFill>
        <p:spPr>
          <a:xfrm rot="1359600">
            <a:off x="5435280" y="1412640"/>
            <a:ext cx="3240000" cy="2732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476360" y="2709360"/>
            <a:ext cx="45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7" name="Picture 4" descr="image004"/>
          <p:cNvPicPr/>
          <p:nvPr/>
        </p:nvPicPr>
        <p:blipFill>
          <a:blip r:embed="rId1"/>
          <a:stretch/>
        </p:blipFill>
        <p:spPr>
          <a:xfrm rot="1231200">
            <a:off x="5435280" y="1341000"/>
            <a:ext cx="3419280" cy="291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11280" y="2422080"/>
            <a:ext cx="490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345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image002"/>
          <p:cNvPicPr/>
          <p:nvPr/>
        </p:nvPicPr>
        <p:blipFill>
          <a:blip r:embed="rId1"/>
          <a:stretch/>
        </p:blipFill>
        <p:spPr>
          <a:xfrm rot="930000">
            <a:off x="4966920" y="1412640"/>
            <a:ext cx="4176720" cy="31147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 новую жизнь с новыми деньг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4797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nationalbank.kz/cont/import/word/docimport3167.doc.files/image003.jpg"/>
          <p:cNvPicPr/>
          <p:nvPr/>
        </p:nvPicPr>
        <p:blipFill>
          <a:blip r:embed="rId1"/>
          <a:stretch/>
        </p:blipFill>
        <p:spPr>
          <a:xfrm>
            <a:off x="5364000" y="4581360"/>
            <a:ext cx="2089440" cy="11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4" descr="http://www.nationalbank.kz/cont/import/word/docimport3167.doc.files/image002.jpg"/>
          <p:cNvPicPr/>
          <p:nvPr/>
        </p:nvPicPr>
        <p:blipFill>
          <a:blip r:embed="rId2"/>
          <a:stretch/>
        </p:blipFill>
        <p:spPr>
          <a:xfrm>
            <a:off x="2268360" y="4581360"/>
            <a:ext cx="2376720" cy="12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003640" y="42775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42051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93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46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2:14:04Z</dcterms:created>
  <dc:creator>ww</dc:creator>
  <dc:description/>
  <dc:language>en-US</dc:language>
  <cp:lastModifiedBy>LEGION</cp:lastModifiedBy>
  <dcterms:modified xsi:type="dcterms:W3CDTF">2016-01-05T11:05:47Z</dcterms:modified>
  <cp:revision>5</cp:revision>
  <dc:subject/>
  <dc:title>История национальной валюты Тенге</dc:title>
</cp:coreProperties>
</file>