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7464-8521-4603-B73D-61E312D59A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085-A583-4ADA-A14A-5007FC72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777-0E3E-49C4-AB4C-91BE12D4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CCD-A536-49F8-B8CE-5D1AEC65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962-E7F8-4163-93C5-E1F307AE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3588-FC8E-4270-9EF0-065BE4D0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3E55-F01F-4A0E-8F28-2191C04D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57FB-B07C-4638-8374-AE489303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DF4E-F0F4-4AC5-8DEE-FBB63575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7019-52AE-4894-9E61-A880891F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04F3-62DD-4650-AB2A-AEA95283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0005-6EA1-4845-8944-8E8A8C54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BB1-EAC4-4B3C-A33F-D4448561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5992-1654-46EB-9DBC-E1EEC48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85ED-6E71-4D9F-BC10-4259DBA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EA9F-2DB5-451F-95E2-3F897F06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D4F1-B9F2-4F0B-8F94-1B2FBE30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DFE1-0381-4DC9-BECB-ED04B956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9AE-E0A3-4193-AAC5-6603D358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C91-B60D-4E84-98DA-88F805A3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ACA-9E46-4C78-8CFC-577D3887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1D7-C7A8-4710-AFEF-ED237A65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3B0-1C01-4193-BAD9-BC3A1756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7E7-C9C5-48B4-824E-2EDE5DAE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C72-C39C-444C-93D7-3A5DA23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C09E-F430-4F0C-9EF8-41C32C8BF7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478C-12FC-4C1C-AA3A-EC749C5771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45820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005c"/>
                </a:solidFill>
                <a:latin typeface="Arial"/>
              </a:rPr>
              <a:t>История национальной валюты Тенге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временная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4" descr="239px-Kazah_tenge"/>
          <p:cNvPicPr/>
          <p:nvPr/>
        </p:nvPicPr>
        <p:blipFill>
          <a:blip r:embed="rId1"/>
          <a:stretch/>
        </p:blipFill>
        <p:spPr>
          <a:xfrm rot="882000">
            <a:off x="468000" y="836640"/>
            <a:ext cx="4456080" cy="32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kazakh_tenge"/>
          <p:cNvPicPr/>
          <p:nvPr/>
        </p:nvPicPr>
        <p:blipFill>
          <a:blip r:embed="rId2"/>
          <a:stretch/>
        </p:blipFill>
        <p:spPr>
          <a:xfrm rot="19501800">
            <a:off x="3780000" y="2636640"/>
            <a:ext cx="5717880" cy="3584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оначальные сведения о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12500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Монета 20 тенге"/>
          <p:cNvPicPr/>
          <p:nvPr/>
        </p:nvPicPr>
        <p:blipFill>
          <a:blip r:embed="rId1"/>
          <a:stretch/>
        </p:blipFill>
        <p:spPr>
          <a:xfrm>
            <a:off x="0" y="5318280"/>
            <a:ext cx="2521080" cy="153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Монета 50 тиын"/>
          <p:cNvPicPr/>
          <p:nvPr/>
        </p:nvPicPr>
        <p:blipFill>
          <a:blip r:embed="rId2"/>
          <a:stretch/>
        </p:blipFill>
        <p:spPr>
          <a:xfrm>
            <a:off x="6659640" y="5373720"/>
            <a:ext cx="2334960" cy="128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Picture 4" descr="image012"/>
          <p:cNvPicPr/>
          <p:nvPr/>
        </p:nvPicPr>
        <p:blipFill>
          <a:blip r:embed="rId1"/>
          <a:stretch/>
        </p:blipFill>
        <p:spPr>
          <a:xfrm rot="1267200">
            <a:off x="5795640" y="1413000"/>
            <a:ext cx="3024000" cy="2436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042920" y="3285360"/>
            <a:ext cx="635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Picture 4" descr="image010"/>
          <p:cNvPicPr/>
          <p:nvPr/>
        </p:nvPicPr>
        <p:blipFill>
          <a:blip r:embed="rId1"/>
          <a:stretch/>
        </p:blipFill>
        <p:spPr>
          <a:xfrm rot="1375800">
            <a:off x="5940000" y="1483920"/>
            <a:ext cx="2921040" cy="2197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619280" y="3574080"/>
            <a:ext cx="563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4" descr="image008"/>
          <p:cNvPicPr/>
          <p:nvPr/>
        </p:nvPicPr>
        <p:blipFill>
          <a:blip r:embed="rId1"/>
          <a:stretch/>
        </p:blipFill>
        <p:spPr>
          <a:xfrm rot="1368600">
            <a:off x="5867280" y="1483920"/>
            <a:ext cx="2938680" cy="203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124000" y="2925360"/>
            <a:ext cx="508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3" name="Picture 4" descr="image006"/>
          <p:cNvPicPr/>
          <p:nvPr/>
        </p:nvPicPr>
        <p:blipFill>
          <a:blip r:embed="rId1"/>
          <a:stretch/>
        </p:blipFill>
        <p:spPr>
          <a:xfrm rot="1359600">
            <a:off x="5435280" y="1412640"/>
            <a:ext cx="3240000" cy="2732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476360" y="2709360"/>
            <a:ext cx="45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7" name="Picture 4" descr="image004"/>
          <p:cNvPicPr/>
          <p:nvPr/>
        </p:nvPicPr>
        <p:blipFill>
          <a:blip r:embed="rId1"/>
          <a:stretch/>
        </p:blipFill>
        <p:spPr>
          <a:xfrm rot="1231200">
            <a:off x="5435280" y="1341000"/>
            <a:ext cx="3419280" cy="2914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11280" y="2422080"/>
            <a:ext cx="490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345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image002"/>
          <p:cNvPicPr/>
          <p:nvPr/>
        </p:nvPicPr>
        <p:blipFill>
          <a:blip r:embed="rId1"/>
          <a:stretch/>
        </p:blipFill>
        <p:spPr>
          <a:xfrm rot="930000">
            <a:off x="4966920" y="1412640"/>
            <a:ext cx="4176720" cy="31147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 новую жизнь с новыми деньгам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4797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www.nationalbank.kz/cont/import/word/docimport3167.doc.files/image003.jpg"/>
          <p:cNvPicPr/>
          <p:nvPr/>
        </p:nvPicPr>
        <p:blipFill>
          <a:blip r:embed="rId1"/>
          <a:stretch/>
        </p:blipFill>
        <p:spPr>
          <a:xfrm>
            <a:off x="5364000" y="4581360"/>
            <a:ext cx="2089440" cy="11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4" descr="http://www.nationalbank.kz/cont/import/word/docimport3167.doc.files/image002.jpg"/>
          <p:cNvPicPr/>
          <p:nvPr/>
        </p:nvPicPr>
        <p:blipFill>
          <a:blip r:embed="rId2"/>
          <a:stretch/>
        </p:blipFill>
        <p:spPr>
          <a:xfrm>
            <a:off x="2268360" y="4581360"/>
            <a:ext cx="2376720" cy="12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003640" y="42775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00360" y="420516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93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46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2:14:04Z</dcterms:created>
  <dc:creator>ww</dc:creator>
  <dc:description/>
  <dc:language>en-US</dc:language>
  <cp:lastModifiedBy>LEGION</cp:lastModifiedBy>
  <dcterms:modified xsi:type="dcterms:W3CDTF">2016-01-05T11:05:47Z</dcterms:modified>
  <cp:revision>5</cp:revision>
  <dc:subject/>
  <dc:title>История национальной валюты Тенге</dc:title>
</cp:coreProperties>
</file>