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9B4B-5BE8-46E0-9ABE-8FD8644211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ьга Пониз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-Соглас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ьга Пониз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-Соглас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результаты О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ы о состоянии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действий по охране окружающей среды для Центральной и Восточной Евро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стратегия ВЕК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программа для Евро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нъевропейской стратегии сохранения биологического и ландшафтного разнообр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колы по СЭО, РВПЗ,Протоколы по тяжелым металлам, СОЗ, Стратегия прекращения использования этилированного бензи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а по устойчивой энергетике, экологический менеджмент на предприятиях , «Вода и безопаснос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ЕЭК ООН по образованию для устойчиво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которые результаты ОС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ы о состоянии окружающей сре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действий по охране окружающей среды для Центральной и Восточной Европ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стратегия ВЕК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программа для Европ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ъевропейской стратегии сохранения биологического и ландшафтного разнообр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ы по СЭО, РВПЗ,Протоколы по тяжелым металлам, СОЗ, Стратегия прекращения использования этилированного бензи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 по устойчивой энергетике, экологический менеджмент на предприятиях , «Вода и безопасност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ЕЭК ООН по образованию для устойчивого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НП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коалиция НПО «Европейский Эко-Фору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борное руководство, проактивно вовлекала НПО разного типа и разных уровне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-Форум» стал официальным партнером ОС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о всех переговорах, мероприятиях, в т.ч.встречах минист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разработке всех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рабочих группах по направлен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онкретных проек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 распространяет информацию (Дайждесты, бюллетени, информационные рассыл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НП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а коалиция НПО «Европейский Эко-Фору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ыборное руководство, проактивно вовлекала НПО разного типа и разных уровн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-Форум» стал официальным партнером ОС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о всех переговорах, мероприятиях, в т.ч.встречах минист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разработке всех докум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рабочих группах по направлен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онкретных проект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о распространяет информацию (Дайждесты, бюллетени, информационные рассыл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ом уров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оги с гос.органами по ОСЕ, выработке позиции России по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правительственных делег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межведомственных рабочих группах по направлениям, связанным с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о процессе (бюллетени, в т.ч. электронные, С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влечение других НПО как в дискуссии по политике, так и в осуществление пр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циональном уров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логи с гос.органами по ОСЕ, выработке позиции России по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правительственных делегац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межведомственных рабочих группах по направлениям, связанным с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о процессе (бюллетени, в т.ч. электронные, С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влечение других НПО как в дискуссии по политике, так и в осуществление програ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гаемые успеха «Эко-Форум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 отношение со стороны ключевых правительств и ЕЭК ООН к  НП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е принципы работы Коал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тивность и ценность пред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гаемые успеха «Эко-Фору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 отношение со стороны ключевых правительств и ЕЭК ООН к  НП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принципы работы Коал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ость и ценность предло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ы можем сдел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ть эффективное взаимодействие между НП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лиять на работу межведомственной комиссии по СМР через своих представ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циировать широкие общественные дискуссии по Стратегии СМР и эффективности СМ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можем сдел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овать эффективное взаимодействие между НП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лиять на работу межведомственной комиссии по СМР через своих представ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циировать широкие общественные дискуссии по Стратегии СМР и эффективности СМ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ам нужно от правитель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е вовлечение в диало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ам нужно от правитель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ое вовлечение в ди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поддер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обще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й принци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обще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й принц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НИЕ ВАЖНОСТИ НП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ют решения лучше, это демократический принци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участие НПО - не панаце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- не автоматичес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ЭТО ВАЖНЫЙ ИНСТРУ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межсекторальное сотрудничество развивается, но не в эт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НИЕ ВАЖНОСТИ НП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ют решения лучше, это демократический принци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участие НПО - не панаце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- не автоматичес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ЭТО ВАЖНЫЙ ИНСТРУ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межсекторальное сотрудничество развивается, но не в эт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О ВОВЛЕЧЕНИЕ НПО В СМР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я получаются луч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е организации имеют хороший опыт во многих областях, и он может быть пере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ает имидж России – повышает политику добрососе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 пока не многие НПО заинтересованы те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О ВОВЛЕЧЕНИЕ НПО В СМР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я получаются луч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принц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е организации имеют хороший опыт во многих областях, и он может быть перед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ает имидж России – повышает политику добрососе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: пока не многие НПО заинтересованы те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широкой общественности и просв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ом уровне – участие в выработке поли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 и оценка эффективности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онкретных проектах в других странах, С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участия в международных мероприят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широкой общественности и просвещ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циональном уровне – участие в выработке полити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 и оценка эффективности полит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онкретных проектах в других странах, С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НПО В ДРУГИХ СТРАН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дискуссиях по полит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ты для осуществления проектов в други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участия в международных мероприятия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НПО В ДРУГИХ СТРАН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дискуссиях по полити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ты для осуществления проектов в других стран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ИЗУЧАТЬ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х стр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 предыдущий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ИЗУЧАТЬ ОПЫ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х стр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предыдущий опы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кружающая среда для Европ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кружающая среда для Европ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 для Европ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нференции минис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1 Добржиш, Чехословак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3 Люцерн, Швейц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5 София, Болг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8 Орхус, 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3 Киев, Укра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7 Белград, Серб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ая среда для Европ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нференции минис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1 Добржиш, Чехословак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3 Люцерн, Швейц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5 София, Болг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8 Орхус, 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3 Киев, Укра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Белград, Серб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4BE5-8573-487B-983F-C744371C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46A4-22D9-4836-BF7C-4CF573E5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5084-D7C9-4706-B2E2-48D8E91C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3CD1-6B41-41AE-8E8E-02D17995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8641-D5F6-41E1-8FBF-65A4746F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7859-F4F6-4DC3-A226-DAA5456E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70AC-D792-4C65-B959-7DE0CFF4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1DE1-91A7-400D-8727-43020DB6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1E29-ED5F-41B3-8DCA-19D2B1A8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950C-7873-4C42-A407-24A457CF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6575-E2CF-4D92-BD57-0D8B5211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1FB-234A-419F-82F2-B2262DE6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A0B0-E166-41B7-9627-DDFBA41279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889760" cy="32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57480"/>
            <a:ext cx="62006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ьга Пониз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-Соглас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0675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е результаты ОС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85520"/>
            <a:ext cx="817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клады о состоянии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а действий по охране окружающей среды для Центральной и Восточной Евро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 стратегия ВЕК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 программа для Евро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ъевропейской стратегии сохранения биологического и ландшафтного разнообра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околы по СЭО, РВПЗ,Протоколы по тяжелым металлам, СОЗ, Стратегия прекращения использования этилированного бензина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ициатива по устойчивой энергетик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ий менеджмент на предприятиях , «Вода и безопасн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тегия ЕЭК ООН по образованию для устойчив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АСТИЕ НП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0040" y="1285560"/>
            <a:ext cx="82692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коалиция НПО «Европейский Эко-Фору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ыборное руководство, проактивно вовлекала НПО разного типа и разных уровн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Эко-Форум» стал официальным партнером ОС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о всех переговорах, мероприятиях, в т.ч.встречах минист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разработке всех доку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рабочих группах по направлен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конкретных проек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 распространяет информацию (Дайждесты, бюллетени, информационные рассыл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национальном уровн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8556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логи с гос.органами по ОСЕ, выработке позиции России по О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авительственных делегац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межведомственных рабочих группах по направлениям, связанным с О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ирование о процессе (бюллетени, в т.ч. электронные, С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влечение других НПО как в дискуссии по политике, так и в осуществление програ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агаемые успеха «Эко-Форум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7120" y="1285920"/>
            <a:ext cx="832968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тивное отношение со стороны ключевых правительств и ЕЭК ООН к  НП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кратические принципы работы Коали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тивность и ценность пред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456840"/>
            <a:ext cx="811512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мы можем сдел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6760" y="1143000"/>
            <a:ext cx="8286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овать эффективное взаимодействие между НП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лиять на работу межведомственной комиссии по СМР через своих представ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циировать широкие общественные дискуссии по Стратегии СМР и эффективности СМ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нам нужно от правительств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ивное вовлечение в диал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ая поддер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астие обществен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9680" y="1928520"/>
            <a:ext cx="81867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мократический принци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НАНИЕ ВАЖНОСТИ НП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ают решения лучше, это демократический принци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участие НПО - не панаце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сть - не автоматичес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ЭТО ВАЖНЫЙ ИНСТРУ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межсекторальное сотрудничество развивается, но не в эт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ЧЕМ НУЖНО ВОВЛЕЧЕНИЕ НПО В СМР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я получаются луч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мократические 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йские организации имеют хороший опыт во многих областях, и он может быть пере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ает имидж России – повышает политику добрососед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А: пока не многие НПО заинтересованы те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725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999720"/>
            <a:ext cx="81154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ирование широкой общественности и просве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национальном уровне – участие в выработке полити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ниторинг  и оценка эффективности полит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конкретных проектах в других странах, С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ДЕРЖКА НПО В ДРУГИХ СТРАН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ие в дискуссиях по полит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нты для осуществления проектов в других стра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ЖНО ИЗУЧАТЬ ОПЫ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угих стр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ш предыдущий 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Окружающая среда для Европ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5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2968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ающая среда для Европы:</a:t>
            </a: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Конференции минис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14280"/>
            <a:ext cx="82580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1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жиш, Чехословак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церн, Швейц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5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фия, Болг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8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хус, 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ев, Укра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град, Серб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9:44:54Z</dcterms:created>
  <dc:creator>none</dc:creator>
  <dc:description/>
  <dc:language>en-US</dc:language>
  <cp:lastModifiedBy>LEGION</cp:lastModifiedBy>
  <dcterms:modified xsi:type="dcterms:W3CDTF">2016-01-05T11:06:06Z</dcterms:modified>
  <cp:revision>9</cp:revision>
  <dc:subject/>
  <dc:title>Возможности гражданского общества для укрепления сотрудничества в сфере содействия международному развитию</dc:title>
</cp:coreProperties>
</file>