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03AF-C020-4888-AE36-DB38AFF881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и гражданского общества для укрепления сотрудничества в сфере содействия международному развит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ьга Пониз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-Соглас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и гражданского общества для укрепления сотрудничества в сфере содействия международному развит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льга Пониз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-Соглас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результаты ОС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лады о состоянии окружающе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действий по охране окружающей среды для Центральной и Восточной Европ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стратегия ВЕК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программа для Европ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нъевропейской стратегии сохранения биологического и ландшафтного разнообр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я ЕЭК ООН по доступу к информации, участию общественности, доступу к правосудию по вопросам, касающимся окружающе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колы по СЭО, РВПЗ,Протоколы по тяжелым металлам, СОЗ, Стратегия прекращения использования этилированного бензи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ициатива по устойчивой энергетике, экологический менеджмент на предприятиях , «Вода и безопасность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ЕЭК ООН по образованию для устойчивого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которые результаты ОС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лады о состоянии окружающей сре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действий по охране окружающей среды для Центральной и Восточной Европ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стратегия ВЕК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программа для Европ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нъевропейской стратегии сохранения биологического и ландшафтного разнообр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нция ЕЭК ООН по доступу к информации, участию общественности, доступу к правосудию по вопросам, касающимся окружающей сре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околы по СЭО, РВПЗ,Протоколы по тяжелым металлам, СОЗ, Стратегия прекращения использования этилированного бензи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ициатива по устойчивой энергетике, экологический менеджмент на предприятиях , «Вода и безопасност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я ЕЭК ООН по образованию для устойчивого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НП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коалиция НПО «Европейский Эко-Фору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ыборное руководство, проактивно вовлекала НПО разного типа и разных уровне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-Форум» стал официальным партнером ОС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ет во всех переговорах, мероприятиях, в т.ч.встречах минист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ет в разработке всех док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ет в рабочих группах по направлен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ет в выборе приоритетов процесса, мониторинге выполнения принятых решений, оценке результатов (в рамках процесса и независим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конкретных проек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 распространяет информацию (Дайждесты, бюллетени, информационные рассыл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НП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а коалиция НПО «Европейский Эко-Фору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ыборное руководство, проактивно вовлекала НПО разного типа и разных уровн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-Форум» стал официальным партнером ОС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ет во всех переговорах, мероприятиях, в т.ч.встречах минист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ет в разработке всех докумен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ет в рабочих группах по направлени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ет в выборе приоритетов процесса, мониторинге выполнения принятых решений, оценке результатов (в рамках процесса и независим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конкретных проект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о распространяет информацию (Дайждесты, бюллетени, информационные рассыл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ациональном уровн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логи с гос.органами по ОСЕ, выработке позиции России по О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правительственных делега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межведомственных рабочих группах по направлениям, связанным с О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ие о процессе (бюллетени, в т.ч. электронные, СМ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влечение других НПО как в дискуссии по политике, так и в осуществление програ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национальном уровн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логи с гос.органами по ОСЕ, выработке позиции России по ОС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правительственных делегаци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межведомственных рабочих группах по направлениям, связанным с ОС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ирование о процессе (бюллетени, в т.ч. электронные, СМ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влечение других НПО как в дискуссии по политике, так и в осуществление програ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гаемые успеха «Эко-Форум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ое отношение со стороны ключевых правительств и ЕЭК ООН к  НП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алось обеспечить «связку» международного и российского уровня для продвижения идей по тематике О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ая работа по расширению Коалиации «Эко-Форума» (на всех уровнях, для разных типов организаций); удалось объяснить важность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ческие принципы работы Коал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е информирование и отслеживание процесса на международном и национальном уровн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кая позиция, выработанная коллективно (электронная почта, стратегические встречи)  и постоянное ее лобб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руктивность и ценность пред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гаемые успеха «Эко-Форум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тивное отношение со стороны ключевых правительств и ЕЭК ООН к  НП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алось обеспечить «связку» международного и российского уровня для продвижения идей по тематике ОС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ая работа по расширению Коалиации «Эко-Форума» (на всех уровнях, для разных типов организаций); удалось объяснить важность процес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ческие принципы работы Коал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ое информирование и отслеживание процесса на международном и национальном уровн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кая позиция, выработанная коллективно (электронная почта, стратегические встречи)  и постоянное ее лоббир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руктивность и ценность предлож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ы можем сдел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ктивно расширять сеть НПО и вовлекать их в процесс на российском и международном уров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ть эффективное взаимодействие между НП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изировать информационную работу (о ходе и важности СМР), в том числе для нас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лиять на работу межведомственной комиссии по СМР через своих представ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циировать широкие общественные дискуссии по Стратегии СМР и эффективности СМ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ы можем сдел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активно расширять сеть НПО и вовлекать их в процесс на российском и международном уровн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овать эффективное взаимодействие между НП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изировать информационную работу (о ходе и важности СМР), в том числе для насе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лиять на работу межведомственной комиссии по СМР через своих представи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циировать широкие общественные дискуссии по Стратегии СМР и эффективности СМ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ам нужно от правитель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е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е вовлечение в диало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ая поддер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нам нужно от правитель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е информ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ое вовлечение в диало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поддерж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обще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ческий принци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ые точки зрения позволяют лучше проработать вопрос и сделать решения более качестве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обще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ческий принци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ые точки зрения позволяют лучше проработать вопрос и сделать решения более качественн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НИЕ ВАЖНОСТИ НПО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ают решения лучше, это демократический принци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участие НПО - не панаце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- не автоматичес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ЭТО ВАЖНЫЙ ИНСТРУ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и межсекторальное сотрудничество развивается, но не в эт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НИЕ ВАЖНОСТИ НПО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ют решения лучше, это демократический принцип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участие НПО - не панаце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 - не автоматичес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ЭТО ВАЖНЫЙ ИНСТРУ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межсекторальное сотрудничество развивается, но не в эт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НУЖНО ВОВЛЕЧЕНИЕ НПО В СМР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я получаются луч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ческие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е организации имеют хороший опыт во многих областях, и он может быть пере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ает имидж России – повышает политику добрососе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: пока не многие НПО заинтересованы те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НУЖНО ВОВЛЕЧЕНИЕ НПО В СМР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ения получаются луч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ческие принци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ие организации имеют хороший опыт во многих областях, и он может быть перед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ает имидж России – повышает политику добрососед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: пока не многие НПО заинтересованы те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ие широкой общественности и просве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ациональном уровне – участие в выработке поли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 и оценка эффективности поли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конкретных проектах в других странах, С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оссия не поддерживает сама, но и создает проблемы для поддержки иностранных организац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участия в международных мероприят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ирование широкой общественности и просвещ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национальном уровне – участие в выработке полити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иторинг  и оценка эффективности полит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конкретных проектах в других странах, С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оссия не поддерживает сама, но и создает проблемы для поддержки иностранных организа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участия в международных мероприят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НПО В ДРУГИХ СТРАН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дискуссиях по полити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ты для осуществления проектов в других стр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участия в международных мероприятия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НПО В ДРУГИХ СТРАНА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дискуссиях по полити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нты для осуществления проектов в других стран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участия в международных мероприятиях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 ИЗУЧАТЬ ОП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х стр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 предыдущий оп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ИЗУЧАТЬ ОПЫ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х стр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предыдущий опы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кружающая среда для Европ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«Окружающая среда для Европы» нацелен на гармонизацию качества окружающей среды и экологической политики на континенте, обеспечение мира, стабильности и устойчив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кружающая среда для Европ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«Окружающая среда для Европы» нацелен на гармонизацию качества окружающей среды и экологической политики на континенте, обеспечение мира, стабильности и устойчив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ая среда для Европ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нференции минис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1 Добржиш, Чехословак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3 Люцерн, Швейца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5 София, Болга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8 Орхус, 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3 Киев, Укра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7 Белград, Серб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ая среда для Европ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нференции минист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1 Добржиш, Чехословак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3 Люцерн, Швейц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5 София, Болг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8 Орхус, 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3 Киев, Укра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Белград, Серб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E2A9-3A88-4916-B44F-FECBE75A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A4C2-91FC-4E77-A73A-6338E7BE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F541-57B6-41CD-BD56-91EF3CA99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BE35-B707-462C-A8A4-F776F7B2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F157-895F-43E3-B2C6-3A986C20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5630-4A5C-4F30-B798-6FD4428A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481D-E114-40D3-8AB7-B79023FD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7A35-FDF7-40C5-937F-07DAEBE7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86FE-C26F-4FF7-96BD-637F1998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06BF-70D3-4A66-8B4D-D49698C0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7FF2-EC00-4DB3-A16D-F290B439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A45B-5717-4522-BD8E-BD510F48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E807-21E1-4E2D-86A5-A85429CB6D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7889760" cy="32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зможности гражданского общества для укрепления сотрудничества в сфере содействия международному развит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57480"/>
            <a:ext cx="620064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ьга Пониз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Эко-Соглас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06752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которые результаты ОС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785520"/>
            <a:ext cx="8175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оклады о состоянии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грамма действий по охране окружающей среды для Центральной и Восточной Европ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ая стратегия ВЕК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ая программа для Европ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нъевропейской стратегии сохранения биологического и ландшафтного разнообра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венция ЕЭК ООН по доступу к информации, участию общественности, доступу к правосудию по вопросам, касающимс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токолы по СЭО, РВПЗ,Протоколы по тяжелым металлам, СОЗ, Стратегия прекращения использования этилированного бензина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ициатива по устойчивой энергетик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ий менеджмент на предприятиях , «Вода и безопаснос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тегия ЕЭК ООН по образованию для устойчивого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АСТИЕ НП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0040" y="1285560"/>
            <a:ext cx="82692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а коалиция НПО «Европейский Эко-Фору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ыборное руководство, проактивно вовлекала НПО разного типа и разных уровн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Эко-Форум» стал официальным партнером ОС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ует во всех переговорах, мероприятиях, в т.ч.встречах минист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ует в разработке всех докумен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ует в рабочих группах по направлен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ует в выборе приоритетов процесса, мониторинге выполнения принятых решений, оценке результатов (в рамках процесса и независим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ие в конкретных проект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о распространяет информацию (Дайждесты, бюллетени, информационные рассыл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национальном уровн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28556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алоги с гос.органами по ОСЕ, выработке позиции России по О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авительственных делегация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межведомственных рабочих группах по направлениям, связанным с О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ирование о процессе (бюллетени, в т.ч. электронные, С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влечение других НПО как в дискуссии по политике, так и в осуществление програ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агаемые успеха «Эко-Форум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57120" y="1285920"/>
            <a:ext cx="832968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итивное отношение со стороны ключевых правительств и ЕЭК ООН к  НП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алось обеспечить «связку» международного и российского уровня для продвижения идей по тематике ОС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ая работа по расширению Коалиации «Эко-Форума» (на всех уровнях, для разных типов организаций); удалось объяснить важность проце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кратические принципы работы Коали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оянное информирование и отслеживание процесса на международном и национальном уровн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кая позиция, выработанная коллективно (электронная почта, стратегические встречи)  и постоянное ее лоббир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труктивность и ценность предло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680" y="456840"/>
            <a:ext cx="811512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мы можем сдела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56760" y="1143000"/>
            <a:ext cx="8286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ктивно расширять сеть НПО и вовлекать их в процесс на российском и международном уров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овать эффективное взаимодействие между НП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изировать информационную работу (о ходе и важности СМР), в том числе для насе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лиять на работу межведомственной комиссии по СМР через своих представ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циировать широкие общественные дискуссии по Стратегии СМР и эффективности СМ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нам нужно от правительств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е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тивное вовлечение в диал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овая поддерж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астие общественно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99680" y="1928520"/>
            <a:ext cx="81867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мократический принци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ные точки зрения позволяют лучше проработать вопрос и сделать решения более качественны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ЗНАНИЕ ВАЖНОСТИ НП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ают решения лучше, это демократический принци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участие НПО - не панаце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ивность - не автоматичес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ЭТО ВАЖНЫЙ ИНСТРУ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межсекторальное сотрудничество развивается, но не в эт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ЧЕМ НУЖНО ВОВЛЕЧЕНИЕ НПО В СМР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я получаются луч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мократические принци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ссийские организации имеют хороший опыт во многих областях, и он может быть пере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ает имидж России – повышает политику добрососед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А: пока не многие НПО заинтересованы те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9725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Ы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999720"/>
            <a:ext cx="81154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ирование широкой общественности и просвещ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национальном уровне – участие в выработке полити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ниторинг  и оценка эффективности полити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конкретных проектах в других странах, С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Россия не поддерживает сама, но и создает проблемы для поддержки иностранных организац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держка участия в международных мероприят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ДЕРЖКА НПО В ДРУГИХ СТРАНА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стие в дискуссиях по полити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нты для осуществления проектов в других стран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держка участия в международных мероприятиях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АЖНО ИЗУЧАТЬ ОПЫ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ругих стра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ш предыдущий оп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Окружающая среда для Европ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35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сс «Окружающая среда для Европы» нацелен на гармонизацию качества окружающей среды и экологической политики на континенте, обеспечение мира, стабильности и устойчив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2968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жающая среда для Европы:</a:t>
            </a:r>
            <a:br>
              <a:rPr sz="28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Конференции минист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214280"/>
            <a:ext cx="825804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1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жиш, Чехословак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церн, Швейц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5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фия, Болг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8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хус, 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ев, Укра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град, Серб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9:44:54Z</dcterms:created>
  <dc:creator>none</dc:creator>
  <dc:description/>
  <dc:language>en-US</dc:language>
  <cp:lastModifiedBy>LEGION</cp:lastModifiedBy>
  <dcterms:modified xsi:type="dcterms:W3CDTF">2016-01-05T11:06:06Z</dcterms:modified>
  <cp:revision>9</cp:revision>
  <dc:subject/>
  <dc:title>Возможности гражданского общества для укрепления сотрудничества в сфере содействия международному развитию</dc:title>
</cp:coreProperties>
</file>