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A04F-D97A-4C1A-BC1A-99C8C48DF4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тория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и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стория экономических 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ая эконо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е зару­беж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ую орган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и труд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2B1-8105-414F-9382-8F87B7EE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A1B-E532-4D4C-96A1-8B50C988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108-3005-4547-8B3E-2CD0544E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573-4D74-4BA3-8981-0EC9747F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DB68-511B-476B-BC74-3473C87F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1F23-6ACF-44C8-9B0F-647B9E1B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889F-193C-4513-9D49-790831D1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7099-C888-4DEC-AEE2-5B4F4D98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C11E-6B7D-43F0-80BF-2AF9BF34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2C6E-196B-45FF-A7D7-2712956F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6686-6DA5-436B-A347-F821BF4C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EAA-4FF3-4323-8DE0-7E49AFA4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35AC-61FD-4F66-A83A-B91BCDEC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17DF-2AAF-4EFF-B085-E225A58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D928-B39A-4B46-AB33-7C24C6EC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8329-AD3A-4F2C-9A0D-ACE34549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2FB2-D39C-410C-ABAD-3E69035F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C3E-C5D7-41DD-8153-81657730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B1B-7E3F-4C76-85D7-10169497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DE0-4F17-49FE-B916-84C98DC5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857-8665-4A74-932C-A151D2C2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C65-100C-4C96-AA8C-1D818660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7BB-329E-4B60-9FC7-192C20DA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366-F36B-4BCD-B0F6-DE8FA25C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1A8A-1C24-4759-945E-68C69C04B6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D5DA-34F2-43B7-A864-2563580AAB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2160"/>
            <a:ext cx="8642160" cy="10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Глава 1. Введение в курс мировой экономики.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теор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50560" y="1371600"/>
            <a:ext cx="8713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рия экономики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жилась в течение XIX в. в Германии и постепенно распространилась в других странах. Рождение дисципли­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кро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амая молодая и динамичная часть со­временной эконом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м более закрыта экономика какой-либо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2. Предмет и методология мировой экономи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ает экономические закономерност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лич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кро- и макроэкономики от мировой эконом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3. Россия и мировое экономическое сообщество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1:11:54Z</dcterms:created>
  <dc:creator>User 2006</dc:creator>
  <dc:description/>
  <dc:language>en-US</dc:language>
  <cp:lastModifiedBy>LEGION</cp:lastModifiedBy>
  <dcterms:modified xsi:type="dcterms:W3CDTF">2016-01-05T11:06:13Z</dcterms:modified>
  <cp:revision>5</cp:revision>
  <dc:subject/>
  <dc:title>Глава 1. Введение в курс мировой экономики. 1.1. Мировая экономика как составная часть экономической теории.</dc:title>
</cp:coreProperties>
</file>