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057A0-A37D-4576-AB71-440F7DF96C0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а 1. Введение в курс мировой экономик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1. Мировая экономика как составная часть экономическо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ая экономическая теория состоит из пяти част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история экономик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микроэкономи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макроэкономи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история экономических уч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международная эконом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экономики сложилась в течение XIX в. в Германии и постепенно распространилась в других странах. Рождение дисципли­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ло связано с неприятием классической английской политэконо­мии, но в дальнейшем обнаружилось, что история экономики не заме­няет классическую школу, а дополняет 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кроэкономика возникла в последней трети XIX в. С теориями основателей микроэкономики мы познакомились в курсах «микроэко­номика» и «история экономических учений». Это теории Л. Вальраса, К. Менгера, А. Маршалла, Ф. Визера, О. Бем-Баверка, Ф. Эджуорта, У. Джевонса, В. Парето, Д. Кларка, И. Фишера, К. Викселля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лава 1. Введение в курс мировой экономики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1. Мировая экономика как составная часть экономической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еори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временная экономическая теория состоит из пяти частей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 история экономики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. микроэкономика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. макроэкономика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4. история экономических учений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5. международная экономик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стория экономики сложилась в течение XIX в. в Германии и постепенно распространилась в других странах. Рождение дисципли­н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ыло связано с неприятием классической английской политэконо­мии, но в дальнейшем обнаружилось, что история экономики не заме­няет классическую школу, а дополняет е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икроэкономика возникла в последней трети XIX в. С теориями основателей микроэкономики мы познакомились в курсах «микроэко­номика» и «история экономических учений». Это теории Л. Вальраса, К. Менгера, А. Маршалла, Ф. Визера, О. Бем-Баверка, Ф. Эджуорта, У. Джевонса, В. Парето, Д. Кларка, И. Фишера, К. Викселля и др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экономика - самая молодая и динамичная часть со­временной экономичес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и. Сначала она была разделами мик­ро- и макроэкономики, но со второй полов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XX в. международная (мировая) экономика выделяется в самостоятельную научну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цип­лину. Это было связано с большими переменами в мировом хозяйстве: 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адом колониальной системы, с развитием рыночной экономики в Азии, Латинс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ерике и с распадом социалистического лагер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наступления нового этапа в развитии мировой экономи­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ытость экономики как важнейший принцип взаимоотноше­ний между государств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международных, надгосударственных организац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новение и широкое распространение многонациональных корпораций, все шире влияющих на мировую торговлю, промышлен­ность и инвести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ежающее развитие международной торговли, международ­ного движения рабочей силы, капитала и технолог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онирование самостоятельной международной финансо­вой сфе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годня отмечена закономерность: чем более закрыта экономика какой-либо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мирового сообщества, тем медленнее она раз­вивается, тем ниж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ительность труда, тем хуже качество то­ва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 закономерность подтверждается значительными статистиче­скими данн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ировая экономика - самая молодая и динамичная часть со­временной экономическо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еории. Сначала она была разделами мик­ро- и макроэкономики, но со второй половин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XX в. международная (мировая) экономика выделяется в самостоятельную научную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исцип­лину. Это было связано с большими переменами в мировом хозяйстве: с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спадом колониальной системы, с развитием рыночной экономики в Азии, Латинско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мерике и с распадом социалистического лагер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изнаки наступления нового этапа в развитии мировой экономи­ки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ткрытость экономики как важнейший принцип взаимоотноше­ний между государствами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здание международных, надгосударственных организаций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зникновение и широкое распространение многонациональных корпораций, все шире влияющих на мировую торговлю, промышлен­ность и инвестиции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пережающее развитие международной торговли, международ­ного движения рабочей силы, капитала и технологий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ункционирование самостоятельной международной финансо­вой сфер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егодня отмечена закономерность: чем более закрыта экономика какой-либо стран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т мирового сообщества, тем медленнее она раз­вивается, тем ниж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изводительность труда, тем хуже качество то­варов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та закономерность подтверждается значительными статистиче­скими данным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2. Предмет и методология мировой эконом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экономика изучает экономические закономерности взаимодей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х экономик: движение потоков товаров, услуг и платежей; экономическу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ку, регламентирующую эти потоки и их воздействие на обществе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агосостоя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личия микро- и макроэкономики от мировой эконом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в микроэкономике товаром признается любая полез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щь, а произведенные товары включаются в валовой внутренний продукт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й доход, то в мировой экономике пополняй ве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матически не приобретает статус това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три национальной экономики происходит свободное пере­мещение тр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капитала, что приводит к сглаживанию различий ме­жду регионами.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ой экономике иммиграционные законы и дру­гие барьеры существен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держивают выравнивание ставок зарплат между стран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2. Предмет и методология мировой экономики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ировая экономика изучает экономические закономерности взаимодейств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циональных экономик: движение потоков товаров, услуг и платежей; экономическую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литику, регламентирующую эти потоки и их воздействие на общественно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лагосостояни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тличия микро- и макроэкономики от мировой экономики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если в микроэкономике товаром признается любая полезна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ещь, а произведенные товары включаются в валовой внутренний продукт 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циональный доход, то в мировой экономике пополняй вещ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втоматически не приобретает статус товара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нутри национальной экономики происходит свободное пере­мещение труд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 капитала, что приводит к сглаживанию различий ме­жду регионами. 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ировой экономике иммиграционные законы и дру­гие барьеры существенн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держивают выравнивание ставок зарплат между странами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3. Россия и мировое экономическое сообщество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сто современной России в мире до сих пор определяется со­ветским прошл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СР был изолированной супердержавой с невы­соким уровнем жизни, с команд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ой экстенсивной экономикой, что приводило к низ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ентоспособности товаров и замедлению темпов экономического рос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992 г. задача интеграции с мировым экономическим сообще­ством для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шла в практическую плоскость. Отношения СССР с миром носили идеолог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. Сотрудничество со­циалистическими странами и рядом стран третьего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илось на внеэкономической основе. Контакты с развитыми странами были весь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енн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х социалистической системы ослабил позиции России в мире. По уровню ВНП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чете на душу населения Россия значительно ус­тупает развитым странам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сится к странам с доходом ниже сред­него уровня. В эту группу входят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тинской Америки, Африки, Азии и Арабского Востока. Мы считаем Россию вели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ржавой, а она по многим параметрам относится к развивающимся странам. Эт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 определяет место и роль России в мировом хозяйстве. Вхождение в рыночну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ку было осложнено глубоким эко­номическим кризисом, охвативш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постсоциалистическое про­странств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я утратила рынки сбыта бывшего СЭВ. Дезинтеграция разрушила всю систе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зяйственных связей, произошло обвальное сокращение товарооборота меж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спубликами бывшего СССР. Внешняя торговля стран СНГ переориентировалась 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льнее зару­беж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3. Россия и мировое экономическое сообщество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есто современной России в мире до сих пор определяется со­ветским прошлы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ССР был изолированной супердержавой с невы­соким уровнем жизни, с командн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дминистративной экстенсивной экономикой, что приводило к низко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онкурентоспособности товаров и замедлению темпов экономического рост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 1992 г. задача интеграции с мировым экономическим сообще­ством для Росс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ерешла в практическую плоскость. Отношения СССР с миром носили идеологически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характер. Сотрудничество со­циалистическими странами и рядом стран третьего мир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троилось на внеэкономической основе. Контакты с развитыми странами были весьм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граниченным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рах социалистической системы ослабил позиции России в мире. По уровню ВНП 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счете на душу населения Россия значительно ус­тупает развитым странам 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тносится к странам с доходом ниже сред­него уровня. В эту группу входят стран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Латинской Америки, Африки, Азии и Арабского Востока. Мы считаем Россию велико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ержавой, а она по многим параметрам относится к развивающимся странам. Это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акт определяет место и роль России в мировом хозяйстве. Вхождение в рыночную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кономику было осложнено глубоким эко­номическим кризисом, охвативши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се постсоциалистическое про­странство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оссия утратила рынки сбыта бывшего СЭВ. Дезинтеграция разрушила всю систем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хозяйственных связей, произошло обвальное сокращение товарооборота межд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спубликами бывшего СССР. Внешняя торговля стран СНГ переориентировалась н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альнее зару­бежь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а понесла крупные потери в производстве и экспорте. Все э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ложнялось большим внешним долгом, отсутствием таможенной границ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м эффективного валютного и экспортного контро­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я вступила в МВФ, МБРР, подала заявку на вступление во Всемирну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рговую организац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этому важнейшей задачей России становится восстано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ой интеграции в рамках СНГ. Этот процесс происходит 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ими трудност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обесценивания рубля по отношению к доллару в 1998 году и ро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х цен на энергоносители в экономике страны начинает­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становление импортозамещающих отраслей с одновременным рос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ов за счет экспорта энергоносителей. Но рост доходов в стране ведет 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становлению импорта, что замедляет экономиче­ское восстановл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храняется зависимость от мировых цен на энергоносит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трана понесла крупные потери в производстве и экспорте. Все эт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сложнялось большим внешним долгом, отсутствием таможенной границы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тсутствием эффективного валютного и экспортного контро­л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оссия вступила в МВФ, МБРР, подала заявку на вступление во Всемирную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орговую организацию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этому важнейшей задачей России становится восстановлен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кономической интеграции в рамках СНГ. Этот процесс происходит с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ольшими трудностям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сле обесценивания рубля по отношению к доллару в 1998 году и рост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ировых цен на энергоносители в экономике страны начинает­с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сстановление импортозамещающих отраслей с одновременным росто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оходов за счет экспорта энергоносителей. Но рост доходов в стране ведет 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сстановлению импорта, что замедляет экономиче­ское восстановлени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храняется зависимость от мировых цен на энергоносител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572A-8AE8-4C87-B115-B26403352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40B9-2F1A-44D5-B91D-B23B8987A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61B9-27FB-4808-A653-1A882F7A5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0F98-00D0-4A10-8160-30F6FCF89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27F77-3C3E-4088-872E-9AA39D198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A4EAD-4009-4767-8081-B163CC409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03B0B-57BB-4C93-96B2-4E3AB9EBF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88A97-F582-4E6E-B5B8-3A9894C75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AFEDB-14C5-48FE-BCC3-FA6AAF968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96871-9A0C-4847-A912-FE42E3CD7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A7049-0D27-4340-B1C1-62D433CA8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6DDB-FB42-44AA-B5EF-2C94D207A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1D639-77DF-4164-AF19-0843DA040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8F441-3BA6-411E-8975-C2B6C177C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04CFD-5BD4-46DF-AEA4-FFBA415C5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096A3-11DB-45A2-B553-200D7344B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FE6ED-0CAE-442A-BB6C-973EE9809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00AD-0A33-4141-B900-E5E03E61C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95F2-EC02-44C9-B219-9193EFA48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A8D4-4CBC-4A49-A849-D11F06F90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4D9C-1567-4A09-B8DD-2D5DDC211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D12B-8474-4FAE-9895-6BFBF1CE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2F97-48CF-4D34-9D32-5E6B0D644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7C35-495A-49C0-968E-456A5E81C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035EA-2C2D-4FE0-A04D-F14391CB616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D4671-2958-4889-A215-1EB0407952D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50920" y="182160"/>
            <a:ext cx="8642160" cy="10479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ff66"/>
                </a:solidFill>
                <a:latin typeface="Tahoma"/>
              </a:rPr>
              <a:t>Глава 1. Введение в курс мировой экономики.</a:t>
            </a:r>
            <a:br>
              <a:rPr sz="2000"/>
            </a:br>
            <a:r>
              <a:rPr b="1" lang="ru-RU" sz="2000" spc="-1" strike="noStrike">
                <a:solidFill>
                  <a:srgbClr val="99ff66"/>
                </a:solidFill>
                <a:latin typeface="Tahoma"/>
              </a:rPr>
              <a:t>1.1. Мировая экономика как составная часть экономической</a:t>
            </a:r>
            <a:br>
              <a:rPr sz="2000"/>
            </a:br>
            <a:r>
              <a:rPr b="1" lang="ru-RU" sz="2000" spc="-1" strike="noStrike">
                <a:solidFill>
                  <a:srgbClr val="99ff66"/>
                </a:solidFill>
                <a:latin typeface="Tahoma"/>
              </a:rPr>
              <a:t>теории.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250560" y="1371600"/>
            <a:ext cx="8713800" cy="51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овременная экономическая теория состоит из пяти частей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1. история экономики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2. микроэкономика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3. макроэкономика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4. история экономических учений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5. международная экономик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История экономики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ложилась в течение XIX в. в Германии и постепенно распространилась в других странах. Рождение дисципли­н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ыло связано с неприятием классической английской политэконо­мии, но в дальнейшем обнаружилось, что история экономики не заме­няет классическую школу, а дополняет е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Микроэкономика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озникла в последней трети XIX в. С теориями основателей микроэкономики мы познакомились в курсах «микроэко­номика» и «история экономических учений». Это теории Л. Вальраса, К. Менгера, А. Маршалла, Ф. Визера, О. Бем-Баверка, Ф. Эджуорта, У. Джевонса, В. Парето, Д. Кларка, И. Фишера, К. Викселля и др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178920" y="26028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Мировая экономика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самая молодая и динамичная часть со­временной экономическо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еории. Сначала она была разделами мик­ро- и макроэкономики, но со второй половин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XX в. международная (мировая) экономика выделяется в самостоятельную научную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исцип­лину. Это было связано с большими переменами в мировом хозяйстве: с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аспадом колониальной системы, с развитием рыночной экономики в Азии, Латинско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мерике и с распадом социалистического лагеря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Признаки наступления нового этапа в развитии мировой экономи­ки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ткрытость экономики как важнейший принцип взаимоотноше­ний между государствами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оздание международных, надгосударственных организаций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озникновение и широкое распространение многонациональных корпораций, все шире влияющих на мировую торговлю, промышлен­ность и инвестиции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пережающее развитие международной торговли, международ­ного движения рабочей силы, капитала и технологий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функционирование самостоятельной международной финансо­вой сферы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Сегодня отмечена закономерность: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чем более закрыта экономика какой-либо стран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т мирового сообщества, тем медленнее она раз­вивается, тем ниж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роизводительность труда, тем хуже качество то­варов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Эта закономерность подтверждается значительными статистиче­скими данным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ff66"/>
                </a:solidFill>
                <a:latin typeface="Tahoma"/>
              </a:rPr>
              <a:t>1.2. Предмет и методология мировой экономики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Мировая экономика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зучает экономические закономерности взаимодейств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ациональных экономик: движение потоков товаров, услуг и платежей; экономическую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олитику, регламентирующую эти потоки и их воздействие на общественно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лагосостояни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Отличия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микро- и макроэкономики от мировой экономики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если в микроэкономике товаром признается любая полезна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ещь, а произведенные товары включаются в валовой внутренний продукт 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ациональный доход, то в мировой экономике пополняй вещ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втоматически не приобретает статус товара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нутри национальной экономики происходит свободное пере­мещение труд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 капитала, что приводит к сглаживанию различий ме­жду регионами. В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ировой экономике иммиграционные законы и дру­гие барьеры существенн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держивают выравнивание ставок зарплат между странами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ff66"/>
                </a:solidFill>
                <a:latin typeface="Tahoma"/>
              </a:rPr>
              <a:t>1.3. Россия и мировое экономическое сообщество</a:t>
            </a:r>
            <a:br>
              <a:rPr sz="4000"/>
            </a:br>
            <a:endParaRPr b="0" lang="en-US" sz="1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79280" y="404280"/>
            <a:ext cx="8640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есто современной России в мире до сих пор определяется со­ветским прошлым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ССР был изолированной супердержавой с невы­соким уровнем жизни, с командн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дминистративной экстенсивной экономикой, что приводило к низко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онкурентоспособности товаров и замедлению темпов экономического рост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 1992 г. задача интеграции с мировым экономическим сообще­ством для Росси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ерешла в практическую плоскость. Отношения СССР с миром носили идеологически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характер. Сотрудничество со­циалистическими странами и рядом стран третьего мир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троилось на внеэкономической основе. Контакты с развитыми странами были весьм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граниченным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рах социалистической системы ослабил позиции России в мире. По уровню ВНП в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асчете на душу населения Россия значительно ус­тупает развитым странам 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тносится к странам с доходом ниже сред­него уровня. В эту группу входят стран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Латинской Америки, Африки, Азии и Арабского Востока. Мы считаем Россию велико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ержавой, а она по многим параметрам относится к развивающимся странам. Этот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факт определяет место и роль России в мировом хозяйстве. Вхождение в рыночную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экономику было осложнено глубоким эко­номическим кризисом, охвативши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се постсоциалистическое про­странство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оссия утратила рынки сбыта бывшего СЭВ. Дезинтеграция разрушила всю систему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хозяйственных связей, произошло обвальное сокращение товарооборота между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еспубликами бывшего СССР. Внешняя торговля стран СНГ переориентировалась н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альнее зару­бежь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87138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трана понесла крупные потери в производстве и экспорте. Все эт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сложнялось большим внешним долгом, отсутствием таможенной границы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тсутствием эффективного валютного и экспортного контро­ля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оссия вступила в МВФ, МБРР, подала заявку на вступление во Всемирную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орговую организацию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оэтому важнейшей задачей России становится восстановлени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экономической интеграции в рамках СНГ. Этот процесс происходит с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ольшими трудностям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осле обесценивания рубля по отношению к доллару в 1998 году и рост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ировых цен на энергоносители в экономике страны начинает­с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осстановление импортозамещающих отраслей с одновременным росто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оходов за счет экспорта энергоносителей. Но рост доходов в стране ведет 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осстановлению импорта, что замедляет экономиче­ское восстановлени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охраняется зависимость от мировых цен на энергоносител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8T11:11:54Z</dcterms:created>
  <dc:creator>User 2006</dc:creator>
  <dc:description/>
  <dc:language>en-US</dc:language>
  <cp:lastModifiedBy>LEGION</cp:lastModifiedBy>
  <dcterms:modified xsi:type="dcterms:W3CDTF">2016-01-05T11:06:13Z</dcterms:modified>
  <cp:revision>5</cp:revision>
  <dc:subject/>
  <dc:title>Глава 1. Введение в курс мировой экономики. 1.1. Мировая экономика как составная часть экономической теории.</dc:title>
</cp:coreProperties>
</file>