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C697-2962-4C8A-AA91-C8F713FAB93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П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ая троица (impossible trin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движ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возможная троица (impossible trinity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иксирован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движение капит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зоры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Обзоры исследов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мо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лючевые момент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PPP = Pf/ Pd                    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PPP = I (Pf) / I (Pd)           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APPP = Pf/ Pd                     (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ель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PPP = I (Pf) / I (Pd)           (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 Pf/Pd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APPP                       (3.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 Pf/Pd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3.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APPP                       (3.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B8D7-5CF3-4B0E-8FE7-ADE249A2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48CD-929D-4413-A42E-5A32EAEF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1A59-F4F7-4D6E-A5AE-4A58AB8A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E207-0D48-4BB9-BC9E-3092BA99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29967-794B-499A-BF87-BFC578CE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18F33-6241-4F1D-8064-37809A8B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73A4D-95DD-46F9-97C9-48FA1832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9B18C-1E17-44C9-9801-7C4BA4A8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851D9-9739-4E07-A841-F0B788FA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4F637-3E7D-4A0B-8C65-435D42C1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1C9BB-E4A1-4A08-A8E0-5E34C99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4BD0-7CF1-44C8-B20B-8533C3D9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2FD3B-1C3D-425A-BF2A-1EA70B0B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CCC9D-4603-4C9E-9630-D88F9503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2F82A-8091-4273-97C8-3CE7307E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82B67-A90C-4B10-8242-FC29F28E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95577-4B9F-4903-972B-58184346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A613-E2F5-48F0-9948-68762DFC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80BE-7E16-4D8F-82F2-2EAAE5D5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990E-28D9-4A19-8A4D-A500214A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02E8-1FB0-4A48-A477-2F5C4E03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A302-8362-4DB1-A047-6C1EE861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909E-3896-4852-AEB0-16B7103F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28A4-C706-4532-97DE-3A59A86F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6D94-BBE7-433D-B0F8-6FC80A5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2286-55DD-4EA8-A804-76064D9E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3DEF-E94D-4F94-8DAC-502C9280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112E6-C314-413C-9498-F3EFB6D4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CC407-054B-4AA3-8D14-86722138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AFBF-2CF5-4415-AD3F-93D7169E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63E1-283C-42C6-86F4-7C2D30D4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8A1E-FFD7-49A9-81B2-A5DC7D68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66BD9-16FB-4B0D-BBBD-5FCFFC5E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B230-8FD2-4051-AC4D-F91B2E20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5333-AEFC-4D71-BADF-7BCE7AB7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28FE2-EE9B-4E72-8E2A-ADF61444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25616-0F50-48D5-B373-1EDB43AB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86CD2-3E96-4E79-83BC-26AED651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304AD-3850-4A93-B5BA-C84CA63A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B5A7-31E7-46BC-A1B4-88781AFB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0762-644E-4387-BC73-4898F5F4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56CB5-E883-4688-B360-2307D269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582C-D19C-4461-9742-71689CC5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1865-4AC1-4D4C-A034-DFB4EA82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36E4-5CF6-4C6B-A398-78B12CDF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46C8-5780-486D-9C25-0E9B9EE6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797DC-FED1-45D2-9930-409512B0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ED47-EF57-4171-9CB1-09DE1C47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C4F8-E9BB-4E58-8DCB-E5A669C87AD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8C75-F0AF-450D-A3C1-DFA2CCAE71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C63E-9AAD-44F2-9D80-F05056C8D83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A0A1-6172-4CEE-890E-7482E8D83C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ВАЛЮТНЫЙ КУРС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П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ем денежной массы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центные ставки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фляционные ожидания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льдо торгового баланса страны с внешним ми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hael Mussa (1979) “Empirical Regularities in the Behavior of Exchange Rates and Theories of the Foreign Exchange Market”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rnegie Rochester Conferenc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0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ксированный режи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Arrangements with No Separate Legal Te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rrency Board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her Conventional Fixed Peg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межуточны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gged Exchange Rates with Horizontal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wling Pe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Rates within Crawling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бки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naged Floating with No Pre-announced Path for the Excha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pendent Flo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 валютного курса и национальная кредитно-денежная полити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возможная троица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ssible trin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ксированный валютный кур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вободное движение капита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зависим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условиях мобильности капитала фиксация валютного курса ограничивает свободу маневра в кредитно-денежной политике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целях поддержания внутреннего равновесия в открытой экономи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бзоры исследова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ueger A. (1983) “Exchange-Rate Determination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no L., Taylor M. (2002) “The Economics of Exchange Rates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лан лек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лютный курс как экономическая категор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ПС, номинальный и реальный обменный курс: основные определ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акторы, влияющие на формирование валютного кур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алютный курс как экономическая категор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ючевые момен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ние значения ряда других фа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8229600" cy="346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иж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 в пределах золотых точ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уэз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реттон-Вуд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, согласованных странами членами МВ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май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 устанавливается странами-членами МВФ самостоя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итет покупательной способности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PPP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соотношение двух валют по их покупательной способ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бсолют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P =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(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носитель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PPP =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/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          (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минальный валютный курс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относительная цена валют двух стран, или валюта одной страны, выраженная в денежных единицах другой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3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APPP                       (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Line 48"/>
          <p:cNvSpPr/>
          <p:nvPr/>
        </p:nvSpPr>
        <p:spPr>
          <a:xfrm flipV="1">
            <a:off x="3492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49"/>
          <p:cNvSpPr/>
          <p:nvPr/>
        </p:nvSpPr>
        <p:spPr>
          <a:xfrm>
            <a:off x="349236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5580000" y="36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558000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52"/>
          <p:cNvSpPr/>
          <p:nvPr/>
        </p:nvSpPr>
        <p:spPr>
          <a:xfrm flipV="1">
            <a:off x="766764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53"/>
          <p:cNvSpPr/>
          <p:nvPr/>
        </p:nvSpPr>
        <p:spPr>
          <a:xfrm>
            <a:off x="766764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19Z</dcterms:modified>
  <cp:revision>12</cp:revision>
  <dc:subject/>
  <dc:title>PowerPoint Presentation</dc:title>
</cp:coreProperties>
</file>