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A086-5772-4D48-BD3B-6C90A87A50F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П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ая троица (impossible trin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движ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возможная троица (impossible trinity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иксирован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движение капит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зоры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Обзоры исследов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мо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лючевые момент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PPP = Pf/ Pd                    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PPP = I (Pf) / I (Pd)           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APPP = Pf/ Pd                     (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ель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PPP = I (Pf) / I (Pd)           (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 Pf/Pd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APPP                       (3.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 Pf/Pd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3.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APPP                       (3.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52804-BA77-4B55-A227-DD977D4C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ADB93-1F92-432E-A092-D88DF25F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7748C-3CFA-4ACC-8CF6-83397BED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E011-B0AD-4CB1-A077-520D0FB9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C9E77-BEDE-4A7E-94F7-7AADDEB0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6521A-2B7D-45CD-AF30-FEF6D745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518A4-303D-4209-B84A-53A9EF58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79B8D-8496-41DF-9D63-26133D33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4DFCA-4560-43F6-86BD-7EE00004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C38C8-344F-44C9-8441-23EB00A6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BE7D0-FDDD-4A20-8185-82BCE3A6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DACB-17E7-41FB-AE02-D650BA77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EFDFD-B676-4639-80BA-E002B2C0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021BF-0A69-4003-88FB-616044CD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84CB7-85DD-465E-A9A8-8EF9E660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2C9DE-688D-405D-B57D-A1914872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8907D-9675-4A07-A845-EEF8DCBA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E01F-CA54-418A-832B-C08B5053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35D2-554B-4A8E-AEA1-7B9B93AB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EF69-F339-45C6-9CE6-CF8DFF2C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7F32-213C-4578-822E-C6EED6E6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9024-68DE-4356-A903-0694D9D3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A77D-98DA-4F38-97E3-8B673222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B6416-B5C5-4816-BECC-46CB3E3B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22AEC-1CAF-405D-BC4A-038DA5F5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3AAE-ABB6-4C22-B260-53EC4C6B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6FF84-42AC-455A-BCEF-17E68F9D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C505-08EB-446B-AC61-77F8717C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5527-74A8-429E-9125-DCBAFEDD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534EE-3F9F-4D97-84EA-1513B604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FB856-270B-4698-BB59-382E2246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1062-AA4D-4208-A3F0-D71F6366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5864E-B7D2-4A21-B292-56655DFB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E5B8-CED0-4CDB-B2F2-BDF7642E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86ECE-14D1-4350-A15A-C012756C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29849-CBDA-4079-AD04-5DD1BEDD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D964C-8BF1-4796-83C9-0D5C39BE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E9AC-F68B-4E50-959C-100FBF8B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7D81F-23A7-4630-A408-993F6EEA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93382-F24E-4C6E-A8A2-0D954A02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88921-B5D9-4327-A347-44BD4FDD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5745-EF52-4121-B798-824CDFD0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45CD2-14C8-46DD-805B-CBC6D7F3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8B78-64A6-40B4-A9A9-55492BE9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6776-44BC-4F5C-B7D3-828FA9DE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9971-2026-46A2-A2F5-96C54BF7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2A57-CE15-4AF9-8427-10AC8C12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1AD6-7AA0-4708-AF23-1F00ACE8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C880-1EF1-460A-8AD8-F682FECC596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6062-63D0-4313-8129-FA792AE92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1F55-3480-4D8F-9398-F085DD0B24B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3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1583-089F-43A5-8CB9-BE65065908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ВАЛЮТНЫЙ КУРС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П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ъем денежной массы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центные ставки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фляционные ожидания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льдо торгового баланса страны с внешним ми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hael Mussa (1979) “Empirical Regularities in the Behavior of Exchange Rates and Theories of the Foreign Exchange Market”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rnegie Rochester Conference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0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ксированный режи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Arrangements with No Separate Legal Te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rrency Board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her Conventional Fixed Peg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межуточны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gged Exchange Rates with Horizontal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wling Pe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Rates within Crawling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бки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naged Floating with No Pre-announced Path for the Excha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pendent Flo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 валютного курса и национальная кредитно-денежная полити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возможная троица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ssible trin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ксированный валютный кур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вободное движение капита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зависим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условиях мобильности капитала фиксация валютного курса ограничивает свободу маневра в кредитно-денежной политике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целях поддержания внутреннего равновесия в открытой экономи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бзоры исследова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rueger A. (1983) “Exchange-Rate Determination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no L., Taylor M. (2002) “The Economics of Exchange Rates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лан лек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лютный курс как экономическая категор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ПС, номинальный и реальный обменный курс: основные определ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акторы, влияющие на формирование валютного кур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алютный курс как экономическая категор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ючевые момен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нание значения ряда других фа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8229600" cy="346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иж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 в пределах золотых точе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нуэз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реттон-Вуд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, согласованных странами членами МВ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май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 устанавливается странами-членами МВФ самостоя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итет покупательной способности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PPP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соотношение двух валют по их покупательной способ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бсолют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P =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(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носитель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PPP =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/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          (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минальный валютный курс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относительная цена валют двух стран, или валюта одной страны, выраженная в денежных единицах другой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3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APPP                       (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Line 48"/>
          <p:cNvSpPr/>
          <p:nvPr/>
        </p:nvSpPr>
        <p:spPr>
          <a:xfrm flipV="1">
            <a:off x="3492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49"/>
          <p:cNvSpPr/>
          <p:nvPr/>
        </p:nvSpPr>
        <p:spPr>
          <a:xfrm>
            <a:off x="3492360" y="306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5580000" y="36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5580000" y="4365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52"/>
          <p:cNvSpPr/>
          <p:nvPr/>
        </p:nvSpPr>
        <p:spPr>
          <a:xfrm flipV="1">
            <a:off x="766764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53"/>
          <p:cNvSpPr/>
          <p:nvPr/>
        </p:nvSpPr>
        <p:spPr>
          <a:xfrm>
            <a:off x="766764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19Z</dcterms:modified>
  <cp:revision>12</cp:revision>
  <dc:subject/>
  <dc:title>PowerPoint Presentation</dc:title>
</cp:coreProperties>
</file>