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003-82D1-4C4B-A44A-504D1D3CA0B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П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ВП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ъем денежной массы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нтные ставки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фляционные ожидания в стране и за границ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льдо торгового баланса страны с внешним мир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Michael Mussa (1979) “Empirical Regularities in the Behavior of Exchange Rates and Theories of the Foreign Exchange Market”, Carnegie Rochester Conference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ая троица (impossible trin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ирован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движ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возможная троица (impossible trinity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иксирован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движение капит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зависим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словиях мобильности капитала фиксация валютного курса ограничивает свободу маневра в кредитно-денежной политике в целях поддержания внутреннего равновесия в открытой экономи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зоры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Обзоры исследо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Krueger A. (1983) “Exchange-Rate Determination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Sarno L., Taylor M. (2002) “The Economics of Exchange Rates”, Cambridge: Cambridge University P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лан ле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обменный курс: основные опред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, влияющие на формирование валютного кур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евые моме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как экономическая катег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лючевые момент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ние значения ряда других фактор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ческая ретросп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алютный курс в мировых валютных системах: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историческая ретроспекти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PPP = Pf/ Pd                     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ельный ПП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PPP = I (Pf) / I (Pd)           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итет покупательной способности  (PPP) – соотношение двух валют по их покупательной 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APPP = Pf/ Pd                     (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ельный ПП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PPP = I (Pf) / I (Pd)           (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минальный валютный курс (e) – относительная цена валют двух стран, или валюта одной страны, выраженная в денежных единицах другой стра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 Pf/Pd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= e  *APPP                       (3.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 Pf/Pd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3.1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R = e  *APPP                       (3.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ПС, номинальный и реальный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ПС, номинальный и реальный курс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89E1-BE67-4A9E-9030-1006B61F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72B8C-17FC-4297-B3F7-E462362E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9E34D-5F1B-4BC4-8D75-2237C12C5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BD91-0ECA-46EC-9633-012915A9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EF86D-C447-4034-9FFB-46C439A40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540F3-69B7-4CF0-85BC-EDD80F5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584BE-DA61-4A10-B6F5-839C302B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40C40-FD56-4443-99AE-B3FAB555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05052-E129-43F8-BCFA-87C229BD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276B5-111B-4C6B-A019-DF671DAB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1FAF5-D8DD-4B6D-88E6-2DE93B84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5396F-CC15-406C-9B5E-0B92D65B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B8EA6-077E-432C-9A51-D66BFB92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56459-E99E-43E7-B038-7C012538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827D5B-51E1-47D0-8315-7CC68BBC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091D3-6F89-437C-AF69-051F914D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5D40F-A8FD-4E4A-950B-D56C58746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8EBF-D96F-4839-8F9D-D43AD8F1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C8D6-1FC9-4A2F-8D74-04DC7FB0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36B61-AD08-4101-AB65-A8E666A0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66AB9-6970-4885-9C58-4E7AE73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6FF3-4A69-4E0B-901A-857B7224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579F0-16E5-4F91-B680-BA2EFC9E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EDC94-B050-4183-A48E-C59B21EF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4B2A-869B-4549-B30D-FC1FBFD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5BA79-8593-48AE-B3E3-4255186C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337B-0256-43F3-94E3-1089664A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D636-5F9C-4560-BE55-2C4C2CE2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D44F-B32F-452D-AF1D-7C01B649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BC02-ACDA-4B7E-8EA7-A802A0BF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DA1CE-715E-4048-82C8-F637D9D1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EE44-D04E-4981-B1C2-715055EF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D9BE-1735-4D0C-9A49-56AC1ADD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2D4B-19FE-4F76-B04D-5FB2C66F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339A-CBDF-413F-9D80-8E43638E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EA147-6322-4E0C-A920-189A5B8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51FE7-6946-4595-AE83-93304DC6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AA90-121D-4B58-8B6C-1013B8E5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28DC9-2017-4DCF-911C-3E331A59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27E6-737F-43C4-9FDF-B4D32701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FB04-E189-4DBB-8B29-E1501AAA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CFE50-E46F-4683-940A-9806DE26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ACFD-ADF3-4129-B178-161162EA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56CDD-9AB7-4921-9C8A-1853877D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FB1B-D388-46A9-BBBB-13F76326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F10F-6069-42C8-AC6F-E5203A70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5D1E-A0E8-4DEF-AF7F-CEF1D0A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4EFBF-FD28-4792-AEF7-9F43CEB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B6A1-2A1A-4CC4-A32C-D113B0EBE01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0D5F-8944-4D36-B3E3-08712FBE1E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7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0541-0326-4BB5-89C5-0EF63529D41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7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8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0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1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2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3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21FF-D9C7-47CD-85F2-80CBAA23B4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ВАЛЮТНЫЙ КУР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ВП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ъем денежной массы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центные ставки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ляционные ожидания в стране и за границ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льдо торгового баланса страны с внешним мир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формирование валютного кур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hael Mussa (1979) “Empirical Regularities in the Behavior of Exchange Rates and Theories of the Foreign Exchange Market”,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rnegie Rochester Conference Se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70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иксированный режи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Arrangements with No Separate Legal Tend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rrency Board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her Conventional Fixed Peg Arrangem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межуточны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gged Exchange Rates with Horizontal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rawling Peg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change Rates within Crawling Ba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ы валютных курсов в современном мире: классификация МВФ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ибкие режимы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naged Floating with No Pre-announced Path for the Exchan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dependent Floa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e5ff"/>
                </a:solidFill>
                <a:latin typeface="Garamond"/>
              </a:rPr>
              <a:t>Режим валютного курса и национальная кредитно-денежная политик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возможная троица (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ssible trin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ксированный валютный кур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вободное движение капитал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условиях мобильности капитала фиксация валютного курса ограничивает свободу маневра в кредитно-денежной политике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в целях поддержания внутреннего равновесия в открытой экономик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бзоры исследован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rueger A. (1983) “Exchange-Rate Determination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no L., Taylor M. (2002) “The Economics of Exchange Rates”, Cambridge: Cambridge University Pr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лан лек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алютный курс как экономическая категор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рмирование валютных курсов в мировых валютных системах: историческая ретроспекти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ПС, номинальный и реальный обменный курс: основные определ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акторы, влияющие на формирование валютного кур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жимы валютных курсов в современном мире: классификация МВФ. Режим валютного курса и национальная кредитно-денежная полит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алютный курс как экономическая категор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ый курс – это соотношение между национальной и иностранными валютами, определяемое их покупательной способностью и рядом других фактор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ючевые моменты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купательная способность (стоимостное соотношение) как основной фактор, определяющий равновесный валютный кур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знание значения ряда других фактор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600200"/>
          <a:ext cx="8229600" cy="346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5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иж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 в пределах золотых точе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уэз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Garamond"/>
              </a:rPr>
              <a:t>Валютный курс в мировых валютных системах:</a:t>
            </a:r>
            <a:br>
              <a:rPr sz="32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e5ff"/>
                </a:solidFill>
                <a:latin typeface="Garamond"/>
              </a:rPr>
              <a:t>историческая ретроспектив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57200" y="1600200"/>
          <a:ext cx="8229600" cy="453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алютная систем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реттон-Вуд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лебание валютных курсов вокруг валютных паритетов, согласованных странами членами МВ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май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Режим валютного курса устанавливается странами-членами МВФ самостоятель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ритет покупательной способности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PPP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соотношение двух валют по их покупательной способ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бсолют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P =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(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носительный ПП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PPP =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/ I (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           (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минальный валютный кур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e)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относительная цена валют двух стран, или валюта одной страны, выраженная в денежных единицах другой стра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рамках данного курса е определяется как количество единиц национальной валюты за единицу иностранной валю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альный валютный курс – рыночное соотношение, в котором товары одной страны могут быть проданы в обмен на товары другой страны, или относительная цена товаров, произведенных в двух стран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 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/P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3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.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 = e  *APPP                       (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ППС, номинальный и реальный курс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Line 48"/>
          <p:cNvSpPr/>
          <p:nvPr/>
        </p:nvSpPr>
        <p:spPr>
          <a:xfrm flipV="1">
            <a:off x="3492360" y="2421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Line 49"/>
          <p:cNvSpPr/>
          <p:nvPr/>
        </p:nvSpPr>
        <p:spPr>
          <a:xfrm>
            <a:off x="3492360" y="3068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Line 50"/>
          <p:cNvSpPr/>
          <p:nvPr/>
        </p:nvSpPr>
        <p:spPr>
          <a:xfrm flipV="1">
            <a:off x="5580000" y="3644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Line 51"/>
          <p:cNvSpPr/>
          <p:nvPr/>
        </p:nvSpPr>
        <p:spPr>
          <a:xfrm>
            <a:off x="5580000" y="4365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Line 52"/>
          <p:cNvSpPr/>
          <p:nvPr/>
        </p:nvSpPr>
        <p:spPr>
          <a:xfrm flipV="1">
            <a:off x="7667640" y="5013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Line 53"/>
          <p:cNvSpPr/>
          <p:nvPr/>
        </p:nvSpPr>
        <p:spPr>
          <a:xfrm>
            <a:off x="7667640" y="566100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5T11:06:19Z</dcterms:modified>
  <cp:revision>12</cp:revision>
  <dc:subject/>
  <dc:title>PowerPoint Presentation</dc:title>
</cp:coreProperties>
</file>