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C3C2-4C2A-4892-A151-C0CD6011BCD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и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ная л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и валютные систе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водная лекц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 ле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 Российской Федер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формы международных экономических связ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овы основные формы международных экономических связей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роизводны по отношению к основным формам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ни производны по отношению к основным формам международных экономических отно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(региональная)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ждународная (региональная) 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AB3C-EAD9-48CE-A729-321AACDE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8872-7F20-44C8-B3C4-3756B608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77FB-D3CF-465C-B73C-5E3D4BBD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C0A5-F55B-4FD5-AFC9-C5940879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556E-21BB-44CF-8E4D-6F1DD35C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F809-FD56-46E0-9069-56F7F3D8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EFB1-2E52-4375-AF21-2D1CEB08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0C62-5BA5-4871-BC21-78B4149A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9ED5-4865-42EE-BE17-6240115E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A1B8-22CC-4FCC-9990-FD550B32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184E-69D2-4B6F-AAB0-5CF4B38F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8D5-8561-4787-A2E7-C15BB34D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2952-D319-49CD-9C36-A76AE1E6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3BCF-1313-4D81-8116-D24EA312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6619-F1F6-4C76-B16F-A2E4A97A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B6BF-42AF-4FC3-8360-D188132E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2949-E8C1-4FA0-824C-A8E6DC2F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A77-B2F5-49AB-B22E-4E5780BF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D267-64AA-404E-A0BE-477B99DC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2659-9812-43DF-ACAA-F766BA0A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C201-9B8E-498D-AD2B-BCCCE674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6A7-FF77-4F1C-9031-59499039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EFCC-9F03-410F-9180-ADE04A87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0C6-B85F-4135-80EB-92BA90D5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FCC8-E49D-4053-84E9-54F6342ED1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1264-944B-4AB6-A2F0-6ADF720C5C6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Валютные отношения и валютные системы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водная лек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600200"/>
          <a:ext cx="8229600" cy="491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национального валютного рынка и рынка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мировых валютных рынков и рынков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9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ые органы, обслуживающие и регламентирующие валютные отношения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организации, осуществляющие межгосударственное валютное регулиро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br>
              <a:rPr sz="40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 rot="21468600">
            <a:off x="826560" y="2349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вы основные формы международных экономических связ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5148360" y="2492280"/>
            <a:ext cx="2736720" cy="30974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Oval 9"/>
          <p:cNvSpPr/>
          <p:nvPr/>
        </p:nvSpPr>
        <p:spPr>
          <a:xfrm rot="21468600">
            <a:off x="1042560" y="2565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2916360" y="2565000"/>
            <a:ext cx="32400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3348000" y="3068280"/>
            <a:ext cx="2160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3564000" y="3645000"/>
            <a:ext cx="1584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3564000" y="4220640"/>
            <a:ext cx="15843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3276720" y="486900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производны по отношению к основным формам международных экономически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лютная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ров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ждународная (региональная)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3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 СТРУКТУРНЫЕ ЭЛЕМЕНТЫ ВАЛЮТНОЙ СИСТЕ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                   МИР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валю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ервные валюты, международные счетные денежные единиц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епень конвертируемости национальной валю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ловия взаимной конвертируемости валю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ритет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цированный режим валютных парит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курса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режимов валютных кур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7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ая валютная ликвидность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международной валютной ликвид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5092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лютные огранич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валютных огранич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кредитные средства обращения, регламентация правил их ис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правил использования международных кредитных средств обращ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основных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6:25Z</dcterms:modified>
  <cp:revision>5</cp:revision>
  <dc:subject/>
  <dc:title>PowerPoint Presentation</dc:title>
</cp:coreProperties>
</file>