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B893-AC69-4EB5-AE66-1A02EC60C2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ая л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и валютны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34E-F9DA-4A5D-BFA3-42F5C9C1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9E0-BDB6-48E3-8379-E7AF302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DDA-2630-48AE-87EC-012D707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CBA-4201-4DE8-A6F9-E8C57168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6459-B18A-4624-946D-97AC1E5A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75B9-88E7-451C-AE51-037E6FCB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DD9A-B6DB-44F0-8BC0-9F39F4F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A5CE-B5D5-41D9-84B3-073635A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B0F5-BDF8-4C7B-A6D2-08B7C37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00C2-28A6-4F35-8044-463C8A7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2EE7-924A-4B9B-9E5E-A2B7780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355-4256-40CF-949E-969D209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EA48-E3F8-4538-8D0C-BD3C0B5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1CA-8516-4880-AF69-F7806FB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869-6843-4C13-8D1B-7D474A18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E3C-488A-40F9-BC0D-636B52CB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8BF2-7F37-424E-BA05-DD259EAD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D32-083E-456E-9858-74FE530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9F6-86F0-4B93-8047-FB0D9E15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CBD-88F2-4CC7-9EA4-1682FFE3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D5E-B289-4074-8329-DEBF34D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6CF-380B-4187-8680-6098BBA6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276-200B-4520-BDFD-7FA0C29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088-9514-42BD-A485-4F431AA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949F-18D8-4854-BB19-FE7984865D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F9A-C727-462C-A370-DDAA6DA964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Валютные отношения и валютные систем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одная лек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национального валютного рынка и рынка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мировых валютных рынков и рынков золо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ые органы, обслуживающие и регламентирующие валютные отношения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организации, осуществляющие межгосударственное валютное регули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отношения в системе международных экономических 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ютные системы: мировая, международная, национальная. Основные структурные элем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br>
              <a:rPr sz="40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 rot="21468600">
            <a:off x="826560" y="2349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ы основные формы международных экономических связ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5148360" y="2492280"/>
            <a:ext cx="2736720" cy="309744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9"/>
          <p:cNvSpPr/>
          <p:nvPr/>
        </p:nvSpPr>
        <p:spPr>
          <a:xfrm rot="21468600">
            <a:off x="1042560" y="2565360"/>
            <a:ext cx="2508480" cy="273528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циона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2916360" y="2565000"/>
            <a:ext cx="3240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3348000" y="3068280"/>
            <a:ext cx="2160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3564000" y="3645000"/>
            <a:ext cx="158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3564000" y="4220640"/>
            <a:ext cx="158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276720" y="486900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Валютные отношения в системе международных экономических отношени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ые валютные отношения – совокупность экономически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производны по отношению к основным формам международных экономически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оказывают активное обратное воздействие на функционирование всех форм международных экономических отношений и мирового хозяйства как целостн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лютная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экономической точки зрения – исторически конкретная совокупность валютных отношений, сложившаяся на основе интернационализации хозяйственных связ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рганизационно-юридической точки зрения – конкретная государственно-правовая форма организации валютных 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(региональная)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циональная валютная сист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3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СТРУКТУРНЫЕ ЭЛЕМЕНТЫ ВАЛЮТНОЙ СИС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                   МИР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циональная валю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зервные валюты, международные счетные денежные еди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епень конвертируемости национальной валю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ловия взаимной конвертируемости валю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ритет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цированный режим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жим курса национальной валю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режимов валютных кур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ая валютная ликвидность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международной валютной ликвид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лютные системы: мировая, международная, национальная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9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лютные ограни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государственное регулирование валютных огранич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ждународные кредитные средства обращения, регламентация правил их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правил использования международных кредитных средств обращ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гламентация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нификация основных форм международных расч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25Z</dcterms:modified>
  <cp:revision>5</cp:revision>
  <dc:subject/>
  <dc:title>PowerPoint Presentation</dc:title>
</cp:coreProperties>
</file>