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F859B-35A0-4805-AF7F-D8BC18898F9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отношения и валютн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одная л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е отношения и валютные систем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водная лекц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л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отношения в системе международных экономически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 Основные структурные элемен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 валютная система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лан лекц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е отношения в системе международных экономических отношен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е системы: мировая, международная, национальная. Основные структурные элемент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циональная валютная система Российской Федерац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отношения в системе международных экономических отношени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зя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основные формы международных экономических связ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зя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зя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е отношения в системе международных экономических отношений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ционально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хозяйств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овы основные формы международных экономических связей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ционально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хозяйств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ционально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хозяйств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отношения в системе международных экономически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ые отношения – совокупность экономических отношений, складывающихся при функционировании валюты в мировом хозяйстве и обслуживающих взаимный обмен результатами деятельности национальных хозяй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производны по отношению к основным формам международных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оказывают активное обратное воздействие на функционирование всех форм международных экономических отношений и мирового хозяйства как целостн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е отношения в системе международных экономических отношен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еждународные валютные отношения – совокупность экономических отношений, складывающихся при функционировании валюты в мировом хозяйстве и обслуживающих взаимный обмен результатами деятельности национальных хозяйст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ни производны по отношению к основным формам международных экономических отношен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ни оказывают активное обратное воздействие на функционирование всех форм международных экономических отношений и мирового хозяйства как целостной систем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экономической точки зрения – исторически конкретная совокупность валютных отношений, сложившаяся на основе интернационализации хозяйственных связ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организационно-юридической точки зрения – конкретная государственно-правовая форма организации валютны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ая систем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 экономической точки зрения – исторически конкретная совокупность валютных отношений, сложившаяся на основе интернационализации хозяйственных связ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 организационно-юридической точки зрения – конкретная государственно-правовая форма организации валютных отношен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(региональная) 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 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ировая валютная систем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еждународная (региональная) валютная систем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циональная валютная систем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8B65-F7AF-4208-8E0D-532486A0F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BC22-36A5-4A63-B316-89E03CE61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7E04-0B00-47A4-8732-5029B72D7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E4A8-EF2A-4B3C-BB66-F2AB2FBCE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940DA-8B19-4AC6-9222-0D22A6BF2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A4420-A3F4-4D39-ABB0-2F76AFD0D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2CBA1-A0A8-414B-952E-60AD1EB33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C24C3-4D80-4F6B-87E7-EB261D3FE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FB2B3-21BF-47BC-BBA9-CE7F9E010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3239D-F171-4F6F-9037-5398D065C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43B6E-5A96-4A36-B82C-BA9B0B58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5058-EE28-4FE2-A940-E7EB238C9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9E884-B9E5-4681-B2B0-0300F3FC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E97A9-587E-4DF5-B4B1-4081C1DD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7317A-C3EC-46DE-8549-29423C187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E1CBE-9F9D-447A-8DC1-3724E5F8B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116B4-F0D5-4417-9A3F-B1665B4C5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6ABF-0A4C-401D-A3EB-24CC61536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E9A2-033B-44D6-ADB3-EE7AB74D7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CB93-31CD-490A-A686-91B337CD1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0C1C-A50C-4747-B0A0-36A06B804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9420-2364-4F5B-8FAB-98C5AE1D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C308-4C82-48E2-A582-7700A4AF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2452-B1F5-43BB-9865-990DDBA0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18529-F86D-4AAD-8237-2BA4EE46FFE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E9AD5-9734-4639-871E-7B04FF8CFE8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Валютные отношения и валютные системы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водная лекц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лютные системы: мировая, международная, национальна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57200" y="1600200"/>
          <a:ext cx="8229600" cy="4916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024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жим национального валютного рынка и рынка золот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жим мировых валютных рынков и рынков золот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90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циональные органы, обслуживающие и регламентирующие валютные отношения стра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ждународные организации, осуществляющие межгосударственное валютное регулирова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План лекци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алютные отношения в системе международных экономических отноше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алютные системы: мировая, международная, национальная. Основные структурные элемен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циональная валютная система Российской Федер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Валютные отношения в системе международных экономических отношений.</a:t>
            </a:r>
            <a:br>
              <a:rPr sz="4000"/>
            </a:b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Oval 4"/>
          <p:cNvSpPr/>
          <p:nvPr/>
        </p:nvSpPr>
        <p:spPr>
          <a:xfrm rot="21468600">
            <a:off x="826560" y="2349360"/>
            <a:ext cx="2508480" cy="273528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циональн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озяйств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овы основные формы международных экономических связей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Oval 8"/>
          <p:cNvSpPr/>
          <p:nvPr/>
        </p:nvSpPr>
        <p:spPr>
          <a:xfrm>
            <a:off x="5148360" y="2492280"/>
            <a:ext cx="2736720" cy="309744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циональн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озяйств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Oval 9"/>
          <p:cNvSpPr/>
          <p:nvPr/>
        </p:nvSpPr>
        <p:spPr>
          <a:xfrm rot="21468600">
            <a:off x="1042560" y="2565360"/>
            <a:ext cx="2508480" cy="273528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циональн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озяйств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Line 10"/>
          <p:cNvSpPr/>
          <p:nvPr/>
        </p:nvSpPr>
        <p:spPr>
          <a:xfrm flipV="1">
            <a:off x="2916360" y="2565000"/>
            <a:ext cx="324000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Line 11"/>
          <p:cNvSpPr/>
          <p:nvPr/>
        </p:nvSpPr>
        <p:spPr>
          <a:xfrm flipV="1">
            <a:off x="3348000" y="3068280"/>
            <a:ext cx="216072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Line 12"/>
          <p:cNvSpPr/>
          <p:nvPr/>
        </p:nvSpPr>
        <p:spPr>
          <a:xfrm flipV="1">
            <a:off x="3564000" y="3645000"/>
            <a:ext cx="158436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Line 13"/>
          <p:cNvSpPr/>
          <p:nvPr/>
        </p:nvSpPr>
        <p:spPr>
          <a:xfrm flipV="1">
            <a:off x="3564000" y="4220640"/>
            <a:ext cx="158436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Line 14"/>
          <p:cNvSpPr/>
          <p:nvPr/>
        </p:nvSpPr>
        <p:spPr>
          <a:xfrm>
            <a:off x="3276720" y="4869000"/>
            <a:ext cx="20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Валютные отношения в системе международных экономических отношений.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ждународные валютные отношения – совокупность экономических отношений, складывающихся при функционировании валюты в мировом хозяйстве и обслуживающих взаимный обмен результатами деятельности национальных хозяйст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ни производны по отношению к основным формам международных экономических отноше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ни оказывают активное обратное воздействие на функционирование всех форм международных экономических отношений и мирового хозяйства как целостной систем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лютные системы: мировая, международная, национальна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лютная систе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экономической точки зрения – исторически конкретная совокупность валютных отношений, сложившаяся на основе интернационализации хозяйственных связ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организационно-юридической точки зрения – конкретная государственно-правовая форма организации валютных отноше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лютные системы: мировая, международная, национальна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ировая валютная систе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ждународная (региональная) валютная систе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циональная валютная систе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лютные системы: мировая, международная, национальна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632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СНОВНЫЕ СТРУКТУРНЫЕ ЭЛЕМЕНТЫ ВАЛЮТНОЙ СИСТЕМ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ЦИОНАЛЬНАЯ                    МИРОВ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5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циональная валю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зервные валюты, международные счетные денежные единиц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4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тепень конвертируемости национальной валют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словия взаимной конвертируемости валю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лютные системы: мировая, международная, национальна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57200" y="1600200"/>
          <a:ext cx="8229600" cy="4819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541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аритет национальной валют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нифицированный режим валютных парит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41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жим курса национальной валют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гламентация режимов валютных курс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07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ждународная валютная ликвидность стра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жгосударственное регулирование международной валютной ликвидност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лютные системы: мировая, международная, национальна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57200" y="1600200"/>
          <a:ext cx="8229600" cy="50925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024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алютные ограниче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жгосударственное регулирование валютных ограничен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4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ждународные кредитные средства обращения, регламентация правил их использова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нификация правил использования международных кредитных средств обращения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24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гламентация форм международных расч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нификация основных форм международных расч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5T11:06:25Z</dcterms:modified>
  <cp:revision>5</cp:revision>
  <dc:subject/>
  <dc:title>PowerPoint Presentation</dc:title>
</cp:coreProperties>
</file>