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7212-9F14-4804-AFBA-A37E3A8052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и 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Иностранная валюта»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алютные операции»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за пределами РФ филиалы и представительства 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ерезидентам РФ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ходящиеся в РФ филиалы и представительства нерезидентов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овление валютного контроля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границы валют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два подхода к оценке эффективности: затратный и результатив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 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пнк – объем предотвращенного нелегального движения капитал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Звк – затраты на осуществление валю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Олк – объем легального движения капит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лк – объем нелегального движ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направлениями валютного контроля в России являю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обоснованности платежей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полноты и объективности учета и отчетности по валютным опер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органов валютного контрол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е территориальные управления Банка Росс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ют заключения по запросам уполномоченных ба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ашивают разъяснения Банка России по спорным либо неурегулированным вопрос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яют соответствующие предложения от своего имени в Бан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ежотраслевой координ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в широком смысле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 «валютное регулирование» многообразно. Это по существу совокупность таких процессов, ка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деятельность государственных органов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ю обращением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контроль государства за валют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циями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воздействие на курс национальной валю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граничение использования иностранной валю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совокупность законодательных, административны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х и организационных мероприятий,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щих порядок проведения операций с валютными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остями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государства  в сфере валютного регулирования, как правило, включают в себя: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накапливание статистических данных о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е из страны и импорте в стран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улирование вывоза из страны стратег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регламентирование ввоза или вывоза национ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ы из страны, куплю-продажу ценных бума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покупка резидентами и нерезидентами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страны или за её предел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определение курса валюты данной страны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ю к прочим валют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улирование порядка проведения операций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ами и нерезидент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  регламентирование порядка репатриации прибы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ой от проведения экспортных опера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ая политика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м и косв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ое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ым или огранич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еральное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ельное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2. Валютный контроль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ое регулирование существует во всех странах. В России оно осуществляется в соответствии с Законом РФ от 9 октября 1992 г. № 3615-1 «О валютном регулировании и валютном контроле р РФ», который опреде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инципы проведения валютных операции в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меру ответственности за нарушение валютного законод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Закона – юридическая основа создания национальной валютной системы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8B8-EA35-4551-AC68-5DD040E6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BF9-6D5C-47C2-9317-6876D40F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C86-470E-468E-90B4-AA4BC29B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345-B346-4F90-8E29-9034CE1F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F6C-4B5D-4FB9-ADE0-75813A8E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A079-0C7D-41E8-96DC-A57104C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A813-EEBE-4AA3-A1A7-71462992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ABA7-5F60-4165-818F-6CC945D9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CB8A-3CDA-4DFD-A865-6CB6718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BAF-151B-408D-8204-2CD24786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D3BF-F194-4A61-8F17-C769753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D6A-B4B7-4556-A008-9D9E53AE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DD3F-7CCE-46FE-A13D-65CB7729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306C-64CA-44C2-A41C-6D942CC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AD6C-25C2-4EB6-AB08-68229D2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D8F8-56B9-4EFF-B1EE-0EB4C70F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083F-FC6F-4D10-B820-6CA41BCA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3D7-768E-42AB-8826-A507CFE3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D07E-DF58-4382-A76F-E1C4AF8F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7FB-B549-4365-A17D-2B57E71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E14-6230-4972-ACCB-45A67832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4DF4-BE91-450C-B9F4-AF678517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EAC-1FBD-4447-87D7-09592734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700-D359-46DF-A9A7-FF792B44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d7446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FD4-1B26-4EA2-9CF0-B5D2FD62A0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D3BB-4164-4F17-A2FD-54926EDC5A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noFill/>
          <a:ln w="76320">
            <a:solidFill>
              <a:srgbClr val="ccffff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hiller"/>
              </a:rPr>
              <a:t>Валютное регулирование и валютный контроль</a:t>
            </a:r>
            <a:endParaRPr b="0" lang="en-US" sz="4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819160" y="759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средства в рублях на счетах в банках и иных кредитных учреждениях за пределами РФ (на основании межправительственных соглашений  об использовании валюты РФ на территории данного государств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платежные документы(чеки, векселя, аккредитивы и др.), фондовые ценности (акции, облигации), другие долговые обязательства, выраженные в рубл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скольку внешнеэкономические связи предполагают обмен национальной валюты на иностранн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 Иностранная валюта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- это денежные знаки в виде банкнот, казначейских билетов, монет, находящиеся в обращении и являющиеся законным платежным средством в соответствующем государстве, а также средства на счетах в денежных единицах иностранных государ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Валютные операции»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пределены как операции, которые связаны с переходом права собственности и иных прав на валютные ценности, в том числе использование в качестве средства платежа ценных бумаг в иностранной валюте; ввоз и пересылка в РФ и из РФ валютных ценностей, международные денежные переводы, а также операции, в которых участвуют нерезидент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743200" y="152280"/>
            <a:ext cx="5943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в РФ, в том числе временно находящиеся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РФ, с местонахождением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за пределами РФ филиалы и представительства 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К нерезидентам РФ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Физические лица, имеющие постоянное место жительства за пределами РФ, в том числе временно находящиеся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Юридические лица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Предприятия и организации, не являющиеся юридическими лицами, созданные в соответствии с законодательством иностранных государств, с местонахождением за пределами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 Находящиеся в РФ филиалы и представительства нерезидентов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440" y="609480"/>
            <a:ext cx="7086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это контроль за проведением валютных операций в целях их приведения в соответствие с нормами и требованиями, предъявляемыми действующим законод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Становление валютного контроля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цесс перехода российского государства к рыночным отношениям в экономике обусловил необходимость интеграции страны в мировое экономическое хозяйство и, следовательно, послужил катализатором резкого усиления и развития внешнеторговых связей. Начиная с 1986 г. практически все субъекты хозяйственной деятельности получили право прямого выхода на внешние рынки и распоряжения заработанной иностранной валютой. При этом по мере развития совместного предпринимательства с участием иностранного капитала число участников внешнеэкономической деятельности (ВЭД) постоянно возрастал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1991 г. был принят Закон СССР « О валютном регулировании и валютном контроле» (в 1992 г.- Закон РФ). Этим Законом в качестве основного органа валютного регулирования определен Государственный (в РФ - Центральный) банк, что соответствует практике большинства стран мира. Был введен институт агентов валютного контроля. Законом были установлены также основные принципы проведения операций с иностранной валютой. Аукционная торговля иностранной валютой стала лицензиров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чиная с 1991 г. получили лицензии на организацию биржевых операций с иностранной валютой 8 валютных бир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361960" y="152280"/>
            <a:ext cx="6397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Валютный контроль</a:t>
            </a:r>
            <a:endParaRPr b="0" lang="en-US" sz="28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5640" y="152280"/>
            <a:ext cx="67057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 настоящее время можно говорить о том, что только США, ФРГ, Великобритания, Италия и Франция, а с недавнего времени и Япония практически не имеют валютных огранич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Эффективность и границы валютного 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алютный контроль со своими положительными и отрицательными сторонами может по-разному влиять на экономику, а его применение может иметь больший или меньший эффект в виде различных количественных характеристик, являющихся показателями степени достижения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Существует два подхода к оценке эффективности: затратный и результа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Затратный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одход предполагает оценку эффективности через отношение достигнутого результата к средствам, затраченным на его достижение. В качестве результата здесь выступают объем предотвращенного нелегального вывоза и ввоза капитала, а формула коэффициента эффективности выглядит следующим образо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ject 4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87804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7" descr=""/>
          <p:cNvPicPr/>
          <p:nvPr/>
        </p:nvPicPr>
        <p:blipFill>
          <a:blip r:embed="rId2"/>
          <a:stretch/>
        </p:blipFill>
        <p:spPr>
          <a:xfrm>
            <a:off x="5562720" y="4267080"/>
            <a:ext cx="533160" cy="287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90560" y="4800600"/>
            <a:ext cx="63975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пн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объем предотвращенного нелегального движения капитала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вк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затраты на осуществление валютного контроля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38280" y="304920"/>
            <a:ext cx="647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Чем выше объемы предотвращенного нелегального движения капитала и чем ниже затраты, тем выше эффе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ультативный подход предполагает оценку эффективности через отношение «достигнутого результата» к «поставленной цели». Применительно к валютному контролю это выражается следующим образом. Поставленная цель – предотвращение нелегального движения капитала. Формула имеет ви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де Олк – объем легального движения капит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нлк – объем нелегального движения капит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" descr=""/>
          <p:cNvPicPr/>
          <p:nvPr/>
        </p:nvPicPr>
        <p:blipFill>
          <a:blip r:embed="rId1"/>
          <a:stretch/>
        </p:blipFill>
        <p:spPr>
          <a:xfrm>
            <a:off x="3808440" y="2763720"/>
            <a:ext cx="1220760" cy="61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590560" y="4495320"/>
            <a:ext cx="6397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юбые меры контроля, в том числе и валютного, имеют свой предел. Выигрыш от валютного контроля государство получает, во-первых, за счет ограничения сроков платежей по текущим операциям и, во-вторых, за счет сокращения объема вывоза капитала, т.е. уменьшения зарубежных инвестиций и увеличения объема привлеченных капиталовложений.</a:t>
            </a:r>
            <a:endParaRPr b="0" lang="en-US" sz="1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4240" y="151920"/>
            <a:ext cx="6397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рганизация валютного контроля в РФ</a:t>
            </a: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1218960"/>
            <a:ext cx="63975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и направлениями валютного контроля в России явля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оответствия проводимых валютных операций действующему законодательству и наличия необходимых для них лицензий и разре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выполнения резидентами обязательств в иностранной валюте перед государством, а также обязательств по продаже иностранной валюты на внутреннем валютном рынке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обоснованности платежей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рка полноты и объективности учета и отчетности по валютным операци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0"/>
            <a:ext cx="6397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Функции органов валютного контроля в РФ</a:t>
            </a:r>
            <a:endParaRPr b="0" lang="en-US" sz="20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ым органом валютного регулирования и валютного контроля в РФ является Банк России. В его компетенцию вход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ределение сферы и порядка обращения в РФ иностранной валюты и ценных бумаг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Издание нормативных актов, обязательных к исполнению в РФ 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Установление правил проведения резидентами и нерезидентами в РФ операций с иностранной валютой ценными бумагами в иностранной валю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дготовка и публикация статистики валютных операций  РФ по принятым международным стандар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Главные территориальные управления Банка Росс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ают заключения по запросам уполномоченных бан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рашивают разъяснения Банка России по спорным либо неурегулированным вопрос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нализируют поступающие в их адрес предложения по совершенствованию валютного законодательства РФ по вопросам, относящимся к компетенции Банка Росс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правляют соответствующие предложения от своего имени в Банк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361960" y="22860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ункции Правительства РФ по валютному контролю выполняют в основном ГТК России, Минфин России и Министерство экономического развития и торговли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инфину и Министерству по экономическому развитию и торговле России переданы следующие функции Федеральной Службы РФ по валютному и экспортному контролю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оведение единой общегосударственной политики в области организации контроля и надзора за соблюдением законодательства РФ в сфере валютных, экспортных и иных внешнеэкономических операц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е межотраслевой координ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беспечение контроля и надзора за соблюдением законодательства РФ министерствами, ведомствами, предприятиями и организациями, участвующими в регулировании и осуществлении экспортно-импортных и иных внешнеэкономическ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 валютном контроле участвуют и другие федеральные органы исполнительной власти; так, Федеральная служба безопасности РФ, министерство внутренних дел РФ, Служба внешней разведки РФ и Министерство обороны РФ информируют Правительство РФ о ставших им известными фактах нарушения резидентами и нерезидентами валютного и таможенного законодательства и иных нормативных актов, касающихся осуществления валютных и других опер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99ff"/>
                </a:solidFill>
                <a:latin typeface="Comic Sans MS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алютное регулирование</a:t>
            </a:r>
            <a:br>
              <a:rPr sz="2400"/>
            </a:br>
            <a:endParaRPr b="0" lang="en-US" sz="24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9720" y="990720"/>
            <a:ext cx="65516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Валютное регулирование в широком смысл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– это регламентация государством основных принципов организации национальной валютной системы и механизмов ее функционирования. Сущность валютного регулирования заключается в создании такой системы воздействия на конвертируемость национальной валюты, валютного курса, внутреннего валютного рынка и платёжного баланса, которая отвечала бы стратегическим задачам развития национальной экономики и вместе с тем отражала бы потребности текущего момен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i="1" lang="ru-RU" sz="1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понятия «валютное регулирование» многообразно. Это по существу совокупность таких процессов, как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деятельность государственных органов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управлению обращением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контроль государства за валют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ерациями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воздействие на курс национальной валю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ограничение использования иностранной валю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*  совокупность законодательных, административны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кономических и организационных мероприятий,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определяющих порядок проведения операций с валютными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ценностями.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7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9720" y="304920"/>
            <a:ext cx="6397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Функции государств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в сфере валютного регулирования, как правило, включают в себя: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накапливание статистических данных о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экспорте из страны и импорте в стран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улирование вывоза из страны стратегическ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ыр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регламентирование ввоза или вывоза национа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ы из страны, куплю-продажу ценных бума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покупка резидентами и нерезидентами недвиж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а территории страны или за её предела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определение курса валюты данной страны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тношению к прочим валют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улирование порядка проведения операций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езидентами и нерезидент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  регламентирование порядка репатриации прибыл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лученной от проведения экспортных опер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формируется и во многом определяет проводимой государством валютной полити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Comic Sans MS"/>
              </a:rPr>
              <a:t>Валютная политика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– совокупность государственных мер в области внешнеэкономических связей, направленных на достижение стратегических задач и текущих целей страны, поддержание внутреннего и внешнего равновес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743200" y="1519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может бы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ямым и косвен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ям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законодательных и административных действий власти, определяющих порядок проведения операций с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Косвен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– совокупность экономических методов воздействия на участников внешнеэкономических связей путем создания у них экономической заинтересованности в осуществлении определенных валютных операций.  Преобладание того или иного метода валютного регулирования, определяет его характе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иберальным или ограничите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ибера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направлено на текущую конъюнктуру валютного рынка, оно не затрагивает структурных основ валютной системы и валютного к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граничительное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валютное регулирование целенаправленно воздействует на формирование валютного курса и платёжного баланса. Его законченной формой выступают валютные ограничения, т.е. законодательное или административное запрещение, лимитирование и регламентирование операций резидентов и нерезидентов с валютой и другими валютными ценнос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2362320" y="152280"/>
            <a:ext cx="66294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ормы валютных ограничений разнообразны: ограничение или запрет на экспорт капитала, блокирование счетов нерезидентов, множественность валютных к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государством посредством использования определенных инструментов, которые представляют собой конкретные организационные и экономические меры, с помощью которых государство воздействует на соотношение спроса и предложения на иностранную  валюту внутри страны и на состояние её платежного баланса. Содержание инструментов и механизм их использования формируются под определённым воздействием реальной макроэкономической ситуации, целей микроэкономической политики и действующего в стране законодательства. Так, к инструментам валютного регулирования относятся применяемые правительством квоты, устанавливаемые лимиты, вводимые штрафные санкции, валютные интервенции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осуществляется посредством механизма валютного контроля. Валютный контроль – это система мер по обеспечению исполнения законов, норм и правил проведения валютных операций, установленных государством.  По существу, валютный контроль обеспечивает эффективность валютного регулирования и поэтому является его составной частью. Взаимодействие и взаимосвязи инструментов и методов валютного регулирования и валютного контроля представлены на рис.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Object 3" descr=""/>
          <p:cNvPicPr/>
          <p:nvPr/>
        </p:nvPicPr>
        <p:blipFill>
          <a:blip r:embed="rId1"/>
          <a:stretch/>
        </p:blipFill>
        <p:spPr>
          <a:xfrm>
            <a:off x="2882880" y="228600"/>
            <a:ext cx="5511960" cy="5867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720" y="1447560"/>
            <a:ext cx="670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ля осуществления валютного контроля внешнеэкономической деятельности создается специальный механизм, который включает специальные инструменты осуществления контроля, фирмы, методы и инструменты его повеления. В России этот механизм имеет следующую структуру. Рис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Object 6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7467480" cy="59562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8"/>
          <p:cNvSpPr/>
          <p:nvPr/>
        </p:nvSpPr>
        <p:spPr>
          <a:xfrm>
            <a:off x="3035160" y="5119200"/>
            <a:ext cx="32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.2. Валютный контроль 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228240"/>
            <a:ext cx="6397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алютное регулирование существует во всех странах. В России оно осуществляется в соответствии с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коном РФ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от 9 октября 1992 г. № 3615-1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«О валютном регулировании и валютном контроле р РФ»,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й определя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инципы проведения валютных операции 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олномочия и функции органов и агентов валютного      регулирования и валю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права и обязанности юридических и физических лиц в отношении владения, пользования и распоряжения валютными цен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* меру ответственности за нарушение валютного законодатель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йствие Закона – юридическая основа создания национальной валютной системы Р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новной элемент национальной валютной системы – национальная валюта. Закон дает четкое определение самого понятия «национальная российская валюта». Так, к «валюте Российской Федерации» относя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_ находящиеся в обращении, а также изъятые или изымаемые из обращения, но подлежащие обмену рубли в виде банковских билетов (банкнот) ЦБ РФ и моне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32Z</dcterms:modified>
  <cp:revision>11</cp:revision>
  <dc:subject/>
  <dc:title>Валютный контро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04000000000001024140</vt:lpwstr>
  </property>
  <property fmtid="{D5CDD505-2E9C-101B-9397-08002B2CF9AE}" pid="3" name="Version">
    <vt:r8>1</vt:r8>
  </property>
</Properties>
</file>