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5B49-A282-4562-BCC2-3BD11CF5AE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5BE-9C03-4185-ACC2-5B8A9B91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23F-3255-4397-8E25-3B7EE83D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C73-B7FE-41CE-84AD-06323915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D2EA-F7BC-4F91-B9C6-5D0E39E1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A629-051C-49C9-9E56-A5C30B4D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4A05-F9F3-44AB-B401-F86F540E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D358-BE0E-4DE5-9754-5DB89917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B625-055B-47E6-9C85-452126E0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B7DB-1BDD-451F-AD9B-C265A864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5BEC-8D4F-43FD-9022-CA1B99B5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A542-C840-4961-8BE6-C777D227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184-8633-471B-9254-FF527DE8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D249-F982-4669-8BBB-05B07C30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4499-4BD2-4F47-909A-C298AB1B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5D19-60E3-438D-82D2-2355190D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8389-BE4A-48AB-83D9-C27BDA63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E784-ED58-47F2-A1F2-24FC507E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27F-7122-417A-942A-7580D10F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804-D031-41AA-862E-11670BA3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AF3-08AB-46DE-A719-56F2FBFE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63B-0F26-40A9-96CF-9CF1D3A6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FF1-2794-4460-8A3F-032582B4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9D3-921C-44F0-B180-169023B7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F20-4EFB-4272-8978-D9B07CB2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d7446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2B6D-1FB6-4A2D-B11F-75BECF0E40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D477-A2F4-4657-85E5-B83A2E2797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hiller"/>
              </a:rPr>
              <a:t>Валютное регулирование и валютный контроль</a:t>
            </a:r>
            <a:endParaRPr b="0" lang="en-US" sz="4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19160" y="759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 Иностранная валюта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Валютные операции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743200" y="152280"/>
            <a:ext cx="5943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за пределами РФ филиалы и представительства 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не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в РФ филиалы и представительства не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4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Становление валютного контроля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397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endParaRPr b="0" lang="en-US" sz="2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5640" y="152280"/>
            <a:ext cx="6705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Эффективность и границы валют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уществует два подхода к оценке эффективности: затратный и результатив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Затратный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87804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7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533160" cy="287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590560" y="4800600"/>
            <a:ext cx="6397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н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объем предотвращенного нелегального движения капитал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затраты на осуществление валютного контроля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38280" y="304920"/>
            <a:ext cx="647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Олк – объем легального движения капит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нлк – объем нелегального движения капит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4" descr=""/>
          <p:cNvPicPr/>
          <p:nvPr/>
        </p:nvPicPr>
        <p:blipFill>
          <a:blip r:embed="rId1"/>
          <a:stretch/>
        </p:blipFill>
        <p:spPr>
          <a:xfrm>
            <a:off x="3808440" y="2763720"/>
            <a:ext cx="1220760" cy="611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90560" y="4495320"/>
            <a:ext cx="63975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639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рганизация валютного контроля в РФ</a:t>
            </a: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61960" y="1218960"/>
            <a:ext cx="6397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и направлениями валютного контроля в России явля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обоснованности платежей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полноты и объективности учета и отчетности по валютным операц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6397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ункции органов валютного контроля в РФ</a:t>
            </a:r>
            <a:endParaRPr b="0" lang="en-US" sz="20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лавные территориальные управления Банка Росс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ают заключения по запросам уполномоченных бан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Запрашивают разъяснения Банка России по спорным либо неурегулированным вопро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правляют соответствующие предложения от своего имени в Банк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361960" y="22860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уществление межотраслевой координ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ff"/>
                </a:solidFill>
                <a:latin typeface="Comic Sans MS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алютное регулирование</a:t>
            </a:r>
            <a:br>
              <a:rPr sz="2400"/>
            </a:b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9720" y="990720"/>
            <a:ext cx="6551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Валютное регулирование в широком смысл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понятия «валютное регулирование» многообразно. Это по существу совокупность таких процессов, как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деятельность государственных органов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правлению обращением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контроль государства за валют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ерациями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воздействие на курс национальной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ограничение использования иностранной валют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совокупность законодательных, административны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кономических и организационных мероприятий,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ределяющих порядок проведения операций с валютными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ценностями.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439720" y="30492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Функции государств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в сфере валютного регулирования, как правило, включают в себя: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накапливание статистических данных о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кспорте из страны и импорте в стра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улирование вывоза из страны стратег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ырь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ламентирование ввоза или вывоза национ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ы из страны, куплю-продажу ценных бума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покупка резидентами и нерезидентами недвиж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 территории страны или за её предела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определение курса валюты данной страны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тношению к прочим валют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улирование порядка проведения операций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ламентирование порядка репатриации прибы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енной от проведения экспортных опера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ая политик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743200" y="15192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может бы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ямым и косвен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ям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Косвен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иберальным или ограничитель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Либера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граничите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2362320" y="152280"/>
            <a:ext cx="66294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3" descr=""/>
          <p:cNvPicPr/>
          <p:nvPr/>
        </p:nvPicPr>
        <p:blipFill>
          <a:blip r:embed="rId1"/>
          <a:stretch/>
        </p:blipFill>
        <p:spPr>
          <a:xfrm>
            <a:off x="2882880" y="228600"/>
            <a:ext cx="5511960" cy="5867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133720" y="1447560"/>
            <a:ext cx="6703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6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7467480" cy="5956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035160" y="5119200"/>
            <a:ext cx="32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.2. Валютный контроль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38280" y="22824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существует во всех странах. В России оно осуществляется в соответствии с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коном РФ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т 9 октября 1992 г. № 3615-1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О валютном регулировании и валютном контроле р РФ»,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торый определя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инципы проведения валютных операции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меру ответственности за нарушение валютного законодатель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ействие Закона – юридическая основа создания национальной валютной систем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32Z</dcterms:modified>
  <cp:revision>11</cp:revision>
  <dc:subject/>
  <dc:title>Валютный контро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4000000000001024140</vt:lpwstr>
  </property>
  <property fmtid="{D5CDD505-2E9C-101B-9397-08002B2CF9AE}" pid="3" name="Version">
    <vt:r8>1</vt:r8>
  </property>
</Properties>
</file>