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6843-2704-46CC-BFC7-D39812C5078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и валютн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и валют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Иностранная валюта»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ютные операции»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Иностранная валюта»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алютные операции»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дящиеся за пределами РФ филиалы и представительства резиден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е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дящиеся в РФ филиалы и представительства нерезиден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ходящиеся за пределами РФ филиалы и представительства резиден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е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ходящиеся в РФ филиалы и представительства нерезиден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овление валютного контроля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овление валютного контроля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 границы валютн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два подхода к оценке эффективности: затратный и результатив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ный  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пнк – объем предотвращенного нелегального движения капита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Звк – затраты на осуществление валютного контр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 границы валютного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два подхода к оценке эффективности: затратный и результатив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ный  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Опнк – объем предотвращенного нелегального движения капита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Звк – затраты на осуществление валютного контро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лк – объем легального движения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лк – объем нелегального движ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Олк – объем легального движения капит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лк – объем нелегального движ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направлениями валютного контроля в России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обоснованности платежей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полноты и объективности учета и отчетности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направлениями валютного контроля в России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обоснованности платежей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полноты и объективности учета и отчетности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органов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территориальные управления Банка Росс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ют заключения по запросам уполномоченных ба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ашивают разъяснения Банка России по спорным либо неурегулированным вопрос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яют соответствующие предложения от своего имени в Банк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органов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е территориальные управления Банка Росс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ют заключения по запросам уполномоченных бан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ашивают разъяснения Банка России по спорным либо неурегулированным вопрос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яют соответствующие предложения от своего имени в Банк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межотраслевой коорд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межотраслевой координ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в широком смысле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понятия «валютное регулирование» многообразно. Это по существу совокупность таких процессов, ка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деятельность государственных органов п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ю обращением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контроль государства за валют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ями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воздействие на курс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ограничение использования иностранной валю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совокупность законодательных, административ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и организационных мероприятий,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щих порядок проведения операций с валютными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ями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в широком смысле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онятия «валютное регулирование» многообразно. Это по существу совокупность таких процессов, как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деятельность государственных органов 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ю обращением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контроль государства за валют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ями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воздействие на курс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ограничение использования иностранной валю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совокупность законодательных, административны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х и организационных мероприятий,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щих порядок проведения операций с валютными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ями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государства  в сфере валютного регулирования, как правило, включают в себя: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накапливание статистических данных об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 из страны и импорте в ст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регулирование вывоза из страны стратег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р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регламентирование ввоза или вывоза национ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ы из страны, куплю-продажу ценных бум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покупка резидентами и нерезидентами недвиж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рритории страны или за её предел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определение курса валюты данной страны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ю к прочим валют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 регулирование порядка проведения операций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 регламентирование порядка репатриации прибыл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ой от проведения экспортных опер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государства  в сфере валютного регулирования, как правило, включают в себя: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накапливание статистических данных об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е из страны и импорте в стран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регулирование вывоза из страны стратегиче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рь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регламентирование ввоза или вывоза национа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ы из страны, куплю-продажу ценных бума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покупка резидентами и нерезидентами недвиж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рритории страны или за её предел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определение курса валюты данной страны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ю к прочим валют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 регулирование порядка проведения операций 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 регламентирование порядка репатриации прибы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й от проведения экспортных опер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политика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може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м и косве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е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ое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ьным или ограничи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ьное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ельное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может бы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м и косве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ое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ое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ьным или огранич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ьное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ительное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2. Валютный контроль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2. Валютный контроль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существует во всех странах. В России оно осуществляется в соответствии с Законом РФ от 9 октября 1992 г. № 3615-1 «О валютном регулировании и валютном контроле р РФ», который опреде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инципы проведения валютных операции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еру ответственности за нарушение валю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Закона – юридическая основа создания национальной валютной системы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существует во всех странах. В России оно осуществляется в соответствии с Законом РФ от 9 октября 1992 г. № 3615-1 «О валютном регулировании и валютном контроле р РФ», который определя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инципы проведения валютных операции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меру ответственности за нарушение валю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Закона – юридическая основа создания национальной валютной системы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5AE-5775-4D71-BF9C-176F3F8D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8F6-1BE5-442B-A413-12B515CA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2F95-BAB4-472A-B889-55167AE7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E40-30FC-4805-90CF-118D9CA1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425E-8DEB-4A18-8E78-D0FDC025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EA35-2CB2-4CED-844F-7D4D2547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9E5C-2518-4863-A61E-F310B53C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3CF8-13A8-4D7D-B75A-4BF5579B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7B94-6102-4045-9E60-138C51C3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2ECB-566F-4E6A-BB8E-B601962F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83FA-16F4-44C6-AA5F-43A67445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F7F-9451-4096-87F4-A17EB2D6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8C49-B097-4DB1-935E-48F9DE79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13A8-1C1C-4CBC-9B22-6A3DF4A7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590F-125D-408F-A9CF-1CEB9D0B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B04F-1B1F-4E32-90F8-69B48409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1BDA-D2CB-429D-975B-5084C82E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86C-922E-47CA-A4BC-5E882D26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C23-7343-4C88-9349-C5DD0DE8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7784-F9A2-4A86-955A-F89D8400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A22-6109-4CAD-A3DE-2FF380F3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5852-02C0-4AE9-B364-5DAB2F32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4D6-23E1-4192-81DB-7A08BFDC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0FB9-318F-43A2-A3EE-F997DD06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d7446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17CD-A2EA-4A02-BE94-1747535563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64E1-F4EB-4D76-9B50-A6A2082522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76320">
            <a:solidFill>
              <a:srgbClr val="cc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hiller"/>
              </a:rPr>
              <a:t>Валютное регулирование и валютный контроль</a:t>
            </a:r>
            <a:endParaRPr b="0" lang="en-US" sz="48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819160" y="7596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средства в рублях на счетах в банках и иных кредитных учреждениях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 Иностранная валюта»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Валютные операции»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743200" y="152280"/>
            <a:ext cx="5943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 резидентам РФ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Находящиеся за пределами РФ филиалы и представительства резидентов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 нерезидентам РФ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Находящиеся в РФ филиалы и представительства нерезидентов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4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Валютный контроль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Становление валютного контроля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397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алютный контроль</a:t>
            </a:r>
            <a:endParaRPr b="0" lang="en-US" sz="28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5640" y="152280"/>
            <a:ext cx="6705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Эффективность и границы валют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уществует два подхода к оценке эффективности: затратный и результатив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Затратный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ject 4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87804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7" descr=""/>
          <p:cNvPicPr/>
          <p:nvPr/>
        </p:nvPicPr>
        <p:blipFill>
          <a:blip r:embed="rId2"/>
          <a:stretch/>
        </p:blipFill>
        <p:spPr>
          <a:xfrm>
            <a:off x="5562720" y="4267080"/>
            <a:ext cx="533160" cy="287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590560" y="4800600"/>
            <a:ext cx="6397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д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нк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объем предотвращенного нелегального движения капитал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к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затраты на осуществление валютного контроля.</a:t>
            </a:r>
            <a:endParaRPr b="0" lang="en-US" sz="1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438280" y="304920"/>
            <a:ext cx="647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де Олк – объем легального движения капит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нлк – объем нелегального движения капит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ject 4" descr=""/>
          <p:cNvPicPr/>
          <p:nvPr/>
        </p:nvPicPr>
        <p:blipFill>
          <a:blip r:embed="rId1"/>
          <a:stretch/>
        </p:blipFill>
        <p:spPr>
          <a:xfrm>
            <a:off x="3808440" y="2763720"/>
            <a:ext cx="1220760" cy="611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90560" y="4495320"/>
            <a:ext cx="63975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6397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рганизация валютного контроля в РФ</a:t>
            </a:r>
            <a:endParaRPr b="0" lang="en-US" sz="24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361960" y="1218960"/>
            <a:ext cx="63975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ыми направлениями валютного контроля в России являют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обоснованности платежей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полноты и объективности учета и отчетности по валютным операц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0"/>
            <a:ext cx="6397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ункции органов валютного контроля в РФ</a:t>
            </a:r>
            <a:endParaRPr b="0" lang="en-US" sz="20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380520"/>
            <a:ext cx="6397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лавные территориальные управления Банка Росс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ают заключения по запросам уполномоченных бан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Запрашивают разъяснения Банка России по спорным либо неурегулированным вопрос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правляют соответствующие предложения от своего имени в Банк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361960" y="228600"/>
            <a:ext cx="6397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уществление межотраслевой координ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ff"/>
                </a:solidFill>
                <a:latin typeface="Comic Sans MS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Валютное регулирование</a:t>
            </a:r>
            <a:br>
              <a:rPr sz="2400"/>
            </a:br>
            <a:endParaRPr b="0" lang="en-US" sz="24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9720" y="990720"/>
            <a:ext cx="65516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Валютное регулирование в широком смысле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понятия «валютное регулирование» многообразно. Это по существу совокупность таких процессов, как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деятельность государственных органов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управлению обращением валю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контроль государства за валют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перациями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воздействие на курс национальной валю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ограничение использования иностранной валют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совокупность законодательных, административны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кономических и организационных мероприятий,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пределяющих порядок проведения операций с валютными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ценностями.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439720" y="304920"/>
            <a:ext cx="6397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Функции государств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в сфере валютного регулирования, как правило, включают в себя: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накапливание статистических данных о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экспорте из страны и импорте в стран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регулирование вывоза из страны стратегиче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ырь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регламентирование ввоза или вывоза национ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ы из страны, куплю-продажу ценных бума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покупка резидентами и нерезидентами недвиж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 территории страны или за её предела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определение курса валюты данной страны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тношению к прочим валют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 регулирование порядка проведения операций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езидентами и нерезиден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 регламентирование порядка репатриации прибы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лученной от проведения экспортных опера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Валютная политик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743200" y="15192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может бы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ямым и косвен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ям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Косвен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иберальным или ограничитель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Либераль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граничитель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2362320" y="152280"/>
            <a:ext cx="662940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3" descr=""/>
          <p:cNvPicPr/>
          <p:nvPr/>
        </p:nvPicPr>
        <p:blipFill>
          <a:blip r:embed="rId1"/>
          <a:stretch/>
        </p:blipFill>
        <p:spPr>
          <a:xfrm>
            <a:off x="2882880" y="228600"/>
            <a:ext cx="5511960" cy="5867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133720" y="1447560"/>
            <a:ext cx="6703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6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7467480" cy="5956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3035160" y="5119200"/>
            <a:ext cx="32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.2. Валютный контроль 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438280" y="228240"/>
            <a:ext cx="6397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существует во всех странах. В России оно осуществляется в соответствии с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аконом РФ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от 9 октября 1992 г. № 3615-1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О валютном регулировании и валютном контроле р РФ»,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торый определя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ринципы проведения валютных операции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меру ответственности за нарушение валютного законодатель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ействие Закона – юридическая основа создания национальной валютной системы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32Z</dcterms:modified>
  <cp:revision>11</cp:revision>
  <dc:subject/>
  <dc:title>Валютный контро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04000000000001024140</vt:lpwstr>
  </property>
  <property fmtid="{D5CDD505-2E9C-101B-9397-08002B2CF9AE}" pid="3" name="Version">
    <vt:r8>1</vt:r8>
  </property>
</Properties>
</file>