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5927-0449-4FCE-A5F8-2641E4D1B7C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и валютный 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и валютный 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 средства в рублях на счетах в банках и иных кредитных учреждениях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 средства в рублях на счетах в банках и иных кредитных учреждениях за пределами РФ (на основании межправительственных соглашений  об использовании валюты РФ на территории данного государств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 платежные документы(чеки, векселя, аккредитивы и др.), фондовые ценности (акции, облигации), другие долговые обязательства, выраженные в руб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внешнеэкономические связи предполагают обмен национальной валюты на иностран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 Иностранная валюта» - это денежные знаки в виде банкнот, казначейских билетов, монет, находящиеся в обращении и являющиеся законным платежным средством в соответствующем государстве, а также средства на счетах в денежных единицах иностранных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алютные операции» определены как операции, которые связаны с переходом права собственности и иных прав на валютные ценности, в том числе использование в качестве средства платежа ценных бумаг в иностранной валюте; ввоз и пересылка в РФ и из РФ валютных ценностей, международные денежные переводы, а также операции, в которых участвуют нерезиденты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 средства в рублях на счетах в банках и иных кредитных учреждениях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 средства в рублях на счетах в банках и иных кредитных учреждениях за пределами РФ (на основании межправительственных соглашений  об использовании валюты РФ на территории данного государст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 платежные документы(чеки, векселя, аккредитивы и др.), фондовые ценности (акции, облигации), другие долговые обязательства, выраженные в рубл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внешнеэкономические связи предполагают обмен национальной валюты на иностранну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Иностранная валюта» - это денежные знаки в виде банкнот, казначейских билетов, монет, находящиеся в обращении и являющиеся законным платежным средством в соответствующем государстве, а также средства на счетах в денежных единицах иностранных государ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алютные операции» определены как операции, которые связаны с переходом права собственности и иных прав на валютные ценности, в том числе использование в качестве средства платежа ценных бумаг в иностранной валюте; ввоз и пересылка в РФ и из РФ валютных ценностей, международные денежные переводы, а также операции, в которых участвуют нерезиденты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резидентам РФ относ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изические лица, имеющие постоянное место жительства в РФ, в том числе временно находящиеся за пределами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Юридические лица, созданные в соответствии с законодательством РФ, с местонахождением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едприятия и организации, не являющиеся юридическими лицами, созданные в соответствии с законодательством РФ, с местонахождением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ходящиеся за пределами РФ филиалы и представительства резиденто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нерезидентам РФ относ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изические лица, имеющие постоянное место жительства за пределами РФ, в том числе временно находящиеся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Юридические лица, созданные в соответствии с законодательством иностранных государств, с местонахождением за пределами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едприятия и организации, не являющиеся юридическими лицами, созданные в соответствии с законодательством иностранных государств, с местонахождением за пределами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ходящиеся в РФ филиалы и представительства нерезиденто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резидентам РФ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изические лица, имеющие постоянное место жительства в РФ, в том числе временно находящиеся за пределами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Юридические лица, созданные в соответствии с законодательством РФ, с местонахождением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приятия и организации, не являющиеся юридическими лицами, созданные в соответствии с законодательством РФ, с местонахождением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ходящиеся за пределами РФ филиалы и представительства резидентов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нерезидентам РФ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изические лица, имеющие постоянное место жительства за пределами РФ, в том числе временно находящиеся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Юридические лица, созданные в соответствии с законодательством иностранных государств, с местонахождением за пределами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приятия и организации, не являющиеся юридическими лицами, созданные в соответствии с законодательством иностранных государств, с местонахождением за пределами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ходящиеся в РФ филиалы и представительства нерезидентов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онтроль – это контроль за проведением валютных операций в целях их приведения в соответствие с нормами и требованиями, предъявляемыми действующим законодатель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овление валютного контроля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перехода российского государства к рыночным отношениям в экономике обусловил необходимость интеграции страны в мировое экономическое хозяйство и, следовательно, послужил катализатором резкого усиления и развития внешнеторговых связей. Начиная с 1986 г. практически все субъекты хозяйственной деятельности получили право прямого выхода на внешние рынки и распоряжения заработанной иностранной валютой. При этом по мере развития совместного предпринимательства с участием иностранного капитала число участников внешнеэкономической деятельности (ВЭД) постоянно возраста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91 г. был принят Закон СССР « О валютном регулировании и валютном контроле» (в 1992 г.- Закон РФ). Этим Законом в качестве основного органа валютного регулирования определен Государственный (в РФ - Центральный) банк, что соответствует практике большинства стран мира. Был введен институт агентов валютного контроля. Законом были установлены также основные принципы проведения операций с иностранной валютой. Аукционная торговля иностранной валютой стала лицензиров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я с 1991 г. получили лицензии на организацию биржевых операций с иностранной валютой 8 валютных бир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онтроль – это контроль за проведением валютных операций в целях их приведения в соответствие с нормами и требованиями, предъявляемыми действующим законодатель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овление валютного контроля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перехода российского государства к рыночным отношениям в экономике обусловил необходимость интеграции страны в мировое экономическое хозяйство и, следовательно, послужил катализатором резкого усиления и развития внешнеторговых связей. Начиная с 1986 г. практически все субъекты хозяйственной деятельности получили право прямого выхода на внешние рынки и распоряжения заработанной иностранной валютой. При этом по мере развития совместного предпринимательства с участием иностранного капитала число участников внешнеэкономической деятельности (ВЭД) постоянно возраста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91 г. был принят Закон СССР « О валютном регулировании и валютном контроле» (в 1992 г.- Закон РФ). Этим Законом в качестве основного органа валютного регулирования определен Государственный (в РФ - Центральный) банк, что соответствует практике большинства стран мира. Был введен институт агентов валютного контроля. Законом были установлены также основные принципы проведения операций с иностранной валютой. Аукционная торговля иностранной валютой стала лицензирова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иная с 1991 г. получили лицензии на организацию биржевых операций с иностранной валютой 8 валютных бирж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можно говорить о том, что только США, ФРГ, Великобритания, Италия и Франция, а с недавнего времени и Япония практически не имеют валютных огранич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и границы валютного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онтроль со своими положительными и отрицательными сторонами может по-разному влиять на экономику, а его применение может иметь больший или меньший эффект в виде различных количественных характеристик, являющихся показателями степени достижения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два подхода к оценке эффективности: затратный и результатив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ратный  подход предполагает оценку эффективности через отношение достигнутого результата к средствам, затраченным на его достижение. В качестве результата здесь выступают объем предотвращенного нелегального вывоза и ввоза капитала, а формула коэффициента эффективности выглядит следующим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Опнк – объем предотвращенного нелегального движения капитал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Звк – затраты на осуществление валютного контр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можно говорить о том, что только США, ФРГ, Великобритания, Италия и Франция, а с недавнего времени и Япония практически не имеют валютных огранич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 и границы валютного 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онтроль со своими положительными и отрицательными сторонами может по-разному влиять на экономику, а его применение может иметь больший или меньший эффект в виде различных количественных характеристик, являющихся показателями степени достижения ц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два подхода к оценке эффективности: затратный и результатив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ратный  подход предполагает оценку эффективности через отношение достигнутого результата к средствам, затраченным на его достижение. В качестве результата здесь выступают объем предотвращенного нелегального вывоза и ввоза капитала, а формула коэффициента эффективности выглядит следующим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Опнк – объем предотвращенного нелегального движения капитал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Звк – затраты на осуществление валютного контро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выше объемы предотвращенного нелегального движения капитала и чем ниже затраты, тем выше эффектив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ивный подход предполагает оценку эффективности через отношение «достигнутого результата» к «поставленной цели». Применительно к валютному контролю это выражается следующим образом. Поставленная цель – предотвращение нелегального движения капитала. Формула име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Олк – объем легального движения капит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лк – объем нелегального движения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ые меры контроля, в том числе и валютного, имеют свой предел. Выигрыш от валютного контроля государство получает, во-первых, за счет ограничения сроков платежей по текущим операциям и, во-вторых, за счет сокращения объема вывоза капитала, т.е. уменьшения зарубежных инвестиций и увеличения объема привлеченных капиталов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выше объемы предотвращенного нелегального движения капитала и чем ниже затраты, тем выше эффектив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ивный подход предполагает оценку эффективности через отношение «достигнутого результата» к «поставленной цели». Применительно к валютному контролю это выражается следующим образом. Поставленная цель – предотвращение нелегального движения капитала. Формула имеет ви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Олк – объем легального движения капитал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лк – объем нелегального движения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ые меры контроля, в том числе и валютного, имеют свой предел. Выигрыш от валютного контроля государство получает, во-первых, за счет ограничения сроков платежей по текущим операциям и, во-вторых, за счет сокращения объема вывоза капитала, т.е. уменьшения зарубежных инвестиций и увеличения объема привлеченных капиталовлож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алютного контроля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направлениями валютного контроля в России являю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соответствия проводимых валютных операций действующему законодательству и наличия необходимых для них лицензий и разре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выполнения резидентами обязательств в иностранной валюте перед государством, а также обязательств по продаже иностранной валюты на внутреннем валютном рынке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обоснованности платежей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полноты и объективности учета и отчетности по валютным опера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валютного контрол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направлениями валютного контроля в России являю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соответствия проводимых валютных операций действующему законодательству и наличия необходимых для них лицензий и разреш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выполнения резидентами обязательств в иностранной валюте перед государством, а также обязательств по продаже иностранной валюты на внутреннем валютном рынке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обоснованности платежей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полноты и объективности учета и отчетности по валютным операц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органов валютного контроля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 органом валютного регулирования и валютного контроля в РФ является Банк России. В его компетенцию входи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сферы и порядка обращения в РФ иностранной валюты и ценных бумаг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ание нормативных актов, обязательных к исполнению в РФ резидентами и нерезидент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правил проведения резидентами и нерезидентами в РФ операций с иностранной валютой ценными бумагами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и публикация статистики валютных операций  РФ по принятым международным стандар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территориальные управления Банка Росс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ют заключения по запросам уполномоченных бан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рашивают разъяснения Банка России по спорным либо неурегулированным вопрос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уют поступающие в их адрес предложения по совершенствованию валютного законодательства РФ по вопросам, относящимся к компетенции Банка Ро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яют соответствующие предложения от своего имени в Банк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органов валютного контрол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органом валютного регулирования и валютного контроля в РФ является Банк России. В его компетенцию входи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сферы и порядка обращения в РФ иностранной валюты и ценных бумаг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ание нормативных актов, обязательных к исполнению в РФ резидентами и нерезиден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правил проведения резидентами и нерезидентами в РФ операций с иностранной валютой ценными бумагами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и публикация статистики валютных операций  РФ по принятым международным стандар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е территориальные управления Банка Росс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ют заключения по запросам уполномоченных бан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ашивают разъяснения Банка России по спорным либо неурегулированным вопроса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ируют поступающие в их адрес предложения по совершенствованию валютного законодательства РФ по вопросам, относящимся к компетенции Банка Росс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яют соответствующие предложения от своего имени в Банк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Правительства РФ по валютному контролю выполняют в основном ГТК России, Минфин России и Министерство экономического развития и торговли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фину и Министерству по экономическому развитию и торговле России переданы следующие функции Федеральной Службы РФ по валютному и экспортному контролю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единой общегосударственной политики в области организации контроля и надзора за соблюдением законодательства РФ в сфере валютных, экспортных и иных внешнеэкономических опер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межотраслевой координ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контроля и надзора за соблюдением законодательства РФ министерствами, ведомствами, предприятиями и организациями, участвующими в регулировании и осуществлении экспортно-импортных и иных внешнеэкономически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алютном контроле участвуют и другие федеральные органы исполнительной власти; так, Федеральная служба безопасности РФ, министерство внутренних дел РФ, Служба внешней разведки РФ и Министерство обороны РФ информируют Правительство РФ о ставших им известными фактах нарушения резидентами и нерезидентами валютного и таможенного законодательства и иных нормативных актов, касающихся осуществления валютных и други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Правительства РФ по валютному контролю выполняют в основном ГТК России, Минфин России и Министерство экономического развития и торговли Росс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фину и Министерству по экономическому развитию и торговле России переданы следующие функции Федеральной Службы РФ по валютному и экспортному контролю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е единой общегосударственной политики в области организации контроля и надзора за соблюдением законодательства РФ в сфере валютных, экспортных и иных внешнеэкономических операц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ение межотраслевой координ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контроля и надзора за соблюдением законодательства РФ министерствами, ведомствами, предприятиями и организациями, участвующими в регулировании и осуществлении экспортно-импортных и иных внешнеэкономическ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алютном контроле участвуют и другие федеральные органы исполнительной власти; так, Федеральная служба безопасности РФ, министерство внутренних дел РФ, Служба внешней разведки РФ и Министерство обороны РФ информируют Правительство РФ о ставших им известными фактах нарушения резидентами и нерезидентами валютного и таможенного законодательства и иных нормативных актов, касающихся осуществления валютных и друг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в широком смысле – это регламентация государством основных принципов организации национальной валютной системы и механизмов ее функционирования. Сущность валютного регулирования заключается в создании такой системы воздействия на конвертируемость национальной валюты, валютного курса, внутреннего валютного рынка и платёжного баланса, которая отвечала бы стратегическим задачам развития национальной экономики и вместе с тем отражала бы потребности текущего мо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понятия «валютное регулирование» многообразно. Это по существу совокупность таких процессов, как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деятельность государственных органов п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ю обращением валю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контроль государства за валют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ями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воздействие на курс национальной валю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ограничение использования иностранной валю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совокупность законодательных, административны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х и организационных мероприятий,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щих порядок проведения операций с валютными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остями.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в широком смысле – это регламентация государством основных принципов организации национальной валютной системы и механизмов ее функционирования. Сущность валютного регулирования заключается в создании такой системы воздействия на конвертируемость национальной валюты, валютного курса, внутреннего валютного рынка и платёжного баланса, которая отвечала бы стратегическим задачам развития национальной экономики и вместе с тем отражала бы потребности текущего мо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понятия «валютное регулирование» многообразно. Это по существу совокупность таких процессов, как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деятельность государственных органов 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ю обращением валю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контроль государства за валют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циями;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воздействие на курс национальной валю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ограничение использования иностранной валю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совокупность законодательных, административны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х и организационных мероприятий,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щих порядок проведения операций с валютными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ями.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государства  в сфере валютного регулирования, как правило, включают в себя: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накапливание статистических данных об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е из страны и импорте в стра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регулирование вывоза из страны стратегиче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р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регламентирование ввоза или вывоза националь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ы из страны, куплю-продажу ценных бума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покупка резидентами и нерезидентами недвиж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ерритории страны или за её предел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определение курса валюты данной страны п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ю к прочим валют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 регулирование порядка проведения операций 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идентами и нерезидент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 регламентирование порядка репатриации прибыл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ой от проведения экспортных опера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формируется и во многом определяет проводимой государством валютной полит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политика – совокупность государственных мер в области внешнеэкономических связей, направленных на достижение стратегических задач и текущих целей страны, поддержание внутреннего и внешнего равнове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государства  в сфере валютного регулирования, как правило, включают в себя: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накапливание статистических данных об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рте из страны и импорте в стран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регулирование вывоза из страны стратегичес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ырь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регламентирование ввоза или вывоза националь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ы из страны, куплю-продажу ценных бума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покупка резидентами и нерезидентами недвиж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ерритории страны или за её предела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определение курса валюты данной страны п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ю к прочим валюта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 регулирование порядка проведения операций 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идентами и нерезиден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 регламентирование порядка репатриации прибыл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ой от проведения экспортных опера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формируется и во многом определяет проводимой государством валютной полити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ая политика – совокупность государственных мер в области внешнеэкономических связей, направленных на достижение стратегических задач и текущих целей страны, поддержание внутреннего и внешнего равновес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може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м и косвен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е валютное регулирование – совокупность законодательных и административных действий власти, определяющих порядок проведения операций с валютными ценност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ое валютное регулирование – совокупность экономических методов воздействия на участников внешнеэкономических связей путем создания у них экономической заинтересованности в осуществлении определенных валютных операций.  Преобладание того или иного метода валютного регулирования, определяет его характе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еральным или ограничите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еральное валютное регулирование направлено на текущую конъюнктуру валютного рынка, оно не затрагивает структурных основ валютной системы и валютного кур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тельное валютное регулирование целенаправленно воздействует на формирование валютного курса и платёжного баланса. Его законченной формой выступают валютные ограничения, т.е. законодательное или административное запрещение, лимитирование и регламентирование операций резидентов и нерезидентов с валютой и другими валютными ценност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может бы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м и косве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ое валютное регулирование – совокупность законодательных и административных действий власти, определяющих порядок проведения операций с валютными ценност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венное валютное регулирование – совокупность экономических методов воздействия на участников внешнеэкономических связей путем создания у них экономической заинтересованности в осуществлении определенных валютных операций.  Преобладание того или иного метода валютного регулирования, определяет его характе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еральным или ограничитель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еральное валютное регулирование направлено на текущую конъюнктуру валютного рынка, оно не затрагивает структурных основ валютной системы и валютного кур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ительное валютное регулирование целенаправленно воздействует на формирование валютного курса и платёжного баланса. Его законченной формой выступают валютные ограничения, т.е. законодательное или административное запрещение, лимитирование и регламентирование операций резидентов и нерезидентов с валютой и другими валютными ценност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валютных ограничений разнообразны: ограничение или запрет на экспорт капитала, блокирование счетов нерезидентов, множественность валютных курс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осуществляется государством посредством использования определенных инструментов, которые представляют собой конкретные организационные и экономические меры, с помощью которых государство воздействует на соотношение спроса и предложения на иностранную  валюту внутри страны и на состояние её платежного баланса. Содержание инструментов и механизм их использования формируются под определённым воздействием реальной макроэкономической ситуации, целей микроэкономической политики и действующего в стране законодательства. Так, к инструментам валютного регулирования относятся применяемые правительством квоты, устанавливаемые лимиты, вводимые штрафные санкции, валютные интервенци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осуществляется посредством механизма валютного контроля. Валютный контроль – это система мер по обеспечению исполнения законов, норм и правил проведения валютных операций, установленных государством.  По существу, валютный контроль обеспечивает эффективность валютного регулирования и поэтому является его составной частью. Взаимодействие и взаимосвязи инструментов и методов валютного регулирования и валютного контроля представлены на рис.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валютных ограничений разнообразны: ограничение или запрет на экспорт капитала, блокирование счетов нерезидентов, множественность валютных курсов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осуществляется государством посредством использования определенных инструментов, которые представляют собой конкретные организационные и экономические меры, с помощью которых государство воздействует на соотношение спроса и предложения на иностранную  валюту внутри страны и на состояние её платежного баланса. Содержание инструментов и механизм их использования формируются под определённым воздействием реальной макроэкономической ситуации, целей микроэкономической политики и действующего в стране законодательства. Так, к инструментам валютного регулирования относятся применяемые правительством квоты, устанавливаемые лимиты, вводимые штрафные санкции, валютные интервенции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осуществляется посредством механизма валютного контроля. Валютный контроль – это система мер по обеспечению исполнения законов, норм и правил проведения валютных операций, установленных государством.  По существу, валютный контроль обеспечивает эффективность валютного регулирования и поэтому является его составной частью. Взаимодействие и взаимосвязи инструментов и методов валютного регулирования и валютного контроля представлены на рис.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существления валютного контроля внешнеэкономической деятельности создается специальный механизм, который включает специальные инструменты осуществления контроля, фирмы, методы и инструменты его повеления. В России этот механизм имеет следующую структуру. Рис.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существления валютного контроля внешнеэкономической деятельности создается специальный механизм, который включает специальные инструменты осуществления контроля, фирмы, методы и инструменты его повеления. В России этот механизм имеет следующую структуру. Рис.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.2. Валютный контроль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2. Валютный контроль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существует во всех странах. В России оно осуществляется в соответствии с Законом РФ от 9 октября 1992 г. № 3615-1 «О валютном регулировании и валютном контроле р РФ», который опреде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принципы проведения валютных операции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полномочия и функции органов и агентов валютного      регулирования и валютного контро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права и обязанности юридических и физических лиц в отношении владения, пользования и распоряжения валютными ценност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меру ответственности за нарушение валютного законода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Закона – юридическая основа создания национальной валютной системы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элемент национальной валютной системы – национальная валюта. Закон дает четкое определение самого понятия «национальная российская валюта». Так, к «валюте Российской Федерации» относ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 находящиеся в обращении, а также изъятые или изымаемые из обращения, но подлежащие обмену рубли в виде банковских билетов (банкнот) ЦБ РФ и моне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существует во всех странах. В России оно осуществляется в соответствии с Законом РФ от 9 октября 1992 г. № 3615-1 «О валютном регулировании и валютном контроле р РФ», который определя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принципы проведения валютных операции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полномочия и функции органов и агентов валютного      регулирования и валютного контро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права и обязанности юридических и физических лиц в отношении владения, пользования и распоряжения валютными ценност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меру ответственности за нарушение валютного законод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 Закона – юридическая основа создания национальной валютной системы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элемент национальной валютной системы – национальная валюта. Закон дает четкое определение самого понятия «национальная российская валюта». Так, к «валюте Российской Федерации»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 находящиеся в обращении, а также изъятые или изымаемые из обращения, но подлежащие обмену рубли в виде банковских билетов (банкнот) ЦБ РФ и моне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38BF-851C-4C75-879E-3561A4763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3C2A-0F3A-4674-B264-BC245992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774D-43FB-47B6-873B-163AA84B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2AA0-FCD2-44F5-A2CD-148ACE518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9719-AAC8-42EE-A82F-C8642F68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8511-29A9-43C4-9B8B-D180750F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C4A1-C55E-4576-8202-59AE2913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69FE-0C20-48FD-9F78-20DED8F0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E7E1-56C5-4BC5-9D6B-7067840E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225A-382B-4D31-A59C-3039E754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8205-3F22-4D37-B9FE-46267BD7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7C81-B7E6-42D3-A1C1-E5272499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7583-EBAD-49DA-8A68-208DC440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3D2E-A763-4999-B5C0-22859D31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9486-CDD3-4939-958A-BCB067AC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93D9-5919-4D12-B0FA-48A81A4BB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7E29-03FF-40F9-ADDF-0CA07844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AF4E-7DFB-4431-9D59-68FA04D2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48CE-DE2A-422C-BFF3-6DD54F52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65BA-A156-4357-BD06-5C91A31E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0ED9-332A-4A9C-B1CE-01938E9D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5C0C-F542-4B7E-B5C5-4094808F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099C-A6B0-4F08-AB64-9DD7917E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717B-4153-445A-B3AD-F9D48108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d7446"/>
                </a:gs>
                <a:gs pos="100000">
                  <a:srgbClr val="cc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53BF-ABC8-4D3E-AC1D-F67584F9683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B206-6730-4298-9856-35F3C649FBF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noFill/>
          <a:ln w="76320">
            <a:solidFill>
              <a:srgbClr val="cc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hiller"/>
              </a:rPr>
              <a:t>Валютное регулирование и валютный контроль</a:t>
            </a:r>
            <a:endParaRPr b="0" lang="en-US" sz="48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819160" y="75960"/>
            <a:ext cx="6172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 средства в рублях на счетах в банках и иных кредитных учреждениях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 средства в рублях на счетах в банках и иных кредитных учреждениях за пределами РФ (на основании межправительственных соглашений  об использовании валюты РФ на территории данного государства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 платежные документы(чеки, векселя, аккредитивы и др.), фондовые ценности (акции, облигации), другие долговые обязательства, выраженные в рубл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скольку внешнеэкономические связи предполагают обмен национальной валюты на иностранну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« Иностранная валюта»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- это денежные знаки в виде банкнот, казначейских билетов, монет, находящиеся в обращении и являющиеся законным платежным средством в соответствующем государстве, а также средства на счетах в денежных единицах иностранных государ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«Валютные операции»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определены как операции, которые связаны с переходом права собственности и иных прав на валютные ценности, в том числе использование в качестве средства платежа ценных бумаг в иностранной валюте; ввоз и пересылка в РФ и из РФ валютных ценностей, международные денежные переводы, а также операции, в которых участвуют нерезиденты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743200" y="152280"/>
            <a:ext cx="5943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К резидентам РФ относя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Физические лица, имеющие постоянное место жительства в РФ, в том числе временно находящиеся за пределами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Юридические лица, созданные в соответствии с законодательством РФ, с местонахождением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Предприятия и организации, не являющиеся юридическими лицами, созданные в соответствии с законодательством РФ, с местонахождением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Находящиеся за пределами РФ филиалы и представительства резидентов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К нерезидентам РФ относя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Физические лица, имеющие постоянное место жительства за пределами РФ, в том числе временно находящиеся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Юридические лица, созданные в соответствии с законодательством иностранных государств, с местонахождением за пределами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Предприятия и организации, не являющиеся юридическими лицами, созданные в соответствии с законодательством иностранных государств, с местонахождением за пределами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Находящиеся в РФ филиалы и представительства нерезидентов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440" y="609480"/>
            <a:ext cx="7086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Валютный контроль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– это контроль за проведением валютных операций в целях их приведения в соответствие с нормами и требованиями, предъявляемыми действующим законодательст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Становление валютного контроля в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цесс перехода российского государства к рыночным отношениям в экономике обусловил необходимость интеграции страны в мировое экономическое хозяйство и, следовательно, послужил катализатором резкого усиления и развития внешнеторговых связей. Начиная с 1986 г. практически все субъекты хозяйственной деятельности получили право прямого выхода на внешние рынки и распоряжения заработанной иностранной валютой. При этом по мере развития совместного предпринимательства с участием иностранного капитала число участников внешнеэкономической деятельности (ВЭД) постоянно возрастал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 1991 г. был принят Закон СССР « О валютном регулировании и валютном контроле» (в 1992 г.- Закон РФ). Этим Законом в качестве основного органа валютного регулирования определен Государственный (в РФ - Центральный) банк, что соответствует практике большинства стран мира. Был введен институт агентов валютного контроля. Законом были установлены также основные принципы проведения операций с иностранной валютой. Аукционная торговля иностранной валютой стала лицензирова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чиная с 1991 г. получили лицензии на организацию биржевых операций с иностранной валютой 8 валютных бирж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397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Валютный контроль</a:t>
            </a:r>
            <a:endParaRPr b="0" lang="en-US" sz="28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85640" y="152280"/>
            <a:ext cx="67057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 настоящее время можно говорить о том, что только США, ФРГ, Великобритания, Италия и Франция, а с недавнего времени и Япония практически не имеют валютных огранич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Эффективность и границы валют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алютный контроль со своими положительными и отрицательными сторонами может по-разному влиять на экономику, а его применение может иметь больший или меньший эффект в виде различных количественных характеристик, являющихся показателями степени достижения це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Существует два подхода к оценке эффективности: затратный и результатив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Затратный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одход предполагает оценку эффективности через отношение достигнутого результата к средствам, затраченным на его достижение. В качестве результата здесь выступают объем предотвращенного нелегального вывоза и ввоза капитала, а формула коэффициента эффективности выглядит следующим образо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Object 4" descr=""/>
          <p:cNvPicPr/>
          <p:nvPr/>
        </p:nvPicPr>
        <p:blipFill>
          <a:blip r:embed="rId1"/>
          <a:stretch/>
        </p:blipFill>
        <p:spPr>
          <a:xfrm>
            <a:off x="6172200" y="4038480"/>
            <a:ext cx="878040" cy="121932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7" descr=""/>
          <p:cNvPicPr/>
          <p:nvPr/>
        </p:nvPicPr>
        <p:blipFill>
          <a:blip r:embed="rId2"/>
          <a:stretch/>
        </p:blipFill>
        <p:spPr>
          <a:xfrm>
            <a:off x="5562720" y="4267080"/>
            <a:ext cx="533160" cy="2872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2590560" y="4800600"/>
            <a:ext cx="63975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де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нк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объем предотвращенного нелегального движения капитала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к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затраты на осуществление валютного контроля.</a:t>
            </a:r>
            <a:endParaRPr b="0" lang="en-US" sz="1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438280" y="304920"/>
            <a:ext cx="647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Чем выше объемы предотвращенного нелегального движения капитала и чем ниже затраты, тем выше эффектив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езультативный подход предполагает оценку эффективности через отношение «достигнутого результата» к «поставленной цели». Применительно к валютному контролю это выражается следующим образом. Поставленная цель – предотвращение нелегального движения капитала. Формула имеет вид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де Олк – объем легального движения капита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нлк – объем нелегального движения капит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Object 4" descr=""/>
          <p:cNvPicPr/>
          <p:nvPr/>
        </p:nvPicPr>
        <p:blipFill>
          <a:blip r:embed="rId1"/>
          <a:stretch/>
        </p:blipFill>
        <p:spPr>
          <a:xfrm>
            <a:off x="3808440" y="2763720"/>
            <a:ext cx="1220760" cy="611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590560" y="4495320"/>
            <a:ext cx="639756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юбые меры контроля, в том числе и валютного, имеют свой предел. Выигрыш от валютного контроля государство получает, во-первых, за счет ограничения сроков платежей по текущим операциям и, во-вторых, за счет сокращения объема вывоза капитала, т.е. уменьшения зарубежных инвестиций и увеличения объема привлеченных капиталовложений.</a:t>
            </a:r>
            <a:endParaRPr b="0" lang="en-US" sz="1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14240" y="151920"/>
            <a:ext cx="6397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рганизация валютного контроля в РФ</a:t>
            </a:r>
            <a:endParaRPr b="0" lang="en-US" sz="24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361960" y="1218960"/>
            <a:ext cx="63975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сновными направлениями валютного контроля в России являютс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пределение соответствия проводимых валютных операций действующему законодательству и наличия необходимых для них лицензий и разреш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верка выполнения резидентами обязательств в иностранной валюте перед государством, а также обязательств по продаже иностранной валюты на внутреннем валютном рынке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верка обоснованности платежей в иностранной валю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верка полноты и объективности учета и отчетности по валютным операц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0"/>
            <a:ext cx="6397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Функции органов валютного контроля в РФ</a:t>
            </a:r>
            <a:endParaRPr b="0" lang="en-US" sz="20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8280" y="380520"/>
            <a:ext cx="63979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сновным органом валютного регулирования и валютного контроля в РФ является Банк России. В его компетенцию входи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пределение сферы и порядка обращения в РФ иностранной валюты и ценных бумаг в иностранной валю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здание нормативных актов, обязательных к исполнению в РФ резидентами и нерезидент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становление правил проведения резидентами и нерезидентами в РФ операций с иностранной валютой ценными бумагами в иностранной валю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дготовка и публикация статистики валютных операций  РФ по принятым международным стандарт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лавные территориальные управления Банка Росси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ают заключения по запросам уполномоченных бан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Запрашивают разъяснения Банка России по спорным либо неурегулированным вопрос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Анализируют поступающие в их адрес предложения по совершенствованию валютного законодательства РФ по вопросам, относящимся к компетенции Банка Росс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правляют соответствующие предложения от своего имени в Банк Ро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361960" y="228600"/>
            <a:ext cx="63975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Функции Правительства РФ по валютному контролю выполняют в основном ГТК России, Минфин России и Министерство экономического развития и торговли Росс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инфину и Министерству по экономическому развитию и торговле России переданы следующие функции Федеральной Службы РФ по валютному и экспортному контролю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ведение единой общегосударственной политики в области организации контроля и надзора за соблюдением законодательства РФ в сфере валютных, экспортных и иных внешнеэкономических опера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существление межотраслевой координ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беспечение контроля и надзора за соблюдением законодательства РФ министерствами, ведомствами, предприятиями и организациями, участвующими в регулировании и осуществлении экспортно-импортных и иных внешнеэкономических опера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 валютном контроле участвуют и другие федеральные органы исполнительной власти; так, Федеральная служба безопасности РФ, министерство внутренних дел РФ, Служба внешней разведки РФ и Министерство обороны РФ информируют Правительство РФ о ставших им известными фактах нарушения резидентами и нерезидентами валютного и таможенного законодательства и иных нормативных актов, касающихся осуществления валютных и других опера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ff"/>
                </a:solidFill>
                <a:latin typeface="Comic Sans MS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Валютное регулирование</a:t>
            </a:r>
            <a:br>
              <a:rPr sz="2400"/>
            </a:br>
            <a:endParaRPr b="0" lang="en-US" sz="24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9720" y="990720"/>
            <a:ext cx="65516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Валютное регулирование в широком смысле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– это регламентация государством основных принципов организации национальной валютной системы и механизмов ее функционирования. Сущность валютного регулирования заключается в создании такой системы воздействия на конвертируемость национальной валюты, валютного курса, внутреннего валютного рынка и платёжного баланса, которая отвечала бы стратегическим задачам развития национальной экономики и вместе с тем отражала бы потребности текущего момен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Содержание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понятия «валютное регулирование» многообразно. Это по существу совокупность таких процессов, как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деятельность государственных органов 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управлению обращением валю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контроль государства за валютны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перациями;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воздействие на курс национальной валю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ограничение использования иностранной валют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совокупность законодательных, административных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экономических и организационных мероприятий,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пределяющих порядок проведения операций с валютными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ценностями.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439720" y="304920"/>
            <a:ext cx="63975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Функции государств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в сфере валютного регулирования, как правило, включают в себя: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накапливание статистических данных о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экспорте из страны и импорте в стран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регулирование вывоза из страны стратегичес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ырь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регламентирование ввоза или вывоза национа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ы из страны, куплю-продажу ценных бумаг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покупка резидентами и нерезидентами недвижим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 территории страны или за её пределам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определение курса валюты данной страны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тношению к прочим валют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 регулирование порядка проведения операций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езидентами и нерезидент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 регламентирование порядка репатриации прибыл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лученной от проведения экспортных операц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формируется и во многом определяет проводимой государством валютной полити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Валютная политик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– совокупность государственных мер в области внешнеэкономических связей, направленных на достижение стратегических задач и текущих целей страны, поддержание внутреннего и внешнего равновес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6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743200" y="151920"/>
            <a:ext cx="6400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может бы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ямым и косвен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рямое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алютное регулирование – совокупность законодательных и административных действий власти, определяющих порядок проведения операций с валютными ценност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Косвенное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алютное регулирование – совокупность экономических методов воздействия на участников внешнеэкономических связей путем создания у них экономической заинтересованности в осуществлении определенных валютных операций.  Преобладание того или иного метода валютного регулирования, определяет его характер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иберальным или ограничитель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Либеральное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алютное регулирование направлено на текущую конъюнктуру валютного рынка, оно не затрагивает структурных основ валютной системы и валютного кур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Ограничительное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алютное регулирование целенаправленно воздействует на формирование валютного курса и платёжного баланса. Его законченной формой выступают валютные ограничения, т.е. законодательное или административное запрещение, лимитирование и регламентирование операций резидентов и нерезидентов с валютой и другими валютными ценност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2362320" y="152280"/>
            <a:ext cx="662940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Формы валютных ограничений разнообразны: ограничение или запрет на экспорт капитала, блокирование счетов нерезидентов, множественность валютных курсов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осуществляется государством посредством использования определенных инструментов, которые представляют собой конкретные организационные и экономические меры, с помощью которых государство воздействует на соотношение спроса и предложения на иностранную  валюту внутри страны и на состояние её платежного баланса. Содержание инструментов и механизм их использования формируются под определённым воздействием реальной макроэкономической ситуации, целей микроэкономической политики и действующего в стране законодательства. Так, к инструментам валютного регулирования относятся применяемые правительством квоты, устанавливаемые лимиты, вводимые штрафные санкции, валютные интервенции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осуществляется посредством механизма валютного контроля. Валютный контроль – это система мер по обеспечению исполнения законов, норм и правил проведения валютных операций, установленных государством.  По существу, валютный контроль обеспечивает эффективность валютного регулирования и поэтому является его составной частью. Взаимодействие и взаимосвязи инструментов и методов валютного регулирования и валютного контроля представлены на рис.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3" descr=""/>
          <p:cNvPicPr/>
          <p:nvPr/>
        </p:nvPicPr>
        <p:blipFill>
          <a:blip r:embed="rId1"/>
          <a:stretch/>
        </p:blipFill>
        <p:spPr>
          <a:xfrm>
            <a:off x="2882880" y="228600"/>
            <a:ext cx="5511960" cy="58672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133720" y="1447560"/>
            <a:ext cx="6703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я осуществления валютного контроля внешнеэкономической деятельности создается специальный механизм, который включает специальные инструменты осуществления контроля, фирмы, методы и инструменты его повеления. В России этот механизм имеет следующую структуру. Рис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6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7467480" cy="59562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8"/>
          <p:cNvSpPr/>
          <p:nvPr/>
        </p:nvSpPr>
        <p:spPr>
          <a:xfrm>
            <a:off x="3035160" y="5119200"/>
            <a:ext cx="32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ис.2. Валютный контроль в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438280" y="228240"/>
            <a:ext cx="63979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существует во всех странах. В России оно осуществляется в соответствии с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Законом РФ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от 9 октября 1992 г. № 3615-1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«О валютном регулировании и валютном контроле р РФ»,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оторый определя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принципы проведения валютных операции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полномочия и функции органов и агентов валютного      регулирования и валютного контрол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права и обязанности юридических и физических лиц в отношении владения, пользования и распоряжения валютными ценностя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меру ответственности за нарушение валютного законодатель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ействие Закона – юридическая основа создания национальной валютной системы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сновной элемент национальной валютной системы – национальная валюта. Закон дает четкое определение самого понятия «национальная российская валюта». Так, к «валюте Российской Федерации» относя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 находящиеся в обращении, а также изъятые или изымаемые из обращения, но подлежащие обмену рубли в виде банковских билетов (банкнот) ЦБ РФ и моне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5T11:06:32Z</dcterms:modified>
  <cp:revision>11</cp:revision>
  <dc:subject/>
  <dc:title>Валютный контрол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04000000000001024140</vt:lpwstr>
  </property>
  <property fmtid="{D5CDD505-2E9C-101B-9397-08002B2CF9AE}" pid="3" name="Version">
    <vt:r8>1</vt:r8>
  </property>
</Properties>
</file>