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C542-11D2-459E-A22D-0D801EFA47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806-0C04-41AB-ACEC-22A78DC6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E05-4B27-4D88-8E45-24A01EDE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2C07-0A22-4720-B5F4-64CC41F2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F59-9818-4E47-92AB-B2FDE69A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774E-0AA5-4CD0-9979-E658B197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B4E4-D819-47F2-912D-BE76A410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4097-8EB0-4FBF-A4B1-1339F96D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20CC-0FD6-4CA4-BE35-E03F32C0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4D5C-B8F4-4384-B4CD-97E719D3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8E31-D211-4FB2-83FB-27C5F363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061-C5C9-4CFB-9C4F-B1B7FB23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87EF-D302-474D-8EB0-E9EA7FDC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1E89-D426-443F-9C70-E4A9BC1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13D1-910A-404B-9FEE-BE1E1ED4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1AFE-7A2F-4322-89D5-ED57F8DC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071C-076A-4563-965E-11A24B88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28FB-57B0-4767-A950-D8512C89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C45-57EF-4CEA-B345-715D794B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742-A0F3-44DE-B824-0C943A9E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96C-307C-4531-AB7F-289D3449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9D6-6A90-4384-832F-D177FC9E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BB7-3D39-4807-AF06-01A9AEB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0DF-3ED2-4D4D-8A4A-9AF0928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795-8545-494C-9360-0026F4FF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7446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4945-FCD4-4765-950F-9D4408451F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7390-6B61-4E2F-B2FD-11288CE86C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hiller"/>
              </a:rPr>
              <a:t>Валютное регулирование и валютный контроль</a:t>
            </a:r>
            <a:endParaRPr b="0" lang="en-US" sz="4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19160" y="759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 Иностранная валюта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Валютные операции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43200" y="152280"/>
            <a:ext cx="594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за пределами РФ филиалы и представительства 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не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в РФ филиалы и представительства не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тановление валютного контроля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397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endParaRPr b="0" lang="en-US" sz="2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5640" y="15228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Эффективность и границы валют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ет два подхода к оценке эффективности: затратный и результ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Затратный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87804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7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53316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90560" y="4800600"/>
            <a:ext cx="6397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н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объем предотвращенного нелегального движения капита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затраты на осуществление валютного контроля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7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Олк – объем легального движения капит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лк – объем нелегального движения капи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3808440" y="2763720"/>
            <a:ext cx="122076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90560" y="4495320"/>
            <a:ext cx="6397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39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валютного контроля в РФ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397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и направлениями валютного контроля в России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обоснованности платежей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полноты и объективности учета и отчетности по валютным опер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397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ункции органов валютного контроля в РФ</a:t>
            </a: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ные территориальные управления Банка Ро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ают заключения по запросам уполномоченных ба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рашивают разъяснения Банка России по спорным либо неурегулирован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авляют соответствующие предложения от своего имени в Банк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е межотраслевой коорди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Comic Sans MS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алютное регулирование</a:t>
            </a:r>
            <a:br>
              <a:rPr sz="2400"/>
            </a:b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9720" y="990720"/>
            <a:ext cx="65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Валютное регулирование в широком смысл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онятия «валютное регулирование» многообразно. Это по существу совокупность таких процессов, ка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деятельность государственных орган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правлению обращением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контроль государства за валют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ерациями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воздействие на курс национальной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ограничение использования иностранной валю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совокупность законодательных, административны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кономических и организационных мероприятий,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ределяющих порядок проведения операций с валютным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ценностями.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9720" y="30492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Функци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в сфере валютного регулирования, как правило, включают в себя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накапливание статистических данных о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кспорте из страны и импорте в стра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улирование вывоза из страны страте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ыр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ламентирование ввоза или вывоза наци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ы из страны, куплю-продажу ценных бума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покупка резидентами и нерезидентами недвиж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территории страны или за её предел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определение курса валюты данной страны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ношению к прочим валю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улирование порядка проведения операций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ламентирование порядка репатриации при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енной от проведения экспортных опер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ая полит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3200" y="1519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может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ямым и косв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освен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беральным или ограничи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бера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граничите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362320" y="152280"/>
            <a:ext cx="66294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2882880" y="228600"/>
            <a:ext cx="551196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720" y="1447560"/>
            <a:ext cx="670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467480" cy="5956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35160" y="511920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Валютный контроль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существует во всех странах. В России оно осуществл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оном РФ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т 9 октября 1992 г. № 3615-1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О валютном регулировании и валютном контроле р РФ»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й опреде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инципы проведения валютных операции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меру ответственности за нарушение валютного законода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йствие Закона – юридическая основа создания национальной валютной систем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32Z</dcterms:modified>
  <cp:revision>11</cp:revision>
  <dc:subject/>
  <dc:title>Валютный контр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4000000000001024140</vt:lpwstr>
  </property>
  <property fmtid="{D5CDD505-2E9C-101B-9397-08002B2CF9AE}" pid="3" name="Version">
    <vt:r8>1</vt:r8>
  </property>
</Properties>
</file>