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0E3C-D228-4A90-AF46-FD642C1A09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8FAD-9621-4A7C-8315-5FD0AB41DA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0D7C-A4B1-4054-8C1E-6F44DB6E93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к человеческое “я” есть деятель, который, может быть, биллионы лет назад вёл жизнь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тон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том, объединив вокруг себя несколько электронов, усвоил тип жизн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ислород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тем, усложнив ещё более своё тело, поднялся до типа жизни, например,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ристалл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од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лее перешёл к жизн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дноклеточного животног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– после ряда перевоплощений, или, лучше [сказать], выражаясь термином Лейбница, после ряда метаморфоз – стал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человеческим “я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2839-D869-4BE1-A68D-B412300E26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76FA-DAA3-4551-8B78-12D3C0E2AD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11EA-9FAF-438D-8721-5F9EF34054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Л. Франк (1877‑19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едмет знания: Об основах и пределах отвлечённого знания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уша человека: Опыт введения в философскую психологию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мысл жизн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уховные основы общества: Введение в социальную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ю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постижимое: Онтологическое введение в философию религ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9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C877-129D-4915-BBB8-3D85B45A12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Металогическое единство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2C08-8CB9-4188-8C88-B61758594D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Живое знание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A26C-CBD5-49B4-BF7C-13CC43C05A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BACE-A8A2-40D6-8D4D-6C15002873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1F22-774D-4A06-8783-1E341FFE6A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детерми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CD91-74CF-49BF-B253-84F63C1A24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ковечная борьба добра и з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6EA4-9D25-4F71-98AE-823FCC949C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D6EF-596B-4372-A35A-037A2FD268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ая философ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Ересь утопизма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72E5-5DFF-40B3-9594-CF05CF7AC8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философ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борность как основа соци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C2CA-4280-4815-A130-BB0205502F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42D2-842E-4738-A600-EADABFB581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. О. Лосский: органический идеал-ре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(интуитивизм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нциональность с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носеологическая координ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и вида интуи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р как органическое цел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. Л. Фра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алогическое един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Живое знани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детерминиз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: Вековечная борьба добра и з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циальная философ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Ересь утопизм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борность как основа социа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FB52-080B-4FCE-A31A-1EA8898F8E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. Лосский (1870-1965)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рганический идеал-реализ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основание интуитивизма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0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увственная, интеллектуальная и мистическая интуиция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г и мировое зло: Основы теодице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4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словия абсолютного добра: Основы этик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49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русской философ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5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E517-2076-46E8-918F-0E88E0851C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нтенциональность со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34F5-CB57-4D58-A121-B6835A86BB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ческая координ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1A13-0AE3-4F2D-8F88-34CA71F5E8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Три вида интуи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CC9C-8966-4563-87B8-D060A8478A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F994-BB8F-490A-8107-5E8349ADBA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F4C1-246C-41D7-AEB2-DDE661D9B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90E8-9D67-4C7E-833B-9C537F5A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860A-CEC7-4145-A6F2-8D982CD69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19C7-BC43-457F-B159-5BBF60B9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5A41-6E49-4B71-97D2-299EF2C5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1E72-C0D5-4BFD-A75C-03FA8DF6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D898-97BC-41F6-BDE7-C1094ADD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78B4-7869-4054-A9FB-740443B0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10A3-B991-432B-B403-FEF727B4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B154-373C-4728-9440-8BD21AE2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EC68-3382-4386-A46E-F6B24321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F355-18F5-406C-B6A6-D55166CF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71F7-2DC1-42F9-8460-288F61CB55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99680" y="2214720"/>
            <a:ext cx="8201160" cy="19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181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 человеческое “я” есть деятель, который, может быть, биллионы лет назад вёл жизнь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отон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том, объединив вокруг себя несколько электронов, усвоил тип жизн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ислоро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тем, усложнив ещё более своё тело, поднялся до типа жизни, например,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ристалл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о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лее перешёл к жизн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дноклеточного животн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– после ряда перевоплощений, или, лучше [сказать], выражаясь термином Лейбница, после ряда метаморфоз – стал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человеческим “я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21589901"/>
          <p:cNvPicPr/>
          <p:nvPr/>
        </p:nvPicPr>
        <p:blipFill>
          <a:blip r:embed="rId1"/>
          <a:stretch/>
        </p:blipFill>
        <p:spPr>
          <a:xfrm>
            <a:off x="5937120" y="1619280"/>
            <a:ext cx="117180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19851724"/>
          <p:cNvPicPr/>
          <p:nvPr/>
        </p:nvPicPr>
        <p:blipFill>
          <a:blip r:embed="rId2"/>
          <a:stretch/>
        </p:blipFill>
        <p:spPr>
          <a:xfrm>
            <a:off x="7521480" y="2482920"/>
            <a:ext cx="1219320" cy="1066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19930693"/>
          <p:cNvPicPr/>
          <p:nvPr/>
        </p:nvPicPr>
        <p:blipFill>
          <a:blip r:embed="rId3"/>
          <a:stretch/>
        </p:blipFill>
        <p:spPr>
          <a:xfrm>
            <a:off x="6081840" y="3201840"/>
            <a:ext cx="961920" cy="1219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25722158"/>
          <p:cNvPicPr/>
          <p:nvPr/>
        </p:nvPicPr>
        <p:blipFill>
          <a:blip r:embed="rId4"/>
          <a:stretch/>
        </p:blipFill>
        <p:spPr>
          <a:xfrm>
            <a:off x="7556400" y="3849840"/>
            <a:ext cx="1219320" cy="1066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24795109"/>
          <p:cNvPicPr/>
          <p:nvPr/>
        </p:nvPicPr>
        <p:blipFill>
          <a:blip r:embed="rId5"/>
          <a:stretch/>
        </p:blipFill>
        <p:spPr>
          <a:xfrm>
            <a:off x="6153120" y="4857840"/>
            <a:ext cx="885960" cy="1218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8" descr="Диоген (clipart)"/>
          <p:cNvPicPr/>
          <p:nvPr/>
        </p:nvPicPr>
        <p:blipFill>
          <a:blip r:embed="rId6"/>
          <a:stretch/>
        </p:blipFill>
        <p:spPr>
          <a:xfrm>
            <a:off x="7556400" y="5218200"/>
            <a:ext cx="1238400" cy="12240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"/>
          <p:cNvSpPr/>
          <p:nvPr/>
        </p:nvSpPr>
        <p:spPr>
          <a:xfrm rot="10800000">
            <a:off x="610920" y="1905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ерцание других сущн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и, какими они явля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и по себе, возможно потому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р есть некое органическое цел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познающий субъек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дивидуальное человеческое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ое сверхвременное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ерхпространственное быт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сно связанное с целым мир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Лосский (1-2red)"/>
          <p:cNvPicPr/>
          <p:nvPr/>
        </p:nvPicPr>
        <p:blipFill>
          <a:blip r:embed="rId1"/>
          <a:stretch/>
        </p:blipFill>
        <p:spPr>
          <a:xfrm>
            <a:off x="7124760" y="1798560"/>
            <a:ext cx="1590480" cy="21621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 rot="10800000">
            <a:off x="610920" y="1905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ависящая от времени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странства координа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не что и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язь сверхвременных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ерхпространственных деятел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 с друго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благодаря котор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, что переживает один деятел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воё проясн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ет не только для н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и для других деятелей всего мир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Лосский (1-2red)"/>
          <p:cNvPicPr/>
          <p:nvPr/>
        </p:nvPicPr>
        <p:blipFill>
          <a:blip r:embed="rId1"/>
          <a:stretch/>
        </p:blipFill>
        <p:spPr>
          <a:xfrm>
            <a:off x="7124760" y="1798560"/>
            <a:ext cx="1590480" cy="216216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. Франк (1877‑195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525480" y="2769840"/>
            <a:ext cx="550692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дмет знания: Об основах и пределах отвлечённого знания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ша человека: Опыт введения в философскую психологию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жизн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овные основы общества: Введение в социальную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ю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постижимое: Онтологическое введение в философию религ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9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Франк СЛ (1)"/>
          <p:cNvPicPr/>
          <p:nvPr/>
        </p:nvPicPr>
        <p:blipFill>
          <a:blip r:embed="rId1"/>
          <a:stretch/>
        </p:blipFill>
        <p:spPr>
          <a:xfrm>
            <a:off x="539640" y="1798560"/>
            <a:ext cx="259560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2" name="Text Box 7"/>
          <p:cNvSpPr/>
          <p:nvPr/>
        </p:nvSpPr>
        <p:spPr>
          <a:xfrm>
            <a:off x="449748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якое определённое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ожно мыслить лишь в е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отнесённости с каким-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е-А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о сама соотнесённость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А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и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не-А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предполагает, чт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а они являю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ленами некоего объемлющ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а,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которое должно мыслить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ерхопределённым, «трансцендентны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Это искомое единство не вмещает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рамки логической системы именно потому, чт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но само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ловие возможности 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ак таковое оно «мета-логично», точнее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но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еталогическое единство»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ли «Всеединств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Металогическое единств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бъект и предмет знания существуют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должны мыслиться на фоне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ъемлющего их «металогического единства».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знание не противостоит бытию, 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ключено 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ие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(сознанию противостоит лишь «предметный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ир» – область «объективируемого», но подлин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бытие не знает раздвоения на субъект и предме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едует отлич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мпирическое «предметное»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ние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действительности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а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абстрактное» знание логических связей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между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элементами действительности о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живого 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деальное знание приводит в систему данны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пыта, но это единство рационально и статич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есть лишь «бледный намёк» 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алогическ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единство, открывающееся в «живом знан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Живое зн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ознаваемый мир со всех сторон окружён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нас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ёмной бездной непостижимого.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ледует отличать «непостижимое для нас»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(кантовская «вещь в себе»)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Непостижимого в его самобыт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читать эту исконную таинственность быти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ледствием нашей ограниченной способности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осприятия – значит упростить проблему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звести тайну на уровень неразрешимой шар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Тогда, под предлогом «непостижимости»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абсолютного бытия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судок выхолости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ё глубинное из предметного мир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и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гонит его в прокрустово ложе своих категор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bregno_monument_of_cardinal_nicola_de_cusa"/>
          <p:cNvPicPr/>
          <p:nvPr/>
        </p:nvPicPr>
        <p:blipFill>
          <a:blip r:embed="rId1"/>
          <a:stretch/>
        </p:blipFill>
        <p:spPr>
          <a:xfrm>
            <a:off x="539640" y="2266920"/>
            <a:ext cx="2428920" cy="31813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4"/>
          <p:cNvSpPr/>
          <p:nvPr/>
        </p:nvSpPr>
        <p:spPr>
          <a:xfrm>
            <a:off x="3835800" y="2360520"/>
            <a:ext cx="442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Непостижимое постигается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осредством его непостижен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5761800" y="467820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колай Куза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2160"/>
                            </p:stCondLst>
                            <p:childTnLst>
                              <p:par>
                                <p:cTn id="5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316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епостижимое есть не только то,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что было, есть и будет, оно есть скоре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чник бытия;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о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ьше, чем бытие: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но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тенциальность, или своб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есть наиболее явное проявлени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епостижимого в мире самос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етерминизм означа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определённость одной определён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ой определённостью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о если глубина личности есть внутренне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бнаружение Непостижимого, то мы получае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определённость определён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пределённостью»,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т.е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у в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детерми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вобода воли дела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эмпирически реальны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афизически невозможное –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граниченность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илы всемогущего (Божественный Свет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е смог просветить душу Иуд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ло нельзя объяснить;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го и не нужно объяснять: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«объяснить зло» значило бы «оправдать зло», но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опустимо только такое толкование зла, которо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вляется е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личением,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а не оправда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оэтому нет никаких гарантий для торжества начал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обра и разума: борьба между добром и злом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ековечна, более того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еет смысл совершенно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зависимо от веры в конечную победу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над з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пасение мира возможно лишь силой божественной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благодати, но это отнюдь не снимает обязан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ершенствования мир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– создания в нём таких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условий, при которых зло свелось бы к миниму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ковечная борьба добра и з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165480" y="1870200"/>
            <a:ext cx="32385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. Лосский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70-1965)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. Франк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77‑19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Лосский (1-2)"/>
          <p:cNvPicPr/>
          <p:nvPr/>
        </p:nvPicPr>
        <p:blipFill>
          <a:blip r:embed="rId1"/>
          <a:stretch/>
        </p:blipFill>
        <p:spPr>
          <a:xfrm>
            <a:off x="647640" y="1906560"/>
            <a:ext cx="2314800" cy="30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6" name="Picture 8" descr="Франк СЛ (1)"/>
          <p:cNvPicPr/>
          <p:nvPr/>
        </p:nvPicPr>
        <p:blipFill>
          <a:blip r:embed="rId2"/>
          <a:stretch/>
        </p:blipFill>
        <p:spPr>
          <a:xfrm>
            <a:off x="6656400" y="3057480"/>
            <a:ext cx="1838160" cy="30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днако, возможное «совершенствование» мир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 наше врем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меняется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стремлением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к метафизически невозможному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илами человеческими «спасению»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Так возника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ересь утопизма»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– стремление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«спасти мир» установлением некое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ального,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удительно осуществляемого поря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о спасти мир принуждением невозможно,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и так как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опытки построить идеальный мир наталкиваютс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а сопротивление человеческой природы,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ходится прибегать к жестоким мер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 результате вместо положительного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троения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нового мира на практике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рушается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старый ми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циальн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Ересь утопизм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нешняя сфера социальности («общественности»)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сновывается 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соборности»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– первичн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лидарной слитности индивидуальных “я”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о всеобъемлющем “мы”.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не есть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осто множественное число от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(в своём основном и первичном смысле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ообще не может иметь множественного числа) –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есть единство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есть, следовательно, нек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ична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тегория социального бытия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(столь ж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ервична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как и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), в которой преодолеваетс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ечна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отивопоставленность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ты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борн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“мы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есть непосредственно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тражен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единств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в социально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циальн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орность как основа социа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7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8892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. О. Лосский: органический идеал-ре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(интуитивизм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нциональность с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носеологическая координ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и вида интуи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р как органическое цел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. Л. Фра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алогическое един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Живое знани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детерминиз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: Вековечная борьба добра и з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циальная философ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Ересь утопизм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борность как основа социа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. Лосский (1870-1965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рганический идеал-реализ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8560" y="2769840"/>
            <a:ext cx="48942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основание интуитивизм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увственная, интеллектуальная и мистическая интуиц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 и мировое зло: Основы теодице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ловия абсолютного добра: Основы этик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русской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Лосский (1-2)"/>
          <p:cNvPicPr/>
          <p:nvPr/>
        </p:nvPicPr>
        <p:blipFill>
          <a:blip r:embed="rId1"/>
          <a:stretch/>
        </p:blipFill>
        <p:spPr>
          <a:xfrm>
            <a:off x="5505480" y="1798560"/>
            <a:ext cx="326700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4" name="Text Box 5"/>
          <p:cNvSpPr/>
          <p:nvPr/>
        </p:nvSpPr>
        <p:spPr>
          <a:xfrm>
            <a:off x="9716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ние подобно не «психическому вместилищу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которое предмет должен «попасть», что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ать «осознанным», а скоре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редоточию луч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авленных на участки бытия и их освещающ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этой направленности на предм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интенциональности)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заключ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ь познавательного а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ознавательном акте, таки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личеству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 предмет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в своей подлинности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его «копия», «отражение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убъективное преломление»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ъект имеет не опосредован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посредственн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интуитивное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ние предм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тенциональность со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Лосский (1-2red)"/>
          <p:cNvPicPr/>
          <p:nvPr/>
        </p:nvPicPr>
        <p:blipFill>
          <a:blip r:embed="rId1"/>
          <a:stretch/>
        </p:blipFill>
        <p:spPr>
          <a:xfrm>
            <a:off x="7413480" y="1403280"/>
            <a:ext cx="1590840" cy="216216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о отношение субъекта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о всем другим сущностям в мире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оторое делает интуицию возможно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носеологическая координ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менно гносеологическая координация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 не гносеологическая субординац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бъекта – предмету или предмета – субъекту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ставля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новной закон п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и этом сама гносеологическая координац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ть лишь частный (гносеологический) аспек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манентности друг другу всех индивидуальн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станций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(«субстанциальных деятелей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ниверсальность взаимодейств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«единосущных» субстанциальных деятеле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разующ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р как органическое целое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ставляет онтологическую основу интуитив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носеологическая координ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Лосский (1-2red)"/>
          <p:cNvPicPr/>
          <p:nvPr/>
        </p:nvPicPr>
        <p:blipFill>
          <a:blip r:embed="rId1"/>
          <a:stretch/>
        </p:blipFill>
        <p:spPr>
          <a:xfrm>
            <a:off x="7413480" y="1403280"/>
            <a:ext cx="1590840" cy="216216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2"/>
          <p:cNvSpPr/>
          <p:nvPr/>
        </p:nvSpPr>
        <p:spPr>
          <a:xfrm>
            <a:off x="2986200" y="3057480"/>
            <a:ext cx="50328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2914560" y="4678200"/>
            <a:ext cx="64764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и вида интуи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358920" y="5145120"/>
            <a:ext cx="575784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ая интуи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игает материальные качества ве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898560" y="3525840"/>
            <a:ext cx="467820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теллектуальная интуи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игает мир и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1438200" y="1906560"/>
            <a:ext cx="359892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стическая интуи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игает Абсолют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5864040" y="1906560"/>
            <a:ext cx="2978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уитивный характер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вательного акт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более чистом ви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наружива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лучаях, когд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метом явля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альное бытие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р идей, чужое «я»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предельных случаях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бсолют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 rot="10800000">
            <a:off x="610920" y="1905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благий, всемогущ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ездесущий Бог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творил мир как систему сущност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личайшее значение которой в т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она состоит из сущност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собных творить с 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милостивейшей помощь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сочайшее благо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жественную полноту жизн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личности способны к этому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 творит только личност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2" descr="Лосский (1-2red)"/>
          <p:cNvPicPr/>
          <p:nvPr/>
        </p:nvPicPr>
        <p:blipFill>
          <a:blip r:embed="rId1"/>
          <a:stretch/>
        </p:blipFill>
        <p:spPr>
          <a:xfrm>
            <a:off x="7124760" y="1798560"/>
            <a:ext cx="1590480" cy="216216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"/>
          <p:cNvSpPr/>
          <p:nvPr/>
        </p:nvSpPr>
        <p:spPr>
          <a:xfrm rot="10800000">
            <a:off x="610920" y="1905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ждый субстанциальный деятел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ет развиваться и поднима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ё более высокие ступени быт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части творчески вырабатыв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части подражательно усваив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 более сложные типы жиз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Лосский (1-2red)"/>
          <p:cNvPicPr/>
          <p:nvPr/>
        </p:nvPicPr>
        <p:blipFill>
          <a:blip r:embed="rId1"/>
          <a:stretch/>
        </p:blipFill>
        <p:spPr>
          <a:xfrm>
            <a:off x="7124760" y="1798560"/>
            <a:ext cx="1590480" cy="216216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1T05:42:15Z</dcterms:created>
  <dc:creator>Николай Бирюков / Nikolai Biryukov</dc:creator>
  <dc:description>Версия мая 2007 г.</dc:description>
  <dc:language>en-US</dc:language>
  <cp:lastModifiedBy>LEGION</cp:lastModifiedBy>
  <dcterms:modified xsi:type="dcterms:W3CDTF">2014-11-11T12:46:26Z</dcterms:modified>
  <cp:revision>56</cp:revision>
  <dc:subject>История русской философии - Лекция 13</dc:subject>
  <dc:title>Русский интуитивизм</dc:title>
</cp:coreProperties>
</file>