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13.png" ContentType="image/png"/>
  <Override PartName="/ppt/media/image7.jpeg" ContentType="image/jpeg"/>
  <Override PartName="/ppt/media/image5.png" ContentType="image/png"/>
  <Override PartName="/ppt/media/image8.jpeg" ContentType="image/jpe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6A9EE-B925-4B07-9CE4-AE563770D5B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A0562-D670-4988-84AE-45ED5754D84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Русский интуитивиз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28058-9606-4886-BF29-D9D83436ABE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нтология (иерархический персонализм)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ерархия субстанциальных деяте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ак человеческое “я” есть деятель, который, может быть, биллионы лет назад вёл жизнь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протона,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отом, объединив вокруг себя несколько электронов, усвоил тип жизни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кислорода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затем, усложнив ещё более своё тело, поднялся до типа жизни, например,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кристалла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воды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далее перешёл к жизни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одноклеточного животного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и – после ряда перевоплощений, или, лучше [сказать], выражаясь термином Лейбница, после ряда метаморфоз – стал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человеческим “я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044BB-F96D-4667-9BC0-723A9BDC970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нтология (иерархический персонализм)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Мир как органическое целое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49039-D5BB-400D-A50D-14144ADCD32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нтология (иерархический персонализм)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Мир как органическое целое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0C445-D4B7-4B6E-A3BA-0D07213A4D1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С.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 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Л. Франк (1877‑195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редмет знания: Об основах и пределах отвлечённого знания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915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Душа человека: Опыт введения в философскую психологию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918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мысл жизни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926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Духовные основы общества: Введение в социальную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философию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930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епостижимое: Онтологическое введение в философию религии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939)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39C2B-0875-4513-8885-0B04FCF9FD3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Гносеология (интуитивизм)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«Металогическое единство»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4B8BF-BBF7-4B7D-8504-5201B123991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Гносеология (интуитивизм)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«Живое знание»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16DB5-38EE-4876-AEB6-2127F6D26B0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Онтология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«Непостижимое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02B3F-01A9-470A-83F4-BEEF51CB6F4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Онтология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«Непостижимое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F1D92-B156-491F-BBC0-2AE815FC485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Онтология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ритика детерминиз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91542-E95B-4B31-80E5-8B2E3E0AF61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Этика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ековечная борьба добра и з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20129-F9A5-41B8-A575-657BBAC63EB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Русский интуитивиз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9EB4B-C080-453C-92D1-8A521913E3F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оциальная философия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«Ересь утопизма»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81D8C-B89D-4AF7-AA42-A2AE7D62170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оциальная философия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оборность как основа социа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6DAA4-B5F8-48DC-B5BB-29A739A029C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AC8FF-B6CA-4B76-9DC0-1C8062658DF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Русский интуитивиз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Н. О. Лосский: органический идеал-реализ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носеология (интуитивизм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нтенциональность созн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Гносеологическая координац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ри вида интуиц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нтология (иерархический персонализм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ерархия субстанциальных деятеле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ир как органическое цело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. Л. Фран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носеология (интуитивизм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еталогическое единств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Живое знание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нтология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Непостижимое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ритика детерминизм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Этика: Вековечная борьба добра и зл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оциальная философ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Ересь утопизма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борность как основа социальнос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920FC-58DA-4F44-839F-C0D2BE0E5CB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Н.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 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О. Лосский (1870-1965)</a:t>
            </a:r>
            <a:br>
              <a:rPr sz="18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рганический идеал-реализм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боснование интуитивизма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906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Мир как органическое целое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917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Чувственная, интеллектуальная и мистическая интуиция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938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Бог и мировое зло: Основы теодицеи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941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Условия абсолютного добра: Основы этики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949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История русской философии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951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5E11E-C57F-455B-A984-A83F8A41FC7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Гносеология (интуитивизм)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Интенциональность созн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90D44-781B-4252-BEC4-86B6425BAD6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Гносеология (интуитивизм)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Гносеологическая координ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4984B-6B08-4918-9ECD-EF7871E683B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Гносеология (интуитивизм)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Три вида интуиции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07268-CC2A-4C30-B8C8-BC619681CD6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нтология (иерархический персонализм)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Иерархия субстанциальных деятеле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18392-FA8D-4E12-B0CE-B7D79F8BD7C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нтология (иерархический персонализм)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Иерархия субстанциальных деятеле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F507D-D1D3-4FE5-845A-D4FB244B8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E760D-CFEE-4E05-A5C0-0C7856BE2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037D3-F078-487C-AAC0-B366B87DC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FCAFB-C8E5-4BCA-B87B-EE3DF3FF0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ADE8F-4C0D-4B22-9CDF-BD31B0A0A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41690-8108-4FE0-AD18-09300A3C8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0F6AF-65C6-4922-A542-12230EC79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3EBBD-8414-4638-A3F1-F6CE8205D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8A709-614F-45FE-8749-206168C07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BD7E9-F25C-402A-87C3-0168DF7EE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3DD7E-332F-462D-A01A-BDB70E2E6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54D4F-6499-4545-80F7-79EA711B1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378F1-C3D7-449F-8568-3BB10B2801D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99680" y="2214720"/>
            <a:ext cx="8201160" cy="197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1000"/>
            </a:b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Русский интуитивизм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1442880" y="539640"/>
            <a:ext cx="6400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осковский государственный институт международных отношений</a:t>
            </a:r>
            <a:br>
              <a:rPr sz="2400"/>
            </a:b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афедра философ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logo2"/>
          <p:cNvPicPr/>
          <p:nvPr/>
        </p:nvPicPr>
        <p:blipFill>
          <a:blip r:embed="rId1"/>
          <a:stretch/>
        </p:blipFill>
        <p:spPr>
          <a:xfrm>
            <a:off x="250920" y="617400"/>
            <a:ext cx="1127160" cy="7556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chouet1"/>
          <p:cNvPicPr/>
          <p:nvPr/>
        </p:nvPicPr>
        <p:blipFill>
          <a:blip r:embed="rId2"/>
          <a:stretch/>
        </p:blipFill>
        <p:spPr>
          <a:xfrm>
            <a:off x="7848720" y="620640"/>
            <a:ext cx="826920" cy="1133640"/>
          </a:xfrm>
          <a:prstGeom prst="rect">
            <a:avLst/>
          </a:prstGeom>
          <a:ln w="0">
            <a:noFill/>
          </a:ln>
        </p:spPr>
      </p:pic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75760" y="274320"/>
            <a:ext cx="8589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нтология (иерархический персонализм)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ерархия субстанциальных деятел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118120" cy="50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ак человеческое “я” есть деятель, который, может быть, биллионы лет назад вёл жизнь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протона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том, объединив вокруг себя несколько электронов, усвоил тип жизни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кислород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затем, усложнив ещё более своё тело, поднялся до типа жизни, например,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кристалла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воды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алее перешёл к жизни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одноклеточного животного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 – после ряда перевоплощений, или, лучше [сказать], выражаясь термином Лейбница, после ряда метаморфоз – стал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человеческим “я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8" descr="21589901"/>
          <p:cNvPicPr/>
          <p:nvPr/>
        </p:nvPicPr>
        <p:blipFill>
          <a:blip r:embed="rId1"/>
          <a:stretch/>
        </p:blipFill>
        <p:spPr>
          <a:xfrm>
            <a:off x="5937120" y="1619280"/>
            <a:ext cx="1171800" cy="1219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9" descr="19851724"/>
          <p:cNvPicPr/>
          <p:nvPr/>
        </p:nvPicPr>
        <p:blipFill>
          <a:blip r:embed="rId2"/>
          <a:stretch/>
        </p:blipFill>
        <p:spPr>
          <a:xfrm>
            <a:off x="7521480" y="2482920"/>
            <a:ext cx="1219320" cy="10666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2" descr="19930693"/>
          <p:cNvPicPr/>
          <p:nvPr/>
        </p:nvPicPr>
        <p:blipFill>
          <a:blip r:embed="rId3"/>
          <a:stretch/>
        </p:blipFill>
        <p:spPr>
          <a:xfrm>
            <a:off x="6081840" y="3201840"/>
            <a:ext cx="961920" cy="12193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5" descr="25722158"/>
          <p:cNvPicPr/>
          <p:nvPr/>
        </p:nvPicPr>
        <p:blipFill>
          <a:blip r:embed="rId4"/>
          <a:stretch/>
        </p:blipFill>
        <p:spPr>
          <a:xfrm>
            <a:off x="7556400" y="3849840"/>
            <a:ext cx="1219320" cy="10666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7" descr="24795109"/>
          <p:cNvPicPr/>
          <p:nvPr/>
        </p:nvPicPr>
        <p:blipFill>
          <a:blip r:embed="rId5"/>
          <a:stretch/>
        </p:blipFill>
        <p:spPr>
          <a:xfrm>
            <a:off x="6153120" y="4857840"/>
            <a:ext cx="885960" cy="12189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8" descr="Диоген (clipart)"/>
          <p:cNvPicPr/>
          <p:nvPr/>
        </p:nvPicPr>
        <p:blipFill>
          <a:blip r:embed="rId6"/>
          <a:stretch/>
        </p:blipFill>
        <p:spPr>
          <a:xfrm>
            <a:off x="7556400" y="5218200"/>
            <a:ext cx="1238400" cy="1224000"/>
          </a:xfrm>
          <a:prstGeom prst="rect">
            <a:avLst/>
          </a:prstGeom>
          <a:ln w="0">
            <a:noFill/>
          </a:ln>
        </p:spPr>
      </p:pic>
      <p:sp>
        <p:nvSpPr>
          <p:cNvPr id="11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3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3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75760" y="274320"/>
            <a:ext cx="8589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нтология (иерархический персонализм)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ир как органическое цел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3"/>
          <p:cNvSpPr/>
          <p:nvPr/>
        </p:nvSpPr>
        <p:spPr>
          <a:xfrm rot="10800000">
            <a:off x="610920" y="1905840"/>
            <a:ext cx="6118200" cy="431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…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зерцание других сущносте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акими, какими они являют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ами по себе, возможно потому, чт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ир есть некое органическое целое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 познающий субъект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ндивидуальное человеческое </a:t>
            </a: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я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–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кое сверхвременное 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верхпространственное бытие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есно связанное с целым миром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4" descr="Лосский (1-2red)"/>
          <p:cNvPicPr/>
          <p:nvPr/>
        </p:nvPicPr>
        <p:blipFill>
          <a:blip r:embed="rId1"/>
          <a:stretch/>
        </p:blipFill>
        <p:spPr>
          <a:xfrm>
            <a:off x="7124760" y="1798560"/>
            <a:ext cx="1590480" cy="2162160"/>
          </a:xfrm>
          <a:prstGeom prst="rect">
            <a:avLst/>
          </a:prstGeom>
          <a:ln w="0">
            <a:noFill/>
          </a:ln>
        </p:spPr>
      </p:pic>
      <p:sp>
        <p:nvSpPr>
          <p:cNvPr id="1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75760" y="274320"/>
            <a:ext cx="8589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нтология (иерархический персонализм)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ир как органическое цел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3"/>
          <p:cNvSpPr/>
          <p:nvPr/>
        </p:nvSpPr>
        <p:spPr>
          <a:xfrm rot="10800000">
            <a:off x="610920" y="1905840"/>
            <a:ext cx="6118200" cy="431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зависящая от времени 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остранства координаци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ть не что иное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ак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вязь сверхвременных и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верхпространственных деятелей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руг с другом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благодаря которо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сё, что переживает один деятел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ак своё прояснение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уществует не только для него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 и для других деятелей всего мира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4" descr="Лосский (1-2red)"/>
          <p:cNvPicPr/>
          <p:nvPr/>
        </p:nvPicPr>
        <p:blipFill>
          <a:blip r:embed="rId1"/>
          <a:stretch/>
        </p:blipFill>
        <p:spPr>
          <a:xfrm>
            <a:off x="7124760" y="1798560"/>
            <a:ext cx="1590480" cy="2162160"/>
          </a:xfrm>
          <a:prstGeom prst="rect">
            <a:avLst/>
          </a:prstGeom>
          <a:ln w="0">
            <a:noFill/>
          </a:ln>
        </p:spPr>
      </p:pic>
      <p:sp>
        <p:nvSpPr>
          <p:cNvPr id="11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nodeType="clickEffect" fill="hold">
                      <p:stCondLst>
                        <p:cond delay="0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1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С.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Л. Франк (1877‑195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525480" y="2769840"/>
            <a:ext cx="5506920" cy="35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едмет знания: Об основах и пределах отвлечённого знания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1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уша человека: Опыт введения в философскую психологию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1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мысл жизни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2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уховные основы общества: Введение в социальную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философию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3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епостижимое: Онтологическое введение в философию религии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39)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6" descr="Франк СЛ (1)"/>
          <p:cNvPicPr/>
          <p:nvPr/>
        </p:nvPicPr>
        <p:blipFill>
          <a:blip r:embed="rId1"/>
          <a:stretch/>
        </p:blipFill>
        <p:spPr>
          <a:xfrm>
            <a:off x="539640" y="1798560"/>
            <a:ext cx="2595600" cy="43182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22" name="Text Box 7"/>
          <p:cNvSpPr/>
          <p:nvPr/>
        </p:nvSpPr>
        <p:spPr>
          <a:xfrm>
            <a:off x="4497480" y="1835280"/>
            <a:ext cx="3598920" cy="53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сновные сочи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8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AutoShape 2"/>
          <p:cNvSpPr/>
          <p:nvPr/>
        </p:nvSpPr>
        <p:spPr>
          <a:xfrm>
            <a:off x="2122560" y="5002200"/>
            <a:ext cx="647640" cy="1224000"/>
          </a:xfrm>
          <a:custGeom>
            <a:avLst/>
            <a:gdLst>
              <a:gd name="textAreaLeft" fmla="*/ 86760 w 647640"/>
              <a:gd name="textAreaRight" fmla="*/ 560880 w 64764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3"/>
          <p:cNvSpPr/>
          <p:nvPr/>
        </p:nvSpPr>
        <p:spPr>
          <a:xfrm>
            <a:off x="1295280" y="3706920"/>
            <a:ext cx="648000" cy="1224000"/>
          </a:xfrm>
          <a:custGeom>
            <a:avLst/>
            <a:gdLst>
              <a:gd name="textAreaLeft" fmla="*/ 86760 w 648000"/>
              <a:gd name="textAreaRight" fmla="*/ 561240 w 64800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4"/>
          <p:cNvSpPr/>
          <p:nvPr/>
        </p:nvSpPr>
        <p:spPr>
          <a:xfrm>
            <a:off x="466560" y="2409840"/>
            <a:ext cx="648000" cy="1224000"/>
          </a:xfrm>
          <a:custGeom>
            <a:avLst/>
            <a:gdLst>
              <a:gd name="textAreaLeft" fmla="*/ 86760 w 648000"/>
              <a:gd name="textAreaRight" fmla="*/ 561240 w 64800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5"/>
          <p:cNvSpPr/>
          <p:nvPr/>
        </p:nvSpPr>
        <p:spPr>
          <a:xfrm>
            <a:off x="287280" y="151128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Всякое определённое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А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можно мыслить лишь в его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соотнесённости с каким-то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не-А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6"/>
          <p:cNvSpPr/>
          <p:nvPr/>
        </p:nvSpPr>
        <p:spPr>
          <a:xfrm>
            <a:off x="1114560" y="280656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Но сама соотнесённость </a:t>
            </a:r>
            <a:r>
              <a:rPr b="1" i="1" lang="ru-RU" sz="1800" spc="-1" strike="noStrike">
                <a:solidFill>
                  <a:srgbClr val="0000cc"/>
                </a:solidFill>
                <a:latin typeface="Arial"/>
              </a:rPr>
              <a:t>А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 и </a:t>
            </a:r>
            <a:r>
              <a:rPr b="1" i="1" lang="ru-RU" sz="1800" spc="-1" strike="noStrike">
                <a:solidFill>
                  <a:srgbClr val="0000cc"/>
                </a:solidFill>
                <a:latin typeface="Arial"/>
              </a:rPr>
              <a:t>не-А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 предполагает, что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оба они являются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членами некоего объемлющег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единства,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 которое должно мыслиться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сверхопределённым, «трансцендентным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7"/>
          <p:cNvSpPr/>
          <p:nvPr/>
        </p:nvSpPr>
        <p:spPr>
          <a:xfrm>
            <a:off x="1943280" y="410220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Это искомое единство не вмещается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в рамки логической системы именно потому, что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оно само ест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условие возможности систем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8"/>
          <p:cNvSpPr/>
          <p:nvPr/>
        </p:nvSpPr>
        <p:spPr>
          <a:xfrm>
            <a:off x="2770200" y="539748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Как таковое оно «мета-логично», точнее –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оно ест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«металогическое единство»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или «Всеединство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Гносеология (интуитивизм)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Металогическое единство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10" descr="Франк СЛ (3)"/>
          <p:cNvPicPr/>
          <p:nvPr/>
        </p:nvPicPr>
        <p:blipFill>
          <a:blip r:embed="rId1"/>
          <a:stretch/>
        </p:blipFill>
        <p:spPr>
          <a:xfrm>
            <a:off x="7629480" y="1438200"/>
            <a:ext cx="1122480" cy="1871640"/>
          </a:xfrm>
          <a:prstGeom prst="rect">
            <a:avLst/>
          </a:prstGeom>
          <a:ln w="0">
            <a:noFill/>
          </a:ln>
        </p:spPr>
      </p:pic>
      <p:sp>
        <p:nvSpPr>
          <p:cNvPr id="13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1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5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5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5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AutoShape 2"/>
          <p:cNvSpPr/>
          <p:nvPr/>
        </p:nvSpPr>
        <p:spPr>
          <a:xfrm>
            <a:off x="2122560" y="5002200"/>
            <a:ext cx="647640" cy="1224000"/>
          </a:xfrm>
          <a:custGeom>
            <a:avLst/>
            <a:gdLst>
              <a:gd name="textAreaLeft" fmla="*/ 86760 w 647640"/>
              <a:gd name="textAreaRight" fmla="*/ 560880 w 64764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3"/>
          <p:cNvSpPr/>
          <p:nvPr/>
        </p:nvSpPr>
        <p:spPr>
          <a:xfrm>
            <a:off x="1295280" y="3706920"/>
            <a:ext cx="648000" cy="1224000"/>
          </a:xfrm>
          <a:custGeom>
            <a:avLst/>
            <a:gdLst>
              <a:gd name="textAreaLeft" fmla="*/ 86760 w 648000"/>
              <a:gd name="textAreaRight" fmla="*/ 561240 w 64800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4"/>
          <p:cNvSpPr/>
          <p:nvPr/>
        </p:nvSpPr>
        <p:spPr>
          <a:xfrm>
            <a:off x="466560" y="2409840"/>
            <a:ext cx="648000" cy="1224000"/>
          </a:xfrm>
          <a:custGeom>
            <a:avLst/>
            <a:gdLst>
              <a:gd name="textAreaLeft" fmla="*/ 86760 w 648000"/>
              <a:gd name="textAreaRight" fmla="*/ 561240 w 64800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5"/>
          <p:cNvSpPr/>
          <p:nvPr/>
        </p:nvSpPr>
        <p:spPr>
          <a:xfrm>
            <a:off x="287280" y="151128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Субъект и предмет знания существуют 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и должны мыслиться на фоне 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объемлющего их «металогического единства».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6"/>
          <p:cNvSpPr/>
          <p:nvPr/>
        </p:nvSpPr>
        <p:spPr>
          <a:xfrm>
            <a:off x="1114560" y="280656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Сознание не противостоит бытию, но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ключено в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ытие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 (сознанию противостоит лишь «предметный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мир» – область «объективируемого», но подлинное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бытие не знает раздвоения на субъект и предмет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7"/>
          <p:cNvSpPr/>
          <p:nvPr/>
        </p:nvSpPr>
        <p:spPr>
          <a:xfrm>
            <a:off x="1943280" y="410220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Следует отличат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эмпирическое «предметное»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знание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 действительности и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деальное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«абстрактное» знание логических связей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 между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элементами действительности от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«живого знания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8"/>
          <p:cNvSpPr/>
          <p:nvPr/>
        </p:nvSpPr>
        <p:spPr>
          <a:xfrm>
            <a:off x="2770200" y="539748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Идеальное знание приводит в систему данные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опыта, но это единство рационально и статично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и есть лишь «бледный намёк» на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еталогическое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сеединство, открывающееся в «живом знании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Гносеология (интуитивизм)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Живое знание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10" descr="Франк СЛ (3)"/>
          <p:cNvPicPr/>
          <p:nvPr/>
        </p:nvPicPr>
        <p:blipFill>
          <a:blip r:embed="rId1"/>
          <a:stretch/>
        </p:blipFill>
        <p:spPr>
          <a:xfrm>
            <a:off x="7629480" y="1438200"/>
            <a:ext cx="1122480" cy="1871640"/>
          </a:xfrm>
          <a:prstGeom prst="rect">
            <a:avLst/>
          </a:prstGeom>
          <a:ln w="0">
            <a:noFill/>
          </a:ln>
        </p:spPr>
      </p:pic>
      <p:sp>
        <p:nvSpPr>
          <p:cNvPr id="14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2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2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2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2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AutoShape 2"/>
          <p:cNvSpPr/>
          <p:nvPr/>
        </p:nvSpPr>
        <p:spPr>
          <a:xfrm>
            <a:off x="2122560" y="5002200"/>
            <a:ext cx="647640" cy="1224000"/>
          </a:xfrm>
          <a:custGeom>
            <a:avLst/>
            <a:gdLst>
              <a:gd name="textAreaLeft" fmla="*/ 86760 w 647640"/>
              <a:gd name="textAreaRight" fmla="*/ 560880 w 64764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3"/>
          <p:cNvSpPr/>
          <p:nvPr/>
        </p:nvSpPr>
        <p:spPr>
          <a:xfrm>
            <a:off x="1295280" y="3706920"/>
            <a:ext cx="648000" cy="1224000"/>
          </a:xfrm>
          <a:custGeom>
            <a:avLst/>
            <a:gdLst>
              <a:gd name="textAreaLeft" fmla="*/ 86760 w 648000"/>
              <a:gd name="textAreaRight" fmla="*/ 561240 w 64800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4"/>
          <p:cNvSpPr/>
          <p:nvPr/>
        </p:nvSpPr>
        <p:spPr>
          <a:xfrm>
            <a:off x="466560" y="2409840"/>
            <a:ext cx="648000" cy="1224000"/>
          </a:xfrm>
          <a:custGeom>
            <a:avLst/>
            <a:gdLst>
              <a:gd name="textAreaLeft" fmla="*/ 86760 w 648000"/>
              <a:gd name="textAreaRight" fmla="*/ 561240 w 64800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5"/>
          <p:cNvSpPr/>
          <p:nvPr/>
        </p:nvSpPr>
        <p:spPr>
          <a:xfrm>
            <a:off x="287280" y="151128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Познаваемый мир со всех сторон окружён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для нас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тёмной бездной непостижимого.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6"/>
          <p:cNvSpPr/>
          <p:nvPr/>
        </p:nvSpPr>
        <p:spPr>
          <a:xfrm>
            <a:off x="1114560" y="280656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Следует отличать «непостижимое для нас»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(кантовская «вещь в себе»)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от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«Непостижимого в его самобытии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7"/>
          <p:cNvSpPr/>
          <p:nvPr/>
        </p:nvSpPr>
        <p:spPr>
          <a:xfrm>
            <a:off x="1943280" y="410220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Считать эту исконную таинственность бытия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следствием нашей ограниченной способности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восприятия – значит упростить проблему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извести тайну на уровень неразрешимой шарад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8"/>
          <p:cNvSpPr/>
          <p:nvPr/>
        </p:nvSpPr>
        <p:spPr>
          <a:xfrm>
            <a:off x="2770200" y="539748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Тогда, под предлогом «непостижимости»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абсолютного бытия,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ассудок выхолостит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сё глубинное из предметного мира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 и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вгонит его в прокрустово ложе своих категор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нтология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Непостижимое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10" descr="Франк СЛ (3)"/>
          <p:cNvPicPr/>
          <p:nvPr/>
        </p:nvPicPr>
        <p:blipFill>
          <a:blip r:embed="rId1"/>
          <a:stretch/>
        </p:blipFill>
        <p:spPr>
          <a:xfrm>
            <a:off x="7629480" y="1438200"/>
            <a:ext cx="1122480" cy="1871640"/>
          </a:xfrm>
          <a:prstGeom prst="rect">
            <a:avLst/>
          </a:prstGeom>
          <a:ln w="0">
            <a:noFill/>
          </a:ln>
        </p:spPr>
      </p:pic>
      <p:sp>
        <p:nvSpPr>
          <p:cNvPr id="1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9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9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9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9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нтология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Непостижимое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11" descr="bregno_monument_of_cardinal_nicola_de_cusa"/>
          <p:cNvPicPr/>
          <p:nvPr/>
        </p:nvPicPr>
        <p:blipFill>
          <a:blip r:embed="rId1"/>
          <a:stretch/>
        </p:blipFill>
        <p:spPr>
          <a:xfrm>
            <a:off x="539640" y="2266920"/>
            <a:ext cx="2428920" cy="318132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14"/>
          <p:cNvSpPr/>
          <p:nvPr/>
        </p:nvSpPr>
        <p:spPr>
          <a:xfrm>
            <a:off x="3835800" y="2360520"/>
            <a:ext cx="4423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«Непостижимое постигается</a:t>
            </a:r>
            <a:br>
              <a:rPr sz="2000"/>
            </a:b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посредством его непостижения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5"/>
          <p:cNvSpPr/>
          <p:nvPr/>
        </p:nvSpPr>
        <p:spPr>
          <a:xfrm>
            <a:off x="5761800" y="4678200"/>
            <a:ext cx="238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иколай Кузан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6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7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8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nodeType="afterEffect" fill="hold">
                            <p:stCondLst>
                              <p:cond delay="2160"/>
                            </p:stCondLst>
                            <p:childTnLst>
                              <p:par>
                                <p:cTn id="54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42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nodeType="afterEffect" fill="hold">
                            <p:stCondLst>
                              <p:cond delay="3160"/>
                            </p:stCondLst>
                            <p:childTnLst>
                              <p:par>
                                <p:cTn id="54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AutoShape 2"/>
          <p:cNvSpPr/>
          <p:nvPr/>
        </p:nvSpPr>
        <p:spPr>
          <a:xfrm>
            <a:off x="2122560" y="5002200"/>
            <a:ext cx="647640" cy="1224000"/>
          </a:xfrm>
          <a:custGeom>
            <a:avLst/>
            <a:gdLst>
              <a:gd name="textAreaLeft" fmla="*/ 86760 w 647640"/>
              <a:gd name="textAreaRight" fmla="*/ 560880 w 64764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AutoShape 3"/>
          <p:cNvSpPr/>
          <p:nvPr/>
        </p:nvSpPr>
        <p:spPr>
          <a:xfrm>
            <a:off x="1295280" y="3706920"/>
            <a:ext cx="648000" cy="1224000"/>
          </a:xfrm>
          <a:custGeom>
            <a:avLst/>
            <a:gdLst>
              <a:gd name="textAreaLeft" fmla="*/ 86760 w 648000"/>
              <a:gd name="textAreaRight" fmla="*/ 561240 w 64800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4"/>
          <p:cNvSpPr/>
          <p:nvPr/>
        </p:nvSpPr>
        <p:spPr>
          <a:xfrm>
            <a:off x="466560" y="2409840"/>
            <a:ext cx="648000" cy="1224000"/>
          </a:xfrm>
          <a:custGeom>
            <a:avLst/>
            <a:gdLst>
              <a:gd name="textAreaLeft" fmla="*/ 86760 w 648000"/>
              <a:gd name="textAreaRight" fmla="*/ 561240 w 64800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5"/>
          <p:cNvSpPr/>
          <p:nvPr/>
        </p:nvSpPr>
        <p:spPr>
          <a:xfrm>
            <a:off x="287280" y="151128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Непостижимое есть не только то,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что было, есть и будет, оно есть скорее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сточник бытия;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 оно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ольше, чем бытие: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оно ест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отенциальность, или свобо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6"/>
          <p:cNvSpPr/>
          <p:nvPr/>
        </p:nvSpPr>
        <p:spPr>
          <a:xfrm>
            <a:off x="1114560" y="280656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вобода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 есть наиболее явное проявление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Непостижимого в мире самосозн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7"/>
          <p:cNvSpPr/>
          <p:nvPr/>
        </p:nvSpPr>
        <p:spPr>
          <a:xfrm>
            <a:off x="1943280" y="410220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Детерминизм означает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«определённость одной определённости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ругой определённостью»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8"/>
          <p:cNvSpPr/>
          <p:nvPr/>
        </p:nvSpPr>
        <p:spPr>
          <a:xfrm>
            <a:off x="2770200" y="539748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но если глубина личности есть внутреннее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обнаружение Непостижимого, то мы получаем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«определённость определённости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определённостью»,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 т.е.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вободу вол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нтология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ритика детерминиз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10" descr="Франк СЛ (3)"/>
          <p:cNvPicPr/>
          <p:nvPr/>
        </p:nvPicPr>
        <p:blipFill>
          <a:blip r:embed="rId1"/>
          <a:stretch/>
        </p:blipFill>
        <p:spPr>
          <a:xfrm>
            <a:off x="7629480" y="1438200"/>
            <a:ext cx="1122480" cy="1871640"/>
          </a:xfrm>
          <a:prstGeom prst="rect">
            <a:avLst/>
          </a:prstGeom>
          <a:ln w="0">
            <a:noFill/>
          </a:ln>
        </p:spPr>
      </p:pic>
      <p:sp>
        <p:nvSpPr>
          <p:cNvPr id="1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8" dur="indefinite" restart="never" nodeType="tmRoot">
          <p:childTnLst>
            <p:seq>
              <p:cTn id="549" dur="indefinite" nodeType="mainSeq">
                <p:childTnLst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4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4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4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4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AutoShape 2"/>
          <p:cNvSpPr/>
          <p:nvPr/>
        </p:nvSpPr>
        <p:spPr>
          <a:xfrm>
            <a:off x="2122560" y="5002200"/>
            <a:ext cx="647640" cy="1224000"/>
          </a:xfrm>
          <a:custGeom>
            <a:avLst/>
            <a:gdLst>
              <a:gd name="textAreaLeft" fmla="*/ 86760 w 647640"/>
              <a:gd name="textAreaRight" fmla="*/ 560880 w 64764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3"/>
          <p:cNvSpPr/>
          <p:nvPr/>
        </p:nvSpPr>
        <p:spPr>
          <a:xfrm>
            <a:off x="1295280" y="3706920"/>
            <a:ext cx="648000" cy="1224000"/>
          </a:xfrm>
          <a:custGeom>
            <a:avLst/>
            <a:gdLst>
              <a:gd name="textAreaLeft" fmla="*/ 86760 w 648000"/>
              <a:gd name="textAreaRight" fmla="*/ 561240 w 64800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4"/>
          <p:cNvSpPr/>
          <p:nvPr/>
        </p:nvSpPr>
        <p:spPr>
          <a:xfrm>
            <a:off x="466560" y="2409840"/>
            <a:ext cx="648000" cy="1224000"/>
          </a:xfrm>
          <a:custGeom>
            <a:avLst/>
            <a:gdLst>
              <a:gd name="textAreaLeft" fmla="*/ 86760 w 648000"/>
              <a:gd name="textAreaRight" fmla="*/ 561240 w 64800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5"/>
          <p:cNvSpPr/>
          <p:nvPr/>
        </p:nvSpPr>
        <p:spPr>
          <a:xfrm>
            <a:off x="287280" y="151128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Свобода воли делае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эмпирически реальным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етафизически невозможное – 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ограниченность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силы всемогущего (Божественный Свет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не смог просветить душу Иуды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6"/>
          <p:cNvSpPr/>
          <p:nvPr/>
        </p:nvSpPr>
        <p:spPr>
          <a:xfrm>
            <a:off x="1114560" y="280656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Зло нельзя объяснить; 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его и не нужно объяснять: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«объяснить зло» значило бы «оправдать зло», но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допустимо только такое толкование зла, которое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является его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бличением,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 а не оправдани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7"/>
          <p:cNvSpPr/>
          <p:nvPr/>
        </p:nvSpPr>
        <p:spPr>
          <a:xfrm>
            <a:off x="1943280" y="410220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Поэтому нет никаких гарантий для торжества начал 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добра и разума: борьба между добром и злом 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вековечна, более того –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меет смысл совершенно 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зависимо от веры в конечную победу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 над зл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8"/>
          <p:cNvSpPr/>
          <p:nvPr/>
        </p:nvSpPr>
        <p:spPr>
          <a:xfrm>
            <a:off x="2770200" y="539748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Спасение мира возможно лишь силой божественной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благодати, но это отнюдь не снимает обязанности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овершенствования мира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 – создания в нём таких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условий, при которых зло свелось бы к минимум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Этик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ековечная борьба добра и з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10" descr="Франк СЛ (3)"/>
          <p:cNvPicPr/>
          <p:nvPr/>
        </p:nvPicPr>
        <p:blipFill>
          <a:blip r:embed="rId1"/>
          <a:stretch/>
        </p:blipFill>
        <p:spPr>
          <a:xfrm>
            <a:off x="7629480" y="1438200"/>
            <a:ext cx="1122480" cy="1871640"/>
          </a:xfrm>
          <a:prstGeom prst="rect">
            <a:avLst/>
          </a:prstGeom>
          <a:ln w="0">
            <a:noFill/>
          </a:ln>
        </p:spPr>
      </p:pic>
      <p:sp>
        <p:nvSpPr>
          <p:cNvPr id="1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5" dur="indefinite" restart="never" nodeType="tmRoot">
          <p:childTnLst>
            <p:seq>
              <p:cTn id="586" dur="indefinite" nodeType="mainSeq">
                <p:childTnLst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1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1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nodeType="clickEffect" fill="hold">
                      <p:stCondLst>
                        <p:cond delay="indefinite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1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1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Русский интуитивиз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6"/>
          <p:cNvSpPr/>
          <p:nvPr/>
        </p:nvSpPr>
        <p:spPr>
          <a:xfrm>
            <a:off x="3165480" y="1870200"/>
            <a:ext cx="323856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. Лосский</a:t>
            </a:r>
            <a:br>
              <a:rPr sz="24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(1870-1965)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Л. Франк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(1877‑195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7" descr="Лосский (1-2)"/>
          <p:cNvPicPr/>
          <p:nvPr/>
        </p:nvPicPr>
        <p:blipFill>
          <a:blip r:embed="rId1"/>
          <a:stretch/>
        </p:blipFill>
        <p:spPr>
          <a:xfrm>
            <a:off x="647640" y="1906560"/>
            <a:ext cx="2314800" cy="30592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56" name="Picture 8" descr="Франк СЛ (1)"/>
          <p:cNvPicPr/>
          <p:nvPr/>
        </p:nvPicPr>
        <p:blipFill>
          <a:blip r:embed="rId2"/>
          <a:stretch/>
        </p:blipFill>
        <p:spPr>
          <a:xfrm>
            <a:off x="6656400" y="3057480"/>
            <a:ext cx="1838160" cy="30592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AutoShape 2"/>
          <p:cNvSpPr/>
          <p:nvPr/>
        </p:nvSpPr>
        <p:spPr>
          <a:xfrm>
            <a:off x="2122560" y="5002200"/>
            <a:ext cx="647640" cy="1224000"/>
          </a:xfrm>
          <a:custGeom>
            <a:avLst/>
            <a:gdLst>
              <a:gd name="textAreaLeft" fmla="*/ 86760 w 647640"/>
              <a:gd name="textAreaRight" fmla="*/ 560880 w 64764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AutoShape 3"/>
          <p:cNvSpPr/>
          <p:nvPr/>
        </p:nvSpPr>
        <p:spPr>
          <a:xfrm>
            <a:off x="1295280" y="3706920"/>
            <a:ext cx="648000" cy="1224000"/>
          </a:xfrm>
          <a:custGeom>
            <a:avLst/>
            <a:gdLst>
              <a:gd name="textAreaLeft" fmla="*/ 86760 w 648000"/>
              <a:gd name="textAreaRight" fmla="*/ 561240 w 64800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4"/>
          <p:cNvSpPr/>
          <p:nvPr/>
        </p:nvSpPr>
        <p:spPr>
          <a:xfrm>
            <a:off x="466560" y="2409840"/>
            <a:ext cx="648000" cy="1224000"/>
          </a:xfrm>
          <a:custGeom>
            <a:avLst/>
            <a:gdLst>
              <a:gd name="textAreaLeft" fmla="*/ 86760 w 648000"/>
              <a:gd name="textAreaRight" fmla="*/ 561240 w 64800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utoShape 5"/>
          <p:cNvSpPr/>
          <p:nvPr/>
        </p:nvSpPr>
        <p:spPr>
          <a:xfrm>
            <a:off x="287280" y="151128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Однако, возможное «совершенствование» мира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в наше время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одменяется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 стремлением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к метафизически невозможному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силами человеческими «спасению» ми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6"/>
          <p:cNvSpPr/>
          <p:nvPr/>
        </p:nvSpPr>
        <p:spPr>
          <a:xfrm>
            <a:off x="1114560" y="280656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Так возникает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«ересь утопизма»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 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– стремление 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«спасти мир» установлением некоего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деального, 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инудительно осуществляемого поряд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7"/>
          <p:cNvSpPr/>
          <p:nvPr/>
        </p:nvSpPr>
        <p:spPr>
          <a:xfrm>
            <a:off x="1943280" y="410220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о спасти мир принуждением невозможно,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 и так как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попытки построить идеальный мир наталкиваются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на сопротивление человеческой природы,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приходится прибегать к жестоким мера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8"/>
          <p:cNvSpPr/>
          <p:nvPr/>
        </p:nvSpPr>
        <p:spPr>
          <a:xfrm>
            <a:off x="2770200" y="539748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В результате вместо положительного 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остроения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 нового мира на практике 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лиш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азрушается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 старый мир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оциальная философия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Ересь утопизм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10" descr="Франк СЛ (3)"/>
          <p:cNvPicPr/>
          <p:nvPr/>
        </p:nvPicPr>
        <p:blipFill>
          <a:blip r:embed="rId1"/>
          <a:stretch/>
        </p:blipFill>
        <p:spPr>
          <a:xfrm>
            <a:off x="7629480" y="1438200"/>
            <a:ext cx="1122480" cy="1871640"/>
          </a:xfrm>
          <a:prstGeom prst="rect">
            <a:avLst/>
          </a:prstGeom>
          <a:ln w="0">
            <a:noFill/>
          </a:ln>
        </p:spPr>
      </p:pic>
      <p:sp>
        <p:nvSpPr>
          <p:cNvPr id="1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2" dur="indefinite" restart="never" nodeType="tmRoot">
          <p:childTnLst>
            <p:seq>
              <p:cTn id="623" dur="indefinite" nodeType="mainSeq">
                <p:childTnLst>
                  <p:par>
                    <p:cTn id="624" nodeType="clickEffect" fill="hold">
                      <p:stCondLst>
                        <p:cond delay="indefinite"/>
                      </p:stCondLst>
                      <p:childTnLst>
                        <p:par>
                          <p:cTn id="6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8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8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nodeType="clickEffect" fill="hold">
                      <p:stCondLst>
                        <p:cond delay="indefinite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8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AutoShape 2"/>
          <p:cNvSpPr/>
          <p:nvPr/>
        </p:nvSpPr>
        <p:spPr>
          <a:xfrm>
            <a:off x="2122560" y="5002200"/>
            <a:ext cx="647640" cy="1224000"/>
          </a:xfrm>
          <a:custGeom>
            <a:avLst/>
            <a:gdLst>
              <a:gd name="textAreaLeft" fmla="*/ 86760 w 647640"/>
              <a:gd name="textAreaRight" fmla="*/ 560880 w 64764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utoShape 3"/>
          <p:cNvSpPr/>
          <p:nvPr/>
        </p:nvSpPr>
        <p:spPr>
          <a:xfrm>
            <a:off x="1295280" y="3706920"/>
            <a:ext cx="648000" cy="1224000"/>
          </a:xfrm>
          <a:custGeom>
            <a:avLst/>
            <a:gdLst>
              <a:gd name="textAreaLeft" fmla="*/ 86760 w 648000"/>
              <a:gd name="textAreaRight" fmla="*/ 561240 w 64800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4"/>
          <p:cNvSpPr/>
          <p:nvPr/>
        </p:nvSpPr>
        <p:spPr>
          <a:xfrm>
            <a:off x="466560" y="2409840"/>
            <a:ext cx="648000" cy="1224000"/>
          </a:xfrm>
          <a:custGeom>
            <a:avLst/>
            <a:gdLst>
              <a:gd name="textAreaLeft" fmla="*/ 86760 w 648000"/>
              <a:gd name="textAreaRight" fmla="*/ 561240 w 64800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5"/>
          <p:cNvSpPr/>
          <p:nvPr/>
        </p:nvSpPr>
        <p:spPr>
          <a:xfrm>
            <a:off x="287280" y="151128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Внешняя сфера социальности («общественности») 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основывается на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«соборности»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 – первично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солидарной слитности индивидуальных “я” 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во всеобъемлющем “мы”.</a:t>
            </a:r>
            <a:r>
              <a:rPr b="0" lang="ru-RU" sz="18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6"/>
          <p:cNvSpPr/>
          <p:nvPr/>
        </p:nvSpPr>
        <p:spPr>
          <a:xfrm>
            <a:off x="1114560" y="280656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ы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 не есть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просто множественное число от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я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”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(в своём основном и первичном смысле 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“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я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”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вообще не может иметь множественного числа) – 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ы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есть единство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я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и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ты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(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ы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7"/>
          <p:cNvSpPr/>
          <p:nvPr/>
        </p:nvSpPr>
        <p:spPr>
          <a:xfrm>
            <a:off x="1943280" y="410220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“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Мы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”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 есть, следовательно, некая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ервичная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атегория социального бытия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 (столь же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первичная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как и 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“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я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”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), в которой преодолевается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вечная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противопоставленность 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“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я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”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 и 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“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ты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”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AutoShape 8"/>
          <p:cNvSpPr/>
          <p:nvPr/>
        </p:nvSpPr>
        <p:spPr>
          <a:xfrm>
            <a:off x="2770200" y="539748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Соборное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“мы”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 есть непосредственное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отражение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сеединства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 в социальной жизн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оциальная философия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оборность как основа социаль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10" descr="Франк СЛ (3)"/>
          <p:cNvPicPr/>
          <p:nvPr/>
        </p:nvPicPr>
        <p:blipFill>
          <a:blip r:embed="rId1"/>
          <a:stretch/>
        </p:blipFill>
        <p:spPr>
          <a:xfrm>
            <a:off x="7629480" y="1438200"/>
            <a:ext cx="1122480" cy="1871640"/>
          </a:xfrm>
          <a:prstGeom prst="rect">
            <a:avLst/>
          </a:prstGeom>
          <a:ln w="0">
            <a:noFill/>
          </a:ln>
        </p:spPr>
      </p:pic>
      <p:sp>
        <p:nvSpPr>
          <p:cNvPr id="1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9" dur="indefinite" restart="never" nodeType="tmRoot">
          <p:childTnLst>
            <p:seq>
              <p:cTn id="660" dur="indefinite" nodeType="mainSeq">
                <p:childTnLst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5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nodeType="clickEffect" fill="hold">
                      <p:stCondLst>
                        <p:cond delay="indefinite"/>
                      </p:stCondLst>
                      <p:childTnLst>
                        <p:par>
                          <p:cTn id="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5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nodeType="clickEffect" fill="hold">
                      <p:stCondLst>
                        <p:cond delay="indefinite"/>
                      </p:stCondLst>
                      <p:childTnLst>
                        <p:par>
                          <p:cTn id="6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5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nodeType="clickEffect" fill="hold">
                      <p:stCondLst>
                        <p:cond delay="indefinite"/>
                      </p:stCondLst>
                      <p:childTnLst>
                        <p:par>
                          <p:cTn id="6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5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2"/>
          <p:cNvSpPr/>
          <p:nvPr/>
        </p:nvSpPr>
        <p:spPr>
          <a:xfrm>
            <a:off x="1979640" y="1438200"/>
            <a:ext cx="50385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Вопросы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3" descr="Gozzoli, Averroes"/>
          <p:cNvPicPr/>
          <p:nvPr/>
        </p:nvPicPr>
        <p:blipFill>
          <a:blip r:embed="rId1"/>
          <a:stretch/>
        </p:blipFill>
        <p:spPr>
          <a:xfrm>
            <a:off x="2158920" y="3598920"/>
            <a:ext cx="4822920" cy="1430280"/>
          </a:xfrm>
          <a:prstGeom prst="rect">
            <a:avLst/>
          </a:prstGeom>
          <a:ln w="0">
            <a:noFill/>
          </a:ln>
        </p:spPr>
      </p:pic>
      <p:sp>
        <p:nvSpPr>
          <p:cNvPr id="2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6" dur="indefinite" restart="never" nodeType="tmRoot">
          <p:childTnLst>
            <p:seq>
              <p:cTn id="697" dur="indefinite" nodeType="mainSeq">
                <p:childTnLst>
                  <p:par>
                    <p:cTn id="698" nodeType="clickEffect" fill="hold">
                      <p:stCondLst>
                        <p:cond delay="0"/>
                      </p:stCondLst>
                      <p:childTnLst>
                        <p:par>
                          <p:cTn id="6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0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9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7" dur="5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5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1" dur="5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5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nodeType="clickEffect" fill="hold">
                      <p:stCondLst>
                        <p:cond delay="indefinite"/>
                      </p:stCondLst>
                      <p:childTnLst>
                        <p:par>
                          <p:cTn id="7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8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3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4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9600" cy="7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Русский интуитивиз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98892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Н. О. Лосский: органический идеал-реализ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носеология (интуитивизм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нтенциональность созн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Гносеологическая координац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ри вида интуиц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нтология (иерархический персонализм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ерархия субстанциальных деятеле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ир как органическое цело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. Л. Фран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носеология (интуитивизм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еталогическое единств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Живое знание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нтология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Непостижимое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ритика детерминизм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Этика: Вековечная борьба добра и зл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оциальная философ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Ересь утопизма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борность как основа социальнос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5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5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5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5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Н.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О. Лосский (1870-1965)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рганический идеал-реализ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58560" y="2769840"/>
            <a:ext cx="4894200" cy="35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боснование интуитивизма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0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ир как органическое целое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1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Чувственная, интеллектуальная и мистическая интуиция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3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Бог и мировое зло: Основы теодицеи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4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Условия абсолютного добра: Основы этики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4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стория русской философии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5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Лосский (1-2)"/>
          <p:cNvPicPr/>
          <p:nvPr/>
        </p:nvPicPr>
        <p:blipFill>
          <a:blip r:embed="rId1"/>
          <a:stretch/>
        </p:blipFill>
        <p:spPr>
          <a:xfrm>
            <a:off x="5505480" y="1798560"/>
            <a:ext cx="3267000" cy="43182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64" name="Text Box 5"/>
          <p:cNvSpPr/>
          <p:nvPr/>
        </p:nvSpPr>
        <p:spPr>
          <a:xfrm>
            <a:off x="971640" y="1835280"/>
            <a:ext cx="3598920" cy="53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сновные сочи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3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AutoShape 2"/>
          <p:cNvSpPr/>
          <p:nvPr/>
        </p:nvSpPr>
        <p:spPr>
          <a:xfrm>
            <a:off x="2122560" y="5002200"/>
            <a:ext cx="647640" cy="1224000"/>
          </a:xfrm>
          <a:custGeom>
            <a:avLst/>
            <a:gdLst>
              <a:gd name="textAreaLeft" fmla="*/ 86760 w 647640"/>
              <a:gd name="textAreaRight" fmla="*/ 560880 w 64764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3"/>
          <p:cNvSpPr/>
          <p:nvPr/>
        </p:nvSpPr>
        <p:spPr>
          <a:xfrm>
            <a:off x="1295280" y="3706920"/>
            <a:ext cx="648000" cy="1224000"/>
          </a:xfrm>
          <a:custGeom>
            <a:avLst/>
            <a:gdLst>
              <a:gd name="textAreaLeft" fmla="*/ 86760 w 648000"/>
              <a:gd name="textAreaRight" fmla="*/ 561240 w 64800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4"/>
          <p:cNvSpPr/>
          <p:nvPr/>
        </p:nvSpPr>
        <p:spPr>
          <a:xfrm>
            <a:off x="466560" y="2409840"/>
            <a:ext cx="648000" cy="1224000"/>
          </a:xfrm>
          <a:custGeom>
            <a:avLst/>
            <a:gdLst>
              <a:gd name="textAreaLeft" fmla="*/ 86760 w 648000"/>
              <a:gd name="textAreaRight" fmla="*/ 561240 w 64800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5"/>
          <p:cNvSpPr/>
          <p:nvPr/>
        </p:nvSpPr>
        <p:spPr>
          <a:xfrm>
            <a:off x="287280" y="151128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знание подобно не «психическому вместилищу»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которое предмет должен «попасть», чтобы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тать «осознанным», а скорее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редоточию лучей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правленных на участки бытия и их освещающи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6"/>
          <p:cNvSpPr/>
          <p:nvPr/>
        </p:nvSpPr>
        <p:spPr>
          <a:xfrm>
            <a:off x="1114560" y="280656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этой направленности на предмет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(интенциональности)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и заключает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ущность познавательного ак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7"/>
          <p:cNvSpPr/>
          <p:nvPr/>
        </p:nvSpPr>
        <p:spPr>
          <a:xfrm>
            <a:off x="1943280" y="410220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познавательном акте, таким образом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личествует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ам предмет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(в своей подлинности)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 не его «копия», «отражение»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«субъективное преломление» и т.п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8"/>
          <p:cNvSpPr/>
          <p:nvPr/>
        </p:nvSpPr>
        <p:spPr>
          <a:xfrm>
            <a:off x="2770200" y="539748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убъект имеет не опосредованное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 непосредственное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(интуитивное)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знание предме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Гносеология (интуитивизм)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нтенциональность созн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10" descr="Лосский (1-2red)"/>
          <p:cNvPicPr/>
          <p:nvPr/>
        </p:nvPicPr>
        <p:blipFill>
          <a:blip r:embed="rId1"/>
          <a:stretch/>
        </p:blipFill>
        <p:spPr>
          <a:xfrm>
            <a:off x="7413480" y="1403280"/>
            <a:ext cx="1590840" cy="2162160"/>
          </a:xfrm>
          <a:prstGeom prst="rect">
            <a:avLst/>
          </a:prstGeom>
          <a:ln w="0">
            <a:noFill/>
          </a:ln>
        </p:spPr>
      </p:pic>
      <p:sp>
        <p:nvSpPr>
          <p:cNvPr id="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AutoShape 2"/>
          <p:cNvSpPr/>
          <p:nvPr/>
        </p:nvSpPr>
        <p:spPr>
          <a:xfrm>
            <a:off x="2122560" y="5002200"/>
            <a:ext cx="647640" cy="1224000"/>
          </a:xfrm>
          <a:custGeom>
            <a:avLst/>
            <a:gdLst>
              <a:gd name="textAreaLeft" fmla="*/ 86760 w 647640"/>
              <a:gd name="textAreaRight" fmla="*/ 560880 w 64764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3"/>
          <p:cNvSpPr/>
          <p:nvPr/>
        </p:nvSpPr>
        <p:spPr>
          <a:xfrm>
            <a:off x="1295280" y="3706920"/>
            <a:ext cx="648000" cy="1224000"/>
          </a:xfrm>
          <a:custGeom>
            <a:avLst/>
            <a:gdLst>
              <a:gd name="textAreaLeft" fmla="*/ 86760 w 648000"/>
              <a:gd name="textAreaRight" fmla="*/ 561240 w 64800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4"/>
          <p:cNvSpPr/>
          <p:nvPr/>
        </p:nvSpPr>
        <p:spPr>
          <a:xfrm>
            <a:off x="466560" y="2409840"/>
            <a:ext cx="648000" cy="1224000"/>
          </a:xfrm>
          <a:custGeom>
            <a:avLst/>
            <a:gdLst>
              <a:gd name="textAreaLeft" fmla="*/ 86760 w 648000"/>
              <a:gd name="textAreaRight" fmla="*/ 561240 w 64800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5"/>
          <p:cNvSpPr/>
          <p:nvPr/>
        </p:nvSpPr>
        <p:spPr>
          <a:xfrm>
            <a:off x="287280" y="151128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То отношение субъекта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ко всем другим сущностям в мире,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которое делает интуицию возможной,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ест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гносеологическая координац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6"/>
          <p:cNvSpPr/>
          <p:nvPr/>
        </p:nvSpPr>
        <p:spPr>
          <a:xfrm>
            <a:off x="1114560" y="280656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Именно гносеологическая координация,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а не гносеологическая субординация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субъекта – предмету или предмета – субъекту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составляет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сновной закон позн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7"/>
          <p:cNvSpPr/>
          <p:nvPr/>
        </p:nvSpPr>
        <p:spPr>
          <a:xfrm>
            <a:off x="1943280" y="410220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При этом сама гносеологическая координация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есть лишь частный (гносеологический) аспект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мманентности друг другу всех индивидуальных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убстанций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 («субстанциальных деятелей»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8"/>
          <p:cNvSpPr/>
          <p:nvPr/>
        </p:nvSpPr>
        <p:spPr>
          <a:xfrm>
            <a:off x="2770200" y="539748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Универсальность взаимодействия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«единосущных» субстанциальных деятелей,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образующих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ир как органическое целое,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составляет онтологическую основу интуитивизм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Гносеология (интуитивизм)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Гносеологическая координа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10" descr="Лосский (1-2red)"/>
          <p:cNvPicPr/>
          <p:nvPr/>
        </p:nvPicPr>
        <p:blipFill>
          <a:blip r:embed="rId1"/>
          <a:stretch/>
        </p:blipFill>
        <p:spPr>
          <a:xfrm>
            <a:off x="7413480" y="1403280"/>
            <a:ext cx="1590840" cy="2162160"/>
          </a:xfrm>
          <a:prstGeom prst="rect">
            <a:avLst/>
          </a:prstGeom>
          <a:ln w="0">
            <a:noFill/>
          </a:ln>
        </p:spPr>
      </p:pic>
      <p:sp>
        <p:nvSpPr>
          <p:cNvPr id="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AutoShape 2"/>
          <p:cNvSpPr/>
          <p:nvPr/>
        </p:nvSpPr>
        <p:spPr>
          <a:xfrm>
            <a:off x="2986200" y="3057480"/>
            <a:ext cx="503280" cy="46836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3"/>
          <p:cNvSpPr/>
          <p:nvPr/>
        </p:nvSpPr>
        <p:spPr>
          <a:xfrm>
            <a:off x="2914560" y="4678200"/>
            <a:ext cx="647640" cy="46836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Гносеология (интуитивизм)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ри вида интуи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5"/>
          <p:cNvSpPr/>
          <p:nvPr/>
        </p:nvSpPr>
        <p:spPr>
          <a:xfrm>
            <a:off x="358920" y="5145120"/>
            <a:ext cx="5757840" cy="115092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Чувственная интуици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стигает материальные качества вещ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6"/>
          <p:cNvSpPr/>
          <p:nvPr/>
        </p:nvSpPr>
        <p:spPr>
          <a:xfrm>
            <a:off x="898560" y="3525840"/>
            <a:ext cx="4678200" cy="115092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нтеллектуальная интуици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стигает мир ид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7"/>
          <p:cNvSpPr/>
          <p:nvPr/>
        </p:nvSpPr>
        <p:spPr>
          <a:xfrm>
            <a:off x="1438200" y="1906560"/>
            <a:ext cx="3598920" cy="115092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истическая интуици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стигает Абсолютно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1"/>
          <p:cNvSpPr/>
          <p:nvPr/>
        </p:nvSpPr>
        <p:spPr>
          <a:xfrm>
            <a:off x="5864040" y="1906560"/>
            <a:ext cx="2978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нтуитивный характер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знавательного акта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более чистом вид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бнаруживается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случаях, когда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едметом является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деальное бытие: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ир идей, чужое «я»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предельных случаях –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бсолютно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1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2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3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75760" y="274320"/>
            <a:ext cx="8589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нтология (иерархический персонализм)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ерархия субстанциальных деятел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11"/>
          <p:cNvSpPr/>
          <p:nvPr/>
        </p:nvSpPr>
        <p:spPr>
          <a:xfrm rot="10800000">
            <a:off x="610920" y="1905840"/>
            <a:ext cx="6118200" cy="431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себлагий, всемогущи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вездесущий Бог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творил мир как систему сущностей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еличайшее значение которой в том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то она состоит из сущностей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пособных творить с Ег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семилостивейшей помощью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ысочайшее благо –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ожественную полноту жизни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олько личности способны к этому;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этому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ог творит только личности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12" descr="Лосский (1-2red)"/>
          <p:cNvPicPr/>
          <p:nvPr/>
        </p:nvPicPr>
        <p:blipFill>
          <a:blip r:embed="rId1"/>
          <a:stretch/>
        </p:blipFill>
        <p:spPr>
          <a:xfrm>
            <a:off x="7124760" y="1798560"/>
            <a:ext cx="1590480" cy="2162160"/>
          </a:xfrm>
          <a:prstGeom prst="rect">
            <a:avLst/>
          </a:prstGeom>
          <a:ln w="0">
            <a:noFill/>
          </a:ln>
        </p:spPr>
      </p:pic>
      <p:sp>
        <p:nvSpPr>
          <p:cNvPr id="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0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75760" y="274320"/>
            <a:ext cx="8589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нтология (иерархический персонализм)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ерархия субстанциальных деятел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3"/>
          <p:cNvSpPr/>
          <p:nvPr/>
        </p:nvSpPr>
        <p:spPr>
          <a:xfrm rot="10800000">
            <a:off x="610920" y="1905840"/>
            <a:ext cx="6118200" cy="431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аждый субстанциальный деятел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ожет развиваться и поднимать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сё более высокие ступени бытия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тчасти творчески вырабатывая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тчасти подражательно усваива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сё более сложные типы жизни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Лосский (1-2red)"/>
          <p:cNvPicPr/>
          <p:nvPr/>
        </p:nvPicPr>
        <p:blipFill>
          <a:blip r:embed="rId1"/>
          <a:stretch/>
        </p:blipFill>
        <p:spPr>
          <a:xfrm>
            <a:off x="7124760" y="1798560"/>
            <a:ext cx="1590480" cy="2162160"/>
          </a:xfrm>
          <a:prstGeom prst="rect">
            <a:avLst/>
          </a:prstGeom>
          <a:ln w="0">
            <a:noFill/>
          </a:ln>
        </p:spPr>
      </p:pic>
      <p:sp>
        <p:nvSpPr>
          <p:cNvPr id="1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0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1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1T05:42:15Z</dcterms:created>
  <dc:creator>Николай Бирюков / Nikolai Biryukov</dc:creator>
  <dc:description>Версия мая 2007 г.</dc:description>
  <dc:language>en-US</dc:language>
  <cp:lastModifiedBy>LEGION</cp:lastModifiedBy>
  <dcterms:modified xsi:type="dcterms:W3CDTF">2014-11-11T12:46:26Z</dcterms:modified>
  <cp:revision>56</cp:revision>
  <dc:subject>История русской философии - Лекция 13</dc:subject>
  <dc:title>Русский интуитивизм</dc:title>
</cp:coreProperties>
</file>