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A29E-C3B7-44A5-A631-C0498B6693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5318-1920-4B3A-9C09-C6FD295FB7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FCB8-92BC-49BD-93BB-630A37E4B5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к человеческое “я” есть деятель, который, может быть, биллионы лет назад вёл жизн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тон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том, объединив вокруг себя несколько электронов, усвоил тип жизн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ислород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тем, усложнив ещё более своё тело, поднялся до типа жизни, например,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ристалл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од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лее перешёл к жизн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дноклеточного животн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– после ряда перевоплощений, или, лучше [сказать], выражаясь термином Лейбница, после ряда метаморфоз – стал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человеческим “я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AEE5-0E3A-4912-9D59-E640AA94E2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BC7A-A59E-4106-86BE-B819CE956C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7D95-891A-4E89-A650-893FD96339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. Франк (1877‑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едмет знания: Об основах и пределах отвлечённого знани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ша человека: Опыт введения в философскую психологи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мысл жизн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ховные основы общества: Введение в социальную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постижимое: Онтологическое введение в философию религ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9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D4E2-E1BF-4B68-815A-4DCCEBE01E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Металогическое единство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7F9A-98BC-4B0C-90FF-590A624A84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Живое знание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51C1-7648-442C-ABF9-CCDED8A781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99EA-A320-4E72-90A4-5D008FF145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107A-942A-4089-A837-1B3B71AFA5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детерм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7DF2-0544-4D08-9688-B33BEC8954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ковечная борьба добра и з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E433-5759-4F27-B0DF-BBBEFFDEFF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1F36-EE46-45E2-9177-9A16CE25D7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Ересь утопизм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32E0-70A5-4762-AADF-95CD3AFB9C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0415-53B7-45B0-802E-12F1311666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9185-EF52-43A8-9218-924AE6298A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. О. Лосский: органический идеал-р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ая координ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и вида интуи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 как органическое це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. Л. Фра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огическое един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Живое знани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детерминиз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Вековечная борьба добра и з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альная философ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ресь утопизм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60AD-3020-4DF0-953C-526689CEAC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. Лосский (1870-1965)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рганический идеал-реализ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интуитивизма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0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увственная, интеллектуальная и мистическая интуиц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 и мировое зло: Основы теодице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4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словия абсолютного добра: Основы этик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4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русской философ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5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31A8-385C-46B9-B22A-9EFBCE2EE1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45F5-1CCA-44EF-8D20-2AB4F8AC74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ческая координ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086C-CD8D-4C4A-B82E-C5234561FE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Три вида интуи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0325-A89C-47E0-8D84-0E95E2FA91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0E39-05F5-4664-BB26-4541F02B9E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03C9-6F35-428A-8B0F-00F248B6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DAA8-D07D-43F2-BF75-2AB91E7D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A15C-6AB7-40B3-8B55-9CFF4919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3063-7CD4-4B91-8B55-83DDBD2B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DD7D-6EF4-47DC-8317-38CC762E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DEA4-E20C-46CB-994F-B7B720E0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2979-9D56-4E8C-A6A8-8A1CFA84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7DF2-6D50-4021-88AA-B1B821BE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38A4-0BF5-4403-8B59-2C330DFC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C46A-4F52-42CC-930E-193AF21F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E267-D73C-4425-A918-13334912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CE85-E19F-4EC4-865C-52959FA3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62D4-5601-4FAB-900E-5DCD35C44F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99680" y="2214720"/>
            <a:ext cx="8201160" cy="19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181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 человеческое “я” есть деятель, который, может быть, биллионы лет назад вёл жизн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отон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том, объединив вокруг себя несколько электронов, усвоил тип жизн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ислоро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тем, усложнив ещё более своё тело, поднялся до типа жизни, например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ристалл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лее перешёл к жизн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дноклеточного живот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– после ряда перевоплощений, или, лучше [сказать], выражаясь термином Лейбница, после ряда метаморфоз – стал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человеческим “я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21589901"/>
          <p:cNvPicPr/>
          <p:nvPr/>
        </p:nvPicPr>
        <p:blipFill>
          <a:blip r:embed="rId1"/>
          <a:stretch/>
        </p:blipFill>
        <p:spPr>
          <a:xfrm>
            <a:off x="5937120" y="1619280"/>
            <a:ext cx="117180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19851724"/>
          <p:cNvPicPr/>
          <p:nvPr/>
        </p:nvPicPr>
        <p:blipFill>
          <a:blip r:embed="rId2"/>
          <a:stretch/>
        </p:blipFill>
        <p:spPr>
          <a:xfrm>
            <a:off x="7521480" y="248292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19930693"/>
          <p:cNvPicPr/>
          <p:nvPr/>
        </p:nvPicPr>
        <p:blipFill>
          <a:blip r:embed="rId3"/>
          <a:stretch/>
        </p:blipFill>
        <p:spPr>
          <a:xfrm>
            <a:off x="6081840" y="3201840"/>
            <a:ext cx="961920" cy="1219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25722158"/>
          <p:cNvPicPr/>
          <p:nvPr/>
        </p:nvPicPr>
        <p:blipFill>
          <a:blip r:embed="rId4"/>
          <a:stretch/>
        </p:blipFill>
        <p:spPr>
          <a:xfrm>
            <a:off x="7556400" y="384984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24795109"/>
          <p:cNvPicPr/>
          <p:nvPr/>
        </p:nvPicPr>
        <p:blipFill>
          <a:blip r:embed="rId5"/>
          <a:stretch/>
        </p:blipFill>
        <p:spPr>
          <a:xfrm>
            <a:off x="6153120" y="4857840"/>
            <a:ext cx="885960" cy="121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Диоген (clipart)"/>
          <p:cNvPicPr/>
          <p:nvPr/>
        </p:nvPicPr>
        <p:blipFill>
          <a:blip r:embed="rId6"/>
          <a:stretch/>
        </p:blipFill>
        <p:spPr>
          <a:xfrm>
            <a:off x="7556400" y="5218200"/>
            <a:ext cx="1238400" cy="1224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ерцание других сущ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и, какими они явля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и по себе, возможно потому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 есть некое органическое цел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ознающий субъек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уальное человеческое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е сверхвременно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ерхпространственное быт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сно связанное с целым мир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висящая от времени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странства ко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не что и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язь сверхвременных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ерхпространственных деятел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 с друго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благодаря котор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переживает один деяте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воё проясн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не только для н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 для других деятелей всего ми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. Франк (1877‑19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25480" y="2769840"/>
            <a:ext cx="550692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дмет знания: Об основах и пределах отвлечённого знан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ша человека: Опыт введения в философскую психологи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ые основы общества: Введение в социальную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постижимое: Онтологическое введение в философию рели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9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Франк СЛ (1)"/>
          <p:cNvPicPr/>
          <p:nvPr/>
        </p:nvPicPr>
        <p:blipFill>
          <a:blip r:embed="rId1"/>
          <a:stretch/>
        </p:blipFill>
        <p:spPr>
          <a:xfrm>
            <a:off x="539640" y="1798560"/>
            <a:ext cx="25956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2" name="Text Box 7"/>
          <p:cNvSpPr/>
          <p:nvPr/>
        </p:nvSpPr>
        <p:spPr>
          <a:xfrm>
            <a:off x="44974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ое определённо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ожно мыслить лишь в е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отнесённости с каким-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-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 соотнесённость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не-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редполагает, 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а они являю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ленами некоего объемлющ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а,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которое должно мыслить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определённым, «трансцендентны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то искомое единство не вмещ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амки логической системы именно потому, 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о сам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ие возможности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таковое оно «мета-логично», точнее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еталогическое единство»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ли «Всеединств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еталогическое един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 и предмет знания существуют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должны мыслиться на фоне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ъемлющего их «металогического единства»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не противостоит бытию, 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ключено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(сознанию противостоит лишь «предметный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ир» – область «объективируемого», но подли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ытие не знает раздвоения на субъект и предм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ует отлич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мпирическое «предметное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н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действительности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абстрактное» знание логических связе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между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лементами действительности 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ив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деальное знание приводит в систему данны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пыта, но это единство рационально и статич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есть лишь «бледный намёк»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логическ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, открывающееся в «живом знан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Живое зн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знаваемый мир со всех сторон окружён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на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ёмной бездной непостижимого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ледует отличать «непостижимое для нас»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(кантовская «вещь в себе»)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Непостижимого в его самобыт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читать эту исконную таинственность быти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ледствием нашей ограниченной способности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сприятия – значит упростить проблему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звести тайну на уровень неразрешимой шар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огда, под предлогом «непостижимости»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абсолютного бытия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удок выхолости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 глубинное из предметного мир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гонит его в прокрустово ложе своих категор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bregno_monument_of_cardinal_nicola_de_cusa"/>
          <p:cNvPicPr/>
          <p:nvPr/>
        </p:nvPicPr>
        <p:blipFill>
          <a:blip r:embed="rId1"/>
          <a:stretch/>
        </p:blipFill>
        <p:spPr>
          <a:xfrm>
            <a:off x="539640" y="2266920"/>
            <a:ext cx="2428920" cy="31813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4"/>
          <p:cNvSpPr/>
          <p:nvPr/>
        </p:nvSpPr>
        <p:spPr>
          <a:xfrm>
            <a:off x="3835800" y="2360520"/>
            <a:ext cx="442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Непостижимое постигается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средством его непостиж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5761800" y="467820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колай Куза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2160"/>
                            </p:stCondLst>
                            <p:childTnLst>
                              <p:par>
                                <p:cTn id="5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316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постижимое есть не только то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что было, есть и будет, оно есть скоре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чник бытия;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о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е, чем бытие: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н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тенциальность, или своб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 наиболее явное проявлени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постижимого в мире самос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етерминизм означ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пределённость одной определён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ой определённостью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о если глубина личности есть внутренне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бнаружение Непостижимого, то мы получае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пределённость определён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пределённостью»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т.е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у в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детерм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вобода воли дела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эмпирически реальн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физически невозможное –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граниченность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илы всемогущего (Божественный Свет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 смог просветить душу Иуд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о нельзя объяснить;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го и не нужно объяснять: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«объяснить зло» значило бы «оправдать зло», но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опустимо только такое толкование зла, котор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вляется 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личением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а не оправд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этому нет никаких гарантий для торжества начал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обра и разума: борьба между добром и злом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ековечна, более тог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еет смысл совершенн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зависимо от веры в конечную победу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ад з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пасение мира возможно лишь силой божественной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благодати, но это отнюдь не снимает обязан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ершенствования мир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создания в нём таких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условий, при которых зло свелось бы к миниму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ковечная борьба добра и з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165480" y="1870200"/>
            <a:ext cx="32385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. Лосский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0-1965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 Франк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7‑19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Лосский (1-2)"/>
          <p:cNvPicPr/>
          <p:nvPr/>
        </p:nvPicPr>
        <p:blipFill>
          <a:blip r:embed="rId1"/>
          <a:stretch/>
        </p:blipFill>
        <p:spPr>
          <a:xfrm>
            <a:off x="647640" y="1906560"/>
            <a:ext cx="2314800" cy="30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Picture 8" descr="Франк СЛ (1)"/>
          <p:cNvPicPr/>
          <p:nvPr/>
        </p:nvPicPr>
        <p:blipFill>
          <a:blip r:embed="rId2"/>
          <a:stretch/>
        </p:blipFill>
        <p:spPr>
          <a:xfrm>
            <a:off x="6656400" y="3057480"/>
            <a:ext cx="1838160" cy="30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днако, возможное «совершенствование» мир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 наше врем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меняетс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стремлением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 метафизически невозможному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илами человеческими «спасению»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ак возник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ересь утопизма»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– стремление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«спасти мир» установлением неко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го,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удительно осуществляемого поря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о спасти мир принуждением невозможно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 так как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пытки построить идеальный мир наталкиваютс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а сопротивление человеческой природы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ходится прибегать к жестоким мер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 результате вместо положительног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троени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ового мира на практике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рушаетс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старый ми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Ересь утопизм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нешняя сфера социальности («общественности»)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ывается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оборности»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первич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лидарной слитности индивидуальных “я”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 всеобъемлющем “мы”.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е есть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сто множественное число от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(в своём основном и первичном смысле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обще не может иметь множественного числа) –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есть единств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, следовательно, не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ич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тегория социального быти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(столь ж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ерви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ак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), в которой преодолеваетс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е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тивопоставленность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бор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“мы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 непосредственн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траже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в социаль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7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892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. О. Лосский: органический идеал-р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ая координ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и вида интуи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 как органическое це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. Л. Фра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огическое един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Живое знани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детерминиз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Вековечная борьба добра и з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альная философ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ресь утопизм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. Лосский (1870-1965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ганический идеал-реал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8560" y="2769840"/>
            <a:ext cx="48942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основание интуитивизм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увственная, интеллектуальная и мистическая интуиц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и мировое зло: Основы теодице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ловия абсолютного добра: Основы этик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русской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Лосский (1-2)"/>
          <p:cNvPicPr/>
          <p:nvPr/>
        </p:nvPicPr>
        <p:blipFill>
          <a:blip r:embed="rId1"/>
          <a:stretch/>
        </p:blipFill>
        <p:spPr>
          <a:xfrm>
            <a:off x="5505480" y="1798560"/>
            <a:ext cx="32670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4" name="Text Box 5"/>
          <p:cNvSpPr/>
          <p:nvPr/>
        </p:nvSpPr>
        <p:spPr>
          <a:xfrm>
            <a:off x="9716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е подобно не «психическому вместилищу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оторое предмет должен «попасть»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ть «осознанным», а скор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едоточию луч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авленных на участки бытия и их освеща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этой направленности на предм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нтенциональности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ь познавательного а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знавательном акте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личе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 предме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в своей подлинности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его «копия», «отражение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убъективное преломление»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имеет не опосредован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посредствен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нтуитивное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Лосский (1-2red)"/>
          <p:cNvPicPr/>
          <p:nvPr/>
        </p:nvPicPr>
        <p:blipFill>
          <a:blip r:embed="rId1"/>
          <a:stretch/>
        </p:blipFill>
        <p:spPr>
          <a:xfrm>
            <a:off x="7413480" y="1403280"/>
            <a:ext cx="1590840" cy="21621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отношение субъект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 всем другим сущностям в мир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торое делает интуицию возмож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носеологическая координ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менно гносеологическая координац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 не гносеологическая суб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а – предмету или предмета – субъекту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ставля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ной закон п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этом сама гносеологическая ко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 лишь частный (гносеологический) аспе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манентности друг другу всех индивидуаль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станци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(«субстанциальных деятелей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ниверсальность взаимодейств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единосущных» субстанциальных деятеле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ующ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 как органическое цело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ставляет онтологическую основу интуитив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ческая координ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Лосский (1-2red)"/>
          <p:cNvPicPr/>
          <p:nvPr/>
        </p:nvPicPr>
        <p:blipFill>
          <a:blip r:embed="rId1"/>
          <a:stretch/>
        </p:blipFill>
        <p:spPr>
          <a:xfrm>
            <a:off x="7413480" y="1403280"/>
            <a:ext cx="1590840" cy="21621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/>
          <p:cNvSpPr/>
          <p:nvPr/>
        </p:nvSpPr>
        <p:spPr>
          <a:xfrm>
            <a:off x="2986200" y="3057480"/>
            <a:ext cx="50328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2914560" y="4678200"/>
            <a:ext cx="64764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вида инту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358920" y="5145120"/>
            <a:ext cx="575784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ая интуи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игает материальные качества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898560" y="3525840"/>
            <a:ext cx="467820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теллектуальная интуи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игает мир и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1438200" y="1906560"/>
            <a:ext cx="359892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стическая интуи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игает Абсолю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5864040" y="1906560"/>
            <a:ext cx="2978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уитивный характер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вательного акт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более чистом ви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наружив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лучаях, ког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метом яв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альное бытие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 идей, чужое «я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редельных случаях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бсолю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благий, всемогущ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здесущий Бог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творил мир как систему сущ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чайшее значение которой в 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а состоит из сущ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ых творить с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илостивейшей помощь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сочайшее благо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жественную полноту жизн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личности способны к этому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творит только лич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дый субстанциальный деяте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ет развиваться и поднима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 более высокие ступени быт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части творчески вырабатыв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части подражательно усваив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более сложные типы жиз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05:42:15Z</dcterms:created>
  <dc:creator>Николай Бирюков / Nikolai Biryukov</dc:creator>
  <dc:description>Версия мая 2007 г.</dc:description>
  <dc:language>en-US</dc:language>
  <cp:lastModifiedBy>LEGION</cp:lastModifiedBy>
  <dcterms:modified xsi:type="dcterms:W3CDTF">2014-11-11T12:46:26Z</dcterms:modified>
  <cp:revision>56</cp:revision>
  <dc:subject>История русской философии - Лекция 13</dc:subject>
  <dc:title>Русский интуитивизм</dc:title>
</cp:coreProperties>
</file>