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E771-8047-472D-AEC1-9673AAD66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28EF-0EE3-4686-88A2-4513228C3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BFB3-1BF7-4BD8-835D-69C8152E09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A476-0955-4DAA-BFA5-A2FF2F53A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98AB-4994-4842-A2FD-3AB5189FA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59BA-B3BE-41D4-BDD2-227EE5B80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4D4A-CF00-4639-B49E-C32183135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6BFA-8F4B-4A4F-BB62-58FEC37CB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BD83-F00D-46D2-BD84-AA88EB642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AE85-7E61-4737-ABE8-1F832DB55D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CFB2-98AA-465F-BB8E-270250012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6C33-12EA-4E56-AF5B-E482CE7B2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560D-ED9D-4415-8250-D19CF59FC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2F7E-718C-44EF-BF95-6694AF927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C7C7-5EE2-4C67-8FD4-115272CD1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14B5-BC72-4257-B627-923D4FEE0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E0A9-BFEC-454F-8FA4-34DB927AA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2520-5553-4A48-BC4C-6C1D99A26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547A-7274-4062-83A3-AB4EF45ED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9AB7-9A9A-4C7B-8341-57581394C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B889-82AA-4E8A-8D72-A7DFF2C59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05CE-D99B-45DF-AFB0-C614F0205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6B10-55DE-4B3F-BB15-FDE81313C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F4F-F817-40C8-9065-439B2568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7DB-E4EB-44CF-A1D2-5CB78CFE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0D8-8F87-4B99-AAD1-B7423909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A46-CAB9-4DFF-9C01-C4097119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638-7B3C-4E3C-9018-96D03119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E5D-8AF8-4608-A324-5B2C387F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555-A41B-4EBB-862A-03F302B6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DEA-854F-451D-BA55-115387CD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5AE-F1D5-42B3-A6C7-541E25D1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428-6682-40B6-8865-AE2427B8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2D5-CB90-4402-81D8-A64114B2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437-A68D-492B-9579-81D69AFD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FA6B-0BB4-45FB-ADAE-1A369DDA6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2214720"/>
            <a:ext cx="8201160" cy="19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21589901"/>
          <p:cNvPicPr/>
          <p:nvPr/>
        </p:nvPicPr>
        <p:blipFill>
          <a:blip r:embed="rId1"/>
          <a:stretch/>
        </p:blipFill>
        <p:spPr>
          <a:xfrm>
            <a:off x="5937120" y="1619280"/>
            <a:ext cx="11718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9851724"/>
          <p:cNvPicPr/>
          <p:nvPr/>
        </p:nvPicPr>
        <p:blipFill>
          <a:blip r:embed="rId2"/>
          <a:stretch/>
        </p:blipFill>
        <p:spPr>
          <a:xfrm>
            <a:off x="7521480" y="24829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19930693"/>
          <p:cNvPicPr/>
          <p:nvPr/>
        </p:nvPicPr>
        <p:blipFill>
          <a:blip r:embed="rId3"/>
          <a:stretch/>
        </p:blipFill>
        <p:spPr>
          <a:xfrm>
            <a:off x="6081840" y="3201840"/>
            <a:ext cx="96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25722158"/>
          <p:cNvPicPr/>
          <p:nvPr/>
        </p:nvPicPr>
        <p:blipFill>
          <a:blip r:embed="rId4"/>
          <a:stretch/>
        </p:blipFill>
        <p:spPr>
          <a:xfrm>
            <a:off x="7556400" y="384984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24795109"/>
          <p:cNvPicPr/>
          <p:nvPr/>
        </p:nvPicPr>
        <p:blipFill>
          <a:blip r:embed="rId5"/>
          <a:stretch/>
        </p:blipFill>
        <p:spPr>
          <a:xfrm>
            <a:off x="6153120" y="4857840"/>
            <a:ext cx="88596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Диоген (clipart)"/>
          <p:cNvPicPr/>
          <p:nvPr/>
        </p:nvPicPr>
        <p:blipFill>
          <a:blip r:embed="rId6"/>
          <a:stretch/>
        </p:blipFill>
        <p:spPr>
          <a:xfrm>
            <a:off x="7556400" y="5218200"/>
            <a:ext cx="12384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ерцание других су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и, какими они яв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по себе, возмож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есть некое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знающий субъек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ьное человеческо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сверхвременно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рхпространственное быт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но связанное с целым мир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ая от времен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ь сверхвременных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пространственных деятел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 с друго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даря котор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ереживает один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ё проясн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не только для н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для других деятелей всего ми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5480" y="2769840"/>
            <a:ext cx="55069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Франк СЛ (1)"/>
          <p:cNvPicPr/>
          <p:nvPr/>
        </p:nvPicPr>
        <p:blipFill>
          <a:blip r:embed="rId1"/>
          <a:stretch/>
        </p:blipFill>
        <p:spPr>
          <a:xfrm>
            <a:off x="539640" y="1798560"/>
            <a:ext cx="25956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2" name="Text Box 7"/>
          <p:cNvSpPr/>
          <p:nvPr/>
        </p:nvSpPr>
        <p:spPr>
          <a:xfrm>
            <a:off x="4497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знаваемый мир со всех сторон окружён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ёмной бездной непостижимого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ует отличать «непостижимое для нас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кантовская «вещь в себе»)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епостижимого в его самобыт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читать эту исконную таинственность быт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ствием нашей ограниченной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сприятия – значит упростить проблем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звести тайну на уровень неразрешимой ш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огда, под предлогом «непостижимости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бсолютного быт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 выхолости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глубинное из предметного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гонит его в прокрустово ложе своих катег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bregno_monument_of_cardinal_nicola_de_cusa"/>
          <p:cNvPicPr/>
          <p:nvPr/>
        </p:nvPicPr>
        <p:blipFill>
          <a:blip r:embed="rId1"/>
          <a:stretch/>
        </p:blipFill>
        <p:spPr>
          <a:xfrm>
            <a:off x="539640" y="2266920"/>
            <a:ext cx="2428920" cy="3181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3835800" y="236052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постижимое постигаетс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средством его непост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761800" y="4678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лай Куз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е есть не только то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было, есть и будет, оно есть скор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чник бытия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, чем бытие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енциальность, или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аиболее явное проявлени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го в мире само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терминизм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дной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определённостью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о если глубина личности есть внутренне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наружение Непостижимого, то мы получа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пределённостью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бода воли дел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чески реа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чески невозможное –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граниченность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ы всемогущего (Божественный Свет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смог просветить душу И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 нельзя объяснить;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го и не нужно объяснять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объяснить зло» значило бы «оправдать зло», н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пустимо только такое толкование зла, котор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вляется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ичением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а не оправд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этому нет никаких гарантий для торжества начал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бра и разума: борьба между добром и злом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ковечна, более тог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ет смысл совершенн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зависимо от веры в конечную победу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ад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пасение мира возможно лишь силой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лагодати, но это отнюдь не снимает обяза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ершенствования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создания в нём таких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, при которых зло свелось бы к миниму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165480" y="1870200"/>
            <a:ext cx="3238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65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 Фран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Лосский (1-2)"/>
          <p:cNvPicPr/>
          <p:nvPr/>
        </p:nvPicPr>
        <p:blipFill>
          <a:blip r:embed="rId1"/>
          <a:stretch/>
        </p:blipFill>
        <p:spPr>
          <a:xfrm>
            <a:off x="647640" y="1906560"/>
            <a:ext cx="231480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8" descr="Франк СЛ (1)"/>
          <p:cNvPicPr/>
          <p:nvPr/>
        </p:nvPicPr>
        <p:blipFill>
          <a:blip r:embed="rId2"/>
          <a:stretch/>
        </p:blipFill>
        <p:spPr>
          <a:xfrm>
            <a:off x="6656400" y="3057480"/>
            <a:ext cx="183816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нако, возможное «совершенствование» мир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наше врем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меня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ремлением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метафизически невозможном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ами человеческими «спасению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ак возник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ересь утопизма»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– стремл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спасти мир» установлением неко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го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удительно осуществляемого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спасти мир принуждением невозможно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так как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пытки построить идеальный мир наталкиваю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а сопротивление человеческой природы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прибегать к жестоким ме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результате вместо положительн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ен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ового мира на практик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а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ары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89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2769840"/>
            <a:ext cx="4894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Лосский (1-2)"/>
          <p:cNvPicPr/>
          <p:nvPr/>
        </p:nvPicPr>
        <p:blipFill>
          <a:blip r:embed="rId1"/>
          <a:stretch/>
        </p:blipFill>
        <p:spPr>
          <a:xfrm>
            <a:off x="5505480" y="1798560"/>
            <a:ext cx="3267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9716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98620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91456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58920" y="514512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атериальные качества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98560" y="3525840"/>
            <a:ext cx="4678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ектуаль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ир и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438200" y="1906560"/>
            <a:ext cx="3598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864040" y="1906560"/>
            <a:ext cx="297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уитив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ого ак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олее чистом ви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наруж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лучаях, ког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ом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ьное быти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дей, чужое «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едельных случаях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благий, всемогущ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здесущий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 как систему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айшее значение которой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а состоит из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ых творить с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лостивейшей помощ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очай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ую полноту жиз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личности способны к этому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творит только лич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субстанциальный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развиваться и подним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более высокие ступени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творчески вырабатыв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подражательно усва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более сложные типы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5:42:15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2:46:26Z</dcterms:modified>
  <cp:revision>56</cp:revision>
  <dc:subject>История русской философии - Лекция 13</dc:subject>
  <dc:title>Русский интуитивизм</dc:title>
</cp:coreProperties>
</file>