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FD7BC-B90F-431E-B33A-4B755D716129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 Российской Федерации и международные кредитные от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ая система Российской Федерации и международные кредитные отношени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валютная система — закрепленная в международных соглашениях форма организации валютно-финансовых отношений, функционирующих самостоятельно или обслуживающих международное движение товаров и факторов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, мировая, международная валютн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ая валютная система — закрепленная в международных соглашениях форма организации валютно-финансовых отношений, функционирующих самостоятельно или обслуживающих международное движение товаров и факторов производств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циональная, мировая, международная валютные систем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ртируемость валю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ртируемость валюты — способность резидентов и нерезидентов свободно, без ограничений, обменивать национальную валюту на иностранную и использовать иностранную валюту в сделках с реальными и финансовыми актив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ртируемость валюты разделяется на внутреннюю и внешню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вертируемость валют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вертируемость валюты — способность резидентов и нерезидентов свободно, без ограничений, обменивать национальную валюту на иностранную и использовать иностранную валюту в сделках с реальными и финансовыми активам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вертируемость валюты разделяется на внутреннюю и внешнюю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енняя конвертируемость — право резидентов покупать, иметь и совершать операции внутри страны с активами в форме валюты и банковских депозитов, переведенных в иностранную валюту. Внутренняя конвертируемость относится к сделкам между резидентами внутри своей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ртируемость валю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нутренняя конвертируемость — право резидентов покупать, иметь и совершать операции внутри страны с активами в форме валюты и банковских депозитов, переведенных в иностранную валюту. Внутренняя конвертируемость относится к сделкам между резидентами внутри своей стран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вертируемость валют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 — пропорциональный обмен одной национальной валюты на другую путем купли-продаж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 играет важную роль в развитии экономики страны, поскольку оказывает непосредственное влияние на выбор такой структуры производства и потребления, экспорта и импорта, которая приносит максимальную прибыл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курс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курс — пропорциональный обмен одной национальной валюты на другую путем купли-продаж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курс играет важную роль в развитии экономики страны, поскольку оказывает непосредственное влияние на выбор такой структуры производства и потребления, экспорта и импорта, которая приносит максимальную прибыль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завышенном валютном курсе внутренние цены страны оказываются выше мировы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ижение курса валюты, его заниженность по сравнению с ее реальной покупательной способностью приводит к тому, что внутренние цены государства оказываются ниже мировы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 завышенном валютном курсе внутренние цены страны оказываются выше мировых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нижение курса валюты, его заниженность по сравнению с ее реальной покупательной способностью приводит к тому, что внутренние цены государства оказываются ниже мировых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курс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ют три основные системы валютных кур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Фиксированная. При такой системе государство устанавливает золотое или долларовое содержание национальной денежной едини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ществуют три основные системы валютных курсов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Фиксированная. При такой системе государство устанавливает золотое или долларовое содержание национальной денежной единиц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курс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Свободная плавающая. Курс национальной валюты в этом случае складывается в зависимости от изменения соотношения спроса и предложения на нее на валютных рынках и не предполагает вмешательства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Управляемая плавающая. При этой системе при внешнем сохранении плавающей системы государство влияет на формирование курса национальной валюты через ЦБ, который сглаживает колебания курса путем покупки и продажи валюты на валютных рынк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курс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Свободная плавающая. Курс национальной валюты в этом случае складывается в зависимости от изменения соотношения спроса и предложения на нее на валютных рынках и не предполагает вмешательства государств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.Управляемая плавающая. При этой системе при внешнем сохранении плавающей системы государство влияет на формирование курса национальной валюты через ЦБ, который сглаживает колебания курса путем покупки и продажи валюты на валютных рынках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ы валютного кур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олотой стандарт — международная валютная система, основанная на официальном закреплении странами золотого содержания в единице национальной валюты с обязательством центральных банков покупать и продавать национальную валюту в обмен на золото. Золотой стандарт в международной валютной системе существовал дважды — с 1880 по 1914 г., и с 1925 по 1931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истемы валютного курса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олотой стандарт — международная валютная система, основанная на официальном закреплении странами золотого содержания в единице национальной валюты с обязательством центральных банков покупать и продавать национальную валюту в обмен на золото. Золотой стандарт в международной валютной системе существовал дважды — с 1880 по 1914 г., и с 1925 по 1931 г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ые организации и Московская межбанковская валютная бирж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Международный валютный фонд (МВФ) был создан в июле 1944 г. по решению конференции ООН. Его местонахождение — Вашингт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ВФ — крупнейший кредитор мира. В настоящее время в его состав входят около двухсот стран, почти все страны мирового сообщества. Кредиты МВФ предоставляются в иностранной валюте для выравнивания платежных балансов государств-член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е валютные организации и Московская межбанковская валютная бирж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 Международный валютный фонд (МВФ) был создан в июле 1944 г. по решению конференции ООН. Его местонахождение — Вашингтон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ВФ — крупнейший кредитор мира. В настоящее время в его состав входят около двухсот стран, почти все страны мирового сообщества. Кредиты МВФ предоставляются в иностранной валюте для выравнивания платежных балансов государств-членов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м институтом регулирования международных валютно-финансовых отношений, кроме МВФ, является Всемирный банк (ВБ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Б состоит из нескольких учреждений, главным из которых является Международный банк реконструкции и развития (МБРР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ые организации и Московская межбанковская валютная бирж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жнейшим институтом регулирования международных валютно-финансовых отношений, кроме МВФ, является Всемирный банк (ВБ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Б состоит из нескольких учреждений, главным из которых является Международный банк реконструкции и развития (МБРР)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е валютные организации и Московская межбанковская валютная бирж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алютная система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Валютная система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к те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е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дачи к теме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е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 к те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ст к тем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еждународные кредитные отнош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Международные кредитные отношения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и классификация международного креди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кредит как разновидность экономической категории «кредит» представляет собой движение ссудного капитала в сфере международных экономических отношений, связанное с предоставлением валютных и товарных ресурсов на условиях возвратности, срочности, обеспеченности и уплаты проц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щность и классификация международного кредита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й кредит как разновидность экономической категории «кредит» представляет собой движение ссудного капитала в сфере международных экономических отношений, связанное с предоставлением валютных и товарных ресурсов на условиях возвратности, срочности, обеспеченности и уплаты процент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современного развития международного креди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ое стимулирование экспор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правительственное регулирование экспортного кредит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ориентация ряда стран от кредитования экспорта в национальных валютах на предоставление кредитов в валютах третьих стран (например, в евр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и классификация международного креди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арактерные черты современного развития международного кредит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осударственное стимулирование экспорта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правительственное регулирование экспортного кредитовани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реориентация ряда стран от кредитования экспорта в национальных валютах на предоставление кредитов в валютах третьих стран (например, в евро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щность и классификация международного креди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валютный фонд (МВФ) — это международная валютно-кредитная организация, имеющая статус специализированного учреждения О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м направлением деятельности МВФ являются его кредитные операции, осуществляемые только с официальными органами стран-членов (казначействами, центральными банками, стабилизационными фондами), их можно разделить на два ви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и классификация международного креди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й валютный фонд (МВФ) — это международная валютно-кредитная организация, имеющая статус специализированного учреждения ООН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жнейшим направлением деятельности МВФ являются его кредитные операции, осуществляемые только с официальными органами стран-членов (казначействами, центральными банками, стабилизационными фондами), их можно разделить на два вид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щность и классификация международного креди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ные операции деля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ы, предоставляемые в пределах резервной позиции страны в МВФ: для покрытия дефицита платежного баланса страна может получить кредит в иностранной валюте в обмен на национальную сроком до 3 — 5 лет, при этом погашение кредита производится обратным путем — посредством покупки национальной валюты на свободно конвертируемую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и классификация международного креди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ные операции делятся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ы, предоставляемые в пределах резервной позиции страны в МВФ: для покрытия дефицита платежного баланса страна может получить кредит в иностранной валюте в обмен на национальную сроком до 3 — 5 лет, при этом погашение кредита производится обратным путем — посредством покупки национальной валюты на свободно конвертируемую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щность и классификация международного креди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ы, предоставляемые сверх резервной доли; в этом случае кредит может быть выдан только после предварительного изучения валютно-экономического положения страны и выполнения ею требований МВФ о проведении стабилизационных м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и классификация международного креди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ы, предоставляемые сверх резервной доли; в этом случае кредит может быть выдан только после предварительного изучения валютно-экономического положения страны и выполнения ею требований МВФ о проведении стабилизационных мер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щность и классификация международного креди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, эволюция и структура мирового рынка ссудных капита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ой рынок ссудных капиталов — это рынок, на котором осуществляются международные кредитные операции, его эволюция связана с процессом интернационализации хозяйственной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нятие, эволюция и структура мирового рынка ссудных капитало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ировой рынок ссудных капиталов — это рынок, на котором осуществляются международные кредитные операции, его эволюция связана с процессом интернационализации хозяйственной жизн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но выделить две составляющие мирового рынка ссудных капиталов: рынок «иностранных кредитов и займов», охватывающий международные операции на национальных рынках ссудных капитал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я, эволюция и структура мирового рынка ссудных капитало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ожно выделить две составляющие мирового рынка ссудных капиталов: рынок «иностранных кредитов и займов», охватывающий международные операции на национальных рынках ссудных капиталов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нятия, эволюция и структура мирового рынка ссудных капитало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, мировая, международная валютн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ртируемость валю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ы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ые организации и Московская межбанковская валютная бирж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к те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 к те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циональная, мировая, международная валютные систем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вертируемость валют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кур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истемы валютного курс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е валютные организации и Московская межбанковская валютная бирж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дачи к теме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ст к тем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валютный рынок (еврорынок), на котором совершаются безналичные депозитно-кредитные операции в иностранных валютах за пределами стран — эмитентов этих вал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я, эволюция и структура мирового рынка ссудных капитало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вровалютный рынок (еврорынок), на котором совершаются безналичные депозитно-кредитные операции в иностранных валютах за пределами стран — эмитентов этих валют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нятия, эволюция и структура мирового рынка ссудных капитало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ование внешней торгов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яя торговля — это торговля между странами, состоящая из вывоза (экспорта) и ввоза (импорта) товаров и услуг. Внешняя торговля осуществляется преимущественно через коммерческие сделки, оформляемые внешнеторговыми контракт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ование внешней торговл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нешняя торговля — это торговля между странами, состоящая из вывоза (экспорта) и ввоза (импорта) товаров и услуг. Внешняя торговля осуществляется преимущественно через коммерческие сделки, оформляемые внешнеторговыми контрактам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ование внешней торговли — это предоставление кредитных средств в денежной или товарной форме на определенный срок для осуществления внешнеторговых операц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ование внешней торгов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ование внешней торговли — это предоставление кредитных средств в денежной или товарной форме на определенный срок для осуществления внешнеторговых операций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ование внешней торговл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кредитования внешней торговл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инговые услуги, представляющие собой финансирование под уступку денежных требова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ование внешней торгов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ормы кредитования внешней торговли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акторинговые услуги, представляющие собой финансирование под уступку денежных требований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ование внешней торговл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форфейтинге используется экономический инструмент акцептованный вексель, или трат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 о форфейтинге является консенсуальным и носит организационный характер, поскольку сначала в договоре оговаривается, какие векселя банк принимает к форфейтингу, в какие сроки, по какой ставке они учитываются, а уже потом передается конкретный, векс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ование внешней торгов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 форфейтинге используется экономический инструмент акцептованный вексель, или тратта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оговор о форфейтинге является консенсуальным и носит организационный характер, поскольку сначала в договоре оговаривается, какие векселя банк принимает к форфейтингу, в какие сроки, по какой ставке они учитываются, а уже потом передается конкретный, вексель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ование внешней торговл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ёжный баланс: понятие и основные составляющ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ежный баланс — это статистическая система, в которой отражаются все международные операции страны в форме соотношения валютных поступлений из-за границы и платежей, произведенных данной страной другим странам, в течение определенного периода време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яемые по методике МВФ платежные балансы включают не только поступления и платежи, которые фактически осуществлены, но и будущие платежи по международным требованиям и обязательства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тёжный баланс: понятие и основные составляющ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тежный баланс — это статистическая система, в которой отражаются все международные операции страны в форме соотношения валютных поступлений из-за границы и платежей, произведенных данной страной другим странам, в течение определенного периода времен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ставляемые по методике МВФ платежные балансы включают не только поступления и платежи, которые фактически осуществлены, но и будущие платежи по международным требованиям и обязательствам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латежном балансе также разграничиваются текущие и капитальные трансфер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ущие трансферты увеличивают уровень располагаемого дохода и потребления товаров и услуг получателя и уменьшают располагаемый доход и потенциальные возможности потребления донора, например гуманитарная помощь в форме потребительских товаров и услу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ёжный баланс: понятие и основные составляющ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платежном балансе также разграничиваются текущие и капитальные трансферт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кущие трансферты увеличивают уровень располагаемого дохода и потребления товаров и услуг получателя и уменьшают располагаемый доход и потенциальные возможности потребления донора, например гуманитарная помощь в форме потребительских товаров и услуг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тёжный баланс: понятие и основные составляющ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ьные трансферты приводят к изменению в объеме активов или обязательств донора и получателя и отражаются в счете операций с капиталом. Пример капитальных трансфертов — безвозмездная передача прав собственности на основные фонды, прощение долг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ёжный баланс: понятие и основные составляющ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апитальные трансферты приводят к изменению в объеме активов или обязательств донора и получателя и отражаются в счете операций с капиталом. Пример капитальных трансфертов — безвозмездная передача прав собственности на основные фонды, прощение долгов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тёжный баланс: понятие и основные составляющ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внешней задолженности Росс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я является одновременно должником и кредитор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долг бывших социалистических и развивающихся стран приходится 140 млрд долл. США. Основные заемщики — это Куба, Монголия, Вьетнам, Индия, Ливия и др.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блема внешней задолженности Росси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оссия является одновременно должником и кредитором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 долг бывших социалистических и развивающихся стран приходится 140 млрд долл. США. Основные заемщики — это Куба, Монголия, Вьетнам, Индия, Ливия и др.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касается роли должника, то Россия как правопреемница СССР по его зарубежным активам и пассивам — СССР привлекал среднесрочный и долгосрочный иностранный капитал преимущественно в форме экспортных кредитов — взяла на себя обязательства по обслуживанию внешнего долга ССС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внешней задолженности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Что касается роли должника, то Россия как правопреемница СССР по его зарубежным активам и пассивам — СССР привлекал среднесрочный и долгосрочный иностранный капитал преимущественно в форме экспортных кредитов — взяла на себя обязательства по обслуживанию внешнего долга СССР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блема внешней задолженности Росс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кредитные 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и классификация международного креди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я, эволюция и структура мирового рынка ссудных капитал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ование внешней торгов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ёжный баланс: понятие и основные составляющ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внешней задолженности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экономическое сотрудничество в современных услов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сок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ссар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к те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 к те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кредитные 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е кредитные отношен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щность и классификация международного креди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нятия, эволюция и структура мирового рынка ссудных капитал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ование внешней торговл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тёжный баланс: понятие и основные составляющ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блема внешней задолженности Росс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ое экономическое сотрудничество в современных условиях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писок литератур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лоссар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дачи к тем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ст к тем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е кредитные отношен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агается комплексное решение проблемы внешней задолжен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счет возврата средств, незаконно вывезенных за рубеж; по оценке экспертов, это примерно 500 — 700 млрд. долл., которые хранятся в американских банк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внешней задолженности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лагается комплексное решение проблемы внешней задолженности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 счет возврата средств, незаконно вывезенных за рубеж; по оценке экспертов, это примерно 500 — 700 млрд. долл., которые хранятся в американских банках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блема внешней задолженности Росс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экономическое сотрудничество в современных услов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ю задачи активного участия России в мировых интеграционных процессах в значительной степени способствует дальнейшее углубление торгово-экономических отношений с Европейским Союзом. Фундаментом этих отношений является Соглашение о партнерстве и сотрудничестве, Стратегия развития отношений Российской Федерации с ЕС на среднесрочную перспективу (2000 — 2010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ое экономическое сотрудничество в современных условиях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шению задачи активного участия России в мировых интеграционных процессах в значительной степени способствует дальнейшее углубление торгово-экономических отношений с Европейским Союзом. Фундаментом этих отношений является Соглашение о партнерстве и сотрудничестве, Стратегия развития отношений Российской Федерации с ЕС на среднесрочную перспективу (2000 — 2010)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ы, происходящие в банковской системе, наиболее хорошо наблюдаемы и одновременно очень тонко отражают состояние экономики в цел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им международную экономическую деятельность Сбербанка России как главного банка, обслуживающего население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экономическое сотрудничество в современных услов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цессы, происходящие в банковской системе, наиболее хорошо наблюдаемы и одновременно очень тонко отражают состояние экономики в целом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ссмотрим международную экономическую деятельность Сбербанка России как главного банка, обслуживающего население стран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ое экономическое сотрудничество в современных условиях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сок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крёстова Л.В. Финансы и кредит: учеб. пособие для студ. сред. проф. учеб. Заведений/ Л.В. Перекрёстова.  – М.: Академия, 2006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геев Е.Ю. Международные экономические отношения: Курс лекций. – М.: Информационно-внедренческий центр «Маркетинг», 2000. С. 20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онова И.Н. Валютный рынок и валютное регулирование / И. Н. Платонов – М.: БЕК, 199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нные ресур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 РФ: [Электронный ресурс] / Электрон. ст. – Режим доступа к ст.:  http://www.bankreferatov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кредитные отношения: [Электронный ресурс] / Электрон. ст. – Режим доступа к ст.: http://www.5ballov.ru/referats/pre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писок литератур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рекрёстова Л.В. Финансы и кредит: учеб. пособие для студ. сред. проф. учеб. Заведений/ Л.В. Перекрёстова.  – М.: Академия, 2006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ергеев Е.Ю. Международные экономические отношения: Курс лекций. – М.: Информационно-внедренческий центр «Маркетинг», 2000. С. 203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тонова И.Н. Валютный рынок и валютное регулирование / И. Н. Платонов – М.: БЕК, 1996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лектронные ресурс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ая система РФ: [Электронный ресурс] / Электрон. ст. – Режим доступа к ст.:  http://www.bankreferatov.r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е кредитные отношения: [Электронный ресурс] / Электрон. ст. – Режим доступа к ст.: http://www.5ballov.ru/referats/preview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Глоссар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Глоссар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 к те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ст к тем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к те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дачи к тем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в широком смысле слова — любой товар, способный выполнять денежную функцию средства обмена на международной арен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разделяется в зависимости от ее принадлежности: на национальную валюту — законное платежное средство на территории выпускающих ее стран (доллар в США, рубль в России); иностранную валюту — платежное средство других стран, законно или незаконно используемое на территории данной страны (доллар в России, рубль на Украине, латы в Латви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в широком смысле слова — любой товар, способный выполнять денежную функцию средства обмена на международной арене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разделяется в зависимости от ее принадлежности: на национальную валюту — законное платежное средство на территории выпускающих ее стран (доллар в США, рубль в России); иностранную валюту — платежное средство других стран, законно или незаконно используемое на территории данной страны (доллар в России, рубль на Украине, латы в Латвии)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о-кредитные и финансовые отношения — составная часть и самая сложная сфера рыночного хозяйства. В них фокусируются проблемы национальной и мировой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 — это форма организации и регулирования валютных отношении, закрепленная национальным законодательством или межгосударственными соглашен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е валютно-кредитные и финансовые отношения — составная часть и самая сложная сфера рыночного хозяйства. В них фокусируются проблемы национальной и мировой экономик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ая система — это форма организации и регулирования валютных отношении, закрепленная национальным законодательством или межгосударственными соглашениям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валютой РФ понима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ходящиеся в обращении, а также изъятые или изымаем из обращения, но подлежащие обмену рубли в виде банковских билетов (банкнот) Центрального банка РФ и моне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 в рублях на счетах в банках и иных кредитных учреждениях в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 в рублях на счетах в банках и иных кредитных учреждениях за пределами РФ на основании соглашения, заключаемого Правительством РФ и Центральным банком РФ с ответствующими органами иностранного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д валютой РФ понимается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ходящиеся в обращении, а также изъятые или изымаем из обращения, но подлежащие обмену рубли в виде банковских билетов (банкнот) Центрального банка РФ и монеты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редства в рублях на счетах в банках и иных кредитных учреждениях в РФ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редства в рублях на счетах в банках и иных кредитных учреждениях за пределами РФ на основании соглашения, заключаемого Правительством РФ и Центральным банком РФ с ответствующими органами иностранного государств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, мировая, международная валютн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 валютная система — форма организации валютных отношений страны, закрепленная национальным законодательств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ой национальной валютной системы выступает установленная законом денежная единица государства. В России это российский рубль, введенный в обращение в 1993 г. и заменивший рубль ССС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циональная, мировая, международная валютные систем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циональная валютная система — форма организации валютных отношений страны, закрепленная национальным законодательством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сновой национальной валютной системы выступает установленная законом денежная единица государства. В России это российский рубль, введенный в обращение в 1993 г. и заменивший рубль СССР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 базируется на функции мировых денег. Они служат мировым платежным средством, мировым покупательным средством и материальным воплощением общественного богат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ами мировой валютной системы являются определенный набор платежных средств, валютные курсы и валютные паритеты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, мировая, международная валютн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ировая валютная система базируется на функции мировых денег. Они служат мировым платежным средством, мировым покупательным средством и материальным воплощением общественного богатств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лементами мировой валютной системы являются определенный набор платежных средств, валютные курсы и валютные паритеты и т.д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циональная, мировая, международная валютные систем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DF87-BF5C-4A81-A860-059348A11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F1A4-78E8-4C85-A7A8-A3C69A48E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92FB-1275-40A5-ADF1-CDB69E143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EAFC-71A1-4559-A876-B08C0F81D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B147A-00C1-4061-8605-0DC9712F0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BE29B-4F8F-4DA2-8E59-C2966BF72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08376-4915-403F-8691-565AB8785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05B40-31A1-4E79-9883-26929859A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66651-2B7C-422B-B2A8-86451976C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628BE-91A1-4DA5-B55E-D4EA90F74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2F516-AFA0-4E9C-8B8D-75A65DA6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88B7-B65B-4534-A51F-05D00FE80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8B0A6-3B31-4B5F-85FC-25B0FC53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3C728-D6D7-47EF-A143-136A59AD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FBB25-F045-45A4-ABB5-4CA88E30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0D454-0CF6-4AF5-A18E-CAC2FF1D2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26314-27D3-4805-9C24-CE6AA6DD4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1EA2-F19B-4EBB-90F5-BE365609F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B737-881B-4957-B229-0C5584A74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E67F-EB79-4247-B298-9D3519CFE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2909-D8E8-4578-91DB-767B2CF04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61E8-4FF4-456A-B171-002726A9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F800-7A8C-4EF8-A6B6-F75C3FEE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AE07-7643-4E2E-BE7F-758E9A7D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05FAD-A28F-44BB-AA85-4542A84E86AB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B9F1F-6248-4810-9401-7FBD5E4871DF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7.xml"/><Relationship Id="rId6" Type="http://schemas.openxmlformats.org/officeDocument/2006/relationships/slide" Target="slide18.xml"/><Relationship Id="rId7" Type="http://schemas.openxmlformats.org/officeDocument/2006/relationships/slide" Target="slide20.xml"/><Relationship Id="rId8" Type="http://schemas.openxmlformats.org/officeDocument/2006/relationships/slide" Target="slide21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3.xml"/><Relationship Id="rId3" Type="http://schemas.openxmlformats.org/officeDocument/2006/relationships/slide" Target="slide28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991280" cy="439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333399"/>
                </a:solidFill>
                <a:latin typeface="Tahoma"/>
              </a:rPr>
              <a:t>Валютная система Российской Федерации и международные кредитные отношения.</a:t>
            </a:r>
            <a:endParaRPr b="0" lang="en-US" sz="5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8000" y="1915920"/>
            <a:ext cx="7705800" cy="46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Международная валютная систем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закрепленная в международных соглашениях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форма организации валютно-финансовых отношений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функционирующих самостоятельно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ли обслуживающих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международное движение товаров и факторов производств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97128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Национальная, мировая, международная валютные системы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71640" y="404280"/>
            <a:ext cx="6470640" cy="12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Конвертируемость валюты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353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Конвертируемость валют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способность резидентов и нерезидентов</a:t>
            </a:r>
            <a:r>
              <a:rPr b="0" lang="ru-RU" sz="3200" spc="-1" strike="noStrike">
                <a:solidFill>
                  <a:srgbClr val="ffcf01"/>
                </a:solidFill>
                <a:latin typeface="Tahoma"/>
              </a:rPr>
              <a:t> свободно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без ограничений, обменивать национальную валюту на иностранную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 использовать иностранную валюту в сделках с реальными и финансовыми активам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конвертируемость валют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разделяется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на внутреннюю и внешнюю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94920" y="1933560"/>
            <a:ext cx="8209080" cy="47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Внутренняя конвертируемос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право резидентов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покупа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иметь и совершать операции внутри стран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с активами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в форме валюты и банковских депозитов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переведенных в иностранную валюту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Внутренняя конвертируемос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относится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к сделкам между резидентами внутри своей стран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115640" y="54900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Конвертируемость валюты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00000" y="549360"/>
            <a:ext cx="7345440" cy="141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Валютный курс.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4000" y="1916280"/>
            <a:ext cx="80643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Валютный курс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пропорциональный обмен одной национальной валюты на другую путем </a:t>
            </a:r>
            <a:r>
              <a:rPr b="1" lang="ru-RU" sz="3600" spc="-1" strike="noStrike">
                <a:solidFill>
                  <a:srgbClr val="0000ff"/>
                </a:solidFill>
                <a:latin typeface="Tahoma"/>
              </a:rPr>
              <a:t>купли-продаж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Валютный курс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грает </a:t>
            </a: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важную роль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в развитии экономики страны, поскольку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оказывает непосредственное влиян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на выбор такой структуры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производства и потреблени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экспорта и импорт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которая приносит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максимальную прибыль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900000" y="1267920"/>
            <a:ext cx="77724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При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завышенном валютном курс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внутренние цены страны </a:t>
            </a:r>
            <a:r>
              <a:rPr b="0" lang="ru-RU" sz="2800" spc="-1" strike="noStrike">
                <a:solidFill>
                  <a:srgbClr val="ff9900"/>
                </a:solidFill>
                <a:latin typeface="Tahoma"/>
              </a:rPr>
              <a:t>оказываются выше мировых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Понижение курса валюты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его заниженность по сравнению с ее реальной покупательной способностью приводит к тому, </a:t>
            </a:r>
            <a:r>
              <a:rPr b="0" lang="ru-RU" sz="2800" spc="-1" strike="noStrike">
                <a:solidFill>
                  <a:srgbClr val="ff9900"/>
                </a:solidFill>
                <a:latin typeface="Tahoma"/>
              </a:rPr>
              <a:t>что внутренние цены государства оказываются ниже мировых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1042920" y="692280"/>
            <a:ext cx="7793280" cy="14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алютный курс.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11280" y="1988640"/>
            <a:ext cx="741672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уществуют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три основные системы валютных курсов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1.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Фиксированна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При такой системе государство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устанавливает золотое или долларовое содержание национальной денежной единиц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900000" y="549360"/>
            <a:ext cx="7793280" cy="120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алютный курс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алютный курс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5564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2.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Свободная плавающа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Курс национальной валюты в этом случае складывается в зависимости от изменения соотношения спроса и предложения на нее на валютных рынках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не предполагает вмешательства государств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3.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Управляемая плавающа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При этой системе 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при внешнем сохранении плавающей системы государство влияет на формирование курса национальной валюты через ЦБ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который сглаживает колебания курса путем </a:t>
            </a: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покупки и продаж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алюты на валютных рынках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Системы валютного курса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2133360"/>
            <a:ext cx="78501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Золотой стандарт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международная валютная систем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основанная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на официальном закреплении странами золотого содержания в единице национальной валюты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с обязательством центральных банков покупать и продавать национальную валюту в обмен на золото.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Золотой стандарт в международной валютной системе существовал дважды — с 1880 по 1914 г., и с 1925 по 1931 г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71280" y="620280"/>
            <a:ext cx="777708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Международные валютные организации и Московская межбанковская валютная биржа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9640" y="2106360"/>
            <a:ext cx="777744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f01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ru-RU" sz="2400" spc="-1" strike="noStrike">
                <a:solidFill>
                  <a:srgbClr val="ffcf01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Международный валютный фонд (МВФ)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был создан в июле 1944 г. по </a:t>
            </a:r>
            <a:r>
              <a:rPr b="0" lang="ru-RU" sz="2400" spc="-1" strike="noStrike">
                <a:solidFill>
                  <a:srgbClr val="33cc33"/>
                </a:solidFill>
                <a:latin typeface="Tahoma"/>
              </a:rPr>
              <a:t>решению конференции ООН. Его местонахождение — Вашингтон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МВФ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крупнейший кредитор мир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В настоящее время в его состав входят около двухсот стран, почти все страны мирового сообщества. 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Кредиты МВФ предоставляются в иностранной валюте для выравнивания платежных балансов государств-члено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23640" y="2249280"/>
            <a:ext cx="8459640" cy="42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ажнейшим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институтом регулирования международных валютно-финансовых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отношений, кроме МВФ, является </a:t>
            </a: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Всемирный банк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(ВБ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ВБ состоит из нескольких учреждений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главным из которых является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Международный банк реконструкции и развития</a:t>
            </a:r>
            <a:r>
              <a:rPr b="0" lang="ru-RU" sz="3200" spc="-1" strike="noStrike">
                <a:solidFill>
                  <a:srgbClr val="ffcf01"/>
                </a:solidFill>
                <a:latin typeface="Tahoma"/>
              </a:rPr>
              <a:t> (МБРР)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934560" y="333360"/>
            <a:ext cx="8029800" cy="13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99"/>
                </a:solidFill>
                <a:latin typeface="Tahoma"/>
              </a:rPr>
              <a:t>Международные валютные организации и Московская межбанковская валютная биржа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345440" cy="46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300" spc="-1" strike="noStrike">
                <a:solidFill>
                  <a:srgbClr val="333399"/>
                </a:solidFill>
                <a:latin typeface="Tahoma"/>
              </a:rPr>
              <a:t>Валютная система Российской Федерации</a:t>
            </a:r>
            <a:endParaRPr b="0" lang="en-US" sz="6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дачи к теме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сылка не текс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Тест к тем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71640" y="1484280"/>
            <a:ext cx="7772400" cy="35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300" spc="-1" strike="noStrike">
                <a:solidFill>
                  <a:srgbClr val="333399"/>
                </a:solidFill>
                <a:latin typeface="Tahoma"/>
              </a:rPr>
              <a:t>Международные кредитные отношения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63640" y="333000"/>
            <a:ext cx="8029440" cy="12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Сущность и классификация международного кредита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10920" y="2006280"/>
            <a:ext cx="806436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Международный кредит как разновидность экономической категории «кредит»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редставляет собой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движение ссудного капитала в сфере международных экономических отношений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связанное с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предоставлением валютных и товарных ресурсов на условиях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возвратности, срочности, обеспеченности и уплаты проценто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55640" y="1890360"/>
            <a:ext cx="7848720" cy="47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Характерные черты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современного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развития международного кредита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осударственное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стимулирование экспорт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ежправительственное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регулирование экспортного кредитовани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еориентация ряда стран от кредитования экспорта в национальных валютах на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предоставление кредитов в валютах третьих стран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например, в евро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Сущность и классификация международного кредит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68360" y="2133720"/>
            <a:ext cx="8028000" cy="43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Международный валютный фонд (МВФ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это международная валютно-кредитная организаци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имеющая статус специализированного учреждения ООН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Важнейшим направлением деятельности МВФ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являются его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кредитные операци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осуществляемые только с официальными органами стран-членов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казначействами, центральными банками, стабилизационными фондами), их можно разделить на два вида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Сущность и классификация международного кредит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3964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Кредитные операции делятся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кредиты, предоставляемые в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пределах резервной позици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страны в МВФ: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для покрытия дефицита платежного баланс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страна может получить кредит в иностранной валюте в обмен на национальную сроком до 3 — 5 лет,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при этом погашение кредита производится обратным путем — посредством покупки национальной валюты на свободно конвертируемую;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Сущность и классификация международного кредит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539640" y="2133720"/>
            <a:ext cx="8136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кредиты,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предоставляемые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сверх резервной доли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; в </a:t>
            </a:r>
            <a:r>
              <a:rPr b="0" lang="ru-RU" sz="3600" spc="-1" strike="noStrike">
                <a:solidFill>
                  <a:srgbClr val="0000ff"/>
                </a:solidFill>
                <a:latin typeface="Tahoma"/>
              </a:rPr>
              <a:t>этом случае кредит может быть выдан только после предварительного изучения валютно-экономического положения страны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и выполнения ею требований </a:t>
            </a:r>
            <a:r>
              <a:rPr b="0" lang="ru-RU" sz="3600" spc="-1" strike="noStrike">
                <a:solidFill>
                  <a:srgbClr val="0000ff"/>
                </a:solidFill>
                <a:latin typeface="Tahoma"/>
              </a:rPr>
              <a:t>МВФ о проведении стабилизационных мер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Сущность и классификация международного кредит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539280" y="-360"/>
            <a:ext cx="84250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Понятие, эволюция и структура мирового рынка ссудных капиталов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Мировой рынок ссудных капиталов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это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рынок, на котором осуществляются международные кредитные операци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его эволюция связана с процессом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интернационализации хозяйственной жизн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84360" y="1989000"/>
            <a:ext cx="77724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ожно выделить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две составляющие мирового рынка ссудных капиталов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ffcf01"/>
                </a:solidFill>
                <a:latin typeface="Tahoma"/>
              </a:rPr>
              <a:t> рынок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«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иностранных кредитов и займов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»,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охватывающий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международные операции на национальных рынках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ссудных капиталов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1042920" y="54900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онятия, эволюция и структура мирового рынка ссудных капиталов.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6870960" cy="7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одержа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55280" y="1125360"/>
            <a:ext cx="8209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     </a:t>
            </a:r>
            <a:r>
              <a:rPr b="0" lang="ru-RU" sz="3600" spc="-1" strike="noStrike">
                <a:solidFill>
                  <a:srgbClr val="0000ff"/>
                </a:solidFill>
                <a:latin typeface="Tahoma"/>
              </a:rPr>
              <a:t>Валютная систем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Валютная систем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Национальная, мировая, международная валютные систем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Конвертируемость валют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4" action="ppaction://hlinksldjump"/>
              </a:rPr>
              <a:t>Валютный кур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5" action="ppaction://hlinksldjump"/>
              </a:rPr>
              <a:t>Системы валютного кур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6" action="ppaction://hlinksldjump"/>
              </a:rPr>
              <a:t>Международные валютные организации и Московская межбанковская валютная бирж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7" action="ppaction://hlinksldjump"/>
              </a:rPr>
              <a:t>Задачи к тем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8" action="ppaction://hlinksldjump"/>
              </a:rPr>
              <a:t>Тест к тем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611280" y="2349360"/>
            <a:ext cx="8066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евровалютный рынок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(еврорынок), на котором совершаются безналичные </a:t>
            </a:r>
            <a:r>
              <a:rPr b="0" lang="ru-RU" sz="3200" spc="-1" strike="noStrike">
                <a:solidFill>
                  <a:srgbClr val="ffcf01"/>
                </a:solidFill>
                <a:latin typeface="Tahoma"/>
              </a:rPr>
              <a:t>депозитно-кредитны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операции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в иностранных валютах за пределами стран — эмитентов этих валют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971280" y="47592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онятия, эволюция и структура мирового рынка ссудных капиталов.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720072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Кредитование внешней торговли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79898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Внешняя торговл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это торговля между странами, состоящая из вывоза (экспорта) и ввоза (импорта) товаров и услуг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Внешняя торговл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осуществляется преимущественно через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коммерческие сделк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оформляемые внешнеторговыми контракта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9280" y="1988640"/>
            <a:ext cx="8209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Кредитование внешней торговл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это предоставление кредитных средств в денежной или товарной форме на определенный срок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для осуществления внешнеторговых операций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Кредитование внешней торговл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250560" y="2249280"/>
            <a:ext cx="8713800" cy="40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Формы кредитования внешней торговли: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Факторинговы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услуги, представляющие собой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финансирование под уступку денежных требований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Кредитование внешней торговл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68360" y="1992240"/>
            <a:ext cx="842472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и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форфейтинг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спользуется экономический инструмент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акцептованный вексель, или тратт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оговор о форфейтинге является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консенсуальным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 носит организационный характер, поскольку сначала в договоре оговаривается,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какие векселя банк принимает к форфейтингу, в какие сроки, по какой ставке они учитываются, а уже потом передается конкретный, вексель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Кредитование внешней торговл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58988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Платёжный баланс: понятие и основные составляющие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79280" y="1844280"/>
            <a:ext cx="8964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Платежный баланс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— это статистическая 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система,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которой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 отражаются все международные операции страны в форме соотношения валютных поступлений из-за границы и платежей, произведенных данной страной другим странам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в течение определенного периода времен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ставляемые по методике </a:t>
            </a:r>
            <a:r>
              <a:rPr b="0" lang="ru-RU" sz="2400" spc="-1" strike="noStrike">
                <a:solidFill>
                  <a:srgbClr val="33cc33"/>
                </a:solidFill>
                <a:latin typeface="Tahoma"/>
              </a:rPr>
              <a:t>МВФ платежные балансы включают не только поступления и платежи, которые фактически осуществлены, но и будущие платежи по международным требованиям и обязательствам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23640" y="1844280"/>
            <a:ext cx="8569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платежном балансе также разграничиваются </a:t>
            </a:r>
            <a:r>
              <a:rPr b="0" lang="ru-RU" sz="2800" spc="-1" strike="noStrike">
                <a:solidFill>
                  <a:srgbClr val="1c1c1c"/>
                </a:solidFill>
                <a:latin typeface="Tahoma"/>
              </a:rPr>
              <a:t>текущие и капитальные трансферт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Текущие трансферты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увеличивают уровень располагаемого дохода и потребления товаров и услуг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получателя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уменьшают располагаемый доход и потенциальные возможности потребления донор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например гуманитарная помощь в форме потребительских товаров и услуг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латёжный баланс: понятие и основные составляющие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250920" y="1844640"/>
            <a:ext cx="86421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Капитальные трансферт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приводят к изменению в объеме активов или обязательств донора и получателя и отражаются в счете операций с капиталом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Пример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питальных трансфертов —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безвозмездная передача прав собственности на основные фонды, прощение долгов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латёжный баланс: понятие и основные составляющие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90560" y="404280"/>
            <a:ext cx="817416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Проблема внешней задолженности России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835488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оссия является одновременно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должником и кредитором</a:t>
            </a:r>
            <a:r>
              <a:rPr b="1" lang="ru-RU" sz="3200" spc="-1" strike="noStrike">
                <a:solidFill>
                  <a:srgbClr val="ffcf01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долг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бывших социалистических и развивающихся стран приходится 140 млрд долл. США.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Основные </a:t>
            </a: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заемщики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 — это Куба, Монголия, Вьетнам, Индия, Ливи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 др.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95280" y="213336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то касается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роли должник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то Россия как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правопреемница СССР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по его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зарубежным активам и пассивам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СССР привлекал среднесрочный и долгосрочный иностранный капитал преимущественно в форме экспортных кредитов —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взяла на себя обязательства по обслуживанию внешнего долга СССР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900000" y="214200"/>
            <a:ext cx="804384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роблема внешней задолженности России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39280" y="1690560"/>
            <a:ext cx="799308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Международные кредитные отноше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Сущность и классификация международного креди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Понятия, эволюция и структура мирового рынка ссудных капитал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редитование внешней торговл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латёжный баланс: понятие и основные составляющ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блема внешней задолженности Росс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еждународное экономическое сотрудничество в современных условия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писок литератур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лоссар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адачи к тем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ест к тем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ahoma"/>
              </a:rPr>
              <a:t>Международные кредитные отношени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24000" y="1915920"/>
            <a:ext cx="82915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длагается комплексное </a:t>
            </a:r>
            <a:r>
              <a:rPr b="1" lang="ru-RU" sz="3200" spc="-1" strike="noStrike">
                <a:solidFill>
                  <a:srgbClr val="33cc33"/>
                </a:solidFill>
                <a:latin typeface="Tahoma"/>
              </a:rPr>
              <a:t>решение проблем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внешней задолженност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за счет возврата средств, незаконно вывезенных за рубеж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; по оценке экспертов, это примерно 500 — 700 млрд. долл., которые хранятся в американских банках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971280" y="214200"/>
            <a:ext cx="79722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роблема внешней задолженности России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92000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Международное экономическое сотрудничество в современных условиях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920" y="2033640"/>
            <a:ext cx="864216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Решению задачи активного участия России в мировых интеграционных процессах</a:t>
            </a:r>
            <a:r>
              <a:rPr b="0" lang="ru-RU" sz="2800" spc="-1" strike="noStrike">
                <a:solidFill>
                  <a:srgbClr val="ffcf01"/>
                </a:solidFill>
                <a:latin typeface="Tahoma"/>
              </a:rPr>
              <a:t> в значительной степени способствует дальнейшее углубление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торгово-экономических отношений с Европейским Союзом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Фундаментом этих отношений является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Соглашение о партнерстве и сотрудничеств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Стратегия развития отношений Российской Федерации с ЕС на среднесрочную перспективу (2000 — 2010)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95280" y="1916280"/>
            <a:ext cx="8424720" cy="47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Процессы, происходящие в банковской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систем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наиболее хорошо наблюдаемы и одновременно очень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тонко отражают состояние экономики в целом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ссмотрим международную экономическую деятельность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 Сбербанка России как главного банка, обслуживающего население стран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755280" y="214200"/>
            <a:ext cx="81882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Международное экономическое сотрудничество в современных условиях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784836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писок литератур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75610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ерекрёстова Л.В. Финансы и кредит: учеб. пособие для студ. сред. проф. учеб. Заведений/ Л.В. Перекрёстова.  – М.: Академия, 2006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ергеев Е.Ю. Международные экономические отношения: Курс лекций. – М.: Информационно-внедренческий центр «Маркетинг», 2000. С. 203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латонова И.Н. Валютный рынок и валютное регулирование / И. Н. Платонов – М.: БЕК, 1996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 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Электронные ресурс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алютная система РФ: [Электронный ресурс] / Электрон. ст. – Режим доступа к ст.:  http://www.bankreferatov.r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еждународные кредитные отношения: [Электронный ресурс] / Электрон. ст. – Режим доступа к ст.: http://www.5ballov.ru/referats/previ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Глоссари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Тест к тем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дачи к тем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71280" y="765000"/>
            <a:ext cx="687060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алютная систем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1120" y="1699920"/>
            <a:ext cx="864252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Валюта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широком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мысле слова —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любой товар, способный выполнять денежную функцию средства обмена на международной арене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а разделяется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в зависимости от ее принадлежност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 на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национальную валюту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законное платежное средство на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территории выпускающих ее стран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доллар в США, рубль в России);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иностранную валюту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платежное средство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других стран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законно или незаконно используемое на территории данной страны (доллар в России, рубль на Украине, латы в Латвии)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539640" y="1915920"/>
            <a:ext cx="8136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Международные валютно-кредитные и финансовые отношени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составная часть и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самая сложная сфера рыночного хозяйств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В них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фокусируются проблемы национальной и мировой экономик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Валютная систем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это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форма организации и регулирования валютных отношени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закрепленная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национальным законодательством или межгосударственными соглашениям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алютная систем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39640" y="1817640"/>
            <a:ext cx="7772400" cy="47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i="1" lang="ru-RU" sz="2400" spc="-1" strike="noStrike">
                <a:solidFill>
                  <a:srgbClr val="ffcf01"/>
                </a:solidFill>
                <a:latin typeface="Tahoma"/>
              </a:rPr>
              <a:t>Под </a:t>
            </a:r>
            <a:r>
              <a:rPr b="1" i="1" lang="ru-RU" sz="2400" spc="-1" strike="noStrike">
                <a:solidFill>
                  <a:srgbClr val="0000ff"/>
                </a:solidFill>
                <a:latin typeface="Tahoma"/>
              </a:rPr>
              <a:t>валютой РФ понимается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Tahoma"/>
              </a:rPr>
              <a:t>находящиеся в обращении</a:t>
            </a: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, а также изъятые или изымаем из обращения, </a:t>
            </a:r>
            <a:r>
              <a:rPr b="0" lang="ru-RU" sz="2500" spc="-1" strike="noStrike">
                <a:solidFill>
                  <a:srgbClr val="ff0000"/>
                </a:solidFill>
                <a:latin typeface="Tahoma"/>
              </a:rPr>
              <a:t>но подлежащие обмену рубли в виде банковских билетов</a:t>
            </a: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 (банкнот) Центрального банка РФ и монеты: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Tahoma"/>
              </a:rPr>
              <a:t>средства в рублях на счетах в банках</a:t>
            </a: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 и иных кредитных учреждениях в РФ;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Tahoma"/>
              </a:rPr>
              <a:t>средства в рублях на счетах в банках и иных кредитных учреждениях за пределами РФ на основании соглашения,</a:t>
            </a: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 заключаемого Правительством РФ и Центральным банком РФ с ответствующими органами иностранного государства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алютная систем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11280" y="189000"/>
            <a:ext cx="8137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Национальная, мировая, международная валютные систем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Национальная валютная систем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форма организации валютных отношений страны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закрепленная национальным законодательством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Основой национальной валютной системы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ыступает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 установленная законом денежная единица государств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В России это российский рубль, введенный в обращение в 1993 г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и заменивший рубль СССР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Мировая валютная систем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базируется на функции мировых денег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Они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служат мировым платежным средством, мировым покупательным средством и материальным воплощением общественного богатств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Элементами мировой валютной системы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являются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определенный набор платежных средств, валютные курсы и валютные паритеты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 т.д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97128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Национальная, мировая, международная валютные системы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7:22:22Z</dcterms:created>
  <dc:creator>USER</dc:creator>
  <dc:description/>
  <dc:language>en-US</dc:language>
  <cp:lastModifiedBy>LEGION</cp:lastModifiedBy>
  <dcterms:modified xsi:type="dcterms:W3CDTF">2016-01-05T11:06:38Z</dcterms:modified>
  <cp:revision>13</cp:revision>
  <dc:subject/>
  <dc:title>Валютная система Российской Федерации и международные кредитные отношения.</dc:title>
</cp:coreProperties>
</file>