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ED54-69BB-48B8-833F-4DC996B6ECB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704-E5C5-41F0-8B0B-DE24C1F6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FF7-56CC-45C8-B909-5EBA2B43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2F6-943D-4A9F-BE6B-16202363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D0D-7CD1-4278-90F9-23648DF3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D673-232F-4C84-923B-9F8265AE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A16B-29EE-467A-9341-F833A24C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3FFD-F58B-4D7B-A5DC-2045CF81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522E-65F2-4AC5-9021-B3EB95F5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50CF-BAE3-4027-A49D-C4E34DBD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DB9D-0282-4342-BA25-7496C755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DECB-D536-40FD-89B4-AC27B19F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277-6218-4DEE-A1E8-D84CCB72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3747-6271-4F0D-BD02-C16B97B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A4E5-9C36-498F-B40C-FB5A5C37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955B-821B-40BB-9775-DD014B2A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641B-F8C7-4906-BA59-593E6405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148B-C23C-49E9-8126-00CED92C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80B-7394-4131-812A-306F725E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7CF-52F2-4CC9-AA9F-E266AF3E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974-A535-4ED1-BCFA-33D16ACC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618-1CA4-42A6-BF40-C882E4BA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50D-5A5A-4944-BD8B-2F8E56CA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99F-F63A-469F-B723-0E347F77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BDB-869D-43B0-867C-A3301C7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DB7F-08EA-43D0-94C3-0B18C5D47A7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F118-170A-4C46-85CD-A06F113DBA7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77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ждународная валют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закрепленная в международных соглашения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орма организации валютно-финансов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ункционирующих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обслуживающи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ое движение товаров и 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470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пособность резидентов и нерезидентов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свобод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з ограничений, обменивать национальную валюту на иностран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использовать иностранную валюту в сделках с реальными и финансовыми актив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деляе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 внутреннюю и внешню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933560"/>
            <a:ext cx="82090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 резиден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окуп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иметь и совершать операции внутри стр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активам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форме валюты и банковских депози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ереведенных в иностранную валю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 сделкам между резидентами внутри своей стр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454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порциональный обмен одной национальной валюты на другую путем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купли-продаж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грает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ажную 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витии экономики страны, поскольку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оказывает непосредстве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выбор такой структуры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производства и 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экспорта и им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ая приноси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ксимальную прибыл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вышенном валютном кур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утренние цены страны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казываются выше миров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нижение курса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заниженность по сравнению с ее реальной покупательной способностью приводит к тому,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что внутренние цены государства оказываются ниже миров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и основные системы валютных курс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икс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такой системе государств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устанавливает золотое или долларовое содержание национальной денежной един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вободн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урс национальной валюты в этом случае складывается в зависимости от изменения соотношения спроса и предложения на нее на валютных рынк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предполагает вмешательства госуда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авляем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и этой систем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и внешнем сохранении плавающей системы государство влияет на формирование курса национальной валюты через Ц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сглаживает колебания курса путем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купки и прода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ы на валютных рынк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стемы валютного курс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олотой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снован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 официальном закреплении странами золотого содержания в единице национальной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обязательством центральных банков покупать и продавать национальную валюту в обмен на золото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Золотой стандарт в международной валютной системе существовал дважды — с 1880 по 1914 г., и с 1925 по 193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106360"/>
            <a:ext cx="7777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создан в июле 1944 г. по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решению конференции ООН. Его местонахождение — Вашингт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ВФ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упнейший кредитор ми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настоящее время в его состав входят около двухсот стран, почти все страны мирового сообщества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едиты МВФ предоставляются в иностранной валюте для выравнивания платежных балансов государств-чле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2249280"/>
            <a:ext cx="84596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ейши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ститутом регулирования международных валютно-финанс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шений, кроме МВФ, является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семирный бан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ВБ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Б состоит из нескольки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лавным из которых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(МБРР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34560" y="333360"/>
            <a:ext cx="8029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Международные кредитные отнош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333000"/>
            <a:ext cx="802944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006280"/>
            <a:ext cx="8064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кредит как разновидность экономической категории «кредит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собой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вижение ссудного капитала в сфере международных экономически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вязанное с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м валютных и товарных ресурсов на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вратности, срочности, обеспеченности и уплаты процен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90360"/>
            <a:ext cx="7848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арактерные черт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овременног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звития международного креди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тимулирование экс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правитель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гулирование экспортного кредит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 кредитов в валютах треть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например, в евро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028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международная валютно-кредитн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ая статус специализированного учреждения ОО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жнейшим направлением деятельности МВФ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ег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редит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уществляемые только с официальными органами стран-член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азначействами, центральными банками, стабилизационными фондами), их можно разделить на два ви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ные операции деля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ы, предоставляемые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еделах резервной пози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ы в МВФ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для покрытия дефицита платежного балан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а может получить кредит в иностранной валюте в обмен на национальную сроком до 3 — 5 лет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и этом погашение кредита производится обратным путем — посредством покупки национальной валюты на свободно конвертируемую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едиты,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редоставляемые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ерх резервной доли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; в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этом случае кредит может быть выдан только после предварительного изучения валютно-экономического положения стра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выполнения ею требований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ВФ о проведении стабилизационных ме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42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ировой рынок ссудных капитал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ынок, на котором осуществляются международные кредитные опе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го эволюция связана с процессо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тернационализации хозяйств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выделить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е составляющие мирового рынка ссудных капитал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ностранных кредитов и займо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»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хватывающи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ые операции на национальных рынк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судных капит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алю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Национальная, мировая, международная валютные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Конвертируемость валю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Валютный к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Системы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Международные валютные организации и Московская межбанковская валютная бир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Задачи к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8" action="ppaction://hlinksldjump"/>
              </a:rPr>
              <a:t>Тест к 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вровалютный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еврорынок), на котором совершаются безналичные 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депозитно-креди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ци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иностранных валютах за пределами стран — эмитентов этих валю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00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торговля между странами, состоящая из вывоза (экспорта) и ввоза (импорта)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уществляется преимущественно через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ммерческие сдел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формляемые внешнеторговыми контрак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едитование внешней торгов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редоставление кредитных средств в денежной или товарной форме на определенный ср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осуществления внешнеторговых опер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249280"/>
            <a:ext cx="87138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Формы кредитования внешней торговли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кторингов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луги, представляющие собо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инансирование под уступку денежны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992240"/>
            <a:ext cx="84247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орфейтинг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ется экономический инструмент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акцептованный вексель, или трат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консенсуа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носит организационный характер, поскольку сначала в договоре оговаривается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98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латежный бала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статистическая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истем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й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ые по методике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</a:t>
            </a: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текущие и капитальные трансфер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кущие трансфер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величивают уровень располагаемого дохода и потребления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меньшают располагаемый доход и потенциальные возможности потребления дон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пример гуманитарная помощь в форме потребительских товаров и услу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тальные трансфер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водят к изменению в объеме активов или обязательств донора и получателя и отражаются в счете операций с капита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р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питальных трансфертов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безвозмездная передача прав собственности на основные фонды, прощение дол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404280"/>
            <a:ext cx="81741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354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жником и кредитором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вших социалистических и развивающихся стран приходится 140 млрд долл. США.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аемщи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— это Куба, Монголия, Вьетнам, Индия, Лив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др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касает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оли должн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Россия как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преемниц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его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зарубежным активам и пассива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ССР привлекал среднесрочный и долгосрочный иностранный капитал преимущественно в форме экспортных кредитов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зяла на себя обязательства по обслуживанию внешнего долг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690560"/>
            <a:ext cx="7993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еждународные кредитные отнош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ущность и классификация международного кред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Понятия, эволюция и структура мирового рынка ссудных капита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еждународные кредитные отнош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агается комплексное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решен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нешне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 счет возврата средств, незаконно вывезенных за руб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по оценке экспертов, это примерно 500 — 700 млрд. долл., которые хранятся в американских банка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33640"/>
            <a:ext cx="8642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ению задачи активного участия России в мировых интеграционных процессах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в значительной степени способствует дальнейшее углублени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ргово-экономических отношений с Европейским Союз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Фундаментом этих отношений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оглашение о партнерстве и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тратегия развития отношений Российской Федерации с ЕС на среднесрочную перспективу (2000 — 2010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оцессы, происходящие в банковс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систе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иболее хорошо наблюдаемы и одновременно очень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тонко отражают состояние экономики в це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Сбербанка России как главного банка, обслуживающего население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48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56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Электронные ресур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оссар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120" y="1699920"/>
            <a:ext cx="8642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широко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е слова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любой товар, способный выполнять денежную функцию средства обмена на международной арен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разде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зависимости от ее принадлеж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н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законное платежное средство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территории выпускающих ее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доллар в США, рубль в России)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ностран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латежное средст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руг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е валютно-кредитные и финансов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оставная часть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амая сложная сфера рыночного хозяй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 ни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окусируются проблемы национальной и мировой эконом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и регулирования валютных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циональным законодательством или межгосударственными соглаш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81764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f01"/>
                </a:solidFill>
                <a:latin typeface="Tahoma"/>
              </a:rPr>
              <a:t>Под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алютой РФ понимаетс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аходящиеся в обращении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, а также изъятые или изымаем из обращения, </a:t>
            </a: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о подлежащие обмену рубли в виде банковских билетов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(банкнот) Центрального банка РФ и монеты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и иных кредитных учреждениях в РФ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заключаемого Правительством РФ и Центральным банком РФ с ответствующими органами иностранного государств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валютных отношений стр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национальным законодатель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новой национальной валютно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ет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установленная законом денежная единица государ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России это российский рубль, введенный в обращение в 1993 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и заменивший рубль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иров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базируется на функции мировых дене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ни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лужат мировым платежным средством, мировым покупательным средством и материальным воплощением общественного богат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лементами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пределенный набор платежных средств, валютные курсы и валютные пар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22:22Z</dcterms:created>
  <dc:creator>USER</dc:creator>
  <dc:description/>
  <dc:language>en-US</dc:language>
  <cp:lastModifiedBy>LEGION</cp:lastModifiedBy>
  <dcterms:modified xsi:type="dcterms:W3CDTF">2016-01-05T11:06:38Z</dcterms:modified>
  <cp:revision>13</cp:revision>
  <dc:subject/>
  <dc:title>Валютная система Российской Федерации и международные кредитные отношения.</dc:title>
</cp:coreProperties>
</file>