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4B30-4CE1-4E41-BD87-BCEA7943646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 Российской Федерации и международные кредит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 Российской Федерации и международные кредитные отноше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валютная система — закрепленная в международных соглашениях форма организации валютно-финансовых отношений, функционирующих самостоятельно или обслуживающих международное движение товаров и факторов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ая валютная система — закрепленная в международных соглашениях форма организации валютно-финансовых отношений, функционирующих самостоятельно или обслуживающих международное движение товаров и факторов производ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валюты — способность резидентов и нерезидентов свободно, без ограничений, обменивать национальную валюту на иностранную и использовать иностранную валюту в сделках с реальными и финансовыми акти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валюты разделяется на внутреннюю и внеш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валюты — способность резидентов и нерезидентов свободно, без ограничений, обменивать национальную валюту на иностранную и использовать иностранную валюту в сделках с реальными и финансовыми актива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валюты разделяется на внутреннюю и внешнюю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яя конвертируемость — право резидентов покупать, иметь и совершать операции внутри страны с активами в форме валюты и банковских депозитов, переведенных в иностранную валюту. Внутренняя конвертируемость относится к сделкам между резидентами внутри своей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нутренняя конвертируемость — право резидентов покупать, иметь и совершать операции внутри страны с активами в форме валюты и банковских депозитов, переведенных в иностранную валюту. Внутренняя конвертируемость относится к сделкам между резидентами внутри своей стран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— пропорциональный обмен одной национальной валюты на другую путем купли-продаж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играет важную роль в развитии экономики страны, поскольку оказывает непосредственное влияние на выбор такой структуры производства и потребления, экспорта и импорта, которая приносит максимальную прибы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 — пропорциональный обмен одной национальной валюты на другую путем купли-продаж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 играет важную роль в развитии экономики страны, поскольку оказывает непосредственное влияние на выбор такой структуры производства и потребления, экспорта и импорта, которая приносит максимальную прибыль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завышенном валютном курсе внутренние цены страны оказываются выше миров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жение курса валюты, его заниженность по сравнению с ее реальной покупательной способностью приводит к тому, что внутренние цены государства оказываются ниже миров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завышенном валютном курсе внутренние цены страны оказываются выше мировых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нижение курса валюты, его заниженность по сравнению с ее реальной покупательной способностью приводит к тому, что внутренние цены государства оказываются ниже мировых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т три основные системы валютных кур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Фиксированная. При такой системе государство устанавливает золотое или долларовое содержание национальной денежной еди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ествуют три основные системы валютных курс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Фиксированная. При такой системе государство устанавливает золотое или долларовое содержание национальной денежной единиц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вободная плавающая. Курс национальной валюты в этом случае складывается в зависимости от изменения соотношения спроса и предложения на нее на валютных рынках и не предполагает вмешательства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Управляемая плавающая. При этой системе при внешнем сохранении плавающей системы государство влияет на формирование курса национальной валюты через ЦБ, который сглаживает колебания курса путем покупки и продажи валюты на валютных рынк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Свободная плавающая. Курс национальной валюты в этом случае складывается в зависимости от изменения соотношения спроса и предложения на нее на валютных рынках и не предполагает вмешательства государ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Управляемая плавающая. При этой системе при внешнем сохранении плавающей системы государство влияет на формирование курса национальной валюты через ЦБ, который сглаживает колебания курса путем покупки и продажи валюты на валютных рынках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валютного к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лотой стандарт — международная валютная система, основанная на официальном закреплении странами золотого содержания в единице национальной валюты с обязательством центральных банков покупать и продавать национальную валюту в обмен на золото. Золотой стандарт в международной валютной системе существовал дважды — с 1880 по 1914 г., и с 1925 по 1931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истемы валютного курс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олотой стандарт — международная валютная система, основанная на официальном закреплении странами золотого содержания в единице национальной валюты с обязательством центральных банков покупать и продавать национальную валюту в обмен на золото. Золотой стандарт в международной валютной системе существовал дважды — с 1880 по 1914 г., и с 1925 по 1931 г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рганизации и Московская межбанковская валютная бирж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Международный валютный фонд (МВФ) был создан в июле 1944 г. по решению конференции ООН. Его местонахождение — Вашингт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ВФ — крупнейший кредитор мира. В настоящее время в его состав входят около двухсот стран, почти все страны мирового сообщества. Кредиты МВФ предоставляются в иностранной валюте для выравнивания платежных балансов государств-чле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валютные организации и Московская межбанковская валютная бирж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 Международный валютный фонд (МВФ) был создан в июле 1944 г. по решению конференции ООН. Его местонахождение — Вашингтон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ВФ — крупнейший кредитор мира. В настоящее время в его состав входят около двухсот стран, почти все страны мирового сообщества. Кредиты МВФ предоставляются в иностранной валюте для выравнивания платежных балансов государств-член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м институтом регулирования международных валютно-финансовых отношений, кроме МВФ, является Всемирный банк (ВБ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Б состоит из нескольких учреждений, главным из которых является Международный банк реконструкции и развития (МБРР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рганизации и Московская межбанковская валютная бирж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жнейшим институтом регулирования международных валютно-финансовых отношений, кроме МВФ, является Всемирный банк (ВБ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Б состоит из нескольких учреждений, главным из которых является Международный банк реконструкции и развития (МБРР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валютные организации и Московская межбанковская валютная бирж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алютная система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Валютная система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 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е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к тем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е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ждународные кредитные отно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Международные кредитные отношен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кредит как разновидность экономической категории «кредит» представляет собой движение ссудного капитала в сфере международных экономических отношений, связанное с предоставлением валютных и товарных ресурсов на условиях возвратности, срочности, обеспеченности и уплаты проц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кредит как разновидность экономической категории «кредит» представляет собой движение ссудного капитала в сфере международных экономических отношений, связанное с предоставлением валютных и товарных ресурсов на условиях возвратности, срочности, обеспеченности и уплаты процент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современного развития международного креди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е стимулирование экспор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правительственное регулирование экспортного кредит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ориентация ряда стран от кредитования экспорта в национальных валютах на предоставление кредитов в валютах третьих стран (например, в евр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арактерные черты современного развития международного кредит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сударственное стимулирование экспорт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правительственное регулирование экспортного кредитова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еориентация ряда стран от кредитования экспорта в национальных валютах на предоставление кредитов в валютах третьих стран (например, в евро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 (МВФ) — это международная валютно-кредитная организация, имеющая статус специализированного учреждения О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м направлением деятельности МВФ являются его кредитные операции, осуществляемые только с официальными органами стран-членов (казначействами, центральными банками, стабилизационными фондами), их можно разделить на два ви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валютный фонд (МВФ) — это международная валютно-кредитная организация, имеющая статус специализированного учреждения ООН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жнейшим направлением деятельности МВФ являются его кредитные операции, осуществляемые только с официальными органами стран-членов (казначействами, центральными банками, стабилизационными фондами), их можно разделить на два вид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операции дел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, предоставляемые в пределах резервной позиции страны в МВФ: для покрытия дефицита платежного баланса страна может получить кредит в иностранной валюте в обмен на национальную сроком до 3 — 5 лет, при этом погашение кредита производится обратным путем — посредством покупки национальной валюты на свободно конвертируему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ные операции делятс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, предоставляемые в пределах резервной позиции страны в МВФ: для покрытия дефицита платежного баланса страна может получить кредит в иностранной валюте в обмен на национальную сроком до 3 — 5 лет, при этом погашение кредита производится обратным путем — посредством покупки национальной валюты на свободно конвертируемую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, предоставляемые сверх резервной доли; в этом случае кредит может быть выдан только после предварительного изучения валютно-экономического положения страны и выполнения ею требований МВФ о проведении стабилизационных 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, предоставляемые сверх резервной доли; в этом случае кредит может быть выдан только после предварительного изучения валютно-экономического положения страны и выполнения ею требований МВФ о проведении стабилизационных ме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, эволюция и структура мирового рынка ссудных капит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й рынок ссудных капиталов — это рынок, на котором осуществляются международные кредитные операции, его эволюция связана с процессом интернационализации хозяйственно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нятие, эволюция и структура мирового рынка ссудных капитал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ой рынок ссудных капиталов — это рынок, на котором осуществляются международные кредитные операции, его эволюция связана с процессом интернационализации хозяйственной жизн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выделить две составляющие мирового рынка ссудных капиталов: рынок «иностранных кредитов и займов», охватывающий международные операции на национальных рынках ссудных капитал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, эволюция и структура мирового рынка ссудных капитал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ожно выделить две составляющие мирового рынка ссудных капиталов: рынок «иностранных кредитов и займов», охватывающий международные операции на национальных рынках ссудных капиталов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нятия, эволюция и структура мирового рынка ссудных капитал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рганизации и Московская межбанковская валютная бирж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 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истемы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валютные организации и Московская межбанковская валютная бирж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к тем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валютный рынок (еврорынок), на котором совершаются безналичные депозитно-кредитные операции в иностранных валютах за пределами стран — эмитентов этих вал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, эволюция и структура мирового рынка ссудных капитал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вровалютный рынок (еврорынок), на котором совершаются безналичные депозитно-кредитные операции в иностранных валютах за пределами стран — эмитентов этих валют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нятия, эволюция и структура мирового рынка ссудных капитал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торговля — это торговля между странами, состоящая из вывоза (экспорта) и ввоза (импорта) товаров и услуг. Внешняя торговля осуществляется преимущественно через коммерческие сделки, оформляемые внешнеторговыми контрак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нешняя торговля — это торговля между странами, состоящая из вывоза (экспорта) и ввоза (импорта) товаров и услуг. Внешняя торговля осуществляется преимущественно через коммерческие сделки, оформляемые внешнеторговыми контракта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 — это предоставление кредитных средств в денежной или товарной форме на определенный срок для осуществления внешнеторговых опера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 — это предоставление кредитных средств в денежной или товарной форме на определенный срок для осуществления внешнеторговых операци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кредитования внешней торгов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инговые услуги, представляющие собой финансирование под уступку денежных треб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ормы кредитования внешней торговли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акторинговые услуги, представляющие собой финансирование под уступку денежных требовани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форфейтинге используется экономический инструмент акцептованный вексель, или трат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 о форфейтинге является консенсуальным и носит организационный характер, поскольку сначала в договоре оговаривается, какие векселя банк принимает к форфейтингу, в какие сроки, по какой ставке они учитываются, а уже потом передается конкретный, векс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форфейтинге используется экономический инструмент акцептованный вексель, или тратта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оговор о форфейтинге является консенсуальным и носит организационный характер, поскольку сначала в договоре оговаривается, какие векселя банк принимает к форфейтингу, в какие сроки, по какой ставке они учитываются, а уже потом передается конкретный, вексель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— это статистическая система, в которой отражаются все международные операции страны в форме соотношения валютных поступлений из-за границы и платежей, произведенных данной страной другим странам, в течение определенного периода 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емые по методике МВФ платежные балансы включают не только поступления и платежи, которые фактически осуществлены, но и будущие платежи по международным требованиям и обязательства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ежный баланс — это статистическая система, в которой отражаются все международные операции страны в форме соотношения валютных поступлений из-за границы и платежей, произведенных данной страной другим странам, в течение определенного периода времен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ставляемые по методике МВФ платежные балансы включают не только поступления и платежи, которые фактически осуществлены, но и будущие платежи по международным требованиям и обязательствам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латежном балансе также разграничиваются текущие и капитальные трансфер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щие трансферты увеличивают уровень располагаемого дохода и потребления товаров и услуг получателя и уменьшают располагаемый доход и потенциальные возможности потребления донора, например гуманитарная помощь в форме потребительских товаров и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платежном балансе также разграничиваются текущие и капитальные трансферт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кущие трансферты увеличивают уровень располагаемого дохода и потребления товаров и услуг получателя и уменьшают располагаемый доход и потенциальные возможности потребления донора, например гуманитарная помощь в форме потребительских товаров и услуг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ьные трансферты приводят к изменению в объеме активов или обязательств донора и получателя и отражаются в счете операций с капиталом. Пример капитальных трансфертов — безвозмездная передача прав собственности на основные фонды, прощение долг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питальные трансферты приводят к изменению в объеме активов или обязательств донора и получателя и отражаются в счете операций с капиталом. Пример капитальных трансфертов — безвозмездная передача прав собственности на основные фонды, прощение долг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й задолженности Ро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является одновременно должником и кредитор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олг бывших социалистических и развивающихся стран приходится 140 млрд долл. США. Основные заемщики — это Куба, Монголия, Вьетнам, Индия, Ливия и др.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блема внешней задолженности Росси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ссия является одновременно должником и кредитором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долг бывших социалистических и развивающихся стран приходится 140 млрд долл. США. Основные заемщики — это Куба, Монголия, Вьетнам, Индия, Ливия и др.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касается роли должника, то Россия как правопреемница СССР по его зарубежным активам и пассивам — СССР привлекал среднесрочный и долгосрочный иностранный капитал преимущественно в форме экспортных кредитов — взяла на себя обязательства по обслуживанию внешнего долга ССС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то касается роли должника, то Россия как правопреемница СССР по его зарубежным активам и пассивам — СССР привлекал среднесрочный и долгосрочный иностранный капитал преимущественно в форме экспортных кредитов — взяла на себя обязательства по обслуживанию внешнего долга СССР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кредит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, эволюция и структура мирового рынка ссудных капита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сса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кредит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кредитные отноше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нятия, эволюция и структура мирового рынка ссудных капитал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лоссар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кредитные отноше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агается комплексное решение проблемы внешней задолж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счет возврата средств, незаконно вывезенных за рубеж; по оценке экспертов, это примерно 500 — 700 млрд. долл., которые хранятся в американских банк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лагается комплексное решение проблемы внешней задолженност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 счет возврата средств, незаконно вывезенных за рубеж; по оценке экспертов, это примерно 500 — 700 млрд. долл., которые хранятся в американских банках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ю задачи активного участия России в мировых интеграционных процессах в значительной степени способствует дальнейшее углубление торгово-экономических отношений с Европейским Союзом. Фундаментом этих отношений является Соглашение о партнерстве и сотрудничестве, Стратегия развития отношений Российской Федерации с ЕС на среднесрочную перспективу (2000 — 2010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шению задачи активного участия России в мировых интеграционных процессах в значительной степени способствует дальнейшее углубление торгово-экономических отношений с Европейским Союзом. Фундаментом этих отношений является Соглашение о партнерстве и сотрудничестве, Стратегия развития отношений Российской Федерации с ЕС на среднесрочную перспективу (2000 — 2010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ы, происходящие в банковской системе, наиболее хорошо наблюдаемы и одновременно очень тонко отражают состояние экономики в цел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международную экономическую деятельность Сбербанка России как главного банка, обслуживающего население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цессы, происходящие в банковской системе, наиболее хорошо наблюдаемы и одновременно очень тонко отражают состояние экономики в целом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ссмотрим международную экономическую деятельность Сбербанка России как главного банка, обслуживающего население стран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крёстова Л.В. Финансы и кредит: учеб. пособие для студ. сред. проф. учеб. Заведений/ Л.В. Перекрёстова.  – М.: Академия, 2006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геев Е.Ю. Международные экономические отношения: Курс лекций. – М.: Информационно-внедренческий центр «Маркетинг», 2000. С. 2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онова И.Н. Валютный рынок и валютное регулирование / И. Н. Платонов – М.: БЕК, 19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ые 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 РФ: [Электронный ресурс] / Электрон. ст. – Режим доступа к ст.:  http://www.bankreferatov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кредитные отношения: [Электронный ресурс] / Электрон. ст. – Режим доступа к ст.: http://www.5ballov.ru/referats/p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екрёстова Л.В. Финансы и кредит: учеб. пособие для студ. сред. проф. учеб. Заведений/ Л.В. Перекрёстова.  – М.: Академия, 2006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ергеев Е.Ю. Международные экономические отношения: Курс лекций. – М.: Информационно-внедренческий центр «Маркетинг», 2000. С. 203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онова И.Н. Валютный рынок и валютное регулирование / И. Н. Платонов – М.: БЕК, 1996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лектронные ресурс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 РФ: [Электронный ресурс] / Электрон. ст. – Режим доступа к ст.:  http://www.bankreferatov.r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кредитные отношения: [Электронный ресурс] / Электрон. ст. – Режим доступа к ст.: http://www.5ballov.ru/referats/preview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лосса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Глоссар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в широком смысле слова — любой товар, способный выполнять денежную функцию средства обмена на международной арен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разделяется в зависимости от ее принадлежности: на национальную валюту — законное платежное средство на территории выпускающих ее стран (доллар в США, рубль в России); иностранную валюту — платежное средство других стран, законно или незаконно используемое на территории данной страны (доллар в России, рубль на Украине, латы в Латви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в широком смысле слова — любой товар, способный выполнять денежную функцию средства обмена на международной арене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разделяется в зависимости от ее принадлежности: на национальную валюту — законное платежное средство на территории выпускающих ее стран (доллар в США, рубль в России); иностранную валюту — платежное средство других стран, законно или незаконно используемое на территории данной страны (доллар в России, рубль на Украине, латы в Латвии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о-кредитные и финансовые отношения — составная часть и самая сложная сфера рыночного хозяйства. В них фокусируются проблемы национальной и мировой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 — это форма организации и регулирования валютных отношении, закрепленная национальным законодательством или межгосударственными соглаш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валютно-кредитные и финансовые отношения — составная часть и самая сложная сфера рыночного хозяйства. В них фокусируются проблемы национальной и мировой экономик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 — это форма организации и регулирования валютных отношении, закрепленная национальным законодательством или межгосударственными соглашениям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валютой РФ понима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ходящиеся в обращении, а также изъятые или изымаем из обращения, но подлежащие обмену рубли в виде банковских билетов (банкнот) Центрального банка РФ и моне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в рублях на счетах в банках и иных кредитных учреждениях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в рублях на счетах в банках и иных кредитных учреждениях за пределами РФ на основании соглашения, заключаемого Правительством РФ и Центральным банком РФ с ответствующими органами иностранного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 валютой РФ понимаетс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ходящиеся в обращении, а также изъятые или изымаем из обращения, но подлежащие обмену рубли в виде банковских билетов (банкнот) Центрального банка РФ и монет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едства в рублях на счетах в банках и иных кредитных учреждениях в РФ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едства в рублях на счетах в банках и иных кредитных учреждениях за пределами РФ на основании соглашения, заключаемого Правительством РФ и Центральным банком РФ с ответствующими органами иностранного государ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 — форма организации валютных отношений страны, закрепленная национальным законодатель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ой национальной валютной системы выступает установленная законом денежная единица государства. В России это российский рубль, введенный в обращение в 1993 г. и заменивший рубль ССС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 валютная система — форма организации валютных отношений страны, закрепленная национальным законодательство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ой национальной валютной системы выступает установленная законом денежная единица государства. В России это российский рубль, введенный в обращение в 1993 г. и заменивший рубль ССС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 базируется на функции мировых денег. Они служат мировым платежным средством, мировым покупательным средством и материальным воплощением общественного богат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ами мировой валютной системы являются определенный набор платежных средств, валютные курсы и валютные паритеты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 базируется на функции мировых денег. Они служат мировым платежным средством, мировым покупательным средством и материальным воплощением общественного богат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лементами мировой валютной системы являются определенный набор платежных средств, валютные курсы и валютные паритеты и т.д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DECB-4049-438A-AE33-7BF56C0EB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A93C-FC6B-467B-AD47-230F471E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4A70-76B9-4251-A88F-AF6C4EC52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846E-A1CF-432E-A446-10DBCB8A3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DC88-862C-4453-9DA0-04DEE7ED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8383-F543-402D-85DA-06C36833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3AA2-0D84-46FB-94EE-29BA8373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0928-804B-4A82-9F53-255087D9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80F1-DBBC-4754-BD70-7072C917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D2C6-384A-4704-A7C2-43F161DE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BF56-7654-4966-8FBF-5E20763A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869A-9DE6-418C-8458-BD16B4BE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E88A-E597-4BB0-A30A-1D4E234A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BAFB-F92C-4CE9-9FC5-B4595F48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ADF0-18B9-47B8-A7DC-F37CBDD4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0333-6DB8-435B-8633-7B0921F1A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F6C8-09DC-4EA7-8CD0-9CACD2BAF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D575-CC2A-4425-89F8-692A2AB8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98B1-BC3B-41C6-AB6C-F0BE50E0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8CAE-7093-47B0-ACBA-95F8A21D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CD6A-347E-433B-83D2-62675644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5E80-0068-4600-AC5F-AF622C42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3402-982B-4101-93B7-E6590753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7527-12EF-4C9B-8E79-94CDBB96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D4EB-FCF4-4493-A5C0-45B71B397E1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A028-32EB-4012-84C4-AB6FADEE1063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7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" Target="slide21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8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991280" cy="439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333399"/>
                </a:solidFill>
                <a:latin typeface="Tahoma"/>
              </a:rPr>
              <a:t>Валютная система Российской Федерации и международные кредитные отношения.</a:t>
            </a:r>
            <a:endParaRPr b="0" lang="en-US" sz="5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000" y="1915920"/>
            <a:ext cx="770580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Международная валютная систем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закрепленная в международных соглашениях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форма организации валютно-финансовых отношени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функционирующих самостоятельн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ли обслуживающих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международное движение товаров и факторов производств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97128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647064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онвертируемость валют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Конвертируемость валют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способность резидентов и нерезидентов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свободн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без ограничений, обменивать национальную валюту на иностранную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использовать иностранную валюту в сделках с реальными и финансовыми активам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конвертируемость валют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разделяется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на внутреннюю и внешню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4920" y="1933560"/>
            <a:ext cx="820908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нутренняя конвертируемос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право резиденто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покупа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иметь и совершать операции внутри стран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 активами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в форме валюты и банковских депозито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переведенных в иностранную валюту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нутренняя конвертируемос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тносится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к сделкам между резидентами внутри своей стра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Конвертируемость валют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345440" cy="141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Валютный курс.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8064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алютный курс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ропорциональный обмен одной национальной валюты на другую путем </a:t>
            </a: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купли-продаж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Валютный курс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грает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важную рол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 развитии экономики страны, поскольку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оказывает непосредственное влия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а выбор такой структуры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производства и потребле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экспорта и импорт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которая приносит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максимальную прибыль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77724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ри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завышенном валютном курс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нутренние цены страны </a:t>
            </a: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оказываются выше мировых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Понижение курса валют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его заниженность по сравнению с ее реальной покупательной способностью приводит к тому, </a:t>
            </a: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что внутренние цены государства оказываются ниже мировых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042920" y="692280"/>
            <a:ext cx="7793280" cy="14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ый курс.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11280" y="1988640"/>
            <a:ext cx="741672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уществуют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три основные системы валютных курсов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1.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Фиксированна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При такой системе государство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устанавливает золотое или долларовое содержание национальной денежной един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900000" y="549360"/>
            <a:ext cx="7793280" cy="120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ый курс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ый курс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2.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Свободная плавающа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Курс национальной валюты в этом случае складывается в зависимости от изменения соотношения спроса и предложения на нее на валютных рынках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не предполагает вмешательства государст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3.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Управляемая плавающа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При этой системе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при внешнем сохранении плавающей системы государство влияет на формирование курса национальной валюты через ЦБ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который сглаживает колебания курса путем 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покупки и продаж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алюты на валютных рынках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истемы валютного курса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7850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Золотой стандарт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международная валютн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основанная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на официальном закреплении странами золотого содержания в единице национальной валют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 обязательством центральных банков покупать и продавать национальную валюту в обмен на золото.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Золотой стандарт в международной валютной системе существовал дважды — с 1880 по 1914 г., и с 1925 по 1931 г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777708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Международные валютные организации и Московская межбанковская валютная биржа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640" y="2106360"/>
            <a:ext cx="777744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f01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ru-RU" sz="2400" spc="-1" strike="noStrike">
                <a:solidFill>
                  <a:srgbClr val="ffcf01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Международный валютный фонд (МВФ)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был создан в июле 1944 г. по </a:t>
            </a:r>
            <a:r>
              <a:rPr b="0" lang="ru-RU" sz="2400" spc="-1" strike="noStrike">
                <a:solidFill>
                  <a:srgbClr val="33cc33"/>
                </a:solidFill>
                <a:latin typeface="Tahoma"/>
              </a:rPr>
              <a:t>решению конференции ООН. Его местонахождение — Вашингтон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МВФ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крупнейший кредитор мир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В настоящее время в его состав входят около двухсот стран, почти все страны мирового сообщества.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Кредиты МВФ предоставляются в иностранной валюте для выравнивания платежных балансов государств-члено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23640" y="2249280"/>
            <a:ext cx="845964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ажнейшим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институтом регулирования международных валютно-финансовы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тношений, кроме МВФ, является </a:t>
            </a: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Всемирный банк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(ВБ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ВБ состоит из нескольких учреждени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главным из которых является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Международный банк реконструкции и развития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(МБРР)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934560" y="333360"/>
            <a:ext cx="80298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99"/>
                </a:solidFill>
                <a:latin typeface="Tahoma"/>
              </a:rPr>
              <a:t>Международные валютные организации и Московская межбанковская валютная биржа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345440" cy="46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300" spc="-1" strike="noStrike">
                <a:solidFill>
                  <a:srgbClr val="333399"/>
                </a:solidFill>
                <a:latin typeface="Tahoma"/>
              </a:rPr>
              <a:t>Валютная система Российской Федерации</a:t>
            </a: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и к теме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е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ст к тем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1640" y="1484280"/>
            <a:ext cx="7772400" cy="35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300" spc="-1" strike="noStrike">
                <a:solidFill>
                  <a:srgbClr val="333399"/>
                </a:solidFill>
                <a:latin typeface="Tahoma"/>
              </a:rPr>
              <a:t>Международные кредитные отношения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63640" y="333000"/>
            <a:ext cx="8029440" cy="12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ущность и классификация международного кредита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0920" y="2006280"/>
            <a:ext cx="806436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Международный кредит как разновидность экономической категории «кредит»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едставляет собой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движение ссудного капитала в сфере международных экономических отношен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связанное с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редоставлением валютных и товарных ресурсов на условиях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озвратности, срочности, обеспеченности и уплаты процент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640" y="1890360"/>
            <a:ext cx="784872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арактерные черты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современного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развития международного кредит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осударственное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стимулирование экспорт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жправительственное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регулирование экспортного кредитова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еориентация ряда стран от кредитования экспорта в национальных валютах на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редоставление кредитов в валютах третьих стра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например, в евро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360" y="2133720"/>
            <a:ext cx="802800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Международный валютный фонд (МВФ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это международная валютно-кредитная организац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имеющая статус специализированного учреждения ООН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Важнейшим направлением деятельности МВФ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являются его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кредитные операци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осуществляемые только с официальными органами стран-члено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казначействами, центральными банками, стабилизационными фондами), их можно разделить на два вид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3964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редитные операции делятс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редиты, предоставляемые в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пределах резервной позици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траны в МВФ: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для покрытия дефицита платежного баланс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трана может получить кредит в иностранной валюте в обмен на национальную сроком до 3 — 5 лет,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ри этом погашение кредита производится обратным путем — посредством покупки национальной валюты на свободно конвертируемую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39640" y="2133720"/>
            <a:ext cx="8136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кредиты,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предоставляемые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сверх резервной доли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; в </a:t>
            </a: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этом случае кредит может быть выдан только после предварительного изучения валютно-экономического положения страны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и выполнения ею требований </a:t>
            </a: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МВФ о проведении стабилизационных мер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39280" y="-360"/>
            <a:ext cx="8425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онятие, эволюция и структура мирового рынка ссудных капитало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Мировой рынок ссудных капитало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это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рынок, на котором осуществляются международные кредитные операци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его эволюция связана с процессом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интернационализации хозяйственной жизн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жно выделить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две составляющие мирового рынка ссудных капиталов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рынок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иностранных кредитов и займов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»,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хватывающий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международные операции на национальных рынка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судных капиталов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нятия, эволюция и структура мирового рынка ссудных капиталов.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687096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держ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280" y="1125360"/>
            <a:ext cx="820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Валютная систем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Валютная систе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Национальная, мировая, международная валютные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Конвертируемость валю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4" action="ppaction://hlinksldjump"/>
              </a:rPr>
              <a:t>Валютный кур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5" action="ppaction://hlinksldjump"/>
              </a:rPr>
              <a:t>Системы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6" action="ppaction://hlinksldjump"/>
              </a:rPr>
              <a:t>Международные валютные организации и Московская межбанковская валютная бирж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7" action="ppaction://hlinksldjump"/>
              </a:rPr>
              <a:t>Задачи к тем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8" action="ppaction://hlinksldjump"/>
              </a:rPr>
              <a:t>Тест к тем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11280" y="2349360"/>
            <a:ext cx="806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евровалютный рынок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еврорынок), на котором совершаются безналичные 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депозитно-кредитны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перации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в иностранных валютах за пределами стран — эмитентов этих валют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971280" y="4759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нятия, эволюция и структура мирового рынка ссудных капиталов.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20072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Кредитование внешней торговли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79898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Внешняя торговл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это торговля между странами, состоящая из вывоза (экспорта) и ввоза (импорта) товаров и услуг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Внешняя торговл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существляется преимущественно через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коммерческие сделк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оформляемые внешнеторговыми контракт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9280" y="1988640"/>
            <a:ext cx="8209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Кредитование внешней торговл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это предоставление кредитных средств в денежной или товарной форме на определенный срок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ля осуществления внешнеторговых операци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редитование внешней торговл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50560" y="2249280"/>
            <a:ext cx="8713800" cy="40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Формы кредитования внешней торговли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Факторинговы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услуги, представляющие собой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финансирование под уступку денежных требовани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редитование внешней торговл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1992240"/>
            <a:ext cx="842472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форфейтинг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спользуется экономический инструмент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акцептованный вексель, или тратт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оговор о форфейтинге является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консенсуальным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носит организационный характер, поскольку сначала в договоре оговаривается,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какие векселя банк принимает к форфейтингу, в какие сроки, по какой ставке они учитываются, а уже потом передается конкретный, вексел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редитование внешней торговл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58988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96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латежный баланс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это статистическая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система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которой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 отражаются все международные операции страны в форме соотношения валютных поступлений из-за границы и платежей, произведенных данной страной другим страна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в течение определенного периода времен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ставляемые по методике </a:t>
            </a:r>
            <a:r>
              <a:rPr b="0" lang="ru-RU" sz="2400" spc="-1" strike="noStrike">
                <a:solidFill>
                  <a:srgbClr val="33cc33"/>
                </a:solidFill>
                <a:latin typeface="Tahoma"/>
              </a:rPr>
              <a:t>МВФ платежные балансы включают не только поступления и платежи, которые фактически осуществлены, но и будущие платежи по международным требованиям и обязательствам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23640" y="1844280"/>
            <a:ext cx="8569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платежном балансе также разграничиваются </a:t>
            </a:r>
            <a:r>
              <a:rPr b="0" lang="ru-RU" sz="2800" spc="-1" strike="noStrike">
                <a:solidFill>
                  <a:srgbClr val="1c1c1c"/>
                </a:solidFill>
                <a:latin typeface="Tahoma"/>
              </a:rPr>
              <a:t>текущие и капитальные трансферт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Текущие трансферт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увеличивают уровень располагаемого дохода и потребления товаров и услуг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олучателя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уменьшают располагаемый доход и потенциальные возможности потребления донор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например гуманитарная помощь в форме потребительских товаров и услуг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50920" y="184464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Капитальные трансферт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приводят к изменению в объеме активов или обязательств донора и получателя и отражаются в счете операций с капитало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имер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питальных трансфертов —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безвозмездная передача прав собственности на основные фонды, прощение долгов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90560" y="404280"/>
            <a:ext cx="817416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роблема внешней задолженности России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3548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ссия является одновременно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должником и кредитором</a:t>
            </a:r>
            <a:r>
              <a:rPr b="1" lang="ru-RU" sz="3200" spc="-1" strike="noStrike">
                <a:solidFill>
                  <a:srgbClr val="ffcf01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долг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бывших социалистических и развивающихся стран приходится 140 млрд долл. США.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Основные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заемщики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— это Куба, Монголия, Вьетнам, Индия, Лив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др.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95280" y="213336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касается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роли должник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то Россия как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правопреемница СССР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о его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зарубежным активам и пассива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СССР привлекал среднесрочный и долгосрочный иностранный капитал преимущественно в форме экспортных кредитов —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взяла на себя обязательства по обслуживанию внешнего долга СССР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900000" y="214200"/>
            <a:ext cx="80438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облема внешней задолженности Росси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9280" y="1690560"/>
            <a:ext cx="799308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Международные кредитные отнош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Сущность и классификация международного креди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Понятия, эволюция и структура мирового рынка ссудных капитал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блема внешней задолженности Росс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писок литератур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лоссар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дачи к тем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ст к тем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Международные кредитные отнош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24000" y="1915920"/>
            <a:ext cx="82915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лагается комплексное </a:t>
            </a:r>
            <a:r>
              <a:rPr b="1" lang="ru-RU" sz="3200" spc="-1" strike="noStrike">
                <a:solidFill>
                  <a:srgbClr val="33cc33"/>
                </a:solidFill>
                <a:latin typeface="Tahoma"/>
              </a:rPr>
              <a:t>решение проблем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внешней задолженност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за счет возврата средств, незаконно вывезенных за рубеж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 по оценке экспертов, это примерно 500 — 700 млрд. долл., которые хранятся в американских банках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971280" y="214200"/>
            <a:ext cx="7972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облема внешней задолженности Росси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9200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2033640"/>
            <a:ext cx="864216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Решению задачи активного участия России в мировых интеграционных процессах</a:t>
            </a:r>
            <a:r>
              <a:rPr b="0" lang="ru-RU" sz="2800" spc="-1" strike="noStrike">
                <a:solidFill>
                  <a:srgbClr val="ffcf01"/>
                </a:solidFill>
                <a:latin typeface="Tahoma"/>
              </a:rPr>
              <a:t> в значительной степени способствует дальнейшее углубление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торгово-экономических отношений с Европейским Союзом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Фундаментом этих отношений является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Соглашение о партнерстве и сотрудничеств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Стратегия развития отношений Российской Федерации с ЕС на среднесрочную перспективу (2000 — 2010)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7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Процессы, происходящие в банковско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систем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наиболее хорошо наблюдаемы и одновременно очень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тонко отражают состояние экономики в цело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смотрим международную экономическую деятельность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Сбербанка России как главного банка, обслуживающего население стран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755280" y="214200"/>
            <a:ext cx="8188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84836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писок литератур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75610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екрёстова Л.В. Финансы и кредит: учеб. пособие для студ. сред. проф. учеб. Заведений/ Л.В. Перекрёстова.  – М.: Академия, 2006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ергеев Е.Ю. Международные экономические отношения: Курс лекций. – М.: Информационно-внедренческий центр «Маркетинг», 2000. С. 20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тонова И.Н. Валютный рынок и валютное регулирование / И. Н. Платонов – М.: БЕК, 1996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Электронные ресурс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алютная система РФ: [Электронный ресурс] / Электрон. ст. – Режим доступа к ст.:  http://www.bankreferatov.r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ждународные кредитные отношения: [Электронный ресурс] / Электрон. ст. – Режим доступа к ст.: http://www.5ballov.ru/referats/p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лоссари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ст к тем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и к тем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280" y="765000"/>
            <a:ext cx="68706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ая систе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120" y="1699920"/>
            <a:ext cx="86425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Валюта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широком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мысле слова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любой товар, способный выполнять денежную функцию средства обмена на международной арене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разделяется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в зависимости от ее принадлежност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на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национальную валюту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законное платежное средство на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территории выпускающих ее стра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доллар в США, рубль в России);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иностранную валюту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латежное средств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других стра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законно или незаконно используемое на территории данной страны (доллар в России, рубль на Украине, латы в Латвии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8136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Международные валютно-кредитные и финансовые отноше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составная часть и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самая сложная сфера рыночного хозяйств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В них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фокусируются проблемы национальной и мировой экономи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Валютн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это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форма организации и регулирования валютных отношени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закрепленная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национальным законодательством или межгосударственными соглашения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ая систе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9640" y="1817640"/>
            <a:ext cx="777240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ru-RU" sz="2400" spc="-1" strike="noStrike">
                <a:solidFill>
                  <a:srgbClr val="ffcf01"/>
                </a:solidFill>
                <a:latin typeface="Tahoma"/>
              </a:rPr>
              <a:t>Под </a:t>
            </a: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валютой РФ понимается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Tahoma"/>
              </a:rPr>
              <a:t>находящиеся в обращении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, а также изъятые или изымаем из обращения, </a:t>
            </a:r>
            <a:r>
              <a:rPr b="0" lang="ru-RU" sz="2500" spc="-1" strike="noStrike">
                <a:solidFill>
                  <a:srgbClr val="ff0000"/>
                </a:solidFill>
                <a:latin typeface="Tahoma"/>
              </a:rPr>
              <a:t>но подлежащие обмену рубли в виде банковских билетов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 (банкнот) Центрального банка РФ и монеты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Tahoma"/>
              </a:rPr>
              <a:t>средства в рублях на счетах в банках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 и иных кредитных учреждениях в РФ;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Tahoma"/>
              </a:rPr>
              <a:t>средства в рублях на счетах в банках и иных кредитных учреждениях за пределами РФ на основании соглашения,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 заключаемого Правительством РФ и Центральным банком РФ с ответствующими органами иностранного государства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ая систе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11280" y="189000"/>
            <a:ext cx="8137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Национальная валютн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форма организации валютных отношений стран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закрепленная национальным законодательством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Основой национальной валютной системы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ступает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 установленная законом денежная единица государств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В России это российский рубль, введенный в обращение в 1993 г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и заменивший рубль ССС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Мировая валютн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базируется на функции мировых денег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Они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служат мировым платежным средством, мировым покупательным средством и материальным воплощением общественного богатств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Элементами мировой валютной систем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являются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определенный набор платежных средств, валютные курсы и валютные паритет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т.д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97128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7:22:22Z</dcterms:created>
  <dc:creator>USER</dc:creator>
  <dc:description/>
  <dc:language>en-US</dc:language>
  <cp:lastModifiedBy>LEGION</cp:lastModifiedBy>
  <dcterms:modified xsi:type="dcterms:W3CDTF">2016-01-05T11:06:38Z</dcterms:modified>
  <cp:revision>13</cp:revision>
  <dc:subject/>
  <dc:title>Валютная система Российской Федерации и международные кредитные отношения.</dc:title>
</cp:coreProperties>
</file>