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48D0-82C0-4A0B-8DE3-51EC3F2A470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№ 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ответственность и этика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а № 5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циальная ответственность и этика бизнес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инная роль бизнеса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20 века возникла доктрина капиталистической благотворительности, согласно которой преуспевающие организации обязаны жертвовать часть своих средств на бла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. Карнеги инвестировал 350 млн.долл. в социальные программы и построил более двух тысяч публичных библиот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.Д.Рокфеллер пожертвовал 550 млн.долл. в фонд Рокфелл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50-х годов концепция социальной роли бизнеса стала меняться. В книге «Социальная ответственность бизнеса» Х.Р.Боуэн описал, как концепция социальной ответственности применима к бизнесу и какие социально-экономические выгоды могут возникнуть благодаря признанию важности социальных целей при принятии деловых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инная роль бизнеса в обществ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начале 20 века возникла доктрина капиталистической благотворительности, согласно которой преуспевающие организации обязаны жертвовать часть своих средств на благо обще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. Карнеги инвестировал 350 млн.долл. в социальные программы и построил более двух тысяч публичных библиотек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ж.Д.Рокфеллер пожертвовал 550 млн.долл. в фонд Рокфеллер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1950-х годов концепция социальной роли бизнеса стала меняться. В книге «Социальная ответственность бизнеса» Х.Р.Боуэн описал, как концепция социальной ответственности применима к бизнесу и какие социально-экономические выгоды могут возникнуть благодаря признанию важности социальных целей при принятии деловых решени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точка зрения заключается в том, что организация является социально ответственной, если работает с максимальной прибылью и при этом свято чтит все законы и нормы свое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этой точке зрения организация должна преследовать лишь экономические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жденным сторонником этой теории является лауреат Нобелевской премии М.Фридман, по мнению которого «роль бизнеса заключается в использовании ресурсов и энергии в видах деятельности, предназначенных для увеличения прибыли, и в соблюдении при этом правил игры… а также в участии в честной конкурентной борьбе без мошенничества и обман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вая точка зрения заключается в том, что организация является социально ответственной, если работает с максимальной прибылью и при этом свято чтит все законы и нормы своего обще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о этой точке зрения организация должна преследовать лишь экономические цел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бежденным сторонником этой теории является лауреат Нобелевской премии М.Фридман, по мнению которого «роль бизнеса заключается в использовании ресурсов и энергии в видах деятельности, предназначенных для увеличения прибыли, и в соблюдении при этом правил игры… а также в участии в честной конкурентной борьбе без мошенничества и обмана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второй точке зрения организация, кроме обязательств чисто экономического характера, обязана учитывать человеческие и социальные аспекты влияния ее деятельности на сотрудников, потребителей и местные сообщества и вносить позитивный вклад в решение социальных проблем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одход также подразумевает, что общество ожидает от современных организаций не только высоких экономических показателей, но и больших успехов в деле достижения социальных ц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точка зрения сводится к тому, что организация должна  действовать  ответственно в целом ряде направлений: в области защиты окружающей среды, здравоохранения, гражданских прав, защиты потребител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о второй точке зрения организация, кроме обязательств чисто экономического характера, обязана учитывать человеческие и социальные аспекты влияния ее деятельности на сотрудников, потребителей и местные сообщества и вносить позитивный вклад в решение социальных проблем обще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анный подход также подразумевает, что общество ожидает от современных организаций не только высоких экономических показателей, но и больших успехов в деле достижения социальных целе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вая точка зрения сводится к тому, что организация должна  действовать  ответственно в целом ряде направлений: в области защиты окружающей среды, здравоохранения, гражданских прав, защиты потребителей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 в отличие от социальной подразумевает соблюдение конкретных законов и норм государственного регулирования, определяющих, что может и чего не может делать организа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, соблюдающая все законы и нормы, ведет себя, как юридически ответственная, однако при этом она не всегда действует как социально ответстве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же ответственность предусматривает определенную степень добровольной реакции организации на социальны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ридическая ответственность бизнес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ридическая ответственность в отличие от социальной подразумевает соблюдение конкретных законов и норм государственного регулирования, определяющих, что может и чего не может делать организац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рганизация, соблюдающая все законы и нормы, ведет себя, как юридически ответственная, однако при этом она не всегда действует как социально ответственн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циальная же ответственность предусматривает определенную степень добровольной реакции организации на социальные проблем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аргументы в пользу социальной ответственност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приятные долгосрочные перспективы для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отребностей и ожиданий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ресурсов для помощи в решении соци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ое обязательство быть социально ответствен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ые аргументы в пользу социальной ответственности бизнес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лагоприятные долгосрочные перспективы для компан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потребностей и ожиданий обще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ресурсов для помощи в решении социальных пробл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ральное обязательство быть социально ответственны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аргументы против социальной ответственност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принципа максимизации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, связанные с социальной деятель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й уровень отчетности перед об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навыков решения соци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ые аргументы против социальной ответственности бизнес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рушение принципа максимизации прибыл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, связанные с социальной деятельностью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изкий уровень отчетности перед общество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сутствие навыков решения социальных пробл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овременники придерживаются мнения, что организации должны направлять часть своих ресурсов и усилий на развитие местных сообществ и обществ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ор Л.Престон считал, что каждой организации следует,  прежде всего,  тщательно проанализировать свою среду и выбрать такие программы, которые будут наиболее эффективны именно для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 ответственные действия – прерогатива не только исключительно крупных компаний. Социальная ответственность предполагает не просто филантропическую деятельность, все таки главным для выживания любой компании является прибыль. Прибыльность и развитие идут рука об руку со справедливым отношением фирмы к персоналу, потребителям и местному сообще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ногие современники придерживаются мнения, что организации должны направлять часть своих ресурсов и усилий на развитие местных сообществ и общества в цело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фессор Л.Престон считал, что каждой организации следует,  прежде всего,  тщательно проанализировать свою среду и выбрать такие программы, которые будут наиболее эффективны именно для нее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циально ответственные действия – прерогатива не только исключительно крупных компаний. Социальная ответственность предполагает не просто филантропическую деятельность, все таки главным для выживания любой компании является прибыль. Прибыльность и развитие идут рука об руку со справедливым отношением фирмы к персоналу, потребителям и местному сообществу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ка и современный 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бизнес-этики являются принципы, определяющие правильные и неправильные подходы к ведению д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ы общественного мнения показали, что общество убеждено в снижении стандартов этичности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Л.Осмера, «этические проблемы в бизнесе имеют отношение к конфликту, или как минимум к его вероятности, между показателями экономической деятельности организации, измеряемыми ее доходами, затратами и прибылью, и показателями ее социальной ответственности, которые выражаются в ее обязательствах по отношению к другим людям как внутри организации, так и в обществ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ясь улучшать этический климат, организации предпринимают самые разные шаги: составляют морально-этические кодексы, занимаются социальным аудитом и приводят тренинги по вопросам э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ика и современный менеджмен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метом бизнес-этики являются принципы, определяющие правильные и неправильные подходы к ведению де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просы общественного мнения показали, что общество убеждено в снижении стандартов этичности бизнес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мнению Л.Осмера, «этические проблемы в бизнесе имеют отношение к конфликту, или как минимум к его вероятности, между показателями экономической деятельности организации, измеряемыми ее доходами, затратами и прибылью, и показателями ее социальной ответственности, которые выражаются в ее обязательствах по отношению к другим людям как внутри организации, так и в обществе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араясь улучшать этический климат, организации предпринимают самые разные шаги: составляют морально-этические кодексы, занимаются социальным аудитом и приводят тренинги по вопросам этик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44E3-F51D-4ED5-8E51-6CC2BC2F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5ED0-B76E-4339-B4EA-3604A6CC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C15D-FE37-4E72-837B-4DA9CF3F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A52A-E069-4535-BBCB-8E8D8948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38C4-1940-4EF8-B8EE-DC0BBA0B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DDFB-4D3D-45E5-8BB6-5FADC073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FFC8-1485-450F-A6A4-5B0F0B16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97FD-09F6-4B5D-B339-5DEACE39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3438-3F0A-4972-A8AB-7B8D8718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F699-23E4-49A5-82CF-3EF438AB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D82C-55B4-4041-8380-76228B05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1165-C191-4BEE-8DCF-FC6F7DEE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EC6A-1F8A-42BB-9E17-C3B67BD0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7892-A212-4EAD-8270-715EF210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2ACF-9121-47A9-88E6-F57A1A55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FAEB-88BC-4B46-8CDD-136E5FDB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0040-36F6-4DA4-88A7-4D7090F0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510D-4C2C-43E4-928F-6BB02DD9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FEF1-4471-40B0-B790-D7350B3F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1338-E9F1-481E-AC63-AE8EBA89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4704-C81F-4C07-A039-84494ED2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A134-FE54-4CE5-A7C6-25E2C75D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7FE9-8D9B-4D08-AED7-B31B2713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E5D6-D834-4AB7-B6CB-8E2F8153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DEEC-51DB-424C-8817-EE6B9AEBC4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5111-4413-4201-9D47-94F1A69B89F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Тема № 5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циальная ответственность и этика бизн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Истинная роль бизнеса в обществе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начале 20 века возникла доктрина капиталистической благотворительности, согласно которой преуспевающие организации обязаны жертвовать часть своих средств на благо общ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. Карнеги инвестировал 350 млн.долл. в социальные программы и построил более двух тысяч публичных библиоте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ж.Д.Рокфеллер пожертвовал 550 млн.долл. в фонд Рокфеллер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1950-х годов концепция социальной роли бизнеса стала меняться. В книге «Социальная ответственность бизнеса» Х.Р.Боуэн описал, как концепция социальной ответственности применима к бизнесу и какие социально-экономические выгоды могут возникнуть благодаря признанию важности социальных целей при принятии деловых реше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вая точка зрения заключается в том, что организация является социально ответственной, если работает с максимальной прибылью и при этом свято чтит все законы и нормы своего общ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гласно этой точке зрения организация должна преследовать лишь экономические цел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бежденным сторонником этой теории является лауреат Нобелевской премии М.Фридман, по мнению которого «роль бизнеса заключается в использовании ресурсов и энергии в видах деятельности, предназначенных для увеличения прибыли, и в соблюдении при этом правил игры… а также в участии в честной конкурентной борьбе без мошенничества и обмана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гласно второй точке зрения организация, кроме обязательств чисто экономического характера, обязана учитывать человеческие и социальные аспекты влияния ее деятельности на сотрудников, потребителей и местные сообщества и вносить позитивный вклад в решение социальных проблем общ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нный подход также подразумевает, что общество ожидает от современных организаций не только высоких экономических показателей, но и больших успехов в деле достижения социальных цел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вая точка зрения сводится к тому, что организация должна  действовать  ответственно в целом ряде направлений: в области защиты окружающей среды, здравоохранения, гражданских прав, защиты потребителей и т.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Юридическая ответственность бизнес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Юридическая ответственность в отличие от социальной подразумевает соблюдение конкретных законов и норм государственного регулирования, определяющих, что может и чего не может делать организац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рганизация, соблюдающая все законы и нормы, ведет себя, как юридически ответственная, однако при этом она не всегда действует как социально ответственна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циальная же ответственность предусматривает определенную степень добровольной реакции организации на социальные проблем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аргументы в пользу социальной ответственности бизнес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лагоприятные долгосрочные перспективы для компа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менение потребностей и ожиданий обще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ресурсов для помощи в решении социальных пробл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ральное обязательство быть социально ответственны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аргументы против социальной ответственности бизнес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рушение принципа максимизации прибы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сходы, связанные с социальной деятельность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зкий уровень отчетности перед обществ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сутствие навыков решения социальных пробл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огие современники придерживаются мнения, что организации должны направлять часть своих ресурсов и усилий на развитие местных сообществ и общества в цел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фессор Л.Престон считал, что каждой организации следует,  прежде всего,  тщательно проанализировать свою среду и выбрать такие программы, которые будут наиболее эффективны именно для не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циально ответственные действия – прерогатива не только исключительно крупных компаний. Социальная ответственность предполагает не просто филантропическую деятельность, все таки главным для выживания любой компании является прибыль. Прибыльность и развитие идут рука об руку со справедливым отношением фирмы к персоналу, потребителям и местному сообществ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Этика и современный менеджмент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дметом бизнес-этики являются принципы, определяющие правильные и неправильные подходы к ведению де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осы общественного мнения показали, что общество убеждено в снижении стандартов этичности бизнес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мнению Л.Осмера, «этические проблемы в бизнесе имеют отношение к конфликту, или как минимум к его вероятности, между показателями экономической деятельности организации, измеряемыми ее доходами, затратами и прибылью, и показателями ее социальной ответственности, которые выражаются в ее обязательствах по отношению к другим людям как внутри организации, так и в обществе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араясь улучшать этический климат, организации предпринимают самые разные шаги: составляют морально-этические кодексы, занимаются социальным аудитом и приводят тренинги по вопросам эти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5T11:19:01Z</dcterms:created>
  <dc:creator>Ирина</dc:creator>
  <dc:description/>
  <dc:language>en-US</dc:language>
  <cp:lastModifiedBy>LEGION</cp:lastModifiedBy>
  <dcterms:modified xsi:type="dcterms:W3CDTF">2016-01-05T12:47:33Z</dcterms:modified>
  <cp:revision>7</cp:revision>
  <dc:subject/>
  <dc:title>Тема № 5.</dc:title>
</cp:coreProperties>
</file>