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93C5-4067-4411-98E8-BEC534F1AE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а № 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роль бизнес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инная роль бизнеса в обще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и современны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ка и современный менеджмен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0FC-1092-4C0F-95FE-3C87FBAE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BF4-A7A6-4CBF-8354-34133833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C00-BD93-4F10-849B-11ED47E1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A49-C8AC-4B31-8FE8-48DC5C8C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EF4D-A25D-4396-8100-9BE407B2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6F32-36D5-44E1-B796-B48CC6B2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326B-0B8A-4905-8CED-B177840A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2F59-4772-4116-8495-F933FD81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54E3-06E4-4412-A5A9-41E04F0D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87FF-E177-4ED3-9A21-E0449153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3DA-E5A4-4FC3-B816-1D428E1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A62-0E7C-43AC-BE29-A5FA5D2A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22D0-E70D-4814-895D-E1422E5D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3C6D-BB4D-45C1-8959-98A1C8C2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0901-3E56-497A-AF32-92AD3A84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1AD3-4CF9-4A36-8343-ABF0F7FA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69B5-3F3E-4DCB-968C-3164B4D5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561-FBD2-4670-9775-40A62726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C88-2801-480F-A95A-DD226AEF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67D-2E16-4D33-9784-57EAF9C0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DFD-9232-47F7-8E49-40236335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EFA-8F03-4519-85EE-D5E0C746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BEF-CD9E-4E98-856E-27448D5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02E-EEA6-4B3D-AD06-D09D59F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8B5C-9BB8-42F8-8946-6E3A31783F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82C9-AE8D-47FE-9531-9A79C787F3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ма № 5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стинная роль бизнеса в обществе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дическая ответственность бизнес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Этика и современный менеджмент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1:19:01Z</dcterms:created>
  <dc:creator>Ирина</dc:creator>
  <dc:description/>
  <dc:language>en-US</dc:language>
  <cp:lastModifiedBy>LEGION</cp:lastModifiedBy>
  <dcterms:modified xsi:type="dcterms:W3CDTF">2016-01-05T12:47:33Z</dcterms:modified>
  <cp:revision>7</cp:revision>
  <dc:subject/>
  <dc:title>Тема № 5.</dc:title>
</cp:coreProperties>
</file>