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D2A6-7C34-45A7-972C-5CBD2BE840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а № 5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роль бизнес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инная роль бизнеса в обще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и современны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ка и современный менеджмен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47A-27F0-40AA-BF3B-FAB847A7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ADC-B901-4363-9BE9-96D6F3E2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F91-A463-49F6-B457-EB26D4BD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D5D-D512-4BC2-9739-4DC83F71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D80B-EF6B-4CE3-B4A0-3A2D892F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C2AD-62B4-4F42-A7AA-57467AB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90AF-1BCF-4085-9A1D-25BCA9CD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38C0-FFFB-4B38-B0A1-406C460E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D2A9-6479-4419-B6A4-6CE2D6F4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D314-4110-4299-8159-F41D213F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EF58-CA28-4520-B85F-F4CA778F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09A-B67A-46A3-8F82-8DFEE7D9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213F-18D1-4505-B06C-619F7708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FE38-17C8-4774-AA71-BD76C0A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F874-9ED3-4E41-B96D-C3C71736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B525-2165-49DD-8292-4120FA84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4AA7-E9FA-426F-A66B-5A58EB90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763-A840-4055-B9AF-769BB176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667-BE59-40FD-B59F-48DBEF1C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99F-8DC4-428D-8A57-161ACBDD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9F8-718D-4522-B9AF-7AEF7A6F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E454-7011-4F21-A805-DD7005E9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420-A774-4687-9815-6A1565D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088-1D61-42E2-85D6-1C4A406C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07AC-F2A3-451E-A6B8-6FBF5FAC4F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AB9B-0DEE-43CB-B203-1645188BA2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ема № 5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стинная роль бизнеса в обществе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Юридическая ответственность бизнес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Этика и современный менеджмент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1:19:01Z</dcterms:created>
  <dc:creator>Ирина</dc:creator>
  <dc:description/>
  <dc:language>en-US</dc:language>
  <cp:lastModifiedBy>LEGION</cp:lastModifiedBy>
  <dcterms:modified xsi:type="dcterms:W3CDTF">2016-01-05T12:47:33Z</dcterms:modified>
  <cp:revision>7</cp:revision>
  <dc:subject/>
  <dc:title>Тема № 5.</dc:title>
</cp:coreProperties>
</file>