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C5BA-E03C-43C5-BDA4-1E01405E8F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а № 5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роль бизнес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инная роль бизнеса в обще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и современны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ка и современный менеджмен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F99-B3A0-4254-8BD0-D7AD4DBA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B49-5B9E-4AAA-B6AC-6F15A833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905-F252-4FCD-9F1D-89D0150E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DF7-FDBC-44DE-8529-8C538842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E25A-4ADD-4741-9217-204151F3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0D70-C647-4C81-8264-2611470D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73B5-72FB-4C87-81B4-B710CF36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53AF-3FF8-4AC9-A72D-0116EDEA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3A5E-E1B4-42D1-B70F-96FB2FEF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FD3C-CD58-4D4F-AF94-E2D5B6CC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7CB5-418E-43EE-9440-F51E4C78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051-9778-4E46-B35E-A9EE083F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0A15-9A2B-4D03-8BDD-0ED01591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8557-E2F9-45E6-BCFC-5CEE2175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DE50-CA3E-4BE8-9EC1-195BFC84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E2EA-918F-460E-9B2F-F21A4E0A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A3E1-8B17-4451-A8B6-F089BD9E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591-9D7D-4E64-879E-15038258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528-49C5-4A74-BE16-AD685C07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D8C-08B2-4F2E-A790-49749258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B42-5EBC-4346-970E-74FEC7FB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260-A799-4644-B270-1BFF8295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981-6D64-4EDE-BA2C-A1572D32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213-0E6A-4AD0-B0F0-B306E305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5DB3-64C2-4778-AD42-48446796AF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2C99-F6C5-41A4-BDA2-4BB6203DFD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ема № 5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стинная роль бизнеса в обществе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Юридическая ответственность бизнес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Этика и современный менеджмент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1:19:01Z</dcterms:created>
  <dc:creator>Ирина</dc:creator>
  <dc:description/>
  <dc:language>en-US</dc:language>
  <cp:lastModifiedBy>LEGION</cp:lastModifiedBy>
  <dcterms:modified xsi:type="dcterms:W3CDTF">2016-01-05T12:47:33Z</dcterms:modified>
  <cp:revision>7</cp:revision>
  <dc:subject/>
  <dc:title>Тема № 5.</dc:title>
</cp:coreProperties>
</file>