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1.xml.rels" ContentType="application/vnd.openxmlformats-package.relationships+xml"/>
  <Override PartName="/ppt/notesSlides/_rels/notesSlide27.xml.rels" ContentType="application/vnd.openxmlformats-package.relationships+xml"/>
  <Override PartName="/ppt/notesSlides/_rels/notesSlide95.xml.rels" ContentType="application/vnd.openxmlformats-package.relationships+xml"/>
  <Override PartName="/ppt/notesSlides/_rels/notesSlide103.xml.rels" ContentType="application/vnd.openxmlformats-package.relationships+xml"/>
  <Override PartName="/ppt/notesSlides/_rels/notesSlide43.xml.rels" ContentType="application/vnd.openxmlformats-package.relationships+xml"/>
  <Override PartName="/ppt/notesSlides/_rels/notesSlide94.xml.rels" ContentType="application/vnd.openxmlformats-package.relationships+xml"/>
  <Override PartName="/ppt/notesSlides/_rels/notesSlide39.xml.rels" ContentType="application/vnd.openxmlformats-package.relationships+xml"/>
  <Override PartName="/ppt/notesSlides/_rels/notesSlide49.xml.rels" ContentType="application/vnd.openxmlformats-package.relationships+xml"/>
  <Override PartName="/ppt/notesSlides/_rels/notesSlide8.xml.rels" ContentType="application/vnd.openxmlformats-package.relationships+xml"/>
  <Override PartName="/ppt/notesSlides/_rels/notesSlide53.xml.rels" ContentType="application/vnd.openxmlformats-package.relationships+xml"/>
  <Override PartName="/ppt/notesSlides/_rels/notesSlide113.xml.rels" ContentType="application/vnd.openxmlformats-package.relationships+xml"/>
  <Override PartName="/ppt/notesSlides/_rels/notesSlide3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51.xml.rels" ContentType="application/vnd.openxmlformats-package.relationships+xml"/>
  <Override PartName="/ppt/notesSlides/_rels/notesSlide111.xml.rels" ContentType="application/vnd.openxmlformats-package.relationships+xml"/>
  <Override PartName="/ppt/notesSlides/_rels/notesSlide134.xml.rels" ContentType="application/vnd.openxmlformats-package.relationships+xml"/>
  <Override PartName="/ppt/notesSlides/_rels/notesSlide46.xml.rels" ContentType="application/vnd.openxmlformats-package.relationships+xml"/>
  <Override PartName="/ppt/notesSlides/_rels/notesSlide13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6.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10.xml.rels" ContentType="application/vnd.openxmlformats-package.relationships+xml"/>
  <Override PartName="/ppt/notesSlides/_rels/notesSlide22.xml.rels" ContentType="application/vnd.openxmlformats-package.relationships+xml"/>
  <Override PartName="/ppt/notesSlides/_rels/notesSlide126.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20.xml.rels" ContentType="application/vnd.openxmlformats-package.relationships+xml"/>
  <Override PartName="/ppt/notesSlides/_rels/notesSlide118.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32.xml.rels" ContentType="application/vnd.openxmlformats-package.relationships+xml"/>
  <Override PartName="/ppt/notesSlides/_rels/notesSlide130.xml.rels" ContentType="application/vnd.openxmlformats-package.relationships+xml"/>
  <Override PartName="/ppt/notesSlides/_rels/notesSlide70.xml.rels" ContentType="application/vnd.openxmlformats-package.relationships+xml"/>
  <Override PartName="/ppt/notesSlides/_rels/notesSlide105.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9.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27.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37.xml.rels" ContentType="application/vnd.openxmlformats-package.relationships+xml"/>
  <Override PartName="/ppt/notesSlides/_rels/notesSlide64.xml.rels" ContentType="application/vnd.openxmlformats-package.relationships+xml"/>
  <Override PartName="/ppt/notesSlides/_rels/notesSlide124.xml.rels" ContentType="application/vnd.openxmlformats-package.relationships+xml"/>
  <Override PartName="/ppt/notesSlides/_rels/notesSlide133.xml.rels" ContentType="application/vnd.openxmlformats-package.relationships+xml"/>
  <Override PartName="/ppt/notesSlides/_rels/notesSlide69.xml.rels" ContentType="application/vnd.openxmlformats-package.relationships+xml"/>
  <Override PartName="/ppt/notesSlides/_rels/notesSlide129.xml.rels" ContentType="application/vnd.openxmlformats-package.relationships+xml"/>
  <Override PartName="/ppt/notesSlides/_rels/notesSlide47.xml.rels" ContentType="application/vnd.openxmlformats-package.relationships+xml"/>
  <Override PartName="/ppt/notesSlides/_rels/notesSlide33.xml.rels" ContentType="application/vnd.openxmlformats-package.relationships+xml"/>
  <Override PartName="/ppt/notesSlides/_rels/notesSlide121.xml.rels" ContentType="application/vnd.openxmlformats-package.relationships+xml"/>
  <Override PartName="/ppt/notesSlides/_rels/notesSlide10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4.xml.rels" ContentType="application/vnd.openxmlformats-package.relationships+xml"/>
  <Override PartName="/ppt/notesSlides/_rels/notesSlide90.xml.rels" ContentType="application/vnd.openxmlformats-package.relationships+xml"/>
  <Override PartName="/ppt/notesSlides/_rels/notesSlide106.xml.rels" ContentType="application/vnd.openxmlformats-package.relationships+xml"/>
  <Override PartName="/ppt/notesSlides/_rels/notesSlide117.xml.rels" ContentType="application/vnd.openxmlformats-package.relationships+xml"/>
  <Override PartName="/ppt/notesSlides/_rels/notesSlide57.xml.rels" ContentType="application/vnd.openxmlformats-package.relationships+xml"/>
  <Override PartName="/ppt/notesSlides/_rels/notesSlide119.xml.rels" ContentType="application/vnd.openxmlformats-package.relationships+xml"/>
  <Override PartName="/ppt/notesSlides/_rels/notesSlide32.xml.rels" ContentType="application/vnd.openxmlformats-package.relationships+xml"/>
  <Override PartName="/ppt/notesSlides/_rels/notesSlide17.xml.rels" ContentType="application/vnd.openxmlformats-package.relationships+xml"/>
  <Override PartName="/ppt/notesSlides/_rels/notesSlide6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6.xml.rels" ContentType="application/vnd.openxmlformats-package.relationships+xml"/>
  <Override PartName="/ppt/notesSlides/_rels/notesSlide60.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96.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40.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107.xml.rels" ContentType="application/vnd.openxmlformats-package.relationships+xml"/>
  <Override PartName="/ppt/notesSlides/_rels/notesSlide91.xml.rels" ContentType="application/vnd.openxmlformats-package.relationships+xml"/>
  <Override PartName="/ppt/notesSlides/_rels/notesSlide9.xml.rels" ContentType="application/vnd.openxmlformats-package.relationships+xml"/>
  <Override PartName="/ppt/notesSlides/_rels/notesSlide72.xml.rels" ContentType="application/vnd.openxmlformats-package.relationships+xml"/>
  <Override PartName="/ppt/notesSlides/_rels/notesSlide28.xml.rels" ContentType="application/vnd.openxmlformats-package.relationships+xml"/>
  <Override PartName="/ppt/notesSlides/_rels/notesSlide41.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108.xml.rels" ContentType="application/vnd.openxmlformats-package.relationships+xml"/>
  <Override PartName="/ppt/notesSlides/_rels/notesSlide73.xml.rels" ContentType="application/vnd.openxmlformats-package.relationships+xml"/>
  <Override PartName="/ppt/notesSlides/_rels/notesSlide29.xml.rels" ContentType="application/vnd.openxmlformats-package.relationships+xml"/>
  <Override PartName="/ppt/notesSlides/_rels/notesSlide123.xml.rels" ContentType="application/vnd.openxmlformats-package.relationships+xml"/>
  <Override PartName="/ppt/notesSlides/_rels/notesSlide19.xml.rels" ContentType="application/vnd.openxmlformats-package.relationships+xml"/>
  <Override PartName="/ppt/notesSlides/_rels/notesSlide63.xml.rels" ContentType="application/vnd.openxmlformats-package.relationships+xml"/>
  <Override PartName="/ppt/notesSlides/_rels/notesSlide65.xml.rels" ContentType="application/vnd.openxmlformats-package.relationships+xml"/>
  <Override PartName="/ppt/notesSlides/_rels/notesSlide125.xml.rels" ContentType="application/vnd.openxmlformats-package.relationships+xml"/>
  <Override PartName="/ppt/notesSlides/_rels/notesSlide54.xml.rels" ContentType="application/vnd.openxmlformats-package.relationships+xml"/>
  <Override PartName="/ppt/notesSlides/_rels/notesSlide114.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55.xml.rels" ContentType="application/vnd.openxmlformats-package.relationships+xml"/>
  <Override PartName="/ppt/notesSlides/_rels/notesSlide115.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82.xml.rels" ContentType="application/vnd.openxmlformats-package.relationships+xml"/>
  <Override PartName="/ppt/notesSlides/_rels/notesSlide128.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83.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86.xml.rels" ContentType="application/vnd.openxmlformats-package.relationships+xml"/>
  <Override PartName="/ppt/notesSlides/notesSlide109.xml" ContentType="application/vnd.openxmlformats-officedocument.presentationml.notesSlide+xml"/>
  <Override PartName="/ppt/notesSlides/notesSlide74.xml" ContentType="application/vnd.openxmlformats-officedocument.presentationml.notesSlide+xml"/>
  <Override PartName="/ppt/notesSlides/notesSlide108.xml" ContentType="application/vnd.openxmlformats-officedocument.presentationml.notesSlide+xml"/>
  <Override PartName="/ppt/notesSlides/notesSlide73.xml" ContentType="application/vnd.openxmlformats-officedocument.presentationml.notesSlide+xml"/>
  <Override PartName="/ppt/notesSlides/notesSlide107.xml" ContentType="application/vnd.openxmlformats-officedocument.presentationml.notesSlide+xml"/>
  <Override PartName="/ppt/notesSlides/notesSlide72.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19.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9.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121.xml" ContentType="application/vnd.openxmlformats-officedocument.presentationml.notesSlide+xml"/>
  <Override PartName="/ppt/notesSlides/notesSlide48.xml" ContentType="application/vnd.openxmlformats-officedocument.presentationml.notesSlide+xml"/>
  <Override PartName="/ppt/notesSlides/notesSlide106.xml" ContentType="application/vnd.openxmlformats-officedocument.presentationml.notesSlide+xml"/>
  <Override PartName="/ppt/notesSlides/notesSlide71.xml" ContentType="application/vnd.openxmlformats-officedocument.presentationml.notesSlide+xml"/>
  <Override PartName="/ppt/notesSlides/notesSlide53.xml" ContentType="application/vnd.openxmlformats-officedocument.presentationml.notesSlide+xml"/>
  <Override PartName="/ppt/notesSlides/notesSlide122.xml" ContentType="application/vnd.openxmlformats-officedocument.presentationml.notesSlide+xml"/>
  <Override PartName="/ppt/notesSlides/notesSlide54.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56.xml" ContentType="application/vnd.openxmlformats-officedocument.presentationml.notesSlide+xml"/>
  <Override PartName="/ppt/notesSlides/notesSlide130.xml" ContentType="application/vnd.openxmlformats-officedocument.presentationml.notesSlide+xml"/>
  <Override PartName="/ppt/notesSlides/notesSlide57.xml" ContentType="application/vnd.openxmlformats-officedocument.presentationml.notesSlide+xml"/>
  <Override PartName="/ppt/notesSlides/notesSlide37.xml" ContentType="application/vnd.openxmlformats-officedocument.presentationml.notesSlide+xml"/>
  <Override PartName="/ppt/notesSlides/notesSlide49.xml" ContentType="application/vnd.openxmlformats-officedocument.presentationml.notesSlide+xml"/>
  <Override PartName="/ppt/notesSlides/notesSlide110.xml" ContentType="application/vnd.openxmlformats-officedocument.presentationml.notesSlide+xml"/>
  <Override PartName="/ppt/notesSlides/notesSlide60.xml" ContentType="application/vnd.openxmlformats-officedocument.presentationml.notesSlide+xml"/>
  <Override PartName="/ppt/notesSlides/notesSlide4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111.xml" ContentType="application/vnd.openxmlformats-officedocument.presentationml.notesSlide+xml"/>
  <Override PartName="/ppt/notesSlides/notesSlide61.xml" ContentType="application/vnd.openxmlformats-officedocument.presentationml.notesSlide+xml"/>
  <Override PartName="/ppt/notesSlides/notesSlide132.xml" ContentType="application/vnd.openxmlformats-officedocument.presentationml.notesSlide+xml"/>
  <Override PartName="/ppt/notesSlides/notesSlide120.xml" ContentType="application/vnd.openxmlformats-officedocument.presentationml.notesSlide+xml"/>
  <Override PartName="/ppt/notesSlides/notesSlide59.xml" ContentType="application/vnd.openxmlformats-officedocument.presentationml.notesSlide+xml"/>
  <Override PartName="/ppt/notesSlides/notesSlide41.xml" ContentType="application/vnd.openxmlformats-officedocument.presentationml.notesSlide+xml"/>
  <Override PartName="/ppt/notesSlides/notesSlide20.xml" ContentType="application/vnd.openxmlformats-officedocument.presentationml.notesSlide+xml"/>
  <Override PartName="/ppt/notesSlides/notesSlide1.xml" ContentType="application/vnd.openxmlformats-officedocument.presentationml.notesSlide+xml"/>
  <Override PartName="/ppt/notesSlides/notesSlide133.xml" ContentType="application/vnd.openxmlformats-officedocument.presentationml.notesSlide+xml"/>
  <Override PartName="/ppt/notesSlides/notesSlide42.xml" ContentType="application/vnd.openxmlformats-officedocument.presentationml.notesSlide+xml"/>
  <Override PartName="/ppt/notesSlides/notesSlide21.xml" ContentType="application/vnd.openxmlformats-officedocument.presentationml.notesSlide+xml"/>
  <Override PartName="/ppt/notesSlides/notesSlide2.xml" ContentType="application/vnd.openxmlformats-officedocument.presentationml.notesSlide+xml"/>
  <Override PartName="/ppt/notesSlides/notesSlide134.xml" ContentType="application/vnd.openxmlformats-officedocument.presentationml.notesSlide+xml"/>
  <Override PartName="/ppt/notesSlides/notesSlide43.xml" ContentType="application/vnd.openxmlformats-officedocument.presentationml.notesSlide+xml"/>
  <Override PartName="/ppt/notesSlides/notesSlide45.xml" ContentType="application/vnd.openxmlformats-officedocument.presentationml.notesSlide+xml"/>
  <Override PartName="/ppt/notesSlides/notesSlide112.xml" ContentType="application/vnd.openxmlformats-officedocument.presentationml.notesSlide+xml"/>
  <Override PartName="/ppt/notesSlides/notesSlide62.xml" ContentType="application/vnd.openxmlformats-officedocument.presentationml.notesSlide+xml"/>
  <Override PartName="/ppt/notesSlides/notesSlide44.xml" ContentType="application/vnd.openxmlformats-officedocument.presentationml.notesSlide+xml"/>
  <Override PartName="/ppt/notesSlides/notesSlide13.xml" ContentType="application/vnd.openxmlformats-officedocument.presentationml.notesSlide+xml"/>
  <Override PartName="/ppt/notesSlides/notesSlide36.xml" ContentType="application/vnd.openxmlformats-officedocument.presentationml.notesSlide+xml"/>
  <Override PartName="/ppt/notesSlides/notesSlide1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7.xml" ContentType="application/vnd.openxmlformats-officedocument.presentationml.notesSlide+xml"/>
  <Override PartName="/ppt/notesSlides/notesSlide39.xml" ContentType="application/vnd.openxmlformats-officedocument.presentationml.notesSlide+xml"/>
  <Override PartName="/ppt/notesSlides/notesSlide100.xml" ContentType="application/vnd.openxmlformats-officedocument.presentationml.notesSlide+xml"/>
  <Override PartName="/ppt/notesSlides/notesSlide9.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9.xml" ContentType="application/vnd.openxmlformats-officedocument.presentationml.notesSlide+xml"/>
  <Override PartName="/ppt/notesSlides/notesSlide102.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65.xml" ContentType="application/vnd.openxmlformats-officedocument.presentationml.notesSlide+xml"/>
  <Override PartName="/ppt/notesSlides/notesSlide80.xml" ContentType="application/vnd.openxmlformats-officedocument.presentationml.notesSlide+xml"/>
  <Override PartName="/ppt/notesSlides/notesSlide115.xml" ContentType="application/vnd.openxmlformats-officedocument.presentationml.notesSlide+xml"/>
  <Override PartName="/ppt/notesSlides/notesSlide66.xml" ContentType="application/vnd.openxmlformats-officedocument.presentationml.notesSlide+xml"/>
  <Override PartName="/ppt/notesSlides/notesSlide81.xml" ContentType="application/vnd.openxmlformats-officedocument.presentationml.notesSlide+xml"/>
  <Override PartName="/ppt/notesSlides/notesSlide116.xml" ContentType="application/vnd.openxmlformats-officedocument.presentationml.notesSlide+xml"/>
  <Override PartName="/ppt/notesSlides/notesSlide67.xml" ContentType="application/vnd.openxmlformats-officedocument.presentationml.notesSlide+xml"/>
  <Override PartName="/ppt/notesSlides/notesSlide82.xml" ContentType="application/vnd.openxmlformats-officedocument.presentationml.notesSlide+xml"/>
  <Override PartName="/ppt/notesSlides/notesSlide117.xml" ContentType="application/vnd.openxmlformats-officedocument.presentationml.notesSlide+xml"/>
  <Override PartName="/ppt/notesSlides/notesSlide68.xml" ContentType="application/vnd.openxmlformats-officedocument.presentationml.notesSlide+xml"/>
  <Override PartName="/ppt/notesSlides/notesSlide83.xml" ContentType="application/vnd.openxmlformats-officedocument.presentationml.notesSlide+xml"/>
  <Override PartName="/ppt/notesSlides/notesSlide118.xml" ContentType="application/vnd.openxmlformats-officedocument.presentationml.notesSlide+xml"/>
  <Override PartName="/ppt/notesSlides/notesSlide69.xml" ContentType="application/vnd.openxmlformats-officedocument.presentationml.notesSlide+xml"/>
  <Override PartName="/ppt/notesSlides/notesSlide84.xml" ContentType="application/vnd.openxmlformats-officedocument.presentationml.notesSlide+xml"/>
  <Override PartName="/ppt/notesSlides/notesSlide119.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notesSlide75.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85.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8.xml" ContentType="application/vnd.openxmlformats-officedocument.presentationml.notesSlide+xml"/>
  <Override PartName="/ppt/notesSlides/notesSlide125.xml" ContentType="application/vnd.openxmlformats-officedocument.presentationml.notesSlide+xml"/>
  <Override PartName="/ppt/notesSlides/notesSlide90.xml" ContentType="application/vnd.openxmlformats-officedocument.presentationml.notesSlide+xml"/>
  <Override PartName="/ppt/notesSlides/notesSlide126.xml" ContentType="application/vnd.openxmlformats-officedocument.presentationml.notesSlide+xml"/>
  <Override PartName="/ppt/notesSlides/notesSlide91.xml" ContentType="application/vnd.openxmlformats-officedocument.presentationml.notesSlide+xml"/>
  <Override PartName="/ppt/notesSlides/notesSlide127.xml" ContentType="application/vnd.openxmlformats-officedocument.presentationml.notesSlide+xml"/>
  <Override PartName="/ppt/notesSlides/notesSlide92.xml" ContentType="application/vnd.openxmlformats-officedocument.presentationml.notesSlide+xml"/>
  <Override PartName="/ppt/notesSlides/notesSlide128.xml" ContentType="application/vnd.openxmlformats-officedocument.presentationml.notesSlide+xml"/>
  <Override PartName="/ppt/notesSlides/notesSlide93.xml" ContentType="application/vnd.openxmlformats-officedocument.presentationml.notesSlide+xml"/>
  <Override PartName="/ppt/notesSlides/notesSlide129.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96.xml" ContentType="application/vnd.openxmlformats-officedocument.presentationml.notesSlide+xml"/>
  <Override PartName="/ppt/notesSlides/notesSlide97.xml" ContentType="application/vnd.openxmlformats-officedocument.presentationml.notesSlide+xml"/>
  <Override PartName="/ppt/notesSlides/notesSlide98.xml" ContentType="application/vnd.openxmlformats-officedocument.presentationml.notesSlide+xml"/>
  <Override PartName="/ppt/notesSlides/notesSlide103.xml" ContentType="application/vnd.openxmlformats-officedocument.presentationml.notesSlide+xml"/>
  <Override PartName="/ppt/notesSlides/notesSlide104.xml" ContentType="application/vnd.openxmlformats-officedocument.presentationml.notesSlide+xml"/>
  <Override PartName="/ppt/notesSlides/notesSlide70.xml" ContentType="application/vnd.openxmlformats-officedocument.presentationml.notesSlide+xml"/>
  <Override PartName="/ppt/notesSlides/notesSlide10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12.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31.xml.rels" ContentType="application/vnd.openxmlformats-package.relationships+xml"/>
  <Override PartName="/ppt/slides/_rels/slide53.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8.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6.xml" ContentType="application/vnd.openxmlformats-officedocument.presentationml.slide+xml"/>
  <Override PartName="/ppt/slides/slide47.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B4175-08CB-4F89-8C20-9B6A2E40AFA4}"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Стандартизация в различных сфер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 Сущность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Times New Roman"/>
              </a:rPr>
              <a:t>Стандартизация в различных сфер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 Сущность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технико-экономическая закономерность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ая технико-экономическая закономерность стандартизации - это диалектическое сочетание принципа преемственности стабильных требований к главным параметрам сменяющих друг друга конкретных объектов стандартизации определенного вида переменных требований к уровню качества и экономичности   тех же объектов. Это обеспечивает более полное сближение повышающихся требований стандартов и практически  непрерывно возрастающих требований потребителе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ая технико-экономическая закономерность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ая технико-экономическая закономерность стандартизации - это диалектическое сочетание принципа преемственности стабильных требований к главным параметрам сменяющих друг друга конкретных объектов стандартизации определенного вида переменных требований к уровню качества и экономичности   тех же объектов. Это обеспечивает более полное сближение повышающихся требований стандартов и практически  непрерывно возрастающих требований потребителей.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рекла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рекламы целесообразна для товаров, связанных с широко распространенными привычками. Стандартизация рекламы эффективна, если  рекламное обещание преимуществ товара идентично воспринимается на разных национальных рынках.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рекла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рекламы целесообразна для товаров, связанных с широко распространенными привычками. Стандартизация рекламы эффективна, если  рекламное обещание преимуществ товара идентично воспринимается на разных национальных рынках.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методов изучения рын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методов изучения рынка предполагает классификацию, типизацию и унификацию исследовательских операций, что поднимает достоверность информации, используемой в управлении качеством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методов изучения рынк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методов изучения рынка предполагает классификацию, типизацию и унификацию исследовательских операций, что поднимает достоверность информации, используемой в управлении качеством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1. Международная и региональн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бласти Международной стандартизации работает Международная организация по стандартизации (ИСО), Международная электротехническая комиссия (МЭК) и Международный союз электросвязи МСЭ).</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1. Международная и региональн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области Международной стандартизации работает Международная организация по стандартизации (ИСО), Международная электротехническая комиссия (МЭК) и Международный союз электросвязи МСЭ).</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 происхождении аббревиатуры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ая организация по стандартизации (ИСО) функционирует с 1947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кольку в различных странах аббревиатура этой организации могла быть различной решено было представителями стран-инициаторов ИСО   использовать производное от греческого isos «рав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 происхождении аббревиатуры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ая организация по стандартизации (ИСО) функционирует с 1947г.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кольку в различных странах аббревиатура этой организации могла быть различной решено было представителями стран-инициаторов ИСО   использовать производное от греческого isos «равн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ая организация по стандартизации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ера деятельности ИСО охватывает стандартизацию во всех областях, за исключением электроники и электротехн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боте ИСО участвуют порядка 140 стран . Денежные фонды ИСО из взносов стран-членов, от продажи стандартов и от пожертв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ая организация по стандартизации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фера деятельности ИСО охватывает стандартизацию во всех областях, за исключением электроники и электротехн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аботе ИСО участвуют порядка 140 стран . Денежные фонды ИСО из взносов стран-членов, от продажи стандартов и от пожертвов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ктика Международной стандартизации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 разработке стандартов основной упор делается на на установление единых методов испытания продукции, требований к маркировке, терминологии, т.е. на те аспекты без которых невозможно взаимопонимание изготовителя и потребителя, независимо от страны происхожд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ка Международной стандартизации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 разработке стандартов основной упор делается на на установление единых методов испытания продукции, требований к маркировке, терминологии, т.е. на те аспекты без которых невозможно взаимопонимание изготовителя и потребителя, независимо от страны происхожд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качеству в рамках Международная организация по стандартизации (ИС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качеству конкретной продукции в рамках Международная организация по стандартизации (ИСО) устанавливать нецелесообразно, т.к. конкретные нормы качества на конкретную продукцию для разных категорий регулируются через цену непосредственно в контрак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качеству в рамках Международная организация по стандартизации (ИС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качеству конкретной продукции в рамках Международная организация по стандартизации (ИСО) устанавливать нецелесообразно, т.к. конкретные нормы качества на конкретную продукцию для разных категорий регулируются через цену непосредственно в контракт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обеспечения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ий комитет по работе «Системы обеспечения качества» создан в 1979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его задачу входят стандартизация и гармонизация основополагающих систем обеспечения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обеспечения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ий комитет по работе «Системы обеспечения качества» создан в 1979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его задачу входят стандартизация и гармонизация основополагающих систем обеспечения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ИСО серии 9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87г. была опубликована первая версия четырех стандартов серии 9000, направленных на единообразный подход к решению вопросов качества продукции на предприятиях, в 1994 - вторая версия, в 2000 - третья вер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ИСО серии 9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87г. была опубликована первая версия четырех стандартов серии 9000, направленных на единообразный подход к решению вопросов качества продукции на предприятиях, в 1994 - вторая версия, в 2000 - третья верс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итет по оценке соответствия продукции стандартам (КАСК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итет по оценке соответствия продукции стандартам (КАСКО) создан в начале 70-х годов в связи с развитием сертификации во всем ми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т орган вырабатывает международные рекомендации для стран по всем аспектам сертификации ( организация испытательных центров в странах, требования, предъявляемые к ним, маркировка сертифицированной продукции, требования к органам, осуществляющим сертификацию и др.)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итет по оценке соответствия продукции стандартам (КАСКО)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итет по оценке соответствия продукции стандартам (КАСКО) создан в начале 70-х годов в связи с развитием сертификации во всем мир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от орган вырабатывает международные рекомендации для стран по всем аспектам сертификации ( организация испытательных центров в странах, требования, предъявляемые к ним, маркировка сертифицированной продукции, требования к органам, осуществляющим сертификацию и др.)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ежающ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ем прогресса является постоянная замена старых или устаревших, но находящихся в производстве изделий новыми, более прогрессивными, отвечающими современным требованиям науки и техн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ежающ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ем прогресса является постоянная замена старых или устаревших, но находящихся в производстве изделий новыми, более прогрессивными, отвечающими современным требованиям науки и техн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итет по вопросам потребителей (КОПОЛ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В задачи комитета по вопросам потребителей (КОПОЛКО) входи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путей содействия потребителям в получении максимального эффекта от стандартизации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тановление мер, которые необходимо принять для более широкого участия потребителей в национальной и международно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работка с позиций стандартизации рекомендаций, направленных на обеспечение информацией потребителей, защите их интересов, а также программ обучения по вопросам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общение опыта участия потребителей в работах по стандартизации, применению стандартов,на потребительские товары, по другим вопросам, представляющим интерес для потреб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итет по вопросам потребителей (КОПОЛК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В задачи комитета по вопросам потребителей (КОПОЛКО) входи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учение путей содействия потребителям в получении максимального эффекта от стандартизации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тановление мер, которые необходимо принять для более широкого участия потребителей в национальной и международно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работка с позиций стандартизации рекомендаций, направленных на обеспечение информацией потребителей, защите их интересов, а также программ обучения по вопросам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общение опыта участия потребителей в работах по стандартизации, применению стандартов,на потребительские товары, по другим вопросам, представляющим интерес для потребит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которые результаты деятельности КОПОЛКО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12 «Сравнительные испытания продовольственны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1 4 «Информация о товарах для потреби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36 «Разработка стандартных методов измерения эксплуатационных характеристик потребительски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которые результаты деятельности КОПОЛКО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12 «Сравнительные испытания продовольственных това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1 4 «Информация о товарах для потребит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36 «Разработка стандартных методов измерения эксплуатационных характеристик потребительских това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онный комитет (ИНФ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и ИНФК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 деятельностью информационной сети ИСО (ИСОН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ординация деятельности членов организации в области информационных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сультирование Генеральной Ассамблеи ИСО по разработке политики в области гармонизации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онный комитет (ИНФК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дачи ИНФК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 деятельностью информационной сети ИСО (ИСОНЕ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ординация деятельности членов организации в области информационных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сультирование Генеральной Ассамблеи ИСО по разработке политики в области гармонизации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2. Стандартизация в рамках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57г. Руководители организаций по стандартизации стран-членов Европейского экономического сообщества и Европейской ассоциации свободной торговли (ЕАСТ) обсудили возможность совместных действий по согласованию национальных стандартов в условиях экономической интегр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2. Стандартизация в рамках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57г. Руководители организаций по стандартизации стран-членов Европейского экономического сообщества и Европейской ассоциации свободной торговли (ЕАСТ) обсудили возможность совместных действий по согласованию национальных стандартов в условиях экономической интегр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здание Европейского комитета по стандартизации и электротехнике (СЕНЕЛ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72г. Был создан Европейского комитета по стандартизации и электротехнике (СЕНЕЛ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972г. Советом ЕС была принята Генеральная программа устранения технических барьеров в торговле в пределах Сообществ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здание Европейского комитета по стандартизации и электротехнике (СЕНЕЛЕ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72г. Был создан Европейского комитета по стандартизации и электротехнике (СЕНЕЛЕ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1972г. Советом ЕС была принята Генеральная программа устранения технических барьеров в торговле в пределах Сообществ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еральная программа устранения технических барьеров в торгов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мках программы ставилась задача  создание системы обязательных для ЕС единых стандартов - «из сотен национальных стандартов в каждой европейской стране сделать несколько тысяч единых стандартов», чтобы лишить страны-члены ЕС возможности отказа от иностранных продуктов из стран Сообщ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неральная программа устранения технических барьеров в торговл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амках программы ставилась задача  создание системы обязательных для ЕС единых стандартов - «из сотен национальных стандартов в каждой европейской стране сделать несколько тысяч единых стандартов», чтобы лишить страны-члены ЕС возможности отказа от иностранных продуктов из стран Сообщ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леная книга Европ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стандарты должны отражать новейшие достижения техники и технолог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рективы - содержать эффективные меры против проникновения в Сообщество продукции, небезопасной или вредной для населения и окружающей сре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еленая книга Европ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вростандарты должны отражать новейшие достижения техники и технолог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ирективы - содержать эффективные меры против проникновения в Сообщество продукции, небезопасной или вредной для населения и окружающей сред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тивная база стандартизации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 законодательство ЕС представлено постановлениями Совета, директивами Совета, гармонизированными евростандар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ления Совета имеют прямое действие для стран-членов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рективы Совета вводятся через законодательные акты стран-членов: устанавливаются сроки вв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рмативная база стандартизации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ое законодательство ЕС представлено постановлениями Совета, директивами Совета, гармонизированными евростандар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новления Совета имеют прямое действие для стран-членов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ирективы Совета вводятся через законодательные акты стран-членов: устанавливаются сроки вв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вропейский  Стандарт считается гармонизированным после его опубликования в бюллетене ЕС с указанием номера соответствующей дире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сли стандарт направлен на обеспечение конкретной директивы он считается обязательным, и необязательным, когда применяется в других случа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вропейский  Стандарт считается гармонизированным после его опубликования в бюллетене ЕС с указанием номера соответствующей директив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сли стандарт направлен на обеспечение конкретной директивы он считается обязательным, и необязательным, когда применяется в других случа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ировка знаком С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укция, отвечающая требованиям директивы (обязательным) маркируется знаком С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к СЕ - не для потребителя, а для контролирующих и таможенных органов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дукция, маркированная знаком СЕ имеет право свободного перемещения внутри объединенного рын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ркировка знаком С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дукция, отвечающая требованиям директивы (обязательным) маркируется знаком С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нак СЕ - не для потребителя, а для контролирующих и таможенных органов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дукция, маркированная знаком СЕ имеет право свободного перемещения внутри объединенного рынк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опережающе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ОС состоит в том, что вновь разрабатываемая и у нас и за рубежом продукция соответствовала бы перспективным требованиям и не уступала лучшим мировым образц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 Осуществляет разработку отдельных стандартов к разрабатываемым системам, комплексам  технических устройст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особствует  лучшему планированию и производству запасных частей для новой техн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опережающей стандартизации является непрерывным; после ввода в действие опережающего стандарта необходимо приступать к разработке нового стандарта. Неприменение принципа опережения стандартизации приводит к старению технических и экономических  показателей в стандар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ность опережающе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ность ОС состоит в том, что вновь разрабатываемая и у нас и за рубежом продукция соответствовала бы перспективным требованиям и не уступала лучшим мировым образца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 Осуществляет разработку отдельных стандартов к разрабатываемым системам, комплексам  технических устройст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особствует  лучшему планированию и производству запасных частей для новой техн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цесс опережающей стандартизации является непрерывным; после ввода в действие опережающего стандарта необходимо приступать к разработке нового стандарта. Неприменение принципа опережения стандартизации приводит к старению технических и экономических  показателей в стандарт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ирективы на пищевые продук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ризонтальные директивы директивы - допуски по этикетированию - распространяются на все продукты пит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ртикальные директивы - на конкретные виды - сосиски, суфле, дже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ирективы на пищевые продук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оризонтальные директивы директивы - допуски по этикетированию - распространяются на все продукты пит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ртикальные директивы - на конкретные виды - сосиски, суфле, дже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PlaceHolder 1"/>
          <p:cNvSpPr>
            <a:spLocks noGrp="1"/>
          </p:cNvSpPr>
          <p:nvPr>
            <p:ph type="sldImg"/>
          </p:nvPr>
        </p:nvSpPr>
        <p:spPr>
          <a:xfrm>
            <a:off x="1143000" y="685800"/>
            <a:ext cx="4572000" cy="3429000"/>
          </a:xfrm>
          <a:prstGeom prst="rect">
            <a:avLst/>
          </a:prstGeom>
          <a:ln w="0">
            <a:noFill/>
          </a:ln>
        </p:spPr>
      </p:sp>
      <p:sp>
        <p:nvSpPr>
          <p:cNvPr id="8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мочные директив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мочные директивы содержат требования к содержанию вспомогательных веществ - пищевых добавок, подсластителей, вредных веществ (пестицидов) в продуктах пит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мочные директив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мочные директивы содержат требования к содержанию вспомогательных веществ - пищевых добавок, подсластителей, вредных веществ (пестицидов) в продуктах пит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PlaceHolder 1"/>
          <p:cNvSpPr>
            <a:spLocks noGrp="1"/>
          </p:cNvSpPr>
          <p:nvPr>
            <p:ph type="sldImg"/>
          </p:nvPr>
        </p:nvSpPr>
        <p:spPr>
          <a:xfrm>
            <a:off x="1143000" y="685800"/>
            <a:ext cx="4572000" cy="3429000"/>
          </a:xfrm>
          <a:prstGeom prst="rect">
            <a:avLst/>
          </a:prstGeom>
          <a:ln w="0">
            <a:noFill/>
          </a:ln>
        </p:spPr>
      </p:sp>
      <p:sp>
        <p:nvSpPr>
          <p:cNvPr id="8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итика СЕН и СЕНЕЛЕ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ть международные стандарты ИСО и МЭК в качестве региональны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основу евростандартов закладывают лучшие стандарты отдельных европейских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литика СЕН и СЕНЕЛЕ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спользовать международные стандарты ИСО и МЭК в качестве региональны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основу евростандартов закладывают лучшие стандарты отдельных европейских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143000" y="685800"/>
            <a:ext cx="4572000" cy="3429000"/>
          </a:xfrm>
          <a:prstGeom prst="rect">
            <a:avLst/>
          </a:prstGeom>
          <a:ln w="0">
            <a:noFill/>
          </a:ln>
        </p:spPr>
      </p:sp>
      <p:sp>
        <p:nvSpPr>
          <p:cNvPr id="8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3. Гармонизация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ами отечественной классификации услуг являются: сфера действия, потребит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 потребностей (материальные, нематериальные, комплекс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рактер потребления ( личный, коллективный, обществе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я оказания (возмездные, льготные, безвозмезд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3. Гармонизация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ами отечественной классификации услуг являются: сфера действия, потребит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 потребностей (материальные, нематериальные, комплекс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характер потребления ( личный, коллективный, общественн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я оказания (возмездные, льготные, безвозмезд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43000" y="685800"/>
            <a:ext cx="4572000" cy="3429000"/>
          </a:xfrm>
          <a:prstGeom prst="rect">
            <a:avLst/>
          </a:prstGeom>
          <a:ln w="0">
            <a:noFill/>
          </a:ln>
        </p:spPr>
      </p:sp>
      <p:sp>
        <p:nvSpPr>
          <p:cNvPr id="8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убежные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убежные услуги разделяются по степе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ействования техники и механизм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енства персонала (профессионализ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иду услуги, стимулированной продукцией, но автономной (послепродажное обслуживание, ремо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убежные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убежные услуги разделяются по степен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действования техники и механизм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енства персонала (профессионализ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иду услуги, стимулированной продукцией, но автономной (послепродажное обслуживание, ремон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143000" y="685800"/>
            <a:ext cx="4572000" cy="3429000"/>
          </a:xfrm>
          <a:prstGeom prst="rect">
            <a:avLst/>
          </a:prstGeom>
          <a:ln w="0">
            <a:noFill/>
          </a:ln>
        </p:spPr>
      </p:sp>
      <p:sp>
        <p:nvSpPr>
          <p:cNvPr id="8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ированные Евро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ированный европейский стандарт - это стандарт, обеспечивающий реализацию соответствующей директивы , обязателен для применения в странах Е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ированные Евро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ированный европейский стандарт - это стандарт, обеспечивающий реализацию соответствующей директивы , обязателен для применения в странах Е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в рамках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в странах-членах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в рамках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в странах-членах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глашение по техническим барьерам в торговл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ила деятельности членов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 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тификация (уведомление) и транспарентность ( прозрач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глашение по техническим барьерам в торговл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вила деятельности членов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 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тификация (уведомление) и транспарентность ( прозрач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1143000" y="685800"/>
            <a:ext cx="4572000" cy="3429000"/>
          </a:xfrm>
          <a:prstGeom prst="rect">
            <a:avLst/>
          </a:prstGeom>
          <a:ln w="0">
            <a:noFill/>
          </a:ln>
        </p:spPr>
      </p:sp>
      <p:sp>
        <p:nvSpPr>
          <p:cNvPr id="8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равила деятельности членов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т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арент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равила деятельности членов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т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анспарент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143000" y="685800"/>
            <a:ext cx="4572000" cy="3429000"/>
          </a:xfrm>
          <a:prstGeom prst="rect">
            <a:avLst/>
          </a:prstGeom>
          <a:ln w="0">
            <a:noFill/>
          </a:ln>
        </p:spPr>
      </p:sp>
      <p:sp>
        <p:nvSpPr>
          <p:cNvPr id="8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создания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создания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ектно-конструкторские работы по созданию опытного образца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ая подготовка промышленного производства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мышленное производство изде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ле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еделах завода (отрас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еделах одного государ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пределах региональной группы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мировом масштаб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ы создания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ы создания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ектно-конструкторские работы по созданию опытного образца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ая подготовка промышленного производства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мышленное производство изде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ле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пределах завода (отрас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пределах одного государ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пределах региональной группы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мировом масштаб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членов ВТ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 о стандартизации - членство в ВТО предусматривает информирование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осси создан национальный информационный центр по стандартизации, где без затруднений можно получить информацию о действующих и разрабатываемых в стране НТ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членов ВТ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 о стандартизации - членство в ВТО предусматривает информирование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осси создан национальный информационный центр по стандартизации, где без затруднений можно получить информацию о действующих и разрабатываемых в стране НТ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ная стандартизация - целенаправленное и планомерное установление и применение системы взаимоувязанных требований как к самому объекту комплексной стандартизации в целом, так и к его основным элементам в целях решения конкретной проблемы. Применительно к продукции это установление и применение взаимосвязанных по своему уровню требований к качеству готовых изделий, необходимых для их изготовления сырья, материалов и комплектующих узлов, а также условий сохранения и потребления (эксплуат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ктической реализацией этого метода выступает программы комплексной стандартизации (ПК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астоящее время реализуется ПКС "Безопасность в чрезвычайных ситуац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н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ная стандартизация - целенаправленное и планомерное установление и применение системы взаимоувязанных требований как к самому объекту комплексной стандартизации в целом, так и к его основным элементам в целях решения конкретной проблемы. Применительно к продукции это установление и применение взаимосвязанных по своему уровню требований к качеству готовых изделий, необходимых для их изготовления сырья, материалов и комплектующих узлов, а также условий сохранения и потребления (эксплуат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ктической реализацией этого метода выступает программы комплексной стандартизации (ПК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реализуется ПКС "Безопасность в чрезвычайных ситуаци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ципы комплексно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ципы КС основаны на выявлении  взаимосвязей между показателями качества составных частей изделий и предметов труда. Для нее характерны три главных методических принцип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ность (установление взаимосвязанных требований с целью обеспечения высшего уровня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альность (определение оптимальной номенклатуры объектов КС, состава и количественных значений показателей их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мное планирование (разработка специальных программ КС объектов, их элементов, включаемых в  планы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ципы комплексно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ципы КС основаны на выявлении  взаимосвязей между показателями качества составных частей изделий и предметов труда. Для нее характерны три главных методических принцип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ность (установление взаимосвязанных требований с целью обеспечения высшего уровня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тимальность (определение оптимальной номенклатуры объектов КС, состава и количественных значений показателей их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граммное планирование (разработка специальных программ КС объектов, их элементов, включаемых в  планы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5800"/>
            <a:ext cx="4572000" cy="3429000"/>
          </a:xfrm>
          <a:prstGeom prst="rect">
            <a:avLst/>
          </a:prstGeom>
          <a:ln w="0">
            <a:noFill/>
          </a:ln>
        </p:spPr>
      </p:sp>
      <p:sp>
        <p:nvSpPr>
          <p:cNvPr id="8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ежающ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ежающая стандартизация заключается в установлении повышенных по отношению к уже достигнутому на практике уровню норм и требований к объектам стандартизации, которые согласно прогнозам будут оптимальными в последующее врем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не могут только фиксировать достигнутый уровень науки и техники, т.к. из-за высоких темпов старения многих видов продукции они могут стать тормозом технического прогресс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должны устанавливать перспективные показатели качества с указанием сроков их обеспечения промышленным производств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ежающ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ежающая стандартизация заключается в установлении повышенных по отношению к уже достигнутому на практике уровню норм и требований к объектам стандартизации, которые согласно прогнозам будут оптимальными в последующее врем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не могут только фиксировать достигнутый уровень науки и техники, т.к. из-за высоких темпов старения многих видов продукции они могут стать тормозом технического прогресс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должны устанавливать перспективные показатели качества с указанием сроков их обеспечения промышленным производств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пективная 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ю разработки стандартов с перспективными требованиями является создание нормативно-технической базы  и выпуском отечественной  продукции соответствующей высокому мировому уровн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пективные стандарты обеспечивают наиболее полный учет научно и экономически  обоснованных требований заказчика, использование результатов поисковых, фундаментальных, прикладных НИР, прогнозирования, открытий, изобретений, а также способствует разработке, постановке на производство и выпуску новой (модернизированной) техники, снятию с производства устаревших мод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ная 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лью разработки стандартов с перспективными требованиями является создание нормативно-технической базы  и выпуском отечественной  продукции соответствующей высокому мировому уровн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пективные стандарты обеспечивают наиболее полный учет научно и экономически  обоснованных требований заказчика, использование результатов поисковых, фундаментальных, прикладных НИР, прогнозирования, открытий, изобретений, а также способствует разработке, постановке на производство и выпуску новой (модернизированной) техники, снятию с производства устаревших мод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правление опережа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ассортименту (типам),видам, маркам (сортам), типоразмерам издел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признакам, свойствам и функциям издел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преемственности (взаимоувязке) элементов конструкций старых и новых издел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количественному значению показателей признаков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новидностью опережающего стандарта является ступенчатый стандарт, содержащий показатели качества различного уровня (с разными сроками реализации каждой из ступен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м условием дальнейшего развития ОС является долгосрочное научное планирование ( оно позволяет видеть основные направления совершенствования изделий, пути улучшения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правление опережаем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ассортименту (типам),видам, маркам (сортам), типоразмерам издел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признакам, свойствам и функциям издел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преемственности (взаимоувязке) элементов конструкций старых и новых издел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количественному значению показателей признаков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новидностью опережающего стандарта является ступенчатый стандарт, содержащий показатели качества различного уровня (с разными сроками реализации каждой из ступен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ным условием дальнейшего развития ОС является долгосрочное научное планирование ( оно позволяет видеть основные направления совершенствования изделий, пути улучшения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опережающей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ирование на перспективных планах развития стран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зирование на долгосрочном и краткосрочном научном прогнозиров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учение новейших открытий в стране и за рубеж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Широкое использование патентной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тальное, глубокое ознакомление с уровнем проектно-конструкторских работ, с результатами доводки аналоговых и базовых экспериментальных образцов изделий в лабораториях и на полигон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т замечаний и рекламаций на базовую мод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ланирование Опережающей Стандартизации неотделимо от планирования научных исследований, опытно-конструкторских и экспериментальных работ и должно производиться комплексн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опережающей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зирование на перспективных планах развития стран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зирование на долгосрочном и краткосрочном научном прогнозирова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учение новейших открытий в стране и за рубеж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Широкое использование патентной информ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етальное, глубокое ознакомление с уровнем проектно-конструкторских работ, с результатами доводки аналоговых и базовых экспериментальных образцов изделий в лабораториях и на полигон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чет замечаний и рекламаций на базовую мод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ланирование Опережающей Стандартизации неотделимо от планирования научных исследований, опытно-конструкторских и экспериментальных работ и должно производиться комплексн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2. Общетехнические и организационно-технические системы и комплексы государственных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ирование суверенной рыночной экономики российского государства обуславливает пересмотр места и роли стандартов применительно к переходу российского государства на модель устойчивого развития и закрепление стабильного положения в ми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2. Общетехнические и организационно-технические системы и комплексы государственных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ормирование суверенной рыночной экономики российского государства обуславливает пересмотр места и роли стандартов применительно к переходу российского государства на модель устойчивого развития и закрепление стабильного положения в мир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стандарты  устанавливают общие организационно-технические положения для определенной области деятельности. Устанавливают общетехнические требования, нормы и правила, которые обеспечиваю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поним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ическое един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различных областей науки, техники и производства в процессах создания и использования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храну окружающей сре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опасность продукции процессов и услуг для жизни, здоровья люд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хранность имущества и другие общетехнические требования (ГОСТ Р 1.0-9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стандарты  устанавливают общие организационно-технические положения для определенной области деятельности. Устанавливают общетехнические требования, нормы и правила, которые обеспечиваю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заимопоним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ическое един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заимосвязь различных областей науки, техники и производства в процессах создания и использования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храну окружающей сред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езопасность продукции процессов и услуг для жизни, здоровья люд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хранность имущества и другие общетехнические требования (ГОСТ Р 1.0-9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организационно-техническ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Цели, задачи, классификационные структуры объектов стандартизации различного назначения, общие организационно-технические положения, по проведению работ в определенной области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 Порядок (правила) разработки, утверждения и внедрения нормативных документов, технических (конструкторских, технологических, проектных, программных) докум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организационно-техническ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Цели, задачи, классификационные структуры объектов стандартизации различного назначения, общие организационно-технические положения, по проведению работ в определенной области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 Порядок (правила) разработки, утверждения и внедрения нормативных документов, технических (конструкторских, технологических, проектных, программных) докумен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общетехническ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е общетехнические стандар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учно-технические термины и определения, многократно используемые в науке, технике, промышленности, сельском хозяйстве, строительстве, на транспорте, в культуре, здравоохранении и др. сферах н/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ные обозначения для различных объектов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построению. Изложению и содержанию различных видов докум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етехнические величины, требования и нормы, необходимые для технического, в т.ч. метрологического обеспечения производственного процес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общетехническ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е общетехнические стандар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учно-технические термины и определения, многократно используемые в науке, технике, промышленности, сельском хозяйстве, строительстве, на транспорте, в культуре, здравоохранении и др. сферах н/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ные обозначения для различных объектов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построению. Изложению и содержанию различных видов докумен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щетехнические величины, требования и нормы, необходимые для технического, в т.ч. метрологического обеспечения производственного процесс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етическая баз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оретической базой стандартизации является система предпочтительных чисел. Предпочтительными  называются числа, которые рекомендуется  выбирать  как предпочтительные перед всеми другими при назначении величин параметров для вновь создаваемых изделий ( производительность, грузоподъемность, число оборотов, габариты, давление, температура число циклов продукции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яды предпочтительных чисел должны удовлетворять следующим требования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ставлять рациональную систему градаций, отвечающую потребностям производства и эксплуат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ть бесконечными в направлениях уменьшения и увеличения чисе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ключать все последовательные десятикратные и дробные значения каждого числа ря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ыть простыми и легко запоминающими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етическая баз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оретической базой стандартизации является система предпочтительных чисел. Предпочтительными  называются числа, которые рекомендуется  выбирать  как предпочтительные перед всеми другими при назначении величин параметров для вновь создаваемых изделий ( производительность, грузоподъемность, число оборотов, габариты, давление, температура число циклов продукции 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яды предпочтительных чисел должны удовлетворять следующим требования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ставлять рациональную систему градаций, отвечающую потребностям производства и эксплуат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ыть бесконечными в направлениях уменьшения и увеличения чисел;</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ключать все последовательные десятикратные и дробные значения каждого числа ря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ыть простыми и легко запоминающими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Законодательной обеспечение применения общетехнических систем и комплексов стандартов в РФ</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нце 60-х - начале 70-х гг. из разрозненных стандартов были сформированы системы и комплексы общетехнических стандартов межотраслевого применения. Госстандарт координировал стандартизацию в отраслях промышленности, а также разработку единых систем ГС межотраслевого применения по НТД, проектно-конструкторской, технологической ( ГСС, ЕСКД, ЕСТ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Times New Roman"/>
              </a:rPr>
              <a:t>Законодательной обеспечение применения общетехнических систем и комплексов стандартов в РФ</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онце 60-х - начале 70-х гг. из разрозненных стандартов были сформированы системы и комплексы общетехнических стандартов межотраслевого применения. Госстандарт координировал стандартизацию в отраслях промышленности, а также разработку единых систем ГС межотраслевого применения по НТД, проектно-конструкторской, технологической ( ГСС, ЕСКД, ЕСТ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овое поле  НТД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одательными актами установлены "правила и нормы, обеспечивающие техническое и информационное единство при разработке, производстве, эксплуатации продукции, в т.ч. правила оформления технической документации, допуски и посад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ие правила обеспечения качества продукции, работ 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охранения и рационального использования всех видов ресурс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рмины и их определе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ные обознач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етрологические и другие общетехнические и организационно-технические правила и норм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вовое поле  НТД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дательными актами установлены "правила и нормы, обеспечивающие техническое и информационное единство при разработке, производстве, эксплуатации продукции, в т.ч. правила оформления технической документации, допуски и посад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общие правила обеспечения качества продукции, работ и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Сохранения и рационального использования всех видов ресурс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рмины и их определен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ные обознач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метрологические и другие общетехнические и организационно-технические правила и норм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Структурная схема ГСС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Структурная схема ГСС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стандартов по управлению и информ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по управленческой документации -организационно-распорядительная,внешнеторговая, отчетно-статистическая, бухгалтерско-финансовая, расчетно-денежна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по информационным технологиям - Система информационно-библиографической документации (СИБИ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стандартов по управлению и информ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по управленческой документации -организационно-распорядительная,внешнеторговая, отчетно-статистическая, бухгалтерско-финансовая, расчетно-денежна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по информационным технологиям - Система информационно-библиографической документации (СИБИ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стандартов социальной сфе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циальные стандарты регламентируют правила безопасности и представлены) тремя групп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 стандартов «Безопасность в чрезвычайных ситуациях» (ГОСТ Р 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плекс стандартов «Система стандартов безопасности труда»(ГОСТ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омплекс стандартов по охране природы (ГОСТ  17.)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стандартов социальной сфе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циальные стандарты регламентируют правила безопасности и представлены) тремя групп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 стандартов «Безопасность в чрезвычайных ситуациях» (ГОСТ Р 2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плекс стандартов «Система стандартов безопасности труда»(ГОСТ 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комплекс стандартов по охране природы (ГОСТ  17.)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Единой системы классификации и кодирования технико-экономической и социальной информации ЕСКК ТЭ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тисти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нансов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авоохранительн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анковское д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ухгалтерский уч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изводство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оставление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аможенное д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ор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ргов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ешнеэкономическ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сть Единой системы классификации и кодирования технико-экономической и социальной информации ЕСКК ТЭ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тисти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инансов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авоохранительн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анковское дел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ухгалтерский уче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изводство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оставление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аможенное дел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анспор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ргов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ешнеэкономическ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3. Применение стандартов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о стадия их нормоприменение, т.е. использования и соблюдения установленных в них императивных (обязательных во всех случаях) и диспозитивных (обязательных для конкретных случаев) требований в процессах производственно-хозяйственн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3. Применение стандартов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о стадия их нормоприменение, т.е. использования и соблюдения установленных в них императивных (обязательных во всех случаях) и диспозитивных (обязательных для конкретных случаев) требований в процессах производственно-хозяйственн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применения стандартов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е стандарты - ГОСТ Р, ГОСТ, ОСТ, СТП, СТО на территории РФ применяются в соответствии с областью их распространения и сферой действия с помощью трех основных метод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ое непосредственное применение и соблюдение требований стандартов (в процессах научно-исследовательской, опытно-конструкторской, проектной, испытательной, сертификационный, производственной, коммерческой, а также управленческ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осредованное применение стандартов путем разработки и соблюдения технической документации (конструкторской, технологической, проектной) на конкретные продукцию, работы и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сылки на стандарты в технической,  коммерческой  и управленческ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применения стандартов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ечественные стандарты - ГОСТ Р, ГОСТ, ОСТ, СТП, СТО на территории РФ применяются в соответствии с областью их распространения и сферой действия с помощью трех основных метод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ямое непосредственное применение и соблюдение требований стандартов (в процессах научно-исследовательской, опытно-конструкторской, проектной, испытательной, сертификационный, производственной, коммерческой, а также управленческ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осредованное применение стандартов путем разработки и соблюдения технической документации (конструкторской, технологической, проектной) на конкретные продукцию, работы и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сылки на стандарты в технической,  коммерческой  и управленческ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ГОСТ Р и ГОС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территории России стандарты ГОСТ Р И ГОСТ в соответствии с областью их распространения  действуют в качестве нормативных документов без каких-либо ограничений, а ОСТ - только в случаях, когда их требования не противоречат законодательству РФ или специальным техническим регламентам, установленным компетентными государственными контрольно-надзорными орган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ГОСТ Р и ГОС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территории России стандарты ГОСТ Р И ГОСТ в соответствии с областью их распространения  действуют в качестве нормативных документов без каких-либо ограничений, а ОСТ - только в случаях, когда их требования не противоречат законодательству РФ или специальным техническим регламентам, установленным компетентными государственными контрольно-надзорными орган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предприят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ы предприятий СТП могут разрабатываться утверждаться и применяться предприятиями, т.е. субъектами хозяйственной деятельности, в качестве НД полностью самостоятельно в случа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обеспечения использования на предприятиях технических регламентов РФ, ГОСТ Р, ГОСТ, ОСТ, международных стандартов, региональных стандартов, национальных стандартов зарубежных стран, стандартов научно-технических, инженерных и других общественных объеди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создаваемую на данном предприятии продукцию, услуги и производственные процес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предприят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ы предприятий СТП могут разрабатываться утверждаться и применяться предприятиями, т.е. субъектами хозяйственной деятельности, в качестве НД полностью самостоятельно в случа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беспечения использования на предприятиях технических регламентов РФ, ГОСТ Р, ГОСТ, ОСТ, международных стандартов, региональных стандартов, национальных стандартов зарубежных стран, стандартов научно-технических, инженерных и других общественных объедин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создаваемую на данном предприятии продукцию, услуги и производственные процесс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Calibri"/>
              </a:rPr>
              <a:t>Механизм стандартизации</a:t>
            </a:r>
            <a:br>
              <a:rPr sz="1200"/>
            </a:b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ыделяется 4 этапа механизм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r>
              <a:rPr b="0" lang="ru-RU" sz="1200" spc="-1" strike="noStrike">
                <a:solidFill>
                  <a:srgbClr val="000000"/>
                </a:solidFill>
                <a:latin typeface="Times New Roman"/>
              </a:rPr>
              <a:t>Механизм стандартизации</a:t>
            </a: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ыделяется 4 этапа механизм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технических обще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ые научно-техническими, инженерными обществами и объединениями СТО субъекты хозяйственной деятельности применяют на территории России на добровольной основе, т.е. по их собственному реше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технических обще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ые научно-техническими, инженерными обществами и объединениями СТО субъекты хозяйственной деятельности применяют на территории России на добровольной основе, т.е. по их собственному решен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новых НТ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вые и пересмотренные ГОСТ Р, ГОСТ, ОСТ допускается не распространять на продукцию или услуги, выпуск или оказание которых были освоены до их введения в действие, если это предусмотрено в данных стандарта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новых НТ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вые и пересмотренные ГОСТ Р, ГОСТ, ОСТ допускается не распространять на продукцию или услуги, выпуск или оказание которых были освоены до их введения в действие, если это предусмотрено в данных стандарта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отечественных НТД лицами других государ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ечественные стандарты могут применять юридические или физические лица других государств на основе соответствующих соглашения, договоров о научно-техническом сотрудничестве, или с разрешения соответствующих органов управления, субъектов хозяйственной деятельности, принявших (утвердивших) эти докумен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отечественных НТД лицами других государ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ечественные стандарты могут применять юридические или физические лица других государств на основе соответствующих соглашения, договоров о научно-техническом сотрудничестве, или с разрешения соответствующих органов управления, субъектов хозяйственной деятельности, принявших (утвердивших) эти докумен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НТД покупателями и поставщик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варопотребители (покупатели) и товаропроизводители (поставщики, исполнители), заключая договоры, обязаны в соответствии с Законом "О техническом регулировании" включать в них условия о соответствии поставляемой товарной продукции, оказываемых услугах и выполняемых работах всем обязательным требованиям соответствующих ГОСТ Р, ГОСТ, а также техническим регламентам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НТД покупателями и поставщик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варопотребители (покупатели) и товаропроизводители (поставщики, исполнители), заключая договоры, обязаны в соответствии с Законом "О техническом регулировании" включать в них условия о соответствии поставляемой товарной продукции, оказываемых услугах и выполняемых работах всем обязательным требованиям соответствующих ГОСТ Р, ГОСТ, а также техническим регламентам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обенности применения НТД при вывозе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отечественных стандартов в отношении поставляемой продукции и оказания услуг на территории РФ с вывозом ее с территории России определяется контрактами с зарубежными партнер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учаях, если продукция полностью вывозится с территории  РФ, возможно применение в полном объеме требований зарубежных стандартов, что также определяется договорами-контрак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обенности применения НТД при вывозе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отечественных стандартов в отношении поставляемой продукции и оказания услуг на территории РФ с вывозом ее с территории России определяется контрактами с зарубежными партнер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лучаях, если продукция полностью вывозится с территории  РФ, возможно применение в полном объеме требований зарубежных стандартов, что также определяется договорами-контрак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при ввозе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портируемая продукция и услуги, ввозимые на таможенную территорию РФ, должны соответствовать всем обязательным требованиями по безопасности и экологии, действующих ГОСТ Р, ГОСТ, что следует подтверждать соответствующими сертифика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при ввозе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мпортируемая продукция и услуги, ввозимые на таможенную территорию РФ, должны соответствовать всем обязательным требованиями по безопасности и экологии, действующих ГОСТ Р, ГОСТ, что следует подтверждать соответствующими сертифика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стандартов зарубежных стран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гиональные стандарты и национальные стандарты зарубежных стран применяют в России на основе договоров о сотрудничестве или с разрешения соответствующих организаций, а также национальных органов зарубежных стра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стандартов зарубежных стран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егиональные стандарты и национальные стандарты зарубежных стран применяют в России на основе договоров о сотрудничестве или с разрешения соответствующих организаций, а также национальных органов зарубежных стра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осредованное применение международных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ые стандарты, международные региональные стандарты (при условии присоединения России к ним) применяют на территории России опосредовано, т.е. в качестве ГОСТ Р и ГОСТ. Такой стандарт представляет собой либо технически аутентичный текст оформленного на русском языке соответствующего нероссийского документа, либо то же с дополнительными или более высокими требованиями, отражающими специфику потребностей н/х РФ. Например, ГОСТ Р, оформленный на основе применения аутентичного текста международного стандарта ИСО 9597:1992, обозначается как ГОСТ Р ИСО 9591-9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осредованное применение международных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ые стандарты, международные региональные стандарты (при условии присоединения России к ним) применяют на территории России опосредовано, т.е. в качестве ГОСТ Р и ГОСТ. Такой стандарт представляет собой либо технически аутентичный текст оформленного на русском языке соответствующего нероссийского документа, либо то же с дополнительными или более высокими требованиями, отражающими специфику потребностей н/х РФ. Например, ГОСТ Р, оформленный на основе применения аутентичного текста международного стандарта ИСО 9597:1992, обозначается как ГОСТ Р ИСО 9591-9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зарубежных стандартов до их принятия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 принятия в РФ международных, региональных, национальных стандартов зарубежных стран, в качестве ГОСТ Р или ГОСТ, допускается их применение в качестве ОСТ, СТП, СТО, что существенно облегчает решение проблемы гармонизации требований отечественных и международно признанных стандартов на аналогичные объекты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зарубежных стандартов до их принятия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 принятия в РФ международных, региональных, национальных стандартов зарубежных стран, в качестве ГОСТ Р или ГОСТ, допускается их применение в качестве ОСТ, СТП, СТО, что существенно облегчает решение проблемы гармонизации требований отечественных и международно признанных стандартов на аналогичные объекты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арианты применения МС и стандартов других стран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Ф существует 4 варианта применения МС и стандартов других стран в зависимости от степени использования международного документа и формы его представл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государственного стандарта, представляющего аутентичный текст (от греческого auuthentihos-подлинный - текст документа официально признанный равнозначным другому тексту, составленному как правило на другом языке. При неполном совпадении текстов говорят об идентичности текста) на русском языке соответствующего международного документа. Этот вариант называют прямым методом или "методом обложки". При данном методе МС используется без какого-либо изменения текста. Изменения касаются только оформления облож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означение государственного стандарта состоит : из индекса (ГОСТ Р), обозначения соответствующего МС (без указания года его принятия), отделенных тире двух последних цифр года утверждения ГОСТ Р. Пример: ГОСТ Р ИСО 9001-20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арианты применения МС и стандартов других стран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Ф существует 4 варианта применения МС и стандартов других стран в зависимости от степени использования международного документа и формы его представл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ие государственного стандарта, представляющего аутентичный текст (от греческого auuthentihos-подлинный - текст документа официально признанный равнозначным другому тексту, составленному как правило на другом языке. При неполном совпадении текстов говорят об идентичности текста) на русском языке соответствующего международного документа. Этот вариант называют прямым методом или "методом обложки". При данном методе МС используется без какого-либо изменения текста. Изменения касаются только оформления облож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Обозначение государственного стандарта состоит : из индекса (ГОСТ Р), обозначения соответствующего МС (без указания года его принятия), отделенных тире двух последних цифр года утверждения ГОСТ Р. Пример: ГОСТ Р ИСО 9001-200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эт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бор объектов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ествует определенная совокупность объектов и действий с ними: А;Б;В;Г;Д;Ж;И;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устим, в учреждении используется определенный набор типов организационно-распорядительных документов - приказов, распоряжений, докладных записок и т.д. некоторые из них составляются систематически, другие в разовом порядке: А;Б;В;Г;Б;Д;А;Ж;Б;З;А;Б;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ом стандартизации становятся повторяющиеся объекты - Б и А, т.е. отдельные типы докумен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й эта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бор объектов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ествует определенная совокупность объектов и действий с ними: А;Б;В;Г;Д;Ж;И;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пустим, в учреждении используется определенный набор типов организационно-распорядительных документов - приказов, распоряжений, докладных записок и т.д. некоторые из них составляются систематически, другие в разовом порядке: А;Б;В;Г;Б;Д;А;Ж;Б;З;А;Б;Б…</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ом стандартизации становятся повторяющиеся объекты - Б и А, т.е. отдельные типы докумен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ямое с дополнениями» применение Г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ГС, представляющего аутентичный текст на русском языке с дополнительными требованиями ("прямое с дополнениями"). При данном методе содержание ГОСТа отличается от зарубежного аналог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д обозначением ГОСТ Р в скобках приводится обозначение МС, наприм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СТ Р 50231-92(ИСО 7173-89)</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ямое с дополнениями» применение Г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ие ГС, представляющего аутентичный текст на русском языке с дополнительными требованиями ("прямое с дополнениями"). При данном методе содержание ГОСТа отличается от зарубежного аналог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д обозначением ГОСТ Р в скобках приводится обозначение МС, наприме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ОСТ Р 50231-92(ИСО 7173-8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ичное введение требований международных стандар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астичное введение требований МС "гармонизация". Пример: ГОСТ 25779-90 Игрушки. Общие требования безопасности и методы контроля. Этот ГОСТ соответствует требованиям евростандарта EN 71-8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нятие  ОСТ, СТП, СТО на основе международных документов до принятия их в качестве Г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 скорейшего присоединения России к ВТО, продвижение отечественных товаров на мировой рынок требуют ускорения темпов гармонизации положений отечественных стандартов с международны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астичное введение требований международных стандар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астичное введение требований МС "гармонизация". Пример: ГОСТ 25779-90 Игрушки. Общие требования безопасности и методы контроля. Этот ГОСТ соответствует требованиям евростандарта EN 71-8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нятие  ОСТ, СТП, СТО на основе международных документов до принятия их в качестве Г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сть скорейшего присоединения России к ВТО, продвижение отечественных товаров на мировой рынок требуют ускорения темпов гармонизации положений отечественных стандартов с международны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4. Стандартизация в области эколог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4. Стандартизация в области эколог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5. Кодирование информации о товар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 - это способ познания, исследования явлений природы и общественной жизни, прием или система приемов в какой-либо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ология - учение о методе, основные принципы или совокупность приемов исследования, применяемых в какой-либо наук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5. Кодирование информации о товар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 - это способ познания, исследования явлений природы и общественной жизни, прием или система приемов в какой-либо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ология - учение о методе, основные принципы или совокупность приемов исследования, применяемых в какой-либо наук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базируется на общенаучных и специфических методах. </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основным методам стандартизации относя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дирование и каталог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рядочение (систематизация, селек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мплификация, типизация, оптим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ирова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ециализация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граммно-целевой метод;</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тевое план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базируется на общенаучных и специфических методах.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основным методам стандартизации относя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дирование и каталог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порядочение (систематизация, селек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мплификация, типизация, оптим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ировани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ециализация производ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граммно-целевой метод;</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тевое планир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 разделение множеств объектов на подмножества по их сходству и различию в соответствии с принятыми метод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 классификации - совокупность методов и правил классификации и ее результат.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стематизация объектов стандартизации заключается в научно обоснованном последовательном классифицировании и ранжировании совокупности конкретных объектов стандартизации. Пример - общероссийский классификатор промышленной и сельскохозяйственной продукции (ОКП), который систематизирует всю товарную продукцию (прежде всего по отраслевому признаку) в виде различных классификационных группировок и конкретных наименований продук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я - разделение множеств объектов на подмножества по их сходству и различию в соответствии с принятыми метод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 классификации - совокупность методов и правил классификации и ее результат.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стематизация объектов стандартизации заключается в научно обоснованном последовательном классифицировании и ранжировании совокупности конкретных объектов стандартизации. Пример - общероссийский классификатор промышленной и сельскохозяйственной продукции (ОКП), который систематизирует всю товарную продукцию (прежде всего по отраслевому признаку) в виде различных классификационных группировок и конкретных наименований продук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диная система классификации и кодирования технико-экономической и социальной информации (ЕСК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окупность общероссийских классификаторов (ОКТЭСИ), средств их ведения, нормативных и методических документов по их разработке, ведению, применению образует Единую систему классификации и кодирования технико-экономической и социальной информации (ЕСК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щие положения, правила разработки и ведения ОКТЭСИ устанавливаются основополагающими документами ЕСК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 50.1.019-2000"Основные положения, единая система классификации и кодирования технико-экономической  и социальной информации и унифицированной системы документации в РФ.</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 50.1.020-2000 "Порядок разработки общероссийских классификато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 50.1.021-2000 "Положение о ведении общероссийских классификаторов на базе информационно-вычислительной сети Госкомстата Росс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диная система классификации и кодирования технико-экономической и социальной информации (ЕСК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окупность общероссийских классификаторов (ОКТЭСИ), средств их ведения, нормативных и методических документов по их разработке, ведению, применению образует Единую систему классификации и кодирования технико-экономической и социальной информации (ЕСК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щие положения, правила разработки и ведения ОКТЭСИ устанавливаются основополагающими документами ЕСК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 50.1.019-2000"Основные положения, единая система классификации и кодирования технико-экономической  и социальной информации и унифицированной системы документации в РФ.</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 50.1.020-2000 "Порядок разработки общероссийских классификато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 50.1.021-2000 "Положение о ведении общероссийских классификаторов на базе информационно-вычислительной сети Госкомстата Росс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классификации и код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классифик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ерархический метод классификации - последовательное разделение множеств объектов на подчиненные классификационные группиро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сетный метод классификации - параллельное разделение множеств объектов на независимые классификационные группиро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кодирования: последовательный; параллельный; порядковый; серийно-порядков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классификации и кодир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классифик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ерархический метод классификации - последовательное разделение множеств объектов на подчиненные классификационные группиров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асетный метод классификации - параллельное разделение множеств объектов на независимые классификационные группиров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кодирования: последовательный; параллельный; порядковый; серийно-порядков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понятия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 классификации - элемен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онного множ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 классификации - свойство или характеристика объекта по которому производится класс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чение признака классификации - качественное или количественное выражение признака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онная группировка - подмножество объектов, полученное в результате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упень классификации - этап классификации при иерархическом методе, в результате которого получается совокупность классификационных группиров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убина классификации - число ступеней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д - знак или совокупность знаков, принятых для обозначения классификационной группиров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дирование - образование и присвоение кода классификационной группировке или объекту класс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лфавит кода - систе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наков, принятых для образования к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ание кода - число знаков с алфавите к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уктура кода - условное обозначение состава и последовательности расположения знаков код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рольное число - расчетное число используемое для проверки правильности записи ко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понятия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 классификации - элемен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онного множ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 классификации - свойство или характеристика объекта по которому производится класс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начение признака классификации - качественное или количественное выражение признака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лассификационная группировка - подмножество объектов, полученное в результате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упень классификации - этап классификации при иерархическом методе, в результате которого получается совокупность классификационных группиров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убина классификации - число ступеней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д - знак или совокупность знаков, принятых для обозначения классификационной группиров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дирование - образование и присвоение кода классификационной группировке или объекту класс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лфавит кода - систем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наков, принятых для образования к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ание кода - число знаков с алфавите к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уктура кода - условное обозначение состава и последовательности расположения знаков код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трольное число - расчетное число используемое для проверки правильности записи ко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овательный и параллельный методы кодир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ледовательный метод кодирования - образование кода классификационной группировки или объекта классификации использования кодов последовательно расположенных подчиненных группировок, полученных при иерархическом методе классификации,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араллельный метод кодирования - образование кода классификационной группировки или объекта классификации  с использованием кодов независимых группировок, полученных при фасетном методе классификации,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ледовательный и параллельный методы кодирован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ледовательный метод кодирования - образование кода классификационной группировки или объекта классификации использования кодов последовательно расположенных подчиненных группировок, полученных при иерархическом методе классификации,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араллельный метод кодирования - образование кода классификационной группировки или объекта классификации  с использованием кодов независимых группировок, полученных при фасетном методе классификации,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й  этап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оделирование объект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пример, объекта Б).</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учесть, что процессу стандартизации подвергаются не сами объекты, а информация о них, отображающая их существенные стороны (признаки, свойства), т.е. абстрактная модель реального объекта. Например, состав реквизи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менование орган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именование документа и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формление реквизит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форм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содержание … n, месторасположение и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к документ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учет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использованию … n, к хранен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торой  этап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оделирование объект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например, объекта Б).</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 учесть, что процессу стандартизации подвергаются не сами объекты, а информация о них, отображающая их существенные стороны (признаки, свойства), т.е. абстрактная модель реального объекта. Например, состав реквизит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именование орган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именование документа и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формление реквизит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форм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содержание … n, месторасположение и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к документ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учет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использованию … n, к хранен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рядковый и серийно-порядковый методы кодир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рядковый метод кодирования - образование кода из чисел натурального ряда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рийно-порядковый метод кодирования - образования кода из чисел натурального ряда закрепление отдельных серий или диапазонов этих чисел за объектами классификации с одинаковыми признаками и его присво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рядковый и серийно-порядковый методы кодир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рядковый метод кодирования - образование кода из чисел натурального ряда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рийно-порядковый метод кодирования - образования кода из чисел натурального ряда закрепление отдельных серий или диапазонов этих чисел за объектами классификации с одинаковыми признаками и его присво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и классификационных группиров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 признакам классификационных группировок относи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чет социально-экономических изме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крытость и общедоступ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втоматизирова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ическое и организационное един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язательность примен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вместимость с другими классификатор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армонизация с международными классификаторами и стандарта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и классификационных группиров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 признакам классификационных группировок относи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чет социально-экономических измен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крытость и общедоступ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втоматизирован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ическое и организационное един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язательность примен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вместимость с другими классификатор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армонизация с международными классификаторами и стандарта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талог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талогизация - одна из форм информационных технологий базирующихся на классификации, кодировании и идентифик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знаками отечественной классификации являю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ера действия, потребитель (общество, население, организация, граждан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 потребностей (материальные, нематериальные, комплекс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арактер потребления (личный, семейный, коллективный, общественны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я оказания (возмездные, льготные, безвозмезд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ог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аталогизация - одна из форм информационных технологий базирующихся на классификации, кодировании и идентифик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знаками отечественной классификации являю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фера действия, потребитель (общество, население, организация, граждани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 потребностей (материальные, нематериальные, комплекс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Характер потребления (личный, семейный, коллективный, общественны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я оказания (возмездные, льготные, безвозмезд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рядочение объектов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порядочение объектов стандартизации - это деятельность систематизации, селекции и симплексации , типизации и оптимизации выбранных совокупностей однородных объектов стандартизации, направленных на достижение оптимальной степени упорядочения и максимальной эффективности в определенной обла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порядочение объектов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порядочение объектов стандартизации - это деятельность систематизации, селекции и симплексации , типизации и оптимизации выбранных совокупностей однородных объектов стандартизации, направленных на достижение оптимальной степени упорядочения и максимальной эффективности в определенной обла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истематизация - расположение объектов стандартизации в определенном порядке и последова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КП представляет собой систематизированный свод кодов и наименований продукции, являющейся предметом поставки. ОКП состоит из классификационной (К-ОКП) и ассортиментной (А-ОКП) частей. Классификационная часть представляет собой свод кодов и наименования классификационных группировок (класс - подкласс- группа-подгруппа-вид), систематизирующий продукцию по определенным признакам. Ассортиментная часть - свод кодов и наименований, идентифицирующих отдельные типы, марки и т.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р кодового обозначения в ОКП продукции 54 класс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 (класс)- продукция целлюлозно-бумажной промышл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подкласс) - тетради школьные, обои и бумажно-беловые това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группа) - бумажно-беловые това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1 (подгруппа) - тетради и дневники школь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14 (вид) - тетради для письма карандаш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46314 0001 (разновидность) - тетради для письма карандашом, переплет обрезной, цельнобумажный блок из бумаги типографской мелованной объем 48 листов, размер 144 х 203м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лассификационной части (класс-вид) продукция переранжирована в порядке разделения множества объектов (продукция ЦБП) по общим признакам (назначение) в ассортиментной части - по частным признакам (конструкция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Систематизация - расположение объектов стандартизации в определенном порядке и последова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КП представляет собой систематизированный свод кодов и наименований продукции, являющейся предметом поставки. ОКП состоит из классификационной (К-ОКП) и ассортиментной (А-ОКП) частей. Классификационная часть представляет собой свод кодов и наименования классификационных группировок (класс - подкласс- группа-подгруппа-вид), систематизирующий продукцию по определенным признакам. Ассортиментная часть - свод кодов и наименований, идентифицирующих отдельные типы, марки и т.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р кодового обозначения в ОКП продукции 54 класс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 (класс)- продукция целлюлозно-бумажной промышлен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подкласс) - тетради школьные, обои и бумажно-беловые това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группа) - бумажно-беловые това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1 (подгруппа) - тетради и дневники школь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14 (вид) - тетради для письма карандаш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46314 0001 (разновидность) - тетради для письма карандашом, переплет обрезной, цельнобумажный блок из бумаги типографской мелованной объем 48 листов, размер 144 х 203м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классификационной части (класс-вид) продукция переранжирована в порядке разделения множества объектов (продукция ЦБП) по общим признакам (назначение) в ассортиментной части - по частным признакам (конструкция 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екция и симплификац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имплификация - деятельность по изъятию из числа систематизированных объектов стандартизации нецелесообразных (морально устаревших) для дальнейшего производства и примен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оянная симплификация в Фармакопее Минздрава по запрещению к применению устаревших лекарственных средст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екция - деятельность по отбору предварительно классифицированных и ранжированных объектов стандартизации наиболее целесообразных в дальнейшем производстве и примен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лекция и симплификац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имплификация - деятельность по изъятию из числа систематизированных объектов стандартизации нецелесообразных (морально устаревших) для дальнейшего производства и примен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оянная симплификация в Фармакопее Минздрава по запрещению к применению устаревших лекарственных средст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лекция - деятельность по отбору предварительно классифицированных и ранжированных объектов стандартизации наиболее целесообразных в дальнейшем производстве и примене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изация и оптимизация объектов стандартизаци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ипизация - поиск по заданному критерию эффективности оптимальных параметрических рядов главных параметров селекционных объектов стандартизации ( типовых моделей, конструкций, правил обслуживания, типоразмера изделия, типоразмерный ряд конструкций постройки дом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изация объектов стандартизации - поиск оптимальных параметров и характеристик селекционных однородных объектов стандартизации, направленных на  достижение максимальной степени упорядочения и максимально возможной эффективности по выбранному критерию в определенной области. Ей предшествуют  классификация и ранжирование, селекция и симплификация, а также сочетание с прогнозами науки и техники и установления требований на перспектив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изация и оптимизация объектов стандартизаци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ипизация - поиск по заданному критерию эффективности оптимальных параметрических рядов главных параметров селекционных объектов стандартизации ( типовых моделей, конструкций, правил обслуживания, типоразмера изделия, типоразмерный ряд конструкций постройки дом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тимизация объектов стандартизации - поиск оптимальных параметров и характеристик селекционных однородных объектов стандартизации, направленных на  достижение максимальной степени упорядочения и максимально возможной эффективности по выбранному критерию в определенной области. Ей предшествуют  классификация и ранжирование, селекция и симплификация, а также сочетание с прогнозами науки и техники и установления требований на перспектив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 (по ГОСТ Р 1.0) это выбор оптимального числа разновидностей продукции, процессов и услуг, значений их параметров и размеров.  Унификация -деятельность по рациональному сокращению числа типов деталей, агрегатов одинакового функционального назначения. Основными направлениями унификации являю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ка параметрических и типоразмерных рядов изделий, машин, оборудования, приборов, узлов, дета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ка типовых изделий в целях создания унифицированных групп однородной продук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зработка унифицированных технологических процес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граничение целесообразным минимумом номенклатуры разрешаемых к применению изделий и материал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 (по ГОСТ Р 1.0) это выбор оптимального числа разновидностей продукции, процессов и услуг, значений их параметров и размеров.  Унификация -деятельность по рациональному сокращению числа типов деталей, агрегатов одинакового функционального назначения. Основными направлениями унификации являют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аботка параметрических и типоразмерных рядов изделий, машин, оборудования, приборов, узлов, дета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аботка типовых изделий в целях создания унифицированных групп однородной продук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зработка унифицированных технологических процесс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граничение целесообразным минимумом номенклатуры разрешаемых к применению изделий и материал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ирование- это метод создания машин, приборов и оборудования из отдельных стандартных унифицированных узлов многократно используемых при создании различных изделий на основе геометрической и функциональной взаимозаменяем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грегат - законченная часть сложного изделия (двигателя внутреннего сгорания, компрессора, электронасоса и пр.),создаваемого по рациональным параметрическим рядам. Этот метод удешевляет и упрощает ремонт, наладку, ввод в эксплуатац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настоящее время на повестке дня переход к производству техники на базе крупных агрегатов - модулей. Модульный принцип распространен в радиоэлектронике и приборостроении, это основной метод создания гибких производственных систем и роботехнических комплек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ир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ирование- это метод создания машин, приборов и оборудования из отдельных стандартных унифицированных узлов многократно используемых при создании различных изделий на основе геометрической и функциональной взаимозаменяем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грегат - законченная часть сложного изделия (двигателя внутреннего сгорания, компрессора, электронасоса и пр.),создаваемого по рациональным параметрическим рядам. Этот метод удешевляет и упрощает ремонт, наладку, ввод в эксплуатац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настоящее время на повестке дня переход к производству техники на базе крупных агрегатов - модулей. Модульный принцип распространен в радиоэлектронике и приборостроении, это основной метод создания гибких производственных систем и роботехнических комплекс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6.Стандартизация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боты по стандартизации услуг начали проводиться практически с 1992г. Одним из главных механизмов, выбранных Госстандартом России  стала обязательная сертифик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6.Стандартизация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боты по стандартизации услуг начали проводиться практически с 1992г. Одним из главных механизмов, выбранных Госстандартом России  стала обязательная сертифик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тий эт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тимизация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разных организациях варианты исполнения объекта, т.е. документ Б могут быть разными: Б1, Б2,Б3 … Бn. В частности, возможен разный состав реквизитов, разное их оформление, использование разных бланков и т.п. Задачи стандартизаторов выбрать наилучший вариант состава реквизитов, оптимальный формат бланка, т.е. унифицировать документ. Оптимальное решение достигается общенаучными методами и методами стандартизации (симплификация, типизация и т.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тий эта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тимизация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разных организациях варианты исполнения объекта, т.е. документ Б могут быть разными: Б1, Б2,Б3 … Бn. В частности, возможен разный состав реквизитов, разное их оформление, использование разных бланков и т.п. Задачи стандартизаторов выбрать наилучший вариант состава реквизитов, оптимальный формат бланка, т.е. унифицировать документ. Оптимальное решение достигается общенаучными методами и методами стандартизации (симплификация, типизация и т.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направления стандартизации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ое или объективное качество и соответствующие ему количественные характеристики, т.е., показатели или параметры качества, измеряемые и выражаемые числом и размерностью, имеющие стандартные методы определения (расчетов, анализа, измер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атериальное или субъективное, и соответствующие ему качественные (не измеряемые) характеристики, зависящие от субъективного восприятия потребителя, оцениваемые экспертами органолептически. Это комфортность. Удобство, эстетика интерьера, этика общения, вежливость, чуткость, доступность персонала, т.е. вся совокупность культуры обслужи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ва направления стандартизации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териальное или объективное качество и соответствующие ему количественные характеристики, т.е., показатели или параметры качества, измеряемые и выражаемые числом и размерностью, имеющие стандартные методы определения (расчетов, анализа, измер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материальное или субъективное, и соответствующие ему качественные (не измеряемые) характеристики, зависящие от субъективного восприятия потребителя, оцениваемые экспертами органолептически. Это комфортность. Удобство, эстетика интерьера, этика общения, вежливость, чуткость, доступность персонала, т.е. вся совокупность культуры обслужи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нятие «услу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лковые словари дают различные толкования понятия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Далю «Оказать услугу_это услужить, угодить, быть полезным, сделать нужное, угодное дел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ловаре Ожегова «Услуга - это действие, приносящее пользу или помощь другом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Большой Советской Энциклопедии «Услуга - это определенная целесообразность деятельности, существующая в форме полезного эффективного труд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нятие «услу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лковые словари дают различные толкования понятия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Далю «Оказать услугу_это услужить, угодить, быть полезным, сделать нужное, угодное дел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ловаре Ожегова «Услуга - это действие, приносящее пользу или помощь другом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Большой Советской Энциклопедии «Услуга - это определенная целесообразность деятельности, существующая в форме полезного эффективного труд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ормативное определение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ФЗ «О государственном регулировании внешнеторговой деятельности» услугу определяют как «предпринимательскую деятельность, направленную на удовлетворение потребностей других лиц, за исключением деятельности, осуществляемой на основе трудовых правлвоотно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тандарте МЭК 50 1191-90 «Надежность и качество услуг, термины и определения»услугу выражают как «набор функций, которые организация предлагает потребителю».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международному стандарту  ИСО 9004.2.1991»Общее руководство качеством и элементы системы качества. Руководящие указания по услугам» и по ГОСТ Р 50646-94 «Услуги населению, термины и определения»  «Услуга - это результат непосредственного врздействия исполнителя и  потребителя, а также собственная деятельность исполнителя по удовлетворению потребностей потребител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ормативное определение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ФЗ «О государственном регулировании внешнеторговой деятельности» услугу определяют как «предпринимательскую деятельность, направленную на удовлетворение потребностей других лиц, за исключением деятельности, осуществляемой на основе трудовых правлвоотнош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тандарте МЭК 50 1191-90 «Надежность и качество услуг, термины и определения»услугу выражают как «набор функций, которые организация предлагает потребителю».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 международному стандарту  ИСО 9004.2.1991»Общее руководство качеством и элементы системы качества. Руководящие указания по услугам» и по ГОСТ Р 50646-94 «Услуги населению, термины и определения»  «Услуга - это результат непосредственного врздействия исполнителя и  потребителя, а также собственная деятельность исполнителя по удовлетворению потребностей потребител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аимосвязь понятий составляющих определение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ите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ажданин,</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сел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нитель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нимат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заимосвязь понятий составляющих определение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требитель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ражданин,</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ят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сел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 </a:t>
            </a:r>
            <a:r>
              <a:rPr b="0" lang="ru-RU" sz="1200" spc="-1" strike="noStrike">
                <a:solidFill>
                  <a:srgbClr val="000000"/>
                </a:solidFill>
                <a:latin typeface="Times New Roman"/>
              </a:rPr>
              <a:t>об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сполнитель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нимат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ят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ности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ещ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нные бума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нь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вижим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ивот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др. собстве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материальны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форм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доровь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раз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ультурные ц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требности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териальны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ещ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нные бума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ень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движим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вот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 др. собствен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материальны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форм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доровь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раз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ультурные цен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обственная деятельность исполн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служи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ркет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хнолог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ектир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атериальное обеспечение,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неджмент кач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ка на производство и д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обственная деятельность исполните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служи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ркети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хнолог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ектир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атериальное обеспечение,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неджмент кач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новка на производство и д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зультат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мененное состояние объекта услуг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ие материальных потреб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довлетворение нематериальных потреб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езультат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змененное состояние объекта услуг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довлетворение материальных потребност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довлетворение нематериальных потребност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онодательство в сфере услу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каждую высшую группу услуг по ОКП 002-93 «Общероссийский классификатор услуг населению» имеются один или несколько законов и федеральных правил обслуживания (нормативно-правовых актов). В них фиксируются современные требования безопасности качества услуг и обслужи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конодательство в сфере услу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каждую высшую группу услуг по ОКП 002-93 «Общероссийский классификатор услуг населению» имеются один или несколько законов и федеральных правил обслуживания (нормативно-правовых актов). В них фиксируются современные требования безопасности качества услуг и обслужи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ополагающий международный документ по услуга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неральное соглашение по торговле услугами (ГАТС), введенное в действие в 1995г. Всемирной торговой организацией ВТО), стимулирует мировую торговлю, правовое и нормативное обеспечение качества услуг, а также подтверждение услуг установленным требованиям.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ополагающий международный документ по услуга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енеральное соглашение по торговле услугами (ГАТС), введенное в действие в 1995г. Всемирной торговой организацией ВТО), стимулирует мировую торговлю, правовое и нормативное обеспечение качества услуг, а также подтверждение услуг установленным требованиям.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е эргономичности услуг розничной торгов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бования эргономичности являются проявлением требований совместимости применительно к системе «покупатель-торговое помещение-продаве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мфортность и удобство при совершении покуп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игиенические требования - к уровню освещенности, вентилируемости, запыленности, шума в торговых помещениях;</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нитарно-гигиенические требования к персонал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анитарные требования к содержанию помещений и торгового оборудован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е эргономичности услуг розничной торгов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бования эргономичности являются проявлением требований совместимости применительно к системе «покупатель-торговое помещение-продавец»</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мфортность и удобство при совершении покуп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игиенические требования - к уровню освещенности, вентилируемости, запыленности, шума в торговых помещениях;</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нитарно-гигиенические требования к персонал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анитарные требования к содержанию помещений и торгового оборудован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твертый этап</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 заключительном этапе осуществляется стандартизация - разработка нормативного документа (НД) на базе унифицированной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щность механизма стандартизации отражена в стандартизированном определе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 деятельность, направленная на достижение оптимальной степени упорядочения в определенной области посредством установления положений для всеобщего и многократного использования в отношении реально существующих или потенциальных задач.</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менение  Нормативных Документов является способом упорядочения в определенной области. Отсюда НД - средство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етвертый этап</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 заключительном этапе осуществляется стандартизация - разработка нормативного документа (НД) на базе унифицированной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щность механизма стандартизации отражена в стандартизированном определе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 деятельность, направленная на достижение оптимальной степени упорядочения в определенной области посредством установления положений для всеобщего и многократного использования в отношении реально существующих или потенциальных задач.</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менение  Нормативных Документов является способом упорядочения в определенной области. Отсюда НД - средство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7. Стандартизация страхов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ние заключается в предоставлении страховой компанией за оговоренную договором страховую плату (страховой взнос) финансовой защиты субъектов хозяйствования и граждан от наступления страхового события в результате конкретного застрахованного риск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7. Стандартизация страхов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ние заключается в предоставлении страховой компанией за оговоренную договором страховую плату (страховой взнос) финансовой защиты субъектов хозяйствования и граждан от наступления страхового события в результате конкретного застрахованного риск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ущественные интересы и страх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ние – особый вид экономической деятельности, связанный с перераспределением риска нанесения вреда имущественным интересам среди участников страхования  и осуществляемой специализированными организациям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мущественные интересы и страх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ние – особый вид экономической деятельности, связанный с перераспределением риска нанесения вреда имущественным интересам среди участников страхования  и осуществляемой специализированными организациям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осударственное регулирование страх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соответствии с Гражданским кодексом и Законом «Об организации страхового дела в Российской Федерации» от 27.11.19992г. №4015-1 страхование может быть добровольным и обязательны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осударственное регулирование страх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 соответствии с Гражданским кодексом и Законом «Об организации страхового дела в Российской Федерации» от 27.11.19992г. №4015-1 страхование может быть добровольным и обязательны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убъекты страх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я комп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приятие (организац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ор, кредито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сона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уковод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ционер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убъекты страх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я комп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приятие (организац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ор, кредито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уковод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кционер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ы страхова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ридические ли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изические лиц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ын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ы страхова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Юридические лиц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изические лиц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ын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фера страховых интерес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изнь и здоровь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ен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аботок;</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н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фера страховых интерес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знь и здоровь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ен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аботок;</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нс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ижимое 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ства транспор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ичное 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льскохозяйственного и иного производ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машние и сельскохозяйственные животны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вижимое 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редства транспор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Личное 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льскохозяйственного и иного производ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машние и сельскохозяйственные животны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1143000" y="685800"/>
            <a:ext cx="4572000" cy="3429000"/>
          </a:xfrm>
          <a:prstGeom prst="rect">
            <a:avLst/>
          </a:prstGeom>
          <a:ln w="0">
            <a:noFill/>
          </a:ln>
        </p:spPr>
      </p:sp>
      <p:sp>
        <p:nvSpPr>
          <p:cNvPr id="6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движимое имуществ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вартира, включая отделк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ча, садовый дом, гараж;</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мельные угодь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ые объекты недвижимого имуществ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теллектуальная собствен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движимое имуществ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вартира, включая отделк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ача, садовый дом, гараж;</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емельные угодь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ые объекты недвижимого имуществ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теллектуальная собствен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1143000" y="685800"/>
            <a:ext cx="4572000" cy="3429000"/>
          </a:xfrm>
          <a:prstGeom prst="rect">
            <a:avLst/>
          </a:prstGeom>
          <a:ln w="0">
            <a:noFill/>
          </a:ln>
        </p:spPr>
      </p:sp>
      <p:sp>
        <p:nvSpPr>
          <p:cNvPr id="6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Жизнь и здоровье</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счастный случа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дицин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работок во время болезн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Жизнь и здоровье</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счастный случа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дицин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аработок во время болезн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нси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ая пенс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копительное страх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полнительное пособие по безработиц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копительное страхова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хование к определенному событию.</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нси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полнительная пенс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копительное страх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ополнительное пособие по безработиц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копительное страхова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хование к определенному событию.</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ивный закон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ивный закон стандартизации это социально-экономическая необходимость своевременного обобществления новых позитивных результатов творческого интеллектуально-технического труда исследователей и разработчиков в форме Н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обеспечения оптимального функционирования экономики страны и мирового сообщества в  цело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 своевременное обобществления позитивных результатов НТР и НТП путем разработки новых и обновления действующих стандартов.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м выше категория стандарта, тем выше уровень обобществления НТР и НТП. Этот объективный закон стандартизации действует практически во всех отраслях и сферах эконом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ивный закон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ивный закон стандартизации это социально-экономическая необходимость своевременного обобществления новых позитивных результатов творческого интеллектуально-технического труда исследователей и разработчиков в форме Н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обеспечения оптимального функционирования экономики страны и мирового сообщества в  цело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 своевременное обобществления позитивных результатов НТР и НТП путем разработки новых и обновления действующих стандартов.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ем выше категория стандарта, тем выше уровень обобществления НТР и НТП. Этот объективный закон стандартизации действует практически во всех отраслях и сферах эконом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1143000" y="685800"/>
            <a:ext cx="4572000" cy="3429000"/>
          </a:xfrm>
          <a:prstGeom prst="rect">
            <a:avLst/>
          </a:prstGeom>
          <a:ln w="0">
            <a:noFill/>
          </a:ln>
        </p:spPr>
      </p:sp>
      <p:sp>
        <p:nvSpPr>
          <p:cNvPr id="7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8. Стандартизация банковской деятель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8. Стандартизация банковской деятель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1143000" y="685800"/>
            <a:ext cx="4572000" cy="3429000"/>
          </a:xfrm>
          <a:prstGeom prst="rect">
            <a:avLst/>
          </a:prstGeom>
          <a:ln w="0">
            <a:noFill/>
          </a:ln>
        </p:spPr>
      </p:sp>
      <p:sp>
        <p:nvSpPr>
          <p:cNvPr id="7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9. Международные стандарты финансовой отчетности предприятий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нификация финансовой отчетности предприятий диктуется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обходимостью объективной информации о состоянии дел на предприят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ширением взаимосвязей прендприятия с инфраструктурой, увеличением круга пользовател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9. Международные стандарты финансовой отчетности предприятий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нификация финансовой отчетности предприятий диктуется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обходимостью объективной информации о состоянии дел на предприят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сширением взаимосвязей прендприятия с инфраструктурой, увеличением круга пользовател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хмодульная классификация учетных систем</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ританско-американская модель(Великобритания, США, Нидерланды, Канада, Австрал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тинентальная модель (Германия, Австрия, Франция, Швейцар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Южноамериканская модель (Бразилия, Аргентина, Болив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хмодульная классификация учетных систем</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ританско-американская модель(Великобритания, США, Нидерланды, Канада, Австрал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тинентальная модель (Германия, Австрия, Франция, Швейцар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Южноамериканская модель (Бразилия, Аргентина, Болив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1143000" y="685800"/>
            <a:ext cx="4572000" cy="3429000"/>
          </a:xfrm>
          <a:prstGeom prst="rect">
            <a:avLst/>
          </a:prstGeom>
          <a:ln w="0">
            <a:noFill/>
          </a:ln>
        </p:spPr>
      </p:sp>
      <p:sp>
        <p:nvSpPr>
          <p:cNvPr id="7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ые стандарты у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ждународные стандарты учета представляют собой документы, определяющие общий подход к составлению финансовой отчетности и предлагающие варианты учета отдельных средств или операций предприятий (свод компромиссных и весьма общих вариантов ведения учета).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ые стандарты уче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ждународные стандарты учета представляют собой документы, определяющие общий подход к составлению финансовой отчетности и предлагающие варианты учета отдельных средств или операций предприятий (свод компромиссных и весьма общих вариантов ведения учета).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1143000" y="685800"/>
            <a:ext cx="4572000" cy="3429000"/>
          </a:xfrm>
          <a:prstGeom prst="rect">
            <a:avLst/>
          </a:prstGeom>
          <a:ln w="0">
            <a:noFill/>
          </a:ln>
        </p:spPr>
      </p:sp>
      <p:sp>
        <p:nvSpPr>
          <p:cNvPr id="7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едитор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редиторы временно предоставляют компании ссуду в обмен на некий доход (выраженный в процентах или фиксорованной сумм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редиторы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редиторы временно предоставляют компании ссуду в обмен на некий доход (выраженный в процентах или фиксорованной сумм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1143000" y="685800"/>
            <a:ext cx="4572000" cy="3429000"/>
          </a:xfrm>
          <a:prstGeom prst="rect">
            <a:avLst/>
          </a:prstGeom>
          <a:ln w="0">
            <a:noFill/>
          </a:ln>
        </p:spPr>
      </p:sp>
      <p:sp>
        <p:nvSpPr>
          <p:cNvPr id="7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оры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оры вкладывают в компанию свой капитал с определенной долей риска в целях получения дохода на него и нуждающиеся в информации, позволяющей на основании которой они будут решать, целесообразно ли покупать, держать на руках или продать свои акции данной компан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оры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оры вкладывают в компанию свой капитал с определенной долей риска в целях получения дохода на него и нуждающиеся в информации, позволяющей на основании которой они будут решать, целесообразно ли покупать, держать на руках или продать свои акции данной компан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1143000" y="685800"/>
            <a:ext cx="4572000" cy="3429000"/>
          </a:xfrm>
          <a:prstGeom prst="rect">
            <a:avLst/>
          </a:prstGeom>
          <a:ln w="0">
            <a:noFill/>
          </a:ln>
        </p:spPr>
      </p:sp>
      <p:sp>
        <p:nvSpPr>
          <p:cNvPr id="7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создания М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сс создания международных стандартов учета предшествуют следующие этап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 выбор объекта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ой – определение содержания работ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етий – изучение научных разработок и практических реш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етвертый – анализ собранного материа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Этапы создания М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цесс создания международных стандартов учета предшествуют следующие этап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вый – выбор объекта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торой – определение содержания работ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ретий – изучение научных разработок и практических реш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Четвертый – анализ собранного материал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1143000" y="685800"/>
            <a:ext cx="4572000" cy="3429000"/>
          </a:xfrm>
          <a:prstGeom prst="rect">
            <a:avLst/>
          </a:prstGeom>
          <a:ln w="0">
            <a:noFill/>
          </a:ln>
        </p:spPr>
      </p:sp>
      <p:sp>
        <p:nvSpPr>
          <p:cNvPr id="7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руппы МСФО</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СФО можно объединить в группы, характеризующиеся единой направленностью в деле стандартизации уче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я – определение порядка ведения учета на предприят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2-я – регулирование организации учета материальных ценностей и нематериальных актив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я – отражение движения денежных комп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4-я – регламентирование учета инвестиц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5-я – отражение результата деятельности компании и ее финансового положени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руппы МСФО</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СФО можно объединить в группы, характеризующиеся единой направленностью в деле стандартизации уче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1-я – определение порядка ведения учета на предприят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2-я – регулирование организации учета материальных ценностей и нематериальных актив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3-я – отражение движения денежных комп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4-я – регламентирование учета инвестиц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5-я – отражение результата деятельности компании и ее финансового положени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1143000" y="685800"/>
            <a:ext cx="4572000" cy="3429000"/>
          </a:xfrm>
          <a:prstGeom prst="rect">
            <a:avLst/>
          </a:prstGeom>
          <a:ln w="0">
            <a:noFill/>
          </a:ln>
        </p:spPr>
      </p:sp>
      <p:sp>
        <p:nvSpPr>
          <p:cNvPr id="7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скрытие политики бухгалтерского учета МСФО-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сное и краткое раскрытие всех важных положений учетн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анные, соответствующие предшествующему периоду;</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ражение изменений в учетной политике, имеющих материальный эффект в текущем периоде или способных на последующие периоды, с указанием причин и результатов этих измен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аскрытие политики бухгалтерского учета МСФО-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Ясное и краткое раскрытие всех важных положений учетн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анные, соответствующие предшествующему периоду;</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тражение изменений в учетной политике, имеющих материальный эффект в текущем периоде или способных на последующие периоды, с указанием причин и результатов этих измен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1143000" y="685800"/>
            <a:ext cx="4572000" cy="3429000"/>
          </a:xfrm>
          <a:prstGeom prst="rect">
            <a:avLst/>
          </a:prstGeom>
          <a:ln w="0">
            <a:noFill/>
          </a:ln>
        </p:spPr>
      </p:sp>
      <p:sp>
        <p:nvSpPr>
          <p:cNvPr id="7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СФО 2 – товарно-материальные запас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варно-материальные запасы (ТМЗ) – это осязаемое преимущество, предназначенное для продажи в ходе обычной коммерческой деятельности или находящееся в процессе производства с целью такой продажи или израсходованное при производстве товаров или услуг для реал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СФО 2 – товарно-материальные запас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варно-материальные запасы (ТМЗ) – это осязаемое преимущество, предназначенное для продажи в ходе обычной коммерческой деятельности или находящееся в процессе производства с целью такой продажи или израсходованное при производстве товаров или услуг для реал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й методологический принцип стандартиза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лавный методологический принцип стандартизации - это принцип обязательности разработки новых и обновления действующих стандартов. При несоблюдении главного регулятивного методологического принципа стандартизации, деятельность по стандартизации является либо преждевременной либо запаздывающей (послевременн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эффективности всей технической нормотворческой  и нормоприменительной деятельности вопрос о правильном выборе времени начала разработки нового стандарта или обновления действующего имеет определяющее значение.</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ный методологический принцип стандартиза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Главный методологический принцип стандартизации - это принцип обязательности разработки новых и обновления действующих стандартов. При несоблюдении главного регулятивного методологического принципа стандартизации, деятельность по стандартизации является либо преждевременной либо запаздывающей (послевременн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Для эффективности всей технической нормотворческой  и нормоприменительной деятельности вопрос о правильном выборе времени начала разработки нового стандарта или обновления действующего имеет определяющее значение.</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1143000" y="685800"/>
            <a:ext cx="4572000" cy="3429000"/>
          </a:xfrm>
          <a:prstGeom prst="rect">
            <a:avLst/>
          </a:prstGeom>
          <a:ln w="0">
            <a:noFill/>
          </a:ln>
        </p:spPr>
      </p:sp>
      <p:sp>
        <p:nvSpPr>
          <p:cNvPr id="7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СФО 7 – отчет о движении денеж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категории, по которым необходимо отражать движение денежных средст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ационн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нвестиционная и финансовая деятельност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перации с иностранной валюто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епредвиденные стать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оценты и дивиденды;</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лог на прибы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обретение и продажа дочерних комп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езналичные сдел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СФО 7 – отчет о движении денежных сред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сновные категории, по которым необходимо отражать движение денежных средст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ационн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нвестиционная и финансовая деятельност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перации с иностранной валюто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епредвиденные стать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оценты и дивиденды;</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Налог на прибы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обретение и продажа дочерних комп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езналичные сдел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1143000" y="685800"/>
            <a:ext cx="4572000" cy="3429000"/>
          </a:xfrm>
          <a:prstGeom prst="rect">
            <a:avLst/>
          </a:prstGeom>
          <a:ln w="0">
            <a:noFill/>
          </a:ln>
        </p:spPr>
      </p:sp>
      <p:sp>
        <p:nvSpPr>
          <p:cNvPr id="7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ема 10. Стандартизация и маркетинг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бъектами исследования являю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ова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требитель;</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мкость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ро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Условия конкуренци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етоды сбыт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егментац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ема 10. Стандартизация и маркетинг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бъектами исследования являют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Товар;</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требитель;</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Емкость ры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рос;</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Условия конкуренци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етоды сбыт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егментация ры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43000" y="685800"/>
            <a:ext cx="4572000" cy="3429000"/>
          </a:xfrm>
          <a:prstGeom prst="rect">
            <a:avLst/>
          </a:prstGeom>
          <a:ln w="0">
            <a:noFill/>
          </a:ln>
        </p:spPr>
      </p:sp>
      <p:sp>
        <p:nvSpPr>
          <p:cNvPr id="7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азы жизненного цикл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едрение – стандартизация отсутствует;</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ост продаж – низкая, начальная. Появление базовой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релость – высокая. Стандартизация базовой модел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д и уход с рынка – работы по стандартизации не ведутс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Фазы жизненного цикл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недрение – стандартизация отсутствует;</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Рост продаж – низкая, начальная. Появление базовой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Зрелость – высокая. Стандартизация базовой модел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пад и уход с рынка – работы по стандартизации не ведутс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стандартизации методов маркетинговых исследова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Цель стандартизации методов маркетинговых исследований – унификация процедур и оптимизация методов изучения рынк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ль стандартизации методов маркетинговых исследова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Цель стандартизации методов маркетинговых исследований – унификация процедур и оптимизация методов изучения рынк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новых высокотехнологичных товаро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новых высокотехнологичных товаров, не имеющих аналогов на мировом рынке, т.е. производимых на базе изобретений (открыт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х качественные характеристики, содержащиеся  в стандарте фирмы- изготовителя отражают высокий уровень новизны технологии (нередко – технологический прорыв).</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новых высокотехнологичных товаро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новых высокотехнологичных товаров, не имеющих аналогов на мировом рынке, т.е. производимых на базе изобретений (открыт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Их качественные характеристики, содержащиеся  в стандарте фирмы- изготовителя отражают высокий уровень новизны технологии (нередко – технологический прорыв).</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ция глобального маркетин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нцепция глобального маркетинга рассматривает мировой рынок как единое целое, выделяя национальные сегменты на основе их сходных характеристик, а не отличительных особенносте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цепция глобального маркетин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Концепция глобального маркетинга рассматривает мировой рынок как единое целое, выделяя национальные сегменты на основе их сходных характеристик, а не отличительных особенносте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и приоритет потребителя</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атегия стандартизации в данном аспекте  - «вталкивание товаров» - разработка и выведение на рынок высокотехнологичных товаров, либо замена абсолютно новых, либо коренным образом усовершенствованных на базе изобретений.</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и приоритет потребителя</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ратегия стандартизации в данном аспекте  - «вталкивание товаров» - разработка и выведение на рынок высокотехнологичных товаров, либо замена абсолютно новых, либо коренным образом усовершенствованных на базе изобретений.</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иоритетная задача маркетин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туальность сочетания стандартизации и дифференциации в международном маркетинге приобретает не только товар, но и комплекс маркетинга (глобальный и мультинациональный маркет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иоритетная задача маркетин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Актуальность сочетания стандартизации и дифференциации в международном маркетинге приобретает не только товар, но и комплекс маркетинга (глобальный и мультинациональный маркети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льтинациональный маркетинг</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Мультинациональный маркетинг – международный маркетинг, учитывающий различия в предпочтениях потребителей, которые во многом связаны с национальными чертами, определяющими поведенческие особенност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ультинациональный маркетинг</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ультинациональный маркетинг – международный маркетинг, учитывающий различия в предпочтениях потребителей, которые во многом связаны с национальными чертами, определяющими поведенческие особенност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комплекса маркетинга</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андартизация комплекса маркетинга (операционного) возможна, если в глобальном маркетинге товар стандартизован, но составляющие комплекса маркетинга фирма вынуждена адаптировать, особенно это касается сбытовой политики.</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комплекса маркетинга</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тандартизация комплекса маркетинга (операционного) возможна, если в глобальном маркетинге товар стандартизован, но составляющие комплекса маркетинга фирма вынуждена адаптировать, особенно это касается сбытовой политики.</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C8BC73-211C-40A1-B193-6871C2665E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E0DCC-B663-4164-ACD1-606AF4A502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6F1D6-8241-42A8-A788-76DC93BA8E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0C98B6-1BFF-4CB7-B818-5444B8B8B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83E13E-F85D-4960-BA8F-53BA94092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7079CC-C6F6-4F41-A089-A640F4044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08EE3-B321-447A-BC8C-8E6147E64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0F9F8-FB07-450D-A52A-D8CB7775A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5291C-5833-48C7-B80F-E0B85A010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CEE14-06EC-4DEE-AEFF-0229EE4B0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79B965-E1A5-4162-8DC5-38E2D43790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5044F-DCD6-4177-98E1-5B303A845A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2CD5B-F489-4D29-8855-1C064A562E41}"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ru-RU" sz="4400" spc="-1" strike="noStrike">
                <a:solidFill>
                  <a:srgbClr val="000000"/>
                </a:solidFill>
                <a:latin typeface="Times New Roman"/>
              </a:rPr>
              <a:t>Стандартизация в различных сферах</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ма 1. Сущность стандартизации</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Основная технико-экономическая закономерность стандартизации</a:t>
            </a:r>
            <a:endParaRPr b="0" lang="en-US" sz="32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urier New"/>
              </a:rPr>
              <a:t>Основная технико-экономическая закономерность стандартизации</a:t>
            </a:r>
            <a:r>
              <a:rPr b="0" lang="ru-RU" sz="2000" spc="-1" strike="noStrike">
                <a:solidFill>
                  <a:srgbClr val="000000"/>
                </a:solidFill>
                <a:latin typeface="Courier New"/>
              </a:rPr>
              <a:t> - это диалектическое сочетание принципа преемственности стабильных требований к главным параметрам сменяющих друг друга конкретных объектов стандартизации определенного вида переменных требований к уровню качества и экономичности   тех же объектов. Это обеспечивает более полное сближение повышающихся требований стандартов и практически  непрерывно возрастающих требований потребителей.</a:t>
            </a:r>
            <a:r>
              <a:rPr b="0" lang="ru-RU" sz="3200" spc="-1" strike="noStrike">
                <a:solidFill>
                  <a:srgbClr val="000000"/>
                </a:solidFill>
                <a:latin typeface="Courier New"/>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тандартизация рекламы</a:t>
            </a:r>
            <a:endParaRPr b="0" lang="en-US" sz="4400" spc="-1" strike="noStrike">
              <a:solidFill>
                <a:srgbClr val="000000"/>
              </a:solidFill>
              <a:latin typeface="Times New Roman"/>
            </a:endParaRPr>
          </a:p>
        </p:txBody>
      </p:sp>
      <p:sp>
        <p:nvSpPr>
          <p:cNvPr id="35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андартизация рекламы целесообразна для товаров, связанных с широко распространенными привычками. Стандартизация рекламы эффективна, если  рекламное обещание преимуществ товара идентично воспринимается на разных национальных рынках. </a:t>
            </a:r>
            <a:endParaRPr b="0" lang="en-US" sz="3200" spc="-1" strike="noStrike">
              <a:solidFill>
                <a:srgbClr val="000000"/>
              </a:solidFill>
              <a:latin typeface="Times New Roman"/>
            </a:endParaRPr>
          </a:p>
        </p:txBody>
      </p:sp>
      <p:sp>
        <p:nvSpPr>
          <p:cNvPr id="3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методов изучения рынке</a:t>
            </a:r>
            <a:endParaRPr b="0" lang="en-US" sz="4000" spc="-1" strike="noStrike">
              <a:solidFill>
                <a:srgbClr val="000000"/>
              </a:solidFill>
              <a:latin typeface="Times New Roman"/>
            </a:endParaRPr>
          </a:p>
        </p:txBody>
      </p:sp>
      <p:sp>
        <p:nvSpPr>
          <p:cNvPr id="36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андартизация методов изучения рынка предполагает классификацию, типизацию и унификацию исследовательских операций, что поднимает достоверность информации, используемой в управлении качеством продукции.</a:t>
            </a:r>
            <a:endParaRPr b="0" lang="en-US" sz="3200" spc="-1" strike="noStrike">
              <a:solidFill>
                <a:srgbClr val="000000"/>
              </a:solidFill>
              <a:latin typeface="Times New Roman"/>
            </a:endParaRPr>
          </a:p>
        </p:txBody>
      </p:sp>
      <p:sp>
        <p:nvSpPr>
          <p:cNvPr id="3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Тема 11. Международная и региональная стандартизация</a:t>
            </a:r>
            <a:endParaRPr b="0" lang="en-US" sz="3600" spc="-1" strike="noStrike">
              <a:solidFill>
                <a:srgbClr val="000000"/>
              </a:solidFill>
              <a:latin typeface="Times New Roman"/>
            </a:endParaRPr>
          </a:p>
        </p:txBody>
      </p:sp>
      <p:sp>
        <p:nvSpPr>
          <p:cNvPr id="3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области Международной стандартизации работает Международная организация по стандартизации (ИСО), Международная электротехническая комиссия (МЭК) и Международный союз электросвязи МСЭ).</a:t>
            </a:r>
            <a:endParaRPr b="0" lang="en-US" sz="2800" spc="-1" strike="noStrike">
              <a:solidFill>
                <a:srgbClr val="000000"/>
              </a:solidFill>
              <a:latin typeface="Times New Roman"/>
            </a:endParaRPr>
          </a:p>
        </p:txBody>
      </p:sp>
      <p:sp>
        <p:nvSpPr>
          <p:cNvPr id="3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О происхождении аббревиатуры ИСО</a:t>
            </a:r>
            <a:endParaRPr b="0" lang="en-US" sz="4000" spc="-1" strike="noStrike">
              <a:solidFill>
                <a:srgbClr val="000000"/>
              </a:solidFill>
              <a:latin typeface="Times New Roman"/>
            </a:endParaRPr>
          </a:p>
        </p:txBody>
      </p:sp>
      <p:sp>
        <p:nvSpPr>
          <p:cNvPr id="36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еждународная организация по стандартизации (ИСО) функционирует с 1947г.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скольку в различных странах аббревиатура этой организации могла быть различной решено было представителями стран-инициаторов ИСО   использовать производное от греческого </a:t>
            </a:r>
            <a:r>
              <a:rPr b="0" lang="en-US" sz="2800" spc="-1" strike="noStrike">
                <a:solidFill>
                  <a:srgbClr val="000000"/>
                </a:solidFill>
                <a:latin typeface="Times New Roman"/>
              </a:rPr>
              <a:t>isos </a:t>
            </a:r>
            <a:r>
              <a:rPr b="0" lang="ru-RU" sz="2800" spc="-1" strike="noStrike">
                <a:solidFill>
                  <a:srgbClr val="000000"/>
                </a:solidFill>
                <a:latin typeface="Times New Roman"/>
              </a:rPr>
              <a:t>«равный»</a:t>
            </a:r>
            <a:endParaRPr b="0" lang="en-US" sz="2800" spc="-1" strike="noStrike">
              <a:solidFill>
                <a:srgbClr val="000000"/>
              </a:solidFill>
              <a:latin typeface="Times New Roman"/>
            </a:endParaRPr>
          </a:p>
        </p:txBody>
      </p:sp>
      <p:sp>
        <p:nvSpPr>
          <p:cNvPr id="3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еждународная организация по стандартизации (ИСО)</a:t>
            </a:r>
            <a:endParaRPr b="0" lang="en-US" sz="4000" spc="-1" strike="noStrike">
              <a:solidFill>
                <a:srgbClr val="000000"/>
              </a:solidFill>
              <a:latin typeface="Times New Roman"/>
            </a:endParaRPr>
          </a:p>
        </p:txBody>
      </p:sp>
      <p:sp>
        <p:nvSpPr>
          <p:cNvPr id="3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фера деятельности ИСО охватывает стандартизацию во всех областях, за исключением электроники и электротехник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работе ИСО участвуют порядка 140 стран . Денежные фонды ИСО из взносов стран-членов, от продажи стандартов и от пожертвований.</a:t>
            </a:r>
            <a:endParaRPr b="0" lang="en-US" sz="3200" spc="-1" strike="noStrike">
              <a:solidFill>
                <a:srgbClr val="000000"/>
              </a:solidFill>
              <a:latin typeface="Times New Roman"/>
            </a:endParaRPr>
          </a:p>
        </p:txBody>
      </p:sp>
      <p:sp>
        <p:nvSpPr>
          <p:cNvPr id="3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актика </a:t>
            </a:r>
            <a:r>
              <a:rPr b="0" lang="ru-RU" sz="4000" spc="-1" strike="noStrike">
                <a:solidFill>
                  <a:srgbClr val="000000"/>
                </a:solidFill>
                <a:latin typeface="Times New Roman"/>
              </a:rPr>
              <a:t>Международной стандартизации (ИСО)</a:t>
            </a:r>
            <a:endParaRPr b="0" lang="en-US" sz="4000" spc="-1" strike="noStrike">
              <a:solidFill>
                <a:srgbClr val="000000"/>
              </a:solidFill>
              <a:latin typeface="Times New Roman"/>
            </a:endParaRPr>
          </a:p>
        </p:txBody>
      </p:sp>
      <p:sp>
        <p:nvSpPr>
          <p:cNvPr id="3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и разработке стандартов основной упор делается на на установление единых методов испытания продукции, требований к маркировке, терминологии, т.е. на те аспекты без которых невозможно взаимопонимание изготовителя и потребителя, независимо от страны происхождения.</a:t>
            </a:r>
            <a:endParaRPr b="0" lang="en-US" sz="3200" spc="-1" strike="noStrike">
              <a:solidFill>
                <a:srgbClr val="000000"/>
              </a:solidFill>
              <a:latin typeface="Times New Roman"/>
            </a:endParaRPr>
          </a:p>
        </p:txBody>
      </p:sp>
      <p:sp>
        <p:nvSpPr>
          <p:cNvPr id="3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ебования к качеству в рамках Международная организация по стандартизации (ИСО)</a:t>
            </a:r>
            <a:endParaRPr b="0" lang="en-US" sz="2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ебования к качеству конкретной продукции в рамках Международная организация по стандартизации (ИСО) устанавливать нецелесообразно, т.к. конкретные нормы качества на конкретную продукцию для разных категорий регулируются через цену непосредственно в контрактах.</a:t>
            </a:r>
            <a:endParaRPr b="0" lang="en-US" sz="2800" spc="-1" strike="noStrike">
              <a:solidFill>
                <a:srgbClr val="000000"/>
              </a:solidFill>
              <a:latin typeface="Times New Roman"/>
            </a:endParaRPr>
          </a:p>
        </p:txBody>
      </p:sp>
      <p:sp>
        <p:nvSpPr>
          <p:cNvPr id="3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истема обеспечения качества»</a:t>
            </a:r>
            <a:endParaRPr b="0" lang="en-US" sz="4400" spc="-1" strike="noStrike">
              <a:solidFill>
                <a:srgbClr val="000000"/>
              </a:solidFill>
              <a:latin typeface="Times New Roman"/>
            </a:endParaRPr>
          </a:p>
        </p:txBody>
      </p:sp>
      <p:sp>
        <p:nvSpPr>
          <p:cNvPr id="3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хнический комитет по работе «Системы обеспечения качества» создан в 1979г.</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его задачу входят стандартизация и гармонизация основополагающих систем обеспечения качества</a:t>
            </a:r>
            <a:endParaRPr b="0" lang="en-US" sz="3200" spc="-1" strike="noStrike">
              <a:solidFill>
                <a:srgbClr val="000000"/>
              </a:solidFill>
              <a:latin typeface="Times New Roman"/>
            </a:endParaRPr>
          </a:p>
        </p:txBody>
      </p:sp>
      <p:sp>
        <p:nvSpPr>
          <p:cNvPr id="3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тандарты ИСО серии 9000</a:t>
            </a:r>
            <a:endParaRPr b="0" lang="en-US" sz="4400" spc="-1" strike="noStrike">
              <a:solidFill>
                <a:srgbClr val="000000"/>
              </a:solidFill>
              <a:latin typeface="Times New Roman"/>
            </a:endParaRPr>
          </a:p>
        </p:txBody>
      </p:sp>
      <p:sp>
        <p:nvSpPr>
          <p:cNvPr id="3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1987г. была опубликована первая версия четырех стандартов серии 9000, направленных на единообразный подход к решению вопросов качества продукции на предприятиях, в 1994 - вторая версия, в 2000 - третья версия.</a:t>
            </a:r>
            <a:endParaRPr b="0" lang="en-US" sz="3200" spc="-1" strike="noStrike">
              <a:solidFill>
                <a:srgbClr val="000000"/>
              </a:solidFill>
              <a:latin typeface="Times New Roman"/>
            </a:endParaRPr>
          </a:p>
        </p:txBody>
      </p:sp>
      <p:sp>
        <p:nvSpPr>
          <p:cNvPr id="3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Комитет по оценке соответствия продукции стандартам (КАСКО)</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итет по оценке соответствия продукции стандартам (КАСКО) создан в начале 70-х годов в связи с развитием сертификации во всем мире.</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тот орган вырабатывает международные рекомендации для стран по всем аспектам сертификации ( организация испытательных центров в странах, требования, предъявляемые к ним, маркировка сертифицированной продукции, требования к органам, осуществляющим сертификацию и др.) </a:t>
            </a:r>
            <a:endParaRPr b="0" lang="en-US" sz="2400" spc="-1" strike="noStrike">
              <a:solidFill>
                <a:srgbClr val="000000"/>
              </a:solidFill>
              <a:latin typeface="Times New Roman"/>
            </a:endParaRPr>
          </a:p>
        </p:txBody>
      </p:sp>
      <p:sp>
        <p:nvSpPr>
          <p:cNvPr id="3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Опережающая стандартизация</a:t>
            </a:r>
            <a:endParaRPr b="0" lang="en-US" sz="36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Условием прогресса является постоянная замена старых или устаревших, но находящихся в производстве изделий новыми, более прогрессивными, отвечающими современным требованиям науки и техники</a:t>
            </a:r>
            <a:r>
              <a:rPr b="0" lang="ru-RU" sz="3200" spc="-1" strike="noStrike">
                <a:solidFill>
                  <a:srgbClr val="000000"/>
                </a:solidFill>
                <a:latin typeface="Courier New"/>
              </a:rPr>
              <a:t>.</a:t>
            </a:r>
            <a:endParaRPr b="0" lang="en-US" sz="3200" spc="-1" strike="noStrike">
              <a:solidFill>
                <a:srgbClr val="000000"/>
              </a:solidFill>
              <a:latin typeface="Times New Roman"/>
            </a:endParaRPr>
          </a:p>
        </p:txBody>
      </p:sp>
      <p:sp>
        <p:nvSpPr>
          <p:cNvPr id="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Комитет по вопросам потребителей (КОПОЛКО)</a:t>
            </a:r>
            <a:endParaRPr b="0" lang="en-US" sz="4400" spc="-1" strike="noStrike">
              <a:solidFill>
                <a:srgbClr val="000000"/>
              </a:solidFill>
              <a:latin typeface="Times New Roman"/>
            </a:endParaRPr>
          </a:p>
        </p:txBody>
      </p:sp>
      <p:sp>
        <p:nvSpPr>
          <p:cNvPr id="3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1800" spc="-1" strike="noStrike">
                <a:solidFill>
                  <a:srgbClr val="000000"/>
                </a:solidFill>
                <a:latin typeface="Times New Roman"/>
              </a:rPr>
              <a:t>В задачи комитета по вопросам потребителей (КОПОЛКО) входит:</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зучение путей содействия потребителям в получении максимального эффекта от стандартизации продукци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установление мер, которые необходимо принять для более широкого участия потребителей в национальной и международной стандартизаци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ыработка с позиций стандартизации рекомендаций, направленных на обеспечение информацией потребителей, защите их интересов, а также программ обучения по вопросам стандартизации;</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обобщение опыта участия потребителей в работах по стандартизации, применению стандартов,на потребительские товары, по </a:t>
            </a:r>
            <a:r>
              <a:rPr b="0" lang="en-US" sz="1800" spc="-1" strike="noStrike">
                <a:solidFill>
                  <a:srgbClr val="000000"/>
                </a:solidFill>
                <a:latin typeface="Times New Roman"/>
              </a:rPr>
              <a:t>другим </a:t>
            </a:r>
            <a:r>
              <a:rPr b="0" lang="ru-RU" sz="1800" spc="-1" strike="noStrike">
                <a:solidFill>
                  <a:srgbClr val="000000"/>
                </a:solidFill>
                <a:latin typeface="Times New Roman"/>
              </a:rPr>
              <a:t>вопросам, представляющим интерес для потребителей;</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екоторые результаты деятельности КОПОЛКО </a:t>
            </a: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 12 «Сравнительные испытания продовольственных товаров»;</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 1 4 «Информация о товарах для потребителей»</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 36 «Разработка стандартных методов измерения эксплуатационных характеристик потребительских товаров»</a:t>
            </a:r>
            <a:endParaRPr b="0" lang="en-US" sz="3200" spc="-1" strike="noStrike">
              <a:solidFill>
                <a:srgbClr val="000000"/>
              </a:solidFill>
              <a:latin typeface="Times New Roman"/>
            </a:endParaRPr>
          </a:p>
        </p:txBody>
      </p:sp>
      <p:sp>
        <p:nvSpPr>
          <p:cNvPr id="3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Информационный комитет (ИНФКО)</a:t>
            </a:r>
            <a:endParaRPr b="0" lang="en-US" sz="4400" spc="-1" strike="noStrike">
              <a:solidFill>
                <a:srgbClr val="000000"/>
              </a:solidFill>
              <a:latin typeface="Times New Roman"/>
            </a:endParaRPr>
          </a:p>
        </p:txBody>
      </p:sp>
      <p:sp>
        <p:nvSpPr>
          <p:cNvPr id="3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дачи ИНФКО:</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руководство деятельностью информационной сети ИСО (ИСОНЕТ);</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ординация деятельности членов организации в области информационных услуг;</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нсультирование Генеральной Ассамблеи ИСО по разработке политики в области гармонизации стандартов.</a:t>
            </a:r>
            <a:endParaRPr b="0" lang="en-US" sz="2800" spc="-1" strike="noStrike">
              <a:solidFill>
                <a:srgbClr val="000000"/>
              </a:solidFill>
              <a:latin typeface="Times New Roman"/>
            </a:endParaRPr>
          </a:p>
        </p:txBody>
      </p:sp>
      <p:sp>
        <p:nvSpPr>
          <p:cNvPr id="3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12. Стандартизация в рамках ЕС</a:t>
            </a:r>
            <a:endParaRPr b="0" lang="en-US" sz="4400" spc="-1" strike="noStrike">
              <a:solidFill>
                <a:srgbClr val="000000"/>
              </a:solidFill>
              <a:latin typeface="Times New Roman"/>
            </a:endParaRPr>
          </a:p>
        </p:txBody>
      </p:sp>
      <p:sp>
        <p:nvSpPr>
          <p:cNvPr id="3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1957г. Руководители организаций по стандартизации стран-членов Европейского экономического сообщества и Европейской ассоциации свободной торговли (ЕАСТ) обсудили возможность совместных действий по согласованию национальных стандартов в условиях экономической интеграции. </a:t>
            </a:r>
            <a:endParaRPr b="0" lang="en-US" sz="3200" spc="-1" strike="noStrike">
              <a:solidFill>
                <a:srgbClr val="000000"/>
              </a:solidFill>
              <a:latin typeface="Times New Roman"/>
            </a:endParaRPr>
          </a:p>
        </p:txBody>
      </p:sp>
      <p:sp>
        <p:nvSpPr>
          <p:cNvPr id="3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оздание Европейского комитета по стандартизации и электротехнике </a:t>
            </a:r>
            <a:r>
              <a:rPr b="0" lang="ru-RU" sz="2800" spc="-1" strike="noStrike">
                <a:solidFill>
                  <a:srgbClr val="000000"/>
                </a:solidFill>
                <a:latin typeface="Times New Roman"/>
              </a:rPr>
              <a:t>(СЕНЕЛЕК)</a:t>
            </a:r>
            <a:endParaRPr b="0" lang="en-US" sz="2800" spc="-1" strike="noStrike">
              <a:solidFill>
                <a:srgbClr val="000000"/>
              </a:solidFill>
              <a:latin typeface="Times New Roman"/>
            </a:endParaRPr>
          </a:p>
        </p:txBody>
      </p:sp>
      <p:sp>
        <p:nvSpPr>
          <p:cNvPr id="40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1972г. Был создан Европейского комитета по стандартизации и электротехнике (СЕНЕЛЕК).</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1972г. Советом ЕС была принята Генеральная программа устранения технических барьеров в торговле в пределах Сообщества. </a:t>
            </a:r>
            <a:endParaRPr b="0" lang="en-US" sz="2800" spc="-1" strike="noStrike">
              <a:solidFill>
                <a:srgbClr val="000000"/>
              </a:solidFill>
              <a:latin typeface="Times New Roman"/>
            </a:endParaRPr>
          </a:p>
        </p:txBody>
      </p:sp>
      <p:sp>
        <p:nvSpPr>
          <p:cNvPr id="4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енеральная программа устранения технических барьеров в торговле</a:t>
            </a:r>
            <a:endParaRPr b="0" lang="en-US" sz="3200" spc="-1" strike="noStrike">
              <a:solidFill>
                <a:srgbClr val="000000"/>
              </a:solidFill>
              <a:latin typeface="Times New Roman"/>
            </a:endParaRPr>
          </a:p>
        </p:txBody>
      </p:sp>
      <p:sp>
        <p:nvSpPr>
          <p:cNvPr id="40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 рамках программы ставилась задача  создание системы обязательных для ЕС единых стандартов - «из сотен национальных стандартов в каждой европейской стране сделать несколько тысяч единых стандартов», чтобы лишить страны-члены ЕС возможности отказа от иностранных продуктов из стран Сообщества.</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4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еленая книга Европы»</a:t>
            </a:r>
            <a:endParaRPr b="0" lang="en-US" sz="4400" spc="-1" strike="noStrike">
              <a:solidFill>
                <a:srgbClr val="000000"/>
              </a:solidFill>
              <a:latin typeface="Times New Roman"/>
            </a:endParaRPr>
          </a:p>
        </p:txBody>
      </p:sp>
      <p:sp>
        <p:nvSpPr>
          <p:cNvPr id="4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Евростандарты должны отражать новейшие достижения техники и технологи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ирективы - содержать эффективные меры против проникновения в Сообщество продукции, небезопасной или вредной для населения и окружающей среды.</a:t>
            </a:r>
            <a:endParaRPr b="0" lang="en-US" sz="3200" spc="-1" strike="noStrike">
              <a:solidFill>
                <a:srgbClr val="000000"/>
              </a:solidFill>
              <a:latin typeface="Times New Roman"/>
            </a:endParaRPr>
          </a:p>
        </p:txBody>
      </p:sp>
      <p:sp>
        <p:nvSpPr>
          <p:cNvPr id="4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ормативная база стандартизации ЕС</a:t>
            </a:r>
            <a:endParaRPr b="0" lang="en-US" sz="4400" spc="-1" strike="noStrike">
              <a:solidFill>
                <a:srgbClr val="000000"/>
              </a:solidFill>
              <a:latin typeface="Times New Roman"/>
            </a:endParaRPr>
          </a:p>
        </p:txBody>
      </p:sp>
      <p:sp>
        <p:nvSpPr>
          <p:cNvPr id="41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ехническое законодательство ЕС представлено постановлениями Совета, директивами Совета, гармонизированными евростандартам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становления Совета имеют прямое действие для стран-членов ЕС;</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ирективы Совета вводятся через законодательные акты стран-членов: устанавливаются сроки ввода.</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endParaRPr b="0" lang="en-US" sz="4000" spc="-1" strike="noStrike">
              <a:solidFill>
                <a:srgbClr val="000000"/>
              </a:solidFill>
              <a:latin typeface="Times New Roman"/>
            </a:endParaRPr>
          </a:p>
        </p:txBody>
      </p:sp>
      <p:sp>
        <p:nvSpPr>
          <p:cNvPr id="4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вропейский  Стандарт считается гармонизированным после его опубликования в бюллетене ЕС с указанием номера соответствующей директив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сли стандарт направлен на обеспечение конкретной директивы он считается обязательным, и необязательным, когда применяется в других случаях.</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Маркировка знаком СЕ</a:t>
            </a: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укция, отвечающая требованиям директивы (обязательным) маркируется знаком С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нак СЕ - не для потребителя, а для контролирующих и таможенных органов стра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дукция, маркированная знаком СЕ имеет право свободного перемещения внутри объединенного рынка. </a:t>
            </a:r>
            <a:endParaRPr b="0" lang="en-US" sz="2800" spc="-1" strike="noStrike">
              <a:solidFill>
                <a:srgbClr val="000000"/>
              </a:solidFill>
              <a:latin typeface="Times New Roman"/>
            </a:endParaRPr>
          </a:p>
        </p:txBody>
      </p:sp>
      <p:sp>
        <p:nvSpPr>
          <p:cNvPr id="4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Сущность опережающей стандартизации</a:t>
            </a:r>
            <a:endParaRPr b="0" lang="en-US" sz="36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ущность ОС</a:t>
            </a:r>
            <a:r>
              <a:rPr b="0" lang="ru-RU" sz="1800" spc="-1" strike="noStrike">
                <a:solidFill>
                  <a:srgbClr val="000000"/>
                </a:solidFill>
                <a:latin typeface="Courier New"/>
              </a:rPr>
              <a:t> состоит в том, что вновь разрабатываемая и у нас и за рубежом продукция соответствовала бы перспективным требованиям и не уступала лучшим мировым образцам.</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ОС </a:t>
            </a:r>
            <a:r>
              <a:rPr b="1" lang="ru-RU" sz="1800" spc="-1" strike="noStrike" u="sng">
                <a:solidFill>
                  <a:srgbClr val="000000"/>
                </a:solidFill>
                <a:uFillTx/>
                <a:latin typeface="Courier New"/>
              </a:rPr>
              <a:t>Осуществляет </a:t>
            </a:r>
            <a:r>
              <a:rPr b="0" lang="ru-RU" sz="1800" spc="-1" strike="noStrike" u="sng">
                <a:solidFill>
                  <a:srgbClr val="000000"/>
                </a:solidFill>
                <a:uFillTx/>
                <a:latin typeface="Courier New"/>
              </a:rPr>
              <a:t>разработку</a:t>
            </a:r>
            <a:r>
              <a:rPr b="0" lang="ru-RU" sz="1800" spc="-1" strike="noStrike">
                <a:solidFill>
                  <a:srgbClr val="000000"/>
                </a:solidFill>
                <a:latin typeface="Courier New"/>
              </a:rPr>
              <a:t> отдельных стандартов к разрабатываемым системам, комплексам  технических устройств, </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rPr>
              <a:t>способствует  лучшему планированию</a:t>
            </a:r>
            <a:r>
              <a:rPr b="0" lang="ru-RU" sz="1800" spc="-1" strike="noStrike">
                <a:solidFill>
                  <a:srgbClr val="000000"/>
                </a:solidFill>
                <a:latin typeface="Courier New"/>
              </a:rPr>
              <a:t> и производству запасных частей для новой техники.</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urier New"/>
              </a:rPr>
              <a:t>Процесс</a:t>
            </a:r>
            <a:r>
              <a:rPr b="0" lang="ru-RU" sz="1800" spc="-1" strike="noStrike">
                <a:solidFill>
                  <a:srgbClr val="000000"/>
                </a:solidFill>
                <a:latin typeface="Courier New"/>
              </a:rPr>
              <a:t> опережающей стандартизации является </a:t>
            </a:r>
            <a:r>
              <a:rPr b="0" lang="ru-RU" sz="1800" spc="-1" strike="noStrike" u="sng">
                <a:solidFill>
                  <a:srgbClr val="000000"/>
                </a:solidFill>
                <a:uFillTx/>
                <a:latin typeface="Courier New"/>
              </a:rPr>
              <a:t>непрерывным;</a:t>
            </a:r>
            <a:r>
              <a:rPr b="0" lang="ru-RU" sz="1800" spc="-1" strike="noStrike">
                <a:solidFill>
                  <a:srgbClr val="000000"/>
                </a:solidFill>
                <a:latin typeface="Courier New"/>
              </a:rPr>
              <a:t> после ввода в действие опережающего стандарта необходимо приступать к разработке нового стандарта. </a:t>
            </a:r>
            <a:r>
              <a:rPr b="1" lang="ru-RU" sz="1800" spc="-1" strike="noStrike">
                <a:solidFill>
                  <a:srgbClr val="000000"/>
                </a:solidFill>
                <a:latin typeface="Courier New"/>
              </a:rPr>
              <a:t>Неприменение</a:t>
            </a:r>
            <a:r>
              <a:rPr b="0" lang="ru-RU" sz="1800" spc="-1" strike="noStrike">
                <a:solidFill>
                  <a:srgbClr val="000000"/>
                </a:solidFill>
                <a:latin typeface="Courier New"/>
              </a:rPr>
              <a:t> принципа опережения стандартизации </a:t>
            </a:r>
            <a:r>
              <a:rPr b="1" lang="ru-RU" sz="1800" spc="-1" strike="noStrike">
                <a:solidFill>
                  <a:srgbClr val="000000"/>
                </a:solidFill>
                <a:latin typeface="Courier New"/>
              </a:rPr>
              <a:t>приводит к старению</a:t>
            </a:r>
            <a:r>
              <a:rPr b="0" lang="ru-RU" sz="1800" spc="-1" strike="noStrike">
                <a:solidFill>
                  <a:srgbClr val="000000"/>
                </a:solidFill>
                <a:latin typeface="Courier New"/>
              </a:rPr>
              <a:t> технических и экономических  показателей в стандартах.</a:t>
            </a:r>
            <a:endParaRPr b="0" lang="en-US" sz="1800" spc="-1" strike="noStrike">
              <a:solidFill>
                <a:srgbClr val="000000"/>
              </a:solidFill>
              <a:latin typeface="Times New Roman"/>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Директивы на пищевые продукты</a:t>
            </a: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оризонтальные директивы директивы - допуски по этикетированию - распространяются на все продукты питан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ертикальные директивы - на конкретные виды - сосиски, суфле, джемы.</a:t>
            </a:r>
            <a:endParaRPr b="0" lang="en-US" sz="3200" spc="-1" strike="noStrike">
              <a:solidFill>
                <a:srgbClr val="000000"/>
              </a:solidFill>
              <a:latin typeface="Times New Roman"/>
            </a:endParaRPr>
          </a:p>
        </p:txBody>
      </p:sp>
      <p:sp>
        <p:nvSpPr>
          <p:cNvPr id="4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Рамочные директивы</a:t>
            </a:r>
            <a:endParaRPr b="0" lang="en-US" sz="4400" spc="-1" strike="noStrike">
              <a:solidFill>
                <a:srgbClr val="000000"/>
              </a:solidFill>
              <a:latin typeface="Times New Roman"/>
            </a:endParaRPr>
          </a:p>
        </p:txBody>
      </p:sp>
      <p:sp>
        <p:nvSpPr>
          <p:cNvPr id="42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мочные директивы содержат требования к содержанию вспомогательных веществ - пищевых добавок, подсластителей, вредных веществ (пестицидов) в продуктах питания.</a:t>
            </a:r>
            <a:endParaRPr b="0" lang="en-US" sz="3200" spc="-1" strike="noStrike">
              <a:solidFill>
                <a:srgbClr val="000000"/>
              </a:solidFill>
              <a:latin typeface="Times New Roman"/>
            </a:endParaRPr>
          </a:p>
        </p:txBody>
      </p:sp>
      <p:sp>
        <p:nvSpPr>
          <p:cNvPr id="4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литика СЕН и СЕНЕЛЕК</a:t>
            </a: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спользовать международные стандарты ИСО и МЭК в качестве региональных.</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основу евростандартов закладывают лучшие стандарты отдельных европейских стран.</a:t>
            </a:r>
            <a:endParaRPr b="0" lang="en-US" sz="3200" spc="-1" strike="noStrike">
              <a:solidFill>
                <a:srgbClr val="000000"/>
              </a:solidFill>
              <a:latin typeface="Times New Roman"/>
            </a:endParaRPr>
          </a:p>
        </p:txBody>
      </p:sp>
      <p:sp>
        <p:nvSpPr>
          <p:cNvPr id="4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13. Гармонизация стандартов</a:t>
            </a:r>
            <a:endParaRPr b="0" lang="en-US" sz="4400" spc="-1" strike="noStrike">
              <a:solidFill>
                <a:srgbClr val="000000"/>
              </a:solidFill>
              <a:latin typeface="Times New Roman"/>
            </a:endParaRPr>
          </a:p>
        </p:txBody>
      </p:sp>
      <p:sp>
        <p:nvSpPr>
          <p:cNvPr id="4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изнаками отечественной классификации услуг являются: сфера действия, потребител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ип потребностей (материальные, нематериальные, комплексны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характер потребления ( личный, коллективный, общественный);</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я оказания (возмездные, льготные, безвозмездные).</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арубежные услуги</a:t>
            </a:r>
            <a:endParaRPr b="0" lang="en-US" sz="4400" spc="-1" strike="noStrike">
              <a:solidFill>
                <a:srgbClr val="000000"/>
              </a:solidFill>
              <a:latin typeface="Times New Roman"/>
            </a:endParaRPr>
          </a:p>
        </p:txBody>
      </p:sp>
      <p:sp>
        <p:nvSpPr>
          <p:cNvPr id="4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рубежные услуги разделяются по степен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адействования техники и механизмов;</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лавенства персонала (профессионализм);</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иду услуги, стимулированной продукцией, но автономной (послепродажное обслуживание, ремонт).</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ированные Евростандарты</a:t>
            </a:r>
            <a:endParaRPr b="0" lang="en-US" sz="3200" spc="-1" strike="noStrike">
              <a:solidFill>
                <a:srgbClr val="000000"/>
              </a:solidFill>
              <a:latin typeface="Times New Roman"/>
            </a:endParaRPr>
          </a:p>
        </p:txBody>
      </p:sp>
      <p:sp>
        <p:nvSpPr>
          <p:cNvPr id="4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Гармонизированный европейский стандарт - это стандарт, обеспечивающий реализацию соответствующей директивы , обязателен для применения в странах ЕС.</a:t>
            </a:r>
            <a:endParaRPr b="0" lang="en-US" sz="36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ация в рамках ВТО</a:t>
            </a:r>
            <a:endParaRPr b="0" lang="en-US" sz="3200" spc="-1" strike="noStrike">
              <a:solidFill>
                <a:srgbClr val="000000"/>
              </a:solidFill>
              <a:latin typeface="Times New Roman"/>
            </a:endParaRPr>
          </a:p>
        </p:txBody>
      </p:sp>
      <p:sp>
        <p:nvSpPr>
          <p:cNvPr id="4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ация в странах-членах ВТ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 </a:t>
            </a:r>
            <a:r>
              <a:rPr b="0" lang="ru-RU" sz="3200" spc="-1" strike="noStrike">
                <a:solidFill>
                  <a:srgbClr val="000000"/>
                </a:solidFill>
                <a:latin typeface="Times New Roman"/>
              </a:rPr>
              <a:t>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оглашение по техническим барьерам в торговле</a:t>
            </a: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равила деятельности членов ВТО:</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Гармонизация - при наличии МС, регламентов,правил по оценке соответствия, член  ВТО не должен разрабатывать национальную документацию, отличающуюся от них.</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отификация (уведомление) и транспарентность ( прозрачность).</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Информация о стандартизации -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сновные правила деятельности членов ВТО</a:t>
            </a:r>
            <a:endParaRPr b="0" lang="en-US" sz="3200" spc="-1" strike="noStrike">
              <a:solidFill>
                <a:srgbClr val="000000"/>
              </a:solidFill>
              <a:latin typeface="Times New Roman"/>
            </a:endParaRPr>
          </a:p>
        </p:txBody>
      </p:sp>
      <p:sp>
        <p:nvSpPr>
          <p:cNvPr id="4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армонизация;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циональный режим и недискриминация;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отификац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ранспарентность;</a:t>
            </a:r>
            <a:endParaRPr b="0" lang="en-US" sz="32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формация о стандартизации.</a:t>
            </a:r>
            <a:r>
              <a:rPr b="0" lang="ru-RU"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4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циональный режим и недискриминация</a:t>
            </a:r>
            <a:endParaRPr b="0" lang="en-US" sz="3200" spc="-1" strike="noStrike">
              <a:solidFill>
                <a:srgbClr val="000000"/>
              </a:solidFill>
              <a:latin typeface="Times New Roman"/>
            </a:endParaRPr>
          </a:p>
        </p:txBody>
      </p:sp>
      <p:sp>
        <p:nvSpPr>
          <p:cNvPr id="4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Национальный режим и недискриминация - условия для оценки качества импортной продукции должны быть не менее благоприятными, чем для отечественной.</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4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Этапы создания изделия</a:t>
            </a:r>
            <a:endParaRPr b="0" lang="en-US" sz="4400" spc="-1" strike="noStrike">
              <a:solidFill>
                <a:srgbClr val="000000"/>
              </a:solidFill>
              <a:latin typeface="Times New Roman"/>
            </a:endParaRPr>
          </a:p>
        </p:txBody>
      </p:sp>
      <p:sp>
        <p:nvSpPr>
          <p:cNvPr id="87" name="PlaceHolder 2"/>
          <p:cNvSpPr>
            <a:spLocks noGrp="1"/>
          </p:cNvSpPr>
          <p:nvPr>
            <p:ph/>
          </p:nvPr>
        </p:nvSpPr>
        <p:spPr>
          <a:xfrm>
            <a:off x="685440" y="1981080"/>
            <a:ext cx="3809880" cy="4114800"/>
          </a:xfrm>
          <a:prstGeom prst="rect">
            <a:avLst/>
          </a:prstGeom>
          <a:noFill/>
          <a:ln w="0">
            <a:noFill/>
          </a:ln>
        </p:spPr>
        <p:txBody>
          <a:bodyPr anchor="t">
            <a:normAutofit fontScale="94000"/>
          </a:bodyPr>
          <a:p>
            <a:pPr marL="322200" indent="-32220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Этапы создания изделия</a:t>
            </a:r>
            <a:r>
              <a:rPr b="0" lang="ru-RU" sz="2000" spc="-1" strike="noStrike">
                <a:solidFill>
                  <a:srgbClr val="000000"/>
                </a:solidFill>
                <a:latin typeface="Courier New"/>
              </a:rPr>
              <a:t>:</a:t>
            </a:r>
            <a:endParaRPr b="0" lang="en-US" sz="2000" spc="-1" strike="noStrike">
              <a:solidFill>
                <a:srgbClr val="000000"/>
              </a:solidFill>
              <a:latin typeface="Times New Roman"/>
            </a:endParaRPr>
          </a:p>
          <a:p>
            <a:pPr lvl="2" marL="107424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роектно-конструкторские работы по созданию опытного образца изделия</a:t>
            </a:r>
            <a:endParaRPr b="0" lang="en-US" sz="1800" spc="-1" strike="noStrike">
              <a:solidFill>
                <a:srgbClr val="000000"/>
              </a:solidFill>
              <a:latin typeface="Times New Roman"/>
            </a:endParaRPr>
          </a:p>
          <a:p>
            <a:pPr lvl="2" marL="107424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Техническая подготовка промышленного производства изделия</a:t>
            </a:r>
            <a:endParaRPr b="0" lang="en-US" sz="1800" spc="-1" strike="noStrike">
              <a:solidFill>
                <a:srgbClr val="000000"/>
              </a:solidFill>
              <a:latin typeface="Times New Roman"/>
            </a:endParaRPr>
          </a:p>
          <a:p>
            <a:pPr lvl="2" marL="1074240" indent="-21456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ромышленное производство изделия</a:t>
            </a:r>
            <a:endParaRPr b="0" lang="en-US" sz="1800" spc="-1" strike="noStrike">
              <a:solidFill>
                <a:srgbClr val="000000"/>
              </a:solidFill>
              <a:latin typeface="Times New Roman"/>
            </a:endParaRPr>
          </a:p>
          <a:p>
            <a:pPr marL="3222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8" name="PlaceHolder 3"/>
          <p:cNvSpPr>
            <a:spLocks noGrp="1"/>
          </p:cNvSpPr>
          <p:nvPr>
            <p:ph/>
          </p:nvPr>
        </p:nvSpPr>
        <p:spPr>
          <a:xfrm>
            <a:off x="4647960" y="1981080"/>
            <a:ext cx="3809880" cy="4114800"/>
          </a:xfrm>
          <a:prstGeom prst="rect">
            <a:avLst/>
          </a:prstGeom>
          <a:noFill/>
          <a:ln w="0">
            <a:noFill/>
          </a:ln>
        </p:spPr>
        <p:txBody>
          <a:bodyPr anchor="t">
            <a:normAutofit fontScale="96000"/>
          </a:bodyPr>
          <a:p>
            <a:pPr marL="329040" indent="-32904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Поле деятельности</a:t>
            </a:r>
            <a:r>
              <a:rPr b="0" lang="ru-RU" sz="2800" spc="-1" strike="noStrike">
                <a:solidFill>
                  <a:srgbClr val="000000"/>
                </a:solidFill>
                <a:latin typeface="Courier New"/>
              </a:rPr>
              <a:t>:</a:t>
            </a:r>
            <a:endParaRPr b="0" lang="en-US" sz="28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пределах завода (отрасли)</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пределах одного государства</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пределах региональной группы стран</a:t>
            </a:r>
            <a:endParaRPr b="0" lang="en-US" sz="2000" spc="-1" strike="noStrike">
              <a:solidFill>
                <a:srgbClr val="000000"/>
              </a:solidFill>
              <a:latin typeface="Times New Roman"/>
            </a:endParaRPr>
          </a:p>
          <a:p>
            <a:pPr lvl="2" marL="1097280" indent="-21924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a:t>
            </a:r>
            <a:r>
              <a:rPr b="0" lang="ru-RU" sz="2000" spc="-1" strike="noStrike">
                <a:solidFill>
                  <a:srgbClr val="000000"/>
                </a:solidFill>
                <a:latin typeface="Courier New"/>
              </a:rPr>
              <a:t>В мировом масштабе</a:t>
            </a:r>
            <a:endParaRPr b="0" lang="en-US" sz="2000" spc="-1" strike="noStrike">
              <a:solidFill>
                <a:srgbClr val="000000"/>
              </a:solidFill>
              <a:latin typeface="Times New Roman"/>
            </a:endParaRPr>
          </a:p>
          <a:p>
            <a:pPr marL="329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формация о стандартизации членов ВТО</a:t>
            </a:r>
            <a:endParaRPr b="0" lang="en-US" sz="3200" spc="-1" strike="noStrike">
              <a:solidFill>
                <a:srgbClr val="000000"/>
              </a:solidFill>
              <a:latin typeface="Times New Roman"/>
            </a:endParaRPr>
          </a:p>
        </p:txBody>
      </p:sp>
      <p:sp>
        <p:nvSpPr>
          <p:cNvPr id="44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формация о стандартизации - членство в ВТО предусматривает информирование о всех изменениях в системе стандартизации, которые могут привести к созданию скрытых препятствий (нетарифных барьеров) в торговых отношениях партнеров по организации.</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Росси создан национальный информационный центр по стандартизации, где без затруднений можно получить</a:t>
            </a:r>
            <a:r>
              <a:rPr b="0" lang="en-US" sz="2400" spc="-1" strike="noStrike">
                <a:solidFill>
                  <a:srgbClr val="000000"/>
                </a:solidFill>
                <a:latin typeface="Times New Roman"/>
              </a:rPr>
              <a:t> </a:t>
            </a:r>
            <a:r>
              <a:rPr b="0" lang="ru-RU" sz="2400" spc="-1" strike="noStrike">
                <a:solidFill>
                  <a:srgbClr val="000000"/>
                </a:solidFill>
                <a:latin typeface="Times New Roman"/>
              </a:rPr>
              <a:t>информацию о действующих и разрабатываемых в стране НТД.</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Комплексная стандартизация</a:t>
            </a:r>
            <a:endParaRPr b="0" lang="en-US" sz="2800" spc="-1" strike="noStrike">
              <a:solidFill>
                <a:srgbClr val="000000"/>
              </a:solidFill>
              <a:latin typeface="Times New Roman"/>
            </a:endParaRPr>
          </a:p>
        </p:txBody>
      </p:sp>
      <p:sp>
        <p:nvSpPr>
          <p:cNvPr id="452"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Комплексная стандартизация</a:t>
            </a:r>
            <a:r>
              <a:rPr b="0" lang="ru-RU" sz="1800" spc="-1" strike="noStrike">
                <a:solidFill>
                  <a:srgbClr val="000000"/>
                </a:solidFill>
                <a:latin typeface="Courier New"/>
              </a:rPr>
              <a:t> - целенаправленное и планомерное установление и применение системы взаимоувязанных требований как к самому объекту комплексной стандартизации в целом, так и к его основным элементам в целях решения конкретной проблемы. Применительно к продукции это установление и применение взаимосвязанных по своему уровню требований к качеству готовых изделий, необходимых для их изготовления сырья, материалов и комплектующих узлов, а также условий сохранения и потребления (эксплуатаци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Практической реализацией этого метода выступает программы комплексной стандартизации (ПКС).</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В настоящее время реализуется ПКС "Безопасность в чрезвычайных ситуациях".</a:t>
            </a:r>
            <a:endParaRPr b="0" lang="en-US" sz="1800" spc="-1" strike="noStrike">
              <a:solidFill>
                <a:srgbClr val="000000"/>
              </a:solidFill>
              <a:latin typeface="Times New Roman"/>
            </a:endParaRPr>
          </a:p>
          <a:p>
            <a:pPr marL="32904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инципы комплексной стандартизации</a:t>
            </a:r>
            <a:endParaRPr b="0" lang="en-US" sz="3200" spc="-1" strike="noStrike">
              <a:solidFill>
                <a:srgbClr val="000000"/>
              </a:solidFill>
              <a:latin typeface="Times New Roman"/>
            </a:endParaRPr>
          </a:p>
        </p:txBody>
      </p:sp>
      <p:sp>
        <p:nvSpPr>
          <p:cNvPr id="4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Принципы КС основаны на выявлении </a:t>
            </a:r>
            <a:r>
              <a:rPr b="0" lang="ru-RU" sz="2000" spc="-1" strike="noStrike">
                <a:solidFill>
                  <a:srgbClr val="000000"/>
                </a:solidFill>
                <a:latin typeface="Times New Roman"/>
              </a:rPr>
              <a:t> взаимосвязей между показателями качества составных частей изделий и предметов труда. Для нее характерны три главных методических принципа: </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Системность</a:t>
            </a:r>
            <a:r>
              <a:rPr b="0" lang="ru-RU" sz="2000" spc="-1" strike="noStrike">
                <a:solidFill>
                  <a:srgbClr val="000000"/>
                </a:solidFill>
                <a:latin typeface="Times New Roman"/>
              </a:rPr>
              <a:t> (установление взаимосвязанных требований с целью обеспечения высшего уровня качества)</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Оптимальность (</a:t>
            </a:r>
            <a:r>
              <a:rPr b="0" lang="ru-RU" sz="2000" spc="-1" strike="noStrike">
                <a:solidFill>
                  <a:srgbClr val="000000"/>
                </a:solidFill>
                <a:latin typeface="Times New Roman"/>
              </a:rPr>
              <a:t>определение оптимальной </a:t>
            </a:r>
            <a:r>
              <a:rPr b="0" lang="ru-RU" sz="2400" spc="-1" strike="noStrike">
                <a:solidFill>
                  <a:srgbClr val="000000"/>
                </a:solidFill>
                <a:latin typeface="Times New Roman"/>
              </a:rPr>
              <a:t>номенклатуры объектов</a:t>
            </a:r>
            <a:r>
              <a:rPr b="0" lang="ru-RU" sz="2000" spc="-1" strike="noStrike">
                <a:solidFill>
                  <a:srgbClr val="000000"/>
                </a:solidFill>
                <a:latin typeface="Times New Roman"/>
              </a:rPr>
              <a:t> КС, состава и количественных значений показателей их качества)</a:t>
            </a:r>
            <a:endParaRPr b="0" lang="en-US" sz="2000" spc="-1" strike="noStrike">
              <a:solidFill>
                <a:srgbClr val="000000"/>
              </a:solidFill>
              <a:latin typeface="Times New Roman"/>
            </a:endParaRPr>
          </a:p>
          <a:p>
            <a:pPr lvl="2" marL="1143000" indent="-228600">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Программное планирование (</a:t>
            </a:r>
            <a:r>
              <a:rPr b="0" lang="ru-RU" sz="2000" spc="-1" strike="noStrike">
                <a:solidFill>
                  <a:srgbClr val="000000"/>
                </a:solidFill>
                <a:latin typeface="Times New Roman"/>
              </a:rPr>
              <a:t>разработка специальных программ КС объектов, их элементов, включаемых в  планы стандартизации)</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Опережающая стандартизация</a:t>
            </a:r>
            <a:endParaRPr b="0" lang="en-US" sz="3600" spc="-1" strike="noStrike">
              <a:solidFill>
                <a:srgbClr val="000000"/>
              </a:solidFill>
              <a:latin typeface="Times New Roman"/>
            </a:endParaRPr>
          </a:p>
        </p:txBody>
      </p:sp>
      <p:sp>
        <p:nvSpPr>
          <p:cNvPr id="4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Опережающая стандартизация</a:t>
            </a:r>
            <a:r>
              <a:rPr b="0" lang="ru-RU" sz="1800" spc="-1" strike="noStrike">
                <a:solidFill>
                  <a:srgbClr val="000000"/>
                </a:solidFill>
                <a:latin typeface="Courier New"/>
              </a:rPr>
              <a:t> заключается в установлении повышенных по отношению к уже достигнутому на практике уровню норм и требований к объектам стандартизации, которые согласно прогнозам будут оптимальными в последующее врем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тандарты не могут только фиксировать достигнутый уровень науки и техники</a:t>
            </a:r>
            <a:r>
              <a:rPr b="0" lang="ru-RU" sz="1800" spc="-1" strike="noStrike">
                <a:solidFill>
                  <a:srgbClr val="000000"/>
                </a:solidFill>
                <a:latin typeface="Courier New"/>
              </a:rPr>
              <a:t>, т.к. из-за высоких темпов старения многих видов продукции они могут стать тормозом технического прогресса.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тандарты </a:t>
            </a:r>
            <a:r>
              <a:rPr b="1" lang="ru-RU" sz="1800" spc="-1" strike="noStrike">
                <a:solidFill>
                  <a:srgbClr val="000000"/>
                </a:solidFill>
                <a:latin typeface="Courier New"/>
              </a:rPr>
              <a:t>должны устанавливать перспективные показатели качества </a:t>
            </a:r>
            <a:r>
              <a:rPr b="0" lang="ru-RU" sz="1800" spc="-1" strike="noStrike">
                <a:solidFill>
                  <a:srgbClr val="000000"/>
                </a:solidFill>
                <a:latin typeface="Courier New"/>
              </a:rPr>
              <a:t>с указанием сроков их обеспечения промышленным производством.</a:t>
            </a:r>
            <a:endParaRPr b="0" lang="en-US" sz="1800" spc="-1" strike="noStrike">
              <a:solidFill>
                <a:srgbClr val="000000"/>
              </a:solidFill>
              <a:latin typeface="Times New Roman"/>
            </a:endParaRPr>
          </a:p>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urier New"/>
              </a:rPr>
              <a:t>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ерспективная стандартизация</a:t>
            </a:r>
            <a:endParaRPr b="0" lang="en-US" sz="3200" spc="-1" strike="noStrike">
              <a:solidFill>
                <a:srgbClr val="000000"/>
              </a:solidFill>
              <a:latin typeface="Times New Roman"/>
            </a:endParaRPr>
          </a:p>
        </p:txBody>
      </p:sp>
      <p:sp>
        <p:nvSpPr>
          <p:cNvPr id="4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Целью разработки стандартов с перспективными требованиями является создание нормативно-технической базы  и выпуском отечественной  продукции соответствующей высокому мировому уровню.</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ерспективные стандарты обеспечивают наиболее полный учет научно и экономически  обоснованных требований заказчика, использование результатов поисковых, фундаментальных, прикладных НИР, прогнозирования, открытий, изобретений, а также способствует разработке, постановке на производство и выпуску новой (модернизированной) техники, снятию с производства устаревших моделей.</a:t>
            </a:r>
            <a:endParaRPr b="0" lang="en-US" sz="20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Направление опережаемости</a:t>
            </a:r>
            <a:endParaRPr b="0" lang="en-US" sz="28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fontScale="91000"/>
          </a:bodyPr>
          <a:p>
            <a:pPr marL="312120" indent="-31212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По ассортименту (типам),видам, маркам (сортам), типоразмерам изделий</a:t>
            </a:r>
            <a:endParaRPr b="0" lang="en-US" sz="1800" spc="-1" strike="noStrike">
              <a:solidFill>
                <a:srgbClr val="000000"/>
              </a:solidFill>
              <a:latin typeface="Times New Roman"/>
            </a:endParaRPr>
          </a:p>
          <a:p>
            <a:pPr lvl="2" marL="1040040" indent="-207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о признакам, свойствам и функциям изделий.</a:t>
            </a:r>
            <a:endParaRPr b="0" lang="en-US" sz="1800" spc="-1" strike="noStrike">
              <a:solidFill>
                <a:srgbClr val="000000"/>
              </a:solidFill>
              <a:latin typeface="Times New Roman"/>
            </a:endParaRPr>
          </a:p>
          <a:p>
            <a:pPr lvl="2" marL="1040040" indent="-207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о преемственности (взаимоувязке) элементов конструкций старых и новых изделий</a:t>
            </a:r>
            <a:endParaRPr b="0" lang="en-US" sz="1800" spc="-1" strike="noStrike">
              <a:solidFill>
                <a:srgbClr val="000000"/>
              </a:solidFill>
              <a:latin typeface="Times New Roman"/>
            </a:endParaRPr>
          </a:p>
          <a:p>
            <a:pPr lvl="2" marL="1040040" indent="-20772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По количественному значению показателей признаков продукции</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Разновидностью опережающего стандарта является </a:t>
            </a:r>
            <a:r>
              <a:rPr b="1" lang="ru-RU" sz="1800" spc="-1" strike="noStrike">
                <a:solidFill>
                  <a:srgbClr val="000000"/>
                </a:solidFill>
                <a:latin typeface="Courier New"/>
              </a:rPr>
              <a:t>ступенчатый стандарт</a:t>
            </a:r>
            <a:r>
              <a:rPr b="0" lang="ru-RU" sz="1800" spc="-1" strike="noStrike">
                <a:solidFill>
                  <a:srgbClr val="000000"/>
                </a:solidFill>
                <a:latin typeface="Courier New"/>
              </a:rPr>
              <a:t>, содержащий показатели </a:t>
            </a:r>
            <a:r>
              <a:rPr b="1" lang="ru-RU" sz="1800" spc="-1" strike="noStrike">
                <a:solidFill>
                  <a:srgbClr val="000000"/>
                </a:solidFill>
                <a:latin typeface="Courier New"/>
              </a:rPr>
              <a:t>качества различного уровня (с разными сроками реализации каждой из ступеней</a:t>
            </a:r>
            <a:r>
              <a:rPr b="0" lang="ru-RU" sz="1800" spc="-1" strike="noStrike">
                <a:solidFill>
                  <a:srgbClr val="000000"/>
                </a:solidFill>
                <a:latin typeface="Courier New"/>
              </a:rPr>
              <a:t>).</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Главным условием</a:t>
            </a:r>
            <a:r>
              <a:rPr b="0" lang="ru-RU" sz="1800" spc="-1" strike="noStrike">
                <a:solidFill>
                  <a:srgbClr val="000000"/>
                </a:solidFill>
                <a:latin typeface="Courier New"/>
              </a:rPr>
              <a:t> дальнейшего развития ОС является </a:t>
            </a:r>
            <a:r>
              <a:rPr b="1" lang="ru-RU" sz="1800" spc="-1" strike="noStrike">
                <a:solidFill>
                  <a:srgbClr val="000000"/>
                </a:solidFill>
                <a:latin typeface="Courier New"/>
              </a:rPr>
              <a:t>долгосрочное научное планирование</a:t>
            </a:r>
            <a:r>
              <a:rPr b="0" lang="ru-RU" sz="1800" spc="-1" strike="noStrike">
                <a:solidFill>
                  <a:srgbClr val="000000"/>
                </a:solidFill>
                <a:latin typeface="Courier New"/>
              </a:rPr>
              <a:t> ( оно позволяет видеть основные направления совершенствования изделий, пути улучшения стандартов.</a:t>
            </a:r>
            <a:endParaRPr b="0" lang="en-US" sz="1800" spc="-1" strike="noStrike">
              <a:solidFill>
                <a:srgbClr val="000000"/>
              </a:solidFill>
              <a:latin typeface="Times New Roman"/>
            </a:endParaRPr>
          </a:p>
          <a:p>
            <a:pPr marL="3121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Требования к опережающей стандартизации</a:t>
            </a:r>
            <a:endParaRPr b="0" lang="en-US" sz="3600" spc="-1" strike="noStrike">
              <a:solidFill>
                <a:srgbClr val="000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Базирование на перспективных планах развития страны;</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Базирование на долгосрочном и краткосрочном научном прогнозирован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Изучение новейших открытий в стране и за рубежом;</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Широкое использование патентной информац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Детальное, глубокое ознакомление с уровнем проектно-конструкторских работ, с результатами доводки аналоговых и базовых экспериментальных образцов изделий в лабораториях и на полигонах;</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Учет замечаний и рекламаций на базовую модель.</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ланирование Опережающей Стандартизации неотделимо от планирования научных исследований, опытно-конструкторских и экспериментальных работ и должно производиться комплексно.</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ема 2. Общетехнические и организационно-технические системы и комплексы государственных стандартов</a:t>
            </a:r>
            <a:endParaRPr b="0" lang="en-US" sz="2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rPr>
              <a:t>Формирование суверенной рыночной экономики российского государства обуславливает пересмотр места и роли стандартов применительно к переходу российского государства на модель устойчивого развития и закрепление стабильного положения в мире.</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Основополагающие стандарты</a:t>
            </a:r>
            <a:endParaRPr b="0" lang="en-US" sz="32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основополагающие стандарты  устанавливают</a:t>
            </a:r>
            <a:r>
              <a:rPr b="0" lang="ru-RU" sz="1600" spc="-1" strike="noStrike">
                <a:solidFill>
                  <a:srgbClr val="000000"/>
                </a:solidFill>
                <a:latin typeface="Courier New"/>
              </a:rPr>
              <a:t> общие организационно-технические положения для определенной области деятельности. Устанавливают общетехнические требования, нормы и правила, которые обеспечивают:</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Взаимопонимание,</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Техническое единство</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Взаимосвязь различных областей науки, техники и производства в процессах создания и использования продукц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храну окружающей среды</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Безопасность продукции процессов и услуг для жизни, здоровья людей</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Сохранность имущества и другие общетехнические требования (ГОСТ Р 1.0-92)</a:t>
            </a:r>
            <a:endParaRPr b="0" lang="en-US" sz="16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urier New"/>
              </a:rPr>
              <a:t>Основополагающие организационно-технические стандарты</a:t>
            </a:r>
            <a:endParaRPr b="0" lang="en-US" sz="28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1.Цели, задачи, классификационные структуры объектов стандартизации различного назначения, общие организационно-технические положения, по проведению работ в определенной области деятельности.</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2. Порядок (правила) разработки, утверждения и внедрения нормативных документов, технических (конструкторских, технологических, проектных, программных) документов</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urier New"/>
              </a:rPr>
              <a:t>Основополагающие общетехнические стандарты</a:t>
            </a:r>
            <a:endParaRPr b="0" lang="en-US" sz="3600" spc="-1" strike="noStrike">
              <a:solidFill>
                <a:srgbClr val="000000"/>
              </a:solidFill>
              <a:latin typeface="Times New Roman"/>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Основополагающие общетехнические стандарты</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научно-технические термины и определения, многократно используемые в науке, технике, промышленности, сельском хозяйстве, строительстве, на транспорте, в культуре, здравоохранении и др. сферах н/х.</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Условные обозначения для различных объектов стандартизации.</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Требования к построению. Изложению и содержанию различных видов документов.</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Общетехнические величины, требования и нормы, необходимые для технического, в т.ч. метрологического обеспечения производственного процесса</a:t>
            </a:r>
            <a:endParaRPr b="0" lang="en-US" sz="1800" spc="-1" strike="noStrike">
              <a:solidFill>
                <a:srgbClr val="000000"/>
              </a:solidFill>
              <a:latin typeface="Times New Roman"/>
            </a:endParaRPr>
          </a:p>
          <a:p>
            <a:pPr marL="3394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Теоретическая</a:t>
            </a:r>
            <a:r>
              <a:rPr b="0" lang="ru-RU" sz="3600" spc="-1" strike="noStrike">
                <a:solidFill>
                  <a:srgbClr val="000000"/>
                </a:solidFill>
                <a:latin typeface="Times New Roman"/>
              </a:rPr>
              <a:t> база стандартизации</a:t>
            </a:r>
            <a:endParaRPr b="0" lang="en-US" sz="36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rPr>
              <a:t>Теоретической</a:t>
            </a:r>
            <a:r>
              <a:rPr b="0" lang="ru-RU" sz="1800" spc="-1" strike="noStrike">
                <a:solidFill>
                  <a:srgbClr val="000000"/>
                </a:solidFill>
                <a:latin typeface="Times New Roman"/>
              </a:rPr>
              <a:t> базой стандартизации является система предпочтительных чисел. Предпочтительными  называются числа, которые рекомендуется  выбирать  как предпочтительные перед всеми другими при назначении величин параметров для вновь создаваемых изделий ( производительность, грузоподъемность, число оборотов, габариты, давление, температура число циклов продукции и др.)</a:t>
            </a:r>
            <a:endParaRPr b="0" lang="en-US" sz="1800" spc="-1" strike="noStrike">
              <a:solidFill>
                <a:srgbClr val="000000"/>
              </a:solidFill>
              <a:latin typeface="Times New Roman"/>
            </a:endParaRPr>
          </a:p>
          <a:p>
            <a:pPr marL="325800" indent="-325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Ряды предпочтительных чисел должны удовлетворять следующим требованиям:</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редставлять рациональную систему градаций, отвечающую потребностям производства и эксплуатации;</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ыть бесконечными в направлениях уменьшения и увеличения чисел;</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ключать все последовательные десятикратные и дробные значения каждого числа ряда;</a:t>
            </a:r>
            <a:endParaRPr b="0" lang="en-US" sz="1800" spc="-1" strike="noStrike">
              <a:solidFill>
                <a:srgbClr val="000000"/>
              </a:solidFill>
              <a:latin typeface="Times New Roman"/>
            </a:endParaRPr>
          </a:p>
          <a:p>
            <a:pPr lvl="2" marL="1085760" indent="-217080">
              <a:spcBef>
                <a:spcPts val="451"/>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Быть простыми и легко запоминающимися.</a:t>
            </a:r>
            <a:endParaRPr b="0" lang="en-US" sz="1800" spc="-1" strike="noStrike">
              <a:solidFill>
                <a:srgbClr val="000000"/>
              </a:solidFill>
              <a:latin typeface="Times New Roman"/>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ru-RU" sz="2000" spc="-1" strike="noStrike">
                <a:solidFill>
                  <a:srgbClr val="000000"/>
                </a:solidFill>
                <a:latin typeface="Courier New"/>
              </a:rPr>
              <a:t>Законодательной обеспечение применения общетехнических систем и комплексов стандартов в РФ</a:t>
            </a:r>
            <a:br>
              <a:rPr sz="2000"/>
            </a:br>
            <a:endParaRPr b="0" lang="en-US" sz="20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В </a:t>
            </a:r>
            <a:r>
              <a:rPr b="1" lang="ru-RU" sz="2400" spc="-1" strike="noStrike">
                <a:solidFill>
                  <a:srgbClr val="000000"/>
                </a:solidFill>
                <a:latin typeface="Courier New"/>
              </a:rPr>
              <a:t>конце 60-х - начале 70-х гг. из разрозненных стандартов были сформированы системы и комплексы общетехнических стандартов межотраслевого применения. Госстандарт координировал стандартизацию в отраслях промышленности, а также разработку единых систем ГС межотраслевого применения по НТД, проектно-конструкторской, технологической ( ГСС, ЕСКД, ЕСТД).</a:t>
            </a:r>
            <a:endParaRPr b="0" lang="en-US" sz="2400" spc="-1" strike="noStrike">
              <a:solidFill>
                <a:srgbClr val="000000"/>
              </a:solidFill>
              <a:latin typeface="Times New Roman"/>
            </a:endParaRPr>
          </a:p>
        </p:txBody>
      </p:sp>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авовое поле  НТД в РФ</a:t>
            </a: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Законодательными актами установлены "правила и нормы, обеспечивающие техническое и информационное единство при разработке, производстве, эксплуатации продукции, в т.ч. правила оформления технической документации, допуски и посадки,</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общие правила обеспечения качества продукции, работ и услуг,</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Сохранения и рационального использования всех видов ресурсов,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термины и их определения,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условные обозначен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 </a:t>
            </a:r>
            <a:r>
              <a:rPr b="0" lang="ru-RU" sz="1800" spc="-1" strike="noStrike">
                <a:solidFill>
                  <a:srgbClr val="000000"/>
                </a:solidFill>
                <a:latin typeface="Courier New"/>
              </a:rPr>
              <a:t>метрологические и другие общетехнические и организационно-технические правила и нормы".</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urier New"/>
              </a:rPr>
              <a:t>Структурная схема ГСС РФ</a:t>
            </a:r>
            <a:endParaRPr b="0" lang="en-US" sz="4000" spc="-1" strike="noStrike">
              <a:solidFill>
                <a:srgbClr val="000000"/>
              </a:solidFill>
              <a:latin typeface="Times New Roman"/>
            </a:endParaRPr>
          </a:p>
        </p:txBody>
      </p:sp>
      <p:graphicFrame>
        <p:nvGraphicFramePr>
          <p:cNvPr id="115" name="Object 3"/>
          <p:cNvGraphicFramePr/>
          <p:nvPr/>
        </p:nvGraphicFramePr>
        <p:xfrm>
          <a:off x="2828880" y="1981080"/>
          <a:ext cx="3486240" cy="4114800"/>
        </p:xfrm>
        <a:graphic>
          <a:graphicData uri="http://schemas.openxmlformats.org/presentationml/2006/ole">
            <p:oleObj progId="Word.Document.12" r:id="rId1" spid="">
              <p:embed/>
              <p:pic>
                <p:nvPicPr>
                  <p:cNvPr id="116" name="Object 3" descr=""/>
                  <p:cNvPicPr/>
                  <p:nvPr/>
                </p:nvPicPr>
                <p:blipFill>
                  <a:blip r:embed="rId2"/>
                  <a:stretch/>
                </p:blipFill>
                <p:spPr>
                  <a:xfrm>
                    <a:off x="2828880" y="1981080"/>
                    <a:ext cx="3486240" cy="4114800"/>
                  </a:xfrm>
                  <a:prstGeom prst="rect">
                    <a:avLst/>
                  </a:prstGeom>
                  <a:ln w="0">
                    <a:noFill/>
                  </a:ln>
                </p:spPr>
              </p:pic>
            </p:oleObj>
          </a:graphicData>
        </a:graphic>
      </p:graphicFrame>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Система стандартов по управлению и информации</a:t>
            </a:r>
            <a:endParaRPr b="0" lang="en-US" sz="3600" spc="-1" strike="noStrike">
              <a:solidFill>
                <a:srgbClr val="000000"/>
              </a:solidFill>
              <a:latin typeface="Times New Roman"/>
            </a:endParaRPr>
          </a:p>
        </p:txBody>
      </p:sp>
      <p:sp>
        <p:nvSpPr>
          <p:cNvPr id="1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андарты по управленческой документации -организационно-распорядительная,внешнеторговая, отчетно-статистическая, бухгалтерско-финансовая, расчетно-денежная.</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тандарты по информационным технологиям - Система информационно-библиографической документации (СИБИД)</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истема стандартов социальной сферы</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оциальные стандарты регламентируют правила безопасности и представлены) тремя группами:</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мплекс стандартов «Безопасность в чрезвычайных ситуациях» (ГОСТ Р 22.)</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омплекс стандартов «Система стандартов безопасности труда»(ГОСТ 12.)</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комплекс стандартов по охране природы (ГОСТ  17.) </a:t>
            </a:r>
            <a:endParaRPr b="0" lang="en-US" sz="2800" spc="-1" strike="noStrike">
              <a:solidFill>
                <a:srgbClr val="000000"/>
              </a:solidFill>
              <a:latin typeface="Times New Roman"/>
            </a:endParaRPr>
          </a:p>
        </p:txBody>
      </p:sp>
      <p:sp>
        <p:nvSpPr>
          <p:cNvPr id="12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обходимость Единой системы классификации и кодирования технико-экономической и социальной информации</a:t>
            </a:r>
            <a:r>
              <a:rPr b="0" lang="ru-RU" sz="2800" spc="-1" strike="noStrike">
                <a:solidFill>
                  <a:srgbClr val="000000"/>
                </a:solidFill>
                <a:latin typeface="Times New Roman"/>
              </a:rPr>
              <a:t> ЕСКК ТЭИ</a:t>
            </a:r>
            <a:endParaRPr b="0" lang="en-US" sz="2800" spc="-1" strike="noStrike">
              <a:solidFill>
                <a:srgbClr val="000000"/>
              </a:solidFill>
              <a:latin typeface="Times New Roman"/>
            </a:endParaRPr>
          </a:p>
        </p:txBody>
      </p:sp>
      <p:sp>
        <p:nvSpPr>
          <p:cNvPr id="125"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татистика</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финансовая деятельност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авоохранительная деятельност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банковское дело</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бухгалтерский учет</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тандартизация</a:t>
            </a:r>
            <a:endParaRPr b="0" lang="en-US" sz="2800" spc="-1" strike="noStrike">
              <a:solidFill>
                <a:srgbClr val="000000"/>
              </a:solidFill>
              <a:latin typeface="Times New Roman"/>
            </a:endParaRPr>
          </a:p>
        </p:txBody>
      </p:sp>
      <p:sp>
        <p:nvSpPr>
          <p:cNvPr id="126" name="PlaceHolder 3"/>
          <p:cNvSpPr>
            <a:spLocks noGrp="1"/>
          </p:cNvSpPr>
          <p:nvPr>
            <p:ph/>
          </p:nvPr>
        </p:nvSpPr>
        <p:spPr>
          <a:xfrm>
            <a:off x="4647960" y="1981080"/>
            <a:ext cx="3809880" cy="4114800"/>
          </a:xfrm>
          <a:prstGeom prst="rect">
            <a:avLst/>
          </a:prstGeom>
          <a:noFill/>
          <a:ln w="0">
            <a:noFill/>
          </a:ln>
        </p:spPr>
        <p:txBody>
          <a:bodyPr anchor="t">
            <a:normAutofit fontScale="96000"/>
          </a:bodyPr>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изводство продукции</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оставление услуг</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аможенное дело</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анспорт</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рговля</a:t>
            </a:r>
            <a:endParaRPr b="0" lang="en-US" sz="2800" spc="-1" strike="noStrike">
              <a:solidFill>
                <a:srgbClr val="000000"/>
              </a:solidFill>
              <a:latin typeface="Times New Roman"/>
            </a:endParaRPr>
          </a:p>
          <a:p>
            <a:pPr marL="329040" indent="-329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нешнеэкономическая деятельность</a:t>
            </a:r>
            <a:endParaRPr b="0" lang="en-US" sz="2800" spc="-1" strike="noStrike">
              <a:solidFill>
                <a:srgbClr val="000000"/>
              </a:solidFill>
              <a:latin typeface="Times New Roman"/>
            </a:endParaRPr>
          </a:p>
        </p:txBody>
      </p:sp>
      <p:sp>
        <p:nvSpPr>
          <p:cNvPr id="1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3. Применение стандартов в РФ</a:t>
            </a:r>
            <a:endParaRPr b="0" lang="en-US" sz="4400" spc="-1" strike="noStrike">
              <a:solidFill>
                <a:srgbClr val="000000"/>
              </a:solidFill>
              <a:latin typeface="Times New Roman"/>
            </a:endParaRPr>
          </a:p>
        </p:txBody>
      </p:sp>
      <p:sp>
        <p:nvSpPr>
          <p:cNvPr id="1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Применение стандартов</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urier New"/>
              </a:rPr>
              <a:t>это стадия их нормоприменение, т.е. использования и соблюдения установленных</a:t>
            </a:r>
            <a:r>
              <a:rPr b="1" lang="ru-RU" sz="2400" spc="-1" strike="noStrike">
                <a:solidFill>
                  <a:srgbClr val="000000"/>
                </a:solidFill>
                <a:latin typeface="Courier New"/>
              </a:rPr>
              <a:t> в них императивных (обязательных во всех случаях) и диспозитивных (обязательных для конкретных случаев) </a:t>
            </a:r>
            <a:r>
              <a:rPr b="1" lang="ru-RU" sz="2400" spc="-1" strike="noStrike" u="sng">
                <a:solidFill>
                  <a:srgbClr val="000000"/>
                </a:solidFill>
                <a:uFillTx/>
                <a:latin typeface="Courier New"/>
              </a:rPr>
              <a:t>требований</a:t>
            </a:r>
            <a:r>
              <a:rPr b="1" lang="ru-RU" sz="2400" spc="-1" strike="noStrike">
                <a:solidFill>
                  <a:srgbClr val="000000"/>
                </a:solidFill>
                <a:latin typeface="Courier New"/>
              </a:rPr>
              <a:t> в процессах производственно-хозяйственной  деятельности.</a:t>
            </a:r>
            <a:endParaRPr b="0" lang="en-US" sz="2400" spc="-1" strike="noStrike">
              <a:solidFill>
                <a:srgbClr val="000000"/>
              </a:solidFill>
              <a:latin typeface="Times New Roman"/>
            </a:endParaRPr>
          </a:p>
        </p:txBody>
      </p:sp>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Методы применения стандартов в РФ</a:t>
            </a: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течественные стандарты - ГОСТ Р, ГОСТ, ОСТ, СТП, СТО на территории РФ применяются в соответствии с областью их распространения и сферой действия с помощью </a:t>
            </a:r>
            <a:r>
              <a:rPr b="1" lang="ru-RU" sz="1600" spc="-1" strike="noStrike">
                <a:solidFill>
                  <a:srgbClr val="000000"/>
                </a:solidFill>
                <a:latin typeface="Courier New"/>
              </a:rPr>
              <a:t>трех основных методов</a:t>
            </a:r>
            <a:r>
              <a:rPr b="0" lang="ru-RU" sz="1600" spc="-1" strike="noStrike">
                <a:solidFill>
                  <a:srgbClr val="000000"/>
                </a:solidFill>
                <a:latin typeface="Courier New"/>
              </a:rPr>
              <a:t>:</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Прямое непосредственное применение и соблюдение требований стандартов </a:t>
            </a:r>
            <a:r>
              <a:rPr b="0" lang="ru-RU" sz="1600" spc="-1" strike="noStrike">
                <a:solidFill>
                  <a:srgbClr val="000000"/>
                </a:solidFill>
                <a:latin typeface="Courier New"/>
              </a:rPr>
              <a:t>(в процессах научно-исследовательской, опытно-конструкторской, проектной, испытательной, сертификационный, производственной, коммерческой, а также управленческой деятельности;</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Опосредованное применение стандартов путем разработки и соблюдения технической документации </a:t>
            </a:r>
            <a:r>
              <a:rPr b="0" lang="ru-RU" sz="1600" spc="-1" strike="noStrike">
                <a:solidFill>
                  <a:srgbClr val="000000"/>
                </a:solidFill>
                <a:latin typeface="Courier New"/>
              </a:rPr>
              <a:t>(конструкторской, технологической, проектной) на конкретные продукцию, работы и услуги;</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Ссылки на стандарты в технической,  коммерческой  и управленческой деятельности</a:t>
            </a:r>
            <a:r>
              <a:rPr b="0" lang="ru-RU" sz="1600" spc="-1" strike="noStrike">
                <a:solidFill>
                  <a:srgbClr val="000000"/>
                </a:solidFill>
                <a:latin typeface="Courier New"/>
              </a:rPr>
              <a:t>.</a:t>
            </a:r>
            <a:endParaRPr b="0" lang="en-US" sz="16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Применение стандартов ГОСТ Р и ГОСТ</a:t>
            </a:r>
            <a:endParaRPr b="0" lang="en-US" sz="3200" spc="-1" strike="noStrike">
              <a:solidFill>
                <a:srgbClr val="000000"/>
              </a:solidFill>
              <a:latin typeface="Times New Roman"/>
            </a:endParaRPr>
          </a:p>
        </p:txBody>
      </p:sp>
      <p:sp>
        <p:nvSpPr>
          <p:cNvPr id="1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На территории России </a:t>
            </a:r>
            <a:r>
              <a:rPr b="1" lang="ru-RU" sz="2400" spc="-1" strike="noStrike" u="sng">
                <a:solidFill>
                  <a:srgbClr val="000000"/>
                </a:solidFill>
                <a:uFillTx/>
                <a:latin typeface="Courier New"/>
              </a:rPr>
              <a:t>стандарты ГОСТ Р И ГОСТ в соответствии с областью их распространения</a:t>
            </a:r>
            <a:r>
              <a:rPr b="1" lang="ru-RU" sz="2400" spc="-1" strike="noStrike">
                <a:solidFill>
                  <a:srgbClr val="000000"/>
                </a:solidFill>
                <a:latin typeface="Courier New"/>
              </a:rPr>
              <a:t>  действуют в качестве нормативных документов </a:t>
            </a:r>
            <a:r>
              <a:rPr b="1" lang="ru-RU" sz="2400" spc="-1" strike="noStrike" u="sng">
                <a:solidFill>
                  <a:srgbClr val="000000"/>
                </a:solidFill>
                <a:uFillTx/>
                <a:latin typeface="Courier New"/>
              </a:rPr>
              <a:t>без каких-либо ограничений</a:t>
            </a:r>
            <a:r>
              <a:rPr b="0" lang="ru-RU" sz="2400" spc="-1" strike="noStrike">
                <a:solidFill>
                  <a:srgbClr val="000000"/>
                </a:solidFill>
                <a:latin typeface="Courier New"/>
              </a:rPr>
              <a:t>, а </a:t>
            </a:r>
            <a:r>
              <a:rPr b="1" lang="ru-RU" sz="2400" spc="-1" strike="noStrike" u="sng">
                <a:solidFill>
                  <a:srgbClr val="000000"/>
                </a:solidFill>
                <a:uFillTx/>
                <a:latin typeface="Courier New"/>
              </a:rPr>
              <a:t>ОСТ - только в случаях, когда их требования не противоречат</a:t>
            </a:r>
            <a:r>
              <a:rPr b="1" lang="ru-RU" sz="2400" spc="-1" strike="noStrike">
                <a:solidFill>
                  <a:srgbClr val="000000"/>
                </a:solidFill>
                <a:latin typeface="Courier New"/>
              </a:rPr>
              <a:t> законодательству РФ </a:t>
            </a:r>
            <a:r>
              <a:rPr b="0" lang="ru-RU" sz="2400" spc="-1" strike="noStrike">
                <a:solidFill>
                  <a:srgbClr val="000000"/>
                </a:solidFill>
                <a:latin typeface="Courier New"/>
              </a:rPr>
              <a:t>или специальным техническим регламентам, установленным компетентными государственными контрольно-надзорными органами.</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именение стандартов предприятий</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тандарты предприятий СТП могут разрабатываться утверждаться и применяться предприятиями, т.е. субъектами хозяйственной деятельности, в качестве НД полностью самостоятельно в случаях:</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Для обеспечения использования на предприятиях технических регламентов РФ, ГОСТ Р, ГОСТ, ОСТ, международных стандартов, региональных стандартов, национальных стандартов зарубежных стран, стандартов научно-технических, инженерных и других общественных объединений;</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0" lang="ru-RU" sz="1800" spc="-1" strike="noStrike">
                <a:solidFill>
                  <a:srgbClr val="000000"/>
                </a:solidFill>
                <a:latin typeface="Courier New"/>
              </a:rPr>
              <a:t>На создаваемую на данном предприятии продукцию, услуги и производственные процессы.</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r>
              <a:rPr b="1" lang="ru-RU" sz="3200" spc="-1" strike="noStrike">
                <a:solidFill>
                  <a:srgbClr val="000000"/>
                </a:solidFill>
                <a:latin typeface="Courier New"/>
              </a:rPr>
              <a:t>Механизм стандартизации</a:t>
            </a:r>
            <a:br>
              <a:rPr sz="3200"/>
            </a:br>
            <a:br>
              <a:rPr sz="3200"/>
            </a:br>
            <a:endParaRPr b="0" lang="en-US" sz="3200" spc="-1" strike="noStrike">
              <a:solidFill>
                <a:srgbClr val="000000"/>
              </a:solidFill>
              <a:latin typeface="Times New Roman"/>
            </a:endParaRPr>
          </a:p>
        </p:txBody>
      </p:sp>
      <p:graphicFrame>
        <p:nvGraphicFramePr>
          <p:cNvPr id="55" name="Object 3"/>
          <p:cNvGraphicFramePr/>
          <p:nvPr/>
        </p:nvGraphicFramePr>
        <p:xfrm>
          <a:off x="1093680" y="2077920"/>
          <a:ext cx="2992680" cy="3919680"/>
        </p:xfrm>
        <a:graphic>
          <a:graphicData uri="http://schemas.openxmlformats.org/presentationml/2006/ole">
            <p:oleObj progId="Word.Document.12" r:id="rId1" spid="">
              <p:embed/>
              <p:pic>
                <p:nvPicPr>
                  <p:cNvPr id="56" name="Object 3" descr=""/>
                  <p:cNvPicPr/>
                  <p:nvPr/>
                </p:nvPicPr>
                <p:blipFill>
                  <a:blip r:embed="rId2"/>
                  <a:stretch/>
                </p:blipFill>
                <p:spPr>
                  <a:xfrm>
                    <a:off x="1093680" y="2077920"/>
                    <a:ext cx="2992680" cy="3919680"/>
                  </a:xfrm>
                  <a:prstGeom prst="rect">
                    <a:avLst/>
                  </a:prstGeom>
                  <a:ln w="0">
                    <a:noFill/>
                  </a:ln>
                </p:spPr>
              </p:pic>
            </p:oleObj>
          </a:graphicData>
        </a:graphic>
      </p:graphicFrame>
      <p:sp>
        <p:nvSpPr>
          <p:cNvPr id="5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ыделяется 4 этапа механизма стандартизации</a:t>
            </a:r>
            <a:endParaRPr b="0" lang="en-US" sz="28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именение стандартов технических обществ</a:t>
            </a: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Принятые научно-техническими, инженерными обществами и объединениями СТО субъекты хозяйственной деятельности применяют на территории России на добровольной основе, т.е. по их собственному решению.</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рименение новых НТД</a:t>
            </a:r>
            <a:endParaRPr b="0" lang="en-US" sz="4400" spc="-1" strike="noStrike">
              <a:solidFill>
                <a:srgbClr val="000000"/>
              </a:solidFill>
              <a:latin typeface="Times New Roman"/>
            </a:endParaRPr>
          </a:p>
        </p:txBody>
      </p:sp>
      <p:sp>
        <p:nvSpPr>
          <p:cNvPr id="1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Новые и пересмотренные ГОСТ Р, ГОСТ, ОСТ допускается не распространять на продукцию или услуги, выпуск или оказание которых были освоены до их введения в действие, если это предусмотрено в данных стандартах.</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менение отечественных НТД лицами других государств</a:t>
            </a:r>
            <a:endParaRPr b="0" lang="en-US" sz="40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Отечественные стандарты могут применять</a:t>
            </a:r>
            <a:r>
              <a:rPr b="0" lang="ru-RU" sz="2400" spc="-1" strike="noStrike">
                <a:solidFill>
                  <a:srgbClr val="000000"/>
                </a:solidFill>
                <a:latin typeface="Courier New"/>
              </a:rPr>
              <a:t> юридические или физические лица других государств </a:t>
            </a:r>
            <a:r>
              <a:rPr b="1" lang="ru-RU" sz="2400" spc="-1" strike="noStrike">
                <a:solidFill>
                  <a:srgbClr val="000000"/>
                </a:solidFill>
                <a:latin typeface="Courier New"/>
              </a:rPr>
              <a:t>на основе соответствующих соглашения, договоров о научно-техническом сотрудничестве, </a:t>
            </a:r>
            <a:r>
              <a:rPr b="0" lang="ru-RU" sz="2400" spc="-1" strike="noStrike">
                <a:solidFill>
                  <a:srgbClr val="000000"/>
                </a:solidFill>
                <a:latin typeface="Courier New"/>
              </a:rPr>
              <a:t>или с разрешения соответствующих органов управления, субъектов хозяйственной деятельности, принявших (утвердивших) эти документы.</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Применение НТД покупателями и поставщиками</a:t>
            </a:r>
            <a:endParaRPr b="0" lang="en-US" sz="36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rPr>
              <a:t>Товаропотребители (покупатели) и товаропроизводители (поставщики, исполнители), </a:t>
            </a:r>
            <a:r>
              <a:rPr b="1" lang="ru-RU" sz="2400" spc="-1" strike="noStrike">
                <a:solidFill>
                  <a:srgbClr val="000000"/>
                </a:solidFill>
                <a:latin typeface="Courier New"/>
              </a:rPr>
              <a:t>заключая договоры, обязаны в соответствии с Законом "О техническом регулировании" включать в них условия о соответствии поставляемой товарной продукции, оказываемых услугах и выполняемых работах всем обязательным требованиям соответствующих ГОСТ Р, ГОСТ, а также техническим регламентам РФ.</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Особенности применения НТД при вывозе продукции</a:t>
            </a:r>
            <a:endParaRPr b="0" lang="en-US" sz="4000" spc="-1" strike="noStrike">
              <a:solidFill>
                <a:srgbClr val="000000"/>
              </a:solidFill>
              <a:latin typeface="Times New Roman"/>
            </a:endParaRPr>
          </a:p>
        </p:txBody>
      </p:sp>
      <p:sp>
        <p:nvSpPr>
          <p:cNvPr id="153"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Применение отечественных стандартов</a:t>
            </a:r>
            <a:r>
              <a:rPr b="0" lang="ru-RU" sz="2400" spc="-1" strike="noStrike">
                <a:solidFill>
                  <a:srgbClr val="000000"/>
                </a:solidFill>
                <a:latin typeface="Courier New"/>
              </a:rPr>
              <a:t> в отношении поставляемой продукции и оказания услуг на </a:t>
            </a:r>
            <a:r>
              <a:rPr b="1" lang="ru-RU" sz="2400" spc="-1" strike="noStrike">
                <a:solidFill>
                  <a:srgbClr val="000000"/>
                </a:solidFill>
                <a:latin typeface="Courier New"/>
              </a:rPr>
              <a:t>территории РФ с вывозом ее с территории России определяется контрактами с зарубежными партнерами.</a:t>
            </a:r>
            <a:endParaRPr b="0" lang="en-US" sz="2400" spc="-1" strike="noStrike">
              <a:solidFill>
                <a:srgbClr val="000000"/>
              </a:solidFill>
              <a:latin typeface="Times New Roman"/>
            </a:endParaRPr>
          </a:p>
          <a:p>
            <a:pPr marL="335880" indent="-3358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urier New"/>
              </a:rPr>
              <a:t>В случаях, если </a:t>
            </a:r>
            <a:r>
              <a:rPr b="1" lang="ru-RU" sz="2400" spc="-1" strike="noStrike">
                <a:solidFill>
                  <a:srgbClr val="000000"/>
                </a:solidFill>
                <a:latin typeface="Courier New"/>
              </a:rPr>
              <a:t>продукция </a:t>
            </a:r>
            <a:r>
              <a:rPr b="1" lang="ru-RU" sz="2400" spc="-1" strike="noStrike" u="sng">
                <a:solidFill>
                  <a:srgbClr val="000000"/>
                </a:solidFill>
                <a:uFillTx/>
                <a:latin typeface="Courier New"/>
              </a:rPr>
              <a:t>полностью вывозится</a:t>
            </a:r>
            <a:r>
              <a:rPr b="1" lang="ru-RU" sz="2400" spc="-1" strike="noStrike">
                <a:solidFill>
                  <a:srgbClr val="000000"/>
                </a:solidFill>
                <a:latin typeface="Courier New"/>
              </a:rPr>
              <a:t> с территории  РФ, возможно применение </a:t>
            </a:r>
            <a:r>
              <a:rPr b="1" lang="ru-RU" sz="2400" spc="-1" strike="noStrike" u="sng">
                <a:solidFill>
                  <a:srgbClr val="000000"/>
                </a:solidFill>
                <a:uFillTx/>
                <a:latin typeface="Courier New"/>
              </a:rPr>
              <a:t>в полном объеме требований зарубежных стандартов</a:t>
            </a:r>
            <a:r>
              <a:rPr b="1" lang="ru-RU" sz="2400" spc="-1" strike="noStrike">
                <a:solidFill>
                  <a:srgbClr val="000000"/>
                </a:solidFill>
                <a:latin typeface="Courier New"/>
              </a:rPr>
              <a:t>, </a:t>
            </a:r>
            <a:r>
              <a:rPr b="0" lang="ru-RU" sz="2400" spc="-1" strike="noStrike">
                <a:solidFill>
                  <a:srgbClr val="000000"/>
                </a:solidFill>
                <a:latin typeface="Courier New"/>
              </a:rPr>
              <a:t>что также определяется договорами-контрактами.</a:t>
            </a:r>
            <a:endParaRPr b="0" lang="en-US" sz="2400" spc="-1" strike="noStrike">
              <a:solidFill>
                <a:srgbClr val="000000"/>
              </a:solidFill>
              <a:latin typeface="Times New Roman"/>
            </a:endParaRPr>
          </a:p>
          <a:p>
            <a:pPr marL="3358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менение стандартов </a:t>
            </a:r>
            <a:r>
              <a:rPr b="0" lang="en-US" sz="4000" spc="-1" strike="noStrike">
                <a:solidFill>
                  <a:srgbClr val="000000"/>
                </a:solidFill>
                <a:latin typeface="Times New Roman"/>
              </a:rPr>
              <a:t>при </a:t>
            </a:r>
            <a:r>
              <a:rPr b="0" lang="ru-RU" sz="4000" spc="-1" strike="noStrike">
                <a:solidFill>
                  <a:srgbClr val="000000"/>
                </a:solidFill>
                <a:latin typeface="Times New Roman"/>
              </a:rPr>
              <a:t>ввозе продукции</a:t>
            </a:r>
            <a:endParaRPr b="0" lang="en-US" sz="4000" spc="-1" strike="noStrike">
              <a:solidFill>
                <a:srgbClr val="000000"/>
              </a:solidFill>
              <a:latin typeface="Times New Roman"/>
            </a:endParaRPr>
          </a:p>
        </p:txBody>
      </p:sp>
      <p:sp>
        <p:nvSpPr>
          <p:cNvPr id="1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u="sng">
                <a:solidFill>
                  <a:srgbClr val="000000"/>
                </a:solidFill>
                <a:uFillTx/>
                <a:latin typeface="Courier New"/>
              </a:rPr>
              <a:t>Импортируемая продукция и услуги</a:t>
            </a:r>
            <a:r>
              <a:rPr b="1" lang="ru-RU" sz="2800" spc="-1" strike="noStrike">
                <a:solidFill>
                  <a:srgbClr val="000000"/>
                </a:solidFill>
                <a:latin typeface="Courier New"/>
              </a:rPr>
              <a:t>, ввозимые на таможенную территорию РФ, должны соответствовать </a:t>
            </a:r>
            <a:r>
              <a:rPr b="1" lang="ru-RU" sz="2800" spc="-1" strike="noStrike" u="sng">
                <a:solidFill>
                  <a:srgbClr val="000000"/>
                </a:solidFill>
                <a:uFillTx/>
                <a:latin typeface="Courier New"/>
              </a:rPr>
              <a:t>всем обязательным требованиями по безопасности и экологии</a:t>
            </a:r>
            <a:r>
              <a:rPr b="1" lang="ru-RU" sz="2800" spc="-1" strike="noStrike">
                <a:solidFill>
                  <a:srgbClr val="000000"/>
                </a:solidFill>
                <a:latin typeface="Courier New"/>
              </a:rPr>
              <a:t>, действующих ГОСТ Р, ГОСТ, что следует подтверждать соответствующими сертификатами.</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Times New Roman"/>
              </a:rPr>
              <a:t>Применение </a:t>
            </a:r>
            <a:r>
              <a:rPr b="1" lang="ru-RU" sz="3600" spc="-1" strike="noStrike">
                <a:solidFill>
                  <a:srgbClr val="000000"/>
                </a:solidFill>
                <a:latin typeface="Courier New"/>
              </a:rPr>
              <a:t>стандартов зарубежных стран</a:t>
            </a:r>
            <a:r>
              <a:rPr b="1" lang="ru-RU" sz="4400" spc="-1" strike="noStrike">
                <a:solidFill>
                  <a:srgbClr val="000000"/>
                </a:solidFill>
                <a:latin typeface="Courier New"/>
              </a:rPr>
              <a:t> </a:t>
            </a:r>
            <a:endParaRPr b="0" lang="en-US" sz="4400" spc="-1" strike="noStrike">
              <a:solidFill>
                <a:srgbClr val="000000"/>
              </a:solidFill>
              <a:latin typeface="Times New Roman"/>
            </a:endParaRPr>
          </a:p>
        </p:txBody>
      </p:sp>
      <p:sp>
        <p:nvSpPr>
          <p:cNvPr id="159" name="PlaceHolder 2"/>
          <p:cNvSpPr>
            <a:spLocks noGrp="1"/>
          </p:cNvSpPr>
          <p:nvPr>
            <p:ph/>
          </p:nvPr>
        </p:nvSpPr>
        <p:spPr>
          <a:xfrm>
            <a:off x="685800" y="1981080"/>
            <a:ext cx="7772400" cy="4114800"/>
          </a:xfrm>
          <a:prstGeom prst="rect">
            <a:avLst/>
          </a:prstGeom>
          <a:noFill/>
          <a:ln w="0">
            <a:noFill/>
          </a:ln>
        </p:spPr>
        <p:txBody>
          <a:bodyPr anchor="t">
            <a:normAutofit fontScale="95000"/>
          </a:bodyPr>
          <a:p>
            <a:pPr marL="325800" indent="-32580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000000"/>
                </a:solidFill>
                <a:uFillTx/>
                <a:latin typeface="Courier New"/>
              </a:rPr>
              <a:t>Региональные стандарты и национальные</a:t>
            </a:r>
            <a:r>
              <a:rPr b="0" lang="ru-RU" sz="3200" spc="-1" strike="noStrike">
                <a:solidFill>
                  <a:srgbClr val="000000"/>
                </a:solidFill>
                <a:latin typeface="Courier New"/>
              </a:rPr>
              <a:t> </a:t>
            </a:r>
            <a:r>
              <a:rPr b="1" lang="ru-RU" sz="3200" spc="-1" strike="noStrike">
                <a:solidFill>
                  <a:srgbClr val="000000"/>
                </a:solidFill>
                <a:latin typeface="Courier New"/>
              </a:rPr>
              <a:t>стандарты зарубежных стран применяют в России </a:t>
            </a:r>
            <a:r>
              <a:rPr b="1" lang="ru-RU" sz="3200" spc="-1" strike="noStrike" u="sng">
                <a:solidFill>
                  <a:srgbClr val="000000"/>
                </a:solidFill>
                <a:uFillTx/>
                <a:latin typeface="Courier New"/>
              </a:rPr>
              <a:t>на основе договоров о сотрудничестве или с разрешения</a:t>
            </a:r>
            <a:r>
              <a:rPr b="0" lang="ru-RU" sz="3200" spc="-1" strike="noStrike">
                <a:solidFill>
                  <a:srgbClr val="000000"/>
                </a:solidFill>
                <a:latin typeface="Courier New"/>
              </a:rPr>
              <a:t> соответствующих организаций, а также национальных органов зарубежных стран.</a:t>
            </a:r>
            <a:endParaRPr b="0" lang="en-US" sz="3200" spc="-1" strike="noStrike">
              <a:solidFill>
                <a:srgbClr val="000000"/>
              </a:solidFill>
              <a:latin typeface="Times New Roman"/>
            </a:endParaRPr>
          </a:p>
          <a:p>
            <a:pPr marL="3258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Опосредованное применение международных стандартов</a:t>
            </a:r>
            <a:endParaRPr b="0" lang="en-US" sz="4000" spc="-1" strike="noStrike">
              <a:solidFill>
                <a:srgbClr val="000000"/>
              </a:solidFill>
              <a:latin typeface="Times New Roman"/>
            </a:endParaRPr>
          </a:p>
        </p:txBody>
      </p:sp>
      <p:sp>
        <p:nvSpPr>
          <p:cNvPr id="16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Международные стандарты</a:t>
            </a:r>
            <a:r>
              <a:rPr b="0" lang="ru-RU" sz="2000" spc="-1" strike="noStrike">
                <a:solidFill>
                  <a:srgbClr val="000000"/>
                </a:solidFill>
                <a:latin typeface="Courier New"/>
              </a:rPr>
              <a:t>, </a:t>
            </a:r>
            <a:r>
              <a:rPr b="1" lang="ru-RU" sz="2000" spc="-1" strike="noStrike">
                <a:solidFill>
                  <a:srgbClr val="000000"/>
                </a:solidFill>
                <a:latin typeface="Courier New"/>
              </a:rPr>
              <a:t>международные региональные стандарты (при условии присоединения России к ним) применяют на территории России </a:t>
            </a:r>
            <a:r>
              <a:rPr b="1" lang="ru-RU" sz="2000" spc="-1" strike="noStrike" u="sng">
                <a:solidFill>
                  <a:srgbClr val="000000"/>
                </a:solidFill>
                <a:uFillTx/>
                <a:latin typeface="Courier New"/>
              </a:rPr>
              <a:t>опосредовано</a:t>
            </a:r>
            <a:r>
              <a:rPr b="1" lang="ru-RU" sz="2000" spc="-1" strike="noStrike">
                <a:solidFill>
                  <a:srgbClr val="000000"/>
                </a:solidFill>
                <a:latin typeface="Courier New"/>
              </a:rPr>
              <a:t>,</a:t>
            </a:r>
            <a:r>
              <a:rPr b="0" lang="ru-RU" sz="2000" spc="-1" strike="noStrike">
                <a:solidFill>
                  <a:srgbClr val="000000"/>
                </a:solidFill>
                <a:latin typeface="Courier New"/>
              </a:rPr>
              <a:t> т.е. </a:t>
            </a:r>
            <a:r>
              <a:rPr b="1" lang="ru-RU" sz="2000" spc="-1" strike="noStrike">
                <a:solidFill>
                  <a:srgbClr val="000000"/>
                </a:solidFill>
                <a:latin typeface="Courier New"/>
              </a:rPr>
              <a:t>в качестве ГОСТ Р и ГОСТ</a:t>
            </a:r>
            <a:r>
              <a:rPr b="0" lang="ru-RU" sz="2000" spc="-1" strike="noStrike">
                <a:solidFill>
                  <a:srgbClr val="000000"/>
                </a:solidFill>
                <a:latin typeface="Courier New"/>
              </a:rPr>
              <a:t>. Такой стандарт представляет собой либо </a:t>
            </a:r>
            <a:r>
              <a:rPr b="1" lang="ru-RU" sz="2000" spc="-1" strike="noStrike">
                <a:solidFill>
                  <a:srgbClr val="000000"/>
                </a:solidFill>
                <a:latin typeface="Courier New"/>
              </a:rPr>
              <a:t>технически аутентичный текст оформленного на русском языке соответствующего нероссийского документа,</a:t>
            </a:r>
            <a:r>
              <a:rPr b="0" lang="ru-RU" sz="2000" spc="-1" strike="noStrike">
                <a:solidFill>
                  <a:srgbClr val="000000"/>
                </a:solidFill>
                <a:latin typeface="Courier New"/>
              </a:rPr>
              <a:t> либо то же с дополнительными или более высокими требованиями, отражающими специфику потребностей н/х РФ. Например, ГОСТ Р, оформленный на основе применения аутентичного текста международного стандарта ИСО 9597:1992, обозначается как ГОСТ Р ИСО 9591-95.</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менение зарубежных стандартов до их принятия в РФ</a:t>
            </a:r>
            <a:endParaRPr b="0" lang="en-US" sz="40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Courier New"/>
              </a:rPr>
              <a:t>до принятия в РФ</a:t>
            </a:r>
            <a:r>
              <a:rPr b="1" lang="ru-RU" sz="2400" spc="-1" strike="noStrike">
                <a:solidFill>
                  <a:srgbClr val="000000"/>
                </a:solidFill>
                <a:latin typeface="Courier New"/>
              </a:rPr>
              <a:t> международных, региональных, национальных стандартов зарубежных стран, в качестве ГОСТ Р или ГОСТ</a:t>
            </a:r>
            <a:r>
              <a:rPr b="0" lang="ru-RU" sz="2400" spc="-1" strike="noStrike">
                <a:solidFill>
                  <a:srgbClr val="000000"/>
                </a:solidFill>
                <a:latin typeface="Courier New"/>
              </a:rPr>
              <a:t>, </a:t>
            </a:r>
            <a:r>
              <a:rPr b="1" lang="ru-RU" sz="2400" spc="-1" strike="noStrike" u="sng">
                <a:solidFill>
                  <a:srgbClr val="000000"/>
                </a:solidFill>
                <a:uFillTx/>
                <a:latin typeface="Courier New"/>
              </a:rPr>
              <a:t>допускается их применение в качестве ОСТ, СТП, СТО,</a:t>
            </a:r>
            <a:r>
              <a:rPr b="1" lang="ru-RU" sz="2400" spc="-1" strike="noStrike">
                <a:solidFill>
                  <a:srgbClr val="000000"/>
                </a:solidFill>
                <a:latin typeface="Courier New"/>
              </a:rPr>
              <a:t> </a:t>
            </a:r>
            <a:r>
              <a:rPr b="0" lang="ru-RU" sz="2400" spc="-1" strike="noStrike">
                <a:solidFill>
                  <a:srgbClr val="000000"/>
                </a:solidFill>
                <a:latin typeface="Courier New"/>
              </a:rPr>
              <a:t>что существенно облегчает решение проблемы гармонизации требований отечественных и международно признанных стандартов на аналогичные объекты стандартизации.</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Варианты применения МС и стандартов других стран В РФ</a:t>
            </a:r>
            <a:endParaRPr b="0" lang="en-US" sz="2800" spc="-1" strike="noStrike">
              <a:solidFill>
                <a:srgbClr val="000000"/>
              </a:solidFill>
              <a:latin typeface="Times New Roman"/>
            </a:endParaRPr>
          </a:p>
        </p:txBody>
      </p:sp>
      <p:sp>
        <p:nvSpPr>
          <p:cNvPr id="168"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В РФ существует 4 варианта применения МС и стандартов других стран в зависимости от степени использования международного документа и формы его представления.</a:t>
            </a:r>
            <a:endParaRPr b="0" lang="en-US" sz="1600" spc="-1" strike="noStrike">
              <a:solidFill>
                <a:srgbClr val="000000"/>
              </a:solidFill>
              <a:latin typeface="Times New Roman"/>
            </a:endParaRPr>
          </a:p>
          <a:p>
            <a:pPr lvl="2" marL="1119960" indent="-22392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1" lang="ru-RU" sz="1600" spc="-1" strike="noStrike">
                <a:solidFill>
                  <a:srgbClr val="000000"/>
                </a:solidFill>
                <a:latin typeface="Courier New"/>
              </a:rPr>
              <a:t>Принятие государственного стандарта, представляющего</a:t>
            </a:r>
            <a:r>
              <a:rPr b="0" lang="ru-RU" sz="1600" spc="-1" strike="noStrike">
                <a:solidFill>
                  <a:srgbClr val="000000"/>
                </a:solidFill>
                <a:latin typeface="Courier New"/>
              </a:rPr>
              <a:t> </a:t>
            </a:r>
            <a:r>
              <a:rPr b="1" lang="ru-RU" sz="1600" spc="-1" strike="noStrike">
                <a:solidFill>
                  <a:srgbClr val="000000"/>
                </a:solidFill>
                <a:latin typeface="Courier New"/>
              </a:rPr>
              <a:t>аутентичный</a:t>
            </a:r>
            <a:r>
              <a:rPr b="0" lang="ru-RU" sz="1600" spc="-1" strike="noStrike">
                <a:solidFill>
                  <a:srgbClr val="000000"/>
                </a:solidFill>
                <a:latin typeface="Courier New"/>
              </a:rPr>
              <a:t> текст (от греческого </a:t>
            </a:r>
            <a:r>
              <a:rPr b="0" lang="en-US" sz="1600" spc="-1" strike="noStrike">
                <a:solidFill>
                  <a:srgbClr val="000000"/>
                </a:solidFill>
                <a:latin typeface="Courier New"/>
              </a:rPr>
              <a:t>auuthentihos</a:t>
            </a:r>
            <a:r>
              <a:rPr b="0" lang="ru-RU" sz="1600" spc="-1" strike="noStrike">
                <a:solidFill>
                  <a:srgbClr val="000000"/>
                </a:solidFill>
                <a:latin typeface="Courier New"/>
              </a:rPr>
              <a:t>-подлинный - текст документа официально признанный равнозначным другому тексту, составленному как правило на другом языке. При неполном совпадении текстов говорят об </a:t>
            </a:r>
            <a:r>
              <a:rPr b="1" lang="ru-RU" sz="1600" spc="-1" strike="noStrike">
                <a:solidFill>
                  <a:srgbClr val="000000"/>
                </a:solidFill>
                <a:latin typeface="Courier New"/>
              </a:rPr>
              <a:t>идентичности</a:t>
            </a:r>
            <a:r>
              <a:rPr b="0" lang="ru-RU" sz="1600" spc="-1" strike="noStrike">
                <a:solidFill>
                  <a:srgbClr val="000000"/>
                </a:solidFill>
                <a:latin typeface="Courier New"/>
              </a:rPr>
              <a:t> текста</a:t>
            </a:r>
            <a:r>
              <a:rPr b="0" i="1" lang="ru-RU" sz="1600" spc="-1" strike="noStrike">
                <a:solidFill>
                  <a:srgbClr val="000000"/>
                </a:solidFill>
                <a:latin typeface="Courier New"/>
              </a:rPr>
              <a:t>) </a:t>
            </a:r>
            <a:r>
              <a:rPr b="0" lang="ru-RU" sz="1600" spc="-1" strike="noStrike">
                <a:solidFill>
                  <a:srgbClr val="000000"/>
                </a:solidFill>
                <a:latin typeface="Courier New"/>
              </a:rPr>
              <a:t>на русском языке соответствующего международного документа. Этот вариант называют </a:t>
            </a:r>
            <a:r>
              <a:rPr b="1" lang="ru-RU" sz="1600" spc="-1" strike="noStrike" u="sng">
                <a:solidFill>
                  <a:srgbClr val="000000"/>
                </a:solidFill>
                <a:uFillTx/>
                <a:latin typeface="Courier New"/>
              </a:rPr>
              <a:t>прямым методом или "методом обложки"</a:t>
            </a:r>
            <a:r>
              <a:rPr b="0" lang="ru-RU" sz="1600" spc="-1" strike="noStrike" u="sng">
                <a:solidFill>
                  <a:srgbClr val="000000"/>
                </a:solidFill>
                <a:uFillTx/>
                <a:latin typeface="Courier New"/>
              </a:rPr>
              <a:t>.</a:t>
            </a:r>
            <a:r>
              <a:rPr b="0" lang="ru-RU" sz="1600" spc="-1" strike="noStrike">
                <a:solidFill>
                  <a:srgbClr val="000000"/>
                </a:solidFill>
                <a:latin typeface="Courier New"/>
              </a:rPr>
              <a:t> </a:t>
            </a:r>
            <a:r>
              <a:rPr b="1" lang="ru-RU" sz="1600" spc="-1" strike="noStrike">
                <a:solidFill>
                  <a:srgbClr val="000000"/>
                </a:solidFill>
                <a:latin typeface="Courier New"/>
              </a:rPr>
              <a:t>При данном методе </a:t>
            </a:r>
            <a:r>
              <a:rPr b="1" lang="ru-RU" sz="1600" spc="-1" strike="noStrike" u="sng">
                <a:solidFill>
                  <a:srgbClr val="000000"/>
                </a:solidFill>
                <a:uFillTx/>
                <a:latin typeface="Courier New"/>
              </a:rPr>
              <a:t>МС используется без какого-либо изменения текста.</a:t>
            </a:r>
            <a:r>
              <a:rPr b="1" lang="ru-RU" sz="1600" spc="-1" strike="noStrike">
                <a:solidFill>
                  <a:srgbClr val="000000"/>
                </a:solidFill>
                <a:latin typeface="Courier New"/>
              </a:rPr>
              <a:t> Изменения касаются только оформления обложки.</a:t>
            </a:r>
            <a:endParaRPr b="0" lang="en-US" sz="1600" spc="-1" strike="noStrike">
              <a:solidFill>
                <a:srgbClr val="000000"/>
              </a:solidFill>
              <a:latin typeface="Times New Roman"/>
            </a:endParaRPr>
          </a:p>
          <a:p>
            <a:pPr marL="335880" indent="-3358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Courier New"/>
              </a:rPr>
              <a:t> </a:t>
            </a:r>
            <a:r>
              <a:rPr b="0" i="1" lang="ru-RU" sz="1200" spc="-1" strike="noStrike">
                <a:solidFill>
                  <a:srgbClr val="000000"/>
                </a:solidFill>
                <a:latin typeface="Courier New"/>
              </a:rPr>
              <a:t>Обозначение государственного стандарта состоит : из индекса (ГОСТ Р), обозначения соответствующего МС (без указания года его принятия), отделенных тире двух последних цифр года утверждения ГОСТ Р. Пример: ГОСТ Р ИСО 9001-2001.</a:t>
            </a:r>
            <a:endParaRPr b="0" lang="en-US" sz="1200" spc="-1" strike="noStrike">
              <a:solidFill>
                <a:srgbClr val="000000"/>
              </a:solidFill>
              <a:latin typeface="Times New Roman"/>
            </a:endParaRPr>
          </a:p>
          <a:p>
            <a:pPr marL="335880" indent="0">
              <a:lnSpc>
                <a:spcPct val="10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ервый этап</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a:t>
            </a:r>
            <a:r>
              <a:rPr b="1" lang="ru-RU" sz="1800" spc="-1" strike="noStrike">
                <a:solidFill>
                  <a:srgbClr val="000000"/>
                </a:solidFill>
                <a:latin typeface="Courier New"/>
              </a:rPr>
              <a:t>Отбор объектов стандартизации</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уществует определенная совокупность объектов и действий с ними: А;Б;В;Г;Д;Ж;И;К…</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Допустим, в учреждении используется определенный набор типов организационно-распорядительных документов - приказов, распоряжений, докладных записок и т.д. некоторые из них составляются систематически, другие в разовом порядке: А;Б;В;Г;Б;Д;А;Ж;Б;З;А;Б;Б…</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Объектом стандартизации становятся повторяющиеся объекты - Б и А, т.е. отдельные типы документов</a:t>
            </a:r>
            <a:endParaRPr b="0" lang="en-US" sz="1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Прямое с дополнениями» применение ГС</a:t>
            </a:r>
            <a:endParaRPr b="0" lang="en-US" sz="36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Принятие ГС, представляющего аутентичный текст </a:t>
            </a:r>
            <a:r>
              <a:rPr b="1" lang="ru-RU" sz="2400" spc="-1" strike="noStrike" u="sng">
                <a:solidFill>
                  <a:srgbClr val="000000"/>
                </a:solidFill>
                <a:uFillTx/>
                <a:latin typeface="Courier New"/>
              </a:rPr>
              <a:t>на русском языке с дополнительными требованиями</a:t>
            </a:r>
            <a:r>
              <a:rPr b="1" lang="ru-RU" sz="2400" spc="-1" strike="noStrike">
                <a:solidFill>
                  <a:srgbClr val="000000"/>
                </a:solidFill>
                <a:latin typeface="Courier New"/>
              </a:rPr>
              <a:t> ("прямое с дополнениями"). При данном методе содержание ГОСТа отличается от зарубежного аналога.</a:t>
            </a:r>
            <a:r>
              <a:rPr b="0" i="1" lang="ru-RU" sz="2400" spc="-1" strike="noStrike">
                <a:solidFill>
                  <a:srgbClr val="000000"/>
                </a:solidFill>
                <a:latin typeface="Courier New"/>
              </a:rPr>
              <a:t> </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urier New"/>
              </a:rPr>
              <a:t>Под обозначением ГОСТ Р в скобках приводится обозначение МС, например:</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urier New"/>
              </a:rPr>
              <a:t>ГОСТ Р 50231-92(ИСО 7173-89)</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Частичное введение требований международных стандартов</a:t>
            </a:r>
            <a:endParaRPr b="0" lang="en-US" sz="3200" spc="-1" strike="noStrike">
              <a:solidFill>
                <a:srgbClr val="000000"/>
              </a:solidFill>
              <a:latin typeface="Times New Roman"/>
            </a:endParaRPr>
          </a:p>
        </p:txBody>
      </p:sp>
      <p:sp>
        <p:nvSpPr>
          <p:cNvPr id="1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Частичное</a:t>
            </a:r>
            <a:r>
              <a:rPr b="0" lang="ru-RU" sz="2000" spc="-1" strike="noStrike">
                <a:solidFill>
                  <a:srgbClr val="000000"/>
                </a:solidFill>
                <a:latin typeface="Courier New"/>
              </a:rPr>
              <a:t> введение требований МС </a:t>
            </a:r>
            <a:r>
              <a:rPr b="1" lang="ru-RU" sz="2000" spc="-1" strike="noStrike" u="sng">
                <a:solidFill>
                  <a:srgbClr val="000000"/>
                </a:solidFill>
                <a:uFillTx/>
                <a:latin typeface="Courier New"/>
              </a:rPr>
              <a:t>"гармонизация".</a:t>
            </a:r>
            <a:r>
              <a:rPr b="0" lang="ru-RU" sz="2000" spc="-1" strike="noStrike">
                <a:solidFill>
                  <a:srgbClr val="000000"/>
                </a:solidFill>
                <a:latin typeface="Courier New"/>
              </a:rPr>
              <a:t> Пример: ГОСТ 25779-90 Игрушки. Общие требования безопасности и методы контроля. Этот ГОСТ соответствует требованиям евростандарта </a:t>
            </a:r>
            <a:r>
              <a:rPr b="0" lang="en-US" sz="2000" spc="-1" strike="noStrike">
                <a:solidFill>
                  <a:srgbClr val="000000"/>
                </a:solidFill>
                <a:latin typeface="Courier New"/>
              </a:rPr>
              <a:t>EN </a:t>
            </a:r>
            <a:r>
              <a:rPr b="0" lang="ru-RU" sz="2000" spc="-1" strike="noStrike">
                <a:solidFill>
                  <a:srgbClr val="000000"/>
                </a:solidFill>
                <a:latin typeface="Courier New"/>
              </a:rPr>
              <a:t>71-88.</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Принятие  ОСТ, СТП, СТО на основе международных документов до принятия их в качестве ГС.</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Необходимость скорейшего присоединения России к ВТО, продвижение отечественных товаров на мировой рынок требуют ускорения темпов гармонизации положений отечественных стандартов с международными.</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4. Стандартизация в области экологии</a:t>
            </a:r>
            <a:endParaRPr b="0" lang="en-US" sz="4400" spc="-1" strike="noStrike">
              <a:solidFill>
                <a:srgbClr val="000000"/>
              </a:solidFill>
              <a:latin typeface="Times New Roman"/>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5. Кодирование информации о товаре</a:t>
            </a:r>
            <a:endParaRPr b="0" lang="en-US" sz="4400" spc="-1" strike="noStrike">
              <a:solidFill>
                <a:srgbClr val="000000"/>
              </a:solidFill>
              <a:latin typeface="Times New Roman"/>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Метод - </a:t>
            </a:r>
            <a:r>
              <a:rPr b="0" i="1" lang="ru-RU" sz="2800" spc="-1" strike="noStrike">
                <a:solidFill>
                  <a:srgbClr val="000000"/>
                </a:solidFill>
                <a:latin typeface="Courier New"/>
              </a:rPr>
              <a:t>это способ познания, исследования явлений природы и общественной жизни, прием или система приемов в какой-либо деятельности</a:t>
            </a:r>
            <a:r>
              <a:rPr b="0" lang="ru-RU" sz="2800" spc="-1" strike="noStrike">
                <a:solidFill>
                  <a:srgbClr val="000000"/>
                </a:solidFill>
                <a:latin typeface="Courier New"/>
              </a:rPr>
              <a:t>.</a:t>
            </a:r>
            <a:endParaRPr b="0" lang="en-US" sz="2800" spc="-1" strike="noStrike">
              <a:solidFill>
                <a:srgbClr val="000000"/>
              </a:solidFill>
              <a:latin typeface="Times New Roman"/>
            </a:endParaRPr>
          </a:p>
          <a:p>
            <a:pPr marL="339480" indent="-3394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Методология</a:t>
            </a:r>
            <a:r>
              <a:rPr b="0" lang="ru-RU" sz="2800" spc="-1" strike="noStrike">
                <a:solidFill>
                  <a:srgbClr val="000000"/>
                </a:solidFill>
                <a:latin typeface="Courier New"/>
              </a:rPr>
              <a:t> - </a:t>
            </a:r>
            <a:r>
              <a:rPr b="0" i="1" lang="ru-RU" sz="2800" spc="-1" strike="noStrike">
                <a:solidFill>
                  <a:srgbClr val="000000"/>
                </a:solidFill>
                <a:latin typeface="Courier New"/>
              </a:rPr>
              <a:t>учение о методе, основные принципы или совокупность приемов исследования, применяемых в какой-либо науке.</a:t>
            </a:r>
            <a:endParaRPr b="0" lang="en-US" sz="2800" spc="-1" strike="noStrike">
              <a:solidFill>
                <a:srgbClr val="000000"/>
              </a:solidFill>
              <a:latin typeface="Times New Roman"/>
            </a:endParaRPr>
          </a:p>
        </p:txBody>
      </p:sp>
      <p:sp>
        <p:nvSpPr>
          <p:cNvPr id="1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urier New"/>
              </a:rPr>
              <a:t>Стандартизация базируется на общенаучных и специфических методах.</a:t>
            </a:r>
            <a:r>
              <a:rPr b="0" lang="ru-RU" sz="2400" spc="-1" strike="noStrike">
                <a:solidFill>
                  <a:srgbClr val="000000"/>
                </a:solidFill>
                <a:latin typeface="Courier New"/>
              </a:rPr>
              <a:t> </a:t>
            </a:r>
            <a:br>
              <a:rPr sz="2400"/>
            </a:br>
            <a:endParaRPr b="0" lang="en-US" sz="2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К основным методам стандартизации относятся: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классификация;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кодирование и каталогиза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упорядочение (систематизация, селек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имплификация, типизация, оптимиза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унификация,</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агрегатирование;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пециализация производства;</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программно-целевой метод;</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сетевое планирование.</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Система классификации</a:t>
            </a:r>
            <a:endParaRPr b="0" lang="en-US" sz="28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Классификация</a:t>
            </a:r>
            <a:r>
              <a:rPr b="0" lang="ru-RU" sz="1800" spc="-1" strike="noStrike">
                <a:solidFill>
                  <a:srgbClr val="000000"/>
                </a:solidFill>
                <a:latin typeface="Courier New"/>
              </a:rPr>
              <a:t> - разделение множеств объектов на подмножества по их сходству и различию в соответствии с принятыми методами.</a:t>
            </a:r>
            <a:endParaRPr b="0" lang="en-US" sz="1800" spc="-1" strike="noStrike">
              <a:solidFill>
                <a:srgbClr val="000000"/>
              </a:solidFill>
              <a:latin typeface="Times New Roman"/>
            </a:endParaRPr>
          </a:p>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истема классификации - совокупность методов и правил классификации и ее результат</a:t>
            </a:r>
            <a:r>
              <a:rPr b="0" lang="ru-RU" sz="1800" spc="-1" strike="noStrike">
                <a:solidFill>
                  <a:srgbClr val="000000"/>
                </a:solidFill>
                <a:latin typeface="Courier New"/>
              </a:rPr>
              <a:t>. </a:t>
            </a:r>
            <a:endParaRPr b="0" lang="en-US" sz="1800" spc="-1" strike="noStrike">
              <a:solidFill>
                <a:srgbClr val="000000"/>
              </a:solidFill>
              <a:latin typeface="Times New Roman"/>
            </a:endParaRPr>
          </a:p>
          <a:p>
            <a:pPr marL="322200" indent="-322200">
              <a:lnSpc>
                <a:spcPct val="100000"/>
              </a:lnSpc>
              <a:spcBef>
                <a:spcPts val="7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ourier New"/>
              </a:rPr>
              <a:t>Систематизация объектов стандартизации заключается</a:t>
            </a:r>
            <a:r>
              <a:rPr b="0" lang="ru-RU" sz="1800" spc="-1" strike="noStrike">
                <a:solidFill>
                  <a:srgbClr val="000000"/>
                </a:solidFill>
                <a:latin typeface="Courier New"/>
              </a:rPr>
              <a:t> </a:t>
            </a:r>
            <a:r>
              <a:rPr b="0" i="1" lang="ru-RU" sz="1800" spc="-1" strike="noStrike" u="sng">
                <a:solidFill>
                  <a:srgbClr val="000000"/>
                </a:solidFill>
                <a:uFillTx/>
                <a:latin typeface="Courier New"/>
              </a:rPr>
              <a:t>в научно обоснованном последовательном классифицировании и ранжировании совокупности конкретных объектов стандартизации</a:t>
            </a:r>
            <a:r>
              <a:rPr b="0" lang="ru-RU" sz="1800" spc="-1" strike="noStrike">
                <a:solidFill>
                  <a:srgbClr val="000000"/>
                </a:solidFill>
                <a:latin typeface="Courier New"/>
              </a:rPr>
              <a:t>. Пример - общероссийский классификатор промышленной и сельскохозяйственной продукции (ОКП), который систематизирует всю товарную продукцию (прежде всего по отраслевому признаку) в виде различных классификационных группировок и конкретных наименований продукции.</a:t>
            </a:r>
            <a:r>
              <a:rPr b="0" lang="ru-RU" sz="3200" spc="-1" strike="noStrike">
                <a:solidFill>
                  <a:srgbClr val="000000"/>
                </a:solidFill>
                <a:latin typeface="Courier New"/>
              </a:rPr>
              <a:t> </a:t>
            </a:r>
            <a:endParaRPr b="0" lang="en-US" sz="32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ourier New"/>
              </a:rPr>
              <a:t>Единая система классификации и кодирования технико-экономической и социальной информации (ЕСКК)</a:t>
            </a:r>
            <a:endParaRPr b="0" lang="en-US" sz="2800" spc="-1" strike="noStrike">
              <a:solidFill>
                <a:srgbClr val="000000"/>
              </a:solidFill>
              <a:latin typeface="Times New Roman"/>
            </a:endParaRPr>
          </a:p>
        </p:txBody>
      </p:sp>
      <p:sp>
        <p:nvSpPr>
          <p:cNvPr id="189" name="PlaceHolder 2"/>
          <p:cNvSpPr>
            <a:spLocks noGrp="1"/>
          </p:cNvSpPr>
          <p:nvPr>
            <p:ph/>
          </p:nvPr>
        </p:nvSpPr>
        <p:spPr>
          <a:xfrm>
            <a:off x="685800" y="1981080"/>
            <a:ext cx="7772400" cy="4114800"/>
          </a:xfrm>
          <a:prstGeom prst="rect">
            <a:avLst/>
          </a:prstGeom>
          <a:noFill/>
          <a:ln w="0">
            <a:noFill/>
          </a:ln>
        </p:spPr>
        <p:txBody>
          <a:bodyPr anchor="t">
            <a:normAutofit fontScale="94000"/>
          </a:bodyPr>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ourier New"/>
              </a:rPr>
              <a:t>Совокупность общероссийских классификаторов (ОКТЭСИ), средств их ведения, нормативных и методических документов по их разработке, ведению, применению образует Единую систему классификации и кодирования технико-экономической и социальной информации (ЕСКК).</a:t>
            </a:r>
            <a:endParaRPr b="0" lang="en-US" sz="1800" spc="-1" strike="noStrike">
              <a:solidFill>
                <a:srgbClr val="000000"/>
              </a:solidFill>
              <a:latin typeface="Times New Roman"/>
            </a:endParaRPr>
          </a:p>
          <a:p>
            <a:pPr marL="322200" indent="-32220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0000"/>
                </a:solidFill>
                <a:uFillTx/>
                <a:latin typeface="Courier New"/>
              </a:rPr>
              <a:t>Общие положения, правила разработки и ведения ОКТЭСИ устанавливаются основополагающими документами ЕСКК:</a:t>
            </a:r>
            <a:endParaRPr b="0" lang="en-US" sz="1800" spc="-1" strike="noStrike">
              <a:solidFill>
                <a:srgbClr val="000000"/>
              </a:solidFill>
              <a:latin typeface="Times New Roman"/>
            </a:endParaRPr>
          </a:p>
          <a:p>
            <a:pPr marL="322200" indent="-32220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Р 50.1.019-2000</a:t>
            </a:r>
            <a:r>
              <a:rPr b="0" lang="ru-RU" sz="1600" spc="-1" strike="noStrike">
                <a:solidFill>
                  <a:srgbClr val="000000"/>
                </a:solidFill>
                <a:latin typeface="Courier New"/>
              </a:rPr>
              <a:t>"Основные положения, единая система классификации и кодирования технико-экономической  и социальной информации и унифицированной системы документации в РФ.</a:t>
            </a:r>
            <a:endParaRPr b="0" lang="en-US" sz="1600" spc="-1" strike="noStrike">
              <a:solidFill>
                <a:srgbClr val="000000"/>
              </a:solidFill>
              <a:latin typeface="Times New Roman"/>
            </a:endParaRPr>
          </a:p>
          <a:p>
            <a:pPr marL="322200" indent="-32220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Р 50.1.020-2000</a:t>
            </a:r>
            <a:r>
              <a:rPr b="0" lang="ru-RU" sz="1600" spc="-1" strike="noStrike">
                <a:solidFill>
                  <a:srgbClr val="000000"/>
                </a:solidFill>
                <a:latin typeface="Courier New"/>
              </a:rPr>
              <a:t> "Порядок разработки общероссийских классификаторов";</a:t>
            </a:r>
            <a:endParaRPr b="0" lang="en-US" sz="1600" spc="-1" strike="noStrike">
              <a:solidFill>
                <a:srgbClr val="000000"/>
              </a:solidFill>
              <a:latin typeface="Times New Roman"/>
            </a:endParaRPr>
          </a:p>
          <a:p>
            <a:pPr marL="322200" indent="-32220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ПР 50.1.021-2000</a:t>
            </a:r>
            <a:r>
              <a:rPr b="0" lang="ru-RU" sz="1600" spc="-1" strike="noStrike">
                <a:solidFill>
                  <a:srgbClr val="000000"/>
                </a:solidFill>
                <a:latin typeface="Courier New"/>
              </a:rPr>
              <a:t> "Положение о ведении общероссийских классификаторов на базе информационно-вычислительной сети Госкомстата России".</a:t>
            </a:r>
            <a:endParaRPr b="0" lang="en-US" sz="1600" spc="-1" strike="noStrike">
              <a:solidFill>
                <a:srgbClr val="000000"/>
              </a:solidFill>
              <a:latin typeface="Times New Roman"/>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Методы классификации и кодирования</a:t>
            </a:r>
            <a:endParaRPr b="0" lang="en-US" sz="3600" spc="-1" strike="noStrike">
              <a:solidFill>
                <a:srgbClr val="000000"/>
              </a:solidFill>
              <a:latin typeface="Times New Roman"/>
            </a:endParaRPr>
          </a:p>
        </p:txBody>
      </p:sp>
      <p:sp>
        <p:nvSpPr>
          <p:cNvPr id="19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Методы классификации </a:t>
            </a:r>
            <a:endParaRPr b="0" lang="en-US" sz="24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иерархический метод классификации</a:t>
            </a:r>
            <a:r>
              <a:rPr b="0" lang="ru-RU" sz="2000" spc="-1" strike="noStrike">
                <a:solidFill>
                  <a:srgbClr val="000000"/>
                </a:solidFill>
                <a:latin typeface="Courier New"/>
              </a:rPr>
              <a:t> - последовательное разделение множеств объектов на подчиненные классификационные группировки;</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фасетный метод классификации</a:t>
            </a:r>
            <a:r>
              <a:rPr b="0" lang="ru-RU" sz="2000" spc="-1" strike="noStrike">
                <a:solidFill>
                  <a:srgbClr val="000000"/>
                </a:solidFill>
                <a:latin typeface="Courier New"/>
              </a:rPr>
              <a:t> - параллельное разделение множеств объектов на независимые классификационные группировки;</a:t>
            </a:r>
            <a:endParaRPr b="0" lang="en-US" sz="2000" spc="-1" strike="noStrike">
              <a:solidFill>
                <a:srgbClr val="000000"/>
              </a:solidFill>
              <a:latin typeface="Times New Roman"/>
            </a:endParaRPr>
          </a:p>
          <a:p>
            <a:pPr lvl="2" marL="1143000" indent="-228600">
              <a:lnSpc>
                <a:spcPct val="100000"/>
              </a:lnSpc>
              <a:spcBef>
                <a:spcPts val="49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ourier New"/>
              </a:rPr>
              <a:t>методы кодирования</a:t>
            </a:r>
            <a:r>
              <a:rPr b="1" i="1" lang="ru-RU" sz="2000" spc="-1" strike="noStrike">
                <a:solidFill>
                  <a:srgbClr val="000000"/>
                </a:solidFill>
                <a:latin typeface="Courier New"/>
              </a:rPr>
              <a:t>: последовательный; параллельный; порядковый; серийно-порядковый</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ourier New"/>
              </a:rPr>
              <a:t>Основные понятия классификации</a:t>
            </a:r>
            <a:endParaRPr b="0" lang="en-US" sz="4400" spc="-1" strike="noStrike">
              <a:solidFill>
                <a:srgbClr val="000000"/>
              </a:solidFill>
              <a:latin typeface="Times New Roman"/>
            </a:endParaRPr>
          </a:p>
        </p:txBody>
      </p:sp>
      <p:sp>
        <p:nvSpPr>
          <p:cNvPr id="195" name="PlaceHolder 2"/>
          <p:cNvSpPr>
            <a:spLocks noGrp="1"/>
          </p:cNvSpPr>
          <p:nvPr>
            <p:ph/>
          </p:nvPr>
        </p:nvSpPr>
        <p:spPr>
          <a:xfrm>
            <a:off x="685440" y="1981080"/>
            <a:ext cx="3809880" cy="4114800"/>
          </a:xfrm>
          <a:prstGeom prst="rect">
            <a:avLst/>
          </a:prstGeom>
          <a:noFill/>
          <a:ln w="0">
            <a:noFill/>
          </a:ln>
        </p:spPr>
        <p:txBody>
          <a:bodyPr anchor="t">
            <a:normAutofit/>
          </a:bodyPr>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объект классификации</a:t>
            </a:r>
            <a:r>
              <a:rPr b="0" lang="ru-RU" sz="1000" spc="-1" strike="noStrike">
                <a:solidFill>
                  <a:srgbClr val="000000"/>
                </a:solidFill>
                <a:latin typeface="Courier New"/>
              </a:rPr>
              <a:t> - элемент</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классификационного множества;</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признак классификации</a:t>
            </a:r>
            <a:r>
              <a:rPr b="0" lang="ru-RU" sz="1000" spc="-1" strike="noStrike">
                <a:solidFill>
                  <a:srgbClr val="000000"/>
                </a:solidFill>
                <a:latin typeface="Courier New"/>
              </a:rPr>
              <a:t> - свойство или характеристика объекта по которому производится классификация;</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ourier New"/>
              </a:rPr>
              <a:t>значение признака классификации</a:t>
            </a:r>
            <a:r>
              <a:rPr b="0" lang="ru-RU" sz="1000" spc="-1" strike="noStrike">
                <a:solidFill>
                  <a:srgbClr val="000000"/>
                </a:solidFill>
                <a:latin typeface="Courier New"/>
              </a:rPr>
              <a:t> - качественное или количественное выражение признака классификации;</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классификационная группировка</a:t>
            </a:r>
            <a:r>
              <a:rPr b="0" lang="ru-RU" sz="1000" spc="-1" strike="noStrike">
                <a:solidFill>
                  <a:srgbClr val="000000"/>
                </a:solidFill>
                <a:latin typeface="Courier New"/>
              </a:rPr>
              <a:t> - подмножество объектов, полученное в результате классификации;</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ступень классификации</a:t>
            </a:r>
            <a:r>
              <a:rPr b="0" lang="ru-RU" sz="1000" spc="-1" strike="noStrike">
                <a:solidFill>
                  <a:srgbClr val="000000"/>
                </a:solidFill>
                <a:latin typeface="Courier New"/>
              </a:rPr>
              <a:t> - этап классификации при иерархическом методе, в результате которого получается совокупность классификационных группировок;</a:t>
            </a:r>
            <a:endParaRPr b="0" lang="en-US" sz="1000" spc="-1" strike="noStrike">
              <a:solidFill>
                <a:srgbClr val="000000"/>
              </a:solidFill>
              <a:latin typeface="Times New Roman"/>
            </a:endParaRPr>
          </a:p>
          <a:p>
            <a:pPr lvl="2" marL="1143000" indent="-228600">
              <a:lnSpc>
                <a:spcPct val="100000"/>
              </a:lnSpc>
              <a:spcBef>
                <a:spcPts val="249"/>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000000"/>
                </a:solidFill>
                <a:latin typeface="Courier New"/>
              </a:rPr>
              <a:t>глубина классификации</a:t>
            </a:r>
            <a:r>
              <a:rPr b="0" lang="ru-RU" sz="1000" spc="-1" strike="noStrike">
                <a:solidFill>
                  <a:srgbClr val="000000"/>
                </a:solidFill>
                <a:latin typeface="Courier New"/>
              </a:rPr>
              <a:t> - число ступеней классификации;</a:t>
            </a:r>
            <a:endParaRPr b="0" lang="en-US" sz="1000" spc="-1" strike="noStrike">
              <a:solidFill>
                <a:srgbClr val="000000"/>
              </a:solidFill>
              <a:latin typeface="Times New Roman"/>
            </a:endParaRPr>
          </a:p>
        </p:txBody>
      </p:sp>
      <p:sp>
        <p:nvSpPr>
          <p:cNvPr id="196" name="PlaceHolder 3"/>
          <p:cNvSpPr>
            <a:spLocks noGrp="1"/>
          </p:cNvSpPr>
          <p:nvPr>
            <p:ph/>
          </p:nvPr>
        </p:nvSpPr>
        <p:spPr>
          <a:xfrm>
            <a:off x="4647960" y="1981080"/>
            <a:ext cx="3809880" cy="4114800"/>
          </a:xfrm>
          <a:prstGeom prst="rect">
            <a:avLst/>
          </a:prstGeom>
          <a:noFill/>
          <a:ln w="0">
            <a:noFill/>
          </a:ln>
        </p:spPr>
        <p:txBody>
          <a:bodyPr anchor="t">
            <a:normAutofit fontScale="99000"/>
          </a:bodyPr>
          <a:p>
            <a:pPr lvl="2" marL="1131480" indent="-226080">
              <a:lnSpc>
                <a:spcPct val="100000"/>
              </a:lnSpc>
              <a:spcBef>
                <a:spcPts val="3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код </a:t>
            </a:r>
            <a:r>
              <a:rPr b="0" lang="ru-RU" sz="1200" spc="-1" strike="noStrike">
                <a:solidFill>
                  <a:srgbClr val="000000"/>
                </a:solidFill>
                <a:latin typeface="Courier New"/>
              </a:rPr>
              <a:t>- знак или совокупность знаков, принятых для обозначения классификационной группировки;</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кодирование</a:t>
            </a:r>
            <a:r>
              <a:rPr b="0" lang="ru-RU" sz="1200" spc="-1" strike="noStrike">
                <a:solidFill>
                  <a:srgbClr val="000000"/>
                </a:solidFill>
                <a:latin typeface="Courier New"/>
              </a:rPr>
              <a:t> - образование и присвоение кода классификационной группировке или объекту классификации;</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алфавит кода </a:t>
            </a:r>
            <a:r>
              <a:rPr b="0" lang="ru-RU" sz="1200" spc="-1" strike="noStrike">
                <a:solidFill>
                  <a:srgbClr val="000000"/>
                </a:solidFill>
                <a:latin typeface="Courier New"/>
              </a:rPr>
              <a:t>- система</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знаков, принятых для образования кода;</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основание кода</a:t>
            </a:r>
            <a:r>
              <a:rPr b="0" lang="ru-RU" sz="1200" spc="-1" strike="noStrike">
                <a:solidFill>
                  <a:srgbClr val="000000"/>
                </a:solidFill>
                <a:latin typeface="Courier New"/>
              </a:rPr>
              <a:t> - число знаков с алфавите кода;</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структура кода</a:t>
            </a:r>
            <a:r>
              <a:rPr b="0" lang="ru-RU" sz="1200" spc="-1" strike="noStrike">
                <a:solidFill>
                  <a:srgbClr val="000000"/>
                </a:solidFill>
                <a:latin typeface="Courier New"/>
              </a:rPr>
              <a:t> - условное обозначение состава и последовательности расположения знаков коде;</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ourier New"/>
              </a:rPr>
              <a:t>контрольное число</a:t>
            </a:r>
            <a:r>
              <a:rPr b="0" lang="ru-RU" sz="1200" spc="-1" strike="noStrike">
                <a:solidFill>
                  <a:srgbClr val="000000"/>
                </a:solidFill>
                <a:latin typeface="Courier New"/>
              </a:rPr>
              <a:t> - расчетное число используемое для проверки правильности записи кода;</a:t>
            </a:r>
            <a:endParaRPr b="0" lang="en-US" sz="1200" spc="-1" strike="noStrike">
              <a:solidFill>
                <a:srgbClr val="000000"/>
              </a:solidFill>
              <a:latin typeface="Times New Roman"/>
            </a:endParaRPr>
          </a:p>
        </p:txBody>
      </p:sp>
      <p:sp>
        <p:nvSpPr>
          <p:cNvPr id="1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200" spc="-1" strike="noStrike">
                <a:solidFill>
                  <a:srgbClr val="000000"/>
                </a:solidFill>
                <a:latin typeface="Courier New"/>
              </a:rPr>
              <a:t>Последовательный и параллельный методы кодирования</a:t>
            </a:r>
            <a:r>
              <a:rPr b="0" lang="ru-RU" sz="3200" spc="-1" strike="noStrike">
                <a:solidFill>
                  <a:srgbClr val="000000"/>
                </a:solidFill>
                <a:latin typeface="Courier New"/>
              </a:rPr>
              <a:t> </a:t>
            </a:r>
            <a:endParaRPr b="0" lang="en-US" sz="3200" spc="-1" strike="noStrike">
              <a:solidFill>
                <a:srgbClr val="000000"/>
              </a:solidFill>
              <a:latin typeface="Times New Roman"/>
            </a:endParaRPr>
          </a:p>
        </p:txBody>
      </p:sp>
      <p:sp>
        <p:nvSpPr>
          <p:cNvPr id="1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Courier New"/>
              </a:rPr>
              <a:t>последовательный метод кодирования</a:t>
            </a:r>
            <a:r>
              <a:rPr b="0" lang="ru-RU" sz="1800" spc="-1" strike="noStrike">
                <a:solidFill>
                  <a:srgbClr val="000000"/>
                </a:solidFill>
                <a:latin typeface="Courier New"/>
              </a:rPr>
              <a:t> - образование кода классификационной группировки или объекта классификации использования кодов последовательно расположенных подчиненных группировок, полученных при иерархическом методе классификации, и его присвоение;</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0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параллельный метод кодирования</a:t>
            </a:r>
            <a:r>
              <a:rPr b="0" lang="ru-RU" sz="2000" spc="-1" strike="noStrike">
                <a:solidFill>
                  <a:srgbClr val="000000"/>
                </a:solidFill>
                <a:latin typeface="Courier New"/>
              </a:rPr>
              <a:t> - образование кода классификационной группировки или объекта классификации  с использованием кодов независимых группировок, полученных при фасетном методе классификации, и его присвоение;</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Второй  этап </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a:t>
            </a:r>
            <a:r>
              <a:rPr b="1" lang="ru-RU" sz="1600" spc="-1" strike="noStrike">
                <a:solidFill>
                  <a:srgbClr val="000000"/>
                </a:solidFill>
                <a:latin typeface="Courier New"/>
              </a:rPr>
              <a:t>Моделирование объекта стандартизации</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 </a:t>
            </a:r>
            <a:r>
              <a:rPr b="0" lang="ru-RU" sz="1600" spc="-1" strike="noStrike">
                <a:solidFill>
                  <a:srgbClr val="000000"/>
                </a:solidFill>
                <a:latin typeface="Courier New"/>
              </a:rPr>
              <a:t>(например, объекта Б).</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Необходимо учесть, что процессу стандартизации подвергаются не сами объекты, а информация о них, отображающая их существенные стороны (признаки, свойства), т.е. абстрактная модель реального объекта. Например, состав реквизитов: </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наименование организации</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наименование документа или</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формление реквизитов:</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1)форма</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2)содержание … </a:t>
            </a:r>
            <a:r>
              <a:rPr b="0" lang="en-US" sz="1600" spc="-1" strike="noStrike">
                <a:solidFill>
                  <a:srgbClr val="000000"/>
                </a:solidFill>
                <a:latin typeface="Courier New"/>
              </a:rPr>
              <a:t>n, </a:t>
            </a:r>
            <a:r>
              <a:rPr b="0" lang="ru-RU" sz="1600" spc="-1" strike="noStrike">
                <a:solidFill>
                  <a:srgbClr val="000000"/>
                </a:solidFill>
                <a:latin typeface="Courier New"/>
              </a:rPr>
              <a:t>месторасположение или</a:t>
            </a:r>
            <a:endParaRPr b="0" lang="en-US" sz="1600" spc="-1" strike="noStrike">
              <a:solidFill>
                <a:srgbClr val="000000"/>
              </a:solidFill>
              <a:latin typeface="Times New Roman"/>
            </a:endParaRPr>
          </a:p>
          <a:p>
            <a:pPr marL="339480" indent="-3394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требования к документу:</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к учету</a:t>
            </a:r>
            <a:endParaRPr b="0" lang="en-US" sz="1600" spc="-1" strike="noStrike">
              <a:solidFill>
                <a:srgbClr val="000000"/>
              </a:solidFill>
              <a:latin typeface="Times New Roman"/>
            </a:endParaRPr>
          </a:p>
          <a:p>
            <a:pPr lvl="2" marL="1131480" indent="-22608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rPr>
              <a:t>)</a:t>
            </a:r>
            <a:r>
              <a:rPr b="0" lang="ru-RU" sz="1600" spc="-1" strike="noStrike">
                <a:solidFill>
                  <a:srgbClr val="000000"/>
                </a:solidFill>
                <a:latin typeface="Courier New"/>
              </a:rPr>
              <a:t>к использованию … </a:t>
            </a:r>
            <a:r>
              <a:rPr b="0" lang="en-US" sz="1600" spc="-1" strike="noStrike">
                <a:solidFill>
                  <a:srgbClr val="000000"/>
                </a:solidFill>
                <a:latin typeface="Courier New"/>
              </a:rPr>
              <a:t>n</a:t>
            </a:r>
            <a:r>
              <a:rPr b="0" lang="ru-RU" sz="1600" spc="-1" strike="noStrike">
                <a:solidFill>
                  <a:srgbClr val="000000"/>
                </a:solidFill>
                <a:latin typeface="Courier New"/>
              </a:rPr>
              <a:t>, к хранению.</a:t>
            </a:r>
            <a:endParaRPr b="0" lang="en-US" sz="1600" spc="-1" strike="noStrike">
              <a:solidFill>
                <a:srgbClr val="000000"/>
              </a:solidFill>
              <a:latin typeface="Times New Roman"/>
            </a:endParaRPr>
          </a:p>
          <a:p>
            <a:pPr marL="3394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urier New"/>
              </a:rPr>
              <a:t>Порядковый и серийно-порядковый методы кодирования</a:t>
            </a:r>
            <a:endParaRPr b="0" lang="en-US" sz="2800" spc="-1" strike="noStrike">
              <a:solidFill>
                <a:srgbClr val="000000"/>
              </a:solidFill>
              <a:latin typeface="Times New Roman"/>
            </a:endParaRPr>
          </a:p>
        </p:txBody>
      </p:sp>
      <p:sp>
        <p:nvSpPr>
          <p:cNvPr id="203"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ourier New"/>
              </a:rPr>
              <a:t>порядковый метод кодирования</a:t>
            </a:r>
            <a:r>
              <a:rPr b="0" lang="ru-RU" sz="2800" spc="-1" strike="noStrike">
                <a:solidFill>
                  <a:srgbClr val="000000"/>
                </a:solidFill>
                <a:latin typeface="Courier New"/>
              </a:rPr>
              <a:t> - образование кода из чисел натурального ряда и его присвоение;</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ourier New"/>
              </a:rPr>
              <a:t>серийно-порядковый метод кодирования</a:t>
            </a:r>
            <a:r>
              <a:rPr b="0" lang="ru-RU" sz="2000" spc="-1" strike="noStrike">
                <a:solidFill>
                  <a:srgbClr val="000000"/>
                </a:solidFill>
                <a:latin typeface="Courier New"/>
              </a:rPr>
              <a:t> - образования кода из чисел натурального ряда закрепление отдельных серий или диапазонов этих чисел за объектами классификации с одинаковыми признаками и его присвоение;</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Признаки классификационных группировок</a:t>
            </a:r>
            <a:endParaRPr b="0" lang="en-US" sz="3200" spc="-1" strike="noStrike">
              <a:solidFill>
                <a:srgbClr val="000000"/>
              </a:solidFill>
              <a:latin typeface="Times New Roman"/>
            </a:endParaRPr>
          </a:p>
        </p:txBody>
      </p:sp>
      <p:sp>
        <p:nvSpPr>
          <p:cNvPr id="20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Courier New"/>
              </a:rPr>
              <a:t>К признакам классификационных группировок относится</a:t>
            </a:r>
            <a:r>
              <a:rPr b="1" lang="ru-RU" sz="2000" spc="-1" strike="noStrike">
                <a:solidFill>
                  <a:srgbClr val="000000"/>
                </a:solidFill>
                <a:latin typeface="Courier New"/>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учет социально-экономических изменений;</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открытость и общедоступность;</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автоматизированность;</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методическое и организационное единство;</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обязательность применения;</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совместимость с другими классификаторами;</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гармонизация с международными классификаторами и стандартами.</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Каталогизация</a:t>
            </a:r>
            <a:endParaRPr b="0" lang="en-US" sz="3200" spc="-1" strike="noStrike">
              <a:solidFill>
                <a:srgbClr val="000000"/>
              </a:solidFill>
              <a:latin typeface="Times New Roman"/>
            </a:endParaRPr>
          </a:p>
        </p:txBody>
      </p:sp>
      <p:sp>
        <p:nvSpPr>
          <p:cNvPr id="210"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Каталогизация</a:t>
            </a:r>
            <a:r>
              <a:rPr b="0" lang="ru-RU" sz="2000" spc="-1" strike="noStrike">
                <a:solidFill>
                  <a:srgbClr val="000000"/>
                </a:solidFill>
                <a:latin typeface="Courier New"/>
              </a:rPr>
              <a:t> - одна из форм информационных технологий базирующихся на классификации, кодировании и идентификации.</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Признаками отечественной классификации являются: </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Сфера действия, потребитель (общество, население, организация, гражданин);</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Тип потребностей (материальные, нематериальные, комплексные);</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Характер потребления (личный, семейный, коллективный, общественный);</a:t>
            </a: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Условия оказания (возмездные, льготные, безвозмездные).</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Courier New"/>
              </a:rPr>
              <a:t>Упорядочение объектов стандартизации</a:t>
            </a:r>
            <a:endParaRPr b="0" lang="en-US" sz="36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ourier New"/>
              </a:rPr>
              <a:t>Упорядочение объектов стандартизации - это деятельность систематизации, селекции и симплексации , типизации и оптимизации</a:t>
            </a:r>
            <a:r>
              <a:rPr b="0" lang="ru-RU" sz="2400" spc="-1" strike="noStrike">
                <a:solidFill>
                  <a:srgbClr val="000000"/>
                </a:solidFill>
                <a:latin typeface="Courier New"/>
              </a:rPr>
              <a:t> </a:t>
            </a:r>
            <a:r>
              <a:rPr b="0" i="1" lang="ru-RU" sz="2400" spc="-1" strike="noStrike">
                <a:solidFill>
                  <a:srgbClr val="000000"/>
                </a:solidFill>
                <a:latin typeface="Courier New"/>
              </a:rPr>
              <a:t>выбранных совокупностей однородных объектов стандартизации, направленных на достижение оптимальной степени упорядочения и максимальной эффективности в определенной области.</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ourier New"/>
              </a:rPr>
              <a:t> </a:t>
            </a:r>
            <a:r>
              <a:rPr b="1" i="1" lang="ru-RU" sz="1800" spc="-1" strike="noStrike">
                <a:solidFill>
                  <a:srgbClr val="000000"/>
                </a:solidFill>
                <a:latin typeface="Courier New"/>
              </a:rPr>
              <a:t>Систематизация -</a:t>
            </a:r>
            <a:r>
              <a:rPr b="0" lang="ru-RU" sz="1800" spc="-1" strike="noStrike">
                <a:solidFill>
                  <a:srgbClr val="000000"/>
                </a:solidFill>
                <a:latin typeface="Courier New"/>
              </a:rPr>
              <a:t> расположение объектов стандартизации в определенном порядке и последовательности</a:t>
            </a:r>
            <a:endParaRPr b="0" lang="en-US" sz="1800" spc="-1" strike="noStrike">
              <a:solidFill>
                <a:srgbClr val="000000"/>
              </a:solidFill>
              <a:latin typeface="Times New Roman"/>
            </a:endParaRPr>
          </a:p>
        </p:txBody>
      </p:sp>
      <p:sp>
        <p:nvSpPr>
          <p:cNvPr id="216"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ourier New"/>
              </a:rPr>
              <a:t>ОКП представляет собой систематизированный свод кодов и наименований продукции,</a:t>
            </a:r>
            <a:r>
              <a:rPr b="0" lang="ru-RU" sz="1400" spc="-1" strike="noStrike">
                <a:solidFill>
                  <a:srgbClr val="000000"/>
                </a:solidFill>
                <a:latin typeface="Courier New"/>
              </a:rPr>
              <a:t> являющейся предметом поставки. ОКП состоит из классификационной (К-ОКП) и ассортиментной (А-ОКП) частей. Классификационная часть представляет собой свод кодов и наименования классификационных группировок (класс - подкласс- группа-подгруппа-вид), систематизирующий продукцию по определенным признакам. Ассортиментная часть - свод кодов и наименований, идентифицирующих отдельные типы, марки и т.п.</a:t>
            </a:r>
            <a:endParaRPr b="0" lang="en-US" sz="1400" spc="-1" strike="noStrike">
              <a:solidFill>
                <a:srgbClr val="000000"/>
              </a:solidFill>
              <a:latin typeface="Times New Roman"/>
            </a:endParaRPr>
          </a:p>
          <a:p>
            <a:pPr marL="3394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3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ourier New"/>
              </a:rPr>
              <a:t>пример кодового</a:t>
            </a:r>
            <a:r>
              <a:rPr b="0" lang="en-US" sz="1200" spc="-1" strike="noStrike">
                <a:solidFill>
                  <a:srgbClr val="000000"/>
                </a:solidFill>
                <a:latin typeface="Courier New"/>
              </a:rPr>
              <a:t> </a:t>
            </a:r>
            <a:r>
              <a:rPr b="0" lang="ru-RU" sz="1200" spc="-1" strike="noStrike">
                <a:solidFill>
                  <a:srgbClr val="000000"/>
                </a:solidFill>
                <a:latin typeface="Courier New"/>
              </a:rPr>
              <a:t>обозначения в ОКП продукции 54 класса:</a:t>
            </a:r>
            <a:endParaRPr b="0" lang="en-US" sz="12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 (класс)- продукция целлюлозно-бумажной промышленности;</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подкласс) - тетради школьные, обои и бумажно-беловые товары;</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группа) - бумажно-беловые товары;</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1 (подгруппа) - тетради и дневники школьные;</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14 (вид) - тетради для письма карандашом;</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546314 0001 (разновидность) - тетради для письма карандашом, переплет обрезной, цельнобумажный блок из бумаги типографской мелованной объем 48 листов, размер 144 х 203мм.</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Courier New"/>
              </a:rPr>
              <a:t>В классификационной части (класс-вид) продукция переранжирована в порядке разделения множества объектов (продукция ЦБП) по общим признакам (назначение) в ассортиментной части - по частным признакам (конструкция и др.)</a:t>
            </a:r>
            <a:endParaRPr b="0" lang="en-US" sz="1000" spc="-1" strike="noStrike">
              <a:solidFill>
                <a:srgbClr val="000000"/>
              </a:solidFill>
              <a:latin typeface="Times New Roman"/>
            </a:endParaRPr>
          </a:p>
          <a:p>
            <a:pPr marL="343080" indent="0">
              <a:lnSpc>
                <a:spcPct val="10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2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ourier New"/>
              </a:rPr>
              <a:t>Селекция и </a:t>
            </a:r>
            <a:r>
              <a:rPr b="0" lang="ru-RU" sz="4000" spc="-1" strike="noStrike">
                <a:solidFill>
                  <a:srgbClr val="000000"/>
                </a:solidFill>
                <a:latin typeface="Courier New"/>
              </a:rPr>
              <a:t>симплификация</a:t>
            </a:r>
            <a:r>
              <a:rPr b="0" lang="ru-RU" sz="4000" spc="-1" strike="noStrike" u="sng">
                <a:solidFill>
                  <a:srgbClr val="000000"/>
                </a:solidFill>
                <a:uFillTx/>
                <a:latin typeface="Courier New"/>
              </a:rPr>
              <a:t> </a:t>
            </a:r>
            <a:endParaRPr b="0" lang="en-US" sz="4000" spc="-1" strike="noStrike">
              <a:solidFill>
                <a:srgbClr val="000000"/>
              </a:solidFill>
              <a:latin typeface="Times New Roman"/>
            </a:endParaRPr>
          </a:p>
        </p:txBody>
      </p:sp>
      <p:sp>
        <p:nvSpPr>
          <p:cNvPr id="220" name="PlaceHolder 2"/>
          <p:cNvSpPr>
            <a:spLocks noGrp="1"/>
          </p:cNvSpPr>
          <p:nvPr>
            <p:ph/>
          </p:nvPr>
        </p:nvSpPr>
        <p:spPr>
          <a:xfrm>
            <a:off x="685440" y="1981080"/>
            <a:ext cx="3809880" cy="4114800"/>
          </a:xfrm>
          <a:prstGeom prst="rect">
            <a:avLst/>
          </a:prstGeom>
          <a:noFill/>
          <a:ln w="0">
            <a:noFill/>
          </a:ln>
        </p:spPr>
        <p:txBody>
          <a:bodyPr anchor="t">
            <a:normAutofit fontScale="98000"/>
          </a:bodyPr>
          <a:p>
            <a:pPr marL="335880" indent="-3358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u="sng">
                <a:solidFill>
                  <a:srgbClr val="000000"/>
                </a:solidFill>
                <a:uFillTx/>
                <a:latin typeface="Courier New"/>
              </a:rPr>
              <a:t>Симплификация</a:t>
            </a:r>
            <a:r>
              <a:rPr b="0" lang="ru-RU" sz="2400" spc="-1" strike="noStrike" u="sng">
                <a:solidFill>
                  <a:srgbClr val="000000"/>
                </a:solidFill>
                <a:uFillTx/>
                <a:latin typeface="Courier New"/>
              </a:rPr>
              <a:t> </a:t>
            </a:r>
            <a:r>
              <a:rPr b="0" lang="ru-RU" sz="2400" spc="-1" strike="noStrike">
                <a:solidFill>
                  <a:srgbClr val="000000"/>
                </a:solidFill>
                <a:latin typeface="Courier New"/>
              </a:rPr>
              <a:t>- </a:t>
            </a:r>
            <a:r>
              <a:rPr b="0" lang="ru-RU" sz="1800" spc="-1" strike="noStrike">
                <a:solidFill>
                  <a:srgbClr val="000000"/>
                </a:solidFill>
                <a:latin typeface="Courier New"/>
              </a:rPr>
              <a:t>деятельность по изъятию из числа систематизированных объектов стандартизации нецелесообразных (морально устаревших) для дальнейшего производства и применения</a:t>
            </a:r>
            <a:endParaRPr b="0" lang="en-US" sz="1800" spc="-1" strike="noStrike">
              <a:solidFill>
                <a:srgbClr val="000000"/>
              </a:solidFill>
              <a:latin typeface="Times New Roman"/>
            </a:endParaRPr>
          </a:p>
          <a:p>
            <a:pPr marL="335880" indent="-3358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Постоянная симплификация в Фармакопее Минздрава по запрещению к применению устаревших лекарственных средств. </a:t>
            </a:r>
            <a:endParaRPr b="0" lang="en-US" sz="1600" spc="-1" strike="noStrike">
              <a:solidFill>
                <a:srgbClr val="000000"/>
              </a:solidFill>
              <a:latin typeface="Times New Roman"/>
            </a:endParaRPr>
          </a:p>
        </p:txBody>
      </p:sp>
      <p:sp>
        <p:nvSpPr>
          <p:cNvPr id="22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u="sng">
                <a:solidFill>
                  <a:srgbClr val="000000"/>
                </a:solidFill>
                <a:uFillTx/>
                <a:latin typeface="Courier New"/>
              </a:rPr>
              <a:t>Селекция</a:t>
            </a:r>
            <a:r>
              <a:rPr b="0" lang="ru-RU" sz="2000" spc="-1" strike="noStrike" u="sng">
                <a:solidFill>
                  <a:srgbClr val="000000"/>
                </a:solidFill>
                <a:uFillTx/>
                <a:latin typeface="Courier New"/>
              </a:rPr>
              <a:t> </a:t>
            </a:r>
            <a:r>
              <a:rPr b="0" lang="ru-RU" sz="2000" spc="-1" strike="noStrike">
                <a:solidFill>
                  <a:srgbClr val="000000"/>
                </a:solidFill>
                <a:latin typeface="Courier New"/>
              </a:rPr>
              <a:t>- деятельность по отбору предварительно классифицированных и ранжированных объектов стандартизации наиболее целесообразных в дальнейшем производстве и применении.</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2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Типизация и </a:t>
            </a:r>
            <a:r>
              <a:rPr b="1" lang="ru-RU" sz="2800" spc="-1" strike="noStrike">
                <a:solidFill>
                  <a:srgbClr val="000000"/>
                </a:solidFill>
                <a:latin typeface="Courier New"/>
              </a:rPr>
              <a:t>оптимизация объектов стандартизации</a:t>
            </a:r>
            <a:r>
              <a:rPr b="0" lang="ru-RU" sz="2400" spc="-1" strike="noStrike" u="sng">
                <a:solidFill>
                  <a:srgbClr val="000000"/>
                </a:solidFill>
                <a:uFillTx/>
                <a:latin typeface="Courier New"/>
              </a:rPr>
              <a:t> </a:t>
            </a:r>
            <a:endParaRPr b="0" lang="en-US" sz="2400" spc="-1" strike="noStrike">
              <a:solidFill>
                <a:srgbClr val="000000"/>
              </a:solidFill>
              <a:latin typeface="Times New Roman"/>
            </a:endParaRPr>
          </a:p>
        </p:txBody>
      </p:sp>
      <p:sp>
        <p:nvSpPr>
          <p:cNvPr id="224" name="PlaceHolder 2"/>
          <p:cNvSpPr>
            <a:spLocks noGrp="1"/>
          </p:cNvSpPr>
          <p:nvPr>
            <p:ph/>
          </p:nvPr>
        </p:nvSpPr>
        <p:spPr>
          <a:xfrm>
            <a:off x="685440" y="1981080"/>
            <a:ext cx="3809880" cy="4114800"/>
          </a:xfrm>
          <a:prstGeom prst="rect">
            <a:avLst/>
          </a:prstGeom>
          <a:noFill/>
          <a:ln w="0">
            <a:noFill/>
          </a:ln>
        </p:spPr>
        <p:txBody>
          <a:bodyPr anchor="t">
            <a:normAutofit fontScale="99000"/>
          </a:bodyPr>
          <a:p>
            <a:pPr marL="339480" indent="-339480">
              <a:lnSpc>
                <a:spcPct val="100000"/>
              </a:lnSpc>
              <a:spcBef>
                <a:spcPts val="7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u="sng">
                <a:solidFill>
                  <a:srgbClr val="000000"/>
                </a:solidFill>
                <a:uFillTx/>
                <a:latin typeface="Courier New"/>
              </a:rPr>
              <a:t>Типизация</a:t>
            </a:r>
            <a:r>
              <a:rPr b="0" lang="ru-RU" sz="1800" spc="-1" strike="noStrike">
                <a:solidFill>
                  <a:srgbClr val="000000"/>
                </a:solidFill>
                <a:latin typeface="Courier New"/>
              </a:rPr>
              <a:t> - поиск по заданному критерию эффективности оптимальных параметрических рядов главных параметров селекционных объектов стандартизации ( типовых моделей, конструкций, правил обслуживания, типоразмера изделия, типоразмерный ряд конструкций постройки дома).</a:t>
            </a:r>
            <a:r>
              <a:rPr b="0" lang="ru-RU" sz="2800" spc="-1" strike="noStrike">
                <a:solidFill>
                  <a:srgbClr val="000000"/>
                </a:solidFill>
                <a:latin typeface="Courier New"/>
              </a:rPr>
              <a:t> </a:t>
            </a:r>
            <a:endParaRPr b="0" lang="en-US" sz="2800" spc="-1" strike="noStrike">
              <a:solidFill>
                <a:srgbClr val="000000"/>
              </a:solidFill>
              <a:latin typeface="Times New Roman"/>
            </a:endParaRPr>
          </a:p>
        </p:txBody>
      </p:sp>
      <p:sp>
        <p:nvSpPr>
          <p:cNvPr id="225"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100000"/>
              </a:lnSpc>
              <a:spcBef>
                <a:spcPts val="34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u="sng">
                <a:solidFill>
                  <a:srgbClr val="000000"/>
                </a:solidFill>
                <a:uFillTx/>
                <a:latin typeface="Courier New"/>
              </a:rPr>
              <a:t>Оптимизация объектов стандартизации</a:t>
            </a:r>
            <a:r>
              <a:rPr b="0" lang="ru-RU" sz="1400" spc="-1" strike="noStrike" u="sng">
                <a:solidFill>
                  <a:srgbClr val="000000"/>
                </a:solidFill>
                <a:uFillTx/>
                <a:latin typeface="Courier New"/>
              </a:rPr>
              <a:t> - поиск</a:t>
            </a:r>
            <a:r>
              <a:rPr b="0" lang="ru-RU" sz="1400" spc="-1" strike="noStrike">
                <a:solidFill>
                  <a:srgbClr val="000000"/>
                </a:solidFill>
                <a:latin typeface="Courier New"/>
              </a:rPr>
              <a:t> оптимальных параметров и характеристик селекционных однородных объектов стандартизации, направленных на  достижение максимальной степени упорядочения и максимально возможной эффективности по выбранному критерию в определенной области. Ей предшествуют  классификация и ранжирование, селекция и симплификация, а также сочетание с прогнозами науки и техники и установления требований на перспективу.</a:t>
            </a:r>
            <a:endParaRPr b="0" lang="en-US" sz="1400" spc="-1" strike="noStrike">
              <a:solidFill>
                <a:srgbClr val="000000"/>
              </a:solidFill>
              <a:latin typeface="Times New Roman"/>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ourier New"/>
              </a:rPr>
              <a:t>Унификация</a:t>
            </a:r>
            <a:endParaRPr b="0" lang="en-US" sz="4000" spc="-1" strike="noStrike">
              <a:solidFill>
                <a:srgbClr val="000000"/>
              </a:solidFill>
              <a:latin typeface="Times New Roman"/>
            </a:endParaRPr>
          </a:p>
        </p:txBody>
      </p:sp>
      <p:sp>
        <p:nvSpPr>
          <p:cNvPr id="2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Унификация (по ГОСТ Р 1.0) это выбор оптимального числа разновидностей продукции, процессов и услуг, значений их параметров и размеров.  </a:t>
            </a:r>
            <a:r>
              <a:rPr b="1" lang="ru-RU" sz="1600" spc="-1" strike="noStrike">
                <a:solidFill>
                  <a:srgbClr val="000000"/>
                </a:solidFill>
                <a:latin typeface="Courier New"/>
              </a:rPr>
              <a:t>Унификация -деятельность по рациональному сокращению числа типов деталей, агрегатов одинакового функционального назначения</a:t>
            </a:r>
            <a:r>
              <a:rPr b="0" lang="ru-RU" sz="1600" spc="-1" strike="noStrike">
                <a:solidFill>
                  <a:srgbClr val="000000"/>
                </a:solidFill>
                <a:latin typeface="Courier New"/>
              </a:rPr>
              <a:t>. </a:t>
            </a:r>
            <a:r>
              <a:rPr b="1" lang="ru-RU" sz="1600" spc="-1" strike="noStrike">
                <a:solidFill>
                  <a:srgbClr val="000000"/>
                </a:solidFill>
                <a:latin typeface="Courier New"/>
              </a:rPr>
              <a:t>Основными направлениями унификации являются:</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Разработка параметрических и типоразмерных рядов изделий, машин, оборудования, приборов, узлов, деталей.</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Разработка типовых изделий в целях создания унифицированных групп однородной продукции.</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Разработка унифицированных технологических процессов;</a:t>
            </a:r>
            <a:endParaRPr b="0" lang="en-US" sz="1600" spc="-1" strike="noStrike">
              <a:solidFill>
                <a:srgbClr val="000000"/>
              </a:solidFill>
              <a:latin typeface="Times New Roman"/>
            </a:endParaRPr>
          </a:p>
          <a:p>
            <a:pPr lvl="2" marL="1143000" indent="-228600">
              <a:lnSpc>
                <a:spcPct val="100000"/>
              </a:lnSpc>
              <a:spcBef>
                <a:spcPts val="400"/>
              </a:spcBef>
              <a:buClr>
                <a:srgbClr val="000000"/>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Ограничение целесообразным минимумом номенклатуры разрешаемых к применению изделий и материалов.</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Courier New"/>
              </a:rPr>
              <a:t>Агрегатирование</a:t>
            </a:r>
            <a:endParaRPr b="0" lang="en-US" sz="4000" spc="-1" strike="noStrike">
              <a:solidFill>
                <a:srgbClr val="000000"/>
              </a:solidFill>
              <a:latin typeface="Times New Roman"/>
            </a:endParaRPr>
          </a:p>
        </p:txBody>
      </p:sp>
      <p:sp>
        <p:nvSpPr>
          <p:cNvPr id="23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Courier New"/>
              </a:rPr>
              <a:t>Агрегатирование- это метод создания машин, приборов и оборудования из отдельных стандартных унифицированных узлов многократно используемых при создании различных изделий на основе геометрической и функциональной взаимозаменяемости</a:t>
            </a:r>
            <a:r>
              <a:rPr b="0" lang="ru-RU" sz="1600" spc="-1" strike="noStrike">
                <a:solidFill>
                  <a:srgbClr val="000000"/>
                </a:solidFill>
                <a:latin typeface="Courier New"/>
              </a:rPr>
              <a:t>.</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Агрегат - законченная часть сложного изделия (двигателя внутреннего сгорания, компрессора, электронасоса и пр.),создаваемого по рациональным параметрическим рядам. Этот метод удешевляет и упрощает ремонт, наладку, ввод в эксплуатацию.</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urier New"/>
              </a:rPr>
              <a:t>В настоящее время на повестке дня переход к производству техники на базе крупных агрегатов - модулей. </a:t>
            </a:r>
            <a:r>
              <a:rPr b="1" lang="ru-RU" sz="1600" spc="-1" strike="noStrike">
                <a:solidFill>
                  <a:srgbClr val="000000"/>
                </a:solidFill>
                <a:latin typeface="Courier New"/>
              </a:rPr>
              <a:t>Модульный принцип распространен в радиоэлектронике и приборостроении</a:t>
            </a:r>
            <a:r>
              <a:rPr b="0" lang="ru-RU" sz="1600" spc="-1" strike="noStrike">
                <a:solidFill>
                  <a:srgbClr val="000000"/>
                </a:solidFill>
                <a:latin typeface="Courier New"/>
              </a:rPr>
              <a:t>, это основной метод создания гибких производственных систем и роботехнических комплексов.</a:t>
            </a:r>
            <a:endParaRPr b="0" lang="en-US" sz="1600" spc="-1" strike="noStrike">
              <a:solidFill>
                <a:srgbClr val="000000"/>
              </a:solidFill>
              <a:latin typeface="Times New Roman"/>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6.Стандартизация  услуг</a:t>
            </a:r>
            <a:endParaRPr b="0" lang="en-US" sz="4400" spc="-1" strike="noStrike">
              <a:solidFill>
                <a:srgbClr val="000000"/>
              </a:solidFill>
              <a:latin typeface="Times New Roman"/>
            </a:endParaRPr>
          </a:p>
        </p:txBody>
      </p:sp>
      <p:sp>
        <p:nvSpPr>
          <p:cNvPr id="23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боты по стандартизации услуг начали проводиться практически с 1992г. Одним из главных механизмов, выбранных Госстандартом России  стала обязательная сертификация.</a:t>
            </a:r>
            <a:endParaRPr b="0" lang="en-US" sz="3200" spc="-1" strike="noStrike">
              <a:solidFill>
                <a:srgbClr val="000000"/>
              </a:solidFill>
              <a:latin typeface="Times New Roman"/>
            </a:endParaRPr>
          </a:p>
        </p:txBody>
      </p:sp>
      <p:sp>
        <p:nvSpPr>
          <p:cNvPr id="23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ретий этап</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ourier New"/>
              </a:rPr>
              <a:t>Оптимизация модели</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lnSpc>
                <a:spcPct val="100000"/>
              </a:lnSpc>
              <a:spcBef>
                <a:spcPts val="499"/>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urier New"/>
              </a:rPr>
              <a:t>В разных организациях варианты исполнения объекта, т.е. документ Б могут быть разными: Б1, Б2,Б3 … Б</a:t>
            </a:r>
            <a:r>
              <a:rPr b="0" lang="en-US" sz="2000" spc="-1" strike="noStrike">
                <a:solidFill>
                  <a:srgbClr val="000000"/>
                </a:solidFill>
                <a:latin typeface="Courier New"/>
              </a:rPr>
              <a:t>n. В частности, возможен разный состав реквизитов, разное их оформление, использование разных бланков и т.п. Задачи стандартизаторов выбрать наилучший вариант состава реквизитов, оптимальный формат бланка, т.е. унифицировать документ. Оптимальное решение достигается общенаучными методами и методами стандартизации (симплификация, типизация и т.п.).</a:t>
            </a:r>
            <a:endParaRPr b="0" lang="en-US" sz="2000" spc="-1" strike="noStrike">
              <a:solidFill>
                <a:srgbClr val="000000"/>
              </a:solidFill>
              <a:latin typeface="Times New Roman"/>
            </a:endParaRPr>
          </a:p>
          <a:p>
            <a:pPr marL="33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Два направления стандартизации услуг</a:t>
            </a:r>
            <a:endParaRPr b="0" lang="en-US" sz="4400" spc="-1" strike="noStrike">
              <a:solidFill>
                <a:srgbClr val="000000"/>
              </a:solidFill>
              <a:latin typeface="Times New Roman"/>
            </a:endParaRPr>
          </a:p>
        </p:txBody>
      </p:sp>
      <p:sp>
        <p:nvSpPr>
          <p:cNvPr id="23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Материальное или объективное качество и соответствующие ему количественные характеристики, т.е., показатели или параметры качества, измеряемые и выражаемые числом и размерностью, имеющие стандартные методы определения (расчетов, анализа, измерений).</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ематериальное или субъективное, и соответствующие ему качественные (не измеряемые) характеристики, зависящие от субъективного восприятия потребителя, оцениваемые экспертами органолептически. Это комфортность. Удобство, эстетика интерьера, этика общения, вежливость, чуткость, доступность персонала, т.е. вся совокупность культуры обслуживания.</a:t>
            </a:r>
            <a:endParaRPr b="0" lang="en-US" sz="2000" spc="-1" strike="noStrike">
              <a:solidFill>
                <a:srgbClr val="000000"/>
              </a:solidFill>
              <a:latin typeface="Times New Roman"/>
            </a:endParaRPr>
          </a:p>
        </p:txBody>
      </p:sp>
      <p:sp>
        <p:nvSpPr>
          <p:cNvPr id="23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нятие «услуга»</a:t>
            </a: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олковые словари дают различные толкования понятия «услуги».</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 Далю «Оказать услугу_это услужить, угодить, быть полезным, сделать нужное, угодное дело».</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словаре Ожегова «Услуга - это действие, приносящее пользу или помощь другому».</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В Большой Советской Энциклопедии «Услуга - это определенная целесообразность деятельности, существующая в форме полезного эффективного труда.</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ормативное определение услуги</a:t>
            </a:r>
            <a:endParaRPr b="0" lang="en-US" sz="4400" spc="-1" strike="noStrike">
              <a:solidFill>
                <a:srgbClr val="000000"/>
              </a:solidFill>
              <a:latin typeface="Times New Roman"/>
            </a:endParaRPr>
          </a:p>
        </p:txBody>
      </p:sp>
      <p:sp>
        <p:nvSpPr>
          <p:cNvPr id="24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ФЗ «О государственном регулировании внешнеторговой деятельности» услугу определяют как «предпринимательскую деятельность, направленную на удовлетворение потребностей других лиц, за исключением деятельности, осуществляемой на основе трудовых правлвоотношений».</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 стандарте МЭК 50 1191-90 «Надежность и качество услуг, термины и определения»услугу выражают как «набор функций, которые организация предлагает потребителю». </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 международному стандарту  ИСО 9004.2.1991»Общее руководство качеством и элементы системы качества. Руководящие указания по услугам» и по ГОСТ Р 50646-94 «Услуги населению, термины и определения»  «Услуга - это результат непосредственного врздействия исполнителя и  потребителя, а также собственная деятельность исполнителя по удовлетворению потребностей потребителя». </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заимосвязь понятий составляющих определение услуги</a:t>
            </a:r>
            <a:endParaRPr b="0" lang="en-US" sz="3200" spc="-1" strike="noStrike">
              <a:solidFill>
                <a:srgbClr val="000000"/>
              </a:solidFill>
              <a:latin typeface="Times New Roman"/>
            </a:endParaRPr>
          </a:p>
        </p:txBody>
      </p:sp>
      <p:sp>
        <p:nvSpPr>
          <p:cNvPr id="24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гражданин,</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рият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аселен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 </a:t>
            </a:r>
            <a:r>
              <a:rPr b="0" lang="ru-RU" sz="2800" spc="-1" strike="noStrike">
                <a:solidFill>
                  <a:srgbClr val="000000"/>
                </a:solidFill>
                <a:latin typeface="Times New Roman"/>
              </a:rPr>
              <a:t>общество)</a:t>
            </a:r>
            <a:endParaRPr b="0" lang="en-US" sz="2800" spc="-1" strike="noStrike">
              <a:solidFill>
                <a:srgbClr val="000000"/>
              </a:solidFill>
              <a:latin typeface="Times New Roman"/>
            </a:endParaRPr>
          </a:p>
        </p:txBody>
      </p:sp>
      <p:sp>
        <p:nvSpPr>
          <p:cNvPr id="247"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сполнитель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ринимател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едприятие</a:t>
            </a:r>
            <a:endParaRPr b="0" lang="en-US" sz="28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отребности </a:t>
            </a:r>
            <a:endParaRPr b="0" lang="en-US" sz="4400" spc="-1" strike="noStrike">
              <a:solidFill>
                <a:srgbClr val="000000"/>
              </a:solidFill>
              <a:latin typeface="Times New Roman"/>
            </a:endParaRPr>
          </a:p>
        </p:txBody>
      </p:sp>
      <p:sp>
        <p:nvSpPr>
          <p:cNvPr id="250"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Times New Roman"/>
              </a:rPr>
              <a:t>Материальные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ещ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ценные бумаг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еньг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недвижимость,</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животны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 др. собственность</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51"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000000"/>
                </a:solidFill>
                <a:uFillTx/>
                <a:latin typeface="Times New Roman"/>
              </a:rPr>
              <a:t>Нематериальные</a:t>
            </a:r>
            <a:r>
              <a:rPr b="0" lang="ru-RU"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нформация,</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здоровь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бразование,</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культурные ценност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 др.</a:t>
            </a:r>
            <a:endParaRPr b="0" lang="en-US" sz="2800" spc="-1" strike="noStrike">
              <a:solidFill>
                <a:srgbClr val="000000"/>
              </a:solidFill>
              <a:latin typeface="Times New Roman"/>
            </a:endParaRPr>
          </a:p>
        </p:txBody>
      </p:sp>
      <p:sp>
        <p:nvSpPr>
          <p:cNvPr id="2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обственная деятельность исполнителя</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Обслуживание,</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аркетинг,</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ехнология,</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оектирование,</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атериальное обеспечение, </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енеджмент качества,</a:t>
            </a:r>
            <a:endParaRPr b="0" lang="en-US" sz="3200" spc="-1" strike="noStrike">
              <a:solidFill>
                <a:srgbClr val="000000"/>
              </a:solidFill>
              <a:latin typeface="Times New Roman"/>
            </a:endParaRPr>
          </a:p>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остановка на производство и др.</a:t>
            </a:r>
            <a:endParaRPr b="0" lang="en-US" sz="3200" spc="-1" strike="noStrike">
              <a:solidFill>
                <a:srgbClr val="000000"/>
              </a:solidFill>
              <a:latin typeface="Times New Roman"/>
            </a:endParaRPr>
          </a:p>
        </p:txBody>
      </p:sp>
      <p:sp>
        <p:nvSpPr>
          <p:cNvPr id="2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Результат услуги</a:t>
            </a:r>
            <a:endParaRPr b="0" lang="en-US" sz="4400" spc="-1" strike="noStrike">
              <a:solidFill>
                <a:srgbClr val="000000"/>
              </a:solidFill>
              <a:latin typeface="Times New Roman"/>
            </a:endParaRPr>
          </a:p>
        </p:txBody>
      </p:sp>
      <p:sp>
        <p:nvSpPr>
          <p:cNvPr id="25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змененное состояние объекта услуги,</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довлетворение материальных потребносте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довлетворение нематериальных потребностей.</a:t>
            </a:r>
            <a:endParaRPr b="0" lang="en-US" sz="3200" spc="-1" strike="noStrike">
              <a:solidFill>
                <a:srgbClr val="000000"/>
              </a:solidFill>
              <a:latin typeface="Times New Roman"/>
            </a:endParaRPr>
          </a:p>
        </p:txBody>
      </p:sp>
      <p:sp>
        <p:nvSpPr>
          <p:cNvPr id="2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Законодательство в сфере услуг</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 каждую высшую группу услуг по ОКП 002-93 «Общероссийский классификатор услуг населению» имеются один или несколько законов и федеральных правил обслуживания (нормативно-правовых актов). В них фиксируются современные требования безопасности качества услуг и обслуживания.</a:t>
            </a:r>
            <a:endParaRPr b="0" lang="en-US" sz="3200" spc="-1" strike="noStrike">
              <a:solidFill>
                <a:srgbClr val="000000"/>
              </a:solidFill>
              <a:latin typeface="Times New Roman"/>
            </a:endParaRPr>
          </a:p>
        </p:txBody>
      </p:sp>
      <p:sp>
        <p:nvSpPr>
          <p:cNvPr id="2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Основополагающий международный документ по услугам</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Генеральное соглашение по торговле услугами (ГАТС), введенное в действие в 1995г. Всемирной торговой организацией ВТО), стимулирует мировую торговлю, правовое и нормативное обеспечение качества услуг, а также подтверждение услуг установленным требованиям. </a:t>
            </a:r>
            <a:endParaRPr b="0" lang="en-US" sz="3200" spc="-1" strike="noStrike">
              <a:solidFill>
                <a:srgbClr val="000000"/>
              </a:solidFill>
              <a:latin typeface="Times New Roman"/>
            </a:endParaRPr>
          </a:p>
        </p:txBody>
      </p:sp>
      <p:sp>
        <p:nvSpPr>
          <p:cNvPr id="26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ребование эргономичности услуг розничной торговли</a:t>
            </a: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Требования эргономичности являются проявлением требований совместимости применительно к системе «покупатель-торговое помещение-продавец»</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Комфортность и удобство при совершении покупки</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гигиенические требования - к уровню освещенности, вентилируемости, запыленности, шума в торговых помещениях;</a:t>
            </a:r>
            <a:endParaRPr b="0" lang="en-US" sz="2400" spc="-1" strike="noStrike">
              <a:solidFill>
                <a:srgbClr val="000000"/>
              </a:solidFill>
              <a:latin typeface="Times New Roman"/>
            </a:endParaRPr>
          </a:p>
          <a:p>
            <a:pPr marL="332640" indent="-3326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анитарно-гигиенические требования к персоналу;</a:t>
            </a:r>
            <a:endParaRPr b="0" lang="en-US" sz="2400" spc="-1" strike="noStrike">
              <a:solidFill>
                <a:srgbClr val="000000"/>
              </a:solidFill>
              <a:latin typeface="Times New Roman"/>
            </a:endParaRPr>
          </a:p>
          <a:p>
            <a:pPr marL="332640" indent="-332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санитарные требования к содержанию помещений и торгового оборудования.</a:t>
            </a:r>
            <a:r>
              <a:rPr b="0" lang="ru-RU"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Четвертый этап</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6000"/>
          </a:bodyPr>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Стандартизация модел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На заключительном этапе осуществляется стандартизация - разработка нормативного документа (НД) на базе унифицированной модел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Сущность механизма стандартизации отражена в стандартизированном определении:</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Стандартизация</a:t>
            </a:r>
            <a:r>
              <a:rPr b="0" lang="en-US" sz="1800" spc="-1" strike="noStrike">
                <a:solidFill>
                  <a:srgbClr val="000000"/>
                </a:solidFill>
                <a:latin typeface="Courier New"/>
              </a:rPr>
              <a:t> </a:t>
            </a:r>
            <a:r>
              <a:rPr b="0" i="1" lang="en-US" sz="1800" spc="-1" strike="noStrike" u="sng">
                <a:solidFill>
                  <a:srgbClr val="000000"/>
                </a:solidFill>
                <a:uFillTx/>
                <a:latin typeface="Courier New"/>
              </a:rPr>
              <a:t>- </a:t>
            </a:r>
            <a:r>
              <a:rPr b="1" lang="en-US" sz="1800" spc="-1" strike="noStrike" u="sng">
                <a:solidFill>
                  <a:srgbClr val="000000"/>
                </a:solidFill>
                <a:uFillTx/>
                <a:latin typeface="Courier New"/>
              </a:rPr>
              <a:t>деятельность, направленная на достижение оптимальной степени упорядочения в определенной области посредством установления положений для всеобщего и многократного использования в отношении реально существующих или потенциальных задач.</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Применение  Нормативных Документов является </a:t>
            </a:r>
            <a:r>
              <a:rPr b="1" lang="en-US" sz="1800" spc="-1" strike="noStrike" u="sng">
                <a:solidFill>
                  <a:srgbClr val="000000"/>
                </a:solidFill>
                <a:uFillTx/>
                <a:latin typeface="Courier New"/>
              </a:rPr>
              <a:t>способом упорядочения</a:t>
            </a:r>
            <a:r>
              <a:rPr b="1" lang="en-US" sz="1800" spc="-1" strike="noStrike">
                <a:solidFill>
                  <a:srgbClr val="000000"/>
                </a:solidFill>
                <a:latin typeface="Courier New"/>
              </a:rPr>
              <a:t> в определенной области. Отсюда НД - средство стандартизации.</a:t>
            </a:r>
            <a:endParaRPr b="0" lang="en-US" sz="1800" spc="-1" strike="noStrike">
              <a:solidFill>
                <a:srgbClr val="000000"/>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a:t>
            </a:r>
            <a:r>
              <a:rPr b="0" lang="en-US" sz="4400" spc="-1" strike="noStrike">
                <a:solidFill>
                  <a:srgbClr val="000000"/>
                </a:solidFill>
                <a:latin typeface="Times New Roman"/>
              </a:rPr>
              <a:t> </a:t>
            </a:r>
            <a:r>
              <a:rPr b="0" lang="ru-RU" sz="4400" spc="-1" strike="noStrike">
                <a:solidFill>
                  <a:srgbClr val="000000"/>
                </a:solidFill>
                <a:latin typeface="Times New Roman"/>
              </a:rPr>
              <a:t>7. Стандартизация страховой деятельности</a:t>
            </a: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ние заключается в предоставлении страховой компанией за оговоренную договором страховую плату (страховой взнос) финансовой защиты субъектов хозяйствования и граждан от наступления страхового события в результате конкретного застрахованного риска.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Имущественные интересы и страхование</a:t>
            </a:r>
            <a:endParaRPr b="0" lang="en-US" sz="40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ние – особый вид экономической деятельности, связанный с перераспределением риска нанесения вреда имущественным интересам среди участников страхования  и осуществляемой специализированными организациями.</a:t>
            </a:r>
            <a:endParaRPr b="0" lang="en-US" sz="3200" spc="-1" strike="noStrike">
              <a:solidFill>
                <a:srgbClr val="000000"/>
              </a:solidFill>
              <a:latin typeface="Times New Roman"/>
            </a:endParaRPr>
          </a:p>
        </p:txBody>
      </p:sp>
      <p:sp>
        <p:nvSpPr>
          <p:cNvPr id="2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Государственное регулирование страхования</a:t>
            </a:r>
            <a:endParaRPr b="0" lang="en-US" sz="4000" spc="-1" strike="noStrike">
              <a:solidFill>
                <a:srgbClr val="000000"/>
              </a:solidFill>
              <a:latin typeface="Times New Roman"/>
            </a:endParaRPr>
          </a:p>
        </p:txBody>
      </p:sp>
      <p:sp>
        <p:nvSpPr>
          <p:cNvPr id="2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 соответствии с Гражданским кодексом и Законом «Об организации страхового дела в Российской Федерации» от 27.11.19992г. №4015-1 страхование может быть добровольным и обязательным.</a:t>
            </a:r>
            <a:endParaRPr b="0" lang="en-US" sz="3200" spc="-1" strike="noStrike">
              <a:solidFill>
                <a:srgbClr val="000000"/>
              </a:solidFill>
              <a:latin typeface="Times New Roman"/>
            </a:endParaRPr>
          </a:p>
        </p:txBody>
      </p:sp>
      <p:sp>
        <p:nvSpPr>
          <p:cNvPr id="2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убъекты страхования</a:t>
            </a:r>
            <a:endParaRPr b="0" lang="en-US" sz="4400" spc="-1" strike="noStrike">
              <a:solidFill>
                <a:srgbClr val="000000"/>
              </a:solidFill>
              <a:latin typeface="Times New Roman"/>
            </a:endParaRPr>
          </a:p>
        </p:txBody>
      </p:sp>
      <p:sp>
        <p:nvSpPr>
          <p:cNvPr id="27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я компан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редприятие (организац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вестор, кредитор;</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ерсонал;</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уководств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кционеры.</a:t>
            </a:r>
            <a:endParaRPr b="0" lang="en-US" sz="3200" spc="-1" strike="noStrike">
              <a:solidFill>
                <a:srgbClr val="000000"/>
              </a:solidFill>
              <a:latin typeface="Times New Roman"/>
            </a:endParaRPr>
          </a:p>
        </p:txBody>
      </p:sp>
      <p:sp>
        <p:nvSpPr>
          <p:cNvPr id="2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Объекты страхования</a:t>
            </a: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Юридические лиц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Физические лиц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ынок.</a:t>
            </a:r>
            <a:endParaRPr b="0" lang="en-US" sz="3200" spc="-1" strike="noStrike">
              <a:solidFill>
                <a:srgbClr val="000000"/>
              </a:solidFill>
              <a:latin typeface="Times New Roman"/>
            </a:endParaRPr>
          </a:p>
        </p:txBody>
      </p:sp>
      <p:sp>
        <p:nvSpPr>
          <p:cNvPr id="28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Сфера страховых интересов</a:t>
            </a:r>
            <a:endParaRPr b="0" lang="en-US" sz="4400" spc="-1" strike="noStrike">
              <a:solidFill>
                <a:srgbClr val="000000"/>
              </a:solidFill>
              <a:latin typeface="Times New Roman"/>
            </a:endParaRPr>
          </a:p>
        </p:txBody>
      </p:sp>
      <p:sp>
        <p:nvSpPr>
          <p:cNvPr id="2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Жизнь и здоровь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муществ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ент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аработок;</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Пенсия.</a:t>
            </a:r>
            <a:endParaRPr b="0" lang="en-US" sz="3200" spc="-1" strike="noStrike">
              <a:solidFill>
                <a:srgbClr val="000000"/>
              </a:solidFill>
              <a:latin typeface="Times New Roman"/>
            </a:endParaRPr>
          </a:p>
        </p:txBody>
      </p:sp>
      <p:sp>
        <p:nvSpPr>
          <p:cNvPr id="28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Движимое имущество</a:t>
            </a: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редства транспорт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Личное имущество;</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ельскохозяйственного и иного производств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омашние и сельскохозяйственные животные.</a:t>
            </a:r>
            <a:endParaRPr b="0" lang="en-US" sz="3200" spc="-1" strike="noStrike">
              <a:solidFill>
                <a:srgbClr val="000000"/>
              </a:solidFill>
              <a:latin typeface="Times New Roman"/>
            </a:endParaRPr>
          </a:p>
        </p:txBody>
      </p:sp>
      <p:sp>
        <p:nvSpPr>
          <p:cNvPr id="2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Недвижимое имущество</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вартира, включая отделку;</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ача, садовый дом, гараж;</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емельные угодь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ые объекты недвижимого имуществ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теллектуальная собственность.</a:t>
            </a:r>
            <a:endParaRPr b="0" lang="en-US" sz="3200" spc="-1" strike="noStrike">
              <a:solidFill>
                <a:srgbClr val="000000"/>
              </a:solidFill>
              <a:latin typeface="Times New Roman"/>
            </a:endParaRPr>
          </a:p>
        </p:txBody>
      </p:sp>
      <p:sp>
        <p:nvSpPr>
          <p:cNvPr id="2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Жизнь и здоровье</a:t>
            </a:r>
            <a:br>
              <a:rPr sz="4000"/>
            </a:br>
            <a:endParaRPr b="0" lang="en-US" sz="4000" spc="-1" strike="noStrike">
              <a:solidFill>
                <a:srgbClr val="000000"/>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есчастный случай;</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едицина;</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аработок во время болезни</a:t>
            </a:r>
            <a:endParaRPr b="0" lang="en-US" sz="3200" spc="-1" strike="noStrike">
              <a:solidFill>
                <a:srgbClr val="000000"/>
              </a:solidFill>
              <a:latin typeface="Times New Roman"/>
            </a:endParaRPr>
          </a:p>
        </p:txBody>
      </p:sp>
      <p:sp>
        <p:nvSpPr>
          <p:cNvPr id="2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Пенсия </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ополнительная пенс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копительное страховани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Дополнительное пособие по безработиц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акопительное страхование;</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хование к определенному событию.</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Объективный закон стандартизации</a:t>
            </a:r>
            <a:endParaRPr b="0" lang="en-US" sz="32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rPr>
              <a:t>Объективный закон стандартизации</a:t>
            </a:r>
            <a:r>
              <a:rPr b="0" lang="ru-RU" sz="1800" spc="-1" strike="noStrike">
                <a:solidFill>
                  <a:srgbClr val="000000"/>
                </a:solidFill>
                <a:latin typeface="Courier New"/>
              </a:rPr>
              <a:t> это социально-экономическая необходимость своевременного обобществления новых позитивных результатов творческого интеллектуально-технического труда исследователей и разработчиков в форме НТИ.</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Для обеспечения оптимального функционирования экономики страны и мирового сообщества в  целом</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необходимо своевременное обобществления позитивных результатов НТР и НТП путем разработки новых и обновления действующих стандартов.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Чем выше категория стандарта, тем выше уровень обобществления НТР и НТП. Этот объективный закон стандартизации действует практически во всех отраслях и сферах экономики.</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8. Стандартизация банковской деятельности</a:t>
            </a:r>
            <a:endParaRPr b="0" lang="en-US" sz="4400" spc="-1" strike="noStrike">
              <a:solidFill>
                <a:srgbClr val="000000"/>
              </a:solidFill>
              <a:latin typeface="Times New Roman"/>
            </a:endParaRPr>
          </a:p>
        </p:txBody>
      </p:sp>
      <p:sp>
        <p:nvSpPr>
          <p:cNvPr id="2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Times New Roman"/>
              </a:rPr>
              <a:t>Тема 9. Международные стандарты финансовой отчетности предприятий</a:t>
            </a:r>
            <a:r>
              <a:rPr b="0" lang="ru-R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Унификация финансовой отчетности предприятий диктуется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Необходимостью объективной информации о состоянии дел на предприяти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асширением взаимосвязей прендприятия с инфраструктурой, увеличением круга пользователей.</a:t>
            </a:r>
            <a:endParaRPr b="0" lang="en-US" sz="3200" spc="-1" strike="noStrike">
              <a:solidFill>
                <a:srgbClr val="000000"/>
              </a:solidFill>
              <a:latin typeface="Times New Roman"/>
            </a:endParaRPr>
          </a:p>
        </p:txBody>
      </p:sp>
      <p:sp>
        <p:nvSpPr>
          <p:cNvPr id="3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Трехмодульная классификация учетных систем</a:t>
            </a:r>
            <a:endParaRPr b="0" lang="en-US" sz="4000" spc="-1" strike="noStrike">
              <a:solidFill>
                <a:srgbClr val="000000"/>
              </a:solidFill>
              <a:latin typeface="Times New Roman"/>
            </a:endParaRPr>
          </a:p>
        </p:txBody>
      </p:sp>
      <p:sp>
        <p:nvSpPr>
          <p:cNvPr id="30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Британско-американская модель(Великобритания, США, Нидерланды, Канада, Австрал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нтинентальная модель (Германия, Австрия, Франция, Швейцария);</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Южноамериканская модель (Бразилия, Аргентина, Боливия).</a:t>
            </a:r>
            <a:endParaRPr b="0" lang="en-US" sz="3200" spc="-1" strike="noStrike">
              <a:solidFill>
                <a:srgbClr val="000000"/>
              </a:solidFill>
              <a:latin typeface="Times New Roman"/>
            </a:endParaRPr>
          </a:p>
        </p:txBody>
      </p:sp>
      <p:sp>
        <p:nvSpPr>
          <p:cNvPr id="30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еждународные стандарты учета</a:t>
            </a:r>
            <a:endParaRPr b="0" lang="en-US" sz="4000" spc="-1" strike="noStrike">
              <a:solidFill>
                <a:srgbClr val="000000"/>
              </a:solidFill>
              <a:latin typeface="Times New Roman"/>
            </a:endParaRPr>
          </a:p>
        </p:txBody>
      </p:sp>
      <p:sp>
        <p:nvSpPr>
          <p:cNvPr id="30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еждународные стандарты учета представляют собой документы, определяющие общий подход к составлению финансовой отчетности и предлагающие варианты учета отдельных средств или операций предприятий (свод компромиссных и весьма общих вариантов ведения учета). </a:t>
            </a:r>
            <a:endParaRPr b="0" lang="en-US" sz="3200" spc="-1" strike="noStrike">
              <a:solidFill>
                <a:srgbClr val="000000"/>
              </a:solidFill>
              <a:latin typeface="Times New Roman"/>
            </a:endParaRPr>
          </a:p>
        </p:txBody>
      </p:sp>
      <p:sp>
        <p:nvSpPr>
          <p:cNvPr id="3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Кредиторы </a:t>
            </a: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редиторы временно предоставляют компании ссуду в обмен на некий доход (выраженный в процентах или фиксорованной сумме).</a:t>
            </a:r>
            <a:endParaRPr b="0" lang="en-US" sz="3200" spc="-1" strike="noStrike">
              <a:solidFill>
                <a:srgbClr val="000000"/>
              </a:solidFill>
              <a:latin typeface="Times New Roman"/>
            </a:endParaRPr>
          </a:p>
        </p:txBody>
      </p:sp>
      <p:sp>
        <p:nvSpPr>
          <p:cNvPr id="31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Инвесторы </a:t>
            </a: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Инвесторы вкладывают в компанию свой капитал с определенной долей риска в целях получения дохода на него и нуждающиеся в информации, позволяющей на основании которой они будут решать, целесообразно ли покупать, держать на руках или продать свои акции данной компании.</a:t>
            </a:r>
            <a:endParaRPr b="0" lang="en-US" sz="3200" spc="-1" strike="noStrike">
              <a:solidFill>
                <a:srgbClr val="000000"/>
              </a:solidFill>
              <a:latin typeface="Times New Roman"/>
            </a:endParaRPr>
          </a:p>
        </p:txBody>
      </p:sp>
      <p:sp>
        <p:nvSpPr>
          <p:cNvPr id="3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Этапы создания МС</a:t>
            </a: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роцесс создания международных стандартов учета предшествуют следующие этап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ервый – выбор объекта стандартизаци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Второй – определение содержания работы;</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ретий – изучение научных разработок и практических решений;</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Четвертый – анализ собранного материала.</a:t>
            </a:r>
            <a:endParaRPr b="0" lang="en-US" sz="2800" spc="-1" strike="noStrike">
              <a:solidFill>
                <a:srgbClr val="000000"/>
              </a:solidFill>
              <a:latin typeface="Times New Roman"/>
            </a:endParaRPr>
          </a:p>
        </p:txBody>
      </p:sp>
      <p:sp>
        <p:nvSpPr>
          <p:cNvPr id="3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Группы МСФО</a:t>
            </a:r>
            <a:endParaRPr b="0" lang="en-US" sz="44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СФО можно объединить в группы, характеризующиеся единой направленностью в деле стандартизации учета:</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1-я – определение порядка ведения учета на предприятии;</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2-я – регулирование организации учета материальных ценностей и нематериальных активов;</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3-я – отражение движения денежных компани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4-я – регламентирование учета инвестици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5-я – отражение результата деятельности компании и ее финансового положения.</a:t>
            </a:r>
            <a:endParaRPr b="0" lang="en-US" sz="2400" spc="-1" strike="noStrike">
              <a:solidFill>
                <a:srgbClr val="000000"/>
              </a:solidFill>
              <a:latin typeface="Times New Roman"/>
            </a:endParaRPr>
          </a:p>
        </p:txBody>
      </p:sp>
      <p:sp>
        <p:nvSpPr>
          <p:cNvPr id="3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Раскрытие политики бухгалтерского учета МСФО-1</a:t>
            </a:r>
            <a:endParaRPr b="0" lang="en-US" sz="4000" spc="-1" strike="noStrike">
              <a:solidFill>
                <a:srgbClr val="000000"/>
              </a:solidFill>
              <a:latin typeface="Times New Roman"/>
            </a:endParaRPr>
          </a:p>
        </p:txBody>
      </p:sp>
      <p:sp>
        <p:nvSpPr>
          <p:cNvPr id="32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Ясное и краткое раскрытие всех важных положений учетной политики;</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Данные, соответствующие предшествующему периоду;</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тражение изменений в учетной политике, имеющих материальный эффект в текущем периоде или способных на последующие периоды, с указанием причин и результатов этих изменений.</a:t>
            </a:r>
            <a:endParaRPr b="0" lang="en-US" sz="2800" spc="-1" strike="noStrike">
              <a:solidFill>
                <a:srgbClr val="000000"/>
              </a:solidFill>
              <a:latin typeface="Times New Roman"/>
            </a:endParaRPr>
          </a:p>
        </p:txBody>
      </p:sp>
      <p:sp>
        <p:nvSpPr>
          <p:cNvPr id="3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СФО 2 – товарно-материальные запасы</a:t>
            </a:r>
            <a:endParaRPr b="0" lang="en-US" sz="4000" spc="-1" strike="noStrike">
              <a:solidFill>
                <a:srgbClr val="000000"/>
              </a:solidFill>
              <a:latin typeface="Times New Roman"/>
            </a:endParaRPr>
          </a:p>
        </p:txBody>
      </p:sp>
      <p:sp>
        <p:nvSpPr>
          <p:cNvPr id="32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товарно-материальные запасы (ТМЗ) – это осязаемое преимущество, предназначенное для продажи в ходе обычной коммерческой деятельности или находящееся в процессе производства с целью такой продажи или израсходованное при производстве товаров или услуг для реализации.</a:t>
            </a:r>
            <a:endParaRPr b="0" lang="en-US" sz="3200" spc="-1" strike="noStrike">
              <a:solidFill>
                <a:srgbClr val="000000"/>
              </a:solidFill>
              <a:latin typeface="Times New Roman"/>
            </a:endParaRPr>
          </a:p>
        </p:txBody>
      </p:sp>
      <p:sp>
        <p:nvSpPr>
          <p:cNvPr id="32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urier New"/>
              </a:rPr>
              <a:t>Главный методологический принцип стандартизации</a:t>
            </a:r>
            <a:endParaRPr b="0" lang="en-US" sz="32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u="sng">
                <a:solidFill>
                  <a:srgbClr val="000000"/>
                </a:solidFill>
                <a:uFillTx/>
                <a:latin typeface="Courier New"/>
              </a:rPr>
              <a:t>Главный методологический принцип стандартизации</a:t>
            </a:r>
            <a:r>
              <a:rPr b="0" lang="ru-RU" sz="1800" spc="-1" strike="noStrike">
                <a:solidFill>
                  <a:srgbClr val="000000"/>
                </a:solidFill>
                <a:latin typeface="Courier New"/>
              </a:rPr>
              <a:t> - это принцип обязательности разработки новых и обновления действующих стандартов. При несоблюдении главного регулятивного методологического принципа стандартизации, деятельность по стандартизации является либо преждевременной либо запаздывающей (послевременной).</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urier New"/>
              </a:rPr>
              <a:t>Для эффективности всей технической нормотворческой  и нормоприменительной деятельности вопрос о правильном выборе времени начала разработки нового стандарта или обновления действующего имеет определяющее значение.</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СФО 7 – отчет о движении денежных средств</a:t>
            </a:r>
            <a:endParaRPr b="0" lang="en-US" sz="4000" spc="-1" strike="noStrike">
              <a:solidFill>
                <a:srgbClr val="000000"/>
              </a:solidFill>
              <a:latin typeface="Times New Roman"/>
            </a:endParaRPr>
          </a:p>
        </p:txBody>
      </p:sp>
      <p:sp>
        <p:nvSpPr>
          <p:cNvPr id="32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сновные категории, по которым необходимо отражать движение денежных средств:</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перационная деятельность;</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Инвестиционная и финансовая деятельность;</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Операции с иностранной валюто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епредвиденные статьи;</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оценты и дивиденды;</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Налог на прибыль;</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риобретение и продажа дочерних компаний;</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Безналичные сделки.</a:t>
            </a:r>
            <a:endParaRPr b="0" lang="en-US" sz="2400" spc="-1" strike="noStrike">
              <a:solidFill>
                <a:srgbClr val="000000"/>
              </a:solidFill>
              <a:latin typeface="Times New Roman"/>
            </a:endParaRPr>
          </a:p>
        </p:txBody>
      </p:sp>
      <p:sp>
        <p:nvSpPr>
          <p:cNvPr id="3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Тема 10. Стандартизация и маркетинг </a:t>
            </a:r>
            <a:endParaRPr b="0" lang="en-US" sz="4400" spc="-1" strike="noStrike">
              <a:solidFill>
                <a:srgbClr val="000000"/>
              </a:solidFill>
              <a:latin typeface="Times New Roman"/>
            </a:endParaRPr>
          </a:p>
        </p:txBody>
      </p:sp>
      <p:sp>
        <p:nvSpPr>
          <p:cNvPr id="332"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Объектами исследования являются:</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Товар;</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Потребитель;</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Емкость рынка;</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прос;</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Условия конкуренции;</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Методы сбыта;</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егментация рынка.</a:t>
            </a:r>
            <a:endParaRPr b="0" lang="en-US" sz="2800" spc="-1" strike="noStrike">
              <a:solidFill>
                <a:srgbClr val="000000"/>
              </a:solidFill>
              <a:latin typeface="Times New Roman"/>
            </a:endParaRPr>
          </a:p>
        </p:txBody>
      </p:sp>
      <p:sp>
        <p:nvSpPr>
          <p:cNvPr id="33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Times New Roman"/>
              </a:rPr>
              <a:t>Фазы жизненного цикла</a:t>
            </a:r>
            <a:endParaRPr b="0" lang="en-US" sz="4400" spc="-1" strike="noStrike">
              <a:solidFill>
                <a:srgbClr val="000000"/>
              </a:solidFill>
              <a:latin typeface="Times New Roman"/>
            </a:endParaRPr>
          </a:p>
        </p:txBody>
      </p:sp>
      <p:sp>
        <p:nvSpPr>
          <p:cNvPr id="33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Внедрение – стандартизация отсутствует;</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Рост продаж – низкая, начальная. Появление базовой модел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Зрелость – высокая. Стандартизация базовой модели;</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пад и уход с рынка – работы по стандартизации не ведутся.</a:t>
            </a:r>
            <a:endParaRPr b="0" lang="en-US" sz="3200" spc="-1" strike="noStrike">
              <a:solidFill>
                <a:srgbClr val="000000"/>
              </a:solidFill>
              <a:latin typeface="Times New Roman"/>
            </a:endParaRPr>
          </a:p>
        </p:txBody>
      </p:sp>
      <p:sp>
        <p:nvSpPr>
          <p:cNvPr id="3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Цель стандартизации методов маркетинговых исследований</a:t>
            </a:r>
            <a:endParaRPr b="0" lang="en-US" sz="4000" spc="-1" strike="noStrike">
              <a:solidFill>
                <a:srgbClr val="000000"/>
              </a:solidFill>
              <a:latin typeface="Times New Roman"/>
            </a:endParaRPr>
          </a:p>
        </p:txBody>
      </p:sp>
      <p:sp>
        <p:nvSpPr>
          <p:cNvPr id="3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Цель стандартизации методов маркетинговых исследований – унификация процедур и оптимизация методов изучения рынка.</a:t>
            </a:r>
            <a:endParaRPr b="0" lang="en-US" sz="3200" spc="-1" strike="noStrike">
              <a:solidFill>
                <a:srgbClr val="000000"/>
              </a:solidFill>
              <a:latin typeface="Times New Roman"/>
            </a:endParaRPr>
          </a:p>
        </p:txBody>
      </p:sp>
      <p:sp>
        <p:nvSpPr>
          <p:cNvPr id="3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новых высокотехнологичных товаров</a:t>
            </a:r>
            <a:endParaRPr b="0" lang="en-US" sz="4000" spc="-1" strike="noStrike">
              <a:solidFill>
                <a:srgbClr val="000000"/>
              </a:solidFill>
              <a:latin typeface="Times New Roman"/>
            </a:endParaRPr>
          </a:p>
        </p:txBody>
      </p:sp>
      <p:sp>
        <p:nvSpPr>
          <p:cNvPr id="34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Стандартизация новых высокотехнологичных товаров, не имеющих аналогов на мировом рынке, т.е. производимых на базе изобретений (открытий).</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rPr>
              <a:t>Их качественные характеристики, содержащиеся  в стандарте фирмы- изготовителя отражают высокий уровень новизны технологии (нередко – технологический прорыв).</a:t>
            </a:r>
            <a:endParaRPr b="0" lang="en-US" sz="2800" spc="-1" strike="noStrike">
              <a:solidFill>
                <a:srgbClr val="000000"/>
              </a:solidFill>
              <a:latin typeface="Times New Roman"/>
            </a:endParaRPr>
          </a:p>
        </p:txBody>
      </p:sp>
      <p:sp>
        <p:nvSpPr>
          <p:cNvPr id="3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Концепция глобального маркетинга</a:t>
            </a:r>
            <a:endParaRPr b="0" lang="en-US" sz="4000" spc="-1" strike="noStrike">
              <a:solidFill>
                <a:srgbClr val="000000"/>
              </a:solidFill>
              <a:latin typeface="Times New Roman"/>
            </a:endParaRPr>
          </a:p>
        </p:txBody>
      </p:sp>
      <p:sp>
        <p:nvSpPr>
          <p:cNvPr id="34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Концепция глобального маркетинга рассматривает мировой рынок как единое целое, выделяя национальные сегменты на основе их сходных характеристик, а не отличительных особенностей.</a:t>
            </a:r>
            <a:endParaRPr b="0" lang="en-US" sz="3200" spc="-1" strike="noStrike">
              <a:solidFill>
                <a:srgbClr val="000000"/>
              </a:solidFill>
              <a:latin typeface="Times New Roman"/>
            </a:endParaRPr>
          </a:p>
        </p:txBody>
      </p:sp>
      <p:sp>
        <p:nvSpPr>
          <p:cNvPr id="3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и приоритет потребителя</a:t>
            </a:r>
            <a:endParaRPr b="0" lang="en-US" sz="4000" spc="-1" strike="noStrike">
              <a:solidFill>
                <a:srgbClr val="000000"/>
              </a:solidFill>
              <a:latin typeface="Times New Roman"/>
            </a:endParaRPr>
          </a:p>
        </p:txBody>
      </p:sp>
      <p:sp>
        <p:nvSpPr>
          <p:cNvPr id="34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ратегия стандартизации в данном аспекте  - «вталкивание товаров» - разработка и выведение на рынок высокотехнологичных товаров, либо замена абсолютно новых, либо коренным образом усовершенствованных на базе изобретений.</a:t>
            </a:r>
            <a:endParaRPr b="0" lang="en-US" sz="3200" spc="-1" strike="noStrike">
              <a:solidFill>
                <a:srgbClr val="000000"/>
              </a:solidFill>
              <a:latin typeface="Times New Roman"/>
            </a:endParaRPr>
          </a:p>
        </p:txBody>
      </p:sp>
      <p:sp>
        <p:nvSpPr>
          <p:cNvPr id="3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Приоритетная задача маркетинга</a:t>
            </a:r>
            <a:endParaRPr b="0" lang="en-US" sz="4000" spc="-1" strike="noStrike">
              <a:solidFill>
                <a:srgbClr val="000000"/>
              </a:solidFill>
              <a:latin typeface="Times New Roman"/>
            </a:endParaRPr>
          </a:p>
        </p:txBody>
      </p:sp>
      <p:sp>
        <p:nvSpPr>
          <p:cNvPr id="3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Актуальность сочетания стандартизации и дифференциации в международном маркетинге приобретает не только товар, но и комплекс маркетинга (глобальный и мультинациональный маркетинг)</a:t>
            </a:r>
            <a:endParaRPr b="0" lang="en-US" sz="3200" spc="-1" strike="noStrike">
              <a:solidFill>
                <a:srgbClr val="000000"/>
              </a:solidFill>
              <a:latin typeface="Times New Roman"/>
            </a:endParaRPr>
          </a:p>
        </p:txBody>
      </p:sp>
      <p:sp>
        <p:nvSpPr>
          <p:cNvPr id="3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Мультинациональный маркетинг</a:t>
            </a:r>
            <a:endParaRPr b="0" lang="en-US" sz="4000" spc="-1" strike="noStrike">
              <a:solidFill>
                <a:srgbClr val="000000"/>
              </a:solidFill>
              <a:latin typeface="Times New Roman"/>
            </a:endParaRPr>
          </a:p>
        </p:txBody>
      </p:sp>
      <p:sp>
        <p:nvSpPr>
          <p:cNvPr id="3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Мультинациональный маркетинг – международный маркетинг, учитывающий различия в предпочтениях потребителей, которые во многом связаны с национальными чертами, определяющими поведенческие особенности.</a:t>
            </a:r>
            <a:endParaRPr b="0" lang="en-US" sz="3200" spc="-1" strike="noStrike">
              <a:solidFill>
                <a:srgbClr val="000000"/>
              </a:solidFill>
              <a:latin typeface="Times New Roman"/>
            </a:endParaRPr>
          </a:p>
        </p:txBody>
      </p:sp>
      <p:sp>
        <p:nvSpPr>
          <p:cNvPr id="3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Times New Roman"/>
              </a:rPr>
              <a:t>Стандартизация комплекса маркетинга</a:t>
            </a:r>
            <a:endParaRPr b="0" lang="en-US" sz="4000" spc="-1" strike="noStrike">
              <a:solidFill>
                <a:srgbClr val="000000"/>
              </a:solidFill>
              <a:latin typeface="Times New Roman"/>
            </a:endParaRPr>
          </a:p>
        </p:txBody>
      </p:sp>
      <p:sp>
        <p:nvSpPr>
          <p:cNvPr id="3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rPr>
              <a:t>Стандартизация комплекса маркетинга (операционного) возможна, если в глобальном маркетинге товар стандартизован, но составляющие комплекса маркетинга фирма вынуждена адаптировать, особенно это касается сбытовой политики.</a:t>
            </a:r>
            <a:endParaRPr b="0" lang="en-US" sz="3200" spc="-1" strike="noStrike">
              <a:solidFill>
                <a:srgbClr val="000000"/>
              </a:solidFill>
              <a:latin typeface="Times New Roman"/>
            </a:endParaRPr>
          </a:p>
        </p:txBody>
      </p:sp>
      <p:sp>
        <p:nvSpPr>
          <p:cNvPr id="35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www.sliderpoint.org</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2T08:07:53Z</dcterms:created>
  <dc:creator>ks</dc:creator>
  <dc:description/>
  <dc:language>en-US</dc:language>
  <cp:lastModifiedBy>LEGION</cp:lastModifiedBy>
  <dcterms:modified xsi:type="dcterms:W3CDTF">2016-01-05T12:47:42Z</dcterms:modified>
  <cp:revision>44</cp:revision>
  <dc:subject/>
  <dc:title>- Стандартизация в различных сферах</dc:title>
</cp:coreProperties>
</file>