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1D9B-543B-4F46-A01C-CC7CBBB3F7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след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ая задача – показать, что введение технического регламента окажет положительное воздействие на экономику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ожительный экономический эффект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рицательный эффект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левой эффект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ужны дополнительные расчеты – происходит повышение уровня риска со снижением общих затрат либо его понижение при росте затрат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е поле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заинтересованны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результатов анали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актические результат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Методические рекомендации по разработке и подготовке к принятию проектов технических регламентов (утверждены Приказом Минпромэнерго России от 12 апреля 2006 года №78 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количественной оцен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явленные проблем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и: С.Б. Авдашева (ГУ-ВШЭ), П.В. Крючкова (Бюро экономического анализа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1 и 2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3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борка 4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вление от насл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внутренней и внешней организ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одер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ход на новые ры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на карау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спан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Выход на новые рынк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ое регулирова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рос на сертификацию: основные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мет: оценка эффективности публичных обсуждений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азчик: Минпромэнерго России (Департамент технического регулиров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сполнитель: Бюро экономического анализ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ые вопросы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база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олнота представительства интересов в процессе общественных слуша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еформа технического регулирования: причи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ГОСТы, СНиПы, СанПиНы – более 600 000 докумен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Неэффективность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замечаний, полученных на проекты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едставительство групп специальных интересов в процессе публичных обсужден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Учтенные и отклоненные замечания по проектам технических регламентов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Эффективность публичных обсуждений: вывод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чик – любое лиц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дур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отзыва продукции с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Система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ее состояние ре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Текущее состояние реформы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66C-0B34-415D-A920-5B9584F4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1F7-A21C-48BC-93F4-3C7D7AE6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A2F-6AE7-4F81-AFDE-C359D5F0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6E5-DAE3-4994-9FFE-5F91D80B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CB46-BCB2-42AD-9944-EA091634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6E8F-DECD-4DA4-9450-AFE11138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AA5C-56DF-4F53-899D-6C92A95F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011C-66A7-437B-8E26-689F2104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726C-9C90-4C2F-902B-71531D8C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7814-8A8F-48B2-8600-161FC407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7713-60A7-45CD-B0D5-C57B49ED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F03-C25B-48E2-9323-75E087DC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B1D2-70F7-40E1-ACC5-348FB2D5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F7B9-7D67-4944-8D35-507908D3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837B-3E8A-4CA1-B4AA-E6C8ADDD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BE13-C0AD-4E6A-90AC-2B565F42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6DC1-FDA3-487B-88DA-7C4E5495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E85-5A23-4556-A1F8-D6EEF8E3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EF0-D35F-4E1D-BDC5-6D2CD458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8B7-D9AC-4C60-9B6F-515100C7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7C4-1DAB-463D-A8D0-57C5B33E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9AE-88FC-46E6-9E5F-750A79B0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F59-7BB0-47BA-A77B-B61CD481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F57-5DAC-4FE1-BD25-80E7EC93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E2C3-3B8C-4349-A50D-DC5B1F43EF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9605-4435-4F8A-9FA5-BBE712F6F4AD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хническое регулирование: институциональный анализ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716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.В. Крючкова, д.э.н., зав.сектором Фонда «Бюро экономического анализа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следо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оздействие технического регулирования в целом/различных вариантов реализации реформы/отдельных инструментов н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кономику в целом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расл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едприятия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кономерности формирования и функционирования самой системы технического регулир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равнительный анализ (Россия/ЕС/Новая Европа/СНГ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Эффективность процедур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потенциального влияния реформы технического регулирования на конкурентоспособность разных типов предприят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нешняя/внутрення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овая/неценовая конкурентоспособност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8360" y="1484280"/>
          <a:ext cx="8196120" cy="5680080"/>
        </p:xfrm>
        <a:graphic>
          <a:graphicData uri="http://schemas.openxmlformats.org/drawingml/2006/table">
            <a:tbl>
              <a:tblPr/>
              <a:tblGrid>
                <a:gridCol w="1272960"/>
                <a:gridCol w="1440000"/>
                <a:gridCol w="2305080"/>
                <a:gridCol w="317808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ип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Факто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изкие цены ресурсов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Снизить издержки подтверждения соответствия продукции установленным требования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Оптимальный режим технического регулирования позволяет подтвердить соответствие обязательным требованиям с наименьшим возможным уровнем затрат, что позволит снизить издержки производителя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Ценова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есурсосбереже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Повысить издержки использования технологий с низким уровнем безопасност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Требования к безопасности производства стимулируют производителей выбирать более современные и наукоемкие технологии, что в долгосрочном перспективе стимулирует инновационное разви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1409760"/>
          <a:ext cx="8640720" cy="5051520"/>
        </p:xfrm>
        <a:graphic>
          <a:graphicData uri="http://schemas.openxmlformats.org/drawingml/2006/table">
            <a:tbl>
              <a:tblPr/>
              <a:tblGrid>
                <a:gridCol w="1555560"/>
                <a:gridCol w="1540080"/>
                <a:gridCol w="2658960"/>
                <a:gridCol w="2886120"/>
              </a:tblGrid>
              <a:tr h="72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ип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акторы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Цели системы технического регулировани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ханизм влияния на конкурентоспособность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-ценова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еспечение безопасности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издержки покупателей, связанных с поиском безопасной продукции, а также издержки продавцов на убеждение покупателей в безопасности производимой продукц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приводит к повышению максимальной готовности потребителей платить за товар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утрен-няя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едпоч-тения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низить уровень риска, связанный с потреблением продукции, в представлении потреб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оверное подтверждение соответствия продукции установленным требованиям приводит к расширению спроса со стороны потребителей, отрицательно относящихся к риску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нешня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ежим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ировать инструменты технического регулирования с целевыми внешними рынк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регулирования позволит снизить дополнительные затраты, необходимые для доступа на внешние рын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Меры технического регулирования и конкурентоспособност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24000" y="1268280"/>
          <a:ext cx="8640720" cy="5029200"/>
        </p:xfrm>
        <a:graphic>
          <a:graphicData uri="http://schemas.openxmlformats.org/drawingml/2006/table">
            <a:tbl>
              <a:tblPr/>
              <a:tblGrid>
                <a:gridCol w="3174840"/>
                <a:gridCol w="2867040"/>
                <a:gridCol w="25988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ры технического регулиров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максимальным положи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Характеристики рынков с отрицательным эффект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кращение административных издержек производителей (доступность обязательных требований, оптимизация оценки соответстви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Рынки однородной продукции (основной тип конкуренции – ценовая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жесточение обязательных требован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ие барьеры входа/выхода на рыно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зкая текущая сравнительная конкурентоспособность отечественных производителе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бновление националь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инвестиционная привлекательность отрасл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армонизация с международными и региональными обязательными требованиями и стандартам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экспорта в производстве отрасли; низ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кая доля импорта на внутреннем рынк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частие в разработке международных стандарт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трасли с высокой долей экспорта или высоким экспортным потенциал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разработка методологии оценки социально-экономических последствий принятия технических регламентов; подготовка финансово-экономических обоснования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Бюро экономического анализа и МГУ им. М.В. Ломоносова (методология анализа, консультирование по подготовке финансово-экономических обоснований); разработчики проектов технических регламен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едложено использовать нестандартную форму подготовки финансово-экономического обоснования к проектам технических регламентов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равниваются состояния до принятия ТР и после приня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ная задача –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казать, что введение технического регламента окажет положительное воздействие на экономик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годы от введения технического регламента должны превышать издержки, связанные с его принятием и применение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тенциальные выгоды от введения технического регламен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ышение уровня безопасности (снижение уровня риск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ые экономические эффекты (облегчение экспорта, создание условий для импортозамещения, возможное ограничение конкуренции и т.п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трат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нные с выполнением содержательных требований (в том числе издержки адаптации к измененным требования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Административные издержки (оценка соответств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68360" y="1844640"/>
          <a:ext cx="8226360" cy="4606920"/>
        </p:xfrm>
        <a:graphic>
          <a:graphicData uri="http://schemas.openxmlformats.org/drawingml/2006/table">
            <a:tbl>
              <a:tblPr/>
              <a:tblGrid>
                <a:gridCol w="1484280"/>
                <a:gridCol w="2166840"/>
                <a:gridCol w="2320920"/>
                <a:gridCol w="225432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сниж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остается неизменны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Риск повышае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снижа-ютс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неиз-мен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положи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00ff"/>
                          </a:solidFill>
                          <a:latin typeface="Arial"/>
                          <a:ea typeface="Times New Roman"/>
                        </a:rPr>
                        <a:t>нулево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Затраты расту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нужны дополнитель-ные расчет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33"/>
                          </a:solidFill>
                          <a:latin typeface="Arial"/>
                          <a:ea typeface="Times New Roman"/>
                        </a:rPr>
                        <a:t>отрицательный эффек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4360" y="1844640"/>
            <a:ext cx="799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ожительный экономически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технического регламента экономически обоснованно: снижается уровень совокупного риска без увеличения затрат, или сокращаются совокупные затраты без увеличения уровня риска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отрицательны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инятие экономически необоснованно: рост расходов без снижения уровня риска или  снижение уровня безопасности без одновременного снижения затрат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Arial"/>
              </a:rPr>
              <a:t>нулевой эффект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технический регламент может быть принят, хотя и не приведет к изменению ситуации: уровень риска и совокупные затраты неизменны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нужны дополнительные расчеты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происходит повышение уровня риска со снижением общих затрат либо его понижение при росте затрат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уть реформы технического регулирова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облемное поле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екоторые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ическое регулирование и конкурентоспособност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прос на добровольную сертификацию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eaeaea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спективные направления исследова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75564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ыделение заинтересованных групп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уровня рис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ределение изменения издержек для каждой из групп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макроэкономических последств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воздействия на бюджеты всех уровн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щий вывод о целесообразности принятия технического регламен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1981080"/>
            <a:ext cx="792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формление результатов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ельный раздел в общем обосновании необходимости принятия технического регламента (подробное изложение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Финансово-экономическое обоснование к проекту технического регламента (оценка воздействия на бюджеты всех уровней, краткое обоснование общего положительного воздействия на экономику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826920" y="1981080"/>
            <a:ext cx="778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cc66"/>
                </a:solidFill>
                <a:latin typeface="Arial"/>
              </a:rPr>
              <a:t>Практические результаты</a:t>
            </a:r>
            <a:r>
              <a:rPr b="0" lang="ru-RU" sz="26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анная методика включена в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тодические рекомендации по разработке и подготовке к принятию проектов технических регламенто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тверждены Приказом Минпромэнерго России от 12 апреля 2006 года №78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использованием этой методики подготовлено более 50% финансово-экономических обоснований к проектам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ценка социально-экономических последствий принятия технических регламент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84360" y="1844640"/>
            <a:ext cx="799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Выявленные проблемы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чики плохо представляют, на кого будет воздействовать вновь принятый закон. Особенно характерно для отраслевых научных организаций и государственных учрежде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ложности количественной оценки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лишь для незначительно группы объектов есть ряды исторических данных для оценки риск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т системы учета случаев причинения вре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мпирический анализ спроса на добровольную сертификацию на соответствие международным стандартам (ИСО и др.) как элемента системы технического регулир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Исполнители</a:t>
            </a: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С.Б. Авдашева (ГУ-ВШЭ), П.В. Крючкова (Бюро экономического анализа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ли в России спрос на добровольную сертификацию по международным стандартам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детерминанты спроса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какими другими направлениями модернизационной стратегии предприятий связан спрос на добровольную сертификацию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аковы возможные рекомендации для реализации реформы технического регулирования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прос на добровольную сертификацию: источники данны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770120"/>
            <a:ext cx="822636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ные выборочных обследований предприятий, проведенных в ГУ-ВШЭ в 2001-2006 гг. (4 выборки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1 и 2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– 2 раунда опроса в рамках проекта «Нерыночный сектор в российской промышленности», 2001 и 2002 гг., более 500 респондентов в 12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3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руководителей АО в рамках исследования корпоративного управления и интеграционных процессов ГУ-ВШЭ и Университета Хитоцубаши (Токио), весна-лето 2005 г., 822 респондентов в 64 регионах Росс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ыборка 4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- опрос в рамках совместного проекта ГУ-ВШЭ и Всемирного банка по исследованию конкурентоспособности российского бизнеса, осень 2005 г. – зима 2006 г., более 1000 респонден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1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539640" y="2019240"/>
          <a:ext cx="79930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19240"/>
                    <a:ext cx="79930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"/>
              </a:rPr>
              <a:t>Доля предприятий, производящих сертифицированную по международным стандартам продукцию(опрос 2006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395280" y="1916280"/>
          <a:ext cx="842472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424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1: 1998-2000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Новые сферы деятельности (продукты, рынки, партнеры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Изменение внутренней и внешней организац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жива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збавление от наслед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99"/>
                </a:solidFill>
                <a:latin typeface="Arial"/>
              </a:rPr>
              <a:t>Сертификация и модернизационная стратегия (выборка 3: 2001-200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Типы модернизации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Стремление к звездам» (перезод в нишу с более высоким качеством и ценой продукции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«Выход на новые рынки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мена караула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Экспанси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хническое регулир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 экономического регулирования, включающий в себя установление технических требований к продукции и процессам и механизмы обеспечения соблюдения этих требова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Arial"/>
              </a:rPr>
              <a:t>Есть ли спрос на стандарты, гармонизированные с международными? Связь экспортной ориентации и сертификации по международным стандартам (выборка 4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395280" y="1916280"/>
          <a:ext cx="819000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819000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прос на сертификацию по международным стандартам в качестве компонента стратегии реструктуризации/ модернизации существует с начала экономического подъема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предприятий-экспортеров существует проблема специальной сертификации их товаров в странах-импортерах, эта проблема тесно связана со сложностью соблюдения обязательных требований и стандартов в странах-импортерах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мере роста числа предприятий, осуществляющих сертификацию по международным стандартам, растет доля тех, кто сталкиваются на этом пути с затруднениями, не позволяющими удачно провести сертификацию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тдача от тех стратегий модернизации, которые предполагают сертификацию по международным стандартам, положительна, но не очень высока. Реализующие эту стратегию предприятия обычно находятся в удовлетворительном, но не стабильно хорошем финансовом положен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результате доля предприятий, производящих сертифицированную по международным стандартам продукцию, увеличивается в последние годы медленными темпам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цессы сертификации продукции по международным стандартам нуждаются в поддержке и среди предприятий объективно существует спрос на эту поддержку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99"/>
                </a:solidFill>
                <a:latin typeface="Arial"/>
              </a:rPr>
              <a:t>Спрос на сертификацию: основные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ертификация продукции обнаруживает комплементарность с другими направлениями модернизации производства, в первую очередь – с обновлением ассортимента производимой продукции, входом на новые рынки, увеличением расходов на маркетинг и НИОКР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еры, нацеленные на стимулирование сертификации продукции и снижение издержек по сертификации, одновременно будут стимулировать обновление ассортимента продукции, вход на новые рынки, увеличение расходов на маркетинг и НИОКР. Верно и обратное: любая политика, стимулирующая расходы на НИОКР, одновременно будет повышать спрос на сертификацию продукции по международным стандартам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Эффективность процедур разработки технических регламент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Предмет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ценка эффективности публичных обсуждений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Заказчик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Минпромэнерго России (Департамент технического регулирования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Исполнитель</a:t>
            </a:r>
            <a:r>
              <a:rPr b="0" lang="ru-RU" sz="2800" spc="-1" strike="noStrike">
                <a:solidFill>
                  <a:srgbClr val="00cc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Бюро экономического анали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Основные вопро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ставленность интересов в процессе публичных обсужд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здействие публичных обсуждений на качество проектов технических регламен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омендации по совершенствованию процедур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коном «О техническом регулировании» предусмотрено обязательное проведение публичных обсуждений проектов технических регламентов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разработке проекта технического регламента должно быть опубликовано уведомление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момента опубликования уведомления о проект технического регламента должен быть доступен заинтересованным лицам для ознакомления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рок публичного обсуждения проекта технического регламента не может быть менее чем два меся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 завершении публичного обсуждения проекта также публикуется уведомле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ень полученных в письменной форме замечаний заинтересованных лиц является одним из сопроводительных документов при внесении проекта технического регламента в Государственную Думу Российской Федерации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Публичные обсуждения проектов технических регламентов: базовая информац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практике используются 2 формы публичных обсужде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дусмотренная законом заочная форм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чная форма (общественные слушан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формационная база исследова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токолы общественных слушаний проектов технических регламентов (68 слушаний, с марта 2005 г. по март 2006 г.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ечни замечаний, составленные разработчиками проектов технических регламентов (по 8 проектам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групп интерес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4360" cy="403380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лнота представительства интересов в процессе общественных слуша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01080" cy="426852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астие в общественных слушаниях представителей различных регионов (в среднем по 68 обсуждениям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332000" y="2009880"/>
            <a:ext cx="6912000" cy="386712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форма технического регулирования: прич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27655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ые требования устанавливались нормативными документами разного уровня (от федеральных законов до ведомственных нормативных ак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Ты, СНиПы, СанПиНы – более 600 000 докум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 избыточны, противоречивы, непрозрачн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способ подтверждения соответствия – обязательная сертифик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й сертификации подлежало до 80% товарной номенклатуры по сравнению с 4% в Е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468360" y="4797360"/>
            <a:ext cx="8207280" cy="131364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енные административные издержки бизне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ответствие требованиям ВТО (Соглашения о технических барьерах в торговле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0000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эффективность контрол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4140360" y="4365720"/>
            <a:ext cx="863280" cy="43164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замечаний, полученных на проекты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332000" y="1727280"/>
            <a:ext cx="7056360" cy="4734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Количество организаций, принявших участие в обсуждении проектов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1042920" y="1655640"/>
            <a:ext cx="6697800" cy="449424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редставительство групп специальных интересов в процессе публичных обсужден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826920" y="1584360"/>
            <a:ext cx="7705800" cy="4721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Учтенные и отклоненные замечания по проектам технических регламент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056360" cy="473220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Эффективность публичных обсуждений: 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дение публичных обсуждений проектов технических регламентов имеет важное значение для улучшения качества регламентов. По большинству регламентов учтено более 50% замечан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количество  и качество получаемых замечаний во многом зависит от реального срока обсуждения и активности разработчика по привлечению к обсуждению заинтересованных лиц и организаций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уществует проблема привлечения к обсуждению широких групп специальных интерес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амая острая проблема – нестыковка процедуры, описанной в законе «О техническом регулировании» и нормативных актов, регулирующих законотворческий проце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еханизм публичных обсуждений целесообразно использовать и для проектов других НПА, однако он будет эффективен только в случае изменения всей процедуры законотворче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спективные направления исследов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личественный и качественных анализ  воздействия реформы в целом, ее отдельных элементов и инструментов на экономику на макро и микро уровня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соответствия: сравнение дискретных институциональных альтернатив (включая аккредитацию, подтверждение соответствия, г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од реформы: анализ с позиции теории общественного выбо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ценка риско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0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дификация и актуализация обязате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место сотен тысяч ведомственных документов несколько сотен технических регламентов – федеральных законов или постановлений Правитель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деление обязательных и добровольных требований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ические регламенты – обязательные (только вопросы безопасности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андарты (национальные, организаций) - доброво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едеральный закон «О техническом регулировании» (вступил в силу с 1 июля 2003 г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Переход к более мягким формам подтверждения соответствия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т обязательной сертификации к декларированию соответствия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Четкие процедуры разработки и принятия технических регламентов и национальных стандартов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разработчик – любое лиц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обязательные публичные обсуждения проектов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Изменение процедур контроля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Контроль только на стадии обращения продук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Процедура отзыва продукции с рынк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истема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50920" y="907920"/>
          <a:ext cx="87138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7138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рансформация системы технического регулиро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179280" y="1025640"/>
          <a:ext cx="871380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25640"/>
                    <a:ext cx="87138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кущее состояние рефор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тя подготовлено более 80 проектов технических регламентов, принято только 2 (постановления Правительства), еще  6 приняты Государственной Думой в 3-х  чтениях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сок товаров, подлежащих обязательной сертификации сокращается, но недостаточными темпам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Фонд национальных стандартов обновляется, но уровень гармонизации с международными стандартами составляет менее 40%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До сих пор не создана национальная система аккредитации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В 2007 году приняты поправки в закон «О техническом регулировании»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Изменений в системе государственного контроля (надзора) не произошло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3:21:41Z</dcterms:created>
  <dc:creator>www.PHILka.RU</dc:creator>
  <dc:description/>
  <dc:language>en-US</dc:language>
  <cp:lastModifiedBy>LEGION</cp:lastModifiedBy>
  <dcterms:modified xsi:type="dcterms:W3CDTF">2016-01-05T12:47:49Z</dcterms:modified>
  <cp:revision>22</cp:revision>
  <dc:subject/>
  <dc:title>Техническое регулирование: институциональный анализ</dc:title>
</cp:coreProperties>
</file>