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9499-F2E8-4048-98C6-A0E5D791A5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след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поле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заинтересованн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результатов анали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актические результ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количественной оцен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явленные проблем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вление от насл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ход на новые ры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на карау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спан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Выход на новые рынк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база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эффективность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 – люб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дур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отзыва продукции с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ее состояние ре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кущее состояние реформ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9F1-A91D-43E0-A7C3-26BDA226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8D1-5EAC-4D85-BD8B-4B424E63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EFD-A5FD-473D-8274-86C6993F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170-F540-4BC9-8F56-B2ABB755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3584-BE5C-4252-B3E9-F9680FBC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EAA1-34F1-41BA-90D1-FDA0204E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E9D3-ABEB-45C7-9CEF-546D9CD0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A443-7EBA-4F54-AA13-045BA63A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8A57-D6BC-4877-BD4D-04B42632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35DC-0BD3-4000-9D9D-36887A17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7A99-A816-470A-9723-F4E6A5BF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145-4EB7-4B08-842A-0A1ED40B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3EA2-F276-487E-B2E3-24D43CD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52FE-1920-431F-9871-A4FFF01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0099-5085-4108-AB87-2A5CB429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599F-0E76-400C-A910-428AA349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1075-C596-48FA-BE6D-39F90BDF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80F-9208-44F4-9CC3-728608A9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423-DF1D-48CC-A24F-34843ABA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A97-0A0E-480B-BDA8-FDAA4670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500-BEE3-4E85-9964-4F492BC5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E3E-3E4F-4BCB-B870-57FB8F93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2BE-318B-46E4-8111-DD485BD0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369-E3EE-4B9D-ABF0-6B5A07D8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21B0-B088-4418-A985-4EE84410B8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E8B9-E468-4799-AB42-C8865324CCC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716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8360" y="1484280"/>
          <a:ext cx="8196120" cy="5680080"/>
        </p:xfrm>
        <a:graphic>
          <a:graphicData uri="http://schemas.openxmlformats.org/drawingml/2006/table">
            <a:tbl>
              <a:tblPr/>
              <a:tblGrid>
                <a:gridCol w="1272960"/>
                <a:gridCol w="1440000"/>
                <a:gridCol w="2305080"/>
                <a:gridCol w="317808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изкие цены ресурс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Снизить издержки подтверждения соответствия продукции установленным требования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Оптимальный режим технического регулирования позволяет подтвердить соответствие обязательным требованиям с наименьшим возможным уровнем затрат, что позволит снизить издержки производителя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есурсосбереже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Повысить издержки использования технологий с низким уровнем безопасност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ребования к безопасности производства стимулируют производителей выбирать более современные и наукоемкие технологии, что в долгосрочном перспективе стимулирует инновационное разви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409760"/>
          <a:ext cx="8640720" cy="5051520"/>
        </p:xfrm>
        <a:graphic>
          <a:graphicData uri="http://schemas.openxmlformats.org/drawingml/2006/table">
            <a:tbl>
              <a:tblPr/>
              <a:tblGrid>
                <a:gridCol w="1555560"/>
                <a:gridCol w="1540080"/>
                <a:gridCol w="2658960"/>
                <a:gridCol w="2886120"/>
              </a:tblGrid>
              <a:tr h="72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кторы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-ценова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ение безопасности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издержки покупателей, связанных с поиском безопасной продукции, а также издержки продавцов на убеждение покупателей в безопасности производимой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приводит к повышению максимальной готовности потребителей платить за товар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утрен-ня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едпоч-тения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уровень риска, связанный с потреблением продукции, в представлении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установленным требованиям приводит к расширению спроса со стороны потребителей, отрицательно относящихся к риску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ешня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ежим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ировать инструменты технического регулирования с целевыми внешними рынк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регулирования позволит снизить дополнительные затраты, необходимые для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24000" y="1268280"/>
          <a:ext cx="8640720" cy="5029200"/>
        </p:xfrm>
        <a:graphic>
          <a:graphicData uri="http://schemas.openxmlformats.org/drawingml/2006/table">
            <a:tbl>
              <a:tblPr/>
              <a:tblGrid>
                <a:gridCol w="3174840"/>
                <a:gridCol w="2867040"/>
                <a:gridCol w="2598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ры технического регулиров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максимальным положи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отрица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кращение административных издержек производителей (доступность обязательных требований, оптимизация оценки соответстви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ынки однородной продукции (основной тип конкуренции – ценова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жесточение обязательных требован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ие барьеры входа/выхода на рыно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ая текущая сравнительная конкурентоспособность отечественных производ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новление националь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с международными и региональными обязательными требованиями и стандарт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экспорта в производстве отрасли; низ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частие в разработке международ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расли с высокой долей экспорта или высоким экспортным потенциал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сновная задача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казать, что введение технического регламента окажет положительное воздействие на экономи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68360" y="1844640"/>
          <a:ext cx="8226360" cy="4606920"/>
        </p:xfrm>
        <a:graphic>
          <a:graphicData uri="http://schemas.openxmlformats.org/drawingml/2006/table">
            <a:tbl>
              <a:tblPr/>
              <a:tblGrid>
                <a:gridCol w="1484280"/>
                <a:gridCol w="2166840"/>
                <a:gridCol w="2320920"/>
                <a:gridCol w="2254320"/>
              </a:tblGrid>
              <a:tr h="97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сниж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остается неизменны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повыш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снижа-ю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неиз-мен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нулево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расту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4360" y="1844640"/>
            <a:ext cx="799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жительный экономически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отрицательны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нулево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нужны дополнительные расчеты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оисходит повышение уровня риска со снижением общих затрат либо его понижение при росте затрат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75564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1981080"/>
            <a:ext cx="792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826920" y="1981080"/>
            <a:ext cx="778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актические результаты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тодические рекомендации по разработке и подготовке к принятию проектов технических регламенто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тверждены Приказом Минпромэнерго России от 12 апреля 2006 года №78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Выявленные проблемы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Исполнители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С.Б. Авдашева (ГУ-ВШЭ), П.В. Крючкова (Бюро экономического анализ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1 и 2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3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4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539640" y="2019240"/>
          <a:ext cx="79930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19240"/>
                    <a:ext cx="79930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395280" y="1916280"/>
          <a:ext cx="84247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42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зменение внутренней и внешней организ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Выход на новые рынки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ическое регулир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395280" y="1916280"/>
          <a:ext cx="81900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1900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эффективности публичных обсуждений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4360" cy="403380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олнота представительства интересов в процессе общественных слуша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01080" cy="426852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1332000" y="2009880"/>
            <a:ext cx="6912000" cy="386712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форма технического регулирования: причи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27655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Ты, СНиПы, СанПиНы – более 600 000 докумен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68360" y="4797360"/>
            <a:ext cx="8207280" cy="13136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эффективность контрол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4140360" y="436572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замечаний, полученных на проекты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332000" y="1727280"/>
            <a:ext cx="7056360" cy="4734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1042920" y="1655640"/>
            <a:ext cx="6697800" cy="44942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редставительство групп специальных интересов в процессе публичных обсужде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826920" y="1584360"/>
            <a:ext cx="7705800" cy="4721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тенные и отклоненные замечания по проектам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56360" cy="4732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Эффективность публичных обсуждений: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спективные направления исследов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истема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50920" y="907920"/>
          <a:ext cx="8713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8713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179280" y="1025640"/>
          <a:ext cx="871380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25640"/>
                    <a:ext cx="87138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кущее состоя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3:21:41Z</dcterms:created>
  <dc:creator>www.PHILka.RU</dc:creator>
  <dc:description/>
  <dc:language>en-US</dc:language>
  <cp:lastModifiedBy>LEGION</cp:lastModifiedBy>
  <dcterms:modified xsi:type="dcterms:W3CDTF">2016-01-05T12:47:49Z</dcterms:modified>
  <cp:revision>22</cp:revision>
  <dc:subject/>
  <dc:title>Техническое регулирование: институциональный анализ</dc:title>
</cp:coreProperties>
</file>