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37B8-2EEC-44A1-A7CB-459BC2C5584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: институциональны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В. Крючкова, д.э.н., зав.сектором Фонда «Бюро экономического анализ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: институциональный анализ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.В. Крючкова, д.э.н., зав.сектором Фонда «Бюро экономического анализа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технического регулирования в целом/различных вариантов реализации реформы/отдельных инструментов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у в ц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формирования и функционирования самой системы технического регулир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й анализ (Россия/ЕС/Новая Европа/СН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процед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следован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оздействие технического регулирования в целом/различных вариантов реализации реформы/отдельных инструментов на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кономику в целом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расл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прияти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ономерности формирования и функционирования самой системы технического регулирования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равнительный анализ (Россия/ЕС/Новая Европа/СНГ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ффективность процедур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: оценка потенциального влияния реформы технического регулирования на конкурентоспособность разных типов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/внутренняя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вая/неценовая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: Бюро 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мет: оценка потенциального влияния реформы технического регулирования на конкурентоспособность разных типов предприят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нешняя/внутренняя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Ценовая/неценовая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полнитель: Бюро экономического анализ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технического регулирования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Меры технического регулирования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: разработка методологии оценки социально-экономических последствий принятия технических регламентов; подготовка финансово-экономических обоснования проектов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: Бюро экономического анализа и МГУ им. М.В. Ломоносова (методология анализа, консультирование по подготовке финансово-экономических обоснований); разработчики проектов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мет: разработка методологии оценки социально-экономических последствий принятия технических регламентов; подготовка финансово-экономических обоснования проектов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полнитель: Бюро экономического анализа и МГУ им. М.В. Ломоносова (методология анализа, консультирование по подготовке финансово-экономических обоснований); разработчики проектов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о использовать нестандартную форму подготовки финансово-экономического обоснования к проектам технических регламен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ваются состояния до принятия ТР и после при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задача – показать, что введение технического регламента окажет положительное воздействие на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годы от введения технического регламента должны превышать издержки, связанные с его принятием и примен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ложено использовать нестандартную форму подготовки финансово-экономического обоснования к проектам технических регламентов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равниваются состояния до принятия ТР и после принят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ая задача – показать, что введение технического регламента окажет положительное воздействие на экономику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годы от введения технического регламента должны превышать издержки, связанные с его принятием и применением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нциальные выгоды от введения технического регла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ровня безопасности (снижение уровня ри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экономические эффекты (облегчение экспорта, создание условий для импортозамещения, возможное ограничение конкуренции и т.п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р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ные с выполнением содержательных требований (в том числе издержки адаптации к измененным требования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издержки (оценка соответств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тенциальные выгоды от введения технического регламента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вышение уровня безопасности (снижение уровня риска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ные экономические эффекты (облегчение экспорта, создание условий для импортозамещения, возможное ограничение конкуренции и т.п.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трат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вязанные с выполнением содержательных требований (в том числе издержки адаптации к измененным требованиям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Административные издержки (оценка соответств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ый экономический эффект – принятие технического регламента экономически обоснованно: снижается уровень совокупного риска без увеличения затрат, или сокращаются совокупные затраты без увеличения уровня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ый эффект – принятие экономически необоснованно: рост расходов без снижения уровня риска или  снижение уровня безопасности без одновременного снижения затра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левой эффект – технический регламент может быть принят, хотя и не приведет к изменению ситуации: уровень риска и совокупные затраты неизмен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ы дополнительные расчеты – происходит повышение уровня риска со снижением общих затрат либо его понижение при росте затра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ложительный экономический эффект – принятие технического регламента экономически обоснованно: снижается уровень совокупного риска без увеличения затрат, или сокращаются совокупные затраты без увеличения уровня риска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рицательный эффект – принятие экономически необоснованно: рост расходов без снижения уровня риска или  снижение уровня безопасности без одновременного снижения затрат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улевой эффект – технический регламент может быть принят, хотя и не приведет к изменению ситуации: уровень риска и совокупные затраты неизменны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ужны дополнительные расчеты – происходит повышение уровня риска со снижением общих затрат либо его понижение при росте затрат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ь реформы технического регу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ное поле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обровольную сертифик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процедур разработки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ные направления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ые вопрос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уть реформы технического регулировани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блемное поле исследов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которые исследования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добровольную сертификацию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ффективность процедур разработки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спективные направления исследов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заинтересованных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зменения уровня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зменения издержек для каждой из груп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макроэкономических послед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воздействия на бюджеты всех уров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вывод о целесообразности принятия технического регла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тап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деление заинтересованных групп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пределение изменения уровня риск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пределение изменения издержек для каждой из групп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макроэкономических последств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воздействия на бюджеты всех уровне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бщий вывод о целесообразности принятия технического регламент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ормление результатов анали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ьный раздел в общем обосновании необходимости принятия технического регламента (подробное изло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о-экономическое обоснование к проекту технического регламента (оценка воздействия на бюджеты всех уровней, краткое обоснование общего положительного воздействия на экономи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формление результатов анализа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дельный раздел в общем обосновании необходимости принятия технического регламента (подробное изложение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Финансово-экономическое обоснование к проекту технического регламента (оценка воздействия на бюджеты всех уровней, краткое обоснование общего положительного воздействия на экономику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е результ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нная методика включена в Методические рекомендации по разработке и подготовке к принятию проектов технических регламентов (утверждены Приказом Минпромэнерго России от 12 апреля 2006 года №78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спользованием этой методики подготовлено более 50% финансово-экономических обоснований к проектам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актические результат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азработанная методика включена в Методические рекомендации по разработке и подготовке к принятию проектов технических регламентов (утверждены Приказом Минпромэнерго России от 12 апреля 2006 года №78 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 использованием этой методики подготовлено более 50% финансово-экономических обоснований к проектам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ные пробл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чики плохо представляют, на кого будет воздействовать вновь принятый закон. Особенно характерно для отраслевых научных организаций и государствен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и количественной оцен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ь для незначительно группы объектов есть ряды исторических данных для оценки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системы учета случаев причинения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явленные проблем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азработчики плохо представляют, на кого будет воздействовать вновь принятый закон. Особенно характерно для отраслевых научных организаций и государственных учреждений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ложности количественной оценки: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лишь для незначительно группы объектов есть ряды исторических данных для оценки риск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т системы учета случаев причинения вред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обровольную сертифик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: эмпирический анализ спроса на добровольную сертификацию на соответствие международным стандартам (ИСО и др.) как элемента системы техническ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и: С.Б. Авдашева (ГУ-ВШЭ), П.В. Крючкова (Бюро экономического анализ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ли в России спрос на добровольную сертификацию по международным стандарт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детерминанты спроса на добровольную сертификаци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ими другими направлениями модернизационной стратегии предприятий связан спрос на добровольную сертификаци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возможные рекомендации для реализации реформы технического регулиров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добровольную сертификацию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мет: эмпирический анализ спроса на добровольную сертификацию на соответствие международным стандартам (ИСО и др.) как элемента системы технического регулирован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полнители: С.Б. Авдашева (ГУ-ВШЭ), П.В. Крючкова (Бюро экономического анализа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ые вопросы: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уществует ли в России спрос на добровольную сертификацию по международным стандартам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аковы детерминанты спроса на добровольную сертификацию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 какими другими направлениями модернизационной стратегии предприятий связан спрос на добровольную сертификацию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аковы возможные рекомендации для реализации реформы технического регулирования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обровольную сертификацию: источники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е выборочных обследований предприятий, проведенных в ГУ-ВШЭ в 2001-2006 гг. (4 выборки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ка 1 и 2 – 2 раунда опроса в рамках проекта «Нерыночный сектор в российской промышленности», 2001 и 2002 гг., более 500 респондентов в 12 регионах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ка 3 - опрос руководителей АО в рамках исследования корпоративного управления и интеграционных процессов ГУ-ВШЭ и Университета Хитоцубаши (Токио), весна-лето 2005 г., 822 респондентов в 64 регионах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ка 4 - опрос в рамках совместного проекта ГУ-ВШЭ и Всемирного банка по исследованию конкурентоспособности российского бизнеса, осень 2005 г. – зима 2006 г., более 1000 респонд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добровольную сертификацию: источники данных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анные выборочных обследований предприятий, проведенных в ГУ-ВШЭ в 2001-2006 гг. (4 выборки)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борка 1 и 2 – 2 раунда опроса в рамках проекта «Нерыночный сектор в российской промышленности», 2001 и 2002 гг., более 500 респондентов в 12 регионах Росс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борка 3 - опрос руководителей АО в рамках исследования корпоративного управления и интеграционных процессов ГУ-ВШЭ и Университета Хитоцубаши (Токио), весна-лето 2005 г., 822 респондентов в 64 регионах Росс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борка 4 - опрос в рамках совместного проекта ГУ-ВШЭ и Всемирного банка по исследованию конкурентоспособности российского бизнеса, осень 2005 г. – зима 2006 г., более 1000 респонд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предприятий, производящих сертифицированную по международным стандартам продукцию(опрос 2001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оля предприятий, производящих сертифицированную по международным стандартам продукцию(опрос 2001 г.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предприятий, производящих сертифицированную по международным стандартам продукцию(опрос 2006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оля предприятий, производящих сертифицированную по международным стандартам продукцию(опрос 2006 г.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и модернизационная стратегия (выборка 1: 1998-20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модер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е сферы деятельности (продукты, рынки, партне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внутренней и внешней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ж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авление от насл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ертификация и модернизационная стратегия (выборка 1: 1998-2000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ипы модернизации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овые сферы деятельности (продукты, рынки, партнеры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зменение внутренней и внешней организац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живание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збавление от наслед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и модернизационная стратегия (выборка 3: 2001-200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модер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тремление к звездам» (перезод в нишу с более высоким качеством и ценой проду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ыход на новые рын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ена карау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спанс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ертификация и модернизационная стратегия (выборка 3: 2001-2004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ипы модернизации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«Стремление к звездам» (перезод в нишу с более высоким качеством и ценой продукции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«Выход на новые рынки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«Смена караула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«Экспансия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экономического регулирования, включающий в себя установление технических требований к продукции и процессам и механизмы обеспечения соблюдения этих треб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ид экономического регулирования, включающий в себя установление технических требований к продукции и процессам и механизмы обеспечения соблюдения этих требов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спрос на стандарты, гармонизированные с международными? Связь экспортной ориентации и сертификации по международным стандартам (выборка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Есть ли спрос на стандарты, гармонизированные с международными? Связь экспортной ориентации и сертификации по международным стандартам (выборка 4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сертификацию по международным стандартам в качестве компонента стратегии реструктуризации/ модернизации существует с начала экономического подъем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редприятий-экспортеров существует проблема специальной сертификации их товаров в странах-импортерах, эта проблема тесно связана со сложностью соблюдения обязательных требований и стандартов в странах-импортер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ере роста числа предприятий, осуществляющих сертификацию по международным стандартам, растет доля тех, кто сталкиваются на этом пути с затруднениями, не позволяющими удачно провести сертификац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сертификацию по международным стандартам в качестве компонента стратегии реструктуризации/ модернизации существует с начала экономического подъема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ля предприятий-экспортеров существует проблема специальной сертификации их товаров в странах-импортерах, эта проблема тесно связана со сложностью соблюдения обязательных требований и стандартов в странах-импортерах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 мере роста числа предприятий, осуществляющих сертификацию по международным стандартам, растет доля тех, кто сталкиваются на этом пути с затруднениями, не позволяющими удачно провести сертификацию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ача от тех стратегий модернизации, которые предполагают сертификацию по международным стандартам, положительна, но не очень высока. Реализующие эту стратегию предприятия обычно находятся в удовлетворительном, но не стабильно хорошем финансовом положен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доля предприятий, производящих сертифицированную по международным стандартам продукцию, увеличивается в последние годы медленными темп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ы сертификации продукции по международным стандартам нуждаются в поддержке и среди предприятий объективно существует спрос на эту поддержк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дача от тех стратегий модернизации, которые предполагают сертификацию по международным стандартам, положительна, но не очень высока. Реализующие эту стратегию предприятия обычно находятся в удовлетворительном, но не стабильно хорошем финансовом положении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 результате доля предприятий, производящих сертифицированную по международным стандартам продукцию, увеличивается в последние годы медленными темпами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цессы сертификации продукции по международным стандартам нуждаются в поддержке и среди предприятий объективно существует спрос на эту поддержку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продукции обнаруживает комплементарность с другими направлениями модернизации производства, в первую очередь – с обновлением ассортимента производимой продукции, входом на новые рынки, увеличением расходов на маркетинг и НИОК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, нацеленные на стимулирование сертификации продукции и снижение издержек по сертификации, одновременно будут стимулировать обновление ассортимента продукции, вход на новые рынки, увеличение расходов на маркетинг и НИОКР. Верно и обратное: любая политика, стимулирующая расходы на НИОКР, одновременно будет повышать спрос на сертификацию продукции по международным стандар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ертификация продукции обнаруживает комплементарность с другими направлениями модернизации производства, в первую очередь – с обновлением ассортимента производимой продукции, входом на новые рынки, увеличением расходов на маркетинг и НИОКР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меры, нацеленные на стимулирование сертификации продукции и снижение издержек по сертификации, одновременно будут стимулировать обновление ассортимента продукции, вход на новые рынки, увеличение расходов на маркетинг и НИОКР. Верно и обратное: любая политика, стимулирующая расходы на НИОКР, одновременно будет повышать спрос на сертификацию продукции по международным стандартам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процедур разработки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: оценка эффективности публичных обсуждений проектов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: Бюро 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ность интересов в процессе публичных обсу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публичных обсуждений на качество проектов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совершенствованию процед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ффективность процедур разработки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мет: оценка эффективности публичных обсуждений проектов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полнитель: Бюро экономического анализ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ые вопрос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ставленность интересов в процессе публичных обсужде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оздействие публичных обсуждений на качество проектов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екомендации по совершенствованию процедур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ые обсуждения проектов технических регламентов: базов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 «О техническом регулировании» предусмотрено обязательное проведение публичных обсуждений проектов технических регламен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разработке проекта технического регламента должно быть опубликовано уведом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мента опубликования уведомления о проект технического регламента должен быть доступен заинтересованным лицам для ознаком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 публичного обсуждения проекта технического регламента не может быть менее чем два меся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завершении публичного обсуждения проекта также публикуется уведом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полученных в письменной форме замечаний заинтересованных лиц является одним из сопроводительных документов при внесении проекта технического регламента в Государственную Думу Российской Федераци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убличные обсуждения проектов технических регламентов: базовая информац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оном «О техническом регулировании» предусмотрено обязательное проведение публичных обсуждений проектов технических регламентов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 разработке проекта технического регламента должно быть опубликовано уведомление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 момента опубликования уведомления о проект технического регламента должен быть доступен заинтересованным лицам для ознакомлени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рок публичного обсуждения проекта технического регламента не может быть менее чем два месяц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 завершении публичного обсуждения проекта также публикуется уведомление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ечень полученных в письменной форме замечаний заинтересованных лиц является одним из сопроводительных документов при внесении проекта технического регламента в Государственную Думу Российской Федерации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ые обсуждения проектов технических регламентов: базов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актике используются 2 формы публичных обсужд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смотренная законом заочная фор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ная форма (общественные слуш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база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колы общественных слушаний проектов технических регламентов (68 слушаний, с марта 2005 г. по март 2006 г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ни замечаний, составленные разработчиками проектов технических регламентов (по 8 проект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убличные обсуждения проектов технических регламентов: базовая информац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а практике используются 2 формы публичных обсуждений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усмотренная законом заочная форм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чная форма (общественные слушан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нформационная база исследования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токолы общественных слушаний проектов технических регламентов (68 слушаний, с марта 2005 г. по март 2006 г.)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ечни замечаний, составленные разработчиками проектов технических регламентов (по 8 проектам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общественных слушаниях представителей различных групп интересов (в среднем по 68 обсуждениям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Участие в общественных слушаниях представителей различных групп интересов (в среднем по 68 обсуждениям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та представительства интересов в процессе общественных слуш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лнота представительства интересов в процессе общественных слушаний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общественных слушаниях представителей различных регионов (в среднем по 68 обсуждениям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Участие в общественных слушаниях представителей различных регионов (в среднем по 68 обсуждениям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орма технического регулирования: пр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требования устанавливались нормативными документами разного уровня (от федеральных законов до ведомственных нормативн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Ты, СНиПы, СанПиНы – более 600 000 док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избыточны, противоречивы, непрозрач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способ подтверждения соответствия – обязательная серт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й сертификации подлежало до 80% товарной номенклатуры по сравнению с 4%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ые административные издержки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ответствие требованиям ВТО (Соглашения о технических барьерах в торговл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ффективность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еформа технического регулирования: причин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бязательные требования устанавливались нормативными документами разного уровня (от федеральных законов до ведомственных нормативных ак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ГОСТы, СНиПы, СанПиНы – более 600 000 доку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ребования избыточны, противоречивы, непрозрачн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ой способ подтверждения соответствия – обязательная сертификац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бязательной сертификации подлежало до 80% товарной номенклатуры по сравнению с 4% в ЕС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ущественные административные издержки бизнес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соответствие требованиям ВТО (Соглашения о технических барьерах в торговле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эффективность контрол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замечаний, полученных на проекты технических регла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личество замечаний, полученных на проекты технических регламентов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организаций, принявших участие в обсуждении проектов технических регла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личество организаций, принявших участие в обсуждении проектов технических регламентов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ство групп специальных интересов в процессе публичных обсужд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ставительство групп специальных интересов в процессе публичных обсуждений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тенные и отклоненные замечания по проектам технических регла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Учтенные и отклоненные замечания по проектам технических регламентов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публичных обсуждений: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публичных обсуждений проектов технических регламентов имеет важное значение для улучшения качества регламентов. По большинству регламентов учтено более 50% замеч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 и качество получаемых замечаний во многом зависит от реального срока обсуждения и активности разработчика по привлечению к обсуждению заинтересованных лиц и организа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проблема привлечения к обсуждению широких групп специальных интере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острая проблема – нестыковка процедуры, описанной в законе «О техническом регулировании» и нормативных актов, регулирующих законотворчески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публичных обсуждений целесообразно использовать и для проектов других НПА, однако он будет эффективен только в случае изменения всей процедуры законо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ффективность публичных обсуждений: вывод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ведение публичных обсуждений проектов технических регламентов имеет важное значение для улучшения качества регламентов. По большинству регламентов учтено более 50% замеч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личество  и качество получаемых замечаний во многом зависит от реального срока обсуждения и активности разработчика по привлечению к обсуждению заинтересованных лиц и организаций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уществует проблема привлечения к обсуждению широких групп специальных интерес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амая острая проблема – нестыковка процедуры, описанной в законе «О техническом регулировании» и нормативных актов, регулирующих законотворческий процесс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Механизм публичных обсуждений целесообразно использовать и для проектов других НПА, однако он будет эффективен только в случае изменения всей процедуры законотворчеств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ные направления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енный и качественных анализ  воздействия реформы в целом, ее отдельных элементов и инструментов на экономику на макро и микро уровн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ответствия: сравнение дискретных институциональных альтернатив (включая аккредитацию, подтверждение соответствия, 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д реформы: анализ с позиции теории общественного вы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спективные направления исследов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личественный и качественных анализ  воздействия реформы в целом, ее отдельных элементов и инструментов на экономику на макро и микро уровнях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ответствия: сравнение дискретных институциональных альтернатив (включая аккредитацию, подтверждение соответствия, го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Ход реформы: анализ с позиции теории общественного выбор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риск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«О техническом регулировании» (вступил в силу с 1 июля 2003 г.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ификация и актуализация обязательных требов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о сотен тысяч ведомственных документов несколько сотен технических регламентов – федеральных законов или постановлений Прав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обязательных и добровольных требов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е регламенты – обязательные (только вопросы безопас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(национальные, организаций) - доброво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Федеральный закон «О техническом регулировании» (вступил в силу с 1 июля 2003 г.)</a:t>
            </a: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дификация и актуализация обязательных требований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место сотен тысяч ведомственных документов несколько сотен технических регламентов – федеральных законов или постановлений Правительств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азделение обязательных и добровольных требований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ие регламенты – обязательные (только вопросы безопасности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тандарты (национальные, организаций) - добровольные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«О техническом регулировании» (вступил в силу с 1 июля 2003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к более мягким формам подтверждения соответ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обязательной сертификации к декларированию соответ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ие процедуры разработки и принятия технических регламентов и национальных стандар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чик – люб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публичные обсуждения про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оцедур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только на стадии обращения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а отзыва продукции с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Федеральный закон «О техническом регулировании» (вступил в силу с 1 июля 2003 г.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еход к более мягким формам подтверждения соответстви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 обязательной сертификации к декларированию соответств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Четкие процедуры разработки и принятия технических регламентов и национальных стандар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азработчик – любое лицо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бязательные публичные обсуждения проек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зменение процедур контрол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нтроль только на стадии обращения продукц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цедура отзыва продукции с рынк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истема техническ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Система технического регулирован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рансформация системы техническ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Трансформация системы технического регулирован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ее состояние ре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подготовлено более 80 проектов технических регламентов, принято только 2 (постановления Правительства), еще  6 приняты Государственной Думой в 3-х  чте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товаров, подлежащих обязательной сертификации сокращается, но недостаточными темп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д национальных стандартов обновляется, но уровень гармонизации с международными стандартами составляет менее 4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сих пор не создана национальная система аккреди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07 году приняты поправки в закон «О техническом регулирова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й в системе государственного контроля (надзора) не произош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кущее состояние реформ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Хотя подготовлено более 80 проектов технических регламентов, принято только 2 (постановления Правительства), еще  6 приняты Государственной Думой в 3-х  чтениях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исок товаров, подлежащих обязательной сертификации сокращается, но недостаточными темпам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Фонд национальных стандартов обновляется, но уровень гармонизации с международными стандартами составляет менее 40%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о сих пор не создана национальная система аккредитац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 2007 году приняты поправки в закон «О техническом регулировании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зменений в системе государственного контроля (надзора) не произошло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4E2E-66AD-415B-A941-6F4DC366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DD68-206A-4822-9774-2D368EB3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A238-C004-4870-B92E-BB2EF031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9388-BF55-431E-921F-DAAAF0F7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77EC-6D48-41F6-9B27-F8363E05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7B53-A440-45D2-81D2-77C15E1E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AC71-7219-4A8A-8AD8-BA2BDA51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FEE0-7E1A-492D-9E00-AEF1C1ED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5261-9D45-4B8C-813E-79A1450D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39AB-6467-4577-B314-B2B03035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2891-E521-4FEF-A30B-D9DE6880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3AC5-801F-4400-9E55-1A7D85D4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2FC3-9E10-4D02-B756-C14A344C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2268-8078-4E83-916A-F2A84433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E449-7C55-4C22-872E-3A57BC9E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5B00-E38C-4DF4-82F5-68AD2841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2549-52BF-4197-A7F5-CFC33377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361C-985A-4857-AB5F-799838A8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FCD6-17F9-4A08-AA9E-F8571F99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0CAA-F102-452E-9CCB-06D2E161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DADA-4E22-46C0-8223-1989C8C1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F029-F92A-4E81-A167-587C2319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6A03-30F8-40CC-8B06-F57C8ED8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E980-0998-4016-8B6C-3AC7A65F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DFA5-87F9-4DAC-93CC-AADD7571BD0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531B-AF4C-4D9B-A95F-E582F55BB9C7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Техническое регулирование: институциональный анализ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7161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.В. Крючкова, д.э.н., зав.сектором Фонда «Бюро экономического анализа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следо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оздействие технического регулирования в целом/различных вариантов реализации реформы/отдельных инструментов н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Экономику в целом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Отрасл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Предприятия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Закономерности формирования и функционирования самой системы технического регулирования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Сравнительный анализ (Россия/ЕС/Новая Европа/СНГ)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Эффективность процедур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Предмет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ценка потенциального влияния реформы технического регулирования на конкурентоспособность разных типов предприят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нешняя/внутренняя конкурентоспособност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Ценовая/неценовая конкурентоспособност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Заказчик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Минпромэнерго России (Департамент технического регулирования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Исполнитель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Бюро экономического анализ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68360" y="1484280"/>
          <a:ext cx="8196120" cy="5680080"/>
        </p:xfrm>
        <a:graphic>
          <a:graphicData uri="http://schemas.openxmlformats.org/drawingml/2006/table">
            <a:tbl>
              <a:tblPr/>
              <a:tblGrid>
                <a:gridCol w="1272960"/>
                <a:gridCol w="1440000"/>
                <a:gridCol w="2305080"/>
                <a:gridCol w="3178080"/>
              </a:tblGrid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Тип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Фактор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Цели системы технического регулирован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Механизм влияния на конкурентоспособность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53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Ценова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Низкие цены ресурсов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076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Снизить издержки подтверждения соответствия продукции установленным требования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1076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Оптимальный режим технического регулирования позволяет подтвердить соответствие обязательным требованиям с наименьшим возможным уровнем затрат, что позволит снизить издержки производителя.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Ценова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Ресурсосбереже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Повысить издержки использования технологий с низким уровнем безопасности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Требования к безопасности производства стимулируют производителей выбирать более современные и наукоемкие технологии, что в долгосрочном перспективе стимулирует инновационное разви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24000" y="1409760"/>
          <a:ext cx="8640720" cy="5051520"/>
        </p:xfrm>
        <a:graphic>
          <a:graphicData uri="http://schemas.openxmlformats.org/drawingml/2006/table">
            <a:tbl>
              <a:tblPr/>
              <a:tblGrid>
                <a:gridCol w="1555560"/>
                <a:gridCol w="1540080"/>
                <a:gridCol w="2658960"/>
                <a:gridCol w="2886120"/>
              </a:tblGrid>
              <a:tr h="723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ипы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кторы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Цели системы технического регулирования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ханизм влияния на конкурентоспособность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е-ценова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еспечение безопасности продукц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низить издержки покупателей, связанных с поиском безопасной продукции, а также издержки продавцов на убеждение покупателей в безопасности производимой продукц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остоверное подтверждение соответствия продукции приводит к повышению максимальной готовности потребителей платить за товар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нутрен-няя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редпоч-тения потребителе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низить уровень риска, связанный с потреблением продукции, в представлении потребителе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остоверное подтверждение соответствия продукции установленным требованиям приводит к расширению спроса со стороны потребителей, отрицательно относящихся к риску.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нешня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ежим доступа на внешние рын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рмонизировать инструменты технического регулирования с целевыми внешними рынкам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рмонизация регулирования позволит снизить дополнительные затраты, необходимые для доступа на внешние рын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Меры технического регулирования и конкурентоспособн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24000" y="1268280"/>
          <a:ext cx="8640720" cy="5029200"/>
        </p:xfrm>
        <a:graphic>
          <a:graphicData uri="http://schemas.openxmlformats.org/drawingml/2006/table">
            <a:tbl>
              <a:tblPr/>
              <a:tblGrid>
                <a:gridCol w="3174840"/>
                <a:gridCol w="2867040"/>
                <a:gridCol w="25988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ры технического регулировани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рактеристики рынков с максимальным положительным эффекто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рактеристики рынков с отрицательным эффекто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окращение административных издержек производителей (доступность обязательных требований, оптимизация оценки соответствия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ынки однородной продукции (основной тип конкуренции – ценовая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Ужесточение обязательных требовани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07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изкие барьеры входа/выхода на рынок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кая инвестиционная привлекательность отрасл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изкая текущая сравнительная конкурентоспособность отечественных производителе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новление национальных стандарт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кая инвестиционная привлекательность отрасл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рмонизация с международными и региональными обязательными требованиями и стандартам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кая доля экспорта в производстве отрасли; низкая доля импорта на внутреннем рынке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кая доля импорта на внутреннем рынке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Участие в разработке международных стандарт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трасли с высокой долей экспорта или высоким экспортным потенциало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66"/>
                </a:solidFill>
                <a:latin typeface="Arial"/>
              </a:rPr>
              <a:t>Предмет</a:t>
            </a:r>
            <a:r>
              <a:rPr b="0" lang="ru-RU" sz="26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 разработка методологии оценки социально-экономических последствий принятия технических регламентов; подготовка финансово-экономических обоснования проектов технических регламентов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66"/>
                </a:solidFill>
                <a:latin typeface="Arial"/>
              </a:rPr>
              <a:t>Заказчик</a:t>
            </a:r>
            <a:r>
              <a:rPr b="0" lang="ru-RU" sz="26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 Минпромэнерго России (Департамент технического регулирования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66"/>
                </a:solidFill>
                <a:latin typeface="Arial"/>
              </a:rPr>
              <a:t>Исполнитель</a:t>
            </a:r>
            <a:r>
              <a:rPr b="0" lang="ru-RU" sz="26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 Бюро экономического анализа и МГУ им. М.В. Ломоносова (методология анализа, консультирование по подготовке финансово-экономических обоснований); разработчики проектов технических регламентов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редложено использовать нестандартную форму подготовки финансово-экономического обоснования к проектам технических регламентов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равниваются состояния до принятия ТР и после принят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сновная задача –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казать, что введение технического регламента окажет положительное воздействие на экономик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ыгоды от введения технического регламента должны превышать издержки, связанные с его принятием и применением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42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тенциальные выгоды от введения технического регламен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вышение уровня безопасности (снижение уровня риска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ые экономические эффекты (облегчение экспорта, создание условий для импортозамещения, возможное ограничение конкуренции и т.п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Затраты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вязанные с выполнением содержательных требований (в том числе издержки адаптации к измененным требованиям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Административные издержки (оценка соответствия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68360" y="1844640"/>
          <a:ext cx="8226360" cy="4606920"/>
        </p:xfrm>
        <a:graphic>
          <a:graphicData uri="http://schemas.openxmlformats.org/drawingml/2006/table">
            <a:tbl>
              <a:tblPr/>
              <a:tblGrid>
                <a:gridCol w="1484280"/>
                <a:gridCol w="2166840"/>
                <a:gridCol w="2320920"/>
                <a:gridCol w="2254320"/>
              </a:tblGrid>
              <a:tr h="97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Риск снижаетс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Риск остается неизменным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Риск повышаетс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9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Затраты снижа-ютс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положи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положи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нужны дополнитель-ные расчет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Затраты неиз-менн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положи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ff"/>
                          </a:solidFill>
                          <a:latin typeface="Arial"/>
                          <a:ea typeface="Times New Roman"/>
                        </a:rPr>
                        <a:t>нулево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Arial"/>
                          <a:ea typeface="Times New Roman"/>
                        </a:rPr>
                        <a:t>отрица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Затраты расту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нужны дополнитель-ные расчет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Arial"/>
                          <a:ea typeface="Times New Roman"/>
                        </a:rPr>
                        <a:t>отрица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Arial"/>
                          <a:ea typeface="Times New Roman"/>
                        </a:rPr>
                        <a:t>отрица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Rectangle 31"/>
          <p:cNvSpPr/>
          <p:nvPr/>
        </p:nvSpPr>
        <p:spPr>
          <a:xfrm>
            <a:off x="684360" y="1844640"/>
            <a:ext cx="7991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ложительный экономический эффект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принятие технического регламента экономически обоснованно: снижается уровень совокупного риска без увеличения затрат, или сокращаются совокупные затраты без увеличения уровня риска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отрицательный эффект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принятие экономически необоснованно: рост расходов без снижения уровня риска или  снижение уровня безопасности без одновременного снижения затрат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"/>
              </a:rPr>
              <a:t>нулевой эффект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технический регламент может быть принят, хотя и не приведет к изменению ситуации: уровень риска и совокупные затраты неизменны;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Arial"/>
              </a:rPr>
              <a:t>нужны дополнительные расчеты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происходит повышение уровня риска со снижением общих затрат либо его понижение при росте затрат.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новные вопро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уть реформы технического регулирования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роблемное поле исследован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екоторые исследования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прос на добровольную сертификацию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Эффективность процедур разработки технических регламен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ерспективные направления исследован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684360" y="1844640"/>
            <a:ext cx="799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755640" y="21337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Этапы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ыделение заинтересованных групп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пределение изменения уровня рис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пределение изменения издержек для каждой из групп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ценка макроэкономических последств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ценка воздействия на бюджеты всех уровне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бщий вывод о целесообразности принятия технического регламент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684360" y="1844640"/>
            <a:ext cx="799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1981080"/>
            <a:ext cx="792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формление результатов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тдельный раздел в общем обосновании необходимости принятия технического регламента (подробное изложение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Финансово-экономическое обоснование к проекту технического регламента (оценка воздействия на бюджеты всех уровней, краткое обоснование общего положительного воздействия на экономику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84360" y="1844640"/>
            <a:ext cx="799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826920" y="1981080"/>
            <a:ext cx="7783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66"/>
                </a:solidFill>
                <a:latin typeface="Arial"/>
              </a:rPr>
              <a:t>Практические результаты</a:t>
            </a:r>
            <a:r>
              <a:rPr b="0" lang="ru-RU" sz="2600" spc="-1" strike="noStrike">
                <a:solidFill>
                  <a:srgbClr val="00cc66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Разработанная методика включена в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етодические рекомендации по разработке и подготовке к принятию проектов технических регламентов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тверждены Приказом Минпромэнерго России от 12 апреля 2006 года №78 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 использованием этой методики подготовлено более 50% финансово-экономических обоснований к проектам технических регламент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684360" y="1844640"/>
            <a:ext cx="799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Выявленные проблемы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чики плохо представляют, на кого будет воздействовать вновь принятый закон. Особенно характерно для отраслевых научных организаций и государственных учреждени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ложности количественной оценки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лишь для незначительно группы объектов есть ряды исторических данных для оценки риск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ет системы учета случаев причинения вред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Arial"/>
              </a:rPr>
              <a:t>Спрос на добровольную сертификацию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770120"/>
            <a:ext cx="822636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Arial"/>
              </a:rPr>
              <a:t>Предмет</a:t>
            </a:r>
            <a:r>
              <a:rPr b="0" lang="ru-RU" sz="2000" spc="-1" strike="noStrike">
                <a:solidFill>
                  <a:srgbClr val="00cc66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эмпирический анализ спроса на добровольную сертификацию на соответствие международным стандартам (ИСО и др.) как элемента системы технического регулир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Arial"/>
              </a:rPr>
              <a:t>Исполнители</a:t>
            </a:r>
            <a:r>
              <a:rPr b="0" lang="ru-RU" sz="20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С.Б. Авдашева (ГУ-ВШЭ), П.В. Крючкова (Бюро экономического анализа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Arial"/>
              </a:rPr>
              <a:t>Основные вопросы: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уществует ли в России спрос на добровольную сертификацию по международным стандартам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аковы детерминанты спроса на добровольную сертификацию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 какими другими направлениями модернизационной стратегии предприятий связан спрос на добровольную сертификацию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аковы возможные рекомендации для реализации реформы технического регулирования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99"/>
                </a:solidFill>
                <a:latin typeface="Arial"/>
              </a:rPr>
              <a:t>Спрос на добровольную сертификацию: источники данных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770120"/>
            <a:ext cx="822636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анные выборочных обследований предприятий, проведенных в ГУ-ВШЭ в 2001-2006 гг. (4 выборки)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ыборка 1 и 2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2 раунда опроса в рамках проекта «Нерыночный сектор в российской промышленности», 2001 и 2002 гг., более 500 респондентов в 12 регионах Росс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ыборка 3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- опрос руководителей АО в рамках исследования корпоративного управления и интеграционных процессов ГУ-ВШЭ и Университета Хитоцубаши (Токио), весна-лето 2005 г., 822 респондентов в 64 регионах Росс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ыборка 4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- опрос в рамках совместного проекта ГУ-ВШЭ и Всемирного банка по исследованию конкурентоспособности российского бизнеса, осень 2005 г. – зима 2006 г., более 1000 респонден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Arial"/>
              </a:rPr>
              <a:t>Доля предприятий, производящих сертифицированную по международным стандартам продукцию(опрос 2001 г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539640" y="2019240"/>
          <a:ext cx="79930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019240"/>
                    <a:ext cx="79930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Arial"/>
              </a:rPr>
              <a:t>Доля предприятий, производящих сертифицированную по международным стандартам продукцию(опрос 2006 г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395280" y="1916280"/>
          <a:ext cx="8424720" cy="46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16280"/>
                    <a:ext cx="842472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99"/>
                </a:solidFill>
                <a:latin typeface="Arial"/>
              </a:rPr>
              <a:t>Сертификация и модернизационная стратегия (выборка 1: 1998-2000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Типы модернизации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Новые сферы деятельности (продукты, рынки, партнеры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Изменение внутренней и внешней организац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ыживани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збавление от наследи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99"/>
                </a:solidFill>
                <a:latin typeface="Arial"/>
              </a:rPr>
              <a:t>Сертификация и модернизационная стратегия (выборка 3: 2001-2004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Типы модернизации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«Стремление к звездам» (перезод в нишу с более высоким качеством и ценой продукции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«Выход на новые рынки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Смена караула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Экспансия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хническое регулиров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ид экономического регулирования, включающий в себя установление технических требований к продукции и процессам и механизмы обеспечения соблюдения этих требований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Arial"/>
              </a:rPr>
              <a:t>Есть ли спрос на стандарты, гармонизированные с международными? Связь экспортной ориентации и сертификации по международным стандартам (выборка 4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395280" y="1916280"/>
          <a:ext cx="8190000" cy="44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16280"/>
                    <a:ext cx="8190000" cy="44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Arial"/>
              </a:rPr>
              <a:t>Спрос на сертификацию: основные 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прос на сертификацию по международным стандартам в качестве компонента стратегии реструктуризации/ модернизации существует с начала экономического подъема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ля предприятий-экспортеров существует проблема специальной сертификации их товаров в странах-импортерах, эта проблема тесно связана со сложностью соблюдения обязательных требований и стандартов в странах-импортерах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 мере роста числа предприятий, осуществляющих сертификацию по международным стандартам, растет доля тех, кто сталкиваются на этом пути с затруднениями, не позволяющими удачно провести сертификацию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Arial"/>
              </a:rPr>
              <a:t>Спрос на сертификацию: основные 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тдача от тех стратегий модернизации, которые предполагают сертификацию по международным стандартам, положительна, но не очень высока. Реализующие эту стратегию предприятия обычно находятся в удовлетворительном, но не стабильно хорошем финансовом положении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результате доля предприятий, производящих сертифицированную по международным стандартам продукцию, увеличивается в последние годы медленными темпами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оцессы сертификации продукции по международным стандартам нуждаются в поддержке и среди предприятий объективно существует спрос на эту поддержку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Arial"/>
              </a:rPr>
              <a:t>Спрос на сертификацию: основные 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ертификация продукции обнаруживает комплементарность с другими направлениями модернизации производства, в первую очередь – с обновлением ассортимента производимой продукции, входом на новые рынки, увеличением расходов на маркетинг и НИОКР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еры, нацеленные на стимулирование сертификации продукции и снижение издержек по сертификации, одновременно будут стимулировать обновление ассортимента продукции, вход на новые рынки, увеличение расходов на маркетинг и НИОКР. Верно и обратное: любая политика, стимулирующая расходы на НИОКР, одновременно будет повышать спрос на сертификацию продукции по международным стандартам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Эффективность процедур разработки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Arial"/>
              </a:rPr>
              <a:t>Предмет</a:t>
            </a:r>
            <a:r>
              <a:rPr b="0" lang="ru-RU" sz="2400" spc="-1" strike="noStrike">
                <a:solidFill>
                  <a:srgbClr val="00cc66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ценка эффективности публичных обсуждений проектов технических регламент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Заказчик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Минпромэнерго России (Департамент технического регулирования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Исполнитель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Бюро экономического анализ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Основные вопросы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едставленность интересов в процессе публичных обсужден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оздействие публичных обсуждений на качество проектов технических регламент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екомендации по совершенствованию процедур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Публичные обсуждения проектов технических регламентов: базовая информаци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Законом «О техническом регулировании» предусмотрено обязательное проведение публичных обсуждений проектов технических регламентов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 разработке проекта технического регламента должно быть опубликовано уведомление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момента опубликования уведомления о проект технического регламента должен быть доступен заинтересованным лицам для ознакомлени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рок публичного обсуждения проекта технического регламента не может быть менее чем два месяц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 завершении публичного обсуждения проекта также публикуется уведомлени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еречень полученных в письменной форме замечаний заинтересованных лиц является одним из сопроводительных документов при внесении проекта технического регламента в Государственную Думу Российской Федерации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Публичные обсуждения проектов технических регламентов: базовая информаци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практике используются 2 формы публичных обсуждений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едусмотренная законом заочная форм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чная форма (общественные слушания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нформационная база исследования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отоколы общественных слушаний проектов технических регламентов (68 слушаний, с марта 2005 г. по март 2006 г.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ечни замечаний, составленные разработчиками проектов технических регламентов (по 8 проектам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6600"/>
                </a:solidFill>
                <a:latin typeface="Arial"/>
              </a:rPr>
              <a:t>Участие в общественных слушаниях представителей различных групп интересов (в среднем по 68 обсуждениям)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704360" cy="4033800"/>
          </a:xfrm>
          <a:prstGeom prst="rect">
            <a:avLst/>
          </a:prstGeom>
          <a:ln w="0">
            <a:noFill/>
          </a:ln>
        </p:spPr>
      </p:pic>
      <p:sp>
        <p:nvSpPr>
          <p:cNvPr id="3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Полнота представительства интересов в процессе общественных слушани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201080" cy="4268520"/>
          </a:xfrm>
          <a:prstGeom prst="rect">
            <a:avLst/>
          </a:prstGeom>
          <a:ln w="0">
            <a:noFill/>
          </a:ln>
        </p:spPr>
      </p:pic>
      <p:sp>
        <p:nvSpPr>
          <p:cNvPr id="34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Участие в общественных слушаниях представителей различных регионов (в среднем по 68 обсуждениям)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1332000" y="2009880"/>
            <a:ext cx="6912000" cy="386712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еформа технического регулирования: причин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276552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тельные требования устанавливались нормативными документами разного уровня (от федеральных законов до ведомственных нормативных ак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Ты, СНиПы, СанПиНы – более 600 000 документо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я избыточны, противоречивы, непрозрачн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ой способ подтверждения соответствия – обязательная сертификац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тельной сертификации подлежало до 80% товарной номенклатуры по сравнению с 4% в Е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468360" y="4797360"/>
            <a:ext cx="8207280" cy="131364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енные административные издержки бизне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оответствие требованиям ВТО (Соглашения о технических барьерах в торговле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эффективность контрол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AutoShape 6"/>
          <p:cNvSpPr/>
          <p:nvPr/>
        </p:nvSpPr>
        <p:spPr>
          <a:xfrm>
            <a:off x="4140360" y="4365720"/>
            <a:ext cx="863280" cy="431640"/>
          </a:xfrm>
          <a:prstGeom prst="downArrow">
            <a:avLst>
              <a:gd name="adj1" fmla="val 50000"/>
              <a:gd name="adj2" fmla="val 25000"/>
            </a:avLst>
          </a:prstGeom>
          <a:noFill/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Количество замечаний, полученных на проекты технических регламентов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332000" y="1727280"/>
            <a:ext cx="7056360" cy="4734000"/>
          </a:xfrm>
          <a:prstGeom prst="rect">
            <a:avLst/>
          </a:prstGeom>
          <a:ln w="0">
            <a:noFill/>
          </a:ln>
        </p:spPr>
      </p:pic>
      <p:sp>
        <p:nvSpPr>
          <p:cNvPr id="35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Количество организаций, принявших участие в обсуждении проектов технических регламентов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1042920" y="1655640"/>
            <a:ext cx="6697800" cy="4494240"/>
          </a:xfrm>
          <a:prstGeom prst="rect">
            <a:avLst/>
          </a:prstGeom>
          <a:ln w="0">
            <a:noFill/>
          </a:ln>
        </p:spPr>
      </p:pic>
      <p:sp>
        <p:nvSpPr>
          <p:cNvPr id="35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Представительство групп специальных интересов в процессе публичных обсуждени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826920" y="1584360"/>
            <a:ext cx="7705800" cy="472104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Учтенные и отклоненные замечания по проектам технических регламентов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056360" cy="473220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Эффективность публичных обсуждений: 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оведение публичных обсуждений проектов технических регламентов имеет важное значение для улучшения качества регламентов. По большинству регламентов учтено более 50% замечани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оличество  и качество получаемых замечаний во многом зависит от реального срока обсуждения и активности разработчика по привлечению к обсуждению заинтересованных лиц и организаций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уществует проблема привлечения к обсуждению широких групп специальных интерес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самая острая проблема – нестыковка процедуры, описанной в законе «О техническом регулировании» и нормативных актов, регулирующих законотворческий процес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еханизм публичных обсуждений целесообразно использовать и для проектов других НПА, однако он будет эффективен только в случае изменения всей процедуры законотворчеств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рспективные направления исследован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оличественный и качественных анализ  воздействия реформы в целом, ее отдельных элементов и инструментов на экономику на макро и микро уровнях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ценка соответствия: сравнение дискретных институциональных альтернатив (включая аккредитацию, подтверждение соответствия, г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Ход реформы: анализ с позиции теории общественного выбор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ценка рисков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Федеральный закон «О техническом регулировании» (вступил в силу с 1 июля 2003 г.)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407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одификация и актуализация обязательных требований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место сотен тысяч ведомственных документов несколько сотен технических регламентов – федеральных законов или постановлений Правительст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азделение обязательных и добровольных требований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ические регламенты – обязательные (только вопросы безопасности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андарты (национальные, организаций) - добровольны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Федеральный закон «О техническом регулировании» (вступил в силу с 1 июля 2003 г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Переход к более мягким формам подтверждения соответствия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От обязательной сертификации к декларированию соответствия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Четкие процедуры разработки и принятия технических регламентов и национальных стандартов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разработчик – любое лицо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обязательные публичные обсуждения проектов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Изменение процедур контроля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Контроль только на стадии обращения продукци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Процедура отзыва продукции с рынка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Система технического регулирован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250920" y="907920"/>
          <a:ext cx="871380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87138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Трансформация системы технического регулирован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179280" y="1025640"/>
          <a:ext cx="871380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25640"/>
                    <a:ext cx="871380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кущее состояние рефор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Хотя подготовлено более 80 проектов технических регламентов, принято только 2 (постановления Правительства), еще  6 приняты Государственной Думой в 3-х  чтениях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Список товаров, подлежащих обязательной сертификации сокращается, но недостаточными темпам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Фонд национальных стандартов обновляется, но уровень гармонизации с международными стандартами составляет менее 40%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До сих пор не создана национальная система аккредитаци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В 2007 году приняты поправки в закон «О техническом регулировании»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Изменений в системе государственного контроля (надзора) не произошло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5T13:21:41Z</dcterms:created>
  <dc:creator>www.PHILka.RU</dc:creator>
  <dc:description/>
  <dc:language>en-US</dc:language>
  <cp:lastModifiedBy>LEGION</cp:lastModifiedBy>
  <dcterms:modified xsi:type="dcterms:W3CDTF">2016-01-05T12:47:49Z</dcterms:modified>
  <cp:revision>22</cp:revision>
  <dc:subject/>
  <dc:title>Техническое регулирование: институциональный анализ</dc:title>
</cp:coreProperties>
</file>