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_rels/notesSlide6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6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8.wmf" ContentType="image/x-wmf"/>
  <Override PartName="/ppt/media/image9.png" ContentType="image/png"/>
  <Override PartName="/ppt/media/image17.wmf" ContentType="image/x-wmf"/>
  <Override PartName="/ppt/media/image12.png" ContentType="image/png"/>
  <Override PartName="/ppt/media/image7.png" ContentType="image/png"/>
  <Override PartName="/ppt/media/image20.png" ContentType="image/png"/>
  <Override PartName="/ppt/media/image2.wmf" ContentType="image/x-wmf"/>
  <Override PartName="/ppt/media/image19.png" ContentType="image/png"/>
  <Override PartName="/ppt/media/image18.wmf" ContentType="image/x-wmf"/>
  <Override PartName="/ppt/media/image1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97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_rels/slide9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55810-16CF-4F8D-9F4F-9FB4CE701F21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ИСК-МЕНЕЖДМЕ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меститель директор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ститута менеджмен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науке и дополнительному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фессиональному образованию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.э.н. Иванов Андрей Анатольеви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федр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тикризисного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сква 2009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ИСК-МЕНЕЖДМЕНТ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Заместитель директора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нститута менеджмента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 науке и дополнительному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офессиональному образованию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.э.н. Иванов Андрей Анатольевич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афедра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Антикризисного управлен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осква 2009г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ы риск-менеджера. Создание программы.(продолжен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какие факторы риска она будет оказывать влияни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рого ли будет её осуществит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й уровень сопротивления встретитс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колько времени займет её внедрени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тесно она связана с корпоративной стратегией организаци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опросы риск-менеджера. Создание программы.(продолжение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 какие факторы риска она будет оказывать влияние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орого ли будет её осуществить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акой уровень сопротивления встретится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колько времени займет её внедрение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ак тесно она связана с корпоративной стратегией организации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нижение предпринимательских риск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мериканские предприниматели часто практикуют правила пяти «C» – модели для проверки кредитоспособности партнер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чность заемщика (character) – его репутацию, степень ответствен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нансовые возможности (capacity) – способность погасить взятую ссуду за счет текущих поступлений или средств от реализации актив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снижения внутренних предпринимательских рисков предприятие должно проверять потенциальных партнеров по бизнесу и тщательно подбирать кад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нижение предпринимательских рисков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Американские предприниматели часто практикуют правила пяти «C» – модели для проверки кредитоспособности партнера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личность заемщика (character) – его репутацию, степень ответственности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финансовые возможности (capacity) – способность погасить взятую ссуду за счет текущих поступлений или средств от реализации активов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ля снижения внутренних предпринимательских рисков предприятие должно проверять потенциальных партнеров по бизнесу и тщательно подбирать кадры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ущество (capital) – величина и структура акционерного капитал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ение (collateral) – вид и стоимость активов, предлагаемых в качестве залог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ие условия (conditions) – общее экономическое состояние и другие факто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ила пяти «C» – модели (продолжен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мущество (capital) – величина и структура акционерного капитала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беспечение (collateral) – вид и стоимость активов, предлагаемых в качестве залога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бщие условия (conditions) – общее экономическое состояние и другие факторы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авила пяти «C» – модели (продолжение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де отсутствует точное знание, там действуют догадки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из десяти догадок девять - ошибк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. Горь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Где отсутствует точное знание, там действуют догадки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а из десяти догадок девять - ошибк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. Горький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ы риск-менеджера. Создание программы.(продолжен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й уровень взаимодействия отделов потребуется для её осуществле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тесно она связана с основными обязанностями сотрудников, задействованных в её осуществлени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опросы риск-менеджера. Создание программы.(продолжение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акой уровень взаимодействия отделов потребуется для её осуществления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ак тесно она связана с основными обязанностями сотрудников, задействованных в её осуществлении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Пример программ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Пример программы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 деятельности риск не существует, как и деятельность без рис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м совершеннее методы анализа и оценки риска, тем меньше влияние факторов рис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 риска – условия, обстоятельства, в рамках которых проявляются причины риска и которые приводят к нежелательным события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не деятельности риск не существует, как и деятельность без риск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Чем совершеннее методы анализа и оценки риска, тем меньше влияние факторов риск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Фактор риска – условия, обстоятельства, в рамках которых проявляются причины риска и которые приводят к нежелательным событиям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р фактора рис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ичие значительных размеров активов, которые не покупаются и не продаются (низкая ликвидность), приведет к тому, что предприятие не сможет своевременно ответить по своим обязательствам перед контрагентами (Риск снижения платежеспособности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имер фактора риска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личие значительных размеров активов, которые не покупаются и не продаются (низкая ликвидность), приведет к тому, что предприятие не сможет своевременно ответить по своим обязательствам перед контрагентами (Риск снижения платежеспособности)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чины и факторы возникновения рис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ичины и факторы возникновения риск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ила риск-менеджм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льзя рисковать больше, чем это может позволить собственный капита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до думать о последствиях рис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льзя рисковать многим ради мал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ожительное решение принимается лишь при отсутствии сом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наличии сомнений принимаются отрицательные ре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льзя думать, что существует только одно решение, возможно, есть и друг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авила риск-менеджмент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ельзя рисковать больше, чем это может позволить собственный капитал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до думать о последствиях риск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ельзя рисковать многим ради малого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ложительное решение принимается лишь при отсутствии сомнен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и наличии сомнений принимаются отрицательные решен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ельзя думать, что существует только одно решение, возможно, есть и другие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ючевые понят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иск-менеджм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ероятность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озможность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опасность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озможная опасность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ущерб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неопределенность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отклонения от результат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олатильность» (изменчивость и непостоянство рыночной конъюнктур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лючевые понят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иск-менеджмент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«вероятность»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«возможность»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«опасность»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«возможная опасность»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«ущерб»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«неопределенность»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«отклонения от результата»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«волатильность» (изменчивость и непостоянство рыночной конъюнктуры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ие понятия риск-менеджмента объединяет терм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Событие», под которым понимается: любой исход, который в результате деятельности может быть получе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P–вероятность; А–событие (риск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–конкретное число наступления случаев (благоприятствующих наступлению события А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N – общее число случаев (возникновения события 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бщие понятия риск-менеджмента объединяет термин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«Событие», под которым понимается: любой исход, который в результате деятельности может быть получен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P–вероятность; А–событие (риск);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–конкретное число наступления случаев (благоприятствующих наступлению события А)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N – общее число случаев (возникновения события А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Возможные трактовки категории рис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Возможные трактовки категории риск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тература по риск-менеджменту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С. Ступаков, Г.С. Токаренко Риск-менеджмен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апкин А.С. Экономические и финансовые риски. Оценка, управление, портфель инвестиций. – М.: Издательско-торговая корпорация «Дашков и Ко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мас Л. Бартон, Уильям Г. Шенкир, Пол Л. Уокер «Комплексный подход к риск- менеджменту: стоит ли этим заниматься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жеймс Пикфорд; Управление рисками. – М.: ООО «Вершина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иславчик Е.Н. Риск-менеджмент на предприятии. Теория и практика. – М.: «Ось-89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Литература по риск-менеджменту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.С. Ступаков, Г.С. Токаренко Риск-менеджмент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Шапкин А.С. Экономические и финансовые риски. Оценка, управление, портфель инвестиций. – М.: Издательско-торговая корпорация «Дашков и Ко»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Томас Л. Бартон, Уильям Г. Шенкир, Пол Л. Уокер «Комплексный подход к риск- менеджменту: стоит ли этим заниматься»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жеймс Пикфорд; Управление рисками. – М.: ООО «Вершина»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таниславчик Е.Н. Риск-менеджмент на предприятии. Теория и практика. – М.: «Ось-89»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 отклонений фактических результатов от ожидаем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Анализ отклонений фактических результатов от ожидаемых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рис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ще всего производится по принципу однозначности последствий от наступления рисковых событ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лассификация риск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Чаще всего производится по принципу однозначности последствий от наступления рисковых событий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характеру последствий риски      подразделяют на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стые  и  спекулятив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сть чистых рисков (статистических или простых) заключается в том, что они практически всегда несут в себе потери для предпринимательской деятель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чинами возникновения подобных рисков могут быть стихийные бедствия, несчастные случаи, недееспособность руководящих сотрудников и т.п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кулятивные риски (динамические или коммерческие) – несут в себе либо потери, либо дополнительную прибыль для предпринимател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 характеру последствий риски      подразделяют на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чистые  и  спекулятивны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собенность чистых рисков (статистических или простых) заключается в том, что они практически всегда несут в себе потери для предпринимательской деятельности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ичинами возникновения подобных рисков могут быть стихийные бедствия, несчастные случаи, недееспособность руководящих сотрудников и т.п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пекулятивные риски (динамические или коммерческие) – несут в себе либо потери, либо дополнительную прибыль для предпринимателя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сфере возникновен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отрасли деятельности) различаю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ственный риск - это риск невыполнения своих обязательств и нормативных планов по производству товаров, работ, услуг в результате воздействия как внешней среды, так и внутренних факто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мерческий риск - риск потерь в процессе финансово – хозяйственной дея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нансовый риск - риск невыполнения фирмой своих финансовых обязатель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 сфере возникновен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отрасли деятельности) различают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оизводственный риск - это риск невыполнения своих обязательств и нормативных планов по производству товаров, работ, услуг в результате воздействия как внешней среды, так и внутренних фактор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оммерческий риск - риск потерь в процессе финансово – хозяйственной деятельно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Финансовый риск - риск невыполнения фирмой своих финансовых обязательств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мерческие рис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мерческий риск – это риск, возникающий в процессе реализации товаров и услуг, произведенных или купленных предпринимател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мерческий риск включает в себя риски, связанные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реализацией товара (услуг) на рынк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транспортировкой товара (транспортный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приемкой товара (услуг) покупателе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платежеспособностью покупател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форс – мажорными обстоятельств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оммерческие риск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оммерческий риск – это риск, возникающий в процессе реализации товаров и услуг, произведенных или купленных предпринимателем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оммерческий риск включает в себя риски, связанные 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 реализацией товара (услуг) на рынке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 транспортировкой товара (транспортный)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 приемкой товара (услуг) покупателем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 платежеспособностью покупателя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 форс – мажорными обстоятельствам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нансовые рис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язаны с вероятностью потерь финансовых ресурсов (денежных средств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и  подразделяются на три основных вид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вестиционны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иски, связанные с покупательной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способностью дене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Финансовые риск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вязаны с вероятностью потерь финансовых ресурсов (денежных средств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ни  подразделяются на три основных вида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алютные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нвестиционные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иски, связанные с покупательной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способностью денег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уппа инвестиционных рисков включает в себя следующие рис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ляционный рис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ный рис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лективный рис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итный (деловой) рис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иональный рис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аслевой рис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иск предприят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новационный рис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Группа инвестиционных рисков включает в себя следующие риски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нфляционный риск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истемный риск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елективный риск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редитный (деловой) риск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егиональный риск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траслевой риск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иск предприятия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нновационный риск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на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ляционный риск – риск того, что полученные доходы в результате высокой инфляции обесцениваются быстрее, чем растут ( с точки зрения покупательной способности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ный риск – риск ухудшения конъюнктуры (падения) какого-либо рынка в целом. Он не связан с конкретным объектом инвестиций и представляет собой общий риск на все вложения на данном рынке (фондовом, валютном, недвижимости и т.д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сновные направлен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нфляционный риск – риск того, что полученные доходы в результате высокой инфляции обесцениваются быстрее, чем растут ( с точки зрения покупательной способности)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истемный риск – риск ухудшения конъюнктуры (падения) какого-либо рынка в целом. Он не связан с конкретным объектом инвестиций и представляет собой общий риск на все вложения на данном рынке (фондовом, валютном, недвижимости и т.д.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лективный риск – это риск потерь или упущенной выгоды из-за неправильного выбора объекта инвестирования на определенном рынке, например неправильного выбора ценной бумаги из имеющихся на фондовом рынке при формировании портфеля ценных бума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иск ликвидности – риск, связанный с возможностью потерь при реализации объекта инвестирования из-за изменения оценки его качества, например какого-либо товара, недвижимости (земля, строение), ценной бумаги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елективный риск – это риск потерь или упущенной выгоды из-за неправильного выбора объекта инвестирования на определенном рынке, например неправильного выбора ценной бумаги из имеющихся на фондовом рынке при формировании портфеля ценных бумаг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иск ликвидности – риск, связанный с возможностью потерь при реализации объекта инвестирования из-за изменения оценки его качества, например какого-либо товара, недвижимости (земля, строение), ценной бумаги и т.д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езные ссылки по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иск-менеджменту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franklin-grant.ru Аналитика и теория по риска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cfin.ru/finanalysis/ Финансовый анализ, оценка бизне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gaap.ru/biblio/corpfin/finman/077.asp  Интегрированный риск-менеджме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findirector.r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cfin.ru/press/afa/2000-4/31_ufa.shtml  Методология построения страховых тарифов в условиях изменения динамики имущественного страх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riskinfo.ru/analytics/market/?id=59  Риск ИнфоСерфис (статьи и публикаци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egartech.ru/fields/derivatives/riskfactors/  Риск-факторы фондового ры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finrisk.ru/ Финансовые рис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hedging.ru/  публикации, анализ, семинары, (страхование, моделирование риско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лезные ссылки по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иск-менеджменту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http://www.franklin-grant.ru Аналитика и теория по рискам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http://www.cfin.ru/finanalysis/ Финансовый анализ, оценка бизнес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http://www.gaap.ru/biblio/corpfin/finman/077.asp  Интегрированный риск-менеджмент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http://www.findirector.ru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http://www.cfin.ru/press/afa/2000-4/31_ufa.shtml  Методология построения страховых тарифов в условиях изменения динамики имущественного страхован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http://www.riskinfo.ru/analytics/market/?id=59  Риск ИнфоСерфис (статьи и публикации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http://www.egartech.ru/fields/derivatives/riskfactors/  Риск-факторы фондового рынк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http://www.finrisk.ru/ Финансовые риск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http://www.hedging.ru/  публикации, анализ, семинары, (страхование, моделирование рисков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ственные риски делят на следующие вид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исполнения хозяйственных договор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я конъюнктуры рын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никновения непредвиденных затрат и снижения доход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чие производственные рис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оизводственные риски делят на следующие виды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еисполнения хозяйственных договоров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зменения конъюнктуры рынка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озникновения непредвиденных затрат и снижения доходов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очие производственные риск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иск-менеджме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жет выступать в качестве самостоятельного вида профессиональной деятельности. Этот вид деятельности выполняют профессиональные институты специалистов, страховые компании, а также финансовые менеджеры, риск-менеджеры, специалисты по страхован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иск-менеджмент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ожет выступать в качестве самостоятельного вида профессиональной деятельности. Этот вид деятельности выполняют профессиональные институты специалистов, страховые компании, а также финансовые менеджеры, риск-менеджеры, специалисты по страхованию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Организация риск-менеджм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Организация риск-менеджмент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Алгоритм управления риск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Алгоритм управления рискам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ила риск-менеджм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льзя рисковать больше, чем это может позволить собственный капита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до думать о последствиях рис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льзя рисковать многим ради мал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ожительное решение принимается лишь при отсутствии сом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наличии сомнений принимаются отрицательные ре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льзя думать, что существует только одно решение, возможно, есть и друг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авила риск-менеджмент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ельзя рисковать больше, чем это может позволить собственный капитал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до думать о последствиях риск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ельзя рисковать многим ради малого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ложительное решение принимается лишь при отсутствии сомнен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и наличии сомнений принимаются отрицательные решен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ельзя думать, что существует только одно решение, возможно, есть и другие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рта рисков - эффективный инструмент управ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арта рисков - эффективный инструмент управления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рта рисков – простой метод оценки рис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ители разных отраслей экономики –зачастую задают, как консультантам по управлению рисками вопрос: есть ли простые и наглядные методы, доступные и неспециалистам, которые помогли бы хотя бы грубо оценить риски при развитии новых стратегических направлений бизнеса, крупных инвестиционных планов и т.п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арта рисков – простой метод оценки риск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едставители разных отраслей экономики –зачастую задают, как консультантам по управлению рисками вопрос: есть ли простые и наглядные методы, доступные и неспециалистам, которые помогли бы хотя бы грубо оценить риски при развитии новых стратегических направлений бизнеса, крупных инвестиционных планов и т.п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такое карта риска и чем она полезн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рта риска - графическое и текстовое описание ограниченного числа рисков организации, расположенных  в прямоугольной таблице,  по одной «оси» которой указана сила воздействия или значимость риска,  а по другой вероятность или частота его возникновения 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Что такое карта риска и чем она полезна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арта риска - графическое и текстовое описание ограниченного числа рисков организации, расположенных  в прямоугольной таблице,  по одной «оси» которой указана сила воздействия или значимость риска,  а по другой вероятность или частота его возникновения 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ы риск-менеджм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нимательская деятельность – это самостоятельная, на свой риск деятельность, направленная на систематическое получение прибыли о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ьзования имуществ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ажи товар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олнения рабо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азания услу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сновы риск-менеджмент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едпринимательская деятельность – это самостоятельная, на свой риск деятельность, направленная на систематическое получение прибыли от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льзования имуществом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одажи товаров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ыполнения работ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казания услуг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Частный пример карты рис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Частный пример карты риск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исание структуры карты рис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этой карте рисков вероятность или частота отображается по вертикальной оси, а сила воздействия или значимость - по горизонтальной оси. В этом  случае вероятность появления риска увеличивается снизу вверх  при продвижении по вертикальной оси, а воздействие риска увеличивается  слева направо по горизонтальной ос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писание структуры карты риск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 этой карте рисков вероятность или частота отображается по вертикальной оси, а сила воздействия или значимость - по горизонтальной оси. В этом  случае вероятность появления риска увеличивается снизу вверх  при продвижении по вертикальной оси, а воздействие риска увеличивается  слева направо по горизонтальной ос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абские цифры на карте – обозначения рисков, которые были классифицированы по четырем категориям значимости и шести категориям вероятности, причем так, чтобы каждому сочетанию вероятность/значимость был приписан один вид рис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Арабские цифры на карте – обозначения рисков, которые были классифицированы по четырем категориям значимости и шести категориям вероятности, причем так, чтобы каждому сочетанию вероятность/значимость был приписан один вид риска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ая классификация, размещающая каждый риск в специфическую отдельную «коробочку» не является обязательной, но упрощает процесс установки приоритетов, показывая положение каждого риска относительно других (увеличивает разрешающую способность данного метода). Жирная ломаная линия - критическая граница терпимости к риск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Такая классификация, размещающая каждый риск в специфическую отдельную «коробочку» не является обязательной, но упрощает процесс установки приоритетов, показывая положение каждого риска относительно других (увеличивает разрешающую способность данного метода). Жирная ломаная линия - критическая граница терпимости к риску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выявлении критических рис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ценарии (причинно-следственная связь процессов, событий и действующих факторов риска), приводящие к рискам выше этой границы, считаются непереносимы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и выявлении критических риск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ценарии (причинно-следственная связь процессов, событий и действующих факторов риска), приводящие к рискам выше этой границы, считаются непереносимыми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разработке страте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имер, по выявленным непереносимым рискам до принятия данной стратегии требуется понять,  как уменьшить или передать такие риски, в то время как риски ниже границы являются управляемыми в рабочем порядк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и разработке стратеги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пример, по выявленным непереносимым рискам до принятия данной стратегии требуется понять,  как уменьшить или передать такие риски, в то время как риски ниже границы являются управляемыми в рабочем порядке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личительные признаки бизнеса в риск-менеджмен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авленность на систематическое получение прибыл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овая дифференциац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уществление деятельности на свой риск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ственность по обязательствам в соответствии с законодательств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ятие инициативных решений с учетом последствий рис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тличительные признаки бизнеса в риск-менеджмент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правленность на систематическое получение прибыли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идовая дифференциация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существление деятельности на свой риск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тветственность по обязательствам в соответствии с законодательством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инятие инициативных решений с учетом последствий риск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роение карты рис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иться как в рамках внедрения системы управления рисками на уровне всей организации, что сложно, а зачастую и невозможно выполнить внутренними силами организации.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решения обособленного круга задач по управлению рисками, например в рамках предварительной оценки различных стратегий развит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строение карты риск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оизводиться как в рамках внедрения системы управления рисками на уровне всей организации, что сложно, а зачастую и невозможно выполнить внутренними силами организации. 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ля решения обособленного круга задач по управлению рисками, например в рамках предварительной оценки различных стратегий развития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олог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которую мы рассмотрим дале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ана на достижении согласованного мнения топ-менеджмента компании о риск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этом самая важная выгода - решительное сокращение циклов и времени принятия реш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етодолог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которую мы рассмотрим далее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снована на достижении согласованного мнения топ-менеджмента компании о рисках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и этом самая важная выгода - решительное сокращение циклов и времени принятия решения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Вы можете сделать сами: процесс построения карты рис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бщем случае процесс картографирования рисков позволяе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делить рис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оложить риски по приоритет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ить количественно (разбить на классы) риски организ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Что Вы можете сделать сами: процесс построения карты риск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 общем случае процесс картографирования рисков позволяет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ыделить риски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сположить риски по приоритетам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ценить количественно (разбить на классы) риски организаци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, которые применяют консультанты при составлении карты рисков включаю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рвь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ализованные и неформализованные опросн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зоры и исследования отрас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 документационного комплекта компа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сленные методы оцен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етоды, которые применяют консультанты при составлении карты рисков включают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нтервью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формализованные и неформализованные опросник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бзоры и исследования отрасл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анализ документационного комплекта компани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численные методы оценки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шаги  процесса самостоятельного картографирования рис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ичное обуч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границ анали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состава команд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 сценариев и ранжир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границы терпимости к риску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ление плана действ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ологии количественных оценок и моделирова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сновные шаги  процесса самостоятельного картографирования риск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ервичное обучени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пределение границ анализ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формирование состава команды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анализ сценариев и ранжировани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пределение границы терпимости к риску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оставление плана действий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технологии количественных оценок и моделирования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Первичное обуч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жно, чтобы хотя бы один или два сотрудника компании, прошли обучение основам риск-менеджмен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дальнейшем эти сотрудники помогут наладить диалог между членами команды и вести всю команду во время процесса картографир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о провести внутрене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варительное обучение, которое может длиться от одного до пяти дн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1. Первичное обучени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ажно, чтобы хотя бы один или два сотрудника компании, прошли обучение основам риск-менеджмент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 дальнейшем эти сотрудники помогут наладить диалог между членами команды и вести всю команду во время процесса картографирования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еобходимо провести внутренее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едварительное обучение, которое может длиться от одного до пяти дней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мнению практик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илучший результат достигается при длительности установочных семинаров в два-три дн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а обученного сотрудника компании - менеджера процесса картографирования рисков внутри компании, постоянно ориентировать команду на нужную цел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тех случаях, когда требуется специальная предметная экспертиза, эксперт может быть введен в команд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 мнению практиков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илучший результат достигается при длительности установочных семинаров в два-три дня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Задача обученного сотрудника компании - менеджера процесса картографирования рисков внутри компании, постоянно ориентировать команду на нужную цель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 тех случаях, когда требуется специальная предметная экспертиза, эксперт может быть введен в команду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Определение границ анали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яют, какие области бизнес-решений затрагивают картографирова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гут быть столь широкими или столь узкими, как это желательно организ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яются на начальном этапе процес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2. Определение границ анализ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пределяют, какие области бизнес-решений затрагивают картографирование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огут быть столь широкими или столь узкими, как это желательно организации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пределяются на начальном этапе процесс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ассматриваемом примере границы определяются, ка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дентификац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ановление приорите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имание всех рисков, препятствующих достижению корпоративных стратегических целей при реализации конкретного стратегического пла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 рассматриваемом примере границы определяются, как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дентификация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установление приоритет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нимание всех рисков, препятствующих достижению корпоративных стратегических целей при реализации конкретного стратегического план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определении границ должен соблюдаться баланс между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иротой грани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убиной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ностью той информации, которая будет получена из процесса картографирования риск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и определении границ должен соблюдаться баланс между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широтой границ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глубиной информаци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ценностью той информации, которая будет получена из процесса картографирования рисков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версификация понятия «РИСК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Опасность, возможность убытка или ущерба»(Н. Уэбстер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Пускаться на удачу, идти на авось, делать без верного расчета»(В.Даль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озможная опасность», «действие на удачу в надежде на счастливый случай» (С.Ожего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озможность наступления события с отрицательными последствиями в результате определенных решений и действий»(Большой экономический словарь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иверсификация понятия «РИСК»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«Опасность, возможность убытка или ущерба»(Н. Уэбстер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«Пускаться на удачу, идти на авось, делать без верного расчета»(В.Даль.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«Возможная опасность», «действие на удачу в надежде на счастливый случай» (С.Ожегов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«Возможность наступления события с отрицательными последствиями в результате определенных решений и действий»(Большой экономический словарь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кретные советы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при определении границ анализ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итесь с целями, доступностью и стоимостью информ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тем очертите границы анализа для построения карты рис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онкретные советы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при определении границ анализа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пределитесь с целями, доступностью и стоимостью информации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Затем очертите границы анализа для построения карты рисков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Состав коман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вляется критическим для успеха процесса картографирования рис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проведении работы профессиональными консультантами команда (рабочая группа) включает обычно тех специалистов, которые обладают опытом и экспертными знания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ыт показывает, что команда работает эффективно, если состоит из шести - десяти челове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3. Состав команд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является критическим для успеха процесса картографирования рисков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и проведении работы профессиональными консультантами команда (рабочая группа) включает обычно тех специалистов, которые обладают опытом и экспертными знаниями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пыт показывает, что команда работает эффективно, если состоит из шести - десяти человек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составлении карты стратегических рисков компании в команду включаются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ный администрат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ководитель финансового отдела руководитель казначей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ководитель юридическ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н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T отдел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ководитель отдела стратегического планирова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и составлении карты стратегических рисков компании в команду включаются: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главный администратор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уководитель финансового отдела руководитель казначейств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уководитель юридического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онтрольного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IT отдел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уководитель отдела стратегического планирования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более узких грани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анализируются риски определенной области деятельности типа электронной коммерции, то состав команды будет формироваться из старших представителей соответствующих функциональных областей и тех подразделений, интересы которых затрагиваютс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ля более узких границ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если анализируются риски определенной области деятельности типа электронной коммерции, то состав команды будет формироваться из старших представителей соответствующих функциональных областей и тех подразделений, интересы которых затрагиваются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достижения наибольшей эффективности коман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лжна наиболее четко представлять институциональные знания своей компан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лжна включать топ-менеджмен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ля достижения наибольшей эффективности команд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олжна наиболее четко представлять институциональные знания своей компани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олжна включать топ-менеджмент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Сценарный анализ и ранжир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анда предпринимает управляемый мозговой штурм, чтобы выявить все потенциальные риски компании при данной стратегии развит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ценарии, сопутствующие появлению риск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 идентификации, риски и сценарии обсуждаются, достигается консенсус и готовится письменное описание сценарие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4. Сценарный анализ и ранжировани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оманда предпринимает управляемый мозговой штурм, чтобы выявить все потенциальные риски компании при данной стратегии развития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ценарии, сопутствующие появлению рисков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сле идентификации, риски и сценарии обсуждаются, достигается консенсус и готовится письменное описание сценариев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ючевыми моментами каждого сценария являю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уязвимость" компан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объект риск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триггерный механизм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факторы риска)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последствия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величина возможных потерь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лючевыми моментами каждого сценария являютс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"уязвимость" компании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объект риска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"триггерный механизм"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факторы риска)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"последствия"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величина возможных потерь)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язвимость или объект рис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ценность компании, которой свойственна подверженность потенциальным угроза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иггерные механизмы (факторы риска) вызывают негативные последствия для объектов рис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дствия выражаются в терминах природы и величины потерь, следующей из уязвимости объекта риска и природы триггерного механизм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Уязвимость или объект риск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это ценность компании, которой свойственна подверженность потенциальным угрозам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Триггерные механизмы (факторы риска) вызывают негативные последствия для объектов риска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следствия выражаются в терминах природы и величины потерь, следующей из уязвимости объекта риска и природы триггерного механизма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этом этапе рабо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ужно стремиться понять, можно ли множество мелких рисков, которые, как правило, выявляют сотрудники организации при самостоятельной работе, объединить в какие-то группы, на основании чего это можно сдела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 этом этапе работ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ужно стремиться понять, можно ли множество мелких рисков, которые, как правило, выявляют сотрудники организации при самостоятельной работе, объединить в какие-то группы, на основании чего это можно сделать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гда выявлено ограниченное количество сценариев, команда должна ранжировать сценарии в терминах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оздействия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ероятности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в тех терминах, которые наиболее приемлимы для организации. 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огда выявлено ограниченное количество сценариев, команда должна ранжировать сценарии в терминах: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«воздействия»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«вероятности»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в тех терминах, которые наиболее приемлимы для организации. 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ятельность риск-менедж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лжна быть основана на рациональном соединении внешних и внутренних факторов, основываясь на инновационном рисковом подходе при создании программы риск-менеджмен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еятельность риск-менеджер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олжна быть основана на рациональном соединении внешних и внутренних факторов, основываясь на инновационном рисковом подходе при создании программы риск-менеджмент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имер, в качественных терминах четыре ранга воздействия можно определить в нисходящем порядке как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тастрофиче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тиче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енны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ничны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пример, в качественных терминах четыре ранга воздействия можно определить в нисходящем порядке как: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атастрофический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ритический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ущественный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граничный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нги вероят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торых на нашей карте шесть, определены также в качественных терминах от «почти невозможно» к «почти точно произойдет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нги вероятно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оторых на нашей карте шесть, определены также в качественных терминах от «почти невозможно» к «почти точно произойдет»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блица результатов сценарного анализа и ранжирования риск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Таблица результатов сценарного анализа и ранжирования рисков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Определение границы толерантности к рис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тическая граница терпимости к риску - ломаная жирная линия, отделяет те риски, которые являются в настоящее время терпимыми от тех, которые требуют постоянного контроля и именно сейчас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5. Определение границы толерантности к риску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ритическая граница терпимости к риску - ломаная жирная линия, отделяет те риски, которые являются в настоящее время терпимыми от тех, которые требуют постоянного контроля и именно сейчас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ончательная ценность карты риска орган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оит не в определении точного воздействия или уровня вероятности специфической угрозы, а в относительном расположении одной угрозы относительно других угроз, и в их расположении по отношению к границе терпимости к риск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кончательная ценность карты риска организаци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остоит не в определении точного воздействия или уровня вероятности специфической угрозы, а в относительном расположении одной угрозы относительно других угроз, и в их расположении по отношению к границе терпимости к риску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План действ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иски, лежащие выше границы толерантности требуют непосредственного внимания именно сейчас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6. План действий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иски, лежащие выше границы толерантности требуют непосредственного внимания именно сейчас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жно разработать определенные планы действий для уменьшения величины или вероятности потерь от данного рис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о определить целевые показатели и меру оценки успеха в управлении риском, даты достижения целевых показателей и назначить ответственны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 действ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ажно разработать определенные планы действий для уменьшения величины или вероятности потерь от данного риска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еобходимо определить целевые показатели и меру оценки успеха в управлении риском, даты достижения целевых показателей и назначить ответственных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лан действий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 плана действ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оит в том, чтобы понять, как переместить каждый «невыносимый» риск левее и ниже в «терпимую зону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Цель плана действий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остоит в том, чтобы понять, как переместить каждый «невыносимый» риск левее и ниже в «терпимую зону»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управления риск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управления рисками можно     разделить на четыре групп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уклонения от рис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локализации рис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диссипации рис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компенсации рис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етоды управления рискам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етоды управления рисками можно     разделить на четыре группы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етоды уклонения от риска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етоды локализации риска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етоды диссипации риска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етоды компенсации риск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уклонения от риска предполагаю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ключение рисковых ситуаций из 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знес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бегание сделок с ненадежным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ртнерами, клиентам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каз от услуг неизвестных ил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мнительных фирм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казываются от инновационных или 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вестиционных проектов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те вызывают хоть малейшую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уверенность в успешной реализации.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етоды уклонения от риска предполагают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сключение рисковых ситуаций из 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бизнеса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збегание сделок с ненадежным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артнерами, клиентами;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тказ от услуг неизвестных ил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омнительных фирм;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тказываются от инновационных или 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нвестиционных проектов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если те вызывают хоть малейшую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еуверенность в успешной реализации.        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руководство решает использовать в качестве «уклонения» -  страхование то необходима разработка комплексной программы защиты, а не единичные обращения в страховую фирм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 «уклонении»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Если руководство решает использовать в качестве «уклонения» -  страхование то необходима разработка комплексной программы защиты, а не единичные обращения в страховую фирму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б «уклонении»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у предприятия не хватает средств для комплексной страховой защиты, необходимо выделить те риски, реализация которых связана с наибольшими потерями и застраховать именно и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Если у предприятия не хватает средств для комплексной страховой защиты, необходимо выделить те риски, реализация которых связана с наибольшими потерями и застраховать именно их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дача риска используется как мелкими, так и крупными предприятиями. Причем, для первых в качестве гаранта выступают, как правило, крупные компании, а для вторых – органы государственного управления. Такая сделка выгодна как и для передающей, так и для принимающей сторон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иск гарантов как способ уклонения от рис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ередача риска используется как мелкими, так и крупными предприятиями. Причем, для первых в качестве гаранта выступают, как правило, крупные компании, а для вторых – органы государственного управления. Такая сделка выгодна как и для передающей, так и для принимающей стороны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иск гарантов как способ уклонения от риска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одтверждение выгодности подобных сделок говорят следующие причин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тери, которые велики для передающей стороны, могут быть незначительными для стороны принимающ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имающая сторона может обладать лучшими возможностями для сокращения потер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имающая сторона может находиться в лучшей позиции для контроля хозяйственного риска и предотвращения потерь.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 подтверждение выгодности подобных сделок говорят следующие причины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тери, которые велики для передающей стороны, могут быть незначительными для стороны принимающей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инимающая сторона может обладать лучшими возможностями для сокращения потерь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инимающая сторона может находиться в лучшей позиции для контроля хозяйственного риска и предотвращения потерь.         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локализации и диссипации рис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няется только, когда можно четко идентифицировать источники рис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иболее опасные участки производственного процесса локализуются, и над ними устанавливается контроль, снижается уровень финансового рис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обный метод используют крупные компании для внедрения инновационных проектов, освоения новых видов продукции и т. 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амых простых случаях для локализации риска создается специализированное подразделение в структуре компании, которое осуществляет реализацию проек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окализация рис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етоды локализации и диссипации риска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именяется только, когда можно четко идентифицировать источники риска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иболее опасные участки производственного процесса локализуются, и над ними устанавливается контроль, снижается уровень финансового риск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добный метод используют крупные компании для внедрения инновационных проектов, освоения новых видов продукции и т. д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 самых простых случаях для локализации риска создается специализированное подразделение в структуре компании, которое осуществляет реализацию проекта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Локализация риск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ляют собой более гибкие инструменты управления. Один из них связан с распределением риска между стратегическими партнерами. В качестве партнеров могут выступать как другие предприятия, так и физические лица. Здесь могут создаваться акционерные общества, финансово – промышленные группы. Предприятия могут вступать в консорциумы, ассоциации, концерн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динение предприятий в одно либо в группу носит название интегр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диссипации (рассеивания) рис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едставляют собой более гибкие инструменты управления. Один из них связан с распределением риска между стратегическими партнерами. В качестве партнеров могут выступать как другие предприятия, так и физические лица. Здесь могут создаваться акционерные общества, финансово – промышленные группы. Предприятия могут вступать в консорциумы, ассоциации, концерны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бъединение предприятий в одно либо в группу носит название интеграции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етоды диссипации (рассеивания) риск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деляют четыре основных вида интеграции рис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тная интеграция -  предполагает объединение с поставщика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ямая интеграция - подразумевает объединение с посредниками, образующими дистрибьюторскую сеть по сбыту продукции предприят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ыделяют четыре основных вида интеграции риска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братная интеграция -  предполагает объединение с поставщиками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ямая интеграция - подразумевает объединение с посредниками, образующими дистрибьюторскую сеть по сбыту продукции предприятия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грации (продолжен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ризонтальная интеграция - предполагает объединение с конкурентами; обычно такие ассоциации создаются с целью согласования ценовой политики, разграничению зон хозяйствования, каких-либо совместных действ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ртикальная (круговая) интеграция – это объединение организаций, осуществляющих разные виды деятельности для достижения совместных стратегических цел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нтеграции (продолжение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горизонтальная интеграция - предполагает объединение с конкурентами; обычно такие ассоциации создаются с целью согласования ценовой политики, разграничению зон хозяйствования, каких-либо совместных действий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ертикальная (круговая) интеграция – это объединение организаций, осуществляющих разные виды деятельности для достижения совместных стратегических целей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разумевает увеличение разнообразия видов деятельности, рынков сбыта или каналов поставо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версификация закупок – это увеличение количества поставщиков, что позволяет ослабить зависимость предприятия от конкретного поставщика. (нарушение графика, форс – мажор, банкротство и др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версификация рынка сбыта (развитие рынка) -  предполагает распределение готовой продукции предприятия между несколькими рынками или контрагентами. В этом случае провал на одном рынке будет компенсирован успехами на други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ругая разновидность методов диссипации риска – это диверсификац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дразумевает увеличение разнообразия видов деятельности, рынков сбыта или каналов поставок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иверсификация закупок – это увеличение количества поставщиков, что позволяет ослабить зависимость предприятия от конкретного поставщика. (нарушение графика, форс – мажор, банкротство и др.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иверсификация рынка сбыта (развитие рынка) -  предполагает распределение готовой продукции предприятия между несколькими рынками или контрагентами. В этом случае провал на одном рынке будет компенсирован успехами на других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ругая разновидность методов диссипации риска – это диверсификация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создании антирисковой программы риск-менеджер должен ответить на следующие вопросы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сколько легко её осуществит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сколько она будет принята и исполнима сотрудникам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сколько она понравится руководств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вы приоритеты мероприяти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й уровень технологии потребуетс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и создании антирисковой программы риск-менеджер должен ответить на следующие вопросы: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сколько легко её осуществить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сколько она будет принята и исполнима сотрудниками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сколько она понравится руководству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аковы приоритеты мероприятий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акой уровень технологии потребуется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версификация видов хозяйственной деятельности -  подразумева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ширение ассортимента выпускаемой продукции, оказываемых услуг, спектра используемых технологий. При возникновении проблем с реализацией одного вида продукции, организация сможет компенсировать потери при помощи других сфер хозяйствования либо вообще перейти в другую отрасл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иверсификация видов хозяйственной деятельности -  подразумевает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сширение ассортимента выпускаемой продукции, оказываемых услуг, спектра используемых технологий. При возникновении проблем с реализацией одного вида продукции, организация сможет компенсировать потери при помощи других сфер хозяйствования либо вообще перейти в другую отрасль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ссипация риска при формировании инвестиционного портфе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олагает реализацию одновременно нескольких проектов, характеризующихся небольшой капиталоемкостью. Это можно назвать диверсификацией инвестиц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иссипация риска при формировании инвестиционного портфел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едполагает реализацию одновременно нескольких проектов, характеризующихся небольшой капиталоемкостью. Это можно назвать диверсификацией инвестиций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компенсации рис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нная группа методов относится 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еждающим методам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управление по изменениям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тегическое планир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 эффективно, ес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аботка стратегии проходит чере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сферы внутри предприят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етоды компенсации риск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анная группа методов относится к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упреждающим методам управлен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управление по изменениям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тратегическое планировани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собенно эффективно, есл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зработка стратегии проходит через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се сферы внутри предприятия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лючается в периодической разработке сценариев развития внешней среды предприятия, в прогнозировании поведения возможных партнеров или действий конкурентов, изменений в секторах и сегментах рын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Прогнозирование внешней экономической обстанов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Заключается в периодической разработке сценариев развития внешней среды предприятия, в прогнозировании поведения возможных партнеров или действий конкурентов, изменений в секторах и сегментах рынка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2. Прогнозирование внешней экономической обстановк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Активный целенаправленный маркетин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 подразумевает использование маркетинговых инструментов для интенсивного формирования спроса на продукцию предприят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кламные а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иционирование това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фференциация проду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кусирование на определенные 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группы потребител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3. Активный целенаправленный маркетинг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н подразумевает использование маркетинговых инструментов для интенсивного формирования спроса на продукцию предприятия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екламные акци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зиционирование товар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ифференциация продукци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Фокусирование на определенные 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группы потребителей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Мониторинг социально – экономической и нормативно – правовой сре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нсивное формирование спроса на свою продукц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уются метод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гментация рынка и оценка его емк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рекламной компан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 поведения конкурент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работка конкурентных стратег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4. Мониторинг социально – экономической и нормативно – правовой сред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нтенсивное формирование спроса на свою продукцию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спользуются методы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егментация рынка и оценка его емкости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рганизация рекламной компании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Анализ поведения конкурентов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ыработка конкурентных стратегий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использовании этого метода на предприятии создаются страховые запасы сырья, материалов, денежных средств, создаются планы их мобилизации в условиях кризиса. В некоторых случаях создание резервных фондов является обязательным.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Создание системы резерв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и использовании этого метода на предприятии создаются страховые запасы сырья, материалов, денежных средств, создаются планы их мобилизации в условиях кризиса. В некоторых случаях создание резервных фондов является обязательным.         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5. Создание системы резервов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ми формами этого направления являю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резервного фонда предприятия, который создается в соответствии с требованиями законодательства и устава предприят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целевых резервных фонд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ром такого формирования служит фонд страхования ценового риска (на период временного ухудшения конъюнктуры рынка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сновными формами этого направления являются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формирование резервного фонда предприятия, который создается в соответствии с требованиями законодательства и устава предприятия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формирование целевых резервных фондов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имером такого формирования служит фонд страхования ценового риска (на период временного ухудшения конъюнктуры рынка);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распределенный остаток прибыли, полученной в отчетном период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 его распределения он может рассматриваться как резерв финансовых ресурсов, направляемых в необходимом случае на ликвидацию негативных последствий отдельных рис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ераспределенный остаток прибыли, полученной в отчетном периоде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о его распределения он может рассматриваться как резерв финансовых ресурсов, направляемых в необходимом случае на ликвидацию негативных последствий отдельных рисков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Привлечение внешних ресур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лучае когда фирма не в состоянии покрыть все потери внутренних ресурсов, часть из них можно покрыть с использованием кредитных ресурсов. Однако в данном случае доступность кредитных ресурсов имеет существенные ограничения. И главное из них — перспектива будущей прибы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6. Привлечение внешних ресурсов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 случае когда фирма не в состоянии покрыть все потери внутренних ресурсов, часть из них можно покрыть с использованием кредитных ресурсов. Однако в данном случае доступность кредитных ресурсов имеет существенные ограничения. И главное из них — перспектива будущей прибыльност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F8DD-64DA-4161-8FC0-B240F49B3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4EBB-41C8-46AF-904F-83813753A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C4B3-5FD2-4E50-977A-A6672F7EF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6193-5DAC-4A4D-BA7C-F8DE99CE9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CB6C6-83DA-4158-98B9-E9CB3F2C5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39D74-0FB3-4607-9D19-4405F9405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473DD-4BBE-4844-B553-9169C94FE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4461F-178C-428D-8161-3D896F9AF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02C9B-4608-456D-99ED-140F0E59E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1E65E-921A-4A18-A097-5221088D9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B0F03-9187-4C8E-9FB1-5BEAC1D13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E3AE-3AFB-4012-8ADC-5B2076A6C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61D42-9E4F-458B-A3E3-00ED1F979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CCB18-5BAB-477E-81C2-80815ED42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F2753-BC66-4BBE-8B0D-E7F03C25E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E8B89-F0CC-4FF1-953F-613F9322D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B156E-5124-46A2-AC8B-6D79B430A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BC17-4088-410B-BDE7-2959A9740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9599-15D8-4A62-8BD6-0380A9E5E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70BF-1D1D-44FB-8120-DA16B068A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86FB-F025-4E79-A9AB-2227D2944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B5BB-1762-49BE-9CA8-DA9F19240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613E-E326-48E9-BC59-EFC75E174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694E-ECD6-4BD8-B6AD-02559F9D6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FD285-216E-4056-992F-8E5FDC85239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87759-06B0-4DDE-8205-0EECC73BB0F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franklin-grant.ru/" TargetMode="External"/><Relationship Id="rId2" Type="http://schemas.openxmlformats.org/officeDocument/2006/relationships/hyperlink" Target="http://www.cfin.ru/finanalysis/" TargetMode="External"/><Relationship Id="rId3" Type="http://schemas.openxmlformats.org/officeDocument/2006/relationships/hyperlink" Target="http://www.gaap.ru/biblio/corpfin/finman/077.asp" TargetMode="External"/><Relationship Id="rId4" Type="http://schemas.openxmlformats.org/officeDocument/2006/relationships/hyperlink" Target="http://www.findirector.ru/" TargetMode="External"/><Relationship Id="rId5" Type="http://schemas.openxmlformats.org/officeDocument/2006/relationships/hyperlink" Target="http://www.cfin.ru/press/afa/2000-4/31_ufa.shtml" TargetMode="External"/><Relationship Id="rId6" Type="http://schemas.openxmlformats.org/officeDocument/2006/relationships/hyperlink" Target="http://www.riskinfo.ru/analytics/market/?id=59" TargetMode="External"/><Relationship Id="rId7" Type="http://schemas.openxmlformats.org/officeDocument/2006/relationships/hyperlink" Target="http://www.egartech.ru/fields/derivatives/riskfactors/" TargetMode="External"/><Relationship Id="rId8" Type="http://schemas.openxmlformats.org/officeDocument/2006/relationships/hyperlink" Target="http://www.finrisk.ru/" TargetMode="External"/><Relationship Id="rId9" Type="http://schemas.openxmlformats.org/officeDocument/2006/relationships/hyperlink" Target="http://www.hedging.ru/" TargetMode="External"/><Relationship Id="rId10" Type="http://schemas.openxmlformats.org/officeDocument/2006/relationships/slideLayout" Target="../slideLayouts/slideLayout13.xml"/><Relationship Id="rId11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hyperlink" Target="http://www.franklin-grant.ru/ru/reviews/review7.shtml#toler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РИСК-МЕНЕЖДМЕНТ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5143320" y="3571920"/>
            <a:ext cx="3786120" cy="13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Заместитель директора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Института менеджмента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о науке и дополнительному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рофессиональному образованию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К.э.н. Иванов Андрей Анатольевич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857160" y="214200"/>
            <a:ext cx="6929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Кафедра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Антикризисного управле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2357280" y="5786280"/>
            <a:ext cx="39294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Москва 2009г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Вопросы риск-менеджера. Создание программы.(продолжение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50920" y="1752480"/>
            <a:ext cx="8642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На какие </a:t>
            </a: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факторы риска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она будет оказывать влияние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Дорого ли будет её осуществить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Какой уровень сопротивления встретится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Сколько времени займет её внедрение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Как тесно она связана с корпоративной стратегией организации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2"/>
          <p:cNvSpPr/>
          <p:nvPr/>
        </p:nvSpPr>
        <p:spPr>
          <a:xfrm>
            <a:off x="0" y="0"/>
            <a:ext cx="907272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ffffff"/>
                </a:solidFill>
                <a:latin typeface="Tahoma"/>
              </a:rPr>
              <a:t>Снижение предпринимательских рисков.</a:t>
            </a:r>
            <a:r>
              <a:rPr b="0" i="1" lang="ru-RU" sz="3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Rectangle 3"/>
          <p:cNvSpPr/>
          <p:nvPr/>
        </p:nvSpPr>
        <p:spPr>
          <a:xfrm>
            <a:off x="250920" y="1844640"/>
            <a:ext cx="864216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900" spc="-1" strike="noStrike">
                <a:solidFill>
                  <a:srgbClr val="000000"/>
                </a:solidFill>
                <a:latin typeface="Tahoma"/>
              </a:rPr>
              <a:t>        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6600"/>
                </a:solidFill>
                <a:latin typeface="Tahoma"/>
              </a:rPr>
              <a:t>Американские предприниматели часто практикуют правила пяти «</a:t>
            </a:r>
            <a:r>
              <a:rPr b="1" lang="en-US" sz="2600" spc="-1" strike="noStrike">
                <a:solidFill>
                  <a:srgbClr val="006600"/>
                </a:solidFill>
                <a:latin typeface="Tahoma"/>
              </a:rPr>
              <a:t>C</a:t>
            </a:r>
            <a:r>
              <a:rPr b="1" lang="ru-RU" sz="2600" spc="-1" strike="noStrike">
                <a:solidFill>
                  <a:srgbClr val="006600"/>
                </a:solidFill>
                <a:latin typeface="Tahoma"/>
              </a:rPr>
              <a:t>» – модели для проверки кредитоспособности партнера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ahoma"/>
              </a:rPr>
              <a:t>личность заемщика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haracter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) – его репутацию, степень ответственности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ahoma"/>
              </a:rPr>
              <a:t>финансовые возможности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apacity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) – способность погасить взятую ссуду за счет текущих поступлений или средств от реализации активов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Rectangle 4"/>
          <p:cNvSpPr/>
          <p:nvPr/>
        </p:nvSpPr>
        <p:spPr>
          <a:xfrm>
            <a:off x="0" y="189000"/>
            <a:ext cx="9144000" cy="151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Для снижения внутренних предпринимательских рисков предприятие должно 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Verdana"/>
              </a:rPr>
              <a:t>проверять потенциальных партнеров</a:t>
            </a: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 по бизнесу и 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Verdana"/>
              </a:rPr>
              <a:t>тщательно подбирать кадры</a:t>
            </a: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31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ahoma"/>
              </a:rPr>
              <a:t>имущество</a:t>
            </a: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capital</a:t>
            </a: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) – величина и структура акционерного капитала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ahoma"/>
              </a:rPr>
              <a:t>обеспечение</a:t>
            </a: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collateral</a:t>
            </a: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) – вид и стоимость активов, предлагаемых в качестве залога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ahoma"/>
              </a:rPr>
              <a:t>общие условия</a:t>
            </a: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conditions</a:t>
            </a: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) – общее экономическое состояние и другие факторы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Rectangle 4"/>
          <p:cNvSpPr/>
          <p:nvPr/>
        </p:nvSpPr>
        <p:spPr>
          <a:xfrm>
            <a:off x="1042920" y="260280"/>
            <a:ext cx="51116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Rectangle 5"/>
          <p:cNvSpPr/>
          <p:nvPr/>
        </p:nvSpPr>
        <p:spPr>
          <a:xfrm>
            <a:off x="324000" y="260280"/>
            <a:ext cx="8496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6600"/>
                </a:solidFill>
                <a:uFillTx/>
                <a:latin typeface="Tahoma"/>
              </a:rPr>
              <a:t>Правила пяти «</a:t>
            </a:r>
            <a:r>
              <a:rPr b="1" lang="en-US" sz="3200" spc="-1" strike="noStrike" u="sng">
                <a:solidFill>
                  <a:srgbClr val="006600"/>
                </a:solidFill>
                <a:uFillTx/>
                <a:latin typeface="Tahoma"/>
              </a:rPr>
              <a:t>C</a:t>
            </a:r>
            <a:r>
              <a:rPr b="1" lang="ru-RU" sz="3200" spc="-1" strike="noStrike" u="sng">
                <a:solidFill>
                  <a:srgbClr val="006600"/>
                </a:solidFill>
                <a:uFillTx/>
                <a:latin typeface="Tahoma"/>
              </a:rPr>
              <a:t>» – модели (продолжение</a:t>
            </a:r>
            <a:r>
              <a:rPr b="1" lang="ru-RU" sz="3200" spc="-1" strike="noStrike">
                <a:solidFill>
                  <a:srgbClr val="0066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i="1" lang="ru-RU" sz="2600" spc="-1" strike="noStrike">
                <a:solidFill>
                  <a:srgbClr val="000000"/>
                </a:solidFill>
                <a:latin typeface="Verdana"/>
              </a:rPr>
              <a:t>Где отсутствует точное знание, там действуют догадки,</a:t>
            </a:r>
            <a:br>
              <a:rPr sz="2600"/>
            </a:br>
            <a:r>
              <a:rPr b="1" i="1" lang="ru-RU" sz="2600" spc="-1" strike="noStrike">
                <a:solidFill>
                  <a:srgbClr val="000000"/>
                </a:solidFill>
                <a:latin typeface="Verdana"/>
              </a:rPr>
              <a:t>а из десяти догадок девять - ошибки</a:t>
            </a:r>
            <a:br>
              <a:rPr sz="2600"/>
            </a:br>
            <a:r>
              <a:rPr b="0" i="1" lang="ru-RU" sz="2600" spc="-1" strike="noStrike">
                <a:solidFill>
                  <a:srgbClr val="000000"/>
                </a:solidFill>
                <a:latin typeface="Verdana"/>
              </a:rPr>
              <a:t>М. Горький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6" name="Picture 4" descr="vost"/>
          <p:cNvPicPr/>
          <p:nvPr/>
        </p:nvPicPr>
        <p:blipFill>
          <a:blip r:embed="rId1"/>
          <a:stretch/>
        </p:blipFill>
        <p:spPr>
          <a:xfrm>
            <a:off x="5292720" y="2133720"/>
            <a:ext cx="2567160" cy="2566800"/>
          </a:xfrm>
          <a:prstGeom prst="rect">
            <a:avLst/>
          </a:prstGeom>
          <a:ln w="0">
            <a:noFill/>
          </a:ln>
        </p:spPr>
      </p:pic>
      <p:sp>
        <p:nvSpPr>
          <p:cNvPr id="4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78920" y="304920"/>
            <a:ext cx="87138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Вопросы риск-менеджера. Создание программы.(продолжение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11280" y="2060640"/>
            <a:ext cx="792144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Какой уровень взаимодействия отделов потребуется для её осуществления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Как тесно она связана с основными обязанностями сотрудников, задействованных в её осуществлении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Пример программы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92160" y="1844640"/>
          <a:ext cx="8864640" cy="4183200"/>
        </p:xfrm>
        <a:graphic>
          <a:graphicData uri="http://schemas.openxmlformats.org/drawingml/2006/table">
            <a:tbl>
              <a:tblPr/>
              <a:tblGrid>
                <a:gridCol w="2043000"/>
                <a:gridCol w="2556000"/>
                <a:gridCol w="2698560"/>
                <a:gridCol w="1567080"/>
              </a:tblGrid>
              <a:tr h="54288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рневые риски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ероприятия по устранению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твет-ствен-ные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5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едупреждение рисков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инимизация последствий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98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Сбой системного оборудова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аличие дубли-рующих серверов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нструктаж поведения персонала в критической ситуации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естировщик, систем-ный администратор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0560" y="304920"/>
            <a:ext cx="87138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Verdana"/>
              </a:rPr>
              <a:t>Вне деятельности </a:t>
            </a:r>
            <a:r>
              <a:rPr b="1" i="1" lang="ru-RU" sz="3200" spc="-1" strike="noStrike">
                <a:solidFill>
                  <a:srgbClr val="000000"/>
                </a:solidFill>
                <a:latin typeface="Verdana"/>
              </a:rPr>
              <a:t>риск</a:t>
            </a:r>
            <a:r>
              <a:rPr b="0" i="1" lang="ru-RU" sz="3200" spc="-1" strike="noStrike">
                <a:solidFill>
                  <a:srgbClr val="000000"/>
                </a:solidFill>
                <a:latin typeface="Verdana"/>
              </a:rPr>
              <a:t> не существует, как и деятельность без </a:t>
            </a:r>
            <a:r>
              <a:rPr b="1" i="1" lang="ru-RU" sz="3200" spc="-1" strike="noStrike">
                <a:solidFill>
                  <a:srgbClr val="000000"/>
                </a:solidFill>
                <a:latin typeface="Verdana"/>
              </a:rPr>
              <a:t>риск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79280" y="1752480"/>
            <a:ext cx="87854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Чем совершеннее методы анализа и оценки риска, тем меньше влияние </a:t>
            </a: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факторов риска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Фактор риска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– условия, обстоятельства, в рамках которых проявляются причины риска и которые приводят к нежелательным событиям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Пример </a:t>
            </a:r>
            <a:r>
              <a:rPr b="1" lang="ru-RU" sz="3800" spc="-1" strike="noStrike">
                <a:solidFill>
                  <a:srgbClr val="000000"/>
                </a:solidFill>
                <a:latin typeface="Verdana"/>
              </a:rPr>
              <a:t>фактора риска</a:t>
            </a: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50920" y="1752480"/>
            <a:ext cx="864216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Verdana"/>
              </a:rPr>
              <a:t>Наличие значительных размеров активов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, которые не покупаются и не продаются (низкая ликвидность), приведет к тому, что предприятие не сможет </a:t>
            </a: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Verdana"/>
              </a:rPr>
              <a:t>своевременно ответить по своим обязательствам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перед контрагентами (Риск снижения платежеспособности)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280" y="304920"/>
            <a:ext cx="878544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Причины и факторы возникновения риска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7" name="Object 4"/>
          <p:cNvGraphicFramePr/>
          <p:nvPr/>
        </p:nvGraphicFramePr>
        <p:xfrm>
          <a:off x="179280" y="1773360"/>
          <a:ext cx="8785440" cy="439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773360"/>
                    <a:ext cx="8785440" cy="43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50920" y="304920"/>
            <a:ext cx="8324640" cy="67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000000"/>
                </a:solidFill>
                <a:latin typeface="Verdana"/>
              </a:rPr>
              <a:t>Правила риск-менеджмента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556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spcAft>
                <a:spcPts val="1874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нельзя рисковать больше, чем это может позволить собственный капитал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spcAft>
                <a:spcPts val="1874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надо думать о последствиях риск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spcAft>
                <a:spcPts val="1874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нельзя рисковать многим ради малого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spcAft>
                <a:spcPts val="1874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оложительное решение принимается лишь при отсутствии сомнени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spcAft>
                <a:spcPts val="1874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ри наличии сомнений принимаются отрицательные решени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spcAft>
                <a:spcPts val="1874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нельзя думать, что существует только одно решение, возможно, есть и другие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23640" y="304920"/>
            <a:ext cx="825156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Ключевые понятия</a:t>
            </a:r>
            <a:br>
              <a:rPr sz="3400"/>
            </a:b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риск-менеджмента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8920" y="1700280"/>
            <a:ext cx="87138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«вероятность»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«возможность»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«опасность»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«возможная опасность»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«ущерб»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«неопределенность»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«отклонения от результата»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«волатильность»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(изменчивость и непостоянство рыночной конъюнктуры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560" y="304920"/>
            <a:ext cx="84978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Общие понятия риск-менеджмента объединяет термин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50560" y="1752120"/>
            <a:ext cx="8569080" cy="138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«Событие»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, под которым понимается: любой исход, который в результате деятельности может быть получен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Object 4"/>
              <p:cNvSpPr txBox="1"/>
              <p:nvPr/>
            </p:nvSpPr>
            <p:spPr>
              <a:xfrm>
                <a:off x="2411280" y="3429000"/>
                <a:ext cx="1919520" cy="11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9" name="Text Box 7"/>
          <p:cNvSpPr/>
          <p:nvPr/>
        </p:nvSpPr>
        <p:spPr>
          <a:xfrm>
            <a:off x="684360" y="4797360"/>
            <a:ext cx="777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Rectangle 8"/>
          <p:cNvSpPr/>
          <p:nvPr/>
        </p:nvSpPr>
        <p:spPr>
          <a:xfrm>
            <a:off x="179280" y="4653000"/>
            <a:ext cx="8785440" cy="184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P–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вероятность; </a:t>
            </a: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А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–событие (риск);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М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–конкретное число наступления случаев (благоприятствующих наступлению события А)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– общее число случаев (возникновения события А)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2" name="Object 4"/>
          <p:cNvGraphicFramePr/>
          <p:nvPr/>
        </p:nvGraphicFramePr>
        <p:xfrm>
          <a:off x="74520" y="2235240"/>
          <a:ext cx="8980560" cy="279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520" y="2235240"/>
                    <a:ext cx="8980560" cy="279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Rectangle 6"/>
          <p:cNvSpPr/>
          <p:nvPr/>
        </p:nvSpPr>
        <p:spPr>
          <a:xfrm>
            <a:off x="179280" y="304920"/>
            <a:ext cx="839628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Возможные трактовки категории риск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4000" y="7650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Литература по риск-менеджменту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50560" y="2565360"/>
            <a:ext cx="856908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В.С. Ступаков, Г.С. Токаренко Риск-менеджмент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Шапкин А.С. Экономические и финансовые риски. Оценка, управление, портфель инвестиций. – М.: Издательско-торговая корпорация «Дашков и Ко»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Томас Л. Бартон, Уильям Г. Шенкир, Пол Л. Уокер «Комплексный подход к риск- менеджменту: стоит ли этим заниматься»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Джеймс Пикфорд; Управление рисками. – М.: ООО «Вершина»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Станиславчик Е.Н. Риск-менеджмент на предприятии. Теория и практика. – М.: «Ось-89»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8540640" cy="9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Анализ отклонений фактических результатов от ожидаемы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Rectangle 9"/>
          <p:cNvSpPr/>
          <p:nvPr/>
        </p:nvSpPr>
        <p:spPr>
          <a:xfrm>
            <a:off x="0" y="164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58" name="Object 8"/>
          <p:cNvGraphicFramePr/>
          <p:nvPr/>
        </p:nvGraphicFramePr>
        <p:xfrm>
          <a:off x="92160" y="1670040"/>
          <a:ext cx="8853480" cy="51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160" y="1670040"/>
                    <a:ext cx="8853480" cy="51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Verdana"/>
              </a:rPr>
              <a:t>Классификация рисков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66280" y="1988640"/>
            <a:ext cx="8001000" cy="403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10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Чаще всего производится по принципу однозначности последствий от наступления рисковых событий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4" name="Object 2"/>
          <p:cNvGraphicFramePr/>
          <p:nvPr/>
        </p:nvGraphicFramePr>
        <p:xfrm>
          <a:off x="61920" y="260280"/>
          <a:ext cx="9082080" cy="624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920" y="260280"/>
                    <a:ext cx="9082080" cy="624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8713800" cy="133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о характеру последствий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риски      подразделяют на 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чистые  и  спекулятивны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4000" y="1752480"/>
            <a:ext cx="8640720" cy="47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Особенность </a:t>
            </a:r>
            <a:r>
              <a:rPr b="1" i="1" lang="ru-RU" sz="2600" spc="-1" strike="noStrike">
                <a:solidFill>
                  <a:srgbClr val="000000"/>
                </a:solidFill>
                <a:latin typeface="Verdana"/>
              </a:rPr>
              <a:t>чистых рисков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(статистических или простых) заключается в том, что они практически всегда несут в себе </a:t>
            </a:r>
            <a:r>
              <a:rPr b="0" i="1" lang="ru-RU" sz="2600" spc="-1" strike="noStrike" u="sng">
                <a:solidFill>
                  <a:srgbClr val="000000"/>
                </a:solidFill>
                <a:uFillTx/>
                <a:latin typeface="Verdana"/>
              </a:rPr>
              <a:t>потери для предпринимательской деятельности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ричинами возникновения подобных рисков могут быть стихийные бедствия, несчастные случаи, недееспособность руководящих сотрудников и т.п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Verdana"/>
              </a:rPr>
              <a:t>Спекулятивные риски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(динамические или коммерческие) – несут в себе </a:t>
            </a:r>
            <a:r>
              <a:rPr b="0" i="1" lang="ru-RU" sz="2600" spc="-1" strike="noStrike" u="sng">
                <a:solidFill>
                  <a:srgbClr val="000000"/>
                </a:solidFill>
                <a:uFillTx/>
                <a:latin typeface="Verdana"/>
              </a:rPr>
              <a:t>либо потери, либо дополнительную прибыль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для предпринимателя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78920" y="304920"/>
            <a:ext cx="87138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По сфере возникновения</a:t>
            </a: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(отрасли деятельности) различают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50920" y="1699920"/>
            <a:ext cx="86421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Verdana"/>
              </a:rPr>
              <a:t>Производственный риск </a:t>
            </a:r>
            <a:r>
              <a:rPr b="0" i="1" lang="ru-RU" sz="26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это риск невыполнения своих обязательств и нормативных планов по производству товаров, работ, услуг в результате воздействия как внешней среды, так и внутренних факторов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Verdana"/>
              </a:rPr>
              <a:t>Коммерческий риск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- риск потерь в процессе финансово – хозяйственной деятельности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Verdana"/>
              </a:rPr>
              <a:t>Финансовый риск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- риск невыполнения фирмой своих финансовых обязательств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0000"/>
                </a:solidFill>
                <a:latin typeface="Verdana"/>
              </a:rPr>
              <a:t>Коммерческие риски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50920" y="1752480"/>
            <a:ext cx="8642160" cy="47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Verdana"/>
              </a:rPr>
              <a:t>Коммерческий риск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– это риск, возникающий в процессе реализации товаров и услуг, произведенных или купленных предпринимателем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2600" spc="-1" strike="noStrike" u="sng">
                <a:solidFill>
                  <a:srgbClr val="000000"/>
                </a:solidFill>
                <a:uFillTx/>
                <a:latin typeface="Verdana"/>
              </a:rPr>
              <a:t>Коммерческий риск включает в себя риски, связанные 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Verdan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44136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с реализацией товара (услуг) на рынке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44136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с транспортировкой товара (транспортный)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44136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с приемкой товара (услуг) покупателем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44136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с платежеспособностью покупателя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44136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с форс – мажорными обстоятельствами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 u="sng">
                <a:solidFill>
                  <a:srgbClr val="000000"/>
                </a:solidFill>
                <a:uFillTx/>
                <a:latin typeface="Verdana"/>
              </a:rPr>
              <a:t>Финансовые риски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50560" y="1752480"/>
            <a:ext cx="8713800" cy="448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связаны с вероятностью потерь финансовых ресурсов (денежных средств)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Они  подразделяются на три основных вида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44136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валютные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44136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инвестиционные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44136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риски, связанные с покупательной 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   способностью денег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50920" y="304920"/>
            <a:ext cx="864216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Группа </a:t>
            </a:r>
            <a:r>
              <a:rPr b="1" lang="ru-RU" sz="3400" spc="-1" strike="noStrike" u="sng">
                <a:solidFill>
                  <a:srgbClr val="000000"/>
                </a:solidFill>
                <a:uFillTx/>
                <a:latin typeface="Verdana"/>
              </a:rPr>
              <a:t>инвестиционных рисков</a:t>
            </a: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 включает в себя следующие риски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Инфляционный риск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Системный риск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Селективный риск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Кредитный (деловой) риск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Региональный риск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Отраслевой риск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Риск предприятия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Инновационный риск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Основные направления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23640" y="1752480"/>
            <a:ext cx="85690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 u="sng">
                <a:solidFill>
                  <a:srgbClr val="000000"/>
                </a:solidFill>
                <a:uFillTx/>
                <a:latin typeface="Verdana"/>
              </a:rPr>
              <a:t>Инфляционный риск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– риск того, что полученные доходы в результате высокой инфляции обесцениваются быстрее, чем растут ( с точки зрения покупательной способности)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 u="sng">
                <a:solidFill>
                  <a:srgbClr val="000000"/>
                </a:solidFill>
                <a:uFillTx/>
                <a:latin typeface="Verdana"/>
              </a:rPr>
              <a:t>Системный риск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– риск ухудшения конъюнктуры (падения) какого-либо рынка в целом. Он не связан с конкретным объектом инвестиций и представляет собой общий риск на все вложения на данном рынке (фондовом, валютном, недвижимости и т.д.)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0" y="1752120"/>
            <a:ext cx="8964720" cy="48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 u="sng">
                <a:solidFill>
                  <a:srgbClr val="000000"/>
                </a:solidFill>
                <a:uFillTx/>
                <a:latin typeface="Verdana"/>
              </a:rPr>
              <a:t>Селективный риск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– это риск потерь или упущенной выгоды из-за неправильного выбора объекта инвестирования на определенном рынке, например неправильного выбора ценной бумаги из имеющихся на фондовом рынке при формировании портфеля ценных бумаг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 u="sng">
                <a:solidFill>
                  <a:srgbClr val="000000"/>
                </a:solidFill>
                <a:uFillTx/>
                <a:latin typeface="Verdana"/>
              </a:rPr>
              <a:t>Риск ликвидности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– риск, связанный с возможностью потерь при реализации объекта инвестирования из-за изменения оценки его качества, например какого-либо товара, недвижимости (земля, строение), ценной бумаги и т.д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1036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Полезные ссылки по </a:t>
            </a:r>
            <a:br>
              <a:rPr sz="3400"/>
            </a:b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риск-менеджменту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91440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http://www.franklin-grant.ru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Аналитика и теория по рискам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http://www.cfin.ru/finanalysis/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Финансовый анализ, оценка бизнес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http://www.gaap.ru/biblio/corpfin/finman/077.asp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 Интегрированный риск-менеджмен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 u="sng">
                <a:solidFill>
                  <a:srgbClr val="336699"/>
                </a:solidFill>
                <a:uFillTx/>
                <a:latin typeface="Verdana"/>
                <a:hlinkClick r:id="rId4"/>
              </a:rPr>
              <a:t>http://www.findirector.ru/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 u="sng">
                <a:solidFill>
                  <a:srgbClr val="336699"/>
                </a:solidFill>
                <a:uFillTx/>
                <a:latin typeface="Verdana"/>
                <a:hlinkClick r:id="rId5"/>
              </a:rPr>
              <a:t>http://www.cfin.ru/press/afa/2000-4/31_ufa.shtml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 Методология построения страховых тарифов в условиях изменения динамики имущественного страхования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 u="sng">
                <a:solidFill>
                  <a:srgbClr val="336699"/>
                </a:solidFill>
                <a:uFillTx/>
                <a:latin typeface="Verdana"/>
                <a:hlinkClick r:id="rId6"/>
              </a:rPr>
              <a:t>http://www.riskinfo.ru/analytics/market/?id=59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 Риск ИнфоСерфис (статьи и публикации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 u="sng">
                <a:solidFill>
                  <a:srgbClr val="336699"/>
                </a:solidFill>
                <a:uFillTx/>
                <a:latin typeface="Verdana"/>
                <a:hlinkClick r:id="rId7"/>
              </a:rPr>
              <a:t>http://www.egartech.ru/fields/derivatives/riskfactors/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 Риск-факторы фондового рынк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 u="sng">
                <a:solidFill>
                  <a:srgbClr val="336699"/>
                </a:solidFill>
                <a:uFillTx/>
                <a:latin typeface="Verdana"/>
                <a:hlinkClick r:id="rId8"/>
              </a:rPr>
              <a:t>http://www.finrisk.ru/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Финансовые риски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 u="sng">
                <a:solidFill>
                  <a:srgbClr val="336699"/>
                </a:solidFill>
                <a:uFillTx/>
                <a:latin typeface="Verdana"/>
                <a:hlinkClick r:id="rId9"/>
              </a:rPr>
              <a:t>http://www.hedging.ru/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 публикации, анализ, семинары, (страхование, моделирование рисков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280" y="304920"/>
            <a:ext cx="864072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Производственные риски делят на следующие виды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50920" y="2060640"/>
            <a:ext cx="864216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еисполнения хозяйственных договоров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зменения конъюнктуры рынка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озникновения непредвиденных затрат и снижения доходов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чие производственные риски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336699"/>
                </a:solidFill>
                <a:latin typeface="Verdana"/>
              </a:rPr>
              <a:t>Риск-менеджмент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77504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может выступать в качестве самостоятельного вида профессиональной деятельности. Этот вид деятельности выполняют профессиональные институты специалистов, страховые компании, а также финансовые менеджеры, риск-менеджеры, специалисты по страхованию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2" name="Picture 4" descr="dollar"/>
          <p:cNvPicPr/>
          <p:nvPr/>
        </p:nvPicPr>
        <p:blipFill>
          <a:blip r:embed="rId1"/>
          <a:stretch/>
        </p:blipFill>
        <p:spPr>
          <a:xfrm>
            <a:off x="6330960" y="60480"/>
            <a:ext cx="1449360" cy="1476360"/>
          </a:xfrm>
          <a:prstGeom prst="rect">
            <a:avLst/>
          </a:prstGeom>
          <a:ln w="0">
            <a:noFill/>
          </a:ln>
        </p:spPr>
      </p:pic>
      <p:sp>
        <p:nvSpPr>
          <p:cNvPr id="1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cc3300"/>
                </a:solidFill>
                <a:latin typeface="Verdana"/>
              </a:rPr>
              <a:t>Организация риск-менеджмент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96" name="Object 2"/>
          <p:cNvGraphicFramePr/>
          <p:nvPr/>
        </p:nvGraphicFramePr>
        <p:xfrm>
          <a:off x="0" y="1925640"/>
          <a:ext cx="8962920" cy="320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25640"/>
                    <a:ext cx="8962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95280" y="304560"/>
            <a:ext cx="8353440" cy="82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cc0000"/>
                </a:solidFill>
                <a:latin typeface="Verdana"/>
              </a:rPr>
              <a:t>Алгоритм управления рисками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0" name="Picture 4" descr="image002"/>
          <p:cNvPicPr/>
          <p:nvPr/>
        </p:nvPicPr>
        <p:blipFill>
          <a:blip r:embed="rId1"/>
          <a:stretch/>
        </p:blipFill>
        <p:spPr>
          <a:xfrm>
            <a:off x="0" y="1228680"/>
            <a:ext cx="9080640" cy="5558040"/>
          </a:xfrm>
          <a:prstGeom prst="rect">
            <a:avLst/>
          </a:prstGeom>
          <a:ln w="0">
            <a:noFill/>
          </a:ln>
        </p:spPr>
      </p:pic>
      <p:sp>
        <p:nvSpPr>
          <p:cNvPr id="2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6699"/>
                </a:solidFill>
                <a:latin typeface="Verdana"/>
              </a:rPr>
              <a:t>Правила риск-менеджмент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94920" y="1628640"/>
            <a:ext cx="817236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ельзя рисковать больше, чем это может позволить собственный капита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адо думать о последствиях риск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ельзя рисковать многим ради малог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оложительное решение принимается лишь при отсутствии сомне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и наличии сомнений принимаются отрицательные реше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ельзя думать, что существует только одно решение, возможно, есть и други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072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Карта рисков - эффективный инструмент управления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Карта рисков – простой метод оценки рисков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i="1" lang="ru-RU" sz="2900" spc="-1" strike="noStrike">
                <a:solidFill>
                  <a:srgbClr val="000000"/>
                </a:solidFill>
                <a:latin typeface="Verdana"/>
              </a:rPr>
              <a:t>Представители разных отраслей экономики –зачастую задают, как консультантам по управлению рисками вопрос: есть ли простые и наглядные методы, доступные и неспециалистам, которые помогли бы хотя бы грубо оценить риски при развитии новых стратегических направлений бизнеса, крупных инвестиционных планов и т.п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Что такое карта риска и чем она полезна?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Карта риска - графическое и текстовое описание ограниченного числа рисков организации, расположенных  в прямоугольной таблице,  по одной «оси» которой указана сила</a:t>
            </a:r>
            <a:r>
              <a:rPr b="0" i="1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воздействия или значимость риска,  а по другой вероятность или частота его возникновения 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4" descr="077-30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5545080"/>
          </a:xfrm>
          <a:prstGeom prst="rect">
            <a:avLst/>
          </a:prstGeom>
          <a:ln w="0">
            <a:noFill/>
          </a:ln>
        </p:spPr>
      </p:pic>
      <p:sp>
        <p:nvSpPr>
          <p:cNvPr id="2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4" descr="077-31"/>
          <p:cNvPicPr/>
          <p:nvPr/>
        </p:nvPicPr>
        <p:blipFill>
          <a:blip r:embed="rId1"/>
          <a:stretch/>
        </p:blipFill>
        <p:spPr>
          <a:xfrm>
            <a:off x="117360" y="836640"/>
            <a:ext cx="8912520" cy="5500800"/>
          </a:xfrm>
          <a:prstGeom prst="rect">
            <a:avLst/>
          </a:prstGeom>
          <a:ln w="0">
            <a:noFill/>
          </a:ln>
        </p:spPr>
      </p:pic>
      <p:sp>
        <p:nvSpPr>
          <p:cNvPr id="2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23640" y="304920"/>
            <a:ext cx="85690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Основы риск-менеджмент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24000" y="1752480"/>
            <a:ext cx="8496000" cy="45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редпринимательская деятельность – это самостоятельная, </a:t>
            </a:r>
            <a:r>
              <a:rPr b="1" i="1" lang="ru-RU" sz="3000" spc="-1" strike="noStrike">
                <a:solidFill>
                  <a:srgbClr val="000000"/>
                </a:solidFill>
                <a:latin typeface="Verdana"/>
              </a:rPr>
              <a:t>на свой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3000" spc="-1" strike="noStrike">
                <a:solidFill>
                  <a:srgbClr val="000000"/>
                </a:solidFill>
                <a:latin typeface="Verdana"/>
              </a:rPr>
              <a:t>риск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деятельность, направленная на систематическое получение прибыли от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ользования имуществом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родажи товаров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Выполнения работ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Оказания услуг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4" descr="077-32"/>
          <p:cNvPicPr/>
          <p:nvPr/>
        </p:nvPicPr>
        <p:blipFill>
          <a:blip r:embed="rId1"/>
          <a:stretch/>
        </p:blipFill>
        <p:spPr>
          <a:xfrm>
            <a:off x="155520" y="798480"/>
            <a:ext cx="8858160" cy="5911920"/>
          </a:xfrm>
          <a:prstGeom prst="rect">
            <a:avLst/>
          </a:prstGeom>
          <a:ln w="0">
            <a:noFill/>
          </a:ln>
        </p:spPr>
      </p:pic>
      <p:sp>
        <p:nvSpPr>
          <p:cNvPr id="2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077-33"/>
          <p:cNvPicPr/>
          <p:nvPr/>
        </p:nvPicPr>
        <p:blipFill>
          <a:blip r:embed="rId1"/>
          <a:stretch/>
        </p:blipFill>
        <p:spPr>
          <a:xfrm>
            <a:off x="250920" y="692280"/>
            <a:ext cx="8642160" cy="5522760"/>
          </a:xfrm>
          <a:prstGeom prst="rect">
            <a:avLst/>
          </a:prstGeom>
          <a:ln w="0">
            <a:noFill/>
          </a:ln>
        </p:spPr>
      </p:pic>
      <p:sp>
        <p:nvSpPr>
          <p:cNvPr id="2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077-34"/>
          <p:cNvPicPr/>
          <p:nvPr/>
        </p:nvPicPr>
        <p:blipFill>
          <a:blip r:embed="rId1"/>
          <a:stretch/>
        </p:blipFill>
        <p:spPr>
          <a:xfrm>
            <a:off x="214200" y="363600"/>
            <a:ext cx="8653680" cy="6054840"/>
          </a:xfrm>
          <a:prstGeom prst="rect">
            <a:avLst/>
          </a:prstGeom>
          <a:ln w="0">
            <a:noFill/>
          </a:ln>
        </p:spPr>
      </p:pic>
      <p:sp>
        <p:nvSpPr>
          <p:cNvPr id="2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2" descr="077-35"/>
          <p:cNvPicPr/>
          <p:nvPr/>
        </p:nvPicPr>
        <p:blipFill>
          <a:blip r:embed="rId1"/>
          <a:stretch/>
        </p:blipFill>
        <p:spPr>
          <a:xfrm>
            <a:off x="0" y="162000"/>
            <a:ext cx="9093240" cy="6538680"/>
          </a:xfrm>
          <a:prstGeom prst="rect">
            <a:avLst/>
          </a:prstGeom>
          <a:ln w="0">
            <a:noFill/>
          </a:ln>
        </p:spPr>
      </p:pic>
      <p:sp>
        <p:nvSpPr>
          <p:cNvPr id="2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Частный пример карты рисков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7" name="Picture 4" descr="карта риска"/>
          <p:cNvPicPr/>
          <p:nvPr/>
        </p:nvPicPr>
        <p:blipFill>
          <a:blip r:embed="rId1"/>
          <a:stretch/>
        </p:blipFill>
        <p:spPr>
          <a:xfrm>
            <a:off x="1619280" y="1673280"/>
            <a:ext cx="5506920" cy="5102280"/>
          </a:xfrm>
          <a:prstGeom prst="rect">
            <a:avLst/>
          </a:prstGeom>
          <a:ln w="0">
            <a:noFill/>
          </a:ln>
        </p:spPr>
      </p:pic>
      <p:sp>
        <p:nvSpPr>
          <p:cNvPr id="2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Verdana"/>
              </a:rPr>
              <a:t>Описание структуры карты рисков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68360" y="1752480"/>
            <a:ext cx="80992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 этой карте рисков вероятность или частота отображается по вертикальной оси, а сила воздействия или значимость - по горизонтальной оси. В этом  случае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Verdana"/>
              </a:rPr>
              <a:t>вероятность появления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риска увеличивается снизу вверх  при продвижении по вертикальной оси, а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Verdana"/>
              </a:rPr>
              <a:t>воздействие риска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увеличивается  слева направо по горизонтальной ос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755640" y="2204640"/>
            <a:ext cx="746136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Арабские цифры на карте – обозначения рисков, которые были классифицированы по четырем категориям</a:t>
            </a:r>
            <a:r>
              <a:rPr b="0" i="1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значимости и шести категориям</a:t>
            </a:r>
            <a:r>
              <a:rPr b="0" i="1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вероятности, причем так, чтобы каждому сочетанию вероятность/значимость был приписан один вид риска.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3" name="Picture 4" descr="карта риска"/>
          <p:cNvPicPr/>
          <p:nvPr/>
        </p:nvPicPr>
        <p:blipFill>
          <a:blip r:embed="rId1"/>
          <a:stretch/>
        </p:blipFill>
        <p:spPr>
          <a:xfrm>
            <a:off x="5292720" y="0"/>
            <a:ext cx="3240000" cy="2104920"/>
          </a:xfrm>
          <a:prstGeom prst="rect">
            <a:avLst/>
          </a:prstGeom>
          <a:ln w="0">
            <a:noFill/>
          </a:ln>
        </p:spPr>
      </p:pic>
      <p:sp>
        <p:nvSpPr>
          <p:cNvPr id="2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394920" y="1752480"/>
            <a:ext cx="8172360" cy="448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акая классификация, размещающая каждый риск в специфическую отдельную «коробочку» не является обязательной, но упрощает процесс установки приоритетов, показывая положение каждого риска относительно других (увеличивает разрешающую способность данного метода). Жирная ломаная линия - </a:t>
            </a:r>
            <a:r>
              <a:rPr b="0" lang="ru-RU" sz="2800" spc="-1" strike="noStrike" u="sng">
                <a:solidFill>
                  <a:srgbClr val="3333cc"/>
                </a:solidFill>
                <a:uFillTx/>
                <a:latin typeface="Verdana"/>
              </a:rPr>
              <a:t>критическая граница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терпимости к риску</a:t>
            </a:r>
            <a:r>
              <a:rPr b="0" lang="ru-RU" sz="2800" spc="-1" strike="noStrike">
                <a:solidFill>
                  <a:srgbClr val="3333cc"/>
                </a:solidFill>
                <a:latin typeface="Verdana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 u="sng">
                <a:solidFill>
                  <a:srgbClr val="000000"/>
                </a:solidFill>
                <a:uFillTx/>
                <a:latin typeface="Verdana"/>
              </a:rPr>
              <a:t>При выявлении критических рисков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8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ценарии (причинно-следственная связь процессов, событий и действующих факторов риска), приводящие к рискам выше этой границы, считаются непереносимыми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 u="sng">
                <a:solidFill>
                  <a:srgbClr val="000000"/>
                </a:solidFill>
                <a:uFillTx/>
                <a:latin typeface="Verdana"/>
              </a:rPr>
              <a:t>При разработке стратегии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например, по выявленным непереносимым рискам до принятия данной стратегии требуется понять,  как </a:t>
            </a:r>
            <a:r>
              <a:rPr b="0" lang="ru-RU" sz="3000" spc="-1" strike="noStrike" u="sng">
                <a:solidFill>
                  <a:srgbClr val="000000"/>
                </a:solidFill>
                <a:uFillTx/>
                <a:latin typeface="Verdana"/>
              </a:rPr>
              <a:t>уменьшить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или </a:t>
            </a:r>
            <a:r>
              <a:rPr b="0" lang="ru-RU" sz="3000" spc="-1" strike="noStrike" u="sng">
                <a:solidFill>
                  <a:srgbClr val="000000"/>
                </a:solidFill>
                <a:uFillTx/>
                <a:latin typeface="Verdana"/>
              </a:rPr>
              <a:t>передать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такие </a:t>
            </a:r>
            <a:r>
              <a:rPr b="0" lang="ru-RU" sz="3000" spc="-1" strike="noStrike" u="sng">
                <a:solidFill>
                  <a:srgbClr val="000000"/>
                </a:solidFill>
                <a:uFillTx/>
                <a:latin typeface="Verdana"/>
              </a:rPr>
              <a:t>риск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и, в то время как риски ниже границы являются управляемыми в рабочем порядке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640720" cy="126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Отличительные признаки бизнеса в риск-менеджменте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4000" y="1752480"/>
            <a:ext cx="8640720" cy="45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направленность на систематическое получение прибыли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видовая дифференциация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осуществление деятельности на свой риск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ответственность по обязательствам в соответствии с законодательством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ринятие инициативных решений с учетом последствий риска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Построение карты рисков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8470800" cy="45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2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Производиться как </a:t>
            </a:r>
            <a:r>
              <a:rPr b="0" lang="ru-RU" sz="2900" spc="-1" strike="noStrike" u="sng">
                <a:solidFill>
                  <a:srgbClr val="000000"/>
                </a:solidFill>
                <a:uFillTx/>
                <a:latin typeface="Verdana"/>
              </a:rPr>
              <a:t>в рамках внедрения системы управления рисками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на уровне </a:t>
            </a:r>
            <a:r>
              <a:rPr b="0" lang="ru-RU" sz="2900" spc="-1" strike="noStrike" u="sng">
                <a:solidFill>
                  <a:srgbClr val="000000"/>
                </a:solidFill>
                <a:uFillTx/>
                <a:latin typeface="Verdana"/>
              </a:rPr>
              <a:t>всей организации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, что сложно, а зачастую и невозможно выполнить внутренними силами организации. 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2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 u="sng">
                <a:solidFill>
                  <a:srgbClr val="000000"/>
                </a:solidFill>
                <a:uFillTx/>
                <a:latin typeface="Verdana"/>
              </a:rPr>
              <a:t>Для решения обособленного круга задач по управлению рисками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, например в рамках предварительной оценки различных стратегий развития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Verdana"/>
              </a:rPr>
              <a:t>Методология </a:t>
            </a:r>
            <a:br>
              <a:rPr sz="3800"/>
            </a:b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(которую мы рассмотрим далее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66280" y="1988640"/>
            <a:ext cx="8001000" cy="403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Основана на достижении согласованного мнения топ-менеджмента компании о рисках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ри этом самая важная выгода - решительное сокращение циклов и времени принятия решения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94920" y="304920"/>
            <a:ext cx="81802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Что Вы можете сделать сами: процесс построения карты риска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92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В общем случае процесс картографирования рисков позволяет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49280" indent="-449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выделить риски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49280" indent="-449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расположить риски по приоритетам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49280" indent="-449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оценить количественно (разбить на классы) риски организации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Методы, которые применяют консультанты при составлении карты рисков включаю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26920" y="1752480"/>
            <a:ext cx="77407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7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Verdana"/>
              </a:rPr>
              <a:t>интервью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7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Verdana"/>
              </a:rPr>
              <a:t>формализованные и неформализованные опросники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7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Verdana"/>
              </a:rPr>
              <a:t>обзоры и исследования отрасли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7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Verdana"/>
              </a:rPr>
              <a:t>анализ документационного комплекта компании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7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Verdana"/>
              </a:rPr>
              <a:t>численные методы оценки 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964720" cy="152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Основные шаги  процесса самостоятельного картографирования рисков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39280" y="1628280"/>
            <a:ext cx="82803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60160" indent="-560160">
              <a:spcBef>
                <a:spcPts val="726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первичное обучение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60160" indent="-560160">
              <a:spcBef>
                <a:spcPts val="726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определение границ анализа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60160" indent="-560160">
              <a:spcBef>
                <a:spcPts val="726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формирование состава команды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60160" indent="-560160">
              <a:spcBef>
                <a:spcPts val="726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анализ сценариев и ранжирование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60160" indent="-560160">
              <a:spcBef>
                <a:spcPts val="726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определение границы терпимости к риску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60160" indent="-560160">
              <a:spcBef>
                <a:spcPts val="726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составление плана действий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60160" indent="-560160">
              <a:spcBef>
                <a:spcPts val="726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технологии количественных оценок и моделирования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Verdana"/>
              </a:rPr>
              <a:t>1. Первичное обучение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ажно, чтобы хотя бы один или два сотрудника компании, прошли обучение основам риск-менеджмент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дальнейшем эти сотрудники помогут наладить диалог между членами команды и вести всю команду во время процесса картографировани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обходимо провести внутренее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дварительное обучение, которое может длиться от одного до пяти дне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По мнению практиков: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68000" y="1773000"/>
            <a:ext cx="828036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675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Verdana"/>
              </a:rPr>
              <a:t>Наилучший результат достигается при длительности установочных семинаров в два-три дня. 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75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Verdana"/>
              </a:rPr>
              <a:t>Задача обученного сотрудника компании - </a:t>
            </a:r>
            <a:r>
              <a:rPr b="1" lang="ru-RU" sz="2700" spc="-1" strike="noStrike">
                <a:solidFill>
                  <a:srgbClr val="000000"/>
                </a:solidFill>
                <a:latin typeface="Verdana"/>
              </a:rPr>
              <a:t>менеджера процесса картографирования</a:t>
            </a:r>
            <a:r>
              <a:rPr b="0" lang="ru-RU" sz="2700" spc="-1" strike="noStrike">
                <a:solidFill>
                  <a:srgbClr val="000000"/>
                </a:solidFill>
                <a:latin typeface="Verdana"/>
              </a:rPr>
              <a:t> рисков внутри компании, постоянно ориентировать команду на нужную цель. 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75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Verdana"/>
              </a:rPr>
              <a:t>В тех случаях, когда требуется специальная предметная экспертиза, эксперт может быть введен в команду. 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" dur="10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" dur="1000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" dur="1000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2. Определение границ анализа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39280" y="1773360"/>
            <a:ext cx="828036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30360" indent="-630360">
              <a:spcBef>
                <a:spcPts val="72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определяют, какие области бизнес-решений затрагивают картографирование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30360" indent="-630360">
              <a:spcBef>
                <a:spcPts val="72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могут быть столь широкими или столь узкими, как это желательно организации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30360" indent="-630360">
              <a:spcBef>
                <a:spcPts val="72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определяются на начальном этапе процесса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95280" y="304920"/>
            <a:ext cx="842472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В рассматриваемом примере границы определяются, как</a:t>
            </a: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182080" cy="39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идентификация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установление приоритетов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онимание всех рисков, препятствующих достижению корпоративных стратегических целей при реализации конкретного стратегического плана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Verdana"/>
              </a:rPr>
              <a:t>При определении границ должен соблюдаться баланс между: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4000" y="1916280"/>
            <a:ext cx="7848360" cy="34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2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широтой границ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2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глубиной информации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2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ценностью той информации, которая будет получена из процесса картографирования рисков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3640" y="304920"/>
            <a:ext cx="85690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Диверсификация понятия «РИСК»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91440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«Опасность, возможность убытка или ущерба»(Н. Уэбстер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«Пускаться на удачу, идти на авось, делать без верного расчета»(В.Даль.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«Возможная опасность», «действие на удачу в надежде на счастливый случай» (С.Ожегов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«Возможность наступления события с отрицательными последствиями в результате определенных решений и действий»(Большой экономический словарь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50920" y="304920"/>
            <a:ext cx="864216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Конкретные советы</a:t>
            </a: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3400"/>
            </a:b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(при определении границ анализа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Определитесь с целями, доступностью и стоимостью информации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Затем очертите границы анализа для построения карты рисков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Verdana"/>
              </a:rPr>
              <a:t>3. Состав команд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является критическим для успеха процесса картографирования рисков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ри проведении работы профессиональными консультантами команда (рабочая группа) включает обычно тех специалистов, которые обладают опытом и экспертными знаниями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Опыт показывает, что команда работает эффективно, если состоит из шести - десяти человек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50560" y="304920"/>
            <a:ext cx="84978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ри составлении карты стратегических рисков компании в команду включаются:</a:t>
            </a: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68000" y="1752120"/>
            <a:ext cx="8280360" cy="441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главный администратор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руководитель финансового отдела руководитель казначейств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руководитель юридического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контрольного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IT отделов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руководитель отдела стратегического планирования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Для более узких границ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если анализируются риски определенной области деятельности типа электронной коммерции, то состав команды будет формироваться из старших представителей соответствующих функциональных областей и тех подразделений, интересы которых затрагиваются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Для достижения наибольшей эффективности команда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должна наиболее четко представлять институциональные знания своей компании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должна включать топ-менеджмент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4. Сценарный анализ и ранжирование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640" y="1628280"/>
            <a:ext cx="8182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команда предпринимает управляемый </a:t>
            </a: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мозговой штурм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, чтобы выявить все потенциальные риски компании при данной стратегии развития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сценарии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, сопутствующие появлению рисков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осле идентификации, риски и сценарии </a:t>
            </a: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обсуждаются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, достигается консенсус и готовится </a:t>
            </a: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письменное описание сценариев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Ключевыми моментами каждого сценария являются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9280" y="1915920"/>
            <a:ext cx="800100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"уязвимость"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компании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(объект риска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"триггерный механизм"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(факторы риска)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"последствия"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(величина возможных потерь)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Уязвимость или объект риска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640" y="1628640"/>
            <a:ext cx="81820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ru-RU" sz="2700" spc="-1" strike="noStrike">
                <a:solidFill>
                  <a:srgbClr val="000000"/>
                </a:solidFill>
                <a:latin typeface="Verdana"/>
              </a:rPr>
              <a:t>это ценность компании, которой свойственна подверженность потенциальным угрозам. 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Verdana"/>
              </a:rPr>
              <a:t>Триггерные механизмы</a:t>
            </a:r>
            <a:r>
              <a:rPr b="0" lang="ru-RU" sz="2700" spc="-1" strike="noStrike">
                <a:solidFill>
                  <a:srgbClr val="000000"/>
                </a:solidFill>
                <a:latin typeface="Verdana"/>
              </a:rPr>
              <a:t> (факторы риска) вызывают негативные последствия для объектов риска. 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Verdana"/>
              </a:rPr>
              <a:t>Последствия</a:t>
            </a:r>
            <a:r>
              <a:rPr b="0" lang="ru-RU" sz="2700" spc="-1" strike="noStrike">
                <a:solidFill>
                  <a:srgbClr val="000000"/>
                </a:solidFill>
                <a:latin typeface="Verdana"/>
              </a:rPr>
              <a:t> выражаются в терминах природы и величины потерь, следующей из уязвимости объекта риска и природы триггерного механизма. 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На этом этапе работ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ужно стремиться понять, можно ли множество мелких рисков, которые, как правило, выявляют сотрудники организации при самостоятельной работе,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объединить в какие-то группы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, на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основании чего это можно сделать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642160" cy="152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Когда выявлено ограниченное количество сценариев, команда должна ранжировать сценарии в терминах:</a:t>
            </a: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ctr"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«воздействия»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«вероятности»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(в тех терминах, которые наиболее приемлимы для организации. 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0920" y="304920"/>
            <a:ext cx="864216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Деятельность риск-менеджера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50560" y="1752480"/>
            <a:ext cx="8497800" cy="448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должна быть основана на рациональном соединении внешних и внутренних факторов, основываясь на </a:t>
            </a:r>
            <a:r>
              <a:rPr b="0" i="1" lang="ru-RU" sz="3600" spc="-1" strike="noStrike">
                <a:solidFill>
                  <a:srgbClr val="000000"/>
                </a:solidFill>
                <a:latin typeface="Verdana"/>
              </a:rPr>
              <a:t>инновационном рисковом подходе при создании программы риск-менеджмента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24000" y="304920"/>
            <a:ext cx="8496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Например, в качественных терминах четыре ранга воздействия можно определить в нисходящем порядке как:</a:t>
            </a: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90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катастрофический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90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критический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90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существенный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граничный.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Ранги вероятности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700" spc="-1" strike="noStrike">
                <a:solidFill>
                  <a:srgbClr val="000000"/>
                </a:solidFill>
                <a:latin typeface="Verdana"/>
              </a:rPr>
              <a:t>которых на нашей карте </a:t>
            </a:r>
            <a:r>
              <a:rPr b="1" lang="ru-RU" sz="2700" spc="-1" strike="noStrike">
                <a:solidFill>
                  <a:srgbClr val="000000"/>
                </a:solidFill>
                <a:latin typeface="Verdana"/>
              </a:rPr>
              <a:t>шесть</a:t>
            </a:r>
            <a:r>
              <a:rPr b="0" lang="ru-RU" sz="2700" spc="-1" strike="noStrike">
                <a:solidFill>
                  <a:srgbClr val="000000"/>
                </a:solidFill>
                <a:latin typeface="Verdana"/>
              </a:rPr>
              <a:t>, определены также в качественных терминах от «почти невозможно» к «почти точно произойдет». 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8" name="Picture 4" descr="карта риска"/>
          <p:cNvPicPr/>
          <p:nvPr/>
        </p:nvPicPr>
        <p:blipFill>
          <a:blip r:embed="rId1"/>
          <a:stretch/>
        </p:blipFill>
        <p:spPr>
          <a:xfrm>
            <a:off x="4572000" y="1700280"/>
            <a:ext cx="4176720" cy="4089240"/>
          </a:xfrm>
          <a:prstGeom prst="rect">
            <a:avLst/>
          </a:prstGeom>
          <a:ln w="0">
            <a:noFill/>
          </a:ln>
        </p:spPr>
      </p:pic>
      <p:sp>
        <p:nvSpPr>
          <p:cNvPr id="3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95280" y="304920"/>
            <a:ext cx="835344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Таблица результатов сценарного анализа и ранжирования рисков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324000" y="1844640"/>
          <a:ext cx="8569080" cy="3970440"/>
        </p:xfrm>
        <a:graphic>
          <a:graphicData uri="http://schemas.openxmlformats.org/drawingml/2006/table">
            <a:tbl>
              <a:tblPr/>
              <a:tblGrid>
                <a:gridCol w="399960"/>
                <a:gridCol w="1204920"/>
                <a:gridCol w="1822320"/>
                <a:gridCol w="1874880"/>
                <a:gridCol w="1754280"/>
                <a:gridCol w="1512720"/>
              </a:tblGrid>
              <a:tr h="148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бъеъкт рис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риггерный механиз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или фактор риска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оследствия (описания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оздейств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значимость или величина потерь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ероятность потер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………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………………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……………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………………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……………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108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………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………………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……………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………………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……………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5. Определение границы толерантности к риску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26600" y="1752480"/>
            <a:ext cx="40640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Критическая</a:t>
            </a:r>
            <a:r>
              <a:rPr b="0" i="1" lang="ru-RU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граница терпимости к риску - 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Verdana"/>
              </a:rPr>
              <a:t>ломаная жирная линия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, отделяет те риски, которые являются в настоящее время терпимыми от тех, которые требуют постоянного контроля и именно сейчас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5" name="Picture 4" descr="карта риска"/>
          <p:cNvPicPr/>
          <p:nvPr/>
        </p:nvPicPr>
        <p:blipFill>
          <a:blip r:embed="rId1"/>
          <a:stretch/>
        </p:blipFill>
        <p:spPr>
          <a:xfrm>
            <a:off x="4572000" y="1700280"/>
            <a:ext cx="4248000" cy="4033800"/>
          </a:xfrm>
          <a:prstGeom prst="rect">
            <a:avLst/>
          </a:prstGeom>
          <a:ln w="0">
            <a:noFill/>
          </a:ln>
        </p:spPr>
      </p:pic>
      <p:sp>
        <p:nvSpPr>
          <p:cNvPr id="3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Окончательная ценность карты риска организации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состоит не в определении точного воздействия или уровня вероятности специфической угрозы, а в </a:t>
            </a:r>
            <a:r>
              <a:rPr b="1" i="1" lang="ru-RU" sz="3000" spc="-1" strike="noStrike" u="sng">
                <a:solidFill>
                  <a:srgbClr val="000000"/>
                </a:solidFill>
                <a:uFillTx/>
                <a:latin typeface="Verdana"/>
              </a:rPr>
              <a:t>относительном расположении одной угрозы относительно других угроз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, и </a:t>
            </a:r>
            <a:r>
              <a:rPr b="1" i="1" lang="ru-RU" sz="3000" spc="-1" strike="noStrike" u="sng">
                <a:solidFill>
                  <a:srgbClr val="000000"/>
                </a:solidFill>
                <a:uFillTx/>
                <a:latin typeface="Verdana"/>
              </a:rPr>
              <a:t>в их расположении по отношению к границе терпимости к риску.</a:t>
            </a:r>
            <a:r>
              <a:rPr b="0" i="1" lang="ru-RU" sz="30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Verdana"/>
              </a:rPr>
              <a:t>6. План действий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7610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иски, лежащие выше границы толерантности требуют непосредственного внимания именно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сейчас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2" name="Picture 4" descr="j0212555[1]"/>
          <p:cNvPicPr/>
          <p:nvPr/>
        </p:nvPicPr>
        <p:blipFill>
          <a:blip r:embed="rId1"/>
          <a:stretch/>
        </p:blipFill>
        <p:spPr>
          <a:xfrm>
            <a:off x="6588000" y="3357720"/>
            <a:ext cx="1895760" cy="1663560"/>
          </a:xfrm>
          <a:prstGeom prst="rect">
            <a:avLst/>
          </a:prstGeom>
          <a:ln w="0">
            <a:noFill/>
          </a:ln>
        </p:spPr>
      </p:pic>
      <p:sp>
        <p:nvSpPr>
          <p:cNvPr id="3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важно разработать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определенные планы действий для уменьшения величины или вероятности потерь от данного риска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необходимо определить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целевые показатели и меру оценки успеха в управлении риском, даты достижения целевых показателей и назначить ответственных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Verdana"/>
              </a:rPr>
              <a:t>План действий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Цель плана действий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45817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состоит в том, чтобы понять, как переместить каждый «невыносимый» риск левее и ниже в «терпимую зону»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9" name="Picture 4" descr="j0295553[1]"/>
          <p:cNvPicPr/>
          <p:nvPr/>
        </p:nvPicPr>
        <p:blipFill>
          <a:blip r:embed="rId1"/>
          <a:stretch/>
        </p:blipFill>
        <p:spPr>
          <a:xfrm>
            <a:off x="5292720" y="2421000"/>
            <a:ext cx="3157560" cy="2506680"/>
          </a:xfrm>
          <a:prstGeom prst="rect">
            <a:avLst/>
          </a:prstGeom>
          <a:ln w="0">
            <a:noFill/>
          </a:ln>
        </p:spPr>
      </p:pic>
      <p:sp>
        <p:nvSpPr>
          <p:cNvPr id="3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2" descr="077-36"/>
          <p:cNvPicPr/>
          <p:nvPr/>
        </p:nvPicPr>
        <p:blipFill>
          <a:blip r:embed="rId1"/>
          <a:stretch/>
        </p:blipFill>
        <p:spPr>
          <a:xfrm>
            <a:off x="44280" y="817560"/>
            <a:ext cx="9045720" cy="6013440"/>
          </a:xfrm>
          <a:prstGeom prst="rect">
            <a:avLst/>
          </a:prstGeom>
          <a:ln w="0">
            <a:noFill/>
          </a:ln>
        </p:spPr>
      </p:pic>
      <p:sp>
        <p:nvSpPr>
          <p:cNvPr id="3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Text Box 2"/>
          <p:cNvSpPr/>
          <p:nvPr/>
        </p:nvSpPr>
        <p:spPr>
          <a:xfrm>
            <a:off x="0" y="6206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00"/>
                </a:solidFill>
                <a:latin typeface="Tahoma"/>
              </a:rPr>
              <a:t>Методы управления рисками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Rectangle 3"/>
          <p:cNvSpPr/>
          <p:nvPr/>
        </p:nvSpPr>
        <p:spPr>
          <a:xfrm>
            <a:off x="250920" y="1484280"/>
            <a:ext cx="856908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1" lang="ru-RU" sz="3000" spc="-1" strike="noStrike" u="sng">
                <a:solidFill>
                  <a:srgbClr val="000000"/>
                </a:solidFill>
                <a:uFillTx/>
                <a:latin typeface="Tahoma"/>
              </a:rPr>
              <a:t>Методы управления рисками можно     разделить на четыре группы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методы уклонения от риска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методы локализации риска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методы диссипации риска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методы компенсации риска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Object 4"/>
          <p:cNvGraphicFramePr/>
          <p:nvPr/>
        </p:nvGraphicFramePr>
        <p:xfrm>
          <a:off x="0" y="404640"/>
          <a:ext cx="9144000" cy="612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04640"/>
                    <a:ext cx="9144000" cy="612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2"/>
          <p:cNvSpPr/>
          <p:nvPr/>
        </p:nvSpPr>
        <p:spPr>
          <a:xfrm>
            <a:off x="900000" y="189000"/>
            <a:ext cx="7201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Tahoma"/>
              </a:rPr>
              <a:t>Методы уклонения от риска предполагают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Rectangle 3"/>
          <p:cNvSpPr/>
          <p:nvPr/>
        </p:nvSpPr>
        <p:spPr>
          <a:xfrm>
            <a:off x="250920" y="1844640"/>
            <a:ext cx="842472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исключение рисковых ситуаций из   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бизнеса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избегание сделок с ненадежными 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артнерами, клиентами;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отказ от услуг неизвестных или 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сомнительных фирм;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отказываются от инновационных или   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инвестиционных проектов, 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если те вызывают хоть малейшую 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неуверенность в успешной реализации.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        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2"/>
          <p:cNvSpPr/>
          <p:nvPr/>
        </p:nvSpPr>
        <p:spPr>
          <a:xfrm>
            <a:off x="395280" y="1700280"/>
            <a:ext cx="8353440" cy="41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Если руководство решает использовать в качестве </a:t>
            </a:r>
            <a:r>
              <a:rPr b="0" lang="ru-RU" sz="2800" spc="-1" strike="noStrike">
                <a:solidFill>
                  <a:srgbClr val="cc3300"/>
                </a:solidFill>
                <a:latin typeface="Tahoma"/>
              </a:rPr>
              <a:t>«уклонения»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-  страхование то необходима разработка комплексной программы защиты, а не единичные обращения в страховую фирму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Rectangle 2"/>
          <p:cNvSpPr/>
          <p:nvPr/>
        </p:nvSpPr>
        <p:spPr>
          <a:xfrm>
            <a:off x="571680" y="571680"/>
            <a:ext cx="835308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Об «уклонении»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2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Если у предприятия не хватает средств для комплексной страховой защиты, необходимо выделить те риски, реализация которых связана с наибольшими потерями и застраховать именно их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2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2"/>
          <p:cNvSpPr/>
          <p:nvPr/>
        </p:nvSpPr>
        <p:spPr>
          <a:xfrm>
            <a:off x="468360" y="1628640"/>
            <a:ext cx="835164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74600" indent="27468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174600" indent="27468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Передача риска используется как мелкими, так и крупными предприятиями. Причем, для первых в качестве гаранта выступают, как правило, крупные компании, а для вторых – органы государственного управления. Такая сделка выгодна как и для передающей, так и для принимающей стороны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Rectangle 2"/>
          <p:cNvSpPr/>
          <p:nvPr/>
        </p:nvSpPr>
        <p:spPr>
          <a:xfrm>
            <a:off x="571680" y="357120"/>
            <a:ext cx="800100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74600" indent="27468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ahoma"/>
              </a:rPr>
              <a:t>Поиск гарантов как способ уклонения от риска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569080" cy="993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 подтверждение выгодности подобных сделок говорят следующие причины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Потери, которые велики для передающей стороны, могут быть незначительными для стороны принимающей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Принимающая сторона может обладать лучшими возможностями для сокращения потерь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Принимающая сторона может находиться в лучшей позиции для контроля хозяйственного риска и предотвращения потерь.         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2"/>
          <p:cNvSpPr/>
          <p:nvPr/>
        </p:nvSpPr>
        <p:spPr>
          <a:xfrm>
            <a:off x="0" y="228600"/>
            <a:ext cx="914400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ffffff"/>
                </a:solidFill>
                <a:latin typeface="Tahoma"/>
              </a:rPr>
              <a:t>Методы локализации и диссипации риска.</a:t>
            </a:r>
            <a:r>
              <a:rPr b="0" i="1" lang="ru-RU" sz="3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Rectangle 3"/>
          <p:cNvSpPr/>
          <p:nvPr/>
        </p:nvSpPr>
        <p:spPr>
          <a:xfrm>
            <a:off x="250920" y="1773360"/>
            <a:ext cx="864216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165600" indent="34344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834552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Применяется только, когда можно четко идентифицировать 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Tahoma"/>
              </a:rPr>
              <a:t>источники риска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165600" indent="34344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834552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Наиболее опасные участки производственного процесса локализуются, и над ними устанавливается 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Tahoma"/>
              </a:rPr>
              <a:t>контроль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, снижается уровень финансового риска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165600" indent="34344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834552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Подобный метод используют крупные компании для внедрения инновационных проектов, освоения новых видов продукции и т. д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165600" indent="34344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834552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165600" indent="34344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834552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В самых простых случаях для локализации риска создается 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Tahoma"/>
              </a:rPr>
              <a:t>специализированное подразделение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 в структуре компании, которое осуществляет реализацию проекта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Rectangle 4"/>
          <p:cNvSpPr/>
          <p:nvPr/>
        </p:nvSpPr>
        <p:spPr>
          <a:xfrm>
            <a:off x="250920" y="274680"/>
            <a:ext cx="856908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 u="sng">
                <a:solidFill>
                  <a:srgbClr val="000000"/>
                </a:solidFill>
                <a:uFillTx/>
                <a:latin typeface="Tahoma"/>
              </a:rPr>
              <a:t>Локализация риск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2"/>
          <p:cNvSpPr/>
          <p:nvPr/>
        </p:nvSpPr>
        <p:spPr>
          <a:xfrm>
            <a:off x="324000" y="1700280"/>
            <a:ext cx="84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just">
              <a:lnSpc>
                <a:spcPct val="8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ahoma"/>
              </a:rPr>
              <a:t>Представляют собой более гибкие инструменты управления. Один из них связан с распределением риска между стратегическими партнерами. В качестве партнеров могут выступать как другие предприятия, так и физические лица. Здесь могут создаваться акционерные общества, финансово – промышленные группы. Предприятия могут вступать в консорциумы, ассоциации, концерны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ahoma"/>
              </a:rPr>
              <a:t>Объединение предприятий в одно либо в группу носит название </a:t>
            </a:r>
            <a:r>
              <a:rPr b="1" i="1" lang="ru-RU" sz="2900" spc="-1" strike="noStrike" u="sng">
                <a:solidFill>
                  <a:srgbClr val="000000"/>
                </a:solidFill>
                <a:uFillTx/>
                <a:latin typeface="Tahoma"/>
              </a:rPr>
              <a:t>интеграции</a:t>
            </a:r>
            <a:r>
              <a:rPr b="1" lang="ru-RU" sz="2900" spc="-1" strike="noStrike" u="sng">
                <a:solidFill>
                  <a:srgbClr val="000000"/>
                </a:solidFill>
                <a:uFillTx/>
                <a:latin typeface="Tahoma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Rectangle 3"/>
          <p:cNvSpPr/>
          <p:nvPr/>
        </p:nvSpPr>
        <p:spPr>
          <a:xfrm>
            <a:off x="250920" y="274680"/>
            <a:ext cx="856908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 u="sng">
                <a:solidFill>
                  <a:srgbClr val="000000"/>
                </a:solidFill>
                <a:uFillTx/>
                <a:latin typeface="Tahoma"/>
              </a:rPr>
              <a:t>Методы диссипации (рассеивания) риска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8532720" cy="1013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ahoma"/>
              </a:rPr>
              <a:t>Выделяют четыре основных вида интеграции риска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250560" y="2214360"/>
            <a:ext cx="8569080" cy="391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ahoma"/>
              </a:rPr>
              <a:t>Обратная интеграция </a:t>
            </a:r>
            <a:r>
              <a:rPr b="0" i="1" lang="ru-RU" sz="30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 предполагает объединение с поставщиками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ahoma"/>
              </a:rPr>
              <a:t>Прямая интеграция </a:t>
            </a: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- подразумевает объединение с посредниками, образующими дистрибьюторскую сеть по сбыту продукции предприятия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Интеграции (продолжение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 u="sng">
                <a:solidFill>
                  <a:srgbClr val="000000"/>
                </a:solidFill>
                <a:uFillTx/>
                <a:latin typeface="Tahoma"/>
              </a:rPr>
              <a:t>горизонтальная интеграция</a:t>
            </a:r>
            <a:r>
              <a:rPr b="0" i="1" lang="ru-RU" sz="2600" spc="-1" strike="noStrike">
                <a:solidFill>
                  <a:srgbClr val="000000"/>
                </a:solidFill>
                <a:latin typeface="Tahoma"/>
              </a:rPr>
              <a:t> -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 предполагает объединение с конкурентами; обычно такие ассоциации создаются с целью согласования ценовой политики, разграничению зон хозяйствования, каких-либо совместных действий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 u="sng">
                <a:solidFill>
                  <a:srgbClr val="000000"/>
                </a:solidFill>
                <a:uFillTx/>
                <a:latin typeface="Tahoma"/>
              </a:rPr>
              <a:t>Вертикальная (круговая) интеграция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 – это объединение организаций, осуществляющих разные виды деятельности для достижения совместных стратегических целей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2"/>
          <p:cNvSpPr/>
          <p:nvPr/>
        </p:nvSpPr>
        <p:spPr>
          <a:xfrm>
            <a:off x="179280" y="1700280"/>
            <a:ext cx="8964720" cy="44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455400" indent="-1980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подразумевает увеличение разнообразия видов деятельности, рынков сбыта или каналов поставок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5400" indent="-1980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Tahoma"/>
              </a:rPr>
              <a:t>Диверсификация закупок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 – это увеличение количества поставщиков, что позволяет ослабить зависимость предприятия от конкретного поставщика. (нарушение графика, форс – мажор, банкротство и др.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5400" indent="-1980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Tahoma"/>
              </a:rPr>
              <a:t>Диверсификация рынка сбыта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 (развитие рынка) -  предполагает распределение готовой продукции предприятия между несколькими рынками или контрагентами. В этом случае провал на одном рынке будет компенсирован успехами на других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Rectangle 3"/>
          <p:cNvSpPr/>
          <p:nvPr/>
        </p:nvSpPr>
        <p:spPr>
          <a:xfrm>
            <a:off x="250920" y="449280"/>
            <a:ext cx="86421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Другая разновидность методов диссипации риска – это </a:t>
            </a:r>
            <a:r>
              <a:rPr b="1" i="1" lang="ru-RU" sz="2600" spc="-1" strike="noStrike" u="sng">
                <a:solidFill>
                  <a:srgbClr val="000000"/>
                </a:solidFill>
                <a:uFillTx/>
                <a:latin typeface="Arial"/>
              </a:rPr>
              <a:t>диверсификация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При создании антирисковой программы риск-менеджер должен ответить на следующие вопросы:</a:t>
            </a: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78920" y="1752480"/>
            <a:ext cx="8713800" cy="448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Насколько легко её осуществить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Насколько она будет принята и исполнима сотрудниками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Насколько она понравится руководству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Каковы приоритеты мероприятий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Какой уровень технологии потребуется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 u="sng">
                <a:solidFill>
                  <a:srgbClr val="000000"/>
                </a:solidFill>
                <a:uFillTx/>
                <a:latin typeface="Tahoma"/>
              </a:rPr>
              <a:t>Диверсификация видов хозяйственной деятельности -  подразумевает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78920" y="1599840"/>
            <a:ext cx="87138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асширение ассортимента выпускаемой продукции, оказываемых услуг, спектра используемых технологий. При возникновении проблем с реализацией одного вида продукции, организация сможет компенсировать потери при помощи других сфер хозяйствования либо вообще перейти в другую отрасль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иссипация риска при формировании инвестиционного портфел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4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предполагает реализацию одновременно нескольких проектов, характеризующихся небольшой капиталоемкостью. Это можно назвать </a:t>
            </a:r>
            <a:r>
              <a:rPr b="0" i="1" lang="ru-RU" sz="3000" spc="-1" strike="noStrike">
                <a:solidFill>
                  <a:srgbClr val="000000"/>
                </a:solidFill>
                <a:latin typeface="Tahoma"/>
              </a:rPr>
              <a:t>диверсификацией инвестиций</a:t>
            </a: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74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2"/>
          <p:cNvSpPr/>
          <p:nvPr/>
        </p:nvSpPr>
        <p:spPr>
          <a:xfrm>
            <a:off x="250920" y="476280"/>
            <a:ext cx="864216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Verdana"/>
              </a:rPr>
              <a:t>Методы компенсации риск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Rectangle 3"/>
          <p:cNvSpPr/>
          <p:nvPr/>
        </p:nvSpPr>
        <p:spPr>
          <a:xfrm>
            <a:off x="395280" y="1844640"/>
            <a:ext cx="8497800" cy="41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Данная группа методов относится к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упреждающим методам управлени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(управление по изменениям)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3636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 u="sng">
                <a:solidFill>
                  <a:srgbClr val="000000"/>
                </a:solidFill>
                <a:uFillTx/>
                <a:latin typeface="Verdana"/>
              </a:rPr>
              <a:t>стратегическое планирование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особенно эффективно, если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разработка стратегии проходит через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все сферы внутри предприятия.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/>
          </p:nvPr>
        </p:nvSpPr>
        <p:spPr>
          <a:xfrm>
            <a:off x="395280" y="1916280"/>
            <a:ext cx="84247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7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ключается в периодической разработке сценариев развития внешней среды предприятия, в прогнозировании поведения возможных партнеров или действий конкурентов, изменений в секторах и сегментах рынка.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87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Rectangle 4"/>
          <p:cNvSpPr/>
          <p:nvPr/>
        </p:nvSpPr>
        <p:spPr>
          <a:xfrm>
            <a:off x="395280" y="333360"/>
            <a:ext cx="828036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 u="sng">
                <a:solidFill>
                  <a:srgbClr val="000000"/>
                </a:solidFill>
                <a:uFillTx/>
                <a:latin typeface="Verdana"/>
              </a:rPr>
              <a:t>2.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r>
              <a:rPr b="1" i="1" lang="ru-RU" sz="3000" spc="-1" strike="noStrike" u="sng">
                <a:solidFill>
                  <a:srgbClr val="000000"/>
                </a:solidFill>
                <a:uFillTx/>
                <a:latin typeface="Verdana"/>
              </a:rPr>
              <a:t>Прогнозирование внешней экономической обстановки</a:t>
            </a:r>
            <a:r>
              <a:rPr b="1" lang="ru-RU" sz="3000" spc="-1" strike="noStrike" u="sng">
                <a:solidFill>
                  <a:srgbClr val="000000"/>
                </a:solidFill>
                <a:uFillTx/>
                <a:latin typeface="Verdana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24000" y="304920"/>
            <a:ext cx="8496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 u="sng">
                <a:solidFill>
                  <a:srgbClr val="000000"/>
                </a:solidFill>
                <a:uFillTx/>
                <a:latin typeface="Tahoma"/>
              </a:rPr>
              <a:t>3. Активный целенаправленный маркетинг</a:t>
            </a: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23640" y="1773000"/>
            <a:ext cx="856908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7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Он подразумевает использование маркетинговых инструментов для интенсивного формирования спроса на продукцию предприятия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87480" indent="361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Рекламные акции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87480" indent="361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Позиционирование товар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87480" indent="361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Дифференциация продукции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87480" indent="361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Фокусирование на определенные   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группы потребителей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50920" y="304920"/>
            <a:ext cx="864216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Verdana"/>
              </a:rPr>
              <a:t>4. Мониторинг социально – экономической и нормативно – правовой сред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250560" y="1752480"/>
            <a:ext cx="85690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Интенсивное формирование спроса на свою продукцию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3000" spc="-1" strike="noStrike" u="sng">
                <a:solidFill>
                  <a:srgbClr val="000000"/>
                </a:solidFill>
                <a:uFillTx/>
                <a:latin typeface="Verdana"/>
              </a:rPr>
              <a:t>Используются методы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Сегментация рынка и оценка его емкости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Организация рекламной компании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Анализ поведения конкурентов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Выработка конкурентных стратегий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2"/>
          <p:cNvSpPr/>
          <p:nvPr/>
        </p:nvSpPr>
        <p:spPr>
          <a:xfrm>
            <a:off x="250920" y="1773360"/>
            <a:ext cx="871380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74600" indent="36180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ahoma"/>
              </a:rPr>
              <a:t>          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174600" indent="36180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 использовании этого метода на предприятии создаются страховые запасы сырья, материалов, денежных средств, создаются планы их мобилизации в условиях кризиса. В некоторых случаях создание резервных фондов является обязательным.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Tahoma"/>
              </a:rPr>
              <a:t>       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Rectangle 4"/>
          <p:cNvSpPr/>
          <p:nvPr/>
        </p:nvSpPr>
        <p:spPr>
          <a:xfrm>
            <a:off x="684360" y="404640"/>
            <a:ext cx="799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Verdana"/>
              </a:rPr>
              <a:t>5. Создание системы резервов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Основными формами этого направления являются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24000" y="1752120"/>
            <a:ext cx="8496000" cy="441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Verdana"/>
              </a:rPr>
              <a:t>формирование резервного фонда предприятия</a:t>
            </a:r>
            <a:r>
              <a:rPr b="0" i="1" lang="ru-RU" sz="26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который создается в соответствии с требованиями законодательства и устава предприятия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Verdana"/>
              </a:rPr>
              <a:t>формирование целевых резервных фондов</a:t>
            </a:r>
            <a:r>
              <a:rPr b="0" i="1" lang="ru-RU" sz="26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римером такого формирования служит фонд страхования ценового риска (на период временного ухудшения конъюнктуры рынка);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24000" y="304920"/>
            <a:ext cx="842472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Verdana"/>
              </a:rPr>
              <a:t>Нераспределенный остаток прибыли, полученной в отчетном периоде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66280" y="2060640"/>
            <a:ext cx="800100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До его распределения он может рассматриваться как резерв финансовых ресурсов, направляемых в необходимом случае на ликвидацию негативных последствий отдельных рисков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000000"/>
                </a:solidFill>
                <a:latin typeface="Verdana"/>
              </a:rPr>
              <a:t>6. Привлечение внешних ресурсов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50920" y="1752480"/>
            <a:ext cx="83167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В случае когда фирма не в состоянии покрыть все потери внутренних ресурсов, часть из них можно покрыть с использованием кредитных ресурсов. Однако в данном случае доступность кредитных ресурсов имеет существенные ограничения. И главное из них — перспектива будущей прибыльности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0T16:57:12Z</dcterms:created>
  <dc:creator>Andrey</dc:creator>
  <dc:description/>
  <dc:language>en-US</dc:language>
  <cp:lastModifiedBy>LEGION</cp:lastModifiedBy>
  <dcterms:modified xsi:type="dcterms:W3CDTF">2016-01-05T12:47:18Z</dcterms:modified>
  <cp:revision>51</cp:revision>
  <dc:subject/>
  <dc:title>Риск-менеждмент</dc:title>
</cp:coreProperties>
</file>