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_rels/notesSlide6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20.png" ContentType="image/png"/>
  <Override PartName="/ppt/media/image2.wmf" ContentType="image/x-wmf"/>
  <Override PartName="/ppt/media/image19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35CE-EEDA-4C2C-B71E-CD1D462A234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-МЕНЕЖД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ститель директо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а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ауке и дополнительном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ому образова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э.н. Иванов Андрей Анатоль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кризисн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 2009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-МЕНЕЖДМЕН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меститель директор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ститута менеджмен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науке и дополнительному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фессиональному образованию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.э.н. Иванов Андрей Анатольевич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федр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тикризисного управ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осква 2009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риск-менеджера. Создание программы.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кие факторы риска она будет оказывать влия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рого ли будет её осуществ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уровень сопротивления встрети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ко времени займет её внедр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тесно она связана с корпоративной стратегией организ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просы риск-менеджера. Создание программы.(продолже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какие факторы риска она будет оказывать влияние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рого ли будет её осуществить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й уровень сопротивления встретитс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колько времени займет её внедрение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 тесно она связана с корпоративной стратегией организаци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предпринимательских рис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ие предприниматели часто практикуют правила пяти «C» – модели для проверки кредитоспособности партне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ь заемщика (character) – его репутацию, степень ответ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возможности (capacity) – способность погасить взятую ссуду за счет текущих поступлений или средств от реализации актив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нижения внутренних предпринимательских рисков предприятие должно проверять потенциальных партнеров по бизнесу и тщательно подбирать кад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нижение предпринимательских риск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мериканские предприниматели часто практикуют правила пяти «C» – модели для проверки кредитоспособности партнер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ичность заемщика (character) – его репутацию, степень ответственност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ые возможности (capacity) – способность погасить взятую ссуду за счет текущих поступлений или средств от реализации актив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снижения внутренних предпринимательских рисков предприятие должно проверять потенциальных партнеров по бизнесу и тщательно подбирать кадр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о (capital) – величина и структура акционерного капит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(collateral) – вид и стоимость активов, предлагаемых в качестве зало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условия (conditions) – общее экономическое состояние и другие факт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 пяти «C» – модели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мущество (capital) – величина и структура акционерного капитал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еспечение (collateral) – вид и стоимость активов, предлагаемых в качестве залог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щие условия (conditions) – общее экономическое состояние и другие фактор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авила пяти «C» – модели (продолже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отсутствует точное знание, там действуют догадк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из десяти догадок девять - ошиб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 Горь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де отсутствует точное знание, там действуют догадк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 из десяти догадок девять - ошиб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. Горьк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риск-менеджера. Создание программы.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уровень взаимодействия отделов потребуется для её осуществ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тесно она связана с основными обязанностями сотрудников, задействованных в её осуществле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просы риск-менеджера. Создание программы.(продолже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й уровень взаимодействия отделов потребуется для её осуществлени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 тесно она связана с основными обязанностями сотрудников, задействованных в её осуществлени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мер програм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Пример программ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 деятельности риск не существует, как и деятельность без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совершеннее методы анализа и оценки риска, тем меньше влияние факторов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риска – условия, обстоятельства, в рамках которых проявляются причины риска и которые приводят к нежелательным событ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не деятельности риск не существует, как и деятельность без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ем совершеннее методы анализа и оценки риска, тем меньше влияние факторов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актор риска – условия, обстоятельства, в рамках которых проявляются причины риска и которые приводят к нежелательным события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фактора ри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значительных размеров активов, которые не покупаются и не продаются (низкая ликвидность), приведет к тому, что предприятие не сможет своевременно ответить по своим обязательствам перед контрагентами (Риск снижения платежеспособност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мер фактора риск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личие значительных размеров активов, которые не покупаются и не продаются (низкая ликвидность), приведет к тому, что предприятие не сможет своевременно ответить по своим обязательствам перед контрагентами (Риск снижения платежеспособности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и факторы возникновения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чины и факторы возникновения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 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рисковать больше, чем это может позволить собственный 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о думать о последствиях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рисковать многим ради мал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е решение принимается лишь при отсутствии сом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наличии сомнений принимаются отрицательные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думать, что существует только одно решение, возможно, есть и друг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авила 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рисковать больше, чем это может позволить собственный капита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до думать о последствиях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рисковать многим ради малог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ожительное решение принимается лишь при отсутствии сомн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наличии сомнений принимаются отрицательные реш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думать, что существует только одно решение, возможно, есть и друг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ые понят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ероят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мож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пас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можная опас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ущерб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еопределен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тклонения от результат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латильность» (изменчивость и непостоянство рыночной конъюнкту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лючевые понят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ероят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мож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опас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можная опас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ущерб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неопределенност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отклонения от результата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латильность» (изменчивость и непостоянство рыночной конъюнктуры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понятия риск-менеджмента объединяет терм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обытие», под которым понимается: любой исход, который в результате деятельности может быть получ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–вероятность; А–событие (риск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–конкретное число наступления случаев (благоприятствующих наступлению события 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 – общее число случаев (возникновения события 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щие понятия риск-менеджмента объединяет термин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Событие», под которым понимается: любой исход, который в результате деятельности может быть получе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–вероятность; А–событие (риск)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–конкретное число наступления случаев (благоприятствующих наступлению события А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N – общее число случаев (возникновения события А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озможные трактовки категории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Возможные трактовки категории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по риск-менеджмент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С. Ступаков, Г.С. Токаренко Риск-менеджмен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пкин А.С. Экономические и финансовые риски. Оценка, управление, портфель инвестиций. – М.: Издательско-торговая корпорация «Дашков и Ко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мас Л. Бартон, Уильям Г. Шенкир, Пол Л. Уокер «Комплексный подход к риск- менеджменту: стоит ли этим заниматься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еймс Пикфорд; Управление рисками. – М.: ООО «Вершин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иславчик Е.Н. Риск-менеджмент на предприятии. Теория и практика. – М.: «Ось-89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итература по риск-менеджменту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.С. Ступаков, Г.С. Токаренко Риск-менеджмент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Шапкин А.С. Экономические и финансовые риски. Оценка, управление, портфель инвестиций. – М.: Издательско-торговая корпорация «Дашков и Ко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омас Л. Бартон, Уильям Г. Шенкир, Пол Л. Уокер «Комплексный подход к риск- менеджменту: стоит ли этим заниматься»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жеймс Пикфорд; Управление рисками. – М.: ООО «Вершина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аниславчик Е.Н. Риск-менеджмент на предприятии. Теория и практика. – М.: «Ось-89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отклонений фактических результатов от ожидае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ализ отклонений фактических результатов от ожидаемы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ще всего производится по принципу однозначности последствий от наступления рисковых собы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лассификация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аще всего производится по принципу однозначности последствий от наступления рисковых событ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характеру последствий риски      подразделяют на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е  и  спекуля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чистых рисков (статистических или простых) заключается в том, что они практически всегда несут в себе потери для предпринимательск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ами возникновения подобных рисков могут быть стихийные бедствия, несчастные случаи, недееспособность руководящих сотрудников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кулятивные риски (динамические или коммерческие) – несут в себе либо потери, либо дополнительную прибыль для предпринима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характеру последствий риски      подразделяют на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истые  и  спекулятив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обенность чистых рисков (статистических или простых) заключается в том, что они практически всегда несут в себе потери для предпринимательской деятельност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чинами возникновения подобных рисков могут быть стихийные бедствия, несчастные случаи, недееспособность руководящих сотрудников и т.п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пекулятивные риски (динамические или коммерческие) – несут в себе либо потери, либо дополнительную прибыль для предпринимател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фере возникнов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расли деятельности) разли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нный риск - это риск невыполнения своих обязательств и нормативных планов по производству товаров, работ, услуг в результате воздействия как внешней среды, так и внутренних фа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й риск - риск потерь в процессе финансово – хозяйствен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риск - риск невыполнения фирмой своих финансовых обяз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сфере возникнов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отрасли деятельности) различаю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изводственный риск - это риск невыполнения своих обязательств и нормативных планов по производству товаров, работ, услуг в результате воздействия как внешней среды, так и внутренних факт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мерческий риск - риск потерь в процессе финансово – хозяйственной деятель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ый риск - риск невыполнения фирмой своих финансовых обязательст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е р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й риск – это риск, возникающий в процессе реализации товаров и услуг, произведенных или купленных предпринима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ий риск включает в себя риски, связанные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реализацией товара (услуг) на рын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транспортировкой товара (транспортны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риемкой товара (услуг) покупате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латежеспособностью покупате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форс – мажорными обстоятель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мерческие 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мерческий риск – это риск, возникающий в процессе реализации товаров и услуг, произведенных или купленных предпринимателем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мерческий риск включает в себя риски, связанные 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реализацией товара (услуг) на рынке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транспортировкой товара (транспортный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приемкой товара (услуг) покупателем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платежеспособностью покупател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 форс – мажорными обстоятельств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р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ы с вероятностью потерь финансовых ресурсов (денежных средст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 подразделяются на три основных ви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и, связанные с покупательн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способностью ден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ые 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вязаны с вероятностью потерь финансовых ресурсов (денежных средств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ни  подразделяются на три основных вид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лютные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вестиционные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и, связанные с покупательн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способностью дене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инвестиционных рисков включает в себя следующие рис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ляцион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ектив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й (деловой)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ево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 предприя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новационный рис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руппа инвестиционных рисков включает в себя следующие риск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фляцион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истем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електив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едитный (деловой)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гиональ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раслево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 предприят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новационный рис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ляционный риск – риск того, что полученные доходы в результате высокой инфляции обесцениваются быстрее, чем растут ( с точки зрения покупательной способност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риск – риск ухудшения конъюнктуры (падения) какого-либо рынка в целом. Он не связан с конкретным объектом инвестиций и представляет собой общий риск на все вложения на данном рынке (фондовом, валютном, недвижимости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е направ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фляционный риск – риск того, что полученные доходы в результате высокой инфляции обесцениваются быстрее, чем растут ( с точки зрения покупательной способности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истемный риск – риск ухудшения конъюнктуры (падения) какого-либо рынка в целом. Он не связан с конкретным объектом инвестиций и представляет собой общий риск на все вложения на данном рынке (фондовом, валютном, недвижимости и т.д.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ективный риск – это риск потерь или упущенной выгоды из-за неправильного выбора объекта инвестирования на определенном рынке, например неправильного выбора ценной бумаги из имеющихся на фондовом рынке при формировании портфеля ценных бум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 ликвидности – риск, связанный с возможностью потерь при реализации объекта инвестирования из-за изменения оценки его качества, например какого-либо товара, недвижимости (земля, строение), ценной бумаг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елективный риск – это риск потерь или упущенной выгоды из-за неправильного выбора объекта инвестирования на определенном рынке, например неправильного выбора ценной бумаги из имеющихся на фондовом рынке при формировании портфеля ценных бума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 ликвидности – риск, связанный с возможностью потерь при реализации объекта инвестирования из-за изменения оценки его качества, например какого-либо товара, недвижимости (земля, строение), ценной бумаги и т.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ые ссылки п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-менеджмент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franklin-grant.ru Аналитика и теория по риск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cfin.ru/finanalysis/ Финансовый анализ, оценка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gaap.ru/biblio/corpfin/finman/077.asp  Интегрированный риск-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findirector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cfin.ru/press/afa/2000-4/31_ufa.shtml  Методология построения страховых тарифов в условиях изменения динамики имущественного страх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riskinfo.ru/analytics/market/?id=59  Риск ИнфоСерфис (статьи и публик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egartech.ru/fields/derivatives/riskfactors/  Риск-факторы фондового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finrisk.ru/ Финансовые р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hedging.ru/  публикации, анализ, семинары, (страхование, моделирование риск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езные ссылки п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-менеджменту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franklin-grant.ru Аналитика и теория по рискам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cfin.ru/finanalysis/ Финансовый анализ, оценка бизне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gaap.ru/biblio/corpfin/finman/077.asp  Интегрированный риск-менеджмен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findirector.r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cfin.ru/press/afa/2000-4/31_ufa.shtml  Методология построения страховых тарифов в условиях изменения динамики имущественного страхова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riskinfo.ru/analytics/market/?id=59  Риск ИнфоСерфис (статьи и публикации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egartech.ru/fields/derivatives/riskfactors/  Риск-факторы фондового рын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finrisk.ru/ Финансовые рис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http://www.hedging.ru/  публикации, анализ, семинары, (страхование, моделирование риско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нные риски делят на следующие 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исполнения хозяйственных догов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конъюнктуры ры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я непредвиденных затрат и снижения дох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е производственные рис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изводственные риски делят на следующие вид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исполнения хозяйственных договор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менения конъюнктуры рын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зникновения непредвиденных затрат и снижения доход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чие производственные риск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-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выступать в качестве самостоятельного вида профессиональной деятельности. Этот вид деятельности выполняют профессиональные институты специалистов, страховые компании, а также финансовые менеджеры, риск-менеджеры, специалисты по страхов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-менеджмен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ожет выступать в качестве самостоятельного вида профессиональной деятельности. Этот вид деятельности выполняют профессиональные институты специалистов, страховые компании, а также финансовые менеджеры, риск-менеджеры, специалисты по страхованию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рганизация 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Организация 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лгоритм управления рис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Алгоритм управления риск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 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рисковать больше, чем это может позволить собственный 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о думать о последствиях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рисковать многим ради мал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е решение принимается лишь при отсутствии сом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наличии сомнений принимаются отрицательные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думать, что существует только одно решение, возможно, есть и друг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авила 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рисковать больше, чем это может позволить собственный капита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до думать о последствиях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рисковать многим ради малог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ожительное решение принимается лишь при отсутствии сомн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наличии сомнений принимаются отрицательные реш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льзя думать, что существует только одно решение, возможно, есть и други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рисков - эффективный инструмент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рта рисков - эффективный инструмент управле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рисков – простой метод оценки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и разных отраслей экономики –зачастую задают, как консультантам по управлению рисками вопрос: есть ли простые и наглядные методы, доступные и неспециалистам, которые помогли бы хотя бы грубо оценить риски при развитии новых стратегических направлений бизнеса, крупных инвестиционных планов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рта рисков – простой метод оценки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ставители разных отраслей экономики –зачастую задают, как консультантам по управлению рисками вопрос: есть ли простые и наглядные методы, доступные и неспециалистам, которые помогли бы хотя бы грубо оценить риски при развитии новых стратегических направлений бизнеса, крупных инвестиционных планов и т.п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карта риска и чем она полез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риска - графическое и текстовое описание ограниченного числа рисков организации, расположенных  в прямоугольной таблице,  по одной «оси» которой указана сила воздействия или значимость риска,  а по другой вероятность или частота его возникновения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такое карта риска и чем она полезна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рта риска - графическое и текстовое описание ограниченного числа рисков организации, расположенных  в прямоугольной таблице,  по одной «оси» которой указана сила воздействия или значимость риска,  а по другой вероятность или частота его возникновения 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риск-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ая деятельность – это самостоятельная, на свой риск деятельность, направленная на систематическое получение прибыли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ования имуще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жи това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ения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я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ы риск-менеджмен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принимательская деятельность – это самостоятельная, на свой риск деятельность, направленная на систематическое получение прибыли о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ьзования имуществом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дажи товар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полнения работ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казания услуг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Частный пример карты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Частный пример карты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е структуры карты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ой карте рисков вероятность или частота отображается по вертикальной оси, а сила воздействия или значимость - по горизонтальной оси. В этом  случае вероятность появления риска увеличивается снизу вверх  при продвижении по вертикальной оси, а воздействие риска увеличивается  слева направо по горизонтальной о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исание структуры карты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этой карте рисков вероятность или частота отображается по вертикальной оси, а сила воздействия или значимость - по горизонтальной оси. В этом  случае вероятность появления риска увеличивается снизу вверх  при продвижении по вертикальной оси, а воздействие риска увеличивается  слева направо по горизонтальной ос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абские цифры на карте – обозначения рисков, которые были классифицированы по четырем категориям значимости и шести категориям вероятности, причем так, чтобы каждому сочетанию вероятность/значимость был приписан один вид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рабские цифры на карте – обозначения рисков, которые были классифицированы по четырем категориям значимости и шести категориям вероятности, причем так, чтобы каждому сочетанию вероятность/значимость был приписан один вид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ая классификация, размещающая каждый риск в специфическую отдельную «коробочку» не является обязательной, но упрощает процесс установки приоритетов, показывая положение каждого риска относительно других (увеличивает разрешающую способность данного метода). Жирная ломаная линия - критическая граница терпимости к рис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кая классификация, размещающая каждый риск в специфическую отдельную «коробочку» не является обязательной, но упрощает процесс установки приоритетов, показывая положение каждого риска относительно других (увеличивает разрешающую способность данного метода). Жирная ломаная линия - критическая граница терпимости к риску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явлении критических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енарии (причинно-следственная связь процессов, событий и действующих факторов риска), приводящие к рискам выше этой границы, считаются непереносим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выявлении критических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ценарии (причинно-следственная связь процессов, событий и действующих факторов риска), приводящие к рискам выше этой границы, считаются непереносимым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разработке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по выявленным непереносимым рискам до принятия данной стратегии требуется понять,  как уменьшить или передать такие риски, в то время как риски ниже границы являются управляемыми в рабочем поряд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разработке страте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имер, по выявленным непереносимым рискам до принятия данной стратегии требуется понять,  как уменьшить или передать такие риски, в то время как риски ниже границы являются управляемыми в рабочем порядк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тельные признаки бизнеса в риск-менеджмен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 на систематическое получение прибы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вая дифференциац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деятельности на свой рис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 по обязательствам в соответствии с законодатель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инициативных решений с учетом последствий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личительные признаки бизнеса в риск-менеджмент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авленность на систематическое получение прибыл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идовая дифференциац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уществление деятельности на свой риск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ветственность по обязательствам в соответствии с законодательством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нятие инициативных решений с учетом последствий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оение карты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ься как в рамках внедрения системы управления рисками на уровне всей организации, что сложно, а зачастую и невозможно выполнить внутренними силами организации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ешения обособленного круга задач по управлению рисками, например в рамках предварительной оценки различных стратегий разви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троение карты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изводиться как в рамках внедрения системы управления рисками на уровне всей организации, что сложно, а зачастую и невозможно выполнить внутренними силами организации. 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решения обособленного круга задач по управлению рисками, например в рамках предварительной оценки различных стратегий развити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оторую мы рассмотрим дале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а на достижении согласованного мнения топ-менеджмента компании о рис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самая важная выгода - решительное сокращение циклов и времени принятия реш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олог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которую мы рассмотрим дале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ана на достижении согласованного мнения топ-менеджмента компании о риска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этом самая важная выгода - решительное сокращение циклов и времени принятия решени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ы можете сделать сами: процесс построения карты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м случае процесс картографирования рисков позво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ить рис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ожить риски по приорите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ть количественно (разбить на классы) риски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Вы можете сделать сами: процесс построения карты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общем случае процесс картографирования рисков позволяе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делить риск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сположить риски по приоритета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ценить количественно (разбить на классы) риски организац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, которые применяют консультанты при составлении карты рисков включ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в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изованные и неформализованные опрос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зоры и исследования отра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документационного комплекта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енные методы оцен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, которые применяют консультанты при составлении карты рисков включаю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тервь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ализованные и неформализованные опросн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зоры и исследования отрас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ализ документационного комплекта компа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исленные методы оценк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шаги  процесса самостоятельного картографирования р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ое об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границ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состава коман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сценариев и ранж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границы терпимости к риск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плана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и количественных оценок и модел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е шаги  процесса самостоятельного картографирования рис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вичное обуч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ение границ анализ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е состава команды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ализ сценариев и ранжирова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ение границы терпимости к риску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ставление плана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ехнологии количественных оценок и моделирова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ервичное об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, чтобы хотя бы один или два сотрудника компании, прошли обучение основам риск-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льнейшем эти сотрудники помогут наладить диалог между членами команды и вести всю команду во время процесса картограф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провести внутрене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варительное обучение, которое может длиться от одного до пяти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 Первичное обуч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жно, чтобы хотя бы один или два сотрудника компании, прошли обучение основам риск-менеджмен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дальнейшем эти сотрудники помогут наладить диалог между членами команды и вести всю команду во время процесса картографиров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обходимо провести внутренее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варительное обучение, которое может длиться от одного до пяти дн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практи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лучший результат достигается при длительности установочных семинаров в два-три дн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обученного сотрудника компании - менеджера процесса картографирования рисков внутри компании, постоянно ориентировать команду на нужную це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х случаях, когда требуется специальная предметная экспертиза, эксперт может быть введен в коман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мнению практиков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илучший результат достигается при длительности установочных семинаров в два-три дн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дача обученного сотрудника компании - менеджера процесса картографирования рисков внутри компании, постоянно ориентировать команду на нужную цель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тех случаях, когда требуется специальная предметная экспертиза, эксперт может быть введен в команду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пределение границ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т, какие области бизнес-решений затрагивают картографиров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гут быть столь широкими или столь узкими, как это желательно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тся на начальном этапе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 Определение границ анализ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яют, какие области бизнес-решений затрагивают картографирован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огут быть столь широкими или столь узкими, как это желательно организаци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яются на начальном этапе процес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ссматриваемом примере границы определяются, к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нтифик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приорит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ние всех рисков, препятствующих достижению корпоративных стратегических целей при реализации конкретного стратегического пл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рассматриваемом примере границы определяются, как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дентификац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становление приорите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нимание всех рисков, препятствующих достижению корпоративных стратегических целей при реализации конкретного стратегического план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пределении границ должен соблюдаться баланс межд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той гран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убин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остью той информации, которая будет получена из процесса картографирования рис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определении границ должен соблюдаться баланс между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широтой грани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лубиной информ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нностью той информации, которая будет получена из процесса картографирования риск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понятия «РИСК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пасность, возможность убытка или ущерба»(Н. Уэбст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ускаться на удачу, идти на авось, делать без верного расчета»(В.Даль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можная опасность», «действие на удачу в надежде на счастливый случай» (С.Ожег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можность наступления события с отрицательными последствиями в результате определенных решений и действий»(Большой экономический словар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версификация понятия «РИСК»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Опасность, возможность убытка или ущерба»(Н. Уэбстер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Пускаться на удачу, идти на авось, делать без верного расчета»(В.Даль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можная опасность», «действие на удачу в надежде на счастливый случай» (С.Ожего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можность наступления события с отрицательными последствиями в результате определенных решений и действий»(Большой экономический словарь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ные совет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и определении границ анализ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есь с целями, доступностью и стоимостью информ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очертите границы анализа для построения карты рис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кретные совет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при определении границ анализ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ределитесь с целями, доступностью и стоимостью информаци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тем очертите границы анализа для построения карты риск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остав коман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критическим для успеха процесса картографирования рис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оведении работы профессиональными консультантами команда (рабочая группа) включает обычно тех специалистов, которые обладают опытом и экспертными зна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показывает, что команда работает эффективно, если состоит из шести - десяти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. Состав команд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является критическим для успеха процесса картографирования риск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проведении работы профессиональными консультантами команда (рабочая группа) включает обычно тех специалистов, которые обладают опытом и экспертными знаниям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пыт показывает, что команда работает эффективно, если состоит из шести - десяти человек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оставлении карты стратегических рисков компании в команду включаю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администра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финансового отдела руководитель казначе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юридиче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T отде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отдела стратегического план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составлении карты стратегических рисков компании в команду включаются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лавный администрато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уководитель финансового отдела руководитель казначейст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уководитель юридическог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трольног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IT отдел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уководитель отдела стратегического планирова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более узких гран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анализируются риски определенной области деятельности типа электронной коммерции, то состав команды будет формироваться из старших представителей соответствующих функциональных областей и тех подразделений, интересы которых затрагиваю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более узких границ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анализируются риски определенной области деятельности типа электронной коммерции, то состав команды будет формироваться из старших представителей соответствующих функциональных областей и тех подразделений, интересы которых затрагиваютс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остижения наибольшей эффективности коман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а наиболее четко представлять институциональные знания своей комп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а включать топ-менедж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я достижения наибольшей эффективности коман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лжна наиболее четко представлять институциональные знания своей компан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лжна включать топ-менеджмен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ценарный анализ и ранж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анда предпринимает управляемый мозговой штурм, чтобы выявить все потенциальные риски компании при данной стратегии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енарии, сопутствующие появлению рис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идентификации, риски и сценарии обсуждаются, достигается консенсус и готовится письменное описание сценари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. Сценарный анализ и ранжирова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манда предпринимает управляемый мозговой штурм, чтобы выявить все потенциальные риски компании при данной стратегии развит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ценарии, сопутствующие появлению риск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ле идентификации, риски и сценарии обсуждаются, достигается консенсус и готовится письменное описание сценарие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ыми моментами каждого сценария явля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уязвимость" компа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бъект рис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триггерный механизм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акторы риска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оследствия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еличина возможных потер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лючевыми моментами каждого сценария являютс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"уязвимость" компани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объект риск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"триггерный механизм"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факторы риска)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"последствия"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еличина возможных потерь)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язвимость или объект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ценность компании, которой свойственна подверженность потенциальным угроз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ггерные механизмы (факторы риска) вызывают негативные последствия для объектов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я выражаются в терминах природы и величины потерь, следующей из уязвимости объекта риска и природы триггерного мех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язвимость или объект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ценность компании, которой свойственна подверженность потенциальным угрозам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риггерные механизмы (факторы риска) вызывают негативные последствия для объектов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ледствия выражаются в терминах природы и величины потерь, следующей из уязвимости объекта риска и природы триггерного механизм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ом этапе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но стремиться понять, можно ли множество мелких рисков, которые, как правило, выявляют сотрудники организации при самостоятельной работе, объединить в какие-то группы, на основании чего это можно сдел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этом этапе рабо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ужно стремиться понять, можно ли множество мелких рисков, которые, как правило, выявляют сотрудники организации при самостоятельной работе, объединить в какие-то группы, на основании чего это можно сделать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выявлено ограниченное количество сценариев, команда должна ранжировать сценарии в терминах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здействи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ероятност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тех терминах, которые наиболее приемлимы для организации.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гда выявлено ограниченное количество сценариев, команда должна ранжировать сценарии в терминах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оздействия»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«вероятности»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в тех терминах, которые наиболее приемлимы для организации. 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риск-менедж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а быть основана на рациональном соединении внешних и внутренних факторов, основываясь на инновационном рисковом подходе при создании программы риск-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еятельность риск-менедже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лжна быть основана на рациональном соединении внешних и внутренних факторов, основываясь на инновационном рисковом подходе при создании программы риск-менеджмент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в качественных терминах четыре ранга воздействия можно определить в нисходящем порядке как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астроф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ич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имер, в качественных терминах четыре ранга воздействия можно определить в нисходящем порядке как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тастрофическ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итическ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ущественный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раничны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ги вероя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х на нашей карте шесть, определены также в качественных терминах от «почти невозможно» к «почти точно произойдет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нги вероят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торых на нашей карте шесть, определены также в качественных терминах от «почти невозможно» к «почти точно произойдет»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лица результатов сценарного анализа и ранжирования рис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блица результатов сценарного анализа и ранжирования рисков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Определение границы толерантности к рис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ая граница терпимости к риску - ломаная жирная линия, отделяет те риски, которые являются в настоящее время терпимыми от тех, которые требуют постоянного контроля и именно сейч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. Определение границы толерантности к риск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итическая граница терпимости к риску - ломаная жирная линия, отделяет те риски, которые являются в настоящее время терпимыми от тех, которые требуют постоянного контроля и именно сейчас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нчательная ценность карты риска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не в определении точного воздействия или уровня вероятности специфической угрозы, а в относительном расположении одной угрозы относительно других угроз, и в их расположении по отношению к границе терпимости к рис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кончательная ценность карты риска организ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стоит не в определении точного воздействия или уровня вероятности специфической угрозы, а в относительном расположении одной угрозы относительно других угроз, и в их расположении по отношению к границе терпимости к риску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План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и, лежащие выше границы толерантности требуют непосредственного внимания именно сейч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6. План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иски, лежащие выше границы толерантности требуют непосредственного внимания именно сейчас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 разработать определенные планы действий для уменьшения величины или вероятности потерь от данного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определить целевые показатели и меру оценки успеха в управлении риском, даты достижения целевых показателей и назначить ответственн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жно разработать определенные планы действий для уменьшения величины или вероятности потерь от данного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обходимо определить целевые показатели и меру оценки успеха в управлении риском, даты достижения целевых показателей и назначить ответственных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лан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плана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в том, чтобы понять, как переместить каждый «невыносимый» риск левее и ниже в «терпимую зону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ль плана действ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стоит в том, чтобы понять, как переместить каждый «невыносимый» риск левее и ниже в «терпимую зону»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 рис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 рисками можно     разделить на четыре групп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клонения от р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локализации р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диссипации рис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компенсации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управления риск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управления рисками можно     разделить на четыре групп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уклонения от рис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локализации рис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диссипации рис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компенсации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клонения от риска предполаг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ение рисковых ситуаций из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егание сделок с ненадежны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тнерами, клиент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аз от услуг неизвестных ил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мнительных фир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азываются от инновационных или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х проектов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те вызывают хоть малейшу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веренность в успешной реализации.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уклонения от риска предполагаю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сключение рисковых ситуаций из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изнес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бегание сделок с ненадежны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артнерами, клиентами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каз от услуг неизвестных ил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мнительных фирм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казываются от инновационных или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вестиционных проектов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те вызывают хоть малейшу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уверенность в успешной реализации.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уководство решает использовать в качестве «уклонения» -  страхование то необходима разработка комплексной программы защиты, а не единичные обращения в страховую фир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«уклонении»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руководство решает использовать в качестве «уклонения» -  страхование то необходима разработка комплексной программы защиты, а не единичные обращения в страховую фирму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 «уклонении»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у предприятия не хватает средств для комплексной страховой защиты, необходимо выделить те риски, реализация которых связана с наибольшими потерями и застраховать именно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у предприятия не хватает средств для комплексной страховой защиты, необходимо выделить те риски, реализация которых связана с наибольшими потерями и застраховать именно и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а риска используется как мелкими, так и крупными предприятиями. Причем, для первых в качестве гаранта выступают, как правило, крупные компании, а для вторых – органы государственного управления. Такая сделка выгодна как и для передающей, так и для принимающей сторо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гарантов как способ уклонения от рис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дача риска используется как мелкими, так и крупными предприятиями. Причем, для первых в качестве гаранта выступают, как правило, крупные компании, а для вторых – органы государственного управления. Такая сделка выгодна как и для передающей, так и для принимающей стороны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иск гарантов как способ уклонения от риск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дтверждение выгодности подобных сделок говорят следующие причи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и, которые велики для передающей стороны, могут быть незначительными для стороны принимаю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ющая сторона может обладать лучшими возможностями для сокращения потер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ющая сторона может находиться в лучшей позиции для контроля хозяйственного риска и предотвращения потерь.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подтверждение выгодности подобных сделок говорят следующие причин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тери, которые велики для передающей стороны, могут быть незначительными для стороны принимающ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нимающая сторона может обладать лучшими возможностями для сокращения потерь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нимающая сторона может находиться в лучшей позиции для контроля хозяйственного риска и предотвращения потерь.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локализации и диссипации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ется только, когда можно четко идентифицировать источники рис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опасные участки производственного процесса локализуются, и над ними устанавливается контроль, снижается уровень финансового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бный метод используют крупные компании для внедрения инновационных проектов, освоения новых видов продукции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амых простых случаях для локализации риска создается специализированное подразделение в структуре компании, которое осуществляет реализацию прое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кализация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локализации и диссипации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меняется только, когда можно четко идентифицировать источники рис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иболее опасные участки производственного процесса локализуются, и над ними устанавливается контроль, снижается уровень финансового рис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добный метод используют крупные компании для внедрения инновационных проектов, освоения новых видов продукции и т. д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самых простых случаях для локализации риска создается специализированное подразделение в структуре компании, которое осуществляет реализацию проек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окализация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ют собой более гибкие инструменты управления. Один из них связан с распределением риска между стратегическими партнерами. В качестве партнеров могут выступать как другие предприятия, так и физические лица. Здесь могут создаваться акционерные общества, финансово – промышленные группы. Предприятия могут вступать в консорциумы, ассоциации, концер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ение предприятий в одно либо в группу носит название интег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диссипации (рассеивания)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ставляют собой более гибкие инструменты управления. Один из них связан с распределением риска между стратегическими партнерами. В качестве партнеров могут выступать как другие предприятия, так и физические лица. Здесь могут создаваться акционерные общества, финансово – промышленные группы. Предприятия могут вступать в консорциумы, ассоциации, концерны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ъединение предприятий в одно либо в группу носит название интеграци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диссипации (рассеивания)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яют четыре основных вида интеграции ри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ая интеграция -  предполагает объединение с поставщи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интеграция - подразумевает объединение с посредниками, образующими дистрибьюторскую сеть по сбыту продукции предприя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деляют четыре основных вида интеграции риск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ратная интеграция -  предполагает объединение с поставщикам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ямая интеграция - подразумевает объединение с посредниками, образующими дистрибьюторскую сеть по сбыту продукции предприят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и 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изонтальная интеграция - предполагает объединение с конкурентами; обычно такие ассоциации создаются с целью согласования ценовой политики, разграничению зон хозяйствования, каких-либо совместных дейст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тикальная (круговая) интеграция – это объединение организаций, осуществляющих разные виды деятельности для достижения совместных стратегических ц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теграции (продолже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ризонтальная интеграция - предполагает объединение с конкурентами; обычно такие ассоциации создаются с целью согласования ценовой политики, разграничению зон хозяйствования, каких-либо совместных действий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ертикальная (круговая) интеграция – это объединение организаций, осуществляющих разные виды деятельности для достижения совместных стратегических цел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разумевает увеличение разнообразия видов деятельности, рынков сбыта или каналов постав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закупок – это увеличение количества поставщиков, что позволяет ослабить зависимость предприятия от конкретного поставщика. (нарушение графика, форс – мажор, банкротство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рынка сбыта (развитие рынка) -  предполагает распределение готовой продукции предприятия между несколькими рынками или контрагентами. В этом случае провал на одном рынке будет компенсирован успехами на друг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ая разновидность методов диссипации риска – это диверсифик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дразумевает увеличение разнообразия видов деятельности, рынков сбыта или каналов поставок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версификация закупок – это увеличение количества поставщиков, что позволяет ослабить зависимость предприятия от конкретного поставщика. (нарушение графика, форс – мажор, банкротство и др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версификация рынка сбыта (развитие рынка) -  предполагает распределение готовой продукции предприятия между несколькими рынками или контрагентами. В этом случае провал на одном рынке будет компенсирован успехами на други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ругая разновидность методов диссипации риска – это диверсификац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оздании антирисковой программы риск-менеджер должен ответить на следующие вопрос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колько легко её осуществ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колько она будет принята и исполнима сотрудник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колько она понравится руководств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приоритеты мероприят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уровень технологии потребуе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создании антирисковой программы риск-менеджер должен ответить на следующие вопросы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сколько легко её осуществить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сколько она будет принята и исполнима сотрудниками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сколько она понравится руководству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вы приоритеты мероприятий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кой уровень технологии потребуется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видов хозяйственной деятельности -  подразуме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ие ассортимента выпускаемой продукции, оказываемых услуг, спектра используемых технологий. При возникновении проблем с реализацией одного вида продукции, организация сможет компенсировать потери при помощи других сфер хозяйствования либо вообще перейти в другую отрас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версификация видов хозяйственной деятельности -  подразумевае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сширение ассортимента выпускаемой продукции, оказываемых услуг, спектра используемых технологий. При возникновении проблем с реализацией одного вида продукции, организация сможет компенсировать потери при помощи других сфер хозяйствования либо вообще перейти в другую отрасль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сипация риска при формировании инвестиционного портф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реализацию одновременно нескольких проектов, характеризующихся небольшой капиталоемкостью. Это можно назвать диверсификацией инвести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ссипация риска при формировании инвестиционного портфел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полагает реализацию одновременно нескольких проектов, характеризующихся небольшой капиталоемкостью. Это можно назвать диверсификацией инвестици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компенсации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ая группа методов относится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еждающим методам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правление по изменения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ое план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 эффективно, е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стратегии проходит чер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сферы внутри предпри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компенсации рис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анная группа методов относится к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преждающим методам управ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управление по изменениям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ратегическое планирова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обенно эффективно, ес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работка стратегии проходит через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се сферы внутри предприяти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ается в периодической разработке сценариев развития внешней среды предприятия, в прогнозировании поведения возможных партнеров или действий конкурентов, изменений в секторах и сегментах ры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огнозирование внешней экономической обстан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ключается в периодической разработке сценариев развития внешней среды предприятия, в прогнозировании поведения возможных партнеров или действий конкурентов, изменений в секторах и сегментах рынк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 Прогнозирование внешней экономической обстановк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Активный целенаправленный маркетин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одразумевает использование маркетинговых инструментов для интенсивного формирования спроса на продукцию предпри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ламные а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ционирование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ация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кусирование на определенные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группы потреб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. Активный целенаправленный маркетин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н подразумевает использование маркетинговых инструментов для интенсивного формирования спроса на продукцию предприят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кламные ак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зиционирование това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фференциация продук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кусирование на определенные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группы потребителе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ониторинг социально – экономической и нормативно – правово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нсивное формирование спроса на свою продук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тся мет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ментация рынка и оценка его емк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рекламной комп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поведения конкур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ка конкурентных страте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. Мониторинг социально – экономической и нормативно – правовой сред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тенсивное формирование спроса на свою продукцию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спользуются метод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егментация рынка и оценка его емкост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рганизация рекламной компани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нализ поведения конкурентов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работка конкурентных стратег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спользовании этого метода на предприятии создаются страховые запасы сырья, материалов, денежных средств, создаются планы их мобилизации в условиях кризиса. В некоторых случаях создание резервных фондов является обязательным.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Создание системы резерв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 использовании этого метода на предприятии создаются страховые запасы сырья, материалов, денежных средств, создаются планы их мобилизации в условиях кризиса. В некоторых случаях создание резервных фондов является обязательным.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. Создание системы резерв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формами этого направления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резервного фонда предприятия, который создается в соответствии с требованиями законодательства и устава предприя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целевых резервных фон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ом такого формирования служит фонд страхования ценового риска (на период временного ухудшения конъюнктуры рынка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ми формами этого направления являются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е резервного фонда предприятия, который создается в соответствии с требованиями законодательства и устава предприят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е целевых резервных фонд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мером такого формирования служит фонд страхования ценового риска (на период временного ухудшения конъюнктуры рынка)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спределенный остаток прибыли, полученной в отчетном пери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его распределения он может рассматриваться как резерв финансовых ресурсов, направляемых в необходимом случае на ликвидацию негативных последствий отдельных рис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распределенный остаток прибыли, полученной в отчетном период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 его распределения он может рассматриваться как резерв финансовых ресурсов, направляемых в необходимом случае на ликвидацию негативных последствий отдельных риск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Привлечение внешни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учае когда фирма не в состоянии покрыть все потери внутренних ресурсов, часть из них можно покрыть с использованием кредитных ресурсов. Однако в данном случае доступность кредитных ресурсов имеет существенные ограничения. И главное из них — перспектива будущей прибы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6. Привлечение внешних ресурс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случае когда фирма не в состоянии покрыть все потери внутренних ресурсов, часть из них можно покрыть с использованием кредитных ресурсов. Однако в данном случае доступность кредитных ресурсов имеет существенные ограничения. И главное из них — перспектива будущей прибыльност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7DB4-6248-404F-A9E5-2B727E2D0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FEE0-A9C7-43A9-B2F1-A7E6B287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90CA-ABAB-421A-819F-79173374C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7FB9-F99C-454B-90D1-D6C42FEA0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AE47-23CD-4623-9CE2-09937FC35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0088-3B4F-4484-A863-54B6E3A9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31B3-BD21-4D5F-9B40-E93914C3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9C80-E0AE-440B-8BCF-CD6C9A28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B31E-F786-40A7-9755-F1D37B6A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F660-094B-4E3F-9D37-9D0A37CB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1353-A1A9-4986-AD0C-33D9B631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E7AB-C88B-4A29-951C-4B0DAE2C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EE9A-48B9-4146-8FFD-5A9338AB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FF99-5497-42EA-AC21-9440D636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452F-7E02-4325-AE3B-246C5606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7401-4A9E-48C4-8B4D-23954563E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CEA4-2308-4EE9-AA34-EBC99887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D560-FB50-43CE-822D-CC9D001C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8944-0D41-4183-8D57-926FBB22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FCAB-0886-4A6C-98C5-8305B083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C60A-C44D-42B0-B916-F569BEC5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AE70-4C80-4989-A904-B063A52B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2C96-632A-4130-9DBB-71FA22BF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E40A-4C80-4ED5-91EA-4BA0E678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E39E-7DFE-4C5C-848B-60300C06E0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DEC1-13A6-4475-98F0-034C3A8578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ranklin-grant.ru/" TargetMode="External"/><Relationship Id="rId2" Type="http://schemas.openxmlformats.org/officeDocument/2006/relationships/hyperlink" Target="http://www.cfin.ru/finanalysis/" TargetMode="External"/><Relationship Id="rId3" Type="http://schemas.openxmlformats.org/officeDocument/2006/relationships/hyperlink" Target="http://www.gaap.ru/biblio/corpfin/finman/077.asp" TargetMode="External"/><Relationship Id="rId4" Type="http://schemas.openxmlformats.org/officeDocument/2006/relationships/hyperlink" Target="http://www.findirector.ru/" TargetMode="External"/><Relationship Id="rId5" Type="http://schemas.openxmlformats.org/officeDocument/2006/relationships/hyperlink" Target="http://www.cfin.ru/press/afa/2000-4/31_ufa.shtml" TargetMode="External"/><Relationship Id="rId6" Type="http://schemas.openxmlformats.org/officeDocument/2006/relationships/hyperlink" Target="http://www.riskinfo.ru/analytics/market/?id=59" TargetMode="External"/><Relationship Id="rId7" Type="http://schemas.openxmlformats.org/officeDocument/2006/relationships/hyperlink" Target="http://www.egartech.ru/fields/derivatives/riskfactors/" TargetMode="External"/><Relationship Id="rId8" Type="http://schemas.openxmlformats.org/officeDocument/2006/relationships/hyperlink" Target="http://www.finrisk.ru/" TargetMode="External"/><Relationship Id="rId9" Type="http://schemas.openxmlformats.org/officeDocument/2006/relationships/hyperlink" Target="http://www.hedging.ru/" TargetMode="External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franklin-grant.ru/ru/reviews/review7.shtml#tole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РИСК-МЕНЕЖДМЕН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143320" y="3571920"/>
            <a:ext cx="378612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Заместитель директор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нститута менеджмент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 науке и дополнительному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офессиональному образованию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.э.н. Иванов Андрей Анатольевич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857160" y="214200"/>
            <a:ext cx="692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Кафедр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Антикризисного управл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357280" y="5786280"/>
            <a:ext cx="3929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осква 2009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Вопросы риск-менеджера. Создание программы.(продолжение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642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 какие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факторы риск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она будет оказывать влияни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орого ли будет её осуществить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ой уровень сопротивления встретится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колько времени займет её внедрение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 тесно она связана с корпоративной стратегией организации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0" y="0"/>
            <a:ext cx="9072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ffff"/>
                </a:solidFill>
                <a:latin typeface="Tahoma"/>
              </a:rPr>
              <a:t>Снижение предпринимательских рисков.</a:t>
            </a:r>
            <a:r>
              <a:rPr b="0" i="1" lang="ru-RU" sz="3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250920" y="1844640"/>
            <a:ext cx="864216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00"/>
                </a:solidFill>
                <a:latin typeface="Tahoma"/>
              </a:rPr>
              <a:t>Американские предприниматели часто практикуют правила пяти «</a:t>
            </a:r>
            <a:r>
              <a:rPr b="1" lang="en-US" sz="2600" spc="-1" strike="noStrike">
                <a:solidFill>
                  <a:srgbClr val="006600"/>
                </a:solidFill>
                <a:latin typeface="Tahoma"/>
              </a:rPr>
              <a:t>C</a:t>
            </a:r>
            <a:r>
              <a:rPr b="1" lang="ru-RU" sz="2600" spc="-1" strike="noStrike">
                <a:solidFill>
                  <a:srgbClr val="006600"/>
                </a:solidFill>
                <a:latin typeface="Tahoma"/>
              </a:rPr>
              <a:t>» – модели для проверки кредитоспособности партнера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личность заемщик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haracter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) – его репутацию, степень ответственности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ahoma"/>
              </a:rPr>
              <a:t>финансовые возможности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apacity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) – способность погасить взятую ссуду за счет текущих поступлений или средств от реализации активов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0" y="189000"/>
            <a:ext cx="9144000" cy="15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Для снижения внутренних предпринимательских рисков предприятие должно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проверять потенциальных партнеров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по бизнесу и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тщательно подбирать кадры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3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ahoma"/>
              </a:rPr>
              <a:t>имущество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apital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) – величина и структура акционерного капитал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ahoma"/>
              </a:rPr>
              <a:t>обеспечение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ollateral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) – вид и стоимость активов, предлагаемых в качестве залог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ahoma"/>
              </a:rPr>
              <a:t>общие условия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onditions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) – общее экономическое состояние и другие факторы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1042920" y="260280"/>
            <a:ext cx="5111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324000" y="260280"/>
            <a:ext cx="8496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00"/>
                </a:solidFill>
                <a:uFillTx/>
                <a:latin typeface="Tahoma"/>
              </a:rPr>
              <a:t>Правила пяти «</a:t>
            </a:r>
            <a:r>
              <a:rPr b="1" lang="en-US" sz="3200" spc="-1" strike="noStrike" u="sng">
                <a:solidFill>
                  <a:srgbClr val="006600"/>
                </a:solidFill>
                <a:uFillTx/>
                <a:latin typeface="Tahoma"/>
              </a:rPr>
              <a:t>C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Tahoma"/>
              </a:rPr>
              <a:t>» – модели (продолжение</a:t>
            </a:r>
            <a:r>
              <a:rPr b="1" lang="ru-RU" sz="3200" spc="-1" strike="noStrike">
                <a:solidFill>
                  <a:srgbClr val="0066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Где отсутствует точное знание, там действуют догадки,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а из десяти догадок девять - ошибки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М. Горьки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4" descr="vost"/>
          <p:cNvPicPr/>
          <p:nvPr/>
        </p:nvPicPr>
        <p:blipFill>
          <a:blip r:embed="rId1"/>
          <a:stretch/>
        </p:blipFill>
        <p:spPr>
          <a:xfrm>
            <a:off x="5292720" y="2133720"/>
            <a:ext cx="2567160" cy="2566800"/>
          </a:xfrm>
          <a:prstGeom prst="rect">
            <a:avLst/>
          </a:prstGeom>
          <a:ln w="0">
            <a:noFill/>
          </a:ln>
        </p:spPr>
      </p:pic>
      <p:sp>
        <p:nvSpPr>
          <p:cNvPr id="4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8920" y="304920"/>
            <a:ext cx="8713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Вопросы риск-менеджера. Создание программы.(продолжение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79214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ой уровень взаимодействия отделов потребуется для её осуществления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 тесно она связана с основными обязанностями сотрудников, задействованных в её осуществлении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имер программы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2160" y="1844640"/>
          <a:ext cx="8864640" cy="4183200"/>
        </p:xfrm>
        <a:graphic>
          <a:graphicData uri="http://schemas.openxmlformats.org/drawingml/2006/table">
            <a:tbl>
              <a:tblPr/>
              <a:tblGrid>
                <a:gridCol w="2043000"/>
                <a:gridCol w="2556000"/>
                <a:gridCol w="2698560"/>
                <a:gridCol w="1567080"/>
              </a:tblGrid>
              <a:tr h="54288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рневые риск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роприятия по устранению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вет-ствен-ны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едупреждение риск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инимизация последстви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Сбой системного обору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личие дубли-рующих серверо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структаж поведения персонала в критической ситуаци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стировщик, систем-ный администрато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713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Вне деятельности 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риск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 не существует, как и деятельность без 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рис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1752480"/>
            <a:ext cx="8785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Чем совершеннее методы анализа и оценки риска, тем меньше влияние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факторов рис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Фактор риска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– условия, обстоятельства, в рамках которых проявляются причины риска и которые приводят к нежелательным событиям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имер </a:t>
            </a: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фактора риска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64216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Наличие значительных размеров активов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 которые не покупаются и не продаются (низкая ликвидность), приведет к тому, что предприятие не сможет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своевременно ответить по своим обязательствам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перед контрагентами (Риск снижения платежеспособности)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304920"/>
            <a:ext cx="87854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ричины и факторы возникновения рис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79280" y="1773360"/>
          <a:ext cx="8785440" cy="43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73360"/>
                    <a:ext cx="878544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32464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Verdana"/>
              </a:rPr>
              <a:t>Правила риск-менеджмент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льзя рисковать больше, чем это может позволить собственный капита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до думать о последствиях рис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льзя рисковать многим ради малог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ложительное решение принимается лишь при отсутствии сомн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и наличии сомнений принимаются отрицательные реш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spcAft>
                <a:spcPts val="1874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льзя думать, что существует только одно решение, возможно, есть и други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3640" y="304920"/>
            <a:ext cx="82515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Ключевые понятия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риск-менеджмент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ероят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озмож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опас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озможная опас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ущерб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неопределенность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отклонения от результата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олатильность»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(изменчивость и непостоянство рыночной конъюнктуры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497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бщие понятия риск-менеджмента объединяет термин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569080" cy="13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«Событие»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под которым понимается: любой исход, который в результате деятельности может быть получен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2411280" y="3429000"/>
                <a:ext cx="191952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Text Box 7"/>
          <p:cNvSpPr/>
          <p:nvPr/>
        </p:nvSpPr>
        <p:spPr>
          <a:xfrm>
            <a:off x="684360" y="4797360"/>
            <a:ext cx="777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79280" y="4653000"/>
            <a:ext cx="8785440" cy="184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–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ероятность;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–событие (риск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–конкретное число наступления случаев (благоприятствующих наступлению события А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общее число случаев (возникновения события А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Object 4"/>
          <p:cNvGraphicFramePr/>
          <p:nvPr/>
        </p:nvGraphicFramePr>
        <p:xfrm>
          <a:off x="74520" y="2235240"/>
          <a:ext cx="8980560" cy="279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20" y="2235240"/>
                    <a:ext cx="898056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Rectangle 6"/>
          <p:cNvSpPr/>
          <p:nvPr/>
        </p:nvSpPr>
        <p:spPr>
          <a:xfrm>
            <a:off x="179280" y="304920"/>
            <a:ext cx="839628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озможные трактовки категории риск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765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Литература по риск-менеджменту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2565360"/>
            <a:ext cx="85690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.С. Ступаков, Г.С. Токаренко Риск-менеджмент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Шапкин А.С. Экономические и финансовые риски. Оценка, управление, портфель инвестиций. – М.: Издательско-торговая корпорация «Дашков и Ко»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Томас Л. Бартон, Уильям Г. Шенкир, Пол Л. Уокер «Комплексный подход к риск- менеджменту: стоит ли этим заниматься»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Джеймс Пикфорд; Управление рисками. – М.: ООО «Вершина»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таниславчик Е.Н. Риск-менеджмент на предприятии. Теория и практика. – М.: «Ось-89»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4064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нализ отклонений фактических результатов от ожидаем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0" y="16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Object 8"/>
          <p:cNvGraphicFramePr/>
          <p:nvPr/>
        </p:nvGraphicFramePr>
        <p:xfrm>
          <a:off x="92160" y="1670040"/>
          <a:ext cx="8853480" cy="51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160" y="1670040"/>
                    <a:ext cx="8853480" cy="51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Классификация рис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Чаще всего производится по принципу однозначности последствий от наступления рисковых событий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Object 2"/>
          <p:cNvGraphicFramePr/>
          <p:nvPr/>
        </p:nvGraphicFramePr>
        <p:xfrm>
          <a:off x="61920" y="260280"/>
          <a:ext cx="9082080" cy="624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260280"/>
                    <a:ext cx="908208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 характеру последстви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иски      подразделяют на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истые  и  спекулятив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64072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собенность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чистых рисков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(статистических или простых) заключается в том, что они практически всегда несут в себе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потери для предпринимательской деятельност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чинами возникновения подобных рисков могут быть стихийные бедствия, несчастные случаи, недееспособность руководящих сотрудников и т.п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Спекулятивные риск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(динамические или коммерческие) – несут в себе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либо потери, либо дополнительную прибыль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для предпринимател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8920" y="304920"/>
            <a:ext cx="8713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По сфере возникновения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(отрасли деятельности) различают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Производственный риск 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это риск невыполнения своих обязательств и нормативных планов по производству товаров, работ, услуг в результате воздействия как внешней среды, так и внутренних факторов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Коммерчески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- риск потерь в процессе финансово – хозяйственной деятельност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Финансовы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- риск невыполнения фирмой своих финансовых обязательст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Verdana"/>
              </a:rPr>
              <a:t>Коммерческие риск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64216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Коммерчески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это риск, возникающий в процессе реализации товаров и услуг, произведенных или купленных предпринимателем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Коммерческий риск включает в себя риски, связанные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реализацией товара (услуг) на рынке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транспортировкой товара (транспортный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приемкой товара (услуг) покупателем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платежеспособностью покупателя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 форс – мажорными обстоятельствам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 u="sng">
                <a:solidFill>
                  <a:srgbClr val="000000"/>
                </a:solidFill>
                <a:uFillTx/>
                <a:latin typeface="Verdana"/>
              </a:rPr>
              <a:t>Финансовые риск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752480"/>
            <a:ext cx="87138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вязаны с вероятностью потерь финансовых ресурсов (денежных средств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ни  подразделяются на три основных вида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алютные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вестиционные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41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иски, связанные с покупательной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способностью денег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Группа </a:t>
            </a:r>
            <a:r>
              <a:rPr b="1" lang="ru-RU" sz="3400" spc="-1" strike="noStrike" u="sng">
                <a:solidFill>
                  <a:srgbClr val="000000"/>
                </a:solidFill>
                <a:uFillTx/>
                <a:latin typeface="Verdana"/>
              </a:rPr>
              <a:t>инвестиционных рисков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включает в себя следующие риски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Инфляцион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Систем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Селектив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Кредитный (деловой)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Региональ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Отраслево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Риск предприяти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Инновационный риск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сновные направл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3640" y="1752480"/>
            <a:ext cx="8569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Инфляционны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риск того, что полученные доходы в результате высокой инфляции обесцениваются быстрее, чем растут ( с точки зрения покупательной способности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Системный риск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риск ухудшения конъюнктуры (падения) какого-либо рынка в целом. Он не связан с конкретным объектом инвестиций и представляет собой общий риск на все вложения на данном рынке (фондовом, валютном, недвижимости и т.д.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1752120"/>
            <a:ext cx="896472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Verdana"/>
              </a:rPr>
              <a:t>Селективный риск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– это риск потерь или упущенной выгоды из-за неправильного выбора объекта инвестирования на определенном рынке, например неправильного выбора ценной бумаги из имеющихся на фондовом рынке при формировании портфеля ценных бумаг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Verdana"/>
              </a:rPr>
              <a:t>Риск ликвидности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– риск, связанный с возможностью потерь при реализации объекта инвестирования из-за изменения оценки его качества, например какого-либо товара, недвижимости (земля, строение), ценной бумаги и т.д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3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олезные ссылки по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риск-менеджменту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franklin-grant.ru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Аналитика и теория по рискам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cfin.ru/finanalysis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Финансовый анализ, оценка бизнес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www.gaap.ru/biblio/corpfin/finman/077.asp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Интегрированный риск-менеджмен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http://www.findirector.ru/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http://www.cfin.ru/press/afa/2000-4/31_ufa.shtml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Методология построения страховых тарифов в условиях изменения динамики имущественного страхова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http://www.riskinfo.ru/analytics/market/?id=59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Риск ИнфоСерфис (статьи и публикации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http://www.egartech.ru/fields/derivatives/riskfactors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Риск-факторы фондового рын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http://www.finrisk.ru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Финансовые риск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http://www.hedging.ru/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публикации, анализ, семинары, (страхование, моделирование рисков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280" y="304920"/>
            <a:ext cx="86407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Производственные риски делят на следующие виды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исполнения хозяйственных договоров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менения конъюнктуры рынка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зникновения непредвиденных затрат и снижения доходов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чие производственные риск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6699"/>
                </a:solidFill>
                <a:latin typeface="Verdana"/>
              </a:rPr>
              <a:t>Риск-менеджмент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750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может выступать в качестве самостоятельного вида профессиональной деятельности. Этот вид деятельности выполняют профессиональные институты специалистов, страховые компании, а также финансовые менеджеры, риск-менеджеры, специалисты по страхованию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4" descr="dollar"/>
          <p:cNvPicPr/>
          <p:nvPr/>
        </p:nvPicPr>
        <p:blipFill>
          <a:blip r:embed="rId1"/>
          <a:stretch/>
        </p:blipFill>
        <p:spPr>
          <a:xfrm>
            <a:off x="6330960" y="60480"/>
            <a:ext cx="1449360" cy="147636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Verdana"/>
              </a:rPr>
              <a:t>Организация риск-менеджмент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6" name="Object 2"/>
          <p:cNvGraphicFramePr/>
          <p:nvPr/>
        </p:nvGraphicFramePr>
        <p:xfrm>
          <a:off x="0" y="1925640"/>
          <a:ext cx="8962920" cy="32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25640"/>
                    <a:ext cx="8962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35344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c0000"/>
                </a:solidFill>
                <a:latin typeface="Verdana"/>
              </a:rPr>
              <a:t>Алгоритм управления рискам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Picture 4" descr="image002"/>
          <p:cNvPicPr/>
          <p:nvPr/>
        </p:nvPicPr>
        <p:blipFill>
          <a:blip r:embed="rId1"/>
          <a:stretch/>
        </p:blipFill>
        <p:spPr>
          <a:xfrm>
            <a:off x="0" y="1228680"/>
            <a:ext cx="9080640" cy="555804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99"/>
                </a:solidFill>
                <a:latin typeface="Verdana"/>
              </a:rPr>
              <a:t>Правила риск-менеджмен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172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льзя рисковать больше, чем это может позволить собственный капит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до думать о последствиях рис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льзя рисковать многим ради малог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ложительное решение принимается лишь при отсутствии сом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 наличии сомнений принимаются отрицательные реш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льзя думать, что существует только одно решение, возможно, есть и друг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07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Карта рисков - эффективный инструмент управле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Карта рисков – простой метод оценки рисков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Представители разных отраслей экономики –зачастую задают, как консультантам по управлению рисками вопрос: есть ли простые и наглядные методы, доступные и неспециалистам, которые помогли бы хотя бы грубо оценить риски при развитии новых стратегических направлений бизнеса, крупных инвестиционных планов и т.п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Что такое карта риска и чем она полезна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рта риска - графическое и текстовое описание ограниченного числа рисков организации, расположенных  в прямоугольной таблице,  по одной «оси» которой указана сила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оздействия или значимость риска,  а по другой вероятность или частота его возникновения 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077-30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54508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077-31"/>
          <p:cNvPicPr/>
          <p:nvPr/>
        </p:nvPicPr>
        <p:blipFill>
          <a:blip r:embed="rId1"/>
          <a:stretch/>
        </p:blipFill>
        <p:spPr>
          <a:xfrm>
            <a:off x="117360" y="836640"/>
            <a:ext cx="8912520" cy="55008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304920"/>
            <a:ext cx="85690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сновы риск-менеджмент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4960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едпринимательская деятельность – это самостоятельная, 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на свой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риск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деятельность, направленная на систематическое получение прибыли от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льзования имуществом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одажи товаров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полнения работ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казания услу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077-32"/>
          <p:cNvPicPr/>
          <p:nvPr/>
        </p:nvPicPr>
        <p:blipFill>
          <a:blip r:embed="rId1"/>
          <a:stretch/>
        </p:blipFill>
        <p:spPr>
          <a:xfrm>
            <a:off x="155520" y="798480"/>
            <a:ext cx="8858160" cy="591192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077-33"/>
          <p:cNvPicPr/>
          <p:nvPr/>
        </p:nvPicPr>
        <p:blipFill>
          <a:blip r:embed="rId1"/>
          <a:stretch/>
        </p:blipFill>
        <p:spPr>
          <a:xfrm>
            <a:off x="250920" y="692280"/>
            <a:ext cx="8642160" cy="55227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077-34"/>
          <p:cNvPicPr/>
          <p:nvPr/>
        </p:nvPicPr>
        <p:blipFill>
          <a:blip r:embed="rId1"/>
          <a:stretch/>
        </p:blipFill>
        <p:spPr>
          <a:xfrm>
            <a:off x="214200" y="363600"/>
            <a:ext cx="8653680" cy="605484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077-35"/>
          <p:cNvPicPr/>
          <p:nvPr/>
        </p:nvPicPr>
        <p:blipFill>
          <a:blip r:embed="rId1"/>
          <a:stretch/>
        </p:blipFill>
        <p:spPr>
          <a:xfrm>
            <a:off x="0" y="162000"/>
            <a:ext cx="9093240" cy="653868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Частный пример карты рис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4" descr="карта риска"/>
          <p:cNvPicPr/>
          <p:nvPr/>
        </p:nvPicPr>
        <p:blipFill>
          <a:blip r:embed="rId1"/>
          <a:stretch/>
        </p:blipFill>
        <p:spPr>
          <a:xfrm>
            <a:off x="1619280" y="1673280"/>
            <a:ext cx="5506920" cy="510228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Описание структуры карты рисков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1752480"/>
            <a:ext cx="8099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этой карте рисков вероятность или частота отображается по вертикальной оси, а сила воздействия или значимость - по горизонтальной оси. В этом  случа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вероятность появлен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риска увеличивается снизу вверх  при продвижении по вертикальной оси, 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воздействие риск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увеличивается  слева направо по горизонтальной ос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755640" y="2204640"/>
            <a:ext cx="7461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рабские цифры на карте – обозначения рисков, которые были классифицированы по четырем категориям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начимости и шести категориям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ероятности, причем так, чтобы каждому сочетанию вероятность/значимость был приписан один вид риска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4" descr="карта риска"/>
          <p:cNvPicPr/>
          <p:nvPr/>
        </p:nvPicPr>
        <p:blipFill>
          <a:blip r:embed="rId1"/>
          <a:stretch/>
        </p:blipFill>
        <p:spPr>
          <a:xfrm>
            <a:off x="5292720" y="0"/>
            <a:ext cx="3240000" cy="210492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94920" y="1752480"/>
            <a:ext cx="817236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акая классификация, размещающая каждый риск в специфическую отдельную «коробочку» не является обязательной, но упрощает процесс установки приоритетов, показывая положение каждого риска относительно других (увеличивает разрешающую способность данного метода). Жирная ломаная линия - </a:t>
            </a:r>
            <a:r>
              <a:rPr b="0" lang="ru-RU" sz="2800" spc="-1" strike="noStrike" u="sng">
                <a:solidFill>
                  <a:srgbClr val="3333cc"/>
                </a:solidFill>
                <a:uFillTx/>
                <a:latin typeface="Verdana"/>
              </a:rPr>
              <a:t>критическая границ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терпимости к риску</a:t>
            </a:r>
            <a:r>
              <a:rPr b="0" lang="ru-RU" sz="2800" spc="-1" strike="noStrike">
                <a:solidFill>
                  <a:srgbClr val="3333cc"/>
                </a:solidFill>
                <a:latin typeface="Verdan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 u="sng">
                <a:solidFill>
                  <a:srgbClr val="000000"/>
                </a:solidFill>
                <a:uFillTx/>
                <a:latin typeface="Verdana"/>
              </a:rPr>
              <a:t>При выявлении критических рис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ценарии (причинно-следственная связь процессов, событий и действующих факторов риска), приводящие к рискам выше этой границы, считаются непереносимыми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000000"/>
                </a:solidFill>
                <a:uFillTx/>
                <a:latin typeface="Verdana"/>
              </a:rPr>
              <a:t>При разработке стратеги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пример, по выявленным непереносимым рискам до принятия данной стратегии требуется понять,  как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уменьшить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передать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акие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риск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, в то время как риски ниже границы являются управляемыми в рабочем порядке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64072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Отличительные признаки бизнеса в риск-менеджмент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64072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правленность на систематическое получение прибыл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идовая дифференциация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существление деятельности на свой риск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ветственность по обязательствам в соответствии с законодательством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инятие инициативных решений с учетом последствий рис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остроение карты рис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470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оизводиться как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в рамках внедрения системы управления рисками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на уровне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всей организации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что сложно, а зачастую и невозможно выполнить внутренними силами организации. 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000000"/>
                </a:solidFill>
                <a:uFillTx/>
                <a:latin typeface="Verdana"/>
              </a:rPr>
              <a:t>Для решения обособленного круга задач по управлению рисками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например в рамках предварительной оценки различных стратегий развити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Методология </a:t>
            </a:r>
            <a:br>
              <a:rPr sz="38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(которую мы рассмотрим далее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снована на достижении согласованного мнения топ-менеджмента компании о рисках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и этом самая важная выгода - решительное сокращение циклов и времени принятия решени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81802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Что Вы можете сделать сами: процесс построения карты рис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общем случае процесс картографирования рисков позволяет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9280" indent="-449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делить риск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9280" indent="-449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сположить риски по приоритетам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9280" indent="-449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ценить количественно (разбить на классы) риски организаци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Методы, которые применяют консультанты при составлении карты рисков включаю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26920" y="1752480"/>
            <a:ext cx="7740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интервью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формализованные и неформализованные опросники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обзоры и исследования отрасли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анализ документационного комплекта компании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Verdana"/>
              </a:rPr>
              <a:t>численные методы оценки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Основные шаги  процесса самостоятельного картографирования риск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280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ервичное обуче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ение границ анализ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формирование состава команды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нализ сценариев и ранжирова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ение границы терпимости к риску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оставление плана действи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60160" indent="-560160">
              <a:spcBef>
                <a:spcPts val="726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ехнологии количественных оценок и моделирования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1. Первичное обуче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о, чтобы хотя бы один или два сотрудника компании, прошли обучение основам риск-менеджмен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дальнейшем эти сотрудники помогут наладить диалог между членами команды и вести всю команду во время процесса картографирова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ходимо провести внутрене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варительное обучение, которое может длиться от одного до пяти дн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о мнению практиков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80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75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Наилучший результат достигается при длительности установочных семинаров в два-три дня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75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Задача обученного сотрудника компании - </a:t>
            </a: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менеджера процесса картографирования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 рисков внутри компании, постоянно ориентировать команду на нужную цель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75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В тех случаях, когда требуется специальная предметная экспертиза, эксперт может быть введен в команду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2. Определение границ анализ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2803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-63036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яют, какие области бизнес-решений затрагивают картографирование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30360" indent="-63036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огут быть столь широкими или столь узкими, как это желательно организации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30360" indent="-63036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ределяются на начальном этапе процесс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5280" y="304920"/>
            <a:ext cx="84247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В рассматриваемом примере границы определяются, как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8208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дентификаци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становление приоритет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нимание всех рисков, препятствующих достижению корпоративных стратегических целей при реализации конкретного стратегического план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При определении границ должен соблюдаться баланс между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78483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широтой границ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лубиной информац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ценностью той информации, которая будет получена из процесса картографирования рисков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3640" y="304920"/>
            <a:ext cx="856908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Диверсификация понятия «РИСК»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Опасность, возможность убытка или ущерба»(Н. Уэбстер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Пускаться на удачу, идти на авось, делать без верного расчета»(В.Даль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Возможная опасность», «действие на удачу в надежде на счастливый случай» (С.Ожегов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Возможность наступления события с отрицательными последствиями в результате определенных решений и действий»(Большой экономический словарь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Конкретные советы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(при определении границ анализа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пределитесь с целями, доступностью и стоимостью информации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атем очертите границы анализа для построения карты рисков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3. Состав команд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является критическим для успеха процесса картографирования риско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 проведении работы профессиональными консультантами команда (рабочая группа) включает обычно тех специалистов, которые обладают опытом и экспертными знаниям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пыт показывает, что команда работает эффективно, если состоит из шести - десяти человек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497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и составлении карты стратегических рисков компании в команду включаются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000" y="1752120"/>
            <a:ext cx="828036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главный администратор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уководитель финансового отдела руководитель казначейств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уководитель юридическог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онтрольног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IT отдело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уководитель отдела стратегического планировани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Для более узких грани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если анализируются риски определенной области деятельности типа электронной коммерции, то состав команды будет формироваться из старших представителей соответствующих функциональных областей и тех подразделений, интересы которых затрагиваютс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Для достижения наибольшей эффективности команд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олжна наиболее четко представлять институциональные знания своей компани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олжна включать топ-менеджмент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4. Сценарный анализ и ранжирование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640" y="1628280"/>
            <a:ext cx="8182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манда предпринимает управляемый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мозговой штурм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чтобы выявить все потенциальные риски компании при данной стратегии развит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сценари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сопутствующие появлению рисков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сле идентификации, риски и сценарии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обсуждаютс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достигается консенсус и готовится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письменное описание сценариев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Ключевыми моментами каждого сценария являютс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"уязвимость"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компани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объект риска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"триггерный механизм"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факторы риска)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"последствия"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величина возможных потерь)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Уязвимость или объект рис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640" y="1628640"/>
            <a:ext cx="8182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это ценность компании, которой свойственна подверженность потенциальным угрозам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Триггерные механизмы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 (факторы риска) вызывают негативные последствия для объектов риска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Последствия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 выражаются в терминах природы и величины потерь, следующей из уязвимости объекта риска и природы триггерного механизма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На этом этапе работ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ужно стремиться понять, можно ли множество мелких рисков, которые, как правило, выявляют сотрудники организации при самостоятельной работе,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бъединить в какие-то группы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 на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сновании чего это можно сделать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гда выявлено ограниченное количество сценариев, команда должна ранжировать сценарии в терминах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воздействия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вероятности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(в тех терминах, которые наиболее приемлимы для организации. 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Деятельность риск-менеджер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752480"/>
            <a:ext cx="84978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должна быть основана на рациональном соединении внешних и внутренних факторов, основываясь на </a:t>
            </a:r>
            <a:r>
              <a:rPr b="0" i="1" lang="ru-RU" sz="3600" spc="-1" strike="noStrike">
                <a:solidFill>
                  <a:srgbClr val="000000"/>
                </a:solidFill>
                <a:latin typeface="Verdana"/>
              </a:rPr>
              <a:t>инновационном рисковом подходе при создании программы риск-менеджмент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24000" y="304920"/>
            <a:ext cx="8496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Например, в качественных терминах четыре ранга воздействия можно определить в нисходящем порядке как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9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тастрофическ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9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ритическ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9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существенны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граничный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Ранги вероятност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которых на нашей карте </a:t>
            </a:r>
            <a:r>
              <a:rPr b="1" lang="ru-RU" sz="2700" spc="-1" strike="noStrike">
                <a:solidFill>
                  <a:srgbClr val="000000"/>
                </a:solidFill>
                <a:latin typeface="Verdana"/>
              </a:rPr>
              <a:t>шесть</a:t>
            </a:r>
            <a:r>
              <a:rPr b="0" lang="ru-RU" sz="2700" spc="-1" strike="noStrike">
                <a:solidFill>
                  <a:srgbClr val="000000"/>
                </a:solidFill>
                <a:latin typeface="Verdana"/>
              </a:rPr>
              <a:t>, определены также в качественных терминах от «почти невозможно» к «почти точно произойдет».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4" descr="карта риска"/>
          <p:cNvPicPr/>
          <p:nvPr/>
        </p:nvPicPr>
        <p:blipFill>
          <a:blip r:embed="rId1"/>
          <a:stretch/>
        </p:blipFill>
        <p:spPr>
          <a:xfrm>
            <a:off x="4572000" y="1700280"/>
            <a:ext cx="4176720" cy="4089240"/>
          </a:xfrm>
          <a:prstGeom prst="rect">
            <a:avLst/>
          </a:prstGeom>
          <a:ln w="0">
            <a:noFill/>
          </a:ln>
        </p:spPr>
      </p:pic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95280" y="304920"/>
            <a:ext cx="83534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Таблица результатов сценарного анализа и ранжирования рисков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24000" y="1844640"/>
          <a:ext cx="8569080" cy="3970440"/>
        </p:xfrm>
        <a:graphic>
          <a:graphicData uri="http://schemas.openxmlformats.org/drawingml/2006/table">
            <a:tbl>
              <a:tblPr/>
              <a:tblGrid>
                <a:gridCol w="399960"/>
                <a:gridCol w="1204920"/>
                <a:gridCol w="1822320"/>
                <a:gridCol w="1874880"/>
                <a:gridCol w="1754280"/>
                <a:gridCol w="1512720"/>
              </a:tblGrid>
              <a:tr h="14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ъеъкт ри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риггерный механ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или фактор риск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следствия (описан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здейств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значимость или величина потер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ероятность поте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……………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5. Определение границы толерантности к риску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26600" y="1752480"/>
            <a:ext cx="40640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ритическая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граница терпимости к риску -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ломаная жирная лини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, отделяет те риски, которые являются в настоящее время терпимыми от тех, которые требуют постоянного контроля и именно сейчас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Picture 4" descr="карта риска"/>
          <p:cNvPicPr/>
          <p:nvPr/>
        </p:nvPicPr>
        <p:blipFill>
          <a:blip r:embed="rId1"/>
          <a:stretch/>
        </p:blipFill>
        <p:spPr>
          <a:xfrm>
            <a:off x="4572000" y="1700280"/>
            <a:ext cx="4248000" cy="403380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кончательная ценность карты риска организаци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стоит не в определении точного воздействия или уровня вероятности специфической угрозы, а в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относительном расположении одной угрозы относительно других угроз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 и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в их расположении по отношению к границе терпимости к риску.</a:t>
            </a:r>
            <a:r>
              <a:rPr b="0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6. План действи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55280" y="1752480"/>
            <a:ext cx="5761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иски, лежащие выше границы толерантности требуют непосредственного внимания именно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ейчас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2" name="Picture 4" descr="j0212555[1]"/>
          <p:cNvPicPr/>
          <p:nvPr/>
        </p:nvPicPr>
        <p:blipFill>
          <a:blip r:embed="rId1"/>
          <a:stretch/>
        </p:blipFill>
        <p:spPr>
          <a:xfrm>
            <a:off x="6588000" y="3357720"/>
            <a:ext cx="1895760" cy="1663560"/>
          </a:xfrm>
          <a:prstGeom prst="rect">
            <a:avLst/>
          </a:prstGeom>
          <a:ln w="0">
            <a:noFill/>
          </a:ln>
        </p:spPr>
      </p:pic>
      <p:sp>
        <p:nvSpPr>
          <p:cNvPr id="3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важно разработать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определенные планы действий для уменьшения величины или вероятности потерь от данного риска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необходимо определить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целевые показатели и меру оценки успеха в управлении риском, даты достижения целевых показателей и назначить ответственных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План действи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Цель плана действи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4581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стоит в том, чтобы понять, как переместить каждый «невыносимый» риск левее и ниже в «терпимую зону»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9" name="Picture 4" descr="j0295553[1]"/>
          <p:cNvPicPr/>
          <p:nvPr/>
        </p:nvPicPr>
        <p:blipFill>
          <a:blip r:embed="rId1"/>
          <a:stretch/>
        </p:blipFill>
        <p:spPr>
          <a:xfrm>
            <a:off x="5292720" y="2421000"/>
            <a:ext cx="3157560" cy="2506680"/>
          </a:xfrm>
          <a:prstGeom prst="rect">
            <a:avLst/>
          </a:prstGeom>
          <a:ln w="0">
            <a:noFill/>
          </a:ln>
        </p:spPr>
      </p:pic>
      <p:sp>
        <p:nvSpPr>
          <p:cNvPr id="3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077-36"/>
          <p:cNvPicPr/>
          <p:nvPr/>
        </p:nvPicPr>
        <p:blipFill>
          <a:blip r:embed="rId1"/>
          <a:stretch/>
        </p:blipFill>
        <p:spPr>
          <a:xfrm>
            <a:off x="44280" y="817560"/>
            <a:ext cx="9045720" cy="6013440"/>
          </a:xfrm>
          <a:prstGeom prst="rect">
            <a:avLst/>
          </a:prstGeom>
          <a:ln w="0">
            <a:noFill/>
          </a:ln>
        </p:spPr>
      </p:pic>
      <p:sp>
        <p:nvSpPr>
          <p:cNvPr id="3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0" y="62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Tahoma"/>
              </a:rPr>
              <a:t>Методы управления рискам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250920" y="1484280"/>
            <a:ext cx="85690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Tahoma"/>
              </a:rPr>
              <a:t>Методы управления рисками можно     разделить на четыре группы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методы уклонения от риск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методы локализации риск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методы диссипации риск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методы компенсации риск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4"/>
          <p:cNvGraphicFramePr/>
          <p:nvPr/>
        </p:nvGraphicFramePr>
        <p:xfrm>
          <a:off x="0" y="404640"/>
          <a:ext cx="9144000" cy="612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4640"/>
                    <a:ext cx="9144000" cy="61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900000" y="189000"/>
            <a:ext cx="720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ahoma"/>
              </a:rPr>
              <a:t>Методы уклонения от риска предполагают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250920" y="1844640"/>
            <a:ext cx="8424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сключение рисковых ситуаций из  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изнеса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збегание сделок с ненадежными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артнерами, клиентами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каз от услуг неизвестных или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мнительных фирм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казываются от инновационных или  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вестиционных проектов,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если те вызывают хоть малейшую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еуверенность в успешной реализации.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395280" y="1700280"/>
            <a:ext cx="835344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сли руководство решает использовать в качестве </a:t>
            </a:r>
            <a:r>
              <a:rPr b="0" lang="ru-RU" sz="2800" spc="-1" strike="noStrike">
                <a:solidFill>
                  <a:srgbClr val="cc3300"/>
                </a:solidFill>
                <a:latin typeface="Tahoma"/>
              </a:rPr>
              <a:t>«уклонения»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-  страхование то необходима разработка комплексной программы защиты, а не единичные обращения в страховую фирму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571680" y="571680"/>
            <a:ext cx="83530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б «уклонении»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у предприятия не хватает средств для комплексной страховой защиты, необходимо выделить те риски, реализация которых связана с наибольшими потерями и застраховать именно их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2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468360" y="1628640"/>
            <a:ext cx="83516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4600" indent="2746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174600" indent="2746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Передача риска используется как мелкими, так и крупными предприятиями. Причем, для первых в качестве гаранта выступают, как правило, крупные компании, а для вторых – органы государственного управления. Такая сделка выгодна как и для передающей, так и для принимающей стороны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571680" y="357120"/>
            <a:ext cx="8001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4600" indent="2746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ahoma"/>
              </a:rPr>
              <a:t>Поиск гарантов как способ уклонения от риска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569080" cy="99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подтверждение выгодности подобных сделок говорят следующие причин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отери, которые велики для передающей стороны, могут быть незначительными для стороны принимающе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ринимающая сторона может обладать лучшими возможностями для сокращения потерь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ринимающая сторона может находиться в лучшей позиции для контроля хозяйственного риска и предотвращения потерь.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0" y="228600"/>
            <a:ext cx="9144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ffff"/>
                </a:solidFill>
                <a:latin typeface="Tahoma"/>
              </a:rPr>
              <a:t>Методы локализации и диссипации риска.</a:t>
            </a:r>
            <a:r>
              <a:rPr b="0" i="1" lang="ru-RU" sz="3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250920" y="1773360"/>
            <a:ext cx="86421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рименяется только, когда можно четко идентифицировать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источники риск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Наиболее опасные участки производственного процесса локализуются, и над ними устанавливается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контроль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, снижается уровень финансового риск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одобный метод используют крупные компании для внедрения инновационных проектов, освоения новых видов продукции и т. д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165600" indent="343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834552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В самых простых случаях для локализации риска создается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специализированное подразделение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в структуре компании, которое осуществляет реализацию проект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250920" y="274680"/>
            <a:ext cx="85690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 u="sng">
                <a:solidFill>
                  <a:srgbClr val="000000"/>
                </a:solidFill>
                <a:uFillTx/>
                <a:latin typeface="Tahoma"/>
              </a:rPr>
              <a:t>Локализация рис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324000" y="1700280"/>
            <a:ext cx="84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just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ahoma"/>
              </a:rPr>
              <a:t>Представляют собой более гибкие инструменты управления. Один из них связан с распределением риска между стратегическими партнерами. В качестве партнеров могут выступать как другие предприятия, так и физические лица. Здесь могут создаваться акционерные общества, финансово – промышленные группы. Предприятия могут вступать в консорциумы, ассоциации, концерны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ahoma"/>
              </a:rPr>
              <a:t>Объединение предприятий в одно либо в группу носит название </a:t>
            </a: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Tahoma"/>
              </a:rPr>
              <a:t>интеграции</a:t>
            </a:r>
            <a:r>
              <a:rPr b="1" lang="ru-RU" sz="2900" spc="-1" strike="noStrike" u="sng">
                <a:solidFill>
                  <a:srgbClr val="000000"/>
                </a:solidFill>
                <a:uFillTx/>
                <a:latin typeface="Tahom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250920" y="274680"/>
            <a:ext cx="856908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 u="sng">
                <a:solidFill>
                  <a:srgbClr val="000000"/>
                </a:solidFill>
                <a:uFillTx/>
                <a:latin typeface="Tahoma"/>
              </a:rPr>
              <a:t>Методы диссипации (рассеивания) рис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32720" cy="101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Выделяют четыре основных вида интеграции риска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50560" y="2214360"/>
            <a:ext cx="856908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ahoma"/>
              </a:rPr>
              <a:t>Обратная интеграция </a:t>
            </a: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предполагает объединение с поставщикам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ahoma"/>
              </a:rPr>
              <a:t>Прямая интеграция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- подразумевает объединение с посредниками, образующими дистрибьюторскую сеть по сбыту продукции предприятия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Интеграции (продолжение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горизонтальная интеграция</a:t>
            </a:r>
            <a:r>
              <a:rPr b="0" i="1" lang="ru-RU" sz="26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предполагает объединение с конкурентами; обычно такие ассоциации создаются с целью согласования ценовой политики, разграничению зон хозяйствования, каких-либо совместных действий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Вертикальная (круговая) интеграция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– это объединение организаций, осуществляющих разные виды деятельности для достижения совместных стратегических целе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179280" y="1700280"/>
            <a:ext cx="89647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455400" indent="-19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подразумевает увеличение разнообразия видов деятельности, рынков сбыта или каналов поставок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19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Диверсификация закупок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– это увеличение количества поставщиков, что позволяет ослабить зависимость предприятия от конкретного поставщика. (нарушение графика, форс – мажор, банкротство и др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19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ahoma"/>
              </a:rPr>
              <a:t>Диверсификация рынка сбыта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 (развитие рынка) -  предполагает распределение готовой продукции предприятия между несколькими рынками или контрагентами. В этом случае провал на одном рынке будет компенсирован успехами на других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250920" y="449280"/>
            <a:ext cx="8642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ругая разновидность методов диссипации риска – это 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диверсификация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При создании антирисковой программы риск-менеджер должен ответить на следующие вопросы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752480"/>
            <a:ext cx="87138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сколько легко её осуществить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сколько она будет принята и исполнима сотрудниками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сколько она понравится руководству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овы приоритеты мероприятий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акой уровень технологии потребуется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Tahoma"/>
              </a:rPr>
              <a:t>Диверсификация видов хозяйственной деятельности -  подразумевает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сширение ассортимента выпускаемой продукции, оказываемых услуг, спектра используемых технологий. При возникновении проблем с реализацией одного вида продукции, организация сможет компенсировать потери при помощи других сфер хозяйствования либо вообще перейти в другую отрасл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иссипация риска при формировании инвестиционного портфе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предполагает реализацию одновременно нескольких проектов, характеризующихся небольшой капиталоемкостью. Это можно назвать </a:t>
            </a: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диверсификацией инвестиций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7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250920" y="476280"/>
            <a:ext cx="86421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Verdana"/>
              </a:rPr>
              <a:t>Методы компенсации рис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395280" y="1844640"/>
            <a:ext cx="84978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анная группа методов относится 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преждающим методам управл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(управление по изменениям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3636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стратегическое планировани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собенно эффективно, есл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зработка стратегии проходит через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се сферы внутри предприятия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ключается в периодической разработке сценариев развития внешней среды предприятия, в прогнозировании поведения возможных партнеров или действий конкурентов, изменений в секторах и сегментах рынка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395280" y="333360"/>
            <a:ext cx="8280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2.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Прогнозирование внешней экономической обстановки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24000" y="304920"/>
            <a:ext cx="8496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Tahoma"/>
              </a:rPr>
              <a:t>3. Активный целенаправленный маркетинг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569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Он подразумевает использование маркетинговых инструментов для интенсивного формирования спроса на продукцию предприят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Рекламные ак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Позиционирование товар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Дифференциация продук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87480" indent="361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Фокусирование на определенные  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ahoma"/>
              </a:rPr>
              <a:t>группы потребителей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4. Мониторинг социально – экономической и нормативно – правовой сре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50560" y="1752480"/>
            <a:ext cx="8569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нтенсивное формирование спроса на свою продукцию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Verdana"/>
              </a:rPr>
              <a:t>Используются методы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егментация рынка и оценка его емкост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рганизация рекламной компании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нализ поведения конкурентов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работка конкурентных стратеги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250920" y="1773360"/>
            <a:ext cx="8713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4600" indent="3618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174600" indent="3618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использовании этого метода на предприятии создаются страховые запасы сырья, материалов, денежных средств, создаются планы их мобилизации в условиях кризиса. В некоторых случаях создание резервных фондов является обязательным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684360" y="40464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5. Создание системы резервов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ми формами этого направления являются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24000" y="1752120"/>
            <a:ext cx="849600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формирование резервного фонда предприятия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торый создается в соответствии с требованиями законодательства и устава предприятия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формирование целевых резервных фондов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мером такого формирования служит фонд страхования ценового риска (на период временного ухудшения конъюнктуры рынка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24000" y="304920"/>
            <a:ext cx="84247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Нераспределенный остаток прибыли, полученной в отчетном период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о его распределения он может рассматриваться как резерв финансовых ресурсов, направляемых в необходимом случае на ликвидацию негативных последствий отдельных рисков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Verdana"/>
              </a:rPr>
              <a:t>6. Привлечение внешних ресурсов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0920" y="1752480"/>
            <a:ext cx="8316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случае когда фирма не в состоянии покрыть все потери внутренних ресурсов, часть из них можно покрыть с использованием кредитных ресурсов. Однако в данном случае доступность кредитных ресурсов имеет существенные ограничения. И главное из них — перспектива будущей прибыльности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16:57:12Z</dcterms:created>
  <dc:creator>Andrey</dc:creator>
  <dc:description/>
  <dc:language>en-US</dc:language>
  <cp:lastModifiedBy>LEGION</cp:lastModifiedBy>
  <dcterms:modified xsi:type="dcterms:W3CDTF">2016-01-05T12:47:18Z</dcterms:modified>
  <cp:revision>51</cp:revision>
  <dc:subject/>
  <dc:title>Риск-менеждмент</dc:title>
</cp:coreProperties>
</file>