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D756-B1D6-470B-885C-AC7ABF2D17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B7CA-025D-4834-9229-10923E7F4D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B5F7-452F-4D02-98E2-B677934D13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C812-0EAD-4354-AAC4-E65F23658D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C9ED-2595-4443-98A5-509AD01F5F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искус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D1E9-03BE-49F6-99DB-D7D88055A0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офиология по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C08B-4E7F-4E20-AA3D-33A001AC6C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8605-9CE7-42DD-B040-9E239F0BFD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в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AE06-A0E4-49AB-82D0-28605F2881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E673-EB96-4354-80FC-A4612512EA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0B7B-735E-4BA1-A666-A31072EBC4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1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толп и утверждение истины: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 православной теодице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двенадцати письмах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4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 водоразделов мысли (Черты конкретной метафизики)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коностас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0-е гг.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нимости геометр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2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0583-6E9B-4B2F-988B-CF4646197D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нкретная метафиз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ий симво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 симво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-Симв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 и уровни смысловой вырази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пространства и пространственное понимание бы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929E-D701-4E7B-ABAA-8101227F99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Булгак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1-1944)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. Флоренски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82-1937)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8CDB-48A8-4E92-B7EA-41BF63C2DC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онкретная метафиз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C8BF-0664-48BF-8B65-4071AD84DF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4866-8358-4285-8EE2-4BED3F539B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симво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2FAF-F54A-4A93-9DF4-1515DFFDB6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н-Симво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9951-8E0F-4976-9B99-7332D1FC2E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ABA1-CBC1-415C-B704-F578FCE49B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F89B-B2D2-4BC5-BA24-F8C6FAF58C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B1FB-430C-4355-A675-B2994642F7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3558-386D-40BA-ADCE-6214B5AD03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056E-4D83-4CC1-AD2F-3253D94CC2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ратн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ерспект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AAFC-ED04-4C6A-9F30-9F0BFFA89E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 марксизма к идеализму: Сборник статей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03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ва града: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природе общественных идеалов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1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хозяйств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2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вет невечерний: Созерцания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умозрен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7)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гедия философ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мен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9B92-6722-4238-AA4E-8EDB4421D6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A752-2669-42A4-BE4E-A20698A63C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FCE4-9E03-4ADA-A4F3-F497844065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роическая аналогия» и троичность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лигиозный матери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варная Соф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хозя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кус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по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в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5254-97A0-4A4E-AFAD-F5C217B64D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«Троическая аналог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4765-A489-41CB-B270-0833E98E5A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щность и типы философ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B297-F43D-4BC3-B5FD-84E6D1695F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лигиозны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A900-E675-4453-BF55-723877A703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F26E-8BA3-432D-9C5C-9CDB70B544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16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F48E-5DB4-4A98-9C5C-F6B154A5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02A5-CF67-410F-B42F-E556C1BF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36F2-1D04-4F6F-A4B0-14E51AD0E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C702-83E8-4751-9AC4-EBBED613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21C6-55FA-439E-A8D6-0858DD0E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EFF7-D8A6-48B5-A5AE-51C33363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7D45-BCCF-44E1-91AF-2FF7D6D0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FE4D-CCFB-439A-969C-C3D64E64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C439-04F5-4741-8E61-29F6CCF2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6DAF-B9C6-4041-8B6E-4B8C23A7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D28E-BA7D-4F88-81C0-EDAF0855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F579-E61B-48AC-AE82-D5193632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5A88-94CE-413A-B207-0A42B2E847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2338560"/>
            <a:ext cx="849312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3094200" y="5425920"/>
            <a:ext cx="576000" cy="954360"/>
          </a:xfrm>
          <a:custGeom>
            <a:avLst/>
            <a:gdLst>
              <a:gd name="textAreaLeft" fmla="*/ 77040 w 576000"/>
              <a:gd name="textAreaRight" fmla="*/ 498960 w 57600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223056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136692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50328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079640" y="2446200"/>
            <a:ext cx="51814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церковная молитва – не об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альном, а имен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 грешном и падшем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емами софиологии оказыва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2806560" y="460548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жд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труд, хозяйство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670200" y="568476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з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семья, вла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216000" y="136692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чуждо софийности всё т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за чт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жно молиться»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благословляет 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вящает Церковь в своём богослуж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1943280" y="352584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зловые вех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емного суще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рождение, продолжение рода, смерть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217656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917640" y="289548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хозя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539640" y="1727280"/>
            <a:ext cx="539928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ём истоке хозяйство не порожд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падшим состоянием мира, существу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райское хозяйство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 бескорыст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бовный труд человека над природ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её познавания и усовершенствов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крытия её софийнос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1798560" y="3309840"/>
            <a:ext cx="539928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ко в падшем состоянии мира смыс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мотивы хозяйства радикально меняются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требует теперь усилия и 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яжким бременем, служит не раскрыт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йности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жде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3057480" y="4894200"/>
            <a:ext cx="539928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о сохраня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низшие формы софийности»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ей хозяйственной функ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утверждает своё централь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авенствующее место в мироздании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ет его софийному первообра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81620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73656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искус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539640" y="1727280"/>
            <a:ext cx="583092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«райское хозяйство» и «райс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усство» тождественны (эта синтет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тивность имену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ургие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, 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адшем модусе они утрачивают важ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о противоположные) свойства теургии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новятся как бы дополнительными друг д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619280" y="3309840"/>
            <a:ext cx="583092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зяйство, сохраняя 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енного изменения ми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трачивает ориентир софийност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ость созерцания красоты; искус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храняет способно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еть софий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утрачивает возможность её осуществ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2698920" y="4894200"/>
            <a:ext cx="583056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го отношение к Софии выраж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ие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роса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 – влечение, стремл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, однако, никогда не достиг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ного соединения со своим предме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чём и заключ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трагедия искус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13"/>
          <p:cNvSpPr/>
          <p:nvPr/>
        </p:nvSpPr>
        <p:spPr>
          <a:xfrm>
            <a:off x="4317840" y="3238560"/>
            <a:ext cx="486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2050920" y="4894200"/>
            <a:ext cx="234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олог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4749840" y="4894200"/>
            <a:ext cx="234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фиолог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949320" y="399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7088040" y="399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п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>
            <a:off x="1870200" y="359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ужское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енское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а универсальных софийных принцип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базе которых развиваются, в част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2"/>
          <p:cNvSpPr/>
          <p:nvPr/>
        </p:nvSpPr>
        <p:spPr>
          <a:xfrm>
            <a:off x="1150920" y="2158920"/>
            <a:ext cx="683748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вупол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исуща тварному быт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 зависимости от грехопадения, хотя в падше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янии она и «затемняется» привнесением похо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/>
          <p:cNvSpPr/>
          <p:nvPr/>
        </p:nvSpPr>
        <p:spPr>
          <a:xfrm>
            <a:off x="492912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347508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05092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ниаль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474984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да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алантлив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949320" y="255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7088040" y="255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415800" y="4713120"/>
            <a:ext cx="305928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ужской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пособ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чатия, откры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ых ид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5664240" y="4713120"/>
            <a:ext cx="305892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енской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пособ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нашивать, разви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же данные иде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1870200" y="215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ворче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ает из соед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492912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347508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205092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спод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474984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чин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949320" y="255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7088040" y="255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776160" y="4713120"/>
            <a:ext cx="269892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ужского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5664240" y="4713120"/>
            <a:ext cx="269856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енского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1870200" y="215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а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это един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ложенных в человеческой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положных стремл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4749840" y="4300560"/>
            <a:ext cx="733320" cy="12128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040 h 1212840"/>
              <a:gd name="textAreaBottom" fmla="*/ 879480 h 121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3656160" y="4300560"/>
            <a:ext cx="733320" cy="12128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040 h 1212840"/>
              <a:gd name="textAreaBottom" fmla="*/ 879480 h 121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205092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мира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474984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мер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949320" y="255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7088040" y="255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165240" y="4713120"/>
            <a:ext cx="3490920" cy="111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рную, безысходн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итель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стывший миг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ного страд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5483160" y="4713120"/>
            <a:ext cx="3490920" cy="111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ое заверш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его существов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законченность, исход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вобождение от умир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1870200" y="215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 разли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/>
          <p:cNvSpPr/>
          <p:nvPr/>
        </p:nvSpPr>
        <p:spPr>
          <a:xfrm>
            <a:off x="181620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73656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539640" y="1727280"/>
            <a:ext cx="575784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я тварная не есть неподвижный атрибут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раскрывается, развёртывае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есть имеет характе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цесс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инамический аспект софийности вы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рез различие между «образом» и «подобие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1619280" y="3309840"/>
            <a:ext cx="575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йность как целокупная причаст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а Богу есть вместе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сход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некоторым неизменным признак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об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развёртывание образ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отождествления с Первообр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2698920" y="4894200"/>
            <a:ext cx="575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соединение мир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 своим Божественным Первообразом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софиение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Богочеловеческий процесс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центре которого стоит Церковь и который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спективе должен охватить всю Вселен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54200" y="2878200"/>
            <a:ext cx="449892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олп и утверждение истины: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православной теодице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двенадцати письм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 водоразделов мысли (Черты конкретной метафизики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коностас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0-е г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имости геомет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Флоренский (2-5)"/>
          <p:cNvPicPr/>
          <p:nvPr/>
        </p:nvPicPr>
        <p:blipFill>
          <a:blip r:embed="rId1"/>
          <a:stretch/>
        </p:blipFill>
        <p:spPr>
          <a:xfrm>
            <a:off x="539640" y="1798560"/>
            <a:ext cx="34545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93" name="Text Box 7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нкретная метафиз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ий симво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 симво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-Симв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 и уровни смысловой вырази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пространства и пространственное понимание бы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nb_pinacoteca_nesterov_philosophers"/>
          <p:cNvPicPr/>
          <p:nvPr/>
        </p:nvPicPr>
        <p:blipFill>
          <a:blip r:embed="rId1"/>
          <a:stretch/>
        </p:blipFill>
        <p:spPr>
          <a:xfrm>
            <a:off x="4246560" y="1798560"/>
            <a:ext cx="431172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Булгако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1-1944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Флоренский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2-1937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 никаких отвлечённых духов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ей или абстрактных идей, 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ый предмет всегда выражен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явлен пластично и зр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номен и ноумен выражают друг друг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уя нераздельное двуеди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 реальность состоит из символов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имво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мещает в себе «природное» и «духовное»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едина, она повсюду, в люб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ём элементе и чувственна, и дух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кретность означает не отсутствие духов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а, но именно конкретный характер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ого предмета, обретаемый им за счёт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ременной воплощённости в чувствен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ет и чисто эмпирических явл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всякое явлени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явление духовной сущности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ый облик определённого ноу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4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>
            <a:off x="971640" y="2338560"/>
            <a:ext cx="719748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ытие, которое больше самого себя, –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аково основное определение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мв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таком подходе иначе поним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цели позн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а выявл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ундаментальных, первичных символ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которых складывается данная об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я симво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первичные символы выделя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других символов свое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стот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элементарностью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 счёт которых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етают общность и универса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любой сфере познание означ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кр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ической природы явлени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зр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умена в феномене, так что принципиаль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личия между родами знания исчез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должно быть направлено не на откр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лечённых законов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«управляющих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ными сферами реа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н-Симво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 одной стороны, н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стая сумма сущего, а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ое цел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собственным ноуменальным содержани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го внутренняя организация предполагает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тождество частей целому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есть образ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н-Симв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единство есть вообщ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цип внутренней фор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ической ре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в целом также составля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ый сим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, с другой стороны,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бирательное цел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единство, а множество), посколь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емлет и содержит в себе все симв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ыми словами реальнос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ит 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скретных эле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мире явлений существуют градац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упени символичност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е так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епрерывны, а дискрет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«многослойна»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Бытии-Космосе выделяется ря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пластов»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личающихся по степен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явленности ноуменов в феноме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должна, таким образ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иматься как состоящая из элементов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дый из которых представляет собой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дельную и законченную ц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здешний мир нельзя отождествля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полнотой и совершенством быти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номен может не в совершенств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ражать собой ноум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феномен, и ноумен пространствен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пространств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и связь их друг с дру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уменальное пространство не являе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пией эмпирического пространства, но он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абсолютно иное: ноуменальный мир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мир «обращённый»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«мнимый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е стороны символа: и чувствен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умнáя – получаются одна из друг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рачиванием наизна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стое, бескачественное простра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зависимое от вещ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всего лишь абстрак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ённая истинного существ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обое пространств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тлич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пространства чувственных ве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лужащее вместилищем ноуменаль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"/>
          <p:cNvSpPr/>
          <p:nvPr/>
        </p:nvSpPr>
        <p:spPr>
          <a:xfrm rot="10800000">
            <a:off x="465120" y="1582200"/>
            <a:ext cx="8277120" cy="4499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переднюю сторону плоскости 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и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 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дней толь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ем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 отвлечённо знать о некотор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глядном образе, сущность которого – именно в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глядности, это значит иметь восприятие его каким-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ы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 зрительным, способом, но с корректи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рительность через отвлечённое понятие или чере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 воспоминания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ите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сть в э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воплощение отвлечённого в наглядный матери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которого и было получено отвлечённое;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им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оплощение того же самого отвлечён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наглядном материале инородном. 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э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и надлежит говорить 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ях ощущ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х мнимых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х мнимого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352320" y="6261120"/>
            <a:ext cx="50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А. Флоренский. «Мнимости геометр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особый характер, тесно связанны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культом, приобретает всякая активность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трагивающ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аницу миров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ь, сновидения, мистический экстаз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усство, таким образом, оказыва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 эгидой куль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конопись сущностно едина с онтологией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е области – одна в слов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ая в изображении – д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явление незримых духовных сущ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ючевой момент в устройстве символическо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и – это отношение её двух миров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лежащее ведени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уль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более широком понимани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граничной активностью следует полагать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кое творчеств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скольку оно направ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раскрытие смысловой стороны 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rider"/>
          <p:cNvPicPr/>
          <p:nvPr/>
        </p:nvPicPr>
        <p:blipFill>
          <a:blip r:embed="rId1"/>
          <a:stretch/>
        </p:blipFill>
        <p:spPr>
          <a:xfrm>
            <a:off x="5397480" y="1619280"/>
            <a:ext cx="301644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9" name="Text Box 7"/>
          <p:cNvSpPr/>
          <p:nvPr/>
        </p:nvSpPr>
        <p:spPr>
          <a:xfrm>
            <a:off x="5113080" y="60087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Брюллов. «Наездница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2, Третьяковская галере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798560"/>
            <a:ext cx="411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0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8" descr="baptism"/>
          <p:cNvPicPr/>
          <p:nvPr/>
        </p:nvPicPr>
        <p:blipFill>
          <a:blip r:embed="rId1"/>
          <a:stretch/>
        </p:blipFill>
        <p:spPr>
          <a:xfrm>
            <a:off x="5037120" y="1619280"/>
            <a:ext cx="345456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84" name="Text Box 9"/>
          <p:cNvSpPr/>
          <p:nvPr/>
        </p:nvSpPr>
        <p:spPr>
          <a:xfrm>
            <a:off x="4859640" y="6008760"/>
            <a:ext cx="38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рещение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30-ые гг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V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, Тверская шко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1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ратн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ерспект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54200" y="2878200"/>
            <a:ext cx="461340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 марксизма к идеализму: Сборник стате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3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града: Исследовани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природе общественных идеал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хозяйст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ет невечерний: Созерцани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умозр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гедия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мен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786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Булгаков СН (1)"/>
          <p:cNvPicPr/>
          <p:nvPr/>
        </p:nvPicPr>
        <p:blipFill>
          <a:blip r:embed="rId1"/>
          <a:stretch/>
        </p:blipFill>
        <p:spPr>
          <a:xfrm>
            <a:off x="539640" y="1798560"/>
            <a:ext cx="324648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312480" y="5157720"/>
            <a:ext cx="861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клидово пространство однородно, изотропно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прерывно, связно, бесконечно и безгранично;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этому о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ригодно для символизации глубинной,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ерывной, многосвязной, замкнутой и иерархичной реа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1" descr="george"/>
          <p:cNvPicPr/>
          <p:nvPr/>
        </p:nvPicPr>
        <p:blipFill>
          <a:blip r:embed="rId1"/>
          <a:stretch/>
        </p:blipFill>
        <p:spPr>
          <a:xfrm>
            <a:off x="1474920" y="1619280"/>
            <a:ext cx="2516040" cy="324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90" name="Picture 12" descr="Raphael_St_George_and_the_Dragon"/>
          <p:cNvPicPr/>
          <p:nvPr/>
        </p:nvPicPr>
        <p:blipFill>
          <a:blip r:embed="rId2"/>
          <a:stretch/>
        </p:blipFill>
        <p:spPr>
          <a:xfrm>
            <a:off x="5219640" y="1619280"/>
            <a:ext cx="2462400" cy="324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4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5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7440"/>
                            </p:stCondLst>
                            <p:childTnLst>
                              <p:par>
                                <p:cTn id="11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nodeType="clickEffect" fill="hold">
                      <p:stCondLst>
                        <p:cond delay="0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роическая аналогия» и троичность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лигиозный матери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варная Соф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хозя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кус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по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в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323856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33856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143820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53964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1114560" y="2446200"/>
            <a:ext cx="503856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оично предложение (суждение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отором следует видеть не про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орму выражения мысли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версальный выразительный а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2914560" y="4605480"/>
            <a:ext cx="5038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жд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же грамматическое предлож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тологической первооснов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дится всегда к типу: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я есмь неч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«Троическая аналог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3814920" y="5684760"/>
            <a:ext cx="5038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первосуждение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ниверса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орма; как единство трёх членов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лежащего, сказуемого и связк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несёт в себе образ тро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216000" y="1366920"/>
            <a:ext cx="5038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ное строение здешнего бы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яется сущим в нём (особенно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человека и в сфер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духа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ом св. Тро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2014560" y="3525840"/>
            <a:ext cx="5038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 существование человека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сматриваться как суждени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вёрнут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казывание человек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 том, что он е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3094200" y="5425920"/>
            <a:ext cx="576000" cy="954360"/>
          </a:xfrm>
          <a:custGeom>
            <a:avLst/>
            <a:gdLst>
              <a:gd name="textAreaLeft" fmla="*/ 77040 w 576000"/>
              <a:gd name="textAreaRight" fmla="*/ 498960 w 57600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223056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136692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50328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079640" y="2446200"/>
            <a:ext cx="51814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ая реальность, скрытая в форм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суждения,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, равновес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равноправ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рёх грамматических нач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ых как начала онтологическ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2806560" y="460548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ия в принципе неспособ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зить цельность триединой реаль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ече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дить Троицу к единиц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бирая часть вместо цел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щность и типы философии</a:t>
            </a:r>
            <a:br>
              <a:rPr sz="32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3670200" y="568476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является поэт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философией субъекта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Фихте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философией сказуемого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Гегель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философией связки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Спиноз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216000" y="136692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суждение, таким образом, – э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версальная онтологическая структу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хема сущего», но также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хема истории 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1943280" y="352584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философии как таков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и, следовательно, всякой философс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стеме) присущ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низ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твержд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го верховного нач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т творения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нят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кон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ческим актом Б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хотя и после Бога и по Его вол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я есть такж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ворческое начало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ё ключев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ия – «Земля» и «Ма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лигиозный матери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вершине сво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ющего и творческого усил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емля-мать потенциально яв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Богоземлёй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оматер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 сотворён из «ничто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следует различ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бсолютное ни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укон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тносительное ни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мео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ём онтологическом существ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я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6369120" y="1366920"/>
            <a:ext cx="2590560" cy="187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Укон»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ουχ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ό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бсолютное ничт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цел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полож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179280" y="4821120"/>
            <a:ext cx="2590920" cy="187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Меон»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μη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ό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носитель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что, небыт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реватое быт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3224160" y="4983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214488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06524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719280" y="161928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я («Премудрость Божия»)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идеальный первообраз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а в Бо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798560" y="2878200"/>
            <a:ext cx="44262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я – не только первообра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арного бытия в целом, но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рание первообразо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ждой и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ей и каждого из явлений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2878200" y="413856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ей неотъемлемо присутству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спект множестве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единства множества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3957480" y="5397480"/>
            <a:ext cx="4426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 же время это не про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единство или мир ид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сегда – 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сонифика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лицетвор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235584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109692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719280" y="1727280"/>
            <a:ext cx="503856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фийностью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нимается свой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астности отдельного явл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всего тварного мира Соф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воему идеальному первообра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1978200" y="3309840"/>
            <a:ext cx="503856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офийность» вообщ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и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рмонический лад вещ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цип закономерности и сообраз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универсальная связь мира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стоящая «несофийным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нденциям вражды, хаоса, расп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3238560" y="4894200"/>
            <a:ext cx="503856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авные име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дефиниции Соф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аго, Истина и Крас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4T21:21:30Z</dcterms:created>
  <dc:creator>Николай Бирюков / Nikolai Biryukov</dc:creator>
  <dc:description>Версия апреля 2007 г.</dc:description>
  <dc:language>en-US</dc:language>
  <cp:lastModifiedBy>LEGION</cp:lastModifiedBy>
  <dcterms:modified xsi:type="dcterms:W3CDTF">2014-11-11T12:47:34Z</dcterms:modified>
  <cp:revision>63</cp:revision>
  <dc:subject>История русской философии - Лекция 12</dc:subject>
  <dc:title>Софиология после В. С. Соловьёва</dc:title>
</cp:coreProperties>
</file>