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CAC4-A0FA-46E2-A85B-63DB21475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ТЕНЦИАЛ ГОРОДОВ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ска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тор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хина 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ель GEM Россия, 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ational Expert Surveys — 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Рождение фир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EA и ВВП на душу населения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А: индивидуальное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g. Вы лично знаете человека, который за последние 2 года открыл свой бизне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h.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i. У Вас есть знания, навыки и опыт, необходимые для откры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j. Страх провала помешал бы вам начать свое д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В: национа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k. В России большинство людей предпочло бы, чтобы все имели одинаковый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l. В России большинство людей воспринимает открытие нового бизнеса как желательный выбор к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m.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n. В России Вы можете часто видеть в прессе статьи о новых успешных предприят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по оценке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Россия – США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климат: Россия 2007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международная инициатива по исследованию взаимосвязи между предпринимательством и ростом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уникальная (по сопоставимости) ежегодно обновляемая баз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EM - источник информации для всестороннего анализа предпринимательства на национальном и глобальном уровн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п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 (Necessity Entrepreneurs)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Opportunity Entrepreneurs)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ы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изна проду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новационность: конкурентное ок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проекта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предпринимательской активности и предпринимательский потенциал общества, которые опреде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е группы предпринимателей: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к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оссийского предпринимателя: социо-демограф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ы оценки политики в област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, предоставляемые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сследов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 Информирование о состоя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едств массов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модель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ult Population Surveys —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n. 2 0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информации 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323-3856-4D2A-B19A-C4593139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48E-9297-4E87-9DDA-7FB2CA64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6C5-B242-48CF-8DB0-5C6B8BF0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7B1-FCC2-4C45-A849-AC251E91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95B-9312-4245-8727-BBE189F9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2DF-D36A-449E-AEC1-2DA7753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3FD-1336-45D3-B9EB-D7B50F13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93D-2D51-46AD-81E8-D6647CC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03F-40F4-4B7E-910C-6CD5C77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482-0B98-4832-A2A1-ED07414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BFA-6753-444E-8FEA-04C3172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A76-4E01-4781-985A-13D6CAC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AE5-8071-4D51-A537-9E7CB0708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res1"/>
          <p:cNvPicPr/>
          <p:nvPr/>
        </p:nvPicPr>
        <p:blipFill>
          <a:blip r:embed="rId1"/>
          <a:stretch/>
        </p:blipFill>
        <p:spPr>
          <a:xfrm>
            <a:off x="0" y="1177920"/>
            <a:ext cx="9036000" cy="1455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228600" y="1355760"/>
            <a:ext cx="98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ДПРИНИМАТЕЛЬСКИЙ КЛИМАТ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ПОТЕНЦИАЛ ГОРОДОВ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2400" y="3309840"/>
            <a:ext cx="74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104840" y="3849840"/>
            <a:ext cx="669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рховская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ординат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хин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овател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Россия, ВШМ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инар «Предпринимательство в России: основные направления исследова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декабря 20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logo GEM"/>
          <p:cNvPicPr/>
          <p:nvPr/>
        </p:nvPicPr>
        <p:blipFill>
          <a:blip r:embed="rId2"/>
          <a:stretch/>
        </p:blipFill>
        <p:spPr>
          <a:xfrm>
            <a:off x="3978360" y="2784600"/>
            <a:ext cx="963360" cy="8920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ational Expert Surveys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 по специально разработанным анкетам и глубинные интервью с предпринимателями и экспертами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ее 36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групп в соответствии с классификацией, предлагаемой методикой GEM, в которой определены основные показатели внешней среды, влияющие на предпринимательскую активность и экономически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863800" y="806400"/>
            <a:ext cx="49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ипы предприним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250920" y="1700280"/>
            <a:ext cx="8591040" cy="3951000"/>
            <a:chOff x="250920" y="1700280"/>
            <a:chExt cx="8591040" cy="3951000"/>
          </a:xfrm>
        </p:grpSpPr>
        <p:sp>
          <p:nvSpPr>
            <p:cNvPr id="146" name="Text Box 7"/>
            <p:cNvSpPr/>
            <p:nvPr/>
          </p:nvSpPr>
          <p:spPr>
            <a:xfrm>
              <a:off x="2410920" y="1700280"/>
              <a:ext cx="4463640" cy="34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Предпринимательская активность на ранних стадия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50920" y="2942640"/>
              <a:ext cx="1871640" cy="146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Потенциальные предприни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м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7162200" y="2670840"/>
              <a:ext cx="1679760" cy="19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устоявшегося бизнеса</a:t>
              </a:r>
              <a:r>
                <a:rPr b="1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(более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554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Нарождающие</a:t>
              </a: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ся предприн-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основания фирмы до 3 мес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4858560" y="2919240"/>
              <a:ext cx="1871640" cy="173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f5f5f"/>
                  </a:solidFill>
                  <a:latin typeface="Arial"/>
                </a:rPr>
                <a:t>Владельцы вновь созданного бизнеса</a:t>
              </a:r>
              <a:r>
                <a:rPr b="0" lang="ru-RU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f5f5f"/>
                  </a:solidFill>
                  <a:latin typeface="Arial"/>
                </a:rPr>
                <a:t>(от 3 мес. до 3,5 ле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2122560" y="373716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4426560" y="3664080"/>
              <a:ext cx="4316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2266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4570560" y="3911040"/>
              <a:ext cx="0" cy="17388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7018560" y="3912120"/>
              <a:ext cx="0" cy="173916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AutoShape 17"/>
          <p:cNvSpPr/>
          <p:nvPr/>
        </p:nvSpPr>
        <p:spPr>
          <a:xfrm rot="16200000">
            <a:off x="4488480" y="2971800"/>
            <a:ext cx="368280" cy="3856320"/>
          </a:xfrm>
          <a:custGeom>
            <a:avLst/>
            <a:gdLst>
              <a:gd name="textAreaLeft" fmla="*/ 235440 w 368280"/>
              <a:gd name="textAreaRight" fmla="*/ 368640 w 368280"/>
              <a:gd name="textAreaTop" fmla="*/ 100440 h 3856320"/>
              <a:gd name="textAreaBottom" fmla="*/ 3755880 h 385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389480" y="5229360"/>
            <a:ext cx="107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900000" y="58554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амысе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ождение фирм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ы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ИНДЕКС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863800" y="825480"/>
            <a:ext cx="49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ВП на душу населен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57360" y="1471680"/>
            <a:ext cx="8001000" cy="5308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863800" y="666720"/>
            <a:ext cx="4921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оказатели предпринимательской актив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280040"/>
                <a:gridCol w="1333440"/>
                <a:gridCol w="1307880"/>
                <a:gridCol w="130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ждающ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льцы вновь созданного бизне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явшиеся предпринима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екс предпринимательской активности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2,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41324"/>
                          </a:solidFill>
                          <a:latin typeface="Arial"/>
                        </a:rPr>
                        <a:t>3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69960"/>
            <a:ext cx="9144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А: индивидуальное вос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g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 лично знаете человека, который за последние 2 года открыл свой бизне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h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ледующие шесть месяцев в том регионе, где Вы живете, будут созданы благоприятные условия для начал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i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Вас есть знания, навыки и опыт, необходимые для открыт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j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х провала помешал бы вам начать сво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Группа В: национальные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k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предпочло бы, чтобы все имели одинаковый уровень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l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большинство людей воспринимает открытие нового бизнеса как желательный выбор 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m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те люди, которые добились успеха в создании и развитии нового бизнеса, имеют высокий статус и ув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41324"/>
                </a:solidFill>
                <a:latin typeface="Arial"/>
              </a:rPr>
              <a:t>1n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оссии Вы можете часто видеть в прессе статьи о новых успешных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Вопросы по оценке воспри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63800" y="6253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Россия – США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Object 6"/>
          <p:cNvGraphicFramePr/>
          <p:nvPr/>
        </p:nvGraphicFramePr>
        <p:xfrm>
          <a:off x="401760" y="1441440"/>
          <a:ext cx="8588160" cy="50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441440"/>
                    <a:ext cx="85881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863800" y="64440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,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6"/>
          <p:cNvSpPr/>
          <p:nvPr/>
        </p:nvSpPr>
        <p:spPr>
          <a:xfrm>
            <a:off x="409680" y="1447920"/>
            <a:ext cx="8200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885640" y="6354720"/>
            <a:ext cx="170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ладеющие бизнес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438120" y="1581120"/>
          <a:ext cx="8210520" cy="527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81120"/>
                    <a:ext cx="821052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863800" y="58752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едпринимательский климат: Россия 2007-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361800" y="1467000"/>
          <a:ext cx="8258400" cy="514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" y="1467000"/>
                    <a:ext cx="82584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95600"/>
            <a:ext cx="8825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ждународная инициатива по исследованию взаимосвязи между предпринимательством и ростом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икальная (по сопоставимости) ежегодно обновляемая баз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M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 информации для всестороннего анализа предпринимательства на национальном и глобальном уров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036960" y="7524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то такое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2863800" y="59688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п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6"/>
          <p:cNvGraphicFramePr/>
          <p:nvPr/>
        </p:nvGraphicFramePr>
        <p:xfrm>
          <a:off x="152280" y="1495440"/>
          <a:ext cx="8658360" cy="532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95440"/>
                    <a:ext cx="865836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863800" y="615960"/>
            <a:ext cx="492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возра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6"/>
          <p:cNvGraphicFramePr/>
          <p:nvPr/>
        </p:nvGraphicFramePr>
        <p:xfrm>
          <a:off x="123840" y="1495440"/>
          <a:ext cx="8715240" cy="535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1495440"/>
                    <a:ext cx="871524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2673360" y="596880"/>
            <a:ext cx="544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Социальный портрет предпринимателя: образов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6"/>
          <p:cNvGraphicFramePr/>
          <p:nvPr/>
        </p:nvGraphicFramePr>
        <p:xfrm>
          <a:off x="133200" y="1467000"/>
          <a:ext cx="8601120" cy="52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" y="1467000"/>
                    <a:ext cx="860112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6720" y="3178080"/>
            <a:ext cx="854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ХАРАКТЕР ПРЕДПРИНИМАТЕЛЬСКОЙ 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687320"/>
            <a:ext cx="91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необходимост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ess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начать свое дело в силу того, что у них нет иных возможностей для получения до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3654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и «по возможности»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Entrepreneur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ниматели, которые пытаются использовать открывающиеся возможности и получать преимущества от предприним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63800" y="8064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тивация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2863800" y="806400"/>
            <a:ext cx="4921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Мотивы предприниматель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80960" y="1463760"/>
            <a:ext cx="8467920" cy="53528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3"/>
          <p:cNvGraphicFramePr/>
          <p:nvPr/>
        </p:nvGraphicFramePr>
        <p:xfrm>
          <a:off x="219240" y="1544760"/>
          <a:ext cx="85723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544760"/>
                    <a:ext cx="8572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2873520" y="66348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техноло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3"/>
          <p:cNvGraphicFramePr/>
          <p:nvPr/>
        </p:nvGraphicFramePr>
        <p:xfrm>
          <a:off x="399960" y="1620720"/>
          <a:ext cx="8448840" cy="51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20720"/>
                    <a:ext cx="8448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863800" y="596880"/>
            <a:ext cx="48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новизна продукт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19240" y="1674720"/>
          <a:ext cx="858204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674720"/>
                    <a:ext cx="858204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5" descr="logo_shabl"/>
          <p:cNvPicPr/>
          <p:nvPr/>
        </p:nvPicPr>
        <p:blipFill>
          <a:blip r:embed="rId3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2863800" y="635040"/>
            <a:ext cx="492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новационность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: конкурентное окруж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logo GEM"/>
          <p:cNvPicPr/>
          <p:nvPr/>
        </p:nvPicPr>
        <p:blipFill>
          <a:blip r:embed="rId4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30320" y="1514520"/>
            <a:ext cx="9013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36960" y="70632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Уникальная международная база данных по предприниматель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468360" y="1413000"/>
            <a:ext cx="8218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7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пуск: Великобритания, США, Финляндия, Ирланд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999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убликован первый отчет / 10 стран-участниц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6 год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ШМ СПбГ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год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е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5 стран-участни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2" descr="WF1"/>
          <p:cNvPicPr/>
          <p:nvPr/>
        </p:nvPicPr>
        <p:blipFill>
          <a:blip r:embed="rId3"/>
          <a:srcRect l="0" t="6940" r="0" b="13879"/>
          <a:stretch/>
        </p:blipFill>
        <p:spPr>
          <a:xfrm>
            <a:off x="1114560" y="2997360"/>
            <a:ext cx="7129440" cy="3208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3"/>
          <p:cNvSpPr/>
          <p:nvPr/>
        </p:nvSpPr>
        <p:spPr>
          <a:xfrm>
            <a:off x="2124000" y="3716280"/>
            <a:ext cx="1871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Аме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4"/>
          <p:cNvSpPr/>
          <p:nvPr/>
        </p:nvSpPr>
        <p:spPr>
          <a:xfrm>
            <a:off x="6084720" y="4581360"/>
            <a:ext cx="1656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зия и Океания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5"/>
          <p:cNvSpPr/>
          <p:nvPr/>
        </p:nvSpPr>
        <p:spPr>
          <a:xfrm>
            <a:off x="4427640" y="378936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Европа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5219640" y="3284640"/>
            <a:ext cx="936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2627280" y="5013360"/>
            <a:ext cx="1655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Южная Америка (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1914480" y="3716280"/>
            <a:ext cx="2166840" cy="459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Северная и Центральная Америка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0"/>
          <p:cNvSpPr/>
          <p:nvPr/>
        </p:nvSpPr>
        <p:spPr>
          <a:xfrm>
            <a:off x="4417920" y="4751280"/>
            <a:ext cx="1224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Arial"/>
                <a:ea typeface="Arial"/>
              </a:rPr>
              <a:t>Африк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6720" y="3178080"/>
            <a:ext cx="85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ФАКТОРЫ, ВЛИЯЮЩИЕ НА ПРЕДПРИНИМАТЕЛЬСКУЮ АК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отрица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7"/>
          <p:cNvGraphicFramePr/>
          <p:nvPr/>
        </p:nvGraphicFramePr>
        <p:xfrm>
          <a:off x="466560" y="1430280"/>
          <a:ext cx="8318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1430280"/>
                    <a:ext cx="8318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положительно влияющие на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485640" y="1424160"/>
          <a:ext cx="8229600" cy="54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424160"/>
                    <a:ext cx="822960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2882880" y="673200"/>
            <a:ext cx="49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акторы, стимулирующие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476280" y="1420920"/>
          <a:ext cx="8229600" cy="543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20920"/>
                    <a:ext cx="82296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_shabl"/>
          <p:cNvPicPr/>
          <p:nvPr/>
        </p:nvPicPr>
        <p:blipFill>
          <a:blip r:embed="rId1"/>
          <a:stretch/>
        </p:blipFill>
        <p:spPr>
          <a:xfrm>
            <a:off x="474840" y="295416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2863800" y="2997360"/>
            <a:ext cx="576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841480" y="296532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93760" y="1633680"/>
            <a:ext cx="8594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уровней предпринимательской активности между стр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акторов, влияющих на уровень предпринимательской активности (как стимулирующих, так и ограничивающих предпринимательскую деяте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ого, как различия в уровнях предпринимательской активности связаны с экономическим ро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того, что можно сделать для увеличения предприниматель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75120" y="760320"/>
            <a:ext cx="47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841480" y="649440"/>
            <a:ext cx="5861160" cy="782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 предпринимательской а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принимательский потенциал общества, которые опреде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личием финансовой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литикой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сударственн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овнем образования и профессиональной подгот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стотой внедрения научно-техн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м коммерческой и профессиональн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ю физиче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стью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культурными нор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личные группы предпринимателе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тенциальные, ранние, нарождающиеся, устоявшиеся, владельцы вновь созданного бизнеса, вышедшие из бизнеса, бизнес-анг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901960" y="79704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ндикато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8920" y="1476360"/>
            <a:ext cx="8713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ртрет российск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цио-демограф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дексы оценки пол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области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Характер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новационность (конкурентное окружение, новизна продукта для потребителей, новизна используем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ление к ро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риятие феномена предпринимательства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911320" y="596880"/>
            <a:ext cx="492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озможности, предоставляемые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исследова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омасштабный независимый анализ российского предпринима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аботанная и постоянно усовершенствуемая методика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ый анализ данных по России с национальными базами данных более чем 40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органов системы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, которой нет в официальной статисти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о состоянии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общей информации для интернационализации российского малого и средне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ля средств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общественной осведомленности о состоянии и проблем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нимательстве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868400"/>
            <a:ext cx="89852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ogo_shabl"/>
          <p:cNvPicPr/>
          <p:nvPr/>
        </p:nvPicPr>
        <p:blipFill>
          <a:blip r:embed="rId1"/>
          <a:stretch/>
        </p:blipFill>
        <p:spPr>
          <a:xfrm>
            <a:off x="474840" y="639720"/>
            <a:ext cx="238104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2835360" y="800280"/>
            <a:ext cx="51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Концептуальная модель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1480" y="650880"/>
            <a:ext cx="5861160" cy="781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6"/>
          <p:cNvGrpSpPr/>
          <p:nvPr/>
        </p:nvGrpSpPr>
        <p:grpSpPr>
          <a:xfrm>
            <a:off x="485640" y="1311120"/>
            <a:ext cx="8223480" cy="5110200"/>
            <a:chOff x="485640" y="1311120"/>
            <a:chExt cx="8223480" cy="5110200"/>
          </a:xfrm>
        </p:grpSpPr>
        <p:sp>
          <p:nvSpPr>
            <p:cNvPr id="104" name="AutoShape 87"/>
            <p:cNvSpPr/>
            <p:nvPr/>
          </p:nvSpPr>
          <p:spPr>
            <a:xfrm>
              <a:off x="485640" y="1311120"/>
              <a:ext cx="8223480" cy="51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8"/>
            <p:cNvSpPr/>
            <p:nvPr/>
          </p:nvSpPr>
          <p:spPr>
            <a:xfrm flipV="1">
              <a:off x="1274040" y="2385720"/>
              <a:ext cx="1053720" cy="9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9"/>
            <p:cNvSpPr/>
            <p:nvPr/>
          </p:nvSpPr>
          <p:spPr>
            <a:xfrm>
              <a:off x="1253520" y="4382640"/>
              <a:ext cx="921240" cy="61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0"/>
            <p:cNvSpPr/>
            <p:nvPr/>
          </p:nvSpPr>
          <p:spPr>
            <a:xfrm flipV="1">
              <a:off x="7853400" y="4382280"/>
              <a:ext cx="3960" cy="39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1"/>
            <p:cNvSpPr/>
            <p:nvPr/>
          </p:nvSpPr>
          <p:spPr>
            <a:xfrm>
              <a:off x="6616080" y="4525560"/>
              <a:ext cx="46152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92"/>
            <p:cNvSpPr/>
            <p:nvPr/>
          </p:nvSpPr>
          <p:spPr>
            <a:xfrm flipV="1">
              <a:off x="6629040" y="5150520"/>
              <a:ext cx="46044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3"/>
            <p:cNvSpPr/>
            <p:nvPr/>
          </p:nvSpPr>
          <p:spPr>
            <a:xfrm>
              <a:off x="4564080" y="5301000"/>
              <a:ext cx="461160" cy="46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4"/>
            <p:cNvSpPr/>
            <p:nvPr/>
          </p:nvSpPr>
          <p:spPr>
            <a:xfrm flipV="1">
              <a:off x="4564080" y="4512240"/>
              <a:ext cx="527040" cy="46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5"/>
            <p:cNvSpPr/>
            <p:nvPr/>
          </p:nvSpPr>
          <p:spPr>
            <a:xfrm>
              <a:off x="4564080" y="2473200"/>
              <a:ext cx="461160" cy="32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6"/>
            <p:cNvSpPr/>
            <p:nvPr/>
          </p:nvSpPr>
          <p:spPr>
            <a:xfrm flipV="1">
              <a:off x="4564080" y="1881720"/>
              <a:ext cx="4611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7"/>
            <p:cNvSpPr/>
            <p:nvPr/>
          </p:nvSpPr>
          <p:spPr>
            <a:xfrm>
              <a:off x="6782400" y="1771920"/>
              <a:ext cx="1465560" cy="17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8"/>
            <p:cNvSpPr/>
            <p:nvPr/>
          </p:nvSpPr>
          <p:spPr>
            <a:xfrm>
              <a:off x="6782400" y="2693160"/>
              <a:ext cx="741240" cy="832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99"/>
            <p:cNvSpPr/>
            <p:nvPr/>
          </p:nvSpPr>
          <p:spPr>
            <a:xfrm>
              <a:off x="3403440" y="2846880"/>
              <a:ext cx="720" cy="2149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0"/>
            <p:cNvSpPr/>
            <p:nvPr/>
          </p:nvSpPr>
          <p:spPr>
            <a:xfrm>
              <a:off x="2325960" y="2232720"/>
              <a:ext cx="223812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щ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1"/>
            <p:cNvSpPr/>
            <p:nvPr/>
          </p:nvSpPr>
          <p:spPr>
            <a:xfrm>
              <a:off x="2174760" y="4930560"/>
              <a:ext cx="238896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r>
                <a:rPr b="0" lang="ru-RU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2"/>
            <p:cNvSpPr/>
            <p:nvPr/>
          </p:nvSpPr>
          <p:spPr>
            <a:xfrm>
              <a:off x="485640" y="3307680"/>
              <a:ext cx="1578240" cy="11203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ультурный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итический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нтек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3"/>
            <p:cNvSpPr/>
            <p:nvPr/>
          </p:nvSpPr>
          <p:spPr>
            <a:xfrm>
              <a:off x="5025600" y="1618200"/>
              <a:ext cx="1841040" cy="6141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ые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04"/>
            <p:cNvSpPr/>
            <p:nvPr/>
          </p:nvSpPr>
          <p:spPr>
            <a:xfrm>
              <a:off x="5025600" y="2473200"/>
              <a:ext cx="184104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лый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редний бизн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5"/>
            <p:cNvSpPr/>
            <p:nvPr/>
          </p:nvSpPr>
          <p:spPr>
            <a:xfrm>
              <a:off x="4939560" y="5676480"/>
              <a:ext cx="1996560" cy="70272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нимательск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осо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06"/>
            <p:cNvSpPr/>
            <p:nvPr/>
          </p:nvSpPr>
          <p:spPr>
            <a:xfrm>
              <a:off x="7064640" y="4777200"/>
              <a:ext cx="1560600" cy="68076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r>
                <a:rPr b="0" lang="ru-RU" sz="16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7"/>
            <p:cNvSpPr/>
            <p:nvPr/>
          </p:nvSpPr>
          <p:spPr>
            <a:xfrm>
              <a:off x="6936120" y="3526200"/>
              <a:ext cx="1643760" cy="856440"/>
            </a:xfrm>
            <a:prstGeom prst="rect">
              <a:avLst/>
            </a:prstGeom>
            <a:solidFill>
              <a:srgbClr val="ddc6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Рост национальной экономики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 (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ВВП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lang="ru-RU" sz="1200" spc="-1" strike="noStrike">
                  <a:solidFill>
                    <a:srgbClr val="003399"/>
                  </a:solidFill>
                  <a:latin typeface="Arial"/>
                </a:rPr>
                <a:t>занятость</a:t>
              </a:r>
              <a:r>
                <a:rPr b="1" lang="en-US" sz="12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8"/>
            <p:cNvSpPr/>
            <p:nvPr/>
          </p:nvSpPr>
          <p:spPr>
            <a:xfrm>
              <a:off x="5051160" y="4075560"/>
              <a:ext cx="1730880" cy="767880"/>
            </a:xfrm>
            <a:prstGeom prst="rect">
              <a:avLst/>
            </a:prstGeom>
            <a:solidFill>
              <a:srgbClr val="bdcd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</a:t>
              </a:r>
              <a:r>
                <a:rPr b="0" lang="ru-RU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приниматель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9"/>
            <p:cNvSpPr/>
            <p:nvPr/>
          </p:nvSpPr>
          <p:spPr>
            <a:xfrm>
              <a:off x="5860800" y="4843800"/>
              <a:ext cx="720" cy="76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10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5680" y="1821960"/>
            <a:ext cx="84740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ult Population Surveys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—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 взрослого трудоспособного населения с помощью специально разработанных анкет, вопросы которой с разных сторон характеризуют отношение респондента к организаци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 00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ogo_shabl"/>
          <p:cNvPicPr/>
          <p:nvPr/>
        </p:nvPicPr>
        <p:blipFill>
          <a:blip r:embed="rId1"/>
          <a:stretch/>
        </p:blipFill>
        <p:spPr>
          <a:xfrm>
            <a:off x="452520" y="606600"/>
            <a:ext cx="2381040" cy="801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2841480" y="638280"/>
            <a:ext cx="5861160" cy="78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logo GEM"/>
          <p:cNvPicPr/>
          <p:nvPr/>
        </p:nvPicPr>
        <p:blipFill>
          <a:blip r:embed="rId2"/>
          <a:stretch/>
        </p:blipFill>
        <p:spPr>
          <a:xfrm>
            <a:off x="7997760" y="731880"/>
            <a:ext cx="669960" cy="62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63800" y="806400"/>
            <a:ext cx="4921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Источники информации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G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48:08Z</dcterms:created>
  <dc:creator>Ивницкая</dc:creator>
  <dc:description/>
  <dc:language>en-US</dc:language>
  <cp:lastModifiedBy>LEGION</cp:lastModifiedBy>
  <dcterms:modified xsi:type="dcterms:W3CDTF">2016-01-05T12:46:17Z</dcterms:modified>
  <cp:revision>136</cp:revision>
  <dc:subject/>
  <dc:title>Слайд 1</dc:title>
</cp:coreProperties>
</file>