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EA4D-ED51-49ED-8AAA-0E01381D0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EB7-219E-4A9A-B0F0-BB9C9A84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26F-1AD1-4FCC-8D5D-30823037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8BA-7BA8-4ACA-BE57-FF179238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0F3-7A2B-4B41-83D8-6F0863D1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A04-5F6A-48B2-92F5-6C0874B8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D49-C7DD-476F-97A6-ADFC8863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1B8-2A9B-4554-9B3A-0B54DD49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A62-85C0-4199-96B5-23D19D50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7EE-28CD-48A7-86DC-B22553BA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7E8-9E6E-42C9-A469-E9244A86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150-C0F5-4D42-8F56-1E53B629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9E3-AA9D-4177-A67C-97CC2824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76B8-B124-40D6-A594-CD5BFBF36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res1"/>
          <p:cNvPicPr/>
          <p:nvPr/>
        </p:nvPicPr>
        <p:blipFill>
          <a:blip r:embed="rId1"/>
          <a:stretch/>
        </p:blipFill>
        <p:spPr>
          <a:xfrm>
            <a:off x="0" y="1177920"/>
            <a:ext cx="9036000" cy="1455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-228600" y="1355760"/>
            <a:ext cx="98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ЕДПРИНИМАТЕЛЬСКИЙ КЛИМАТ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 ПОТЕНЦИАЛ ГОРОДОВ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2400" y="3309840"/>
            <a:ext cx="74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104840" y="3849840"/>
            <a:ext cx="669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рховская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ординатор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рохина М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овател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logo GEM"/>
          <p:cNvPicPr/>
          <p:nvPr/>
        </p:nvPicPr>
        <p:blipFill>
          <a:blip r:embed="rId2"/>
          <a:stretch/>
        </p:blipFill>
        <p:spPr>
          <a:xfrm>
            <a:off x="3978360" y="2784600"/>
            <a:ext cx="963360" cy="8920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ational Expert Surveys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2863800" y="806400"/>
            <a:ext cx="49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ипы предприним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6"/>
          <p:cNvGrpSpPr/>
          <p:nvPr/>
        </p:nvGrpSpPr>
        <p:grpSpPr>
          <a:xfrm>
            <a:off x="250920" y="1700280"/>
            <a:ext cx="8591040" cy="3951000"/>
            <a:chOff x="250920" y="1700280"/>
            <a:chExt cx="8591040" cy="3951000"/>
          </a:xfrm>
        </p:grpSpPr>
        <p:sp>
          <p:nvSpPr>
            <p:cNvPr id="146" name="Text Box 7"/>
            <p:cNvSpPr/>
            <p:nvPr/>
          </p:nvSpPr>
          <p:spPr>
            <a:xfrm>
              <a:off x="2410920" y="1700280"/>
              <a:ext cx="4463640" cy="34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Предпринимательская активность на ранних стад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250920" y="2942640"/>
              <a:ext cx="1871640" cy="146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Потенциальные предприни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ма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7162200" y="2670840"/>
              <a:ext cx="1679760" cy="19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устоявшегося бизнеса</a:t>
              </a:r>
              <a:r>
                <a:rPr b="1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(более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2554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Нарождающие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ся предприн-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основания фирмы до 3 мес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4858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вновь созданного бизнеса</a:t>
              </a:r>
              <a:r>
                <a:rPr b="0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3 мес. до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2122560" y="373716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4426560" y="366408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2266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5"/>
            <p:cNvSpPr/>
            <p:nvPr/>
          </p:nvSpPr>
          <p:spPr>
            <a:xfrm>
              <a:off x="4570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7018560" y="3912120"/>
              <a:ext cx="0" cy="173916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17"/>
          <p:cNvSpPr/>
          <p:nvPr/>
        </p:nvSpPr>
        <p:spPr>
          <a:xfrm rot="16200000">
            <a:off x="4488480" y="2971800"/>
            <a:ext cx="368280" cy="3856320"/>
          </a:xfrm>
          <a:custGeom>
            <a:avLst/>
            <a:gdLst>
              <a:gd name="textAreaLeft" fmla="*/ 235440 w 368280"/>
              <a:gd name="textAreaRight" fmla="*/ 368640 w 368280"/>
              <a:gd name="textAreaTop" fmla="*/ 100440 h 3856320"/>
              <a:gd name="textAreaBottom" fmla="*/ 3755880 h 385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4389480" y="5229360"/>
            <a:ext cx="1079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900000" y="58554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Замысе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ождение фирмы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ы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ИНДЕКС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863800" y="825480"/>
            <a:ext cx="49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ВВП на душу населения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57360" y="1471680"/>
            <a:ext cx="8001000" cy="5308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863800" y="666720"/>
            <a:ext cx="4921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Показатели предпринимательской актив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4280040"/>
                <a:gridCol w="1333440"/>
                <a:gridCol w="1307880"/>
                <a:gridCol w="130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ждающ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льцы вновь созданного бизне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явш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екс предпринимательской активности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2,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3,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569960"/>
            <a:ext cx="91440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А: индивидуальное воспри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g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 лично знаете человека, который за последние 2 года открыл свой бизне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h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i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Вас есть знания, навыки и опыт, необходимые для открыт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j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ах провала помешал бы вам начать сво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В: национальные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k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предпочло бы, чтобы все имели одинаковый уровень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l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воспринимает открытие нового бизнеса как желательный выбор карь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m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n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Вы можете часто видеть в прессе статьи о новых успешных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Вопросы по оценке восприят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2863800" y="6253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Россия – США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Object 6"/>
          <p:cNvGraphicFramePr/>
          <p:nvPr/>
        </p:nvGraphicFramePr>
        <p:xfrm>
          <a:off x="401760" y="1441440"/>
          <a:ext cx="8588160" cy="500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1441440"/>
                    <a:ext cx="85881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863800" y="64440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6"/>
          <p:cNvSpPr/>
          <p:nvPr/>
        </p:nvSpPr>
        <p:spPr>
          <a:xfrm>
            <a:off x="409680" y="1447920"/>
            <a:ext cx="82008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5885640" y="6354720"/>
            <a:ext cx="1704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8"/>
          <p:cNvGraphicFramePr/>
          <p:nvPr/>
        </p:nvGraphicFramePr>
        <p:xfrm>
          <a:off x="438120" y="1581120"/>
          <a:ext cx="8210520" cy="527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81120"/>
                    <a:ext cx="821052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863800" y="5875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: Россия 2007-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361800" y="1467000"/>
          <a:ext cx="8258400" cy="514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" y="1467000"/>
                    <a:ext cx="82584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95600"/>
            <a:ext cx="8825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ждународная инициатива по исследованию взаимосвязи между предпринимательством и ростом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никальная (по сопоставимости) ежегодно обновляемая баз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 информации для всестороннего анализа предпринимательства на национальном и глобальном уровн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036960" y="7524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такое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2863800" y="59688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по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Object 6"/>
          <p:cNvGraphicFramePr/>
          <p:nvPr/>
        </p:nvGraphicFramePr>
        <p:xfrm>
          <a:off x="152280" y="1495440"/>
          <a:ext cx="8658360" cy="5324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95440"/>
                    <a:ext cx="865836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863800" y="61596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возра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6"/>
          <p:cNvGraphicFramePr/>
          <p:nvPr/>
        </p:nvGraphicFramePr>
        <p:xfrm>
          <a:off x="123840" y="1495440"/>
          <a:ext cx="8715240" cy="5359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1495440"/>
                    <a:ext cx="871524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2673360" y="596880"/>
            <a:ext cx="5445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6"/>
          <p:cNvGraphicFramePr/>
          <p:nvPr/>
        </p:nvGraphicFramePr>
        <p:xfrm>
          <a:off x="133200" y="1467000"/>
          <a:ext cx="8601120" cy="5287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" y="1467000"/>
                    <a:ext cx="860112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ХАРАКТЕР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cess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2863800" y="806400"/>
            <a:ext cx="50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тивация предприним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Мотивы предприниматель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480960" y="1463760"/>
            <a:ext cx="8467920" cy="53528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3"/>
          <p:cNvGraphicFramePr/>
          <p:nvPr/>
        </p:nvGraphicFramePr>
        <p:xfrm>
          <a:off x="219240" y="1544760"/>
          <a:ext cx="857232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544760"/>
                    <a:ext cx="85723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2873520" y="66348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технолог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3"/>
          <p:cNvGraphicFramePr/>
          <p:nvPr/>
        </p:nvGraphicFramePr>
        <p:xfrm>
          <a:off x="399960" y="1620720"/>
          <a:ext cx="8448840" cy="51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620720"/>
                    <a:ext cx="844884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863800" y="596880"/>
            <a:ext cx="48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новизна продукт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3"/>
          <p:cNvGraphicFramePr/>
          <p:nvPr/>
        </p:nvGraphicFramePr>
        <p:xfrm>
          <a:off x="219240" y="1674720"/>
          <a:ext cx="858204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674720"/>
                    <a:ext cx="85820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2863800" y="63504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 конкурентное окруже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30320" y="1514520"/>
            <a:ext cx="90136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036960" y="706320"/>
            <a:ext cx="49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1"/>
          <p:cNvSpPr/>
          <p:nvPr/>
        </p:nvSpPr>
        <p:spPr>
          <a:xfrm>
            <a:off x="468360" y="1413000"/>
            <a:ext cx="8218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2" descr="WF1"/>
          <p:cNvPicPr/>
          <p:nvPr/>
        </p:nvPicPr>
        <p:blipFill>
          <a:blip r:embed="rId3"/>
          <a:srcRect l="0" t="6940" r="0" b="13879"/>
          <a:stretch/>
        </p:blipFill>
        <p:spPr>
          <a:xfrm>
            <a:off x="1114560" y="2997360"/>
            <a:ext cx="7129440" cy="3208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3"/>
          <p:cNvSpPr/>
          <p:nvPr/>
        </p:nvSpPr>
        <p:spPr>
          <a:xfrm>
            <a:off x="2124000" y="3716280"/>
            <a:ext cx="1871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4"/>
          <p:cNvSpPr/>
          <p:nvPr/>
        </p:nvSpPr>
        <p:spPr>
          <a:xfrm>
            <a:off x="6084720" y="4581360"/>
            <a:ext cx="1656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5"/>
          <p:cNvSpPr/>
          <p:nvPr/>
        </p:nvSpPr>
        <p:spPr>
          <a:xfrm>
            <a:off x="4427640" y="378936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7"/>
          <p:cNvSpPr/>
          <p:nvPr/>
        </p:nvSpPr>
        <p:spPr>
          <a:xfrm>
            <a:off x="5219640" y="3284640"/>
            <a:ext cx="9367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8"/>
          <p:cNvSpPr/>
          <p:nvPr/>
        </p:nvSpPr>
        <p:spPr>
          <a:xfrm>
            <a:off x="2627280" y="5013360"/>
            <a:ext cx="1655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9"/>
          <p:cNvSpPr/>
          <p:nvPr/>
        </p:nvSpPr>
        <p:spPr>
          <a:xfrm>
            <a:off x="1914480" y="3716280"/>
            <a:ext cx="2166840" cy="459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0"/>
          <p:cNvSpPr/>
          <p:nvPr/>
        </p:nvSpPr>
        <p:spPr>
          <a:xfrm>
            <a:off x="4417920" y="475128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7"/>
          <p:cNvGraphicFramePr/>
          <p:nvPr/>
        </p:nvGraphicFramePr>
        <p:xfrm>
          <a:off x="466560" y="1430280"/>
          <a:ext cx="8318520" cy="477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1430280"/>
                    <a:ext cx="831852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7"/>
          <p:cNvGraphicFramePr/>
          <p:nvPr/>
        </p:nvGraphicFramePr>
        <p:xfrm>
          <a:off x="485640" y="1424160"/>
          <a:ext cx="8229600" cy="543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40" y="1424160"/>
                    <a:ext cx="822960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7"/>
          <p:cNvGraphicFramePr/>
          <p:nvPr/>
        </p:nvGraphicFramePr>
        <p:xfrm>
          <a:off x="476280" y="1420920"/>
          <a:ext cx="8229600" cy="543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20920"/>
                    <a:ext cx="82296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logo_shabl"/>
          <p:cNvPicPr/>
          <p:nvPr/>
        </p:nvPicPr>
        <p:blipFill>
          <a:blip r:embed="rId1"/>
          <a:stretch/>
        </p:blipFill>
        <p:spPr>
          <a:xfrm>
            <a:off x="474840" y="295416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2863800" y="2997360"/>
            <a:ext cx="576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841480" y="296532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93760" y="1633680"/>
            <a:ext cx="8594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075120" y="760320"/>
            <a:ext cx="47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ели проект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841480" y="649440"/>
            <a:ext cx="5861160" cy="7826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вень предпринимательской а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едпринимательский потенциал общества, которые опреде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личные группы предпринимателе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ртрет российского предприним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оцио-демограф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дексы оценки поли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Характер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911320" y="596880"/>
            <a:ext cx="4921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Возможности, предоставляемые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исследователей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о состоянии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средств массов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868400"/>
            <a:ext cx="89852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2835360" y="800280"/>
            <a:ext cx="51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Концептуальная модель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6"/>
          <p:cNvGrpSpPr/>
          <p:nvPr/>
        </p:nvGrpSpPr>
        <p:grpSpPr>
          <a:xfrm>
            <a:off x="485640" y="1311120"/>
            <a:ext cx="8223480" cy="5110200"/>
            <a:chOff x="485640" y="1311120"/>
            <a:chExt cx="8223480" cy="5110200"/>
          </a:xfrm>
        </p:grpSpPr>
        <p:sp>
          <p:nvSpPr>
            <p:cNvPr id="104" name="AutoShape 87"/>
            <p:cNvSpPr/>
            <p:nvPr/>
          </p:nvSpPr>
          <p:spPr>
            <a:xfrm>
              <a:off x="485640" y="1311120"/>
              <a:ext cx="8223480" cy="51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8"/>
            <p:cNvSpPr/>
            <p:nvPr/>
          </p:nvSpPr>
          <p:spPr>
            <a:xfrm flipV="1">
              <a:off x="1274040" y="2385720"/>
              <a:ext cx="1053720" cy="9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89"/>
            <p:cNvSpPr/>
            <p:nvPr/>
          </p:nvSpPr>
          <p:spPr>
            <a:xfrm>
              <a:off x="1253520" y="4382640"/>
              <a:ext cx="921240" cy="61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0"/>
            <p:cNvSpPr/>
            <p:nvPr/>
          </p:nvSpPr>
          <p:spPr>
            <a:xfrm flipV="1">
              <a:off x="7853400" y="4382280"/>
              <a:ext cx="3960" cy="39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1"/>
            <p:cNvSpPr/>
            <p:nvPr/>
          </p:nvSpPr>
          <p:spPr>
            <a:xfrm>
              <a:off x="6616080" y="4525560"/>
              <a:ext cx="46152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92"/>
            <p:cNvSpPr/>
            <p:nvPr/>
          </p:nvSpPr>
          <p:spPr>
            <a:xfrm flipV="1">
              <a:off x="6629040" y="5150520"/>
              <a:ext cx="46044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3"/>
            <p:cNvSpPr/>
            <p:nvPr/>
          </p:nvSpPr>
          <p:spPr>
            <a:xfrm>
              <a:off x="4564080" y="5301000"/>
              <a:ext cx="461160" cy="46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4"/>
            <p:cNvSpPr/>
            <p:nvPr/>
          </p:nvSpPr>
          <p:spPr>
            <a:xfrm flipV="1">
              <a:off x="4564080" y="4512240"/>
              <a:ext cx="527040" cy="46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5"/>
            <p:cNvSpPr/>
            <p:nvPr/>
          </p:nvSpPr>
          <p:spPr>
            <a:xfrm>
              <a:off x="4564080" y="2473200"/>
              <a:ext cx="461160" cy="328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6"/>
            <p:cNvSpPr/>
            <p:nvPr/>
          </p:nvSpPr>
          <p:spPr>
            <a:xfrm flipV="1">
              <a:off x="4564080" y="1881720"/>
              <a:ext cx="46116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7"/>
            <p:cNvSpPr/>
            <p:nvPr/>
          </p:nvSpPr>
          <p:spPr>
            <a:xfrm>
              <a:off x="6782400" y="1771920"/>
              <a:ext cx="1465560" cy="175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98"/>
            <p:cNvSpPr/>
            <p:nvPr/>
          </p:nvSpPr>
          <p:spPr>
            <a:xfrm>
              <a:off x="6782400" y="2693160"/>
              <a:ext cx="741240" cy="8326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99"/>
            <p:cNvSpPr/>
            <p:nvPr/>
          </p:nvSpPr>
          <p:spPr>
            <a:xfrm>
              <a:off x="3403440" y="2846880"/>
              <a:ext cx="720" cy="2149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0"/>
            <p:cNvSpPr/>
            <p:nvPr/>
          </p:nvSpPr>
          <p:spPr>
            <a:xfrm>
              <a:off x="2325960" y="2232720"/>
              <a:ext cx="223812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щ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1"/>
            <p:cNvSpPr/>
            <p:nvPr/>
          </p:nvSpPr>
          <p:spPr>
            <a:xfrm>
              <a:off x="2174760" y="4930560"/>
              <a:ext cx="238896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звит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2"/>
            <p:cNvSpPr/>
            <p:nvPr/>
          </p:nvSpPr>
          <p:spPr>
            <a:xfrm>
              <a:off x="485640" y="3307680"/>
              <a:ext cx="1578240" cy="11203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ультур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итический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нтек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3"/>
            <p:cNvSpPr/>
            <p:nvPr/>
          </p:nvSpPr>
          <p:spPr>
            <a:xfrm>
              <a:off x="5025600" y="1618200"/>
              <a:ext cx="184104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рупные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мпа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04"/>
            <p:cNvSpPr/>
            <p:nvPr/>
          </p:nvSpPr>
          <p:spPr>
            <a:xfrm>
              <a:off x="5025600" y="2473200"/>
              <a:ext cx="184104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лый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редний бизне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05"/>
            <p:cNvSpPr/>
            <p:nvPr/>
          </p:nvSpPr>
          <p:spPr>
            <a:xfrm>
              <a:off x="4939560" y="5676480"/>
              <a:ext cx="1996560" cy="7027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принимательск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особ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06"/>
            <p:cNvSpPr/>
            <p:nvPr/>
          </p:nvSpPr>
          <p:spPr>
            <a:xfrm>
              <a:off x="7064640" y="4777200"/>
              <a:ext cx="156060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7"/>
            <p:cNvSpPr/>
            <p:nvPr/>
          </p:nvSpPr>
          <p:spPr>
            <a:xfrm>
              <a:off x="6936120" y="3526200"/>
              <a:ext cx="1643760" cy="856440"/>
            </a:xfrm>
            <a:prstGeom prst="rect">
              <a:avLst/>
            </a:prstGeom>
            <a:solidFill>
              <a:srgbClr val="ddc6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Рост национальной экономики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 (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ВВП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занятость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8"/>
            <p:cNvSpPr/>
            <p:nvPr/>
          </p:nvSpPr>
          <p:spPr>
            <a:xfrm>
              <a:off x="5051160" y="4075560"/>
              <a:ext cx="1730880" cy="76788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9"/>
            <p:cNvSpPr/>
            <p:nvPr/>
          </p:nvSpPr>
          <p:spPr>
            <a:xfrm>
              <a:off x="5860800" y="4843800"/>
              <a:ext cx="720" cy="76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11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5680" y="1821960"/>
            <a:ext cx="847404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dult Population Surveys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—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 00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logo_shabl"/>
          <p:cNvPicPr/>
          <p:nvPr/>
        </p:nvPicPr>
        <p:blipFill>
          <a:blip r:embed="rId1"/>
          <a:stretch/>
        </p:blipFill>
        <p:spPr>
          <a:xfrm>
            <a:off x="452520" y="606600"/>
            <a:ext cx="2381040" cy="801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841480" y="638280"/>
            <a:ext cx="5861160" cy="7808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48:08Z</dcterms:created>
  <dc:creator>Ивницкая</dc:creator>
  <dc:description/>
  <dc:language>en-US</dc:language>
  <cp:lastModifiedBy>LEGION</cp:lastModifiedBy>
  <dcterms:modified xsi:type="dcterms:W3CDTF">2016-01-05T12:46:17Z</dcterms:modified>
  <cp:revision>136</cp:revision>
  <dc:subject/>
  <dc:title>Слайд 1</dc:title>
</cp:coreProperties>
</file>