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2F8D-60A5-4582-9485-758C6C8176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в экономической структуре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техн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тво в экономической структуре общ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рок техн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юридическая осно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а юридическая основ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может заниматься предпринимательст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то может заниматься предпринимательством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вободног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ободно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стна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бств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а свободного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ообраз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ободное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черты предпринимател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ваш потенциал предпринимател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основные черты предпринимател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амостоятель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ициатив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торств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е ваш потенциал предпринимателя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545-AF42-4E15-945E-87FBAB1C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C4A-BE1F-4371-9164-24A7C2E8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F96-E4E0-4A3D-8468-673FF16C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CD5-C9AE-428F-8A4D-E86F1841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7DE3-EF30-4150-B1E8-8EA4B902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DC76-6CC8-478F-BAFC-CA9620DA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CF53-0432-4ADD-ABBA-7AF89D2A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4742-1FDF-4C11-9998-2589D975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29CE-9890-4B2D-9C01-E37DE32A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FDEA-606A-44D6-B68C-3DB8DEFD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8272-D03E-4BBB-AD96-DB944DF0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899-CE7E-4553-8E63-DC0938E4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5305-097C-48E9-BB7A-FBB67ABF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1362-3CAD-496B-9881-1B7D9E06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4DBA-F788-4BD8-A537-1D8E5D72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AF23-61B8-4C26-B1A9-041A2FF3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B33C-BD5F-4603-9099-AE665605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8A7-DF1A-4788-A358-2EA31390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1DB-0EA8-4380-BAC9-33B03C4E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479-7636-4038-B49D-26323EC4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FD9-C078-45F6-8188-91CD1D39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8DC-CF43-4149-A053-9678B740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679-6CDB-42ED-A50D-D883B39F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0CD-C134-4FD3-B253-A6171FA9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19D0-232C-43A0-A7FA-8B3D3F2E2A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76AF-1F27-49FD-A16D-F581B0DB42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едпринимательство в экономической структуре общест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рок технолог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Что такое предпринимательство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ова юридическая основа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то может заниматься предпринимательством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Физ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Юрид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j0292020"/>
          <p:cNvPicPr/>
          <p:nvPr/>
        </p:nvPicPr>
        <p:blipFill>
          <a:blip r:embed="rId1"/>
          <a:stretch/>
        </p:blipFill>
        <p:spPr>
          <a:xfrm>
            <a:off x="6804000" y="378936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j0285360"/>
          <p:cNvPicPr/>
          <p:nvPr/>
        </p:nvPicPr>
        <p:blipFill>
          <a:blip r:embed="rId1"/>
          <a:stretch/>
        </p:blipFill>
        <p:spPr>
          <a:xfrm>
            <a:off x="6227640" y="4221000"/>
            <a:ext cx="1474920" cy="1818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340000" y="3500280"/>
            <a:ext cx="25210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обод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24000" y="5084640"/>
            <a:ext cx="2376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на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132000" y="5084640"/>
            <a:ext cx="2376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867280" y="5084640"/>
            <a:ext cx="26654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вободного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нообраз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4859280" y="3500280"/>
            <a:ext cx="3241800" cy="719280"/>
            <a:chOff x="4859280" y="3500280"/>
            <a:chExt cx="3241800" cy="719280"/>
          </a:xfrm>
        </p:grpSpPr>
        <p:sp>
          <p:nvSpPr>
            <p:cNvPr id="120" name="Rectangle 8"/>
            <p:cNvSpPr/>
            <p:nvPr/>
          </p:nvSpPr>
          <p:spPr>
            <a:xfrm>
              <a:off x="5724360" y="3500280"/>
              <a:ext cx="2376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быль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4859280" y="38606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" name="Group 15"/>
          <p:cNvGrpSpPr/>
          <p:nvPr/>
        </p:nvGrpSpPr>
        <p:grpSpPr>
          <a:xfrm>
            <a:off x="1512720" y="4219200"/>
            <a:ext cx="5617080" cy="865440"/>
            <a:chOff x="1512720" y="4219200"/>
            <a:chExt cx="5617080" cy="865440"/>
          </a:xfrm>
        </p:grpSpPr>
        <p:cxnSp>
          <p:nvCxnSpPr>
            <p:cNvPr id="123" name="AutoShape 12"/>
            <p:cNvCxnSpPr>
              <a:stCxn id="115" idx="2"/>
              <a:endCxn id="116" idx="0"/>
            </p:cNvCxnSpPr>
            <p:nvPr/>
          </p:nvCxnSpPr>
          <p:spPr>
            <a:xfrm rot="5400000">
              <a:off x="2160360" y="3571560"/>
              <a:ext cx="865800" cy="216108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13"/>
            <p:cNvCxnSpPr>
              <a:stCxn id="115" idx="2"/>
              <a:endCxn id="117" idx="0"/>
            </p:cNvCxnSpPr>
            <p:nvPr/>
          </p:nvCxnSpPr>
          <p:spPr>
            <a:xfrm flipH="1" rot="16200000">
              <a:off x="3563640" y="4327920"/>
              <a:ext cx="865800" cy="64836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14"/>
            <p:cNvCxnSpPr>
              <a:stCxn id="115" idx="2"/>
              <a:endCxn id="118" idx="0"/>
            </p:cNvCxnSpPr>
            <p:nvPr/>
          </p:nvCxnSpPr>
          <p:spPr>
            <a:xfrm flipH="1" rot="16200000">
              <a:off x="4968720" y="2923560"/>
              <a:ext cx="865800" cy="345672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6" name="Text Box 16"/>
          <p:cNvSpPr/>
          <p:nvPr/>
        </p:nvSpPr>
        <p:spPr>
          <a:xfrm>
            <a:off x="3924360" y="4292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4932360" y="3573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Свободное предпринимательств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овы основные черты предпринимателя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амостоятель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ициатив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оваторств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26920" y="407664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ите ваш потенциал предпринимателя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Flo10012"/>
          <p:cNvPicPr/>
          <p:nvPr/>
        </p:nvPicPr>
        <p:blipFill>
          <a:blip r:embed="rId1"/>
          <a:stretch/>
        </p:blipFill>
        <p:spPr>
          <a:xfrm>
            <a:off x="3780000" y="2421000"/>
            <a:ext cx="1525320" cy="2033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0:43:40Z</dcterms:created>
  <dc:creator>Сорокина О.П.</dc:creator>
  <dc:description/>
  <dc:language>en-US</dc:language>
  <cp:lastModifiedBy>LEGION</cp:lastModifiedBy>
  <dcterms:modified xsi:type="dcterms:W3CDTF">2016-01-05T12:46:34Z</dcterms:modified>
  <cp:revision>8</cp:revision>
  <dc:subject>Урок технологии 10 кл</dc:subject>
  <dc:title>Предпринимательство и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1000000000001024140</vt:lpwstr>
  </property>
</Properties>
</file>