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9DF0-58D0-4934-890C-403649C43C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15D-D2B1-4060-A585-50EFDBF3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FD5-7767-42B9-940C-2A60197B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00B-AB44-4799-B615-35311EAE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999-E69C-4EAE-ACF0-DC667546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F963-44BE-447B-8AC4-7FE2DBF9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72D4-1317-4BA8-ADDB-71F827F0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BB3D-39A2-45C8-89DD-84FEC92D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BA53-8916-4604-AAE0-A87D6D40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C95F-A694-4FD3-A62D-AD4F1FFA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089C-F068-4A34-AF80-08743F9F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24C1-E612-48F1-9927-24AEE1B3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A9F-5008-478A-AD2A-33E2BC25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4825-A897-4720-B9E1-85F2693B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91B0-95F7-4AD0-9221-85ED0314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201F-EBA8-4FD7-B101-12147C3A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2E6C-9E7C-41BD-9A89-EA724EF1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DC0A-871E-4A37-902A-8AE37396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26D-AFED-4C3A-96C9-9E43E437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C05-827E-4AF1-9AF2-D2AE4717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F63-78B0-412F-9523-6BC75205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1DF-CE07-4AD3-A07E-F1ABF55F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8C2E-4BF0-4BAE-9A73-3A24490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E3B-7743-4EE7-BCB1-40BC65F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FCD-2D35-42F8-8A40-6B2E1215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3955-7B2C-4651-9A24-20F4602C60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3560-5BA0-412B-AA9A-086777D939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а юридическая основа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j0292020"/>
          <p:cNvPicPr/>
          <p:nvPr/>
        </p:nvPicPr>
        <p:blipFill>
          <a:blip r:embed="rId1"/>
          <a:stretch/>
        </p:blipFill>
        <p:spPr>
          <a:xfrm>
            <a:off x="6804000" y="378936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j0285360"/>
          <p:cNvPicPr/>
          <p:nvPr/>
        </p:nvPicPr>
        <p:blipFill>
          <a:blip r:embed="rId1"/>
          <a:stretch/>
        </p:blipFill>
        <p:spPr>
          <a:xfrm>
            <a:off x="6227640" y="4221000"/>
            <a:ext cx="1474920" cy="181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340000" y="3500280"/>
            <a:ext cx="252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бод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24000" y="5084640"/>
            <a:ext cx="2376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132000" y="5084640"/>
            <a:ext cx="2376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867280" y="5084640"/>
            <a:ext cx="26654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вободного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ообраз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4859280" y="3500280"/>
            <a:ext cx="3241800" cy="719280"/>
            <a:chOff x="4859280" y="3500280"/>
            <a:chExt cx="3241800" cy="719280"/>
          </a:xfrm>
        </p:grpSpPr>
        <p:sp>
          <p:nvSpPr>
            <p:cNvPr id="120" name="Rectangle 8"/>
            <p:cNvSpPr/>
            <p:nvPr/>
          </p:nvSpPr>
          <p:spPr>
            <a:xfrm>
              <a:off x="5724360" y="3500280"/>
              <a:ext cx="2376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4859280" y="38606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1512720" y="4219200"/>
            <a:ext cx="5617080" cy="865440"/>
            <a:chOff x="1512720" y="4219200"/>
            <a:chExt cx="5617080" cy="865440"/>
          </a:xfrm>
        </p:grpSpPr>
        <p:cxnSp>
          <p:nvCxnSpPr>
            <p:cNvPr id="123" name="AutoShape 12"/>
            <p:cNvCxnSpPr>
              <a:stCxn id="115" idx="2"/>
              <a:endCxn id="116" idx="0"/>
            </p:cNvCxnSpPr>
            <p:nvPr/>
          </p:nvCxnSpPr>
          <p:spPr>
            <a:xfrm rot="5400000">
              <a:off x="2160360" y="3571560"/>
              <a:ext cx="865800" cy="216108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13"/>
            <p:cNvCxnSpPr>
              <a:stCxn id="115" idx="2"/>
              <a:endCxn id="117" idx="0"/>
            </p:cNvCxnSpPr>
            <p:nvPr/>
          </p:nvCxnSpPr>
          <p:spPr>
            <a:xfrm flipH="1" rot="16200000">
              <a:off x="3563640" y="4327920"/>
              <a:ext cx="865800" cy="64836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14"/>
            <p:cNvCxnSpPr>
              <a:stCxn id="115" idx="2"/>
              <a:endCxn id="118" idx="0"/>
            </p:cNvCxnSpPr>
            <p:nvPr/>
          </p:nvCxnSpPr>
          <p:spPr>
            <a:xfrm flipH="1" rot="16200000">
              <a:off x="4968720" y="2923560"/>
              <a:ext cx="865800" cy="345672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6" name="Text Box 16"/>
          <p:cNvSpPr/>
          <p:nvPr/>
        </p:nvSpPr>
        <p:spPr>
          <a:xfrm>
            <a:off x="3924360" y="4292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932360" y="357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26920" y="40766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Flo10012"/>
          <p:cNvPicPr/>
          <p:nvPr/>
        </p:nvPicPr>
        <p:blipFill>
          <a:blip r:embed="rId1"/>
          <a:stretch/>
        </p:blipFill>
        <p:spPr>
          <a:xfrm>
            <a:off x="3780000" y="2421000"/>
            <a:ext cx="1525320" cy="2033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0:43:40Z</dcterms:created>
  <dc:creator>Сорокина О.П.</dc:creator>
  <dc:description/>
  <dc:language>en-US</dc:language>
  <cp:lastModifiedBy>LEGION</cp:lastModifiedBy>
  <dcterms:modified xsi:type="dcterms:W3CDTF">2016-01-05T12:46:34Z</dcterms:modified>
  <cp:revision>8</cp:revision>
  <dc:subject>Урок технологии 10 кл</dc:subject>
  <dc:title>Предпринимательство и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1000000000001024140</vt:lpwstr>
  </property>
</Properties>
</file>