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5DFC-BD9E-416C-B1A9-5204575AD3F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в экономической структуре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техн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тво в экономической структуре общ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рок техн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юридическая осно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а юридическая основ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может заниматься предпринимательст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то может заниматься предпринимательством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вободног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ободно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стна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бств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а свободного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ообраз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ободное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черты предпринимател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ваш потенциал предпринимател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основные черты предпринимател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амостоятель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ициатив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торств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е ваш потенциал предпринимателя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494-B38D-4792-9FE7-8721C06A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78A-1CF7-427C-8B37-EA54267C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706-DD96-4498-8D27-CED00FD4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15F-D69C-47DA-A01E-B523424E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4415-678E-4111-8FC8-71FC8B01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8C37-0D3F-446D-8B15-1F8586CA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0D28-753C-4017-ABC7-18C04C46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67E6-5D89-4172-B259-04027A47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3314-0D9E-4090-904F-73DAFEF7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1A31-4E58-4F19-8256-455C86D2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F7E0-40EE-40F9-900E-BA797DD9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86A-C024-4EEC-B2F8-5740B1CA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2648-4A94-4D59-BC1C-F73B0759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0223-01ED-478D-B527-EE6CCADE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5B78-876A-4C50-8159-C7399DC6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078E-41BB-4C90-B981-197641F4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A60A-BB90-4241-A6D3-21F9DC78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0A8-60FF-4344-9906-60BEE83F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073-E5FA-47E8-B57E-EEA6BA38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9A9-7A80-4FD5-B2E1-9AA07135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836-9A85-4D89-AC58-4FEC4E56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97C-BE6C-48E5-AF9A-6935328D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984-AC41-4CD6-B3E4-9DB4941A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1F5-53B9-4C4F-B344-9DAB57AD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2912-9D74-4C9B-B8A7-DEAFE188D6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2EF5-90A6-4AAB-BA4C-B8D8C758C8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едпринимательство в экономической структуре общест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рок технолог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Что такое предпринимательство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ова юридическая основа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то может заниматься предпринимательством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Физ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Юрид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j0292020"/>
          <p:cNvPicPr/>
          <p:nvPr/>
        </p:nvPicPr>
        <p:blipFill>
          <a:blip r:embed="rId1"/>
          <a:stretch/>
        </p:blipFill>
        <p:spPr>
          <a:xfrm>
            <a:off x="6804000" y="378936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j0285360"/>
          <p:cNvPicPr/>
          <p:nvPr/>
        </p:nvPicPr>
        <p:blipFill>
          <a:blip r:embed="rId1"/>
          <a:stretch/>
        </p:blipFill>
        <p:spPr>
          <a:xfrm>
            <a:off x="6227640" y="4221000"/>
            <a:ext cx="1474920" cy="1818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340000" y="3500280"/>
            <a:ext cx="25210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обод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24000" y="5084640"/>
            <a:ext cx="2376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на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132000" y="5084640"/>
            <a:ext cx="2376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867280" y="5084640"/>
            <a:ext cx="26654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вободного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нообраз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4859280" y="3500280"/>
            <a:ext cx="3241800" cy="719280"/>
            <a:chOff x="4859280" y="3500280"/>
            <a:chExt cx="3241800" cy="719280"/>
          </a:xfrm>
        </p:grpSpPr>
        <p:sp>
          <p:nvSpPr>
            <p:cNvPr id="120" name="Rectangle 8"/>
            <p:cNvSpPr/>
            <p:nvPr/>
          </p:nvSpPr>
          <p:spPr>
            <a:xfrm>
              <a:off x="5724360" y="3500280"/>
              <a:ext cx="2376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быль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4859280" y="38606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" name="Group 15"/>
          <p:cNvGrpSpPr/>
          <p:nvPr/>
        </p:nvGrpSpPr>
        <p:grpSpPr>
          <a:xfrm>
            <a:off x="1512720" y="4219200"/>
            <a:ext cx="5617080" cy="865440"/>
            <a:chOff x="1512720" y="4219200"/>
            <a:chExt cx="5617080" cy="865440"/>
          </a:xfrm>
        </p:grpSpPr>
        <p:cxnSp>
          <p:nvCxnSpPr>
            <p:cNvPr id="123" name="AutoShape 12"/>
            <p:cNvCxnSpPr>
              <a:stCxn id="115" idx="2"/>
              <a:endCxn id="116" idx="0"/>
            </p:cNvCxnSpPr>
            <p:nvPr/>
          </p:nvCxnSpPr>
          <p:spPr>
            <a:xfrm rot="5400000">
              <a:off x="2160360" y="3571560"/>
              <a:ext cx="865800" cy="216108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13"/>
            <p:cNvCxnSpPr>
              <a:stCxn id="115" idx="2"/>
              <a:endCxn id="117" idx="0"/>
            </p:cNvCxnSpPr>
            <p:nvPr/>
          </p:nvCxnSpPr>
          <p:spPr>
            <a:xfrm flipH="1" rot="16200000">
              <a:off x="3563640" y="4327920"/>
              <a:ext cx="865800" cy="64836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14"/>
            <p:cNvCxnSpPr>
              <a:stCxn id="115" idx="2"/>
              <a:endCxn id="118" idx="0"/>
            </p:cNvCxnSpPr>
            <p:nvPr/>
          </p:nvCxnSpPr>
          <p:spPr>
            <a:xfrm flipH="1" rot="16200000">
              <a:off x="4968720" y="2923560"/>
              <a:ext cx="865800" cy="345672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6" name="Text Box 16"/>
          <p:cNvSpPr/>
          <p:nvPr/>
        </p:nvSpPr>
        <p:spPr>
          <a:xfrm>
            <a:off x="3924360" y="4292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4932360" y="3573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Свободное предпринимательств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овы основные черты предпринимателя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амостоятель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ициатив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оваторств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26920" y="407664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ите ваш потенциал предпринимателя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Flo10012"/>
          <p:cNvPicPr/>
          <p:nvPr/>
        </p:nvPicPr>
        <p:blipFill>
          <a:blip r:embed="rId1"/>
          <a:stretch/>
        </p:blipFill>
        <p:spPr>
          <a:xfrm>
            <a:off x="3780000" y="2421000"/>
            <a:ext cx="1525320" cy="2033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0:43:40Z</dcterms:created>
  <dc:creator>Сорокина О.П.</dc:creator>
  <dc:description/>
  <dc:language>en-US</dc:language>
  <cp:lastModifiedBy>LEGION</cp:lastModifiedBy>
  <dcterms:modified xsi:type="dcterms:W3CDTF">2016-01-05T12:46:34Z</dcterms:modified>
  <cp:revision>8</cp:revision>
  <dc:subject>Урок технологии 10 кл</dc:subject>
  <dc:title>Предпринимательство и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1000000000001024140</vt:lpwstr>
  </property>
</Properties>
</file>